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3.png" ContentType="image/png"/>
  <Override PartName="/ppt/media/image4.png" ContentType="image/png"/>
  <Override PartName="/ppt/media/image9.wmf" ContentType="image/x-wmf"/>
  <Override PartName="/ppt/media/image14.wmf" ContentType="image/x-wmf"/>
  <Override PartName="/ppt/media/image6.png" ContentType="image/png"/>
  <Override PartName="/ppt/media/image11.png" ContentType="image/png"/>
  <Override PartName="/ppt/media/image10.wmf" ContentType="image/x-wmf"/>
  <Override PartName="/ppt/media/image2.png" ContentType="image/png"/>
  <Override PartName="/ppt/media/image12.png" ContentType="image/png"/>
  <Override PartName="/ppt/media/image7.wmf" ContentType="image/x-wmf"/>
  <Override PartName="/ppt/media/image13.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2640" y="685800"/>
            <a:ext cx="4343400" cy="28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380880" y="3580920"/>
            <a:ext cx="6019920" cy="4876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241BC-1CC6-4FF0-8DCE-EAFD6D9E2E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434960" y="685800"/>
            <a:ext cx="3759480" cy="2819520"/>
          </a:xfrm>
          <a:prstGeom prst="rect">
            <a:avLst/>
          </a:prstGeom>
          <a:ln w="0">
            <a:noFill/>
          </a:ln>
        </p:spPr>
      </p:sp>
      <p:sp>
        <p:nvSpPr>
          <p:cNvPr id="198" name="PlaceHolder 2"/>
          <p:cNvSpPr>
            <a:spLocks noGrp="1"/>
          </p:cNvSpPr>
          <p:nvPr>
            <p:ph type="body"/>
          </p:nvPr>
        </p:nvSpPr>
        <p:spPr>
          <a:xfrm>
            <a:off x="380880" y="3580920"/>
            <a:ext cx="6019920" cy="48769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0DB68-0B69-49E0-93F2-8288FC82FE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94421-7032-486D-AE04-F396D6421B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15E84-34A5-4402-913A-FEF77875F8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FC8FB-C8EE-4966-9B29-BE6E78225B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A9631-B9BC-47E2-A0FD-5A2EF047D6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7240"/>
            <a:ext cx="4572000" cy="3429000"/>
          </a:xfrm>
          <a:prstGeom prst="rect">
            <a:avLst/>
          </a:prstGeom>
          <a:ln w="0">
            <a:noFill/>
          </a:ln>
        </p:spPr>
      </p:sp>
      <p:sp>
        <p:nvSpPr>
          <p:cNvPr id="25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2FFF6-DE6E-4FD1-9F46-7398DA882F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46CF4-F32E-4324-A0FC-14ABD06CCA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87028-B036-4FC4-B0A5-E5BB907BBE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2A166-1E23-46C3-BB0B-F9B0727BE7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7240"/>
            <a:ext cx="4572000" cy="3429000"/>
          </a:xfrm>
          <a:prstGeom prst="rect">
            <a:avLst/>
          </a:prstGeom>
          <a:ln w="0">
            <a:noFill/>
          </a:ln>
        </p:spPr>
      </p:sp>
      <p:sp>
        <p:nvSpPr>
          <p:cNvPr id="25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9D672-414C-40A9-B388-5C181700E6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764DE-415B-4057-9AEF-AE18D929A3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67E8A-F067-4E8F-BD3E-8A4A53F63A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C0FB0-18A6-41A6-A7E5-CF2256BDE8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7240"/>
            <a:ext cx="4572000" cy="3429000"/>
          </a:xfrm>
          <a:prstGeom prst="rect">
            <a:avLst/>
          </a:prstGeom>
          <a:ln w="0">
            <a:noFill/>
          </a:ln>
        </p:spPr>
      </p:sp>
      <p:sp>
        <p:nvSpPr>
          <p:cNvPr id="265"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jection of small and large amounts of air into the reactor coolant system was previously analyzed. When sufficient oxygen is added to deplete the hydrogen inventory, acidic pH results in those facilities where high (basic) pH is maintained. This reduction in pH is accompanied by secondary effects to the coolant. The reduced pH causes a change in solubility of the corrosion film on facility materials and results in part of this film being released for transport throughout the coolant system. This release, or crud burst, is detected by an increase in radiation levels of the coolant, increased conductivity, and lowering of the ion exchanger efficiency. Radiation levels increase because corrosion products that had been attached to core surfaces and were highly activated by the neutron flux are transported to other parts of the syst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uctivity increases because many of the corrosion products are released in an ionic or radical form and are capable of conducting electricity. In the early stages of the introduction of air, conductivity may exhibit erratic behavior because of the relationship of conductivity and pH. As pH begins to fall, conductivity tends to follow, but the presence of suspended corrosion products offsets the theoretical conductivity. The resultant increase is dependent upon the concentration of corrosion products. Additionally, should pH fall below about 7, conductivity increases as pH is further reduc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n exchanger efficiency decreases because the increased crud inventory consists of both particulate and colloidal products. The ion exchanger is only about 90% effective as a filter, as compared to approximately 100% effectiveness as an ion exchanger, so effluent radioactivity levels increase by a greater proportion. Also, crud in the colloidal form has an even lower probability of being removed by ion exchange or filtration than does particulate crud, and again the effluent radioactivity is increased.</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8EF57-0B77-4675-9CC4-CABA209B2C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DCB98-569C-42B1-8362-C16148E8F2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379FC-F9E1-4DA3-8858-581DC43B3F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7F97F-5E24-4E24-B359-2ACFA23F78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424160" y="687240"/>
            <a:ext cx="2943000" cy="2208240"/>
          </a:xfrm>
          <a:prstGeom prst="rect">
            <a:avLst/>
          </a:prstGeom>
          <a:ln w="0">
            <a:noFill/>
          </a:ln>
        </p:spPr>
      </p:sp>
      <p:sp>
        <p:nvSpPr>
          <p:cNvPr id="271" name="PlaceHolder 2"/>
          <p:cNvSpPr>
            <a:spLocks noGrp="1"/>
          </p:cNvSpPr>
          <p:nvPr>
            <p:ph type="body"/>
          </p:nvPr>
        </p:nvSpPr>
        <p:spPr>
          <a:xfrm>
            <a:off x="838080" y="3048120"/>
            <a:ext cx="5029200" cy="56354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operation of a nuclear reactor facility an equilibrium level of fission products is established in the reactor coolant. These fission products are the result of trace impurities of fuel material contained in the cladding surfaces as either natural impurities or a result of the fuel fabrication process. The mechanism by which the fission products enter the coolant is normally by fission recoil. Weld porosity is another potential path for the fuel, but generally quality control prevents this from occurring. During normal facility operation, these fission products are minor contributors to the overall radioactivity of the reactor coola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a defect were present or a failure of a fuel element occurred, large amounts of fission products would potentially have a path to the coolant system. If this happened, significant changes would occur within the reactor coolant chemistry parameters. Because most facilities analyze for gross coolant radioactivity either continuously or periodically, the analysis would be likely to detect all but the most minute fail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routine gaseous radioactive levels are monitored, an increase in this parameter's value would be seen. This is because many of the fission products are gaseous, and these gases are more mobile than particles of exposed fuel (the exposed fuel generally undergoes a process of erosion that washes the fuel into the coolant stream). The other parameter that may change is the ion exchange efficiency (where utilized), because many of the fission products released have a lower affinity for the exchange sites on the resin beads than the exchange anion or 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ordingly, the ion exchanger would not effectively remove these fission products and effluent radioactivity levels would increase significantly. Fission gases would also pass on through the ion exchanger and contribute to effluent activity. In addition, because some of the fission gases have relatively short half-lives, the amount of time they are held up in the ion exchanger is sufficient for some of these gases to decay to a radioactive sol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solid particles would contribute to effluent samples that may be concentrated prior to analysis. Some facilities monitor for specific fission product inventories in the reactor coolant to provide base level information. If a defect or failure were to occur, these levels would obviously increase to indicate the failure.</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D9BE5-B7DB-428D-B63E-846EBF89B6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49D69-E95F-433D-904E-9F6F3B39E3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A2B76-3950-4849-A93D-10C44DB61D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8B550-1A02-4EC1-B594-CF363645CC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373040" y="687240"/>
            <a:ext cx="3349800" cy="2513160"/>
          </a:xfrm>
          <a:prstGeom prst="rect">
            <a:avLst/>
          </a:prstGeom>
          <a:ln w="0">
            <a:noFill/>
          </a:ln>
        </p:spPr>
      </p:sp>
      <p:sp>
        <p:nvSpPr>
          <p:cNvPr id="277" name="PlaceHolder 2"/>
          <p:cNvSpPr>
            <a:spLocks noGrp="1"/>
          </p:cNvSpPr>
          <p:nvPr>
            <p:ph type="body"/>
          </p:nvPr>
        </p:nvSpPr>
        <p:spPr>
          <a:xfrm>
            <a:off x="914400" y="3276360"/>
            <a:ext cx="5486400" cy="518148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ically the resin of an ion exchanger is an inert polystyrene structure with ion exchange sites "loosely" attached. The basic structure is stable up to fairly high temperatures (approximately 300 F), but the active exchange sites are not. There are two types of exchange sites: anion and cation. The anion resin begins to decompose slowly at about 140 F, and the decomposition becomes rapid above 180 F. The cation resin is stable up to about 250 F. Because these temperatures are well below normal reactor coolant temperatures, the temperature of the coolant must be lowered before it passes through the ion exchange resin.  The decomposition of resin produces an alcohol form of the resin, which has no exchange capability, and trimethylamine (TMA). If large amounts of TMA are released to the coolant, the pH may increase noticeably. For example, 1 ppm of TMA in reactor coolant that uses lithium form resin will cause a noticeable increase in pH. TMA may also interfere with the analysis for chloride ions (which is routinely performed on reactor coolant) by giving a false indication of high chloride concentration.  Another significant property of TMA is its intense odor of dead fish. Although the presence of such an odor from reactor coolant is not definitive for TMA, it may give an indication of resin overhea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ther product of resin breakdown is an amine with exchange capabilities considerably less than the original form of the resin. Thus, both reactions lead to partial (or complete) loss of exchange capability. If the temperature is sufficiently high, or if a lower temperature (but greater than 180 F) is sustained for a long enough period, the resin will be unfit for use. If the temperature becomes very high (greater than about 450 F), the polymeric base structure of the resin will decompose, forming a complex mixture of organic tars and o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number of changes are probable if overheating of resin occurs. Reactor coolant Cl- levels would probably increase as a result of thermal breakdown and subsequent release. Ion exchanger effectiveness would be greatly reduced for similar reasons. Radioactivity levels of the reactor coolant would increase because of the release of impurities collected and later released from the resin. pH would likely decrease because of the release of H+ ions from the resin complex and may cause acidic conditions in the reactor coolant if the temperature is sufficient (&gt;250 F). Because certain types of resin decompose at lower temperatures, pH may increase as a result of the release of TMA and be accompanied by a dead fish odor. Because of the consequences of overheated resin, stringent temperature limitations are necessary. If overheating occurs, the ion exchanger should be taken out of service immediately and the cause rectified. The resin must be replaced prior to placing the ion exchanger back in service after overheating.</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7C155-43B1-4598-AFC1-F899339C9C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235C8-7CD6-4E4B-ADA5-EB16427B03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CA02D-4B1E-43DC-849A-1F951BF0D1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B72C1-48C8-47C7-A5FB-8EBFEB1C6E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7240"/>
            <a:ext cx="4572000" cy="3429000"/>
          </a:xfrm>
          <a:prstGeom prst="rect">
            <a:avLst/>
          </a:prstGeom>
          <a:ln w="0">
            <a:noFill/>
          </a:ln>
        </p:spPr>
      </p:sp>
      <p:sp>
        <p:nvSpPr>
          <p:cNvPr id="28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40400-EE27-4C72-BA7A-606E425425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BAD8A-0A46-4D2E-A2A6-52C839554A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F5BE6-FDE2-445A-9A54-68CE98CD64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C35D6-8E50-4ADC-B36A-ECF4F17AC8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7240"/>
            <a:ext cx="4572000" cy="3429000"/>
          </a:xfrm>
          <a:prstGeom prst="rect">
            <a:avLst/>
          </a:prstGeom>
          <a:ln w="0">
            <a:noFill/>
          </a:ln>
        </p:spPr>
      </p:sp>
      <p:sp>
        <p:nvSpPr>
          <p:cNvPr id="28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555B9-2182-489D-AC30-1C9B64197E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E2ED6-CDCA-4E15-A716-138E3B24CC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BEC2E-02C0-4AE4-93D3-55B23F00E1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FAF0F-0F50-4982-864A-F4C53C722A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7240"/>
            <a:ext cx="4572000" cy="3429000"/>
          </a:xfrm>
          <a:prstGeom prst="rect">
            <a:avLst/>
          </a:prstGeom>
          <a:ln w="0">
            <a:noFill/>
          </a:ln>
        </p:spPr>
      </p:sp>
      <p:sp>
        <p:nvSpPr>
          <p:cNvPr id="295"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n exchange is a process used extensively in nuclear facilities to control the purity and pH of water by removing undesirable ions and replacing them with acceptable ones. Specifically, it is the exchange of ions between a solid substance (called a resin) and an aqueous solution (reactor coolant or makeup water). Depending on the identity of the ions that a resin releases to the water, the process may result in purification of water or in control of the concentration of a particular ion in a solution. An </a:t>
            </a:r>
            <a:r>
              <a:rPr b="0" i="1" lang="en-US" sz="1000" spc="-1" strike="noStrike">
                <a:solidFill>
                  <a:srgbClr val="000000"/>
                </a:solidFill>
                <a:latin typeface="Arial"/>
              </a:rPr>
              <a:t>ion exchange </a:t>
            </a:r>
            <a:r>
              <a:rPr b="0" lang="en-US" sz="1000" spc="-1" strike="noStrike">
                <a:solidFill>
                  <a:srgbClr val="000000"/>
                </a:solidFill>
                <a:latin typeface="Arial"/>
              </a:rPr>
              <a:t>is the reversible exchange of ions between a liquid and a solid. This process is generally used to remove undesirable ions from a liquid and substitute acceptable ions from the solid (resin). The devices in which ion exchange occurs are commonly called demineralizers. This name is derived from the term </a:t>
            </a:r>
            <a:r>
              <a:rPr b="0" i="1" lang="en-US" sz="1000" spc="-1" strike="noStrike">
                <a:solidFill>
                  <a:srgbClr val="000000"/>
                </a:solidFill>
                <a:latin typeface="Arial"/>
              </a:rPr>
              <a:t>demineralize</a:t>
            </a:r>
            <a:r>
              <a:rPr b="0" lang="en-US" sz="1000" spc="-1" strike="noStrike">
                <a:solidFill>
                  <a:srgbClr val="000000"/>
                </a:solidFill>
                <a:latin typeface="Arial"/>
              </a:rPr>
              <a:t>, which means the process whereby impurities present in the incoming fluid (water) are removed by exchanging impure ions with H+ and OH- ions, resulting in the formation of pure water. H+ and OH- are present on the sites of resin beads contained in the demineralizer tank or column.</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9CD0B-86F2-420E-A29F-CD7EE40626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A1C61-0C3C-454E-A1A7-35825E331A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0E1BE-8AC7-4316-B0E7-D89D6FD2AA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354F6-0977-492C-AAFC-4EEAF8002E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7240"/>
            <a:ext cx="4572000" cy="3429000"/>
          </a:xfrm>
          <a:prstGeom prst="rect">
            <a:avLst/>
          </a:prstGeom>
          <a:ln w="0">
            <a:noFill/>
          </a:ln>
        </p:spPr>
      </p:sp>
      <p:sp>
        <p:nvSpPr>
          <p:cNvPr id="301"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n exchange is a process used extensively in nuclear facilities to control the purity and pH of water by removing undesirable ions and replacing them with acceptable ones. Specifically, it is the exchange of ions between a solid substance (called a resin) and an aqueous solution (reactor coolant or makeup water). Depending on the identity of the ions that a resin releases to the water, the process may result in purification of water or in control of the concentration of a particular ion in a solution. An </a:t>
            </a:r>
            <a:r>
              <a:rPr b="0" i="1" lang="en-US" sz="1000" spc="-1" strike="noStrike">
                <a:solidFill>
                  <a:srgbClr val="000000"/>
                </a:solidFill>
                <a:latin typeface="Arial"/>
              </a:rPr>
              <a:t>ion exchange </a:t>
            </a:r>
            <a:r>
              <a:rPr b="0" lang="en-US" sz="1000" spc="-1" strike="noStrike">
                <a:solidFill>
                  <a:srgbClr val="000000"/>
                </a:solidFill>
                <a:latin typeface="Arial"/>
              </a:rPr>
              <a:t>is the reversible exchange of ions between a liquid and a solid. This process is generally used to remove undesirable ions from a liquid and substitute acceptable ions from the solid (resin). The devices in which ion exchange occurs are commonly called demineralizers. This name is derived from the term </a:t>
            </a:r>
            <a:r>
              <a:rPr b="0" i="1" lang="en-US" sz="1000" spc="-1" strike="noStrike">
                <a:solidFill>
                  <a:srgbClr val="000000"/>
                </a:solidFill>
                <a:latin typeface="Arial"/>
              </a:rPr>
              <a:t>demineralize</a:t>
            </a:r>
            <a:r>
              <a:rPr b="0" lang="en-US" sz="1000" spc="-1" strike="noStrike">
                <a:solidFill>
                  <a:srgbClr val="000000"/>
                </a:solidFill>
                <a:latin typeface="Arial"/>
              </a:rPr>
              <a:t>, which means the process whereby impurities present in the incoming fluid (water) are removed by exchanging impure ions with H+ and OH- ions, resulting in the formation of pure water. H+ and OH- are present on the sites of resin beads contained in the demineralizer tank or colum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B325E-20ED-4618-B246-4E6C34EF20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C17C1-F332-41B7-95BF-00EC46A774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ACB36-A928-47DE-80F8-340743A3CF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3D086-F0A9-44F4-A1BA-1FD3A21951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7240"/>
            <a:ext cx="4572000" cy="3429000"/>
          </a:xfrm>
          <a:prstGeom prst="rect">
            <a:avLst/>
          </a:prstGeom>
          <a:ln w="0">
            <a:noFill/>
          </a:ln>
        </p:spPr>
      </p:sp>
      <p:sp>
        <p:nvSpPr>
          <p:cNvPr id="307"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two general types of ion exchange resins: those that exchange positive ions, called cation resins, and those that exchange negative ions, called anion resins. A </a:t>
            </a:r>
            <a:r>
              <a:rPr b="0" i="1" lang="en-US" sz="1000" spc="-1" strike="noStrike">
                <a:solidFill>
                  <a:srgbClr val="000000"/>
                </a:solidFill>
                <a:latin typeface="Arial"/>
              </a:rPr>
              <a:t>cation </a:t>
            </a:r>
            <a:r>
              <a:rPr b="0" lang="en-US" sz="1000" spc="-1" strike="noStrike">
                <a:solidFill>
                  <a:srgbClr val="000000"/>
                </a:solidFill>
                <a:latin typeface="Arial"/>
              </a:rPr>
              <a:t>is an ion with a positive charge. Common cations include Ca++, Mg++, Fe++, and H+. A </a:t>
            </a:r>
            <a:r>
              <a:rPr b="0" i="1" lang="en-US" sz="1000" spc="-1" strike="noStrike">
                <a:solidFill>
                  <a:srgbClr val="000000"/>
                </a:solidFill>
                <a:latin typeface="Arial"/>
              </a:rPr>
              <a:t>cation resin </a:t>
            </a:r>
            <a:r>
              <a:rPr b="0" lang="en-US" sz="1000" spc="-1" strike="noStrike">
                <a:solidFill>
                  <a:srgbClr val="000000"/>
                </a:solidFill>
                <a:latin typeface="Arial"/>
              </a:rPr>
              <a:t>is one that exchanges positive ions. An </a:t>
            </a:r>
            <a:r>
              <a:rPr b="0" i="1" lang="en-US" sz="1000" spc="-1" strike="noStrike">
                <a:solidFill>
                  <a:srgbClr val="000000"/>
                </a:solidFill>
                <a:latin typeface="Arial"/>
              </a:rPr>
              <a:t>anion </a:t>
            </a:r>
            <a:r>
              <a:rPr b="0" lang="en-US" sz="1000" spc="-1" strike="noStrike">
                <a:solidFill>
                  <a:srgbClr val="000000"/>
                </a:solidFill>
                <a:latin typeface="Arial"/>
              </a:rPr>
              <a:t>is an ion with a negative charge. Common anions include Cl-, SO --, and OH-. An </a:t>
            </a:r>
            <a:r>
              <a:rPr b="0" i="1" lang="en-US" sz="1000" spc="-1" strike="noStrike">
                <a:solidFill>
                  <a:srgbClr val="000000"/>
                </a:solidFill>
                <a:latin typeface="Arial"/>
              </a:rPr>
              <a:t>anion resin </a:t>
            </a:r>
            <a:r>
              <a:rPr b="0" lang="en-US" sz="1000" spc="-1" strike="noStrike">
                <a:solidFill>
                  <a:srgbClr val="000000"/>
                </a:solidFill>
                <a:latin typeface="Arial"/>
              </a:rPr>
              <a:t>is one that exchanges negative ions. Chemically, both types are similar and belong to a group of compounds called </a:t>
            </a:r>
            <a:r>
              <a:rPr b="0" i="1" lang="en-US" sz="1000" spc="-1" strike="noStrike">
                <a:solidFill>
                  <a:srgbClr val="000000"/>
                </a:solidFill>
                <a:latin typeface="Arial"/>
              </a:rPr>
              <a:t>polymers</a:t>
            </a:r>
            <a:r>
              <a:rPr b="0" lang="en-US" sz="1000" spc="-1" strike="noStrike">
                <a:solidFill>
                  <a:srgbClr val="000000"/>
                </a:solidFill>
                <a:latin typeface="Arial"/>
              </a:rPr>
              <a:t>, which are extremely large molecules that are formed by the combination of many molecules of one or two compounds 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repeating structure that produces long cha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t>
            </a:r>
            <a:r>
              <a:rPr b="0" i="1" lang="en-US" sz="1000" spc="-1" strike="noStrike">
                <a:solidFill>
                  <a:srgbClr val="000000"/>
                </a:solidFill>
                <a:latin typeface="Arial"/>
              </a:rPr>
              <a:t>mixed-bed demineralizer </a:t>
            </a:r>
            <a:r>
              <a:rPr b="0" lang="en-US" sz="1000" spc="-1" strike="noStrike">
                <a:solidFill>
                  <a:srgbClr val="000000"/>
                </a:solidFill>
                <a:latin typeface="Arial"/>
              </a:rPr>
              <a:t>is a vessel, usually with a volume of several cubic feet, that contains the resin. Physically, ion exchange resins are formed in the shape of very small beads, called </a:t>
            </a:r>
            <a:r>
              <a:rPr b="0" i="1" lang="en-US" sz="1000" spc="-1" strike="noStrike">
                <a:solidFill>
                  <a:srgbClr val="000000"/>
                </a:solidFill>
                <a:latin typeface="Arial"/>
              </a:rPr>
              <a:t>resin beads</a:t>
            </a:r>
            <a:r>
              <a:rPr b="0" lang="en-US" sz="1000" spc="-1" strike="noStrike">
                <a:solidFill>
                  <a:srgbClr val="000000"/>
                </a:solidFill>
                <a:latin typeface="Arial"/>
              </a:rPr>
              <a:t>, with an average diameter of about 0.005 millimeters. Wet resin has the appearance of damp, transparent, amber sand and is insoluble in water, acids, and bases. Retention elements or other suitable devices in the top and bottom have openings smaller than the diameter of the resin beads. The resin itself is a uniform mixture of cation and anion resins in a specific volume ratio depending on their specific gravities. The ratio is normally 2 parts cation resin to 3 parts anion resin.</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8E25E-D96C-430F-B708-8838B1D3B9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766E2-B51C-44A0-BDD8-ADEAE44EA7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DAFB0-16D3-4718-946A-C8AC7C5DC0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6D899-199F-4B82-B9C7-3F0C9E4C69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7240"/>
            <a:ext cx="4572000" cy="3429000"/>
          </a:xfrm>
          <a:prstGeom prst="rect">
            <a:avLst/>
          </a:prstGeom>
          <a:ln w="0">
            <a:noFill/>
          </a:ln>
        </p:spPr>
      </p:sp>
      <p:sp>
        <p:nvSpPr>
          <p:cNvPr id="20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4929B-DD07-4368-AB67-8BC5C4CC10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AF92C-08C5-47EF-B235-1192B48DCB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82C4E-117D-4386-9505-AFFB9A1FD9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4B36C-54E5-47E4-A14F-D509D2866D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271520" y="687240"/>
            <a:ext cx="3552840" cy="2665440"/>
          </a:xfrm>
          <a:prstGeom prst="rect">
            <a:avLst/>
          </a:prstGeom>
          <a:ln w="0">
            <a:noFill/>
          </a:ln>
        </p:spPr>
      </p:sp>
      <p:sp>
        <p:nvSpPr>
          <p:cNvPr id="313" name="PlaceHolder 2"/>
          <p:cNvSpPr>
            <a:spLocks noGrp="1"/>
          </p:cNvSpPr>
          <p:nvPr>
            <p:ph type="body"/>
          </p:nvPr>
        </p:nvSpPr>
        <p:spPr>
          <a:xfrm>
            <a:off x="914400" y="3580920"/>
            <a:ext cx="5029200" cy="487692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some cases, there may be chemical bonds formed between individual chain molecules at various points along the chain. Such polymers are said to be cross-linked. This type of polymer constitutes the basic structure of ion exchange resins. In particular, cross-linked polystyrene is the polymer commonly used in ion exchange resins. However, chemical treatment of polystyrene is required to give it ion exchange capability, and this treatment varies depending on whether the final product is to be an anion resin or a cation res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hemical processes involved in producing anion and cation resins are outlined in Figure 1 and Figure 2, beginning with the formation of cross-linked polystyrene. The polymer itself is a covalent compound. By the chemical reactions indicated in Figure 2, hydrogen atoms covalently bonded to the original polymer at certain sites are replaced by functional groups (called radicals) such as SO3H (sulfonic acid) and CH2N(CH3)3Cl (quaternary ammonium). Each such group is covalently bonded to the polymer, but each also contains an atom that is bonded to the radical group by a predominantly ionic bond. In the two examples above, H in SO3H and Cl in CH2N(CH3)3Cl are the ionically-bonded atoms. Sometimes these are written as SO3 H and - + CH2N(CH3)3 Cl to emphasize their ionic characters. These ions (H and Cl ) are replaceable by + - + - other ions. That is, H+ will exchange with other cations in a solution, and Cl- will exchange with other an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its final form, an ion exchange resin contains a huge, but finite, number of sites occupied by an exchangeable ion. All of the resin, except the exchangeable ion, is inert in the exchange process. Thus, it is customary to use a notation such as R-Cl or H-R for ion exchange resins. R indicates the inert polymeric base structure and the part of the substituted radical that does not participate in exchange reactions. The term R is inexact because it is used to represent the inert portion of both cation and anion resins, which are slightly different. Also, the structure represented by R contains many sites of exchange, although only one is shown by the notation, such as R-Cl. Despite these drawbacks, the term R is used for simplicity.</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59DE8-0330-4247-A4BE-8E36E0696E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99B28-0297-4CAB-B68C-A23FA67EB0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2DF9B-9349-4131-93E4-49F0CBF456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5A959-3D86-4773-A930-3023E16A33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7240"/>
            <a:ext cx="4572000" cy="3429000"/>
          </a:xfrm>
          <a:prstGeom prst="rect">
            <a:avLst/>
          </a:prstGeom>
          <a:ln w="0">
            <a:noFill/>
          </a:ln>
        </p:spPr>
      </p:sp>
      <p:sp>
        <p:nvSpPr>
          <p:cNvPr id="31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905B1-8DEC-4F35-B576-1A16478B7B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8BC08-D8BA-406B-8C08-0E7AD46A0A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1B49C-BD0B-418D-82D2-CA10745BC9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AC0B6-AA79-4BE4-B45D-E0FCF76297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7240"/>
            <a:ext cx="4572000" cy="3429000"/>
          </a:xfrm>
          <a:prstGeom prst="rect">
            <a:avLst/>
          </a:prstGeom>
          <a:ln w="0">
            <a:noFill/>
          </a:ln>
        </p:spPr>
      </p:sp>
      <p:sp>
        <p:nvSpPr>
          <p:cNvPr id="32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134B0-46DD-4306-BC30-5380CB9BF9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CB345-B2A1-48BB-8718-DF5B9A3ED5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CB8D9-55A1-4B1F-AE6D-0E00AD65B3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A5476-5796-4338-AA61-7D62662FEF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7240"/>
            <a:ext cx="4572000" cy="3429000"/>
          </a:xfrm>
          <a:prstGeom prst="rect">
            <a:avLst/>
          </a:prstGeom>
          <a:ln w="0">
            <a:noFill/>
          </a:ln>
        </p:spPr>
      </p:sp>
      <p:sp>
        <p:nvSpPr>
          <p:cNvPr id="33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9D02F-3A93-4EF8-9643-3A5389AE90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24900-47EA-460E-94A6-811235B8D8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7FFFD-2B97-4A81-AC41-5959E26985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D22A1-F26B-40B6-A5F7-DC6B2CEBC2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7240"/>
            <a:ext cx="4572000" cy="3429000"/>
          </a:xfrm>
          <a:prstGeom prst="rect">
            <a:avLst/>
          </a:prstGeom>
          <a:ln w="0">
            <a:noFill/>
          </a:ln>
        </p:spPr>
      </p:sp>
      <p:sp>
        <p:nvSpPr>
          <p:cNvPr id="337"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AD5B3-3579-4D93-A98C-D4FE3BB1B8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F40FF-A2F3-4E37-B681-4CB4CFB0A0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AB1F0-E94B-433B-99CA-CBD83BEC6F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159D8-2BED-4B95-91CC-BEB96A705F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7240"/>
            <a:ext cx="4572000" cy="3429000"/>
          </a:xfrm>
          <a:prstGeom prst="rect">
            <a:avLst/>
          </a:prstGeom>
          <a:ln w="0">
            <a:noFill/>
          </a:ln>
        </p:spPr>
      </p:sp>
      <p:sp>
        <p:nvSpPr>
          <p:cNvPr id="34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F0851-7F36-4516-B931-066FC05260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34130-4AB6-40EF-9187-3EE9506400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9AAE1-3133-4CC0-B9FA-475C8046AD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A5D78-6A33-4240-A204-A0719B5C29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7240"/>
            <a:ext cx="4572000" cy="3429000"/>
          </a:xfrm>
          <a:prstGeom prst="rect">
            <a:avLst/>
          </a:prstGeom>
          <a:ln w="0">
            <a:noFill/>
          </a:ln>
        </p:spPr>
      </p:sp>
      <p:sp>
        <p:nvSpPr>
          <p:cNvPr id="34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F9DE6-9BFC-493B-BBD2-D1235E8604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FD7D0-346D-4CE2-9539-105288E716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2383A-951A-414E-B420-C518AF1F7F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54C97-A246-4C72-BA86-2F2893B459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7240"/>
            <a:ext cx="4572000" cy="3429000"/>
          </a:xfrm>
          <a:prstGeom prst="rect">
            <a:avLst/>
          </a:prstGeom>
          <a:ln w="0">
            <a:noFill/>
          </a:ln>
        </p:spPr>
      </p:sp>
      <p:sp>
        <p:nvSpPr>
          <p:cNvPr id="35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434960" y="685800"/>
            <a:ext cx="3759480" cy="2819520"/>
          </a:xfrm>
          <a:prstGeom prst="rect">
            <a:avLst/>
          </a:prstGeom>
          <a:ln w="0">
            <a:noFill/>
          </a:ln>
        </p:spPr>
      </p:sp>
      <p:sp>
        <p:nvSpPr>
          <p:cNvPr id="357" name="PlaceHolder 2"/>
          <p:cNvSpPr>
            <a:spLocks noGrp="1"/>
          </p:cNvSpPr>
          <p:nvPr>
            <p:ph type="body"/>
          </p:nvPr>
        </p:nvSpPr>
        <p:spPr>
          <a:xfrm>
            <a:off x="380880" y="3580920"/>
            <a:ext cx="6019920" cy="48769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9FBE0-C95E-433B-9F39-8CB5E2CAD0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41C73-E012-4781-8F6E-BADA48EC36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BD682-B486-45A4-94FE-E59D9388DD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38E24-F59A-4D00-AF7B-85EB4C73D9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D61F6-22DE-43E1-8A98-CC22A2446E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7240"/>
            <a:ext cx="4572000" cy="3429000"/>
          </a:xfrm>
          <a:prstGeom prst="rect">
            <a:avLst/>
          </a:prstGeom>
          <a:ln w="0">
            <a:noFill/>
          </a:ln>
        </p:spPr>
      </p:sp>
      <p:sp>
        <p:nvSpPr>
          <p:cNvPr id="364"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ater used in a nuclear facility must be of a purity level that is consistent with the overall objectives of chemistry control in the facility.  There are a number of ways in which pure water is obtained, including distillation systems and pretreatment systems similar to those mentioned earlier in this module. Regardless of the method employed, the required purity must be achieved.  Water purity has been defined in many different ways, but one generally accepted definition states that high purity water is water that has been distilled and/or de-ionized so that it will have a specific resistance of 500,000 ohms (2.0 micromhos conductivity) or greater. This definition is satisfactory as a base to work from, but for more critical requirements, the breakdown shown in Table 3 has been suggested to express degrees of purity.</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D1D8D-BC2D-4F5F-84BB-BEC542375F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A3954-33E7-4618-89DF-53B9C2328A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12E42-C431-4854-B2EB-043EDB623E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09F62-116F-45BC-A708-17E8F351FB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7240"/>
            <a:ext cx="4572000" cy="3429000"/>
          </a:xfrm>
          <a:prstGeom prst="rect">
            <a:avLst/>
          </a:prstGeom>
          <a:ln w="0">
            <a:noFill/>
          </a:ln>
        </p:spPr>
      </p:sp>
      <p:sp>
        <p:nvSpPr>
          <p:cNvPr id="21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38D12-FB2E-4BA7-A93B-28E7E53F6A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EC0F6-F978-4F6A-B6FE-0486B891C8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E99FE-E8A8-4B1F-AB54-21B2E2FB0E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46F53-721E-4076-BFD1-2DC3514621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7240"/>
            <a:ext cx="4572000" cy="3429000"/>
          </a:xfrm>
          <a:prstGeom prst="rect">
            <a:avLst/>
          </a:prstGeom>
          <a:ln w="0">
            <a:noFill/>
          </a:ln>
        </p:spPr>
      </p:sp>
      <p:sp>
        <p:nvSpPr>
          <p:cNvPr id="370"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00460-8667-4261-B887-DE5A56D941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1168A-29DB-4681-B3EC-E39BDE7A2C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AB3F2-EF80-4542-B0E6-1F5100F66B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AD143-F2D5-418E-A626-E2CA4FB5AB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7240"/>
            <a:ext cx="4572000" cy="3429000"/>
          </a:xfrm>
          <a:prstGeom prst="rect">
            <a:avLst/>
          </a:prstGeom>
          <a:ln w="0">
            <a:noFill/>
          </a:ln>
        </p:spPr>
      </p:sp>
      <p:sp>
        <p:nvSpPr>
          <p:cNvPr id="376"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9ECD3-1513-46C9-B82C-C2A9D96FA8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63E5D-46CF-4C43-8808-22A6C479D8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38D9E-6E8B-4CC5-85E7-34B827B3F7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F4811-A0CE-4B9F-9390-4E440F947E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7240"/>
            <a:ext cx="4572000" cy="3429000"/>
          </a:xfrm>
          <a:prstGeom prst="rect">
            <a:avLst/>
          </a:prstGeom>
          <a:ln w="0">
            <a:noFill/>
          </a:ln>
        </p:spPr>
      </p:sp>
      <p:sp>
        <p:nvSpPr>
          <p:cNvPr id="382"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B8CB6-DD31-4603-83BD-98F7CBEA45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C101C-617D-4B88-AD63-ECECBCA987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BDC28-2682-47D5-ACC0-640ED56E3D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26438-DFDD-416D-A99B-D21CC249DC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7240"/>
            <a:ext cx="4572000" cy="3429000"/>
          </a:xfrm>
          <a:prstGeom prst="rect">
            <a:avLst/>
          </a:prstGeom>
          <a:ln w="0">
            <a:noFill/>
          </a:ln>
        </p:spPr>
      </p:sp>
      <p:sp>
        <p:nvSpPr>
          <p:cNvPr id="217"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27690-B1F2-44AB-B92F-A26C20E857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3378D-F5C4-4EDF-A8EC-11A5FA708C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6E4EB-9315-4868-AAE0-72FD7E9C68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38583-DDF6-411D-B66D-607BD21E07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7240"/>
            <a:ext cx="4572000" cy="3429000"/>
          </a:xfrm>
          <a:prstGeom prst="rect">
            <a:avLst/>
          </a:prstGeom>
          <a:ln w="0">
            <a:noFill/>
          </a:ln>
        </p:spPr>
      </p:sp>
      <p:sp>
        <p:nvSpPr>
          <p:cNvPr id="22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9072F-B772-4479-8866-719B8EEE4F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AA4A8-D8C1-4194-8C12-D174FF1F0D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2829D-5378-46E5-9BA9-79F7515987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DD00F-B64D-45CA-99A2-8786AA5D66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7240"/>
            <a:ext cx="4572000" cy="3429000"/>
          </a:xfrm>
          <a:prstGeom prst="rect">
            <a:avLst/>
          </a:prstGeom>
          <a:ln w="0">
            <a:noFill/>
          </a:ln>
        </p:spPr>
      </p:sp>
      <p:sp>
        <p:nvSpPr>
          <p:cNvPr id="22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929D2-E766-49B7-9ADD-6107A4086D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8BE85-243F-4D8D-9538-880634E2CE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89DCC-56AB-4207-BD67-3DA3360EE1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DB579-088F-4DBE-82FC-4D0D4F14502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7240"/>
            <a:ext cx="4572000" cy="3429000"/>
          </a:xfrm>
          <a:prstGeom prst="rect">
            <a:avLst/>
          </a:prstGeom>
          <a:ln w="0">
            <a:noFill/>
          </a:ln>
        </p:spPr>
      </p:sp>
      <p:sp>
        <p:nvSpPr>
          <p:cNvPr id="23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81BB4-AE0B-4D00-BC54-6C8FB2114F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5689E-5127-4164-AFAB-CC0653EC61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F6C3B-F3FD-4BA2-810A-6399D920D5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29775-5A63-46B0-A083-8CA3B5B82C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7240"/>
            <a:ext cx="4572000" cy="3429000"/>
          </a:xfrm>
          <a:prstGeom prst="rect">
            <a:avLst/>
          </a:prstGeom>
          <a:ln w="0">
            <a:noFill/>
          </a:ln>
        </p:spPr>
      </p:sp>
      <p:sp>
        <p:nvSpPr>
          <p:cNvPr id="24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FDE76-C55E-4C9A-BAC3-65DFEEE8F1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7C3C7-321F-4F55-B8A4-F93114DD48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54712-712D-4F71-A4D3-1AF504862A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7F8B0-65F5-4404-A7DD-E28FD71F43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7240"/>
            <a:ext cx="4572000" cy="3429000"/>
          </a:xfrm>
          <a:prstGeom prst="rect">
            <a:avLst/>
          </a:prstGeom>
          <a:ln w="0">
            <a:noFill/>
          </a:ln>
        </p:spPr>
      </p:sp>
      <p:sp>
        <p:nvSpPr>
          <p:cNvPr id="247"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FCF52A-BACA-4001-904B-2C2371E078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1A543-8A0C-4130-BEC6-F390E25C7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1D05B8-9434-4E22-B0B3-E13C8E0AA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704A70-6320-4A6E-9701-77BE55EB0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78F676-E895-4666-B922-0E6AA95929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ED2F80-74AB-437F-9AB8-F4DA3F4ECB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CAC45-7875-4D17-9A8D-4EF715CB48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A8D546-7409-4FC2-BF92-532ABDDB94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EDC036-251F-4A56-B652-DBAF70C4A3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B9343C-B855-496C-BEEF-A13BAFE779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DCA84-1BA8-4603-AD62-59E3AD88C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156D1-72F4-4B0B-8D00-8FA8777A8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147DDF-45FE-4D52-8B48-8601018386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A2302-B6C7-4466-8EC2-590FD75842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A62D5F-DB5C-4263-9EAC-811D99249D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FD3B5B-9315-46C0-9ED2-462B75F11D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DBA118-30FB-4752-BEBF-365174C87C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C22B6-CBB5-4D3C-80BB-0C1C45D1E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9658B-774D-43D9-9063-124D4B6BA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3B7FF-B280-4CB3-94A2-9DED031F8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C5A29-36E4-448B-B320-479430B4D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BF2B9-BF90-4E6C-9474-863F3F7F5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4D3A1-5BCC-4FCF-B554-00DCCD36B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1DD7E-1E02-4EAF-A553-9230D38E44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NUET 230</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EA391-4C24-4AAC-A29E-F43A73F2DAF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RCNET.jpg"/>
          <p:cNvPicPr/>
          <p:nvPr/>
        </p:nvPicPr>
        <p:blipFill>
          <a:blip r:embed="rId3"/>
          <a:stretch/>
        </p:blipFill>
        <p:spPr>
          <a:xfrm>
            <a:off x="8121600" y="5961240"/>
            <a:ext cx="1044720" cy="966600"/>
          </a:xfrm>
          <a:prstGeom prst="rect">
            <a:avLst/>
          </a:prstGeom>
          <a:ln w="0">
            <a:noFill/>
          </a:ln>
        </p:spPr>
      </p:pic>
      <p:pic>
        <p:nvPicPr>
          <p:cNvPr id="42" name="Picture 7" descr="IRSC_NSFPoster.jpg"/>
          <p:cNvPicPr/>
          <p:nvPr/>
        </p:nvPicPr>
        <p:blipFill>
          <a:blip r:embed="rId4"/>
          <a:stretch/>
        </p:blipFill>
        <p:spPr>
          <a:xfrm>
            <a:off x="0" y="6443640"/>
            <a:ext cx="457200" cy="3589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NUET 230</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8B34E-D16B-4787-B04A-5D60AE8A99B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emical equilibrium, conductivity, Ph, dissolved gasses,  suspended matter, colloidal and organic compou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Title 1" descr=""/>
          <p:cNvPicPr/>
          <p:nvPr/>
        </p:nvPicPr>
        <p:blipFill>
          <a:blip r:embed="rId1"/>
          <a:stretch/>
        </p:blipFill>
        <p:spPr>
          <a:xfrm>
            <a:off x="-195120" y="0"/>
            <a:ext cx="9339120" cy="1262160"/>
          </a:xfrm>
          <a:prstGeom prst="rect">
            <a:avLst/>
          </a:prstGeom>
          <a:ln w="0">
            <a:noFill/>
          </a:ln>
        </p:spPr>
      </p:pic>
      <p:graphicFrame>
        <p:nvGraphicFramePr>
          <p:cNvPr id="93" name=""/>
          <p:cNvGraphicFramePr/>
          <p:nvPr/>
        </p:nvGraphicFramePr>
        <p:xfrm>
          <a:off x="237960" y="1523880"/>
          <a:ext cx="8525160" cy="1479600"/>
        </p:xfrm>
        <a:graphic>
          <a:graphicData uri="http://schemas.openxmlformats.org/drawingml/2006/table">
            <a:tbl>
              <a:tblPr/>
              <a:tblGrid>
                <a:gridCol w="1420920"/>
                <a:gridCol w="1420920"/>
                <a:gridCol w="1420920"/>
                <a:gridCol w="1420560"/>
                <a:gridCol w="1420920"/>
                <a:gridCol w="1420920"/>
              </a:tblGrid>
              <a:tr h="381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1.2.3</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7</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9e</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2.a</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2.b</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3.a</a:t>
                      </a:r>
                      <a:endParaRPr b="0" lang="en-US" sz="1800" spc="-1" strike="noStrike">
                        <a:solidFill>
                          <a:srgbClr val="000000"/>
                        </a:solidFill>
                        <a:latin typeface="Arial"/>
                      </a:endParaRPr>
                    </a:p>
                  </a:txBody>
                  <a:tcPr anchor="t" marL="91440" marR="91440">
                    <a:lnL>
                      <a:noFill/>
                    </a:lnL>
                    <a:lnR>
                      <a:noFill/>
                    </a:lnR>
                    <a:lnT>
                      <a:noFill/>
                    </a:lnT>
                    <a:lnB>
                      <a:noFill/>
                    </a:lnB>
                    <a:noFill/>
                  </a:tcPr>
                </a:tc>
              </a:tr>
              <a:tr h="366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3.e</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3.f</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r h="365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r h="366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B0C09-9823-494E-95D3-F6C67E05D2F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0" name="Text Box 31"/>
          <p:cNvSpPr/>
          <p:nvPr/>
        </p:nvSpPr>
        <p:spPr>
          <a:xfrm>
            <a:off x="779400" y="1295280"/>
            <a:ext cx="7925040" cy="824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MISTRY PARAMETER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22" name="Picture 2" descr=""/>
          <p:cNvPicPr/>
          <p:nvPr/>
        </p:nvPicPr>
        <p:blipFill>
          <a:blip r:embed="rId1"/>
          <a:stretch/>
        </p:blipFill>
        <p:spPr>
          <a:xfrm>
            <a:off x="2087640" y="1905120"/>
            <a:ext cx="5305320" cy="394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703B0-627A-46A3-A881-99B8839993B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4" name="Text Box 31"/>
          <p:cNvSpPr/>
          <p:nvPr/>
        </p:nvSpPr>
        <p:spPr>
          <a:xfrm>
            <a:off x="779400" y="1295280"/>
            <a:ext cx="7925040" cy="824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MISTRY PARAMETER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26" name="Picture 2" descr=""/>
          <p:cNvPicPr/>
          <p:nvPr/>
        </p:nvPicPr>
        <p:blipFill>
          <a:blip r:embed="rId1"/>
          <a:stretch/>
        </p:blipFill>
        <p:spPr>
          <a:xfrm>
            <a:off x="1947960" y="1857240"/>
            <a:ext cx="5248080" cy="3143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EF904-BA6A-4362-AC30-A45851D9E33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8" name="Text Box 31"/>
          <p:cNvSpPr/>
          <p:nvPr/>
        </p:nvSpPr>
        <p:spPr>
          <a:xfrm>
            <a:off x="779400" y="1295280"/>
            <a:ext cx="7925040" cy="19522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NORMAL CHEMISTRY CONDITION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jection of air will cause the hydrogen inventory to become depleted, which in turn can lead to a pH swing towards the acidic end. This reduced pH leads to a loosened corrosion film hence a crud burst. The crud burst causes higher radiation levels and an increase in conductivity.</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C4829-EBCD-416A-8233-70256BB15A0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1" name="Text Box 31"/>
          <p:cNvSpPr/>
          <p:nvPr/>
        </p:nvSpPr>
        <p:spPr>
          <a:xfrm>
            <a:off x="779400" y="1295280"/>
            <a:ext cx="7925040" cy="16779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NORMAL CHEMISTRY CONDITION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element failure allows large amounts of fission products a possible release path to the reactor coolant. This could lead to a lowered ion exchange efficiency.</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75522-7456-40A9-A203-C34F2218A32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4" name="Text Box 31"/>
          <p:cNvSpPr/>
          <p:nvPr/>
        </p:nvSpPr>
        <p:spPr>
          <a:xfrm>
            <a:off x="779400" y="1295280"/>
            <a:ext cx="7925040" cy="1403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NORMAL CHEMISTRY CONDITION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n overheating results in the decomposition of the resin. The products of the decomposition can seep into the reactor coolant and affect the chemistry in several ways. </a:t>
            </a:r>
            <a:endParaRPr b="0" lang="en-US" sz="1800" spc="-1" strike="noStrike">
              <a:solidFill>
                <a:srgbClr val="000000"/>
              </a:solidFill>
              <a:latin typeface="Arial"/>
            </a:endParaRPr>
          </a:p>
        </p:txBody>
      </p:sp>
      <p:sp>
        <p:nvSpPr>
          <p:cNvPr id="13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25D18-DBCD-42F6-AB2F-F44BEFB3D8E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7" name="Text Box 31"/>
          <p:cNvSpPr/>
          <p:nvPr/>
        </p:nvSpPr>
        <p:spPr>
          <a:xfrm>
            <a:off x="779400" y="1295280"/>
            <a:ext cx="7925040" cy="4695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ER TREATMENT PROCESS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are three reasons for using very pure water in reactor facility system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inimize corrosion, which is enhanced by impuritie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inimize radiation levels in a reactor facility. Some of the natural impurities and most of the corrosion products become highly radioactive after exposure to the neutron flux in the core region. If not removed, these soluble and insoluble substances may be carried to all parts of the system.</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inimize fouling of heat transfer surfaces. Corrosion products and other impurities may deposit on core surfaces and other heat transfer regions, which result in decreased heat transfer capabilities by fouling surfaces or blockage of critical flow channels. Areas of high concentrations of these impurities and corrosion products may also lead to extreme conditions of the various corrosion processes with resultant failure of components or systems.</a:t>
            </a:r>
            <a:endParaRPr b="0" lang="en-US" sz="1800" spc="-1" strike="noStrike">
              <a:solidFill>
                <a:srgbClr val="000000"/>
              </a:solidFill>
              <a:latin typeface="Arial"/>
            </a:endParaRPr>
          </a:p>
        </p:txBody>
      </p:sp>
      <p:sp>
        <p:nvSpPr>
          <p:cNvPr id="138"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11226-A79B-4E7B-BB61-2757DB80744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0" name="Text Box 31"/>
          <p:cNvSpPr/>
          <p:nvPr/>
        </p:nvSpPr>
        <p:spPr>
          <a:xfrm>
            <a:off x="779400" y="1295280"/>
            <a:ext cx="7925040" cy="824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ER TREATMENT PROCESS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42" name="Picture 2" descr=""/>
          <p:cNvPicPr/>
          <p:nvPr/>
        </p:nvPicPr>
        <p:blipFill>
          <a:blip r:embed="rId1"/>
          <a:stretch/>
        </p:blipFill>
        <p:spPr>
          <a:xfrm>
            <a:off x="1828800" y="1906560"/>
            <a:ext cx="5410080" cy="4341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9A0A1-2E4D-4CA9-A31B-8A94C6164B4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4" name="Text Box 31"/>
          <p:cNvSpPr/>
          <p:nvPr/>
        </p:nvSpPr>
        <p:spPr>
          <a:xfrm>
            <a:off x="779400" y="1287360"/>
            <a:ext cx="7925040" cy="33238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ineralize is defined as the process whereby impurities present in the incoming fluid (water) are removed by exchanging impure ions with H+ and OH- ions resulting in the formation of pure water.</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n exchange is a process used extensively in nuclear facilities to control the purity and pH of water by removing undesirable ions and replacing them with acceptable one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ed-bed demineralizer is a vessel containing resin that is a uniform mixture of cation and anion resins in a specific volume ratio depending on their specific gravities. Normally the ratio is 2 parts cation resin to 3 parts anion resin.</a:t>
            </a:r>
            <a:endParaRPr b="0" lang="en-US" sz="1800" spc="-1" strike="noStrike">
              <a:solidFill>
                <a:srgbClr val="000000"/>
              </a:solidFill>
              <a:latin typeface="Arial"/>
            </a:endParaRPr>
          </a:p>
        </p:txBody>
      </p:sp>
      <p:sp>
        <p:nvSpPr>
          <p:cNvPr id="14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5B15E-0C27-4C55-9DD2-CD4EE28B70D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7" name="Text Box 31"/>
          <p:cNvSpPr/>
          <p:nvPr/>
        </p:nvSpPr>
        <p:spPr>
          <a:xfrm>
            <a:off x="779400" y="1287360"/>
            <a:ext cx="7925040" cy="5806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49" name="Picture 2" descr=""/>
          <p:cNvPicPr/>
          <p:nvPr/>
        </p:nvPicPr>
        <p:blipFill>
          <a:blip r:embed="rId1"/>
          <a:stretch/>
        </p:blipFill>
        <p:spPr>
          <a:xfrm>
            <a:off x="2935440" y="1790640"/>
            <a:ext cx="3195360" cy="4311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EF9D5-FCCE-48FF-94F9-B74EE08FB15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1" name="Text Box 31"/>
          <p:cNvSpPr/>
          <p:nvPr/>
        </p:nvSpPr>
        <p:spPr>
          <a:xfrm>
            <a:off x="779400" y="1287360"/>
            <a:ext cx="7925040" cy="3635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ion is an ion with a positive charge.  A cation resin is one that exchanges positive ions.</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on cations include Ca++, Mg++, Fe++, and H+. </a:t>
            </a:r>
            <a:endParaRPr b="0" lang="en-US" sz="1800" spc="-1" strike="noStrike">
              <a:solidFill>
                <a:srgbClr val="000000"/>
              </a:solidFill>
              <a:latin typeface="Arial"/>
            </a:endParaRPr>
          </a:p>
          <a:p>
            <a:pPr lvl="1" marL="800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on is an ion with a negative charge. An anion resin is one that exchanges negative ions.</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on anions include Cl-, SO</a:t>
            </a:r>
            <a:r>
              <a:rPr b="0" lang="en-US" sz="1800" spc="-1" strike="noStrike" baseline="-25000">
                <a:solidFill>
                  <a:srgbClr val="000000"/>
                </a:solidFill>
                <a:latin typeface="Arial"/>
                <a:ea typeface="Arial"/>
              </a:rPr>
              <a:t>4</a:t>
            </a:r>
            <a:r>
              <a:rPr b="0" lang="en-US" sz="1800" spc="-1" strike="noStrike">
                <a:solidFill>
                  <a:srgbClr val="000000"/>
                </a:solidFill>
                <a:latin typeface="Arial"/>
                <a:ea typeface="Arial"/>
              </a:rPr>
              <a:t> </a:t>
            </a:r>
            <a:r>
              <a:rPr b="0" lang="en-US" sz="1800" spc="-1" strike="noStrike" baseline="30000">
                <a:solidFill>
                  <a:srgbClr val="000000"/>
                </a:solidFill>
                <a:latin typeface="Arial"/>
                <a:ea typeface="Arial"/>
              </a:rPr>
              <a:t>-2 </a:t>
            </a:r>
            <a:r>
              <a:rPr b="0" lang="en-US" sz="1800" spc="-1" strike="noStrike">
                <a:solidFill>
                  <a:srgbClr val="000000"/>
                </a:solidFill>
                <a:latin typeface="Arial"/>
                <a:ea typeface="Arial"/>
              </a:rPr>
              <a:t>and OH-. </a:t>
            </a:r>
            <a:endParaRPr b="0" lang="en-US" sz="1800" spc="-1" strike="noStrike">
              <a:solidFill>
                <a:srgbClr val="000000"/>
              </a:solidFill>
              <a:latin typeface="Arial"/>
            </a:endParaRPr>
          </a:p>
          <a:p>
            <a:pPr lvl="1" marL="800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ontamination factor (DF) is a ratio of the concentration (or activity) of the fluid at the inlet compared to the concentration (or activity) at the effluent, which defines the effectiveness of the ion exchange process</a:t>
            </a:r>
            <a:endParaRPr b="0" lang="en-US" sz="1800" spc="-1" strike="noStrike">
              <a:solidFill>
                <a:srgbClr val="000000"/>
              </a:solidFill>
              <a:latin typeface="Arial"/>
            </a:endParaRPr>
          </a:p>
        </p:txBody>
      </p:sp>
      <p:sp>
        <p:nvSpPr>
          <p:cNvPr id="15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9C677-D5AB-4D42-A8F2-61373CDA582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
        <p:nvSpPr>
          <p:cNvPr id="96" name="Rectangle 5"/>
          <p:cNvSpPr/>
          <p:nvPr/>
        </p:nvSpPr>
        <p:spPr>
          <a:xfrm>
            <a:off x="990720" y="2316240"/>
            <a:ext cx="73152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urpose of this class is to familiarize students with the general measures taken to retard corrosion, maintain water purity, and minimize radioac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3BA45-35EB-49CE-9FC3-CAA1B23E7FD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4" name="Text Box 31"/>
          <p:cNvSpPr/>
          <p:nvPr/>
        </p:nvSpPr>
        <p:spPr>
          <a:xfrm>
            <a:off x="779400" y="1287360"/>
            <a:ext cx="7925040" cy="2500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ymers are extremely large molecules that are formed by the combination of many molecules of one or two compounds in a repeating structure that produces long chain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finity is often used to describe the attraction between a resin and a given ion. This affinity can be described quantitatively by experimental determination of a parameter called the relative affinity coefficient.</a:t>
            </a:r>
            <a:endParaRPr b="0" lang="en-US" sz="1800" spc="-1" strike="noStrike">
              <a:solidFill>
                <a:srgbClr val="000000"/>
              </a:solidFill>
              <a:latin typeface="Arial"/>
            </a:endParaRPr>
          </a:p>
        </p:txBody>
      </p:sp>
      <p:sp>
        <p:nvSpPr>
          <p:cNvPr id="15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56" name="Picture 2" descr=""/>
          <p:cNvPicPr/>
          <p:nvPr/>
        </p:nvPicPr>
        <p:blipFill>
          <a:blip r:embed="rId1"/>
          <a:stretch/>
        </p:blipFill>
        <p:spPr>
          <a:xfrm>
            <a:off x="2179800" y="3746520"/>
            <a:ext cx="5122800" cy="250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B01A2-FA4B-46FE-9B74-50676FFC1FE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8" name="Text Box 31"/>
          <p:cNvSpPr/>
          <p:nvPr/>
        </p:nvSpPr>
        <p:spPr>
          <a:xfrm>
            <a:off x="779400" y="1287360"/>
            <a:ext cx="7925040" cy="35982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n beads are long-chain cross-linked polymers that contain sites occupied by exchangeable ions. The general order of affinity serves as a useful guide in understanding many ion exchange processes.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ion and anion resins are named according to the identity of the ion occupying the exchange sites, such as hydrogen, hydroxyl, and chloride.</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ed-bed resins are used to remove both cations and anion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ectiveness of any ion exchanger is directly related to the relative affinities between a resin and different ions. </a:t>
            </a:r>
            <a:endParaRPr b="0" lang="en-US" sz="1800" spc="-1" strike="noStrike">
              <a:solidFill>
                <a:srgbClr val="000000"/>
              </a:solidFill>
              <a:latin typeface="Arial"/>
            </a:endParaRPr>
          </a:p>
        </p:txBody>
      </p:sp>
      <p:sp>
        <p:nvSpPr>
          <p:cNvPr id="159"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CD092-187D-4ABE-B03B-33BCA05B172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1" name="Text Box 31"/>
          <p:cNvSpPr/>
          <p:nvPr/>
        </p:nvSpPr>
        <p:spPr>
          <a:xfrm>
            <a:off x="779400" y="1287360"/>
            <a:ext cx="7925040" cy="42663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of decreasing strength, the relative affinities between a cation resin and various cations are:</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ly, the relative affinities of the anion resin for various anions are:</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gher the relative affinity the more effective the ion exchanger. This effectiveness is expressed by the Decontamination Factor.</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63" name="Picture 2" descr=""/>
          <p:cNvPicPr/>
          <p:nvPr/>
        </p:nvPicPr>
        <p:blipFill>
          <a:blip r:embed="rId1"/>
          <a:stretch/>
        </p:blipFill>
        <p:spPr>
          <a:xfrm>
            <a:off x="2290680" y="2500200"/>
            <a:ext cx="4900680" cy="1005120"/>
          </a:xfrm>
          <a:prstGeom prst="rect">
            <a:avLst/>
          </a:prstGeom>
          <a:ln w="0">
            <a:noFill/>
          </a:ln>
        </p:spPr>
      </p:pic>
      <p:pic>
        <p:nvPicPr>
          <p:cNvPr id="164" name="Picture 3" descr=""/>
          <p:cNvPicPr/>
          <p:nvPr/>
        </p:nvPicPr>
        <p:blipFill>
          <a:blip r:embed="rId2"/>
          <a:stretch/>
        </p:blipFill>
        <p:spPr>
          <a:xfrm>
            <a:off x="1593720" y="3886200"/>
            <a:ext cx="6061320" cy="762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AA8C8-5546-4CD9-8B27-79F32833A19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6" name="Text Box 31"/>
          <p:cNvSpPr/>
          <p:nvPr/>
        </p:nvSpPr>
        <p:spPr>
          <a:xfrm>
            <a:off x="779400" y="1287360"/>
            <a:ext cx="7925040" cy="11667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ction for removal of NaCl and CaSO</a:t>
            </a:r>
            <a:r>
              <a:rPr b="0" lang="en-US" sz="1800" spc="-1" strike="noStrike" baseline="-25000">
                <a:solidFill>
                  <a:srgbClr val="000000"/>
                </a:solidFill>
                <a:latin typeface="Arial"/>
              </a:rPr>
              <a:t>4</a:t>
            </a:r>
            <a:r>
              <a:rPr b="0" lang="en-US" sz="1800" spc="-1" strike="noStrike">
                <a:solidFill>
                  <a:srgbClr val="000000"/>
                </a:solidFill>
                <a:latin typeface="Arial"/>
              </a:rPr>
              <a:t> by a mixed-bed ion exchanger such as one containing HOH resin is as follows:</a:t>
            </a:r>
            <a:endParaRPr b="0" lang="en-US" sz="1800" spc="-1" strike="noStrike">
              <a:solidFill>
                <a:srgbClr val="000000"/>
              </a:solidFill>
              <a:latin typeface="Arial"/>
            </a:endParaRPr>
          </a:p>
        </p:txBody>
      </p:sp>
      <p:sp>
        <p:nvSpPr>
          <p:cNvPr id="167"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68" name="Picture 2" descr=""/>
          <p:cNvPicPr/>
          <p:nvPr/>
        </p:nvPicPr>
        <p:blipFill>
          <a:blip r:embed="rId1"/>
          <a:stretch/>
        </p:blipFill>
        <p:spPr>
          <a:xfrm>
            <a:off x="1096920" y="3108240"/>
            <a:ext cx="6873840" cy="919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A978A-F6E9-4E21-8878-3D96D2D9AED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 name="Text Box 31"/>
          <p:cNvSpPr/>
          <p:nvPr/>
        </p:nvSpPr>
        <p:spPr>
          <a:xfrm>
            <a:off x="779400" y="1287360"/>
            <a:ext cx="7925040" cy="38725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SOLVED GASSES, SUSPENDED SOLIDS, and pH CONTRO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the presence of impurities, raw water sources undergo treatment prior to use as makeup water in reactor facility systems. These systems normally utilize several distinct processes that remove solids, ionic impurities, and gase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treatment of makeup water is necessary to reduce corrosion, minimize radiation, and limit fouling of heat transfer surface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hydrogen and hydroxyl forms of resin are used, the result is pure, neutral water. Other forms may be used to remove unwanted impurities from solution and substitute another substance, such as a base, to help control pH.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ns also filter solids suspended in a solution, but the efficiency for this is usually less than the efficiency for removal by ion exchange.</a:t>
            </a:r>
            <a:endParaRPr b="0" lang="en-US" sz="1800" spc="-1" strike="noStrike">
              <a:solidFill>
                <a:srgbClr val="000000"/>
              </a:solidFill>
              <a:latin typeface="Arial"/>
            </a:endParaRPr>
          </a:p>
        </p:txBody>
      </p:sp>
      <p:sp>
        <p:nvSpPr>
          <p:cNvPr id="171"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7CBFA-F175-41BD-8E12-A2F11C0FFF8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3" name="Text Box 31"/>
          <p:cNvSpPr/>
          <p:nvPr/>
        </p:nvSpPr>
        <p:spPr>
          <a:xfrm>
            <a:off x="609480" y="990720"/>
            <a:ext cx="7925040" cy="49698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SOLVED GASSES, SUSPENDED SOLIDS, and pH CONTRO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solved gases are removed from reactor facility systems to limit corrosion by any one of the following methods or combinations of methods:</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eration - The spraying of the water to physically release the entrained gasses, then venting the gas.</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aeration - The heating of the water to a slow boil, then vents the gas usually to a condenser so the moisture is not lost.</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dition of scavengers - Examples are hydrogen, hydrazine, and morpholine, the scavenger combines with the gas and removes it chemically</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pended solids are removed by the use of mechanical filters. The two basic categories of mechanical filters are gravity flow and pressure flow filters. The pressure flow filters are more likely to be used because there are better control capabilities. Numerous materials are used as filter media and include sand, activated charcoal, anthracite, diatomaceous earth, and to some extent the resin in an ion exchanger</a:t>
            </a:r>
            <a:endParaRPr b="0" lang="en-US" sz="1800" spc="-1" strike="noStrike">
              <a:solidFill>
                <a:srgbClr val="000000"/>
              </a:solidFill>
              <a:latin typeface="Arial"/>
            </a:endParaRPr>
          </a:p>
        </p:txBody>
      </p:sp>
      <p:sp>
        <p:nvSpPr>
          <p:cNvPr id="174"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858BE-B925-4A07-A59D-84DED92A9F6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6" name="Text Box 31"/>
          <p:cNvSpPr/>
          <p:nvPr/>
        </p:nvSpPr>
        <p:spPr>
          <a:xfrm>
            <a:off x="779400" y="1287360"/>
            <a:ext cx="7925040" cy="41468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SOLVED GASSES, SUSPENDED SOLIDS, and pH CONTRO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pended solids are removed by the use of mechanical filters. The two basic categories of mechanical filters are gravity flow and pressure flow filters.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sure flow filters are more likely to be used because there are better control capabilities.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ous materials are used as filter media and include:</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and</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tivated charcoal</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thracite</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atomaceous earth</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d to some extent the resin in an ion exchanger</a:t>
            </a:r>
            <a:endParaRPr b="0" lang="en-US" sz="1800" spc="-1" strike="noStrike">
              <a:solidFill>
                <a:srgbClr val="000000"/>
              </a:solidFill>
              <a:latin typeface="Arial"/>
            </a:endParaRPr>
          </a:p>
        </p:txBody>
      </p:sp>
      <p:sp>
        <p:nvSpPr>
          <p:cNvPr id="177"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034E3-99EA-4B73-BA65-8EEC2B60EFB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9" name="Text Box 31"/>
          <p:cNvSpPr/>
          <p:nvPr/>
        </p:nvSpPr>
        <p:spPr>
          <a:xfrm>
            <a:off x="779400" y="1287360"/>
            <a:ext cx="7925040" cy="4695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IN AND ION EXCHANGER PROBLEM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neling in an ion exchanger occurs when there is a direct flowpath for the water that decreases the resin-water contact. Channeling may occur in the resin bed as a result of improper filling or malfunction of the inlet connection.</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ns are susceptible to damage by overheating. Although a resin contains a very large number of exchange sites, the number is finite and the resin exchange capability is eventually depleted. </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first indication of depletion is breakthrough, which occurs when impurity ions begin to appear in the solution after it has passed through the resin.</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concentration of impurities is the same before and after the solution passes through the resin, the resin has reached a state of exhaustion.</a:t>
            </a:r>
            <a:endParaRPr b="0" lang="en-US" sz="1800" spc="-1" strike="noStrike">
              <a:solidFill>
                <a:srgbClr val="000000"/>
              </a:solidFill>
              <a:latin typeface="Arial"/>
            </a:endParaRPr>
          </a:p>
        </p:txBody>
      </p:sp>
      <p:sp>
        <p:nvSpPr>
          <p:cNvPr id="180"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UET 230</a:t>
            </a:r>
            <a:endParaRPr b="0" lang="en-US" sz="1200" spc="-1" strike="noStrike">
              <a:solidFill>
                <a:srgbClr val="000000"/>
              </a:solidFill>
              <a:latin typeface="Arial"/>
            </a:endParaRPr>
          </a:p>
        </p:txBody>
      </p:sp>
      <p:sp>
        <p:nvSpPr>
          <p:cNvPr id="18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
        <p:nvSpPr>
          <p:cNvPr id="183" name="TextBox 3"/>
          <p:cNvSpPr/>
          <p:nvPr/>
        </p:nvSpPr>
        <p:spPr>
          <a:xfrm>
            <a:off x="838080" y="1676520"/>
            <a:ext cx="8001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drogen Contro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drogen is added to the Reactor Coolant System (RCS)  to maintain reducing condit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ddition minimizes general corrosion and risks of stress corrosion cracking (SCC) by adjusting volume control tank or makeup tank gas space overpressure in order to maintain RCS hydrogen between 25 and 50 cc/k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nuclear power plant hydrogen is added as a oxygen scavenger. The concentration of hydrogen  in plant is expressed in cc/kg at ST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means the volume of hydrogen gas you would get from a kilogram of water assuming hydrogen is dry and at ST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C7C17-1C68-47E7-9C46-9A2911D48F7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5" name="Text Box 31"/>
          <p:cNvSpPr/>
          <p:nvPr/>
        </p:nvSpPr>
        <p:spPr>
          <a:xfrm>
            <a:off x="779400" y="1287360"/>
            <a:ext cx="7925040" cy="824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ER PURIT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6"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87" name="Picture 2" descr=""/>
          <p:cNvPicPr/>
          <p:nvPr/>
        </p:nvPicPr>
        <p:blipFill>
          <a:blip r:embed="rId1"/>
          <a:stretch/>
        </p:blipFill>
        <p:spPr>
          <a:xfrm>
            <a:off x="1312920" y="2149560"/>
            <a:ext cx="6856200" cy="339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5464F-9FF7-4C16-BD08-F69F1AF66E0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8" name="Text Box 31"/>
          <p:cNvSpPr/>
          <p:nvPr/>
        </p:nvSpPr>
        <p:spPr>
          <a:xfrm>
            <a:off x="762120" y="1295280"/>
            <a:ext cx="7924680" cy="16779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RMINAL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references, </a:t>
            </a:r>
            <a:r>
              <a:rPr b="1" lang="en-US" sz="1800" spc="-1" strike="noStrike">
                <a:solidFill>
                  <a:srgbClr val="000000"/>
                </a:solidFill>
                <a:latin typeface="Arial"/>
              </a:rPr>
              <a:t>DESCRIBE </a:t>
            </a:r>
            <a:r>
              <a:rPr b="0" lang="en-US" sz="1800" spc="-1" strike="noStrike">
                <a:solidFill>
                  <a:srgbClr val="000000"/>
                </a:solidFill>
                <a:latin typeface="Arial"/>
              </a:rPr>
              <a:t>the effects of radiation on reactor water and methods of treatment for the product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references, </a:t>
            </a:r>
            <a:r>
              <a:rPr b="1" lang="en-US" sz="1800" spc="-1" strike="noStrike">
                <a:solidFill>
                  <a:srgbClr val="000000"/>
                </a:solidFill>
                <a:latin typeface="Arial"/>
              </a:rPr>
              <a:t>EXPLAIN </a:t>
            </a:r>
            <a:r>
              <a:rPr b="0" lang="en-US" sz="1800" spc="-1" strike="noStrike">
                <a:solidFill>
                  <a:srgbClr val="000000"/>
                </a:solidFill>
                <a:latin typeface="Arial"/>
              </a:rPr>
              <a:t>the concept and application of ion exchange in water purification. </a:t>
            </a:r>
            <a:endParaRPr b="0" lang="en-US" sz="1800" spc="-1" strike="noStrike">
              <a:solidFill>
                <a:srgbClr val="000000"/>
              </a:solidFill>
              <a:latin typeface="Arial"/>
            </a:endParaRPr>
          </a:p>
        </p:txBody>
      </p:sp>
      <p:sp>
        <p:nvSpPr>
          <p:cNvPr id="99"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D5683-3D4A-4D87-9B83-8195F4659E0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9" name="Text Box 31"/>
          <p:cNvSpPr/>
          <p:nvPr/>
        </p:nvSpPr>
        <p:spPr>
          <a:xfrm>
            <a:off x="762120" y="1295280"/>
            <a:ext cx="7924680" cy="16779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RMINAL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references, </a:t>
            </a:r>
            <a:r>
              <a:rPr b="1" lang="en-US" sz="1800" spc="-1" strike="noStrike">
                <a:solidFill>
                  <a:srgbClr val="000000"/>
                </a:solidFill>
                <a:latin typeface="Arial"/>
              </a:rPr>
              <a:t>DESCRIBE </a:t>
            </a:r>
            <a:r>
              <a:rPr b="0" lang="en-US" sz="1800" spc="-1" strike="noStrike">
                <a:solidFill>
                  <a:srgbClr val="000000"/>
                </a:solidFill>
                <a:latin typeface="Arial"/>
              </a:rPr>
              <a:t>the effects of radiation on reactor water and methods of treatment for the product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references, </a:t>
            </a:r>
            <a:r>
              <a:rPr b="1" lang="en-US" sz="1800" spc="-1" strike="noStrike">
                <a:solidFill>
                  <a:srgbClr val="000000"/>
                </a:solidFill>
                <a:latin typeface="Arial"/>
              </a:rPr>
              <a:t>EXPLAIN </a:t>
            </a:r>
            <a:r>
              <a:rPr b="0" lang="en-US" sz="1800" spc="-1" strike="noStrike">
                <a:solidFill>
                  <a:srgbClr val="000000"/>
                </a:solidFill>
                <a:latin typeface="Arial"/>
              </a:rPr>
              <a:t>the concept and application of ion exchange in water purification. </a:t>
            </a:r>
            <a:endParaRPr b="0" lang="en-US" sz="1800" spc="-1" strike="noStrike">
              <a:solidFill>
                <a:srgbClr val="000000"/>
              </a:solidFill>
              <a:latin typeface="Arial"/>
            </a:endParaRPr>
          </a:p>
        </p:txBody>
      </p:sp>
      <p:sp>
        <p:nvSpPr>
          <p:cNvPr id="190"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4AD34-638A-476C-9C12-708230102D1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2" name="Text Box 31"/>
          <p:cNvSpPr/>
          <p:nvPr/>
        </p:nvSpPr>
        <p:spPr>
          <a:xfrm>
            <a:off x="762120" y="1295280"/>
            <a:ext cx="7924680" cy="44744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the three reasons for removing impurities from water prior to use in reactor systems.</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INE </a:t>
            </a:r>
            <a:r>
              <a:rPr b="0" lang="en-US" sz="1600" spc="-1" strike="noStrike">
                <a:solidFill>
                  <a:srgbClr val="000000"/>
                </a:solidFill>
                <a:latin typeface="Arial"/>
              </a:rPr>
              <a:t>the following terms:  </a:t>
            </a:r>
            <a:r>
              <a:rPr b="0" lang="fr-FR" sz="1600" spc="-1" strike="noStrike">
                <a:solidFill>
                  <a:srgbClr val="000000"/>
                </a:solidFill>
                <a:latin typeface="Arial"/>
              </a:rPr>
              <a:t>Ion exchange, Polymer, D</a:t>
            </a:r>
            <a:r>
              <a:rPr b="0" lang="en-US" sz="1600" spc="-1" strike="noStrike">
                <a:solidFill>
                  <a:srgbClr val="000000"/>
                </a:solidFill>
                <a:latin typeface="Arial"/>
              </a:rPr>
              <a:t>emineralize, Mixed-bed demineralizer, Cation, Affinity, Anion, Decontamination facto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following:  Resin bead, Cation resin, Anion resi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USS </a:t>
            </a:r>
            <a:r>
              <a:rPr b="0" lang="en-US" sz="1600" spc="-1" strike="noStrike">
                <a:solidFill>
                  <a:srgbClr val="000000"/>
                </a:solidFill>
                <a:latin typeface="Arial"/>
              </a:rPr>
              <a:t>the following factors of ion exchange:  Relative affinity, Decontamination factor, </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 </a:t>
            </a:r>
            <a:r>
              <a:rPr b="0" lang="en-US" sz="1600" spc="-1" strike="noStrike">
                <a:solidFill>
                  <a:srgbClr val="000000"/>
                </a:solidFill>
                <a:latin typeface="Arial"/>
              </a:rPr>
              <a:t>the reaction for removal of NaCl and CaSO4 by a mixed-bed ion exchanger such as one containing HOH resi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AIN </a:t>
            </a:r>
            <a:r>
              <a:rPr b="0" lang="en-US" sz="1600" spc="-1" strike="noStrike">
                <a:solidFill>
                  <a:srgbClr val="000000"/>
                </a:solidFill>
                <a:latin typeface="Arial"/>
              </a:rPr>
              <a:t>the three basic methods used to remove dissolved gases from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five filtration mediums used to remove suspended solids from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AIN </a:t>
            </a:r>
            <a:r>
              <a:rPr b="0" lang="en-US" sz="1600" spc="-1" strike="noStrike">
                <a:solidFill>
                  <a:srgbClr val="000000"/>
                </a:solidFill>
                <a:latin typeface="Arial"/>
              </a:rPr>
              <a:t>how mixed-bed ion exchangers may be used to control pH.</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USS </a:t>
            </a:r>
            <a:r>
              <a:rPr b="0" lang="en-US" sz="1600" spc="-1" strike="noStrike">
                <a:solidFill>
                  <a:srgbClr val="000000"/>
                </a:solidFill>
                <a:latin typeface="Arial"/>
              </a:rPr>
              <a:t>resin malfunctions, including the following:  Channeling, Breakthrough, Exhaustio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the maximum conductivity and approximate concentration of electrolyte for each level of purity for makeup water.</a:t>
            </a:r>
            <a:endParaRPr b="0" lang="en-US" sz="1600" spc="-1" strike="noStrike">
              <a:solidFill>
                <a:srgbClr val="000000"/>
              </a:solidFill>
              <a:latin typeface="Arial"/>
            </a:endParaRPr>
          </a:p>
        </p:txBody>
      </p:sp>
      <p:sp>
        <p:nvSpPr>
          <p:cNvPr id="193"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2F308-62F4-4A8C-877E-96FE56641DF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5" name="Text Box 31"/>
          <p:cNvSpPr/>
          <p:nvPr/>
        </p:nvSpPr>
        <p:spPr>
          <a:xfrm>
            <a:off x="762120" y="1295280"/>
            <a:ext cx="7924680" cy="3257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process of radiolytic decomposition and recombination of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process of radiolytic decomposition and recombination of nitric acid and ammonia.</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advantage of maintaining excess hydrogen in reactor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three sources of radioactivity in reactor water and each one’s decay product.</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following for reactor water chemistry.</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ine parameters controlled</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ason for controlling each parameter</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thod of controlling each parame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possible effects of abnormal chemistry on core conditions.</a:t>
            </a:r>
            <a:endParaRPr b="0" lang="en-US" sz="1600" spc="-1" strike="noStrike">
              <a:solidFill>
                <a:srgbClr val="000000"/>
              </a:solidFill>
              <a:latin typeface="Arial"/>
            </a:endParaRPr>
          </a:p>
        </p:txBody>
      </p:sp>
      <p:sp>
        <p:nvSpPr>
          <p:cNvPr id="196"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D262C-63A3-4BAE-9E29-BE2F99410ED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1" name="Text Box 31"/>
          <p:cNvSpPr/>
          <p:nvPr/>
        </p:nvSpPr>
        <p:spPr>
          <a:xfrm>
            <a:off x="762120" y="1295280"/>
            <a:ext cx="7924680" cy="44744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the three reasons for removing impurities from water prior to use in reactor systems.</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INE </a:t>
            </a:r>
            <a:r>
              <a:rPr b="0" lang="en-US" sz="1600" spc="-1" strike="noStrike">
                <a:solidFill>
                  <a:srgbClr val="000000"/>
                </a:solidFill>
                <a:latin typeface="Arial"/>
              </a:rPr>
              <a:t>the following terms:  </a:t>
            </a:r>
            <a:r>
              <a:rPr b="0" lang="fr-FR" sz="1600" spc="-1" strike="noStrike">
                <a:solidFill>
                  <a:srgbClr val="000000"/>
                </a:solidFill>
                <a:latin typeface="Arial"/>
              </a:rPr>
              <a:t>Ion exchange, Polymer, D</a:t>
            </a:r>
            <a:r>
              <a:rPr b="0" lang="en-US" sz="1600" spc="-1" strike="noStrike">
                <a:solidFill>
                  <a:srgbClr val="000000"/>
                </a:solidFill>
                <a:latin typeface="Arial"/>
              </a:rPr>
              <a:t>emineralize, Mixed-bed demineralizer, Cation, Affinity, Anion, Decontamination facto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following:  Resin bead, Cation resin, Anion resi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USS </a:t>
            </a:r>
            <a:r>
              <a:rPr b="0" lang="en-US" sz="1600" spc="-1" strike="noStrike">
                <a:solidFill>
                  <a:srgbClr val="000000"/>
                </a:solidFill>
                <a:latin typeface="Arial"/>
              </a:rPr>
              <a:t>the following factors of ion exchange:  Relative affinity, Decontamination factor, </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 </a:t>
            </a:r>
            <a:r>
              <a:rPr b="0" lang="en-US" sz="1600" spc="-1" strike="noStrike">
                <a:solidFill>
                  <a:srgbClr val="000000"/>
                </a:solidFill>
                <a:latin typeface="Arial"/>
              </a:rPr>
              <a:t>the reaction for removal of NaCl and CaSO4 by a mixed-bed ion exchanger such as one containing HOH resi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AIN </a:t>
            </a:r>
            <a:r>
              <a:rPr b="0" lang="en-US" sz="1600" spc="-1" strike="noStrike">
                <a:solidFill>
                  <a:srgbClr val="000000"/>
                </a:solidFill>
                <a:latin typeface="Arial"/>
              </a:rPr>
              <a:t>the three basic methods used to remove dissolved gases from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five filtration mediums used to remove suspended solids from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AIN </a:t>
            </a:r>
            <a:r>
              <a:rPr b="0" lang="en-US" sz="1600" spc="-1" strike="noStrike">
                <a:solidFill>
                  <a:srgbClr val="000000"/>
                </a:solidFill>
                <a:latin typeface="Arial"/>
              </a:rPr>
              <a:t>how mixed-bed ion exchangers may be used to control pH.</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USS </a:t>
            </a:r>
            <a:r>
              <a:rPr b="0" lang="en-US" sz="1600" spc="-1" strike="noStrike">
                <a:solidFill>
                  <a:srgbClr val="000000"/>
                </a:solidFill>
                <a:latin typeface="Arial"/>
              </a:rPr>
              <a:t>resin malfunctions, including the following:  Channeling, Breakthrough, Exhaustio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the maximum conductivity and approximate concentration of electrolyte for each level of purity for makeup water.</a:t>
            </a:r>
            <a:endParaRPr b="0" lang="en-US" sz="1600" spc="-1" strike="noStrike">
              <a:solidFill>
                <a:srgbClr val="000000"/>
              </a:solidFill>
              <a:latin typeface="Arial"/>
            </a:endParaRPr>
          </a:p>
        </p:txBody>
      </p:sp>
      <p:sp>
        <p:nvSpPr>
          <p:cNvPr id="10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36A9A-24CD-46AC-8496-3BD95BC1083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4" name="Text Box 31"/>
          <p:cNvSpPr/>
          <p:nvPr/>
        </p:nvSpPr>
        <p:spPr>
          <a:xfrm>
            <a:off x="762120" y="1295280"/>
            <a:ext cx="7924680" cy="3257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process of radiolytic decomposition and recombination of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process of radiolytic decomposition and recombination of nitric acid and ammonia.</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advantage of maintaining excess hydrogen in reactor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three sources of radioactivity in reactor water and each one’s decay product.</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following for reactor water chemistry.</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ine parameters controlled</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ason for controlling each parameter</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thod of controlling each parame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possible effects of abnormal chemistry on core conditions.</a:t>
            </a:r>
            <a:endParaRPr b="0" lang="en-US" sz="1600" spc="-1" strike="noStrike">
              <a:solidFill>
                <a:srgbClr val="000000"/>
              </a:solidFill>
              <a:latin typeface="Arial"/>
            </a:endParaRPr>
          </a:p>
        </p:txBody>
      </p:sp>
      <p:sp>
        <p:nvSpPr>
          <p:cNvPr id="10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C0500-1D06-44FB-B9E8-989A61C3A17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7" name="Text Box 31"/>
          <p:cNvSpPr/>
          <p:nvPr/>
        </p:nvSpPr>
        <p:spPr>
          <a:xfrm>
            <a:off x="762120" y="1295280"/>
            <a:ext cx="7924680" cy="28875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S OF RADIATION ON WATER CHEMISTR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nse radiation inside the core of an operating nuclear reactor produces several chemical effects on the reactor coolant itself and on substances dissolved in the coolant.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 causes pure water to decompose into H2 and O2 . The decomposition is suppressed by adding excess hydrogen. </a:t>
            </a:r>
            <a:endParaRPr b="0" lang="en-US" sz="1800" spc="-1" strike="noStrike">
              <a:solidFill>
                <a:srgbClr val="000000"/>
              </a:solidFill>
              <a:latin typeface="Arial"/>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H</a:t>
            </a:r>
            <a:r>
              <a:rPr b="1" lang="en-US" sz="1800" spc="-1" strike="noStrike" baseline="-25000">
                <a:solidFill>
                  <a:srgbClr val="000000"/>
                </a:solidFill>
                <a:latin typeface="Arial"/>
              </a:rPr>
              <a:t>2</a:t>
            </a:r>
            <a:r>
              <a:rPr b="1" lang="en-US" sz="1800" spc="-1" strike="noStrike">
                <a:solidFill>
                  <a:srgbClr val="000000"/>
                </a:solidFill>
                <a:latin typeface="Arial"/>
              </a:rPr>
              <a:t>O 2H</a:t>
            </a:r>
            <a:r>
              <a:rPr b="1" lang="en-US" sz="1800" spc="-1" strike="noStrike" baseline="-25000">
                <a:solidFill>
                  <a:srgbClr val="000000"/>
                </a:solidFill>
                <a:latin typeface="Arial"/>
              </a:rPr>
              <a:t>2</a:t>
            </a:r>
            <a:r>
              <a:rPr b="1" lang="en-US" sz="1800" spc="-1" strike="noStrike">
                <a:solidFill>
                  <a:srgbClr val="000000"/>
                </a:solidFill>
                <a:latin typeface="Arial"/>
              </a:rPr>
              <a:t> + O</a:t>
            </a:r>
            <a:r>
              <a:rPr b="1" lang="en-US" sz="1800" spc="-1" strike="noStrike" baseline="-25000">
                <a:solidFill>
                  <a:srgbClr val="000000"/>
                </a:solidFill>
                <a:latin typeface="Arial"/>
              </a:rPr>
              <a:t>2</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ED00D-3795-4DF0-A13F-6107F4DC394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0" name="Text Box 31"/>
          <p:cNvSpPr/>
          <p:nvPr/>
        </p:nvSpPr>
        <p:spPr>
          <a:xfrm>
            <a:off x="762120" y="1295280"/>
            <a:ext cx="7924680" cy="33238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S OF RADIATION ON WATER CHEMISTR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ss hydrogen is added to suppress the decomposition of reactor water. It also reacts with any oxygen that enters the reactor coolant system, usually as a component of air in makeup water, provided the amount of oxygen is not excessive.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amount of oxygen is more than enough to deplete the hydrogen, the excess oxygen reacts with nitrogen (also a component of air) and forms nitric acid. In the case of addition of very large amounts of air, the amount of nitric acid produced may be more than enough to neutralize the normally basic coolant and cause it to become acidic.</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8BABB-F4F3-4909-9EBF-20811F2C87D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3" name="Text Box 31"/>
          <p:cNvSpPr/>
          <p:nvPr/>
        </p:nvSpPr>
        <p:spPr>
          <a:xfrm>
            <a:off x="762120" y="1295280"/>
            <a:ext cx="7924680" cy="31244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S OF RADIATION ON WATER CHEMISTR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 induces the combination of N2 and H2 to form ammonia, although the extent of this reaction is small and usually has a negligible effect on the pH of  reactor coolant.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f the reactions are reversible and reach an equilibrium state under normal operating conditions. Changes in the concentrations of any of the reactants disturb the equilibrium and causes the reaction to shift in the direction which restores the equilibrium.  </a:t>
            </a:r>
            <a:endParaRPr b="0" lang="en-US" sz="1800" spc="-1" strike="noStrike">
              <a:solidFill>
                <a:srgbClr val="000000"/>
              </a:solidFill>
              <a:latin typeface="Arial"/>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r>
              <a:rPr b="1" lang="en-US" sz="1800" spc="-1" strike="noStrike" baseline="-25000">
                <a:solidFill>
                  <a:srgbClr val="000000"/>
                </a:solidFill>
                <a:latin typeface="Arial"/>
              </a:rPr>
              <a:t>2</a:t>
            </a:r>
            <a:r>
              <a:rPr b="1" lang="en-US" sz="1800" spc="-1" strike="noStrike">
                <a:solidFill>
                  <a:srgbClr val="000000"/>
                </a:solidFill>
                <a:latin typeface="Arial"/>
              </a:rPr>
              <a:t> + 3H</a:t>
            </a:r>
            <a:r>
              <a:rPr b="1" lang="en-US" sz="1800" spc="-1" strike="noStrike" baseline="-25000">
                <a:solidFill>
                  <a:srgbClr val="000000"/>
                </a:solidFill>
                <a:latin typeface="Arial"/>
              </a:rPr>
              <a:t>2</a:t>
            </a:r>
            <a:r>
              <a:rPr b="1" lang="en-US" sz="1800" spc="-1" strike="noStrike">
                <a:solidFill>
                  <a:srgbClr val="000000"/>
                </a:solidFill>
                <a:latin typeface="Arial"/>
              </a:rPr>
              <a:t> 2NH</a:t>
            </a:r>
            <a:r>
              <a:rPr b="1" lang="en-US" sz="1800" spc="-1" strike="noStrike" baseline="-25000">
                <a:solidFill>
                  <a:srgbClr val="000000"/>
                </a:solidFill>
                <a:latin typeface="Arial"/>
              </a:rPr>
              <a:t>3</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12C72-51A7-4427-BCDC-B6F4932AED7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6" name="Text Box 31"/>
          <p:cNvSpPr/>
          <p:nvPr/>
        </p:nvSpPr>
        <p:spPr>
          <a:xfrm>
            <a:off x="762120" y="1295280"/>
            <a:ext cx="7924680" cy="2226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S OF RADIATION ON WATER CHEMISTR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 also produces several nuclear reactions in reactor coolant. The products </a:t>
            </a:r>
            <a:r>
              <a:rPr b="0" lang="en-US" sz="1800" spc="-1" strike="noStrike" baseline="30000">
                <a:solidFill>
                  <a:srgbClr val="000000"/>
                </a:solidFill>
                <a:latin typeface="Arial"/>
              </a:rPr>
              <a:t>16</a:t>
            </a:r>
            <a:r>
              <a:rPr b="0" lang="en-US" sz="1800" spc="-1" strike="noStrike">
                <a:solidFill>
                  <a:srgbClr val="000000"/>
                </a:solidFill>
                <a:latin typeface="Arial"/>
              </a:rPr>
              <a:t>N and </a:t>
            </a:r>
            <a:r>
              <a:rPr b="0" lang="en-US" sz="1800" spc="-1" strike="noStrike" baseline="30000">
                <a:solidFill>
                  <a:srgbClr val="000000"/>
                </a:solidFill>
                <a:latin typeface="Arial"/>
              </a:rPr>
              <a:t>17</a:t>
            </a:r>
            <a:r>
              <a:rPr b="0" lang="en-US" sz="1800" spc="-1" strike="noStrike">
                <a:solidFill>
                  <a:srgbClr val="000000"/>
                </a:solidFill>
                <a:latin typeface="Arial"/>
              </a:rPr>
              <a:t>N, of two of these reactions, contribute radioactivity to the reactor coolant, adding significantly to the shielding requirements for nuclear reactors. Others, </a:t>
            </a:r>
            <a:r>
              <a:rPr b="0" lang="en-US" sz="1800" spc="-1" strike="noStrike" baseline="30000">
                <a:solidFill>
                  <a:srgbClr val="000000"/>
                </a:solidFill>
                <a:latin typeface="Arial"/>
              </a:rPr>
              <a:t>13</a:t>
            </a:r>
            <a:r>
              <a:rPr b="0" lang="en-US" sz="1800" spc="-1" strike="noStrike">
                <a:solidFill>
                  <a:srgbClr val="000000"/>
                </a:solidFill>
                <a:latin typeface="Arial"/>
              </a:rPr>
              <a:t>N and </a:t>
            </a:r>
            <a:r>
              <a:rPr b="0" lang="en-US" sz="1800" spc="-1" strike="noStrike" baseline="30000">
                <a:solidFill>
                  <a:srgbClr val="000000"/>
                </a:solidFill>
                <a:latin typeface="Arial"/>
              </a:rPr>
              <a:t>18</a:t>
            </a:r>
            <a:r>
              <a:rPr b="0" lang="en-US" sz="1800" spc="-1" strike="noStrike">
                <a:solidFill>
                  <a:srgbClr val="000000"/>
                </a:solidFill>
                <a:latin typeface="Arial"/>
              </a:rPr>
              <a:t>F, are also major contributors to the radioactivity in reactor coolant.</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18" name="Picture 2" descr=""/>
          <p:cNvPicPr/>
          <p:nvPr/>
        </p:nvPicPr>
        <p:blipFill>
          <a:blip r:embed="rId1"/>
          <a:stretch/>
        </p:blipFill>
        <p:spPr>
          <a:xfrm>
            <a:off x="1295280" y="3886200"/>
            <a:ext cx="7132680" cy="131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8T16:53:28Z</dcterms:created>
  <dc:creator>Cavey Main</dc:creator>
  <dc:description/>
  <dc:language>en-US</dc:language>
  <cp:lastModifiedBy>Peggy Hines IRSC</cp:lastModifiedBy>
  <dcterms:modified xsi:type="dcterms:W3CDTF">2013-04-03T17:27:28Z</dcterms:modified>
  <cp:revision>47</cp:revision>
  <dc:subject/>
  <dc:title>Slide 1</dc:title>
</cp:coreProperties>
</file>