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4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ftr" idx="4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 type="sldNum" idx="4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8333-DACE-422E-AB7A-C82920ACC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7203-6C95-4D30-AEE8-B35D9EC8895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7A77-083A-4E2B-978D-EA170020DE4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DF8F-DAD1-4443-AFBA-FA3BA3EB60D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A14D-B8F3-4D51-B674-1C45219DEAC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A194-770F-4DEC-8961-89CE4FC65FA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E422-1ACE-4614-A9EC-229D4BF448C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F4DB-665E-48B7-B1B3-3F50871FF0C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688D-DAE2-4513-A2B1-BB0BDB05A67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4E2C-5809-4BFC-90D7-70088BB1B22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8F6F-EC5A-464C-9A20-D1B6590B248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EDDF-7E69-4972-B4EB-206D244FC26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3BF9-03EB-45BA-A0C9-E8935C8093A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5402-1877-44F6-A44B-D3781F9EABC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DA4A-4B03-46B7-80CA-B94F7133667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ECA5-9EE9-40FF-8F45-32D0173752C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0156-553B-40FF-96C9-2CF7240D976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8ED9-5879-4F11-8534-A977EFE7BC8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306D-8FD2-44BD-A03A-BE5995372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D853-7FEE-4D0C-AE12-7CADD364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4C4234-EF5D-4E56-A5C7-3C43760C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62955-50F2-488C-872F-9BC2FB52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08B6A8-8F69-4937-BEB3-B1D52E21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3E5768-62D7-48B1-899F-1A4F7D1B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EEB85-114A-4143-9832-303FE98F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86142F-64EE-409D-BFDC-072DAFB4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AF74CD-25CF-47D3-A419-446F47C6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276868-610A-4C99-9C61-ABBF3473A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E28F20-FA91-4B2D-976B-2125EFFD2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FDD631-F362-4D13-B9B9-0D9B6A91E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99F7-2122-43AC-A0DC-5036B1E3A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CE7767-E123-4C61-8AA5-8FB6684B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B142D5-56FA-413A-9476-AD0E16FD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6547C1-497F-4DC2-ABD2-4DD7F1D2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112120-2CEA-45CD-BC91-904F1920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B7D84-6B31-4605-A86F-B3C083F1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7FCBDB-9437-40F2-85C6-8704FF8A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6B641-AF21-42EC-994D-9503CB08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EA221-8CB8-4598-82D1-3D69C4EA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E0FD44-D36E-4E2F-BC6D-1D5C2F2B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838C9-8F39-4315-977F-C32FFABEF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D42E-2BA5-46D3-BCA9-BF2C4F0CD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C09D7-2A78-47E8-8CB8-E8E5674CA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D2AC4-DA09-4AC2-8656-A371709BF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AFA1A-62D9-4BD7-944A-2F362ACC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48290-7652-4B04-88C4-528C3A29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0E9AA-C823-4A4F-B83C-9C9DC17E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EE95E-52C1-4CED-857B-E7D50EBA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BA6F0-0721-408B-9025-F01DFEE1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67E59-84A2-41E6-9A3F-2E569EC1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5CF59-561D-448B-B308-D6866838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AED972-EB4D-4F6A-BB81-7C400A09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31C6-74E5-4FA1-916E-E57634ED6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ABC0B-7BBA-4117-9616-77C19A21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63AC6-5A80-4F4F-9A98-2453BAA4C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099D1-9D63-44DD-8200-AE5375900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762A99-7DEB-49B8-A027-A57165C8E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87036C-6FCA-4CBE-B7EA-D71587C8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CB5B4B-5836-4DF6-9F36-2668C25B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9520E2-44EE-4444-88C0-DCADB000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488A1A-20A3-4276-9731-D3A7D6F3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D56401-C8E5-4DB2-81B5-C5D64006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0110C9-7761-4F89-A512-4E0CC3BE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4674-AE53-46B3-92DF-5CB4B96B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BF26B-45B6-46CA-B5D8-21E3DE29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C6E2F2-04F2-4984-9958-AE663DB0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5758C0-B4AA-4179-A129-48E3F861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87B5BA-F2A0-4A9D-972E-4B9869B86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7FE96E-A9D7-448B-93CA-C7308C818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D9870C-2EA2-4B08-BB8D-0C015ABDA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23D817-2658-47D7-A82E-55445F66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ED6694-8679-412A-BBBC-CEB3AA3E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0EBBB5-5862-43EA-8598-26DD93F6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427235-477E-4E03-B1A8-C49425FF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1782-BCFA-4EBE-BBA2-0307A548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118F38-61D8-49A3-9348-54D7F336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F133A5-7AD8-4B6A-820E-F537CD14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D9514B-492E-4E4C-81F8-CDBD6917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9A2474-D620-4DD8-81BB-519CEF9E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5114DF-E377-46CF-862F-CAEB954F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2F02CA-E72A-492A-93AE-87E5F47C2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8E82F5-1E4A-43BB-97A5-7FA285E1E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4AEFC7-0F2C-43DA-A612-E25479F34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F1A61E-581C-4DD5-9445-28F62F3F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5F5846-BF68-428E-8BD7-1DF15364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8096-2140-443C-8AE7-583A03EE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A871A7-52F3-414B-B2C0-E3414E84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DB990E-5694-45FE-A983-9498B7A5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C4222D-51EF-40E1-8DA9-2267405B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469D55-37A0-497F-9D01-6720DE5B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CBFCCB-8B88-4BBD-BDEE-7FAD1CAC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741567-B3D1-4028-B2A3-E01A9AC0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555F00-292A-4998-AD17-87023505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44E5AE-BA26-4CAF-9433-D271A4263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576968-4A32-47B6-AA04-7F1A7640E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E563-0BDA-4979-9326-17FD3B0D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11A3-6248-4DAB-8E7D-7DC5EEC2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0D3E-A5C8-48A2-B253-12C8704E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5A45-9B9F-4966-B2EB-3C89A882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5332-3963-4BA9-81AF-BBB691FD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C10F-CF9B-4500-9109-C8E99822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4570-E2AC-4BAA-80E0-6A814905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D091-A044-4925-80A7-C39A9F589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93FB-8723-44DF-B971-903BE3775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F9D76-F410-4AAB-AA6D-0861EFD8F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6EBB6-8581-45C5-9F53-65CA4C49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3DDEF-0533-4580-9D3A-3F8C2C93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4AE28-DDCB-4DEC-A246-7F018F38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12543-9072-49C5-AE0B-973374EE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5380-2383-46B3-A39D-EE2A0D22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56651-E488-4000-859C-F5455167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78D34-47D3-4AF3-8484-7C34E018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75CD3-17F9-45E0-8552-381B7435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BE860-ABCF-4DB6-AAB6-A326CD0E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85506-0F46-4E91-80C3-2750D152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1191B-C575-42E8-9EFF-034135084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8AC9E-E27A-4C64-8BAE-D7E65DCA3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F6D09-8CCC-47BE-B077-BCE478119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A3E13-00EF-40FD-9FED-F4AEC8D0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4E9AC-F2B7-44AB-BFCA-1F5BE597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1C86-9D2D-444A-9E6C-180A8209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37B19-4275-447A-B406-ED2ACF0F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961C7-19DE-469B-8B95-6EEF37AC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65284-82FD-4117-B9D2-FF35719D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E891B-59B6-49C1-97E0-0E35C7F5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310BC-0ECF-4C76-AC72-48E12446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EC1D3-91FC-4DA7-9425-30207127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1D7B2-DB75-4013-A6A9-E3119A6C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8A29C-E6CF-4BFB-8BFC-C55F05AE4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BAE31-EA68-461C-A3C3-1648E7A4C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2E158-BFF6-472B-953A-F4F8C3954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0688-4225-42E2-9620-9F1BBF82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AA197-B015-402D-8C14-30BFCF22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3B32C-0AFA-4046-9BBE-DA2D3370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2E6AB-7F4B-4652-A3B0-E5F3EE63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C9626-1285-4606-961D-77D9B943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5A044-413A-4E14-822B-DE03D97A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60F49-A84F-49EA-BEA4-D96AA74A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BF54A-1786-45D6-9819-7E5E71C6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0136F-E7E5-4846-B8C1-42254835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6FD01-4175-42B7-B32C-7F0E1A8E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85659-6FE8-4AF3-A2E8-5ECB21F1D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D30E-6EFE-4772-A220-16356806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05B68-57D8-49C8-BC2B-95ABB944C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B177D-9B81-4AE2-A1F9-6ACDA6ADA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A4F89-A2C6-466F-8244-0F290C04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A4E9C-5E89-4478-9BA3-FA4CA9E6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FE53A-B96A-4143-BD75-25EECA98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48218-8644-41A2-BDCB-FA5E4ABB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85530-6793-4C82-AACE-3F77710E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62DBD-F28D-489C-BE77-545AA7E8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4C89C-A881-442C-9332-E870F316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8A40E-0EB4-4F6B-B0CC-B6757C88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5467-4170-4821-92A0-5D0E17E2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07AC5-A394-4794-A162-2416CE15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DACE9-7D39-43CF-9362-681D2E2D0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14BDF-F229-4298-8AE6-CAFF55316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C027D-3391-482B-BB4B-C5666F6E6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0F3E1-FA38-499F-AB27-2B3B15DC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0B72C-2C37-4DD6-84F5-558D8A15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DB6DD-35A9-4A43-A223-24C2EC4B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55AAF-CD0D-4B34-91F8-99F7A591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71E29-7C03-47E6-BC62-35A88E5C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DADC1-2539-44C9-A9B3-A118221F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E4E5-171D-425A-8BD4-0D7514E3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B493A-2018-44BD-B08F-EE6EB4EC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82C0D-D3E5-4A39-8137-52E698A4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54620-D910-41F8-9E4E-70D88B2C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37092-97D4-4050-998E-8D6CD35A8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ADE00-266E-45A8-AD8C-C32AF13E2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93008-2EFA-46C3-8EAB-976E9D3F8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86C1A-D0A5-40C5-9BC6-D17E38F8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ADC04-A15C-46CB-A301-DCB769FE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4A0EF-FDEF-4C27-B4E4-4BA5CA1B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B4A24-A389-4335-B07D-5B96DFF5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F141-2099-4324-AD0C-6BC1DA60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95AB6-57AD-4780-BDFA-D7EE1AFB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2E2BF-EB7D-4FF6-B8F9-0A6D0C08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8CF39-77D5-49C1-9E11-B040CF82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E2EA4-49F8-4773-9E5B-16E3589A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69DAD-2E57-47CB-BBAA-826E1947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D8ECA-61D6-4995-BCE7-4E3C50A75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887D8-5A42-40B7-8467-0CB80AF60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3D46C-04DB-46F4-99AF-01FE990D2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CC6FC7-7095-4B76-8106-A7EF5A9D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C78A10-F7A5-46EE-BCA1-37DF4C4F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C2F5-4EC7-4D43-A218-A0CF63A67F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6B96-B4BD-4F4A-ABA1-561BE413EE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97EA-16C9-4A77-8871-E8E9CE3A0F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1B8C-7D46-4788-9A99-AA4D0C8704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F7E8-1774-4E0C-8810-C6D9133358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07E4-4FBE-48AC-9B57-890E88B516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2828-39E3-4FDB-B889-F15109563D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4FAC-32D5-411A-8323-41D8021834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7784-AF35-48D9-8445-7E8F005DF0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C785-047E-4EF1-BD67-5302794553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B33D-8CD7-4AA6-8F10-32375309BE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26B6-8384-4AD7-AD14-2EC5B168C5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F0FE-4849-4E0C-AAD8-1706358161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BEEF-B14A-4008-8AF0-B7E8A00B1A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Box 1"/>
          <p:cNvSpPr/>
          <p:nvPr/>
        </p:nvSpPr>
        <p:spPr>
          <a:xfrm>
            <a:off x="152280" y="10238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FR policy, CFR violation, CFR enforc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8196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7" name=""/>
          <p:cNvGraphicFramePr/>
          <p:nvPr/>
        </p:nvGraphicFramePr>
        <p:xfrm>
          <a:off x="237960" y="1523880"/>
          <a:ext cx="8668080" cy="1738440"/>
        </p:xfrm>
        <a:graphic>
          <a:graphicData uri="http://schemas.openxmlformats.org/drawingml/2006/table">
            <a:tbl>
              <a:tblPr/>
              <a:tblGrid>
                <a:gridCol w="1084320"/>
                <a:gridCol w="1082880"/>
                <a:gridCol w="1084320"/>
                <a:gridCol w="1082520"/>
                <a:gridCol w="1084320"/>
                <a:gridCol w="1082520"/>
                <a:gridCol w="1084320"/>
                <a:gridCol w="1082880"/>
              </a:tblGrid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3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5.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5.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5.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5.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8.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1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10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4.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4.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4.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4.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Proceeding to modify, suspend, or revoke a licen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icates alleged violations or potentially hazardous conditions and specifies proposed 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ires written response to the order under oath or affi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rms licensee of right to demand a hearing on all or part of the or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ies the issues for the hea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e the effective date of the order – may be immediately effective if public health or safety of concer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Llicensee must admit or deny each alleg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and for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Issued by Commission to determine if an order should be issu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Licensee must reply in wr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Parts of 10CF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066320" y="1981080"/>
            <a:ext cx="312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1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2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2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191120" y="198108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50, Appendix 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50, Appendix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5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5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7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1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Parts of 10CF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2 - Rules Of Practice For Domestic Licensing Proceedings And Issuance Of Ord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als with proceeding relating to all aspects of licensing issues, and the enforcement of licensing agre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19 - Notices, Instructions And Reports To Workers: Inspection And Investiga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20 - Standards For Protection Against Radi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rols the receipt, possession, use, transfer, and disposal of licensed mater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Parts of 10CF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21 - Reporting Of Defects And Noncomplian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ires responsible officer of a nuclear faciity to immediately notify the Commission of an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ailure to comply with laws relating to substantial safety hazar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fects which could create a substantial safety haza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26 - Fitness For Duty Program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50 - Domestic Licensing Of Production And Utilization Facilit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irements for obtaining an operating license or construction perm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Parts of 10CF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50, Appendix A - General Design Criteria For Nuclear Power Pl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es necessary design, fabrication, construction, testing, and performance requirements for structures, systems, and components important to saf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50, Appendix B - Quality Assurance Criteria For Nuclear Power Plants And Fuel Reprocessing Pl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/A requirements for the design, construction, and operation of all structures, systems, and components included in a production or utilization facili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re details: student reports on criterion I - XVI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Parts of 10CF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1066320" y="19807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51 - Environmental Protection Regulations For Domestic Licensing And Related Regulatory Fun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55 - Operators' Licens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als with the issuance and renewal of licenses for operators and senior operators at nuclear fac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73 - Physical Protection Of Plants And Materia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other words, secu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100 - Reactor Site Criteri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sed on population zones, seismic activity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Existing U.S. Nuclear Reactors (10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0" name="Content Placeholder 3" descr="reactors-map.gif"/>
          <p:cNvPicPr/>
          <p:nvPr/>
        </p:nvPicPr>
        <p:blipFill>
          <a:blip r:embed="rId1"/>
          <a:stretch/>
        </p:blipFill>
        <p:spPr>
          <a:xfrm>
            <a:off x="1295280" y="1905120"/>
            <a:ext cx="686772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Proposed New U.S. Nuclear Reactors (28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2" name="Content Placeholder 5" descr="new-plants.jpg"/>
          <p:cNvPicPr/>
          <p:nvPr/>
        </p:nvPicPr>
        <p:blipFill>
          <a:blip r:embed="rId1"/>
          <a:stretch/>
        </p:blipFill>
        <p:spPr>
          <a:xfrm>
            <a:off x="1295280" y="1828800"/>
            <a:ext cx="662940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Quality Assurance for Nuclear Rea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lity assurance (QA) comprises all planned and systematic actions that are necessary to provide adequate confidence that a structure, system, or component will perform satisfactorily in ser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ributes of a QA program include procedures, recordkeeping, inspections, corrective actions, and aud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itle 1"/>
          <p:cNvSpPr/>
          <p:nvPr/>
        </p:nvSpPr>
        <p:spPr>
          <a:xfrm>
            <a:off x="1066680" y="1905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NE 127 – Codes, Standards, and Regula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Subtitle 2"/>
          <p:cNvSpPr/>
          <p:nvPr/>
        </p:nvSpPr>
        <p:spPr>
          <a:xfrm>
            <a:off x="121932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70c0"/>
                </a:solidFill>
                <a:latin typeface="Calibri"/>
              </a:rPr>
              <a:t>Key Parts of 10CFR (for the Nuclear Industry)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NSTRUCTOR: Chattanooga State CC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RC Review of QA Pro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RC reviews and inspects QA programs and their imple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RC's objective is to determine whether licensees and their contractors are meeting the agency's requir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particular, the NRC reviews the QA programs for commercial nuclear power pl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addition, for operating nuclear power plants, the NRC reviews any changes that reduce previous commitments to the plant’s QA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RC Regulatory Gui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tail acceptable methods of design, fabrication, construction, operation, and quality assur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ulations are mandato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ulatory Guides and NUREGs mandatory only as committed to by the applicant (as stipulated in the construction permit or operating licens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ulatory Guides 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t forth requirements for submitting environmental reports, safety analysis report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SAR – Preliminary Safety Analysis Report (for construction permit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SAR – Final Safety Analysis Report  (for operating licens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gulatory Guide 1.70 describes the type of information to be submitted by the applicant for PSARs and FS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URE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 NUREG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chnical reports relative to the regulation of nuclear ener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UREG-800 - Standard Review Plan For The Review Of Safety Analysis Reports For Nuclear Power Plants: LWR Edi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cribes what the NRC expects to see in the SAR, including the applicable acceptance crite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ful for auditors for identification of specific regulations and guideline documents that address each topic of a S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UREG-1946 - Inservice Testing of Pumps and Valves, and Inservice Examination and Testing of Dynamic Restraints (Snubbers) at Nuclear Powe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ferences the ASME co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Institute of Nuclear Power Operations (INPO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stablished in 1979 following the Three Mile Island inciden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ts mission is to “promote the highest levels of safety and reliability – to promote excellence – in the operation of commercial nuclear power plants” by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stablishing performance objectives, criteria and guidelines for the nuclear power indust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ducting regular detailed evaluations of nuclear power pla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ding assistance to help nuclear power plants continually improve their perform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INPO Continu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O provid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ant evalu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aining and accreditation (ACAD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vents analysis and information exchan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ist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 to be confused wit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I (Nuclear Energy Institute) – lobbyist group for nuclear energy indust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UCP (National Uniform Curriculum Program) – program sponsored by NEI to provide a national certificate of accreditation for QA/QC progr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RC Technical Training Ce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ted in Chattanooga (off Marlin Road near the air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RC TTC Administration Offices are located on the second floor of a 6-story all glass exterior office build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ors are located on the first, second, third, and fourth flo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Next Tim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ASME Boiler and Pressure Vessel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RC Enforcement Poli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pecified in 10CFR2: Rules of Practice for Domestic Licensing Procedures and Issuance of Or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sures compliance with NRC regulations and licensee condi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s prompt correction of licensee weaknes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des a deterrent to future non-compli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courages improvement of licensee performance – leads to enhanced degree of public health and safe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gnificance of Viol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Assessed based on the follow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ual safety consequ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ch as actual release of radiation, damage to core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tential safety consequ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sed on risk fac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act on the regulatory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ailure to report or keep accurate and timely recor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llful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icates deliberate intent to violate or falsif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verity Level of Viol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Normally categorized in terms of four levels of severity to show their relative importance or signific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Severity Level I – most signific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vels I and II involve actual or high potential consequences on public health and saf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Severity Level IV – least signific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forcement 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The NRC Commission may issue 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n-Cited Viol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tice of Viol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ivil Penal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lated Administrative Action (such as a Demand for Informatio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on-Cited Vio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issues of very low safety significan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cumented as violations in inspection reports to establish public records of the vio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cited in Notices of Violation which normally require written responses from licens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otice of Vio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rved by the Commiss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May require licensee submit a written statement to address all alleged violations includ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sons for violation, or, if contested, basis for disputing the vio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rrective steps taken by licensee and results achiev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rrective steps which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il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e ta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e for full compli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Available for viewing on www.nrc.g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vil Penal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Civil penalties may be imposed for up to $140,000 per day for each vio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Actual fee based on severity level of vio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If a violation is on-going, each day of the violation constitutes a separate vio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2T17:57:16Z</dcterms:created>
  <dc:creator>Mark and Jacki Smith</dc:creator>
  <dc:description/>
  <dc:language>en-US</dc:language>
  <cp:lastModifiedBy>Peggy Hines IRSC</cp:lastModifiedBy>
  <dcterms:modified xsi:type="dcterms:W3CDTF">2013-02-14T14:49:00Z</dcterms:modified>
  <cp:revision>248</cp:revision>
  <dc:subject/>
  <dc:title>Statics and Strength of Materials</dc:title>
</cp:coreProperties>
</file>