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3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dt" idx="55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Img"/>
          </p:nvPr>
        </p:nvSpPr>
        <p:spPr>
          <a:xfrm>
            <a:off x="1136520" y="696600"/>
            <a:ext cx="4584960" cy="343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ftr" idx="56"/>
          </p:nvPr>
        </p:nvSpPr>
        <p:spPr>
          <a:xfrm>
            <a:off x="-3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 type="sldNum" idx="57"/>
          </p:nvPr>
        </p:nvSpPr>
        <p:spPr>
          <a:xfrm>
            <a:off x="388584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B295-8F21-4A6E-AA15-77DAA1053D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FD6F-47A4-4F10-BDAF-319C162BB8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748B-3865-4609-8AFE-654F775BA9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1C90-BCF3-43E6-BFD8-EBDAE0080D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63D0-633E-4736-A460-BF0783A97C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4F70-2FA7-4669-87CF-A395DEF305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1F1A-4FD7-4D02-B583-094D9575F6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9EC8-0223-41CF-8464-5F04DCC28A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80FC-5137-4216-BEC0-B824E459E6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A908-4987-4BD3-A4A3-D995996D1D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766B-774D-42A8-BC82-3EA6E83F82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15D4-8B60-45E7-9164-C4114D67F3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he chamber is filled with gas (sometimes air) with a central electrode well insulated from the chamber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- center electrode (posi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- chamber wall (nega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tential difference is applied between the wall and the central electrode to produce an electric field in the cha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A48E-C0AB-417F-B97B-C2E1347CED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5B21-8E90-4CE8-ADAF-6BF5666F15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174B-79A1-4CE3-888D-79FD87E785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ionization is the process by which a neutral atom or molecule ac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res a negative or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auses ion pairs to be produced in the gas within the chamber (this is shown on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 between the cathode and anode draws the ions toward the electr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6B7C-4A31-457B-9007-AF75FB3421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ions are drawn to the cath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ions are drawn to the a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at which the ions move toward the electrodes is a function of the field strength and the nature of the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ge collects on the anode causing a voltage change in the circuit (pulse).  This pulse causes a current to flow in the internal meter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imple radiation det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3104-DB63-4251-A303-6762D41624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ring in the build which actually shows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the draft game where there are four teams and each team has to draft players to make up the perfect tea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teams are made up, ask the class recall the names of the six regions of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points in the lesson plan will be covered by the various laminated page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ame is played bring in the build (which shows the regions) and give them each a handout on which to capture the main point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each team to review their pages and allow participants to fill in their handout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F68D-4430-4282-B3C3-4B59523671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3DFB-98AB-4F01-B66F-74FC61DC24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0AF7-C079-4B00-8904-E04FFB1514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6EA3-13BB-446F-939A-98FC4BC964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A1D-C3ED-4EB7-A93F-35BF494C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CB4-37F7-41C9-A4A2-E4C81A7E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D8B1D-19CA-4E06-B24D-785AF192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43D25-5464-410E-AE11-BEC6954F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2E2F6-4676-4131-B204-E144D5EF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2ABF4-DE1B-43EC-8970-E1490D88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FA0C8-6A79-41AE-9243-EEDF91F3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BF8C4-E2DB-429A-9A03-C0ED22FD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62249-5744-44A4-8F0F-4C20D53C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FCBCC-2A95-491C-8233-307ED468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D1255-6734-41A4-A2C1-7B81922F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08E78-EA3B-4CEC-9728-8E5BEEA7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3FA-B15F-4615-A9B4-BF234B73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04AA7-FD53-4073-A602-E8E2F988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D949D-4837-4689-8E34-7D974584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00390-6908-4896-AAFF-8F71A561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F39E1-605D-40D5-8EB6-0FF15086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CF9DD-7B75-4E1A-84A6-2F60F0CA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BD91D-F5FC-40B2-8414-349814AB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09C1D-9AD2-4F5F-9AB9-A15BD5EA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AED6A-A26D-41F7-BE5F-3BE1E90F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DC3D2-A5E2-448A-9AE5-9C5EDADD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8D2AC-CFC5-4606-9384-0EACF694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A3B-8F12-49D5-94EE-068B8DBE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91B37-C248-48E2-9B58-1CAC93B9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69E13-280A-450C-9A08-E0E27CB4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122B1-02AA-47A9-88C1-B1C42194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F5B55-44B3-4078-8774-ABF0B552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666FB-4F28-4DA1-8039-830AFC63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BD5C7-C6A0-4C2B-849E-3B9A809C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9ECB0-5DA9-49AF-8043-9913D898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2BBEB-3597-48AB-B0AA-D2391202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F1C51-8C73-4778-975D-ACB37A81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05AFD-2D82-4F25-BFDE-670DE72D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B5BC-1B8D-4A4C-8D18-F84F716A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360E2-3AB8-4652-83BB-45B88857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22006-9BC6-459F-A274-DB8C7B0B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A1E26-E914-4D7A-A7AF-2133B277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95E41-9D17-4D05-825B-7C43000C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30BF5-1ABA-4228-873E-905FB51E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F32E4-624F-4CDD-87C3-9425172B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B522E-EBE3-46D8-ADFA-2B39FD9C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5683A-980B-4915-92C2-F4F7B33B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4B64B-30BC-43D6-8AD2-7A21AFE1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D3CF6-ECB9-49D1-BDFB-9EA7FAF2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8D64-B2C1-484C-8404-562F18FC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14AFE-F638-489A-93D9-B819D0F0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4C546-5AE3-47AA-964F-71A25A86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6D6DF-72E3-4569-A7C6-6401DA73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1CEB5-BCBD-4093-95BC-3091A5C8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DF9ED-7CDD-4B88-875C-A199361F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16D82-2A6D-4907-8C09-92519D72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01457-D6B6-4732-A275-EB99F390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70C0D-48B4-4EB3-B553-356525BC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97A01-7920-4901-9869-2CCF9B92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D6B6B-293F-43A2-9EBD-997A47D0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F35E-16A9-44CF-923B-8B5955A8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DD177-0D49-4048-A182-81745A45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EC29A-A8EC-4CC4-BB52-F043B823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3731D-05A9-4041-B115-2756EF91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B7A2C-C6A2-4038-9454-20EEE821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C96A0-F48F-4BD6-9E5F-CFC617EC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3C404-9086-4264-B7F0-76C97F60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DE5B8-003D-4A07-BC0C-1082F16D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FC006-2FC8-4273-8FE0-7739DD13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F4E31-6E5E-41A2-AD96-4DB82C2F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AED09-1AA0-4A75-82B0-66977B35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6D4C-5E71-45E9-A367-FD87A554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1FEA1-4457-4403-AF6B-D405994E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AE564-B9BC-4D22-AA15-D350BFB1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D4D46-8D0C-4A85-BE0D-EEF5FF17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74D51-8B8D-4F53-9A1A-EA30FFBC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0944E-7CDC-4137-A3F2-7A106D2E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1236F-4150-478E-803C-2CAEF90B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8DF39-46C8-44F2-9AC6-6CF61D24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DB266-09F2-45FB-B527-18987A90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04E4D-93B5-462A-9F8A-258A00C7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54117-EA02-4505-8597-662A5EC7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E002-3392-49AC-90B6-24A4FB87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C921FF-C88A-436B-A5E6-28EEC75A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7DC8F-F45A-460E-8823-D2ACC77E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60485-D21B-4844-8A8E-6EE9515E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DC00D-195A-4CBB-AE7F-8AD7DEF8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CA17C-D6C8-4798-A64A-C25FEEFA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309F0-61A7-468A-AB74-12049470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F77554-A2BE-451B-B60D-53311CC4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013E62-538E-48A7-9145-A6419E4C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B0216-8651-463C-BAA4-1228010D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53E31-64CD-4F41-846A-8A28BD2D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C88C-1FB6-4791-83D5-6AE57933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32771-1F97-4FB5-8C1C-D53AE789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F27B9B-14C8-4A15-BA54-3DAE71AD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9B5FA9-29ED-4384-9C2F-0AD15E79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E2B02-D02E-4A4B-A2EE-920B7CA4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8FDD3-CC36-45D7-879B-14D5364E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26D6EB-1131-4A52-BD06-FF60B836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C9FFD-3210-4EB4-A98F-4B42A2AE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FBEC6-3534-4BCA-B583-AA86898C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94860-F8B0-41C5-AF80-A2C24782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38BA4E-C59C-43DA-9164-B38B1E7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C632-6850-430C-8CB5-0A3A2516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3F663D-CCD2-4B31-8D24-34C2734B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1E853-F1EF-4C5B-81A8-7882CA1F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3AB4FB-7506-4650-8024-4348AB43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FB4DA-1EAB-4321-9493-122E33EF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6E438-2100-4DCC-A52A-9AEBFE7A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649FA0-3BDA-4918-A4AD-C39B1662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AD8059-9769-4B31-AF2F-DD4542CC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C9A31-9524-41BA-ABB7-F838271E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47F17-C6E8-4B85-92AF-F6213475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8D25B-2FBE-44B4-9716-D018FA42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C51-8BC0-448F-91B0-B00F1DDF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6A86-EAE3-4007-909C-A2F445BA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1044D-F095-41CB-8F86-47A91F86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E3DF1-66A7-4FF5-B0F2-C2D6F9CA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3D0FC-CC12-4C65-8E9D-4A4CCB09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F3B70-A7CF-497A-B219-7676ADB9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8CB787-15B8-43A8-9EE8-1FC41B6E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0DF748-E184-4B63-9F12-002D7B41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1AA6E2-65C9-491A-9A82-8378AC04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5B17A8-6F94-47F3-8B26-FA9A05C3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54FB1C-9127-4655-9D89-E232E788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D29EC7-1FCB-4DDA-B378-E576DFE3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DD5C-14E3-4F0A-8474-82B9FF81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4A95A2-C6CC-4E23-886B-FC0913FB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2F668-EE4A-4979-ACCC-6B87AC49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522D1-9246-4B1A-9AFE-E99E80E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DB14D-9242-4D7D-87AF-BE17749A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6597EC-447B-45FC-A2C5-39CE4398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1B5DD-FA7D-4F82-A176-0303506E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45458B-2B8C-4A0D-B01F-6D61E809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CE08-EB9E-4CF6-943D-DF5605B3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CA3F-CBB5-4943-9F50-FD77E7DA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55D1-97A4-4F16-B860-59BBD0A3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21EB-D89C-47EC-A8D8-728B9C46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DAA63-C98B-4A6E-8C27-EDF7A2E8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F072-316B-4402-9058-E2F62951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0378-7CF6-4DB3-A7C7-3EFFE8AA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2D87-9171-4A74-9004-46895ABC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83C-DCA5-4A50-802D-DCBB4F1F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E20F-5853-442B-B7E2-3078602D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7E7D-4B0F-421E-B5F6-1B12FB04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72FBD-7988-41E6-9BC5-35BE0579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F6B8-73E1-4F93-A61F-8C7E3CD5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24B7-BD00-4EC8-B81E-A832D03B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147A-E3AF-4393-8DCA-F739C2F1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C70A-09C5-4340-B321-FF3E2F91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5B45-1018-4BE2-A090-D860D03D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00FAF-86D8-45A3-B34E-73D979DD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8D5DB-D174-4D12-969F-11345762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461-65E9-4FBD-8A61-F279ADAF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C65A2-607E-49FE-A869-2A42ABE7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7506-4A0E-42FD-8FD7-C65C2EB9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1F1BD-26F8-4A6C-B97A-4E16FEA9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B7F54-9A3D-416B-85D3-DDC88A03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EE810-09B9-4F81-9B03-48544588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45F94-D3C5-466F-85BB-E5FE5C70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94DD-54B8-46F6-82FC-43A7557C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2AB02-5750-400C-A833-3D47289D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840C-9146-4CB8-8F46-27B8739B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ACE5E-4E1D-4BFB-8661-887A3FF8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C36-393C-4F9A-A8A2-3580C247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687F8-D109-44E0-AEF2-2FCE2483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DF920-8406-47E1-97A8-AB942802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664B6-09C1-4FD9-AA9E-7B8B8106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07054-0FA4-40CD-B41F-02B899B9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EE115-4035-46BB-9E95-3A80C074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37D3A-8A2A-4AC4-B551-6E6DFC79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B1813-8D02-433D-BAAB-501FBD65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CB0F1-B5C8-43C8-AF76-A5B7DD0E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5CD36-A489-4C3A-926C-DA99E477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CA059-B0E5-4EAD-9FFB-46BBCB6F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36A-A064-44F4-8A49-5067FA06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8EEB7-0A45-4D25-A91B-B6F174AB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33FBE-E765-41A9-9E47-FA43602C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8FBA7-C32B-43C1-A3BF-7B7BA51A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91909-EE12-4F67-963F-6FEAA84A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E2619-8371-429A-8F50-07F96C93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07403-34F6-4A35-96D4-E9B6972D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69141-382F-4C45-BD12-465867E9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502A7-D6AC-466A-87CD-726F4E6F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4FECA-9E9D-4B2E-8DDF-E67B052F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1922B-8169-42CE-AB83-EF5735EE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2BE-D063-4536-BF78-60534C41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5857-26CB-4AA6-8C60-45D8F194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C52D6-6C26-471E-9443-059BF426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F71E5-30E3-4048-AF06-E7FA01A4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3A4E1-F6B7-4D7A-B08D-E864022D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DD3AA-E1FD-4C40-A4D2-442D2235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BFFC2-17B6-417C-A517-F1A0884E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2267F-F177-413A-B201-1A36C418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6CED0-A548-40DF-B523-680B4914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44164-15C9-455C-88AB-7368B79D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5F510-E04D-4909-B5CE-230AB82E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43D-A05F-4299-B55E-1F29AE6F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BEFFA-7496-4922-B734-D38BFB5F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071CB-E657-475F-9818-0138675D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C0722-4648-4678-813D-7D2E61CA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21D47-7E59-4EF3-96C3-89C9920E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4D04F-AEEE-45ED-8724-6FC32739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259B5-347B-4296-84B3-E5A05214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29EF4-D6BD-421E-B5FA-40746CA7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AB5A2-FAF8-44EC-AC70-0FDD6D60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ACBBD-B0B8-4947-B85C-0EA3BB8D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D4160-CF11-4401-85AF-2118DB77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B44-F1BB-49A9-9DD7-516010EF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9B40D-85BD-48C8-8036-8D44D8D4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D31D8-BD08-412F-99F2-FD40A852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19589-26EF-474F-B1AA-1AF0FBFB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0473F-32E8-40CD-A951-33B5EEE0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4F4FA-68E0-4E39-B47F-14681543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2C689-AEED-453A-8402-84782BF2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7FF2D-7CF1-4F39-A79D-52A6024F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94B40-D419-4E97-807E-10FF84F9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906C1-64F6-4F2F-950A-E1D72740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1BA0B-A661-49F8-8752-9B0641B0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DE4F-2AAC-40F3-8434-09A2E5B35A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0E28-5FF2-46C4-89EA-11393A9ED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0600-00F2-440E-9128-2232A8FA13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BE54-D4B6-4BCF-AB8D-26340ABADF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A6B1-86DB-461F-91F6-C72063A8EF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9651-05D3-4533-AF5A-880F02FFD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2E01-94E5-4954-92A2-00AA0FF51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258D-02D6-4BD5-8E28-06DE49403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C735-999C-43BA-9185-3B2FCDB1C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84CB-F80A-48AE-8310-D7CF4218D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3B9D-D1EB-47A1-BC80-89FEA6E77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RCNET.jpg"/>
          <p:cNvPicPr/>
          <p:nvPr/>
        </p:nvPicPr>
        <p:blipFill>
          <a:blip r:embed="rId7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IRSC_NSFPoster.jpg"/>
          <p:cNvPicPr/>
          <p:nvPr/>
        </p:nvPicPr>
        <p:blipFill>
          <a:blip r:embed="rId8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BE66-DC7E-440E-B499-B532625C6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3B4B-562F-4996-9C0D-B957F6D82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60F6-619E-4046-8748-8DE6B6BAD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D674-6501-47BA-8495-DE078744CB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21F5-3D33-40C2-B006-C43BA7308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E999-6F67-43F5-B31F-C42B44CB8F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B1C6-4F1F-44F5-A0F4-7649D82949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%20Measurements%20Instrument%20Instructor%20Notes.doc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1"/>
          <p:cNvSpPr/>
          <p:nvPr/>
        </p:nvSpPr>
        <p:spPr>
          <a:xfrm>
            <a:off x="152280" y="121932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as-filled detector, ionization chamber, proportional detector, Geiger-Mueller detector scintillation detector, semiconductor, thermoluminescent detector, characteristics, operating principles, advantages, disadvantages.</a:t>
            </a:r>
            <a:endParaRPr b="0" lang="en-US" sz="16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ad Measurements Instrument Instructor Note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772" name="Title 1" descr=""/>
          <p:cNvPicPr/>
          <p:nvPr/>
        </p:nvPicPr>
        <p:blipFill>
          <a:blip r:embed="rId2"/>
          <a:stretch/>
        </p:blipFill>
        <p:spPr>
          <a:xfrm>
            <a:off x="-195120" y="-66600"/>
            <a:ext cx="933912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3" name=""/>
          <p:cNvGraphicFramePr/>
          <p:nvPr/>
        </p:nvGraphicFramePr>
        <p:xfrm>
          <a:off x="154080" y="2133720"/>
          <a:ext cx="8448480" cy="1249200"/>
        </p:xfrm>
        <a:graphic>
          <a:graphicData uri="http://schemas.openxmlformats.org/drawingml/2006/table">
            <a:tbl>
              <a:tblPr/>
              <a:tblGrid>
                <a:gridCol w="1133280"/>
                <a:gridCol w="1135080"/>
                <a:gridCol w="1455840"/>
                <a:gridCol w="1219320"/>
                <a:gridCol w="1143000"/>
                <a:gridCol w="1295280"/>
                <a:gridCol w="1066680"/>
              </a:tblGrid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4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4.5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33.2.3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8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3.3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a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e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2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380880" y="5869080"/>
            <a:ext cx="8534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6146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NR-4 &amp; Ludlum 12-4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1523880" y="586908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8" name="Picture 4" descr=""/>
          <p:cNvPicPr/>
          <p:nvPr/>
        </p:nvPicPr>
        <p:blipFill>
          <a:blip r:embed="rId1"/>
          <a:stretch/>
        </p:blipFill>
        <p:spPr>
          <a:xfrm>
            <a:off x="2498760" y="1295280"/>
            <a:ext cx="40672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990720" y="304920"/>
            <a:ext cx="6933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4C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0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1" name="Picture 4" descr=""/>
          <p:cNvPicPr/>
          <p:nvPr/>
        </p:nvPicPr>
        <p:blipFill>
          <a:blip r:embed="rId1"/>
          <a:stretch/>
        </p:blipFill>
        <p:spPr>
          <a:xfrm>
            <a:off x="2840040" y="1219320"/>
            <a:ext cx="37148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1447920" y="304920"/>
            <a:ext cx="7467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77 with pancake probe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1523880" y="594216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4" name="Picture 4" descr=""/>
          <p:cNvPicPr/>
          <p:nvPr/>
        </p:nvPicPr>
        <p:blipFill>
          <a:blip r:embed="rId1"/>
          <a:stretch/>
        </p:blipFill>
        <p:spPr>
          <a:xfrm>
            <a:off x="3276720" y="2071800"/>
            <a:ext cx="2746080" cy="1041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5" descr=""/>
          <p:cNvPicPr/>
          <p:nvPr/>
        </p:nvPicPr>
        <p:blipFill>
          <a:blip r:embed="rId2"/>
          <a:stretch/>
        </p:blipFill>
        <p:spPr>
          <a:xfrm>
            <a:off x="2819520" y="2994120"/>
            <a:ext cx="4279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375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228600" y="5869080"/>
            <a:ext cx="8763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4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8" name="Picture 4" descr=""/>
          <p:cNvPicPr/>
          <p:nvPr/>
        </p:nvPicPr>
        <p:blipFill>
          <a:blip r:embed="rId1"/>
          <a:stretch/>
        </p:blipFill>
        <p:spPr>
          <a:xfrm>
            <a:off x="1839960" y="1371600"/>
            <a:ext cx="57927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-5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1" name="Picture 4" descr=""/>
          <p:cNvPicPr/>
          <p:nvPr/>
        </p:nvPicPr>
        <p:blipFill>
          <a:blip r:embed="rId1"/>
          <a:stretch/>
        </p:blipFill>
        <p:spPr>
          <a:xfrm>
            <a:off x="2362320" y="1430280"/>
            <a:ext cx="5003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1bd"/>
                </a:solidFill>
                <a:latin typeface="Calibri"/>
              </a:rPr>
              <a:t>Teletecto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4" descr="http://www.volk-gmbh.de/IMAGES/949110-949114.jpg"/>
          <p:cNvPicPr/>
          <p:nvPr/>
        </p:nvPicPr>
        <p:blipFill>
          <a:blip r:embed="rId1"/>
          <a:stretch/>
        </p:blipFill>
        <p:spPr>
          <a:xfrm rot="17541600">
            <a:off x="2493720" y="247320"/>
            <a:ext cx="4500360" cy="6561000"/>
          </a:xfrm>
          <a:prstGeom prst="rect">
            <a:avLst/>
          </a:prstGeom>
          <a:ln w="0">
            <a:noFill/>
          </a:ln>
        </p:spPr>
      </p:pic>
      <p:sp>
        <p:nvSpPr>
          <p:cNvPr id="934" name="Text Box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 M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6027480" cy="4486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24940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Microanalyst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0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1"/>
          <a:stretch/>
        </p:blipFill>
        <p:spPr>
          <a:xfrm>
            <a:off x="2725560" y="1676520"/>
            <a:ext cx="40690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M-7 (Portal Monitor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4" name="Picture 4" descr=""/>
          <p:cNvPicPr/>
          <p:nvPr/>
        </p:nvPicPr>
        <p:blipFill>
          <a:blip r:embed="rId1"/>
          <a:stretch/>
        </p:blipFill>
        <p:spPr>
          <a:xfrm>
            <a:off x="3279600" y="1143000"/>
            <a:ext cx="28148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523880" y="3240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Times New Roman"/>
              </a:rPr>
              <a:t>Simple Gas Filled Detector</a:t>
            </a:r>
            <a:endParaRPr b="0" lang="en-US" sz="4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775" name="Group 21"/>
          <p:cNvGrpSpPr/>
          <p:nvPr/>
        </p:nvGrpSpPr>
        <p:grpSpPr>
          <a:xfrm>
            <a:off x="1454040" y="2206800"/>
            <a:ext cx="6851880" cy="3889080"/>
            <a:chOff x="1454040" y="2206800"/>
            <a:chExt cx="6851880" cy="3889080"/>
          </a:xfrm>
        </p:grpSpPr>
        <p:grpSp>
          <p:nvGrpSpPr>
            <p:cNvPr id="776" name="Group 6"/>
            <p:cNvGrpSpPr/>
            <p:nvPr/>
          </p:nvGrpSpPr>
          <p:grpSpPr>
            <a:xfrm>
              <a:off x="2247840" y="2965320"/>
              <a:ext cx="4989600" cy="3130560"/>
              <a:chOff x="2247840" y="2965320"/>
              <a:chExt cx="4989600" cy="3130560"/>
            </a:xfrm>
          </p:grpSpPr>
          <p:sp>
            <p:nvSpPr>
              <p:cNvPr id="777" name="Line 3"/>
              <p:cNvSpPr/>
              <p:nvPr/>
            </p:nvSpPr>
            <p:spPr>
              <a:xfrm>
                <a:off x="2247840" y="3828960"/>
                <a:ext cx="0" cy="129564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8" name="Line 4"/>
              <p:cNvSpPr/>
              <p:nvPr/>
            </p:nvSpPr>
            <p:spPr>
              <a:xfrm>
                <a:off x="2247840" y="6095880"/>
                <a:ext cx="498960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9" name="Line 5"/>
              <p:cNvSpPr/>
              <p:nvPr/>
            </p:nvSpPr>
            <p:spPr>
              <a:xfrm flipV="1">
                <a:off x="7237440" y="2965320"/>
                <a:ext cx="0" cy="18352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780" name="Line 7"/>
            <p:cNvSpPr/>
            <p:nvPr/>
          </p:nvSpPr>
          <p:spPr>
            <a:xfrm>
              <a:off x="2160720" y="5232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1" name="Line 8"/>
            <p:cNvSpPr/>
            <p:nvPr/>
          </p:nvSpPr>
          <p:spPr>
            <a:xfrm>
              <a:off x="2071800" y="5340240"/>
              <a:ext cx="3553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2" name="Line 9"/>
            <p:cNvSpPr/>
            <p:nvPr/>
          </p:nvSpPr>
          <p:spPr>
            <a:xfrm>
              <a:off x="2160720" y="5556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3" name="Line 10"/>
            <p:cNvSpPr/>
            <p:nvPr/>
          </p:nvSpPr>
          <p:spPr>
            <a:xfrm>
              <a:off x="2160720" y="5448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4" name="Line 11"/>
            <p:cNvSpPr/>
            <p:nvPr/>
          </p:nvSpPr>
          <p:spPr>
            <a:xfrm flipV="1">
              <a:off x="2247840" y="5663880"/>
              <a:ext cx="0" cy="431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5" name="Freeform 12"/>
            <p:cNvSpPr/>
            <p:nvPr/>
          </p:nvSpPr>
          <p:spPr>
            <a:xfrm>
              <a:off x="7149960" y="4800600"/>
              <a:ext cx="182880" cy="6494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115" h="409">
                  <a:moveTo>
                    <a:pt x="55" y="0"/>
                  </a:moveTo>
                  <a:lnTo>
                    <a:pt x="88" y="60"/>
                  </a:lnTo>
                  <a:lnTo>
                    <a:pt x="114" y="76"/>
                  </a:lnTo>
                  <a:lnTo>
                    <a:pt x="88" y="121"/>
                  </a:lnTo>
                  <a:lnTo>
                    <a:pt x="50" y="136"/>
                  </a:lnTo>
                  <a:lnTo>
                    <a:pt x="25" y="167"/>
                  </a:lnTo>
                  <a:lnTo>
                    <a:pt x="0" y="196"/>
                  </a:lnTo>
                  <a:lnTo>
                    <a:pt x="25" y="228"/>
                  </a:lnTo>
                  <a:lnTo>
                    <a:pt x="63" y="242"/>
                  </a:lnTo>
                  <a:lnTo>
                    <a:pt x="88" y="273"/>
                  </a:lnTo>
                  <a:lnTo>
                    <a:pt x="50" y="303"/>
                  </a:lnTo>
                  <a:lnTo>
                    <a:pt x="37" y="334"/>
                  </a:lnTo>
                  <a:lnTo>
                    <a:pt x="0" y="364"/>
                  </a:lnTo>
                  <a:lnTo>
                    <a:pt x="25" y="379"/>
                  </a:lnTo>
                  <a:lnTo>
                    <a:pt x="63" y="393"/>
                  </a:lnTo>
                  <a:lnTo>
                    <a:pt x="55" y="408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6" name="Line 13"/>
            <p:cNvSpPr/>
            <p:nvPr/>
          </p:nvSpPr>
          <p:spPr>
            <a:xfrm>
              <a:off x="7237440" y="5448240"/>
              <a:ext cx="0" cy="647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7" name="AutoShape 14"/>
            <p:cNvSpPr/>
            <p:nvPr/>
          </p:nvSpPr>
          <p:spPr>
            <a:xfrm>
              <a:off x="1454040" y="2324160"/>
              <a:ext cx="4886280" cy="149868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997600" y="2324160"/>
              <a:ext cx="520560" cy="149868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9" name="Line 16"/>
            <p:cNvSpPr/>
            <p:nvPr/>
          </p:nvSpPr>
          <p:spPr>
            <a:xfrm>
              <a:off x="2873520" y="2965320"/>
              <a:ext cx="516564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0" name="Rectangle 17"/>
            <p:cNvSpPr/>
            <p:nvPr/>
          </p:nvSpPr>
          <p:spPr>
            <a:xfrm>
              <a:off x="3265200" y="2430360"/>
              <a:ext cx="1102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1" name="Rectangle 18"/>
            <p:cNvSpPr/>
            <p:nvPr/>
          </p:nvSpPr>
          <p:spPr>
            <a:xfrm>
              <a:off x="3265200" y="3338640"/>
              <a:ext cx="121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Times New Roman"/>
                </a:rPr>
                <a:t>Cathode</a:t>
              </a:r>
              <a:r>
                <a:rPr b="0" lang="en-US" sz="2400" spc="-1" strike="noStrike">
                  <a:solidFill>
                    <a:srgbClr val="c0504d"/>
                  </a:solidFill>
                  <a:latin typeface="Times New Roman"/>
                </a:rPr>
                <a:t> 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2" name="Rectangle 19"/>
            <p:cNvSpPr/>
            <p:nvPr/>
          </p:nvSpPr>
          <p:spPr>
            <a:xfrm>
              <a:off x="7133760" y="2206800"/>
              <a:ext cx="102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 meter </a:t>
              </a:r>
              <a:endParaRPr b="0" lang="en-US" sz="16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3" name="Line 20"/>
            <p:cNvSpPr/>
            <p:nvPr/>
          </p:nvSpPr>
          <p:spPr>
            <a:xfrm>
              <a:off x="7148520" y="2747880"/>
              <a:ext cx="11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AM 11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2590920" y="1343160"/>
            <a:ext cx="44542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ED (DMC 2000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olid State Detecto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50" name="Picture 4" descr=""/>
          <p:cNvPicPr/>
          <p:nvPr/>
        </p:nvPicPr>
        <p:blipFill>
          <a:blip r:embed="rId1"/>
          <a:stretch/>
        </p:blipFill>
        <p:spPr>
          <a:xfrm>
            <a:off x="2895480" y="1173240"/>
            <a:ext cx="367056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Simple Gas Filled Detecto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Group 21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796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797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8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9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00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2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6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7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8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2990520" y="2532240"/>
              <a:ext cx="10627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299088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sp>
        <p:nvSpPr>
          <p:cNvPr id="814" name="Rectangle 22"/>
          <p:cNvSpPr/>
          <p:nvPr/>
        </p:nvSpPr>
        <p:spPr>
          <a:xfrm>
            <a:off x="6384960" y="6208560"/>
            <a:ext cx="2241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15" name="Group 25"/>
          <p:cNvGrpSpPr/>
          <p:nvPr/>
        </p:nvGrpSpPr>
        <p:grpSpPr>
          <a:xfrm>
            <a:off x="2543760" y="2940120"/>
            <a:ext cx="474840" cy="839880"/>
            <a:chOff x="2543760" y="2940120"/>
            <a:chExt cx="474840" cy="839880"/>
          </a:xfrm>
        </p:grpSpPr>
        <p:sp>
          <p:nvSpPr>
            <p:cNvPr id="816" name="Rectangle 23"/>
            <p:cNvSpPr/>
            <p:nvPr/>
          </p:nvSpPr>
          <p:spPr>
            <a:xfrm>
              <a:off x="2543760" y="30290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7" name="Rectangle 24"/>
            <p:cNvSpPr/>
            <p:nvPr/>
          </p:nvSpPr>
          <p:spPr>
            <a:xfrm>
              <a:off x="26298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18" name="Group 28"/>
          <p:cNvGrpSpPr/>
          <p:nvPr/>
        </p:nvGrpSpPr>
        <p:grpSpPr>
          <a:xfrm>
            <a:off x="4893120" y="2940120"/>
            <a:ext cx="652680" cy="839880"/>
            <a:chOff x="4893120" y="2940120"/>
            <a:chExt cx="652680" cy="839880"/>
          </a:xfrm>
        </p:grpSpPr>
        <p:sp>
          <p:nvSpPr>
            <p:cNvPr id="819" name="Rectangle 26"/>
            <p:cNvSpPr/>
            <p:nvPr/>
          </p:nvSpPr>
          <p:spPr>
            <a:xfrm>
              <a:off x="4893120" y="32986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0" name="Rectangle 27"/>
            <p:cNvSpPr/>
            <p:nvPr/>
          </p:nvSpPr>
          <p:spPr>
            <a:xfrm>
              <a:off x="51570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1" name="Group 31"/>
          <p:cNvGrpSpPr/>
          <p:nvPr/>
        </p:nvGrpSpPr>
        <p:grpSpPr>
          <a:xfrm>
            <a:off x="2910240" y="2781360"/>
            <a:ext cx="654480" cy="921600"/>
            <a:chOff x="2910240" y="2781360"/>
            <a:chExt cx="654480" cy="921600"/>
          </a:xfrm>
        </p:grpSpPr>
        <p:sp>
          <p:nvSpPr>
            <p:cNvPr id="822" name="Rectangle 29"/>
            <p:cNvSpPr/>
            <p:nvPr/>
          </p:nvSpPr>
          <p:spPr>
            <a:xfrm>
              <a:off x="2910240" y="32288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3" name="Rectangle 30"/>
            <p:cNvSpPr/>
            <p:nvPr/>
          </p:nvSpPr>
          <p:spPr>
            <a:xfrm>
              <a:off x="3175920" y="278136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4" name="Group 34"/>
          <p:cNvGrpSpPr/>
          <p:nvPr/>
        </p:nvGrpSpPr>
        <p:grpSpPr>
          <a:xfrm>
            <a:off x="1767240" y="3016080"/>
            <a:ext cx="654480" cy="839880"/>
            <a:chOff x="1767240" y="3016080"/>
            <a:chExt cx="654480" cy="839880"/>
          </a:xfrm>
        </p:grpSpPr>
        <p:sp>
          <p:nvSpPr>
            <p:cNvPr id="825" name="Rectangle 32"/>
            <p:cNvSpPr/>
            <p:nvPr/>
          </p:nvSpPr>
          <p:spPr>
            <a:xfrm>
              <a:off x="1767240" y="31957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6" name="Rectangle 33"/>
            <p:cNvSpPr/>
            <p:nvPr/>
          </p:nvSpPr>
          <p:spPr>
            <a:xfrm>
              <a:off x="2032920" y="30160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7" name="Group 37"/>
          <p:cNvGrpSpPr/>
          <p:nvPr/>
        </p:nvGrpSpPr>
        <p:grpSpPr>
          <a:xfrm>
            <a:off x="2080080" y="2482920"/>
            <a:ext cx="563760" cy="839880"/>
            <a:chOff x="2080080" y="2482920"/>
            <a:chExt cx="563760" cy="839880"/>
          </a:xfrm>
        </p:grpSpPr>
        <p:sp>
          <p:nvSpPr>
            <p:cNvPr id="828" name="Rectangle 35"/>
            <p:cNvSpPr/>
            <p:nvPr/>
          </p:nvSpPr>
          <p:spPr>
            <a:xfrm>
              <a:off x="2080080" y="26622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9" name="Rectangle 36"/>
            <p:cNvSpPr/>
            <p:nvPr/>
          </p:nvSpPr>
          <p:spPr>
            <a:xfrm>
              <a:off x="2255040" y="24829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0" name="Group 40"/>
          <p:cNvGrpSpPr/>
          <p:nvPr/>
        </p:nvGrpSpPr>
        <p:grpSpPr>
          <a:xfrm>
            <a:off x="3985200" y="2787480"/>
            <a:ext cx="563760" cy="839880"/>
            <a:chOff x="3985200" y="2787480"/>
            <a:chExt cx="563760" cy="839880"/>
          </a:xfrm>
        </p:grpSpPr>
        <p:sp>
          <p:nvSpPr>
            <p:cNvPr id="831" name="Rectangle 38"/>
            <p:cNvSpPr/>
            <p:nvPr/>
          </p:nvSpPr>
          <p:spPr>
            <a:xfrm>
              <a:off x="3985200" y="31464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32" name="Rectangle 39"/>
            <p:cNvSpPr/>
            <p:nvPr/>
          </p:nvSpPr>
          <p:spPr>
            <a:xfrm>
              <a:off x="4160160" y="27874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3" name="Group 50"/>
          <p:cNvGrpSpPr/>
          <p:nvPr/>
        </p:nvGrpSpPr>
        <p:grpSpPr>
          <a:xfrm>
            <a:off x="940680" y="942840"/>
            <a:ext cx="6486480" cy="4089600"/>
            <a:chOff x="940680" y="942840"/>
            <a:chExt cx="6486480" cy="4089600"/>
          </a:xfrm>
        </p:grpSpPr>
        <p:grpSp>
          <p:nvGrpSpPr>
            <p:cNvPr id="834" name="Group 43"/>
            <p:cNvGrpSpPr/>
            <p:nvPr/>
          </p:nvGrpSpPr>
          <p:grpSpPr>
            <a:xfrm>
              <a:off x="940680" y="1211400"/>
              <a:ext cx="765720" cy="1936440"/>
              <a:chOff x="940680" y="1211400"/>
              <a:chExt cx="765720" cy="1936440"/>
            </a:xfrm>
          </p:grpSpPr>
          <p:sp>
            <p:nvSpPr>
              <p:cNvPr id="835" name="Freeform 41"/>
              <p:cNvSpPr/>
              <p:nvPr/>
            </p:nvSpPr>
            <p:spPr>
              <a:xfrm>
                <a:off x="1324080" y="1265400"/>
                <a:ext cx="382320" cy="188244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1882440"/>
                  <a:gd name="textAreaBottom" fmla="*/ 1882800 h 1882440"/>
                </a:gdLst>
                <a:ahLst/>
                <a:rect l="textAreaLeft" t="textAreaTop" r="textAreaRight" b="textAreaBottom"/>
                <a:pathLst>
                  <a:path w="241" h="1186">
                    <a:moveTo>
                      <a:pt x="0" y="0"/>
                    </a:moveTo>
                    <a:lnTo>
                      <a:pt x="0" y="56"/>
                    </a:lnTo>
                    <a:lnTo>
                      <a:pt x="0" y="98"/>
                    </a:lnTo>
                    <a:lnTo>
                      <a:pt x="0" y="155"/>
                    </a:lnTo>
                    <a:lnTo>
                      <a:pt x="42" y="211"/>
                    </a:lnTo>
                    <a:lnTo>
                      <a:pt x="42" y="253"/>
                    </a:lnTo>
                    <a:lnTo>
                      <a:pt x="42" y="296"/>
                    </a:lnTo>
                    <a:lnTo>
                      <a:pt x="42" y="338"/>
                    </a:lnTo>
                    <a:lnTo>
                      <a:pt x="127" y="395"/>
                    </a:lnTo>
                    <a:lnTo>
                      <a:pt x="211" y="423"/>
                    </a:lnTo>
                    <a:lnTo>
                      <a:pt x="211" y="465"/>
                    </a:lnTo>
                    <a:lnTo>
                      <a:pt x="197" y="507"/>
                    </a:lnTo>
                    <a:lnTo>
                      <a:pt x="197" y="550"/>
                    </a:lnTo>
                    <a:lnTo>
                      <a:pt x="197" y="592"/>
                    </a:lnTo>
                    <a:lnTo>
                      <a:pt x="197" y="648"/>
                    </a:lnTo>
                    <a:lnTo>
                      <a:pt x="197" y="747"/>
                    </a:lnTo>
                    <a:lnTo>
                      <a:pt x="197" y="804"/>
                    </a:lnTo>
                    <a:lnTo>
                      <a:pt x="183" y="860"/>
                    </a:lnTo>
                    <a:lnTo>
                      <a:pt x="225" y="916"/>
                    </a:lnTo>
                    <a:lnTo>
                      <a:pt x="225" y="959"/>
                    </a:lnTo>
                    <a:lnTo>
                      <a:pt x="225" y="1001"/>
                    </a:lnTo>
                    <a:lnTo>
                      <a:pt x="240" y="1058"/>
                    </a:lnTo>
                    <a:lnTo>
                      <a:pt x="240" y="1100"/>
                    </a:lnTo>
                    <a:lnTo>
                      <a:pt x="240" y="1142"/>
                    </a:lnTo>
                    <a:lnTo>
                      <a:pt x="240" y="1185"/>
                    </a:lnTo>
                    <a:lnTo>
                      <a:pt x="225" y="1185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6" name="Rectangle 42"/>
              <p:cNvSpPr/>
              <p:nvPr/>
            </p:nvSpPr>
            <p:spPr>
              <a:xfrm>
                <a:off x="940680" y="121140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46"/>
            <p:cNvGrpSpPr/>
            <p:nvPr/>
          </p:nvGrpSpPr>
          <p:grpSpPr>
            <a:xfrm>
              <a:off x="3720960" y="1481040"/>
              <a:ext cx="763560" cy="2117880"/>
              <a:chOff x="3720960" y="1481040"/>
              <a:chExt cx="763560" cy="2117880"/>
            </a:xfrm>
          </p:grpSpPr>
          <p:sp>
            <p:nvSpPr>
              <p:cNvPr id="838" name="Freeform 44"/>
              <p:cNvSpPr/>
              <p:nvPr/>
            </p:nvSpPr>
            <p:spPr>
              <a:xfrm>
                <a:off x="3720960" y="1714680"/>
                <a:ext cx="763560" cy="188424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884240"/>
                  <a:gd name="textAreaBottom" fmla="*/ 1884600 h 1884240"/>
                </a:gdLst>
                <a:ahLst/>
                <a:rect l="textAreaLeft" t="textAreaTop" r="textAreaRight" b="textAreaBottom"/>
                <a:pathLst>
                  <a:path w="481" h="1187">
                    <a:moveTo>
                      <a:pt x="465" y="0"/>
                    </a:moveTo>
                    <a:lnTo>
                      <a:pt x="480" y="56"/>
                    </a:lnTo>
                    <a:lnTo>
                      <a:pt x="480" y="98"/>
                    </a:lnTo>
                    <a:lnTo>
                      <a:pt x="465" y="197"/>
                    </a:lnTo>
                    <a:lnTo>
                      <a:pt x="451" y="282"/>
                    </a:lnTo>
                    <a:lnTo>
                      <a:pt x="367" y="310"/>
                    </a:lnTo>
                    <a:lnTo>
                      <a:pt x="338" y="352"/>
                    </a:lnTo>
                    <a:lnTo>
                      <a:pt x="324" y="437"/>
                    </a:lnTo>
                    <a:lnTo>
                      <a:pt x="338" y="550"/>
                    </a:lnTo>
                    <a:lnTo>
                      <a:pt x="367" y="635"/>
                    </a:lnTo>
                    <a:lnTo>
                      <a:pt x="381" y="677"/>
                    </a:lnTo>
                    <a:lnTo>
                      <a:pt x="381" y="720"/>
                    </a:lnTo>
                    <a:lnTo>
                      <a:pt x="352" y="762"/>
                    </a:lnTo>
                    <a:lnTo>
                      <a:pt x="338" y="804"/>
                    </a:lnTo>
                    <a:lnTo>
                      <a:pt x="296" y="847"/>
                    </a:lnTo>
                    <a:lnTo>
                      <a:pt x="183" y="960"/>
                    </a:lnTo>
                    <a:lnTo>
                      <a:pt x="169" y="1044"/>
                    </a:lnTo>
                    <a:lnTo>
                      <a:pt x="141" y="1101"/>
                    </a:lnTo>
                    <a:lnTo>
                      <a:pt x="42" y="1143"/>
                    </a:lnTo>
                    <a:lnTo>
                      <a:pt x="0" y="1157"/>
                    </a:lnTo>
                    <a:lnTo>
                      <a:pt x="14" y="1186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9" name="Rectangle 45"/>
              <p:cNvSpPr/>
              <p:nvPr/>
            </p:nvSpPr>
            <p:spPr>
              <a:xfrm>
                <a:off x="4079160" y="14810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49"/>
            <p:cNvGrpSpPr/>
            <p:nvPr/>
          </p:nvGrpSpPr>
          <p:grpSpPr>
            <a:xfrm>
              <a:off x="2755800" y="942840"/>
              <a:ext cx="4671360" cy="4089600"/>
              <a:chOff x="2755800" y="942840"/>
              <a:chExt cx="4671360" cy="4089600"/>
            </a:xfrm>
          </p:grpSpPr>
          <p:sp>
            <p:nvSpPr>
              <p:cNvPr id="841" name="Freeform 47"/>
              <p:cNvSpPr/>
              <p:nvPr/>
            </p:nvSpPr>
            <p:spPr>
              <a:xfrm>
                <a:off x="2755800" y="1265400"/>
                <a:ext cx="4665600" cy="3767040"/>
              </a:xfrm>
              <a:custGeom>
                <a:avLst/>
                <a:gdLst>
                  <a:gd name="textAreaLeft" fmla="*/ 0 w 4665600"/>
                  <a:gd name="textAreaRight" fmla="*/ 4665960 w 4665600"/>
                  <a:gd name="textAreaTop" fmla="*/ 0 h 3767040"/>
                  <a:gd name="textAreaBottom" fmla="*/ 3767400 h 3767040"/>
                </a:gdLst>
                <a:ahLst/>
                <a:rect l="textAreaLeft" t="textAreaTop" r="textAreaRight" b="textAreaBottom"/>
                <a:pathLst>
                  <a:path w="2939" h="2373">
                    <a:moveTo>
                      <a:pt x="2938" y="0"/>
                    </a:moveTo>
                    <a:lnTo>
                      <a:pt x="2853" y="42"/>
                    </a:lnTo>
                    <a:lnTo>
                      <a:pt x="2768" y="56"/>
                    </a:lnTo>
                    <a:lnTo>
                      <a:pt x="2712" y="70"/>
                    </a:lnTo>
                    <a:lnTo>
                      <a:pt x="2613" y="70"/>
                    </a:lnTo>
                    <a:lnTo>
                      <a:pt x="2500" y="98"/>
                    </a:lnTo>
                    <a:lnTo>
                      <a:pt x="2457" y="141"/>
                    </a:lnTo>
                    <a:lnTo>
                      <a:pt x="2457" y="183"/>
                    </a:lnTo>
                    <a:lnTo>
                      <a:pt x="2457" y="225"/>
                    </a:lnTo>
                    <a:lnTo>
                      <a:pt x="2429" y="268"/>
                    </a:lnTo>
                    <a:lnTo>
                      <a:pt x="2387" y="381"/>
                    </a:lnTo>
                    <a:lnTo>
                      <a:pt x="2302" y="395"/>
                    </a:lnTo>
                    <a:lnTo>
                      <a:pt x="2217" y="423"/>
                    </a:lnTo>
                    <a:lnTo>
                      <a:pt x="2132" y="437"/>
                    </a:lnTo>
                    <a:lnTo>
                      <a:pt x="2048" y="465"/>
                    </a:lnTo>
                    <a:lnTo>
                      <a:pt x="1963" y="494"/>
                    </a:lnTo>
                    <a:lnTo>
                      <a:pt x="1878" y="522"/>
                    </a:lnTo>
                    <a:lnTo>
                      <a:pt x="1822" y="663"/>
                    </a:lnTo>
                    <a:lnTo>
                      <a:pt x="1808" y="776"/>
                    </a:lnTo>
                    <a:lnTo>
                      <a:pt x="1793" y="889"/>
                    </a:lnTo>
                    <a:lnTo>
                      <a:pt x="1779" y="974"/>
                    </a:lnTo>
                    <a:lnTo>
                      <a:pt x="1751" y="1058"/>
                    </a:lnTo>
                    <a:lnTo>
                      <a:pt x="1723" y="1115"/>
                    </a:lnTo>
                    <a:lnTo>
                      <a:pt x="1624" y="1143"/>
                    </a:lnTo>
                    <a:lnTo>
                      <a:pt x="1539" y="1171"/>
                    </a:lnTo>
                    <a:lnTo>
                      <a:pt x="1398" y="1186"/>
                    </a:lnTo>
                    <a:lnTo>
                      <a:pt x="1285" y="1214"/>
                    </a:lnTo>
                    <a:lnTo>
                      <a:pt x="1200" y="1242"/>
                    </a:lnTo>
                    <a:lnTo>
                      <a:pt x="1172" y="1284"/>
                    </a:lnTo>
                    <a:lnTo>
                      <a:pt x="1144" y="1327"/>
                    </a:lnTo>
                    <a:lnTo>
                      <a:pt x="1130" y="1411"/>
                    </a:lnTo>
                    <a:lnTo>
                      <a:pt x="1115" y="1496"/>
                    </a:lnTo>
                    <a:lnTo>
                      <a:pt x="1087" y="1581"/>
                    </a:lnTo>
                    <a:lnTo>
                      <a:pt x="1073" y="1666"/>
                    </a:lnTo>
                    <a:lnTo>
                      <a:pt x="1017" y="1779"/>
                    </a:lnTo>
                    <a:lnTo>
                      <a:pt x="960" y="1821"/>
                    </a:lnTo>
                    <a:lnTo>
                      <a:pt x="847" y="1835"/>
                    </a:lnTo>
                    <a:lnTo>
                      <a:pt x="734" y="1863"/>
                    </a:lnTo>
                    <a:lnTo>
                      <a:pt x="649" y="1863"/>
                    </a:lnTo>
                    <a:lnTo>
                      <a:pt x="565" y="1877"/>
                    </a:lnTo>
                    <a:lnTo>
                      <a:pt x="466" y="1920"/>
                    </a:lnTo>
                    <a:lnTo>
                      <a:pt x="409" y="1976"/>
                    </a:lnTo>
                    <a:lnTo>
                      <a:pt x="381" y="2061"/>
                    </a:lnTo>
                    <a:lnTo>
                      <a:pt x="353" y="2117"/>
                    </a:lnTo>
                    <a:lnTo>
                      <a:pt x="296" y="2146"/>
                    </a:lnTo>
                    <a:lnTo>
                      <a:pt x="240" y="2174"/>
                    </a:lnTo>
                    <a:lnTo>
                      <a:pt x="155" y="2188"/>
                    </a:lnTo>
                    <a:lnTo>
                      <a:pt x="70" y="2202"/>
                    </a:lnTo>
                    <a:lnTo>
                      <a:pt x="42" y="2244"/>
                    </a:lnTo>
                    <a:lnTo>
                      <a:pt x="14" y="2301"/>
                    </a:lnTo>
                    <a:lnTo>
                      <a:pt x="0" y="2343"/>
                    </a:lnTo>
                    <a:lnTo>
                      <a:pt x="0" y="2372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2" name="Rectangle 48"/>
              <p:cNvSpPr/>
              <p:nvPr/>
            </p:nvSpPr>
            <p:spPr>
              <a:xfrm>
                <a:off x="7036560" y="9428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algn="ctr"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imple Gas Filled Detector</a:t>
            </a:r>
            <a:endParaRPr b="0" lang="en-US" sz="38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44" name="Group 30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845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846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7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8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49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0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1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2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3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4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5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6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7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8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9" name="Rectangle 17"/>
            <p:cNvSpPr/>
            <p:nvPr/>
          </p:nvSpPr>
          <p:spPr>
            <a:xfrm>
              <a:off x="2990880" y="2532240"/>
              <a:ext cx="13125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0" name="Rectangle 18"/>
            <p:cNvSpPr/>
            <p:nvPr/>
          </p:nvSpPr>
          <p:spPr>
            <a:xfrm>
              <a:off x="173664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1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2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3" name="Rectangle 21"/>
            <p:cNvSpPr/>
            <p:nvPr/>
          </p:nvSpPr>
          <p:spPr>
            <a:xfrm>
              <a:off x="275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4" name="Rectangle 22"/>
            <p:cNvSpPr/>
            <p:nvPr/>
          </p:nvSpPr>
          <p:spPr>
            <a:xfrm>
              <a:off x="33850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5" name="Rectangle 23"/>
            <p:cNvSpPr/>
            <p:nvPr/>
          </p:nvSpPr>
          <p:spPr>
            <a:xfrm>
              <a:off x="38325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6" name="Rectangle 24"/>
            <p:cNvSpPr/>
            <p:nvPr/>
          </p:nvSpPr>
          <p:spPr>
            <a:xfrm>
              <a:off x="41914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7" name="Rectangle 25"/>
            <p:cNvSpPr/>
            <p:nvPr/>
          </p:nvSpPr>
          <p:spPr>
            <a:xfrm>
              <a:off x="4638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8" name="Rectangle 26"/>
            <p:cNvSpPr/>
            <p:nvPr/>
          </p:nvSpPr>
          <p:spPr>
            <a:xfrm>
              <a:off x="49978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9" name="Rectangle 27"/>
            <p:cNvSpPr/>
            <p:nvPr/>
          </p:nvSpPr>
          <p:spPr>
            <a:xfrm>
              <a:off x="3200400" y="3370320"/>
              <a:ext cx="14223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+++++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0" name="Rectangle 28"/>
            <p:cNvSpPr/>
            <p:nvPr/>
          </p:nvSpPr>
          <p:spPr>
            <a:xfrm>
              <a:off x="1860840" y="25639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1" name="Rectangle 29"/>
            <p:cNvSpPr/>
            <p:nvPr/>
          </p:nvSpPr>
          <p:spPr>
            <a:xfrm>
              <a:off x="248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as Amplification Cur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3" name="Group 24"/>
          <p:cNvGrpSpPr/>
          <p:nvPr/>
        </p:nvGrpSpPr>
        <p:grpSpPr>
          <a:xfrm>
            <a:off x="528480" y="2055600"/>
            <a:ext cx="8006040" cy="4688640"/>
            <a:chOff x="528480" y="2055600"/>
            <a:chExt cx="8006040" cy="4688640"/>
          </a:xfrm>
        </p:grpSpPr>
        <p:sp>
          <p:nvSpPr>
            <p:cNvPr id="874" name="Rectangle 3"/>
            <p:cNvSpPr/>
            <p:nvPr/>
          </p:nvSpPr>
          <p:spPr>
            <a:xfrm>
              <a:off x="1228680" y="2057400"/>
              <a:ext cx="7224840" cy="409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5" name="Freeform 4"/>
            <p:cNvSpPr/>
            <p:nvPr/>
          </p:nvSpPr>
          <p:spPr>
            <a:xfrm>
              <a:off x="1228680" y="3057480"/>
              <a:ext cx="6585120" cy="3092400"/>
            </a:xfrm>
            <a:custGeom>
              <a:avLst/>
              <a:gdLst>
                <a:gd name="textAreaLeft" fmla="*/ 0 w 6585120"/>
                <a:gd name="textAreaRight" fmla="*/ 6585480 w 6585120"/>
                <a:gd name="textAreaTop" fmla="*/ 0 h 3092400"/>
                <a:gd name="textAreaBottom" fmla="*/ 3092760 h 3092400"/>
              </a:gdLst>
              <a:ahLst/>
              <a:rect l="textAreaLeft" t="textAreaTop" r="textAreaRight" b="textAreaBottom"/>
              <a:pathLst>
                <a:path w="4148" h="1948">
                  <a:moveTo>
                    <a:pt x="0" y="1947"/>
                  </a:moveTo>
                  <a:lnTo>
                    <a:pt x="6" y="1892"/>
                  </a:lnTo>
                  <a:lnTo>
                    <a:pt x="16" y="1857"/>
                  </a:lnTo>
                  <a:lnTo>
                    <a:pt x="40" y="1823"/>
                  </a:lnTo>
                  <a:lnTo>
                    <a:pt x="62" y="1799"/>
                  </a:lnTo>
                  <a:lnTo>
                    <a:pt x="94" y="1776"/>
                  </a:lnTo>
                  <a:lnTo>
                    <a:pt x="128" y="1765"/>
                  </a:lnTo>
                  <a:lnTo>
                    <a:pt x="161" y="1742"/>
                  </a:lnTo>
                  <a:lnTo>
                    <a:pt x="194" y="1730"/>
                  </a:lnTo>
                  <a:lnTo>
                    <a:pt x="227" y="1707"/>
                  </a:lnTo>
                  <a:lnTo>
                    <a:pt x="305" y="1696"/>
                  </a:lnTo>
                  <a:lnTo>
                    <a:pt x="339" y="1684"/>
                  </a:lnTo>
                  <a:lnTo>
                    <a:pt x="383" y="1661"/>
                  </a:lnTo>
                  <a:lnTo>
                    <a:pt x="416" y="1650"/>
                  </a:lnTo>
                  <a:lnTo>
                    <a:pt x="449" y="1638"/>
                  </a:lnTo>
                  <a:lnTo>
                    <a:pt x="482" y="1638"/>
                  </a:lnTo>
                  <a:lnTo>
                    <a:pt x="516" y="1638"/>
                  </a:lnTo>
                  <a:lnTo>
                    <a:pt x="594" y="1627"/>
                  </a:lnTo>
                  <a:lnTo>
                    <a:pt x="660" y="1627"/>
                  </a:lnTo>
                  <a:lnTo>
                    <a:pt x="693" y="1627"/>
                  </a:lnTo>
                  <a:lnTo>
                    <a:pt x="726" y="1627"/>
                  </a:lnTo>
                  <a:lnTo>
                    <a:pt x="771" y="1627"/>
                  </a:lnTo>
                  <a:lnTo>
                    <a:pt x="804" y="1615"/>
                  </a:lnTo>
                  <a:lnTo>
                    <a:pt x="837" y="1615"/>
                  </a:lnTo>
                  <a:lnTo>
                    <a:pt x="871" y="1602"/>
                  </a:lnTo>
                  <a:lnTo>
                    <a:pt x="903" y="1602"/>
                  </a:lnTo>
                  <a:lnTo>
                    <a:pt x="981" y="1602"/>
                  </a:lnTo>
                  <a:lnTo>
                    <a:pt x="1026" y="1602"/>
                  </a:lnTo>
                  <a:lnTo>
                    <a:pt x="1059" y="1602"/>
                  </a:lnTo>
                  <a:lnTo>
                    <a:pt x="1104" y="1568"/>
                  </a:lnTo>
                  <a:lnTo>
                    <a:pt x="1136" y="1533"/>
                  </a:lnTo>
                  <a:lnTo>
                    <a:pt x="1170" y="1499"/>
                  </a:lnTo>
                  <a:lnTo>
                    <a:pt x="1204" y="1464"/>
                  </a:lnTo>
                  <a:lnTo>
                    <a:pt x="1236" y="1418"/>
                  </a:lnTo>
                  <a:lnTo>
                    <a:pt x="1259" y="1383"/>
                  </a:lnTo>
                  <a:lnTo>
                    <a:pt x="1292" y="1349"/>
                  </a:lnTo>
                  <a:lnTo>
                    <a:pt x="1337" y="1303"/>
                  </a:lnTo>
                  <a:lnTo>
                    <a:pt x="1369" y="1268"/>
                  </a:lnTo>
                  <a:lnTo>
                    <a:pt x="1391" y="1234"/>
                  </a:lnTo>
                  <a:lnTo>
                    <a:pt x="1437" y="1199"/>
                  </a:lnTo>
                  <a:lnTo>
                    <a:pt x="1469" y="1164"/>
                  </a:lnTo>
                  <a:lnTo>
                    <a:pt x="1503" y="1141"/>
                  </a:lnTo>
                  <a:lnTo>
                    <a:pt x="1536" y="1107"/>
                  </a:lnTo>
                  <a:lnTo>
                    <a:pt x="1569" y="1072"/>
                  </a:lnTo>
                  <a:lnTo>
                    <a:pt x="1602" y="1038"/>
                  </a:lnTo>
                  <a:lnTo>
                    <a:pt x="1636" y="1015"/>
                  </a:lnTo>
                  <a:lnTo>
                    <a:pt x="1669" y="980"/>
                  </a:lnTo>
                  <a:lnTo>
                    <a:pt x="1758" y="934"/>
                  </a:lnTo>
                  <a:lnTo>
                    <a:pt x="1791" y="899"/>
                  </a:lnTo>
                  <a:lnTo>
                    <a:pt x="1824" y="865"/>
                  </a:lnTo>
                  <a:lnTo>
                    <a:pt x="1857" y="842"/>
                  </a:lnTo>
                  <a:lnTo>
                    <a:pt x="1891" y="807"/>
                  </a:lnTo>
                  <a:lnTo>
                    <a:pt x="1913" y="772"/>
                  </a:lnTo>
                  <a:lnTo>
                    <a:pt x="1947" y="749"/>
                  </a:lnTo>
                  <a:lnTo>
                    <a:pt x="1979" y="715"/>
                  </a:lnTo>
                  <a:lnTo>
                    <a:pt x="2001" y="680"/>
                  </a:lnTo>
                  <a:lnTo>
                    <a:pt x="2023" y="646"/>
                  </a:lnTo>
                  <a:lnTo>
                    <a:pt x="2035" y="611"/>
                  </a:lnTo>
                  <a:lnTo>
                    <a:pt x="2079" y="519"/>
                  </a:lnTo>
                  <a:lnTo>
                    <a:pt x="2090" y="484"/>
                  </a:lnTo>
                  <a:lnTo>
                    <a:pt x="2124" y="461"/>
                  </a:lnTo>
                  <a:lnTo>
                    <a:pt x="2168" y="427"/>
                  </a:lnTo>
                  <a:lnTo>
                    <a:pt x="2202" y="392"/>
                  </a:lnTo>
                  <a:lnTo>
                    <a:pt x="2234" y="369"/>
                  </a:lnTo>
                  <a:lnTo>
                    <a:pt x="2312" y="334"/>
                  </a:lnTo>
                  <a:lnTo>
                    <a:pt x="2345" y="311"/>
                  </a:lnTo>
                  <a:lnTo>
                    <a:pt x="2368" y="300"/>
                  </a:lnTo>
                  <a:lnTo>
                    <a:pt x="2401" y="277"/>
                  </a:lnTo>
                  <a:lnTo>
                    <a:pt x="2434" y="254"/>
                  </a:lnTo>
                  <a:lnTo>
                    <a:pt x="2467" y="242"/>
                  </a:lnTo>
                  <a:lnTo>
                    <a:pt x="2501" y="231"/>
                  </a:lnTo>
                  <a:lnTo>
                    <a:pt x="2545" y="208"/>
                  </a:lnTo>
                  <a:lnTo>
                    <a:pt x="2634" y="196"/>
                  </a:lnTo>
                  <a:lnTo>
                    <a:pt x="2667" y="196"/>
                  </a:lnTo>
                  <a:lnTo>
                    <a:pt x="2756" y="185"/>
                  </a:lnTo>
                  <a:lnTo>
                    <a:pt x="2834" y="185"/>
                  </a:lnTo>
                  <a:lnTo>
                    <a:pt x="2911" y="173"/>
                  </a:lnTo>
                  <a:lnTo>
                    <a:pt x="3021" y="173"/>
                  </a:lnTo>
                  <a:lnTo>
                    <a:pt x="3089" y="173"/>
                  </a:lnTo>
                  <a:lnTo>
                    <a:pt x="3210" y="173"/>
                  </a:lnTo>
                  <a:lnTo>
                    <a:pt x="3299" y="173"/>
                  </a:lnTo>
                  <a:lnTo>
                    <a:pt x="3344" y="173"/>
                  </a:lnTo>
                  <a:lnTo>
                    <a:pt x="3410" y="173"/>
                  </a:lnTo>
                  <a:lnTo>
                    <a:pt x="3443" y="173"/>
                  </a:lnTo>
                  <a:lnTo>
                    <a:pt x="3554" y="173"/>
                  </a:lnTo>
                  <a:lnTo>
                    <a:pt x="3587" y="173"/>
                  </a:lnTo>
                  <a:lnTo>
                    <a:pt x="3676" y="173"/>
                  </a:lnTo>
                  <a:lnTo>
                    <a:pt x="3765" y="173"/>
                  </a:lnTo>
                  <a:lnTo>
                    <a:pt x="3854" y="173"/>
                  </a:lnTo>
                  <a:lnTo>
                    <a:pt x="3886" y="173"/>
                  </a:lnTo>
                  <a:lnTo>
                    <a:pt x="3920" y="150"/>
                  </a:lnTo>
                  <a:lnTo>
                    <a:pt x="3953" y="138"/>
                  </a:lnTo>
                  <a:lnTo>
                    <a:pt x="3986" y="115"/>
                  </a:lnTo>
                  <a:lnTo>
                    <a:pt x="4031" y="92"/>
                  </a:lnTo>
                  <a:lnTo>
                    <a:pt x="4075" y="58"/>
                  </a:lnTo>
                  <a:lnTo>
                    <a:pt x="4109" y="23"/>
                  </a:lnTo>
                  <a:lnTo>
                    <a:pt x="4141" y="0"/>
                  </a:lnTo>
                  <a:lnTo>
                    <a:pt x="4147" y="1"/>
                  </a:lnTo>
                </a:path>
              </a:pathLst>
            </a:custGeom>
            <a:noFill/>
            <a:ln cap="rnd"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6" name="Freeform 5"/>
            <p:cNvSpPr/>
            <p:nvPr/>
          </p:nvSpPr>
          <p:spPr>
            <a:xfrm>
              <a:off x="1228680" y="2975040"/>
              <a:ext cx="6666120" cy="2506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2506680"/>
                <a:gd name="textAreaBottom" fmla="*/ 2507040 h 2506680"/>
              </a:gdLst>
              <a:ahLst/>
              <a:rect l="textAreaLeft" t="textAreaTop" r="textAreaRight" b="textAreaBottom"/>
              <a:pathLst>
                <a:path w="4199" h="1579">
                  <a:moveTo>
                    <a:pt x="0" y="1578"/>
                  </a:moveTo>
                  <a:lnTo>
                    <a:pt x="28" y="1528"/>
                  </a:lnTo>
                  <a:lnTo>
                    <a:pt x="50" y="1493"/>
                  </a:lnTo>
                  <a:lnTo>
                    <a:pt x="84" y="1470"/>
                  </a:lnTo>
                  <a:lnTo>
                    <a:pt x="128" y="1447"/>
                  </a:lnTo>
                  <a:lnTo>
                    <a:pt x="172" y="1435"/>
                  </a:lnTo>
                  <a:lnTo>
                    <a:pt x="205" y="1424"/>
                  </a:lnTo>
                  <a:lnTo>
                    <a:pt x="272" y="1412"/>
                  </a:lnTo>
                  <a:lnTo>
                    <a:pt x="305" y="1401"/>
                  </a:lnTo>
                  <a:lnTo>
                    <a:pt x="371" y="1401"/>
                  </a:lnTo>
                  <a:lnTo>
                    <a:pt x="405" y="1401"/>
                  </a:lnTo>
                  <a:lnTo>
                    <a:pt x="438" y="1389"/>
                  </a:lnTo>
                  <a:lnTo>
                    <a:pt x="482" y="1366"/>
                  </a:lnTo>
                  <a:lnTo>
                    <a:pt x="505" y="1366"/>
                  </a:lnTo>
                  <a:lnTo>
                    <a:pt x="538" y="1355"/>
                  </a:lnTo>
                  <a:lnTo>
                    <a:pt x="572" y="1355"/>
                  </a:lnTo>
                  <a:lnTo>
                    <a:pt x="660" y="1355"/>
                  </a:lnTo>
                  <a:lnTo>
                    <a:pt x="727" y="1343"/>
                  </a:lnTo>
                  <a:lnTo>
                    <a:pt x="837" y="1332"/>
                  </a:lnTo>
                  <a:lnTo>
                    <a:pt x="881" y="1332"/>
                  </a:lnTo>
                  <a:lnTo>
                    <a:pt x="915" y="1320"/>
                  </a:lnTo>
                  <a:lnTo>
                    <a:pt x="948" y="1309"/>
                  </a:lnTo>
                  <a:lnTo>
                    <a:pt x="971" y="1309"/>
                  </a:lnTo>
                  <a:lnTo>
                    <a:pt x="1082" y="1274"/>
                  </a:lnTo>
                  <a:lnTo>
                    <a:pt x="1170" y="1263"/>
                  </a:lnTo>
                  <a:lnTo>
                    <a:pt x="1204" y="1239"/>
                  </a:lnTo>
                  <a:lnTo>
                    <a:pt x="1248" y="1205"/>
                  </a:lnTo>
                  <a:lnTo>
                    <a:pt x="1315" y="1182"/>
                  </a:lnTo>
                  <a:lnTo>
                    <a:pt x="1347" y="1147"/>
                  </a:lnTo>
                  <a:lnTo>
                    <a:pt x="1369" y="1113"/>
                  </a:lnTo>
                  <a:lnTo>
                    <a:pt x="1437" y="1090"/>
                  </a:lnTo>
                  <a:lnTo>
                    <a:pt x="1481" y="1055"/>
                  </a:lnTo>
                  <a:lnTo>
                    <a:pt x="1558" y="1032"/>
                  </a:lnTo>
                  <a:lnTo>
                    <a:pt x="1602" y="940"/>
                  </a:lnTo>
                  <a:lnTo>
                    <a:pt x="1670" y="917"/>
                  </a:lnTo>
                  <a:lnTo>
                    <a:pt x="1702" y="882"/>
                  </a:lnTo>
                  <a:lnTo>
                    <a:pt x="1724" y="848"/>
                  </a:lnTo>
                  <a:lnTo>
                    <a:pt x="1825" y="813"/>
                  </a:lnTo>
                  <a:lnTo>
                    <a:pt x="1847" y="744"/>
                  </a:lnTo>
                  <a:lnTo>
                    <a:pt x="1891" y="709"/>
                  </a:lnTo>
                  <a:lnTo>
                    <a:pt x="1935" y="675"/>
                  </a:lnTo>
                  <a:lnTo>
                    <a:pt x="1979" y="639"/>
                  </a:lnTo>
                  <a:lnTo>
                    <a:pt x="2013" y="616"/>
                  </a:lnTo>
                  <a:lnTo>
                    <a:pt x="2046" y="581"/>
                  </a:lnTo>
                  <a:lnTo>
                    <a:pt x="2080" y="558"/>
                  </a:lnTo>
                  <a:lnTo>
                    <a:pt x="2112" y="535"/>
                  </a:lnTo>
                  <a:lnTo>
                    <a:pt x="2135" y="512"/>
                  </a:lnTo>
                  <a:lnTo>
                    <a:pt x="2168" y="489"/>
                  </a:lnTo>
                  <a:lnTo>
                    <a:pt x="2202" y="455"/>
                  </a:lnTo>
                  <a:lnTo>
                    <a:pt x="2234" y="432"/>
                  </a:lnTo>
                  <a:lnTo>
                    <a:pt x="2257" y="408"/>
                  </a:lnTo>
                  <a:lnTo>
                    <a:pt x="2290" y="385"/>
                  </a:lnTo>
                  <a:lnTo>
                    <a:pt x="2335" y="362"/>
                  </a:lnTo>
                  <a:lnTo>
                    <a:pt x="2413" y="351"/>
                  </a:lnTo>
                  <a:lnTo>
                    <a:pt x="2445" y="328"/>
                  </a:lnTo>
                  <a:lnTo>
                    <a:pt x="2489" y="316"/>
                  </a:lnTo>
                  <a:lnTo>
                    <a:pt x="2578" y="293"/>
                  </a:lnTo>
                  <a:lnTo>
                    <a:pt x="2601" y="282"/>
                  </a:lnTo>
                  <a:lnTo>
                    <a:pt x="2668" y="270"/>
                  </a:lnTo>
                  <a:lnTo>
                    <a:pt x="2712" y="259"/>
                  </a:lnTo>
                  <a:lnTo>
                    <a:pt x="2789" y="247"/>
                  </a:lnTo>
                  <a:lnTo>
                    <a:pt x="2822" y="236"/>
                  </a:lnTo>
                  <a:lnTo>
                    <a:pt x="2889" y="224"/>
                  </a:lnTo>
                  <a:lnTo>
                    <a:pt x="2955" y="224"/>
                  </a:lnTo>
                  <a:lnTo>
                    <a:pt x="2989" y="224"/>
                  </a:lnTo>
                  <a:lnTo>
                    <a:pt x="3100" y="224"/>
                  </a:lnTo>
                  <a:lnTo>
                    <a:pt x="3188" y="224"/>
                  </a:lnTo>
                  <a:lnTo>
                    <a:pt x="3222" y="224"/>
                  </a:lnTo>
                  <a:lnTo>
                    <a:pt x="3332" y="224"/>
                  </a:lnTo>
                  <a:lnTo>
                    <a:pt x="3421" y="224"/>
                  </a:lnTo>
                  <a:lnTo>
                    <a:pt x="3487" y="224"/>
                  </a:lnTo>
                  <a:lnTo>
                    <a:pt x="3565" y="224"/>
                  </a:lnTo>
                  <a:lnTo>
                    <a:pt x="3676" y="224"/>
                  </a:lnTo>
                  <a:lnTo>
                    <a:pt x="3742" y="224"/>
                  </a:lnTo>
                  <a:lnTo>
                    <a:pt x="3810" y="224"/>
                  </a:lnTo>
                  <a:lnTo>
                    <a:pt x="3887" y="212"/>
                  </a:lnTo>
                  <a:lnTo>
                    <a:pt x="3975" y="201"/>
                  </a:lnTo>
                  <a:lnTo>
                    <a:pt x="4053" y="178"/>
                  </a:lnTo>
                  <a:lnTo>
                    <a:pt x="4087" y="155"/>
                  </a:lnTo>
                  <a:lnTo>
                    <a:pt x="4109" y="120"/>
                  </a:lnTo>
                  <a:lnTo>
                    <a:pt x="4142" y="86"/>
                  </a:lnTo>
                  <a:lnTo>
                    <a:pt x="4153" y="51"/>
                  </a:lnTo>
                  <a:lnTo>
                    <a:pt x="4198" y="0"/>
                  </a:lnTo>
                </a:path>
              </a:pathLst>
            </a:custGeom>
            <a:noFill/>
            <a:ln cap="rnd"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>
              <a:off x="1228680" y="2975040"/>
              <a:ext cx="6666120" cy="167616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4199" h="1056">
                  <a:moveTo>
                    <a:pt x="0" y="1051"/>
                  </a:moveTo>
                  <a:lnTo>
                    <a:pt x="72" y="1055"/>
                  </a:lnTo>
                  <a:lnTo>
                    <a:pt x="116" y="1031"/>
                  </a:lnTo>
                  <a:lnTo>
                    <a:pt x="194" y="1008"/>
                  </a:lnTo>
                  <a:lnTo>
                    <a:pt x="239" y="985"/>
                  </a:lnTo>
                  <a:lnTo>
                    <a:pt x="283" y="973"/>
                  </a:lnTo>
                  <a:lnTo>
                    <a:pt x="317" y="962"/>
                  </a:lnTo>
                  <a:lnTo>
                    <a:pt x="349" y="950"/>
                  </a:lnTo>
                  <a:lnTo>
                    <a:pt x="383" y="950"/>
                  </a:lnTo>
                  <a:lnTo>
                    <a:pt x="416" y="950"/>
                  </a:lnTo>
                  <a:lnTo>
                    <a:pt x="449" y="950"/>
                  </a:lnTo>
                  <a:lnTo>
                    <a:pt x="527" y="950"/>
                  </a:lnTo>
                  <a:lnTo>
                    <a:pt x="560" y="939"/>
                  </a:lnTo>
                  <a:lnTo>
                    <a:pt x="594" y="927"/>
                  </a:lnTo>
                  <a:lnTo>
                    <a:pt x="626" y="927"/>
                  </a:lnTo>
                  <a:lnTo>
                    <a:pt x="660" y="927"/>
                  </a:lnTo>
                  <a:lnTo>
                    <a:pt x="704" y="904"/>
                  </a:lnTo>
                  <a:lnTo>
                    <a:pt x="738" y="904"/>
                  </a:lnTo>
                  <a:lnTo>
                    <a:pt x="815" y="893"/>
                  </a:lnTo>
                  <a:lnTo>
                    <a:pt x="849" y="881"/>
                  </a:lnTo>
                  <a:lnTo>
                    <a:pt x="881" y="870"/>
                  </a:lnTo>
                  <a:lnTo>
                    <a:pt x="948" y="870"/>
                  </a:lnTo>
                  <a:lnTo>
                    <a:pt x="1015" y="858"/>
                  </a:lnTo>
                  <a:lnTo>
                    <a:pt x="1104" y="835"/>
                  </a:lnTo>
                  <a:lnTo>
                    <a:pt x="1148" y="823"/>
                  </a:lnTo>
                  <a:lnTo>
                    <a:pt x="1214" y="812"/>
                  </a:lnTo>
                  <a:lnTo>
                    <a:pt x="1292" y="800"/>
                  </a:lnTo>
                  <a:lnTo>
                    <a:pt x="1381" y="789"/>
                  </a:lnTo>
                  <a:lnTo>
                    <a:pt x="1469" y="777"/>
                  </a:lnTo>
                  <a:lnTo>
                    <a:pt x="1503" y="777"/>
                  </a:lnTo>
                  <a:lnTo>
                    <a:pt x="1580" y="777"/>
                  </a:lnTo>
                  <a:lnTo>
                    <a:pt x="1614" y="766"/>
                  </a:lnTo>
                  <a:lnTo>
                    <a:pt x="1646" y="743"/>
                  </a:lnTo>
                  <a:lnTo>
                    <a:pt x="1670" y="731"/>
                  </a:lnTo>
                  <a:lnTo>
                    <a:pt x="1702" y="708"/>
                  </a:lnTo>
                  <a:lnTo>
                    <a:pt x="1736" y="685"/>
                  </a:lnTo>
                  <a:lnTo>
                    <a:pt x="1769" y="674"/>
                  </a:lnTo>
                  <a:lnTo>
                    <a:pt x="1802" y="662"/>
                  </a:lnTo>
                  <a:lnTo>
                    <a:pt x="1847" y="639"/>
                  </a:lnTo>
                  <a:lnTo>
                    <a:pt x="1891" y="639"/>
                  </a:lnTo>
                  <a:lnTo>
                    <a:pt x="1957" y="628"/>
                  </a:lnTo>
                  <a:lnTo>
                    <a:pt x="1991" y="616"/>
                  </a:lnTo>
                  <a:lnTo>
                    <a:pt x="2024" y="604"/>
                  </a:lnTo>
                  <a:lnTo>
                    <a:pt x="2057" y="570"/>
                  </a:lnTo>
                  <a:lnTo>
                    <a:pt x="2135" y="547"/>
                  </a:lnTo>
                  <a:lnTo>
                    <a:pt x="2168" y="524"/>
                  </a:lnTo>
                  <a:lnTo>
                    <a:pt x="2212" y="489"/>
                  </a:lnTo>
                  <a:lnTo>
                    <a:pt x="2246" y="466"/>
                  </a:lnTo>
                  <a:lnTo>
                    <a:pt x="2279" y="443"/>
                  </a:lnTo>
                  <a:lnTo>
                    <a:pt x="2312" y="420"/>
                  </a:lnTo>
                  <a:lnTo>
                    <a:pt x="2357" y="408"/>
                  </a:lnTo>
                  <a:lnTo>
                    <a:pt x="2401" y="374"/>
                  </a:lnTo>
                  <a:lnTo>
                    <a:pt x="2435" y="362"/>
                  </a:lnTo>
                  <a:lnTo>
                    <a:pt x="2467" y="339"/>
                  </a:lnTo>
                  <a:lnTo>
                    <a:pt x="2512" y="328"/>
                  </a:lnTo>
                  <a:lnTo>
                    <a:pt x="2545" y="316"/>
                  </a:lnTo>
                  <a:lnTo>
                    <a:pt x="2578" y="305"/>
                  </a:lnTo>
                  <a:lnTo>
                    <a:pt x="2601" y="293"/>
                  </a:lnTo>
                  <a:lnTo>
                    <a:pt x="2690" y="282"/>
                  </a:lnTo>
                  <a:lnTo>
                    <a:pt x="2722" y="282"/>
                  </a:lnTo>
                  <a:lnTo>
                    <a:pt x="2822" y="270"/>
                  </a:lnTo>
                  <a:lnTo>
                    <a:pt x="2889" y="270"/>
                  </a:lnTo>
                  <a:lnTo>
                    <a:pt x="2923" y="270"/>
                  </a:lnTo>
                  <a:lnTo>
                    <a:pt x="2955" y="270"/>
                  </a:lnTo>
                  <a:lnTo>
                    <a:pt x="2989" y="270"/>
                  </a:lnTo>
                  <a:lnTo>
                    <a:pt x="3089" y="259"/>
                  </a:lnTo>
                  <a:lnTo>
                    <a:pt x="3155" y="259"/>
                  </a:lnTo>
                  <a:lnTo>
                    <a:pt x="3266" y="259"/>
                  </a:lnTo>
                  <a:lnTo>
                    <a:pt x="3377" y="259"/>
                  </a:lnTo>
                  <a:lnTo>
                    <a:pt x="3465" y="259"/>
                  </a:lnTo>
                  <a:lnTo>
                    <a:pt x="3555" y="259"/>
                  </a:lnTo>
                  <a:lnTo>
                    <a:pt x="3621" y="259"/>
                  </a:lnTo>
                  <a:lnTo>
                    <a:pt x="3688" y="259"/>
                  </a:lnTo>
                  <a:lnTo>
                    <a:pt x="3720" y="247"/>
                  </a:lnTo>
                  <a:lnTo>
                    <a:pt x="3754" y="247"/>
                  </a:lnTo>
                  <a:lnTo>
                    <a:pt x="3788" y="224"/>
                  </a:lnTo>
                  <a:lnTo>
                    <a:pt x="3876" y="212"/>
                  </a:lnTo>
                  <a:lnTo>
                    <a:pt x="3909" y="201"/>
                  </a:lnTo>
                  <a:lnTo>
                    <a:pt x="3998" y="166"/>
                  </a:lnTo>
                  <a:lnTo>
                    <a:pt x="4043" y="132"/>
                  </a:lnTo>
                  <a:lnTo>
                    <a:pt x="4075" y="109"/>
                  </a:lnTo>
                  <a:lnTo>
                    <a:pt x="4109" y="86"/>
                  </a:lnTo>
                  <a:lnTo>
                    <a:pt x="4142" y="51"/>
                  </a:lnTo>
                  <a:lnTo>
                    <a:pt x="4164" y="17"/>
                  </a:lnTo>
                  <a:lnTo>
                    <a:pt x="4198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8" name="Freeform 7"/>
            <p:cNvSpPr/>
            <p:nvPr/>
          </p:nvSpPr>
          <p:spPr>
            <a:xfrm>
              <a:off x="1228680" y="3040200"/>
              <a:ext cx="6666120" cy="1282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4199" h="808">
                  <a:moveTo>
                    <a:pt x="0" y="800"/>
                  </a:moveTo>
                  <a:lnTo>
                    <a:pt x="62" y="807"/>
                  </a:lnTo>
                  <a:lnTo>
                    <a:pt x="106" y="782"/>
                  </a:lnTo>
                  <a:lnTo>
                    <a:pt x="139" y="748"/>
                  </a:lnTo>
                  <a:lnTo>
                    <a:pt x="183" y="748"/>
                  </a:lnTo>
                  <a:lnTo>
                    <a:pt x="217" y="736"/>
                  </a:lnTo>
                  <a:lnTo>
                    <a:pt x="261" y="725"/>
                  </a:lnTo>
                  <a:lnTo>
                    <a:pt x="295" y="702"/>
                  </a:lnTo>
                  <a:lnTo>
                    <a:pt x="361" y="690"/>
                  </a:lnTo>
                  <a:lnTo>
                    <a:pt x="394" y="679"/>
                  </a:lnTo>
                  <a:lnTo>
                    <a:pt x="427" y="656"/>
                  </a:lnTo>
                  <a:lnTo>
                    <a:pt x="505" y="656"/>
                  </a:lnTo>
                  <a:lnTo>
                    <a:pt x="538" y="656"/>
                  </a:lnTo>
                  <a:lnTo>
                    <a:pt x="572" y="656"/>
                  </a:lnTo>
                  <a:lnTo>
                    <a:pt x="604" y="656"/>
                  </a:lnTo>
                  <a:lnTo>
                    <a:pt x="638" y="656"/>
                  </a:lnTo>
                  <a:lnTo>
                    <a:pt x="727" y="644"/>
                  </a:lnTo>
                  <a:lnTo>
                    <a:pt x="859" y="644"/>
                  </a:lnTo>
                  <a:lnTo>
                    <a:pt x="926" y="644"/>
                  </a:lnTo>
                  <a:lnTo>
                    <a:pt x="959" y="633"/>
                  </a:lnTo>
                  <a:lnTo>
                    <a:pt x="993" y="621"/>
                  </a:lnTo>
                  <a:lnTo>
                    <a:pt x="1026" y="610"/>
                  </a:lnTo>
                  <a:lnTo>
                    <a:pt x="1136" y="610"/>
                  </a:lnTo>
                  <a:lnTo>
                    <a:pt x="1248" y="610"/>
                  </a:lnTo>
                  <a:lnTo>
                    <a:pt x="1381" y="610"/>
                  </a:lnTo>
                  <a:lnTo>
                    <a:pt x="1492" y="610"/>
                  </a:lnTo>
                  <a:lnTo>
                    <a:pt x="1558" y="610"/>
                  </a:lnTo>
                  <a:lnTo>
                    <a:pt x="1636" y="610"/>
                  </a:lnTo>
                  <a:lnTo>
                    <a:pt x="1702" y="598"/>
                  </a:lnTo>
                  <a:lnTo>
                    <a:pt x="1736" y="588"/>
                  </a:lnTo>
                  <a:lnTo>
                    <a:pt x="1825" y="575"/>
                  </a:lnTo>
                  <a:lnTo>
                    <a:pt x="1857" y="563"/>
                  </a:lnTo>
                  <a:lnTo>
                    <a:pt x="1891" y="563"/>
                  </a:lnTo>
                  <a:lnTo>
                    <a:pt x="1935" y="552"/>
                  </a:lnTo>
                  <a:lnTo>
                    <a:pt x="1969" y="529"/>
                  </a:lnTo>
                  <a:lnTo>
                    <a:pt x="2002" y="517"/>
                  </a:lnTo>
                  <a:lnTo>
                    <a:pt x="2035" y="506"/>
                  </a:lnTo>
                  <a:lnTo>
                    <a:pt x="2068" y="494"/>
                  </a:lnTo>
                  <a:lnTo>
                    <a:pt x="2146" y="471"/>
                  </a:lnTo>
                  <a:lnTo>
                    <a:pt x="2212" y="471"/>
                  </a:lnTo>
                  <a:lnTo>
                    <a:pt x="2257" y="448"/>
                  </a:lnTo>
                  <a:lnTo>
                    <a:pt x="2290" y="425"/>
                  </a:lnTo>
                  <a:lnTo>
                    <a:pt x="2323" y="402"/>
                  </a:lnTo>
                  <a:lnTo>
                    <a:pt x="2390" y="392"/>
                  </a:lnTo>
                  <a:lnTo>
                    <a:pt x="2423" y="367"/>
                  </a:lnTo>
                  <a:lnTo>
                    <a:pt x="2457" y="356"/>
                  </a:lnTo>
                  <a:lnTo>
                    <a:pt x="2489" y="321"/>
                  </a:lnTo>
                  <a:lnTo>
                    <a:pt x="2556" y="310"/>
                  </a:lnTo>
                  <a:lnTo>
                    <a:pt x="2601" y="287"/>
                  </a:lnTo>
                  <a:lnTo>
                    <a:pt x="2634" y="264"/>
                  </a:lnTo>
                  <a:lnTo>
                    <a:pt x="2668" y="252"/>
                  </a:lnTo>
                  <a:lnTo>
                    <a:pt x="2756" y="241"/>
                  </a:lnTo>
                  <a:lnTo>
                    <a:pt x="2822" y="241"/>
                  </a:lnTo>
                  <a:lnTo>
                    <a:pt x="2856" y="229"/>
                  </a:lnTo>
                  <a:lnTo>
                    <a:pt x="2945" y="229"/>
                  </a:lnTo>
                  <a:lnTo>
                    <a:pt x="3033" y="229"/>
                  </a:lnTo>
                  <a:lnTo>
                    <a:pt x="3067" y="229"/>
                  </a:lnTo>
                  <a:lnTo>
                    <a:pt x="3100" y="218"/>
                  </a:lnTo>
                  <a:lnTo>
                    <a:pt x="3188" y="218"/>
                  </a:lnTo>
                  <a:lnTo>
                    <a:pt x="3277" y="218"/>
                  </a:lnTo>
                  <a:lnTo>
                    <a:pt x="3310" y="218"/>
                  </a:lnTo>
                  <a:lnTo>
                    <a:pt x="3377" y="218"/>
                  </a:lnTo>
                  <a:lnTo>
                    <a:pt x="3410" y="218"/>
                  </a:lnTo>
                  <a:lnTo>
                    <a:pt x="3521" y="218"/>
                  </a:lnTo>
                  <a:lnTo>
                    <a:pt x="3610" y="218"/>
                  </a:lnTo>
                  <a:lnTo>
                    <a:pt x="3643" y="218"/>
                  </a:lnTo>
                  <a:lnTo>
                    <a:pt x="3710" y="218"/>
                  </a:lnTo>
                  <a:lnTo>
                    <a:pt x="3776" y="218"/>
                  </a:lnTo>
                  <a:lnTo>
                    <a:pt x="3810" y="218"/>
                  </a:lnTo>
                  <a:lnTo>
                    <a:pt x="3854" y="218"/>
                  </a:lnTo>
                  <a:lnTo>
                    <a:pt x="3898" y="206"/>
                  </a:lnTo>
                  <a:lnTo>
                    <a:pt x="3965" y="196"/>
                  </a:lnTo>
                  <a:lnTo>
                    <a:pt x="4009" y="171"/>
                  </a:lnTo>
                  <a:lnTo>
                    <a:pt x="4043" y="137"/>
                  </a:lnTo>
                  <a:lnTo>
                    <a:pt x="4075" y="114"/>
                  </a:lnTo>
                  <a:lnTo>
                    <a:pt x="4109" y="91"/>
                  </a:lnTo>
                  <a:lnTo>
                    <a:pt x="4142" y="68"/>
                  </a:lnTo>
                  <a:lnTo>
                    <a:pt x="4175" y="33"/>
                  </a:lnTo>
                  <a:lnTo>
                    <a:pt x="4186" y="0"/>
                  </a:lnTo>
                  <a:lnTo>
                    <a:pt x="4198" y="12"/>
                  </a:lnTo>
                </a:path>
              </a:pathLst>
            </a:custGeom>
            <a:noFill/>
            <a:ln cap="rnd" w="507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grpSp>
          <p:nvGrpSpPr>
            <p:cNvPr id="879" name="Group 10"/>
            <p:cNvGrpSpPr/>
            <p:nvPr/>
          </p:nvGrpSpPr>
          <p:grpSpPr>
            <a:xfrm>
              <a:off x="1228680" y="2057400"/>
              <a:ext cx="7305840" cy="4091040"/>
              <a:chOff x="1228680" y="2057400"/>
              <a:chExt cx="7305840" cy="4091040"/>
            </a:xfrm>
          </p:grpSpPr>
          <p:sp>
            <p:nvSpPr>
              <p:cNvPr id="880" name="Line 8"/>
              <p:cNvSpPr/>
              <p:nvPr/>
            </p:nvSpPr>
            <p:spPr>
              <a:xfrm>
                <a:off x="1228680" y="2057400"/>
                <a:ext cx="0" cy="409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81" name="Line 9"/>
              <p:cNvSpPr/>
              <p:nvPr/>
            </p:nvSpPr>
            <p:spPr>
              <a:xfrm>
                <a:off x="1228680" y="6148440"/>
                <a:ext cx="7305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82" name="Rectangle 11"/>
            <p:cNvSpPr/>
            <p:nvPr/>
          </p:nvSpPr>
          <p:spPr>
            <a:xfrm rot="16200000">
              <a:off x="448200" y="4488120"/>
              <a:ext cx="216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ombin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6200000">
              <a:off x="1618200" y="4777560"/>
              <a:ext cx="150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4" name="Rectangle 13"/>
            <p:cNvSpPr/>
            <p:nvPr/>
          </p:nvSpPr>
          <p:spPr>
            <a:xfrm rot="16200000">
              <a:off x="3517200" y="4302000"/>
              <a:ext cx="297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mited 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5" name="Rectangle 14"/>
            <p:cNvSpPr/>
            <p:nvPr/>
          </p:nvSpPr>
          <p:spPr>
            <a:xfrm rot="16200000">
              <a:off x="2717280" y="4620600"/>
              <a:ext cx="186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6" name="Rectangle 15"/>
            <p:cNvSpPr/>
            <p:nvPr/>
          </p:nvSpPr>
          <p:spPr>
            <a:xfrm rot="16200000">
              <a:off x="5075640" y="4486320"/>
              <a:ext cx="217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iger Mueller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7" name="Rectangle 16"/>
            <p:cNvSpPr/>
            <p:nvPr/>
          </p:nvSpPr>
          <p:spPr>
            <a:xfrm rot="16200000">
              <a:off x="-763200" y="4162320"/>
              <a:ext cx="2981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ber of Ions Collected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8" name="Rectangle 17"/>
            <p:cNvSpPr/>
            <p:nvPr/>
          </p:nvSpPr>
          <p:spPr>
            <a:xfrm rot="16200000">
              <a:off x="5877360" y="4217400"/>
              <a:ext cx="307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ous Discharg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9" name="Line 18"/>
            <p:cNvSpPr/>
            <p:nvPr/>
          </p:nvSpPr>
          <p:spPr>
            <a:xfrm flipV="1">
              <a:off x="187020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0" name="Line 19"/>
            <p:cNvSpPr/>
            <p:nvPr/>
          </p:nvSpPr>
          <p:spPr>
            <a:xfrm flipV="1">
              <a:off x="291312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1" name="Line 20"/>
            <p:cNvSpPr/>
            <p:nvPr/>
          </p:nvSpPr>
          <p:spPr>
            <a:xfrm flipV="1">
              <a:off x="45194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2" name="Line 21"/>
            <p:cNvSpPr/>
            <p:nvPr/>
          </p:nvSpPr>
          <p:spPr>
            <a:xfrm flipV="1">
              <a:off x="556416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3" name="Line 22"/>
            <p:cNvSpPr/>
            <p:nvPr/>
          </p:nvSpPr>
          <p:spPr>
            <a:xfrm flipV="1">
              <a:off x="68486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4" name="Rectangle 23"/>
            <p:cNvSpPr/>
            <p:nvPr/>
          </p:nvSpPr>
          <p:spPr>
            <a:xfrm>
              <a:off x="4178520" y="6346800"/>
              <a:ext cx="10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95" name="Group 30"/>
          <p:cNvGrpSpPr/>
          <p:nvPr/>
        </p:nvGrpSpPr>
        <p:grpSpPr>
          <a:xfrm>
            <a:off x="287280" y="1706400"/>
            <a:ext cx="8170920" cy="397440"/>
            <a:chOff x="287280" y="1706400"/>
            <a:chExt cx="8170920" cy="397440"/>
          </a:xfrm>
        </p:grpSpPr>
        <p:sp>
          <p:nvSpPr>
            <p:cNvPr id="896" name="Rectangle 25"/>
            <p:cNvSpPr/>
            <p:nvPr/>
          </p:nvSpPr>
          <p:spPr>
            <a:xfrm>
              <a:off x="287280" y="1706400"/>
              <a:ext cx="7391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ssion produ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ph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mma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7" name="Line 26"/>
            <p:cNvSpPr/>
            <p:nvPr/>
          </p:nvSpPr>
          <p:spPr>
            <a:xfrm>
              <a:off x="2057400" y="1905120"/>
              <a:ext cx="76212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8" name="Line 27"/>
            <p:cNvSpPr/>
            <p:nvPr/>
          </p:nvSpPr>
          <p:spPr>
            <a:xfrm>
              <a:off x="3886200" y="1905120"/>
              <a:ext cx="7621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9" name="Line 28"/>
            <p:cNvSpPr/>
            <p:nvPr/>
          </p:nvSpPr>
          <p:spPr>
            <a:xfrm>
              <a:off x="5562720" y="1905120"/>
              <a:ext cx="761760" cy="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900" name="Line 29"/>
            <p:cNvSpPr/>
            <p:nvPr/>
          </p:nvSpPr>
          <p:spPr>
            <a:xfrm>
              <a:off x="7696080" y="1905120"/>
              <a:ext cx="762120" cy="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2, 2A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2976480" y="1143000"/>
            <a:ext cx="33609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7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6" name="Picture 4" descr=""/>
          <p:cNvPicPr/>
          <p:nvPr/>
        </p:nvPicPr>
        <p:blipFill>
          <a:blip r:embed="rId1"/>
          <a:stretch/>
        </p:blipFill>
        <p:spPr>
          <a:xfrm>
            <a:off x="1905120" y="1152360"/>
            <a:ext cx="5575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2"/>
          <p:cNvSpPr/>
          <p:nvPr/>
        </p:nvSpPr>
        <p:spPr>
          <a:xfrm>
            <a:off x="1219320" y="304920"/>
            <a:ext cx="7086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SO-50E, 5, 50, 50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9" name="Picture 4" descr=""/>
          <p:cNvPicPr/>
          <p:nvPr/>
        </p:nvPicPr>
        <p:blipFill>
          <a:blip r:embed="rId1"/>
          <a:stretch/>
        </p:blipFill>
        <p:spPr>
          <a:xfrm>
            <a:off x="2438280" y="1135080"/>
            <a:ext cx="44132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1B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762120" y="5869080"/>
            <a:ext cx="769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2" name="Picture 4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527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Kerr, Sue Ann</dc:creator>
  <dc:description/>
  <dc:language>en-US</dc:language>
  <cp:lastModifiedBy>Peggy Hines IRSC</cp:lastModifiedBy>
  <cp:lastPrinted>2003-10-28T18:50:13Z</cp:lastPrinted>
  <dcterms:modified xsi:type="dcterms:W3CDTF">2013-04-15T17:15:00Z</dcterms:modified>
  <cp:revision>31</cp:revision>
  <dc:subject/>
  <dc:title>No Slide Title</dc:title>
</cp:coreProperties>
</file>