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A06E-B3EC-4BE6-B6DA-CD71CCD11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0D71-4619-4970-BCA2-0B11D93A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BB39-E98E-4784-977C-8F59D8F9B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F4BF-084E-49F6-A34A-6B5B46B13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F576-7C58-42A3-9A8B-4925B54A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30F7-14D4-4649-B5D2-1CB852CF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CB11-3E3A-41F2-9C91-E91903C2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E78C-E041-4754-87DF-6C39CDDD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922A-AB36-4BB3-8330-A042F484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08CC-937C-452E-84BB-563AD575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537F-6272-464E-9C51-E28113C0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B412-3BED-42B0-B29C-F4537E1E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F700-C18D-4095-9E4E-1A2D5CDC0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475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19320" y="152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6175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2745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399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6305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8219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63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4115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188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4545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845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9T18:35:28Z</dcterms:created>
  <dc:creator>coach</dc:creator>
  <dc:description/>
  <dc:language>en-US</dc:language>
  <cp:lastModifiedBy>coach</cp:lastModifiedBy>
  <dcterms:modified xsi:type="dcterms:W3CDTF">2006-07-31T02:43:33Z</dcterms:modified>
  <cp:revision>4</cp:revision>
  <dc:subject/>
  <dc:title>Slide 1</dc:title>
</cp:coreProperties>
</file>