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5DCF-D2A0-4373-8031-4976BA921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EF5F-8CDA-40D8-BBA8-9265AF16F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9174-4614-4196-969D-217BF304B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DE8-CD24-488C-8DB6-4B348887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2F2-30CB-42F2-AEF4-22A8FF0C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74E-5CBF-4AF4-8F9E-0B501157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0AA-4385-4A05-8784-D95A631B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E48-8AAA-44EF-91B9-64060FAF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FF7-985C-4391-A0E5-61551F16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F48-CEDC-4259-B68E-025FEFC4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3A4-B9B7-48A1-9D74-79D8691B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299-047A-497B-8F99-181C2464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64D-7140-43BB-A017-56CB3F1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E41-E6A1-4788-AADD-5AD857A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BC3-D93F-43A6-866C-AAD41477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0A84-B0A7-45FC-8354-6EE69F15B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gr.wa.gov/marketing/international/statistics.aspx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 112: Importing and Ex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ment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account and prepayment are the extreme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ters of credit (payment assured by the bank if the paperwork is correct) are safe, but less pop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end is towards longer term and closer relationships with suppliers, so wire transfers of funds are more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EX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s from Friday afternoon until Monday, March 18 at mid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multiple choice + 5 short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recap of the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dlines for final and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de’s Importance for the U.S.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1 expor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2.103 tr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1 impor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$2.663 tr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 4.766 tr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1 G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14.526 tr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is 33% of the econom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shington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rgest exporter (behind TX, CA, N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planes and agricultural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gr.wa.gov/marketing/international/statistics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orters have to deal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 buyers overs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ing on how to distribute overs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ing the product, packaging, pricing, return policies and warran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p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ing the transportation and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isfying compliance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ers have to deal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 local bu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ng the product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ing the product is saleable here by making modifications (and getting permi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 payment and transportation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ring Cus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an (or should)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ight management and transpor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 an agent or distributor is a way of outsourcing, to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s brok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anks and insurance ag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u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e clearly and unequivoc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units of measure (metric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rm, confirm again, and yet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verseas inspectors (especiall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i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s: dot the i’s and cross the t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your contr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 on top of com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try to fool the government (e.g. Cust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oterms (transport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W and DDP are the extreme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opular and FOB and C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learn to use FCA (Free Carrier) instead of FOB when delivering to a tru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Title (ownership) of the goods change hands upon delivery to the first c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8:57:39Z</dcterms:created>
  <dc:creator>Andreas</dc:creator>
  <dc:description/>
  <dc:language>en-US</dc:language>
  <cp:lastModifiedBy>Andreas Udbye</cp:lastModifiedBy>
  <cp:lastPrinted>2013-03-14T20:31:29Z</cp:lastPrinted>
  <dcterms:modified xsi:type="dcterms:W3CDTF">2013-03-14T21:20:59Z</dcterms:modified>
  <cp:revision>22</cp:revision>
  <dc:subject/>
  <dc:title>LOG 112: Importing and Exporting</dc:title>
</cp:coreProperties>
</file>