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9DF0-D3E8-4153-9CA2-D43F1D5A3B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B215-D6F0-41F5-B6FD-A4E0B8890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80EA-442C-4D9B-AC64-AC64F93C7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B411-4E81-4D36-BB60-DCE876D60E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0461-BB36-4D30-8E26-B70CCE6030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D4AF-4326-4B48-8F27-F7F598275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0454-2003-4163-9338-87891577B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A2E7-2118-460E-93CB-46EB9A22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2BED-3620-4DEB-B459-E5E779F7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5A17-7158-40A5-A140-C25917D1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280E-FADE-4979-8464-962F6C7A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7306-E8A9-45D2-9CD3-DDE858C2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6C6F-922A-43E8-A1A0-4989BF83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60E0-2820-4E8A-B516-621DC233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F3F3-BA7F-46CB-9E0E-50901FA6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2AF2-D4F9-45E2-8114-94CF53DB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487F-23F0-4842-929D-94E5B87C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D2BA-6E94-4D1A-90F2-320BD97B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598F-118E-44B4-8F54-4F7FD9D5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EC29-1F0E-43BC-9D0F-3A9AF4175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 112: Importing and Ex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ecture 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s Examination vs. 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Examin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Non-intrusive, using imaging technolog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Sear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Intrusive, where container is opened and content unloaded and insp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ST (Free and Secure Trade)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trucks entering the USA from Canada or Mex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dited release for qualifying commercial ship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cbp.gov/xp/cgov/travel/trusted_traveler/fast/fast_fact_sheet.x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FAST - Free and Secure Trade"/>
          <p:cNvPicPr/>
          <p:nvPr/>
        </p:nvPicPr>
        <p:blipFill>
          <a:blip r:embed="rId1"/>
          <a:stretch/>
        </p:blipFill>
        <p:spPr>
          <a:xfrm>
            <a:off x="2590920" y="2590920"/>
            <a:ext cx="5079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id we miss anything in the earlier sess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azardous Material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“Hazmat” regulation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y product that i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los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lamm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ontaneously combusti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ater-react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xidiz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isonou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dioact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rros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 sure packing, marking and shipping are as required by U.S. Dept. of Transportation, the Coast Guard or the Civil Aeronautics Board.  Check with carrier or forwarder!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sk reduction method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rt Credit risk insurance (in case of defaul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ys to hedge foreign currency ris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u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rwar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tracts (locking in future exchange rat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ency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exercise in case you need t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fsetting by selling to and buying from same count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rrowing or lending in a foreign curr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hnson Chapter 8 (Customs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mporter Security Filing 10+2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go information must be submitted at least 48 hours prior to loading container on 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applied to sea-fr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F filings need to be done electronically via ABI or AMS (Automated Manifest Syst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 data elements provided by shipper and 2 data elements provided by carrier (see p. 31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8 (Custom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y/Immediate delivery, form 34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file Entry Summary (# 7501) within 10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“live entry” if form 7501 is filed firs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mediate transit entries (in-bond to be entered somewhere el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 permits may be required for certain commod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quidation notice sent after a few wee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9 (Specialized trad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wback is a customs refund if the goods are re-exported (even as raw materials or components), defective or destroy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.S. products re-imported w/o paying tariff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ter and countertrade transactions (still subject to tariff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 For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full score, remember to post so that you have at least one entry per topic (total of 10 topi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 pro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Next we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ou can come up here and summarize your project (say 5-10 minutes, max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ng slides if you’d like (power poi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th an additional 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of you could benefit from the extra 5%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 for the rest of us to see what you have been working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ine students can send power point to 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quiz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lk about the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 on C-TPAT, CSI, FAST, hazmat and risk re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ew words on Johnson, Chapters 8 and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lk about next week and voluntary presentations (5% bonus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-TP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s-Trade Partnership Against Terror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ublic-private partne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unched after September 11, 2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ers need to be aware of “foreseeable harm” and “the duty of reasonable car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ered by Dept. of Homeland Security via its Customs &amp; Border Protection ag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ers voluntarily join C-TP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www.tri-nat.com/Portals/0/C-TPAT%20Resized%201b.JPG"/>
          <p:cNvPicPr/>
          <p:nvPr/>
        </p:nvPicPr>
        <p:blipFill>
          <a:blip r:embed="rId1"/>
          <a:stretch/>
        </p:blipFill>
        <p:spPr>
          <a:xfrm>
            <a:off x="4135320" y="152280"/>
            <a:ext cx="33670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icipating in C-TP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w more than 10,000 companies and 50+% of U.S. impor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s clear supply chain security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incentives and benefits like expedited 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‐TPAT members are considered low‐risk and are therefore less likely to be exam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 attached 2-page fli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-TPAT importer security cri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siness partner requi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er 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er insp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access contr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nel 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dural 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urity training and threat awar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on technology 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ainer Security Initiative (CS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Identify high-risk containers. CBP uses automated targeting tools to identify containers that pose a potential risk for terrorism, based on advance information and strategic intellig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Prescreen and evaluate containers before they are shipped. Containers are screened as early in the supply chain as possible, generally at the port of depar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Use technology to prescreen high-risk containers to ensure that screening can be done rapidly without slowing down the movement of trade. This technology includes large-scale X-ray and gamma ray machines and radiation detection de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cbp.gov/linkhandler/cgov/trade/cargo_security/csi/csi_factsheet_2011.ctt/csi_factsheet_2011.p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www.marineinsight.com/wp-content/uploads/2011/09/mengwen_128311867527580000.jpg"/>
          <p:cNvPicPr/>
          <p:nvPr/>
        </p:nvPicPr>
        <p:blipFill>
          <a:blip r:embed="rId1"/>
          <a:stretch/>
        </p:blipFill>
        <p:spPr>
          <a:xfrm>
            <a:off x="457200" y="228600"/>
            <a:ext cx="213372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CIS (Vehicle and Cargo Inspection Syste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1143000" y="1752480"/>
            <a:ext cx="6705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gamma ray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768240" y="1219320"/>
            <a:ext cx="777240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3"/>
          <a:stretch/>
        </p:blipFill>
        <p:spPr>
          <a:xfrm>
            <a:off x="1371600" y="4038480"/>
            <a:ext cx="624852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18:57:39Z</dcterms:created>
  <dc:creator>Andreas</dc:creator>
  <dc:description/>
  <dc:language>en-US</dc:language>
  <cp:lastModifiedBy>Andreas Udbye</cp:lastModifiedBy>
  <dcterms:modified xsi:type="dcterms:W3CDTF">2013-03-09T22:01:11Z</dcterms:modified>
  <cp:revision>15</cp:revision>
  <dc:subject/>
  <dc:title>LOG 112: Importing and Exporting</dc:title>
</cp:coreProperties>
</file>