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4360" y="-36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0244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4360" y="890244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0F53-DFF9-4472-82E5-AB5BF0FFE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3552-2E84-453E-A558-F3D1E8304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EE41-7789-4560-B2F4-F2A05ED63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A5CE-1BE2-4757-ABC2-ABD370A10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BDE5-D9F3-45B9-A820-5E71EAC3D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us to have a good time in class:  Discussions, interaction, questions, humor, laughter, crea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ft gears every 10-15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F259-F83B-458E-A7A7-2155BA891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9B44-4CB8-45FA-B5E5-BE4D54DFD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C091-4674-47AE-8171-37BE801D2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9198-93E2-464E-B65F-E940E3EF2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7E76-A9A4-405E-A307-A95E07EB6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51A0-D545-4539-B53C-68E624275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2A33-6BE3-4623-98EB-A5CB92BC3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A006-0D76-4033-93E2-D01591550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282E-6D53-45E5-82A3-780A3DE7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8EA7-AF66-48B0-91CC-BFD635C5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E99-A2A9-4313-AFD3-16902634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0C62-33F6-48F0-AFDB-B81E0A6E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743-8232-4F89-A94F-00386AD2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D32-C4E9-4D22-ABC7-07D58BB1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0D9C-1D29-41D6-BD5E-CCF1EC93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183-5ACB-4E16-91C4-CF98E8B6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AD7-EEF9-4857-8676-B31128BF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277-480C-44DA-AFEA-AA85271B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F98-C733-4470-8848-EC43A415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46BA-38D5-42D6-AC70-9A6F27F2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CA28-B287-435A-96A0-58EA32BDF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jobsinlogistics.com/" TargetMode="External"/><Relationship Id="rId3" Type="http://schemas.openxmlformats.org/officeDocument/2006/relationships/hyperlink" Target="http://www.indeed.com/" TargetMode="External"/><Relationship Id="rId4" Type="http://schemas.openxmlformats.org/officeDocument/2006/relationships/hyperlink" Target="http://www.fita.org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STICS 112: Importing &amp; Ex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cture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444600" y="60480"/>
            <a:ext cx="8254800" cy="1371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ket Planning and Resear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sis of Business 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 entry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gal and Contractual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llectual Property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mo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ff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itle 1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8254800" cy="1231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le and Purchase agre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got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ocol and etiquet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ment and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ancing t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eign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urance and Hed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ing and Tax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le 1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8254800" cy="1231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ckaging and lab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rtation and fre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ation and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miz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rchandizing, sourcing, vendor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fer pric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x and tariff optim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h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gal struc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444600" y="225360"/>
            <a:ext cx="8254800" cy="123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tions and Review of Course Syllabus (expectations, grad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do you aim to get out of this clas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own experience with international tra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would you like to export or impor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view of some current job postings in the logistics/international trade industr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job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 is hirin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ten used termi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skills are they looking f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jobsinlogistics.co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indeed.co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fita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view of the Course Outline  – what we will be cover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ted in Ang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1" descr=""/>
          <p:cNvPicPr/>
          <p:nvPr/>
        </p:nvPicPr>
        <p:blipFill>
          <a:blip r:embed="rId1"/>
          <a:stretch/>
        </p:blipFill>
        <p:spPr>
          <a:xfrm>
            <a:off x="523800" y="139680"/>
            <a:ext cx="8255160" cy="1665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33520" y="1752480"/>
            <a:ext cx="8229600" cy="464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any’s vision, mission, goals and strateg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Model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any’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rketing mi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the five P’s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   (WHAT to se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ce   (HOW MUCH to charg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ion   (HOW to sell 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 (distribution)   (WHERE to sell 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  (WHO to sell it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1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8254800" cy="1292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mpany’s SWOT (strengths, weaknesses, opportunities and threats) and competitive advantages, compet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vironmental analysis (in assessing market potential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ographic (the characteristics of the custom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economic (the overall economic condition of the mark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ernment policies (trade barriers and regul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vironmental (weather, geography, infrastructure and cultu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ustry-specific (different industry structure and channe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etitive 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444600" y="60480"/>
            <a:ext cx="8265960" cy="1738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828800"/>
            <a:ext cx="8229600" cy="449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p Management (commitment &amp; fun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es &amp; Marketing (customer orien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al (payments and financ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al (contractual, documentation, regulato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rational (supply chain, logisti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ufacturing (product adaptation, label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urement (sourcing and purchas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79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7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229600" cy="1396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Rationale for Exporting and Importing (“Why go Global?”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and the revenue bas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nefit from economies of sca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dge against changing domestic condition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rinking domestic b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fe cycle consid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mestic regul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asonal sw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ain access to lower costs or more abundant resour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444600" y="225360"/>
            <a:ext cx="8254800" cy="123192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3" descr=""/>
          <p:cNvPicPr/>
          <p:nvPr/>
        </p:nvPicPr>
        <p:blipFill>
          <a:blip r:embed="rId2"/>
          <a:stretch/>
        </p:blipFill>
        <p:spPr>
          <a:xfrm>
            <a:off x="304920" y="1438200"/>
            <a:ext cx="85341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17:26:19Z</dcterms:created>
  <dc:creator>Andreas</dc:creator>
  <dc:description/>
  <dc:language>en-US</dc:language>
  <cp:lastModifiedBy>Andreas Udbye</cp:lastModifiedBy>
  <cp:lastPrinted>2013-01-03T22:51:39Z</cp:lastPrinted>
  <dcterms:modified xsi:type="dcterms:W3CDTF">2013-01-03T22:52:14Z</dcterms:modified>
  <cp:revision>17</cp:revision>
  <dc:subject/>
  <dc:title>LOGISTICS 112: Importing &amp; Exporting</dc:title>
</cp:coreProperties>
</file>