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D5DF-DE50-4135-8C70-C57DA1C508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EDD54-9E1C-4C05-A985-DE689020B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E5A3-1E10-4FC8-B224-9D5E90A6BC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B4F4-66EF-471B-AA99-4FC5F44918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835F-31AB-420C-9E1C-6A2E2069A4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0F79-E0CB-474A-960D-66A6DCE156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15A0-0EF4-43FD-AB73-A37EEEE8FC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44AD-6D4C-477B-81B2-4353BB940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432F-DAA9-4C2D-93BE-74CC4021BC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E018-C962-4EC3-A88E-60E11F2257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51E0-9DC7-430A-B239-E00AC10113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6718-168C-4D22-999E-652CD6ACD1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F831-7921-4CAE-B3D1-6D36D1F2C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1744D-2091-4D21-9420-922A68CBF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6F0AC-DBA3-4785-8706-77F798A7E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0AD5A-7D3D-4AA4-92A5-C6F9F3A9B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EA11B-7AC6-41E5-B17E-23B2987CA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566A4-DF72-4C56-A606-FD8320414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FCFD7-11FC-4C73-9AF4-A7C61917C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91B36-6640-426B-AD3D-F5912F9B6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32861-82F8-4EB9-BB73-F9A29A99A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56ACC-7C27-48ED-BE22-2DE9A5883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60A3D-6CEB-46E5-888B-3AC257004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A12A1-7507-4454-830B-04C82C0D5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ADB43-2A19-4631-9CE7-4E71123B7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7F23-6E24-4A51-859A-965A5AC578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 112: Importing &amp; Exporting</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8 Lecture No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ters of Credit</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y attached .pdf file “Sample letter of Credit Template/Proforma”.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n exporter’s letter of instruction to the buyer on how the L/C should be structured.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y the attached document with the various terms for the banks involv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y the “Sample Letter of Credit”, attac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y the “L/C Flow” diagram attac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ary Collections (draft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nam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h against document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yment against documen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sight (a Sight Draf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pay before taking possession of go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ainst acceptance (a Time Draf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yable a predetermined number of days from the date of shipme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go Insurance</a:t>
            </a:r>
            <a:endParaRPr b="0" lang="en-US" sz="4400" spc="-1" strike="noStrike">
              <a:solidFill>
                <a:srgbClr val="000000"/>
              </a:solidFill>
              <a:latin typeface="Calibri"/>
            </a:endParaRPr>
          </a:p>
        </p:txBody>
      </p:sp>
      <p:sp>
        <p:nvSpPr>
          <p:cNvPr id="71" name=""/>
          <p:cNvSpPr txBox="1"/>
          <p:nvPr/>
        </p:nvSpPr>
        <p:spPr>
          <a:xfrm>
            <a:off x="457200" y="1599840"/>
            <a:ext cx="8229600" cy="4800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urchase “all risk” covera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arehouse-to-Warehou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contingent insurance” (supplements inadequate coverage by other par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also buy additional coverage for war, strikes, riots, e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sure for the CIF value +10%</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n’t confuse with export credit insurance, which insures receivable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surance certificate often an important docume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Topic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 trade agreement with Europe? (see link under session 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lk through Johnson, Chapter 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 Managemen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ters of Credi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ary Collection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go insur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 managemen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cessful importers find niches and competitive advantag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ucial to have an efficient value chai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mporter’s activities need to add real value in a competitive market (the importer as middle ma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ucial to have an efficient supply chai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rcing/Procurement, Transportation, Handling &amp; Logistics, Sales &amp; Marketing channels</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 management, cont’d</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ucial </a:t>
            </a:r>
            <a:r>
              <a:rPr b="0" lang="en-US" sz="3000" spc="-1" strike="noStrike">
                <a:solidFill>
                  <a:srgbClr val="ff0000"/>
                </a:solidFill>
                <a:latin typeface="Calibri"/>
              </a:rPr>
              <a:t>not to charge too little </a:t>
            </a:r>
            <a:r>
              <a:rPr b="0" lang="en-US" sz="3000" spc="-1" strike="noStrike">
                <a:solidFill>
                  <a:srgbClr val="000000"/>
                </a:solidFill>
                <a:latin typeface="Calibri"/>
              </a:rPr>
              <a:t>for the produc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gistics expenses (shipping, warehousing, handling, documentatio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e costs (higher with low turnover rat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les expenses (materials, sales force, trave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turns and warranti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letion (damage, samples and pilferag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head and Fixed operating cos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ounts and rebates damaging to bottom lin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urrency exchange variati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 management, cont’d</a:t>
            </a:r>
            <a:endParaRPr b="0" lang="en-US" sz="4400" spc="-1" strike="noStrike">
              <a:solidFill>
                <a:srgbClr val="000000"/>
              </a:solidFill>
              <a:latin typeface="Calibri"/>
            </a:endParaRPr>
          </a:p>
        </p:txBody>
      </p:sp>
      <p:sp>
        <p:nvSpPr>
          <p:cNvPr id="57"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courge of inventor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s up capit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up spa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distraction for the sales for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get damaged in stor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difficult to find “back doo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customers like ample inventory, as you can deliver instant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entory may reduce supply chain risk.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 management, cont’d</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portance of accuracy (The devil’s in the details):</a:t>
            </a:r>
            <a:endParaRPr b="0" lang="en-US" sz="30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peatedly specify and make sure seller understands specifications, qualities, quantitie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spection firm/agent, or inspect personally</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derstand customs rules (dumping or countervailing duties, quota restrictions?) </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tain complete freight quotes (door-to-door, “all-in”) </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treme caution with temperature controlled cargo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 management, cont’d</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llowing can be outsourc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s clear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bound and outbound transport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rehousing and (can be costly, thoug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der processing (can be cost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phics (brochures, websit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ory, everything can be outsourced, but it may not leave you with much prof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sure to read Ch. 7 in Johnson’s 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similarities with export docu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er has to deal with customs clear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roducts subject to inspection, licenses, safety rules (foods, pharmaceuticals, alcohol, electrical articles, to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er has to deal with payments proces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ters of Credit</a:t>
            </a:r>
            <a:endParaRPr b="0" lang="en-US" sz="4400" spc="-1" strike="noStrike">
              <a:solidFill>
                <a:srgbClr val="000000"/>
              </a:solidFill>
              <a:latin typeface="Calibri"/>
            </a:endParaRPr>
          </a:p>
        </p:txBody>
      </p:sp>
      <p:sp>
        <p:nvSpPr>
          <p:cNvPr id="65" name=""/>
          <p:cNvSpPr txBox="1"/>
          <p:nvPr/>
        </p:nvSpPr>
        <p:spPr>
          <a:xfrm>
            <a:off x="457200" y="1600200"/>
            <a:ext cx="8305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mmercial letter of credit is a contractual agreement between a bank, known as the issuing bank, on behalf of one of its customers, authorizing another bank, known as the advising or confirming bank, to make payment to the beneficiary (seller). The issuing bank, on the request of its customer, opens the letter of credit.  Read “Understanding and Using Letters of Credit”, attach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15:04:00Z</dcterms:created>
  <dc:creator>Andreas</dc:creator>
  <dc:description/>
  <dc:language>en-US</dc:language>
  <cp:lastModifiedBy>Andreas Udbye</cp:lastModifiedBy>
  <dcterms:modified xsi:type="dcterms:W3CDTF">2013-02-15T20:41:42Z</dcterms:modified>
  <cp:revision>22</cp:revision>
  <dc:subject/>
  <dc:title>LOG 112: Importing &amp; Exporting</dc:title>
</cp:coreProperties>
</file>