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4D6-A643-4E1C-AB1F-659F05010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F30-7448-49C3-B505-7BC7AC1BB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713-4A03-4F35-B670-B473DBF14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BE82-AC59-4C85-BC24-828FAC39A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424-ED36-4BE1-A1E0-CB8F3C5CC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0C4-3622-4973-BED5-52F18998C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7D53-148E-450A-8E96-C3D64ABB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D7C1-5123-483F-94CE-269235D4B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32A-FBC4-4E5A-BFE4-EFF9970F5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08F3-7B0A-47FB-96BA-91A27DB04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4896-1CAA-4111-A262-E720AE650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C4A0-7013-493E-B330-C77DAE947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DCE-8336-483A-BF5E-FBA6E572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731-A43D-4279-9D97-A440F34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07B-FF1C-40E7-B837-2942E9D3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EC9-E5FD-4166-9578-67AA4805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C9B-C61C-45CB-BB2F-7A6BB2D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3F1-CC46-4C01-8701-2B6BD59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BD0-0F87-4585-9F02-5321D2B4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701-7B39-460B-9E65-0DCE505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E5F-6EEE-429B-9D20-D129FFF9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96A-052E-454E-89C2-B116E78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460-3EB4-4C48-B49D-630E5C7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05A-F3C1-423E-9831-7C906DA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ADEA-D706-4ACF-829B-A297FC537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STICS 112:  Importing and Ex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ow To Get Started in Importing and Exporting, cont’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t might take three years before yo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tart paying yourself, so the activity may have to be part time or well funded (otherwise you will run out of either money, time or patienc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Unless you are an incurable gambler, don't borrow money against personal guarantees or mortgage your house and possession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This way, if you fail - the statistical probability is that you will fail - you will have hurt your pride and savings account, but at least you won't lose your hous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Get Started in Importing and Exporting, cont’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e will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ange cour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to adjust to market demands and developments. Be adaptabl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writte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usiness pla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ill help you structure your own thoughts, and should serve as an action plan.  It forces you to be realistic and see things from different angl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Question No. 1:  "Would anybody want to buy this product?"  (who, where, what, when, why, how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16002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 Entry and Distribution Strateg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market entry: Direct or Indi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  Dealing directly with an entity in the foreign mark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directly to consumer and/or via distributors)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ir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Reaching the foreign market through another domestic company (third par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n focus of today's lectur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presentation on WA Stat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in take-away from first two chapters of Johnson book and Basic Guide to Ex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de from an Entrepreneur’s and Small Business Stand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To Get Started in Importing and Expor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 Market Entry and Distribu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, Chapters 1 &amp;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ing for Exports or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right way, but important with specialization and corporate commit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utside help as necess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and filing are becoming both easier (electronic) and more difficult (more regul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ers: Usually “accidental” and learn by trial and erro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 little book: “Conducting Market Research for International Business” by Cavusgil et al.  ($27 on Amaz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 (Import) Manual example (figures 1-7 and 1-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ment of manual’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ort (import)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(import)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(import)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(import) licenses  (perm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, Chapt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main pitfalls by being prepared (compliance, standards, customs law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ents:  Important for technological and unique products or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:  Important for branding, company name and lo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rights: Becoming more enforceable (WT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, Chapt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-boycott:  Illegal to yield to demands for boycotting othe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 Carnet: To be able to travel with samples and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sale:  Incoterms (more later on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ings:  “Made in ….” crucial for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trust:  Be aware of local (European Union) rules with respect to restricting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global internet and mail-order s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asic Guide to Exporting, Ch. 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channels and govt.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export-read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commi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icient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tise, experience,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on and financial capac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capability and adap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an export business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ternational Trade from an Entrepreneur’s and Small Business Standpo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view of John Wiley Spiers’ comments on entrepreneurship, from his book “How Small Business Trades Worldwide” (attached Word documen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is main poin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 Your approach (business plan) must b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rket driv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 Offer something that i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ifferent or un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evelop relationship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customers and suppli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Be knowledgeabl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bout your product, market and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chann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Be passionat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bout your produ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Get Started in Importing &amp; Exporting. 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easy part:   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he technical aspects of logistics, financing and docum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llenging part:  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he sales &amp; marketing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Have customers before incurring the risk of buying merchandise and carrying inventory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ort of expertise (and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assion/interest!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) will help in getting start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overspend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on infrastructure (office/warehouse, equipment, other fixed costs) and avoid tying the money up in inventory (or receivable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7:46:19Z</dcterms:created>
  <dc:creator>Andreas</dc:creator>
  <dc:description/>
  <dc:language>en-US</dc:language>
  <cp:lastModifiedBy>Andreas Udbye</cp:lastModifiedBy>
  <cp:lastPrinted>2013-01-10T18:36:29Z</cp:lastPrinted>
  <dcterms:modified xsi:type="dcterms:W3CDTF">2013-01-10T19:42:33Z</dcterms:modified>
  <cp:revision>9</cp:revision>
  <dc:subject/>
  <dc:title>LOGISTICS 112:  Importing and Exporting</dc:title>
</cp:coreProperties>
</file>