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08080" y="698040"/>
            <a:ext cx="4641840" cy="348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35A73-08E1-47D8-BEED-FF575310DB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6F079-2E4D-4C9F-969B-8E35BFB048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DB649-58A1-4210-9056-419FF9256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B4020-A301-4A2F-9E7F-9C740AD16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7CD24-6A9A-4014-A39D-DD040EB40F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3FCAB-327D-4BC7-9BBF-4FEC3CA1FD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2E635-D4D6-417D-8186-FE9F44EDE3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58B00-5E2C-4C1D-A56C-85B921797F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3D520-1CC1-4CA0-828E-E36918C917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BE76B-21C4-40C0-9CC5-3F651CF1E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F03FF-DE6B-4F8C-835A-DB10F7905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B21ED-0BCF-4769-A309-B44F602EC5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9C5B6-7F34-4C18-88FB-68E54EC50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D368-46EF-4F34-96E4-A16F35033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38D70-7886-41C4-94AA-64AD33D95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E1078-2119-4B53-ADD4-E9E0799CCC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A3F73-8E02-4EB3-90E2-1F3809374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chase  a fuel-efficient fleet – increased aerodynamics, vehicle weight reductions, improved engine and transmission designs, improved rolling efficiency of tires, more efficient access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form regular preventive fleet maintenance and inspections – tire pressure checks important for fuel economy, safe vehicle handling and long tire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 driver training on fuel efficient driving techniques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 unnecessary idling of delivery vehicles – turn engines off during pick-ups and deliveries; avoid running engies for heating and cooling – use separate cab hea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ement policies to reduce maximum vehicle speed -  or program engines not to exceed certain sp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5C69B-73FE-4AFE-8800-250E6BFCF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5% of transport worldwide is fuelled by oil – rising oil prices and public policies aimed at reducing fuel emissions are strong incentives to explore other op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ft to more fuel-efficient modes of transportation – from truck to rail, from rail to mar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alternative energy if possible – biodiesel, ethanol, hybrid electric vehicles, battery-electric, propa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0A7B6-FAF2-455D-9192-FA8D0FD59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oad factor – the percentage of capacity of a truck or container that is used is a factor affecting sustainable management of freight transport.  A ¼ full-truck uses 2 and ½ times as much fuel per ton-mile as a ¾ full truck.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void unnecessary packaging – specify this from suppliers, use standardized and modularized packaging to allow more efficient loa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Use load-planning software – to optimize loading in terms of weight, dimension, safety and legal variables – can eventake hazmat requirments into consider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Use route planning software – to reduce total transport distan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Maximize bi-directional load by using common carriers instead of private fleet, backhausl, Internet-based loading servic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chedule delivery times to avoid conges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Work with local suppliers to reduce inbound transport distances 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Influence suppliers modes, loading and routes for inbound materials to gain full benefit of sustainable transport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8FC33-11CF-4EF3-93AE-7431F77C8A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F477A-9BB9-456C-B6D9-015DE94AA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F181E-629D-4E4A-B489-02F6C82C3A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AEE47-7D55-454E-8A80-51924F37C3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944FC-4AB5-414D-B82E-E5DBAD034E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ow Trucking Gr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50, some 173 billion ton-miles of commercial intercity freight traveled by truck. (A ton-mile is one ton carried one mile.) As the interstate system grew, commercial freight by truck more than tripled to 555 billion ton-miles in 1980. Easing of federal restrictions on trucking prices and routes came in the 1980s, and commercial truck freight grew to nearly 650 billion ton-miles by 1985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B415C-64EE-43E5-ADCC-E09C90D6F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AE696-D72A-4CD7-B13A-89C507013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CB79A-0CC1-4E41-B180-FF4C93F69B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600B2-EDA7-4ED2-94ED-6A68D303B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D9AE4-B65F-4080-8D99-4882918AB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C7655-0A47-4164-9A6B-E5971AAAF8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2711-07FA-43C4-8D30-6140C0D56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0E78-50A6-4C90-9D48-9DAAAE6FA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4A4C0D-A272-4EF1-A5B9-F4C3103A4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AD43FC-A15B-47C7-A908-42950006D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EBAE95-FC19-403F-B0A9-BF612A2FD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38BBD1-EB47-426F-8A28-BE3F46C6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196AD4-9262-4475-8209-EE9B5491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9CFF26-4A68-4376-8A5F-FA5F0775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6C7C5F-B050-47D7-84E5-3FC008C06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016F01-001B-40C8-9E03-27F3ECB72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FA4B50-516B-4B80-88D7-6F31A100A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1BC2EF-17D5-478B-822C-A042F89DA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0EF0-91C9-424E-B8BD-75822801D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15EDF0-B40E-4169-B232-29E3116CD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01CB44-D745-4EAC-992F-D1084DA6F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9CBF31-AE10-4221-B12F-299C621D8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A67A6C-8B94-4B69-977F-E0317A6BC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AD0CC7-9E38-4003-94B3-BACE5702C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137CD8-7A9B-419E-AE1A-1606B244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9345C8-6052-4328-9D8D-5CAC63F9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CD4DA7-AB52-4E94-8EA4-3DE1E9BF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957CCB-BEF7-456D-96AD-E15141308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70FF62-CB51-421D-85C4-0C1FF67CA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3086-55AB-4269-96B5-641DE4747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D71DAB-BC6E-47B1-B098-A4E78AF56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7C1D50-581D-405D-8E57-83AB6BB86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777FCF-E948-4878-AA23-F97C1530A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67CD13-491E-4301-87DC-DF9CDC85D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4727CA-C145-40F5-AD7A-74F679FF6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87BB06-15AC-43C2-9EAE-EB4B30671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C95A9A-22E7-47EE-BFA0-DF270BF0B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B5BADE-E578-4288-AE77-66CF44F1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45DD8A-65AF-4F92-A938-A2071C50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496B82-6E2E-4F5F-B1BA-95293F95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38B47-BF47-4173-8BC6-1026F3D6B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D64B82-1202-4EF5-B806-7CB0972C3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2D8CF7-A870-48A8-B68C-F2E5454D3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CDE9A1-B534-43BB-82B6-3CDDF7111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29F626-ADB4-4E19-957D-516215768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DC1805-84E5-4716-912D-B2CF0790E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3E5D94-3494-4558-80E0-7B1DD91E2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331A0C-05A3-4ACF-8508-55FD90A6B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1CE64D-12A3-440A-8EE3-7AA760483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B2F559-8DC9-4C79-B862-4052920D7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DAFBD7-D3F9-4CE6-ACD6-0A07911A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62C33-C2B8-4022-8C13-19D619FD4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D9C40D-40A7-4455-908B-FF734F8B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5D2F1C-5B3D-437F-B209-3D080316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2D28A1-F968-45B0-8CDB-6972AE9A5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249E60-3EE0-4543-9182-5589AD25E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282253-821E-4286-A832-22C4D0D1F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6A801-3AFC-4EDC-9D4C-6D6BC0BF0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9320F-CC8D-4541-9C87-CDAAF04F8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D78F0-1015-405D-ACA3-EA3F22506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3B9F7-1FD3-41F7-AC51-758F88802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65A1F-D44B-4604-9265-831C2AEE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C429-64AF-498A-BE9C-FFDC2D502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E9763-8EDF-43D7-A821-A1093C9F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700DE-AAF2-4149-B1C5-FF328E18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57DBB-E850-4ED6-9882-481638757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F5088-D63B-446E-8963-60DBE4B5E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BF092-7C4C-4DCA-B9B8-2541ECF30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8C041-DE01-4210-9C67-410D0B4EB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02F92-4AE4-4291-8822-62B5933AC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39DF9-C65D-4619-8099-BD90C777F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E9979-7EA4-49A6-80C6-602737A0F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8BCB0-EF31-4D5E-9EEB-12B2E63E0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DB1A-45AB-4E0A-9B72-06E4DA13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184E2-97AE-4390-B19B-22175EB51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D20E3-DDE6-4506-9CC5-D3AA32FC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584EB-5F01-4DC5-933F-3368E109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F63CC-CAE9-4CE2-A70D-FC9F1F54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3842A-8CCF-4085-A15C-4CF17833D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28E7E-1894-4078-AB63-57A369110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A991C-A342-41B2-B50A-9740D3C4D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56FF8-7FF7-4115-8B67-569CC84F1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863D1-28D7-47BD-94CD-F01C6090B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08CC1-5D74-4ABC-B6C6-CF04307F3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4AD8-0B15-4B7A-8D7E-08E3B3BF5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E1D8E-3EFE-42CA-9B2A-39638D1A9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015D3-6612-4943-97B6-50864508E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93923-D219-4F2F-851B-D9E47B3F5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33842-FD40-447A-912C-24342C4F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F32A7-D3A1-4F23-80C9-52390A96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5E6DB-D06F-47F7-AE40-54FCDCEC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6CEB2-98E2-43EF-8EF5-416747895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67D73-9E83-4BA7-A41F-DED79B4F2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5BA3A-6E3F-4391-B42E-1E6EB71F8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877DA-373F-428C-AC98-5D4116A10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F9E5-DADF-4403-ADBB-85E642E8E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53DDE-D4F0-40CE-8714-BF21EF3EC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57B05-F1D5-4A8A-9DC2-1FB5D5BA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305CD-ADE4-4D05-BDB5-6346BC400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DECD5-73E3-4E46-A007-CF63B9AAA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A14DD-2FD8-447A-B622-BB7C1ECE3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09A02-AB80-48DB-9096-8C6738BA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F35A0-A139-4A84-AA57-FA96E13A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6DF6F-E337-41B1-B687-C0E2E8EE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46493-7878-4360-B330-8D610A04A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07680-AD96-4AF5-8042-DEDF75595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63AF-70E2-4797-9F14-01FEB93C7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6B50B-52EB-4CF9-847A-4F0BAC78E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8AF60-45A6-4CE2-BC67-D979AE388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F0FD1-D8D6-4677-9C93-D7AF772E3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EC3BB-ADF1-430B-8B94-C917809CF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FDB81-FD91-4600-A4BB-BF6E1EC54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F7305-172F-4362-B836-D2E08271B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D6272-9DA9-491D-9610-FA5516EC4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A791B-EB2A-4DC0-9CC4-ADCE02AC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584F28-C92B-493A-8972-1A656638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0F9E9-8B70-4CA2-83D6-6C6AD0C2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C01B-AD1F-497C-B69E-0551E9EA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AC9B1E-1CF8-4A27-A85B-B3078A42A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A040B-7BC8-44CF-B9ED-C92995A82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B7BC3-3BE2-4A5E-8178-C1C38CC89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E8E1B0-633C-4E0D-8B03-3B94D9B61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D279B7-3322-42AF-A254-EC3D5E8EC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05F22F-CFFE-4F44-888E-F07B30D77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257547-50C6-41BA-89E8-2F464DC75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33B958-0281-457E-BC59-99EA83DCD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04EB9B-CF4B-4257-B5C5-272560F19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02F94B-A3DC-436B-9EB0-63655701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22C3-CDE4-4D94-A5EE-0C4DBD68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F15E03-6188-4B45-A000-5B9B90F4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C722C-D68C-49DD-9CEC-97303194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6B424C-6860-49BE-B1E9-F8C94E677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59863A-EBDC-4018-8299-8DD9168CB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6D8CE2-C711-43C4-82C5-BD72DCD96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791E41-ACD2-4F7B-9054-CA94F2E2E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848172-CBC3-4645-B516-9DF89C129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3F84F0-1768-45D6-9D30-0C78A654E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52192E-70C2-4F94-8899-88A7D3114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8E8355-DA18-41BA-BD7E-2797F0AA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02D4-D3DD-45AB-8434-CFA9BD4B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3DF48D-EA3D-481F-AB1D-48FD9C9DC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01AF31-DC6C-4509-B5C0-954BEF56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79371D-C908-4830-9913-B0673AE7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A2A6E6-F798-4C0C-BD1C-C43BAB86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32A95-2432-42B8-BF3F-656A5BC8C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140E80-2FF5-4624-8652-4F7127AE0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8D397D-8EDC-431F-AEFF-06D51D0DF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A1413A-B19F-4C12-AAFB-13D0047A6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F7DACB-9C73-45DD-AB81-C9F262545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E0A119-9C8A-4EE5-B813-8700FB5E7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yle/Bardi/Novack </a:t>
            </a:r>
            <a:r>
              <a:rPr b="0" i="1" lang="en-US" sz="1200" spc="-1" strike="noStrike">
                <a:solidFill>
                  <a:srgbClr val="898989"/>
                </a:solidFill>
                <a:latin typeface="Times New Roman"/>
              </a:rPr>
              <a:t>Transportation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 6e © 2006 Thom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614EF-0F56-4783-AD13-908F93A32C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yle/Bardi/Novack </a:t>
            </a:r>
            <a:r>
              <a:rPr b="0" i="1" lang="en-US" sz="1200" spc="-1" strike="noStrike">
                <a:solidFill>
                  <a:srgbClr val="898989"/>
                </a:solidFill>
                <a:latin typeface="Times New Roman"/>
              </a:rPr>
              <a:t>Transportation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 6e © 2006 Thom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CCC38-DF61-40DD-8672-D4B64D998A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yle/Bardi/Novack </a:t>
            </a:r>
            <a:r>
              <a:rPr b="0" i="1" lang="en-US" sz="1200" spc="-1" strike="noStrike">
                <a:solidFill>
                  <a:srgbClr val="898989"/>
                </a:solidFill>
                <a:latin typeface="Times New Roman"/>
              </a:rPr>
              <a:t>Transportation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 6e © 2006 Thom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51447-B49A-4197-A157-E98600CAD7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yle/Bardi/Novack </a:t>
            </a:r>
            <a:r>
              <a:rPr b="0" i="1" lang="en-US" sz="1200" spc="-1" strike="noStrike">
                <a:solidFill>
                  <a:srgbClr val="898989"/>
                </a:solidFill>
                <a:latin typeface="Times New Roman"/>
              </a:rPr>
              <a:t>Transportation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 6e © 2006 Thom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22896-7057-4D41-9C69-6DA46870DA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yle/Bardi/Novack </a:t>
            </a:r>
            <a:r>
              <a:rPr b="0" i="1" lang="en-US" sz="1200" spc="-1" strike="noStrike">
                <a:solidFill>
                  <a:srgbClr val="898989"/>
                </a:solidFill>
                <a:latin typeface="Times New Roman"/>
              </a:rPr>
              <a:t>Transportation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 6e © 2006 Thom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20C66-E3D1-4B23-B409-461E6B5D69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yle/Bardi/Novack </a:t>
            </a:r>
            <a:r>
              <a:rPr b="0" i="1" lang="en-US" sz="1200" spc="-1" strike="noStrike">
                <a:solidFill>
                  <a:srgbClr val="898989"/>
                </a:solidFill>
                <a:latin typeface="Times New Roman"/>
              </a:rPr>
              <a:t>Transportation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 6e © 2006 Thom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1123D-E5DC-4A0F-8B34-3023F7340F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yle/Bardi/Novack </a:t>
            </a:r>
            <a:r>
              <a:rPr b="0" i="1" lang="en-US" sz="1200" spc="-1" strike="noStrike">
                <a:solidFill>
                  <a:srgbClr val="898989"/>
                </a:solidFill>
                <a:latin typeface="Times New Roman"/>
              </a:rPr>
              <a:t>Transportation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 6e © 2006 Thom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80CFC-265F-4365-A4E8-E2CEA529D9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yle/Bardi/Novack </a:t>
            </a:r>
            <a:r>
              <a:rPr b="0" i="1" lang="en-US" sz="1200" spc="-1" strike="noStrike">
                <a:solidFill>
                  <a:srgbClr val="898989"/>
                </a:solidFill>
                <a:latin typeface="Times New Roman"/>
              </a:rPr>
              <a:t>Transportation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 6e © 2006 Thom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48A7-5D8A-4A92-9949-7D4F0CE7A9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yle/Bardi/Novack </a:t>
            </a:r>
            <a:r>
              <a:rPr b="0" i="1" lang="en-US" sz="1200" spc="-1" strike="noStrike">
                <a:solidFill>
                  <a:srgbClr val="898989"/>
                </a:solidFill>
                <a:latin typeface="Times New Roman"/>
              </a:rPr>
              <a:t>Transportation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 6e © 2006 Thom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7C6D1-5E06-4CFF-886E-03B9270766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yle/Bardi/Novack </a:t>
            </a:r>
            <a:r>
              <a:rPr b="0" i="1" lang="en-US" sz="1200" spc="-1" strike="noStrike">
                <a:solidFill>
                  <a:srgbClr val="898989"/>
                </a:solidFill>
                <a:latin typeface="Times New Roman"/>
              </a:rPr>
              <a:t>Transportation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 6e © 2006 Thom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B5973-13C7-4750-8330-6AC3ABAE8E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yle/Bardi/Novack </a:t>
            </a:r>
            <a:r>
              <a:rPr b="0" i="1" lang="en-US" sz="1200" spc="-1" strike="noStrike">
                <a:solidFill>
                  <a:srgbClr val="898989"/>
                </a:solidFill>
                <a:latin typeface="Times New Roman"/>
              </a:rPr>
              <a:t>Transportation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 6e © 2006 Thom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B7821-1FBC-47E5-A83F-958AE4A560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yle/Bardi/Novack </a:t>
            </a:r>
            <a:r>
              <a:rPr b="0" i="1" lang="en-US" sz="1200" spc="-1" strike="noStrike">
                <a:solidFill>
                  <a:srgbClr val="898989"/>
                </a:solidFill>
                <a:latin typeface="Times New Roman"/>
              </a:rPr>
              <a:t>Transportation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 6e © 2006 Thom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8E940-4D1A-4C68-99F5-4C1C5076CA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fmcsa.dot.gov/safety-security/eta/ETA-Oct-08-lowRes.pdf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local.yahoo.com/results?stx=motor+carriers&amp;csz=Seattle,+WA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980720" y="2514240"/>
            <a:ext cx="4876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Motor Carriers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1066680" y="3505320"/>
            <a:ext cx="68580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Transportation and Distrib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LOG 10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1" name="Picture 6" descr="Picture1.png"/>
          <p:cNvPicPr/>
          <p:nvPr/>
        </p:nvPicPr>
        <p:blipFill>
          <a:blip r:embed="rId1"/>
          <a:stretch/>
        </p:blipFill>
        <p:spPr>
          <a:xfrm>
            <a:off x="380880" y="1143000"/>
            <a:ext cx="853452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dustry Overview, cont’d</a:t>
            </a:r>
            <a:br>
              <a:rPr sz="4000"/>
            </a:b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Number of Carrier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837720" y="159984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rge number of relatively small carri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with 6 or fewer vehi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mbers vary significantly by sec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ry large number of TL carri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w capital requirements for entry into T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ch smaller number of LTL carri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igh capital requirements for LTL due to terminal network and pick-up and delivery fle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lanation of LTL ope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ellow dominates national LTL mark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yle/Bardi/Novack </a:t>
            </a:r>
            <a:r>
              <a:rPr b="0" i="1" lang="en-US" sz="1200" spc="-1" strike="noStrike">
                <a:solidFill>
                  <a:srgbClr val="898989"/>
                </a:solidFill>
                <a:latin typeface="Times New Roman"/>
              </a:rPr>
              <a:t>Transportation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 6e © 2006 Thom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293C4-E5E1-4452-B07E-C7FBC3BE98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ucking Pro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0" name=""/>
          <p:cNvGraphicFramePr/>
          <p:nvPr/>
        </p:nvGraphicFramePr>
        <p:xfrm>
          <a:off x="457200" y="1143000"/>
          <a:ext cx="8229600" cy="4821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 of trucking fi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fir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riger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nk Carri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ving/Household go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avy equip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ral freight - sm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ral freight  - medium-siz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ral freight - l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ral freight – LT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lk materials – non-tan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 - sm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 medium-siz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 - l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31" name="TextBox 4"/>
          <p:cNvSpPr/>
          <p:nvPr/>
        </p:nvSpPr>
        <p:spPr>
          <a:xfrm>
            <a:off x="228600" y="6172200"/>
            <a:ext cx="8534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OTOR CARRIER INDUSTRY PROFILE: STRUCTURE, OPERATIONS, AND FINANCIAL PERFORMANCE OF MAJOR SEGMENTS, May 2000, Prepared for the Federal Highway Administration, Federal Motor Carrier Safety Administration,U.S. Department of Transportation,Washington, D.C.,DTFH61-98-X-00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neral Service Characteris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ffers highest Accessibility of any mo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an serve virtually any loc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ot constrained by waterways, rail tracks, or airport loc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lmost every shipping &amp; receiving location is accessible via highway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neral Service Characteris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pe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 loads traveling less than 500 miles, usually can deliver in less time than any other m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ven over 500 miles, can be, in the right situation, faster than ai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 example, shipment traveling 600 mi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uck = 12 hours (600 miles @ 50 mph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ir could take up to 24 hou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light time = 1 ½ hou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3 hours needed for pickup and another 3 for deliver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f only 1 flight per day is scheduled, shipment might have to wait 24 hours before it lifts off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neral Service Characteris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go-Carrying Capa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ough smaller than many other modes, shippers can enjoy the TL rate (volume discount) with a lower volu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st TL minimums set at 20,000 – 30,000 lb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il carload minimums are often set at 40,000 – 60,000 lb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rge (water) minimums are set in terms of hundreds of t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maller shipping size provides buyers and sellers wit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wer inventory lev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wer inventory-carry co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re frequent serv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neral Service Characteris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moothness of Trans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iven the suspension system and pneumatic tires used on trucks, motor carriers offer smoother rides than rail or wa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ults in less damage to the cargo (though some does occu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ss damage results in reduced packaging requirements and thus packaging co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stomer Foc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it’s very nature, the industry tends to be more customer- or marketing-orien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ue in large part to the small size of most carriers must offer higher service to compe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yle/Bardi/Novack </a:t>
            </a:r>
            <a:r>
              <a:rPr b="0" i="1" lang="en-US" sz="1200" spc="-1" strike="noStrike">
                <a:solidFill>
                  <a:srgbClr val="898989"/>
                </a:solidFill>
                <a:latin typeface="Times New Roman"/>
              </a:rPr>
              <a:t>Transportation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 6e © 2006 Thom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35F9B-F4F4-49DB-A500-149DB9D522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Picture 2" descr="E:\0-324-20214-8\Figures\Caption Callouts\03ch02148bmp\Fig03-04.bmp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s of Motor Carri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22860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-hir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ovides services to the public &amp; charges a fee for the servi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ocal vs. Intercity Operato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cal carriers pick up &amp; deliver freight within the commercial zone of a 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city carriers operate between specifically defined commercial zon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wo often work in conj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s of Motor Carri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ivate Carrier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ovides a service to the industry or a company that owns or leases the vehicles, but does not charge a fe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s of Motor Carri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22860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empt Carrier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pecifically exempt from economic regul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ains this status b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ype of commodity hauled (I.e., agricultural commoditi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ure of its ope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 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 factors influence transportation mode selectio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ransportation cos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ventory carrying cos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peed/In-transit tim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livery reliabil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ustomer servi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ub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eigh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mmod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hemical composi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des selection matches the requirements of the shipment with the characteristics of the transportation mo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nimize logistics costs while satisfying due date requirements of the shi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2F147-C3CD-4BDF-A6D6-8FA5C43A01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s of Motor Carri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mmon Carri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quired to serve the general public upon demand, at reasonable rates, &amp; without discrimin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ntract Carri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rvice specific shippers with whom the carriers have a continuing contra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us, typically not available for public 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s of Motor Carri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22860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uckload (TL) Carri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 service to shippers who tender sufficient volume to meet the minimum weights required for a full truckload shipment and TL rate (or who will pay the required amount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s-than-Truckload (LTL) Carri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 service to shippers who tender shipments lower than minimum truckload quantities, such as 50 to 10,000 lb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olidate numerous smaller shipments into TL quantities for Intercity trans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aggregate TL shipments at destination for delivery in smaller quantiti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urrent Issues</a:t>
            </a:r>
            <a:br>
              <a:rPr sz="4000"/>
            </a:b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afety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761760" y="1523520"/>
            <a:ext cx="78483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d safety - improved profit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MCSA rules for motor carrier safety fitness inspe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dings affect shipper selection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stance abuse programs and tes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ours-of-service and driver fatig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hicle size and weight concer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8244A-6654-4798-9FC9-C9BF8CFF78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rent Issues,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83772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chnology: Impact of satellite techn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PS systems for vehicle trac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board computers for commun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hancement of environmental safe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tain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E7848-9783-47E4-9CDF-A83F36224B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9" name=""/>
          <p:cNvGraphicFramePr/>
          <p:nvPr/>
        </p:nvGraphicFramePr>
        <p:xfrm>
          <a:off x="5257800" y="990720"/>
          <a:ext cx="3048120" cy="5155920"/>
        </p:xfrm>
        <a:graphic>
          <a:graphicData uri="http://schemas.openxmlformats.org/drawingml/2006/table">
            <a:tbl>
              <a:tblPr/>
              <a:tblGrid>
                <a:gridCol w="457200"/>
                <a:gridCol w="2590920"/>
              </a:tblGrid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imary Areas of Benef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enue Enhanc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 Red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d Customer Serv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d Asset Util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ste Red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ergy Effici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ission Red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el Conserv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 Environmental Conserv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cial impact Reduction (noise, congestion, heal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60" name="TextBox 4"/>
          <p:cNvSpPr/>
          <p:nvPr/>
        </p:nvSpPr>
        <p:spPr>
          <a:xfrm>
            <a:off x="533520" y="1219320"/>
            <a:ext cx="38862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age lifecycle performance of delivery fl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  a fuel-efficient fl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 regular preventive fleet mainten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 driver training on fuel efficient driving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e unnecessary idling of delivery vehi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 policies to reduce maximum vehicle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Multiply 5"/>
          <p:cNvSpPr/>
          <p:nvPr/>
        </p:nvSpPr>
        <p:spPr>
          <a:xfrm>
            <a:off x="5334120" y="1676520"/>
            <a:ext cx="304560" cy="380880"/>
          </a:xfrm>
          <a:custGeom>
            <a:avLst/>
            <a:gdLst>
              <a:gd name="textAreaLeft" fmla="*/ 45000 w 304560"/>
              <a:gd name="textAreaRight" fmla="*/ 259560 w 304560"/>
              <a:gd name="textAreaTop" fmla="*/ 69120 h 380880"/>
              <a:gd name="textAreaBottom" fmla="*/ 311760 h 380880"/>
            </a:gdLst>
            <a:ahLst/>
            <a:rect l="textAreaLeft" t="textAreaTop" r="textAreaRight" b="textAreaBottom"/>
            <a:pathLst>
              <a:path w="304800" h="381000">
                <a:moveTo>
                  <a:pt x="45216" y="113899"/>
                </a:moveTo>
                <a:lnTo>
                  <a:pt x="101195" y="69115"/>
                </a:lnTo>
                <a:lnTo>
                  <a:pt x="152400" y="133121"/>
                </a:lnTo>
                <a:lnTo>
                  <a:pt x="203605" y="69115"/>
                </a:lnTo>
                <a:lnTo>
                  <a:pt x="259584" y="113899"/>
                </a:lnTo>
                <a:lnTo>
                  <a:pt x="198303" y="190500"/>
                </a:lnTo>
                <a:lnTo>
                  <a:pt x="259584" y="267101"/>
                </a:lnTo>
                <a:lnTo>
                  <a:pt x="203605" y="311885"/>
                </a:lnTo>
                <a:lnTo>
                  <a:pt x="152400" y="247879"/>
                </a:lnTo>
                <a:lnTo>
                  <a:pt x="101195" y="311885"/>
                </a:lnTo>
                <a:lnTo>
                  <a:pt x="45216" y="267101"/>
                </a:lnTo>
                <a:lnTo>
                  <a:pt x="106497" y="1905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Multiply 6"/>
          <p:cNvSpPr/>
          <p:nvPr/>
        </p:nvSpPr>
        <p:spPr>
          <a:xfrm>
            <a:off x="5334120" y="2286000"/>
            <a:ext cx="304560" cy="380880"/>
          </a:xfrm>
          <a:custGeom>
            <a:avLst/>
            <a:gdLst>
              <a:gd name="textAreaLeft" fmla="*/ 45000 w 304560"/>
              <a:gd name="textAreaRight" fmla="*/ 259560 w 304560"/>
              <a:gd name="textAreaTop" fmla="*/ 69120 h 380880"/>
              <a:gd name="textAreaBottom" fmla="*/ 311760 h 380880"/>
            </a:gdLst>
            <a:ahLst/>
            <a:rect l="textAreaLeft" t="textAreaTop" r="textAreaRight" b="textAreaBottom"/>
            <a:pathLst>
              <a:path w="304800" h="381000">
                <a:moveTo>
                  <a:pt x="45216" y="113899"/>
                </a:moveTo>
                <a:lnTo>
                  <a:pt x="101195" y="69115"/>
                </a:lnTo>
                <a:lnTo>
                  <a:pt x="152400" y="133121"/>
                </a:lnTo>
                <a:lnTo>
                  <a:pt x="203605" y="69115"/>
                </a:lnTo>
                <a:lnTo>
                  <a:pt x="259584" y="113899"/>
                </a:lnTo>
                <a:lnTo>
                  <a:pt x="198303" y="190500"/>
                </a:lnTo>
                <a:lnTo>
                  <a:pt x="259584" y="267101"/>
                </a:lnTo>
                <a:lnTo>
                  <a:pt x="203605" y="311885"/>
                </a:lnTo>
                <a:lnTo>
                  <a:pt x="152400" y="247879"/>
                </a:lnTo>
                <a:lnTo>
                  <a:pt x="101195" y="311885"/>
                </a:lnTo>
                <a:lnTo>
                  <a:pt x="45216" y="267101"/>
                </a:lnTo>
                <a:lnTo>
                  <a:pt x="106497" y="1905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Multiply 7"/>
          <p:cNvSpPr/>
          <p:nvPr/>
        </p:nvSpPr>
        <p:spPr>
          <a:xfrm>
            <a:off x="5334120" y="2895480"/>
            <a:ext cx="304560" cy="381240"/>
          </a:xfrm>
          <a:custGeom>
            <a:avLst/>
            <a:gdLst>
              <a:gd name="textAreaLeft" fmla="*/ 45000 w 304560"/>
              <a:gd name="textAreaRight" fmla="*/ 259560 w 304560"/>
              <a:gd name="textAreaTop" fmla="*/ 69120 h 381240"/>
              <a:gd name="textAreaBottom" fmla="*/ 312120 h 381240"/>
            </a:gdLst>
            <a:ahLst/>
            <a:rect l="textAreaLeft" t="textAreaTop" r="textAreaRight" b="textAreaBottom"/>
            <a:pathLst>
              <a:path w="304800" h="381000">
                <a:moveTo>
                  <a:pt x="45216" y="113899"/>
                </a:moveTo>
                <a:lnTo>
                  <a:pt x="101195" y="69115"/>
                </a:lnTo>
                <a:lnTo>
                  <a:pt x="152400" y="133121"/>
                </a:lnTo>
                <a:lnTo>
                  <a:pt x="203605" y="69115"/>
                </a:lnTo>
                <a:lnTo>
                  <a:pt x="259584" y="113899"/>
                </a:lnTo>
                <a:lnTo>
                  <a:pt x="198303" y="190500"/>
                </a:lnTo>
                <a:lnTo>
                  <a:pt x="259584" y="267101"/>
                </a:lnTo>
                <a:lnTo>
                  <a:pt x="203605" y="311885"/>
                </a:lnTo>
                <a:lnTo>
                  <a:pt x="152400" y="247879"/>
                </a:lnTo>
                <a:lnTo>
                  <a:pt x="101195" y="311885"/>
                </a:lnTo>
                <a:lnTo>
                  <a:pt x="45216" y="267101"/>
                </a:lnTo>
                <a:lnTo>
                  <a:pt x="106497" y="1905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Multiply 8"/>
          <p:cNvSpPr/>
          <p:nvPr/>
        </p:nvSpPr>
        <p:spPr>
          <a:xfrm>
            <a:off x="5334120" y="4114800"/>
            <a:ext cx="304560" cy="380880"/>
          </a:xfrm>
          <a:custGeom>
            <a:avLst/>
            <a:gdLst>
              <a:gd name="textAreaLeft" fmla="*/ 45000 w 304560"/>
              <a:gd name="textAreaRight" fmla="*/ 259560 w 304560"/>
              <a:gd name="textAreaTop" fmla="*/ 69120 h 380880"/>
              <a:gd name="textAreaBottom" fmla="*/ 311760 h 380880"/>
            </a:gdLst>
            <a:ahLst/>
            <a:rect l="textAreaLeft" t="textAreaTop" r="textAreaRight" b="textAreaBottom"/>
            <a:pathLst>
              <a:path w="304800" h="381000">
                <a:moveTo>
                  <a:pt x="45216" y="113899"/>
                </a:moveTo>
                <a:lnTo>
                  <a:pt x="101195" y="69115"/>
                </a:lnTo>
                <a:lnTo>
                  <a:pt x="152400" y="133121"/>
                </a:lnTo>
                <a:lnTo>
                  <a:pt x="203605" y="69115"/>
                </a:lnTo>
                <a:lnTo>
                  <a:pt x="259584" y="113899"/>
                </a:lnTo>
                <a:lnTo>
                  <a:pt x="198303" y="190500"/>
                </a:lnTo>
                <a:lnTo>
                  <a:pt x="259584" y="267101"/>
                </a:lnTo>
                <a:lnTo>
                  <a:pt x="203605" y="311885"/>
                </a:lnTo>
                <a:lnTo>
                  <a:pt x="152400" y="247879"/>
                </a:lnTo>
                <a:lnTo>
                  <a:pt x="101195" y="311885"/>
                </a:lnTo>
                <a:lnTo>
                  <a:pt x="45216" y="267101"/>
                </a:lnTo>
                <a:lnTo>
                  <a:pt x="106497" y="1905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Multiply 9"/>
          <p:cNvSpPr/>
          <p:nvPr/>
        </p:nvSpPr>
        <p:spPr>
          <a:xfrm>
            <a:off x="5334120" y="4495680"/>
            <a:ext cx="304560" cy="381240"/>
          </a:xfrm>
          <a:custGeom>
            <a:avLst/>
            <a:gdLst>
              <a:gd name="textAreaLeft" fmla="*/ 45000 w 304560"/>
              <a:gd name="textAreaRight" fmla="*/ 259560 w 304560"/>
              <a:gd name="textAreaTop" fmla="*/ 69120 h 381240"/>
              <a:gd name="textAreaBottom" fmla="*/ 312120 h 381240"/>
            </a:gdLst>
            <a:ahLst/>
            <a:rect l="textAreaLeft" t="textAreaTop" r="textAreaRight" b="textAreaBottom"/>
            <a:pathLst>
              <a:path w="304800" h="381000">
                <a:moveTo>
                  <a:pt x="45216" y="113899"/>
                </a:moveTo>
                <a:lnTo>
                  <a:pt x="101195" y="69115"/>
                </a:lnTo>
                <a:lnTo>
                  <a:pt x="152400" y="133121"/>
                </a:lnTo>
                <a:lnTo>
                  <a:pt x="203605" y="69115"/>
                </a:lnTo>
                <a:lnTo>
                  <a:pt x="259584" y="113899"/>
                </a:lnTo>
                <a:lnTo>
                  <a:pt x="198303" y="190500"/>
                </a:lnTo>
                <a:lnTo>
                  <a:pt x="259584" y="267101"/>
                </a:lnTo>
                <a:lnTo>
                  <a:pt x="203605" y="311885"/>
                </a:lnTo>
                <a:lnTo>
                  <a:pt x="152400" y="247879"/>
                </a:lnTo>
                <a:lnTo>
                  <a:pt x="101195" y="311885"/>
                </a:lnTo>
                <a:lnTo>
                  <a:pt x="45216" y="267101"/>
                </a:lnTo>
                <a:lnTo>
                  <a:pt x="106497" y="1905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Multiply 10"/>
          <p:cNvSpPr/>
          <p:nvPr/>
        </p:nvSpPr>
        <p:spPr>
          <a:xfrm>
            <a:off x="5334120" y="5638680"/>
            <a:ext cx="304560" cy="381240"/>
          </a:xfrm>
          <a:custGeom>
            <a:avLst/>
            <a:gdLst>
              <a:gd name="textAreaLeft" fmla="*/ 45000 w 304560"/>
              <a:gd name="textAreaRight" fmla="*/ 259560 w 304560"/>
              <a:gd name="textAreaTop" fmla="*/ 69120 h 381240"/>
              <a:gd name="textAreaBottom" fmla="*/ 312120 h 381240"/>
            </a:gdLst>
            <a:ahLst/>
            <a:rect l="textAreaLeft" t="textAreaTop" r="textAreaRight" b="textAreaBottom"/>
            <a:pathLst>
              <a:path w="304800" h="381000">
                <a:moveTo>
                  <a:pt x="45216" y="113899"/>
                </a:moveTo>
                <a:lnTo>
                  <a:pt x="101195" y="69115"/>
                </a:lnTo>
                <a:lnTo>
                  <a:pt x="152400" y="133121"/>
                </a:lnTo>
                <a:lnTo>
                  <a:pt x="203605" y="69115"/>
                </a:lnTo>
                <a:lnTo>
                  <a:pt x="259584" y="113899"/>
                </a:lnTo>
                <a:lnTo>
                  <a:pt x="198303" y="190500"/>
                </a:lnTo>
                <a:lnTo>
                  <a:pt x="259584" y="267101"/>
                </a:lnTo>
                <a:lnTo>
                  <a:pt x="203605" y="311885"/>
                </a:lnTo>
                <a:lnTo>
                  <a:pt x="152400" y="247879"/>
                </a:lnTo>
                <a:lnTo>
                  <a:pt x="101195" y="311885"/>
                </a:lnTo>
                <a:lnTo>
                  <a:pt x="45216" y="267101"/>
                </a:lnTo>
                <a:lnTo>
                  <a:pt x="106497" y="1905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11"/>
          <p:cNvSpPr/>
          <p:nvPr/>
        </p:nvSpPr>
        <p:spPr>
          <a:xfrm>
            <a:off x="1523880" y="45720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stainable Logistics Practice - Transpor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8" name=""/>
          <p:cNvGraphicFramePr/>
          <p:nvPr/>
        </p:nvGraphicFramePr>
        <p:xfrm>
          <a:off x="5257800" y="990720"/>
          <a:ext cx="3048120" cy="5155920"/>
        </p:xfrm>
        <a:graphic>
          <a:graphicData uri="http://schemas.openxmlformats.org/drawingml/2006/table">
            <a:tbl>
              <a:tblPr/>
              <a:tblGrid>
                <a:gridCol w="457200"/>
                <a:gridCol w="2590920"/>
              </a:tblGrid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imary Areas of Benef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enue Enhanc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 Red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d Customer Serv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d Asset Util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ste Red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ergy Effici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ission Red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el Conserv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 Environmental Conserv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cial impact Reduction (noise, congestion, heal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69" name="TextBox 4"/>
          <p:cNvSpPr/>
          <p:nvPr/>
        </p:nvSpPr>
        <p:spPr>
          <a:xfrm>
            <a:off x="533520" y="1447920"/>
            <a:ext cx="3886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ift to modes or equipment that use less fossil fu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ift to more fuel-efficient modes of transpor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alternative energy if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Multiply 5"/>
          <p:cNvSpPr/>
          <p:nvPr/>
        </p:nvSpPr>
        <p:spPr>
          <a:xfrm>
            <a:off x="5334120" y="5029200"/>
            <a:ext cx="304560" cy="380880"/>
          </a:xfrm>
          <a:custGeom>
            <a:avLst/>
            <a:gdLst>
              <a:gd name="textAreaLeft" fmla="*/ 45000 w 304560"/>
              <a:gd name="textAreaRight" fmla="*/ 259560 w 304560"/>
              <a:gd name="textAreaTop" fmla="*/ 69120 h 380880"/>
              <a:gd name="textAreaBottom" fmla="*/ 311760 h 380880"/>
            </a:gdLst>
            <a:ahLst/>
            <a:rect l="textAreaLeft" t="textAreaTop" r="textAreaRight" b="textAreaBottom"/>
            <a:pathLst>
              <a:path w="304800" h="381000">
                <a:moveTo>
                  <a:pt x="45216" y="113899"/>
                </a:moveTo>
                <a:lnTo>
                  <a:pt x="101195" y="69115"/>
                </a:lnTo>
                <a:lnTo>
                  <a:pt x="152400" y="133121"/>
                </a:lnTo>
                <a:lnTo>
                  <a:pt x="203605" y="69115"/>
                </a:lnTo>
                <a:lnTo>
                  <a:pt x="259584" y="113899"/>
                </a:lnTo>
                <a:lnTo>
                  <a:pt x="198303" y="190500"/>
                </a:lnTo>
                <a:lnTo>
                  <a:pt x="259584" y="267101"/>
                </a:lnTo>
                <a:lnTo>
                  <a:pt x="203605" y="311885"/>
                </a:lnTo>
                <a:lnTo>
                  <a:pt x="152400" y="247879"/>
                </a:lnTo>
                <a:lnTo>
                  <a:pt x="101195" y="311885"/>
                </a:lnTo>
                <a:lnTo>
                  <a:pt x="45216" y="267101"/>
                </a:lnTo>
                <a:lnTo>
                  <a:pt x="106497" y="1905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Multiply 6"/>
          <p:cNvSpPr/>
          <p:nvPr/>
        </p:nvSpPr>
        <p:spPr>
          <a:xfrm>
            <a:off x="5334120" y="4114800"/>
            <a:ext cx="304560" cy="380880"/>
          </a:xfrm>
          <a:custGeom>
            <a:avLst/>
            <a:gdLst>
              <a:gd name="textAreaLeft" fmla="*/ 45000 w 304560"/>
              <a:gd name="textAreaRight" fmla="*/ 259560 w 304560"/>
              <a:gd name="textAreaTop" fmla="*/ 69120 h 380880"/>
              <a:gd name="textAreaBottom" fmla="*/ 311760 h 380880"/>
            </a:gdLst>
            <a:ahLst/>
            <a:rect l="textAreaLeft" t="textAreaTop" r="textAreaRight" b="textAreaBottom"/>
            <a:pathLst>
              <a:path w="304800" h="381000">
                <a:moveTo>
                  <a:pt x="45216" y="113899"/>
                </a:moveTo>
                <a:lnTo>
                  <a:pt x="101195" y="69115"/>
                </a:lnTo>
                <a:lnTo>
                  <a:pt x="152400" y="133121"/>
                </a:lnTo>
                <a:lnTo>
                  <a:pt x="203605" y="69115"/>
                </a:lnTo>
                <a:lnTo>
                  <a:pt x="259584" y="113899"/>
                </a:lnTo>
                <a:lnTo>
                  <a:pt x="198303" y="190500"/>
                </a:lnTo>
                <a:lnTo>
                  <a:pt x="259584" y="267101"/>
                </a:lnTo>
                <a:lnTo>
                  <a:pt x="203605" y="311885"/>
                </a:lnTo>
                <a:lnTo>
                  <a:pt x="152400" y="247879"/>
                </a:lnTo>
                <a:lnTo>
                  <a:pt x="101195" y="311885"/>
                </a:lnTo>
                <a:lnTo>
                  <a:pt x="45216" y="267101"/>
                </a:lnTo>
                <a:lnTo>
                  <a:pt x="106497" y="1905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Multiply 7"/>
          <p:cNvSpPr/>
          <p:nvPr/>
        </p:nvSpPr>
        <p:spPr>
          <a:xfrm>
            <a:off x="5334120" y="4495680"/>
            <a:ext cx="304560" cy="381240"/>
          </a:xfrm>
          <a:custGeom>
            <a:avLst/>
            <a:gdLst>
              <a:gd name="textAreaLeft" fmla="*/ 45000 w 304560"/>
              <a:gd name="textAreaRight" fmla="*/ 259560 w 304560"/>
              <a:gd name="textAreaTop" fmla="*/ 69120 h 381240"/>
              <a:gd name="textAreaBottom" fmla="*/ 312120 h 381240"/>
            </a:gdLst>
            <a:ahLst/>
            <a:rect l="textAreaLeft" t="textAreaTop" r="textAreaRight" b="textAreaBottom"/>
            <a:pathLst>
              <a:path w="304800" h="381000">
                <a:moveTo>
                  <a:pt x="45216" y="113899"/>
                </a:moveTo>
                <a:lnTo>
                  <a:pt x="101195" y="69115"/>
                </a:lnTo>
                <a:lnTo>
                  <a:pt x="152400" y="133121"/>
                </a:lnTo>
                <a:lnTo>
                  <a:pt x="203605" y="69115"/>
                </a:lnTo>
                <a:lnTo>
                  <a:pt x="259584" y="113899"/>
                </a:lnTo>
                <a:lnTo>
                  <a:pt x="198303" y="190500"/>
                </a:lnTo>
                <a:lnTo>
                  <a:pt x="259584" y="267101"/>
                </a:lnTo>
                <a:lnTo>
                  <a:pt x="203605" y="311885"/>
                </a:lnTo>
                <a:lnTo>
                  <a:pt x="152400" y="247879"/>
                </a:lnTo>
                <a:lnTo>
                  <a:pt x="101195" y="311885"/>
                </a:lnTo>
                <a:lnTo>
                  <a:pt x="45216" y="267101"/>
                </a:lnTo>
                <a:lnTo>
                  <a:pt x="106497" y="1905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Multiply 8"/>
          <p:cNvSpPr/>
          <p:nvPr/>
        </p:nvSpPr>
        <p:spPr>
          <a:xfrm>
            <a:off x="5334120" y="1752480"/>
            <a:ext cx="304560" cy="381240"/>
          </a:xfrm>
          <a:custGeom>
            <a:avLst/>
            <a:gdLst>
              <a:gd name="textAreaLeft" fmla="*/ 45000 w 304560"/>
              <a:gd name="textAreaRight" fmla="*/ 259560 w 304560"/>
              <a:gd name="textAreaTop" fmla="*/ 69120 h 381240"/>
              <a:gd name="textAreaBottom" fmla="*/ 312120 h 381240"/>
            </a:gdLst>
            <a:ahLst/>
            <a:rect l="textAreaLeft" t="textAreaTop" r="textAreaRight" b="textAreaBottom"/>
            <a:pathLst>
              <a:path w="304800" h="381000">
                <a:moveTo>
                  <a:pt x="45216" y="113899"/>
                </a:moveTo>
                <a:lnTo>
                  <a:pt x="101195" y="69115"/>
                </a:lnTo>
                <a:lnTo>
                  <a:pt x="152400" y="133121"/>
                </a:lnTo>
                <a:lnTo>
                  <a:pt x="203605" y="69115"/>
                </a:lnTo>
                <a:lnTo>
                  <a:pt x="259584" y="113899"/>
                </a:lnTo>
                <a:lnTo>
                  <a:pt x="198303" y="190500"/>
                </a:lnTo>
                <a:lnTo>
                  <a:pt x="259584" y="267101"/>
                </a:lnTo>
                <a:lnTo>
                  <a:pt x="203605" y="311885"/>
                </a:lnTo>
                <a:lnTo>
                  <a:pt x="152400" y="247879"/>
                </a:lnTo>
                <a:lnTo>
                  <a:pt x="101195" y="311885"/>
                </a:lnTo>
                <a:lnTo>
                  <a:pt x="45216" y="267101"/>
                </a:lnTo>
                <a:lnTo>
                  <a:pt x="106497" y="1905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Multiply 9"/>
          <p:cNvSpPr/>
          <p:nvPr/>
        </p:nvSpPr>
        <p:spPr>
          <a:xfrm>
            <a:off x="5334120" y="5638680"/>
            <a:ext cx="304560" cy="381240"/>
          </a:xfrm>
          <a:custGeom>
            <a:avLst/>
            <a:gdLst>
              <a:gd name="textAreaLeft" fmla="*/ 45000 w 304560"/>
              <a:gd name="textAreaRight" fmla="*/ 259560 w 304560"/>
              <a:gd name="textAreaTop" fmla="*/ 69120 h 381240"/>
              <a:gd name="textAreaBottom" fmla="*/ 312120 h 381240"/>
            </a:gdLst>
            <a:ahLst/>
            <a:rect l="textAreaLeft" t="textAreaTop" r="textAreaRight" b="textAreaBottom"/>
            <a:pathLst>
              <a:path w="304800" h="381000">
                <a:moveTo>
                  <a:pt x="45216" y="113899"/>
                </a:moveTo>
                <a:lnTo>
                  <a:pt x="101195" y="69115"/>
                </a:lnTo>
                <a:lnTo>
                  <a:pt x="152400" y="133121"/>
                </a:lnTo>
                <a:lnTo>
                  <a:pt x="203605" y="69115"/>
                </a:lnTo>
                <a:lnTo>
                  <a:pt x="259584" y="113899"/>
                </a:lnTo>
                <a:lnTo>
                  <a:pt x="198303" y="190500"/>
                </a:lnTo>
                <a:lnTo>
                  <a:pt x="259584" y="267101"/>
                </a:lnTo>
                <a:lnTo>
                  <a:pt x="203605" y="311885"/>
                </a:lnTo>
                <a:lnTo>
                  <a:pt x="152400" y="247879"/>
                </a:lnTo>
                <a:lnTo>
                  <a:pt x="101195" y="311885"/>
                </a:lnTo>
                <a:lnTo>
                  <a:pt x="45216" y="267101"/>
                </a:lnTo>
                <a:lnTo>
                  <a:pt x="106497" y="1905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10"/>
          <p:cNvSpPr/>
          <p:nvPr/>
        </p:nvSpPr>
        <p:spPr>
          <a:xfrm>
            <a:off x="1981080" y="38088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stainable Logistics Practice - Transpor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6" name=""/>
          <p:cNvGraphicFramePr/>
          <p:nvPr/>
        </p:nvGraphicFramePr>
        <p:xfrm>
          <a:off x="5257800" y="990720"/>
          <a:ext cx="3048120" cy="5155920"/>
        </p:xfrm>
        <a:graphic>
          <a:graphicData uri="http://schemas.openxmlformats.org/drawingml/2006/table">
            <a:tbl>
              <a:tblPr/>
              <a:tblGrid>
                <a:gridCol w="457200"/>
                <a:gridCol w="2590920"/>
              </a:tblGrid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imary Areas of Benef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enue Enhanc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 Red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d Customer Serv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d Asset Util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ste Red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ergy Effici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ission Red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el Conserv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 Environmental Conserv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cial impact Reduction (noie, congestion, heal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77" name="TextBox 4"/>
          <p:cNvSpPr/>
          <p:nvPr/>
        </p:nvSpPr>
        <p:spPr>
          <a:xfrm>
            <a:off x="609480" y="1143000"/>
            <a:ext cx="3886200" cy="85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timize transportation loads and ro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oid unnecessary packa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load-planning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 bi-directional 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route planning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delivery times to avoid cong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with local suppliers to reduce transport dist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luence suppliers modes, loading and ro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Multiply 6"/>
          <p:cNvSpPr/>
          <p:nvPr/>
        </p:nvSpPr>
        <p:spPr>
          <a:xfrm>
            <a:off x="5334120" y="1676520"/>
            <a:ext cx="304560" cy="380880"/>
          </a:xfrm>
          <a:custGeom>
            <a:avLst/>
            <a:gdLst>
              <a:gd name="textAreaLeft" fmla="*/ 45000 w 304560"/>
              <a:gd name="textAreaRight" fmla="*/ 259560 w 304560"/>
              <a:gd name="textAreaTop" fmla="*/ 69120 h 380880"/>
              <a:gd name="textAreaBottom" fmla="*/ 311760 h 380880"/>
            </a:gdLst>
            <a:ahLst/>
            <a:rect l="textAreaLeft" t="textAreaTop" r="textAreaRight" b="textAreaBottom"/>
            <a:pathLst>
              <a:path w="304800" h="381000">
                <a:moveTo>
                  <a:pt x="45216" y="113899"/>
                </a:moveTo>
                <a:lnTo>
                  <a:pt x="101195" y="69115"/>
                </a:lnTo>
                <a:lnTo>
                  <a:pt x="152400" y="133121"/>
                </a:lnTo>
                <a:lnTo>
                  <a:pt x="203605" y="69115"/>
                </a:lnTo>
                <a:lnTo>
                  <a:pt x="259584" y="113899"/>
                </a:lnTo>
                <a:lnTo>
                  <a:pt x="198303" y="190500"/>
                </a:lnTo>
                <a:lnTo>
                  <a:pt x="259584" y="267101"/>
                </a:lnTo>
                <a:lnTo>
                  <a:pt x="203605" y="311885"/>
                </a:lnTo>
                <a:lnTo>
                  <a:pt x="152400" y="247879"/>
                </a:lnTo>
                <a:lnTo>
                  <a:pt x="101195" y="311885"/>
                </a:lnTo>
                <a:lnTo>
                  <a:pt x="45216" y="267101"/>
                </a:lnTo>
                <a:lnTo>
                  <a:pt x="106497" y="1905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Multiply 7"/>
          <p:cNvSpPr/>
          <p:nvPr/>
        </p:nvSpPr>
        <p:spPr>
          <a:xfrm>
            <a:off x="5334120" y="2286000"/>
            <a:ext cx="304560" cy="380880"/>
          </a:xfrm>
          <a:custGeom>
            <a:avLst/>
            <a:gdLst>
              <a:gd name="textAreaLeft" fmla="*/ 45000 w 304560"/>
              <a:gd name="textAreaRight" fmla="*/ 259560 w 304560"/>
              <a:gd name="textAreaTop" fmla="*/ 69120 h 380880"/>
              <a:gd name="textAreaBottom" fmla="*/ 311760 h 380880"/>
            </a:gdLst>
            <a:ahLst/>
            <a:rect l="textAreaLeft" t="textAreaTop" r="textAreaRight" b="textAreaBottom"/>
            <a:pathLst>
              <a:path w="304800" h="381000">
                <a:moveTo>
                  <a:pt x="45216" y="113899"/>
                </a:moveTo>
                <a:lnTo>
                  <a:pt x="101195" y="69115"/>
                </a:lnTo>
                <a:lnTo>
                  <a:pt x="152400" y="133121"/>
                </a:lnTo>
                <a:lnTo>
                  <a:pt x="203605" y="69115"/>
                </a:lnTo>
                <a:lnTo>
                  <a:pt x="259584" y="113899"/>
                </a:lnTo>
                <a:lnTo>
                  <a:pt x="198303" y="190500"/>
                </a:lnTo>
                <a:lnTo>
                  <a:pt x="259584" y="267101"/>
                </a:lnTo>
                <a:lnTo>
                  <a:pt x="203605" y="311885"/>
                </a:lnTo>
                <a:lnTo>
                  <a:pt x="152400" y="247879"/>
                </a:lnTo>
                <a:lnTo>
                  <a:pt x="101195" y="311885"/>
                </a:lnTo>
                <a:lnTo>
                  <a:pt x="45216" y="267101"/>
                </a:lnTo>
                <a:lnTo>
                  <a:pt x="106497" y="1905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Multiply 8"/>
          <p:cNvSpPr/>
          <p:nvPr/>
        </p:nvSpPr>
        <p:spPr>
          <a:xfrm>
            <a:off x="5334120" y="2895480"/>
            <a:ext cx="304560" cy="381240"/>
          </a:xfrm>
          <a:custGeom>
            <a:avLst/>
            <a:gdLst>
              <a:gd name="textAreaLeft" fmla="*/ 45000 w 304560"/>
              <a:gd name="textAreaRight" fmla="*/ 259560 w 304560"/>
              <a:gd name="textAreaTop" fmla="*/ 69120 h 381240"/>
              <a:gd name="textAreaBottom" fmla="*/ 312120 h 381240"/>
            </a:gdLst>
            <a:ahLst/>
            <a:rect l="textAreaLeft" t="textAreaTop" r="textAreaRight" b="textAreaBottom"/>
            <a:pathLst>
              <a:path w="304800" h="381000">
                <a:moveTo>
                  <a:pt x="45216" y="113899"/>
                </a:moveTo>
                <a:lnTo>
                  <a:pt x="101195" y="69115"/>
                </a:lnTo>
                <a:lnTo>
                  <a:pt x="152400" y="133121"/>
                </a:lnTo>
                <a:lnTo>
                  <a:pt x="203605" y="69115"/>
                </a:lnTo>
                <a:lnTo>
                  <a:pt x="259584" y="113899"/>
                </a:lnTo>
                <a:lnTo>
                  <a:pt x="198303" y="190500"/>
                </a:lnTo>
                <a:lnTo>
                  <a:pt x="259584" y="267101"/>
                </a:lnTo>
                <a:lnTo>
                  <a:pt x="203605" y="311885"/>
                </a:lnTo>
                <a:lnTo>
                  <a:pt x="152400" y="247879"/>
                </a:lnTo>
                <a:lnTo>
                  <a:pt x="101195" y="311885"/>
                </a:lnTo>
                <a:lnTo>
                  <a:pt x="45216" y="267101"/>
                </a:lnTo>
                <a:lnTo>
                  <a:pt x="106497" y="1905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Multiply 9"/>
          <p:cNvSpPr/>
          <p:nvPr/>
        </p:nvSpPr>
        <p:spPr>
          <a:xfrm>
            <a:off x="5334120" y="4114800"/>
            <a:ext cx="304560" cy="380880"/>
          </a:xfrm>
          <a:custGeom>
            <a:avLst/>
            <a:gdLst>
              <a:gd name="textAreaLeft" fmla="*/ 45000 w 304560"/>
              <a:gd name="textAreaRight" fmla="*/ 259560 w 304560"/>
              <a:gd name="textAreaTop" fmla="*/ 69120 h 380880"/>
              <a:gd name="textAreaBottom" fmla="*/ 311760 h 380880"/>
            </a:gdLst>
            <a:ahLst/>
            <a:rect l="textAreaLeft" t="textAreaTop" r="textAreaRight" b="textAreaBottom"/>
            <a:pathLst>
              <a:path w="304800" h="381000">
                <a:moveTo>
                  <a:pt x="45216" y="113899"/>
                </a:moveTo>
                <a:lnTo>
                  <a:pt x="101195" y="69115"/>
                </a:lnTo>
                <a:lnTo>
                  <a:pt x="152400" y="133121"/>
                </a:lnTo>
                <a:lnTo>
                  <a:pt x="203605" y="69115"/>
                </a:lnTo>
                <a:lnTo>
                  <a:pt x="259584" y="113899"/>
                </a:lnTo>
                <a:lnTo>
                  <a:pt x="198303" y="190500"/>
                </a:lnTo>
                <a:lnTo>
                  <a:pt x="259584" y="267101"/>
                </a:lnTo>
                <a:lnTo>
                  <a:pt x="203605" y="311885"/>
                </a:lnTo>
                <a:lnTo>
                  <a:pt x="152400" y="247879"/>
                </a:lnTo>
                <a:lnTo>
                  <a:pt x="101195" y="311885"/>
                </a:lnTo>
                <a:lnTo>
                  <a:pt x="45216" y="267101"/>
                </a:lnTo>
                <a:lnTo>
                  <a:pt x="106497" y="1905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Multiply 10"/>
          <p:cNvSpPr/>
          <p:nvPr/>
        </p:nvSpPr>
        <p:spPr>
          <a:xfrm>
            <a:off x="5334120" y="4495680"/>
            <a:ext cx="304560" cy="381240"/>
          </a:xfrm>
          <a:custGeom>
            <a:avLst/>
            <a:gdLst>
              <a:gd name="textAreaLeft" fmla="*/ 45000 w 304560"/>
              <a:gd name="textAreaRight" fmla="*/ 259560 w 304560"/>
              <a:gd name="textAreaTop" fmla="*/ 69120 h 381240"/>
              <a:gd name="textAreaBottom" fmla="*/ 312120 h 381240"/>
            </a:gdLst>
            <a:ahLst/>
            <a:rect l="textAreaLeft" t="textAreaTop" r="textAreaRight" b="textAreaBottom"/>
            <a:pathLst>
              <a:path w="304800" h="381000">
                <a:moveTo>
                  <a:pt x="45216" y="113899"/>
                </a:moveTo>
                <a:lnTo>
                  <a:pt x="101195" y="69115"/>
                </a:lnTo>
                <a:lnTo>
                  <a:pt x="152400" y="133121"/>
                </a:lnTo>
                <a:lnTo>
                  <a:pt x="203605" y="69115"/>
                </a:lnTo>
                <a:lnTo>
                  <a:pt x="259584" y="113899"/>
                </a:lnTo>
                <a:lnTo>
                  <a:pt x="198303" y="190500"/>
                </a:lnTo>
                <a:lnTo>
                  <a:pt x="259584" y="267101"/>
                </a:lnTo>
                <a:lnTo>
                  <a:pt x="203605" y="311885"/>
                </a:lnTo>
                <a:lnTo>
                  <a:pt x="152400" y="247879"/>
                </a:lnTo>
                <a:lnTo>
                  <a:pt x="101195" y="311885"/>
                </a:lnTo>
                <a:lnTo>
                  <a:pt x="45216" y="267101"/>
                </a:lnTo>
                <a:lnTo>
                  <a:pt x="106497" y="1905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Multiply 11"/>
          <p:cNvSpPr/>
          <p:nvPr/>
        </p:nvSpPr>
        <p:spPr>
          <a:xfrm>
            <a:off x="5334120" y="4952880"/>
            <a:ext cx="304560" cy="381240"/>
          </a:xfrm>
          <a:custGeom>
            <a:avLst/>
            <a:gdLst>
              <a:gd name="textAreaLeft" fmla="*/ 45000 w 304560"/>
              <a:gd name="textAreaRight" fmla="*/ 259560 w 304560"/>
              <a:gd name="textAreaTop" fmla="*/ 69120 h 381240"/>
              <a:gd name="textAreaBottom" fmla="*/ 312120 h 381240"/>
            </a:gdLst>
            <a:ahLst/>
            <a:rect l="textAreaLeft" t="textAreaTop" r="textAreaRight" b="textAreaBottom"/>
            <a:pathLst>
              <a:path w="304800" h="381000">
                <a:moveTo>
                  <a:pt x="45216" y="113899"/>
                </a:moveTo>
                <a:lnTo>
                  <a:pt x="101195" y="69115"/>
                </a:lnTo>
                <a:lnTo>
                  <a:pt x="152400" y="133121"/>
                </a:lnTo>
                <a:lnTo>
                  <a:pt x="203605" y="69115"/>
                </a:lnTo>
                <a:lnTo>
                  <a:pt x="259584" y="113899"/>
                </a:lnTo>
                <a:lnTo>
                  <a:pt x="198303" y="190500"/>
                </a:lnTo>
                <a:lnTo>
                  <a:pt x="259584" y="267101"/>
                </a:lnTo>
                <a:lnTo>
                  <a:pt x="203605" y="311885"/>
                </a:lnTo>
                <a:lnTo>
                  <a:pt x="152400" y="247879"/>
                </a:lnTo>
                <a:lnTo>
                  <a:pt x="101195" y="311885"/>
                </a:lnTo>
                <a:lnTo>
                  <a:pt x="45216" y="267101"/>
                </a:lnTo>
                <a:lnTo>
                  <a:pt x="106497" y="1905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Multiply 12"/>
          <p:cNvSpPr/>
          <p:nvPr/>
        </p:nvSpPr>
        <p:spPr>
          <a:xfrm>
            <a:off x="5334120" y="5638680"/>
            <a:ext cx="304560" cy="381240"/>
          </a:xfrm>
          <a:custGeom>
            <a:avLst/>
            <a:gdLst>
              <a:gd name="textAreaLeft" fmla="*/ 45000 w 304560"/>
              <a:gd name="textAreaRight" fmla="*/ 259560 w 304560"/>
              <a:gd name="textAreaTop" fmla="*/ 69120 h 381240"/>
              <a:gd name="textAreaBottom" fmla="*/ 312120 h 381240"/>
            </a:gdLst>
            <a:ahLst/>
            <a:rect l="textAreaLeft" t="textAreaTop" r="textAreaRight" b="textAreaBottom"/>
            <a:pathLst>
              <a:path w="304800" h="381000">
                <a:moveTo>
                  <a:pt x="45216" y="113899"/>
                </a:moveTo>
                <a:lnTo>
                  <a:pt x="101195" y="69115"/>
                </a:lnTo>
                <a:lnTo>
                  <a:pt x="152400" y="133121"/>
                </a:lnTo>
                <a:lnTo>
                  <a:pt x="203605" y="69115"/>
                </a:lnTo>
                <a:lnTo>
                  <a:pt x="259584" y="113899"/>
                </a:lnTo>
                <a:lnTo>
                  <a:pt x="198303" y="190500"/>
                </a:lnTo>
                <a:lnTo>
                  <a:pt x="259584" y="267101"/>
                </a:lnTo>
                <a:lnTo>
                  <a:pt x="203605" y="311885"/>
                </a:lnTo>
                <a:lnTo>
                  <a:pt x="152400" y="247879"/>
                </a:lnTo>
                <a:lnTo>
                  <a:pt x="101195" y="311885"/>
                </a:lnTo>
                <a:lnTo>
                  <a:pt x="45216" y="267101"/>
                </a:lnTo>
                <a:lnTo>
                  <a:pt x="106497" y="1905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Rectangle 13"/>
          <p:cNvSpPr/>
          <p:nvPr/>
        </p:nvSpPr>
        <p:spPr>
          <a:xfrm>
            <a:off x="1752480" y="30492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stainable Logistics Practice - Transpor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rent Issues,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762120" y="11426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ncial st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y carriers have high operating ratios, exceeding 95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y financial failures following deregu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te slowed in 1990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,345 failures in 20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rgers and consolida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capacity is a recurring probl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re price discounting and financial press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ancial evaluation: carrier selection fac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A45FD-36E0-4251-B567-D41A431707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b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ounts for 29% of total costs per vehicle m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ually absorb about 50% of a carrier’s revenue doll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erage annual wage (1997) was $37,03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erage hourly compensation was $12.8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ypical over-the-road driver paid 32.5 cents per m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cal drivers paid by the ho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iving Time Regulations (USDO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5 hours on-duty after 8 hours off-du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 hours driving after 8 hours off-du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not accumulate more than 60 hours on-duty in 7 consecutive days, or 70 in 8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30% increase in diesel fuel prices from 1976 to 198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976: 11.6 cents/mile (19.8% of total cost/mi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985: 24.6 cents/mile (21.1% of total cost/mi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995: 19.2 cents/mile (14.7% of total cost/mi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el Ta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mary reason for growth in fuel co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tor carrier industry paid $23.8 billion in federal and state highway user taxes in 199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deral Fuel Tax is 24.3 cents per gall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tes tack on anywhere from 2 cents to 24.5 cents per gall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us, total tax on a gallon can be as high as 48.8 cents (out of average total cost of $1.10/gall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rief His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1371240" y="205740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t role in 20th C. U.S. econom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ustry emerged at time of WW 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pendence on interstate highw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uck-rail competition after WW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gressive dominance of truc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272F2-30FE-4DC7-9A8A-83D9AE48F5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city Trucking Ton-Mi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yle/Bardi/Novack </a:t>
            </a:r>
            <a:r>
              <a:rPr b="0" i="1" lang="en-US" sz="1200" spc="-1" strike="noStrike">
                <a:solidFill>
                  <a:srgbClr val="898989"/>
                </a:solidFill>
                <a:latin typeface="Times New Roman"/>
              </a:rPr>
              <a:t>Transportation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 6e © 2006 Thom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9864C-9D02-4DC7-87F1-0997DAF2D0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1" name="Picture 4" descr="U.S. Intercity Commercial Freight chart"/>
          <p:cNvPicPr/>
          <p:nvPr/>
        </p:nvPicPr>
        <p:blipFill>
          <a:blip r:embed="rId1"/>
          <a:stretch/>
        </p:blipFill>
        <p:spPr>
          <a:xfrm>
            <a:off x="2209680" y="2057400"/>
            <a:ext cx="457200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.S. Business Logistics Costs, 200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arrying Costs $1.444 Trillion all business inventor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illions of Doll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es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xes, Obsolescence, Depreciation, Insuranc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ehousi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ransportation Co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or Carrie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  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uck – Intercit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  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uck – Loca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Carrie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  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ilroad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  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  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 Pipelin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  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  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warder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ipper Related Cost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Logistics Administ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otal Logistics Cost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FC41E-4B61-46BD-9C08-9F2A5EA5AA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5"/>
          <p:cNvSpPr/>
          <p:nvPr/>
        </p:nvSpPr>
        <p:spPr>
          <a:xfrm>
            <a:off x="1752480" y="6172200"/>
            <a:ext cx="502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urce:  United States Department of Transportation - Federal Highway Administ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Content Placeholder 5" descr="Transportation components.gif"/>
          <p:cNvPicPr/>
          <p:nvPr/>
        </p:nvPicPr>
        <p:blipFill>
          <a:blip r:embed="rId1"/>
          <a:stretch/>
        </p:blipFill>
        <p:spPr>
          <a:xfrm>
            <a:off x="1143000" y="1295280"/>
            <a:ext cx="6745320" cy="3891240"/>
          </a:xfrm>
          <a:prstGeom prst="rect">
            <a:avLst/>
          </a:prstGeom>
          <a:ln w="0">
            <a:noFill/>
          </a:ln>
        </p:spPr>
      </p:pic>
      <p:sp>
        <p:nvSpPr>
          <p:cNvPr id="51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8FDB5-DE5C-4819-8DB3-DEBE58559C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6"/>
          <p:cNvSpPr/>
          <p:nvPr/>
        </p:nvSpPr>
        <p:spPr>
          <a:xfrm>
            <a:off x="1981080" y="6095880"/>
            <a:ext cx="502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urce:  United States Department of Transportation - Federal Highway Administ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gnificance of the Indus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228600" y="12949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2.4 million jobs in 199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verage compensation = $ 37,03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ucks logged 353 billion miles for business purposes (does NOT include government and farm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S paid over $120 billion for highway transportation (1998) – 86% of the nation’s total freight bill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 of Carri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85,677 interstate motor carriers were on file with the Office of Motor Carriers in 200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0% operate with 6 or fewer truck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es not include private flee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local.yahoo.com/results?stx=motor+carriers&amp;csz=Seattle%2C+W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 Distribution of Motor Carri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4" name="Picture 3" descr=""/>
          <p:cNvPicPr/>
          <p:nvPr/>
        </p:nvPicPr>
        <p:blipFill>
          <a:blip r:embed="rId1"/>
          <a:stretch/>
        </p:blipFill>
        <p:spPr>
          <a:xfrm>
            <a:off x="0" y="1165320"/>
            <a:ext cx="9144000" cy="56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0T14:04:34Z</dcterms:created>
  <dc:creator>Dr. Gary Gittings</dc:creator>
  <dc:description/>
  <dc:language>en-US</dc:language>
  <cp:lastModifiedBy>Andreas</cp:lastModifiedBy>
  <dcterms:modified xsi:type="dcterms:W3CDTF">2010-09-08T20:28:06Z</dcterms:modified>
  <cp:revision>77</cp:revision>
  <dc:subject/>
  <dc:title>No Slide Title</dc:title>
</cp:coreProperties>
</file>