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9374188" cy="7088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4400" cy="708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608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08200" y="-360"/>
            <a:ext cx="40626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14200" y="531720"/>
            <a:ext cx="3543480" cy="265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730920"/>
            <a:ext cx="40608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30820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6AD-5CF0-4387-9C4B-0E081C6A8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D71-8C0B-409A-B6A7-FDD3E85E2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4CC-2A59-4624-9373-99B6E4C42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9B92-6836-4773-B1C9-DCC0620D1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2EB-3D39-4607-913D-B53901F4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6D2D-09F1-4CEC-8F66-AE8CF9BD0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0E5-96A1-4B72-ADFC-B2BBA7FED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8C9F-FFA4-4DBD-AC18-FA730B225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4761-ADB1-4A61-B478-7F6EFDF90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8BF-6825-4394-9A22-38F780594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4F72-8DE0-430E-BD1A-542A834AE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A1D-4FF0-4C9D-A61F-BEBB9B0F1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45E-AEE6-414F-9E5F-843BF2CA3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CD94-063C-4830-A729-890AA1C2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CC2-A46A-4791-B1DE-AE968BB12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C02-C33C-4868-A011-56B44ECFF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2F32-E06C-4C5B-B4F2-72D4FCF26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B49-2916-4862-A08F-614068C7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69BD-3922-4E84-BEE9-D2FC81155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0CE-8782-4BCB-8B60-D5BE29983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8A9B-A2B5-4604-9580-B924FD7A9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DA1-0BB0-4420-B5B3-F12860618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66AF-111F-40F8-A8D3-5735BF135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1B7-5CBE-4486-AC4B-6AEC63133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CD9F-BB48-418C-8B53-C5ABFFCB4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E115-073D-4073-A292-DC337E9E5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E05-2320-444B-B188-D12B34751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D43-B45A-455B-9DB8-7B0A66573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E33-AF68-49A1-8A67-9B31DD212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F82-F699-4703-B806-2E89AB104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47C-9F0F-4E89-98FB-CB95F6E34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9A8F-2B40-4B7D-B7A0-362032C94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1428-6E34-4338-85E5-8C1F266DF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EBC-7A7E-457E-933C-9E9633957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414-5011-4647-BD4A-B9308FA35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74E-6797-4238-BEB7-BA18FD073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42E0-F5C1-401D-9FE7-45A8BAFD9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D52B-5C21-4C64-8340-903BDA065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278-6CC7-4878-8B19-03F61FD5A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1AB-F5A5-44B3-AF0B-D83774C0A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0EE-6EC0-4503-8945-3A9494E0C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2D56-D665-4620-8B6B-635DEF57E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D08-E472-48FC-9ACA-EA81F9595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C6C-94AD-4E93-B854-AB1F1C1D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533-FF1F-457F-91F0-7534F591A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E92-2DCB-46B1-86A8-11E80E744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58E5-1B1C-4FCB-A92B-EC9540D9F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1B7E-5AFE-4200-B486-077E0BA9A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47E-408A-49E5-8314-16AFFDCB1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B1A-1C7C-4B4D-A35C-E1E41AD7D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BF0C-166D-4842-AD8F-0AD181EE7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7955-336F-40D1-A09A-20ABE97E1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949-AD50-4B98-96A4-E4B7527F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1F3-5891-4B22-8B76-9DF229036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DA6-0D50-43CB-9191-4A3EAB61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B60-7D9D-462F-B3E2-59CA54F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49A-453A-45F8-B4FB-3B25DF5D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835-E8DF-4A14-B894-E29E67FA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E45-BD84-47A8-9FD1-D990498F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6AB-D0A9-4502-9096-213F9FA8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8AD-74C6-4C5A-BC47-54DDE36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152-15AB-45F2-8928-3A9235C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DAE-AA9D-45A8-A6A5-E9204D8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891-C608-4964-9B68-666437B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264-F20C-4E9F-90E6-5D249F0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618-0854-4B07-A352-80A4532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1FFD-4500-4EB7-813A-A8A416D99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rldcanals.com/english/nthameast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arriers and Pipeli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6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29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American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ssissippi Riv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racoastal Water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theastern Heritage ca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lumbia, Sacramento &amp; San Joaquin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land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worldcanals.com/image/us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543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worldcanals.com/image/usazoom.gif"/>
          <p:cNvPicPr/>
          <p:nvPr/>
        </p:nvPicPr>
        <p:blipFill>
          <a:blip r:embed="rId1"/>
          <a:stretch/>
        </p:blipFill>
        <p:spPr>
          <a:xfrm>
            <a:off x="1219320" y="243000"/>
            <a:ext cx="70866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orldcanals.com/image/northamzoomeast.gif"/>
          <p:cNvPicPr/>
          <p:nvPr/>
        </p:nvPicPr>
        <p:blipFill>
          <a:blip r:embed="rId1"/>
          <a:stretch/>
        </p:blipFill>
        <p:spPr>
          <a:xfrm>
            <a:off x="1150920" y="395280"/>
            <a:ext cx="6697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33333" t="22400" r="32003" b="6400"/>
          <a:stretch/>
        </p:blipFill>
        <p:spPr>
          <a:xfrm>
            <a:off x="2097000" y="152280"/>
            <a:ext cx="4867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these video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Marine Highway Initiative – Part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ttp://www.youtube.com/watch?v=wz0Zd4kT5X8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Marine Highway Initiative – Part 2 (http://www.youtube.com/watch?v=CvNn9N28gr0&amp;feature=rel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Vess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g and barge combinations (used by internal water c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akes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al carriers (oceangoing vessels and bar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 haul length is 400 miles for inland water carriers to 1,500 miles for coastal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www.freefoto.com/images/31/47/31_47_3---Cleanaway-refuse-barges--River-Thames--London_web.jpg?&amp;k=Cleanaway+refuse+barges%2C+River+Thames%2C+London"/>
          <p:cNvPicPr/>
          <p:nvPr/>
        </p:nvPicPr>
        <p:blipFill>
          <a:blip r:embed="rId1"/>
          <a:stretch/>
        </p:blipFill>
        <p:spPr>
          <a:xfrm>
            <a:off x="990720" y="914400"/>
            <a:ext cx="7048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davidshome.net/StLouisArch/P1000020.jpg"/>
          <p:cNvPicPr/>
          <p:nvPr/>
        </p:nvPicPr>
        <p:blipFill>
          <a:blip r:embed="rId1"/>
          <a:stretch/>
        </p:blipFill>
        <p:spPr>
          <a:xfrm>
            <a:off x="1295280" y="914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d/d6/Alaska_tugboat_moves_a_barge.jpg"/>
          <p:cNvPicPr/>
          <p:nvPr/>
        </p:nvPicPr>
        <p:blipFill>
          <a:blip r:embed="rId1"/>
          <a:stretch/>
        </p:blipFill>
        <p:spPr>
          <a:xfrm>
            <a:off x="647640" y="7621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rivate fl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Nittany Products case (13-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ort of Tacoma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on mid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arriers and pipelines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tatic.guim.co.uk/sys-images/Environment/Pix/columnists/2009/1/9/1231508061683/Hijacked-oil-tanker-MV-Si-001.jpg"/>
          <p:cNvPicPr/>
          <p:nvPr/>
        </p:nvPicPr>
        <p:blipFill>
          <a:blip r:embed="rId1"/>
          <a:stretch/>
        </p:blipFill>
        <p:spPr>
          <a:xfrm>
            <a:off x="1066680" y="1219320"/>
            <a:ext cx="7061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www.jwgainc.com/coastalprogress.jpg"/>
          <p:cNvPicPr/>
          <p:nvPr/>
        </p:nvPicPr>
        <p:blipFill>
          <a:blip r:embed="rId1"/>
          <a:stretch/>
        </p:blipFill>
        <p:spPr>
          <a:xfrm>
            <a:off x="990720" y="1523880"/>
            <a:ext cx="718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rans-inst.org/img/M%20V%20Midnight%20Sun.jpg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bp0.blogger.com/_tzPE3Hl9sZw/SI-DBRIiukI/AAAAAAAAAIM/xLVx9V4aMRU/s320/matson_268191014_st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354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hipsandharbours.com.s3.amazonaws.com/2621.jpg"/>
          <p:cNvPicPr/>
          <p:nvPr/>
        </p:nvPicPr>
        <p:blipFill>
          <a:blip r:embed="rId1"/>
          <a:stretch/>
        </p:blipFill>
        <p:spPr>
          <a:xfrm>
            <a:off x="1600200" y="106668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Vessels by Type, 200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 bar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.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wboa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k, liquid bar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shore support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4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 cargo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nger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.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k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0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ight Carried on Major Waterways, 2006, in millions of t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ssippi River System, incl. Ohi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ak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lf Intracoastal Water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 R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ake R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Intracoastal Water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Navigable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16,000 miles, where 12,000 miles are maintained by the US Army Corps of Engin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estic waterborne freight is more than 1 billion tons, whereof inland is around 60% (the rest is coastwise domestic shipp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es hauled are typically bulky raw materials (coal, ore, aggregates, grains, petroleum, chemic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mestic Commodities Shipped by Waterborne Traffic,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9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ole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de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and farm produ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8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goo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4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1.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arriers account for around 12% of the total US freight expenses (3% domestic and 9% international trade) of almost $400 bill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borne transportation accounted for 13% of the all transported freight (2005, ton-mi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stwise was 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waterways was 4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otal ton-miles down 29% from 1996 to 2006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arge carry the same as 58 tractor-trai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Private fl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ing your own car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rail car fleets do exist (Dow Chemicals has more than 20,000 cars, mostly tank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hundertrain.org/051711USMCVX3390ChemTrainTank-7R.jpg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costs per dollar of gross outpu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9%, which is the second hig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l is the most efficient, at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is at 2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ining market share and freight r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on and substit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 becoming more of a servic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supp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ivate carriers and bulk commodity carriers are exempt from economic regulation, while regulated carriers are either common or contrac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-hire water carriers are (passively) regulated by the STB (Surface Transportation Board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“… to encourage and promote service and price competition in the noncontiguous domestic trade”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on carriers hauling freight to domestic points beyond the continental US have to file tariffs with the FMC (Federal Maritime Commission) (exercises control over the rates, practices, agreements and servi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 Structure f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charg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&amp; dock fees, fu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s. variabl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15% fixed; 8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cost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ly the hig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cost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ower than th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ive Labor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-miles of freight carried for each carrier employ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pel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9.30 million ton-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.74 mill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2.72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 carri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0.40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on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ip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out serving the oil fiel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nly uni-directional (one-way) m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unted for 20% of ton-miles in 2005 (oil 13%; gas 7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/3 is oil and oil products; 1/3 is natural g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160,000 miles of oil pipelines in 20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1.5 million miles of gas pipe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pelines only 4% of total transportation revenues (vs. trucking at 7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s and the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s (for-hire pipelines) account for 90% of all pipelin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 companies own the majority (20 oil cos. Control 2/3 of the oil pipeline mile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tural gas pipelines operate as public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d by the Dept. of Transportation (PHM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ipeline and Hazardous Materials Safety Administration’s 4 goa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risk of harm to people due to the transportation of hazardous mate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risk of harm to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onize and standardize the requirements for pipeline and Hazmat internationally and facilitate safe &amp; efficient transportation through ports of entry and the 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consequences after a pipeline or Hazmat failure has occur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tes (less than ½ cent per ton-mi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oss and damag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ehousing function (slow throughp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able (reliab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/7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labo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ly non-polluting when in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www.theodora.com/pipelines/united_states_pipelines_map.jpg"/>
          <p:cNvPicPr/>
          <p:nvPr/>
        </p:nvPicPr>
        <p:blipFill>
          <a:blip r:embed="rId1"/>
          <a:stretch/>
        </p:blipFill>
        <p:spPr>
          <a:xfrm>
            <a:off x="152280" y="1295280"/>
            <a:ext cx="872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st common reasons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ng a private fl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ain direct control of transportation capacity on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trol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o provide consistent and high quality                      custom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 to benchmark outside transportation services used by the company (provide insight into real operational costs of transpor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pipeline101.com/overview/images/CrudeLines.gif"/>
          <p:cNvPicPr/>
          <p:nvPr/>
        </p:nvPicPr>
        <p:blipFill>
          <a:blip r:embed="rId1"/>
          <a:stretch/>
        </p:blipFill>
        <p:spPr>
          <a:xfrm>
            <a:off x="422280" y="762120"/>
            <a:ext cx="794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argo unit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l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ed directly into the ship’s lar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www.seatech.eng.br/photos/HOME%20MARINE%20-%202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bulk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ety of odd sized cargoes loaded directly into to the holds or onto the deck of the 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ww.sharaflogistics.com/wp-content/uploads/16_head_638134903.jpg"/>
          <p:cNvPicPr/>
          <p:nvPr/>
        </p:nvPicPr>
        <p:blipFill>
          <a:blip r:embed="rId1"/>
          <a:stretch/>
        </p:blipFill>
        <p:spPr>
          <a:xfrm>
            <a:off x="1219320" y="2971800"/>
            <a:ext cx="6572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mma Maersk is one of the largest shi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log.ae/wp-content/uploads/2009/06/emma-maersk-2.jpg"/>
          <p:cNvPicPr/>
          <p:nvPr/>
        </p:nvPicPr>
        <p:blipFill>
          <a:blip r:embed="rId1"/>
          <a:stretch/>
        </p:blipFill>
        <p:spPr>
          <a:xfrm>
            <a:off x="914400" y="2743200"/>
            <a:ext cx="70390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’s ten largest container lin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ersk Li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4.4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n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diterranean Shipping Lines12.4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i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MA CGM Grou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8.1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n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ergree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1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iwa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pag-Lloy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0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rm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merican President Lin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0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AV Grou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8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SC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6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2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j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2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or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p 20 carriers have 82.7% of the mar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-on, Roll-off (RoR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lers &amp;  vehicles are rolled straight on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ascopeshipping.co.uk/RoRo%20ship.JPG"/>
          <p:cNvPicPr/>
          <p:nvPr/>
        </p:nvPicPr>
        <p:blipFill>
          <a:blip r:embed="rId1"/>
          <a:stretch/>
        </p:blipFill>
        <p:spPr>
          <a:xfrm>
            <a:off x="99072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e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goes are often hand stowed or palletized, kept at a variety of temper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ww.trimarinegroup.com/images/operations/fleet/wei_hong.jpg"/>
          <p:cNvPicPr/>
          <p:nvPr/>
        </p:nvPicPr>
        <p:blipFill>
          <a:blip r:embed="rId1"/>
          <a:stretch/>
        </p:blipFill>
        <p:spPr>
          <a:xfrm>
            <a:off x="1165320" y="2743200"/>
            <a:ext cx="63784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ized ships have height adjustable d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upload.wikimedia.org/wikipedia/commons/c/c5/Car_carrier_Nordic_Ace.jpg"/>
          <p:cNvPicPr/>
          <p:nvPr/>
        </p:nvPicPr>
        <p:blipFill>
          <a:blip r:embed="rId1"/>
          <a:stretch/>
        </p:blipFill>
        <p:spPr>
          <a:xfrm>
            <a:off x="14479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vy l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y anything, like other ships, oil rigs, container cranes, huge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cryptome.org/eyeball/sbx1/sbx-267.jpg"/>
          <p:cNvPicPr/>
          <p:nvPr/>
        </p:nvPicPr>
        <p:blipFill>
          <a:blip r:embed="rId1"/>
          <a:stretch/>
        </p:blipFill>
        <p:spPr>
          <a:xfrm>
            <a:off x="1219320" y="2133720"/>
            <a:ext cx="6095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Carriers and Intermedi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ght Forward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as both Shippers and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the Freight Forwarder Act of 19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R title 49 and the FMC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Bills of Lading, as NVO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liability for cargo; maintain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ded to insure carriers get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provides express service, etc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acts as customs 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blish separate trucking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btain for-hire (common carrier) authority (by registering and paying fees, plus publishing their rates and char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handle the empty backhaul sit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er as a for-hire carrier and start soliciting space, or try to work trip-lea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haul exempt (agricultural)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losing focus; stay with core compe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ight Bro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be licensed by the FMC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have performance bond (to ensure payment to c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aintain cargo liability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issue Bills of L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odal Marketing Compani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olid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ipper’s Ag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similar as Freight Forwa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regulated and not require to keep cargo liability insuranc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PL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Party Logistics Provi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nies outsource to them a variety of logistics tas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ight forwarding and carri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o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Technology,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d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ditors Interna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xpeditor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lile Transportation Syst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arlile.biz/logistics/pages/Home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lo Worldw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on-way.com/en/log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ow about Nittany Products? (case 13-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 of Tacoma case due to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ntributes to the congestion at the Port of Tacoma? Who are the major players in this scenario, and what is their ro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What are the major problems resulting from the trucking cong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Discuss the short and long-term solutions discussed at the May 2010 meeting.  Which of these seem viable and yet might yield effective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Research some of the other ports that are experiencing similar congestion problems.  Are there solutions implemented at these ports that might work at the Port of Taco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Are there other solutions that could be considered for this situ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idterm Exam this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160" y="167652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format through 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rom Tuesday, Oct. 30 at noon to Friday, Nov. 2 at midnight.  (start before 10 pm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ou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book, notes,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multiple choice and 6 short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 points total (15% of gr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ypes of water carriers are the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operat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cargoes ca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shore side equipment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0:52Z</dcterms:created>
  <dc:creator>Andreas</dc:creator>
  <dc:description/>
  <dc:language>en-US</dc:language>
  <cp:lastModifiedBy>Andreas</cp:lastModifiedBy>
  <dcterms:modified xsi:type="dcterms:W3CDTF">2012-10-29T17:44:16Z</dcterms:modified>
  <cp:revision>17</cp:revision>
  <dc:subject/>
  <dc:title>LOG 102 - Transportation</dc:title>
</cp:coreProperties>
</file>