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  <p:sldId id="288" r:id="rId61"/>
    <p:sldId id="289" r:id="rId62"/>
    <p:sldId id="290" r:id="rId63"/>
    <p:sldId id="291" r:id="rId64"/>
    <p:sldId id="292" r:id="rId65"/>
    <p:sldId id="293" r:id="rId66"/>
    <p:sldId id="294" r:id="rId67"/>
    <p:sldId id="295" r:id="rId68"/>
    <p:sldId id="296" r:id="rId69"/>
    <p:sldId id="297" r:id="rId70"/>
    <p:sldId id="298" r:id="rId71"/>
    <p:sldId id="299" r:id="rId72"/>
    <p:sldId id="300" r:id="rId73"/>
    <p:sldId id="301" r:id="rId74"/>
    <p:sldId id="302" r:id="rId75"/>
    <p:sldId id="303" r:id="rId76"/>
    <p:sldId id="304" r:id="rId77"/>
    <p:sldId id="305" r:id="rId78"/>
    <p:sldId id="306" r:id="rId79"/>
    <p:sldId id="307" r:id="rId80"/>
    <p:sldId id="308" r:id="rId81"/>
    <p:sldId id="309" r:id="rId82"/>
    <p:sldId id="310" r:id="rId83"/>
    <p:sldId id="311" r:id="rId84"/>
    <p:sldId id="312" r:id="rId85"/>
    <p:sldId id="313" r:id="rId86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slide" Target="slides/slide33.xml"/><Relationship Id="rId62" Type="http://schemas.openxmlformats.org/officeDocument/2006/relationships/slide" Target="slides/slide34.xml"/><Relationship Id="rId63" Type="http://schemas.openxmlformats.org/officeDocument/2006/relationships/slide" Target="slides/slide35.xml"/><Relationship Id="rId64" Type="http://schemas.openxmlformats.org/officeDocument/2006/relationships/slide" Target="slides/slide36.xml"/><Relationship Id="rId65" Type="http://schemas.openxmlformats.org/officeDocument/2006/relationships/slide" Target="slides/slide37.xml"/><Relationship Id="rId66" Type="http://schemas.openxmlformats.org/officeDocument/2006/relationships/slide" Target="slides/slide38.xml"/><Relationship Id="rId67" Type="http://schemas.openxmlformats.org/officeDocument/2006/relationships/slide" Target="slides/slide39.xml"/><Relationship Id="rId68" Type="http://schemas.openxmlformats.org/officeDocument/2006/relationships/slide" Target="slides/slide40.xml"/><Relationship Id="rId69" Type="http://schemas.openxmlformats.org/officeDocument/2006/relationships/slide" Target="slides/slide41.xml"/><Relationship Id="rId70" Type="http://schemas.openxmlformats.org/officeDocument/2006/relationships/slide" Target="slides/slide42.xml"/><Relationship Id="rId71" Type="http://schemas.openxmlformats.org/officeDocument/2006/relationships/slide" Target="slides/slide43.xml"/><Relationship Id="rId72" Type="http://schemas.openxmlformats.org/officeDocument/2006/relationships/slide" Target="slides/slide44.xml"/><Relationship Id="rId73" Type="http://schemas.openxmlformats.org/officeDocument/2006/relationships/slide" Target="slides/slide45.xml"/><Relationship Id="rId74" Type="http://schemas.openxmlformats.org/officeDocument/2006/relationships/slide" Target="slides/slide46.xml"/><Relationship Id="rId75" Type="http://schemas.openxmlformats.org/officeDocument/2006/relationships/slide" Target="slides/slide47.xml"/><Relationship Id="rId76" Type="http://schemas.openxmlformats.org/officeDocument/2006/relationships/slide" Target="slides/slide48.xml"/><Relationship Id="rId77" Type="http://schemas.openxmlformats.org/officeDocument/2006/relationships/slide" Target="slides/slide49.xml"/><Relationship Id="rId78" Type="http://schemas.openxmlformats.org/officeDocument/2006/relationships/slide" Target="slides/slide50.xml"/><Relationship Id="rId79" Type="http://schemas.openxmlformats.org/officeDocument/2006/relationships/slide" Target="slides/slide51.xml"/><Relationship Id="rId80" Type="http://schemas.openxmlformats.org/officeDocument/2006/relationships/slide" Target="slides/slide52.xml"/><Relationship Id="rId81" Type="http://schemas.openxmlformats.org/officeDocument/2006/relationships/slide" Target="slides/slide53.xml"/><Relationship Id="rId82" Type="http://schemas.openxmlformats.org/officeDocument/2006/relationships/slide" Target="slides/slide54.xml"/><Relationship Id="rId83" Type="http://schemas.openxmlformats.org/officeDocument/2006/relationships/slide" Target="slides/slide55.xml"/><Relationship Id="rId84" Type="http://schemas.openxmlformats.org/officeDocument/2006/relationships/slide" Target="slides/slide56.xml"/><Relationship Id="rId85" Type="http://schemas.openxmlformats.org/officeDocument/2006/relationships/slide" Target="slides/slide57.xml"/><Relationship Id="rId86" Type="http://schemas.openxmlformats.org/officeDocument/2006/relationships/slide" Target="slides/slide58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dt" idx="52"/>
          </p:nvPr>
        </p:nvSpPr>
        <p:spPr>
          <a:xfrm>
            <a:off x="4012920" y="-36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ftr" idx="53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 type="sldNum" idx="54"/>
          </p:nvPr>
        </p:nvSpPr>
        <p:spPr>
          <a:xfrm>
            <a:off x="4012920" y="890244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7388-CD18-40DA-9230-A9B16BF1A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CF4B-2D70-4A2C-A419-C95B78AAD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2D9A-AEEF-44E1-A836-E35A186AB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8340-3B9D-4168-ABF2-65DA219F3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202F-ACCC-4DA3-99BC-DBC13843D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9327-B449-4A23-9F97-1CFBEC586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29BD-92B0-485C-881D-FCBE7384F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8005-CA1D-41D4-A424-8BB641108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2F7D-3E86-438F-AC23-17785457E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630A-BD8A-46C4-8626-99B1F3CA6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B8E4-9B4D-4E84-A359-137A5F9E6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E875-9BEE-411B-9623-EF7E638F6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3C41-AA8B-4710-99E7-D51A75F24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58A4-D4BA-46B9-B94B-63165E177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209B-36A5-45EE-80F7-611C237EB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6F48-C3C6-4D0F-B56E-5D66E2388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209600" y="709560"/>
            <a:ext cx="4667400" cy="350208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DEA2-8AD0-47C1-B3BB-DE4D3DEF0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6400-F16E-476D-BD61-5210F3318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88B4-070A-49A2-8E48-0E630E505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0854-9F79-4C54-B7F9-B6A00A01B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21EC-AEE9-49F9-B1FC-4ED4423E0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99D8-8E4F-4824-B229-8340856AE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A188-F4F6-44A1-9301-D3B0D3737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D790-1B15-48C4-97F1-415E2DAC9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402F-96D4-4C22-82B5-BBE275F3B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5D8A-4224-4605-89BC-A6F073033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209600" y="709560"/>
            <a:ext cx="4667400" cy="350208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F0FB-F7C0-4C7A-8218-5723CC838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FA79-79A8-47BC-AA41-B4F25D183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4F09-087B-468B-AC58-DEAC466A0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ADBC-5311-43AB-A47A-2A988E10C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0424-4A08-4B43-9B5E-45F25F06E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5539-F2DE-4722-A1B6-593B01897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209600" y="709560"/>
            <a:ext cx="4667400" cy="350208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1324-4EDE-4988-8708-F0DCB7318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3B05-74DC-4F54-85C3-314637E02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5FF3-4B29-406E-96A8-D4BFD8DB6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209600" y="709560"/>
            <a:ext cx="4667400" cy="350208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AC22-3703-46B4-952E-2FF35D899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1241-7625-454A-B710-47A227DA5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6D80-6E69-42F8-B602-1A14083D8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0092-3DE3-4738-98A4-2F3A6FCFF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5573-D0B8-4646-B7AC-43C27EC6B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0EEF-6799-4287-B85E-1D61300E3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0BB3-96BE-44A4-9B2D-F5C016CE8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75BA-7AD5-4457-9B2B-DFCF8184C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8B4C-9F26-492B-AA4B-CB760DE5B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EE71-6F19-43CE-80A5-790E341B4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97A4-A747-41FE-B88F-F9DCA89F7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209600" y="709560"/>
            <a:ext cx="4667400" cy="350208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2C36-709C-4C76-90E3-6F3DCF4D3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A5E2-AD67-4272-831B-335288F4E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0249-EF61-458F-ACA5-A9C8B40E7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1E97-B7F2-4D94-BE9B-E169DBC12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C0C6-15F9-4B9B-AB37-8142572F5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BEC1-2892-4B82-845C-469B521F3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302F-7831-446D-BF5D-E95552B84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D30C-6E54-49A6-85F5-AD8D3582B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A317-6D0A-4015-BE94-92D0E2BC6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6120-630C-46E7-AADF-1525BA2DD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EF59-70B3-49B5-B0D6-2CCC56A44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3788-EEA5-44CB-988F-92534F75B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48C9-D77C-4589-A0AC-B7B61F78E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CEC-02BA-42A3-B79C-D66722B8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049-8347-4439-BC4B-FF7EB973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0D909B-D61A-46F5-AD72-BC0815BA1E9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FC95D6-F4F9-49A0-86A6-3628676E273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6A7A27-D24C-4BB6-9445-EC0C5E49E12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EC1C0B-32F5-4A59-9604-CD46C69C11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A0B86B-8151-440F-91A2-5607863CF0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8F318E-B64C-4F1E-B395-30B940829E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B9EE50-7515-439F-B5ED-8AC83EBC7FB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FA20C-0ABA-4E89-B7C0-4B659514F99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48FF76-C0F6-4511-8FDF-1E358B4039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9B9F8-94AF-4B28-8C35-2898FC758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A82-56A7-4BC4-8909-899CA6C1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905E4-E6D5-455F-8B5E-3438A1DDEB3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52334-FFAB-4E3A-8F7B-43A015F3ED9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09214-FE76-4B14-BD62-E18979F6AF1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181B0-7EC0-4F75-B6F9-048BBA4003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FB570-786E-4CE5-889B-E75BD3685D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FADD5-5444-4D7A-A6F5-E044677E4CB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FEF93-370C-400B-A55D-1D95A267140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DB8E2-4530-449B-A597-6F5F1972DBD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37D71-C719-4ECA-AEA2-E442C59520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CDC24-315D-4614-AD08-6A83D447A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84A-A9BB-4EBE-BB2F-30AD9615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AAB9C-629A-471E-ABD8-F9B6EA76A15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A6CFD4-7C4E-4E07-BFAF-6C8C9DE793B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D45038-E75F-4783-8603-1D42A4F1D2D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A423FD-CD08-4605-9404-0F68281607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7EA1F3-8F4E-4E96-9FA4-1975995DAB6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F84EBD-F45B-4A97-9DAF-A6A897AB2B6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12487C-01FA-4829-B53C-D281A5F80FC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94047D-7E19-4DA2-ABEF-278C70E48F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B4CABB-C40F-46ED-8C6F-021939A5FA7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A0D0ED-5CDB-45D1-A1DE-04B763FAB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0AE8A-B147-4311-B176-E6A2AF16DF0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8FCD4-9541-48C2-B1C0-BA679876688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165955-9DD1-433B-B269-A42D7676EDE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36C23-FD9D-4289-85EE-32A03201E24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E9BAA-8864-46ED-9C95-E6B3653E62C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5A261-FCFC-4572-950E-80884028D7D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8C9F6-20DE-473B-91B9-2C653B2D69B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E6383-CAEF-49F4-916A-0C4A291752B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EAC36-27E7-4058-BA23-F57280AC894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1CC70-B9AE-4BB0-BCC1-C2D703A4967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B7154-5D6D-4A67-9396-A21F7FE6D3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19B7C-BC72-40BD-BB7B-47EB75233FF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DB7F5-4C79-47E9-B47A-6071E35D544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B105C-0113-47D1-AFF8-59D9C51C057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91A21-F9BE-41FB-B245-C3993DF7CD9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8B5A6-749E-4DFF-9D4D-2293AAC7417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ACD37-0AE1-486F-82FE-5B677F55C42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1CB65-70FE-4E2D-886C-15FCB16FB66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3F6AE-8246-477F-80A2-378EFCCB890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E02C9-C673-4B6B-B235-0C281ABDBD9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7D63E-40F2-413D-A27A-DDE80E0585C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94289-E7EC-4F26-9A2D-4FE22DDC03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F4197-887B-4A4C-97DA-E6E8CFCACD5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64EEC-01AF-4918-AA81-F1756768F2D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8F933-00FE-42F8-8FC6-FD16D04E116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CF02C-4C0A-4745-9B8C-E634701F4DC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0ECDD-64C5-470C-B6B6-EDBA0D1E1C9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C95FC-9AFE-4F36-BFB5-282CDE7EFCD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3B5D5-B148-44DA-B3AE-5A1641251A5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5124B-7BDD-424E-ACD8-F264D19467F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4C3B50-AF86-4C19-89E8-D9300289C34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43DC6A-A68C-40A7-ACCA-7B81C53E81A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4B4337-F0DE-474E-9ECE-E5261D783B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FAF4D-01E3-440B-8C1D-1E38130F347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08CB40-BA21-4E61-9CD1-C6AD7657337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56E173-2C3C-463D-AC27-40F3DD4A8CF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70B8BD-089B-4A95-9B5F-53C896DC038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5082CF-541A-4119-B9E1-ECE9EFE77A9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148A35-36BA-4BB9-B8BF-9D61627BF0B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711ED8-46C5-43E4-97CE-C883998CD00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99614B-4361-4BEC-994B-E8F717A13F6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99224A-BEEE-4B57-9950-B80EDAE55FC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53241F-759F-4CB6-B90A-AC3D1A6D3BC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513045-D851-4DE5-B845-08F8311E38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EF5C3-E4E1-4EB1-B0FB-8F8138AC675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1D793A-9756-4C82-BB90-8EBD8798F3C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AA01B4-57A4-4AC0-9181-E105C79E90C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EA2256-A468-4FEE-A5AB-48612C17562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DD6BBE-23FD-4B00-85E1-D3F0DF156EA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6C56CE-5BF7-44A4-A809-21C161E3EBA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368221-F9D9-4CDB-AA24-611B6754E29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CDA956-0695-4CCC-9C88-BDE19DFCA98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C1968C-3037-472A-9B92-295F33536B6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C34A90-0FBA-47A3-AB86-4D59AC44EC9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5035E1-F7B0-4B91-B6FD-133AAF858E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0F454-701E-4496-A618-B527201C48C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6D71C9-4949-4850-A1D2-B33BABACE55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C446D-DD96-4048-9C6F-CFA6919EE80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B713A-A50E-45EE-A611-631E8C12CC3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4B30C-E668-43B5-83C6-DC399836FA6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9E3D1-E188-4385-90FC-0822148FBA4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088C5-27E3-46BF-A9DF-A4DB46ECF5F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57564-C0C6-4FF1-821A-4009CCC025E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04E9E-76C6-4023-B7E6-C569F8DDE82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7272F-F378-4F67-9AAB-544BC7B1A73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59197-FD20-406C-9204-F8C879CF59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3475E-880D-409F-8338-68496D34B60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28941-B916-4089-A485-87A3A5535B4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C1E6A-7BAC-4EBD-9190-1AAE48FF4B9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C2385-051E-45C7-A9F7-A4BBBA82B15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11D4C7-A2E7-4FEE-9442-48A7559BFEE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A0E301-0221-4072-B217-C5697AC574D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9D71D0-2B5F-4CD4-BBA5-0FA4359BBBF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12B692-C44C-4775-B84F-27F2A8AD099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577DA6-AAA8-4AB1-B49B-C33E9EDCB17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16F9CF-3607-4024-B63B-2F2AA90E2EF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0DAE05-FED8-46DE-B66E-389B7A627E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9CD-1E00-43CB-96C5-839EE10F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86EC3-6D25-422A-9B6B-FB50C4ADA82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8898A9-9C22-468A-8678-3D7D747FCB9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69D5EA-9E9E-4416-B9F2-BD09AAC84CB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5F9363-C5E7-4B60-8008-8CF1A070E6B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D736CE-B8B4-4470-9E4D-7EC56F7D5E4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747373-D1A8-4818-9E22-5C3419D4BF7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E1C12E-7187-4E2C-80BB-AFF68B66AFA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B52078-254F-4F4B-9FF7-6F8F91CB615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17290D-1816-4BB3-BAF3-F6B302438BC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A123DF-A1C8-437F-9C87-EB29C2C383B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2DEC43-F213-480E-9F98-63F4FE3E45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F83AD-855A-42D4-84F1-71EA06C386E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097E5D-77E8-4D41-A653-6A875D411A3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51E72B-03D5-4B59-9FE1-7B7952E6D5D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4EFBCA-45CF-405E-A3C8-BB1AC6B410F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5ABCED-6A53-435F-B68B-317DD20DC53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C05F52-3ECC-4314-8B96-505A1CD3634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267C78-29F3-434C-899D-060C9030E66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D9F77B-D8A2-40AB-81DF-3CFB0A57BF7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7299E-DD95-4023-AC6F-6CC74564235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70EB1-1278-464D-8DEF-3A37DDDADB8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90289-2679-4B27-BD00-02062C7321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84BF6-8479-4BD2-9E27-09AF00B4C3F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20012-1A27-42C8-9181-A1C3D4D5625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9D4DF-C0F7-41EB-A277-8C7D1B3354C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5AE9D-E7B7-445E-98F8-7210503AA49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AFFBE-3EF1-40BE-950C-5DA8690318D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74DF1-C589-4473-9166-DECC147AAFD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AF196-53F5-44E3-8B2E-496763CE532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2D04D-7DA5-4224-9B9D-5AB39ED4B40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B9175-5955-4E5E-BC9B-FF1BAF51284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79C08-D4E3-4333-B471-8793A0F77D8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3A6A16-4891-41C5-A075-BC13E4DC60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24F47-3D3C-421A-969D-C1DC24A03C0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740327-9539-472B-94C3-034F4D3A218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D59263-F601-411D-A177-E2A52EEAC8C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E008C8-1E47-4E8A-8A0B-4BFD92A5085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19946E-6A64-4360-B3B5-75BF211A8D5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6CF8F3-70AD-40EF-AC56-CF8C51835EC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B2B498-A627-441A-B301-78D66D3AA85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D1604C-4330-4BF1-8439-7EF249306C0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544699-03F4-46D7-9276-A4A30DAFC5E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91A3D8-05F6-416B-9907-390CF38E2EB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8CDD20-64D2-417E-A663-78BEF7FEAC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68B9E-CFE7-48EB-BFFD-0A899443DE6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3B12E1-421F-45A9-ABDF-4BEBA512AE0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A5CED4-4514-4AB2-B5BD-E37C3F31998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BC0F71-EB27-474C-847D-4AEEFDA2B04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27CA3C-20F9-436E-AA93-0F86EC655AB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25DF4E-292A-49A0-BF54-FA9E7500B7B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D319BD-D6A7-42BE-9428-07D6D331E80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51978E-00A2-4955-A990-ABACD9F85E9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02AFB0-2AE1-4990-8DE3-6E0420EC5FC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C89096-47FA-4717-8CBF-C08B1BAFF24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284F2A-3984-4DBC-A83E-FB29AC1E7B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F78C26-CE85-454A-A610-F004BECD17D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9FF758-9DAD-4375-B4F6-1748FBBEE77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16DEB2-6169-4F88-AF3B-38DA66F443D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DEB361-E44D-4652-81E1-D3CF0E110E2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80B9E-5008-4451-B585-596519DB464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93CC2-317F-4C2C-A0B4-3C9D513FE64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7AEE9-D369-4211-99E3-119D8B8F329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E37CB-460D-4FF7-8788-636F932FDD9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651E9-E802-4D50-8CE3-FC098E0C4EB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94220-89B6-4013-A107-B8EBF014EA4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7AD39-E573-48DC-A754-18917AE586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9487A-C22A-440E-AE31-EB00D4B9D9E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535D0-F5D3-47BA-9FA4-9A9F3F0D68B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7D211-353F-4BBF-A50E-544D656F6F0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684B1-9E3B-4DAC-B9DE-96ED9AC2B03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67994-5E60-4EAA-8CC1-9E36A2F36DB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817DE-032F-476B-A84B-A45648F5E93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21217B-1BFC-4D8A-8B34-3E6535F5D89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367827-4518-4493-B6C6-930242788EB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2C5180-64FC-44BC-8051-D1E9A03CA4D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1A3225-E380-47EC-914C-60E6F84BC63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DBB83D-C1F1-4B7D-8A66-071F453CC5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14E20-53C7-4231-9099-6002BC40FF5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087DB1-8235-4B65-9E07-CA04F15B73A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439316-8516-453B-94A0-59224D983F9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5FD4C3-721A-465F-8D15-93B11B3A7D9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D24363-7229-43C2-8FF8-D6BF05EE51B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ADC7E3-9A18-4C51-84CE-41A315F28A3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76DEB6-1F0F-46CA-BA41-BB9C014B56B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B9E32F-3A8F-45A6-AB50-0903395C3DD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95BF37-1CF9-458F-85F9-E1D7E04E11B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BD80CBF-31E3-446E-A795-56D38FC414E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840D6DC-61D0-4F37-8B00-DA032D5061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7515DF-EC79-4131-8A98-A079514ED4F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3E8A21B-8272-484C-B477-DA378E3C2F6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7C468A0-D2DE-45D8-85FB-3058253DBBC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651C00-7B9E-4F4C-A2BD-3E93BC1AD2D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6410EB7-6E21-4625-9E26-A000803CADC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194BB6A-CA28-4084-A1C5-D734E6ABE1C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FBC0AB7-CF8D-40D8-B4E8-CAD19587F01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F3066E-C639-450F-B5F0-AAFDF6F2BCD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D4264E-31AE-4DF0-B33F-CE7DBA59854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2085D53-043E-45E9-A622-BFE2402D2F2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9A913F-A16B-4511-B743-E8081385AE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E514F-4F48-4F02-A823-DDD56137F3A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B2321-7066-4331-ACEF-914545D9D9C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99BA6F-1325-4875-854E-9950C661C70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614F4-1D6E-4FEC-B049-51A9816AE23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CE67B-BE10-41DC-8FA5-6DE76CF82E2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D0C9B-2B76-4B54-B850-F819F340763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8CD0E-12D5-4F3E-B2F5-453203C466B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E3DE9-F749-4D13-8300-BF9D4C3DCE1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41DDF-CC77-4DAA-AB7C-7B8DA50A273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1A214-44BE-47E5-991A-ACDAAD00ACD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B3AAA-E398-4361-80EB-BAE0341E04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987-CC78-46A7-BFFF-6B23924B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0E866-4D40-4F90-8C38-75FB410E20D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16C75-3249-456F-B74F-0241F3646E8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15888-D628-4CB9-BBB8-57B5F3878EF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C82EA-99F3-4CB6-9920-479F0E26CF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9718C-24ED-4B08-938C-6621011791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BFC0D-B8CB-4C35-A38E-A4F6D33BB6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22D41C-BC62-4B30-ACF4-48FA73AD13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A34E2-3C61-4192-8F88-9C960887B1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D062-A686-4EB2-8761-1DC20B2A73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4C33-6E33-4D96-ADFA-B2B9EF4F30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319F-3F70-47F7-986F-8161399D6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5E6-4FED-40A1-A175-EBBEA337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BC5D-BAA9-464D-9481-A846ED7E9F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D4884-69B3-419F-B7EA-AAAF7C74E9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5EAE-BCCE-4709-BEB4-F98106267F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B5AC-9509-42A0-8332-2ABBCA8EAC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8F6C-9D71-4ADB-9765-D737E01A0E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7D0C-731E-420C-BDED-D5827D8970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B4DF-1D07-4AC8-873A-3427BF838B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06F7-EB3A-4036-A1F3-ABB9BA17A4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88E5-8375-43D2-93E0-9206070EE8B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DF2909-99F5-4513-ACC0-FF0D931F7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E4B-494A-4D4B-B75D-3FD09C2F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B88E9-ABB1-4BFE-AF59-7A3EA16E1D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309AE-EEF3-4F21-BBF8-7F52834C8E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34386-9573-4B5F-8F4A-3A0D46C2679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4DB5D-513A-4868-82A1-7B0BC60715D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2A768-E926-424D-91D4-13DF17CBDD4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CF10E-1DF8-47AE-8403-604027C2815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E05D67-59BD-4D04-BE9A-9C226E524AF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6AE49-127C-46BA-B5C8-987960140CE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6C9C9-3B01-425D-93AD-96D0460F1B3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2D4F0-305B-429C-A1EA-5A9105C60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D58-BB63-42EC-BDB7-65AA2EC0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6BA32-FF50-45B0-87CF-A920757F13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195195-B10E-46E4-A72C-0C07CE60A1D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EBD53-5DC3-4FA5-874C-E42A5DE276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78669B-45DA-4D08-8802-F0A5408153D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EBAC8D-A6DE-4E1F-99AC-CFBB3E7553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69EE06-6753-4F34-9770-5D078B0BC8E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ECAA38-8EC9-4E65-88D9-8F371388E6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1E27FC-8D25-4001-BF2B-537B25D3DA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8220DC-066E-444F-A0FE-A1741BB77F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A3F4B4-08ED-43F2-AA78-20E8A62EC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3FF-06D8-4ADD-BCEC-4B40B5C2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B6877C-980D-4CF9-A633-EBF2F1C405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E83D1-B04B-4CD9-B11E-F50ED48B237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50A0D4-E93E-42D9-8CAE-6479B270A1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430A-7880-4CB5-B382-81F400F9DE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FB41C-8DF7-467E-940D-4AD3A79FAE6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8F1D2-DB29-4E60-BE13-33AF0148B55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1086-B1A0-4746-B636-F2120F5D30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7192F-4F5D-4FB8-90B0-BCC99BA6320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D4AD2-3017-40CE-A874-13C73FB3B4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97316-3D89-4294-BE27-9EB713A31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045-AEF1-4245-A06F-D12E8F52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0802A-2963-4E2F-878D-FA59E85D9BF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E9D11-C088-460E-93E8-39EE6AF889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FBA9-F5C9-4C03-9779-B11D84FD77C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24BB-C97B-4436-8AA0-B7AEE67FA29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BDC77-29C8-4A44-87BE-FC47060ED6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14983-CF69-4405-9A04-0834BE59B2E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6F8EF-DC85-4DF6-AB1B-FC478E1521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01EAB-B5D2-4FD1-9CA7-4C0776EC7E3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4D41C-6042-4849-9D9F-F2E0225E0D3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9F5BC-BFCE-4F80-AEBA-4450D13EF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3C0-AF98-4497-9B59-1E22297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CE97E-4B21-4CF4-852E-E890F095A09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CE812-FC4B-4E93-A9E2-B1C6ED22E1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15C53-4823-4D0B-A0CD-FC922B4B7F5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4B8FC-D2A8-4A23-BC73-87EDFB3697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714A1-FAD9-406C-BF09-7850E085B18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B7C61-1613-46A3-9854-B2FB9FAA3D4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EA3CB-B4D1-4EF7-8E4E-68458278578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4885C3-DEEA-4570-9888-84923C03FAB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6A4620-993F-4DC9-9F4B-E8E3B3A7132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A7B4DE-AAB7-40ED-AE58-DC1D76C0E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693A-ED24-45B2-B269-8D2A562DB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D768-7F8D-4C00-966C-78C746CA0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6129-83D6-4861-9801-8C381BFF0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98DF-CEB0-4AAE-96C5-0E191A542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6347-46F7-4516-9594-4ED9C8F75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D845-C1E2-4EFB-BE32-8C09F3AD0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0C75-0A98-4CAA-B08C-3747BA15F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ftr" idx="32"/>
          </p:nvPr>
        </p:nvSpPr>
        <p:spPr>
          <a:xfrm>
            <a:off x="68544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57F6-2453-4D5A-BFCF-ED1218E77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ftr" idx="3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sldNum" idx="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CEB5-E882-4827-A749-BE0601C6B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ftr" idx="3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7052-2B76-4F17-AE99-3A099D790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ftr" idx="3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F022-B9F2-441F-8227-7119020B2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6047-D387-4D8D-9792-1C67BA9DC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ftr" idx="4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sldNum" idx="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06EB-2E1F-4112-9994-1B88398C2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ftr" idx="4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828F-D4FF-401C-B5C7-8301FBB3C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ftr" idx="4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305F-FC2F-4676-8E52-B177F1AF1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ftr" idx="4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sldNum" idx="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3123-98B1-48A4-ACAF-BD232F759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4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FB43-E78C-4224-9D4F-E3438D74B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5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D530-718E-40DF-8AA1-784BCE5BD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DAD3-DD55-4A8C-8186-C0852489D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53B9-D43B-454D-846D-33858E6D8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68544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36C1-5883-4EF0-B728-ABDB6D1A8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6767-09AD-436A-8265-839197432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994E-5B09-4C1C-A42F-8316A1BF5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0BC8-6D33-4465-9156-F505E5AB4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8A94-8255-417E-B278-37FCD297E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3plstudy.com/" TargetMode="External"/><Relationship Id="rId2" Type="http://schemas.openxmlformats.org/officeDocument/2006/relationships/hyperlink" Target="http://www.3plogistics.com/" TargetMode="External"/><Relationship Id="rId3" Type="http://schemas.openxmlformats.org/officeDocument/2006/relationships/hyperlink" Target="http://www.dcvelocity.com/" TargetMode="External"/><Relationship Id="rId4" Type="http://schemas.openxmlformats.org/officeDocument/2006/relationships/hyperlink" Target="http://www.freightworld.com/" TargetMode="External"/><Relationship Id="rId5" Type="http://schemas.openxmlformats.org/officeDocument/2006/relationships/hyperlink" Target="http://inboundlogistics.com/3pl/top100.shtml" TargetMode="External"/><Relationship Id="rId6" Type="http://schemas.openxmlformats.org/officeDocument/2006/relationships/hyperlink" Target="http://www.logisticstoday.com/" TargetMode="External"/><Relationship Id="rId7" Type="http://schemas.openxmlformats.org/officeDocument/2006/relationships/hyperlink" Target="http://www.supplychainbrain.com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pper Processes, Outsourcing and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rty Log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26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sour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tituting external specialists for in-house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common today for activities such 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u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roll and tax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 benefits admini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ation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d by organizations known as third-party logistics service providers or 3P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06DE-3BD9-4DAC-ADE1-76F96764C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ice of a 3PL should be carefully m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PL performance impacts financial and customer servic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addresses process for selecting 3P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 of 3PL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istics of 3PL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 of 3PL relation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and future 3PL industry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6C95-0414-4E48-9C9C-6E11F1E0E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228240" y="14475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 of a 3P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ernal supplier that performs all or a part of a company’s logistics func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may include: inventory management, warehousing, financial services, transport,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pter focuses on transportation services, bu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 services should be integrated with customer’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logistics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 focused 3PL should be capable of providing solutions to logistics and supply chain challeng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F185-8402-48B1-B82A-121F55E2A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3PLs have their origin in a specific activity, such as transport, IT, etc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foundation services provide a basis for classifying 3P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ation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bution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er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al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6988-49DD-45ED-BBF7-E6A23B202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15192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ly transportation carr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ed 3PL subsidiaries in response to expanding customer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now include transport management, dedicated contract carriage, and fulfillment center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viders (with parent comp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L Logistics/Neptune Orient Lines Lim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S Supply Chain Solutions/UPS of North Ame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F7C0-75AB-4073-BF46-67BE9EB77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bution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ly public or contract warehousing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ded services into inventory management       and order fulfillment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integrated transport services into offe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range of market reach, from local to 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l, DSC Logistics, Ozburn-Hessey Log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rpillar Logistics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6FE8-9AD1-429C-B7EA-9E8881923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warder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ted from intermediaries such as freight forwarders, brokers and ag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range transport-related services for less-than-volume shipments and for international shi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H. Robinson Worldwide, Hub Group, Kuehne+Nag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able mergers and acquisitions among this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AFFC-42B6-4317-89E9-E44FB7DB1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l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customers with monetary issues and financial flows in the supply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ditional services include freight rating, freight payment, freight bill auditing, accounting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anded services include IT systems for freight visibility, electronic payment, carrier compliance reporting, claims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s Information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rcial Traffic 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5921-D2E7-4DA4-A078-8530BD2DC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include online freight brokering and cargo planning, routing, and schedu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offer online access to transport and warehouse management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s purchase of licensed software for thes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artes Systems Group, Sterling Commerce, Trans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CD8F-E226-492F-9064-5FEB0777F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native 3PL classification sc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t based provid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3PL owns the equipment used to provid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asset based provid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PL arranges for services from other companies that own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3PL tends to not own equipment (asset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65DA-5390-4579-9ECA-221F98823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ficeMax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5335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tt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165K ft2) is one of 27 national CFC’s, serving B2B orders and online retail or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s WA, AK, Northern ID, NW Montana, in addition to OR retail custom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cross-docks in Everett, Spokane, plus Por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rtland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(48K ft2) serves OR B2B (contract) customers and supports cross-docks in Tangent and southern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t based prov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 include Exel, FedEx, UPS, Men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tages for user of 3PL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PL maintains direct control over shipper’s fr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PL has ready access to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wer organizations to work through to resolve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advantages for user of 3P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r may favor using the type of assets it owns, this may be less then optimal for u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2D5C-3DBC-4CBE-9E2B-7DA9751C8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asset based prov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 integ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 customer-tailored solutions from services offered by transport and logistics service specia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ts in structuring and negotiating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ular services include freight management and brokerage, routing and scheduling shipments, international freight flow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 CEVA Logistics, C.H. Robin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tages: flexibility, unbiased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13A1-86A7-428F-A6E8-777C81C29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 range of services, from supply chain design to daily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in transport, 3PLs provide 4 principal types of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ight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ight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ediary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D741-890E-4863-9A5E-A7660E85F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10"/>
          <p:cNvSpPr/>
          <p:nvPr/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igure 12-1: 3PL Primary Transportation Offering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Footer Placeholder 15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A10C-AB9B-4686-8C6F-A272A7399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9"/>
          <p:cNvSpPr/>
          <p:nvPr/>
        </p:nvSpPr>
        <p:spPr>
          <a:xfrm>
            <a:off x="152280" y="228600"/>
            <a:ext cx="883944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ound Single Corner Rectangle 6"/>
          <p:cNvSpPr/>
          <p:nvPr/>
        </p:nvSpPr>
        <p:spPr>
          <a:xfrm flipH="1">
            <a:off x="685080" y="1295280"/>
            <a:ext cx="3886200" cy="23623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REIGHT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hire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ac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edited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 definit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modal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ound Single Corner Rectangle 11"/>
          <p:cNvSpPr/>
          <p:nvPr/>
        </p:nvSpPr>
        <p:spPr>
          <a:xfrm flipH="1" flipV="1">
            <a:off x="684720" y="3657600"/>
            <a:ext cx="3886200" cy="2362320"/>
          </a:xfrm>
          <a:custGeom>
            <a:avLst/>
            <a:gdLst>
              <a:gd name="textAreaLeft" fmla="*/ 0 w 3886200"/>
              <a:gd name="textAreaRight" fmla="*/ 3771000 w 3886200"/>
              <a:gd name="textAreaTop" fmla="*/ 360 h 2362320"/>
              <a:gd name="textAreaBottom" fmla="*/ 2363040 h 2362320"/>
            </a:gdLst>
            <a:ahLst/>
            <a:rect l="textAreaLeft" t="textAreaTop" r="textAreaRight" b="textAreaBottom"/>
            <a:pathLst>
              <a:path w="3886200" h="2362200">
                <a:moveTo>
                  <a:pt x="0" y="0"/>
                </a:moveTo>
                <a:lnTo>
                  <a:pt x="3492492" y="0"/>
                </a:lnTo>
                <a:lnTo>
                  <a:pt x="3492492" y="0"/>
                </a:lnTo>
                <a:arcTo wR="393708" hR="393708" stAng="-5400000" swAng="5400009"/>
                <a:lnTo>
                  <a:pt x="3886200" y="2362200"/>
                </a:lnTo>
                <a:lnTo>
                  <a:pt x="0" y="23622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ound Single Corner Rectangle 12"/>
          <p:cNvSpPr/>
          <p:nvPr/>
        </p:nvSpPr>
        <p:spPr>
          <a:xfrm>
            <a:off x="4572000" y="1295280"/>
            <a:ext cx="4038480" cy="23623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REIGH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rier selection, routing, &amp; schedu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act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formanc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eight bill auditing and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nsportation manag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ound Single Corner Rectangle 13"/>
          <p:cNvSpPr/>
          <p:nvPr/>
        </p:nvSpPr>
        <p:spPr>
          <a:xfrm flipV="1">
            <a:off x="4572000" y="3657600"/>
            <a:ext cx="4038480" cy="2362320"/>
          </a:xfrm>
          <a:custGeom>
            <a:avLst/>
            <a:gdLst>
              <a:gd name="textAreaLeft" fmla="*/ 0 w 4038480"/>
              <a:gd name="textAreaRight" fmla="*/ 3923280 w 4038480"/>
              <a:gd name="textAreaTop" fmla="*/ 360 h 2362320"/>
              <a:gd name="textAreaBottom" fmla="*/ 2363040 h 2362320"/>
            </a:gdLst>
            <a:ahLst/>
            <a:rect l="textAreaLeft" t="textAreaTop" r="textAreaRight" b="textAreaBottom"/>
            <a:pathLst>
              <a:path w="4038600" h="2362200">
                <a:moveTo>
                  <a:pt x="0" y="0"/>
                </a:moveTo>
                <a:lnTo>
                  <a:pt x="3644892" y="0"/>
                </a:lnTo>
                <a:lnTo>
                  <a:pt x="3644892" y="0"/>
                </a:lnTo>
                <a:arcTo wR="393708" hR="393708" stAng="-5400000" swAng="5400009"/>
                <a:lnTo>
                  <a:pt x="4038600" y="2362200"/>
                </a:lnTo>
                <a:lnTo>
                  <a:pt x="0" y="23622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14"/>
          <p:cNvSpPr/>
          <p:nvPr/>
        </p:nvSpPr>
        <p:spPr>
          <a:xfrm>
            <a:off x="801720" y="3854520"/>
            <a:ext cx="3770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RMEDIARY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rface forwa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ir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eight broke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modal mark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ippers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15"/>
          <p:cNvSpPr/>
          <p:nvPr/>
        </p:nvSpPr>
        <p:spPr>
          <a:xfrm>
            <a:off x="4689360" y="3854520"/>
            <a:ext cx="2966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ECIALT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dicated contract carri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ray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o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rge in transi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usehold good movem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mediary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face freight forwa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ks up, assembles and consolidates ship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anges for carriers to transport and deliver to final dest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 as shippers and carriers.  As carriers, they are liable for loss and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 freight forwarder (similar to surface forwar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alizes in high value, time sensitive g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5036-63D3-47B3-B1AE-483B7E3EB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ight brok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ddlemen between shipper and c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es to match carrier’s capacity with shipper’s 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odal marketing compan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olidators or agents, facilitate intermodal rail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no liability, legal shipping arrangement is between shipper and carr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ppers assoc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profit coops, aggregate member cargo for shipment as consolidated 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D4E6-C9EE-4CCD-B5E4-A2D134237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ty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dicated contract 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PL serves as customer’s private fl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 gains advantage of private fleet without capitalization, operating and management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y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haul trucking, pick up and delivery of contai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ly contracted for by rail or ocean carri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A3ED-FD38-48E2-8305-22A5625C1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l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quantity of freight moved as one shipment in bulk to central distribution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eight unloaded, sorted by customer, delivered to local dest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etes directly with LTL service offered by LTL motor c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advant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er transit time, less handling, lower rates, lower inventory co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AB77-2BC8-42AC-8E2D-56FE54BA7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52280" y="13712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ge in tran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tes shipments from multiple suppliers at a merge point near end 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 orders of assorted goods assembled at merge facility for delivery to end 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s: lowers total inventory cost, customer avoids capital cost of warehous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sehold goods movement (HHG or van li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 include local agency with warehouse, pick-up and delivery equipment, centralized dispatch, and specialized  vehicles for long distance trans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53E7-97C5-470B-A130-05CCAD7E0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ing 3PL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s desire “one-stop shopping” thus, leading 3PLs developing as integrated servic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s desire global reach, thus, leading 3PLs expanding service terri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capabilities requi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y chain network design cap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 implementation and coord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-to-day exec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IT tools and multi-modal cap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84E8-8345-4F0B-AA9B-ECE289D86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0" name=""/>
          <p:cNvGraphicFramePr/>
          <p:nvPr/>
        </p:nvGraphicFramePr>
        <p:xfrm>
          <a:off x="685800" y="1523880"/>
          <a:ext cx="7696080" cy="4632480"/>
        </p:xfrm>
        <a:graphic>
          <a:graphicData uri="http://schemas.openxmlformats.org/drawingml/2006/table">
            <a:tbl>
              <a:tblPr/>
              <a:tblGrid>
                <a:gridCol w="1208160"/>
                <a:gridCol w="1268280"/>
                <a:gridCol w="1416240"/>
                <a:gridCol w="1268280"/>
                <a:gridCol w="1192320"/>
                <a:gridCol w="1342800"/>
              </a:tblGrid>
              <a:tr h="88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Transpor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Facil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Payro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Seattle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Portland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Hybrid  option (PDX cross-dock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Retain exi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1" name="Rectangle 1"/>
          <p:cNvSpPr/>
          <p:nvPr/>
        </p:nvSpPr>
        <p:spPr>
          <a:xfrm>
            <a:off x="533520" y="417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What factors/costs would have to be considered for each of the alternatives?  Outline these in the table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es to global integration inclu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eraging strengths of express delivery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ility, door-to-door, high reli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quisitions and partnerships among 3P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ing portfolio of transportation, e-commerce supply chain and business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inventory, fulfillment, cold chain solutions, cross docking, brokerage, freight forwar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c investments in transport/distribution facil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F782-0B2C-4AE2-927D-3094EBF64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PL User Overview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PL growth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nding on 3PL services steadily 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U.S. 3PL providers account for 16% of total logistics spending in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 from 10% in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7% of Fortune 500 outsourced some portion of logistics and supply chain functions in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 from 64%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industries lead use of 3PL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ology, automotive, ret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4042-46F1-4FBE-8093-F0D7C1888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10"/>
          <p:cNvSpPr/>
          <p:nvPr/>
        </p:nvSpPr>
        <p:spPr>
          <a:xfrm>
            <a:off x="228600" y="3808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gure 12-2:  U.S. Spending on 3PL Servi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4" name="Footer Placeholder 11"/>
          <p:cNvSpPr/>
          <p:nvPr/>
        </p:nvSpPr>
        <p:spPr>
          <a:xfrm>
            <a:off x="685800" y="6324480"/>
            <a:ext cx="426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9FC4-5451-4135-85F6-21769D9CC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9"/>
          <p:cNvSpPr/>
          <p:nvPr/>
        </p:nvSpPr>
        <p:spPr>
          <a:xfrm>
            <a:off x="228600" y="380880"/>
            <a:ext cx="87631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37"/>
          <p:cNvSpPr/>
          <p:nvPr/>
        </p:nvSpPr>
        <p:spPr>
          <a:xfrm>
            <a:off x="1523880" y="601992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Armstrong and Associates, 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Trends in 3PL/Customer Relationship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2009. Us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Object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977240" cy="4816440"/>
          </a:xfrm>
          <a:prstGeom prst="rect">
            <a:avLst/>
          </a:prstGeom>
          <a:ln w="0">
            <a:noFill/>
          </a:ln>
        </p:spPr>
      </p:pic>
      <p:sp>
        <p:nvSpPr>
          <p:cNvPr id="1169" name="TextBox 11"/>
          <p:cNvSpPr/>
          <p:nvPr/>
        </p:nvSpPr>
        <p:spPr>
          <a:xfrm rot="16200000">
            <a:off x="-84240" y="32043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 Bill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TextBox 9"/>
          <p:cNvSpPr/>
          <p:nvPr/>
        </p:nvSpPr>
        <p:spPr>
          <a:xfrm>
            <a:off x="838080" y="60958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10"/>
          <p:cNvSpPr/>
          <p:nvPr/>
        </p:nvSpPr>
        <p:spPr>
          <a:xfrm>
            <a:off x="81532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Picture 5" descr="E:\Tables\CH12\12-T02.jpg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PL User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s for Outsourc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internal expert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lement internal expert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to reduce costs, improve financial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to increase resource capacity or improve asset produc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Footer Placeholder 5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685C-9349-4127-AF97-E4BA739A0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ble 12-3: Reasons For and Against 3PL Us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sons for Using 3P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456840" y="2174400"/>
            <a:ext cx="4040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portunity for cost reduction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bility to focus on core competenc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portunity to improve customer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mprove return on ass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 in inventory tur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ductivity improvement opportun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mbibe more flexibility into logistics proce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cess to emerging technolo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pansion to unfamiliar mark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bility to divert capital invest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sons Against Using 3P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343400" y="2174400"/>
            <a:ext cx="464832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gistics is a core competency of comp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st reductions would not be experien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rol over outsourced function would dimini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rvice level commitments would not be realiz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any has more expertise than 3PL provi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gistics is too important to consider outsourc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utsourcing is not a corporate philosoph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al capabilities of 3PL need improv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ability of 3PLs to form meaningful relationshi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ssues related to security of ship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Footer Placeholder 3"/>
          <p:cNvSpPr/>
          <p:nvPr/>
        </p:nvSpPr>
        <p:spPr>
          <a:xfrm>
            <a:off x="6858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800B-2C71-46DE-8112-5905E9837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0"/>
          <p:cNvSpPr/>
          <p:nvPr/>
        </p:nvSpPr>
        <p:spPr>
          <a:xfrm>
            <a:off x="380880" y="5562720"/>
            <a:ext cx="838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urces: B.S. Sahay and Ramneesh Mohan, “3PL practices: an Indian perspective,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International Journal of Physical Distribution &amp; Logistics Management,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Vol .36, No. 9, 2006; and, Georgia Tech and CapGemini LLC,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Eleventh Annual 3PL Stud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20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PL User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imary Activities Outsourc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6854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relationships with 3PLs are tactical, meaning 3PLs are used for a specific t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ation is the most often used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s clearing, freight forwarding and shipment consolidation also widely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8% of 3PL relationships are strate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PLs fully manage customer’s supply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many users look to 3PLs for help in integrating global service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Footer Placeholder 6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5279-29D0-4AD7-8ECE-C32DCDF8E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PL User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ults Achiev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PL users satisfied with outsourcing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stics cost reductions in 12%-15%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xed logistics assets reduced 20%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der cycle time reductions of 20%-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PLs provide more flexibility to fluctuating 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PLs help customers increase service rel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most 3PL relationships have some proble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mmon: unrealized service-levels or cost reductions, lack of continuous improv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DD19-F0D5-4015-AEC8-604E8C6B0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10"/>
          <p:cNvSpPr/>
          <p:nvPr/>
        </p:nvSpPr>
        <p:spPr>
          <a:xfrm>
            <a:off x="228600" y="3808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gure 12-3: 3PL Relationship Evalua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5" name="Rectangle 9"/>
          <p:cNvSpPr/>
          <p:nvPr/>
        </p:nvSpPr>
        <p:spPr>
          <a:xfrm>
            <a:off x="228600" y="380880"/>
            <a:ext cx="87631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237"/>
          <p:cNvSpPr/>
          <p:nvPr/>
        </p:nvSpPr>
        <p:spPr>
          <a:xfrm>
            <a:off x="1143000" y="5868000"/>
            <a:ext cx="7391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Georgia Tech and Capemini LLC,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tate of Logistics Outsourcing: 13th Annual 3PL Study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2008, Fig. 4, p. 11 Copyright © 2008 C. John Langley, Jr., Ph.D, and Capgemini U.S. LLC.  All  rights reserved.  Reprinted by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7" name="Chart 12"/>
          <p:cNvGraphicFramePr/>
          <p:nvPr/>
        </p:nvGraphicFramePr>
        <p:xfrm>
          <a:off x="914400" y="1219320"/>
          <a:ext cx="73915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8" name="Char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3915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9" name="TextBox 13"/>
          <p:cNvSpPr/>
          <p:nvPr/>
        </p:nvSpPr>
        <p:spPr>
          <a:xfrm rot="16200000">
            <a:off x="-360720" y="3184560"/>
            <a:ext cx="22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ercent of Respon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6606-AD2E-4905-AC63-FE3E162C9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ooter Placeholder 11"/>
          <p:cNvSpPr/>
          <p:nvPr/>
        </p:nvSpPr>
        <p:spPr>
          <a:xfrm>
            <a:off x="6858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152280" y="9903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 step process for establishing 3PL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1: Perform strategic 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 a logistics/supply chain aud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s current state, needs, and strategy al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 to be collected in audit incl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/objectives at corporate, division, supply chain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ments of customers, suppliers, key logistics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/analyze strategic environmental factors, industry tr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 current logistics network, firm’s posit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chmark logistics costs and key performance indic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p analysis between current and desired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70FF-32D4-44E9-8134-5BF9218B2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"/>
          <p:cNvSpPr/>
          <p:nvPr/>
        </p:nvSpPr>
        <p:spPr>
          <a:xfrm>
            <a:off x="685800" y="117000"/>
            <a:ext cx="8001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Is each of these alternatives viable?  What is the overriding benefit to each alternat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Calibri"/>
              </a:rPr>
              <a:t>Which scenario supports improved network optimization and inventory deploymen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What data would be necessary to determine new inventory levels at the primary si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Calibri"/>
              </a:rPr>
              <a:t>What processes would have to be initiated to implement a consolidation?  List some specific exampl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10"/>
          <p:cNvSpPr/>
          <p:nvPr/>
        </p:nvSpPr>
        <p:spPr>
          <a:xfrm>
            <a:off x="228600" y="3808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gure 12-4: 3PL Relationship Development Proces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8" name="Rectangle 9"/>
          <p:cNvSpPr/>
          <p:nvPr/>
        </p:nvSpPr>
        <p:spPr>
          <a:xfrm>
            <a:off x="152280" y="304920"/>
            <a:ext cx="8763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Object 1" descr=""/>
          <p:cNvPicPr/>
          <p:nvPr/>
        </p:nvPicPr>
        <p:blipFill>
          <a:blip r:embed="rId1"/>
          <a:stretch/>
        </p:blipFill>
        <p:spPr>
          <a:xfrm>
            <a:off x="225360" y="1749600"/>
            <a:ext cx="8772480" cy="3590640"/>
          </a:xfrm>
          <a:prstGeom prst="rect">
            <a:avLst/>
          </a:prstGeom>
          <a:ln w="0">
            <a:noFill/>
          </a:ln>
        </p:spPr>
      </p:pic>
      <p:sp>
        <p:nvSpPr>
          <p:cNvPr id="1210" name="Rectangle 7"/>
          <p:cNvSpPr/>
          <p:nvPr/>
        </p:nvSpPr>
        <p:spPr>
          <a:xfrm>
            <a:off x="533520" y="5562720"/>
            <a:ext cx="876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urce:  Copyright © 2001 C. John Langley Jr., Ph.D. and Capgemini U.S. LLC.  All rights reserved.  Reprinted by per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115E-F171-48D2-AD8F-5FFC064E9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ooter Placeholder 7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228240" y="9903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2: Decision to form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service provider’s capabilities are need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the company appear to have core competency (expertise, strategic fit, and ability to invest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mbert, Emmelhainz, and Gardner Partnership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 parts: drivers and facilitators of a 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vers: the compelling reasons to part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nergy from the partnership that cannot otherwise be attain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ors: corporate environmental factors that enhance partnership development and grow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atible cultures, mgmt. philosophy, relationship commi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2C94-944C-415B-87F6-C79248707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3: Evaluate 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ing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neither drivers or facilitators are present, then the relationship should be transactional or arm’s 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ll parties in the relationship share common drivers and facilitating factors are present, then a more structured, formal relationship is just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should include comparison of firm’s needs with capabilities of potential 3PL part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should include cross-functional persp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380D-48AD-4238-8167-F054CC9E4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4: Select part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identifies 3PLs that have credentials to be 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, given the strategic nature of the pending relationship, the firm’s executives should interact professionally with candidate 3P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l outcome should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nsus on “best fit” 3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ent understanding of the decision m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ent expectation of what to expect from the 3PL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E014-74DE-4839-BC7C-3A03ECD51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5: Structure operat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 refers to activities, processes, and priorities of the 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s of the operating model 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t planning processes and operating contr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k/reward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st and commi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 sty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ope of the 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ncial inves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8957-34A7-4908-B7A8-FF98A9069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572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6: Implementation and continuous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 time varies depending on scope and complexity of 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improvement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m for breakthrough improvements that strengthen the market position of the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l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er value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owcharting and statistical process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ity-based costing, benchmarking, process reengineerin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971A-4D55-432C-8FC9-7FB4AE62A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successful 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organizations invest time and money in development and sustai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sh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e of 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ness to new ideas and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on a regular 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 approach to problem solv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eraging of each partner’s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56DC-03E4-4977-A4F3-FF4E32438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rvice Requiremen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30492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questions prior to forming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types of services requir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ctical or strategic approach to attaining servic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ctical: outsource individual services a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onship is transactional, collaboration is tact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l-Mart’s use of Greatwide Transportation for refrigerated product delivery rather than own fleet is an exa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: establish extensive set of integrated service capabilities with 3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consequences, 3PL heavily impacts service perform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: Goodyear uses Exel for transportation load planning, private fleet operations and order fulfill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48A3-ED9B-465A-9EAB-7B46D3B2B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ordination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should the role of coordinating key logistics activities resi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s internally if firm does not out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s internally if firm outsources tactically, largely to reduce cost of key activities, such as transpor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m uses 3PLs specializing in limited number of services, i.e. logistics servic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5EF5-BC75-4688-864E-E02A42C6A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ordination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ion role shared with 3PL if firm outsources to achieve value added ser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m uses 3PL integrated servic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ion role largely lies with service provider if they have lead responsibility for regional supply chain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r known as lead logistics provider or 4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ion totally assumed by advance service providers (global integr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3823-D33C-470F-B42A-0C78D43B1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Outsource Logistics Servic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Better Customer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grow fa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 mon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need for staffing, equipment, warehouse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ning a fixed cost into a variable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10"/>
          <p:cNvSpPr/>
          <p:nvPr/>
        </p:nvSpPr>
        <p:spPr>
          <a:xfrm>
            <a:off x="228600" y="3808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gure 12-7: 3PL Coordination Capab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Rectangle 9"/>
          <p:cNvSpPr/>
          <p:nvPr/>
        </p:nvSpPr>
        <p:spPr>
          <a:xfrm>
            <a:off x="228600" y="380880"/>
            <a:ext cx="8763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4"/>
          <p:cNvSpPr/>
          <p:nvPr/>
        </p:nvSpPr>
        <p:spPr>
          <a:xfrm>
            <a:off x="7156440" y="1281240"/>
            <a:ext cx="1778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5"/>
          <p:cNvSpPr/>
          <p:nvPr/>
        </p:nvSpPr>
        <p:spPr>
          <a:xfrm>
            <a:off x="7707240" y="4413240"/>
            <a:ext cx="979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39720" indent="-6397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AutoShape 6"/>
          <p:cNvSpPr/>
          <p:nvPr/>
        </p:nvSpPr>
        <p:spPr>
          <a:xfrm>
            <a:off x="2133720" y="1676520"/>
            <a:ext cx="5470560" cy="4032000"/>
          </a:xfrm>
          <a:prstGeom prst="triangle">
            <a:avLst>
              <a:gd name="adj" fmla="val 4972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7"/>
          <p:cNvSpPr/>
          <p:nvPr/>
        </p:nvSpPr>
        <p:spPr>
          <a:xfrm>
            <a:off x="1773360" y="5000760"/>
            <a:ext cx="6324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8"/>
          <p:cNvSpPr/>
          <p:nvPr/>
        </p:nvSpPr>
        <p:spPr>
          <a:xfrm>
            <a:off x="3322800" y="4232160"/>
            <a:ext cx="322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9"/>
          <p:cNvSpPr/>
          <p:nvPr/>
        </p:nvSpPr>
        <p:spPr>
          <a:xfrm>
            <a:off x="3755880" y="3537000"/>
            <a:ext cx="2305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0"/>
          <p:cNvSpPr/>
          <p:nvPr/>
        </p:nvSpPr>
        <p:spPr>
          <a:xfrm>
            <a:off x="4249800" y="2838600"/>
            <a:ext cx="137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11"/>
          <p:cNvSpPr/>
          <p:nvPr/>
        </p:nvSpPr>
        <p:spPr>
          <a:xfrm>
            <a:off x="4267080" y="5181480"/>
            <a:ext cx="1828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ou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12"/>
          <p:cNvSpPr/>
          <p:nvPr/>
        </p:nvSpPr>
        <p:spPr>
          <a:xfrm>
            <a:off x="3657600" y="4343400"/>
            <a:ext cx="2743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ic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Logistics Service Provid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13"/>
          <p:cNvSpPr/>
          <p:nvPr/>
        </p:nvSpPr>
        <p:spPr>
          <a:xfrm>
            <a:off x="3809880" y="3581280"/>
            <a:ext cx="2210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-Adde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Third Party Logist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4"/>
          <p:cNvSpPr/>
          <p:nvPr/>
        </p:nvSpPr>
        <p:spPr>
          <a:xfrm>
            <a:off x="4114800" y="2971800"/>
            <a:ext cx="1447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d Log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P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5"/>
          <p:cNvSpPr/>
          <p:nvPr/>
        </p:nvSpPr>
        <p:spPr>
          <a:xfrm>
            <a:off x="4343400" y="2286000"/>
            <a:ext cx="1266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16"/>
          <p:cNvSpPr/>
          <p:nvPr/>
        </p:nvSpPr>
        <p:spPr>
          <a:xfrm>
            <a:off x="6211800" y="2205000"/>
            <a:ext cx="247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obal Supply Chain Integ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17"/>
          <p:cNvSpPr/>
          <p:nvPr/>
        </p:nvSpPr>
        <p:spPr>
          <a:xfrm>
            <a:off x="6757920" y="3067200"/>
            <a:ext cx="1928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39720" indent="-6397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n-Regional Integ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18"/>
          <p:cNvSpPr/>
          <p:nvPr/>
        </p:nvSpPr>
        <p:spPr>
          <a:xfrm>
            <a:off x="6742080" y="3657600"/>
            <a:ext cx="194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hared across activities and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9"/>
          <p:cNvSpPr/>
          <p:nvPr/>
        </p:nvSpPr>
        <p:spPr>
          <a:xfrm>
            <a:off x="1805040" y="2841480"/>
            <a:ext cx="6259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20"/>
          <p:cNvSpPr/>
          <p:nvPr/>
        </p:nvSpPr>
        <p:spPr>
          <a:xfrm>
            <a:off x="1805040" y="3538440"/>
            <a:ext cx="6259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21"/>
          <p:cNvSpPr/>
          <p:nvPr/>
        </p:nvSpPr>
        <p:spPr>
          <a:xfrm>
            <a:off x="1793880" y="4233960"/>
            <a:ext cx="6261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23"/>
          <p:cNvSpPr/>
          <p:nvPr/>
        </p:nvSpPr>
        <p:spPr>
          <a:xfrm>
            <a:off x="741240" y="2908440"/>
            <a:ext cx="1849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7360" indent="-1173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ojec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ingle Point of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24"/>
          <p:cNvSpPr/>
          <p:nvPr/>
        </p:nvSpPr>
        <p:spPr>
          <a:xfrm>
            <a:off x="741240" y="3710160"/>
            <a:ext cx="204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nhanced Cap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roader Service Offe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25"/>
          <p:cNvSpPr/>
          <p:nvPr/>
        </p:nvSpPr>
        <p:spPr>
          <a:xfrm>
            <a:off x="741240" y="1981080"/>
            <a:ext cx="2036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peed of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Knowledge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hared Risk &amp;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mprehensiv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7"/>
          <p:cNvSpPr/>
          <p:nvPr/>
        </p:nvSpPr>
        <p:spPr>
          <a:xfrm>
            <a:off x="741240" y="5124600"/>
            <a:ext cx="16495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9920" indent="-1173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ident Client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173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28"/>
          <p:cNvSpPr/>
          <p:nvPr/>
        </p:nvSpPr>
        <p:spPr>
          <a:xfrm>
            <a:off x="741240" y="4362480"/>
            <a:ext cx="171792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Focused Cost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29"/>
          <p:cNvSpPr/>
          <p:nvPr/>
        </p:nvSpPr>
        <p:spPr>
          <a:xfrm>
            <a:off x="6459480" y="1752480"/>
            <a:ext cx="2227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39720" indent="-6397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3PL Coordination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30"/>
          <p:cNvSpPr/>
          <p:nvPr/>
        </p:nvSpPr>
        <p:spPr>
          <a:xfrm>
            <a:off x="741240" y="1697040"/>
            <a:ext cx="222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Key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31"/>
          <p:cNvSpPr/>
          <p:nvPr/>
        </p:nvSpPr>
        <p:spPr>
          <a:xfrm>
            <a:off x="7399440" y="5160960"/>
            <a:ext cx="12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N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32"/>
          <p:cNvSpPr/>
          <p:nvPr/>
        </p:nvSpPr>
        <p:spPr>
          <a:xfrm>
            <a:off x="1735200" y="2847960"/>
            <a:ext cx="6323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37"/>
          <p:cNvSpPr/>
          <p:nvPr/>
        </p:nvSpPr>
        <p:spPr>
          <a:xfrm>
            <a:off x="990720" y="5792760"/>
            <a:ext cx="78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 Georgia Tech and Capgemini LLC, The State of Logistics Outsourcing: 10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Annual 3PL Study, 2005.  Copyright © 2005 C. John Langley, Jr., Ph.D., and Capgemini U.S. LLC.  All rights reserved.  Reprinted by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C81A-579E-4077-8A5D-C888705F1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ooter Placeholder 3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hnology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of the art IT: critical capability for 3PLs.  Necessary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d 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pment visibility and event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of daily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p between expectations and 3PL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ufficient shipment visibi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3PL internal systems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edes seamless info flow and activity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8EEC-9502-43E5-814A-20B9E12F7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oal Cohes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ongruent goals create potential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creation of consisten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 personal relationships at both operating and executive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s with detailed requirements and performance verification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ainable performance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ing of key performance indicato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230A-D132-4A24-9603-B1A49C690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pply Chain Secur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3808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cipal concern is theft.  Keys for avoi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better physical security for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security procedures collaboratively with 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proactive reports and alerts when shipments deviate from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key freight transfer points, avoid high risk transport routes, i.e., Gulf of A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tain C-TPAT, and other cert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F9EF-0EAD-409C-AC10-09F86208F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uture Issues and Challeng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nomic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atile fuel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in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fting demand and production patt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capability expec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ing worldw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ing demand for strategic capabil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18A3-9D83-43AE-AC7E-EE85658A1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e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electing 3PL partner, make sure there is ample cross-organizational inp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e and ac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ufacturing/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problems with 3P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alized service-level commi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continuous improvements and achievements in offer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reductions not real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ufficient IT cap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integration across regions and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Verdana"/>
                <a:ea typeface="Verdana"/>
              </a:rPr>
              <a:t>3PL Study Criteria We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B0E2-B44D-428D-AC49-438E02457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4" name="Chart 7" descr=""/>
          <p:cNvPicPr/>
          <p:nvPr/>
        </p:nvPicPr>
        <p:blipFill>
          <a:blip r:embed="rId1"/>
          <a:stretch/>
        </p:blipFill>
        <p:spPr>
          <a:xfrm>
            <a:off x="1212840" y="1365120"/>
            <a:ext cx="663876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pful Web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PL Stud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3plstudy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mstrong and Associ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3plogistics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C Veloc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dcvelocity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ightworl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freightworld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bound Logistic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inboundlogistics.com/3pl/top100.shtm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istics Tod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logisticstoday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lyChainBra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supplychainbrain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being outsourc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rect transportatio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stoms brokerage (export papers, to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ight payment proces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ight forwarding, incl. insu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rehouse &amp; inventory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pment consolidation, cross-doc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cking/tra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sel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der fulfillment (picking, packing, shipp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verse logistics (handling returned merchandis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driving 3PL growt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re for one-stop-sho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documentation complex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er data and IT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inventories and in-house fl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-in-time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dbye’s advice on Outsourc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r’s IT system and files need to be compatible (EDI for importing data into your own ERP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poll customers regularly on provider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key contact person(s) inter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benchmarks, standards, KPI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always trust sales people who over-promise and over-com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2"/>
          <p:cNvSpPr/>
          <p:nvPr/>
        </p:nvSpPr>
        <p:spPr>
          <a:xfrm>
            <a:off x="0" y="3200400"/>
            <a:ext cx="9144000" cy="2133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19360" y="1066320"/>
            <a:ext cx="4267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ransportati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venth Edition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yle, Novack, Gibson &amp; Bardi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© 2011 Cengage Learning</a:t>
            </a:r>
            <a:br>
              <a:rPr sz="1800"/>
            </a:br>
            <a:br>
              <a:rPr sz="1800"/>
            </a:b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5410080" y="335268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rd Party Log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4" name="Picture 1025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519360" cy="4572000"/>
          </a:xfrm>
          <a:prstGeom prst="rect">
            <a:avLst/>
          </a:prstGeom>
          <a:ln w="0">
            <a:noFill/>
          </a:ln>
        </p:spPr>
      </p:pic>
      <p:sp>
        <p:nvSpPr>
          <p:cNvPr id="10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3F63-91F0-4603-8249-119E8F1CB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ooter Placeholder 6"/>
          <p:cNvSpPr/>
          <p:nvPr/>
        </p:nvSpPr>
        <p:spPr>
          <a:xfrm>
            <a:off x="3049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7:30:47Z</dcterms:created>
  <dc:creator>Andreas</dc:creator>
  <dc:description/>
  <dc:language>en-US</dc:language>
  <cp:lastModifiedBy>Andreas</cp:lastModifiedBy>
  <dcterms:modified xsi:type="dcterms:W3CDTF">2012-11-26T22:12:24Z</dcterms:modified>
  <cp:revision>10</cp:revision>
  <dc:subject/>
  <dc:title>Freight &amp; Shipment Management Outsourcing Transportation Risk Management</dc:title>
</cp:coreProperties>
</file>