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41314-94F2-488F-B97F-A41CFC7758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BF10D-F352-423C-B575-455E861C09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A6946-95D0-411D-8018-09FCD7AE5F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DD590-AAB0-4772-BA72-22AC788CD2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D24B1-F700-4D15-A263-27C5D46D9C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BEDEE-5272-44C3-AD97-7DA64F4611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BB598-57B1-4756-ADF3-848DFDB2A0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E4031-7EA6-479F-9004-FCDE4526FD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D3960-EF9A-4045-9F1B-C874D059EE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EB47E-0D2B-4286-B3D1-83A71BC23B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6217A-57D8-4A56-908E-C1707FA085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0E3F6-76BC-457E-989E-7D172E828F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26910-EDF6-4BA2-8CBD-799C9D92DC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1A033-ECA9-452F-BFE4-BC8C671FBD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BFA82-2B11-461C-88C8-D9685577BA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03139-0FAE-4A1A-8E14-C828EBC433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6C325-4E8E-49AC-98D1-22166B70C2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780B6-FC72-4810-925E-28A1162575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65214-D30F-4AC2-8EA8-A9B9C6E7D7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A155D-9BBA-44E5-9118-6A23E37750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8ED02-2217-41DA-8270-2DA8457158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099FE-FFD3-4FDC-A384-28DBFC32F8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B8492-8DEB-4497-B792-7600845E98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DF406-8417-43B2-AAEA-62C526CCE4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7D286-62A4-44C5-A9C9-5AF481BBD4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E9456-FE31-47B9-8CE4-840BD5B95F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051A-77C6-43C9-9DAF-61A2D93D6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D4B5-E830-4071-904F-1C6A7DCB9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533D-FFE2-41FB-AFC3-A5D336636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F02C-0CB5-4D10-89E6-A17E1E26D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F665-A50B-4FC4-9459-F575881E5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F7C2-5529-48B4-84CE-EF48562B6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FD22-9D33-4109-A2F0-E937530AC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BD46-DCA6-42FA-8E49-D023883D5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C2B5-927D-4E16-B6E3-57A067900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ABF4-6823-4F9F-9D72-00813F23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1525-294F-4363-B9BA-6A40D6C7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E548-E6CE-4485-9664-128D01666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97D1B-A66A-4E5E-8F44-A028711805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Barcode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UPC_A.svg" TargetMode="External"/><Relationship Id="rId2" Type="http://schemas.openxmlformats.org/officeDocument/2006/relationships/image" Target="../media/image2.png"/><Relationship Id="rId3" Type="http://schemas.openxmlformats.org/officeDocument/2006/relationships/hyperlink" Target="http://en.wikipedia.org/wiki/File:Code_128B-2009-06-02.svg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WikiQRCode.png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tagmaster.com/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portation Performance Measures,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LOG 102, Session 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ecember 3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ransportation Benchmarking Survey:  Factors in choosing a carri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s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n time deliver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amage rat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ick-up tim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eographic cover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arrier flexi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hipment track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hipment secur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voice process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nancial condi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echnical capabilit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.T. is used to track perform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rious Logistics Execution Systems (LES) drive order fulfillment and delive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rehouse Management Systems (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WM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and Transportation Management Systems (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M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fall under this umbrel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by manufacturers/importers, wholesalers/distributors and retailers, as well as 3PL’s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eiv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ut-away/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ventory mana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der processing/pic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ip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MS optimize the use of transportation resources to manage inbound, outbound and internal shipments at the lowest cost consistent with customer service standards and trading partner requirement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der / load plann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rrier selection, rating &amp; load tender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ipment consolid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-if analys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ointment schedul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ipment status track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eight payment &amp; audi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aims managem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rrier performance measurem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DI (electronic data interchang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mitting and sharing data between companies in the supply ch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rco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cal machine-readable representation of 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ten called Auto-ID data cap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ple, universal, reliable and low c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kipedia has interesting history of bar cod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n.wikipedia.org/wiki/Barco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GS1 System of standa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O (International Standards Organization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s of barcodes (two example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PC (Universal Product Code) used in North American retai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S1-128 used in global shippi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http://upload.wikimedia.org/wikipedia/commons/thumb/f/fe/UPC_A.svg/220px-UPC_A.svg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76920" y="2286000"/>
            <a:ext cx="2095560" cy="15145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http://upload.wikimedia.org/wikipedia/commons/thumb/b/b5/Code_128B-2009-06-02.svg/262px-Code_128B-2009-06-02.svg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867280" y="5105520"/>
            <a:ext cx="249552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erging u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Quick Response (QR)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matrix barcode that reads fast and can hold more 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http://upload.wikimedia.org/wikipedia/commons/thumb/c/ce/WikiQRCode.png/120px-WikiQRCode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95280" y="3733920"/>
            <a:ext cx="22100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rcode scan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8-0738-17 - Datalogic QS6000 Plus Accessories Barcode Scanner"/>
          <p:cNvPicPr/>
          <p:nvPr/>
        </p:nvPicPr>
        <p:blipFill>
          <a:blip r:embed="rId1"/>
          <a:stretch/>
        </p:blipFill>
        <p:spPr>
          <a:xfrm>
            <a:off x="609480" y="1676520"/>
            <a:ext cx="2095560" cy="20955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advanced barcode scanner"/>
          <p:cNvPicPr/>
          <p:nvPr/>
        </p:nvPicPr>
        <p:blipFill>
          <a:blip r:embed="rId2"/>
          <a:stretch/>
        </p:blipFill>
        <p:spPr>
          <a:xfrm>
            <a:off x="5257800" y="1371600"/>
            <a:ext cx="2467080" cy="2467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symbol barcode scanner"/>
          <p:cNvPicPr/>
          <p:nvPr/>
        </p:nvPicPr>
        <p:blipFill>
          <a:blip r:embed="rId3"/>
          <a:stretch/>
        </p:blipFill>
        <p:spPr>
          <a:xfrm>
            <a:off x="5638680" y="3886200"/>
            <a:ext cx="2286000" cy="2171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wt4000 wearable computer"/>
          <p:cNvPicPr/>
          <p:nvPr/>
        </p:nvPicPr>
        <p:blipFill>
          <a:blip r:embed="rId4"/>
          <a:srcRect l="7200" t="15319" r="0" b="15319"/>
          <a:stretch/>
        </p:blipFill>
        <p:spPr>
          <a:xfrm>
            <a:off x="1600200" y="3352680"/>
            <a:ext cx="366876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FID sys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ist of readers, tags, wiring and softw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ok at TagMaster websit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tagmaster.com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fferent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radio frequenc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ands depending on applica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http://www.rfid-ready.com/images/stories/news6/tagmaster-rail-solutions.jpg"/>
          <p:cNvPicPr/>
          <p:nvPr/>
        </p:nvPicPr>
        <p:blipFill>
          <a:blip r:embed="rId2"/>
          <a:stretch/>
        </p:blipFill>
        <p:spPr>
          <a:xfrm>
            <a:off x="5943600" y="4267080"/>
            <a:ext cx="2514600" cy="20494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http://esecuritysales.com/images/bild2.jpg"/>
          <p:cNvPicPr/>
          <p:nvPr/>
        </p:nvPicPr>
        <p:blipFill>
          <a:blip r:embed="rId3"/>
          <a:stretch/>
        </p:blipFill>
        <p:spPr>
          <a:xfrm>
            <a:off x="609480" y="4419720"/>
            <a:ext cx="46832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rom assigned article: “Measures for Evaluating Supply Chain Performance in Transport Logistics” (Kee-hung Lai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59092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rvice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effectivenes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for shipp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perations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efficienc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for transport logistics service provid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rvice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effectivenes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for consigne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ustomer values (the “right’s”) vs. costs to custom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S Track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http://gps-tracking-systems.net/img/2.jpg"/>
          <p:cNvPicPr/>
          <p:nvPr/>
        </p:nvPicPr>
        <p:blipFill>
          <a:blip r:embed="rId1"/>
          <a:stretch/>
        </p:blipFill>
        <p:spPr>
          <a:xfrm>
            <a:off x="2133720" y="1600200"/>
            <a:ext cx="5010120" cy="40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in take-aways from this cla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ve transportation mo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deregulated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ustomer oriented outlo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sks and tradeoff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otal cost of ownership (seeing the total system cost and benefit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lobal transportation and shipping ter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ing 3PL’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tainability and protecting the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ssing c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have until the end of this week (Sunday evening) to submit any missing c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count up to 4% of the grade each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al Ex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0 multiple choice and 6 short ess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ho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en between Dec. 6 and Dec. 10 (midnigh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ers material from sessions 7 – 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book chapters (9, 10, 11, 12 and 14) and power point lecture notes from those ses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5% of the gra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ue Wednesday, December 12 (midnight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arget: 2,000 words (4-5 pages plus illustration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ubmit using Dropbox in Angel (or e-mail to me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ery free to select transportation related topic that you are interested 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member to cite your sources (avoid plagiarism!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0% of the gra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d-of-course surve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Ange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courage you to complet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pecially online students:  Feedback on whether our system is cumbersome or easy to 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can we do to make online students feel more connected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arrington, as quoted in the Kee-hung Lai article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cannot measure it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cannot control i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cannot control it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cannot manage i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cannot manage it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cannot improve it”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SCOR fra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) Supply chain reli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) Responsiveness and flexi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) Cos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) Asse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two criteria deal with effectiveness-related (customer-facing) performance measures, while the other two are efficiency-related (internal-facing) performance measures of a fi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ffectiveness vs. Efficien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9144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herent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tradeoff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rcRect l="13333" t="36270" r="17333" b="12800"/>
          <a:stretch/>
        </p:blipFill>
        <p:spPr>
          <a:xfrm>
            <a:off x="152280" y="1828800"/>
            <a:ext cx="8629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ervice 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Effectiveness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for Shipp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9907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Fulfill promis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shippers (e.g. on-time vehicle arrival; offer competitive rate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Solve shippers’ problem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e.g. suggest best routing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form services for shippers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right the first tim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e.g. correctly input B/L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 services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at the time promised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the shippers (e.g. on-time delivery to exhibition site; higher shipping frequency than rival companie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eep shippers’ records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accuratel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e.g. correct invoic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ll shippers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exactly whe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rvices will be performed (e.g. location and opening hour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 the depots/ container freight station (CFS)/ warehous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ive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prompt servic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shippers (e.g. special packaging for furniture/ pianos etc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Willingness to help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ippers (e.g. give advice on shipping schedule or packaging; track and trace status of the cargoes shipped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Timely respons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shippers’ requests (e.g. delivery/ transshipment of cargoes at short notic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Operations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Efficiency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for Transport Logistics Service Provid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Reduc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rder management costs (e.g. minimize order handling through ED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Reduce cost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ociated with facilities/ equipment/ manpower used in providing the services (e.g. use IT to track and trace the status of shipped cargo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Reduc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warehousing cost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Reduc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ransportation cost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Reduc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logistics administration costs (e.g. build good relationships with related organizations such as customs, bureau of commodity inspection, port authorit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rove the rate of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utiliza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f facilities/ equipment/ manpower in providing the serv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rove number of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cash to cash cycle tim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the average days required to turn a dollar investment in facilities/equipment/manpower providing the shipping services into a dollar collected from customer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rove net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asset turn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working capita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ervice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Effectiveness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for Consigne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lfill promises to consignees (e.g. advise arrival schedules; complaint handling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lve consignees’ problems (e.g. provide warehousing; repackage cargoes at CF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form services for consignees right the first time (e.g. pack and remix cargoe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 services at the time promised to the consignees (e.g. availability of cargoes for collection at CF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eep consignees’ records accurately (e.g. error-free records of consignees’ addresses and opening hour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ll consignees exactly when services will be performed (e.g. advise estimated time of arrival (ETA) via fax/ mail; advise estimated time to change B/L to D/O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ive prompt services to consignees (e.g. advise regulations regarding discharge of overweight/ over-length cargo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illingness to help consignees (e.g. suggest inland routing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imely response to consignees’ requests (e.g. transshipment arrangemen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portation </a:t>
            </a:r>
            <a:r>
              <a:rPr b="0" lang="en-US" sz="4400" spc="-1" strike="noStrike">
                <a:solidFill>
                  <a:srgbClr val="00b050"/>
                </a:solidFill>
                <a:latin typeface="Calibri"/>
              </a:rPr>
              <a:t>Benchmark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main transportation goal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age co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rove customer serv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one survey,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as the main factor (see next pg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rics used to track carrier performan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stomer complai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voice accura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te delive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ick-ups as schedu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8T20:36:21Z</dcterms:created>
  <dc:creator>Andreas</dc:creator>
  <dc:description/>
  <dc:language>en-US</dc:language>
  <cp:lastModifiedBy>Andreas</cp:lastModifiedBy>
  <dcterms:modified xsi:type="dcterms:W3CDTF">2012-12-03T17:20:12Z</dcterms:modified>
  <cp:revision>4</cp:revision>
  <dc:subject/>
  <dc:title>Transportation Performance Measures, IT</dc:title>
</cp:coreProperties>
</file>