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F28B-5F54-48EA-B2BB-E661610BB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158-720A-4F1F-AA9E-9FDE68361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01CA-6985-4C91-B2B1-6B828FC94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0E1B-498F-4595-9E88-DE94E1461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65E-D3F5-4608-AAD5-B2D8C4B51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32D4-ED46-4581-8FF0-ABA5B9711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A2E8-BC23-4C0E-B4B5-BF44468E2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BA9-5EAE-4103-BC78-6F1ECF4CF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CCC-5B02-435A-9D8C-8B6FCFCF7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FD5-5ADB-4A2F-BA1F-4EC8E4F01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682-78C4-4067-AACB-5AE91B37D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8DE-2589-4040-A42D-5824C2EDF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FEB3-B931-484E-A254-613406B6E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1CC-AEC3-4795-9DD5-C4AB568FF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D7FE-5170-4590-8450-1A4DC35FB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5020-E8BF-4814-9A5C-86A3D8CF9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FEC-BD61-44B8-BF32-B6788568F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B37-DDB0-4016-BA1F-F35A17954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83D-AF92-48F0-8DA9-FA4343C8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E0B-6DCC-4524-B1D3-7E1564656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455-2B3E-430A-9F7E-5C9BD8B3A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1C98-A291-4792-BB23-955F911D0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4F5-9129-4AD7-B057-F0FFAEB85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4B20-1A39-4286-9FB9-23787AB05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1779-10AC-47BF-878E-3E6E74E80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615-C79E-4ACF-BBEE-F38C01140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F13F-5293-429A-815C-1C86362E2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408-5B59-4E81-AF01-030C84348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39C-35F9-47C6-BD66-BD52A283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08E-CE2A-46F3-9DDD-C9736440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54717-9FCB-4766-BF28-C1F6C37A63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EC169-1414-4DC8-B2E5-3491C59767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8661B3-A121-4049-AA41-EF8D6E6C95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278E5-7F49-4D89-A47C-E3E430CA14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0ADA4-48B1-454E-8133-E37AB10547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47EE8-1696-4AD2-BA25-D23471D473E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3EBAB0-8C81-419C-A766-4B8BEC785C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FEAA5D-54DF-41C1-B1CC-1981F3C074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BE34DC-D151-442C-8574-43A36CF626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3397-DFC8-4CDC-B1D5-D2F8F3CF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6DC-A689-4CFD-BE02-8E6B6F71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EDAC-8D3F-4892-B9FA-67365F18B3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ABAB-3E7C-49B9-9C09-3B22DBD6FA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C92C-84A8-475F-B42B-369AC21782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379B-3A64-45B1-B2EA-728AA3FEA8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CAAE-7786-4BB4-B1E3-32FB580D86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45FF-FDCB-42E7-B7AD-95C3DE9B4E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74AB-84B3-4C8C-B58B-431AD4D75E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1049-ED45-4B9F-BF5D-2111C5F2EB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AA70-20FB-4977-9F15-297BECDD4E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2B52-CD7E-4A8B-9D91-F449DE98A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776-DDD2-42DA-97F0-785E114C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3880-D13B-4652-BB82-AF4E2EA537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3963C-90C8-4FBE-BBBD-A3EF7B5A70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C56D3-1617-44F8-AE5D-DF587CAC21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A1175-F6C0-4A32-8373-3CB0E9BFA8E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B59B4-DADF-4028-906A-1C6A523440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FF251-454C-4BCC-A684-60DE580C58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1BBB1-6F37-4E0A-88C6-65F9048CEF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C353D-E1A0-4274-85CB-71D7AE2CF1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EB2F1-87DE-4836-890E-0F06A9AFC7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09081-4B6E-4574-BDDD-15089B7A2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18CEA-E3C8-4C65-836A-4C405D80B6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4CCD0-AE98-4A3A-B4BA-67E1EFFB9F8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10C21-7410-4670-B39C-D6F50353B78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E2572-BAA4-4F3C-B146-1F9943D2F5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F495B-0E29-4CA3-9AB2-16AF282AC0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0A950-C626-4DB3-BFE5-60E5549E07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52BB9-30FA-4E29-8A1D-BDB26A470F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EF05F-569A-4744-83C3-230B9A1D2F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B603B-A9CC-4630-BD5E-7FE53AE2FB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97D66-15D2-4E3E-824C-AD0CDF7AD1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77057-0671-414C-B822-FF9020604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00BF-CE19-4741-A962-A93E75DAF1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F3211-4A63-4CE6-811F-5EB27F1E1B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C06C4-208A-4C1C-8518-AB4B30AD91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26C53-9385-4928-B2A3-DD273070CC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47B7E-022A-4D3D-9198-1E7373CA1F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5434A-1C34-4076-A414-094C85A8B5F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D1CDD-2EC4-41E9-A240-6F3A2C33AF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A2B24-EE51-446A-B449-7FA8FAA478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7D3E9-48A1-4B47-BA4B-6D1337575D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1BCAF-3001-46C6-BA79-751C436715A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A666-0B06-4513-B0DB-29D9892E3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C5E87-EF75-437A-9B90-0DD5FA8F143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88A38-2D05-47C3-8151-28C287856D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8E7A-E0DC-4E20-BDF8-0E2EC9A296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9500-2C4C-44BB-B790-0D646BD48C9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4FB3B-A2F5-4F05-97C7-7B631B56D8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03C24-C429-4612-BFEE-7E69AD61DE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55C8F-C5E6-4428-810E-8939A99AF17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1C33-D806-49F2-9412-BED4B3EF3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0B31-2CAD-4936-8355-8BB395352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05B3E-A5B7-4CD9-9AFA-BEDD651D9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F6AD-2CF7-437D-830A-74BE3AD00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9D25-3BE7-4A1A-AE50-45A6D82C8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147-5A20-49C4-A39C-1D17DEA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C0484-F8B2-440F-ADE3-42F4FA2EF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17FC9-2BFF-4358-B08F-C81D5DBD24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F98F-3CC6-4D01-916B-BDE1E8648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08173-C80A-440C-8BB2-9ACD4BC3B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A5752-1643-44E9-8F75-39520272D5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B805F-A1D5-4799-B97C-723105B2DC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06C7F-1812-4B19-BC97-A8404FC490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EE4E4-8497-4662-B2D8-FD7F0A30D9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8BD38-9EBB-4AE7-9C74-4E3BC842C8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6B0E8-4FC5-46E7-9C73-A452321EB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C84-B758-4844-B629-B95EE8B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7D525-3DF6-4AF2-901B-525B0E0DA4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EF68C-E404-4D92-A1F3-E528FF3A30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9E453-74DC-41C1-8CC5-8D17185C0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0B2EB-697D-4918-8767-CA1C8EC8A6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0DB20-9629-4D49-B8CF-92656B0BD3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44E17-7AB2-4E55-BE3C-33A054E54D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FB98F-6CB9-40EB-962B-B28C29105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0F6F-A6A9-465E-BC81-796AE5DA83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ADA2-FA04-40DE-9617-EE3F0532B1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F5F9-CA59-4509-BE28-9BF0975D8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36F-47E3-4736-8140-63B30D7A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9F20-8AE8-410D-A494-AB9B1F64D3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DB89-1766-4EA4-BB8B-022E648C94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CA20-6D35-43C5-BCBC-DEB191E6FE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BC15-158F-4BB1-9E01-1E0381955C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E3C3-A55D-4E1C-AEFF-7F7152A761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1C7D-4EE6-47EF-B357-86725AD90A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54E6-3065-4BE8-AB6C-D59ED78BA1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1277-6F9B-4242-9210-C291022441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7450-778B-4DB9-85E8-189208146A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79AA3-25FC-477E-9974-B401CBFB9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C17-F547-4B8D-AA5C-8F4549A1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B6CAC-3782-4A29-AE7A-02C394EC545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6BED5-8A8C-48E2-A1BC-8A6CED75B0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9BFAC-2D55-406C-87A5-BB21536E55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138CC-E5B5-4062-AF7C-91326B9039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A2057-1CDF-438D-9D8A-DA41B756FC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C4742-EC08-4909-93E3-8CEC46FBA1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953B6-16F9-4A5C-BA46-0B6C8AD936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64AE1-732E-487C-9483-9A831C1207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063B6-9345-4A40-8FFD-67F2B889C9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64959-DFDC-4C04-B100-28417949C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985-3D03-4122-8E87-CA8C096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C0333-380D-4A16-BD7A-1233D33B9F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63753-FC3D-49A6-97BD-8FC3EB0D55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A4683-9C5F-4179-BCAF-C029A1539D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E6A06-328E-42DD-90F4-6A1F726BF7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22833-3F50-4659-8A11-0A2A2A1B0E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F0A74-CD1E-4B4D-81D7-81A974A99B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CDB56-E8D3-4953-999C-0E0C9E48CC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A02DE1-FC22-439C-8961-625391CFBE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5678B-7193-4007-AF70-AECE652BCD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647EA-9F95-463F-BB24-1E8B6A508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113-70C9-4E7B-8569-EA7C772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877DC-4B48-4AAC-8E90-506123CA08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F12FC-C13B-45E6-8CC6-8FA1C7790E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C6888-89A1-4179-B541-273BD3DAAA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7AE4-6D6E-4DF7-8D93-F69D7D3566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AC8D-8F9E-473A-91B2-8250F3BF1C8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03E0-93B1-494C-962B-A9FBFE4523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02AB-3336-4FF9-BF06-D823827F9F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F206-CD2D-40AF-B9C7-55725684D9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3107-4E96-4A02-94A2-5500732699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5DA4-E567-4632-B523-95066FF45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E44-F9F4-4E4C-A4A4-4F560C4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F493-E773-4868-8C3C-CAF8F2D7FF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9A98-0F39-473C-9BFC-802E33B23D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6EA1-1B79-4FFD-86AB-9B12027237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5395-41FF-4C57-8AC7-5F44CF9996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6F09-DCB5-4606-BD9E-9FA4524419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4B9C2-B3CC-4C7F-96E2-2CE2064D91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DD27F-FAAF-461C-BBD6-619AA8276B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7745F-D882-4639-8271-A2DA35989E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928EF-01B4-4782-B2CD-BF7AED2DEB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B67DA-14B0-41E4-9B6E-EA2C6EA82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BE6-393A-4717-ABB4-1292811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4BB5B-5528-4A2B-A797-D9DE6B7FE2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CFDA9-C474-4763-BF8C-13522E562B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9BC47-B6C6-4142-9089-051F81B303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A5BC8-33E2-460F-B78E-38497F1FA4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C1712-CBA3-4C38-B3D7-EC6CF673E2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84510-E967-4AE6-A9B1-5325D1523E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0D865-B065-4288-89EF-7DC2EFA084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B9538-9467-48D7-A491-0ED883D981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BA5CFD-B3C5-4EBB-8F87-3C5372C1A7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B1CE2-5665-418F-BFBC-4D6385C38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1476-A3FB-4E46-B940-BB1497B3B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3C1-F55C-414A-9AD1-AE577AD6F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69A-322C-454E-BF09-D393A817C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F25-1137-4A4F-9871-C9BC165D9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D2A0-F34D-4EF3-A622-FE57F56DF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772-59A6-4B3D-89F7-5FC689536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EB1-1085-438D-B5A1-DB73B3718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D05-704B-4413-8A0C-EF0158234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8CD-6B6C-42C0-B414-E00A68760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DC6-6E1C-4CA2-B16A-FD83651A5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4BF-C9DF-4969-9AAC-C653EC5F0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78A-51C7-44FC-B17D-59C79AC02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139-566B-4FE4-A69F-BFEF6C8BC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 and Exec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1 (chapter 10 materi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2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utura Md"/>
              </a:rPr>
              <a:t>IN</a:t>
            </a:r>
            <a:r>
              <a:rPr b="0" lang="en-US" sz="4000" spc="-1" strike="noStrike">
                <a:solidFill>
                  <a:srgbClr val="00b050"/>
                </a:solidFill>
                <a:latin typeface="Futura Md"/>
              </a:rPr>
              <a:t>CO</a:t>
            </a: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ER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Futura Md"/>
              </a:rPr>
              <a:t>International </a:t>
            </a:r>
            <a:r>
              <a:rPr b="0" lang="en-US" sz="4000" spc="-1" strike="noStrike">
                <a:solidFill>
                  <a:srgbClr val="00b050"/>
                </a:solidFill>
                <a:latin typeface="Futura Md"/>
              </a:rPr>
              <a:t>Commercial</a:t>
            </a: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 Term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19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0 version now in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nternational sales of goods (not services), both exports and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 and define the costs, risks and obligations of the seller and bu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http://www.iccwbo.org/images/G20Title.png"/>
          <p:cNvPicPr/>
          <p:nvPr/>
        </p:nvPicPr>
        <p:blipFill>
          <a:blip r:embed="rId1"/>
          <a:srcRect l="0" t="0" r="49234" b="22588"/>
          <a:stretch/>
        </p:blipFill>
        <p:spPr>
          <a:xfrm>
            <a:off x="838080" y="1676520"/>
            <a:ext cx="6745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Contractual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and solution when UCC terms are not practical.  UCC = domestic s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importers and exporters “speak the same languag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affects the contract of sale, not the freight contrac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o know Incoterm for pricing the product  (who pays for wh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deliver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fer of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ransportation Timeline: Who does what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eck “Dictionary of International Trade”, pages 269-29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6000" t="27733" r="4000" b="27733"/>
          <a:stretch/>
        </p:blipFill>
        <p:spPr>
          <a:xfrm>
            <a:off x="152280" y="2286000"/>
            <a:ext cx="8839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4 Groups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arture  (EX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carriage unpaid (FCA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AS, FO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carriage paid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FR, C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P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ival (DAT, DAP, DD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red terms are waterborne freigh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Correct wo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B Tacoma, WA, USA, Incoterm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B XYZ Terminal, Tacoma, WA, USA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term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pecific to avoid arguing about local costs (pre-carriage charg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FOB only if truly a waterborn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int where the risk of loss or damage passes from the seller to the bu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ppens at the named place, port or terminal (except for the C ter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confuse delivery of goods with point of transfer of title (although often identical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 of title occur when the parties wish it to occur (unless “by default”; see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itle (legal and accounting implications, i.e. revenue recogni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less otherwise explicitly agreed, title passes to the buyer at the time and place at which the seller completes his performance with reference to the physical delivery of the goo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Law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: Title passes when seller fulfills its delivery obl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Accounting Law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Title transfers at the same time as delivery occurs and risk transf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However, in exports sales, often see thi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isk of loss and damage shall pass to the Buyer upon delivery. Title shall pass to the buyer upon payment in full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what any payment documents (e.g. L/C’s) and/or export insurance policies stipul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Invoicing and import tari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elling under a C or D term (freight prepaid by the seller), it is crucial to have the freight amount specified on the invoice (to avoid paying customs tariffs on the fre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ExWorks (EX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convenient as it sounds, it may not be the best term for expor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export regulations (e.g. who is the exporter on record?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payment terms (e.g. who gets the Bill of Lading?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can use Incoterms as competitive t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crucial Channels (flow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ontract and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.T. (information and data; docum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hysical goods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80-90% of global trade by ship?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level fluctuations (equipment scarciti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consoli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s in regional 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ctuations in fuel prices and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Choosing a Global 3PL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 Criteria Weights (Normaliz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C47-B84B-4D59-83BC-2E019F58C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Chart 7" descr=""/>
          <p:cNvPicPr/>
          <p:nvPr/>
        </p:nvPicPr>
        <p:blipFill>
          <a:blip r:embed="rId1"/>
          <a:stretch/>
        </p:blipFill>
        <p:spPr>
          <a:xfrm>
            <a:off x="1596960" y="1974960"/>
            <a:ext cx="5889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934-D3DB-401B-9220-BF90F34C5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E:\Tables\CH10\10-T03.jpg"/>
          <p:cNvPicPr/>
          <p:nvPr/>
        </p:nvPicPr>
        <p:blipFill>
          <a:blip r:embed="rId1"/>
          <a:stretch/>
        </p:blipFill>
        <p:spPr>
          <a:xfrm>
            <a:off x="303120" y="533520"/>
            <a:ext cx="8498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60A6-B909-4948-9263-B3B6C6FD5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E:\Tables\CH10\10-T04.jpg"/>
          <p:cNvPicPr/>
          <p:nvPr/>
        </p:nvPicPr>
        <p:blipFill>
          <a:blip r:embed="rId1"/>
          <a:stretch/>
        </p:blipFill>
        <p:spPr>
          <a:xfrm>
            <a:off x="309600" y="457200"/>
            <a:ext cx="8413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ort Preparation Activitie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portation Docu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ier mani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critical information needed to perform the transport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of lading – primary transport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 of carriage between cargo owner and transport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s as receipt for the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on of ownership of the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C853-0BE6-4F63-898F-43B5F5545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ort Preparation Activitie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portation Docu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types of bills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bill of l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odal bill of l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otiable vs. non-negotiable bill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n-negotiable, carrier must deliver only to consignee named on the bill (also called Straight Bill of la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egotiable, the person possessing the bill has the right of ownership to the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46E-4533-4E5A-970F-778D56D21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nsportation Planning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 Selec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ust achieve best fit and balance betwe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al service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ibility, capacity, transit time, reliability,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characteristics – size, durability,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y chain requirements for speed, service,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ust also align with corporate strategy, control risk and provide required level of customer 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1370-3DD1-4724-999F-84F5CFBC9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THE BEST FIT AND BALANCE BETWEEN MODAL CAPABILITIES, PRODUCT CHARACTERISTICS, SUPPLY CHAIN REQUIREMENTS FOR SPEED AND SERVICE, AND TRANSPORTATION COST” (Coy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93E2-BFC3-4C09-B859-B412C39A5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Trad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 framework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TO (World Trad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ation), built on GA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e Trade Agreement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FT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14 other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3 others in pip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South Ko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Pana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Columbi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FTA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746748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TA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86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31333" t="12800" r="30000" b="16000"/>
          <a:stretch/>
        </p:blipFill>
        <p:spPr>
          <a:xfrm>
            <a:off x="1752480" y="258840"/>
            <a:ext cx="54104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na vs. Mex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ing cheaper labor vs. cheaper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y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ous ri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, many more countries to pick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pare orde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fa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fill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pare for expor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e terms (shipping term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ransport decis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car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Incoter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A 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o Export University 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3, October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Andreas Udbye, DEC 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00:47Z</dcterms:created>
  <dc:creator>Andreas</dc:creator>
  <dc:description/>
  <dc:language>en-US</dc:language>
  <cp:lastModifiedBy>Andreas</cp:lastModifiedBy>
  <dcterms:modified xsi:type="dcterms:W3CDTF">2012-11-19T01:07:15Z</dcterms:modified>
  <cp:revision>16</cp:revision>
  <dc:subject/>
  <dc:title>Managing Logistics Processes and Global Transportation Planning</dc:title>
</cp:coreProperties>
</file>