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A07BE-9E42-436E-846B-ABBBC20A4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979C-8F62-48CF-A2EE-8F1E0803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DC68D-44CF-405A-BB03-8DD772C8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CFF50-D651-4CBF-BAA4-6F11476A2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5C58-5149-4DFD-AD03-F3ACE19F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75C5-6CC7-4782-827A-050B4D3E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B996-8B58-4697-9D70-9363E12DB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61149-A286-4EE6-8D45-1BA9B957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75DA2-376F-43E2-B2E1-B7FD7058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995B-09B4-49F9-9A6B-F85DAB9B1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FC74-C542-4849-9F84-99D6682F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00A8-8A77-4270-AC7F-4B497C33A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6525-70F5-4689-B049-BCB74D60FB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how.com/how_5541932_create-timelines-managing-project.html" TargetMode="External"/><Relationship Id="rId2" Type="http://schemas.openxmlformats.org/officeDocument/2006/relationships/hyperlink" Target="http://www.ehow.com/busines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80880" y="1218960"/>
            <a:ext cx="8229600" cy="4647960"/>
          </a:xfrm>
          <a:prstGeom prst="rect">
            <a:avLst/>
          </a:prstGeom>
          <a:noFill/>
          <a:ln w="0">
            <a:noFill/>
          </a:ln>
        </p:spPr>
        <p:txBody>
          <a:bodyPr anchor="t">
            <a:normAutofit fontScale="99000"/>
          </a:bodyPr>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eak the project down into tasks needed to meet the overall goal.</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Make a task list with every necessary step in your project, </a:t>
            </a:r>
            <a:r>
              <a:rPr b="0" lang="en-US" sz="1300" spc="-1" strike="noStrike" u="sng">
                <a:solidFill>
                  <a:srgbClr val="0000ff"/>
                </a:solidFill>
                <a:uFillTx/>
                <a:latin typeface="Calibri"/>
                <a:hlinkClick r:id="rId1"/>
              </a:rPr>
              <a:t>labeling</a:t>
            </a:r>
            <a:r>
              <a:rPr b="0" lang="en-US" sz="1300" spc="-1" strike="noStrike">
                <a:solidFill>
                  <a:srgbClr val="000000"/>
                </a:solidFill>
                <a:latin typeface="Calibri"/>
              </a:rPr>
              <a:t> each item with a letter (A, B, C, D). Include dates you already know---such as deadlines and the event date. Make the list chronological, although the order of some tasks may not matter.</a:t>
            </a:r>
            <a:endParaRPr b="0" lang="en-US" sz="13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tablish a timeline in which to accomplish these tasks by the project completion date. </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stimate the number of days required to complete each step. This number includes the number of days spent waiting. If this is a work project, count in </a:t>
            </a:r>
            <a:r>
              <a:rPr b="0" lang="en-US" sz="1300" spc="-1" strike="noStrike" u="sng">
                <a:solidFill>
                  <a:srgbClr val="0000ff"/>
                </a:solidFill>
                <a:uFillTx/>
                <a:latin typeface="Calibri"/>
                <a:hlinkClick r:id="rId2"/>
              </a:rPr>
              <a:t>business</a:t>
            </a:r>
            <a:r>
              <a:rPr b="0" lang="en-US" sz="1300" spc="-1" strike="noStrike">
                <a:solidFill>
                  <a:srgbClr val="000000"/>
                </a:solidFill>
                <a:latin typeface="Calibri"/>
              </a:rPr>
              <a:t> days.</a:t>
            </a:r>
            <a:endParaRPr b="0" lang="en-US" sz="13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n overall timeline chart or spreadsheet that clearly identifies all assigned tasks and their completion dates for all project participants.</a:t>
            </a:r>
            <a:br>
              <a:rPr sz="1500"/>
            </a:br>
            <a:r>
              <a:rPr b="0" lang="en-US" sz="1500" spc="-1" strike="noStrike">
                <a:solidFill>
                  <a:srgbClr val="000000"/>
                </a:solidFill>
                <a:latin typeface="Calibri"/>
              </a:rPr>
              <a:t> </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ing your letter </a:t>
            </a:r>
            <a:r>
              <a:rPr b="0" lang="en-US" sz="1300" spc="-1" strike="noStrike" u="sng">
                <a:solidFill>
                  <a:srgbClr val="000000"/>
                </a:solidFill>
                <a:uFillTx/>
                <a:latin typeface="Calibri"/>
              </a:rPr>
              <a:t>labels</a:t>
            </a:r>
            <a:r>
              <a:rPr b="0" lang="en-US" sz="1300" spc="-1" strike="noStrike">
                <a:solidFill>
                  <a:srgbClr val="000000"/>
                </a:solidFill>
                <a:latin typeface="Calibri"/>
              </a:rPr>
              <a:t>, draw a flow chart or any visual diagram that you find useful. Put tasks in the order they need to be completed, noting the number of days necessary for each one. If possible, make some tasks overlap.</a:t>
            </a: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ind the "critical path." In other words, determine which series of events takes the longest. These tasks are your priorities. You have more flexibility with secondary tasks.</a:t>
            </a: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ased on your </a:t>
            </a:r>
            <a:r>
              <a:rPr b="0" lang="en-US" sz="1300" spc="-1" strike="noStrike" u="sng">
                <a:solidFill>
                  <a:srgbClr val="000000"/>
                </a:solidFill>
                <a:uFillTx/>
                <a:latin typeface="Calibri"/>
              </a:rPr>
              <a:t>chart</a:t>
            </a:r>
            <a:r>
              <a:rPr b="0" lang="en-US" sz="1300" spc="-1" strike="noStrike">
                <a:solidFill>
                  <a:srgbClr val="000000"/>
                </a:solidFill>
                <a:latin typeface="Calibri"/>
              </a:rPr>
              <a:t>, go back to your task list and insert proper start and end dates. The best way to do this is to start from deadlines and work backwards based on the number of days required for each task. You now have a basic timeline from which to manage your </a:t>
            </a:r>
            <a:endParaRPr b="0" lang="en-US" sz="13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Calibri"/>
              </a:rPr>
              <a:t>http://www.janegoodall.ca/documents/Project-timeline-worksheet.pdf </a:t>
            </a:r>
            <a:br>
              <a:rPr sz="1500"/>
            </a:br>
            <a:r>
              <a:rPr b="0" lang="en-US" sz="1500" spc="-1" strike="noStrike">
                <a:solidFill>
                  <a:srgbClr val="000000"/>
                </a:solidFill>
                <a:latin typeface="Calibri"/>
              </a:rPr>
              <a:t> </a:t>
            </a: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 name="TextBox 3"/>
          <p:cNvSpPr/>
          <p:nvPr/>
        </p:nvSpPr>
        <p:spPr>
          <a:xfrm>
            <a:off x="380880" y="45720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g a Project Tim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1143000" y="785880"/>
            <a:ext cx="6858000" cy="528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447920" y="1523880"/>
            <a:ext cx="60084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9:12:12Z</dcterms:created>
  <dc:creator>Erika Bowles</dc:creator>
  <dc:description/>
  <dc:language>en-US</dc:language>
  <cp:lastModifiedBy>Erika Bowles</cp:lastModifiedBy>
  <dcterms:modified xsi:type="dcterms:W3CDTF">2011-01-27T19:45:28Z</dcterms:modified>
  <cp:revision>2</cp:revision>
  <dc:subject/>
  <dc:title>Slide 1</dc:title>
</cp:coreProperties>
</file>