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401292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4012920" y="890244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3A7-D6E2-4AE1-92FE-98F430D3C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3A6-3F94-4AED-8130-F3B64EFE3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38D0-3CCD-436F-A759-45E99FCF0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7C8-1951-4884-B955-A8B367234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CB8-D4B0-43DC-A739-FA71B3CED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E57-7DCA-42DD-95AC-09EFA91ED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8823-0654-43C0-8411-A3E4F7CBE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21E4-A015-471F-BE5E-D7A01F9F7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DA1-960E-47D9-B0FB-FBFA2FD03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FCD5-63FD-465B-95F5-405FA463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10F-1ECC-4197-B094-274CDC863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072-16D5-439F-9915-CA10668D1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3EA-5911-46B7-A7B2-4C33B0321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AEE-EB3D-4344-9A29-264E59E79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65DB-7B10-48EA-B193-230C66FD2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0A7-ABCF-4C38-9273-B3824F752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85B9-ECFF-4B01-8E46-34DCB4636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10E-0738-437B-848A-9AD243709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98F9-5BAA-4C9A-A6A9-5DEB43DC9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007-9143-4707-8D26-1A274A923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11B3-9F80-4227-A6AF-731D1323B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657-E7C1-4D7A-97B4-49DB31832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D6D-A3A6-4612-B18D-29004D206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40E5-94B3-49B3-AA13-5E523894E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F88-5124-4C7C-A2C1-8EC89FF2D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547-0EE4-457F-95B2-AD0F249F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0B1-AAC2-4C6A-AEED-C61C83312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6501-B3FE-4FFA-90DE-35C3DC3B1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C87-BE79-40DD-BD78-211FD3BE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C5B-5629-4A44-A350-61F7BA0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AEF30-0D4E-4842-900C-F97C735D01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BAC05-3696-45AA-B303-482BFAA050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5B81DF-ECA2-43B9-A0DE-3A067948AF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A8291D-FE91-4C18-873F-7CBE36DB35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A9B66-F5D7-4376-A3F1-A212222F14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F8D4F-D59C-4B12-8F7B-F03BD1231C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793D2-A70B-462F-8B53-9B68562729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BFECA2-A7CD-45DB-9A82-5193E670AA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9696B-D517-4745-BF94-9E2B20AC2B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4A8B-83E1-4629-95DA-7BA92791F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53A-06FF-4A5A-890D-141E50A0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ECCF0-F179-4429-A9F6-DE0E627B01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BE9D-2A1F-46EB-B472-82ABAE7A6E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CBC5F-E29B-443B-9BB0-D0ADA2CE0FC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4004C-BCB6-46E3-A4FD-4A5FDBC9A5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2C0A-77FC-4200-B116-9EC273CCCF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C4C5-AC50-4568-B6DD-3DE2751E2C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4F5A-A631-45EA-AF23-C6DFF26851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5B52-4EE9-4FB9-9D54-4E141EB2A6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D5AA-992E-4004-90D4-78B82E11B0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599B-20BB-440B-8405-2EA77263D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B0E-20CC-4D78-B918-C50E673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4BCE3-0234-42A6-AA30-A9B049CC8B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E27C4-E77D-4BC2-A7D0-6E683C5495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640C9-9204-4AD2-8AD6-E9FABB662E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7873C-DB17-48C7-8E5E-8A7A25AC21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CF0D9-46BA-47F1-83BA-09D8D2C1DB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5293C-EB7A-43DC-8B12-3EB935BF8B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713D7-F342-4C87-AFA7-0E6A8F8B0F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A6CED-2D1E-4FEF-A5CF-D32FE571BD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48A24-FD4E-4832-9DC0-F888E771B5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3CA21-AE57-46D1-A847-937AB8AAB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4191A-53FD-4703-A1C0-4AC3CF2FE3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69460-A1D1-4A55-988E-A5E665EF0F9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A8C40-DA55-4B9A-95F5-D9012BE8F5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F0514-4064-499A-A333-76523F2B1E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E47D5-CD19-43D1-88B2-14845C4E7F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7F416-2005-4C17-A6CF-BA12D5CC11E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A9551-CD5B-420A-B4BC-FC98BE7E901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9C46C-8607-4DD1-9DA0-DBA859AFAD2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531EF-B4CC-4664-834D-B7F4BE2AD6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ADE2C-518D-413D-A19F-9C836AEB68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FE83D-A380-480E-B8B9-3804D7D7F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CFE71-D534-4560-9AD5-9FAF9DE18FC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AC63B-5E10-4F10-A66D-D64A425494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709FF-0ADF-4BEA-9689-E21C119E04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A39F9-930C-4066-B6CE-572D8EB4FD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90400-717E-4105-ACEE-3984FB53E6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0DE5F-F6D8-4E34-B9A1-E34EFFCD14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C400E-F2CA-4AAD-AC76-A176751AE25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6CF7-A222-4576-BD0E-03AD92904DB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28157-4A4C-47D4-8703-C29C9C6EB00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9CA6-F016-42A6-A0DC-BDF22A5467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634A4-E533-4192-8FA4-50DB4A0E8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6F0A3-D99F-46C1-AD71-343D77BB8F7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A5EB0-D61C-4C28-9093-3A0443E392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0B1EF-02E5-41C8-ABE0-F278683C815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28AE7-FB09-4425-83F7-EF948BE00A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4868-8194-4B1E-BCE4-72A8B1DB88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8C869-9386-4E5F-9166-608A9461816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6264F-BA81-46C8-AE61-72A4CA3D878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9FEF4-420D-4523-B060-27D98D019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E9767-F3FB-4548-9125-49ED2F9DA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E098-BF07-4A0D-9217-324C69369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108C9-7EF6-4F67-A42D-7A7FA6A28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7B014-BA79-41D4-A0CA-4913BE099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F0A-A617-4DEB-A27E-51BA65F6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4706-9F4A-4605-A27C-06C99A712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6134-5D34-46CC-94C7-5D9C08A3EC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34BAF-76E4-42F5-9FA9-751D0E9E3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E155-F2D3-4660-B56B-DC5FE5518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4ABF-C07C-45E1-91E1-78E58754E5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DF7EB-F46E-46FB-B2B7-C6ABCCA5A7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FF9D2-9AD2-4B4D-9D64-FACF5FF389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5E58D-B6CC-41ED-8008-160B44DC54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27CC9-15A2-4351-955D-51401CA014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DB0AA-C923-4B57-82C0-0ED94C941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595-150A-46E3-BF93-8735D89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B3879-602D-4840-BB9A-D6310F0169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07822-52F3-4EEC-99AD-C85050FC55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36A74-1E38-4106-8FB4-86DC6BB5A7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21BB6-C36B-4E39-B218-FD8DFFBA0C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29A1D-7F5D-4996-90D0-36CBEBA053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7A58F-074D-41DD-A15C-231B381BF9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5709A-3A3A-42D6-85C0-18F1740D60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650A-B193-4D8E-AC7A-18E01DC45E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033F-1E5C-464B-874E-4C2FC05A22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0928-5CAA-4ED7-90A3-B508B2104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339-2813-48C9-B040-3D8F721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EBD5-C95D-45F4-A530-1BBCDB6FA0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FB9C-DC5E-4AD9-9CAD-B10FF33564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0A81-322F-4151-93CF-B79953EC63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A28B-4EC5-4CC6-AF3F-F9311D5B12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5805-68CA-4D19-97D7-8FAB16513F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17D0-83CF-4B58-A97A-CC91C5B445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EBCA-E9BE-4C6A-B19F-C2F886A264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D2AD-EDB6-47DE-AE56-7BD6404391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9557-8DF6-4126-8EB2-6347F24D32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98D1A-77F0-4FD8-AC3B-20CA84D33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7D9-B9A8-4E84-A029-DD81B54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31865-0658-4EE9-B795-1BBA867BC0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9D9EC-502C-45E2-B7C2-CADC52D27D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6C230-6616-46B2-B2A6-F61D00D001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D34C6-521A-488B-A6E2-7AA737FDCF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A0E58-F0CD-484F-86D5-DBD76ED3D7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BAE52-DEA2-4FAD-8C91-8C212EB8B4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38A92-E63C-4ACD-9EA7-410F332990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421F4-1E96-49DF-88FB-510315E018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72654-9AF6-470A-B91D-C05DF70872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2B415-843F-4356-A1E5-6BF0F5217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C09-FD7B-40C7-B767-3B2BB76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2E058-96BE-468D-B483-A7D67D2540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43C56C-FB7C-45BF-BE26-648C8767BA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1A3FD-D447-4E73-8223-555126749F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50A6C-A6F3-4EEB-B923-B459517FAA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49E02-20AF-47C8-9F61-E872735FDC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90D22-1DEE-40A7-8202-9B4C30CC7E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38D08-1D4E-4060-A1A2-D73EA16E17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54BAE-F0AA-4275-A52D-9449557830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BFD28-C1E7-441D-B317-E24011A3C2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2F998-618E-434A-8F08-8EA1242D4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39F-85CA-4862-B563-1679FC8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21A19-0B6E-4E02-A6CD-E4B8ADA139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3AC29-3F5A-4AFE-802D-6665D7D4DA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77296-FD96-4196-96C8-6C5D29D459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2CF2-9415-46FC-91CD-8746C38693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0618-F036-444F-BA69-D60C044D0D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BC57-252A-4764-A5B2-AD3B303B1A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33EC-5091-4B77-91AE-60CA148260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149F-B801-4477-B93D-BC9C4240E7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9E26-0C45-4F54-868E-F6CE45DABC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F508-C3C0-4CE4-A295-D3FEC09C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361-E643-407B-8963-682D4EB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14EC-D833-406B-B939-4AEAA19EFF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59D8-BE4D-43A3-9877-7E03B43246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D3B5-3BED-4624-9D98-90B739283D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92DB-C5CD-443A-84DA-126C6E34BB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EDD19-B40C-43FC-829B-A3AF4F7A39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BE348-F4D4-4DA6-BB59-FB93C74168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329C1-D451-49D0-A901-15D8EFA731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721C1-0D11-486C-B320-166B15842B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F9999-D281-4AE6-BC36-19F2057063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28271-4BEA-4CED-8081-FB4766622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444-6EFB-4EBB-835D-100C20D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20DFF-A766-4BA3-8592-28CCE2CAAA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ACE71-C23E-45AD-94E7-5099359F59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FDB1B-0016-47E3-8525-F02AEF6BD5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C3652-E111-470B-94AE-1935E93128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0B712-E005-4D57-86E7-EBCA23AD791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D50C0-D5F8-41E8-9F88-18B487D569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7D0C1-28E8-4987-8AFC-57CC2D66D9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614FE6-E995-46A4-BF2E-FC5828BB2F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C8866E-383A-46B7-945B-2E4BF9E02A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8C8B7-D4FD-4BC7-9AC8-8A391EC4F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25B6-1D45-49DE-925C-E982920DE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084-CE27-4805-8EF5-7107A82B8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18CA-45C8-4A70-B7A4-3E34EB12B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5DA-1552-4E62-AAD2-1654AF2E2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735E-7DCC-42FE-8EFD-C3BED288D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9D1-0B8A-4E5A-B11E-1F84EC546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AC5-8667-4302-82CE-E044F995E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2E93-42C1-4DB9-898B-BD68724BC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33D5-618E-4989-845D-903CB306A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B22-D518-4D59-9907-FA97CFAFA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A34-3639-4576-9CA8-E051C1C6C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3DE-39A4-4647-91B4-A19D0CFE9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681-BC99-4827-A38A-8ADC9E337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form_Commercial_Co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gital.nexsitepublishing.com/i/91575/13?utm_source=Copy+of+CBNewswire+110112&amp;utm_campaign=CBNOct12DigitalIssue&amp;utm_medium=emai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Risk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go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5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Risks, Supply Chain Disruptions, Service Inconveni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t our health:  Safety Firs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t our pocket book:  Rippl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nd fores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 plans (“plan B”), continuity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ndancies (buffers and slac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ative efforts (maintenance, repa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rout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4-step approach in risk manageme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dentify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 Da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  Contamin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  De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  Interrup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  Security Br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alyze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sses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 (probability * impa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itig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  Re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f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   Ret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onito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&amp; Review (procedures and syste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form Bill of Lading Terms and Conditions, Sec. 1(b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arrier shall be liable for any loss or damage to a shipment or for any delay caus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 of Go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blic enem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uthority of law;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 or default of shipper…” (incl. “a defect or vice in the property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 of Go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natural event, not preventable by any human agency, such as flood, storms, or lightning. Forces of nature that no one has control over, and therefore cannot be held accountab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phrase denotes those accidents which arise from physical causes, and which cannot be prevente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 the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form Commercial Cod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2-615, failure to deliver goods sold may be excused by an "act of God" if the absence of such act was a "basic assumption" of the contract, but has made the delivery commercially "impracticable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Managem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:  Determine the potential transportation disru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 and Assess:  Evaluate the likelihood and impact of each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:  Apply risk management and mitigation strategies (detailed action pl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:  Monitor and update the plan, identify new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loss or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lo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dam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id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ement we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handling, loading or secu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al exposure (water, heat, fros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contam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d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ly chain interru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urity bre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support.wdc.com/warranty/images/rmapics/Image2.gif"/>
          <p:cNvPicPr/>
          <p:nvPr/>
        </p:nvPicPr>
        <p:blipFill>
          <a:blip r:embed="rId1"/>
          <a:stretch/>
        </p:blipFill>
        <p:spPr>
          <a:xfrm>
            <a:off x="5194440" y="380880"/>
            <a:ext cx="3254400" cy="243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http://deeperwants.com/ratboys_anvil_2/sinking.ship01.jpg"/>
          <p:cNvPicPr/>
          <p:nvPr/>
        </p:nvPicPr>
        <p:blipFill>
          <a:blip r:embed="rId2"/>
          <a:stretch/>
        </p:blipFill>
        <p:spPr>
          <a:xfrm>
            <a:off x="304920" y="609480"/>
            <a:ext cx="4933800" cy="2686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http://media3.washingtonpost.com/wp-dyn/content/photo/2007/10/26/PH2007102602232.jpg"/>
          <p:cNvPicPr/>
          <p:nvPr/>
        </p:nvPicPr>
        <p:blipFill>
          <a:blip r:embed="rId3"/>
          <a:stretch/>
        </p:blipFill>
        <p:spPr>
          <a:xfrm>
            <a:off x="838080" y="3733920"/>
            <a:ext cx="3983040" cy="239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http://www.lcapp.com/images/CargoTheft.gif"/>
          <p:cNvPicPr/>
          <p:nvPr/>
        </p:nvPicPr>
        <p:blipFill>
          <a:blip r:embed="rId4"/>
          <a:stretch/>
        </p:blipFill>
        <p:spPr>
          <a:xfrm>
            <a:off x="5867280" y="2819520"/>
            <a:ext cx="2325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http://www.tjocargo.com/cargo_damage.jpg"/>
          <p:cNvPicPr/>
          <p:nvPr/>
        </p:nvPicPr>
        <p:blipFill>
          <a:blip r:embed="rId1"/>
          <a:stretch/>
        </p:blipFill>
        <p:spPr>
          <a:xfrm>
            <a:off x="457200" y="380880"/>
            <a:ext cx="3333600" cy="2781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http://www.knichellogistics.com/assets/damaged.jpg"/>
          <p:cNvPicPr/>
          <p:nvPr/>
        </p:nvPicPr>
        <p:blipFill>
          <a:blip r:embed="rId2"/>
          <a:stretch/>
        </p:blipFill>
        <p:spPr>
          <a:xfrm>
            <a:off x="4495680" y="457200"/>
            <a:ext cx="3581640" cy="2600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http://peakclaims.com/wp-content/uploads/2009/10/6.30.07-054-300x225.jpg"/>
          <p:cNvPicPr/>
          <p:nvPr/>
        </p:nvPicPr>
        <p:blipFill>
          <a:blip r:embed="rId3"/>
          <a:stretch/>
        </p:blipFill>
        <p:spPr>
          <a:xfrm>
            <a:off x="533520" y="36576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http://t1.gstatic.com/images?q=tbn:T8KVHVZkkD4dhM:http://woodbridgemarine.com/images/barmbek020.jpg&amp;t=1"/>
          <p:cNvPicPr/>
          <p:nvPr/>
        </p:nvPicPr>
        <p:blipFill>
          <a:blip r:embed="rId4"/>
          <a:stretch/>
        </p:blipFill>
        <p:spPr>
          <a:xfrm>
            <a:off x="4724280" y="3657600"/>
            <a:ext cx="31244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http://resources1.news.com.au/images/2009/08/19/1225763/701277-west-gate-crash-sparks-traffic-chaos.jpg"/>
          <p:cNvPicPr/>
          <p:nvPr/>
        </p:nvPicPr>
        <p:blipFill>
          <a:blip r:embed="rId1"/>
          <a:stretch/>
        </p:blipFill>
        <p:spPr>
          <a:xfrm>
            <a:off x="380880" y="457200"/>
            <a:ext cx="3333960" cy="3638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http://www.champion-glass.net/images/FL_Hurricane.jpg"/>
          <p:cNvPicPr/>
          <p:nvPr/>
        </p:nvPicPr>
        <p:blipFill>
          <a:blip r:embed="rId2"/>
          <a:stretch/>
        </p:blipFill>
        <p:spPr>
          <a:xfrm>
            <a:off x="4114800" y="4572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http://www.guzer.com/pictures/sink_hole_truck.jpg"/>
          <p:cNvPicPr/>
          <p:nvPr/>
        </p:nvPicPr>
        <p:blipFill>
          <a:blip r:embed="rId3"/>
          <a:stretch/>
        </p:blipFill>
        <p:spPr>
          <a:xfrm>
            <a:off x="4191120" y="365760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http://www.kenn.com/the_blog/wp-content/uploads/2010/02/labor_strike.jpg"/>
          <p:cNvPicPr/>
          <p:nvPr/>
        </p:nvPicPr>
        <p:blipFill>
          <a:blip r:embed="rId4"/>
          <a:stretch/>
        </p:blipFill>
        <p:spPr>
          <a:xfrm>
            <a:off x="838080" y="4191120"/>
            <a:ext cx="2381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ing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y (likelih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(consequ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proximity (when will it occur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and quantitativ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itizing risks and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  subjective boundaries (how much is too much risk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ort of Tacoma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midterm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 about Friday jobs fair and Monday IKEA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on chapter 9 material and supply chain risk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reduce risk (mitigation and risk manageme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contingency plans (backups, buff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continuity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a “learning organization” (thinking ahea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vo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ng the risk (e.g. selling Ex. Works and/or buying cargo insu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E:\Tables\CH09\09-T01.jpg"/>
          <p:cNvPicPr/>
          <p:nvPr/>
        </p:nvPicPr>
        <p:blipFill>
          <a:blip r:embed="rId1"/>
          <a:stretch/>
        </p:blipFill>
        <p:spPr>
          <a:xfrm>
            <a:off x="96840" y="304920"/>
            <a:ext cx="8732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reduc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dging  (e.g. offset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po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ffering  (safety buff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backups and alterna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ing alert and informed (good intel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ventative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ing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er securing, la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urity systems, procedures, infra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y cargo insu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y insu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terms (Incoter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3PL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proper documentation of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(calculated) risk may even be an “added value” activity (if assume risk and get paid to do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go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ndard carrier limits are in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delivery term, can be bought by both shipper and consign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are blanket policies that cover shipments over a time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“all risks” and “warehouse to warehouse” policies (know what the policy covers; may have to buy rid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ary to insure at 110% of invoice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y Chain Security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-terrorism meas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go insp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and high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ign trade affected in many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and State safety &amp; environmental regul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new laws and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d at reducing ri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itiatives are pric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" descr="http://s1.hubimg.com/u/1119904_f496.jpg"/>
          <p:cNvPicPr/>
          <p:nvPr/>
        </p:nvPicPr>
        <p:blipFill>
          <a:blip r:embed="rId1"/>
          <a:stretch/>
        </p:blipFill>
        <p:spPr>
          <a:xfrm>
            <a:off x="1131840" y="1523880"/>
            <a:ext cx="6527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KEA presenters (open to online students, to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on global transportation planning an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10-2 is 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 of Tacoma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 Business News St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igital.nexsitepublishing.com/i/91575/13?utm_source=Copy+of+CBNewswire+110112&amp;utm_campaign=CBNOct12DigitalIssue&amp;utm_medium=e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at of customers shifting p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s must be depen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eptable delays at Port of Tacoma (“3 hours to pick an empty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ufficient infrastructure to handle th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756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score: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7.45  (C-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6.5 - 13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648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2"/>
          <a:srcRect l="9333" t="41603" r="8000" b="9600"/>
          <a:stretch/>
        </p:blipFill>
        <p:spPr>
          <a:xfrm>
            <a:off x="241200" y="2057400"/>
            <a:ext cx="8674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Edition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yle, Novack, Gibson &amp; Bard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© 2011 Cengage Learning</a:t>
            </a:r>
            <a:br>
              <a:rPr sz="16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257440" y="3352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98989"/>
                </a:solidFill>
                <a:latin typeface="Calibri"/>
              </a:rPr>
              <a:t>Transportation 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1025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19360" cy="457200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877F-FA7F-453A-B9F6-A15B01F75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304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Risk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kinds of risks are we talking ab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rimary root caus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gestion, traffic mishaps, 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d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-made disruptions (crime, terroris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cts in quality (product and/or packag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Consequences (effect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al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st s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eers destro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f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5585-2C7B-4BEF-93DE-23E445E99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risk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def: the chance of something going wr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ources of transpor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-related disru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or-related un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failures or network co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racy, pilferage, terro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ve mista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policy disp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ooter Placeholder 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7:30:47Z</dcterms:created>
  <dc:creator>Andreas</dc:creator>
  <dc:description/>
  <dc:language>en-US</dc:language>
  <cp:lastModifiedBy>vista, setup</cp:lastModifiedBy>
  <dcterms:modified xsi:type="dcterms:W3CDTF">2012-11-06T03:06:43Z</dcterms:modified>
  <cp:revision>17</cp:revision>
  <dc:subject/>
  <dc:title>Freight &amp; Shipment Management Outsourcing Transportation Risk Management</dc:title>
</cp:coreProperties>
</file>