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48CE-BC02-4EF3-B83A-C8290CF8E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E661-2590-4244-A230-F605D25CD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7692-A65C-4257-8D6F-5EB338D5E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F673-9D55-474B-81B9-98D2AACF9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291E-0C9F-4807-BF52-8A4B3579E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F055-CE1F-4B69-9560-1590307AF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FF9D-5F3A-4667-B6D8-459A6A60F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9001-5F8C-4C1E-BEC6-7B43D1A79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53EB-3474-4439-ACFD-772C648EA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9F6C-3B45-4515-B236-935CB5DF0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835C-2FDC-44B0-8D2C-B3E789601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BE9A-BCA8-4268-9861-CB89A0E1B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627A-1990-4B6C-B095-07524C84C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1912-E898-4E7D-B313-3E47DA15B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3E1C-4D26-4410-A97F-F3399E22C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FEEE-8F2B-499C-A8D7-3B3981F64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8668-96AF-4BB3-98D3-D278647D6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BAE1-2DCF-4766-8CBA-A4D2275B4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AF55-9031-4EB6-865C-3E9AA16A0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FB6-416F-4C73-A32B-876CD544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416-6CA9-438C-BF67-8DC7DB69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43A-811F-4691-8C7B-218C3DCB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B9D-C2CC-40F0-9428-E8D4F2E1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2EC2-15E9-49D3-B038-1AC04780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BB6-B16C-4D14-83D1-B18BB755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7FD-0B71-49A4-834C-22F10ACA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F66-AD1A-478B-A061-A02A2D93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4A8-3194-4B62-94F1-22F76685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CAF-6F84-4499-BB77-D7C84BF5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DD5-9F56-42A4-BB01-D019D656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3AF-B340-49DF-BDF0-468437BA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48DD-5DE5-47C5-9982-4D72462A4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Networks and Distribution Ce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G 102, Session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vember 19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ribution Ce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“square root rule” for how much more inventory you need to maintain with more distribution cent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ing from 1 to 2 loc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/√1 = 1.41/1.00 = 41% more inven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ing from 1 to 3 loc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/√1 = 1.73/1.00 = 73% more inven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rcRect l="24669" t="21333" r="20000" b="9600"/>
          <a:stretch/>
        </p:blipFill>
        <p:spPr>
          <a:xfrm>
            <a:off x="762120" y="609480"/>
            <a:ext cx="758988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ehouse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do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s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mage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ehouse Cost Driv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age costs (mostly space depend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ing costs  (productiv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rical costs  (documentation and 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ntory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xed time ordering (the quantity vari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xed quantity ordering (the timing vari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terials Requirements Planning (a push syste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 pull systems based on bills of material, e.g. Just-in-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BC system of categoriz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0% is 75% of the invest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5% is 90% of the invest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ic Ordering Quant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adeoff between holding costs and ordering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n optimal (theoretical) quantity that should be ord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IT and pull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u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on dis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arehousing adds valu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omated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P (Enterprise Resource Plann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ized WMS’s (warehouse management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gging technologies using barcodes and RFID t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perless picking and packing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 for tod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s and discussion board revie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ctations for the Project (due Dec. 12; no exce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lides on Distribution net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discu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-1 Young Again Pharmaceut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-2 A Megapixel Opport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air freigh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on of state sales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KEA guest speaker on Decembe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e Project is due Dec. 12 and worth 20% of the course gra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work in tandem with somebody e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something you are personally interested in, 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egulatory agency (e.g. the Washington State Ferry System has been suggest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ransportation policy issue (e.g. the politics of high speed rail has been suggest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de of transportation  (e.g. the history of railroads and their application in modern life and transpor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ject,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bout 2,000 words, preferably a pdf file (Word is OK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lude an introductory abstract (one paragraph), an introductory section (problem statement and what you will be doing), a main body (analysis and discussion) section, and a summary/ conclusions section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descriptive headli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er references and citations are expec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ables and figures in the body or in the ba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ribution (downstream activ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ain, two main priorit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iveness (Customer Orien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cy (Cost Contro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COST OF MEETING THE CUSTOMER NEE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tradeoffs, for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om Designing the Distribution Network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17333" t="18133" r="18669" b="9600"/>
          <a:stretch/>
        </p:blipFill>
        <p:spPr>
          <a:xfrm>
            <a:off x="1066680" y="1600200"/>
            <a:ext cx="6694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25333" t="11733" r="20667" b="6400"/>
          <a:stretch/>
        </p:blipFill>
        <p:spPr>
          <a:xfrm>
            <a:off x="1371600" y="304920"/>
            <a:ext cx="626436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26667" t="23466" r="26667" b="19200"/>
          <a:stretch/>
        </p:blipFill>
        <p:spPr>
          <a:xfrm>
            <a:off x="1143000" y="1143000"/>
            <a:ext cx="64008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21:16:06Z</dcterms:created>
  <dc:creator>Andreas</dc:creator>
  <dc:description/>
  <dc:language>en-US</dc:language>
  <cp:lastModifiedBy>Andreas</cp:lastModifiedBy>
  <dcterms:modified xsi:type="dcterms:W3CDTF">2012-11-19T01:14:56Z</dcterms:modified>
  <cp:revision>4</cp:revision>
  <dc:subject/>
  <dc:title>Transportation and Trade Management</dc:title>
</cp:coreProperties>
</file>