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7A4-A7AB-42CA-AEB0-C79AC529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CB3-C110-46DA-BAE4-FD2188A4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8F8A-1DCA-4F0F-B498-3A884D5F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691B-D470-478D-A33C-B3F515C9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68CD-3FFA-4CCB-BBD8-E1A3DEE5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6FDD-D59B-47C9-B579-2E3E150B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778C-F426-491E-B8A7-914F6306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9D0A-20B2-4FA9-82DD-107A9A96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1F33-0FBD-4112-8BB7-C916EDD9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5E04-1AA2-4A46-B7E5-D29FED74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83D0-1AFB-4D97-8C68-17F4A1A5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D26F-6B3F-4756-A092-7D831888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EE1F-CFD8-43FC-BFD2-D67957C1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EB9F-D901-42D2-9AA7-F1BCF537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9DBB-74D1-47CA-9321-1134AB25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85CC-A64F-4FE6-8C98-075A3403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9742-F0AE-45D1-84C2-51D2BAD9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54790-F0FB-4701-88EE-E3FF1FD5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F3087-AFBD-4A26-9D33-AB00EF6D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8183E-D409-45C6-A588-E5E98112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05FD7-2D5A-4749-91EF-089B8571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24358-132A-4193-94E1-6DEE3628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7AE8-19F5-4E94-98C6-B3B1051A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46D13-FDBB-4F44-BD1D-256CD3E7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104B7-127B-4E21-8DD3-69F488B2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EE235-2984-467E-9953-74681F94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5D0F0-9596-4DA2-A140-962CFE06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7DE38-64D3-4BB2-8EAF-117909D4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84081-24BB-46F0-A0C3-EE4653A2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DD55B-A043-4A82-BDE1-BBD54483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2E14F-3FBA-49F2-9119-8B24B10F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60200-8ABE-415F-8B90-01A3DA3C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BDC42-C328-488C-A95B-F8091BFB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98A-31DF-4661-A7B2-4A803C32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EE41A-0F9A-4F70-B94B-73CC3BC2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F7E39-7ABA-479F-84C6-C9C47487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976F2-ED82-437B-882C-01D7BB8E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9EA14-2312-4571-A10C-1BCD27A1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3FA04-F502-491D-9032-25F396BA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1A6CF-1B64-4DCB-8C70-83E8CCE3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2F2C6-FAF6-49F9-B5D5-6D597148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08091-9BA6-4F14-A48A-C6B7E74D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114EB-3FF0-452A-944E-93203271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1225-A560-4DE3-8A5B-FE0929FF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6F8-8723-42C9-B288-3470A985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E639-32AA-4790-B451-B6F30FC7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819-832F-4DF0-A043-4AA5E3DC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870D-17CC-4077-AD38-B29E3D3A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resh Mast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5256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77040" y="655272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0A20-D79A-4486-AE48-DF4211B288D6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Fresh title.png"/>
          <p:cNvPicPr/>
          <p:nvPr/>
        </p:nvPicPr>
        <p:blipFill>
          <a:blip r:embed="rId2"/>
          <a:srcRect l="0" t="0" r="0" b="39778"/>
          <a:stretch/>
        </p:blipFill>
        <p:spPr>
          <a:xfrm>
            <a:off x="0" y="1566720"/>
            <a:ext cx="9144000" cy="2243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Fresh title.png"/>
          <p:cNvPicPr/>
          <p:nvPr/>
        </p:nvPicPr>
        <p:blipFill>
          <a:blip r:embed="rId3"/>
          <a:srcRect l="0" t="33639" r="0" b="59391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324480" y="628812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62881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381520" y="62881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9934-1400-4A5E-B32A-BC11F718C206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Fresh section.png"/>
          <p:cNvPicPr/>
          <p:nvPr/>
        </p:nvPicPr>
        <p:blipFill>
          <a:blip r:embed="rId2"/>
          <a:stretch/>
        </p:blipFill>
        <p:spPr>
          <a:xfrm>
            <a:off x="0" y="3767040"/>
            <a:ext cx="9144000" cy="3090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72840" y="6553080"/>
            <a:ext cx="19810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620880" y="6553080"/>
            <a:ext cx="28954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759440" y="6553080"/>
            <a:ext cx="6858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096A-5C6D-4977-A66F-0C46E8E07EC8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Fresh Mast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4675320" y="1841400"/>
            <a:ext cx="3504960" cy="39625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990720" y="1841400"/>
            <a:ext cx="3504960" cy="39625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95256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277040" y="655272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FDE8-9103-4441-8F7D-3C3B0022FE64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3276360" y="2057400"/>
            <a:ext cx="2819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Garden.com 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ase Study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Log 103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2590920" y="5638680"/>
            <a:ext cx="449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ase study used with permission of the Tuck School of Business at Dartmouth – Glassmeyer/McNamee Center for Digital Strategies</a:t>
            </a:r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Title 1" descr=""/>
          <p:cNvPicPr/>
          <p:nvPr/>
        </p:nvPicPr>
        <p:blipFill>
          <a:blip r:embed="rId1"/>
          <a:stretch/>
        </p:blipFill>
        <p:spPr>
          <a:xfrm>
            <a:off x="512640" y="182520"/>
            <a:ext cx="7979040" cy="1474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ookman Old Style"/>
              </a:rPr>
              <a:t>Garden.com started in March 1996 as an Internet company</a:t>
            </a:r>
            <a:endParaRPr b="0" lang="en-US" sz="17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ookman Old Style"/>
              </a:rPr>
              <a:t>Concept: Sell products to consumers at a retail price and then ship them directly from the suppliers at a wholesale price</a:t>
            </a:r>
            <a:endParaRPr b="0" lang="en-US" sz="17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Live plants, flowers and bulbs would be shipped direct from growers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Gardening supplies and other related merchandise could be inventoried and shipped from Garden.com or from supplier depending on attributes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ookman Old Style"/>
              </a:rPr>
              <a:t>Products included live plants, shrubs, trees, bulbs, seeds, organic fertilizers/pesticides, tools furniture, garden ornaments, clothing, garden accessories, garden gifts</a:t>
            </a:r>
            <a:endParaRPr b="0" lang="en-US" sz="17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512640" y="182520"/>
            <a:ext cx="7966080" cy="1474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952560" y="160020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Research indicated 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Gardening was a fast growing hobby in US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Industry was fragmented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No dominant player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Competition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Large format home improvement retailers had uprooted many of the 60,000+ retail nurseries in the 1990’s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Many of the traditional local nurseries had either grown larger and/or added seasonal merchandise in the fall/winter, or found niche markets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Home Improvement/Superstores  offered price and convenience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Mail-order catalogs expanded into online but did not have variety of products planned by Garden.com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Multi-channel online retailers  could be major competition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512640" y="182520"/>
            <a:ext cx="7966080" cy="1474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Website provided lots of information for both new and experienced gardeners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Web and paper-based magazine provided lots of content, links to Garden.com products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Monthly newsletter distributed to Garden.com members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Weekly email sent to preferred customers with special offerings/content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Value-added services included horticulture database, plant finder, gift reminder, gift registry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Customer service included product variety and accessibility; responsive communication; reliable delivery; concise, easy to navigate website; ease of returns 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itle 1" descr=""/>
          <p:cNvPicPr/>
          <p:nvPr/>
        </p:nvPicPr>
        <p:blipFill>
          <a:blip r:embed="rId1"/>
          <a:stretch/>
        </p:blipFill>
        <p:spPr>
          <a:xfrm>
            <a:off x="512640" y="182520"/>
            <a:ext cx="7966080" cy="1474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ookman Old Style"/>
              </a:rPr>
              <a:t>Relationships with 60 suppliers offered over 20,000 items</a:t>
            </a:r>
            <a:endParaRPr b="0" lang="en-US" sz="17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Many were small, privately held growers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Suppliers needed to show fulfillment capabilities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Allowed to continue own catalog/web operations but could not work with competing e-tailers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In some cases, Garden.com would prepay for a portion of the product forecast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Suppliers were sole providers of specific product line barring stock-outs, however no single suppler accounted for more than 10% of revenue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Supplier services included:  co-branding and channel access, consumer demand management, improved forecasting, fulfillment consulting, packaging consulting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512640" y="182520"/>
            <a:ext cx="7966080" cy="1474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Garden.com developed information-driven virtual warehouse model to address fragmented supply base, geographically dispersed suppliers, and the perishability of live planting material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Co-developed proprietary shipping module – Trellis -  with FedEx which leveraged Federal Express’ information systems capabilities to link itself with suppliers and customers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Information flow between members of supply chain automated updating of order status  providing customers with information about current and future product availability, order status, and package tracking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Garden.com focused on capability of receiving and transmitting data thru supply chain, allowing suppliers to concentrate on physical transfer of goods –avoiding the expense and overhead of centralized multi-tier distribution models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512640" y="182520"/>
            <a:ext cx="7966080" cy="1474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95256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Many suppliers resisted or could not afford to integrate with Trellis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Inventory issues were a significant problem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Inventory could be wiped out by disease – stockouts occurred frequently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Incorrect forecasting could result in unsellable plants, or large shortages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When Garden.com overcommitted to inventory, they were forced to pay for plants at the end of the season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Communication mistakes/ misunderstanding of business caused order fulfillment problems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Return policy  was expensive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Replacing plants or 110% refund was expensive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Returning defective products was inconvenient to customer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Returned items were piled in warehouse and could not be resold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Title 1" descr=""/>
          <p:cNvPicPr/>
          <p:nvPr/>
        </p:nvPicPr>
        <p:blipFill>
          <a:blip r:embed="rId1"/>
          <a:stretch/>
        </p:blipFill>
        <p:spPr>
          <a:xfrm>
            <a:off x="512640" y="182520"/>
            <a:ext cx="7966080" cy="1474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verall garden market huge, but premium market not as large as earlier expected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Low-end segment of market was necessary for success, but costs were too high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urrent suppliers would most likely not be able to keep up with demand if Garden.com grew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any suppliers were not willing to increase capacity and sold to Garden.com until they ran out -  avoiding excess inventory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Title 1" descr=""/>
          <p:cNvPicPr/>
          <p:nvPr/>
        </p:nvPicPr>
        <p:blipFill>
          <a:blip r:embed="rId1"/>
          <a:stretch/>
        </p:blipFill>
        <p:spPr>
          <a:xfrm>
            <a:off x="23760" y="1139760"/>
            <a:ext cx="89010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8:08:51Z</dcterms:created>
  <dc:creator>Erika Bowles</dc:creator>
  <dc:description/>
  <dc:language>en-US</dc:language>
  <cp:lastModifiedBy>Erika Bowles</cp:lastModifiedBy>
  <dcterms:modified xsi:type="dcterms:W3CDTF">2009-12-08T21:04:27Z</dcterms:modified>
  <cp:revision>20</cp:revision>
  <dc:subject/>
  <dc:title>Slide 1</dc:title>
</cp:coreProperties>
</file>