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E177-5B5A-42DF-A2C5-EA159D008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A603-4FA4-4B12-B4D3-C2B68009C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7782-E8C9-446E-90C8-EBB5F6CA2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E70B-E6FF-41A7-B1E4-0FDDC0859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8ACF-892C-4125-8D05-CF770B300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0BAF-D45B-4874-BDAF-A38C396EE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4247-BB2C-4904-9F8F-7F90E6F05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1AEA-6650-47F2-A2CD-D566FED18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6EA3-C1B0-4CEB-A77F-1094622AC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738-3A9B-4E2F-A163-0DE13603B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99F2-1D5E-4AE0-8D66-D5B3D8CDE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2D07-59AF-44AC-9A19-F0E802C8D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5AAE-A01C-41CB-B606-BBB38EB66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6876-E4BC-4918-A556-BDC6E9461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9949-9650-4DF7-8051-445F23F87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19AE-277C-4242-A255-02B1310B9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A4E4-D934-4080-B0F8-C56DD6F32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AFB5-CC7C-494E-A0F5-158C0F5A6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CAA5-449D-435E-85C5-2D32D3D6A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539-B8DF-4199-9912-B4DB0C68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35A-3D01-495C-A524-30015B06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E85-862C-4902-A891-CA1506EF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E88-84F7-42E9-A461-82CD4829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082-0A7F-48EB-BF28-0B4FBAE5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DE1-3940-4ED2-9957-6ADC5391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380-D098-4CD0-B9C5-2937FFE9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C37-9BA5-4FD2-9673-7AC00B47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07D-6C77-458A-9773-5BDF0947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DF6-8EE9-4C08-B62C-739F493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D9E-E3B7-45D9-97AA-6003A175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BC6-22EF-4344-8C2E-AFBED867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7ED8-8A0F-45F7-8AF6-300FC2C15E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C7C8-F5E7-489F-85C6-B81758BCF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Costing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ew of Ocean Transpor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 the Transpacific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DBAA-AF23-4338-A4A4-4DABF1BAE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kellerh\Pictures\Baltic Dry Index.bmp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3395-D8D2-4934-B3A9-1406C33B5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2"/>
          <p:cNvGraphicFramePr/>
          <p:nvPr/>
        </p:nvGraphicFramePr>
        <p:xfrm>
          <a:off x="533520" y="1030320"/>
          <a:ext cx="800100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30320"/>
                    <a:ext cx="8001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9"/>
          <p:cNvSpPr/>
          <p:nvPr/>
        </p:nvSpPr>
        <p:spPr>
          <a:xfrm>
            <a:off x="0" y="0"/>
            <a:ext cx="9144000" cy="436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709000" y="60948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ts Bunker Index – Seattle IFO 180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nthly Average Price per M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066D-C1D4-4C5F-A23E-D700C5CDF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mpt from any economic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be owned by a company whose primary business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anspor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in any of the modes but most prevalent in tru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contract out on backhaul or excess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Westwood, Wal-Mart, ExxonMob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C239-1C9E-44B1-873C-D5789A922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s general 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ed by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charge reasonabl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ed 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’t discrimnate in pricing, claims, service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UPS, FedEx, BNSF, Schneider, United Airlines, APL, Westw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818B-E9FC-4E79-A86E-49AA44597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s selected (contracted)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legally discriminate on prices, service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ct can be tailored to fit individual cust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BNSF, Schneider, United Airlines, APL, Golden State, Westw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549E-F630-4A2F-8507-A750C57BD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mpt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conomic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s/service negot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s in exempt commodities such as forest products, agricultural products, liquid bulk commodities, dry bulk commod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ed 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BNSF, Schneider, APL, Westwoo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5D13-1D10-4D84-BC75-E78864FBF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mental Overs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198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tariff rates with loyalty contr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ocean carrier conferences (legal cartels) regulated by the FM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limited intermodal servi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ipping Act of 1984 through OSRA 199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tariff rates and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published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service contracts (essential terms/”me-too”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intermodal  through rates now allowed by conference memb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continued antitrust immunity for conferen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right of independent action by conference memb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ean Shipping Reform Act of 1998 through to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fidenti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rvice contr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ecline (and death) of the ocean carrier con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imited use of freight tarif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iminished role by F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ACD8-599A-4B33-ABDC-84065B7BC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Strategies and Tac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r 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cing by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ervice” instead of 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ervi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share/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haul cost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-cutting/staff red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11F8-7AAD-4552-80DC-46207AF1E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pper Tac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services offered by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trust an agen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cognizant of the carrier’s financial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ve for rate predic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the carrier’s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speaks volum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nderestimate your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you don’t cost yourself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B3E2-5852-4D09-A7E9-98B0330A4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ortation Cost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Pric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s’ Costs and Reven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vernmental Overs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pre-198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1984 through 199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1999 through pres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Strategies and Tac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pper Tac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DA16-697B-47C3-8872-F91014241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four market structures (Monopoly/ Oligopoly/ Pure Competition/Monopolistic Competition) which all have five characteristics which differentiate the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1. The number of sell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2. The number of buy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3. Who influences price (seller or buy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4. Barriers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5. Price elasticity of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2677-34B5-4E9E-9494-2F50841D8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e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ny sellers/buyers of identical produc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no chance for price/service different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ow or no barrier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opolistic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ny sellers/buyers of close products/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chance to be different  (e.g. motor carri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ow barrier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22CE-61F9-4665-AADC-B716210E7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p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one seller/many bu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o close substit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igh barrier to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igop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few sellers/many bu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imited differentiation (ships, intermod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igh barriers to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DB0F-1D4C-4086-9FF4-B3C20CA03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Reven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Ocean 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s and Sur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Fuel Surcharge (FAF or BA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urrency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ocumentation F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Outport Arbit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quipment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ecurity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emurrage/De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pecial Handling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iversion F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t cet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912E-1148-48D8-A03A-C49E591BD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36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454120" y="1066680"/>
            <a:ext cx="42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verage Revenue/TEU by Quarter – Transpacific T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80880" y="1447920"/>
          <a:ext cx="83822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822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9"/>
          <p:cNvSpPr/>
          <p:nvPr/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B Container Industry – Revenue per T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FFFD-C20A-49D0-A71B-E502AB103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Cos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basic costs in transportation costs stru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fixed costs  (e.g. ships, contai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ariable costs (e.g. fuel, loading, wa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Variable costs stop if operation is shut down; fixed costs don’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joint costs (e.g. port cost, fuel !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ommon costs (e.g. insurance, repa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E832-E30B-42DE-AA29-344C0A250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arter Hire or Mortg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ew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tainer Leasing (Long Term Lease vs. Master Leas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essel Insurance (P&amp;I, War Risk, Hull and Machiner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oad/Discharge (Stevedoring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ort Charges/Pilotage/Tugs/Line Handl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i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ar and Dunn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rminal Lea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G&amp;A Expenses (Sales, General, and Administrativ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intenance and Repairs (dry-docking and container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t ceter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33D0-6BA3-41A6-8595-789E72A70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58:44Z</dcterms:created>
  <dc:creator>kellerh</dc:creator>
  <dc:description/>
  <dc:language>en-US</dc:language>
  <cp:lastModifiedBy>Andreas</cp:lastModifiedBy>
  <dcterms:modified xsi:type="dcterms:W3CDTF">2011-08-19T21:09:58Z</dcterms:modified>
  <cp:revision>29</cp:revision>
  <dc:subject/>
  <dc:title>Slide 1</dc:title>
</cp:coreProperties>
</file>