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374188" cy="7088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4400" cy="708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60800" cy="353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08200" y="-360"/>
            <a:ext cx="4062600" cy="353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14200" y="531720"/>
            <a:ext cx="3543480" cy="265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730920"/>
            <a:ext cx="4060800" cy="35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30820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5FFD-B9DF-44E8-A0BD-BD6E46649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1C8A-2630-47F4-BE8A-A23760A55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7B7F-5945-446F-AC7E-C9359BA83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74B3-8E63-4131-B76F-F85DB4FBA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457F-ABC9-43ED-8931-7CC7AD456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15B8-6EE0-4D40-AE11-D43FDEB20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94E1-B1FE-4952-A97F-D0C78C185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7B08-075B-4B25-9B9D-D74A53A03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8DA-B277-40E3-B748-FF952635D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8E05-763A-487B-A93E-354315CB0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EA58-C73F-4BEE-8740-7107C7EFD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9A11-BDA5-4865-A6B0-02E053289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92C4-AFF2-4522-B9BA-37CB9B728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C044-B5B0-442E-A0A2-190218AFD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4D52-B5FB-4264-8016-D642F28C5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97EE-C9B1-465F-AE3F-1FDE6E993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32BE-421B-4ECD-9997-7E1F76CBA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C73C-8504-4BF6-8FF1-6ED34536F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7378-629D-497E-BADA-CEDA1EFBC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70F-56FA-4B0B-9119-B5A44B4AA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A2EE-3D4D-4B65-AEB5-0B19CDB64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BEDD-11DB-41B0-A2CA-9891C3AD2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CD34-E367-4C97-A5A4-DD32589A4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BCEC-3147-4DF3-AFFD-BC51F0637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6140-2E65-4E50-B099-248BE24CC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296F-2E39-4B42-AF0C-C780E156D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693D-BA8E-4430-8801-DB36EF11A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A179-65D2-487F-B009-3C8E621A0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2B0E-9A48-45FC-B9E4-5378DAF24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3971-E3DB-41FE-A0E5-E22D88870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0B7E-F458-46A0-8B62-147D36B4A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974D-4331-4F02-ACC1-7FB1EF084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3A33-915E-43B1-AB8A-6081513D7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808-E39C-4D9A-9B77-7DECFA11C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44B3-9502-46BA-B1D6-17DE35237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DD92-EB17-4269-A680-54F994F9F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8E0-4291-4164-9546-F023ABCBE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ED9A-59F8-475A-A3DE-15245D497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2A07-F08A-4D9B-B4AD-62C4B6CB9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3A9-E212-427B-9955-37B80D6D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5AF-A953-4845-AC51-5D85CABD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559-65B1-4C42-9BF8-A03C0127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603-52D4-46B2-8BBD-89A9BE18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1B5-ED49-44D9-9A0C-BA93328E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C57-123B-4321-A71C-EF4AFA92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E7B-10F2-4A2E-A4C3-A18A19F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451-03BD-4987-AB38-153EC0B0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1D3-47E7-4AB8-9BB0-18E93259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025-422B-4DFA-8888-16C82816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56A-1D6B-4EB6-A78D-8B76EF88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B85-563A-4367-BE99-4337DFE4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5F12-DFBB-4F66-8CE9-00FE14CF6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epgis.fhwa.dot.gov/hepgis_v2/Highway/Map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ps-scs.com/transportation/road.html" TargetMode="External"/><Relationship Id="rId2" Type="http://schemas.openxmlformats.org/officeDocument/2006/relationships/hyperlink" Target="http://www.fedex.com/us/freightportal/" TargetMode="External"/><Relationship Id="rId3" Type="http://schemas.openxmlformats.org/officeDocument/2006/relationships/hyperlink" Target="http://www.schneider.com/truckload/index.htm" TargetMode="External"/><Relationship Id="rId4" Type="http://schemas.openxmlformats.org/officeDocument/2006/relationships/hyperlink" Target="http://www.yrc.com/" TargetMode="External"/><Relationship Id="rId5" Type="http://schemas.openxmlformats.org/officeDocument/2006/relationships/hyperlink" Target="http://www.jbhunt.com/" TargetMode="External"/><Relationship Id="rId6" Type="http://schemas.openxmlformats.org/officeDocument/2006/relationships/hyperlink" Target="http://www.abfs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mcsa.dot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ruckline.com/pages/article.aspx?id=782/%7B8E1C7279-ED27-4C03-B189-CEEEE26BBB12%7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sdot.wa.gov/NR/rdonlyres/C43BCA33-4F74-43C4-B10F-9AD745168744/0/Permit_Brochure.pdf" TargetMode="External"/><Relationship Id="rId2" Type="http://schemas.openxmlformats.org/officeDocument/2006/relationships/hyperlink" Target="http://www.wsdot.wa.gov/NR/rdonlyres/EE2D33C7-E6A0-4C58-9BD9-AE05C003B327/0/VehicleGuide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mcsa.dot.gov/rules-regulations/topics/ho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mfta.org/Pages/welcome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or Carriers – and where to go to look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 Session 4 s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15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U.S. Highwa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epgis.fhwa.dot.gov/hepgis_v2/Highway/Map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argest Trucking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S 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ps-scs.com/transportation/road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x 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edex.com/us/freightportal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neider 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chneider.com/truckload/index.ht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llow - Roadway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rc.co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B. Hunt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jbhunt.co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F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abfs.co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-hire Carriers (local or line-haul/intercity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(serve the general public upon demand, at reasonable rates, and without discri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ct Carriers (serve specific shippers with contra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mpt Carriers (e.g. dump trucks, agricultur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Carri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service to its 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: Operating Authority no longer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: Operating Authority no longer required (after ICC was abolished in 19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s cannot enact economic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st regis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FMCSA to get DOT per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s must provide proof of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ehold goods transportation still regu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mcsa.dot.go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ed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ight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hicle size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urs-of-service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lution limits (emission standar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al bans and rules (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ruckline.com/pages/article.aspx?id=782/{8E1C7279-ED27-4C03-B189-CEEEE26BBB12}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zMat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stern Regional Permi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wsdot.wa.gov/NR/rdonlyres/C43BCA33-4F74-43C4-B10F-9AD745168744/0/Permit_Brochure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ington State Commercial Vehicle Gu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wsdot.wa.gov/NR/rdonlyres/EE2D33C7-E6A0-4C58-9BD9-AE05C003B327/0/VehicleGuide.pd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trailer si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8-foot (can be hooked 2 or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-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-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-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28 Foot Trailer"/>
          <p:cNvPicPr/>
          <p:nvPr/>
        </p:nvPicPr>
        <p:blipFill>
          <a:blip r:embed="rId1"/>
          <a:stretch/>
        </p:blipFill>
        <p:spPr>
          <a:xfrm>
            <a:off x="6095880" y="1600200"/>
            <a:ext cx="2381400" cy="178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fleetcotrailers.com/images/53_foot_truck.gif"/>
          <p:cNvPicPr/>
          <p:nvPr/>
        </p:nvPicPr>
        <p:blipFill>
          <a:blip r:embed="rId2"/>
          <a:stretch/>
        </p:blipFill>
        <p:spPr>
          <a:xfrm>
            <a:off x="1676520" y="4267080"/>
            <a:ext cx="288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TTAX 555680"/>
          <p:cNvPicPr/>
          <p:nvPr/>
        </p:nvPicPr>
        <p:blipFill>
          <a:blip r:embed="rId1"/>
          <a:stretch/>
        </p:blipFill>
        <p:spPr>
          <a:xfrm>
            <a:off x="762120" y="838080"/>
            <a:ext cx="76802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 (Hours-of-Service)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Motor Carrier Safety Administ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mcsa.dot.gov/rules-regulations/topics/ho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s driving time, duty time, rest time, etc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ppers need to be respectful of this (the truckers don’t have a choi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freightlinertrucks.com/images/gallery/gallery-images/front_to_back_640x480.jpg"/>
          <p:cNvPicPr/>
          <p:nvPr/>
        </p:nvPicPr>
        <p:blipFill>
          <a:blip r:embed="rId1"/>
          <a:stretch/>
        </p:blipFill>
        <p:spPr>
          <a:xfrm>
            <a:off x="787320" y="762120"/>
            <a:ext cx="7518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coma News Tribune, 10-14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ndreas\Documents\My Scans\Scan_Doc0001.jpg"/>
          <p:cNvPicPr/>
          <p:nvPr/>
        </p:nvPicPr>
        <p:blipFill>
          <a:blip r:embed="rId2"/>
          <a:stretch/>
        </p:blipFill>
        <p:spPr>
          <a:xfrm>
            <a:off x="376200" y="1874880"/>
            <a:ext cx="8462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als used by LTL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ly placed Pickup and Delivery Terminals (PU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idation and dispersion of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s to/from line-haul trucks to/from  delivery trucks  (“cross-dock” oper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trucks do peddle runs to pick up or deliver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pment routing is a complex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ational Motor Freight 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mfta.org/Pages/welcome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dities are grouped into one of 18 classes—from a low of class 50 to a high of class 500—based on an evaluation of four transportation characteristics: density, stowability, handling and li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CSB Case example: http://www.nmfta.org/Dockets/Docket%202010-1/2010-1%20Subject%2008/2010_1_S08_Letter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457200" y="304920"/>
            <a:ext cx="8534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Rates Example (National Motor Freight Classifica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“A” to Point “B” (cents per cw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Ra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5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5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5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0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4.6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4.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2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7.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5.3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.0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7.6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3.6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7.8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7.6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6.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6.4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0.7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2.7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.3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8.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7.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9.8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2.3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7.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6.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.5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.6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1.5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3.8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1.8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8.9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8.8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.1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3.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9.6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.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.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.9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.8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.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5.3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.3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1.6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.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3.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.9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1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.6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.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3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.7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.6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2.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3.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.3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.9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.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.9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.9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.4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.4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.6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.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.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3.7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.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.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.5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.9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.7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.2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.9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.8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9.9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.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.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.9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.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.2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.9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0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.0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8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.7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.0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.8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.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.1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.7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.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.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.3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.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.3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5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.3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3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.8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.4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.0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.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.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.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.3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.5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.4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.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look at issues facing tru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-Operators Independent Drivers Associat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ooida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ooida.com/OOIDA%20Foundation/Tools/business-webinar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esel Fue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U.S. Retail Diesel Prices - 2 1/2 years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Mexican truc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pr.org/templates/story/story.php?storyId=1020158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shington State and its Utilities and Transportation Commission (“WUTC”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state Common Carriers hauling general commodities (excluding household goods) must apply for and receive a permit from the commission prior to conducting hauling for-hire in the state of Washington. Household Goods and Brokers require a different ap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ulated Classes of Motor Carri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ington Utilities and Transportation Commission: http://www.wutc.wa.gov/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UTC Application Fo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utc.wa.gov/webdocs.nsf/de53b07997d108ea882563b50072c5b3/e53d79515d3f3f1e8825693800652cbd/$FILE/CC%20Application%20REVISED%20May%202010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ing with WA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TOR CARRIER IDENTIFICATION: List your current Common Carrier permit number (required for a transfer, extension, or reinstatement application), USDOT number, and Unified Business Identifier (UBI). Companies hauling for-hire within Washington must have a UBI number from the Department of Licens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quirement for a USDOT number -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trastat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Any applicant that will operate a vehicle with a GVWR of 26,001 pounds or more, or any applicant that plans to haul hazardous materials requiring a placard, must obtain a USDOT number, as required by the Washington State Patrol (WSP). You may apply for a USDOT number online at www.fmcsa.dot.gov/online-registration. You may contact WSP at (360) 596-3816 for assistance. Beginning January 1, 2011, any applicant that will operate a vehicle with a GVWR of 16,001 pounds or more must obtain a USDOT numb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quirement for a USDOT number -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terstat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Any applicant that will operate a vehicle with a GVWR of 10,001 pounds or more, or any applicant that plans to haul hazardous materials requiring a placard, must obtain a USDOT numb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deral Hwy Administration Truck Classifications, by GVWR (gross vehicle weight rating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alibri"/>
              </a:rPr>
              <a:t>Light Du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1 (up to 6,000 lbs); Class 2 (6,001 – 10,000 #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Medium Du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3 (10,000 – 14,000); Class 4 (14,001 – 16,000); Class 5 (16,001 – 19,500 l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eavy Du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6 (19,501 – 26,000); Class 7 (26,001 – 33,000); Class 8 (33,001 and u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 of Last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$$  -  PRICING - $$$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iers are now free to set their own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plus approach or market appro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implify, still use Class Rate Tariffs as starting p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ve use of discounts, contracts, special de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ew words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ivate Fleet Manag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back to last slides from session 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ges of Common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mall Delivery V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mi-Trail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blog.cleveland.com/business/2008/02/van.jpg"/>
          <p:cNvPicPr/>
          <p:nvPr/>
        </p:nvPicPr>
        <p:blipFill>
          <a:blip r:embed="rId1"/>
          <a:stretch/>
        </p:blipFill>
        <p:spPr>
          <a:xfrm>
            <a:off x="304920" y="2666880"/>
            <a:ext cx="4190760" cy="296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toplinetransport.com.au/assets/images/truck1.jpg"/>
          <p:cNvPicPr/>
          <p:nvPr/>
        </p:nvPicPr>
        <p:blipFill>
          <a:blip r:embed="rId2"/>
          <a:stretch/>
        </p:blipFill>
        <p:spPr>
          <a:xfrm>
            <a:off x="4724280" y="3505320"/>
            <a:ext cx="418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C:\Users\Andreas\Pictures\My Scans\Scan_Pic0009.jpg"/>
          <p:cNvPicPr/>
          <p:nvPr/>
        </p:nvPicPr>
        <p:blipFill>
          <a:blip r:embed="rId1"/>
          <a:srcRect l="0" t="29205" r="29558" b="7009"/>
          <a:stretch/>
        </p:blipFill>
        <p:spPr>
          <a:xfrm>
            <a:off x="1600200" y="228600"/>
            <a:ext cx="57452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s shown in this illustration, conventional tractor semitrailers include 5-axle tractor and twin double tractor semitrailers. Common forms of longer combination vehicles (LCVs) shown here include: (1) a 7-axle Rocky Mountain double, consisting of a tractor, a 15-meter (48-foot) trailer, and an 8.5-meter (28-foot) trailer, with a total length of about 34 meters (100 feet); (2) an  8-axle B-train double; (3) a 10-axle resource hauling double; (4) a 9-axle turnpike double, consisting of two 15-meter (48-foot) trailers, with a total length of about 37 meters (120 feet); and (5) a triple-trailer combination. Source: FHWA."/>
          <p:cNvPicPr/>
          <p:nvPr/>
        </p:nvPicPr>
        <p:blipFill>
          <a:blip r:embed="rId1"/>
          <a:stretch/>
        </p:blipFill>
        <p:spPr>
          <a:xfrm>
            <a:off x="1600200" y="152280"/>
            <a:ext cx="556272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tru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visual.info/05/020_e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mcsa.dot.gov/facts-research/research-technology/visorcards/greencard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ff from textbook 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ting ratio (expenses as % of revenu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variable costs (90%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and die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arri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 the public (all shippers) upon dem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reasonabl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discri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as prom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forkli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t1.gstatic.com/images?q=tbn:ANd9GcQWIiJIJUCDRi7_KcE1RdBbyUoBGi0cRTVlpsjTZKoOc7axp8Y&amp;t=1&amp;usg=__4-dT3VYTcJTSI2bhlqBtRirlqoU="/>
          <p:cNvPicPr/>
          <p:nvPr/>
        </p:nvPicPr>
        <p:blipFill>
          <a:blip r:embed="rId1"/>
          <a:stretch/>
        </p:blipFill>
        <p:spPr>
          <a:xfrm>
            <a:off x="6019920" y="1447920"/>
            <a:ext cx="2057400" cy="221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t1.gstatic.com/images?q=tbn:ANd9GcRc5Cy3U90SibQM0kEwL7LJNGJf2Ga0zmo2hQZ0gPltGhhjbbU&amp;t=1&amp;usg=__IhcT_J2yZnG5lSD04QEcZkBWi14="/>
          <p:cNvPicPr/>
          <p:nvPr/>
        </p:nvPicPr>
        <p:blipFill>
          <a:blip r:embed="rId2"/>
          <a:stretch/>
        </p:blipFill>
        <p:spPr>
          <a:xfrm>
            <a:off x="144792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t3.gstatic.com/images?q=tbn:ANd9GcS_jw7vCDgERFaExoBSohsNsFSwdPeje4H8mC8cW0y2P-V65_k&amp;t=1&amp;usg=__SMDXxDEe8Ahl-CbNul3xghsI6WA="/>
          <p:cNvPicPr/>
          <p:nvPr/>
        </p:nvPicPr>
        <p:blipFill>
          <a:blip r:embed="rId3"/>
          <a:stretch/>
        </p:blipFill>
        <p:spPr>
          <a:xfrm>
            <a:off x="609480" y="3962520"/>
            <a:ext cx="3014640" cy="2133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t3.gstatic.com/images?q=tbn:ANd9GcTml2rTCCV6hhdWyd0ycPkZP9RNL05MeM1SrWb56l8dLVLu7Hg&amp;t=1&amp;usg=__538SXLND-5gipLt1Wt3Am3UC744="/>
          <p:cNvPicPr/>
          <p:nvPr/>
        </p:nvPicPr>
        <p:blipFill>
          <a:blip r:embed="rId4"/>
          <a:stretch/>
        </p:blipFill>
        <p:spPr>
          <a:xfrm>
            <a:off x="4648320" y="3965400"/>
            <a:ext cx="22096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Pallet Si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 x 40 inches (approx. 1200 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-palle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0 x 120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typical pallet size"/>
          <p:cNvPicPr/>
          <p:nvPr/>
        </p:nvPicPr>
        <p:blipFill>
          <a:blip r:embed="rId1"/>
          <a:stretch/>
        </p:blipFill>
        <p:spPr>
          <a:xfrm>
            <a:off x="5154480" y="2438280"/>
            <a:ext cx="229896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3.gstatic.com/images?q=tbn:ANd9GcQaiQBRdWeEuOD-zQT7QAPaFc6Jt2rLm9A0ZB2QtVjMGiBk5QQ&amp;t=1&amp;usg=__WIu7YgvcHfIq2eKBSHwIliJH40M="/>
          <p:cNvPicPr/>
          <p:nvPr/>
        </p:nvPicPr>
        <p:blipFill>
          <a:blip r:embed="rId2"/>
          <a:stretch/>
        </p:blipFill>
        <p:spPr>
          <a:xfrm>
            <a:off x="1828800" y="4648320"/>
            <a:ext cx="2800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t3.gstatic.com/images?q=tbn:ANd9GcQwKjeXerG2Jf2pF6PI4sm0tQPL_ym_PpR6ql-eUGD7UPHG8mM&amp;t=1&amp;usg=__ex-lHUhnXZB6CN7KN3XaxIYOpy8="/>
          <p:cNvPicPr/>
          <p:nvPr/>
        </p:nvPicPr>
        <p:blipFill>
          <a:blip r:embed="rId1"/>
          <a:stretch/>
        </p:blipFill>
        <p:spPr>
          <a:xfrm>
            <a:off x="1066680" y="762120"/>
            <a:ext cx="660420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 flipV="1" rot="10800000">
            <a:off x="2379600" y="4986720"/>
            <a:ext cx="43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earates.com/reference/pallet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t0.gstatic.com/images?q=tbn:ANd9GcRAx3AVjHcEz_gmKVqTKU4u6yAcEm5HiIxEct9a5N5UbIqiTj4&amp;t=1&amp;usg=__aCNTeaIhQyJgVUKOMBuiMj88SpE="/>
          <p:cNvPicPr/>
          <p:nvPr/>
        </p:nvPicPr>
        <p:blipFill>
          <a:blip r:embed="rId1"/>
          <a:stretch/>
        </p:blipFill>
        <p:spPr>
          <a:xfrm>
            <a:off x="1600200" y="1447920"/>
            <a:ext cx="4997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cing: A compromise?</a:t>
            </a:r>
            <a:br>
              <a:rPr sz="44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ource: Mountain Global, Inc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mountainglobal.biz/images/pricing.jpg"/>
          <p:cNvPicPr/>
          <p:nvPr/>
        </p:nvPicPr>
        <p:blipFill>
          <a:blip r:embed="rId1"/>
          <a:stretch/>
        </p:blipFill>
        <p:spPr>
          <a:xfrm>
            <a:off x="380880" y="1676520"/>
            <a:ext cx="8317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est spea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ert Gl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, Freight Traffic Management, Des Moines, 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fetime in the transportation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er and Adjunct Professor at Portland State University’s Supply Chain Management program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trav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4-2: Hardee Transpor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ll spend 10 minutes debriefing this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ercise in building a rate quote, step by ste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cial to know what our costs are to avoid losing our shirt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9" descr=""/>
          <p:cNvPicPr/>
          <p:nvPr/>
        </p:nvPicPr>
        <p:blipFill>
          <a:blip r:embed="rId1"/>
          <a:srcRect l="17333" t="24533" r="27333" b="8533"/>
          <a:stretch/>
        </p:blipFill>
        <p:spPr>
          <a:xfrm>
            <a:off x="457200" y="380880"/>
            <a:ext cx="8153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on of Appropriate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ch Factors Should We Take Into Accoun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Shipping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Reli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Total Co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Cargo attribut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, density, perishability, packaging, liquidity,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Safety/HazMat/Security (risk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ustomer nee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Dist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Inventory level/buff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Flexi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is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uck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o popular in the U.S.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nd n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p (cheap gas, low tax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and 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wy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(goods intensive)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0:47:06Z</dcterms:created>
  <dc:creator>Andreas</dc:creator>
  <dc:description/>
  <dc:language>en-US</dc:language>
  <cp:lastModifiedBy>Andreas</cp:lastModifiedBy>
  <dcterms:modified xsi:type="dcterms:W3CDTF">2012-10-15T15:09:13Z</dcterms:modified>
  <cp:revision>29</cp:revision>
  <dc:subject/>
  <dc:title>Motor Carriers</dc:title>
</cp:coreProperties>
</file>