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68C-DEAD-4D84-BA44-EE6FD5E3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AE1-8DFD-4314-977F-B7C66D3BF7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CEB2-C8E7-48D1-8208-C069765CB1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E24-BAEE-44C1-A4D9-E8C0E0414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3EC2-7883-49DF-9B34-DE319312FC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D10-EDB8-400E-92FB-F7B33F533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64D-74A4-4AFA-AB66-2AEA6007D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D69-4FFB-40A0-BA29-544491A66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9E9-D100-4547-9949-9CB570A60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FB3-9883-4666-B4EE-539FB9FAB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F2D-983B-47FC-88C3-9B12F63A3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8BBC-DAAF-4895-96A4-7D8EEBCFD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3E0-2622-40B8-8DFF-C69017B7F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4370-99B7-45A7-8101-1C4C2A5E0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1896-05E3-4FC8-9272-AC0B44554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9E02-267E-4AA1-A69C-E66D22352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46E-275F-4271-8BAD-6F0EA707B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ACA-334D-4AD6-9D3F-429EB63AF5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8D9-8753-4379-8DD4-31F4E96F6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1DA-B461-4AB4-961B-181FF50A5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D0E4-D336-4D4B-89F6-B57C7D3A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147D-2DDE-4463-9282-4C5AE4DFF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6B35-25AD-4E88-A1BD-59610662D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3A37-5149-4111-8E3F-C3FB0F2E6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A0DC-DC60-48BA-88D2-91F316ACA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CEF0-A91B-4933-AE23-110257D64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5560-616C-4DAF-8D4A-CFA43E539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6B59-BFD3-4FC9-82ED-61E86A2A7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8A8E-2234-49C8-A86B-9D6E86C31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84A8-D500-4EAE-9D5E-F247F92E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DBD5-2043-4465-869A-F1F629182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57F8-5CD3-4D8C-9063-6C9651E4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104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440"/>
            <a:ext cx="5638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012-29AB-4DDE-91EB-2C5B1E684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ansport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xth Edition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yle, Bardi, &amp; Novac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© 2006 Thomson</a:t>
            </a: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440" y="3352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modal and Special Carr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990720" y="1523880"/>
          <a:ext cx="3243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3243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28C5-2C6B-4CDC-9146-A8D716D9E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Freight Forwar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up/delivery, consolid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irlines for line hau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high value, time-sensitive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s, spare parts, medical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, door-to-door, single carrie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bill of lading, tracing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advantage – cost of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1E7F-BF83-4D38-96E1-D1697F2DB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eight Brok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man”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defined by U.S. Code, Title 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some functions of shippers, truc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present shipper or c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rovide intermodal, logistica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ifference from forwa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issue a bills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maintain cargo liability in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F9F-397B-4A5E-BC6A-B13EA9CD9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ippers’ Associa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profit, cooperative consolidators or distributors for member fir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much like surface forwarders and brokers, but only for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tise useful to small and medium size shipp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114F-9B9F-4CF6-B1C5-9236A2C9B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modal Marketing Compan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s that broker intermodal transportation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little legal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shipping arrangement remains between shipper and carrier providing line hau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 shipper’s payment to carrier - shippers must be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railroads - finds intermodal 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shippers - lower transport r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16C-C0B0-46E0-B0A7-58664D1B6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wner Operators, Drayage Carri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wner-operators (motor carr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 applied to person owning truck and possibly trai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versus evolving 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yage carrier (motor carr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pickup/delivery services in metro areas, to/from piggyback ramps and port termi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ical to intermodal container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re owner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AFF-EB69-47CD-AE60-9EC2F577F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ress and Expedited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s appeal to demand for cycle time, uncertainty, and inventory reduction in the supply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reliable (time-definite servi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degree of shipment status vi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small ship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52D-FD2A-4E8A-ABD1-D74E4D4E6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ress and Expedited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: Largest services util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 of air and motor for line ha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etwork of terminals, pickup/delivery veh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s exp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r shipment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of transit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7C0-F513-43FB-9B0B-E0B5EAF5A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carriers (van lines) specializing in movement of household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ances of entities (segments) sharing single external identity and communications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ral franchise fi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-the-road veh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ner-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5DE-C5AA-4483-92AB-5D52EF04F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pment proc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agent visits shipment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agent estimates weight and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 signs order for servic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ing may be included as extr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n is loaded, transit to destination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ges: actual weight + specia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 distribution: 10/50/25/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093A-968C-4369-9665-1493B6A44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sses of mo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tion of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 (individual) has little influence or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seasonal bu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FB0-F884-4F72-8286-B44F9A673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pter 7 Topic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2014200"/>
            <a:ext cx="647712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of Special C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odal 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-Party 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rrier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hold Goods 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428-9E46-4E19-8335-2FAB48A69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velopment of Special Carrier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transport-related services that complement line haul services of basic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 modes would not provide such services or would provide them at high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rvic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olidation of small sh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k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stics-relate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74B-4C15-48E1-9460-713B7871D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inition and Backgrou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wo or more modes to provide complete, door-to-doo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com McLean and containe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s advantages and minimizes disadvantages of modes employ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s in growth: deregulation, globalization, truck operating co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B9DF-8B40-44B4-8472-C92910670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ggyback – combines rail and mo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or provides accessibility, rail provides lower line haul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 on Flatcar (TOF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 on Flatcar (COF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adRai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-stack Train (D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6D62-0E96-4F5C-8C2D-149624C65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E:\0-324-20214-8\Figures\Caption Callouts\07ch02148bmp\Fig07-01.bmp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215-CC67-487B-95B3-FD6093806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e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s operating efficienc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handling, less damage, reduced pilf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international shipping utilizing ocean, rail and motor trans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ft. (TEU) and 40 ft. (FEU) lengths most common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6C0-2F77-45BA-8FEF-AFB4D3EDA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rd-Party Transport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 of outsourcing tr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ore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reduction of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cost, higher servic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third-party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, information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value-adding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916-A209-45D1-A8B1-A98E4F26D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Forwar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 as both shipper and car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defined by U.S. Code, Title 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ly: consolidator, pickup/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Forwarder Act of 19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on intermodal and truckloa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or carrier primary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er issues single bill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s liability for loss, maintains ins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04:34Z</dcterms:created>
  <dc:creator>Dr. Gary Gittings</dc:creator>
  <dc:description/>
  <dc:language>en-US</dc:language>
  <cp:lastModifiedBy>Andreas</cp:lastModifiedBy>
  <dcterms:modified xsi:type="dcterms:W3CDTF">2010-09-20T18:13:51Z</dcterms:modified>
  <cp:revision>33</cp:revision>
  <dc:subject/>
  <dc:title>Transportation  Sixth Edition    Coyle, Bardi, &amp; Novack  © 2006 Thomson</dc:title>
</cp:coreProperties>
</file>