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485-626D-4F07-B20A-168B42E6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DD6-8E71-4AD3-A8D1-8EF32B3C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A4F-7D59-4AC4-891C-656A5E19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A3F-A279-4F21-BE4A-8A22ADDF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5E97-0FAF-4C37-AFC2-8469684E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CA7-F208-4E53-BB3B-B6934ADD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7FE-E6C1-4A70-9A28-AA2C268D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560-2661-408A-928C-A4364C12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923-F45D-4D05-A273-EEF76488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969-999C-4BD6-BA2E-675AB7CD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DCB-1401-4C23-8348-2521C487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768C-1A06-4C0F-A7A4-9D5D0C2C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FEF9-AF13-4DF4-8E5A-F94A25678E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492A-DFA4-4EC4-A26B-DBCB0FB6A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Costing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ew of Ocean Transport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 the Transpacific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9005-21B1-4EFE-841F-24F9CB5F7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kellerh\Pictures\Baltic Dry Index.bmp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10DF-75B8-4F67-924E-1DB6CC988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4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Object 2"/>
          <p:cNvGraphicFramePr/>
          <p:nvPr/>
        </p:nvGraphicFramePr>
        <p:xfrm>
          <a:off x="533520" y="1030320"/>
          <a:ext cx="8001000" cy="52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30320"/>
                    <a:ext cx="800100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9"/>
          <p:cNvSpPr/>
          <p:nvPr/>
        </p:nvSpPr>
        <p:spPr>
          <a:xfrm>
            <a:off x="0" y="0"/>
            <a:ext cx="9144000" cy="436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709000" y="60948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tts Bunker Index – Seattle IFO 180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nthly Average Price per M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2E2C-84FD-422D-B858-94C50A7FF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Carr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mpt from any economic reg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be owned by a company whose primary business i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anspor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in any of the modes but most prevalent in tru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contract out on backhaul or excess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Westwood, Wal-Mart, ExxonMob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2A73-BACC-45C0-9711-6959236AF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arr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s general pub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ed by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charge reasonable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ed a “for-hire”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’t discrimnate in pricing, claims, service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UPS, FedEx, BNSF, Schneider, United Airlines, APL, Westw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F5E6-EFB9-4028-867B-7187E3781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act Carr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s selected (contracted)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legally discriminate on prices, service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act can be tailored to fit individual custo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“for-hire”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BNSF, Schneider, United Airlines, APL, Golden State, Westw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227C-6835-4F2F-B79B-C481EC0B3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mpt Carr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conomic reg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es/service negoti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izes in exempt commodities such as forest products, agricultural products, liquid bulk commodities, dry bulk commod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ed a “for-hire”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BNSF, Schneider, APL, Westwoo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871D-549B-417A-9D68-7F406DFB1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vernmental Overs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198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tariff rates with loyalty contr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ocean carrier conferences (legal cartels) regulated by the FM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limited intermodal servi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ipping Act of 1984 through OSRA 199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tariff rates and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Calibri"/>
              </a:rPr>
              <a:t>published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service contracts (essential terms/”me-too”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intermodal  through rates now allowed by conference memb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continued antitrust immunity for conferen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right of independent action by conference memb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ean Shipping Reform Act of 1998 through tod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fidenti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ervice contr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decline (and death) of the ocean carrier con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limited use of freight tarif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diminished role by FM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7D40-43C5-42DA-B9F2-F744C3C52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Strategies and Tac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r 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cing by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Service” instead of 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Servic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 share/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haul cost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-cutting/staff red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el sav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7FA6-6EAA-4625-AC44-141ABA599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pper Tac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services offered by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trust an agen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cognizant of the carrier’s financial str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ve for rate predic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the carrier’s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speaks volum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underestimate your str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you don’t cost yourself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9B81-9910-42AB-BD85-57E46AE33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portation Cost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Pric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ket Struc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riers’ Costs and Reven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overnmental Oversig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 pre-198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 1984 through 199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 1999 through pres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rier Strategies and Tac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ipper Tac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64DE-2A30-408D-98BC-BAAF705E9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e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re four market structures (Monopoly/ Oligopoly/ Pure Competition/Monopolistic Competition) which all have five characteristics which differentiate the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1. The number of sell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2. The number of buy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3. Who influences price (seller or buy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4. Barriers to en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5. Price elasticity of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2519-BFF5-46B8-A5AE-D0641DFA1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e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ure Compet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many sellers/buyers of identical produc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no chance for price/service differenti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low or no barrier to en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opolistic Compet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many sellers/buyers of close products/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chance to be different  (e.g. motor carrie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low barrier to en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1CF2-2864-4B85-8550-AF46790C1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e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po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one seller/many bu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o close substit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igh barrier to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igopo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few sellers/many bu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imited differentiation (ships, intermod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igh barriers to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2A95-351D-4762-AFF2-4B6BE64C4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Reven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 Ocean Fr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s and Surcha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Fuel Surcharge (FAF or BA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Currency Sur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Documentation F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Outport Arbitr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Equipment Sur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Security Sur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Demurrage/De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Special Handling Sur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Diversion F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et cet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63FB-D32B-4EEA-A87C-B5F0FC1A4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3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436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454120" y="1066680"/>
            <a:ext cx="420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verage Revenue/TEU by Quarter – Transpacific Tra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380880" y="1447920"/>
          <a:ext cx="83822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3822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9"/>
          <p:cNvSpPr/>
          <p:nvPr/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B Container Industry – Revenue per TE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BBD7-2B62-415A-9225-3AD00E117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Cos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basic costs in transportation costs stru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fixed costs  (e.g. ships, contai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ariable costs (e.g. fuel, loading, wa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Variable costs stop if operation is shut down; fixed costs don’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joint costs (e.g. port cost, fuel !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common costs (e.g. insurance, repai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DAB4-2ADC-49E0-933A-4E482DB6F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arter Hire or Mortga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u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rew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tainer Leasing (Long Term Lease vs. Master Leas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essel Insurance (P&amp;I, War Risk, Hull and Machiner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oad/Discharge (Stevedoring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pit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ort Charges/Pilotage/Tugs/Line Handl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i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ear and Dunna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erminal Lea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G&amp;A Expenses (Sales, General, and Administrativ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aintenance and Repairs (dry-docking and container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t ceter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5213-31EE-436D-9E7F-0C975CF66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8:58:44Z</dcterms:created>
  <dc:creator>kellerh</dc:creator>
  <dc:description/>
  <dc:language>en-US</dc:language>
  <cp:lastModifiedBy>Erika Bowles</cp:lastModifiedBy>
  <dcterms:modified xsi:type="dcterms:W3CDTF">2009-11-11T02:32:00Z</dcterms:modified>
  <cp:revision>29</cp:revision>
  <dc:subject/>
  <dc:title>Slide 1</dc:title>
</cp:coreProperties>
</file>