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FF04-6C21-4E1E-87AF-3738A4DDE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ECC8-ABBA-43CC-AE46-DC292607F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C319-99BE-4E94-9865-4DA471DD9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0960-61AC-4D32-B800-7D4905079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84E5-3C68-4169-8CA4-F1CBFAEDB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B5E8-8337-4A97-B696-2DCE34080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932-412A-4CE9-A8D4-DC49C5262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3489-A8D5-4368-9CAB-005EFE6A8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81E4-D78B-44FB-B885-C95190F7D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8DC2-C18C-4A73-AD71-458C8111F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1025-CEB2-4C86-9084-43B47CEFF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E0D2-F993-4B00-B89B-1A6379D77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3CD-8175-4F27-A510-557577A0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C60-1FDF-4313-A5BF-38FA7355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73B-20AD-429E-B3F2-039C9712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360-BF25-486C-A9B6-E9BAC361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033-14D5-4FF4-A50F-6BE7C23E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3CC-E7CF-4634-B1D7-3AD0D11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E5F-4EA5-4812-8FAA-62C216DC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E89-85AC-4C59-8BDB-5983861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E10-C3BA-4573-8B27-031E7B3A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A58-AA6C-4EED-B5B5-CA00CA1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6F7-DC09-48F9-A856-1183F1F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C03-ED00-486D-B82F-D0D0DC54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2C6D-1FE3-4328-8773-5617DD02B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ransportation Planning and Execu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 2 (chapter 11 materia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12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ensional We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the higher of the actual weight or the dimensional w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for international airfreight, 166 cubic inches per pound = approx. 10.4 lbs per cubic 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 (fluffy) cargoes are charged on the dimensional w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s Clea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ustoms Broker (often a freight forwarder or 3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 of cargo can happen right away, while liquidation happens weeks l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quidation is basically that the original tariff calculations and assessments were correct (or n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mo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or indirect (multimodal)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modal: Freight moves door-to-door under one through Bill of L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ight forwarders or shipping companies as “travel agents” for car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sure cargo is packaged right for possible transload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ft vs. 40 f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mrbox.co.uk/images/galleries/new-used-containers/gallery01-new20ft.jpg"/>
          <p:cNvPicPr/>
          <p:nvPr/>
        </p:nvPicPr>
        <p:blipFill>
          <a:blip r:embed="rId1"/>
          <a:stretch/>
        </p:blipFill>
        <p:spPr>
          <a:xfrm>
            <a:off x="1676520" y="1752480"/>
            <a:ext cx="53337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ize contain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ight rates (40 ft cheaper per ft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of cargo (conversion rate between weight and volume, e.g. 50 lbs per cu.ft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viously, length of 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height of cargo (need open top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content (e.g. pallets) be double stack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do with a rack container (no wall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bout your loading dock capac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er lab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my.datexx.com/www/product/cartonmarking/datexx_carton_example.jpg"/>
          <p:cNvPicPr/>
          <p:nvPr/>
        </p:nvPicPr>
        <p:blipFill>
          <a:blip r:embed="rId1"/>
          <a:stretch/>
        </p:blipFill>
        <p:spPr>
          <a:xfrm>
            <a:off x="2109960" y="1609560"/>
            <a:ext cx="4595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ings (HazMa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labelmaster.com/hazmat-source/images/Prepared_Hazmat_Package.jpg"/>
          <p:cNvPicPr/>
          <p:nvPr/>
        </p:nvPicPr>
        <p:blipFill>
          <a:blip r:embed="rId1"/>
          <a:stretch/>
        </p:blipFill>
        <p:spPr>
          <a:xfrm>
            <a:off x="4782960" y="2514600"/>
            <a:ext cx="387036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dgmromania.ro/assets/images/products/hazardous.jpg"/>
          <p:cNvPicPr/>
          <p:nvPr/>
        </p:nvPicPr>
        <p:blipFill>
          <a:blip r:embed="rId2"/>
          <a:stretch/>
        </p:blipFill>
        <p:spPr>
          <a:xfrm>
            <a:off x="762120" y="2141640"/>
            <a:ext cx="365760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anana Ship (private flee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gcaptain.com/maritime/blog/wp-content/uploads/2008/11/172PXNRZYB.aHR0cDovL2djYXB0YWluLmNvbS9tYXJpdGltZS9ibG9nL3dwLWNvbnRlbnQvdXBsb2Fkcy8yMDA4LzEwLzE0MzA1ODYwNXNqc2lmaV9mcy5qcGc....1.jpg"/>
          <p:cNvPicPr/>
          <p:nvPr/>
        </p:nvPicPr>
        <p:blipFill>
          <a:blip r:embed="rId1"/>
          <a:stretch/>
        </p:blipFill>
        <p:spPr>
          <a:xfrm>
            <a:off x="1447920" y="16002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4.bp.blogspot.com/-2CWu1ni1OUc/TkbXWC4OsII/AAAAAAAAADg/J61mhhe0SFc/s1600/cargo-ship-panamax-container-ship-194367.jpg"/>
          <p:cNvPicPr/>
          <p:nvPr/>
        </p:nvPicPr>
        <p:blipFill>
          <a:blip r:embed="rId1"/>
          <a:srcRect l="5760" t="10286" r="4320" b="6172"/>
          <a:stretch/>
        </p:blipFill>
        <p:spPr>
          <a:xfrm>
            <a:off x="380880" y="1606680"/>
            <a:ext cx="4038840" cy="262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asiabreakbulk.com/images/normed05.jpg"/>
          <p:cNvPicPr/>
          <p:nvPr/>
        </p:nvPicPr>
        <p:blipFill>
          <a:blip r:embed="rId2"/>
          <a:stretch/>
        </p:blipFill>
        <p:spPr>
          <a:xfrm>
            <a:off x="228600" y="4495680"/>
            <a:ext cx="500364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Midnight Sun"/>
          <p:cNvPicPr/>
          <p:nvPr/>
        </p:nvPicPr>
        <p:blipFill>
          <a:blip r:embed="rId3"/>
          <a:stretch/>
        </p:blipFill>
        <p:spPr>
          <a:xfrm>
            <a:off x="5638680" y="4484520"/>
            <a:ext cx="2667240" cy="181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jiyolive.com/wp-content/uploads/2011/02/BulkCarrier.jpg"/>
          <p:cNvPicPr/>
          <p:nvPr/>
        </p:nvPicPr>
        <p:blipFill>
          <a:blip r:embed="rId4"/>
          <a:srcRect l="11028" t="22495" r="5514" b="14987"/>
          <a:stretch/>
        </p:blipFill>
        <p:spPr>
          <a:xfrm>
            <a:off x="5257800" y="152280"/>
            <a:ext cx="2766960" cy="152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www.motorship.com/__data/assets/image/0005/624623/USE-this-pic-TAITAR-NO.2.jpg"/>
          <p:cNvPicPr/>
          <p:nvPr/>
        </p:nvPicPr>
        <p:blipFill>
          <a:blip r:embed="rId5"/>
          <a:stretch/>
        </p:blipFill>
        <p:spPr>
          <a:xfrm>
            <a:off x="4800600" y="1752480"/>
            <a:ext cx="3772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Cargolux 747-8 freigh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34 metric tons, 9.9 lbs per cuft ave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flightglobal.com/airspace/media/galleries/images/81703/500x400/cargolux-747-8f-freighter-paine-field-wa.jpg"/>
          <p:cNvPicPr/>
          <p:nvPr/>
        </p:nvPicPr>
        <p:blipFill>
          <a:blip r:embed="rId1"/>
          <a:stretch/>
        </p:blipFill>
        <p:spPr>
          <a:xfrm>
            <a:off x="1371600" y="1523880"/>
            <a:ext cx="637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8:07:46Z</dcterms:created>
  <dc:creator>Andreas</dc:creator>
  <dc:description/>
  <dc:language>en-US</dc:language>
  <cp:lastModifiedBy>Andreas</cp:lastModifiedBy>
  <dcterms:modified xsi:type="dcterms:W3CDTF">2012-11-19T01:08:35Z</dcterms:modified>
  <cp:revision>5</cp:revision>
  <dc:subject/>
  <dc:title>Slide 1</dc:title>
</cp:coreProperties>
</file>