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wmf" ContentType="image/x-wmf"/>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D7DA-76B6-491F-BAEE-A9456FD2D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epa.gov/smartway/documents/apu.pdf" TargetMode="External"/><Relationship Id="rId2" Type="http://schemas.openxmlformats.org/officeDocument/2006/relationships/hyperlink" Target="http://www.epa.gov/smartway/documents/aerodynamics.pdf" TargetMode="External"/><Relationship Id="rId3" Type="http://schemas.openxmlformats.org/officeDocument/2006/relationships/hyperlink" Target="http://www.epa.gov/smartway/documents/loadmatching.pdf" TargetMode="External"/><Relationship Id="rId4" Type="http://schemas.openxmlformats.org/officeDocument/2006/relationships/hyperlink" Target="http://www.epa.gov/smartway/documents/tireinflate.pdf" TargetMode="External"/><Relationship Id="rId5" Type="http://schemas.openxmlformats.org/officeDocument/2006/relationships/hyperlink" Target="http://www.epa.gov/smartway/documents/supersingles.pdf" TargetMode="External"/><Relationship Id="rId6" Type="http://schemas.openxmlformats.org/officeDocument/2006/relationships/hyperlink" Target="http://www.epa.gov/smartway/documents/drivertraining.pdf" TargetMode="External"/><Relationship Id="rId7" Type="http://schemas.openxmlformats.org/officeDocument/2006/relationships/hyperlink" Target="http://www.epa.gov/smartway/documents/lowviscositylubes.pdf" TargetMode="External"/><Relationship Id="rId8" Type="http://schemas.openxmlformats.org/officeDocument/2006/relationships/hyperlink" Target="http://www.epa.gov/smartway/documents/reducedspeed.pdf" TargetMode="External"/><Relationship Id="rId9" Type="http://schemas.openxmlformats.org/officeDocument/2006/relationships/slide" Target="../slides/slide23.xml"/><Relationship Id="rId10"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ze purchasing patterns/stock – to detect opportunities for vendor consolidation or stadardization which will result in fewer stock-keeping uni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risk of obsolescense in EOQ – lower inventory to account for disposa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vendor-managed inventory programs – or require suppliers to adhere to material return policies that reduce incentives to stock excess inventor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olidate storage of inventory -  to avoid wasting storage space or build-up of inventory that may become obsolete and eventually require dispos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3F14-9DFB-4309-AFD4-85B4CFA04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ossible replace with non-hazardous alternativ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pect tanks or containers to detect and correct the potential for liquid or vapour leak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regate hazmat storage containers from non-hazmat containers and ensure proper cleaning prior to reuse or disposa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edule regular hazmat waste removal and disposal  to comply with how long hazmat is to be stored on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0444-B5A5-4BD4-963F-CF20FA6DD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uto-ID – to track inventory with high precision-----------see benefits + reduce # of shipments by fuel intensive modes,  auto-id can reduce paper consump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lement automated storage and handling systems – less repetitive handling and lower energy consumption for lighting and HVAC</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echanical handling equipment powered by alternative energy sources  fuel cells for example instead of batte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3327-BE54-47BD-AA72-40D5CD388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a fuel-efficient fleet – increased aerodynamics, vehicle weight reductions, improved engine and transmission designs, improved rolling efficiency of tires, more efficient accessor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regular preventive fleet maintenance and inspections – tire pressure checks important for fuel economy, safe vehicle handling and long tire lif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driver training on fuel efficient driving techniques -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unnecessary idling of delivery vehicles – turn engines off during pick-ups and deliveries; avoid running engies for heating and cooling – use separate cab heat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policies to reduce maximum vehicle speed -  or program engines not to exceed certain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E5FE-7659-4DCA-B94B-13A87B9C2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of transport worldwide is fuelled by oil – rising oil prices and public policies aimed at reducing fuel emissions are strong incentives to explore other option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more fuel-efficient modes of transportation – from truck to rail, from rail to marin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alternative energy if possible – biodiesel, ethanol, hybrid electric vehicles, battery-electric, propa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A7CE-D68F-4A38-9142-E57C718D7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ad factor – the percentage of capacity of a truck or container that is used is a factor affecting sustainable management of freight transport.  A ¼ full-truck uses 2 and ½ times as much fuel per ton-mile as a ¾ full truck.  </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void unnecessary packaging – specify this from suppliers, use standardized and modularized packaging to allow more efficient load</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 load-planning software – to optimize loading in terms of weight, dimension, safety and legal variables – can eventake hazmat requirments into consideration</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 route planning software – to reduce total transport distanced</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Maximize bi-directional load by using common carriers instead of private fleet, backhausl, Internet-based loading servi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chedule delivery times to avoid congestion</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ork with local suppliers to reduce inbound transport distances -</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fluence suppliers modes, loading and routes for inbound materials to gain full benefit of sustainable transporta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866D-49AB-4D4A-97FC-FD2C78D54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gated packagin is only used once whereas more durable containers made from fiber board, or plastic can be used 50 to 250 times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 to reuseable shipping containers – these work best in closed loop systems where they can be returned to the point of origin – plastic totes, metal cages, etc, collapsible, nestable, and stackable containers even bett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plastic instead of wooden palle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llet/container pooling – like CHEP in 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reuseable tie-downs instead of shrink-wrap or disposable strapp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recycled cardboard and pallets  and recycle at end of lif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packaging to be recycled where reuseable packaging or shipping containers not feasible</a:t>
            </a:r>
            <a:endParaRPr b="0" lang="en-US" sz="1200" spc="-1" strike="noStrike">
              <a:solidFill>
                <a:srgbClr val="000000"/>
              </a:solidFill>
              <a:latin typeface="Calibri"/>
            </a:endParaRPr>
          </a:p>
        </p:txBody>
      </p:sp>
      <p:sp>
        <p:nvSpPr>
          <p:cNvPr id="2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1096-1CC5-4529-A96C-EB091FDC9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afe hazmat [ractices can result in serious, even fatal accidents, health and safety liabilities, business downtime, environmental contamination, and higher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y with hazmat rules and regs for all mod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lement a dangerous goods transportation security plan – personnel security clearances and checks, package control procedures, security of loading and unloading areas, access control,  emergency communications procedur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 employees on hazmat handling, labeling, permitting, and transportation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ad-planning software that takes  hazmat into accoun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pect tanks and containers used to transport hazmat to detect and correct potential liquid or vapor l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urance premiums</a:t>
            </a:r>
            <a:endParaRPr b="0" lang="en-US" sz="1200" spc="-1" strike="noStrike">
              <a:solidFill>
                <a:srgbClr val="000000"/>
              </a:solidFill>
              <a:latin typeface="Calibri"/>
            </a:endParaRPr>
          </a:p>
        </p:txBody>
      </p:sp>
      <p:sp>
        <p:nvSpPr>
          <p:cNvPr id="2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CDFC-22CE-4C3B-A087-3179DD192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rse logistics – the process of moving goods back from their final destination toward point of origin for the purpose of capturing value or disposal is a critical part of life-cycle management – in 1998, a US study revealed that reverse logistics accounted for 4% of total logistics cos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RL should not only be considered a cost, but an opportunity for customer satisfaction, increasing brand value, providing revenue from reconditioned or recyeled products, and reducing costs of goods sold by reusing parts or materials from returned item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returns can be the result of damage in transit or during use, end of a lease or rentl period, expiration of seasonal merchandise, recalls, or excess inventory. For time-based, seasonal , or fashion-oriented products, product returns can be very hig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products and packaging for reuse and recycling</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proactive take-back program to reclaim products at the end of their useful lives</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outsourcing reverse logistics to a third party – economies of sc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1D04-6EBD-4EDB-B70A-115A16FF7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es that recognize the value remaining in returned products are gaining ground as are strategies to avoid waste and environmental ha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value of returned products and determine resale, reuse, or recycling potential of the whole product -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ondition, cannabalize, and recycle  returned produc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assemble and reclaim any recyclable materials and safely dispose of the remaind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nate serviceable products to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4B61-6730-479B-ACB4-3F04F8ED4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dle Reduction</a:t>
            </a:r>
            <a:br>
              <a:rPr sz="400"/>
            </a:br>
            <a:r>
              <a:rPr b="0" lang="en-US" sz="400" spc="-1" strike="noStrike">
                <a:solidFill>
                  <a:srgbClr val="000000"/>
                </a:solidFill>
                <a:latin typeface="Calibri"/>
              </a:rPr>
              <a:t>Several technologies and practices can be used to assist drivers in reducing truck idling. Reducing or eliminating prolonged idling of long-haul trucks can save up to 1,000 gallons of fuel per truck each year, reduce pollution emissions, and lower engine maintenance costs. The use of one of several idle control technologies such as auxiliary power units (APU) and truck stop electrification (TSE) that provide heat, air conditioning, and electrical power can minimize fuel consumption.</a:t>
            </a:r>
            <a:br>
              <a:rPr sz="400"/>
            </a:br>
            <a:r>
              <a:rPr b="0" lang="en-US" sz="400" spc="-1" strike="noStrike">
                <a:solidFill>
                  <a:srgbClr val="000000"/>
                </a:solidFill>
                <a:latin typeface="Calibri"/>
              </a:rPr>
              <a:t>"A Glance Clean Freight Strategies:  Idle Reduction” (EPA 420-F-04-009, February 2004) </a:t>
            </a:r>
            <a:r>
              <a:rPr b="0" lang="en-US" sz="400" spc="-1" strike="noStrike" u="sng">
                <a:solidFill>
                  <a:srgbClr val="0000ff"/>
                </a:solidFill>
                <a:uFillTx/>
                <a:latin typeface="Calibri"/>
                <a:hlinkClick r:id="rId1"/>
              </a:rPr>
              <a:t>107K PDF</a:t>
            </a:r>
            <a:r>
              <a:rPr b="0" lang="en-US" sz="400" spc="-1" strike="noStrike">
                <a:solidFill>
                  <a:srgbClr val="000000"/>
                </a:solidFill>
                <a:latin typeface="Calibri"/>
              </a:rPr>
              <a:t> </a:t>
            </a:r>
            <a:br>
              <a:rPr sz="400"/>
            </a:br>
            <a:r>
              <a:rPr b="1" lang="en-US" sz="400" spc="-1" strike="noStrike">
                <a:solidFill>
                  <a:srgbClr val="000000"/>
                </a:solidFill>
                <a:latin typeface="Calibri"/>
              </a:rPr>
              <a:t>Improved Aerodynamics</a:t>
            </a:r>
            <a:br>
              <a:rPr sz="400"/>
            </a:br>
            <a:r>
              <a:rPr b="0" lang="en-US" sz="400" spc="-1" strike="noStrike">
                <a:solidFill>
                  <a:srgbClr val="000000"/>
                </a:solidFill>
                <a:latin typeface="Calibri"/>
              </a:rPr>
              <a:t>In recent years, manufacturers have focused considerable attention on improving truck tractor aerodynamics and have therefore achieved significant gains in fuel efficiency. Using a streamlined profile tractor with aerodynamic devices (roof fairing, cab extenders, and side fairings) can reduce fuel consumption up to 600 gallons and eliminate over five metric tons of greenhouse gas emissions per year compared to a typical classic profile tractor. Trailers can be improved through aerodynamics simply by reducing the tractor-trailer gap, securing loose tarpaulins, and on flatbed trailers, arranging cargo to keep the outline of the total load as low and smooth as possible. </a:t>
            </a:r>
            <a:br>
              <a:rPr sz="400"/>
            </a:br>
            <a:r>
              <a:rPr b="0" lang="en-US" sz="400" spc="-1" strike="noStrike">
                <a:solidFill>
                  <a:srgbClr val="000000"/>
                </a:solidFill>
                <a:latin typeface="Calibri"/>
              </a:rPr>
              <a:t>"A Glance at Clean Freight Strategies:  Improved Aerodynamics” (EPA 420-F-04-012, February 2004) </a:t>
            </a:r>
            <a:r>
              <a:rPr b="0" lang="en-US" sz="400" spc="-1" strike="noStrike" u="sng">
                <a:solidFill>
                  <a:srgbClr val="0000ff"/>
                </a:solidFill>
                <a:uFillTx/>
                <a:latin typeface="Calibri"/>
                <a:hlinkClick r:id="rId2"/>
              </a:rPr>
              <a:t>109K PDF</a:t>
            </a:r>
            <a:r>
              <a:rPr b="0" lang="en-US" sz="400" spc="-1" strike="noStrike">
                <a:solidFill>
                  <a:srgbClr val="000000"/>
                </a:solidFill>
                <a:latin typeface="Calibri"/>
              </a:rPr>
              <a:t> </a:t>
            </a:r>
            <a:br>
              <a:rPr sz="400"/>
            </a:br>
            <a:r>
              <a:rPr b="1" lang="en-US" sz="400" spc="-1" strike="noStrike">
                <a:solidFill>
                  <a:srgbClr val="000000"/>
                </a:solidFill>
                <a:latin typeface="Calibri"/>
              </a:rPr>
              <a:t>Improved Freight Logistics</a:t>
            </a:r>
            <a:br>
              <a:rPr sz="400"/>
            </a:br>
            <a:r>
              <a:rPr b="0" lang="en-US" sz="400" spc="-1" strike="noStrike">
                <a:solidFill>
                  <a:srgbClr val="000000"/>
                </a:solidFill>
                <a:latin typeface="Calibri"/>
              </a:rPr>
              <a:t>Improved freight logistics can optimize trucking operation efficiency, saving fuel and increasing profits for trucking companies. Logistics strategies include load matching, more efficient routing and scheduling of vehicles, and improved receiving policies. Better load matching, which ensures full trucks, improves the efficiency of trucking operations, allowing carriers to carry the same amount of freight with fewer vehicle miles of travel. Not only does this help profitability, but it reduces fuel use and emissions. Trucking companies can make use of routing and scheduling software to structure more efficient truck routes. Changes to loading dock and receiving policies, such as allowing for early truck arrivals, lets trucking companies more productively utilize their vehicle fleets, thereby saving fuel and increasing profitability. For a long-haul carrier that operates 15 percent of miles without a load, reducing empty mileage by just one percent can over 100 gallons of fuel and eliminate over one metric ton of greenhouse gas emissions per truck each year. </a:t>
            </a:r>
            <a:br>
              <a:rPr sz="400"/>
            </a:br>
            <a:r>
              <a:rPr b="0" lang="en-US" sz="400" spc="-1" strike="noStrike">
                <a:solidFill>
                  <a:srgbClr val="000000"/>
                </a:solidFill>
                <a:latin typeface="Calibri"/>
              </a:rPr>
              <a:t>"A Glance at Clean Freight Strategies:  Improved Freight Logistics” (EPA 420-F-04-011, February 2004) </a:t>
            </a:r>
            <a:r>
              <a:rPr b="0" lang="en-US" sz="400" spc="-1" strike="noStrike" u="sng">
                <a:solidFill>
                  <a:srgbClr val="0000ff"/>
                </a:solidFill>
                <a:uFillTx/>
                <a:latin typeface="Calibri"/>
                <a:hlinkClick r:id="rId3"/>
              </a:rPr>
              <a:t>103K PDF</a:t>
            </a:r>
            <a:r>
              <a:rPr b="0" lang="en-US" sz="400" spc="-1" strike="noStrike">
                <a:solidFill>
                  <a:srgbClr val="000000"/>
                </a:solidFill>
                <a:latin typeface="Calibri"/>
              </a:rPr>
              <a:t> </a:t>
            </a:r>
            <a:br>
              <a:rPr sz="400"/>
            </a:br>
            <a:r>
              <a:rPr b="1" lang="en-US" sz="400" spc="-1" strike="noStrike">
                <a:solidFill>
                  <a:srgbClr val="000000"/>
                </a:solidFill>
                <a:latin typeface="Calibri"/>
              </a:rPr>
              <a:t>Automatic Tire Inflation Systems</a:t>
            </a:r>
            <a:br>
              <a:rPr sz="400"/>
            </a:br>
            <a:r>
              <a:rPr b="0" lang="en-US" sz="400" spc="-1" strike="noStrike">
                <a:solidFill>
                  <a:srgbClr val="000000"/>
                </a:solidFill>
                <a:latin typeface="Calibri"/>
              </a:rPr>
              <a:t>Automatic tire inflation systems monitor and continually adjust the level of pressurized air to tires, maintaining proper tire pressure even when the truck is moving. Automatic tire inflation systems can extend tire life by 8 percent. Installing an automatic tire inflation system on the truck drive and trailer axles can save over $200 per year in tire replacement costs and tire pressure inspection time. Automatic tire inflation systems can reduce fuel consumption by over 100 gallons per year for a typical combination truck, resulting in annual cost savings of about $170 and the elimination of over one metric ton of greenhouse gas emissions. </a:t>
            </a:r>
            <a:br>
              <a:rPr sz="400"/>
            </a:br>
            <a:r>
              <a:rPr b="0" lang="en-US" sz="400" spc="-1" strike="noStrike">
                <a:solidFill>
                  <a:srgbClr val="000000"/>
                </a:solidFill>
                <a:latin typeface="Calibri"/>
              </a:rPr>
              <a:t>"A Glance at Clean Freight Strategies:  Automatic Tire Inflation Systems” (EPA 420-F-04-010, February 2004) </a:t>
            </a:r>
            <a:r>
              <a:rPr b="0" lang="en-US" sz="400" spc="-1" strike="noStrike" u="sng">
                <a:solidFill>
                  <a:srgbClr val="0000ff"/>
                </a:solidFill>
                <a:uFillTx/>
                <a:latin typeface="Calibri"/>
                <a:hlinkClick r:id="rId4"/>
              </a:rPr>
              <a:t>103K PDF</a:t>
            </a:r>
            <a:r>
              <a:rPr b="0" lang="en-US" sz="400" spc="-1" strike="noStrike">
                <a:solidFill>
                  <a:srgbClr val="000000"/>
                </a:solidFill>
                <a:latin typeface="Calibri"/>
              </a:rPr>
              <a:t> </a:t>
            </a:r>
            <a:br>
              <a:rPr sz="400"/>
            </a:br>
            <a:r>
              <a:rPr b="1" lang="en-US" sz="400" spc="-1" strike="noStrike">
                <a:solidFill>
                  <a:srgbClr val="000000"/>
                </a:solidFill>
                <a:latin typeface="Calibri"/>
              </a:rPr>
              <a:t>Wide-base Tires</a:t>
            </a:r>
            <a:br>
              <a:rPr sz="400"/>
            </a:br>
            <a:r>
              <a:rPr b="0" lang="en-US" sz="400" spc="-1" strike="noStrike">
                <a:solidFill>
                  <a:srgbClr val="000000"/>
                </a:solidFill>
                <a:latin typeface="Calibri"/>
              </a:rPr>
              <a:t>Wide-base tires on new production trucks can reduce rolling resistance, improve fuel economy, and offer substantial fuel cost savings. Wide-base tires can improve fuel economy by 2 percent or more compared to equivalent dual tires. By using wide-base tires, a typical long-haul truck could save over 400 gallons of fuel per year, resulting in cost savings of over $600, and reduce greenhouse gas emissions by four or more metric tons annually. A single wide-base tire costs about the same as two equivalent dual tires and a single wide-rim wheel costs less than two standard wheels. If wide-base tires and wheels are installed on a new truck, the initial cost savings can reach $1,000. </a:t>
            </a:r>
            <a:br>
              <a:rPr sz="400"/>
            </a:br>
            <a:r>
              <a:rPr b="0" lang="en-US" sz="400" spc="-1" strike="noStrike">
                <a:solidFill>
                  <a:srgbClr val="000000"/>
                </a:solidFill>
                <a:latin typeface="Calibri"/>
              </a:rPr>
              <a:t>"A Glance at Clean Freight Strategies:  Wide-based Tires” (EPA 420-F-04-004, February 2004) </a:t>
            </a:r>
            <a:r>
              <a:rPr b="0" lang="en-US" sz="400" spc="-1" strike="noStrike" u="sng">
                <a:solidFill>
                  <a:srgbClr val="0000ff"/>
                </a:solidFill>
                <a:uFillTx/>
                <a:latin typeface="Calibri"/>
                <a:hlinkClick r:id="rId5"/>
              </a:rPr>
              <a:t>105K PDF </a:t>
            </a:r>
            <a:br>
              <a:rPr sz="400"/>
            </a:br>
            <a:r>
              <a:rPr b="1" lang="en-US" sz="400" spc="-1" strike="noStrike">
                <a:solidFill>
                  <a:srgbClr val="000000"/>
                </a:solidFill>
                <a:latin typeface="Calibri"/>
              </a:rPr>
              <a:t>Driver Training</a:t>
            </a:r>
            <a:br>
              <a:rPr sz="400"/>
            </a:br>
            <a:r>
              <a:rPr b="0" lang="en-US" sz="400" spc="-1" strike="noStrike">
                <a:solidFill>
                  <a:srgbClr val="000000"/>
                </a:solidFill>
                <a:latin typeface="Calibri"/>
              </a:rPr>
              <a:t>Driving practices can have a large impact on truck fuel economy. Even highly experiences drivers can enhance fuel economy using simple techniques like cruise control, coasting whenever possible, limiting use of cab accessories, smooth and gradual acceleration, progressive shifting (up shifting at the lowest rpm possible), reducing maximum freeway speeds, and limiting truck idling and stops. Driver training can reduce fuel consumption by 5 percent or more, saving more than $1,200 in fuel costs and eliminating about eight metric tons of greenhouse gas emissions per truck each year. For a typical long-haul truck, the annual fuel cost savings could recover the initial cost of driver training within two years. </a:t>
            </a:r>
            <a:br>
              <a:rPr sz="400"/>
            </a:br>
            <a:r>
              <a:rPr b="0" lang="en-US" sz="400" spc="-1" strike="noStrike">
                <a:solidFill>
                  <a:srgbClr val="000000"/>
                </a:solidFill>
                <a:latin typeface="Calibri"/>
              </a:rPr>
              <a:t>"A Glance at Clean Freight Strategies:  Driver Training” (EPA 420-F-04-008, February 2004) </a:t>
            </a:r>
            <a:r>
              <a:rPr b="0" lang="en-US" sz="400" spc="-1" strike="noStrike" u="sng">
                <a:solidFill>
                  <a:srgbClr val="0000ff"/>
                </a:solidFill>
                <a:uFillTx/>
                <a:latin typeface="Calibri"/>
                <a:hlinkClick r:id="rId6"/>
              </a:rPr>
              <a:t>102K PDF</a:t>
            </a:r>
            <a:r>
              <a:rPr b="0" lang="en-US" sz="400" spc="-1" strike="noStrike">
                <a:solidFill>
                  <a:srgbClr val="000000"/>
                </a:solidFill>
                <a:latin typeface="Calibri"/>
              </a:rPr>
              <a:t> </a:t>
            </a:r>
            <a:br>
              <a:rPr sz="400"/>
            </a:br>
            <a:r>
              <a:rPr b="1" lang="en-US" sz="400" spc="-1" strike="noStrike">
                <a:solidFill>
                  <a:srgbClr val="000000"/>
                </a:solidFill>
                <a:latin typeface="Calibri"/>
              </a:rPr>
              <a:t>Low-Viscosity Lubricants</a:t>
            </a:r>
            <a:br>
              <a:rPr sz="400"/>
            </a:br>
            <a:r>
              <a:rPr b="0" lang="en-US" sz="400" spc="-1" strike="noStrike">
                <a:solidFill>
                  <a:srgbClr val="000000"/>
                </a:solidFill>
                <a:latin typeface="Calibri"/>
              </a:rPr>
              <a:t>Low-viscosity synthetic and semi-synthetic lubricants reduce friction losses in a truck’s drive train, transmission, and its engine, saving fuel and reducing emissions. Synthetic transmission and axle lubricants can improve fuel economy by at least 0.5 percent in the summer and two percent in the winter. Replacing all conventional transmission lubricants with low-viscosity products saves fuel with little or no additional cost. The combined effect of low-viscosity synthetic engine oils and drive train lubricants can improve fuel economy by about three percent, saving nearly 500 gallons of fuel and eliminating five metric tons of greenhouse gas emissions per year for a typical freight truck. </a:t>
            </a:r>
            <a:br>
              <a:rPr sz="400"/>
            </a:br>
            <a:r>
              <a:rPr b="0" lang="en-US" sz="400" spc="-1" strike="noStrike">
                <a:solidFill>
                  <a:srgbClr val="000000"/>
                </a:solidFill>
                <a:latin typeface="Calibri"/>
              </a:rPr>
              <a:t>"A Glance at Clean Freight Strategies:  Low-Viscosity Lubricants” (EPA 420-F-04-006, February 2004) </a:t>
            </a:r>
            <a:r>
              <a:rPr b="0" lang="en-US" sz="400" spc="-1" strike="noStrike" u="sng">
                <a:solidFill>
                  <a:srgbClr val="0000ff"/>
                </a:solidFill>
                <a:uFillTx/>
                <a:latin typeface="Calibri"/>
                <a:hlinkClick r:id="rId7"/>
              </a:rPr>
              <a:t>102K PDF</a:t>
            </a:r>
            <a:r>
              <a:rPr b="0" lang="en-US" sz="400" spc="-1" strike="noStrike">
                <a:solidFill>
                  <a:srgbClr val="000000"/>
                </a:solidFill>
                <a:latin typeface="Calibri"/>
              </a:rPr>
              <a:t> </a:t>
            </a:r>
            <a:br>
              <a:rPr sz="400"/>
            </a:br>
            <a:r>
              <a:rPr b="1" lang="en-US" sz="400" spc="-1" strike="noStrike">
                <a:solidFill>
                  <a:srgbClr val="000000"/>
                </a:solidFill>
                <a:latin typeface="Calibri"/>
              </a:rPr>
              <a:t>Reducing Highway Speed</a:t>
            </a:r>
            <a:br>
              <a:rPr sz="400"/>
            </a:br>
            <a:r>
              <a:rPr b="0" lang="en-US" sz="400" spc="-1" strike="noStrike">
                <a:solidFill>
                  <a:srgbClr val="000000"/>
                </a:solidFill>
                <a:latin typeface="Calibri"/>
              </a:rPr>
              <a:t>Truck fuel economy drops significantly as speeds rise above 55 mph. By limiting top highway speeds, trucks can save fuel, reduce emissions, and prolong engine life. For a typical long-haul truck, reducing highway-driving speed from 70 mph to 65 mph could save nearly $1,500 in fuel costs and eliminate nearly ten metric tons of greenhouse gas emissions each year. Because engine life is directly related to the amount of fuel burned, reducing driving speed can save on engine repair costs. Maximum truck driving speeds can be limited through electronic engine controls, driver-training programs, or incentive programs that reward drivers for staying within set limits. Nearly all new truck engines in use today are electronically controlled and the cost of changing the maximum speed setting on these engines is negligible. </a:t>
            </a:r>
            <a:br>
              <a:rPr sz="400"/>
            </a:br>
            <a:r>
              <a:rPr b="0" lang="en-US" sz="400" spc="-1" strike="noStrike">
                <a:solidFill>
                  <a:srgbClr val="000000"/>
                </a:solidFill>
                <a:latin typeface="Calibri"/>
              </a:rPr>
              <a:t>"A Glance at Clean Freight Strategies:  Reducing Highway Speed” (EPA 420-F-04-007, February 2004) </a:t>
            </a:r>
            <a:r>
              <a:rPr b="0" lang="en-US" sz="400" spc="-1" strike="noStrike" u="sng">
                <a:solidFill>
                  <a:srgbClr val="0000ff"/>
                </a:solidFill>
                <a:uFillTx/>
                <a:latin typeface="Calibri"/>
                <a:hlinkClick r:id="rId8"/>
              </a:rPr>
              <a:t>103K PDF</a:t>
            </a:r>
            <a:r>
              <a:rPr b="0" lang="en-US" sz="400" spc="-1" strike="noStrike">
                <a:solidFill>
                  <a:srgbClr val="000000"/>
                </a:solidFill>
                <a:latin typeface="Calibri"/>
              </a:rPr>
              <a:t> </a:t>
            </a:r>
            <a:br>
              <a:rPr sz="400"/>
            </a:br>
            <a:r>
              <a:rPr b="1" lang="en-US" sz="400" spc="-1" strike="noStrike">
                <a:solidFill>
                  <a:srgbClr val="000000"/>
                </a:solidFill>
                <a:latin typeface="Calibri"/>
              </a:rPr>
              <a:t>Weight Reduction</a:t>
            </a:r>
            <a:br>
              <a:rPr sz="400"/>
            </a:br>
            <a:r>
              <a:rPr b="0" lang="en-US" sz="400" spc="-1" strike="noStrike">
                <a:solidFill>
                  <a:srgbClr val="000000"/>
                </a:solidFill>
                <a:latin typeface="Calibri"/>
              </a:rPr>
              <a:t>Using components made of aluminum or other lightweight materials can reduce the empty truck weight, known as the “tare weight,” thereby improving fuel efficiency. Truck tractors can reduce weight by using components such as cast aluminum alloy wheels and aluminum axle hubs. The potential for weight savings is even greater in the truck trailer, using lightweight components such as aluminum roof posts, upright posts, and floor joists. Light weight components can reduce truck weight by as much as 3,000 pounds. This weight reduction could save 200 - 500 gallons of fuel and reduces greenhouse gas emissions by 2 to 5 metric tons per truck annually. </a:t>
            </a:r>
            <a:br>
              <a:rPr sz="400"/>
            </a:br>
            <a:r>
              <a:rPr b="0" lang="en-US" sz="400" spc="-1" strike="noStrike">
                <a:solidFill>
                  <a:srgbClr val="000000"/>
                </a:solidFill>
                <a:latin typeface="Calibri"/>
              </a:rPr>
              <a:t>"A Glance at Clean Freight Strategies:  Weight Reduction” (EPA 420-F-04-005, February 2004) 105K PDF </a:t>
            </a:r>
            <a:br>
              <a:rPr sz="400"/>
            </a:br>
            <a:r>
              <a:rPr b="1" lang="en-US" sz="400" spc="-1" strike="noStrike">
                <a:solidFill>
                  <a:srgbClr val="000000"/>
                </a:solidFill>
                <a:latin typeface="Calibri"/>
              </a:rPr>
              <a:t>Intermodal Shipping</a:t>
            </a:r>
            <a:br>
              <a:rPr sz="400"/>
            </a:br>
            <a:r>
              <a:rPr b="0" lang="en-US" sz="400" spc="-1" strike="noStrike">
                <a:solidFill>
                  <a:srgbClr val="000000"/>
                </a:solidFill>
                <a:latin typeface="Calibri"/>
              </a:rPr>
              <a:t>Using intermodal ground freight transport makes it possible to combine the best characteristics of trucked and railed freight, especially for shipments over 500 miles. Using innovative intermodal options like trailer on flat car (TOFC) and container on flat car (COFC) can improve efficiency and save money. For shipments over 1,000 miles, using intermodal transport can cut fuel use and greenhouse gas emissions by about 65 percent, compared to a truck-only move.</a:t>
            </a:r>
            <a:br>
              <a:rPr sz="400"/>
            </a:br>
            <a:r>
              <a:rPr b="0" lang="en-US" sz="400" spc="-1" strike="noStrike">
                <a:solidFill>
                  <a:srgbClr val="000000"/>
                </a:solidFill>
                <a:latin typeface="Calibri"/>
              </a:rPr>
              <a:t>"A Glance at Clean Freight Strategies:  Intermodal Shipping” (EPA 420-F-03-026, February 2004) 105K PDF</a:t>
            </a:r>
            <a:br>
              <a:rPr sz="400"/>
            </a:br>
            <a:r>
              <a:rPr b="1" lang="en-US" sz="400" spc="-1" strike="noStrike">
                <a:solidFill>
                  <a:srgbClr val="000000"/>
                </a:solidFill>
                <a:latin typeface="Calibri"/>
              </a:rPr>
              <a:t>Hybrid Powertrain Technology</a:t>
            </a:r>
            <a:br>
              <a:rPr sz="400"/>
            </a:br>
            <a:r>
              <a:rPr b="0" lang="en-US" sz="400" spc="-1" strike="noStrike">
                <a:solidFill>
                  <a:srgbClr val="000000"/>
                </a:solidFill>
                <a:latin typeface="Calibri"/>
              </a:rPr>
              <a:t>Hybrid vehicles have two propulsion power sources, making it possible to capture energy otherwise lost during braking and provide boost to the main engine.  Hybrid vehicles can provide roughly $2,000 in annual fuel savings when used in stop and go freight applications like parcel delivery service.</a:t>
            </a:r>
            <a:br>
              <a:rPr sz="400"/>
            </a:br>
            <a:r>
              <a:rPr b="0" lang="en-US" sz="400" spc="-1" strike="noStrike">
                <a:solidFill>
                  <a:srgbClr val="000000"/>
                </a:solidFill>
                <a:latin typeface="Calibri"/>
              </a:rPr>
              <a:t>"A Glance at Clean Freight Strategies:  Hybrid Power Train Technology” (EPA 420-F-03-025, February 2004) 106K PDF </a:t>
            </a:r>
            <a:br>
              <a:rPr sz="400"/>
            </a:br>
            <a:endParaRPr b="0" lang="en-US" sz="400" spc="-1" strike="noStrike">
              <a:solidFill>
                <a:srgbClr val="000000"/>
              </a:solidFill>
              <a:latin typeface="Calibri"/>
            </a:endParaRPr>
          </a:p>
        </p:txBody>
      </p:sp>
      <p:sp>
        <p:nvSpPr>
          <p:cNvPr id="2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C9C3-73B9-4E01-BC7B-77712645C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ntermodal Shipping</a:t>
            </a:r>
            <a:br>
              <a:rPr sz="800"/>
            </a:br>
            <a:r>
              <a:rPr b="0" lang="en-US" sz="800" spc="-1" strike="noStrike">
                <a:solidFill>
                  <a:srgbClr val="000000"/>
                </a:solidFill>
                <a:latin typeface="Calibri"/>
              </a:rPr>
              <a:t>Many goods and materials may be delivered to distribution hubs more efficiently by rail than by truck.  Intermodal shipping combines the fuel efficiency of rail with the logistical strengths of trucking.  Standardized containers are easily transferred from rail to truck and vice versa.  Intermodal shipping can minimize overall fuel consumption, reduce emissions, and lower the costs of freight delivery.</a:t>
            </a:r>
            <a:br>
              <a:rPr sz="800"/>
            </a:br>
            <a:r>
              <a:rPr b="1" lang="en-US" sz="800" spc="-1" strike="noStrike">
                <a:solidFill>
                  <a:srgbClr val="000000"/>
                </a:solidFill>
                <a:latin typeface="Calibri"/>
              </a:rPr>
              <a:t>Preferential Docking</a:t>
            </a:r>
            <a:br>
              <a:rPr sz="800"/>
            </a:br>
            <a:r>
              <a:rPr b="0" lang="en-US" sz="800" spc="-1" strike="noStrike">
                <a:solidFill>
                  <a:srgbClr val="000000"/>
                </a:solidFill>
                <a:latin typeface="Calibri"/>
              </a:rPr>
              <a:t>Shippers can actively support the goals of SmartWay Transport Partnership by providing special docking privileges for SmartWay Transport Partners.  Deliveries by Partner carriers may be given prime docking times and locales.  Select docks may be designated as "SmartWay Transport Docks".</a:t>
            </a:r>
            <a:br>
              <a:rPr sz="800"/>
            </a:br>
            <a:r>
              <a:rPr b="1" lang="en-US" sz="800" spc="-1" strike="noStrike">
                <a:solidFill>
                  <a:srgbClr val="000000"/>
                </a:solidFill>
                <a:latin typeface="Calibri"/>
              </a:rPr>
              <a:t>Driver Comfort Stations</a:t>
            </a:r>
            <a:br>
              <a:rPr sz="800"/>
            </a:br>
            <a:r>
              <a:rPr b="0" lang="en-US" sz="800" spc="-1" strike="noStrike">
                <a:solidFill>
                  <a:srgbClr val="000000"/>
                </a:solidFill>
                <a:latin typeface="Calibri"/>
              </a:rPr>
              <a:t>Drivers endure a great deal of discomfort in the course of their day, some of which is spent idling their trucks to stay comfortable at docking facilities.  Shippers can provide climate controlled comfort stations at docking facilities so that drivers won’t need to idle their trucks to stay warm or cool, as the case may be.  Eliminating idling not only has obvious fuel, emissions and maintenance benefits, but improved driver comfort enhances safety. </a:t>
            </a:r>
            <a:br>
              <a:rPr sz="800"/>
            </a:br>
            <a:r>
              <a:rPr b="1" lang="en-US" sz="800" spc="-1" strike="noStrike">
                <a:solidFill>
                  <a:srgbClr val="000000"/>
                </a:solidFill>
                <a:latin typeface="Calibri"/>
              </a:rPr>
              <a:t>Electric Forklifts</a:t>
            </a:r>
            <a:br>
              <a:rPr sz="800"/>
            </a:br>
            <a:r>
              <a:rPr b="0" lang="en-US" sz="800" spc="-1" strike="noStrike">
                <a:solidFill>
                  <a:srgbClr val="000000"/>
                </a:solidFill>
                <a:latin typeface="Calibri"/>
              </a:rPr>
              <a:t>Many freight facilities may still use diesel-powered forklifts to carry pallets, crates, etc. between the dock and warehouse.  Electric forklifts are cleaner and more efficient to operate, producing no emissions at the facility.  Utilizing electric forklifts reduces a company’s environmental impact and improves ambient air quality in and around freight docking areas.</a:t>
            </a:r>
            <a:br>
              <a:rPr sz="800"/>
            </a:br>
            <a:r>
              <a:rPr b="1" lang="en-US" sz="800" spc="-1" strike="noStrike">
                <a:solidFill>
                  <a:srgbClr val="000000"/>
                </a:solidFill>
                <a:latin typeface="Calibri"/>
              </a:rPr>
              <a:t>Anti-Idling Policies</a:t>
            </a:r>
            <a:br>
              <a:rPr sz="800"/>
            </a:br>
            <a:r>
              <a:rPr b="0" lang="en-US" sz="800" spc="-1" strike="noStrike">
                <a:solidFill>
                  <a:srgbClr val="000000"/>
                </a:solidFill>
                <a:latin typeface="Calibri"/>
              </a:rPr>
              <a:t>Shippers usually have control over access to their docking facilities including any parking or waiting areas.  Shippers may implement a "No Idle" policy for any truck picking up from or delivering to its facilities.  No Idling Policies may best be combined with driver comfort stations, so that Drivers have an alternative.</a:t>
            </a:r>
            <a:br>
              <a:rPr sz="800"/>
            </a:br>
            <a:r>
              <a:rPr b="1" lang="en-US" sz="800" spc="-1" strike="noStrike">
                <a:solidFill>
                  <a:srgbClr val="000000"/>
                </a:solidFill>
                <a:latin typeface="Calibri"/>
              </a:rPr>
              <a:t>Pickup/Delivery Scheduling</a:t>
            </a:r>
            <a:br>
              <a:rPr sz="800"/>
            </a:br>
            <a:r>
              <a:rPr b="0" lang="en-US" sz="800" spc="-1" strike="noStrike">
                <a:solidFill>
                  <a:srgbClr val="000000"/>
                </a:solidFill>
                <a:latin typeface="Calibri"/>
              </a:rPr>
              <a:t>Excess waiting time for drivers often leads to excess idling and the increased fuel use and emissions.  Shippers can improve scheduling with enhanced communications or logistics software.  Improved scheduling of pickups and delivery reduces excess idling and improves the on-time efficiency of freight operations.</a:t>
            </a:r>
            <a:br>
              <a:rPr sz="800"/>
            </a:br>
            <a:r>
              <a:rPr b="1" lang="en-US" sz="800" spc="-1" strike="noStrike">
                <a:solidFill>
                  <a:srgbClr val="000000"/>
                </a:solidFill>
                <a:latin typeface="Calibri"/>
              </a:rPr>
              <a:t>Full Truckloads</a:t>
            </a:r>
            <a:br>
              <a:rPr sz="800"/>
            </a:br>
            <a:r>
              <a:rPr b="0" lang="en-US" sz="800" spc="-1" strike="noStrike">
                <a:solidFill>
                  <a:srgbClr val="000000"/>
                </a:solidFill>
                <a:latin typeface="Calibri"/>
              </a:rPr>
              <a:t>Goods and materials are sometimes shipped on partially loaded trucks in the interest of expediency, increasing overall fuel use and shipping costs.  Shippers can improve truckload scheduling with freight logistics software that helps to plan shipping loads.  Full truckloads not only improves efficiency but also helps reduce congestion at docking facilities.</a:t>
            </a:r>
            <a:br>
              <a:rPr sz="800"/>
            </a:br>
            <a:r>
              <a:rPr b="1" lang="en-US" sz="800" spc="-1" strike="noStrike">
                <a:solidFill>
                  <a:srgbClr val="000000"/>
                </a:solidFill>
                <a:latin typeface="Calibri"/>
              </a:rPr>
              <a:t>Light Fleet Improvements</a:t>
            </a:r>
            <a:br>
              <a:rPr sz="800"/>
            </a:br>
            <a:r>
              <a:rPr b="0" lang="en-US" sz="800" spc="-1" strike="noStrike">
                <a:solidFill>
                  <a:srgbClr val="000000"/>
                </a:solidFill>
                <a:latin typeface="Calibri"/>
              </a:rPr>
              <a:t>Shippers often have small fleets of light duty vehicles (cars and light-trucks) used around their facilities or for staff travel.  Upgrading a light-duty fleet to more fuel- efficient and lower emitting vehicles reduces a company’s overall environmental impact.</a:t>
            </a:r>
            <a:br>
              <a:rPr sz="800"/>
            </a:br>
            <a:r>
              <a:rPr b="1" lang="en-US" sz="800" spc="-1" strike="noStrike">
                <a:solidFill>
                  <a:srgbClr val="000000"/>
                </a:solidFill>
                <a:latin typeface="Calibri"/>
              </a:rPr>
              <a:t>Warehouse Improvements</a:t>
            </a:r>
            <a:br>
              <a:rPr sz="800"/>
            </a:br>
            <a:r>
              <a:rPr b="0" lang="en-US" sz="800" spc="-1" strike="noStrike">
                <a:solidFill>
                  <a:srgbClr val="000000"/>
                </a:solidFill>
                <a:latin typeface="Calibri"/>
              </a:rPr>
              <a:t>Multiple improvements can be made in and around warehouses that will facilitate improved efficiency and emissions reduction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0D04-F912-4741-A3ED-1BADB0AC4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P has offered recycling services since 1987, and began to remarket used equipment in 1981. Product reuse and recycling</a:t>
            </a:r>
            <a:r>
              <a:rPr b="0" lang="en-US" sz="1000" spc="-1" strike="noStrike" baseline="30000">
                <a:solidFill>
                  <a:srgbClr val="000000"/>
                </a:solidFill>
                <a:latin typeface="Calibri"/>
              </a:rPr>
              <a:t>2</a:t>
            </a:r>
            <a:r>
              <a:rPr b="0" lang="en-US" sz="1000" spc="-1" strike="noStrike">
                <a:solidFill>
                  <a:srgbClr val="000000"/>
                </a:solidFill>
                <a:latin typeface="Calibri"/>
              </a:rPr>
              <a:t> remains one of HP's key global citizenship priorities. Along with customers, resellers, governments and other stakeholders, HP accepts its portion of a shared responsibility to manage the cost and responsible disposition of the HP products that we have sold. We offer customers a variety of HP reuse and recycling programs to properly manage their IT equipment when it is no longer needed. We are on track to meet our goal to recycle 1 billion pounds (450,000 tonnes) of equipment and supplies by the end of 2007.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help customers manage used equipment responsibly, offering services covering asset management, data security, asset recovery and recycling. To better serve our business customers, we are working to offer these choices through a single point of HP contact for both our reuse and our recycling program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possible, we follow the hierarchy of options below to maximize the value and minimize the environmental impact of IT products returned to us for reuse and recycling: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use of the product by others, including by other businesses and consumer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use of components in used equipment and refurbished spare parts market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cycling of materials into raw materials for use in new product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ergy recovery</a:t>
            </a:r>
            <a:r>
              <a:rPr b="0" lang="en-US" sz="1000" spc="-1" strike="noStrike" baseline="30000">
                <a:solidFill>
                  <a:srgbClr val="000000"/>
                </a:solidFill>
                <a:latin typeface="Calibri"/>
              </a:rPr>
              <a:t>3</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ible disposal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have processes in place to protect customers' personal information under all these option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underpin our efforts, we design products with consideration for ease of reuse and recycling in mind, which we term Design for Recyclability (DfR). For example, we make certain components easily removable, avoid paint when practicable, mark any potentially hazardous components clearly and publish disassembly information for many products on hp.com (for more information see our Design for Environment section and our End-of-life websit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make customers aware of the importance of reuse and recycling and our offerings in this area, we publicize our services. We will continue our efforts to raise customer awareness in 2007.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A3D7-7697-44CF-BBDB-B42C77257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new package sorter and conveyor system that were installed during the DC expansion project, for example. The C-L100 package conveyor, which was supplied by systems integrator Dematic Corp., features the ability to turn itself off when it's not needed. That alone has the potential to generate big energy savings. "Traditional belt conveyor is a heavy consumer of electricity and often runs 24/7, even when there is no product on it," says Gregg Vandenbosh, product manager for conveying products at Dematic Corp.</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ong with that "green" feature, the C-L100 offers a number of other advantages. For one thing, it's designed to be easy to assemble: The conveyor is a modular solution and can be assembled by snapping pieces together like Legos. For another, the conveyor is engineered so that each section has its own control logic and internal wiring. That feature eliminates the need for the time-consuming electrical cabling typically associated with conveyor implementa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he C-L100, which is able to handle goods of different sizes and weights, has intelligent controls that allow specific sections to speed up or slow down. As a result of the improvements, Patagonia is able to process outgoing orders with 3.5 fewer workers than in the past. At the same time, accuracy has soared, and returns have been minimize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in conjunction with the new conveyor is a new narrow-belt package sorter from TGW-Ermanco. The sorter, which can accommodate a wide variety of package weights and sizes as well as difficult-to-convey items, can process a bag or box every 2.2 seconds. It's not hard to guess what kind of impact the unit will have on the DC's operations. "There's no way a person can operate that quickly," says Dave Abeloe, Patagonia's distribution center directo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33D3-7C15-41EA-BFA3-BA9C8A911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overnments use a variety of regulatory instruments to address industrial pollutions.  These include environmental directives, taxes and fees, and liability.  All of these affect the pricing and availability of products and services, so warrant consideration at the supply chain level.</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lean Air Act (1967, 1970, 1977, 1990, 1999) requiring development of National Ambient Air Quality Standards, Hazardous Air Pollution Standards, Motor Vehicle Emissions Standards, Fuel and Fuel Additive Standards, Aircraft Emission Standards, and authorizing provisions for ozone protec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lean Water Act (1972, 1988, 1981, 1987) authorizing regulation of wastewater facilities and non-point discharges and provisions for federal funding of municipal sewage treatment system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source Conservation and Recovery Act (1976, 1984, 1986) authorizing regulation and banning of the generation, storage, transport, treatment, and disposal of hazardous waste, as well as management of non-hazardous waste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oxics Substance and Control Act (1976) authorizing regulation and banning of industrial chemicals that pose “unreasonable risk” to human health or the environmen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mprehensive Environmental Response, Compensation and Liability Act (1980) allowing federal funding to remediate sites contaminated from prior unregulated disposal.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uperfund Amendments and Reauthorization Act (1986) authorizing the development of clean-up standards and provisions for increased public particip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mergency Planning &amp; Community Right-To-Know Act (1986) authorizing the EPA to publicly report the release and storage of specified chemicals, and requiring emergency planning at the state level.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ollution Prevention Act (1990) allowing provisions for agencies to support “cost effective” changes in production, operation, and raw material use through technical assistance and voluntary partnership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xes and fees include those like gasoline taxes, and credits for electric vehicl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98F8-AFC5-4A81-8ED5-B3AA82DDE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a variety of potential sustainable business practices that could result in financial as well as sustainability benefi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 are going to focus on some of these specifically in the areas of Warehousing/Storage, Transportation, and Reverse Logistics – these are adopted from a Canadian document on Sustainable Supply Chain Logistics, as well as the EPA document on a Lean and Mean Supply Cha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ny of the practices correspond with the LEED building rating system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use existing sites/building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mplement measures to avoid erosion of soil – destroying vegetation, cause sedimentation of local water, destabilize building foundations</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mplement water efficiency measures – integrated rainwater collection and storage systems, to reduce municipal and wastewater treatment impacts</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Design or reconfigure facilities to be energy efficient – light colored roofs to reflect solar radiation and decrease HVAC loads and energy consumption</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Minimize amount of building materials used and waste produced; use recycled products  - </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stablish good indoor air quality – overhead fans, eliminating sources of indoor air pollution</a:t>
            </a:r>
            <a:br>
              <a:rPr sz="900"/>
            </a:b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71C1-2CEA-4D20-ACCA-E9DA940DE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ehouse layout and operations impact energy efficiency and worker productivity.  Inefficient use of space results in excess utility and labour costs, slower customer service, lower asset utilization, higher capital requirements, and a bigger physical on the environment.</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here possible, share warehouse space  with other users</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Organize warehouse layout – for efficienct order-picking and putaway</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Relate interior and exterior receiving shipping operations to flow of goods thru warehouse</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onfigure cartons, pallets, and racking to make use of available height – reuseable shipping containers are typically standardized and designed for more efficient stacking</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Optimize picking methodology for energy efficiency and productivity – single order pick, batch pick, zone pick or wave pick</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rain employees on efficient workflow processes and procedur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6FFE-D556-42CD-B280-D838E61AA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anchor="t">
            <a:noAutofit/>
          </a:bodyPr>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lan loading dock space – to reduce energy consumption in colder months – covered docks, dock seals, enclosed loading bay</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stall rapid-action loading doors  that minimize time doors are open</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 energy-efficient lighting  - fluorescent, motion sensor</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urn off lights and HVAC when not in use</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 direct digital control systems and link HVAC with warehouse operating schedule</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 natural ventilation  instead of mechanical ventilation</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 ceiling mounted fans to reduce heat stratification and provide air circulation</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Recover waste heat generated by refrigerated systems to heat water, provide space heat, or power other processes</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Maximize the efficiency of material handling equipment such as conveyors, palletizers, automated storage systems – sensors, adjustable speed drives, soft-start capabilities</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4897-058B-4F50-9AB7-CD55F99FE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7F7AE-0743-4FAE-89D2-98062D0F0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4E1BB-77A5-42D1-A630-670DF1F6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8D1E8-0C5B-41A1-900D-A4BC6EFB4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D6094-E6C8-4D19-AC75-6CBC011C7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3064-47A4-4ADC-81A6-3DC23933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4366D-5D16-4A03-B378-9338230FB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B5492-8D45-4583-81FB-F592E24B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88C6E-2B9B-411D-BD2E-91DB7F1B5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0071-901C-4DEE-968C-EFF39EF55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701C9-F002-43DE-93D6-593865343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0997-C3D9-40AC-88C6-7E845FF3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1B14-391F-45A0-BF60-9123DC2FE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0DEB-82ED-42B6-9F7C-38AC238E1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pa.gov/epaoswer/osw/conserve/plugin/partners.htm"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usgbc.or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patagonia.com/"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752120"/>
            <a:ext cx="57909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Sustainability in Transportation and Logis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437920" y="4343400"/>
            <a:ext cx="4419720" cy="9144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Warehouse and Inventory Management</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OG 103</a:t>
            </a:r>
            <a:endParaRPr b="0" lang="en-US" sz="1800" spc="-1" strike="noStrike">
              <a:solidFill>
                <a:srgbClr val="000000"/>
              </a:solidFill>
              <a:latin typeface="Calibri"/>
            </a:endParaRPr>
          </a:p>
        </p:txBody>
      </p:sp>
      <p:pic>
        <p:nvPicPr>
          <p:cNvPr id="50" name="Picture 4" descr=""/>
          <p:cNvPicPr/>
          <p:nvPr/>
        </p:nvPicPr>
        <p:blipFill>
          <a:blip r:embed="rId1"/>
          <a:stretch/>
        </p:blipFill>
        <p:spPr>
          <a:xfrm>
            <a:off x="6477120" y="533520"/>
            <a:ext cx="1272960" cy="1676160"/>
          </a:xfrm>
          <a:prstGeom prst="rect">
            <a:avLst/>
          </a:prstGeom>
          <a:ln w="0">
            <a:noFill/>
          </a:ln>
        </p:spPr>
      </p:pic>
      <p:pic>
        <p:nvPicPr>
          <p:cNvPr id="51" name="Picture 5" descr=""/>
          <p:cNvPicPr/>
          <p:nvPr/>
        </p:nvPicPr>
        <p:blipFill>
          <a:blip r:embed="rId2"/>
          <a:stretch/>
        </p:blipFill>
        <p:spPr>
          <a:xfrm>
            <a:off x="6324480" y="5029200"/>
            <a:ext cx="1371600" cy="976320"/>
          </a:xfrm>
          <a:prstGeom prst="rect">
            <a:avLst/>
          </a:prstGeom>
          <a:ln w="0">
            <a:noFill/>
          </a:ln>
        </p:spPr>
      </p:pic>
      <p:pic>
        <p:nvPicPr>
          <p:cNvPr id="52" name="Picture 6" descr=""/>
          <p:cNvPicPr/>
          <p:nvPr/>
        </p:nvPicPr>
        <p:blipFill>
          <a:blip r:embed="rId3"/>
          <a:stretch/>
        </p:blipFill>
        <p:spPr>
          <a:xfrm>
            <a:off x="7696080" y="2819520"/>
            <a:ext cx="1078200" cy="1523880"/>
          </a:xfrm>
          <a:prstGeom prst="rect">
            <a:avLst/>
          </a:prstGeom>
          <a:ln w="0">
            <a:noFill/>
          </a:ln>
        </p:spPr>
      </p:pic>
      <p:pic>
        <p:nvPicPr>
          <p:cNvPr id="53" name="Picture 7" descr=""/>
          <p:cNvPicPr/>
          <p:nvPr/>
        </p:nvPicPr>
        <p:blipFill>
          <a:blip r:embed="rId4"/>
          <a:stretch/>
        </p:blipFill>
        <p:spPr>
          <a:xfrm>
            <a:off x="1447920" y="838080"/>
            <a:ext cx="1676160" cy="1113120"/>
          </a:xfrm>
          <a:prstGeom prst="rect">
            <a:avLst/>
          </a:prstGeom>
          <a:ln w="0">
            <a:noFill/>
          </a:ln>
        </p:spPr>
      </p:pic>
      <p:pic>
        <p:nvPicPr>
          <p:cNvPr id="54" name="Picture 8" descr=""/>
          <p:cNvPicPr/>
          <p:nvPr/>
        </p:nvPicPr>
        <p:blipFill>
          <a:blip r:embed="rId5"/>
          <a:stretch/>
        </p:blipFill>
        <p:spPr>
          <a:xfrm>
            <a:off x="7238880" y="1905120"/>
            <a:ext cx="1447920" cy="960480"/>
          </a:xfrm>
          <a:prstGeom prst="rect">
            <a:avLst/>
          </a:prstGeom>
          <a:ln w="0">
            <a:noFill/>
          </a:ln>
        </p:spPr>
      </p:pic>
      <p:pic>
        <p:nvPicPr>
          <p:cNvPr id="55" name="Picture 9" descr=""/>
          <p:cNvPicPr/>
          <p:nvPr/>
        </p:nvPicPr>
        <p:blipFill>
          <a:blip r:embed="rId6"/>
          <a:stretch/>
        </p:blipFill>
        <p:spPr>
          <a:xfrm>
            <a:off x="990720" y="1828800"/>
            <a:ext cx="1081080" cy="1371600"/>
          </a:xfrm>
          <a:prstGeom prst="rect">
            <a:avLst/>
          </a:prstGeom>
          <a:ln w="0">
            <a:noFill/>
          </a:ln>
        </p:spPr>
      </p:pic>
      <p:pic>
        <p:nvPicPr>
          <p:cNvPr id="56" name="Picture 10" descr=""/>
          <p:cNvPicPr/>
          <p:nvPr/>
        </p:nvPicPr>
        <p:blipFill>
          <a:blip r:embed="rId7"/>
          <a:stretch/>
        </p:blipFill>
        <p:spPr>
          <a:xfrm>
            <a:off x="6858000" y="3962520"/>
            <a:ext cx="1219320" cy="1218960"/>
          </a:xfrm>
          <a:prstGeom prst="rect">
            <a:avLst/>
          </a:prstGeom>
          <a:ln w="0">
            <a:noFill/>
          </a:ln>
        </p:spPr>
      </p:pic>
      <p:pic>
        <p:nvPicPr>
          <p:cNvPr id="57" name="Picture 11" descr=""/>
          <p:cNvPicPr/>
          <p:nvPr/>
        </p:nvPicPr>
        <p:blipFill>
          <a:blip r:embed="rId8"/>
          <a:stretch/>
        </p:blipFill>
        <p:spPr>
          <a:xfrm>
            <a:off x="380880" y="3124080"/>
            <a:ext cx="1524240" cy="1033560"/>
          </a:xfrm>
          <a:prstGeom prst="rect">
            <a:avLst/>
          </a:prstGeom>
          <a:ln w="0">
            <a:noFill/>
          </a:ln>
        </p:spPr>
      </p:pic>
      <p:pic>
        <p:nvPicPr>
          <p:cNvPr id="58" name="Picture 12" descr=""/>
          <p:cNvPicPr/>
          <p:nvPr/>
        </p:nvPicPr>
        <p:blipFill>
          <a:blip r:embed="rId9"/>
          <a:stretch/>
        </p:blipFill>
        <p:spPr>
          <a:xfrm>
            <a:off x="838080" y="4038480"/>
            <a:ext cx="1359000" cy="1371600"/>
          </a:xfrm>
          <a:prstGeom prst="rect">
            <a:avLst/>
          </a:prstGeom>
          <a:ln w="0">
            <a:noFill/>
          </a:ln>
        </p:spPr>
      </p:pic>
      <p:pic>
        <p:nvPicPr>
          <p:cNvPr id="59" name="Picture 13" descr=""/>
          <p:cNvPicPr/>
          <p:nvPr/>
        </p:nvPicPr>
        <p:blipFill>
          <a:blip r:embed="rId10"/>
          <a:stretch/>
        </p:blipFill>
        <p:spPr>
          <a:xfrm>
            <a:off x="1447920" y="4952880"/>
            <a:ext cx="1752480" cy="1163880"/>
          </a:xfrm>
          <a:prstGeom prst="rect">
            <a:avLst/>
          </a:prstGeom>
          <a:ln w="0">
            <a:noFill/>
          </a:ln>
        </p:spPr>
      </p:pic>
      <p:pic>
        <p:nvPicPr>
          <p:cNvPr id="60" name="Picture 14" descr=""/>
          <p:cNvPicPr/>
          <p:nvPr/>
        </p:nvPicPr>
        <p:blipFill>
          <a:blip r:embed="rId11"/>
          <a:stretch/>
        </p:blipFill>
        <p:spPr>
          <a:xfrm>
            <a:off x="2971800" y="304920"/>
            <a:ext cx="919080" cy="1371600"/>
          </a:xfrm>
          <a:prstGeom prst="rect">
            <a:avLst/>
          </a:prstGeom>
          <a:ln w="0">
            <a:noFill/>
          </a:ln>
        </p:spPr>
      </p:pic>
      <p:pic>
        <p:nvPicPr>
          <p:cNvPr id="61" name="Picture 15" descr=""/>
          <p:cNvPicPr/>
          <p:nvPr/>
        </p:nvPicPr>
        <p:blipFill>
          <a:blip r:embed="rId12"/>
          <a:stretch/>
        </p:blipFill>
        <p:spPr>
          <a:xfrm>
            <a:off x="3809880" y="304920"/>
            <a:ext cx="1447920" cy="1160280"/>
          </a:xfrm>
          <a:prstGeom prst="rect">
            <a:avLst/>
          </a:prstGeom>
          <a:ln w="0">
            <a:noFill/>
          </a:ln>
        </p:spPr>
      </p:pic>
      <p:pic>
        <p:nvPicPr>
          <p:cNvPr id="62" name="Picture 16" descr=""/>
          <p:cNvPicPr/>
          <p:nvPr/>
        </p:nvPicPr>
        <p:blipFill>
          <a:blip r:embed="rId13"/>
          <a:stretch/>
        </p:blipFill>
        <p:spPr>
          <a:xfrm>
            <a:off x="5181480" y="762120"/>
            <a:ext cx="1371600" cy="1022400"/>
          </a:xfrm>
          <a:prstGeom prst="rect">
            <a:avLst/>
          </a:prstGeom>
          <a:ln w="0">
            <a:noFill/>
          </a:ln>
        </p:spPr>
      </p:pic>
      <p:pic>
        <p:nvPicPr>
          <p:cNvPr id="63" name="Picture 17" descr=""/>
          <p:cNvPicPr/>
          <p:nvPr/>
        </p:nvPicPr>
        <p:blipFill>
          <a:blip r:embed="rId14"/>
          <a:stretch/>
        </p:blipFill>
        <p:spPr>
          <a:xfrm>
            <a:off x="2895480" y="5410080"/>
            <a:ext cx="1595520" cy="1060560"/>
          </a:xfrm>
          <a:prstGeom prst="rect">
            <a:avLst/>
          </a:prstGeom>
          <a:ln w="0">
            <a:noFill/>
          </a:ln>
        </p:spPr>
      </p:pic>
      <p:pic>
        <p:nvPicPr>
          <p:cNvPr id="64" name="Picture 18" descr=""/>
          <p:cNvPicPr/>
          <p:nvPr/>
        </p:nvPicPr>
        <p:blipFill>
          <a:blip r:embed="rId15"/>
          <a:stretch/>
        </p:blipFill>
        <p:spPr>
          <a:xfrm>
            <a:off x="4876920" y="5410080"/>
            <a:ext cx="1828800" cy="995400"/>
          </a:xfrm>
          <a:prstGeom prst="rect">
            <a:avLst/>
          </a:prstGeom>
          <a:ln w="0">
            <a:noFill/>
          </a:ln>
        </p:spPr>
      </p:pic>
      <p:pic>
        <p:nvPicPr>
          <p:cNvPr id="65" name="Picture 19" descr=""/>
          <p:cNvPicPr/>
          <p:nvPr/>
        </p:nvPicPr>
        <p:blipFill>
          <a:blip r:embed="rId16"/>
          <a:stretch/>
        </p:blipFill>
        <p:spPr>
          <a:xfrm>
            <a:off x="4038480" y="5029200"/>
            <a:ext cx="1095480" cy="128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9" name="TextBox 4"/>
          <p:cNvSpPr/>
          <p:nvPr/>
        </p:nvSpPr>
        <p:spPr>
          <a:xfrm>
            <a:off x="533520" y="990720"/>
            <a:ext cx="3886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inventory obsolescence or degrad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purchasing patterns/stoc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risk of obsolescense in EOQ</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vendor-managed inventory progr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storage of inven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Multiply 6"/>
          <p:cNvSpPr/>
          <p:nvPr/>
        </p:nvSpPr>
        <p:spPr>
          <a:xfrm>
            <a:off x="5334120" y="12952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Multiply 7"/>
          <p:cNvSpPr/>
          <p:nvPr/>
        </p:nvSpPr>
        <p:spPr>
          <a:xfrm>
            <a:off x="5334120" y="2895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Multiply 8"/>
          <p:cNvSpPr/>
          <p:nvPr/>
        </p:nvSpPr>
        <p:spPr>
          <a:xfrm>
            <a:off x="5334120" y="3352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1752480" y="30492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Wareho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6" name="TextBox 4"/>
          <p:cNvSpPr/>
          <p:nvPr/>
        </p:nvSpPr>
        <p:spPr>
          <a:xfrm>
            <a:off x="533520" y="1066680"/>
            <a:ext cx="38862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le and store hazardous materials saf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here possible replace with non-hazardous alternati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anks or conta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regate hazmat storage conta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 regular hazmat waste removal and dispo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Multiply 6"/>
          <p:cNvSpPr/>
          <p:nvPr/>
        </p:nvSpPr>
        <p:spPr>
          <a:xfrm>
            <a:off x="5334120" y="49528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Multiply 7"/>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1828800" y="304920"/>
            <a:ext cx="579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Wareho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2" name="TextBox 4"/>
          <p:cNvSpPr/>
          <p:nvPr/>
        </p:nvSpPr>
        <p:spPr>
          <a:xfrm>
            <a:off x="533520" y="1295280"/>
            <a:ext cx="3886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e inventory handling and management proc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uto-I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 automated storage and handling syst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mechanical handling equipment powered by alternative energy 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Multiply 5"/>
          <p:cNvSpPr/>
          <p:nvPr/>
        </p:nvSpPr>
        <p:spPr>
          <a:xfrm>
            <a:off x="5345280" y="1752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Multiply 6"/>
          <p:cNvSpPr/>
          <p:nvPr/>
        </p:nvSpPr>
        <p:spPr>
          <a:xfrm>
            <a:off x="5334120" y="13716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Multiply 7"/>
          <p:cNvSpPr/>
          <p:nvPr/>
        </p:nvSpPr>
        <p:spPr>
          <a:xfrm>
            <a:off x="5334120" y="22860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Multiply 8"/>
          <p:cNvSpPr/>
          <p:nvPr/>
        </p:nvSpPr>
        <p:spPr>
          <a:xfrm>
            <a:off x="5334120" y="2895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Multiply 9"/>
          <p:cNvSpPr/>
          <p:nvPr/>
        </p:nvSpPr>
        <p:spPr>
          <a:xfrm>
            <a:off x="5334120" y="3352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Multiply 10"/>
          <p:cNvSpPr/>
          <p:nvPr/>
        </p:nvSpPr>
        <p:spPr>
          <a:xfrm>
            <a:off x="5334120" y="37339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1"/>
          <p:cNvSpPr/>
          <p:nvPr/>
        </p:nvSpPr>
        <p:spPr>
          <a:xfrm>
            <a:off x="1828800" y="3808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Wareho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1" name="TextBox 4"/>
          <p:cNvSpPr/>
          <p:nvPr/>
        </p:nvSpPr>
        <p:spPr>
          <a:xfrm>
            <a:off x="533520" y="1219320"/>
            <a:ext cx="3886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lifecycle performance of delivery fl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 fuel-efficient fle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regular preventive fleet maintena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driver training on fuel efficient driving techniqu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unnecessary idling of delivery vehic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policies to reduce maximum vehicle sp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Multiply 6"/>
          <p:cNvSpPr/>
          <p:nvPr/>
        </p:nvSpPr>
        <p:spPr>
          <a:xfrm>
            <a:off x="5334120" y="22860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Multiply 7"/>
          <p:cNvSpPr/>
          <p:nvPr/>
        </p:nvSpPr>
        <p:spPr>
          <a:xfrm>
            <a:off x="5334120" y="2895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Multiply 8"/>
          <p:cNvSpPr/>
          <p:nvPr/>
        </p:nvSpPr>
        <p:spPr>
          <a:xfrm>
            <a:off x="5334120" y="41148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Multiply 9"/>
          <p:cNvSpPr/>
          <p:nvPr/>
        </p:nvSpPr>
        <p:spPr>
          <a:xfrm>
            <a:off x="5334120" y="4495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Multiply 10"/>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1"/>
          <p:cNvSpPr/>
          <p:nvPr/>
        </p:nvSpPr>
        <p:spPr>
          <a:xfrm>
            <a:off x="1523880" y="45720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Transpor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0" name="TextBox 4"/>
          <p:cNvSpPr/>
          <p:nvPr/>
        </p:nvSpPr>
        <p:spPr>
          <a:xfrm>
            <a:off x="533520" y="144792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ft to modes or equipment that use less fossil fu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ift to more fuel-efficient modes of transpor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lternative energy if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Multiply 5"/>
          <p:cNvSpPr/>
          <p:nvPr/>
        </p:nvSpPr>
        <p:spPr>
          <a:xfrm>
            <a:off x="5334120" y="50292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Multiply 6"/>
          <p:cNvSpPr/>
          <p:nvPr/>
        </p:nvSpPr>
        <p:spPr>
          <a:xfrm>
            <a:off x="5334120" y="41148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Multiply 7"/>
          <p:cNvSpPr/>
          <p:nvPr/>
        </p:nvSpPr>
        <p:spPr>
          <a:xfrm>
            <a:off x="5334120" y="4495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Multiply 8"/>
          <p:cNvSpPr/>
          <p:nvPr/>
        </p:nvSpPr>
        <p:spPr>
          <a:xfrm>
            <a:off x="5334120" y="1752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Multiply 9"/>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a:off x="1981080" y="380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Transpor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8" name="TextBox 4"/>
          <p:cNvSpPr/>
          <p:nvPr/>
        </p:nvSpPr>
        <p:spPr>
          <a:xfrm>
            <a:off x="533520" y="838080"/>
            <a:ext cx="38862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 transportation loads and ro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oid unnecessary packa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load-planning softw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ximize bi-directional loa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route planning softw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dule delivery times to avoid conges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 with local suppliers to reduce transport distan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luence suppliers modes, loading and rou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Multiply 6"/>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Multiply 7"/>
          <p:cNvSpPr/>
          <p:nvPr/>
        </p:nvSpPr>
        <p:spPr>
          <a:xfrm>
            <a:off x="5334120" y="22860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Multiply 8"/>
          <p:cNvSpPr/>
          <p:nvPr/>
        </p:nvSpPr>
        <p:spPr>
          <a:xfrm>
            <a:off x="5334120" y="2895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Multiply 9"/>
          <p:cNvSpPr/>
          <p:nvPr/>
        </p:nvSpPr>
        <p:spPr>
          <a:xfrm>
            <a:off x="5334120" y="41148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Multiply 10"/>
          <p:cNvSpPr/>
          <p:nvPr/>
        </p:nvSpPr>
        <p:spPr>
          <a:xfrm>
            <a:off x="5334120" y="4495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Multiply 11"/>
          <p:cNvSpPr/>
          <p:nvPr/>
        </p:nvSpPr>
        <p:spPr>
          <a:xfrm>
            <a:off x="5334120" y="49528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Multiply 12"/>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3"/>
          <p:cNvSpPr/>
          <p:nvPr/>
        </p:nvSpPr>
        <p:spPr>
          <a:xfrm>
            <a:off x="1752480" y="3049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Transpor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TextBox 4"/>
          <p:cNvSpPr/>
          <p:nvPr/>
        </p:nvSpPr>
        <p:spPr>
          <a:xfrm>
            <a:off x="304920" y="1295280"/>
            <a:ext cx="449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reuseable or recyclable shipping materi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witch to reuseable shipping conta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plastic instead of wooden pall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pallet/container pool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reuseable tie-downs instead of shrink-wrap or disposable strapp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recycled cardboard and pall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 packaging to be recycled</a:t>
            </a:r>
            <a:endParaRPr b="0" lang="en-US" sz="1800" spc="-1" strike="noStrike">
              <a:solidFill>
                <a:srgbClr val="000000"/>
              </a:solidFill>
              <a:latin typeface="Arial"/>
            </a:endParaRPr>
          </a:p>
        </p:txBody>
      </p:sp>
      <p:sp>
        <p:nvSpPr>
          <p:cNvPr id="149"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Multiply 6"/>
          <p:cNvSpPr/>
          <p:nvPr/>
        </p:nvSpPr>
        <p:spPr>
          <a:xfrm>
            <a:off x="5334120" y="3352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Multiply 7"/>
          <p:cNvSpPr/>
          <p:nvPr/>
        </p:nvSpPr>
        <p:spPr>
          <a:xfrm>
            <a:off x="5334120" y="2895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Multiply 8"/>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1752480" y="3049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Transpor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5" name="TextBox 4"/>
          <p:cNvSpPr/>
          <p:nvPr/>
        </p:nvSpPr>
        <p:spPr>
          <a:xfrm>
            <a:off x="533520" y="1295280"/>
            <a:ext cx="388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hazardous materials saf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ly with hazmat rules and regs for all mod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 a dangerous goods transportation security pla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 employees on hazm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ad-planning software that takes  hazmat into accou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pect tanks and containers used to transport hazm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Multiply 6"/>
          <p:cNvSpPr/>
          <p:nvPr/>
        </p:nvSpPr>
        <p:spPr>
          <a:xfrm>
            <a:off x="5334120" y="50292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Multiply 7"/>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1752480" y="45720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Transpor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1" name="TextBox 4"/>
          <p:cNvSpPr/>
          <p:nvPr/>
        </p:nvSpPr>
        <p:spPr>
          <a:xfrm>
            <a:off x="533520" y="1295280"/>
            <a:ext cx="388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 efficiency of product retu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 products and packaging for reuse and recycl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 a proactive take-back progra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der outsourcing reverse logistics to a third 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Multiply 6"/>
          <p:cNvSpPr/>
          <p:nvPr/>
        </p:nvSpPr>
        <p:spPr>
          <a:xfrm>
            <a:off x="5334120" y="22860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Multiply 7"/>
          <p:cNvSpPr/>
          <p:nvPr/>
        </p:nvSpPr>
        <p:spPr>
          <a:xfrm>
            <a:off x="5334120" y="3352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Multiply 8"/>
          <p:cNvSpPr/>
          <p:nvPr/>
        </p:nvSpPr>
        <p:spPr>
          <a:xfrm>
            <a:off x="5334120" y="50292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9"/>
          <p:cNvSpPr/>
          <p:nvPr/>
        </p:nvSpPr>
        <p:spPr>
          <a:xfrm>
            <a:off x="1676520" y="380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Reverse Log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8" name="TextBox 4"/>
          <p:cNvSpPr/>
          <p:nvPr/>
        </p:nvSpPr>
        <p:spPr>
          <a:xfrm>
            <a:off x="533520" y="990720"/>
            <a:ext cx="3886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high-value, low-waste disposition strateg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 value of returned products and determine resale, reuse, or recycling potential of the whole produc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ndition, cannabalize, and recycle  returned produc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assemble and reclaim any recyclable materials and safely dispose of the remaind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nate serviceable products to charitable organiz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epa.gov/epaoswer/osw/conserve/plugin/partners.htm</a:t>
            </a:r>
            <a:endParaRPr b="0" lang="en-US" sz="1800" spc="-1" strike="noStrike">
              <a:solidFill>
                <a:srgbClr val="000000"/>
              </a:solidFill>
              <a:latin typeface="Arial"/>
            </a:endParaRPr>
          </a:p>
        </p:txBody>
      </p:sp>
      <p:sp>
        <p:nvSpPr>
          <p:cNvPr id="169" name="Multiply 5"/>
          <p:cNvSpPr/>
          <p:nvPr/>
        </p:nvSpPr>
        <p:spPr>
          <a:xfrm>
            <a:off x="5334120" y="1752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Multiply 6"/>
          <p:cNvSpPr/>
          <p:nvPr/>
        </p:nvSpPr>
        <p:spPr>
          <a:xfrm>
            <a:off x="5334120" y="13716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Multiply 7"/>
          <p:cNvSpPr/>
          <p:nvPr/>
        </p:nvSpPr>
        <p:spPr>
          <a:xfrm>
            <a:off x="5334120" y="3352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Multiply 8"/>
          <p:cNvSpPr/>
          <p:nvPr/>
        </p:nvSpPr>
        <p:spPr>
          <a:xfrm>
            <a:off x="5334120" y="50292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Multiply 9"/>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1523880" y="380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Reverse Log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nvironmental sustainabilit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vironmental sustainability has been defined as meeting the needs of the present without compromising the ability of future generations to meet their need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nvironmentally sustainable organization seeks to participate within its community and seeks to balance economy, society and environment within its operations. Through seeking balance, an organization may better steward natural and economic resources taking into account the needs of future generation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impacts of Logistics activities by managing them proactively through sustainable practices</a:t>
            </a:r>
            <a:endParaRPr b="0" lang="en-US" sz="18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1430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benefits of sustainable SCL are measureable, but many are no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inclu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brand differenti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ed customer relationship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d corporate citizenship and responsiven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d community healt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d health and safety conditions for employees or logistics business partn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impact on natural habitat and ecosyste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development of agricultural lan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2" marL="1143000" indent="-228600">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rtWay Transport is a voluntary partnership between various freight industry sectors and EPA that establishes incentives for fuel efficiency improvements and greenhouse gas emissions reductions.  By 2012, this initiative aims to reduce between 33 - 66 million metric tons of carbon dioxide (CO</a:t>
            </a:r>
            <a:r>
              <a:rPr b="0" lang="en-US" sz="1400" spc="-1" strike="noStrike" baseline="-25000">
                <a:solidFill>
                  <a:srgbClr val="000000"/>
                </a:solidFill>
                <a:latin typeface="Calibri"/>
              </a:rPr>
              <a:t>2</a:t>
            </a:r>
            <a:r>
              <a:rPr b="0" lang="en-US" sz="1400" spc="-1" strike="noStrike">
                <a:solidFill>
                  <a:srgbClr val="000000"/>
                </a:solidFill>
                <a:latin typeface="Calibri"/>
              </a:rPr>
              <a:t>) emissions and up to 200,000 tons of nitrogen oxide (NO</a:t>
            </a:r>
            <a:r>
              <a:rPr b="0" lang="en-US" sz="1400" spc="-1" strike="noStrike" baseline="-25000">
                <a:solidFill>
                  <a:srgbClr val="000000"/>
                </a:solidFill>
                <a:latin typeface="Calibri"/>
              </a:rPr>
              <a:t>x</a:t>
            </a:r>
            <a:r>
              <a:rPr b="0" lang="en-US" sz="1400" spc="-1" strike="noStrike">
                <a:solidFill>
                  <a:srgbClr val="000000"/>
                </a:solidFill>
                <a:latin typeface="Calibri"/>
              </a:rPr>
              <a:t>) emissions per year.  At the same time, the initiative will result in fuel savings of up to 150 million barrels of oil annually.  There are three primary components of the program:  creating partnerships, reducing all unnecessary engine idling, and increasing the efficiency and use of rail and intermodal operation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http://www.epa.gov/smartway/index.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78" name="Picture 3" descr="homeimage.gif"/>
          <p:cNvPicPr/>
          <p:nvPr/>
        </p:nvPicPr>
        <p:blipFill>
          <a:blip r:embed="rId1"/>
          <a:stretch/>
        </p:blipFill>
        <p:spPr>
          <a:xfrm>
            <a:off x="2133720" y="1676520"/>
            <a:ext cx="4572000" cy="166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981080"/>
            <a:ext cx="822960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leets wishing to join the SmartWay Transport Partnership commit to:</a:t>
            </a:r>
            <a:endParaRPr b="0" lang="en-US" sz="32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asure the environmental performance of their existing operations (trucking companies use EPA's FLEET Performance Model for Carriers to measure performance)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 a goal to improve the environmental performance of their operations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 a plan detailing how the goal will be achieved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 their progress annually to EP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0" name="Picture 3" descr="homeimage.gif"/>
          <p:cNvPicPr/>
          <p:nvPr/>
        </p:nvPicPr>
        <p:blipFill>
          <a:blip r:embed="rId1"/>
          <a:stretch/>
        </p:blipFill>
        <p:spPr>
          <a:xfrm>
            <a:off x="2209680" y="152280"/>
            <a:ext cx="4572000" cy="166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286000"/>
            <a:ext cx="8229600" cy="3276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ight Carrier Innovative Strategies</a:t>
            </a:r>
            <a:endParaRPr b="0" lang="en-US" sz="18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le Reduction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proved Aerodynamics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proved Freight Logistics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omatic Tire Inflation Systems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e-base Tires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iver Training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Viscosity Lubricants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ight Reduction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modal Shipping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brid Powertrain Technology </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2" name="Picture 3" descr="homeimage.gif"/>
          <p:cNvPicPr/>
          <p:nvPr/>
        </p:nvPicPr>
        <p:blipFill>
          <a:blip r:embed="rId1"/>
          <a:stretch/>
        </p:blipFill>
        <p:spPr>
          <a:xfrm>
            <a:off x="2209680" y="304920"/>
            <a:ext cx="4572000" cy="16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2361960"/>
            <a:ext cx="8229600" cy="327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ippers wishing to join the SmartWay Transport Partnership commit to:</a:t>
            </a:r>
            <a:endParaRPr b="0" lang="en-US" sz="20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e the percentage of freight shipped by SmartWay Transport Partnership carriers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asure the greenhouse gas emissions of their freight facility operations using EPA's FLEET Performance Shipper/Logistics Model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the percentage of freight shipped by SmartWay Transport Partnership carriers to at least 50%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 a goal to reduce the greenhouse gas emissions from freight facility operations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 an action plan detailing how each of these goals will be achieved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 progress toward achieving each of these goals to EPA annuall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homeimage.gif"/>
          <p:cNvPicPr/>
          <p:nvPr/>
        </p:nvPicPr>
        <p:blipFill>
          <a:blip r:embed="rId1"/>
          <a:stretch/>
        </p:blipFill>
        <p:spPr>
          <a:xfrm>
            <a:off x="2133720" y="304920"/>
            <a:ext cx="4572000" cy="166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0880" y="2057040"/>
            <a:ext cx="8229600" cy="426708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pper Innovative Strategies</a:t>
            </a:r>
            <a:endParaRPr b="0" lang="en-US" sz="1800" spc="-1" strike="noStrike">
              <a:solidFill>
                <a:srgbClr val="000000"/>
              </a:solidFill>
              <a:latin typeface="Calibri"/>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1316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r>
              <a:rPr b="1" lang="en-US" sz="1400" spc="-1" strike="noStrike">
                <a:solidFill>
                  <a:srgbClr val="000000"/>
                </a:solidFill>
                <a:latin typeface="Calibri"/>
              </a:rPr>
              <a:t>Intermodal Shipping</a:t>
            </a:r>
            <a:br>
              <a:rPr sz="1400"/>
            </a:br>
            <a:br>
              <a:rPr sz="1400"/>
            </a:br>
            <a:r>
              <a:rPr b="1" lang="en-US" sz="1400" spc="-1" strike="noStrike">
                <a:solidFill>
                  <a:srgbClr val="000000"/>
                </a:solidFill>
                <a:latin typeface="Calibri"/>
              </a:rPr>
              <a:t>Preferential Docking</a:t>
            </a:r>
            <a:br>
              <a:rPr sz="1400"/>
            </a:br>
            <a:br>
              <a:rPr sz="1400"/>
            </a:br>
            <a:r>
              <a:rPr b="1" lang="en-US" sz="1400" spc="-1" strike="noStrike">
                <a:solidFill>
                  <a:srgbClr val="000000"/>
                </a:solidFill>
                <a:latin typeface="Calibri"/>
              </a:rPr>
              <a:t>Driver Comfort Stations</a:t>
            </a:r>
            <a:br>
              <a:rPr sz="1400"/>
            </a:br>
            <a:br>
              <a:rPr sz="1400"/>
            </a:br>
            <a:r>
              <a:rPr b="1" lang="en-US" sz="1400" spc="-1" strike="noStrike">
                <a:solidFill>
                  <a:srgbClr val="000000"/>
                </a:solidFill>
                <a:latin typeface="Calibri"/>
              </a:rPr>
              <a:t>Electric Forklifts</a:t>
            </a:r>
            <a:br>
              <a:rPr sz="1400"/>
            </a:br>
            <a:br>
              <a:rPr sz="1400"/>
            </a:br>
            <a:r>
              <a:rPr b="1" lang="en-US" sz="1400" spc="-1" strike="noStrike">
                <a:solidFill>
                  <a:srgbClr val="000000"/>
                </a:solidFill>
                <a:latin typeface="Calibri"/>
              </a:rPr>
              <a:t>Anti-Idling Policies</a:t>
            </a:r>
            <a:br>
              <a:rPr sz="1400"/>
            </a:br>
            <a:br>
              <a:rPr sz="1400"/>
            </a:br>
            <a:r>
              <a:rPr b="1" lang="en-US" sz="1400" spc="-1" strike="noStrike">
                <a:solidFill>
                  <a:srgbClr val="000000"/>
                </a:solidFill>
                <a:latin typeface="Calibri"/>
              </a:rPr>
              <a:t>Pickup/Delivery Scheduling</a:t>
            </a:r>
            <a:br>
              <a:rPr sz="1400"/>
            </a:br>
            <a:br>
              <a:rPr sz="1400"/>
            </a:br>
            <a:r>
              <a:rPr b="1" lang="en-US" sz="1400" spc="-1" strike="noStrike">
                <a:solidFill>
                  <a:srgbClr val="000000"/>
                </a:solidFill>
                <a:latin typeface="Calibri"/>
              </a:rPr>
              <a:t>Full Truckloads</a:t>
            </a:r>
            <a:br>
              <a:rPr sz="1400"/>
            </a:br>
            <a:br>
              <a:rPr sz="1400"/>
            </a:br>
            <a:r>
              <a:rPr b="1" lang="en-US" sz="1400" spc="-1" strike="noStrike">
                <a:solidFill>
                  <a:srgbClr val="000000"/>
                </a:solidFill>
                <a:latin typeface="Calibri"/>
              </a:rPr>
              <a:t>Light Fleet Improvements</a:t>
            </a:r>
            <a:br>
              <a:rPr sz="1400"/>
            </a:br>
            <a:br>
              <a:rPr sz="1400"/>
            </a:br>
            <a:r>
              <a:rPr b="1" lang="en-US" sz="1400" spc="-1" strike="noStrike">
                <a:solidFill>
                  <a:srgbClr val="000000"/>
                </a:solidFill>
                <a:latin typeface="Calibri"/>
              </a:rPr>
              <a:t>Warehouse Improvements</a:t>
            </a:r>
            <a:br>
              <a:rPr sz="1400"/>
            </a:b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6" name="Picture 3" descr="homeimage.gif"/>
          <p:cNvPicPr/>
          <p:nvPr/>
        </p:nvPicPr>
        <p:blipFill>
          <a:blip r:embed="rId1"/>
          <a:stretch/>
        </p:blipFill>
        <p:spPr>
          <a:xfrm>
            <a:off x="2133720" y="228600"/>
            <a:ext cx="4572000" cy="1666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904760" y="914400"/>
            <a:ext cx="6629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ED™ stands for Leadership in Energy and Environmental Design. It is the "nationally accepted benchmark for the design, construction and operation of high-performance green buildings“ and has become the green building-industry standard for rating building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LEED program was established in 1998 and has since grown into nine separate rating systems for various types of constructio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Leadership in Energy and Environmental Design (LEED®) standard, developed by the </a:t>
            </a:r>
            <a:r>
              <a:rPr b="0" lang="en-US" sz="1400" spc="-1" strike="noStrike" u="sng">
                <a:solidFill>
                  <a:srgbClr val="0000ff"/>
                </a:solidFill>
                <a:uFillTx/>
                <a:latin typeface="Calibri"/>
                <a:hlinkClick r:id="rId1"/>
              </a:rPr>
              <a:t>U.S. Green Building Council</a:t>
            </a:r>
            <a:r>
              <a:rPr b="0" lang="en-US" sz="1400" spc="-1" strike="noStrike">
                <a:solidFill>
                  <a:srgbClr val="000000"/>
                </a:solidFill>
                <a:latin typeface="Calibri"/>
              </a:rPr>
              <a:t> (USGBC), is the most well known, all-encompassing, whole-building standard in the U.S. It includes: </a:t>
            </a:r>
            <a:endParaRPr b="0" lang="en-US" sz="14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ED-NC is applicable to new commercial, institutional, and high-rise residential buildings. </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ED-EB is applicable to existing buildings, which includes criteria for maintenance, operations, and refurbishments. </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ED-CS for core and shell covers a building’s structure, envelope, and basic mechanical/electrical/plumbing systems, which are items appropriate for speculative buildings. </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ED-CI, for commercial interiors applicable to tenant fit-outs.</a:t>
            </a:r>
            <a:endParaRPr b="0" lang="en-US" sz="1000" spc="-1" strike="noStrike">
              <a:solidFill>
                <a:srgbClr val="000000"/>
              </a:solidFill>
              <a:latin typeface="Calibri"/>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here are over 450 LEED-certified projects with over 3,600 registered for certificatio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8" name="Picture 3" descr="2f09d1a4-8c7d-40cd-ba9f-14983ffd626c.jpg"/>
          <p:cNvPicPr/>
          <p:nvPr/>
        </p:nvPicPr>
        <p:blipFill>
          <a:blip r:embed="rId2"/>
          <a:stretch/>
        </p:blipFill>
        <p:spPr>
          <a:xfrm>
            <a:off x="762120" y="2286000"/>
            <a:ext cx="857160" cy="91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0880" y="609480"/>
            <a:ext cx="822960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ED-NC Point Syste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ints Required for LEED-NC Rating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Level</a:t>
            </a:r>
            <a:r>
              <a:rPr b="0" lang="en-US" sz="2000" spc="-1" strike="noStrike">
                <a:solidFill>
                  <a:srgbClr val="000000"/>
                </a:solidFill>
                <a:latin typeface="Calibri"/>
              </a:rPr>
              <a:t> </a:t>
            </a:r>
            <a:r>
              <a:rPr b="0" i="1" lang="en-US" sz="2000" spc="-1" strike="noStrike">
                <a:solidFill>
                  <a:srgbClr val="000000"/>
                </a:solidFill>
                <a:latin typeface="Calibri"/>
              </a:rPr>
              <a:t>Points</a:t>
            </a:r>
            <a:r>
              <a:rPr b="0" lang="en-US" sz="2000" spc="-1" strike="noStrike">
                <a:solidFill>
                  <a:srgbClr val="000000"/>
                </a:solidFill>
                <a:latin typeface="Calibri"/>
              </a:rPr>
              <a:t>  Platinum 52-69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Gold 39-51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ilver 33-38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ertified 26-3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90" name=""/>
          <p:cNvGraphicFramePr/>
          <p:nvPr/>
        </p:nvGraphicFramePr>
        <p:xfrm>
          <a:off x="1828800" y="1066680"/>
          <a:ext cx="3733920" cy="2987640"/>
        </p:xfrm>
        <a:graphic>
          <a:graphicData uri="http://schemas.openxmlformats.org/drawingml/2006/table">
            <a:tbl>
              <a:tblPr/>
              <a:tblGrid>
                <a:gridCol w="3048120"/>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 po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Sit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4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Efficien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amp; Atmosphe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rials &amp; Resour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oor Environment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on &amp; Design proce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61960" y="838080"/>
            <a:ext cx="6172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wlett Pack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s on reverse logistics – recycling valuable metals  and other materials from returns into new products – Long Lifecycle Business Desktop PC is made from 95% recycled compon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itched from wood to plastic pall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2" name="Picture 4" descr="hpweb_1-2_topnav_hp_logo.gif"/>
          <p:cNvPicPr/>
          <p:nvPr/>
        </p:nvPicPr>
        <p:blipFill>
          <a:blip r:embed="rId1"/>
          <a:stretch/>
        </p:blipFill>
        <p:spPr>
          <a:xfrm>
            <a:off x="685800" y="2133720"/>
            <a:ext cx="1295280" cy="111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agonia  - Uses only organic cotton in sportswear,  first outdoor apparel retailer to sell fleece from recycled soda bott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LEED standards to develop DC 170,000 addition – achieved gold cer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nt heating system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escent lighting/skyligh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Green’ package sorter and conveyor system</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patagonia.com/web/us/footprint/index.jsp</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4" name="Picture 5" descr="Patagonia">
            <a:hlinkClick r:id="rId1"/>
          </p:cNvPr>
          <p:cNvPicPr/>
          <p:nvPr/>
        </p:nvPicPr>
        <p:blipFill>
          <a:blip r:embed="rId2"/>
          <a:stretch/>
        </p:blipFill>
        <p:spPr>
          <a:xfrm>
            <a:off x="2819520" y="533520"/>
            <a:ext cx="307008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Impacts of Logistics Activities</a:t>
            </a:r>
            <a:br>
              <a:rPr sz="2800"/>
            </a:br>
            <a:endParaRPr b="0" lang="en-US" sz="2800" spc="-1" strike="noStrike">
              <a:solidFill>
                <a:srgbClr val="000000"/>
              </a:solidFill>
              <a:latin typeface="Calibri"/>
            </a:endParaRPr>
          </a:p>
        </p:txBody>
      </p:sp>
      <p:sp>
        <p:nvSpPr>
          <p:cNvPr id="69" name=""/>
          <p:cNvSpPr txBox="1"/>
          <p:nvPr/>
        </p:nvSpPr>
        <p:spPr>
          <a:xfrm>
            <a:off x="457200" y="1143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ehousing</a:t>
            </a:r>
            <a:endParaRPr b="0" lang="en-US" sz="2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ergy Consump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unity Conges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ment of agricultural land</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ste from obsolescent or damaged inventory</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material exposure</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portation</a:t>
            </a:r>
            <a:endParaRPr b="0" lang="en-US" sz="2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ir and water emission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ergy consump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ffic congestion, noise accident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ste from packaging or shipping container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material exposure</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Logistics</a:t>
            </a:r>
            <a:endParaRPr b="0" lang="en-US" sz="2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cess waste in landfill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material exposur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sonDiverse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st DC to be awarded gold LEED certific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 replaced by state of the art ventilation and fa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orescent lights motion activated ligh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pow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s $100,000 year on energy sav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olidation of four warehouses reduced costs in shuttling products between warehouses</a:t>
            </a:r>
            <a:endParaRPr b="0" lang="en-US" sz="2800" spc="-1" strike="noStrike">
              <a:solidFill>
                <a:srgbClr val="000000"/>
              </a:solidFill>
              <a:latin typeface="Calibri"/>
            </a:endParaRPr>
          </a:p>
        </p:txBody>
      </p:sp>
      <p:pic>
        <p:nvPicPr>
          <p:cNvPr id="196" name="DefaultOcx" descr=""/>
          <p:cNvPicPr/>
          <p:nvPr/>
        </p:nvPicPr>
        <p:blipFill>
          <a:blip r:embed="rId1"/>
          <a:stretch/>
        </p:blipFill>
        <p:spPr>
          <a:xfrm>
            <a:off x="3048120" y="533520"/>
            <a:ext cx="2514600" cy="91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http://www.deliveredgrean.com/images/header_middle_left.gif"/>
          <p:cNvPicPr/>
          <p:nvPr/>
        </p:nvPicPr>
        <p:blipFill>
          <a:blip r:embed="rId1"/>
          <a:stretch/>
        </p:blipFill>
        <p:spPr>
          <a:xfrm>
            <a:off x="304920" y="228600"/>
            <a:ext cx="2762280" cy="2286000"/>
          </a:xfrm>
          <a:prstGeom prst="rect">
            <a:avLst/>
          </a:prstGeom>
          <a:ln w="0">
            <a:noFill/>
          </a:ln>
        </p:spPr>
      </p:pic>
      <p:pic>
        <p:nvPicPr>
          <p:cNvPr id="198" name="Picture 5" descr="chart.gif"/>
          <p:cNvPicPr/>
          <p:nvPr/>
        </p:nvPicPr>
        <p:blipFill>
          <a:blip r:embed="rId2"/>
          <a:stretch/>
        </p:blipFill>
        <p:spPr>
          <a:xfrm>
            <a:off x="5638680" y="3200400"/>
            <a:ext cx="3095640" cy="2857680"/>
          </a:xfrm>
          <a:prstGeom prst="rect">
            <a:avLst/>
          </a:prstGeom>
          <a:ln w="0">
            <a:noFill/>
          </a:ln>
        </p:spPr>
      </p:pic>
      <p:sp>
        <p:nvSpPr>
          <p:cNvPr id="199" name="Rectangle 6"/>
          <p:cNvSpPr/>
          <p:nvPr/>
        </p:nvSpPr>
        <p:spPr>
          <a:xfrm>
            <a:off x="609480" y="30481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a:t>
            </a:r>
            <a:r>
              <a:rPr b="0" lang="en-US" sz="1800" spc="-1" strike="noStrike">
                <a:solidFill>
                  <a:srgbClr val="000000"/>
                </a:solidFill>
                <a:latin typeface="Arial"/>
              </a:rPr>
              <a:t> - EA Logistics calculates the CO2 emissions generated by your freight</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r>
              <a:rPr b="0" lang="en-US" sz="1800" spc="-1" strike="noStrike">
                <a:solidFill>
                  <a:srgbClr val="000000"/>
                </a:solidFill>
                <a:latin typeface="Arial"/>
              </a:rPr>
              <a:t> - EA Logistics purchases CO2 offsets for 100% of your emissions at no additional cost to you.</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ify</a:t>
            </a:r>
            <a:r>
              <a:rPr b="0" lang="en-US" sz="1800" spc="-1" strike="noStrike">
                <a:solidFill>
                  <a:srgbClr val="000000"/>
                </a:solidFill>
                <a:latin typeface="Arial"/>
              </a:rPr>
              <a:t> - EA Logistics provides a receipt from carbonfund.org proving your freight was Delivered GrEAn</a:t>
            </a:r>
            <a:r>
              <a:rPr b="0" lang="en-US" sz="1800" spc="-1" strike="noStrike" baseline="30000">
                <a:solidFill>
                  <a:srgbClr val="000000"/>
                </a:solidFill>
                <a:latin typeface="Arial"/>
              </a:rPr>
              <a:t>T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upsfedex2.jpg"/>
          <p:cNvPicPr/>
          <p:nvPr/>
        </p:nvPicPr>
        <p:blipFill>
          <a:blip r:embed="rId1"/>
          <a:stretch/>
        </p:blipFill>
        <p:spPr>
          <a:xfrm>
            <a:off x="3200400" y="380880"/>
            <a:ext cx="1905120" cy="571680"/>
          </a:xfrm>
          <a:prstGeom prst="rect">
            <a:avLst/>
          </a:prstGeom>
          <a:ln w="0">
            <a:noFill/>
          </a:ln>
        </p:spPr>
      </p:pic>
      <p:sp>
        <p:nvSpPr>
          <p:cNvPr id="201" name="TextBox 4"/>
          <p:cNvSpPr/>
          <p:nvPr/>
        </p:nvSpPr>
        <p:spPr>
          <a:xfrm>
            <a:off x="457200" y="1295280"/>
            <a:ext cx="8229600" cy="471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S recently decided to eliminate left turns from routes because they waste fu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UPS, computer systems track packages and maps delivery route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ivers never idle and new GPS capabilities help them avoid traffic tie-up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uter playbacks of each driver’s day look for slow spots on delivery routes and maps future alterations around bottleneck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 monitors every vehicle for drops in fuel efficiency and employs alternative fuel vehic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November, UPS rolled out a small parcel delivery service tin Northern California using 42 electric cars and trucks from ZAP.</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edEx also uses route planning software to maximize efficiency and has been using more vehicles that run on alternative fuel, such as hydrogen, which the company says saves mon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logistics compatible with ‘gree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tting transport costs means </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ing more efficient highway systems</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ing cheaper, more environmentally damaging diesel fuel  instead of gasoline</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ing land that is exceptional to build airports, seaports, and rail terminals</a:t>
            </a:r>
            <a:endParaRPr b="0" lang="en-US" sz="1400" spc="-1" strike="noStrike">
              <a:solidFill>
                <a:srgbClr val="000000"/>
              </a:solidFill>
              <a:latin typeface="Calibri"/>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eding distribution system means </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ing most polluting and least energy efficient transportation modes</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or-to-door and Just-in-time strategies lead to vicious circle  - the more they are applied, the more negative the consequences</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re reliability means </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ing most reliable transportation methods  - air, truck</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ips and trains are least polluting, but least reliable</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duction in inventory means</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ventories  are shipped more often</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mmerce  means</a:t>
            </a:r>
            <a:endParaRPr b="0" lang="en-US" sz="1400" spc="-1" strike="noStrike">
              <a:solidFill>
                <a:srgbClr val="000000"/>
              </a:solidFill>
              <a:latin typeface="Calibri"/>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transactions that rely on parcel-shipping companies that rely on trucking and air transport</a:t>
            </a:r>
            <a:endParaRPr b="0" lang="en-US" sz="1400" spc="-1" strike="noStrike">
              <a:solidFill>
                <a:srgbClr val="000000"/>
              </a:solidFill>
              <a:latin typeface="Calibri"/>
            </a:endParaRPr>
          </a:p>
          <a:p>
            <a:pPr lvl="1" marL="735480" indent="-282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35480" indent="-282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35480" indent="-282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35480" indent="-282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35480" indent="-282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35480" indent="-282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Pressures affecting the Supply Chain</a:t>
            </a:r>
            <a:endParaRPr b="0" lang="en-US" sz="2800" spc="-1" strike="noStrike">
              <a:solidFill>
                <a:srgbClr val="000000"/>
              </a:solidFill>
              <a:latin typeface="Calibri"/>
            </a:endParaRPr>
          </a:p>
        </p:txBody>
      </p:sp>
      <p:pic>
        <p:nvPicPr>
          <p:cNvPr id="73" name="Picture 2" descr=""/>
          <p:cNvPicPr/>
          <p:nvPr/>
        </p:nvPicPr>
        <p:blipFill>
          <a:blip r:embed="rId1"/>
          <a:stretch/>
        </p:blipFill>
        <p:spPr>
          <a:xfrm>
            <a:off x="380880" y="1523880"/>
            <a:ext cx="802656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33520" y="990360"/>
            <a:ext cx="8229600" cy="297180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ingly, sustainable business practices anchored by sustainable supply chains—are coming to the forefront because they make good business sense.</a:t>
            </a:r>
            <a:endParaRPr b="0" lang="en-US" sz="3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563868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6" name="TextBox 4"/>
          <p:cNvSpPr/>
          <p:nvPr/>
        </p:nvSpPr>
        <p:spPr>
          <a:xfrm>
            <a:off x="304920" y="838080"/>
            <a:ext cx="50292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te sustainability factors in new warehouse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use existing sites/buildin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the site and situate the building to minimize traffic and noie impacts on the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 measures to avoid erosion of soi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 water efficiency measur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 or reconfigure facilities to be energy effici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ize amount of building materials used and waste produced; use recycled produc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blish good indoor air quality</a:t>
            </a:r>
            <a:endParaRPr b="0" lang="en-US" sz="1800" spc="-1" strike="noStrike">
              <a:solidFill>
                <a:srgbClr val="000000"/>
              </a:solidFill>
              <a:latin typeface="Arial"/>
            </a:endParaRPr>
          </a:p>
        </p:txBody>
      </p:sp>
      <p:sp>
        <p:nvSpPr>
          <p:cNvPr id="77" name="Multiply 5"/>
          <p:cNvSpPr/>
          <p:nvPr/>
        </p:nvSpPr>
        <p:spPr>
          <a:xfrm>
            <a:off x="5715000" y="1752480"/>
            <a:ext cx="30492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Multiply 6"/>
          <p:cNvSpPr/>
          <p:nvPr/>
        </p:nvSpPr>
        <p:spPr>
          <a:xfrm>
            <a:off x="5715000" y="2895480"/>
            <a:ext cx="30492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Multiply 7"/>
          <p:cNvSpPr/>
          <p:nvPr/>
        </p:nvSpPr>
        <p:spPr>
          <a:xfrm>
            <a:off x="5715000" y="3733920"/>
            <a:ext cx="30492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Multiply 8"/>
          <p:cNvSpPr/>
          <p:nvPr/>
        </p:nvSpPr>
        <p:spPr>
          <a:xfrm>
            <a:off x="5715000" y="4952880"/>
            <a:ext cx="30492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Multiply 9"/>
          <p:cNvSpPr/>
          <p:nvPr/>
        </p:nvSpPr>
        <p:spPr>
          <a:xfrm>
            <a:off x="5715000" y="5638680"/>
            <a:ext cx="30492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11"/>
          <p:cNvSpPr/>
          <p:nvPr/>
        </p:nvSpPr>
        <p:spPr>
          <a:xfrm>
            <a:off x="1600200" y="30492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Wareho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s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TextBox 4"/>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 warehouse layout and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possible, share warehouse sp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ize warehouse layou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 interior and exterior receiving shipping operations to flow of goo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igure cartons, pallets, and racking to make use of available heig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mize picking methodology for energy efficiency and productiv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 employees on efficient workflow processes and proced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Multiply 6"/>
          <p:cNvSpPr/>
          <p:nvPr/>
        </p:nvSpPr>
        <p:spPr>
          <a:xfrm>
            <a:off x="5334120" y="2209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Multiply 7"/>
          <p:cNvSpPr/>
          <p:nvPr/>
        </p:nvSpPr>
        <p:spPr>
          <a:xfrm>
            <a:off x="5334120" y="28954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Multiply 8"/>
          <p:cNvSpPr/>
          <p:nvPr/>
        </p:nvSpPr>
        <p:spPr>
          <a:xfrm>
            <a:off x="5334120" y="37339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Multiply 9"/>
          <p:cNvSpPr/>
          <p:nvPr/>
        </p:nvSpPr>
        <p:spPr>
          <a:xfrm>
            <a:off x="5334120" y="50292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Multiply 10"/>
          <p:cNvSpPr/>
          <p:nvPr/>
        </p:nvSpPr>
        <p:spPr>
          <a:xfrm>
            <a:off x="5334120" y="5638680"/>
            <a:ext cx="304560" cy="3812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
          <p:cNvSpPr/>
          <p:nvPr/>
        </p:nvSpPr>
        <p:spPr>
          <a:xfrm>
            <a:off x="1371600" y="380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Wareho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5257800" y="990720"/>
          <a:ext cx="3048120" cy="5155920"/>
        </p:xfrm>
        <a:graphic>
          <a:graphicData uri="http://schemas.openxmlformats.org/drawingml/2006/table">
            <a:tbl>
              <a:tblPr/>
              <a:tblGrid>
                <a:gridCol w="457200"/>
                <a:gridCol w="25909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imary Areas of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enue Enhanc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Customer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sset Uti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Effici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ission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Environmental Conser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 Reduction (noie, congestion, heal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3" name="TextBox 4"/>
          <p:cNvSpPr/>
          <p:nvPr/>
        </p:nvSpPr>
        <p:spPr>
          <a:xfrm>
            <a:off x="228600" y="990720"/>
            <a:ext cx="4724280" cy="55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energy efficiency of warehouse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n loading dock spa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stall rapid-action loading doo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energy-efficient lighting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urn off lights and HVAC when not in u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direct digital control systems and link HVAC with warehouse operating schedu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natural ventil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ceiling mounted fa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 waste heat generated by refrigerated syste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ximize the efficiency of material handling equipme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Multiply 5"/>
          <p:cNvSpPr/>
          <p:nvPr/>
        </p:nvSpPr>
        <p:spPr>
          <a:xfrm>
            <a:off x="5334120" y="16765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Multiply 6"/>
          <p:cNvSpPr/>
          <p:nvPr/>
        </p:nvSpPr>
        <p:spPr>
          <a:xfrm>
            <a:off x="5334120" y="373392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Multiply 7"/>
          <p:cNvSpPr/>
          <p:nvPr/>
        </p:nvSpPr>
        <p:spPr>
          <a:xfrm>
            <a:off x="5334120" y="5029200"/>
            <a:ext cx="304560" cy="380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1600200" y="22860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Logistics Practice - Wareho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21:29:28Z</dcterms:created>
  <dc:creator>Erika Bowles</dc:creator>
  <dc:description/>
  <dc:language>en-US</dc:language>
  <cp:lastModifiedBy>Erika Bowles</cp:lastModifiedBy>
  <dcterms:modified xsi:type="dcterms:W3CDTF">2008-02-27T22:41:09Z</dcterms:modified>
  <cp:revision>80</cp:revision>
  <dc:subject/>
  <dc:title>Slide 1</dc:title>
</cp:coreProperties>
</file>