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01D5-572B-4726-9302-40CC29107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87387-3D36-47C7-9D48-AC7B3826A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33CB8-8882-4785-8D65-5352457B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442EC-81D1-4A44-895C-1D5D03B2B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A6734-BB65-480D-9EE7-61371D23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558D9-3D00-47C3-B4E6-2A4FB9C9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1241-EF80-4931-B2BE-25DB6445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4309-7A00-4017-9C88-6320FD5EA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A2AD2-522C-48AE-A2B7-08B3C2DD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254F-3A1A-4560-9D24-783AE3A6A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AC52B-CBD8-40DE-AF52-C60CDAA6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A268-FEB6-4DA4-AF7F-B06FA2CF6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FC84-4644-4A7A-86DF-B28D5E53F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rds.yahoo.com/_ylt=A0S020x_bqxJx7UAgnGJzbkF;_ylu=X3oDMTBqOHA2aDgzBHBvcwMyMgRzZWMDc3IEdnRpZAM-/SIG=1kmi8uhst/EXP=1236123647/**http%3A//images.search.yahoo.com/images/view%3Fback=http%253A%252F%252Fimages.search.yahoo.com%252Fsearch%252Fimages%253Fp%253Dwarehouse%252Bsafety%252Bsigns%2526rs%253D1%2526fr%253Dyfp-t-305%2526xargs%253D0%2526pstart%253D1%2526b%253D21%2526ni%253D20%26w=115%26h=89%26imgurl=www.australiasigns.com.au%252Fgal%252Fsafetygal%252Fthumbs%252F200-gr-md-safety-harness.jpg%26rurl=http%253A%252F%252Fwww.australiasigns.com.au%252Fsafety%252Fproducts.php%253Fcat%253D36%26size=9.1kB%26name=200-gr-md-safety-harness.jpg%26p=warehouse%2Bsafety%2Bsigns%26type=JPG%26oid=5cc6782db685ffac%26no=22%26tt=165%26sigr=11rrgogg0%26sigi=12b5pgkfl%26sigb=13jvsp2ba"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904760"/>
            <a:ext cx="5029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ehouse Safety and Ergonomic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4038120"/>
            <a:ext cx="49528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arehouse and Inventory Managemen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OG 103</a:t>
            </a:r>
            <a:endParaRPr b="0" lang="en-US" sz="3200" spc="-1" strike="noStrike">
              <a:solidFill>
                <a:srgbClr val="000000"/>
              </a:solidFill>
              <a:latin typeface="Calibri"/>
            </a:endParaRPr>
          </a:p>
        </p:txBody>
      </p:sp>
      <p:pic>
        <p:nvPicPr>
          <p:cNvPr id="43" name="Picture 2" descr="Image Preview"/>
          <p:cNvPicPr/>
          <p:nvPr/>
        </p:nvPicPr>
        <p:blipFill>
          <a:blip r:embed="rId1"/>
          <a:stretch/>
        </p:blipFill>
        <p:spPr>
          <a:xfrm>
            <a:off x="5638680" y="1523880"/>
            <a:ext cx="311004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Image Preview"/>
          <p:cNvPicPr/>
          <p:nvPr/>
        </p:nvPicPr>
        <p:blipFill>
          <a:blip r:embed="rId1"/>
          <a:stretch/>
        </p:blipFill>
        <p:spPr>
          <a:xfrm>
            <a:off x="1828800" y="838080"/>
            <a:ext cx="5562720" cy="4183200"/>
          </a:xfrm>
          <a:prstGeom prst="rect">
            <a:avLst/>
          </a:prstGeom>
          <a:ln w="0">
            <a:noFill/>
          </a:ln>
        </p:spPr>
      </p:pic>
      <p:sp>
        <p:nvSpPr>
          <p:cNvPr id="70" name="TextBox 5"/>
          <p:cNvSpPr/>
          <p:nvPr/>
        </p:nvSpPr>
        <p:spPr>
          <a:xfrm>
            <a:off x="3505320" y="56386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main categories of hazards</a:t>
            </a:r>
            <a:endParaRPr b="0" lang="en-US" sz="4400" spc="-1" strike="noStrike">
              <a:solidFill>
                <a:srgbClr val="000000"/>
              </a:solidFill>
              <a:latin typeface="Calibri"/>
            </a:endParaRPr>
          </a:p>
        </p:txBody>
      </p:sp>
      <p:graphicFrame>
        <p:nvGraphicFramePr>
          <p:cNvPr id="72" name=""/>
          <p:cNvGraphicFramePr/>
          <p:nvPr/>
        </p:nvGraphicFramePr>
        <p:xfrm>
          <a:off x="533520" y="1905120"/>
          <a:ext cx="8229600" cy="2835000"/>
        </p:xfrm>
        <a:graphic>
          <a:graphicData uri="http://schemas.openxmlformats.org/drawingml/2006/table">
            <a:tbl>
              <a:tblPr/>
              <a:tblGrid>
                <a:gridCol w="4114800"/>
                <a:gridCol w="4114800"/>
              </a:tblGrid>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Mechanical Haz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Confined spa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Electrical haz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Falling obje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Hazardous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Improper storing of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Outside truck traf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Packaging/Proc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mach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Powered Industrial Vehi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Employee Haz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Crush hazards/Pinch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Cutting 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Housekee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Improper Lif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Pedestrian 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PPE 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Material Hand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r>
                        <a:rPr b="1" lang="en-US" sz="1800" spc="-1" strike="noStrike">
                          <a:solidFill>
                            <a:srgbClr val="ffffff"/>
                          </a:solidFill>
                          <a:latin typeface="Calibri"/>
                          <a:ea typeface="Arial"/>
                        </a:rPr>
                        <a:t>Slips, trips &amp; fa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73" name="TextBox 4"/>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457200" y="99072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CHANICAL HAZARD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Confined spac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Electrical hazard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Falling objec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Hazardous Materi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Improper storing of materi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Outside truck traffic</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ackaging/Processing machi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owered Industrial Vehicles</a:t>
            </a:r>
            <a:endParaRPr b="0" lang="en-US" sz="3000" spc="-1" strike="noStrike">
              <a:solidFill>
                <a:srgbClr val="000000"/>
              </a:solidFill>
              <a:latin typeface="Calibri"/>
            </a:endParaRPr>
          </a:p>
        </p:txBody>
      </p:sp>
      <p:sp>
        <p:nvSpPr>
          <p:cNvPr id="75"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fined spaces</a:t>
            </a:r>
            <a:br>
              <a:rPr sz="4000"/>
            </a:br>
            <a:r>
              <a:rPr b="0" lang="en-US" sz="2400" spc="-1" strike="noStrike">
                <a:solidFill>
                  <a:srgbClr val="000000"/>
                </a:solidFill>
                <a:latin typeface="Calibri"/>
              </a:rPr>
              <a:t>29 CFR 1910</a:t>
            </a:r>
            <a:endParaRPr b="0" lang="en-US" sz="2400" spc="-1" strike="noStrike">
              <a:solidFill>
                <a:srgbClr val="000000"/>
              </a:solidFill>
              <a:latin typeface="Calibri"/>
            </a:endParaRPr>
          </a:p>
        </p:txBody>
      </p:sp>
      <p:sp>
        <p:nvSpPr>
          <p:cNvPr id="77" name=""/>
          <p:cNvSpPr txBox="1"/>
          <p:nvPr/>
        </p:nvSpPr>
        <p:spPr>
          <a:xfrm>
            <a:off x="457200" y="1676160"/>
            <a:ext cx="8229600" cy="38098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 OSHA permit-required confined space is one that has—or has the potential for—one o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of these hazard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hazardous atmosphere that could cause a person inside to become il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apacitated, unable to escape without aid, or even to die. The atmosphe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y be hazardous due t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lammable gas, vapor, or mist levels more than 10 percent above th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stance's lower flammable limi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irborne combustible dust at or above the substance's lower flammable limi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ing it hard to see things less than five feet awa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mospheric oxygen concentration below 19.5 percent or above 23.5 perc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ust 16 percent oxygen can make you drowsy, nauseated, and speed up</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eathing and heartbeat. At 12 percent, you'll lose consciousness; a 6 perc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xygen level will kill yo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y other atmospheric condition immediately dangerous to life or health (IDL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ndition that threatens life, could cause irreversible health problems, or limi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r ability to escape the space without help.</a:t>
            </a:r>
            <a:endParaRPr b="0" lang="en-US" sz="1500" spc="-1" strike="noStrike">
              <a:solidFill>
                <a:srgbClr val="000000"/>
              </a:solidFill>
              <a:latin typeface="Calibri"/>
            </a:endParaRPr>
          </a:p>
        </p:txBody>
      </p:sp>
      <p:sp>
        <p:nvSpPr>
          <p:cNvPr id="78"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ined spaces</a:t>
            </a:r>
            <a:endParaRPr b="0" lang="en-US" sz="4400" spc="-1" strike="noStrike">
              <a:solidFill>
                <a:srgbClr val="000000"/>
              </a:solidFill>
              <a:latin typeface="Calibri"/>
            </a:endParaRPr>
          </a:p>
        </p:txBody>
      </p:sp>
      <p:sp>
        <p:nvSpPr>
          <p:cNvPr id="80" name=""/>
          <p:cNvSpPr txBox="1"/>
          <p:nvPr/>
        </p:nvSpPr>
        <p:spPr>
          <a:xfrm>
            <a:off x="380880" y="1295280"/>
            <a:ext cx="8229600" cy="38102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ulfment potential applies to a space that contains a liquid or a flowing soli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 sand or grain) that could immerse and bury or smother you.</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apping design refers to walls that converge inward or a floor that slop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apers down. In a space like that, you could slip or fall into an area too sma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scape from or get pushed into machiner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recognized serious health or safety hazards could include:</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Combustibility. If something can burn or explode, it is more likely to do so, an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o it instantly, in a confined spac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Falls. If you fall in a confined space, you could get trapped or asphyxiate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pecially if the space has too little oxygen or contains toxic gase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Heat. Heat can build up quickly in a confined space, making you tired, dizz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d ill.</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Noise. Sounds reverberate in a confined space, and you could fail to hear</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mportant instructions or warnings.</a:t>
            </a:r>
            <a:endParaRPr b="0" lang="en-US" sz="1500" spc="-1" strike="noStrike">
              <a:solidFill>
                <a:srgbClr val="000000"/>
              </a:solidFill>
              <a:latin typeface="Calibri"/>
            </a:endParaRPr>
          </a:p>
        </p:txBody>
      </p:sp>
      <p:sp>
        <p:nvSpPr>
          <p:cNvPr id="81" name="TextBox 4"/>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al Hazards</a:t>
            </a:r>
            <a:br>
              <a:rPr sz="4400"/>
            </a:br>
            <a:r>
              <a:rPr b="0" lang="en-US" sz="2400" spc="-1" strike="noStrike">
                <a:solidFill>
                  <a:srgbClr val="000000"/>
                </a:solidFill>
                <a:latin typeface="Calibri"/>
              </a:rPr>
              <a:t>CFR 1910 Subpart S</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ical equipment shall be free from recognized hazards that a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ely to cause death or serious physical harm to employee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frayed, cracked or damaged insulation on any wir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bare wires or open electrical boxes (covers and knock outs in plac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tension cords cannot be used for a permanent connection</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ider possible arcing effec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 not block electrical panels – minimum of 30” clearanc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ach disconnect switch or circuit breaker must be clearly labeled with a</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able label or mark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ve parts of electric equipment operating at 50 volts or more shall b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arded against accidental contact by an approved enclosur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kspace around electrical equipment must not be less than 6’6” in</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ight or 30” wid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least one entrance not less than 24” wide and 6’6” high shall b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d to give access to the workspace</a:t>
            </a:r>
            <a:endParaRPr b="0" lang="en-US" sz="1800" spc="-1" strike="noStrike">
              <a:solidFill>
                <a:srgbClr val="000000"/>
              </a:solidFill>
              <a:latin typeface="Calibri"/>
            </a:endParaRPr>
          </a:p>
        </p:txBody>
      </p:sp>
      <p:sp>
        <p:nvSpPr>
          <p:cNvPr id="84"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lling Object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me safe guards against falling objects should be put in plac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you are working above other employee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e careful so that material will not fall from your workspac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trash containers or other means to keep debris from falling on persons below</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the safety equipment and practices that are required for the job. Fo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 if operating a Pick Truck, you should be wearing a body harness an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yard to prevent fall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ever deliberately throw or sweep material from abov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n’t work, or allow others to work, under obviously unsafe conditions.</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you are working on the ground or below other employee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ore material safely so it won’t fall on someone just walking b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ear safety equipment like hard hats or safety glasses if require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y attention to what is going on around you especially if cranes are being used to hoist materials into the air</a:t>
            </a:r>
            <a:endParaRPr b="0" lang="en-US" sz="1800" spc="-1" strike="noStrike">
              <a:solidFill>
                <a:srgbClr val="000000"/>
              </a:solidFill>
              <a:latin typeface="Calibri"/>
            </a:endParaRPr>
          </a:p>
        </p:txBody>
      </p:sp>
      <p:sp>
        <p:nvSpPr>
          <p:cNvPr id="87"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zardous Material</a:t>
            </a:r>
            <a:br>
              <a:rPr sz="4400"/>
            </a:br>
            <a:r>
              <a:rPr b="0" lang="en-US" sz="2400" spc="-1" strike="noStrike">
                <a:solidFill>
                  <a:srgbClr val="000000"/>
                </a:solidFill>
                <a:latin typeface="Calibri"/>
              </a:rPr>
              <a:t>29 CFR 1910.1200</a:t>
            </a:r>
            <a:endParaRPr b="0" lang="en-US" sz="2400" spc="-1" strike="noStrike">
              <a:solidFill>
                <a:srgbClr val="000000"/>
              </a:solidFill>
              <a:latin typeface="Calibri"/>
            </a:endParaRPr>
          </a:p>
        </p:txBody>
      </p:sp>
      <p:sp>
        <p:nvSpPr>
          <p:cNvPr id="89"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zardous Communication (HazCom) Program also known as the “Righ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Know” law is required – Sample programs are available 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ww.osha.gov</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You must share information and train your employees on what Hazardou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terial they are working with</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You must maintain a Hazardous Material inventory of all chemicals used in</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r facilit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You must have a </a:t>
            </a:r>
            <a:r>
              <a:rPr b="1" lang="en-US" sz="1500" spc="-1" strike="noStrike">
                <a:solidFill>
                  <a:srgbClr val="000000"/>
                </a:solidFill>
                <a:latin typeface="Calibri"/>
              </a:rPr>
              <a:t>Material Safety Data Sheet (MSDS) for every chemical in</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r facilit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Chemical manufacturers, importers, and distributors of hazardous chemical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re all required to provide the appropriate labels and material safety data</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heets to the employers to which they ship the chemical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Every container of hazardous chemicals you receive or use in your facilit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ust be labeled, tagged, or marked with the required information.</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Your suppliers must also send you a properly completed material safety data</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heet (MSDS) at the time of the first shipment of the chemical, and with th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xt shipment after the MSDS is updated with new and significant</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formation about the hazards.</a:t>
            </a:r>
            <a:endParaRPr b="0" lang="en-US" sz="1500" spc="-1" strike="noStrike">
              <a:solidFill>
                <a:srgbClr val="000000"/>
              </a:solidFill>
              <a:latin typeface="Calibri"/>
            </a:endParaRPr>
          </a:p>
        </p:txBody>
      </p:sp>
      <p:sp>
        <p:nvSpPr>
          <p:cNvPr id="90"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ous Waste Operations and Emergency Response </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If your company produces any </a:t>
            </a:r>
            <a:r>
              <a:rPr b="0" lang="en-US" sz="1500" spc="-1" strike="noStrike">
                <a:solidFill>
                  <a:srgbClr val="000000"/>
                </a:solidFill>
                <a:latin typeface="Calibri"/>
              </a:rPr>
              <a:t>hazardous waste, you need a HAZWOPER progra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910.120(b)(1)(i) Employers shall develop and implement a written safety and heal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am for their employees involved in hazardous waste operations. The program shall b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signed to identify, evaluate, and control safety and health hazards, and provide fo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mergency response for hazardous waste operati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910.120(b)(1)(ii)(A-G) The written safety and health program shall incorporate the following:</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organizational structure – the chain of command and responsibilities </a:t>
            </a:r>
            <a:r>
              <a:rPr b="1" lang="en-US" sz="1300" spc="-1" strike="noStrike">
                <a:solidFill>
                  <a:srgbClr val="000000"/>
                </a:solidFill>
                <a:latin typeface="Calibri"/>
              </a:rPr>
              <a:t>1910.120(b)(2)(i)(A)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910.120(b)(2)(i)(D)</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comprehensive workplan - shall address the tasks and objectives of the site operations and identify</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methods for accomplishing those tasks and objective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site-specific safety and health plan - shall address the safety and health hazards of each phase of site</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peration and include the requirements and procedures for employee protecti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safety and health training program shall address employee training assignments to assure</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mpliance with paragraph (e) of this section. See </a:t>
            </a:r>
            <a:r>
              <a:rPr b="1" lang="en-US" sz="1300" spc="-1" strike="noStrike">
                <a:solidFill>
                  <a:srgbClr val="000000"/>
                </a:solidFill>
                <a:latin typeface="Calibri"/>
              </a:rPr>
              <a:t>1910.120(e)(1) – (9)</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medical surveillance program shall be instituted by the employer for a list of employees and records</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ust be kept for duration of employment plus 30 years. </a:t>
            </a:r>
            <a:r>
              <a:rPr b="1" lang="en-US" sz="1300" spc="-1" strike="noStrike">
                <a:solidFill>
                  <a:srgbClr val="000000"/>
                </a:solidFill>
                <a:latin typeface="Calibri"/>
              </a:rPr>
              <a:t>1910.120(f)(1) – (8)</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mployer's standard operating procedures for safety and health.</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y necessary interface between general program and site specific activities.</a:t>
            </a:r>
            <a:endParaRPr b="0" lang="en-US" sz="1300" spc="-1" strike="noStrike">
              <a:solidFill>
                <a:srgbClr val="000000"/>
              </a:solidFill>
              <a:latin typeface="Calibri"/>
            </a:endParaRPr>
          </a:p>
        </p:txBody>
      </p:sp>
      <p:sp>
        <p:nvSpPr>
          <p:cNvPr id="93"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 storing of material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1910.176(a) Use of mechanical equipment. Where mechanical handling equipment i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ed, sufficient safe clearances shall be allowed for aisles, at loading docks, through</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oorways and wherever turns or passage must be made. Aisles and passageways shall b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ept clear and in good repair, with no obstruction across or in aisles that could create a</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azard. Permanent aisles and passageways shall be appropriately marke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29 CFR 1910.176(b) Secure storage. Storage of material shall not create a hazard. Bag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tainers, bundles, etc., stored in tiers shall be stacked, blocked, interlocked and limited in</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ight so that they are stable and secure against sliding or collaps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29 CFR 1910.176(c) Housekeeping. Storage areas shall be kept free from accumulation of</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terials that constitute hazards from tripping, fire, explosion, or pest harborag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egetation control will be exercised when necessar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Check what you're storing to determine if it needs certain conditions—dry, dark, ventilate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tc.</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Check that shelves and racks are sturdy and in good condition, </a:t>
            </a:r>
            <a:r>
              <a:rPr b="1" lang="en-US" sz="1500" spc="-1" strike="noStrike">
                <a:solidFill>
                  <a:srgbClr val="000000"/>
                </a:solidFill>
                <a:latin typeface="Calibri"/>
              </a:rPr>
              <a:t>these should be labele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r capacity.</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lace heavier objects close to the floor, lighter/smaller objects higher.</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on't stack items so high that they could block sprinklers, come in contact with overhea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ights or pipes or become unstable and fall over.</a:t>
            </a:r>
            <a:endParaRPr b="0" lang="en-US" sz="1500" spc="-1" strike="noStrike">
              <a:solidFill>
                <a:srgbClr val="000000"/>
              </a:solidFill>
              <a:latin typeface="Calibri"/>
            </a:endParaRPr>
          </a:p>
        </p:txBody>
      </p:sp>
      <p:sp>
        <p:nvSpPr>
          <p:cNvPr id="96"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warehouses unsaf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re than 145,000 people work in over 7,000 warehouses.</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fatal injury rate for the warehousing industry is higher than the national average for all industries.</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otential hazards for workers in warehousing:</a:t>
            </a:r>
            <a:endParaRPr b="0" lang="en-US" sz="3000" spc="-1" strike="noStrike">
              <a:solidFill>
                <a:srgbClr val="000000"/>
              </a:solidFill>
              <a:latin typeface="Calibri"/>
            </a:endParaRPr>
          </a:p>
          <a:p>
            <a:pPr lvl="1" marL="720720" indent="-27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Unsafe use of forklifts;</a:t>
            </a:r>
            <a:endParaRPr b="0" lang="en-US" sz="2600" spc="-1" strike="noStrike">
              <a:solidFill>
                <a:srgbClr val="000000"/>
              </a:solidFill>
              <a:latin typeface="Calibri"/>
            </a:endParaRPr>
          </a:p>
          <a:p>
            <a:pPr lvl="1" marL="720720" indent="-27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mproper stacking of products;</a:t>
            </a:r>
            <a:endParaRPr b="0" lang="en-US" sz="2600" spc="-1" strike="noStrike">
              <a:solidFill>
                <a:srgbClr val="000000"/>
              </a:solidFill>
              <a:latin typeface="Calibri"/>
            </a:endParaRPr>
          </a:p>
          <a:p>
            <a:pPr lvl="1" marL="720720" indent="-27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ailure to use proper personal protective equipment;</a:t>
            </a:r>
            <a:endParaRPr b="0" lang="en-US" sz="2600" spc="-1" strike="noStrike">
              <a:solidFill>
                <a:srgbClr val="000000"/>
              </a:solidFill>
              <a:latin typeface="Calibri"/>
            </a:endParaRPr>
          </a:p>
          <a:p>
            <a:pPr lvl="1" marL="720720" indent="-27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ailure to follow proper lockout/tagout procedures;</a:t>
            </a:r>
            <a:endParaRPr b="0" lang="en-US" sz="2600" spc="-1" strike="noStrike">
              <a:solidFill>
                <a:srgbClr val="000000"/>
              </a:solidFill>
              <a:latin typeface="Calibri"/>
            </a:endParaRPr>
          </a:p>
          <a:p>
            <a:pPr lvl="1" marL="720720" indent="-27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adequate fire safety provisions; or repetitive motion injuries.</a:t>
            </a:r>
            <a:endParaRPr b="0" lang="en-US" sz="2600" spc="-1" strike="noStrike">
              <a:solidFill>
                <a:srgbClr val="000000"/>
              </a:solidFill>
              <a:latin typeface="Calibri"/>
            </a:endParaRPr>
          </a:p>
        </p:txBody>
      </p:sp>
      <p:sp>
        <p:nvSpPr>
          <p:cNvPr id="46"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roper storing of material….</a:t>
            </a:r>
            <a:endParaRPr b="0" lang="en-US" sz="4400" spc="-1" strike="noStrike">
              <a:solidFill>
                <a:srgbClr val="000000"/>
              </a:solidFill>
              <a:latin typeface="Calibri"/>
            </a:endParaRPr>
          </a:p>
        </p:txBody>
      </p:sp>
      <p:pic>
        <p:nvPicPr>
          <p:cNvPr id="98" name="Picture 5" descr=""/>
          <p:cNvPicPr/>
          <p:nvPr/>
        </p:nvPicPr>
        <p:blipFill>
          <a:blip r:embed="rId1"/>
          <a:stretch/>
        </p:blipFill>
        <p:spPr>
          <a:xfrm>
            <a:off x="457200" y="1295280"/>
            <a:ext cx="7900920" cy="4630680"/>
          </a:xfrm>
          <a:prstGeom prst="rect">
            <a:avLst/>
          </a:prstGeom>
          <a:ln w="0">
            <a:noFill/>
          </a:ln>
        </p:spPr>
      </p:pic>
      <p:sp>
        <p:nvSpPr>
          <p:cNvPr id="99" name="TextBox 7"/>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auses damag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762120" y="1523880"/>
            <a:ext cx="7829280" cy="4432320"/>
          </a:xfrm>
          <a:prstGeom prst="rect">
            <a:avLst/>
          </a:prstGeom>
          <a:ln w="0">
            <a:noFill/>
          </a:ln>
        </p:spPr>
      </p:pic>
      <p:sp>
        <p:nvSpPr>
          <p:cNvPr id="102" name="TextBox 4"/>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side Truck Traffic</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cks and pedestrians don’t mix well – keep them separate with designat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a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n’t allow personal vehicles to use the same area as your shipping &amp; receiv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ffic if at all possible. Eliminate the contact, eliminate the hazard! It can also</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reduce theft.</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cks may have hazardous material on them other than your delivery. No spill,</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roblem. If they have a hazmat spill, you must keep it away from any storm</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in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a truck or it’s load leaks onto your property, you could be held responsible fo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environmental damag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ck drivers need to drive at a safe posted speed limit. One suggestion</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10mph, otherwise accidents may happen . . . .</a:t>
            </a:r>
            <a:endParaRPr b="0" lang="en-US" sz="1800" spc="-1" strike="noStrike">
              <a:solidFill>
                <a:srgbClr val="000000"/>
              </a:solidFill>
              <a:latin typeface="Calibri"/>
            </a:endParaRPr>
          </a:p>
        </p:txBody>
      </p:sp>
      <p:sp>
        <p:nvSpPr>
          <p:cNvPr id="105"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side Truck Accident</a:t>
            </a:r>
            <a:endParaRPr b="0" lang="en-US" sz="4400" spc="-1" strike="noStrike">
              <a:solidFill>
                <a:srgbClr val="000000"/>
              </a:solidFill>
              <a:latin typeface="Calibri"/>
            </a:endParaRPr>
          </a:p>
        </p:txBody>
      </p:sp>
      <p:pic>
        <p:nvPicPr>
          <p:cNvPr id="107" name="Picture 2" descr=""/>
          <p:cNvPicPr/>
          <p:nvPr/>
        </p:nvPicPr>
        <p:blipFill>
          <a:blip r:embed="rId1"/>
          <a:stretch/>
        </p:blipFill>
        <p:spPr>
          <a:xfrm>
            <a:off x="609480" y="1295280"/>
            <a:ext cx="7748640" cy="4649760"/>
          </a:xfrm>
          <a:prstGeom prst="rect">
            <a:avLst/>
          </a:prstGeom>
          <a:ln w="0">
            <a:noFill/>
          </a:ln>
        </p:spPr>
      </p:pic>
      <p:sp>
        <p:nvSpPr>
          <p:cNvPr id="108" name="TextBox 4"/>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side Truck Safety Practices</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 </a:t>
            </a:r>
            <a:r>
              <a:rPr b="0" lang="en-US" sz="3200" spc="-1" strike="noStrike" u="sng">
                <a:solidFill>
                  <a:srgbClr val="000000"/>
                </a:solidFill>
                <a:uFillTx/>
                <a:latin typeface="Calibri"/>
              </a:rPr>
              <a:t>Get Out and L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tters – with safety ve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cks and c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se gear if trailer is dropped at do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duled deliv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n dock area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ty – Company-Owned Fleet</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Meetings  - Morning and Eve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rough Training and Frequent Road Te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ing Certification Trai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 Measuring Equip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up Camer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Force Spe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Note of Different Sized Truck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ing/Processing Machine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chine guarding standard - 29 CFR 1910.212(a)(1) One or more method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machine guarding shall be provided to protect the operator and othe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ees in the machine area from hazards such as those created by pointof-</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s, ingoing nip-points, rotating parts, flying parts, flying chips an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rks. Examples of machine guarding are barrier guards, two-handed tripp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ices, and electronic safety devices.</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Walking / working surfaces - 29 CFR1910.22(a)(2) The floor of every</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room shall be maintained in a clean and, so far as possible, a dr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ition. Where wet processes are used, drainage shall be maintained, an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se floors, platforms, mats, or other dry standing places should be provided</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practicable.</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Walking / working surfaces - 29 CFR 1910.22(a)(3) To facilitate cleaning,</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 floor, working place, and passageway shall be kept free from protrud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ils, splinters, holes, or loose boards.</a:t>
            </a:r>
            <a:endParaRPr b="0" lang="en-US" sz="1800" spc="-1" strike="noStrike">
              <a:solidFill>
                <a:srgbClr val="000000"/>
              </a:solidFill>
              <a:latin typeface="Calibri"/>
            </a:endParaRPr>
          </a:p>
        </p:txBody>
      </p:sp>
      <p:sp>
        <p:nvSpPr>
          <p:cNvPr id="115"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ing/Processing Machin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ckOut/TagOut (LO/TO) standard – also known as the Control of Hazardous</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ergy. Once your employee performs a lock out on a machine they should</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ush the start button to test it!</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 CFR 1910.147(a)(2)(i) This standard applies to the control of energy during</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rvicing and/or maintenance of machines and equipment.</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 CFR 1910.147(a)(2)(ii) Servicing and/or maintenance which takes place</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normal production operations is covered by this standard only if:</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 CFR 1910.147(a)(2)(ii)(A) An employee is required to remove or bypass a</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uard or other safety device; or</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 CFR 1910.147(a)(2)(ii)(B) An employee is required to place any part of his or</a:t>
            </a: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r body into an area on a machine or piece of equipment where work i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ctually performed upon the material being processed (point of operation) or</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ere an associated danger zone exists during a machine operating cycle.</a:t>
            </a:r>
            <a:endParaRPr b="0" lang="en-US" sz="1500" spc="-1" strike="noStrike">
              <a:solidFill>
                <a:srgbClr val="000000"/>
              </a:solidFill>
              <a:latin typeface="Calibri"/>
            </a:endParaRPr>
          </a:p>
        </p:txBody>
      </p:sp>
      <p:sp>
        <p:nvSpPr>
          <p:cNvPr id="118"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ed Industrial Vehicles</a:t>
            </a:r>
            <a:br>
              <a:rPr sz="4400"/>
            </a:br>
            <a:r>
              <a:rPr b="0" lang="en-US" sz="2400" spc="-1" strike="noStrike">
                <a:solidFill>
                  <a:srgbClr val="000000"/>
                </a:solidFill>
                <a:latin typeface="Calibri"/>
              </a:rPr>
              <a:t>29 CFR 1910.178</a:t>
            </a:r>
            <a:endParaRPr b="0" lang="en-US" sz="2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rained and authorized employees may operate powered industrial vehicle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ust be trained by a competent person</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1910.178(l)(2)(i)(A)(B) Trainees may operate a powered industrial truck only:</a:t>
            </a:r>
            <a:endParaRPr b="0" lang="en-US" sz="18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Under the direct supervision of persons who have the knowledge, training, and experience</a:t>
            </a:r>
            <a:endParaRPr b="0" lang="en-US" sz="15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 train operators and evaluate their competence; and</a:t>
            </a:r>
            <a:endParaRPr b="0" lang="en-US" sz="15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Where such operation does not endanger the trainee or other employees.</a:t>
            </a:r>
            <a:endParaRPr b="0" lang="en-US" sz="15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st be renewed/retrained every 3 years minimum</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st include an evaluation, both medical and hands on evaluation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1910.178(l)(4)(ii)(A)-(E) Refresher training in relevant topics shall be provided to the</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perator when:</a:t>
            </a:r>
            <a:endParaRPr b="0" lang="en-US" sz="18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The operator has been observed to operate the vehicle in an unsafe manner;</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 The operator has been involved in an accident or near-miss incident;</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 The operator has received an evaluation that reveals that the operator is not operating</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truck safely;</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 The operator is assigned to drive a different type of truck; or</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E) A condition in the workplace changes in a manner that could affect safe operation of the</a:t>
            </a:r>
            <a:endParaRPr b="0" lang="en-US" sz="1300" spc="-1" strike="noStrike">
              <a:solidFill>
                <a:srgbClr val="000000"/>
              </a:solidFill>
              <a:latin typeface="Calibri"/>
            </a:endParaRPr>
          </a:p>
          <a:p>
            <a:pPr lvl="2" marL="1131480" indent="-22608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ruck.</a:t>
            </a:r>
            <a:endParaRPr b="0" lang="en-US" sz="13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e sure to document all training and evaluations</a:t>
            </a:r>
            <a:endParaRPr b="0" lang="en-US" sz="1800" spc="-1" strike="noStrike">
              <a:solidFill>
                <a:srgbClr val="000000"/>
              </a:solidFill>
              <a:latin typeface="Calibri"/>
            </a:endParaRPr>
          </a:p>
        </p:txBody>
      </p:sp>
      <p:sp>
        <p:nvSpPr>
          <p:cNvPr id="121"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Picture 2" descr="Go to fullsize image">
            <a:hlinkClick r:id="rId1"/>
          </p:cNvPr>
          <p:cNvPicPr/>
          <p:nvPr/>
        </p:nvPicPr>
        <p:blipFill>
          <a:blip r:embed="rId2"/>
          <a:stretch/>
        </p:blipFill>
        <p:spPr>
          <a:xfrm>
            <a:off x="4038480" y="2666880"/>
            <a:ext cx="1095480" cy="8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ehouse potential hazards</a:t>
            </a:r>
            <a:endParaRPr b="0" lang="en-US" sz="4400" spc="-1" strike="noStrike">
              <a:solidFill>
                <a:srgbClr val="000000"/>
              </a:solidFill>
              <a:latin typeface="Calibri"/>
            </a:endParaRPr>
          </a:p>
        </p:txBody>
      </p:sp>
      <p:sp>
        <p:nvSpPr>
          <p:cNvPr id="48" name=""/>
          <p:cNvSpPr txBox="1"/>
          <p:nvPr/>
        </p:nvSpPr>
        <p:spPr>
          <a:xfrm>
            <a:off x="457200" y="1447920"/>
            <a:ext cx="8229600" cy="4525920"/>
          </a:xfrm>
          <a:prstGeom prst="rect">
            <a:avLst/>
          </a:prstGeom>
          <a:noFill/>
          <a:ln w="0">
            <a:noFill/>
          </a:ln>
        </p:spPr>
        <p:txBody>
          <a:bodyPr anchor="t">
            <a:normAutofit/>
          </a:bodyPr>
          <a:p>
            <a:pPr marL="341280" indent="-341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78"/>
                </a:solidFill>
                <a:latin typeface="Arial"/>
              </a:rPr>
              <a:t>For warehousing establishments, the 10 OSHA standards most frequently included in the agency’s citations wer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1. Forklift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2. Hazard communication</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3. Electrical, wiring method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4. Electrical, system design</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5. Guarding floor &amp; wall opening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and hole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6. Exit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7. Mechanical power transmission</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8. Respiratory protection</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9. Lockout/tagou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10. Portable fire extinguishers</a:t>
            </a:r>
            <a:endParaRPr b="0" lang="en-US" sz="2000" spc="-1" strike="noStrike">
              <a:solidFill>
                <a:srgbClr val="000000"/>
              </a:solidFill>
              <a:latin typeface="Calibri"/>
            </a:endParaRPr>
          </a:p>
        </p:txBody>
      </p:sp>
      <p:sp>
        <p:nvSpPr>
          <p:cNvPr id="49"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533520" y="106668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MPLOYEE HAZARD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Crush hazards/Pinch poin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Cutting Too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Housekeep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Improper Lift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edestrian Safe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PE us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erial Handl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lips, trips &amp; falls</a:t>
            </a:r>
            <a:endParaRPr b="0" lang="en-US" sz="3000" spc="-1" strike="noStrike">
              <a:solidFill>
                <a:srgbClr val="000000"/>
              </a:solidFill>
              <a:latin typeface="Calibri"/>
            </a:endParaRPr>
          </a:p>
        </p:txBody>
      </p:sp>
      <p:sp>
        <p:nvSpPr>
          <p:cNvPr id="125"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sh Hazards/Pinch Poin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ush Hazards and Pinch Points are not a hazard IF employees do not put their body parts in them.</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Train employees what the crush hazards and pinch points are related to their job.</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Keep machine guards in place to prevent body parts from entering th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achin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Machine guarding is one area strongly looked at by OSH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Teach employees not to wear any loose clothing or loose jewelry such a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necklaces or dangly earrings when working around machiner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Long hair can also be a hazard if it gets caught in a pinch point. Someon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lose their scalp. Long hair should be tied back or up to prevent th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azard.</a:t>
            </a:r>
            <a:endParaRPr b="0" lang="en-US" sz="1500" spc="-1" strike="noStrike">
              <a:solidFill>
                <a:srgbClr val="000000"/>
              </a:solidFill>
              <a:latin typeface="Calibri"/>
            </a:endParaRPr>
          </a:p>
        </p:txBody>
      </p:sp>
      <p:sp>
        <p:nvSpPr>
          <p:cNvPr id="128"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ting</a:t>
            </a:r>
            <a:r>
              <a:rPr b="1" lang="en-US" sz="4400" spc="-1" strike="noStrike">
                <a:solidFill>
                  <a:srgbClr val="000000"/>
                </a:solidFill>
                <a:latin typeface="Arial"/>
              </a:rPr>
              <a:t> Tool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 your employees the dangers of cutting tool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at improper use leads to injuri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ll blades cut people but not box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safety knives to help prevent injuri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cut resistant gloves if necessary</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the right tool for the job, don’t use a knife for a screwdriver</a:t>
            </a:r>
            <a:endParaRPr b="0" lang="en-US" sz="3200" spc="-1" strike="noStrike">
              <a:solidFill>
                <a:srgbClr val="000000"/>
              </a:solidFill>
              <a:latin typeface="Calibri"/>
            </a:endParaRPr>
          </a:p>
        </p:txBody>
      </p:sp>
      <p:sp>
        <p:nvSpPr>
          <p:cNvPr id="131"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keeping</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housekeeping is not an option, it is a regula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9 CFR 1910.22(a)(1) All places of employment, passageways, storerooms, and s</a:t>
            </a:r>
            <a:r>
              <a:rPr b="0" lang="en-US" sz="1800" spc="-1" strike="noStrike">
                <a:solidFill>
                  <a:srgbClr val="000000"/>
                </a:solidFill>
                <a:latin typeface="Arial"/>
              </a:rPr>
              <a:t>ervice rooms shall be kept clean and orderly and in a sanitary condi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9 CFR1910.22(a)(2) The floor of every workroom shall be maintained in a clean</a:t>
            </a:r>
            <a:r>
              <a:rPr b="0" lang="en-US" sz="1800" spc="-1" strike="noStrike">
                <a:solidFill>
                  <a:srgbClr val="000000"/>
                </a:solidFill>
                <a:latin typeface="Arial"/>
              </a:rPr>
              <a:t>and, so far as possible, a dry condition. Where wet processes are used, drainage shall be maintained, and false floors, platforms, mats, or other dry standing places should be provided where practic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910.22(b)(1) Where mechanical handling equipment is used, sufficient safe </a:t>
            </a:r>
            <a:r>
              <a:rPr b="0" lang="en-US" sz="1800" spc="-1" strike="noStrike">
                <a:solidFill>
                  <a:srgbClr val="000000"/>
                </a:solidFill>
                <a:latin typeface="Arial"/>
              </a:rPr>
              <a:t>clearance s shall be allowed for aisles, at loading docks, through doorways andwherever turns or passage must be made. Aisles and passageways shall be kept clear and in good repairs, with no obstruction across or in aisles that could create a hazard.</a:t>
            </a:r>
            <a:endParaRPr b="0" lang="en-US" sz="1800" spc="-1" strike="noStrike">
              <a:solidFill>
                <a:srgbClr val="000000"/>
              </a:solidFill>
              <a:latin typeface="Calibri"/>
            </a:endParaRPr>
          </a:p>
        </p:txBody>
      </p:sp>
      <p:sp>
        <p:nvSpPr>
          <p:cNvPr id="134"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per Lifting</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in your employees how to lift properly </a:t>
            </a:r>
            <a:r>
              <a:rPr b="1" lang="en-US" sz="2700" spc="-1" strike="noStrike">
                <a:solidFill>
                  <a:srgbClr val="000000"/>
                </a:solidFill>
                <a:latin typeface="Arial"/>
              </a:rPr>
              <a:t>and the dangers of a back </a:t>
            </a:r>
            <a:r>
              <a:rPr b="0" lang="en-US" sz="2700" spc="-1" strike="noStrike">
                <a:solidFill>
                  <a:srgbClr val="000000"/>
                </a:solidFill>
                <a:latin typeface="Arial"/>
              </a:rPr>
              <a:t>injury if they lift improperl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Lift with your legs and not your back</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Keep it close and keep the curves in your back</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Move your feet when turnin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When you can, build a bridge to pick something up to support your back</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Use your free hand or your legs to support yourself</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Check the ergonomics of the job task. Ask yourself, can it be done differently?</a:t>
            </a:r>
            <a:endParaRPr b="0" lang="en-US" sz="2700" spc="-1" strike="noStrike">
              <a:solidFill>
                <a:srgbClr val="000000"/>
              </a:solidFill>
              <a:latin typeface="Calibri"/>
            </a:endParaRPr>
          </a:p>
        </p:txBody>
      </p:sp>
      <p:sp>
        <p:nvSpPr>
          <p:cNvPr id="137"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destrian Safety</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should have clearly designated areas for employees to wal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edestrians need to be aware of their surrounding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Employees on foot or on a Powered Industrial Vehicle (PIV) should not use a cell phone while traveling through your facility. Develop a cell phone polic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ll visitors should be shown where pedestrians should walk or b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scorted by an employe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ll PIV operators should yield right-of-way to pedestria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Teach all PIV operators to use their horns at blind intersections an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time they are near pedestrians. The PIV operators should no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ssume the pedestrians can see them and the pedestrians should not assume PIV operators can see them either.</a:t>
            </a:r>
            <a:endParaRPr b="0" lang="en-US" sz="1500" spc="-1" strike="noStrike">
              <a:solidFill>
                <a:srgbClr val="000000"/>
              </a:solidFill>
              <a:latin typeface="Calibri"/>
            </a:endParaRPr>
          </a:p>
        </p:txBody>
      </p:sp>
      <p:sp>
        <p:nvSpPr>
          <p:cNvPr id="140"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PE Use</a:t>
            </a:r>
            <a:endParaRPr b="0" lang="en-US" sz="4400" spc="-1" strike="noStrike">
              <a:solidFill>
                <a:srgbClr val="000000"/>
              </a:solidFill>
              <a:latin typeface="Calibri"/>
            </a:endParaRPr>
          </a:p>
        </p:txBody>
      </p:sp>
      <p:sp>
        <p:nvSpPr>
          <p:cNvPr id="142" name=""/>
          <p:cNvSpPr txBox="1"/>
          <p:nvPr/>
        </p:nvSpPr>
        <p:spPr>
          <a:xfrm>
            <a:off x="457200" y="11430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SHA has issued its final rule on employer payment for Personal ProtectiveEquipment (PPE). Under the new rule, all required PPE, with a few exceptions, must be provided at no cost to the employe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This requirement addresses PPE of many kinds such as hard hats, gloves,goggles, safety shoes, safety glasses, welding helmets and goggles, faceshields,chemical protective equipment, fall protection equipment, and so fort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The new rule went into effect on Feb. 13, 2008, and employers must implement its provisions by May 15, 20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e sure to do a Job Safety Analysis (JSA) on all jobs in your facility to determine the proper PPE for that job. The job may not need any PP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When some sort of PPE is required, train your employees how to use it properly and make sure they do.</a:t>
            </a:r>
            <a:endParaRPr b="0" lang="en-US" sz="2200" spc="-1" strike="noStrike">
              <a:solidFill>
                <a:srgbClr val="000000"/>
              </a:solidFill>
              <a:latin typeface="Calibri"/>
            </a:endParaRPr>
          </a:p>
        </p:txBody>
      </p:sp>
      <p:sp>
        <p:nvSpPr>
          <p:cNvPr id="143"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pic>
        <p:nvPicPr>
          <p:cNvPr id="144" name="Picture 2" descr="Go to fullsize image"/>
          <p:cNvPicPr/>
          <p:nvPr/>
        </p:nvPicPr>
        <p:blipFill>
          <a:blip r:embed="rId1"/>
          <a:stretch/>
        </p:blipFill>
        <p:spPr>
          <a:xfrm>
            <a:off x="6934320" y="5638680"/>
            <a:ext cx="1095120" cy="84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Handling</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sure material handling equipment is in good working conditio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rain employees how to use equipment properl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ake sure any straps, slings &amp; hooks are visually inspected monthl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Overhead cranes should be visually inspected monthl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Overhead cranes should be on a Preventative Maintenance schedu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Document annual inspections on straps, slings, hooks &amp; overhead cran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ull any damaged material handling equipment out of service until repaired ore replaced</a:t>
            </a:r>
            <a:endParaRPr b="0" lang="en-US" sz="2500" spc="-1" strike="noStrike">
              <a:solidFill>
                <a:srgbClr val="000000"/>
              </a:solidFill>
              <a:latin typeface="Calibri"/>
            </a:endParaRPr>
          </a:p>
        </p:txBody>
      </p:sp>
      <p:sp>
        <p:nvSpPr>
          <p:cNvPr id="147"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ps, Trips &amp; Fall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eep walking/working surfaces clear of all debri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Keep them dry as much as possibl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Watch out for trip hazards in the warehouse and offic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Trip hazards include such things as extension cords, throw rugs, door mats, loose steps, open desk or file cabinet drawers, skids, parts, boxes and all other packing materials just to name a few</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Wet spills are probably the biggest slip hazard, teach employees to clean them up as soon as they come across a spill.</a:t>
            </a:r>
            <a:endParaRPr b="0" lang="en-US" sz="2700" spc="-1" strike="noStrike">
              <a:solidFill>
                <a:srgbClr val="000000"/>
              </a:solidFill>
              <a:latin typeface="Calibri"/>
            </a:endParaRPr>
          </a:p>
        </p:txBody>
      </p:sp>
      <p:sp>
        <p:nvSpPr>
          <p:cNvPr id="150"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ams that may be needed in a warehouse</a:t>
            </a:r>
            <a:endParaRPr b="0" lang="en-US" sz="4000" spc="-1" strike="noStrike">
              <a:solidFill>
                <a:srgbClr val="000000"/>
              </a:solidFill>
              <a:latin typeface="Calibri"/>
            </a:endParaRPr>
          </a:p>
        </p:txBody>
      </p:sp>
      <p:sp>
        <p:nvSpPr>
          <p:cNvPr id="152"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ergency Action Plan – 29CFR 1910.38</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Hazard Communication Program (HazCom) – 29 CFR 1910.1200</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HAZWOPER - 29CFR 1910.120</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Permit Required Confined Space – 29 CFR 1910.146</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r>
              <a:rPr b="0" lang="fr-FR" sz="2500" spc="-1" strike="noStrike">
                <a:solidFill>
                  <a:srgbClr val="000000"/>
                </a:solidFill>
                <a:latin typeface="Arial"/>
              </a:rPr>
              <a:t>	</a:t>
            </a:r>
            <a:r>
              <a:rPr b="1" lang="fr-FR" sz="2500" spc="-1" strike="noStrike">
                <a:solidFill>
                  <a:srgbClr val="000000"/>
                </a:solidFill>
                <a:latin typeface="Arial"/>
              </a:rPr>
              <a:t>Occupational Noise Exposure – 29 CFR 1910.9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Occupational Exposure to Bloodborne Pathogens – Multiple standard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Personal fall protection. 29CFR 1910.66(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0000"/>
                </a:solidFill>
                <a:latin typeface="Arial"/>
              </a:rPr>
              <a:t>Safety &amp; Health Program</a:t>
            </a:r>
            <a:endParaRPr b="0" lang="en-US" sz="2500" spc="-1" strike="noStrike">
              <a:solidFill>
                <a:srgbClr val="000000"/>
              </a:solidFill>
              <a:latin typeface="Calibri"/>
            </a:endParaRPr>
          </a:p>
        </p:txBody>
      </p:sp>
      <p:sp>
        <p:nvSpPr>
          <p:cNvPr id="153"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ehouse potential hazard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cks</a:t>
            </a:r>
            <a:r>
              <a:rPr b="0" lang="en-US" sz="1600" spc="-1" strike="noStrike">
                <a:solidFill>
                  <a:srgbClr val="000000"/>
                </a:solidFill>
                <a:latin typeface="Calibri"/>
              </a:rPr>
              <a:t>: Injuries happen here when forklifts run off the dock, products fall on employees or equipment strikes a person.</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rklifts</a:t>
            </a:r>
            <a:r>
              <a:rPr b="0" lang="en-US" sz="1600" spc="-1" strike="noStrike">
                <a:solidFill>
                  <a:srgbClr val="000000"/>
                </a:solidFill>
                <a:latin typeface="Calibri"/>
              </a:rPr>
              <a:t>: About 100 employees are killed and 95,000 injured every year while operating forklifts in all industries. Forklift turnovers account for a significant percentage of these fatalities.</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veyors</a:t>
            </a:r>
            <a:r>
              <a:rPr b="0" lang="en-US" sz="1600" spc="-1" strike="noStrike">
                <a:solidFill>
                  <a:srgbClr val="000000"/>
                </a:solidFill>
                <a:latin typeface="Calibri"/>
              </a:rPr>
              <a:t>: Workers can be injured when they are caught in pinch points or in the in-going nip points, are hit by falling products or develop musculoskeletal disorders associated with awkward postures or repetitive motions.</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nual Lifting/Handling</a:t>
            </a:r>
            <a:r>
              <a:rPr b="0" lang="en-US" sz="1600" spc="-1" strike="noStrike">
                <a:solidFill>
                  <a:srgbClr val="000000"/>
                </a:solidFill>
                <a:latin typeface="Calibri"/>
              </a:rPr>
              <a:t>:  Back injuries may occur from improper lifting or overexertion.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azard Communication</a:t>
            </a:r>
            <a:r>
              <a:rPr b="0" lang="en-US" sz="1600" spc="-1" strike="noStrike">
                <a:solidFill>
                  <a:srgbClr val="000000"/>
                </a:solidFill>
                <a:latin typeface="Calibri"/>
              </a:rPr>
              <a:t>: Chemical burns are possible if spills of hazardous materials occur.</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arging Stations</a:t>
            </a:r>
            <a:r>
              <a:rPr b="0" lang="en-US" sz="1600" spc="-1" strike="noStrike">
                <a:solidFill>
                  <a:srgbClr val="000000"/>
                </a:solidFill>
                <a:latin typeface="Calibri"/>
              </a:rPr>
              <a:t>: Fires and explosion risks are possible unless proper guidelines are followed.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or Ergonomics</a:t>
            </a:r>
            <a:r>
              <a:rPr b="0" lang="en-US" sz="1600" spc="-1" strike="noStrike">
                <a:solidFill>
                  <a:srgbClr val="000000"/>
                </a:solidFill>
                <a:latin typeface="Calibri"/>
              </a:rPr>
              <a:t>:  Improper lifting, repetitive motion or poor design of operations can lead to musculoskeletal disorders in workers.</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ther hazards</a:t>
            </a:r>
            <a:r>
              <a:rPr b="0" lang="en-US" sz="1600" spc="-1" strike="noStrike">
                <a:solidFill>
                  <a:srgbClr val="000000"/>
                </a:solidFill>
                <a:latin typeface="Calibri"/>
              </a:rPr>
              <a:t>:  Inadequate fire safety provisions, improper use of lockout procedures and failure to wear personal protective equipment also create hazards in the warehouse workplace.</a:t>
            </a:r>
            <a:endParaRPr b="0" lang="en-US" sz="1600" spc="-1" strike="noStrike">
              <a:solidFill>
                <a:srgbClr val="000000"/>
              </a:solidFill>
              <a:latin typeface="Calibri"/>
            </a:endParaRPr>
          </a:p>
        </p:txBody>
      </p:sp>
      <p:sp>
        <p:nvSpPr>
          <p:cNvPr id="52"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cy Action Plan</a:t>
            </a:r>
            <a:br>
              <a:rPr sz="4400"/>
            </a:br>
            <a:r>
              <a:rPr b="0" lang="en-US" sz="2400" spc="-1" strike="noStrike">
                <a:solidFill>
                  <a:srgbClr val="000000"/>
                </a:solidFill>
                <a:latin typeface="Arial"/>
              </a:rPr>
              <a:t>29 CFR 1910.38</a:t>
            </a:r>
            <a:endParaRPr b="0" lang="en-US" sz="2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a:t>
            </a:r>
            <a:r>
              <a:rPr b="1" lang="en-US" sz="1500" spc="-1" strike="noStrike">
                <a:solidFill>
                  <a:srgbClr val="000000"/>
                </a:solidFill>
                <a:latin typeface="Arial"/>
              </a:rPr>
              <a:t>Emergency Action Plan should address emergencies that the employer may</a:t>
            </a:r>
            <a:r>
              <a:rPr b="0" lang="en-US" sz="1500" spc="-1" strike="noStrike">
                <a:solidFill>
                  <a:srgbClr val="000000"/>
                </a:solidFill>
                <a:latin typeface="Arial"/>
              </a:rPr>
              <a:t>reasonably expect in the workplace. Examples are: fire; toxic chemical releases; tornadoes;blizzards; floods; and others.</a:t>
            </a: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Emergency Evacuation - At the time of an emergency, employees should know what type</a:t>
            </a:r>
            <a:r>
              <a:rPr b="0" lang="en-US" sz="1500" spc="-1" strike="noStrike">
                <a:solidFill>
                  <a:srgbClr val="000000"/>
                </a:solidFill>
                <a:latin typeface="Arial"/>
              </a:rPr>
              <a:t>of evacuation is necessary and what their role is in carrying out the plan. In some caseswhere the emergency is very grave, total and immediate evacuation of all employees isnecessary. The use of floor plans or workplace maps which clearly show the emergencyescape routes should be included in the emergency action plan. Color coding will aidemployees in determining their route assignments.</a:t>
            </a: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Emergency Action Plan training - The employer should assure that an adequate number</a:t>
            </a:r>
            <a:r>
              <a:rPr b="0" lang="en-US" sz="1500" spc="-1" strike="noStrike">
                <a:solidFill>
                  <a:srgbClr val="000000"/>
                </a:solidFill>
                <a:latin typeface="Arial"/>
              </a:rPr>
              <a:t>of employees are available at all times during working hours to act as evacuation wardensso that employees can be swiftly moved from the danger location to the safe areas.Generally, one warden for each twenty employees in the workplace should be able toprovide adequate guidance and instruction at the time of a fire emergency.</a:t>
            </a: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Fire Prevention Housekeeping - The standard calls for the control of accumulations of </a:t>
            </a:r>
            <a:r>
              <a:rPr b="0" lang="en-US" sz="1500" spc="-1" strike="noStrike">
                <a:solidFill>
                  <a:srgbClr val="000000"/>
                </a:solidFill>
                <a:latin typeface="Arial"/>
              </a:rPr>
              <a:t>flammable and combustible waste materials.</a:t>
            </a: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Maintenance of equipment under the fire prevention plan - Certain equipment is often </a:t>
            </a:r>
            <a:r>
              <a:rPr b="0" lang="en-US" sz="1500" spc="-1" strike="noStrike">
                <a:solidFill>
                  <a:srgbClr val="000000"/>
                </a:solidFill>
                <a:latin typeface="Arial"/>
              </a:rPr>
              <a:t>	</a:t>
            </a:r>
            <a:r>
              <a:rPr b="0" lang="en-US" sz="1500" spc="-1" strike="noStrike">
                <a:solidFill>
                  <a:srgbClr val="000000"/>
                </a:solidFill>
                <a:latin typeface="Arial"/>
              </a:rPr>
              <a:t>installed in workplaces to control heat sources or to detect fuel leaks. An example is a temperature limit switch often found on deep-fat food fryers found in restaurants.</a:t>
            </a:r>
            <a:endParaRPr b="0" lang="en-US" sz="1500" spc="-1" strike="noStrike">
              <a:solidFill>
                <a:srgbClr val="000000"/>
              </a:solidFill>
              <a:latin typeface="Calibri"/>
            </a:endParaRPr>
          </a:p>
        </p:txBody>
      </p:sp>
      <p:sp>
        <p:nvSpPr>
          <p:cNvPr id="156"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609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Noise Exposure</a:t>
            </a:r>
            <a:br>
              <a:rPr sz="4000"/>
            </a:br>
            <a:r>
              <a:rPr b="0" lang="en-US" sz="2200" spc="-1" strike="noStrike">
                <a:solidFill>
                  <a:srgbClr val="000000"/>
                </a:solidFill>
                <a:latin typeface="Arial"/>
              </a:rPr>
              <a:t>29 CFR 1910.95</a:t>
            </a:r>
            <a:endParaRPr b="0" lang="en-US" sz="2200" spc="-1" strike="noStrike">
              <a:solidFill>
                <a:srgbClr val="000000"/>
              </a:solidFill>
              <a:latin typeface="Calibri"/>
            </a:endParaRPr>
          </a:p>
        </p:txBody>
      </p:sp>
      <p:sp>
        <p:nvSpPr>
          <p:cNvPr id="158" name=""/>
          <p:cNvSpPr txBox="1"/>
          <p:nvPr/>
        </p:nvSpPr>
        <p:spPr>
          <a:xfrm>
            <a:off x="380880" y="1828440"/>
            <a:ext cx="8229600" cy="4267080"/>
          </a:xfrm>
          <a:prstGeom prst="rect">
            <a:avLst/>
          </a:prstGeom>
          <a:noFill/>
          <a:ln w="0">
            <a:noFill/>
          </a:ln>
        </p:spPr>
        <p:txBody>
          <a:bodyPr anchor="t">
            <a:normAutofit/>
          </a:bodyPr>
          <a:p>
            <a:pPr marL="341280" indent="-341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ot every workplace will need this type of program. Only if your employees are  exposed to an 8-hour time-weighted average of 85 decibels or greater</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you are found to have an 8-hour time-weighted average of 85 decibels or more then you must develop a Hearing Conservation program - </a:t>
            </a:r>
            <a:r>
              <a:rPr b="1" lang="en-US" sz="2000" spc="-1" strike="noStrike">
                <a:solidFill>
                  <a:srgbClr val="000000"/>
                </a:solidFill>
                <a:latin typeface="Arial"/>
              </a:rPr>
              <a:t>1910.95(c)</a:t>
            </a:r>
            <a:endParaRPr b="0" lang="en-US" sz="2000" spc="-1" strike="noStrike">
              <a:solidFill>
                <a:srgbClr val="000000"/>
              </a:solidFill>
              <a:latin typeface="Calibri"/>
            </a:endParaRPr>
          </a:p>
          <a:p>
            <a:pPr marL="341280" indent="-341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Hearing Conservation Program must includ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onitoring program - </a:t>
            </a:r>
            <a:r>
              <a:rPr b="1" lang="en-US" sz="2000" spc="-1" strike="noStrike">
                <a:solidFill>
                  <a:srgbClr val="000000"/>
                </a:solidFill>
                <a:latin typeface="Arial"/>
              </a:rPr>
              <a:t>1910.95(d)</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Audiometric testing program - </a:t>
            </a:r>
            <a:r>
              <a:rPr b="1" lang="en-US" sz="2000" spc="-1" strike="noStrike">
                <a:solidFill>
                  <a:srgbClr val="000000"/>
                </a:solidFill>
                <a:latin typeface="Arial"/>
              </a:rPr>
              <a:t>1910.95(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seline audiogram - </a:t>
            </a:r>
            <a:r>
              <a:rPr b="1" lang="en-US" sz="2000" spc="-1" strike="noStrike">
                <a:solidFill>
                  <a:srgbClr val="000000"/>
                </a:solidFill>
                <a:latin typeface="Arial"/>
              </a:rPr>
              <a:t>1910.95(g)(5)</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sting to establish a baseline audiogram shall be preceded by at least 14 hours without exposure to workplace noise. Hearing protectors may be used as a substitute for the requirement that baseline audiograms be preceded by 14 hours without exposure to workplace noise - </a:t>
            </a:r>
            <a:r>
              <a:rPr b="1" lang="en-US" sz="2000" spc="-1" strike="noStrike">
                <a:solidFill>
                  <a:srgbClr val="000000"/>
                </a:solidFill>
                <a:latin typeface="Arial"/>
              </a:rPr>
              <a:t>1910.95(g)(5)(iii)</a:t>
            </a:r>
            <a:endParaRPr b="0" lang="en-US" sz="2000" spc="-1" strike="noStrike">
              <a:solidFill>
                <a:srgbClr val="000000"/>
              </a:solidFill>
              <a:latin typeface="Calibri"/>
            </a:endParaRPr>
          </a:p>
        </p:txBody>
      </p:sp>
      <p:sp>
        <p:nvSpPr>
          <p:cNvPr id="159" name="TextBox 3"/>
          <p:cNvSpPr/>
          <p:nvPr/>
        </p:nvSpPr>
        <p:spPr>
          <a:xfrm>
            <a:off x="3733920" y="61722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pic>
        <p:nvPicPr>
          <p:cNvPr id="160" name="Picture 2" descr="Go to fullsize image"/>
          <p:cNvPicPr/>
          <p:nvPr/>
        </p:nvPicPr>
        <p:blipFill>
          <a:blip r:embed="rId1"/>
          <a:stretch/>
        </p:blipFill>
        <p:spPr>
          <a:xfrm>
            <a:off x="6400800" y="380880"/>
            <a:ext cx="1190520" cy="88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l Noise Exposure</a:t>
            </a:r>
            <a:br>
              <a:rPr sz="4400"/>
            </a:br>
            <a:r>
              <a:rPr b="0" lang="en-US" sz="2400" spc="-1" strike="noStrike">
                <a:solidFill>
                  <a:srgbClr val="000000"/>
                </a:solidFill>
                <a:latin typeface="Arial"/>
              </a:rPr>
              <a:t>29 CFR 1910.95</a:t>
            </a:r>
            <a:endParaRPr b="0" lang="en-US" sz="2400" spc="-1" strike="noStrike">
              <a:solidFill>
                <a:srgbClr val="000000"/>
              </a:solidFill>
              <a:latin typeface="Calibri"/>
            </a:endParaRPr>
          </a:p>
        </p:txBody>
      </p:sp>
      <p:sp>
        <p:nvSpPr>
          <p:cNvPr id="162" name=""/>
          <p:cNvSpPr txBox="1"/>
          <p:nvPr/>
        </p:nvSpPr>
        <p:spPr>
          <a:xfrm>
            <a:off x="456840" y="1600200"/>
            <a:ext cx="8381880" cy="4525920"/>
          </a:xfrm>
          <a:prstGeom prst="rect">
            <a:avLst/>
          </a:prstGeom>
          <a:noFill/>
          <a:ln w="0">
            <a:noFill/>
          </a:ln>
        </p:spPr>
        <p:txBody>
          <a:bodyPr anchor="t">
            <a:normAutofit/>
          </a:bodyPr>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ach employee's annual audiogram shall be compared to that employee's baseline audiogram to determine if the audiogram is valid and if a standard threshold shift as defined in paragraph (g)(10) of this section has occurred. This comparison may be done by a technician - </a:t>
            </a:r>
            <a:r>
              <a:rPr b="1" lang="en-US" sz="1500" spc="-1" strike="noStrike">
                <a:solidFill>
                  <a:srgbClr val="000000"/>
                </a:solidFill>
                <a:latin typeface="Arial"/>
              </a:rPr>
              <a:t>1910.95(g)(7)(i)</a:t>
            </a: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he audiologist, otolaryngologist, or physician shall review problem audiograms and shall determine whether there is a need for further evaluation - </a:t>
            </a:r>
            <a:r>
              <a:rPr b="1" lang="en-US" sz="1500" spc="-1" strike="noStrike">
                <a:solidFill>
                  <a:srgbClr val="000000"/>
                </a:solidFill>
                <a:latin typeface="Arial"/>
              </a:rPr>
              <a:t>1910.95(g)(7)(iii)</a:t>
            </a: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f you have a standard threshold shift of 10dB or more that is determined to be work related it must go on your OSHA 300 log - </a:t>
            </a:r>
            <a:r>
              <a:rPr b="1" lang="en-US" sz="1500" spc="-1" strike="noStrike">
                <a:solidFill>
                  <a:srgbClr val="000000"/>
                </a:solidFill>
                <a:latin typeface="Arial"/>
              </a:rPr>
              <a:t>1904.10(a)–(b)(1)</a:t>
            </a: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 standard threshold shift is a change in hearing threshold relative to the baseline audiogram of an average of 10 dB or more at 2000, 3000, and 4000 Hz in either ear. - </a:t>
            </a:r>
            <a:r>
              <a:rPr b="1" lang="en-US" sz="1500" spc="-1" strike="noStrike">
                <a:solidFill>
                  <a:srgbClr val="000000"/>
                </a:solidFill>
                <a:latin typeface="Arial"/>
              </a:rPr>
              <a:t>1910.95(g)(10)</a:t>
            </a: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here is a list of follow up procedures provided under - </a:t>
            </a:r>
            <a:r>
              <a:rPr b="1" lang="en-US" sz="1500" spc="-1" strike="noStrike">
                <a:solidFill>
                  <a:srgbClr val="000000"/>
                </a:solidFill>
                <a:latin typeface="Arial"/>
              </a:rPr>
              <a:t>1910.95(g)(8)</a:t>
            </a: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1280" indent="-3412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ne important procedure is that employers shall ensure that hearing protectors are worn by any employee who is exposed to an 8-hour time-weighted average of 85 decibels or greater, and who:</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s not yet had a baseline audiogram established or</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s experienced a standard threshold shift.</a:t>
            </a:r>
            <a:endParaRPr b="0" lang="en-US" sz="1300" spc="-1" strike="noStrike">
              <a:solidFill>
                <a:srgbClr val="000000"/>
              </a:solidFill>
              <a:latin typeface="Calibri"/>
            </a:endParaRPr>
          </a:p>
        </p:txBody>
      </p:sp>
      <p:sp>
        <p:nvSpPr>
          <p:cNvPr id="163"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Protection Program</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on working platforms shall be protected by a personal fall arres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meeting the requirements of appendix C, Section I, of this standard, and as otherwise provided by this standard - </a:t>
            </a:r>
            <a:r>
              <a:rPr b="1" lang="en-US" sz="1800" spc="-1" strike="noStrike">
                <a:solidFill>
                  <a:srgbClr val="000000"/>
                </a:solidFill>
                <a:latin typeface="Arial"/>
              </a:rPr>
              <a:t>29CFR 1910.66(j)</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pendix C gives all definitions and pertinent information for a personal fall arrest system </a:t>
            </a:r>
            <a:r>
              <a:rPr b="1" lang="en-US" sz="1800" spc="-1" strike="noStrike">
                <a:solidFill>
                  <a:srgbClr val="000000"/>
                </a:solidFill>
                <a:latin typeface="Arial"/>
              </a:rPr>
              <a:t>1910.66 App C</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General Industry a body belt is permitted. However, a full body harness is much safer than a body belt. It is also a lot less strain on the body during a fa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ndard weight limit on lanyards and harnesses is 310lb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 do Powered Industrial Vehicle operator physical evaluations, check their height and weight. If they are 300lbs or more, consider getting higher weight rated fall protec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chor points to which personal fall arrest equipment is attached shall be capable of supporting at least 5,000 pounds per employee attached</a:t>
            </a:r>
            <a:endParaRPr b="0" lang="en-US" sz="1800" spc="-1" strike="noStrike">
              <a:solidFill>
                <a:srgbClr val="000000"/>
              </a:solidFill>
              <a:latin typeface="Calibri"/>
            </a:endParaRPr>
          </a:p>
        </p:txBody>
      </p:sp>
      <p:sp>
        <p:nvSpPr>
          <p:cNvPr id="166" name="TextBox 3"/>
          <p:cNvSpPr/>
          <p:nvPr/>
        </p:nvSpPr>
        <p:spPr>
          <a:xfrm>
            <a:off x="3733920" y="60958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ty &amp; Health Program</a:t>
            </a:r>
            <a:endParaRPr b="0" lang="en-US" sz="4400" spc="-1" strike="noStrike">
              <a:solidFill>
                <a:srgbClr val="000000"/>
              </a:solidFill>
              <a:latin typeface="Calibri"/>
            </a:endParaRPr>
          </a:p>
        </p:txBody>
      </p:sp>
      <p:graphicFrame>
        <p:nvGraphicFramePr>
          <p:cNvPr id="168" name=""/>
          <p:cNvGraphicFramePr/>
          <p:nvPr/>
        </p:nvGraphicFramePr>
        <p:xfrm>
          <a:off x="228600" y="1295280"/>
          <a:ext cx="8534520" cy="4754520"/>
        </p:xfrm>
        <a:graphic>
          <a:graphicData uri="http://schemas.openxmlformats.org/drawingml/2006/table">
            <a:tbl>
              <a:tblPr/>
              <a:tblGrid>
                <a:gridCol w="4267080"/>
                <a:gridCol w="4267440"/>
              </a:tblGrid>
              <a:tr h="47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e benefits of a strong Safety &amp; Health Program includ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Reducing the pain and suffering associated with workplace injuries, illnesses and acci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 very positive impact on the bottom l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Lower workers’ compensation cos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Increased productiv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Increased employee moral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Lower absenteeism</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Lower employee turno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e elements of a strong Safety &amp; Health program could 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 Wellness program including such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Weight loss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Smoking Ces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Exercise &amp; fitness on 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Health clu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afety Committee who’s duties may 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Safety Aud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Behavioral Aud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ccident Investig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evelop an incentive program or a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ased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69" name="TextBox 4"/>
          <p:cNvSpPr/>
          <p:nvPr/>
        </p:nvSpPr>
        <p:spPr>
          <a:xfrm>
            <a:off x="3581280" y="62485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Image Preview"/>
          <p:cNvPicPr/>
          <p:nvPr/>
        </p:nvPicPr>
        <p:blipFill>
          <a:blip r:embed="rId1"/>
          <a:stretch/>
        </p:blipFill>
        <p:spPr>
          <a:xfrm>
            <a:off x="762120" y="838080"/>
            <a:ext cx="7478640" cy="4038840"/>
          </a:xfrm>
          <a:prstGeom prst="rect">
            <a:avLst/>
          </a:prstGeom>
          <a:ln w="0">
            <a:noFill/>
          </a:ln>
        </p:spPr>
      </p:pic>
      <p:sp>
        <p:nvSpPr>
          <p:cNvPr id="54" name="TextBox 4"/>
          <p:cNvSpPr/>
          <p:nvPr/>
        </p:nvSpPr>
        <p:spPr>
          <a:xfrm>
            <a:off x="3505320" y="56386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Image Preview"/>
          <p:cNvPicPr/>
          <p:nvPr/>
        </p:nvPicPr>
        <p:blipFill>
          <a:blip r:embed="rId1"/>
          <a:stretch/>
        </p:blipFill>
        <p:spPr>
          <a:xfrm>
            <a:off x="1600200" y="990720"/>
            <a:ext cx="5573880" cy="4190760"/>
          </a:xfrm>
          <a:prstGeom prst="rect">
            <a:avLst/>
          </a:prstGeom>
          <a:ln w="0">
            <a:noFill/>
          </a:ln>
        </p:spPr>
      </p:pic>
      <p:sp>
        <p:nvSpPr>
          <p:cNvPr id="56" name="TextBox 4"/>
          <p:cNvSpPr/>
          <p:nvPr/>
        </p:nvSpPr>
        <p:spPr>
          <a:xfrm>
            <a:off x="3429000" y="57150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Saf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Truck Departure</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 descr=""/>
          <p:cNvPicPr/>
          <p:nvPr/>
        </p:nvPicPr>
        <p:blipFill>
          <a:blip r:embed="rId1"/>
          <a:stretch/>
        </p:blipFill>
        <p:spPr>
          <a:xfrm>
            <a:off x="2362320" y="1295280"/>
            <a:ext cx="4343400" cy="39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ler Pop-Ups</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angers of uneven weight distribution.</a:t>
            </a:r>
            <a:endParaRPr b="0" lang="en-US" sz="3200" spc="-1" strike="noStrike">
              <a:solidFill>
                <a:srgbClr val="000000"/>
              </a:solidFill>
              <a:latin typeface="Calibri"/>
            </a:endParaRPr>
          </a:p>
        </p:txBody>
      </p:sp>
      <p:pic>
        <p:nvPicPr>
          <p:cNvPr id="62" name="" descr=""/>
          <p:cNvPicPr/>
          <p:nvPr/>
        </p:nvPicPr>
        <p:blipFill>
          <a:blip r:embed="rId1"/>
          <a:stretch/>
        </p:blipFill>
        <p:spPr>
          <a:xfrm>
            <a:off x="4800600" y="3505320"/>
            <a:ext cx="3191040" cy="1760400"/>
          </a:xfrm>
          <a:prstGeom prst="rect">
            <a:avLst/>
          </a:prstGeom>
          <a:ln w="0">
            <a:noFill/>
          </a:ln>
        </p:spPr>
      </p:pic>
      <p:graphicFrame>
        <p:nvGraphicFramePr>
          <p:cNvPr id="63" name=""/>
          <p:cNvGraphicFramePr/>
          <p:nvPr/>
        </p:nvGraphicFramePr>
        <p:xfrm>
          <a:off x="1371600" y="2590920"/>
          <a:ext cx="6564240" cy="517320"/>
        </p:xfrm>
        <a:graphic>
          <a:graphicData uri="http://schemas.openxmlformats.org/drawingml/2006/table">
            <a:tbl>
              <a:tblPr/>
              <a:tblGrid>
                <a:gridCol w="3152880"/>
                <a:gridCol w="258480"/>
                <a:gridCol w="315288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4" name="" descr=""/>
          <p:cNvPicPr/>
          <p:nvPr/>
        </p:nvPicPr>
        <p:blipFill>
          <a:blip r:embed="rId2"/>
          <a:stretch/>
        </p:blipFill>
        <p:spPr>
          <a:xfrm>
            <a:off x="3308400" y="120600"/>
            <a:ext cx="9360" cy="9720"/>
          </a:xfrm>
          <a:prstGeom prst="rect">
            <a:avLst/>
          </a:prstGeom>
          <a:ln w="0">
            <a:noFill/>
          </a:ln>
        </p:spPr>
      </p:pic>
      <p:pic>
        <p:nvPicPr>
          <p:cNvPr id="65" name="" descr=""/>
          <p:cNvPicPr/>
          <p:nvPr/>
        </p:nvPicPr>
        <p:blipFill>
          <a:blip r:embed="rId3"/>
          <a:stretch/>
        </p:blipFill>
        <p:spPr>
          <a:xfrm>
            <a:off x="838080" y="3429000"/>
            <a:ext cx="3391200" cy="18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lted Trailer</a:t>
            </a: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209680" y="1676520"/>
            <a:ext cx="4724640" cy="42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6:47Z</dcterms:created>
  <dc:creator>Erika Bowles</dc:creator>
  <dc:description/>
  <dc:language>en-US</dc:language>
  <cp:lastModifiedBy>Gary Olson</cp:lastModifiedBy>
  <dcterms:modified xsi:type="dcterms:W3CDTF">2010-03-03T00:46:13Z</dcterms:modified>
  <cp:revision>35</cp:revision>
  <dc:subject/>
  <dc:title>Slide 1</dc:title>
</cp:coreProperties>
</file>