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D1F5-BC99-4E53-83F0-DA5264511E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vity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 of the output of a resource to the inputs required to achieve that outp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y warehouse ass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or, space, material handling systems, warehouse management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y outpu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s, orders, lines, weightOutputInputUnitsHourCasesSquare F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B97F-AA8A-41FF-9549-BFBC683209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Quantitative Assessment of Some Aspect of Perform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47B9-9702-41DE-8520-6EA7CB1B4E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D832-9E48-40C4-97DB-2D5DE3A4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B480-A983-4B0F-844D-A9DD3B6C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8260-F6E0-4F66-B90A-1CEC22DF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7F10-AB1D-4659-AE7E-E109CFEC3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4A0C-2DC9-4FD0-9AB9-53F2DD63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440A-FFC9-4252-B9A4-B6A0C097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39BA-BFFA-45C3-BB7F-A6F58272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7DD1-B2D4-4EA2-8C88-710F95FF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62F4-C1E9-46F7-A4BB-1F99EEC9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1EEC-2984-43AE-85F2-E4416190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F591-BDDB-4BB0-8DF4-B9FBD71B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C78E-290F-49AF-88AA-924EA53F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154F-82D0-4002-93ED-FCDCA9A5A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rehouse Efficiency 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arehouse and Inventory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OG 1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tical Performance Meas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Financi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rack cost for each warehouse a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Productiv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atio of output (units, orders, lines weight) of a resource to the inputs (labor, space, material handling systems, WMS) required to achieve that outpu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Qualit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utaway accura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ventory accura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icking accura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hipping accura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Cycle Tim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ock-to-stock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arehouse order cycle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es the warehousing industry compare overall with “Best of Class”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240" y="15998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 2006 “Benchmarking Warehouse Performance Study” by the GaTech School of Industrial and Systems Engineering,  390 warehouses were compared using the 3 output  by 3 input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output = broken case lines shipped, full case lines shipped, pallet lines shipp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input = labor, investment, and sp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efficiency estimate for each warehouse was calculated using this model and showed that about 50% of the warehouses have considerable room for improvement (see distribution on next sli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3" descr=""/>
          <p:cNvPicPr/>
          <p:nvPr/>
        </p:nvPicPr>
        <p:blipFill>
          <a:blip r:embed="rId1"/>
          <a:stretch/>
        </p:blipFill>
        <p:spPr>
          <a:xfrm>
            <a:off x="1171440" y="1795320"/>
            <a:ext cx="6801120" cy="4133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es the warehousing industry compare overall with “Best of Class”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380880" y="59436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m “Benchmarking Warehouse Performance Study”, GaTech School of Industrial and Systems Engineering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 to “Understanding DC Metric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es the warehousing industry compare overall with “Best of Class”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Metr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ransactions/H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P Vari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H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SI – Customer Service Inde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st per Truc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st per Hou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urnover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uts per Hou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V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P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PP – Cost per Pall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T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% to Fl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ccurac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eight per Lo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ll Ra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oes managing efficiency mea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enchmark current oper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act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mpare against top perform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et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t goals at or above standard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est continuously impro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ver target goals below world-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nchmarking Metr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Comparison of </a:t>
            </a:r>
            <a:r>
              <a:rPr b="1" lang="en-US" sz="2700" spc="-1" strike="noStrike">
                <a:solidFill>
                  <a:srgbClr val="000000"/>
                </a:solidFill>
                <a:latin typeface="Book Antiqua"/>
              </a:rPr>
              <a:t>Quantitative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 performance measures, includ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perating c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ost as a percent of s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perating 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Units handled per person per h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rvice perform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hipment accura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On-time delive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ing statistics requires analysis and interpretation -  wide variance in metrics between industr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Create a report card to assess the warehouse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The Ideal Measurement Focuses on the Consumption of Warehouse Resour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Peop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Sp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Syste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Within the control of warehouse designers and manag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Drives all co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nchmarking Metr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arriers To Measure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easurement is hard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easurements are often not in synch with corporate strate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re are many conflicting meas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re is resistance to providing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re might be no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re is disagreement over key te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nefits Of Measure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upport improvement initiativ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Vital to succ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Lets companies monitor their perform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llustrates what needs to be do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Helps companies determine how to stay competiti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an improve a company's cultu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Helps define customer val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ontrols warehouse proces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asic Rules of Measure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art with strateg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business are we in, anyway?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derstand customer nee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ight”logistics performance can only be determined in light of the customer nee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derstand other drivers that influence measur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tilization, efficiency, supplier intera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opt a “process”view of your wareho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 end-to-end series of linked activ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asic Rules Of Measurement (cont.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cus on only key processes and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import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has the correct imp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ate a process ow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erson or cross-functional team that can take action across the entir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nly a few key meas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asic Rules Of Measurement (cont.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er clear of subjective measur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“service”be obje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void excessive averag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kes it hard to pinpoint breakdow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derstand the statistic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asic ratio analys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Last Mon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ceiving: 5 Bad Ord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der Filling: 15 Bad Ord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ho did the best?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20:11:57Z</dcterms:created>
  <dc:creator>Erika Bowles</dc:creator>
  <dc:description/>
  <dc:language>en-US</dc:language>
  <cp:lastModifiedBy>Faculty/Staff</cp:lastModifiedBy>
  <dcterms:modified xsi:type="dcterms:W3CDTF">2011-05-25T18:13:23Z</dcterms:modified>
  <cp:revision>36</cp:revision>
  <dc:subject/>
  <dc:title>Slide 1</dc:title>
</cp:coreProperties>
</file>