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021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5233680" y="0"/>
            <a:ext cx="40021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523368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2194-C3F7-4891-8A0B-1105BA919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720D-9986-4AFD-A132-01696A43A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4848-243F-455F-87AE-FE51958E25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5DD7-B0D8-4A4A-BCF3-ACBFD5044B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129E-0C3D-471C-A4D6-2EF57376036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E51B-6AF1-4612-8FF5-B2A1D884D7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B9CB-668B-415C-84AB-A3707464B6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498D-0717-45CD-BE33-5A80411E87A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0CC5-DF9F-457C-920F-0170AFAB12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0243-E6D8-4149-AC20-3A4F0DE67E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EB50-78DA-4D85-BBA2-B7280A9447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C0EE-3268-4686-8AEE-15ECB42327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2C42-BD87-4AB5-8C25-AB093D2585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m exercise on slide 15 requires a pack of m&amp;m's for half of the teams and a pack of reese's pieces for half of the t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let the kids eat them before the statistical analysis is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up the number you need for your teams in cvlb 4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A1AB-F79D-456D-A805-E2CB0546AA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0B31-29FC-4D72-89BD-159231C33F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o them that this is special circumstances and the ‘no food’ rules still ap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one pack of m&amp;m's to half of the teams and one pack of reese's pieces to  half of the teams (I.e. each team gets one p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(on the board or overhead) the number in each pack for each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, the m&amp;m’s have a larger spread in the number per bag and reese’s pieces are right at 6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statistical analyses that can be done are: color distribution, broken candies, typos (note a ‘w’ or ‘3’ is not a typo :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some of the engineering issues that would lead to the given statistics and note that even candy makers are engineer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DF32-7C1C-4D99-B6CB-3FDE32763E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C48B-B2CC-4A71-B642-96182F555C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856A-BD39-4C95-82D3-D18E3A1A28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3981-3D70-4412-A611-5AD5D18F5F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8B76-5329-4CA7-8713-3837A3E459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59ED-2590-4E5B-A419-E5EB00798F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F654-B8F8-4549-ABCC-D9EB445B5D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10E9-FBB7-45CE-A4AE-1185C7431B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3ADA-144D-4FC3-A957-C95AC7B25B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E285-0B14-44CD-989B-24D6592A89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1BDE-CD2A-4091-8EDC-4C55045013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54E1-A877-435D-82D5-C7C498EB40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A69D-1C09-40A9-8A83-776726853F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27FD-0B04-4293-8199-118E48A114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DE3B-A6B9-4D61-8986-4EDE18BA2F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31"/>
          <p:cNvSpPr/>
          <p:nvPr/>
        </p:nvSpPr>
        <p:spPr>
          <a:xfrm>
            <a:off x="5234040" y="6672240"/>
            <a:ext cx="40021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4AEE-771E-469D-B6ED-2BD121E7A6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78200" y="522360"/>
            <a:ext cx="3479760" cy="2611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31920" y="3306600"/>
            <a:ext cx="6772320" cy="31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452-2855-4739-A5B4-AB2D49F1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B19-A3B7-482C-87C7-56A21E50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E85-F01D-4AB2-9FF1-B7A25375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DF1-E768-4D72-8372-CCA5A29E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3AC3-6007-4C84-B971-98E764B5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4C3F-7190-45B6-A051-A45552EB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AFF7-A5DD-48F2-8014-92D6C70B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1C68-FDF8-402B-84A4-C550A19C3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96C4-33D8-4047-ACF2-9F5C6804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2664-6E65-4F01-BE06-3EC1F5B8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5EBA-9B0D-4E12-B5A5-36F1C9B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71F-4F99-4D7E-92B3-8303A5EC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E547-76EC-4BEF-9B77-5733581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4562-0334-4CF8-B2C1-FB226B82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A777-413C-4A2B-B7EA-6EFA995F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1F3FF-3FA5-43ED-A30A-AFB38DFB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D6A4-90CE-4D52-A607-C853EF37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FAA-6F28-43CD-98E4-25D2CE1D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49C-7E34-4A9A-8C4B-BAABD9D7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9414-EAFC-4F55-820D-210BADC5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3550-FD36-4112-9C2C-53F759F6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9BAE-CABA-4992-9737-6B71D635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3BFF-6C2D-43EB-A275-28AD3830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1E8-5379-4C8F-87BC-0E5BFD1B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0876-986E-46E0-97BF-14655B248B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4E4B-E2BB-4B32-9DAC-8F95E7337F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82520" y="0"/>
            <a:ext cx="932652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371600"/>
            <a:ext cx="883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ple, normal distribution, central tendency, histogram, probability, sample, population, data sorting, standard normal distribution, Z-tables, probabil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9000" y="1828800"/>
          <a:ext cx="6095880" cy="63972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Me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the sum of all data values divided by the number of value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M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80520" y="3276720"/>
            <a:ext cx="817884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m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re the data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the sample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028"/>
              <p:cNvSpPr txBox="1"/>
              <p:nvPr/>
            </p:nvSpPr>
            <p:spPr>
              <a:xfrm>
                <a:off x="2590920" y="2057400"/>
                <a:ext cx="29876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029"/>
              <p:cNvSpPr txBox="1"/>
              <p:nvPr/>
            </p:nvSpPr>
            <p:spPr>
              <a:xfrm>
                <a:off x="1066680" y="3886200"/>
                <a:ext cx="5860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Me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3428640"/>
            <a:ext cx="8178840" cy="27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 data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umber of observations in the pop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028"/>
              <p:cNvSpPr txBox="1"/>
              <p:nvPr/>
            </p:nvSpPr>
            <p:spPr>
              <a:xfrm>
                <a:off x="2819520" y="2133720"/>
                <a:ext cx="29718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Mo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205740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o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the value that occurs the most often in discrete data (or data that have been grouped into discrete interva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, students in this class are most likely to get a grade of B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8088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 of a grade distribution with  mean C, mod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3" name="Object 1031"/>
          <p:cNvGraphicFramePr/>
          <p:nvPr/>
        </p:nvGraphicFramePr>
        <p:xfrm>
          <a:off x="917640" y="4573440"/>
          <a:ext cx="2986200" cy="17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7640" y="4573440"/>
                    <a:ext cx="298620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033"/>
          <p:cNvGraphicFramePr/>
          <p:nvPr/>
        </p:nvGraphicFramePr>
        <p:xfrm>
          <a:off x="1752480" y="3276720"/>
          <a:ext cx="5486400" cy="3055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Object 10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276720"/>
                    <a:ext cx="5486400" cy="30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Medi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120" y="2133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Medi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f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or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ata, the median is the middle value (for an odd number of points) or the average of the two middle values (for an even number of poin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ful to characterize data sets with a few extreme values that would distort the mean (e.g., house price,family incom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the Ran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Rang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the difference between the lowest and highest values in the s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, driving time to Houston is 2 hours +/- 15 minutes. Therefore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um = 105 m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 = 135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= 30 minu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 Dev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ives a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uniqu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unbiase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estimate of the scatter in the dat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 Dev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1980720"/>
            <a:ext cx="7772400" cy="6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Population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28"/>
              <p:cNvSpPr txBox="1"/>
              <p:nvPr/>
            </p:nvSpPr>
            <p:spPr>
              <a:xfrm>
                <a:off x="914400" y="2819520"/>
                <a:ext cx="3657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r>
                          <m:t xml:space="preserve">m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1031"/>
              <p:cNvSpPr txBox="1"/>
              <p:nvPr/>
            </p:nvSpPr>
            <p:spPr>
              <a:xfrm>
                <a:off x="990720" y="4952880"/>
                <a:ext cx="3429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</m:e>
                        </m:nary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7" name="Oval 1034"/>
          <p:cNvSpPr/>
          <p:nvPr/>
        </p:nvSpPr>
        <p:spPr>
          <a:xfrm>
            <a:off x="2844720" y="2943360"/>
            <a:ext cx="1397160" cy="71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1035"/>
          <p:cNvSpPr/>
          <p:nvPr/>
        </p:nvSpPr>
        <p:spPr>
          <a:xfrm>
            <a:off x="3149640" y="5180040"/>
            <a:ext cx="1015920" cy="71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1036"/>
          <p:cNvSpPr/>
          <p:nvPr/>
        </p:nvSpPr>
        <p:spPr>
          <a:xfrm>
            <a:off x="4732560" y="4089240"/>
            <a:ext cx="199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rc 1038"/>
          <p:cNvSpPr/>
          <p:nvPr/>
        </p:nvSpPr>
        <p:spPr>
          <a:xfrm flipH="1" flipV="1">
            <a:off x="3581280" y="3580560"/>
            <a:ext cx="1067040" cy="762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rc 1039"/>
          <p:cNvSpPr/>
          <p:nvPr/>
        </p:nvSpPr>
        <p:spPr>
          <a:xfrm flipH="1">
            <a:off x="3581280" y="4419720"/>
            <a:ext cx="1067040" cy="7617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40"/>
          <p:cNvSpPr/>
          <p:nvPr/>
        </p:nvSpPr>
        <p:spPr>
          <a:xfrm>
            <a:off x="5399640" y="27781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ce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041"/>
          <p:cNvSpPr/>
          <p:nvPr/>
        </p:nvSpPr>
        <p:spPr>
          <a:xfrm>
            <a:off x="5410800" y="525636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nce =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Subtle Difference Between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ahoma"/>
              </a:rPr>
              <a:t>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98108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 versus n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-1 is needed to get a better estimate of the populat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the sample 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: for larg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difference is trivial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90640" y="1906200"/>
            <a:ext cx="289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aling With Uncertain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Valuable T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uss invented standard devia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irc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1700 to explain the error observed in measured star pos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 it is used in everything from quality control to measuring financial ris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m Exerc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team’s bag of M&amp;M candies,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candies for each 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tal number of candies in the b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you are done counting, have a representative from your team enter your data in 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807240" y="605304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am Exercise (con’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color, and the total number of candies, determine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nimu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dev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 Exercise: Hist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ip a coin EXACTLY ten times.  Count the number of heads YOU g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rt your result to the instructor who will post all the results on the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data from the entire class, create bar graphs showing the number of classmates who get one head, two heads, three head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Distrib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shape” of the data is described by its frequency hist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that behaves “normally” exhibit a “bell-shaped” curve, or the “normal”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uss found that star position errors tended to follow a “normal” distrib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Norm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980720"/>
            <a:ext cx="77724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ormal distribution is sometimes called the “Gauss” cur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4"/>
              <p:cNvSpPr txBox="1"/>
              <p:nvPr/>
            </p:nvSpPr>
            <p:spPr>
              <a:xfrm>
                <a:off x="838080" y="3071880"/>
                <a:ext cx="4119840" cy="14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μ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60" name="Group 8"/>
          <p:cNvGrpSpPr/>
          <p:nvPr/>
        </p:nvGrpSpPr>
        <p:grpSpPr>
          <a:xfrm>
            <a:off x="4572000" y="3386160"/>
            <a:ext cx="4392720" cy="2824200"/>
            <a:chOff x="4572000" y="3386160"/>
            <a:chExt cx="4392720" cy="2824200"/>
          </a:xfrm>
        </p:grpSpPr>
        <p:graphicFrame>
          <p:nvGraphicFramePr>
            <p:cNvPr id="161" name="Object 5"/>
            <p:cNvGraphicFramePr/>
            <p:nvPr/>
          </p:nvGraphicFramePr>
          <p:xfrm>
            <a:off x="4572000" y="3809880"/>
            <a:ext cx="4392720" cy="24004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2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3809880"/>
                      <a:ext cx="4392720" cy="240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3" name="Text Box 6"/>
            <p:cNvSpPr/>
            <p:nvPr/>
          </p:nvSpPr>
          <p:spPr>
            <a:xfrm>
              <a:off x="7113600" y="3386160"/>
              <a:ext cx="99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a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781680" y="3657600"/>
              <a:ext cx="381240" cy="685800"/>
            </a:xfrm>
            <a:custGeom>
              <a:avLst/>
              <a:gdLst/>
              <a:ahLst/>
              <a:rect l="l" t="t" r="r" b="b"/>
              <a:pathLst>
                <a:path w="240" h="432">
                  <a:moveTo>
                    <a:pt x="240" y="0"/>
                  </a:moveTo>
                  <a:cubicBezTo>
                    <a:pt x="213" y="16"/>
                    <a:pt x="115" y="27"/>
                    <a:pt x="75" y="99"/>
                  </a:cubicBezTo>
                  <a:cubicBezTo>
                    <a:pt x="35" y="171"/>
                    <a:pt x="16" y="363"/>
                    <a:pt x="0" y="4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Text Box 10"/>
          <p:cNvSpPr/>
          <p:nvPr/>
        </p:nvSpPr>
        <p:spPr>
          <a:xfrm>
            <a:off x="6619680" y="6064200"/>
            <a:ext cx="3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770280" y="4635360"/>
            <a:ext cx="6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695160" y="5367240"/>
            <a:ext cx="16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6"/>
          <p:cNvSpPr/>
          <p:nvPr/>
        </p:nvSpPr>
        <p:spPr>
          <a:xfrm flipV="1">
            <a:off x="2438280" y="4952880"/>
            <a:ext cx="1371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7"/>
          <p:cNvSpPr/>
          <p:nvPr/>
        </p:nvSpPr>
        <p:spPr>
          <a:xfrm flipH="1" flipV="1">
            <a:off x="1143000" y="4190760"/>
            <a:ext cx="763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ndard Normal Distrib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7720" y="1981080"/>
            <a:ext cx="195588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2711520" y="1905120"/>
                <a:ext cx="20448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fPr>
                        <m:type m:val="lin"/>
                      </m:fPr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</m:e>
                        </m:d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609480" y="3352680"/>
                <a:ext cx="3227400" cy="236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F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z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74" name="Object 6"/>
          <p:cNvGraphicFramePr/>
          <p:nvPr/>
        </p:nvGraphicFramePr>
        <p:xfrm>
          <a:off x="4114800" y="3124080"/>
          <a:ext cx="4687920" cy="335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3124080"/>
                    <a:ext cx="468792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7"/>
          <p:cNvSpPr/>
          <p:nvPr/>
        </p:nvSpPr>
        <p:spPr>
          <a:xfrm>
            <a:off x="6248520" y="24382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578560" y="2771640"/>
            <a:ext cx="722160" cy="1876680"/>
          </a:xfrm>
          <a:custGeom>
            <a:avLst/>
            <a:gdLst/>
            <a:ahLst/>
            <a:rect l="l" t="t" r="r" b="b"/>
            <a:pathLst>
              <a:path w="455" h="1182">
                <a:moveTo>
                  <a:pt x="455" y="0"/>
                </a:moveTo>
                <a:cubicBezTo>
                  <a:pt x="380" y="88"/>
                  <a:pt x="10" y="334"/>
                  <a:pt x="5" y="531"/>
                </a:cubicBezTo>
                <a:cubicBezTo>
                  <a:pt x="0" y="728"/>
                  <a:pt x="335" y="1047"/>
                  <a:pt x="422" y="1182"/>
                </a:cubicBezTo>
              </a:path>
            </a:pathLst>
          </a:custGeom>
          <a:noFill/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6234480" y="626580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handy things to know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of the area lies on each side of the mid-point for any normal cur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tandard normal distribution (SND) has a total area of 1.0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-Tables” show the area under the standard normal distribution, and can be used to find the area between any two points on the z-ax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Z Tabl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Appendix C, p. 62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160" y="19810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estion: Find the area between z= -1.0 and z= 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able, for z = 1.0, area = 0.34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symmetry, for z = -1.0, area = 0.34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table, for z= 2.0, area = 0.47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area = 0.3413 + 0.4772 = 0.81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s” area = 1.0 - 0.8185 = 0.18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ick and Dirty” Estimate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904760"/>
            <a:ext cx="8178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lowest + 4*mode + highest)/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standard normal curve, 99.7% of the area is contained within ± 3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the me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“highest”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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“lowest”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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fore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highest - lowest)/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7720" y="1828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cribe the difference between a sample and a popu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to use descriptive statistics (data sorting, central tendency,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 how to prepare and interpret hist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e what is meant by normal distribution and standard normal distribu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Z-tables to compute prob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ive time to Houst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st = 1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likely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est = 4 h (including a flat tire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(1+4*2+4)/6 = 2.16  (2 h 12 m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 (4 -  1)/6= 0.5 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technique (Delphi) was used to plan the moon fl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ntral tendenc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t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ri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dev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re are lies, d#$&amp; lies, and then there’s statistics.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rk Twai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istics i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andard meth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collecting, organizing, summarizing,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ing, and analyzing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rawing conclus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making decisions based upon th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es of these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extensively by engineers (e.g., quality cont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s and Sam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2600" y="2017440"/>
            <a:ext cx="77724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pul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complete set of all of the possible instances of a particular objec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the entire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amp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 subset of the pop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.g.,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use samples to draw conclusions about the parent pop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sampl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80720"/>
            <a:ext cx="79246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pulation may be l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people on earth, all stars in the sk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pulation may be dangerous to observ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mobile wrecks, explos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pulation may be difficult to measur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atomic parti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ment may destroy s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lt streng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ercise: Sample B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three significant figures, estimate the average age of the class based upon your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ould a team not be a representative sample of the cla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sures of Central Tenden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wish to describe a population (or a sample) with a single number, what do you u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the arithmetic avera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o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most likely (most common) val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edi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 “middle” of the data s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5T04:30:43Z</dcterms:created>
  <dc:creator>Don Maxwell</dc:creator>
  <dc:description/>
  <dc:language>en-US</dc:language>
  <cp:lastModifiedBy>Peggy Hines IRSC</cp:lastModifiedBy>
  <cp:lastPrinted>2011-02-10T03:00:23Z</cp:lastPrinted>
  <dcterms:modified xsi:type="dcterms:W3CDTF">2013-01-30T20:04:06Z</dcterms:modified>
  <cp:revision>102</cp:revision>
  <dc:subject/>
  <dc:title>Basic Statistics</dc:title>
</cp:coreProperties>
</file>