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  <p:sldId id="287" r:id="rId51"/>
    <p:sldId id="288" r:id="rId52"/>
    <p:sldId id="289" r:id="rId53"/>
    <p:sldId id="290" r:id="rId54"/>
    <p:sldId id="291" r:id="rId55"/>
    <p:sldId id="292" r:id="rId56"/>
    <p:sldId id="293" r:id="rId57"/>
    <p:sldId id="294" r:id="rId58"/>
    <p:sldId id="295" r:id="rId59"/>
    <p:sldId id="296" r:id="rId60"/>
    <p:sldId id="297" r:id="rId61"/>
    <p:sldId id="298" r:id="rId62"/>
    <p:sldId id="299" r:id="rId63"/>
    <p:sldId id="300" r:id="rId64"/>
    <p:sldId id="301" r:id="rId65"/>
    <p:sldId id="302" r:id="rId66"/>
    <p:sldId id="303" r:id="rId67"/>
    <p:sldId id="304" r:id="rId68"/>
    <p:sldId id="305" r:id="rId69"/>
    <p:sldId id="306" r:id="rId70"/>
    <p:sldId id="307" r:id="rId71"/>
    <p:sldId id="308" r:id="rId72"/>
    <p:sldId id="309" r:id="rId73"/>
    <p:sldId id="310" r:id="rId74"/>
    <p:sldId id="311" r:id="rId75"/>
    <p:sldId id="312" r:id="rId76"/>
    <p:sldId id="313" r:id="rId77"/>
    <p:sldId id="314" r:id="rId78"/>
    <p:sldId id="315" r:id="rId79"/>
    <p:sldId id="316" r:id="rId80"/>
    <p:sldId id="317" r:id="rId81"/>
    <p:sldId id="318" r:id="rId82"/>
    <p:sldId id="319" r:id="rId83"/>
    <p:sldId id="320" r:id="rId84"/>
    <p:sldId id="321" r:id="rId85"/>
    <p:sldId id="322" r:id="rId86"/>
    <p:sldId id="323" r:id="rId87"/>
    <p:sldId id="324" r:id="rId88"/>
    <p:sldId id="325" r:id="rId89"/>
    <p:sldId id="326" r:id="rId90"/>
    <p:sldId id="327" r:id="rId91"/>
    <p:sldId id="328" r:id="rId92"/>
    <p:sldId id="329" r:id="rId93"/>
    <p:sldId id="330" r:id="rId94"/>
    <p:sldId id="331" r:id="rId95"/>
    <p:sldId id="332" r:id="rId96"/>
    <p:sldId id="333" r:id="rId97"/>
    <p:sldId id="334" r:id="rId98"/>
    <p:sldId id="335" r:id="rId99"/>
    <p:sldId id="336" r:id="rId100"/>
    <p:sldId id="337" r:id="rId101"/>
    <p:sldId id="338" r:id="rId102"/>
    <p:sldId id="339" r:id="rId103"/>
    <p:sldId id="340" r:id="rId104"/>
    <p:sldId id="341" r:id="rId105"/>
    <p:sldId id="342" r:id="rId106"/>
    <p:sldId id="343" r:id="rId107"/>
    <p:sldId id="344" r:id="rId108"/>
    <p:sldId id="345" r:id="rId109"/>
    <p:sldId id="346" r:id="rId110"/>
    <p:sldId id="347" r:id="rId111"/>
    <p:sldId id="348" r:id="rId112"/>
    <p:sldId id="349" r:id="rId113"/>
    <p:sldId id="350" r:id="rId114"/>
    <p:sldId id="351" r:id="rId115"/>
    <p:sldId id="352" r:id="rId116"/>
    <p:sldId id="353" r:id="rId117"/>
    <p:sldId id="354" r:id="rId118"/>
    <p:sldId id="355" r:id="rId119"/>
    <p:sldId id="356" r:id="rId120"/>
    <p:sldId id="357" r:id="rId121"/>
    <p:sldId id="358" r:id="rId122"/>
    <p:sldId id="359" r:id="rId123"/>
    <p:sldId id="360" r:id="rId124"/>
    <p:sldId id="361" r:id="rId125"/>
    <p:sldId id="362" r:id="rId126"/>
    <p:sldId id="363" r:id="rId127"/>
    <p:sldId id="364" r:id="rId128"/>
    <p:sldId id="365" r:id="rId129"/>
    <p:sldId id="366" r:id="rId130"/>
    <p:sldId id="367" r:id="rId1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slide" Target="slides/slide32.xml"/><Relationship Id="rId52" Type="http://schemas.openxmlformats.org/officeDocument/2006/relationships/slide" Target="slides/slide33.xml"/><Relationship Id="rId53" Type="http://schemas.openxmlformats.org/officeDocument/2006/relationships/slide" Target="slides/slide34.xml"/><Relationship Id="rId54" Type="http://schemas.openxmlformats.org/officeDocument/2006/relationships/slide" Target="slides/slide35.xml"/><Relationship Id="rId55" Type="http://schemas.openxmlformats.org/officeDocument/2006/relationships/slide" Target="slides/slide36.xml"/><Relationship Id="rId56" Type="http://schemas.openxmlformats.org/officeDocument/2006/relationships/slide" Target="slides/slide37.xml"/><Relationship Id="rId57" Type="http://schemas.openxmlformats.org/officeDocument/2006/relationships/slide" Target="slides/slide38.xml"/><Relationship Id="rId58" Type="http://schemas.openxmlformats.org/officeDocument/2006/relationships/slide" Target="slides/slide39.xml"/><Relationship Id="rId59" Type="http://schemas.openxmlformats.org/officeDocument/2006/relationships/slide" Target="slides/slide40.xml"/><Relationship Id="rId60" Type="http://schemas.openxmlformats.org/officeDocument/2006/relationships/slide" Target="slides/slide41.xml"/><Relationship Id="rId61" Type="http://schemas.openxmlformats.org/officeDocument/2006/relationships/slide" Target="slides/slide42.xml"/><Relationship Id="rId62" Type="http://schemas.openxmlformats.org/officeDocument/2006/relationships/slide" Target="slides/slide43.xml"/><Relationship Id="rId63" Type="http://schemas.openxmlformats.org/officeDocument/2006/relationships/slide" Target="slides/slide44.xml"/><Relationship Id="rId64" Type="http://schemas.openxmlformats.org/officeDocument/2006/relationships/slide" Target="slides/slide45.xml"/><Relationship Id="rId65" Type="http://schemas.openxmlformats.org/officeDocument/2006/relationships/slide" Target="slides/slide46.xml"/><Relationship Id="rId66" Type="http://schemas.openxmlformats.org/officeDocument/2006/relationships/slide" Target="slides/slide47.xml"/><Relationship Id="rId67" Type="http://schemas.openxmlformats.org/officeDocument/2006/relationships/slide" Target="slides/slide48.xml"/><Relationship Id="rId68" Type="http://schemas.openxmlformats.org/officeDocument/2006/relationships/slide" Target="slides/slide49.xml"/><Relationship Id="rId69" Type="http://schemas.openxmlformats.org/officeDocument/2006/relationships/slide" Target="slides/slide50.xml"/><Relationship Id="rId70" Type="http://schemas.openxmlformats.org/officeDocument/2006/relationships/slide" Target="slides/slide51.xml"/><Relationship Id="rId71" Type="http://schemas.openxmlformats.org/officeDocument/2006/relationships/slide" Target="slides/slide52.xml"/><Relationship Id="rId72" Type="http://schemas.openxmlformats.org/officeDocument/2006/relationships/slide" Target="slides/slide53.xml"/><Relationship Id="rId73" Type="http://schemas.openxmlformats.org/officeDocument/2006/relationships/slide" Target="slides/slide54.xml"/><Relationship Id="rId74" Type="http://schemas.openxmlformats.org/officeDocument/2006/relationships/slide" Target="slides/slide55.xml"/><Relationship Id="rId75" Type="http://schemas.openxmlformats.org/officeDocument/2006/relationships/slide" Target="slides/slide56.xml"/><Relationship Id="rId76" Type="http://schemas.openxmlformats.org/officeDocument/2006/relationships/slide" Target="slides/slide57.xml"/><Relationship Id="rId77" Type="http://schemas.openxmlformats.org/officeDocument/2006/relationships/slide" Target="slides/slide58.xml"/><Relationship Id="rId78" Type="http://schemas.openxmlformats.org/officeDocument/2006/relationships/slide" Target="slides/slide59.xml"/><Relationship Id="rId79" Type="http://schemas.openxmlformats.org/officeDocument/2006/relationships/slide" Target="slides/slide60.xml"/><Relationship Id="rId80" Type="http://schemas.openxmlformats.org/officeDocument/2006/relationships/slide" Target="slides/slide61.xml"/><Relationship Id="rId81" Type="http://schemas.openxmlformats.org/officeDocument/2006/relationships/slide" Target="slides/slide62.xml"/><Relationship Id="rId82" Type="http://schemas.openxmlformats.org/officeDocument/2006/relationships/slide" Target="slides/slide63.xml"/><Relationship Id="rId83" Type="http://schemas.openxmlformats.org/officeDocument/2006/relationships/slide" Target="slides/slide64.xml"/><Relationship Id="rId84" Type="http://schemas.openxmlformats.org/officeDocument/2006/relationships/slide" Target="slides/slide65.xml"/><Relationship Id="rId85" Type="http://schemas.openxmlformats.org/officeDocument/2006/relationships/slide" Target="slides/slide66.xml"/><Relationship Id="rId86" Type="http://schemas.openxmlformats.org/officeDocument/2006/relationships/slide" Target="slides/slide67.xml"/><Relationship Id="rId87" Type="http://schemas.openxmlformats.org/officeDocument/2006/relationships/slide" Target="slides/slide68.xml"/><Relationship Id="rId88" Type="http://schemas.openxmlformats.org/officeDocument/2006/relationships/slide" Target="slides/slide69.xml"/><Relationship Id="rId89" Type="http://schemas.openxmlformats.org/officeDocument/2006/relationships/slide" Target="slides/slide70.xml"/><Relationship Id="rId90" Type="http://schemas.openxmlformats.org/officeDocument/2006/relationships/slide" Target="slides/slide71.xml"/><Relationship Id="rId91" Type="http://schemas.openxmlformats.org/officeDocument/2006/relationships/slide" Target="slides/slide72.xml"/><Relationship Id="rId92" Type="http://schemas.openxmlformats.org/officeDocument/2006/relationships/slide" Target="slides/slide73.xml"/><Relationship Id="rId93" Type="http://schemas.openxmlformats.org/officeDocument/2006/relationships/slide" Target="slides/slide74.xml"/><Relationship Id="rId94" Type="http://schemas.openxmlformats.org/officeDocument/2006/relationships/slide" Target="slides/slide75.xml"/><Relationship Id="rId95" Type="http://schemas.openxmlformats.org/officeDocument/2006/relationships/slide" Target="slides/slide76.xml"/><Relationship Id="rId96" Type="http://schemas.openxmlformats.org/officeDocument/2006/relationships/slide" Target="slides/slide77.xml"/><Relationship Id="rId97" Type="http://schemas.openxmlformats.org/officeDocument/2006/relationships/slide" Target="slides/slide78.xml"/><Relationship Id="rId98" Type="http://schemas.openxmlformats.org/officeDocument/2006/relationships/slide" Target="slides/slide79.xml"/><Relationship Id="rId99" Type="http://schemas.openxmlformats.org/officeDocument/2006/relationships/slide" Target="slides/slide80.xml"/><Relationship Id="rId100" Type="http://schemas.openxmlformats.org/officeDocument/2006/relationships/slide" Target="slides/slide81.xml"/><Relationship Id="rId101" Type="http://schemas.openxmlformats.org/officeDocument/2006/relationships/slide" Target="slides/slide82.xml"/><Relationship Id="rId102" Type="http://schemas.openxmlformats.org/officeDocument/2006/relationships/slide" Target="slides/slide83.xml"/><Relationship Id="rId103" Type="http://schemas.openxmlformats.org/officeDocument/2006/relationships/slide" Target="slides/slide84.xml"/><Relationship Id="rId104" Type="http://schemas.openxmlformats.org/officeDocument/2006/relationships/slide" Target="slides/slide85.xml"/><Relationship Id="rId105" Type="http://schemas.openxmlformats.org/officeDocument/2006/relationships/slide" Target="slides/slide86.xml"/><Relationship Id="rId106" Type="http://schemas.openxmlformats.org/officeDocument/2006/relationships/slide" Target="slides/slide87.xml"/><Relationship Id="rId107" Type="http://schemas.openxmlformats.org/officeDocument/2006/relationships/slide" Target="slides/slide88.xml"/><Relationship Id="rId108" Type="http://schemas.openxmlformats.org/officeDocument/2006/relationships/slide" Target="slides/slide89.xml"/><Relationship Id="rId109" Type="http://schemas.openxmlformats.org/officeDocument/2006/relationships/slide" Target="slides/slide90.xml"/><Relationship Id="rId110" Type="http://schemas.openxmlformats.org/officeDocument/2006/relationships/slide" Target="slides/slide91.xml"/><Relationship Id="rId111" Type="http://schemas.openxmlformats.org/officeDocument/2006/relationships/slide" Target="slides/slide92.xml"/><Relationship Id="rId112" Type="http://schemas.openxmlformats.org/officeDocument/2006/relationships/slide" Target="slides/slide93.xml"/><Relationship Id="rId113" Type="http://schemas.openxmlformats.org/officeDocument/2006/relationships/slide" Target="slides/slide94.xml"/><Relationship Id="rId114" Type="http://schemas.openxmlformats.org/officeDocument/2006/relationships/slide" Target="slides/slide95.xml"/><Relationship Id="rId115" Type="http://schemas.openxmlformats.org/officeDocument/2006/relationships/slide" Target="slides/slide96.xml"/><Relationship Id="rId116" Type="http://schemas.openxmlformats.org/officeDocument/2006/relationships/slide" Target="slides/slide97.xml"/><Relationship Id="rId117" Type="http://schemas.openxmlformats.org/officeDocument/2006/relationships/slide" Target="slides/slide98.xml"/><Relationship Id="rId118" Type="http://schemas.openxmlformats.org/officeDocument/2006/relationships/slide" Target="slides/slide99.xml"/><Relationship Id="rId119" Type="http://schemas.openxmlformats.org/officeDocument/2006/relationships/slide" Target="slides/slide100.xml"/><Relationship Id="rId120" Type="http://schemas.openxmlformats.org/officeDocument/2006/relationships/slide" Target="slides/slide101.xml"/><Relationship Id="rId121" Type="http://schemas.openxmlformats.org/officeDocument/2006/relationships/slide" Target="slides/slide102.xml"/><Relationship Id="rId122" Type="http://schemas.openxmlformats.org/officeDocument/2006/relationships/slide" Target="slides/slide103.xml"/><Relationship Id="rId123" Type="http://schemas.openxmlformats.org/officeDocument/2006/relationships/slide" Target="slides/slide104.xml"/><Relationship Id="rId124" Type="http://schemas.openxmlformats.org/officeDocument/2006/relationships/slide" Target="slides/slide105.xml"/><Relationship Id="rId125" Type="http://schemas.openxmlformats.org/officeDocument/2006/relationships/slide" Target="slides/slide106.xml"/><Relationship Id="rId126" Type="http://schemas.openxmlformats.org/officeDocument/2006/relationships/slide" Target="slides/slide107.xml"/><Relationship Id="rId127" Type="http://schemas.openxmlformats.org/officeDocument/2006/relationships/slide" Target="slides/slide108.xml"/><Relationship Id="rId128" Type="http://schemas.openxmlformats.org/officeDocument/2006/relationships/slide" Target="slides/slide109.xml"/><Relationship Id="rId129" Type="http://schemas.openxmlformats.org/officeDocument/2006/relationships/slide" Target="slides/slide110.xml"/><Relationship Id="rId130" Type="http://schemas.openxmlformats.org/officeDocument/2006/relationships/slide" Target="slides/slide111.xml"/><Relationship Id="rId131" Type="http://schemas.openxmlformats.org/officeDocument/2006/relationships/slide" Target="slides/slide112.xml"/><Relationship Id="rId1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5378-8D71-4655-BAF2-0F7CA2E24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2ACE-6AB6-4690-9873-3B8C723D7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5D28-328F-4562-8361-9E2950616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4F42-6970-4252-9B10-B1BBFC87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7F6-7496-456A-93D7-1B174D2C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CBD66-B531-4A45-9782-02A12E29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1AF31-7016-4AFA-921D-724DE104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AE52C-3DD7-4931-9EF0-A5E34D00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717FC-8C81-4034-9F77-6BF04F0C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EA3B9-88E3-4461-A3A1-14ABB77B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2FD09-A72E-4215-A3A9-61A05277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466BE-FAC2-4715-B4EA-27B03C10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A0391-F36D-4A65-BFE1-C26AC5B3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E972D4-F65E-4243-9160-45B68298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CD2AC-B56C-4772-B185-2B519040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E21F-DCA9-4A03-8A65-021CE0394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7916F-2C3A-492B-B373-A749941F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A3217-93EF-4360-A06D-28AFFEFA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CB60B-DC39-4A3F-9D25-8CF50CF7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A6D18-CE0F-4C50-B280-A29953F1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02DAB-6518-4796-84D7-C30E38C1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1ED95-917C-427C-B912-496C22DA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F3E51-76EE-4560-A0A8-D6CB29A1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D263CB-0AF8-4CE6-9000-E93352BA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1A142-9A46-41CA-AA1E-9167C56E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890619-4B7E-403A-A346-8D25777A6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400-44A6-4097-B3DA-34A184E1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960F1-E0A1-4880-B8EA-02761E5A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BE482-56F7-4EB6-BF91-79D0306ED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61EAD-BA2E-4BD8-859C-89973350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22017-AC45-4DEB-8B8C-14C68509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F3074-D376-40A4-A40F-329D02D3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1A861-609E-4152-999A-9D10980B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F8AF7-F585-4DAE-A985-695EDE03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503B8-98DF-4CA5-B9D1-EAFB9205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3C369-D1EA-493E-90B2-D1B281DD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1B279-E0AA-4EA9-ADFB-A1621FB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3FD7-7309-46E1-8727-ACE4591F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E6786-DC37-44E6-9AEF-2805C3E9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660033-5234-41D7-93F3-E858324F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F1A2F-453B-409E-BA69-34453F32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DC108-30E7-4F88-AF46-1A7CCFB1A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E9AA9-F510-4A3B-8B33-9323DD216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34427-C49D-40D8-8061-28F0DF92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ECBB1-D8A8-4FA0-ABC4-AD7E415B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E845F-4275-4DFF-A903-74F37968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B65C13-6959-49A6-BB44-2563633B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C90D7-C032-4323-A59F-1FC365B4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6372-62CA-4B67-B123-059A494E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B1EE3-8D21-44B3-9922-D87601CA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CC473-F98A-495B-BE4F-936ABFD9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08812-1233-498B-B213-B98D02F7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8EB63C-CA49-4056-8969-FF7C69D72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E77B0-144D-44E7-9961-C0D861CE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B169F-7F0A-43B0-8672-E8CE7D74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4029C-5BD8-418E-829A-11CBC493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40F742-596B-4FD0-9852-BE929FA9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E35B2-F35E-441A-9FCD-59014FB6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FDF1B-826D-4502-A504-DF8E327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9B2F-C352-4071-9FF4-1720EA84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9C981-F94C-4C03-A060-E239E07F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9AFDF-C4F2-4935-901A-9BD678F4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676071-59EA-47D9-BD40-818D0268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20D1F2-DBE6-4C95-98CA-64222A69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9ADA0D-C980-4ADC-B6EC-F3B7C965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02AF0-CBBB-4DA4-8963-3E439C79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0FFD3-C4A3-4B1A-AD33-12C1F908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46F46E-B49E-4C5B-B5C6-5AC6CCFE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E2110-FB66-4755-AC93-A7E48FFC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0A8F7-5A20-405B-A300-BA996249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0A91-ADD0-44A6-BDCB-20C2BB97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49ABCD-8C8F-4412-ACA4-B74E5EE0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9DB184-9881-47AD-AB2B-6D38BF28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B6C53E-6A9B-4C48-8336-82583BEF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A2CF70-44C3-4CF9-92A8-F151CEE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68237F-0B21-468F-8B1F-4FCDB656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2B59C-A5B2-46C3-BD70-3ED520BC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72AFAF-D383-40EE-B3E3-FF55A598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05100-D2E0-4466-99F2-A8A561A4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43CE2-228E-48DA-AD50-AAAAAC3E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9750A-F47D-4464-9981-D29FB4B8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30A1-BEF0-48F8-8AF1-F6EB84681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8F719-7289-4AF7-8956-56A33F19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AABC04-7012-4704-B097-452F221F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A0F09-A9BF-4321-8991-1C2649A8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D9B8DD-8A3E-4E38-8705-66C3EDDB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424FF-0D5F-43AD-A155-AD783ABE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A32C3B-8AFE-47D1-8C8C-05E39078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228426-9DC5-4096-AFC0-2919CD66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45C4CE-806C-462F-8793-AC1EB113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4C6F0E-5E76-4A30-A32F-8EED001A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FF713-2290-4A18-85AF-14221B39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1005-625A-42C3-804E-437F7568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37A27A-A0B9-4C1D-8D38-2C03B212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451D4-E762-429E-B6B7-D961DD929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146B1-E42F-47B1-89CC-6D702710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0CE46-BD42-464F-AF1E-0B172524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7AA9D-5BA6-4DF8-9CB8-E29F2407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CECF7-1C80-40DA-8F0B-B205716D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4131CB-1E2F-46FB-A4CB-D674CA14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52AC64-8669-49D7-9414-7DC68CBA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E37543-460A-4F34-8787-6A2EE5DF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DCC17-2154-4414-A468-64DFC261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99B6-5110-46D9-A311-E85EF055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31100D-90B1-42BB-A7F3-9406EF5B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52834-CBE5-4287-94DE-AF22E1A7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0745F-5D65-4BC8-ABF6-DBD2C5AD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FA4AB6-3D59-4CCB-8AFC-B68886CF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19882-31BB-4410-B8DE-DCC1F978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B1167-9E40-415B-9B83-E320D055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2E015-9D48-4587-8307-8FE70656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7435EC-7BBD-4CCD-9E01-D418DE4B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D829B5-45AB-4351-A528-95B4115F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9A0FCA-2FB6-42F1-A8AD-D3E8A771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9D1-6F06-4498-A15A-97CA481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D52A-89DE-4B32-B181-3063B527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8B9B1-24C9-4992-9970-928BA81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1B854-88EA-438F-B78E-4FB7089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319862-EE0B-41FB-88B2-BD1F2FB83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7F11CF-05AC-4186-824F-B498B700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E13F5E-9381-4DAC-B09E-5ECB1E208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DE98-D7F7-49DD-B468-722456CC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BD12-D438-4573-BB98-03FDBA80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AFB8-3518-47F0-B985-0AECE8D4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4B52-A3C7-4213-A431-6974DACE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DCF4-DD1E-497D-BD94-B87AF282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1C7D9-09A0-45CE-A27B-51978343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245F9-D3AB-434D-BDBC-3223C013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FEEF-8395-45DC-A224-F4B95C2F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57C04-8F29-430B-907A-51215B1E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31D4-4018-4681-8645-39D7F9A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C64D-A955-43E7-9A49-ECF29468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AA09B-AB2A-4216-B1E0-53B65C5CC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CC40-FF60-4B44-9287-7E454885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E278E-9189-4676-B0BF-7827AA58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92F3-1FCA-4DAE-AB3A-4777B63E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7B552-128B-471F-BB4B-C33B142F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5A5A-7DAD-4FDF-9D31-C37DF054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AAC57-CA96-4845-9E9D-4DD88FB8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8BDA-B4B6-48C3-B76C-92305CA1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850D0-7BCB-45CC-A3C9-A0EE08DB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6B4D-77FF-4485-936D-D95FA143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5E37-9E5C-42D2-BD38-78586EF3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9B0C0-7DF2-4AAB-A988-5D741177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6CE2-0BE9-4698-A4E5-7ADDE78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FFA87-72AB-4E26-9DFD-5B766242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B46C-BF6E-4743-887C-407C5EDE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AB17-D19C-49F2-A6DD-88C4C28F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2C544-28A7-4D3A-B518-90994F84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139EC-9986-4D72-8FD1-DB35A94D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2DFCD-94CE-4108-B929-F6935BF1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33712-3CE0-4468-B0CF-178608B5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5387-5B63-4D10-8A06-34BB7DD1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37D3-B1CF-4701-A44D-F97D31E8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5C951-D18E-4AA0-9060-743C9AA0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79B15-45F8-453D-99BE-145D15B63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79DDB-F948-411F-82C6-72E40250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6695-5DA1-4D93-AB97-AE4D179E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6BEE9-4DC4-4812-9B72-1529EA3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E56B7-E549-4F82-BEF9-63041145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09069-AF25-4528-9601-341D2A08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C1EE5-0FF6-4B1C-95A8-83783E6D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857DF-ACBD-4CD4-9993-85DCE30A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E25C-FCB5-48CA-96CC-F2A47C8C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4BFF3-46FB-4492-948F-13619C5A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886DA-8EE1-4794-9BA4-9055B43C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F1D4-942F-4BC6-AA6C-7545D92C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CB29-7A13-41F7-BDC8-D4E8267F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F17EE-6F0B-4EED-8E9C-F89A09B3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B5D3B-B49B-474C-AACA-CDA6B631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5EAC4-7AC5-4BC4-A8D6-81BDD898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8A79C-AAC7-49B9-9307-2D44B162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6BA98-EC0E-44E6-9375-E1FC648C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C95BA-96FB-4284-BF3B-726D6868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9A49-C95A-449A-B24C-45E73917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17D1F-79CA-488B-B8B7-052EB49B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A5323-9ADF-4428-BE07-5088C356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8CC97-14BE-4AF1-B087-E592CB3E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E8623-A0D0-4E69-9239-4C2FCB41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01636-18C4-4E4D-B7C9-525907E4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55B1A-682B-41B8-8B5E-93FFC69B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134E2-B1C1-4784-8E1B-355B4F4D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57234-88BC-4939-B961-93A95217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1CE84-46F3-4A00-BD89-DBE7299A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F5CEC-B41E-4DD0-944C-6BEACD8F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572-E14E-4748-8FF6-616ADF02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BB30-98D4-4925-92AC-D693DCFC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CEC70-7345-43B3-A99C-23FD2E6F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55303-A859-4D8C-9ED4-26CB0D88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6CA13-C021-4136-A82F-449117501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F8358-828B-476D-9AB9-6E54DB05B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7C85D-BDB3-4075-8E5A-5E35D976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9F528-84AF-40D1-8CB2-9C583F94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C13E8B-31BD-487D-94A8-13A6D236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B64E3-ABED-4B80-B6DA-9237BEB3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841DB-CB39-4448-8D27-E5B2E9AC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7CC-2660-4778-821D-5585C73BE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49EEB-7879-43B9-8CC2-350959CB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C8C48-E5B0-4850-A50E-02A68383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69ADC-47AF-4E07-B619-F22D7F12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B34CB-DDA8-46FC-9248-FF0D3D5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A118A-550D-40E8-AF99-08BE5700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1DC5A-B19A-4AE6-863E-D8FBAEE4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BE535-22C4-4790-A30B-FDECF05EF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4F378-3E8E-4A42-9379-E7559613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650ED-7768-456E-9EA7-0CAE5D0B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D48E6-E79E-40D5-87C0-156FEF71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3200" y="617184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B808-F99C-4705-B5FB-51EDF7463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FA37-CD23-45DB-A0B1-982384BE1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CDB8-02CA-4BAF-A4EC-07C1AC60D2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5BD2-A6F8-42B9-869A-B002459124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7F47-5BD6-4ACF-AB5A-23942B9AAC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5CD1A-5B8B-4F16-842B-1C5E0E8C1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42CB-DFF7-4431-91F0-E4A6BFBC6E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DFD8-5531-4A6D-B7CE-45BC765815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3B7C-3256-47C7-AB7E-4D890A834E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666880" y="6248160"/>
            <a:ext cx="3657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A43B-9EB2-4CC2-A362-F6E75BD4C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E792E035-DBC6-4145-8A20-FBA77F3E2F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ABA2-C01C-4CE5-8F75-E6B32368A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6A02922E-0B39-4529-99A7-79CE3AFDF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90560" y="6244920"/>
            <a:ext cx="3886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361A23C9-CE5F-409A-AA4D-A8E7A495D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EC4F-387D-4DC5-9BDD-CBBE340E1B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4136-86AD-417C-A0BC-E5043568A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D2E0-C16A-4E74-BE75-61C242B48D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1"/>
          <p:cNvSpPr/>
          <p:nvPr/>
        </p:nvSpPr>
        <p:spPr>
          <a:xfrm>
            <a:off x="152280" y="7952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3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146240"/>
                <a:gridCol w="1020600"/>
                <a:gridCol w="1084320"/>
                <a:gridCol w="1082520"/>
                <a:gridCol w="1084320"/>
                <a:gridCol w="1082880"/>
              </a:tblGrid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3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4.7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urpo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 Comply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itude &amp; Extent of Radi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active Mate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914400" indent="-457200"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Radiological Haz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E2C7B63-BE2A-4D3E-ABB2-83B969BF92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(Continu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= Fetal Age at time of In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Transfer Coefficient of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imilated Radioactivity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ory Guide 8.3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0 = mrem/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A9A230A-0DFA-4633-9055-B306A65D92B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Cont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(Skin) Dose Equivalent (SDE) = Dose to a depth of 0.007 cm (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ep Dose Equivalent (DDE) =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1 cm (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s of Eye Dose Equivalent (LDE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o a depth of 0.3 cm (3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0B24C0D-C136-46F2-8A66-B645A351F2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amination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ulations Required for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 (54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 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7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/= 10 mrem (170,000 cpm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Measured with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Area = 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Dose Depth = 1,000 m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EABE573-DB00-4A3E-B80E-01873E65D5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ctivity-Hour Concen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/(2.22 E 6)(Eff.)(Are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= Activity-h Concentration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Counts per Minute-hour Total, cpm-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.22 E 6 = Conversion:  2.22E6 dpm/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ff = Detector Counting Efficienc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pm/dpm (0.10 for 15.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risker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rea = Surface Area (10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SDE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for DDE or L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53B192E-5418-4D97-BF3D-21D31872CE2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allow (Skin)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S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DE = Surface (Skin)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rad) for Beta 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=S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3,7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Beta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85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8E575AB-357D-494F-95AA-04A50DC10A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ep Dos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D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(DF)(A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= Deep Dose Equivalent (mrad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for Gam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F =DDE Dose Factor (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11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ad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-h for Gamma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 = Activity-hour Concent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µCi-h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7A9F6BA-1BE9-4247-A32C-D50AE28E17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s From Hot Parti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cles Usual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0 mic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ctivity Usually At Least 0.1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ny Discrete Particle &gt;/= 20,000 cp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ose Calculation Same as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760512C-1415-4247-BD4D-354D0308612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Organ Dos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quivalent (TO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DDE &amp;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E = DDE + C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2886C40-1EC1-4CA1-8A1D-D5A7F75D6D2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otal Effec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 (TED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of Internal (CEDE) and External (DDE) Expos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= CEDE + D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/&gt; Workers Age (Years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orker Limited to 1,0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0024417-837E-4B2A-8DD8-90BC84EF9C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Track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nd Report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 % of Limit – Dos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0 % of Limit – Dose Extension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Restricted Access to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ation of Prior Dose –NRC Form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Exposure Report – NRC Form-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B911E49-0E7F-40A0-9CB5-1BFDF3D78D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External Monitor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10% of 10CFR20.1201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gt; 0.15 rem (1.5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Dose &gt; 0.5 rem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&gt; 0.1 rem (1 mSv) During 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ntering High or Very High Radi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1FB8298-3EB6-40BE-ADCC-E57D67E3E3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– It’s Everywher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 Exposure – ALA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a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t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sks Low for Low Do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Limits – 10CFR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9A3CEBA-1840-4203-9C0F-381F601EB82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ic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sonnel Monitoring – In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reta Samp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D988E91-36D0-4E0F-917A-A9DD1AE380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mmary -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and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sorbed Dose - rad, 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Equivalent - rem, S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&amp; D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/Tissue Dose –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DC6DAC4-63B8-45FF-9504-1DCD15A744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ditions Requiring Monitoring for Internal Expo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ater than 10% of Applicable A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0.1 rem (1 mSv) for Min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 0.1 rem (1 mSv) During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regna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A613352-3953-40A2-8E1B-84AC0A468A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Limits &amp;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5 rems (0.05 Sv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DE + CDE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DE &lt;/= 15 rem (0.1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DE/Extremity &lt;/=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 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VA Administrative Limi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EDE &lt;/= 1 rem (0.01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72B4781-F3A6-4096-B57A-90A0ED3A7A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lanned Special Exposures (PSE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dition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uthorized in Writing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efo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posure Occ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Purp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formed of Dos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viduals Instructed in Measur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Keep Doses ALA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A568B36-5527-439C-8633-BC12B84930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mergency Dose Lim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ntary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viduals Informed of R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 Rem TEDE to Prev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Damage to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ious Hazard to Pers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Rem TEDE to Save a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8A1F068-B156-419D-8562-8CB579B2E20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osure to Pregnant W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0.5 rem (5 mSv) to Embryo/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py of Regulatory Guide 8.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 Airborne or Contaminated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itial Whole Body Count Perform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C9F0F89-AB81-4EEB-81F2-C70C266C59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s of Expos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7DE2CD9-EEDE-4206-ABD4-8D5E8426C4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Partial Bod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480EE43-44C6-4F48-97D7-B210C78099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rmoluminesc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mo – H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minescent -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AF271F9-03BF-4A8E-9BEF-0072ECF981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ersonnel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Monitor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8989"/>
                </a:solidFill>
                <a:latin typeface="Calibri"/>
              </a:rPr>
              <a:t>HTP001.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86D591F-67F6-4D59-8D62-3D37BF6AE9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lectron Trapp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TCD01"/>
          <p:cNvPicPr/>
          <p:nvPr/>
        </p:nvPicPr>
        <p:blipFill>
          <a:blip r:embed="rId1"/>
          <a:stretch/>
        </p:blipFill>
        <p:spPr>
          <a:xfrm>
            <a:off x="1905120" y="2228760"/>
            <a:ext cx="5333760" cy="3268800"/>
          </a:xfrm>
          <a:prstGeom prst="rect">
            <a:avLst/>
          </a:prstGeom>
          <a:ln w="0">
            <a:noFill/>
          </a:ln>
        </p:spPr>
      </p:pic>
      <p:sp>
        <p:nvSpPr>
          <p:cNvPr id="7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4E2C329-206B-48EC-870A-F23BE7A12F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T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EE75C28-22C9-4E7D-8A30-C1DD81D5E70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Cu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de Range (10 mR to 100,000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ng Data Retention (Low F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Respo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X-Rays, and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usable and Econom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t Susceptible to Radiofrequenc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terfer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11895A1-1E5B-4089-865B-BB2C6CDFDA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thium Borat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 txBox="1"/>
          <p:nvPr/>
        </p:nvSpPr>
        <p:spPr>
          <a:xfrm rot="16200000">
            <a:off x="-1334520" y="3143880"/>
            <a:ext cx="3828960" cy="81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adiation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49A9E82-E670-4A64-B709-047DAA7E87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1428840" y="186696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5"/>
          <p:cNvSpPr/>
          <p:nvPr/>
        </p:nvSpPr>
        <p:spPr>
          <a:xfrm>
            <a:off x="1542960" y="36003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6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7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8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9"/>
          <p:cNvSpPr/>
          <p:nvPr/>
        </p:nvSpPr>
        <p:spPr>
          <a:xfrm>
            <a:off x="1428840" y="2819520"/>
            <a:ext cx="325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10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1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2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4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180972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8"/>
          <p:cNvSpPr/>
          <p:nvPr/>
        </p:nvSpPr>
        <p:spPr>
          <a:xfrm flipV="1">
            <a:off x="1657440" y="2876040"/>
            <a:ext cx="1047600" cy="9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20"/>
          <p:cNvSpPr/>
          <p:nvPr/>
        </p:nvSpPr>
        <p:spPr>
          <a:xfrm>
            <a:off x="3238560" y="2781360"/>
            <a:ext cx="1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21"/>
          <p:cNvSpPr/>
          <p:nvPr/>
        </p:nvSpPr>
        <p:spPr>
          <a:xfrm flipV="1">
            <a:off x="2647800" y="2743200"/>
            <a:ext cx="66708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22"/>
          <p:cNvSpPr/>
          <p:nvPr/>
        </p:nvSpPr>
        <p:spPr>
          <a:xfrm flipV="1">
            <a:off x="3295800" y="2705040"/>
            <a:ext cx="1028520" cy="38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3"/>
          <p:cNvSpPr/>
          <p:nvPr/>
        </p:nvSpPr>
        <p:spPr>
          <a:xfrm flipV="1">
            <a:off x="1695600" y="4991040"/>
            <a:ext cx="10857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24"/>
          <p:cNvSpPr/>
          <p:nvPr/>
        </p:nvSpPr>
        <p:spPr>
          <a:xfrm flipV="1">
            <a:off x="2800440" y="4914720"/>
            <a:ext cx="571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5"/>
          <p:cNvSpPr/>
          <p:nvPr/>
        </p:nvSpPr>
        <p:spPr>
          <a:xfrm>
            <a:off x="3352680" y="48960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6"/>
          <p:cNvSpPr/>
          <p:nvPr/>
        </p:nvSpPr>
        <p:spPr>
          <a:xfrm>
            <a:off x="103392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7"/>
          <p:cNvSpPr/>
          <p:nvPr/>
        </p:nvSpPr>
        <p:spPr>
          <a:xfrm>
            <a:off x="1033920" y="270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8"/>
          <p:cNvSpPr/>
          <p:nvPr/>
        </p:nvSpPr>
        <p:spPr>
          <a:xfrm>
            <a:off x="1014840" y="175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29"/>
          <p:cNvSpPr/>
          <p:nvPr/>
        </p:nvSpPr>
        <p:spPr>
          <a:xfrm>
            <a:off x="1071720" y="563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30"/>
          <p:cNvSpPr/>
          <p:nvPr/>
        </p:nvSpPr>
        <p:spPr>
          <a:xfrm>
            <a:off x="1090800" y="478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31"/>
          <p:cNvSpPr/>
          <p:nvPr/>
        </p:nvSpPr>
        <p:spPr>
          <a:xfrm>
            <a:off x="1109880" y="4056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32"/>
          <p:cNvSpPr/>
          <p:nvPr/>
        </p:nvSpPr>
        <p:spPr>
          <a:xfrm>
            <a:off x="4938480" y="26114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33"/>
          <p:cNvSpPr/>
          <p:nvPr/>
        </p:nvSpPr>
        <p:spPr>
          <a:xfrm>
            <a:off x="4957560" y="4745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35"/>
          <p:cNvSpPr/>
          <p:nvPr/>
        </p:nvSpPr>
        <p:spPr>
          <a:xfrm>
            <a:off x="1357920" y="56944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36"/>
          <p:cNvSpPr/>
          <p:nvPr/>
        </p:nvSpPr>
        <p:spPr>
          <a:xfrm>
            <a:off x="2386080" y="569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7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8"/>
          <p:cNvSpPr/>
          <p:nvPr/>
        </p:nvSpPr>
        <p:spPr>
          <a:xfrm>
            <a:off x="4367880" y="57135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SO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:Tm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ge:  1 mR to 1,0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up to about 200 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and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ver responds to Low Energy X-R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Useful for Environmental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68EFD35-BBAA-4FA7-A156-ACF3DCC4439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lcium Sulf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onse Cur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 rot="16200000">
            <a:off x="-1524960" y="2839320"/>
            <a:ext cx="417204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diation Respon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er Roent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0CDBACF-FFA3-4BFA-97FC-4101EFEF2A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"/>
          <p:cNvSpPr/>
          <p:nvPr/>
        </p:nvSpPr>
        <p:spPr>
          <a:xfrm>
            <a:off x="1467000" y="1847880"/>
            <a:ext cx="3295440" cy="19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6"/>
          <p:cNvSpPr/>
          <p:nvPr/>
        </p:nvSpPr>
        <p:spPr>
          <a:xfrm>
            <a:off x="16192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7"/>
          <p:cNvSpPr/>
          <p:nvPr/>
        </p:nvSpPr>
        <p:spPr>
          <a:xfrm>
            <a:off x="2571840" y="35622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8"/>
          <p:cNvSpPr/>
          <p:nvPr/>
        </p:nvSpPr>
        <p:spPr>
          <a:xfrm>
            <a:off x="3524400" y="3543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9"/>
          <p:cNvSpPr/>
          <p:nvPr/>
        </p:nvSpPr>
        <p:spPr>
          <a:xfrm>
            <a:off x="4495680" y="3581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4"/>
          <p:cNvSpPr/>
          <p:nvPr/>
        </p:nvSpPr>
        <p:spPr>
          <a:xfrm>
            <a:off x="1467000" y="4172040"/>
            <a:ext cx="3295440" cy="156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15"/>
          <p:cNvSpPr/>
          <p:nvPr/>
        </p:nvSpPr>
        <p:spPr>
          <a:xfrm>
            <a:off x="1486080" y="4952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16"/>
          <p:cNvSpPr/>
          <p:nvPr/>
        </p:nvSpPr>
        <p:spPr>
          <a:xfrm>
            <a:off x="163836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17"/>
          <p:cNvSpPr/>
          <p:nvPr/>
        </p:nvSpPr>
        <p:spPr>
          <a:xfrm>
            <a:off x="2610000" y="55054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Line 18"/>
          <p:cNvSpPr/>
          <p:nvPr/>
        </p:nvSpPr>
        <p:spPr>
          <a:xfrm>
            <a:off x="358128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19"/>
          <p:cNvSpPr/>
          <p:nvPr/>
        </p:nvSpPr>
        <p:spPr>
          <a:xfrm>
            <a:off x="4552920" y="5524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0"/>
          <p:cNvSpPr/>
          <p:nvPr/>
        </p:nvSpPr>
        <p:spPr>
          <a:xfrm>
            <a:off x="1438200" y="6037200"/>
            <a:ext cx="18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1"/>
          <p:cNvSpPr/>
          <p:nvPr/>
        </p:nvSpPr>
        <p:spPr>
          <a:xfrm>
            <a:off x="1733400" y="59245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ton Energy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2"/>
          <p:cNvSpPr/>
          <p:nvPr/>
        </p:nvSpPr>
        <p:spPr>
          <a:xfrm>
            <a:off x="1090800" y="363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23"/>
          <p:cNvSpPr/>
          <p:nvPr/>
        </p:nvSpPr>
        <p:spPr>
          <a:xfrm>
            <a:off x="1053000" y="2874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24"/>
          <p:cNvSpPr/>
          <p:nvPr/>
        </p:nvSpPr>
        <p:spPr>
          <a:xfrm>
            <a:off x="957960" y="2208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5"/>
          <p:cNvSpPr/>
          <p:nvPr/>
        </p:nvSpPr>
        <p:spPr>
          <a:xfrm>
            <a:off x="1090800" y="5599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26"/>
          <p:cNvSpPr/>
          <p:nvPr/>
        </p:nvSpPr>
        <p:spPr>
          <a:xfrm>
            <a:off x="1071720" y="481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27"/>
          <p:cNvSpPr/>
          <p:nvPr/>
        </p:nvSpPr>
        <p:spPr>
          <a:xfrm>
            <a:off x="1071720" y="4037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Line 28"/>
          <p:cNvSpPr/>
          <p:nvPr/>
        </p:nvSpPr>
        <p:spPr>
          <a:xfrm>
            <a:off x="1486080" y="302904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Line 32"/>
          <p:cNvSpPr/>
          <p:nvPr/>
        </p:nvSpPr>
        <p:spPr>
          <a:xfrm>
            <a:off x="1486080" y="2381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36"/>
          <p:cNvSpPr/>
          <p:nvPr/>
        </p:nvSpPr>
        <p:spPr>
          <a:xfrm>
            <a:off x="1847880" y="2209680"/>
            <a:ext cx="2514600" cy="1409760"/>
          </a:xfrm>
          <a:custGeom>
            <a:avLst/>
            <a:gdLst/>
            <a:ahLst/>
            <a:rect l="l" t="t" r="r" b="b"/>
            <a:pathLst>
              <a:path w="1584" h="888">
                <a:moveTo>
                  <a:pt x="0" y="0"/>
                </a:moveTo>
                <a:cubicBezTo>
                  <a:pt x="36" y="24"/>
                  <a:pt x="72" y="36"/>
                  <a:pt x="108" y="60"/>
                </a:cubicBezTo>
                <a:cubicBezTo>
                  <a:pt x="133" y="135"/>
                  <a:pt x="161" y="219"/>
                  <a:pt x="228" y="264"/>
                </a:cubicBezTo>
                <a:cubicBezTo>
                  <a:pt x="241" y="303"/>
                  <a:pt x="275" y="333"/>
                  <a:pt x="288" y="372"/>
                </a:cubicBezTo>
                <a:cubicBezTo>
                  <a:pt x="315" y="454"/>
                  <a:pt x="324" y="480"/>
                  <a:pt x="372" y="552"/>
                </a:cubicBezTo>
                <a:cubicBezTo>
                  <a:pt x="388" y="575"/>
                  <a:pt x="472" y="754"/>
                  <a:pt x="492" y="768"/>
                </a:cubicBezTo>
                <a:cubicBezTo>
                  <a:pt x="516" y="784"/>
                  <a:pt x="540" y="800"/>
                  <a:pt x="564" y="816"/>
                </a:cubicBezTo>
                <a:cubicBezTo>
                  <a:pt x="585" y="830"/>
                  <a:pt x="612" y="832"/>
                  <a:pt x="636" y="840"/>
                </a:cubicBezTo>
                <a:cubicBezTo>
                  <a:pt x="781" y="888"/>
                  <a:pt x="875" y="881"/>
                  <a:pt x="1044" y="888"/>
                </a:cubicBezTo>
                <a:cubicBezTo>
                  <a:pt x="1130" y="877"/>
                  <a:pt x="1203" y="855"/>
                  <a:pt x="1284" y="828"/>
                </a:cubicBezTo>
                <a:cubicBezTo>
                  <a:pt x="1326" y="814"/>
                  <a:pt x="1372" y="820"/>
                  <a:pt x="1416" y="816"/>
                </a:cubicBezTo>
                <a:cubicBezTo>
                  <a:pt x="1570" y="765"/>
                  <a:pt x="1412" y="814"/>
                  <a:pt x="1548" y="780"/>
                </a:cubicBezTo>
                <a:cubicBezTo>
                  <a:pt x="1560" y="777"/>
                  <a:pt x="1584" y="768"/>
                  <a:pt x="1584" y="7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37"/>
          <p:cNvSpPr/>
          <p:nvPr/>
        </p:nvSpPr>
        <p:spPr>
          <a:xfrm>
            <a:off x="1847880" y="4743360"/>
            <a:ext cx="743040" cy="381240"/>
          </a:xfrm>
          <a:custGeom>
            <a:avLst/>
            <a:gdLst/>
            <a:ahLst/>
            <a:rect l="l" t="t" r="r" b="b"/>
            <a:pathLst>
              <a:path w="468" h="240">
                <a:moveTo>
                  <a:pt x="0" y="240"/>
                </a:moveTo>
                <a:cubicBezTo>
                  <a:pt x="21" y="177"/>
                  <a:pt x="64" y="163"/>
                  <a:pt x="120" y="144"/>
                </a:cubicBezTo>
                <a:cubicBezTo>
                  <a:pt x="128" y="132"/>
                  <a:pt x="133" y="117"/>
                  <a:pt x="144" y="108"/>
                </a:cubicBezTo>
                <a:cubicBezTo>
                  <a:pt x="166" y="89"/>
                  <a:pt x="216" y="60"/>
                  <a:pt x="216" y="60"/>
                </a:cubicBezTo>
                <a:cubicBezTo>
                  <a:pt x="251" y="7"/>
                  <a:pt x="263" y="15"/>
                  <a:pt x="324" y="0"/>
                </a:cubicBezTo>
                <a:cubicBezTo>
                  <a:pt x="348" y="8"/>
                  <a:pt x="388" y="0"/>
                  <a:pt x="396" y="24"/>
                </a:cubicBezTo>
                <a:cubicBezTo>
                  <a:pt x="400" y="36"/>
                  <a:pt x="400" y="50"/>
                  <a:pt x="408" y="60"/>
                </a:cubicBezTo>
                <a:cubicBezTo>
                  <a:pt x="424" y="80"/>
                  <a:pt x="450" y="90"/>
                  <a:pt x="468" y="1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 flipV="1">
            <a:off x="2590920" y="4933440"/>
            <a:ext cx="121896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47"/>
          <p:cNvSpPr/>
          <p:nvPr/>
        </p:nvSpPr>
        <p:spPr>
          <a:xfrm>
            <a:off x="3695760" y="4759200"/>
            <a:ext cx="762120" cy="174600"/>
          </a:xfrm>
          <a:custGeom>
            <a:avLst/>
            <a:gdLst/>
            <a:ahLst/>
            <a:rect l="l" t="t" r="r" b="b"/>
            <a:pathLst>
              <a:path w="480" h="110">
                <a:moveTo>
                  <a:pt x="0" y="110"/>
                </a:moveTo>
                <a:cubicBezTo>
                  <a:pt x="67" y="104"/>
                  <a:pt x="138" y="104"/>
                  <a:pt x="204" y="86"/>
                </a:cubicBezTo>
                <a:cubicBezTo>
                  <a:pt x="280" y="65"/>
                  <a:pt x="354" y="42"/>
                  <a:pt x="432" y="26"/>
                </a:cubicBezTo>
                <a:cubicBezTo>
                  <a:pt x="471" y="0"/>
                  <a:pt x="454" y="2"/>
                  <a:pt x="480" y="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8"/>
          <p:cNvSpPr/>
          <p:nvPr/>
        </p:nvSpPr>
        <p:spPr>
          <a:xfrm>
            <a:off x="1319760" y="56754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9"/>
          <p:cNvSpPr/>
          <p:nvPr/>
        </p:nvSpPr>
        <p:spPr>
          <a:xfrm>
            <a:off x="2348280" y="56754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50"/>
          <p:cNvSpPr/>
          <p:nvPr/>
        </p:nvSpPr>
        <p:spPr>
          <a:xfrm>
            <a:off x="3453120" y="5694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51"/>
          <p:cNvSpPr/>
          <p:nvPr/>
        </p:nvSpPr>
        <p:spPr>
          <a:xfrm>
            <a:off x="4329720" y="5694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52"/>
          <p:cNvSpPr/>
          <p:nvPr/>
        </p:nvSpPr>
        <p:spPr>
          <a:xfrm>
            <a:off x="4843440" y="24591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53"/>
          <p:cNvSpPr/>
          <p:nvPr/>
        </p:nvSpPr>
        <p:spPr>
          <a:xfrm>
            <a:off x="4957560" y="46879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imitations of Both Ty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Heat, Moisture, and Sh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Shield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ject to Improper Wear by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suse Results in Incorrect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rors from Logistical/Record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6ACEB38-AB38-4D50-9C1E-8585FC5990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Picture 3" descr=""/>
          <p:cNvPicPr/>
          <p:nvPr/>
        </p:nvPicPr>
        <p:blipFill>
          <a:blip r:embed="rId1"/>
          <a:stretch/>
        </p:blipFill>
        <p:spPr>
          <a:xfrm>
            <a:off x="43812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E418933-D4B9-484A-9607-79A02AC0F47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Picture 4" descr="MVC-030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93CA0BF-4475-4513-95ED-FEAA76FF7D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7"/>
          <p:cNvSpPr/>
          <p:nvPr/>
        </p:nvSpPr>
        <p:spPr>
          <a:xfrm>
            <a:off x="762120" y="285840"/>
            <a:ext cx="659124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Thermoluminescent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1" name="Picture 7" descr="MVC-023F"/>
          <p:cNvPicPr/>
          <p:nvPr/>
        </p:nvPicPr>
        <p:blipFill>
          <a:blip r:embed="rId1"/>
          <a:stretch/>
        </p:blipFill>
        <p:spPr>
          <a:xfrm>
            <a:off x="0" y="0"/>
            <a:ext cx="7683480" cy="6126120"/>
          </a:xfrm>
          <a:prstGeom prst="rect">
            <a:avLst/>
          </a:prstGeom>
          <a:ln w="0">
            <a:noFill/>
          </a:ln>
        </p:spPr>
      </p:pic>
      <p:sp>
        <p:nvSpPr>
          <p:cNvPr id="8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48076B4-CA62-4DD3-B70F-89FCED32782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0"/>
          <p:cNvSpPr/>
          <p:nvPr/>
        </p:nvSpPr>
        <p:spPr>
          <a:xfrm>
            <a:off x="4781520" y="666720"/>
            <a:ext cx="255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11"/>
          <p:cNvSpPr/>
          <p:nvPr/>
        </p:nvSpPr>
        <p:spPr>
          <a:xfrm>
            <a:off x="4686480" y="228600"/>
            <a:ext cx="2781000" cy="132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s &amp; Defin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ulations, Exposure Limits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Exposure Monito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erms &amp; Dose Calcul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28560"/>
                <a:tab algn="l" pos="1257480"/>
                <a:tab algn="l" pos="1886040"/>
                <a:tab algn="l" pos="2514600"/>
                <a:tab algn="l" pos="3143160"/>
                <a:tab algn="l" pos="3772080"/>
                <a:tab algn="l" pos="4400640"/>
                <a:tab algn="l" pos="502920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&amp;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FD9A506-9A29-4C31-BA87-1CAADEDF7D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6" name="Picture 4" descr="MVC-03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8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5ABEA97-5322-449B-84A1-6B36BB9966F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7"/>
          <p:cNvSpPr/>
          <p:nvPr/>
        </p:nvSpPr>
        <p:spPr>
          <a:xfrm>
            <a:off x="0" y="2286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8"/>
          <p:cNvSpPr/>
          <p:nvPr/>
        </p:nvSpPr>
        <p:spPr>
          <a:xfrm>
            <a:off x="2476440" y="361800"/>
            <a:ext cx="2266920" cy="581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f0dc4"/>
                </a:solidFill>
                <a:latin typeface="Arial"/>
              </a:rPr>
              <a:t>TLD Ba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D5F4F4E-8D6E-4895-9EB7-ABCCA44EB1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asuring Neutrons with TL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 Rather Than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 and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st Neutrons not Directly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s Moderated by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lower Recoil Neutrons Measu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bedo Effec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C00169C-4613-40DE-909F-8D49A2D60D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anasonic 802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Element #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TLD Materia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Calibri"/>
              </a:rPr>
              <a:t>Filtr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4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Cu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60 mg/cm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uSO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T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.7 mg Le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4720" indent="-54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2000160"/>
                <a:tab algn="l" pos="2286000"/>
                <a:tab algn="l" pos="5429160"/>
                <a:tab algn="l" pos="5657760"/>
                <a:tab algn="l" pos="7543800"/>
                <a:tab algn="l" pos="9429840"/>
              </a:tabLst>
            </a:pP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C5D3050-7664-4F1B-A9B5-F9382234323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ading Panasonic T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0" name="Picture 4" descr=""/>
          <p:cNvPicPr/>
          <p:nvPr/>
        </p:nvPicPr>
        <p:blipFill>
          <a:blip r:embed="rId1"/>
          <a:stretch/>
        </p:blipFill>
        <p:spPr>
          <a:xfrm>
            <a:off x="1057320" y="2592360"/>
            <a:ext cx="7029360" cy="254160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5243482-E7AB-4A29-866B-9E03BB77681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Calib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Calib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ily QC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ibration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-Line QC TLDs Dai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AA2DF1A-FA5E-4191-8B8C-83FB1C403C6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ystem QC/Q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DS Accredited by NIST and NVL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mparison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&amp; Verification Che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stical Review Techn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ed by External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Manager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utine Internal Eval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82D34C3-AEFE-46A3-B811-FC240F3126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adge Issue &amp;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&amp; Collected by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 Assigns a TLD Numb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d for a 3-Month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ed by T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TLDs Mai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D97E0DB-7A8C-40F7-842D-ACE5A4C987C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pecial Pu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 Dose Limits Excee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D Off Scale or Displays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/Relocation of Employ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y Control Ch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Badge or Neutron 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A4B9B60-D20D-4D85-AC01-9D15A579C5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the T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nt of Body, Neck to Wa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ditions May Require 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Coveralls in Contaminat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Not Open or Pamper With the Ba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2A9D35C-C970-4079-90E2-D1C698C9595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Dose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e Regulations &amp; Lim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miliar with Radiation Monitoring De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Operation of Various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imetry Administrative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Multiple &amp; Extremity Dosime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ry for Various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4F08C04-ECC1-416D-8BAC-EB0C396253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8" name="Picture 8" descr="MVC-041F"/>
          <p:cNvPicPr/>
          <p:nvPr/>
        </p:nvPicPr>
        <p:blipFill>
          <a:blip r:embed="rId1"/>
          <a:stretch/>
        </p:blipFill>
        <p:spPr>
          <a:xfrm>
            <a:off x="-422280" y="0"/>
            <a:ext cx="5192640" cy="603252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op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eari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osimet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46AE008-704C-4885-B67E-19F9A09E08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ple Bad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Dos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00 mrem/h &amp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est Dose Location Unkn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adiation Levels Unknown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Gradient Nonunifo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B9774BB-542D-437B-957B-88A2396BD8F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ulti-Badge 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n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gh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ft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(Not Wor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047F9F3-AB40-4E0B-84B5-B5D8EED094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Ba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500 mrem to Extrem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Unshielded Beta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ole Body (Except Hands) Shield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Small Non-Shielded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contamination of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love Box Ope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andling I-1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6526F28-D14D-4797-AB59-0E2D7568FBF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tremity Dosime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2" name="Picture 5" descr="MVC-036F"/>
          <p:cNvPicPr/>
          <p:nvPr/>
        </p:nvPicPr>
        <p:blipFill>
          <a:blip r:embed="rId1"/>
          <a:stretch/>
        </p:blipFill>
        <p:spPr>
          <a:xfrm>
            <a:off x="952560" y="1630440"/>
            <a:ext cx="7124760" cy="427824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BC79128-C6B3-44F1-A4FB-9861EE05F97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aring Extremity Bad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5" name="Picture 7" descr="MVC-038F"/>
          <p:cNvPicPr/>
          <p:nvPr/>
        </p:nvPicPr>
        <p:blipFill>
          <a:blip r:embed="rId1"/>
          <a:stretch/>
        </p:blipFill>
        <p:spPr>
          <a:xfrm>
            <a:off x="1500120" y="1717560"/>
            <a:ext cx="6446880" cy="4222800"/>
          </a:xfrm>
          <a:prstGeom prst="rect">
            <a:avLst/>
          </a:prstGeom>
          <a:ln w="0">
            <a:noFill/>
          </a:ln>
        </p:spPr>
      </p:pic>
      <p:sp>
        <p:nvSpPr>
          <p:cNvPr id="9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0353909-9B47-47BF-99D8-8C4963512EE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ondary Dosi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ny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D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Periodically During Job Ass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on Front of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Inside in Contamination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87FEB5C-CB27-421A-A5F6-33370B7B40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" name="Picture 4" descr="MVC-019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2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CD46AA2-4EF1-4B9E-B348-BE5B7C6A7A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"/>
          <p:cNvSpPr/>
          <p:nvPr/>
        </p:nvSpPr>
        <p:spPr>
          <a:xfrm>
            <a:off x="1542960" y="0"/>
            <a:ext cx="44197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5" name="Picture 4" descr="MVC-022F"/>
          <p:cNvPicPr/>
          <p:nvPr/>
        </p:nvPicPr>
        <p:blipFill>
          <a:blip r:embed="rId1"/>
          <a:stretch/>
        </p:blipFill>
        <p:spPr>
          <a:xfrm>
            <a:off x="0" y="266760"/>
            <a:ext cx="7588080" cy="5859360"/>
          </a:xfrm>
          <a:prstGeom prst="rect">
            <a:avLst/>
          </a:prstGeom>
          <a:ln w="0">
            <a:noFill/>
          </a:ln>
        </p:spPr>
      </p:pic>
      <p:sp>
        <p:nvSpPr>
          <p:cNvPr id="92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4E2B62A-CC88-455D-97CF-CFE3DE6491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"/>
          <p:cNvSpPr/>
          <p:nvPr/>
        </p:nvSpPr>
        <p:spPr>
          <a:xfrm>
            <a:off x="838080" y="4991040"/>
            <a:ext cx="624852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Electronic Dosime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9" name="Picture 4" descr="MVC-021F"/>
          <p:cNvPicPr/>
          <p:nvPr/>
        </p:nvPicPr>
        <p:blipFill>
          <a:blip r:embed="rId1"/>
          <a:stretch/>
        </p:blipFill>
        <p:spPr>
          <a:xfrm>
            <a:off x="0" y="0"/>
            <a:ext cx="7588080" cy="6126120"/>
          </a:xfrm>
          <a:prstGeom prst="rect">
            <a:avLst/>
          </a:prstGeom>
          <a:ln w="0">
            <a:noFill/>
          </a:ln>
        </p:spPr>
      </p:pic>
      <p:sp>
        <p:nvSpPr>
          <p:cNvPr id="93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4C0179A-195D-418F-AA7B-7C88CFEF06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4400640" y="533520"/>
            <a:ext cx="2514600" cy="14770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P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f0dc4"/>
                </a:solidFill>
                <a:latin typeface="Arial"/>
              </a:rPr>
              <a:t>Cha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nabling Objectives: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Actions for Abnormal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Concepts of Internal Dosime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Radionuclides of Conce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Biological Effects &amp; Ris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Dose Calculation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Radioactivity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Tracking and 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6513856-1D02-446E-8FC0-8A1158FE66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20" descr="MVC-018F"/>
          <p:cNvPicPr/>
          <p:nvPr/>
        </p:nvPicPr>
        <p:blipFill>
          <a:blip r:embed="rId1"/>
          <a:stretch/>
        </p:blipFill>
        <p:spPr>
          <a:xfrm>
            <a:off x="0" y="0"/>
            <a:ext cx="9144000" cy="6126120"/>
          </a:xfrm>
          <a:prstGeom prst="rect">
            <a:avLst/>
          </a:prstGeom>
          <a:ln w="0">
            <a:noFill/>
          </a:ln>
        </p:spPr>
      </p:pic>
      <p:sp>
        <p:nvSpPr>
          <p:cNvPr id="9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71E7094-8E21-4A96-81E6-1A6FA5EC30E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ricted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Area –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CA – TLD &amp; DAD/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uniform Radiation Field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ple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Doses to Extremitie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ity TL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57FC0A0-9963-4673-8A6E-E44FF6B274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imetry Requirements for Work Area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utron Areas –Process TLD for Neu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 Radiation Area – Secondary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High Radiation Area – Secondar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Supplemental Dosi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ned Special Exposure –Per RADC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tors – Same as Esc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18C35D1-FA46-4287-9F11-CC7AF6CE3E1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imeter Discrepan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imeter Investigative Report (DIR)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 or Damaged T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t/Damaged/Malfunctioning D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uspect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condary Dosimet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/= 100 mrem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&lt;/= 25% Difference i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Customer Complaints &amp; Conc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68B6531-D88E-4DC1-9A7D-40DB3F03CB4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Pathway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s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 W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7005C9F-E0BC-4754-B228-C77A39AC05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ducing Internal Expos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ating, Drinking, Smoking, Chew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Dipping in R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r Protective Clothing Correct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 All W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pirators in 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Work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1D70366-8A55-404E-A076-8A76CE02537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limination of Internal Radioa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ogical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 of the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D7DA59F-96C2-4702-B5D1-4DBF50A6750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tential Health Effects and Ris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9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2395ABF-41FB-41B9-8E6C-864A206652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99960" y="96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aturally Occurring Radioactive Materi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514440" y="257148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-4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18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-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 1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-22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200 mrem/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49C7B39-D800-4368-A9FC-613DD5145F2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tential Health Eff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fro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lt; 10,000 mrem (100 m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enver, CO, Background 1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No Adverse Biological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ancer Associated with &gt; 50,000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 Leukemia, Lung, Colon &amp;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Long Laten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ndistinguishable from Cancers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n-Radiation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C8E9E84-7F60-4D87-AB48-4ECFAD50CAB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bsorbed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y – The SI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Gray = 1 Joule/Kilogra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gray = 100 ra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 – The Special Unit of Absorbed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rad = 100 ergs/gram or 0.01 Joule/k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ad = 0.01 gr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7303C96-5A3C-4706-AFD9-81958C6B80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ther 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&amp; Physical Hazards Contribute to the Same Dise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mo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Di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DCDC155-19FC-4909-B9AD-2BAF2AA2A13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38120" y="426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38120" y="1733040"/>
            <a:ext cx="82296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– Activity/Volume of Ai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x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c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– Curies of Radioactive Mater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n into th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– (10CFR20, Appendix B, Table 1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ention of Radioactive Material i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ulmonary Region of the Lung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=Days, W=Weeks, Y=Yea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531ED01-7B76-445A-A045-DCB334CD1F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 Limit on Intake (ALI) –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Taken into the Body in 1 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00 h) Resulting in a CEDE (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Dose) of 5 rem (0.05 Sv) or a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(Organ Dose) of 50 rem (0.5 S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raction (fALI) – Fraction of ALI from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Intake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I = Intake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AL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1911CB1-9802-4627-92BF-26D6C2EB7E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the ALI(s) for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 for Class W = 20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 for Class Y =    30 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7D9ED99-7545-4BBA-AA6F-7777A103403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8120" y="63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57200" y="188604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ived Air Concentration (DAC)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 of Air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Breathed for 2000 h at 1.2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h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0,000 ml/min) Results in an Intak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1 AL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0CFR20, Appendix B, Table 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3A9A509-7AAA-4750-99A2-36B509D5562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3812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Betwee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217188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= AL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/(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Breathing Rate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000 h/y)(60 min/h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20,000 ml/min),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= ALI (µCi)/(2.4 E 9 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3F26176-E48E-4ABD-B994-283F8F76E15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Exposure Terms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7334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 Fraction (fDAC) – Fraction of DAC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ing from Exposure to a Specif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of Radioac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C = Conc.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/DAC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our – The fDAC Multiplied by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of Exposure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fDAC)(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F05701D-FAC9-4593-B770-BED90C0824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 Fraction (fDAC) for 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1 E -9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/ml of Co-6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Oxide Fo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 for Co-60 (Oxide Form) =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 E -8 µCi/ml, an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AC = (1 E -9 µCi/ml)/(1 E -8 µCi/ml)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, fDAC = 0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5AC5481-E0AC-4778-922C-4DBBA27E18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ulate the DAC-h for Sample Problem # 3 Where the Exposure Time is 3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(0.1)(3 h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C-h = 0.3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5C1D6F8-C53B-4E29-9593-FC5C9A6964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ationship of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AC-h and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ALI is Based on an Exposur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rem (5,000 mrem) in 2,000 hours/y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,000 mrem/2000 h = 2.5 mrem/DAC-h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DAC-h = 2.5 mrem 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DEA0899-CB99-413E-B068-397B5D49A2A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its of Radiation Do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Equival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 – The Special Unit of Any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 = Absorbed Dose times 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rem = 0.01 sieve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evert (Sv) – The SI Unit of Quantit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ressed as Dose Equivalent (D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 Sv = 100 r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DF5C2C1-93D1-453D-A9E1-BE3FF83950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712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57200" y="224748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Concept of ALI and DAC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rmine if a Worker Should W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Respirator for a Specific Task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4E3F03C-F0FE-4BEC-8D0D-820DA0190C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se Rate = 24 mrem/h, Plus so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b Time: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Respirator = 2 h, 20 min, or 2.33 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out Respirator = 2 DAC-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7956327-9AF0-4704-B044-DB789EBDC0A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Dose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.33 h) = 56 mrem fro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Direct Radiatio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Exposure from Airbor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ity (Respirato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51EAE32-0A41-4079-97E0-2960C37FD6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Not Wearing a Respirator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4 mrem/h)(2 h) = 48 mrem, Direc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 DAC-h)(2.5 mrem/DAC-h) = 5 m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Airborne Radio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tal = 48 mrem + 5 mrem = 53 mr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707F7CD-DEE6-4C09-965A-15386F1F7BD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mple Problem #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earing a Respirator,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r Will Receiv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t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ective Dose Equivalent, Therefor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Respirator Should be Worn f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Job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9C6A9B3-0FC6-436E-B29C-705225944D8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ing Internal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adioactivity (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CFR20.1204 Requires Measu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be Take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ntrations of Radioactive Materia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Air in Work Areas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in the Bod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ntities of Radionuclides Excre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om the Body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ations of these Measur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0F2BE76-AC50-4966-B74D-390A2E854F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pli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nciple Means Used at TVA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monstrate Complian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 Sampling,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ing DAC-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A22D784-814B-435B-98D8-5132629347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ternal Dose Moni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ose Monitoring Required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0.1 ALI or 20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Ad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&gt;/= 100 mrem or 40 DAC-h/ye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Pregnant Wom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751458B-1C3C-406C-BB61-1B46DEA4CA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oassay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fore Initial Entry to Contamination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n Face Indicates Upt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sal Contamination De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or Suspected In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mination of Open W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ndomly (Evaluate Control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260B52D-C642-4FFA-8968-ADAD261F97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le Body 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In-Vivo Bioassa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mary Bioassay Techn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use Bed, Chair, Booth, or R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on Detectors Placed Near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ccumulated by Multichannel Analy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Analyzed by Compute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ed if Exposur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 20 DAC-h/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FBE9536-7933-49F6-B9E9-F2A1214391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Quality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6292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ype of Radi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Quality Fact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s,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or 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pha, Fis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ragments, etc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eutrons (Unknown Energy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igh-Energy Prot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1EB780F-4C80-4EBF-9A85-5521688A7D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3" name="Picture 14" descr="MVC-001F"/>
          <p:cNvPicPr/>
          <p:nvPr/>
        </p:nvPicPr>
        <p:blipFill>
          <a:blip r:embed="rId1"/>
          <a:stretch/>
        </p:blipFill>
        <p:spPr>
          <a:xfrm>
            <a:off x="0" y="0"/>
            <a:ext cx="7943760" cy="5959440"/>
          </a:xfrm>
          <a:prstGeom prst="rect">
            <a:avLst/>
          </a:prstGeom>
          <a:ln w="0">
            <a:noFill/>
          </a:ln>
        </p:spPr>
      </p:pic>
      <p:sp>
        <p:nvSpPr>
          <p:cNvPr id="10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95EA179-57BA-4A57-B2D5-9B65C4B772D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0" y="1455840"/>
            <a:ext cx="246708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I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9"/>
          <p:cNvSpPr/>
          <p:nvPr/>
        </p:nvSpPr>
        <p:spPr>
          <a:xfrm>
            <a:off x="1676520" y="2000160"/>
            <a:ext cx="1181160" cy="13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15"/>
          <p:cNvSpPr/>
          <p:nvPr/>
        </p:nvSpPr>
        <p:spPr>
          <a:xfrm>
            <a:off x="285840" y="723960"/>
            <a:ext cx="302904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Thyroid 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6"/>
          <p:cNvSpPr/>
          <p:nvPr/>
        </p:nvSpPr>
        <p:spPr>
          <a:xfrm>
            <a:off x="5886360" y="1657440"/>
            <a:ext cx="2171880" cy="1169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Germa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De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19"/>
          <p:cNvSpPr/>
          <p:nvPr/>
        </p:nvSpPr>
        <p:spPr>
          <a:xfrm flipH="1">
            <a:off x="5238720" y="2781360"/>
            <a:ext cx="95256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0"/>
          <p:cNvSpPr/>
          <p:nvPr/>
        </p:nvSpPr>
        <p:spPr>
          <a:xfrm>
            <a:off x="2990880" y="1257480"/>
            <a:ext cx="762120" cy="131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1"/>
          <p:cNvSpPr/>
          <p:nvPr/>
        </p:nvSpPr>
        <p:spPr>
          <a:xfrm>
            <a:off x="2133720" y="1943280"/>
            <a:ext cx="150480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12" descr="MVC-002F"/>
          <p:cNvPicPr/>
          <p:nvPr/>
        </p:nvPicPr>
        <p:blipFill>
          <a:blip r:embed="rId1"/>
          <a:stretch/>
        </p:blipFill>
        <p:spPr>
          <a:xfrm>
            <a:off x="30240" y="0"/>
            <a:ext cx="4587840" cy="613404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781520" y="2400480"/>
            <a:ext cx="403848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oth Wh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dy Coun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B74F9B3-A958-48DE-8588-D082ACBE9F4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7" name="Picture 14" descr="MVC-006F"/>
          <p:cNvPicPr/>
          <p:nvPr/>
        </p:nvPicPr>
        <p:blipFill>
          <a:blip r:embed="rId1"/>
          <a:stretch/>
        </p:blipFill>
        <p:spPr>
          <a:xfrm>
            <a:off x="0" y="0"/>
            <a:ext cx="4583160" cy="6134040"/>
          </a:xfrm>
          <a:prstGeom prst="rect">
            <a:avLst/>
          </a:prstGeom>
          <a:ln w="0">
            <a:noFill/>
          </a:ln>
        </p:spPr>
      </p:pic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channel Analyzer System Used for Whole Body Coun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Slide Number Placeholder 6"/>
          <p:cNvSpPr/>
          <p:nvPr/>
        </p:nvSpPr>
        <p:spPr>
          <a:xfrm>
            <a:off x="4572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7ACB5FB-EAFC-418E-BA9C-6418FFF297E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BC Measur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ality Assu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surement Performance Verif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QA)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rces Traceable to 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Expected 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MQA Inter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ind Phan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Results with Known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AADF7F8-D12A-436E-B69F-DC6221F38B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ntaminate and Follow-up C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Unt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Activity F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More Decr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tic Count if Radioactivity Contin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CDE291B-A063-43C2-B749-66FD937310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tions Taken f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sitive Results: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le Body Count (WBC)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Sampl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al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E736888-D3B2-4E63-8669-1EA305EC5A8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and Fecal S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ples Taken f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o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id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51F8DC7-5F18-44DA-9BE3-FFB27224F0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-Vitro Bioassa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ed by ERM&amp;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 in Individual’s Exposure Re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y Trend Re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B3D980-D31E-471E-81A3-D769D76B78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quired Actions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ul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&gt;/= 0.01 ALI or 20 DAC-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Invest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 Internal &amp; Exter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llow-Up Bioass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 Intake &amp; CE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on NRC Form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4404C5E-7D98-41A2-8DD3-D6210B0B09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erms &amp; Calcu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itted Effective Dose Equivalent-(CE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a Function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ALI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borne Concentration &amp; DAC, or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ide Intake &amp; Dose Convers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oeffic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EE1CFC1-0916-4E96-B6F1-25BC1D73D2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ersonnel Monitoring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quired by 10CFR20.150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E5F3DA8-BF45-4047-B5A0-A7CF22C201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EDE From C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CDE), Wher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Weighting Factor (rem) for ea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Organ or Tiss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 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D1AB107-69AE-4703-9E6A-8D68075249E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uclide 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f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85716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ALI for 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C6A2B59-D58C-4D25-8317-6F3B7F63DA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t)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 = Annual Stochastic Limit (5 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= Airborne Concentration (µCi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Time of Exposure (hou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AC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CD628CF-5F9F-49FE-BC10-01965D396F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EDE From Nuclide Intak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amp; 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hodology Used by HIS-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CEDE = Committed Effective Dos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Equivalent,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or Ingestion Intak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uclide i 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&amp;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EPA Report No. 11), 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71995B7-01C2-4407-8451-FAD23A5DFA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mmitted Dose Equival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rgan or Tissue Specific Committed Dose Equivalent (CDE) Must be Calculated When the CED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&gt;/= 1.0 r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or an Overdose has Occur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1551548-C7A3-4D3A-BDBF-3302B38B0A7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ederal Guidance Report No. 1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deral Guidance Report No. 11 (EPA Report No. 11) Provides Conversion Factors for CDE per Unit Intake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halation (Table 2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gestion (Table 2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sion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v/Bq * 3.7 E 6 = rem/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Sv/Bq * 3.7 E 9 = mrem/µ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DEE5C4B-95B2-4B1E-8FF6-61ECF0C347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ake &amp; AL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50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/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 = Committed Dose Equival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halation Intake for Nuclide i (µCi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L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ALI for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EF93C3D-6BB4-419F-A69A-D737C95A9A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Airbor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ntration &amp; DA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109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50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/(2,000 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]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DE=Committed Dose Equivalent (m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50 = Annual Nonstochastic Limi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Airborne Concentration of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 = Duration of Exposure (hour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2000 = Hours in a Work Y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A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DAC for Nuclide i (µCi/m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109440">
              <a:spcBef>
                <a:spcPts val="799"/>
              </a:spcBef>
              <a:tabLst>
                <a:tab algn="l" pos="0"/>
                <a:tab algn="l" pos="45720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B636BDD-7B53-41AF-AB41-344758AFAF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DE From Intake &amp;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ose Conversion Coeffici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(Ii * 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D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Committed Dose Equivalent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or Tissue t (re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Intake for Nuclide i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µC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Nonstochastic Dose Conver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for Tissue t and Nuclide 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rem/µCi) from Federal Guidanc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port No. 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6518424-453E-4546-AD0B-5C1F2475AC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ose to Embryo/Fe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E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∑[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T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(1,000), Where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E = Dose Equivalent (mrem) to Fe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Intake (µCi) for Nuclide 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DC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i,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Fetal Dose Convers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Coefficient (rem/µCi) for Mother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ssimilation of Radionuclide i a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Fetal Age t (Regulatory Guide 8.3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D64448A-5BE6-424F-B7C6-0F46B79A41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16:16:16Z</dcterms:created>
  <dc:creator>Ralph G. Wallace`</dc:creator>
  <dc:description/>
  <dc:language>en-US</dc:language>
  <cp:lastModifiedBy>Peggy Hines IRSC</cp:lastModifiedBy>
  <dcterms:modified xsi:type="dcterms:W3CDTF">2013-02-18T19:25:41Z</dcterms:modified>
  <cp:revision>28</cp:revision>
  <dc:subject/>
  <dc:title>Personnel Monitoring</dc:title>
</cp:coreProperties>
</file>