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AF4A-BC13-4A8A-A377-9589F89B7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BAA5-A7F5-4C7F-AD96-5C46AE7CF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5BC6-AAF5-4858-BDDA-3B740115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856-C188-4098-B435-AD270CEA5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CF91-84CE-4C35-A446-59FAB6D9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72F-D32B-4013-8A6D-5992CF4F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9E97-CC4F-45FC-A0C0-4D356BE2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1F12-53C5-4F20-9C36-51773112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21BA-A55B-4D92-B133-2CC04614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8B92-1FD7-4F6D-B902-A09A8C89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BAB4-95A9-4F3D-ADE5-F018632E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DDA8-4FA2-4176-902F-E6CE896A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7B91-DFDE-4781-9C64-91072774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BF9-325B-48E8-BFD1-D52C08FE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9A9C-2129-4EBA-B13A-6925963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B5EC-6C05-48B1-B260-D8E4DD76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B67A-E135-4FA1-9AF9-3DCBB04F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42D2-37CB-4646-AD73-EDCCB400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6E3F4-9E1F-49BA-8B9D-C7371C15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AB9E-71CA-4B09-B715-DB99240C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DB5F-24B1-4C86-9295-E3AEED6E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CA3E-5F50-4A84-B6E0-ECB391BC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837B-172B-4C0A-9AF8-31288378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4BC-6428-4CCB-9CBB-2DDA4E99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07A9-CDC4-47CE-9BEA-C5EF5323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DFD-0C03-451A-809D-B3455EDA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3A24-6F35-4DBB-B398-499BE34EFE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1BACE9D0-47F5-4C94-B733-184672123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9F08C96A-4C2C-4918-9934-36C94D9D1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6781680" y="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5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5D0A2F-4D3E-4377-ABF4-8D9E9BCBA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70DF1BB4-565C-40A5-96C2-F2430BE03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"/>
          <p:cNvSpPr/>
          <p:nvPr/>
        </p:nvSpPr>
        <p:spPr>
          <a:xfrm>
            <a:off x="1752480" y="634032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VAN Technical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lth Physics (RADCON) Initial Training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F311-41BB-4A95-A627-403457574B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52280" y="114300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ctors, gas-filled, scintillation, alpha source, beta source, counter test, counting efficiency,  minimum detectable activity, percent slope, counter voltage, source 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41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324000" y="2133720"/>
          <a:ext cx="8667720" cy="1828800"/>
        </p:xfrm>
        <a:graphic>
          <a:graphicData uri="http://schemas.openxmlformats.org/drawingml/2006/table">
            <a:tbl>
              <a:tblPr/>
              <a:tblGrid>
                <a:gridCol w="1047600"/>
                <a:gridCol w="1066680"/>
                <a:gridCol w="1067040"/>
                <a:gridCol w="761760"/>
                <a:gridCol w="990720"/>
                <a:gridCol w="990720"/>
                <a:gridCol w="1295280"/>
                <a:gridCol w="144792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.7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ystem Reliabil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eck 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– Tc-9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– Th-2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eable to National Institute of Standards and Technology (NI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c-9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211,0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a Energy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Average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85 MeV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Maximum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295 M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Conservativ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ays by Beta only (No Gam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Daughter In-Grow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racteristics of Th-23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Half-Life (75,400 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Particle Energi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8 MeV, 76%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62 MeV, 24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ields an Efficiency Appropriate with Alphas in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RROR PREVENTION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WAYS FOLLOW PROCEDU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N HANDLING SOURCES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ACTIVE MATERIAL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tting the Operating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AUTION: 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djust Detector Voltage Slowly. 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pid High Voltage Transits Can Damage Detec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CUS ON THE F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dustrial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quipment Reliabilit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Take Care of Your Equip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cellence in Human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olerance for Equipment Deficienci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Report Probl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Lowest Voltage Setting Producing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ert Source into Cou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Voltage 50 Volts &amp; Re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 until Counts Rise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o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Operating Vol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cessive Vol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UTION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cessive Applied Voltage Ma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sult in Detector Damage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 Not Exceed the Following Values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Counters – 19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-M Detectors                      – 1600 Volt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cintillation Counters          – 1500 Vo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alculate Percent Sl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% Slope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2 X 10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4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(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– C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Calibri"/>
              </a:rPr>
              <a:t>1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(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pm at Applied Voltage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Base of Plateau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Voltage at Top of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ckground Deter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erformed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sert Empty, Clean Planchet into Cha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quire 10-Minute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2 Types of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3 Types of Gas Filled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2 Scintillation Detector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Beta and Alpha Sources Used to Check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i-Square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Operating Voltage Established and S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sure Background Determ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 up Instr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Approximately 20 1-Minute Counts 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mpute Average of 1-Minute Counts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quare Each Count Value (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lculation (Continue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um all 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Val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e: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∑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[x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(x-bar)]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/x-b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Verify </a:t>
            </a:r>
            <a:r>
              <a:rPr b="1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Limi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formed in Conjunction with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ndout 4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Lower &amp; Upper 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unting Efficiency (Absolut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  =  (Number of Pulses Recorded)/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(Number of Radiation Quant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Emitt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quire 10-Minute Cou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ctivity Which Increases Instrument Readings by an Amount Equal to 3 Times the Standard Deviation of the Background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Handout 5 Workshee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aracteris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Plat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-Squar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 Check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Maximum Voltages for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me the Statistical Test Used for Laboratory Cou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the Equation for this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Expected Value for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Counting Time for 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Counting 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e Minimum Detectable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Conditions that Indicate the Presence of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tectors Used i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aboratory Cou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as-Filled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onizat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s Proportional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iger-Mueller (G-M) Det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-M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8" descr="Scaler, Beta-Gamma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mm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dium Iodide (Thallium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NaI(T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pha Detect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inc Sulfid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 Z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ZnS Detector with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udlum 2200 Count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Alpha Scaler"/>
          <p:cNvPicPr/>
          <p:nvPr/>
        </p:nvPicPr>
        <p:blipFill>
          <a:blip r:embed="rId1"/>
          <a:stretch/>
        </p:blipFill>
        <p:spPr>
          <a:xfrm>
            <a:off x="2362320" y="1447920"/>
            <a:ext cx="403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12:29:57Z</dcterms:created>
  <dc:creator>Ralph G. Wallace`</dc:creator>
  <dc:description/>
  <dc:language>en-US</dc:language>
  <cp:lastModifiedBy>Peggy Hines IRSC</cp:lastModifiedBy>
  <dcterms:modified xsi:type="dcterms:W3CDTF">2013-04-02T18:31:00Z</dcterms:modified>
  <cp:revision>16</cp:revision>
  <dc:subject/>
  <dc:title>CORE RADIOLOCICAL  INSTRUCTIONS</dc:title>
</cp:coreProperties>
</file>