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0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44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33.jpeg" ContentType="image/jpeg"/>
  <Override PartName="/ppt/media/image37.jpeg" ContentType="image/jpeg"/>
  <Override PartName="/ppt/media/image41.jpeg" ContentType="image/jpeg"/>
  <Override PartName="/ppt/media/image45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46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47.jpeg" ContentType="image/jpeg"/>
  <Override PartName="/ppt/media/image4.png" ContentType="image/png"/>
  <Override PartName="/ppt/media/image11.jpeg" ContentType="image/jpeg"/>
  <Override PartName="/ppt/media/image9.jpeg" ContentType="image/jpeg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1088-CFFA-4E19-B1BC-6F4EF960CC3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4703-6E11-4263-A93E-8E82D8BDFBD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C474-2BDF-4874-B28E-CD3FE563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7133-4D61-4393-B6A0-54F22726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309C7-96EF-442E-BF79-BF0987D4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DF7A9-282C-4465-A129-18FA84C9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F750D-3D4B-4668-8F78-238D22E0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DBCAD-C669-427C-8623-3508FA25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FBE04-DDDD-47A7-AC8C-0B64A7FB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A9B80-5CDF-4A4A-8385-EE84EF7C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F80FE-1F52-4FA8-BE35-7DDC99D9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16EA5-6CBB-45E6-B4A9-98B58E17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30AA5-E1B7-4595-B697-A2809742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CE52E-60F4-420A-9EB0-4A6FB119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4073-F4B5-4953-A30C-CC015395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D6220-B07B-4AA6-B7A5-D6C89913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68FC1-5646-4488-BB0E-EF025AD7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64755-9289-4A5B-B171-5524028D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6B7DE-9BA0-4042-A715-0C9254A9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CC871-49CF-423F-B66E-5083B81C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FF605-71A4-4525-BC83-B0A3F90C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B3BF5-4C15-4EF6-86CE-E9A939FD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3FFB8-669C-4AEF-8A79-6A908D35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E4140-89A1-4026-8DF3-B0F1DC7A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2361F-832A-4248-B350-332DB051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A527-B65B-484D-B695-7EC61E5D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495E6-A2CB-493D-A8A3-2C42855F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2DDDE-AFA1-42EB-88A0-B81DBB59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630CC-04E0-4713-84C6-099D5784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B62B1-9542-4365-A7BF-9C4B0EE8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11209-96A7-4199-BFF9-7F508F1D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8542D-7F8D-49D8-B674-2E71F193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D7788-4BDE-4D07-A11D-234D1B61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89B06-C007-49E0-A5CF-DD5E3CE9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AD648-F1AF-41C9-8099-F9CC5DB5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DC9B6-311D-419B-89E4-DD97F307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48CD-3D72-443F-A2E9-BA133187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08801-C0D5-4D39-802F-0DAD7B5E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226FA-0804-4274-B594-B104224C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69AFB-2025-4FE3-BC43-2B6D959C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540DD-8EA8-4E20-AE16-E71EA420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A4B70-654F-4033-9F0A-10CCD5F2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99776-F2BB-4B45-A013-207F5B50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A5A2B-0BCA-48AF-B8F3-C19EAA62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8E1EE-D1B1-4FA5-A9FA-BBA37CD0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B3525-05D0-424D-BFFF-34DB6884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D153C-C9E3-4C22-A3EE-29BB1B64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5BD9-3BE8-44A8-8F9D-39492AB2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6C347-EAE7-4EDB-8F60-D11E0F10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EC280-AF4D-4578-BA3B-8458D6C2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55D27-2C9B-4C09-B790-9133BAC2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3D1C8-DB10-48AD-AB7C-385E0908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BDDD1-E95A-43CA-8485-C214043A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CEEB5-5EC5-462F-A4B2-524ABF07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B4E110-C66B-42DF-AB8F-F86E182A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591F69-71E0-4AD0-9F4C-ADD89E82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D35F39-0375-40C1-ADCB-A75F3872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69F226-EBDF-49F9-874B-9E0733DF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BE59-5235-4490-B1D7-1EE81D4B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74ED3-F37C-4317-B287-BA2E2B11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82F776-F897-4777-987F-5F1EC905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090FB3-4692-41C7-8EBA-A7386953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4B2E59-2CD8-4100-88F0-A1F580F2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8FE311-1716-4C33-87F5-56FD7E6D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90F80A-16E4-4C9D-B236-62DE3E7D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3066BC-6BD2-4EF4-852E-482D9BAE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60A33D-312B-4669-A0D3-A749EC8B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C563A0-2CFD-4C69-9531-0A0B0470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5D39EA-9974-4BF6-9732-5F0688C9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0076-E7BB-479F-A8E1-E125BE60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A6A7DC-FB53-4B55-9C8F-07E97C4A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C4F513-B7C5-4D65-8030-B716B220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F3F5CB-CC71-432F-AE85-62F94810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2BC5FE-C3C9-4936-AA02-79583E03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0B58E3-ECEA-4F5E-B1AD-8FBD8A23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82828D-CC8C-4316-B6A3-544E00F2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DE0644-BAD7-4C3C-B850-5E0A371C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2278DA-3FAC-45FD-BE99-00AC6E31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FDEB85-D1CD-47E1-80AE-C937AF60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6A9A-9F35-4D41-8EDC-ED87FC4B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1B96-6ABE-4B47-9DB5-DA179491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92B6-6D77-4DFC-96BB-51288372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8772-4863-41AE-9AA0-6DECCD82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CA3F-D2D9-4410-9D64-BC58D28A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DB1D-BCF5-4585-A61B-1F5A7407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3379-147D-403D-86C9-F2FE3415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D158-F6F8-42D2-8D67-248ACA6E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D924-67BE-45BA-B848-B1C7D0B9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DF1A9-CC04-44D2-8AAC-430EBE9B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D1B14-B807-4369-88D1-DD0C69ED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C8404-2855-4511-AAB5-E9A5AA42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8FDB4-48E7-4C34-ADB0-29DC5158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3D4E9-13E3-4649-89D7-F12EBF3B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99AB-B96C-45C9-ACBC-A7DBAB91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DF631-B361-4AF6-9449-F34B0395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88AA3-4D93-48B2-90FC-7E860C84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C75C9-DDC3-45F4-8D75-3ECB2617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29A22-83CE-44AE-AD64-AE8028BC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22FA9-9B5A-4857-8FC7-F5ED5DCE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861C7-F4A3-4F5E-A1F8-0D4DD28C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7981C-0BFC-417F-AFDD-5A90893F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47941-640F-42EB-BA5A-CCB5D070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4493E-904B-447C-BF6E-1F434F71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47714-35AA-40FF-BB24-A7B1E642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644F-E19A-4517-8AD8-85A292E2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A02BC-EB35-4883-ADD9-FB7EBE20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A3E71-B149-4377-A540-6EAE19AE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1A20D-8E79-4AB0-AE82-4E48B0F4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EAAAF-C09A-40BA-9620-23F75303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47960-E5CD-4FA1-A9D8-41E60D29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7BA8D-9A49-4D96-94F7-90B4A6EF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44039-C0CB-4EC2-8E80-0C5FC14B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A9B1B-BD61-48EF-9FDA-5FD92148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E8A38-34C1-43F4-8828-3946CA4A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4258D-0134-4B5D-B8AC-AA5A1F52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3144-512C-4AE8-88F4-0CFE0223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B90D2-56A9-4C89-8AA6-1B6F8824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C8A39-8B41-430D-8920-35744A86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3408E-0F7D-4190-8938-51A99E07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B0067-FDD3-4AB4-9D87-5E2128A1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292AC-E7FA-405C-8CFD-06368455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E9B2E-5DC2-49E4-A264-88071C05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2A82F-AC1C-4B91-A4BE-AF30563B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9CBFD-B26D-4E9C-A2A4-5FE9E5C4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91D07-BA34-436D-B55D-CAD0EF9C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D0D27-ECC0-40D5-B539-E2D3BD56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1F32-1A62-4EA6-95F7-A72C69C6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73298-2803-419F-9092-1461EBEC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42124-4DF1-4D65-9938-C8DEB457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BB233-4FCE-4C4F-9BC4-2580DFA4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1A6DB-8FCF-4E61-B210-47D47EDF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EDC88-5553-456E-8822-8758C4A4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CB555-89CC-4960-896E-855334E7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33A73-276C-43AE-B087-264544F2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84213-B52C-4D3C-9DA0-2050A8C9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71E0E-A4C7-4469-AE8E-9B286C4E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2396E-2B0E-494E-A3CC-0CA3E5FC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D42A-F4AA-4C5D-839C-449466D9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E8A43-D706-4FB6-8932-E4FB1408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ACDE6-99C1-4847-BA5C-B3B316AE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37F0E-C831-4F75-AE28-06E0DD52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29771-5AE4-4EEF-9756-06A1C545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D5498-9E15-427D-A59C-C708764C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A650A-31D4-4DCA-AE6D-92D7E35C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08F78-2421-4383-B42E-6474F9F0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08AA2-C534-4496-A47F-55A0EC14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AAAD4-621E-4AB0-BC62-B32C79AE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99166-9E67-426B-8D20-92F56EF2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E1C1-CB9D-4C86-99EC-3E773201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62A1C-613D-409D-81D1-F9BA97D5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8484F-55EF-4818-8125-9F8FDA20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CD8E1-8DE1-4DAE-9A56-BDC5C7D6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5D010-009D-4492-AA16-C9F862CE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CC68F-4F30-4D2A-9941-A590151A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AFBE8-EF3F-4A4F-9492-A3EE5D1F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D3F32-464C-428C-8741-6BF2D785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DBF4C-984F-4DE4-8E14-5E50B84A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CBA65-B60F-4FE2-A330-0AC34D91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9BD5E-2279-4C7C-A37F-518E6609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57DE-3A2C-4522-B283-AFEA6746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0EB09-D80C-4A32-91D8-2583046B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B8B2D-D823-420F-BB0E-3190D71D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89AC8-D90B-471E-97E6-28D1697A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1B6B2-B689-4A12-8CB4-B364B534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7207A-F16C-4999-A081-A3FCC0BF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A5D14-BA49-4D9C-AA65-A7D0D2C6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D6925-C766-40FF-81EC-FF4906B4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5469C-E082-402F-90E5-EB1CAC72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C1729-0C36-4633-87ED-CE99DFB3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EEF50-5A0C-4B61-8393-33CF4C64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6: Portable Radiation Survey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844D-2931-41E1-91BC-0D98B1AAE8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E7AE-0273-4AA6-8BA1-DC68C675AC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6429-1433-46C4-8B22-978856F7C0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E301-73CA-41CA-BFF2-8768CCFB20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463E-551A-4B54-BE7C-B4C23EEF95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7419-5B81-4644-9EFF-F0DBF2B135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4C46-05E6-4849-8497-843029BC2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6: Portable Radiation Survey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71D7-E46A-4658-8DB4-96F071AB3F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2A78-961F-4FE8-AC37-A22103E422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1C7E-7F58-4591-BAA6-CED783AF5A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27BF-39E0-464C-B972-09529B5B54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E97F-EB3D-4080-9241-A27A62E75D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6EF7-EFB3-4D4A-9FCA-A024D63E37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59B4-E545-44DD-B582-A4D3A76E31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vey instruments, ionization, gas filled, scintillation, thermoluminesence, geiger-mueller detectors, beta, gamma, neutron, alpha, ion chamber, eberline instruments, frisking device, air sampler, radiation levels, proportional counter, loose surf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195560"/>
                <a:gridCol w="97164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 Ampl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28600" y="8377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lse magnitude determin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ed vol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mber of initial (primary) ionizing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 number based on specific ionization and detector s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s amplification factor for the particular gas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total # of collected electrons to # of primary electr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s ampl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initial (primary) ion pair is formed and moves toward electrodes, secondary ionization occ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tional ion pairs for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applied voltage increases, gas amplification factor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ariable that primarily determines the pulse magnitude is the applied vol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24A1-77EC-4E5C-9645-AA350F064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iger-Mueller Det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228600" y="990720"/>
            <a:ext cx="5943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-filled chambers that operate in Region V of the gas amplification cu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detect both beta and gamma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lar-covered "window" serves as inlet fil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passag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rticles of ~0.05 M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have movable cover that can be adjusted to allow bo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enter,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B199-1349-4255-B4C3-401E33923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4" descr=""/>
          <p:cNvPicPr/>
          <p:nvPr/>
        </p:nvPicPr>
        <p:blipFill>
          <a:blip r:embed="rId1"/>
          <a:srcRect l="0" t="7869" r="0" b="2949"/>
          <a:stretch/>
        </p:blipFill>
        <p:spPr>
          <a:xfrm>
            <a:off x="5562720" y="2286000"/>
            <a:ext cx="358128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portional Counter for Neutron Dete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228240" y="9903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-filled proportional counter d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lse height discrimin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inguish between larger pulses due to neutron radiation (thus secondar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nd smaller pulses due to other incident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 used is boron trifluoride (B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) enriched with Boron-10 (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high cross-section for absorbing thermal neutr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ident neutrons absorbed by boron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les cause measureable ionization i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E337-E1B4-4C4C-8707-24815A51E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8"/>
              <p:cNvSpPr txBox="1"/>
              <p:nvPr/>
            </p:nvSpPr>
            <p:spPr>
              <a:xfrm>
                <a:off x="2362320" y="5602320"/>
                <a:ext cx="43434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B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η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intillation Dete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152280" y="838080"/>
            <a:ext cx="8839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onizing radiation producing flashes of light when interacting with certain materials containing phosph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remely sensitive to most forms of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for detecting alpha rad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pha particles can be detected since they aren’t stopped by the metal walls of a gas cha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s both amount and energy level of radiation pre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12C6-730C-49EA-9D16-2942A3E71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6" descr=""/>
          <p:cNvPicPr/>
          <p:nvPr/>
        </p:nvPicPr>
        <p:blipFill>
          <a:blip r:embed="rId1"/>
          <a:stretch/>
        </p:blipFill>
        <p:spPr>
          <a:xfrm>
            <a:off x="0" y="3632040"/>
            <a:ext cx="2220840" cy="25671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1" descr=""/>
          <p:cNvPicPr/>
          <p:nvPr/>
        </p:nvPicPr>
        <p:blipFill>
          <a:blip r:embed="rId2"/>
          <a:srcRect l="3381" t="25555" r="4652" b="18610"/>
          <a:stretch/>
        </p:blipFill>
        <p:spPr>
          <a:xfrm>
            <a:off x="2287440" y="3792600"/>
            <a:ext cx="68565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of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22860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 radiation survey instruments are to be used for the detection and determination of radiation exposure lev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able and able to withstand normal use, bu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destruction pro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handled with care and used prope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ject to damage from rough handling the same as any electronic equip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following a few rules and recommendations, the instruments should last many years and provide the user with a measure of knowled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F7F9-3F00-4A13-9D64-C315AFC7E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of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7621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ing the right instrument for the right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ment must be capable of measuring the type and intensity of the radiation which is present or suspec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Beta and gamm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Ion chamber instruments (Ionization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alibri"/>
              </a:rPr>
              <a:t>Alph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Scintillation det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Gas proportional counter (Proportional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Neu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BF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gas proportional counter (Proportional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1e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1e84"/>
                </a:solidFill>
                <a:latin typeface="Calibri"/>
              </a:rPr>
              <a:t>Gamm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1e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1e84"/>
                </a:solidFill>
                <a:latin typeface="Calibri"/>
              </a:rPr>
              <a:t>G-M detector (G-M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1e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1e84"/>
                </a:solidFill>
                <a:latin typeface="Calibri"/>
              </a:rPr>
              <a:t>Ion chamber (Ionization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E14F-7B77-4248-8B31-65433F758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lpha Survey Instrument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914400"/>
            <a:ext cx="6248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E-6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instrument commonly paired with scintillator d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check smears and/or air sample filters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ta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normally used on daily ba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smear or air sample filter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anch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specimen cu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planchet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unting j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scintillator on counting j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in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9390-BA07-43F8-85DA-AAD4A0332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1" descr="100_0951.JPG"/>
          <p:cNvPicPr/>
          <p:nvPr/>
        </p:nvPicPr>
        <p:blipFill>
          <a:blip r:embed="rId1">
            <a:lum bright="-14000"/>
          </a:blip>
          <a:srcRect l="31098" t="0" r="38653" b="9413"/>
          <a:stretch/>
        </p:blipFill>
        <p:spPr>
          <a:xfrm>
            <a:off x="6400800" y="730080"/>
            <a:ext cx="255888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lpha Survey: Eberline E-600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52D6-7FF7-4646-9869-533BA8001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1" descr="100_0951.JPG"/>
          <p:cNvPicPr/>
          <p:nvPr/>
        </p:nvPicPr>
        <p:blipFill>
          <a:blip r:embed="rId1">
            <a:lum bright="-14000"/>
          </a:blip>
          <a:srcRect l="31098" t="0" r="0" b="11960"/>
          <a:stretch/>
        </p:blipFill>
        <p:spPr>
          <a:xfrm>
            <a:off x="152280" y="838080"/>
            <a:ext cx="5715000" cy="54770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" descr="100_1136.JPG"/>
          <p:cNvPicPr/>
          <p:nvPr/>
        </p:nvPicPr>
        <p:blipFill>
          <a:blip r:embed="rId2"/>
          <a:stretch/>
        </p:blipFill>
        <p:spPr>
          <a:xfrm>
            <a:off x="6172200" y="838080"/>
            <a:ext cx="2693880" cy="548640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8"/>
          <p:cNvSpPr/>
          <p:nvPr/>
        </p:nvSpPr>
        <p:spPr>
          <a:xfrm>
            <a:off x="2514600" y="7621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wn with Eberline SHP 380 AB frisker/survey scintillator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pha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0" y="837720"/>
            <a:ext cx="6477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ESP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-computer-based survey instr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set up with different detectors to monitor several types of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lpha, digital display reads in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ly used with AC-3 scintillator probe for alpha de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5A20-4F7F-4ACF-9169-A420516AA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1" descr="100_1148.JPG"/>
          <p:cNvPicPr/>
          <p:nvPr/>
        </p:nvPicPr>
        <p:blipFill>
          <a:blip r:embed="rId1"/>
          <a:stretch/>
        </p:blipFill>
        <p:spPr>
          <a:xfrm>
            <a:off x="6442200" y="1143000"/>
            <a:ext cx="2701800" cy="45720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8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5334120" cy="173376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10"/>
          <p:cNvSpPr/>
          <p:nvPr/>
        </p:nvSpPr>
        <p:spPr>
          <a:xfrm>
            <a:off x="304920" y="5562720"/>
            <a:ext cx="25146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Neutron Survey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0" y="1066320"/>
            <a:ext cx="6477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ASP-2/2E Portable Neutron Rate Me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on and measurement of dose rate (mrem/hr) from both fast and thermal neu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s from 1 to 60000 mrem / 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or: 9” diameter, cadmium-loaded polyethylene sphere with BF3 tube in ce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s excellent gamma rej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ly used: 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NRD-4 RemB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F434-D248-47C7-BF9E-49B867E62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1" descr="100_1157.JPG"/>
          <p:cNvPicPr/>
          <p:nvPr/>
        </p:nvPicPr>
        <p:blipFill>
          <a:blip r:embed="rId1"/>
          <a:srcRect l="1665" t="0" r="53335" b="18892"/>
          <a:stretch/>
        </p:blipFill>
        <p:spPr>
          <a:xfrm>
            <a:off x="6551640" y="838080"/>
            <a:ext cx="2592360" cy="35053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9" descr=""/>
          <p:cNvPicPr/>
          <p:nvPr/>
        </p:nvPicPr>
        <p:blipFill>
          <a:blip r:embed="rId2"/>
          <a:srcRect l="50558" t="26891" r="26111" b="20668"/>
          <a:stretch/>
        </p:blipFill>
        <p:spPr>
          <a:xfrm>
            <a:off x="7037280" y="4495680"/>
            <a:ext cx="15732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CE7A-6EEA-41EB-9B27-E27A2CCCB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39720" y="2054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 130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logical Pro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73040" y="41148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ule 6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able Radiation Survey Instr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P-2/2E with NRD-4 Rem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F867-A50D-48F9-BF03-1FA47301C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1" descr="100_1157.JPG"/>
          <p:cNvPicPr/>
          <p:nvPr/>
        </p:nvPicPr>
        <p:blipFill>
          <a:blip r:embed="rId1"/>
          <a:srcRect l="1665" t="0" r="53335" b="18892"/>
          <a:stretch/>
        </p:blipFill>
        <p:spPr>
          <a:xfrm>
            <a:off x="109440" y="1219320"/>
            <a:ext cx="3776760" cy="510516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9" descr=""/>
          <p:cNvPicPr/>
          <p:nvPr/>
        </p:nvPicPr>
        <p:blipFill>
          <a:blip r:embed="rId2"/>
          <a:srcRect l="50558" t="26891" r="26111" b="20668"/>
          <a:stretch/>
        </p:blipFill>
        <p:spPr>
          <a:xfrm>
            <a:off x="4024440" y="1752480"/>
            <a:ext cx="2549520" cy="35816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1" descr=""/>
          <p:cNvPicPr/>
          <p:nvPr/>
        </p:nvPicPr>
        <p:blipFill>
          <a:blip r:embed="rId3"/>
          <a:stretch/>
        </p:blipFill>
        <p:spPr>
          <a:xfrm>
            <a:off x="6678720" y="1143000"/>
            <a:ext cx="2313000" cy="38862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12"/>
          <p:cNvSpPr/>
          <p:nvPr/>
        </p:nvSpPr>
        <p:spPr>
          <a:xfrm>
            <a:off x="6705720" y="52578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ifferent meter shown with b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Neutron Survey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0" y="99036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Eberline ASP-1 with NRD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similar to ASP-2/2E with NRD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0 to 100000 mrem / 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681C-6EEC-4C29-9CBF-EA4EE420C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1" descr="100_1157.JPG"/>
          <p:cNvPicPr/>
          <p:nvPr/>
        </p:nvPicPr>
        <p:blipFill>
          <a:blip r:embed="rId1"/>
          <a:srcRect l="48335" t="10000" r="3335" b="14446"/>
          <a:stretch/>
        </p:blipFill>
        <p:spPr>
          <a:xfrm>
            <a:off x="4648320" y="1143000"/>
            <a:ext cx="4419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51920" y="1066320"/>
            <a:ext cx="89917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portion of radiation encountered in nuclear plant working areas is beta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u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tecting instruments are most comm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1528-C6BA-4600-829F-03FB08F12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4" descr=""/>
          <p:cNvPicPr/>
          <p:nvPr/>
        </p:nvPicPr>
        <p:blipFill>
          <a:blip r:embed="rId1"/>
          <a:stretch/>
        </p:blipFill>
        <p:spPr>
          <a:xfrm>
            <a:off x="4952880" y="2819520"/>
            <a:ext cx="4191120" cy="350496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6"/>
          <p:cNvSpPr/>
          <p:nvPr/>
        </p:nvSpPr>
        <p:spPr>
          <a:xfrm>
            <a:off x="0" y="2819520"/>
            <a:ext cx="5257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eletector Model 6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weight, portable, battery-operated, beta-gamma survey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scoping probe that extends 13 ft to allow dose rate measurements far from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dose rate due to gamma over wide range of int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ct beta, remove rubber tip from end of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215640" y="1396800"/>
            <a:ext cx="786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2000W Exten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to Telet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nds to 12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ble speaker and illuminated s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D33E-4CEB-4085-BEAD-F49CBA511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7" descr=""/>
          <p:cNvPicPr/>
          <p:nvPr/>
        </p:nvPicPr>
        <p:blipFill>
          <a:blip r:embed="rId1"/>
          <a:srcRect l="0" t="0" r="2066" b="0"/>
          <a:stretch/>
        </p:blipFill>
        <p:spPr>
          <a:xfrm>
            <a:off x="104760" y="4102200"/>
            <a:ext cx="89629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000W Exte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D8B3-0B8D-4E75-B0D1-53F1915C4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40840" y="1003320"/>
            <a:ext cx="4496040" cy="15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Telep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to Tel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to 11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7222-5C6B-4FA8-8533-88E62CB12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\\SCANA\shares\GroupDirs\0539\539HP\Pictures\FHB Filter Job\FHB Filter Job 011.jpg"/>
          <p:cNvPicPr/>
          <p:nvPr/>
        </p:nvPicPr>
        <p:blipFill>
          <a:blip r:embed="rId1"/>
          <a:stretch/>
        </p:blipFill>
        <p:spPr>
          <a:xfrm>
            <a:off x="0" y="2786040"/>
            <a:ext cx="4892760" cy="37321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7" descr=""/>
          <p:cNvPicPr/>
          <p:nvPr/>
        </p:nvPicPr>
        <p:blipFill>
          <a:blip r:embed="rId2"/>
          <a:srcRect l="0" t="0" r="8904" b="0"/>
          <a:stretch/>
        </p:blipFill>
        <p:spPr>
          <a:xfrm>
            <a:off x="7132680" y="752400"/>
            <a:ext cx="1985760" cy="58262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" descr="telepolemr.jpg"/>
          <p:cNvPicPr/>
          <p:nvPr/>
        </p:nvPicPr>
        <p:blipFill>
          <a:blip r:embed="rId3"/>
          <a:srcRect l="20369" t="20735" r="15530" b="2373"/>
          <a:stretch/>
        </p:blipFill>
        <p:spPr>
          <a:xfrm>
            <a:off x="5011560" y="3962520"/>
            <a:ext cx="29275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AA7B-B94E-46C0-AF97-528AA1F7D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9" descr=""/>
          <p:cNvPicPr/>
          <p:nvPr/>
        </p:nvPicPr>
        <p:blipFill>
          <a:blip r:embed="rId1"/>
          <a:stretch/>
        </p:blipFill>
        <p:spPr>
          <a:xfrm>
            <a:off x="0" y="898560"/>
            <a:ext cx="91440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0" y="914040"/>
            <a:ext cx="6324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Rotem AMP-100 (Area Monitor Prob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M detector with microprocessor-based instr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stable and accu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ghtweight and co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ble of measuring both dose and dose rate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ge: 0 to 1000 Rem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used in 3 way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ly as a hand-held mon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ed to an area monitor for general area dose r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remotely by means of a wireless remote monitoring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used for underwater applications, but not typi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639C-4A15-412F-AF64-0A45C43A9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5" descr=""/>
          <p:cNvPicPr/>
          <p:nvPr/>
        </p:nvPicPr>
        <p:blipFill>
          <a:blip r:embed="rId1"/>
          <a:srcRect l="0" t="0" r="7196" b="0"/>
          <a:stretch/>
        </p:blipFill>
        <p:spPr>
          <a:xfrm>
            <a:off x="6342120" y="1143000"/>
            <a:ext cx="26859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RM-14 Rad. Mon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most for personnel 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, versatile count rate 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hargeable battery or 110 V 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justable audible al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multiplier r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0, 5K, and 50K CPM full-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d by 3-position swit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l, X10 or X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sett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t (~2 sec) or Slow (~20 se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FAEE-1423-4117-A4DB-BAD151D8F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" descr="100_1147.JPG"/>
          <p:cNvPicPr/>
          <p:nvPr/>
        </p:nvPicPr>
        <p:blipFill>
          <a:blip r:embed="rId1"/>
          <a:srcRect l="0" t="12346" r="3705" b="13580"/>
          <a:stretch/>
        </p:blipFill>
        <p:spPr>
          <a:xfrm>
            <a:off x="5562720" y="3581280"/>
            <a:ext cx="35812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M-14 Radiation Moni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8ED1-4C23-4837-A510-62B9433E2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1" descr="100_1147.JPG"/>
          <p:cNvPicPr/>
          <p:nvPr/>
        </p:nvPicPr>
        <p:blipFill>
          <a:blip r:embed="rId1"/>
          <a:srcRect l="0" t="12409" r="5280" b="12037"/>
          <a:stretch/>
        </p:blipFill>
        <p:spPr>
          <a:xfrm>
            <a:off x="228600" y="1079640"/>
            <a:ext cx="8661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68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and measuring radiation levels around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: How can we measure radiation to determine if the levels are saf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B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o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measurement based almost solely on either direct or indirect io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9E17-80CC-4E57-B72D-DA89ED36C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51920" y="91440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HP-210 G-M tube pr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ly used with RM-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 mica window to allo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nsitivity down to ~40K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elded to permi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in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nel fris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of table, floo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pment surfac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5430-D205-47AB-B8EA-0B77E62C5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4" descr=""/>
          <p:cNvPicPr/>
          <p:nvPr/>
        </p:nvPicPr>
        <p:blipFill>
          <a:blip r:embed="rId1"/>
          <a:stretch/>
        </p:blipFill>
        <p:spPr>
          <a:xfrm>
            <a:off x="5486400" y="2895480"/>
            <a:ext cx="36576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0666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RM-14S and  RM-14S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er versions of RM-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al scales that earlier model lacked: 50, 500, 5000, 50000, 500000, and 5000000 c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RM-14’s are operated with conservative assumption of 10% 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4A1A-CCA6-4C64-AD1C-82F9A2926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Content Placeholder 3" descr="100_0938.JPG"/>
          <p:cNvPicPr/>
          <p:nvPr/>
        </p:nvPicPr>
        <p:blipFill>
          <a:blip r:embed="rId1"/>
          <a:stretch/>
        </p:blipFill>
        <p:spPr>
          <a:xfrm>
            <a:off x="0" y="3618000"/>
            <a:ext cx="4495680" cy="290664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1" descr="100_1146.JPG"/>
          <p:cNvPicPr/>
          <p:nvPr/>
        </p:nvPicPr>
        <p:blipFill>
          <a:blip r:embed="rId2"/>
          <a:stretch/>
        </p:blipFill>
        <p:spPr>
          <a:xfrm>
            <a:off x="4572000" y="3621240"/>
            <a:ext cx="4572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228240" y="1066680"/>
            <a:ext cx="7010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Rotem RAM SURF frisking de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able, self-con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ctor and monitor in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gital readout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matic range adj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ble indic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assume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F098-5CBE-4A2D-A4E0-89FC5C018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5" descr=""/>
          <p:cNvPicPr/>
          <p:nvPr/>
        </p:nvPicPr>
        <p:blipFill>
          <a:blip r:embed="rId1"/>
          <a:srcRect l="0" t="0" r="0" b="4102"/>
          <a:stretch/>
        </p:blipFill>
        <p:spPr>
          <a:xfrm>
            <a:off x="5133960" y="1523880"/>
            <a:ext cx="4010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837720"/>
            <a:ext cx="7467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-2 / RO-2A / RO-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 air ion-chamber instr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mber vented to atmospheric pres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X but calibrated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time: ~5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switch turns on instrument, checks batteries, checks zero setting, selects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, 50, 500, and 5000 mr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A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mr/hr, 500 mr/hr, 5 R/hr, and 50 R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0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f the ab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open shield to expose mylar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912E-1652-4442-A299-BF0E0A73B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1" descr="100_0950.JPG"/>
          <p:cNvPicPr/>
          <p:nvPr/>
        </p:nvPicPr>
        <p:blipFill>
          <a:blip r:embed="rId1"/>
          <a:srcRect l="38342" t="18883" r="33333" b="5565"/>
          <a:stretch/>
        </p:blipFill>
        <p:spPr>
          <a:xfrm>
            <a:off x="7429680" y="1066680"/>
            <a:ext cx="1714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-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-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92F5-8682-4A17-A3BC-FF6944B6D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1" descr="IMG_0990.JPG"/>
          <p:cNvPicPr/>
          <p:nvPr/>
        </p:nvPicPr>
        <p:blipFill>
          <a:blip r:embed="rId1"/>
          <a:stretch/>
        </p:blipFill>
        <p:spPr>
          <a:xfrm>
            <a:off x="5029200" y="762120"/>
            <a:ext cx="3962520" cy="57909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" descr="100_0950.JPG"/>
          <p:cNvPicPr/>
          <p:nvPr/>
        </p:nvPicPr>
        <p:blipFill>
          <a:blip r:embed="rId2"/>
          <a:srcRect l="38342" t="18883" r="33333" b="5565"/>
          <a:stretch/>
        </p:blipFill>
        <p:spPr>
          <a:xfrm>
            <a:off x="228600" y="762120"/>
            <a:ext cx="2857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609120" y="990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Bicron RSO-5 / RSO-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 to RO-2 and RO-2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O-5: Same scales as RO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O-50: Same scales as RO-2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se rates (includ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ndo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585C-B236-4F34-9239-79F14ED22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5" descr=""/>
          <p:cNvPicPr/>
          <p:nvPr/>
        </p:nvPicPr>
        <p:blipFill>
          <a:blip r:embed="rId1"/>
          <a:stretch/>
        </p:blipFill>
        <p:spPr>
          <a:xfrm>
            <a:off x="152280" y="2743200"/>
            <a:ext cx="3009960" cy="380988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6" descr=""/>
          <p:cNvPicPr/>
          <p:nvPr/>
        </p:nvPicPr>
        <p:blipFill>
          <a:blip r:embed="rId2"/>
          <a:stretch/>
        </p:blipFill>
        <p:spPr>
          <a:xfrm>
            <a:off x="3438360" y="2743200"/>
            <a:ext cx="3038760" cy="380988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" descr="100_1144.JPG"/>
          <p:cNvPicPr/>
          <p:nvPr/>
        </p:nvPicPr>
        <p:blipFill>
          <a:blip r:embed="rId3"/>
          <a:stretch/>
        </p:blipFill>
        <p:spPr>
          <a:xfrm>
            <a:off x="6705720" y="2743200"/>
            <a:ext cx="2325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76320" y="1066680"/>
            <a:ext cx="633888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RAM 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in function to RO-2 or RSO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similar to RAM SUR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, self-con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or and monitor in one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readout with automatic range adj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 0.1 mRem/hr to 50 Rem/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a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471B-B606-4A6B-B200-C438C1DE7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1" descr="100_1152.JPG"/>
          <p:cNvPicPr/>
          <p:nvPr/>
        </p:nvPicPr>
        <p:blipFill>
          <a:blip r:embed="rId1"/>
          <a:stretch/>
        </p:blipFill>
        <p:spPr>
          <a:xfrm>
            <a:off x="6365880" y="990720"/>
            <a:ext cx="26258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134640" y="888840"/>
            <a:ext cx="609588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RAM 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C511-525C-47EF-8137-0BFD6A77A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6" descr=""/>
          <p:cNvPicPr/>
          <p:nvPr/>
        </p:nvPicPr>
        <p:blipFill>
          <a:blip r:embed="rId1"/>
          <a:srcRect l="44074" t="11610" r="10833" b="2368"/>
          <a:stretch/>
        </p:blipFill>
        <p:spPr>
          <a:xfrm>
            <a:off x="0" y="1347840"/>
            <a:ext cx="4429080" cy="528012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1" descr="telepolemr.jpg"/>
          <p:cNvPicPr/>
          <p:nvPr/>
        </p:nvPicPr>
        <p:blipFill>
          <a:blip r:embed="rId2"/>
          <a:srcRect l="19855" t="20120" r="15226" b="11813"/>
          <a:stretch/>
        </p:blipFill>
        <p:spPr>
          <a:xfrm>
            <a:off x="4613400" y="1708200"/>
            <a:ext cx="43783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44600" y="7488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alibri"/>
              </a:rPr>
              <a:t>RADēCO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H809V Air Samp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7533-D912-4863-9CFF-E6C161FDF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1" descr="100_1149.JPG"/>
          <p:cNvPicPr/>
          <p:nvPr/>
        </p:nvPicPr>
        <p:blipFill>
          <a:blip r:embed="rId1"/>
          <a:stretch/>
        </p:blipFill>
        <p:spPr>
          <a:xfrm>
            <a:off x="1994040" y="1282680"/>
            <a:ext cx="51051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7D63-396D-4841-8C01-D8C043521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1" descr="100_1139.JPG"/>
          <p:cNvPicPr/>
          <p:nvPr/>
        </p:nvPicPr>
        <p:blipFill>
          <a:blip r:embed="rId1"/>
          <a:stretch/>
        </p:blipFill>
        <p:spPr>
          <a:xfrm>
            <a:off x="730080" y="873000"/>
            <a:ext cx="78613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C5FF-C014-4DB1-8BD6-813E5CCF9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13716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of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ssage of nuclear radiation through a substance will result in the removal of electrons from neutral at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 pair formed (free electron and residual positively-charged ato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 pairs produced by the direct action of charged particles, such as alphas and be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ged particles may collide with electrons and remove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energy transfer insufficient to remove the electron, atom may be left in a state of exci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ion of ion pairs by photons, gammas, and X-r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Portable Instruments for Monitoring For Loose-Surface Contamin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152280" y="12189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beta and gamma: RM-14, RM-14s, and RAM SURF are used for determination of quan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lpha: E-600 and ESP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600 probe must be held within 1/4 inch of the area being monitored to ensure proper respo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M-14 with HP-210 pro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for monitoring personel conta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e must be within 1/2 inch of the surface being monitored to pick up possible contamin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600 and RM-14 with HP-210 require slow probe movement to cover the area being monitored, about 1 to 2 in /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C3D4-E4DE-4816-86D3-4EAE92026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4DAB-FA13-497A-A995-AEE60795B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er Reading Challe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F6BC-3886-4605-B4D3-8CC830197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6" name=""/>
          <p:cNvGraphicFramePr/>
          <p:nvPr/>
        </p:nvGraphicFramePr>
        <p:xfrm>
          <a:off x="1523880" y="3336840"/>
          <a:ext cx="6096240" cy="21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67" name="Group 10"/>
          <p:cNvGrpSpPr/>
          <p:nvPr/>
        </p:nvGrpSpPr>
        <p:grpSpPr>
          <a:xfrm>
            <a:off x="1778040" y="708120"/>
            <a:ext cx="6289560" cy="5819400"/>
            <a:chOff x="1778040" y="708120"/>
            <a:chExt cx="6289560" cy="5819400"/>
          </a:xfrm>
        </p:grpSpPr>
        <p:pic>
          <p:nvPicPr>
            <p:cNvPr id="868" name="Picture 2" descr=""/>
            <p:cNvPicPr/>
            <p:nvPr/>
          </p:nvPicPr>
          <p:blipFill>
            <a:blip r:embed="rId1"/>
            <a:stretch/>
          </p:blipFill>
          <p:spPr>
            <a:xfrm>
              <a:off x="1778040" y="708120"/>
              <a:ext cx="6289560" cy="39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Picture 1" descr=""/>
            <p:cNvPicPr/>
            <p:nvPr/>
          </p:nvPicPr>
          <p:blipFill>
            <a:blip r:embed="rId2"/>
            <a:stretch/>
          </p:blipFill>
          <p:spPr>
            <a:xfrm>
              <a:off x="1778040" y="4569480"/>
              <a:ext cx="6289560" cy="195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F90C-4803-4383-B0B3-32164B3FB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9104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0D56-801C-42A0-9706-65030DE56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and D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9" name="Picture 2" descr=""/>
          <p:cNvPicPr/>
          <p:nvPr/>
        </p:nvPicPr>
        <p:blipFill>
          <a:blip r:embed="rId1"/>
          <a:srcRect l="0" t="0" r="0" b="7349"/>
          <a:stretch/>
        </p:blipFill>
        <p:spPr>
          <a:xfrm>
            <a:off x="0" y="993600"/>
            <a:ext cx="9144000" cy="54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3127-9842-4423-9443-CC5D65504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2" descr=""/>
          <p:cNvPicPr/>
          <p:nvPr/>
        </p:nvPicPr>
        <p:blipFill>
          <a:blip r:embed="rId1"/>
          <a:srcRect l="25835" t="4814" r="0" b="15559"/>
          <a:stretch/>
        </p:blipFill>
        <p:spPr>
          <a:xfrm>
            <a:off x="914400" y="330120"/>
            <a:ext cx="6781680" cy="546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E246-ABCA-466E-B3FF-D8D1D8C1D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2" descr=""/>
          <p:cNvPicPr/>
          <p:nvPr/>
        </p:nvPicPr>
        <p:blipFill>
          <a:blip r:embed="rId1"/>
          <a:srcRect l="38333" t="0" r="0" b="0"/>
          <a:stretch/>
        </p:blipFill>
        <p:spPr>
          <a:xfrm>
            <a:off x="1841400" y="571680"/>
            <a:ext cx="56390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1AE1-771F-4D61-AAC2-AF1DFB282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2" descr=""/>
          <p:cNvPicPr/>
          <p:nvPr/>
        </p:nvPicPr>
        <p:blipFill>
          <a:blip r:embed="rId1"/>
          <a:srcRect l="47362" t="0" r="0" b="0"/>
          <a:stretch/>
        </p:blipFill>
        <p:spPr>
          <a:xfrm>
            <a:off x="2362320" y="177840"/>
            <a:ext cx="4813200" cy="64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2E6D-A525-4CA1-90E2-68BC151D5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2" descr=""/>
          <p:cNvPicPr/>
          <p:nvPr/>
        </p:nvPicPr>
        <p:blipFill>
          <a:blip r:embed="rId1"/>
          <a:srcRect l="32500" t="11113" r="0" b="19816"/>
          <a:stretch/>
        </p:blipFill>
        <p:spPr>
          <a:xfrm>
            <a:off x="863640" y="685800"/>
            <a:ext cx="707400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D025-0559-4F0A-A72B-7A7131198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2" descr=""/>
          <p:cNvPicPr/>
          <p:nvPr/>
        </p:nvPicPr>
        <p:blipFill>
          <a:blip r:embed="rId1"/>
          <a:srcRect l="34169" t="6296" r="0" b="5556"/>
          <a:stretch/>
        </p:blipFill>
        <p:spPr>
          <a:xfrm>
            <a:off x="1600200" y="431640"/>
            <a:ext cx="6019920" cy="604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33A1-1F79-4CC2-A7A7-11BD873F2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basic principles of radiation dete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-Filled Cha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ntil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olumines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focus primarily on the first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9160-A93F-45C5-A84F-19188178C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PM and DPM and uC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ficiency=18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4" name="Picture 2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9034-4103-47DA-9C24-FE3662E41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42720" y="1066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er Reading Challe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’s compare notes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B11F-C46D-4074-A6EE-81B278739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1523880" y="3336840"/>
          <a:ext cx="6096240" cy="21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Group 10"/>
          <p:cNvGrpSpPr/>
          <p:nvPr/>
        </p:nvGrpSpPr>
        <p:grpSpPr>
          <a:xfrm>
            <a:off x="1981080" y="619200"/>
            <a:ext cx="6073920" cy="5920920"/>
            <a:chOff x="1981080" y="619200"/>
            <a:chExt cx="6073920" cy="5920920"/>
          </a:xfrm>
        </p:grpSpPr>
        <p:pic>
          <p:nvPicPr>
            <p:cNvPr id="917" name="Picture 2" descr=""/>
            <p:cNvPicPr/>
            <p:nvPr/>
          </p:nvPicPr>
          <p:blipFill>
            <a:blip r:embed="rId1"/>
            <a:stretch/>
          </p:blipFill>
          <p:spPr>
            <a:xfrm>
              <a:off x="1981080" y="619200"/>
              <a:ext cx="6073920" cy="39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Picture 1" descr=""/>
            <p:cNvPicPr/>
            <p:nvPr/>
          </p:nvPicPr>
          <p:blipFill>
            <a:blip r:embed="rId2"/>
            <a:stretch/>
          </p:blipFill>
          <p:spPr>
            <a:xfrm>
              <a:off x="1981080" y="4547880"/>
              <a:ext cx="6073920" cy="1992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C13E-A44E-4F17-BB29-A460DBE73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# 1=   32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7C72-FDB2-406F-8268-2030B7641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9104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DEB2-A603-4B9A-9F82-AD4B2F1E2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0,0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FF91-DE86-4E2D-B889-729E491C5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and D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5" name="Picture 2" descr=""/>
          <p:cNvPicPr/>
          <p:nvPr/>
        </p:nvPicPr>
        <p:blipFill>
          <a:blip r:embed="rId1"/>
          <a:srcRect l="0" t="0" r="0" b="7135"/>
          <a:stretch/>
        </p:blipFill>
        <p:spPr>
          <a:xfrm>
            <a:off x="0" y="981000"/>
            <a:ext cx="8839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D204-2FDA-4FAA-9130-78B6082D2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37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2,0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PM=cpm/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2,000 cpm/.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20,000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4217-3319-4C05-9899-1A0E0240C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Picture 2" descr=""/>
          <p:cNvPicPr/>
          <p:nvPr/>
        </p:nvPicPr>
        <p:blipFill>
          <a:blip r:embed="rId1"/>
          <a:srcRect l="25835" t="11076" r="0" b="17386"/>
          <a:stretch/>
        </p:blipFill>
        <p:spPr>
          <a:xfrm>
            <a:off x="457200" y="444600"/>
            <a:ext cx="8229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C526-E272-4C4B-AD28-C0EC83323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52280" y="761760"/>
            <a:ext cx="880128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dest and most widely used device for detecting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l cylindrical gas-filled cha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tage (V) applied across two electr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ode (positive): central electro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thode (negative): chamber wal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passing through the chamber ionizes some of the gas a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itive ions drawn to chamber wa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ster-moving electrons (negative) drawn to the central an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8842-DF67-4326-B5EA-B1E8A8EFB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11" descr=""/>
          <p:cNvPicPr/>
          <p:nvPr/>
        </p:nvPicPr>
        <p:blipFill>
          <a:blip r:embed="rId1"/>
          <a:srcRect l="845" t="23187" r="1066" b="17947"/>
          <a:stretch/>
        </p:blipFill>
        <p:spPr>
          <a:xfrm>
            <a:off x="2023920" y="4464000"/>
            <a:ext cx="495648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EEC7-8D9D-497C-A7C0-6B52DC9F6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2" descr=""/>
          <p:cNvPicPr/>
          <p:nvPr/>
        </p:nvPicPr>
        <p:blipFill>
          <a:blip r:embed="rId1"/>
          <a:srcRect l="47112" t="2222" r="3156" b="0"/>
          <a:stretch/>
        </p:blipFill>
        <p:spPr>
          <a:xfrm>
            <a:off x="2308320" y="60480"/>
            <a:ext cx="5006880" cy="6480000"/>
          </a:xfrm>
          <a:prstGeom prst="rect">
            <a:avLst/>
          </a:prstGeom>
          <a:ln w="0">
            <a:noFill/>
          </a:ln>
        </p:spPr>
      </p:pic>
      <p:sp>
        <p:nvSpPr>
          <p:cNvPr id="953" name="Text Box 4"/>
          <p:cNvSpPr/>
          <p:nvPr/>
        </p:nvSpPr>
        <p:spPr>
          <a:xfrm>
            <a:off x="4905360" y="4751280"/>
            <a:ext cx="873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R/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5"/>
          <p:cNvSpPr/>
          <p:nvPr/>
        </p:nvSpPr>
        <p:spPr>
          <a:xfrm>
            <a:off x="4508640" y="5010120"/>
            <a:ext cx="431640" cy="2858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194D-79D4-44D0-94E7-C31B9897D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400 m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699C-B82D-4304-92A1-E80BD6A07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2" descr=""/>
          <p:cNvPicPr/>
          <p:nvPr/>
        </p:nvPicPr>
        <p:blipFill>
          <a:blip r:embed="rId1"/>
          <a:srcRect l="49169" t="14446" r="0" b="0"/>
          <a:stretch/>
        </p:blipFill>
        <p:spPr>
          <a:xfrm>
            <a:off x="1954080" y="0"/>
            <a:ext cx="498024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BD53-DC0B-4B6D-81C9-D1100BC88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.6 m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CE15-6198-4C94-8C8C-D07BDA113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2" descr=""/>
          <p:cNvPicPr/>
          <p:nvPr/>
        </p:nvPicPr>
        <p:blipFill>
          <a:blip r:embed="rId1"/>
          <a:srcRect l="50004" t="14446" r="8335" b="22672"/>
          <a:stretch/>
        </p:blipFill>
        <p:spPr>
          <a:xfrm>
            <a:off x="1676520" y="0"/>
            <a:ext cx="511812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4ED4-AB11-4B73-891A-40904E153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.5 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2314-5832-4AFA-8B5E-0C0EE1872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Picture 2" descr=""/>
          <p:cNvPicPr/>
          <p:nvPr/>
        </p:nvPicPr>
        <p:blipFill>
          <a:blip r:embed="rId1"/>
          <a:srcRect l="39169" t="6669" r="0" b="4444"/>
          <a:stretch/>
        </p:blipFill>
        <p:spPr>
          <a:xfrm>
            <a:off x="1295280" y="0"/>
            <a:ext cx="625788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99FE-A236-454B-AB26-3AEEEA1D6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8.5 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2437-8DB1-41C7-8748-B94819AB2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PM and DPM and uC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ficiency=18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2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8A7D-DACF-49FE-8CD2-4B64A3ED1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440" y="1779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5.1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PM=CPM/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25.1/0.1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139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09480" y="76176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ical charge collects on an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 buildup causes voltage change, aka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pul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se causes current to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meter used to measure curr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level correlated to radiation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2E59-DA84-4297-8C7E-D106DA36F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10" descr=""/>
          <p:cNvPicPr/>
          <p:nvPr/>
        </p:nvPicPr>
        <p:blipFill>
          <a:blip r:embed="rId1"/>
          <a:srcRect l="845" t="23187" r="1066" b="17947"/>
          <a:stretch/>
        </p:blipFill>
        <p:spPr>
          <a:xfrm>
            <a:off x="2036880" y="4172040"/>
            <a:ext cx="495612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28600" y="8380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se magnitude determined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ed vol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initial (primary) ionizing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ant number based on specific ionization and detector s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gas-ionizing types of radiation detectors are technically ion cha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However, the term “ion chamber” is typically used to refer to such devices for which the input voltage is low enough to prevent secondary ionization (gas amplific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3A27-7BE9-4F49-B6EA-5C499EE87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B9EA-9FB0-42F6-B515-0AA301386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3"/>
          <p:cNvSpPr/>
          <p:nvPr/>
        </p:nvSpPr>
        <p:spPr>
          <a:xfrm>
            <a:off x="228600" y="76320"/>
            <a:ext cx="85345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Six-Region Gas Amplification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14"/>
          <p:cNvGrpSpPr/>
          <p:nvPr/>
        </p:nvGrpSpPr>
        <p:grpSpPr>
          <a:xfrm>
            <a:off x="378000" y="714240"/>
            <a:ext cx="8766000" cy="5881680"/>
            <a:chOff x="378000" y="714240"/>
            <a:chExt cx="8766000" cy="5881680"/>
          </a:xfrm>
        </p:grpSpPr>
        <p:sp>
          <p:nvSpPr>
            <p:cNvPr id="630" name="Rectangle 5"/>
            <p:cNvSpPr/>
            <p:nvPr/>
          </p:nvSpPr>
          <p:spPr>
            <a:xfrm>
              <a:off x="3819600" y="714240"/>
              <a:ext cx="2971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  each produce the same detector respons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6"/>
            <p:cNvSpPr/>
            <p:nvPr/>
          </p:nvSpPr>
          <p:spPr>
            <a:xfrm>
              <a:off x="1409760" y="973080"/>
              <a:ext cx="7440480" cy="5275440"/>
            </a:xfrm>
            <a:custGeom>
              <a:avLst/>
              <a:gdLst/>
              <a:ahLst/>
              <a:rect l="l" t="t" r="r" b="b"/>
              <a:pathLst>
                <a:path w="4687" h="3323">
                  <a:moveTo>
                    <a:pt x="0" y="3323"/>
                  </a:moveTo>
                  <a:cubicBezTo>
                    <a:pt x="73" y="3252"/>
                    <a:pt x="147" y="3182"/>
                    <a:pt x="352" y="3147"/>
                  </a:cubicBezTo>
                  <a:cubicBezTo>
                    <a:pt x="557" y="3112"/>
                    <a:pt x="1004" y="3143"/>
                    <a:pt x="1232" y="3115"/>
                  </a:cubicBezTo>
                  <a:cubicBezTo>
                    <a:pt x="1460" y="3087"/>
                    <a:pt x="1572" y="3048"/>
                    <a:pt x="1720" y="2979"/>
                  </a:cubicBezTo>
                  <a:cubicBezTo>
                    <a:pt x="1868" y="2910"/>
                    <a:pt x="2004" y="2804"/>
                    <a:pt x="2120" y="2699"/>
                  </a:cubicBezTo>
                  <a:cubicBezTo>
                    <a:pt x="2236" y="2594"/>
                    <a:pt x="2316" y="2476"/>
                    <a:pt x="2416" y="2347"/>
                  </a:cubicBezTo>
                  <a:cubicBezTo>
                    <a:pt x="2516" y="2218"/>
                    <a:pt x="2620" y="2091"/>
                    <a:pt x="2720" y="1923"/>
                  </a:cubicBezTo>
                  <a:cubicBezTo>
                    <a:pt x="2820" y="1755"/>
                    <a:pt x="2935" y="1503"/>
                    <a:pt x="3016" y="1339"/>
                  </a:cubicBezTo>
                  <a:cubicBezTo>
                    <a:pt x="3097" y="1175"/>
                    <a:pt x="3147" y="1051"/>
                    <a:pt x="3208" y="939"/>
                  </a:cubicBezTo>
                  <a:cubicBezTo>
                    <a:pt x="3269" y="827"/>
                    <a:pt x="3337" y="719"/>
                    <a:pt x="3384" y="667"/>
                  </a:cubicBezTo>
                  <a:cubicBezTo>
                    <a:pt x="3431" y="615"/>
                    <a:pt x="3435" y="644"/>
                    <a:pt x="3488" y="627"/>
                  </a:cubicBezTo>
                  <a:cubicBezTo>
                    <a:pt x="3541" y="610"/>
                    <a:pt x="3628" y="580"/>
                    <a:pt x="3704" y="563"/>
                  </a:cubicBezTo>
                  <a:cubicBezTo>
                    <a:pt x="3780" y="546"/>
                    <a:pt x="3863" y="544"/>
                    <a:pt x="3944" y="523"/>
                  </a:cubicBezTo>
                  <a:cubicBezTo>
                    <a:pt x="4025" y="502"/>
                    <a:pt x="4121" y="474"/>
                    <a:pt x="4192" y="435"/>
                  </a:cubicBezTo>
                  <a:cubicBezTo>
                    <a:pt x="4263" y="396"/>
                    <a:pt x="4321" y="331"/>
                    <a:pt x="4368" y="291"/>
                  </a:cubicBezTo>
                  <a:cubicBezTo>
                    <a:pt x="4415" y="251"/>
                    <a:pt x="4439" y="240"/>
                    <a:pt x="4472" y="195"/>
                  </a:cubicBezTo>
                  <a:cubicBezTo>
                    <a:pt x="4505" y="150"/>
                    <a:pt x="4687" y="0"/>
                    <a:pt x="4568" y="1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7"/>
            <p:cNvSpPr/>
            <p:nvPr/>
          </p:nvSpPr>
          <p:spPr>
            <a:xfrm>
              <a:off x="1422360" y="1015920"/>
              <a:ext cx="7396200" cy="5232600"/>
            </a:xfrm>
            <a:custGeom>
              <a:avLst/>
              <a:gdLst/>
              <a:ahLst/>
              <a:rect l="l" t="t" r="r" b="b"/>
              <a:pathLst>
                <a:path w="4659" h="3296">
                  <a:moveTo>
                    <a:pt x="0" y="3296"/>
                  </a:moveTo>
                  <a:cubicBezTo>
                    <a:pt x="18" y="3232"/>
                    <a:pt x="36" y="3169"/>
                    <a:pt x="80" y="3120"/>
                  </a:cubicBezTo>
                  <a:cubicBezTo>
                    <a:pt x="124" y="3071"/>
                    <a:pt x="205" y="3028"/>
                    <a:pt x="264" y="3000"/>
                  </a:cubicBezTo>
                  <a:cubicBezTo>
                    <a:pt x="323" y="2972"/>
                    <a:pt x="347" y="2961"/>
                    <a:pt x="432" y="2952"/>
                  </a:cubicBezTo>
                  <a:cubicBezTo>
                    <a:pt x="517" y="2943"/>
                    <a:pt x="673" y="2948"/>
                    <a:pt x="776" y="2944"/>
                  </a:cubicBezTo>
                  <a:cubicBezTo>
                    <a:pt x="879" y="2940"/>
                    <a:pt x="968" y="2935"/>
                    <a:pt x="1048" y="2928"/>
                  </a:cubicBezTo>
                  <a:cubicBezTo>
                    <a:pt x="1128" y="2921"/>
                    <a:pt x="1181" y="2917"/>
                    <a:pt x="1256" y="2904"/>
                  </a:cubicBezTo>
                  <a:cubicBezTo>
                    <a:pt x="1331" y="2891"/>
                    <a:pt x="1416" y="2880"/>
                    <a:pt x="1496" y="2848"/>
                  </a:cubicBezTo>
                  <a:cubicBezTo>
                    <a:pt x="1576" y="2816"/>
                    <a:pt x="1657" y="2763"/>
                    <a:pt x="1736" y="2712"/>
                  </a:cubicBezTo>
                  <a:cubicBezTo>
                    <a:pt x="1815" y="2661"/>
                    <a:pt x="1893" y="2612"/>
                    <a:pt x="1968" y="2544"/>
                  </a:cubicBezTo>
                  <a:cubicBezTo>
                    <a:pt x="2043" y="2476"/>
                    <a:pt x="2091" y="2415"/>
                    <a:pt x="2184" y="2304"/>
                  </a:cubicBezTo>
                  <a:cubicBezTo>
                    <a:pt x="2277" y="2193"/>
                    <a:pt x="2432" y="2015"/>
                    <a:pt x="2528" y="1880"/>
                  </a:cubicBezTo>
                  <a:cubicBezTo>
                    <a:pt x="2624" y="1745"/>
                    <a:pt x="2683" y="1624"/>
                    <a:pt x="2760" y="1496"/>
                  </a:cubicBezTo>
                  <a:cubicBezTo>
                    <a:pt x="2837" y="1368"/>
                    <a:pt x="2929" y="1212"/>
                    <a:pt x="2992" y="1112"/>
                  </a:cubicBezTo>
                  <a:cubicBezTo>
                    <a:pt x="3055" y="1012"/>
                    <a:pt x="3092" y="957"/>
                    <a:pt x="3136" y="896"/>
                  </a:cubicBezTo>
                  <a:cubicBezTo>
                    <a:pt x="3180" y="835"/>
                    <a:pt x="3217" y="781"/>
                    <a:pt x="3256" y="744"/>
                  </a:cubicBezTo>
                  <a:cubicBezTo>
                    <a:pt x="3295" y="707"/>
                    <a:pt x="3324" y="697"/>
                    <a:pt x="3368" y="672"/>
                  </a:cubicBezTo>
                  <a:cubicBezTo>
                    <a:pt x="3412" y="647"/>
                    <a:pt x="3451" y="617"/>
                    <a:pt x="3520" y="592"/>
                  </a:cubicBezTo>
                  <a:cubicBezTo>
                    <a:pt x="3589" y="567"/>
                    <a:pt x="3708" y="537"/>
                    <a:pt x="3784" y="520"/>
                  </a:cubicBezTo>
                  <a:cubicBezTo>
                    <a:pt x="3860" y="503"/>
                    <a:pt x="3909" y="505"/>
                    <a:pt x="3976" y="488"/>
                  </a:cubicBezTo>
                  <a:cubicBezTo>
                    <a:pt x="4043" y="471"/>
                    <a:pt x="4127" y="447"/>
                    <a:pt x="4184" y="416"/>
                  </a:cubicBezTo>
                  <a:cubicBezTo>
                    <a:pt x="4241" y="385"/>
                    <a:pt x="4279" y="340"/>
                    <a:pt x="4320" y="304"/>
                  </a:cubicBezTo>
                  <a:cubicBezTo>
                    <a:pt x="4361" y="268"/>
                    <a:pt x="4399" y="236"/>
                    <a:pt x="4432" y="200"/>
                  </a:cubicBezTo>
                  <a:cubicBezTo>
                    <a:pt x="4465" y="164"/>
                    <a:pt x="4497" y="121"/>
                    <a:pt x="4520" y="88"/>
                  </a:cubicBezTo>
                  <a:cubicBezTo>
                    <a:pt x="4543" y="55"/>
                    <a:pt x="4659" y="20"/>
                    <a:pt x="4568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8"/>
            <p:cNvSpPr/>
            <p:nvPr/>
          </p:nvSpPr>
          <p:spPr>
            <a:xfrm>
              <a:off x="1409760" y="984240"/>
              <a:ext cx="7238880" cy="5264280"/>
            </a:xfrm>
            <a:custGeom>
              <a:avLst/>
              <a:gdLst/>
              <a:ahLst/>
              <a:rect l="l" t="t" r="r" b="b"/>
              <a:pathLst>
                <a:path w="4560" h="3316">
                  <a:moveTo>
                    <a:pt x="0" y="3316"/>
                  </a:moveTo>
                  <a:cubicBezTo>
                    <a:pt x="18" y="3227"/>
                    <a:pt x="36" y="3139"/>
                    <a:pt x="56" y="3092"/>
                  </a:cubicBezTo>
                  <a:cubicBezTo>
                    <a:pt x="76" y="3045"/>
                    <a:pt x="85" y="3069"/>
                    <a:pt x="120" y="3036"/>
                  </a:cubicBezTo>
                  <a:cubicBezTo>
                    <a:pt x="155" y="3003"/>
                    <a:pt x="219" y="2927"/>
                    <a:pt x="264" y="2892"/>
                  </a:cubicBezTo>
                  <a:cubicBezTo>
                    <a:pt x="309" y="2857"/>
                    <a:pt x="344" y="2845"/>
                    <a:pt x="392" y="2828"/>
                  </a:cubicBezTo>
                  <a:cubicBezTo>
                    <a:pt x="440" y="2811"/>
                    <a:pt x="481" y="2800"/>
                    <a:pt x="552" y="2788"/>
                  </a:cubicBezTo>
                  <a:cubicBezTo>
                    <a:pt x="623" y="2776"/>
                    <a:pt x="732" y="2763"/>
                    <a:pt x="816" y="2756"/>
                  </a:cubicBezTo>
                  <a:cubicBezTo>
                    <a:pt x="900" y="2749"/>
                    <a:pt x="975" y="2755"/>
                    <a:pt x="1056" y="2748"/>
                  </a:cubicBezTo>
                  <a:cubicBezTo>
                    <a:pt x="1137" y="2741"/>
                    <a:pt x="1225" y="2733"/>
                    <a:pt x="1304" y="2716"/>
                  </a:cubicBezTo>
                  <a:cubicBezTo>
                    <a:pt x="1383" y="2699"/>
                    <a:pt x="1448" y="2685"/>
                    <a:pt x="1528" y="2644"/>
                  </a:cubicBezTo>
                  <a:cubicBezTo>
                    <a:pt x="1608" y="2603"/>
                    <a:pt x="1713" y="2520"/>
                    <a:pt x="1784" y="2468"/>
                  </a:cubicBezTo>
                  <a:cubicBezTo>
                    <a:pt x="1855" y="2416"/>
                    <a:pt x="1888" y="2393"/>
                    <a:pt x="1952" y="2332"/>
                  </a:cubicBezTo>
                  <a:cubicBezTo>
                    <a:pt x="2016" y="2271"/>
                    <a:pt x="2103" y="2176"/>
                    <a:pt x="2168" y="2100"/>
                  </a:cubicBezTo>
                  <a:cubicBezTo>
                    <a:pt x="2233" y="2024"/>
                    <a:pt x="2287" y="1952"/>
                    <a:pt x="2344" y="1876"/>
                  </a:cubicBezTo>
                  <a:cubicBezTo>
                    <a:pt x="2401" y="1800"/>
                    <a:pt x="2453" y="1732"/>
                    <a:pt x="2512" y="1644"/>
                  </a:cubicBezTo>
                  <a:cubicBezTo>
                    <a:pt x="2571" y="1556"/>
                    <a:pt x="2636" y="1433"/>
                    <a:pt x="2696" y="1348"/>
                  </a:cubicBezTo>
                  <a:cubicBezTo>
                    <a:pt x="2756" y="1263"/>
                    <a:pt x="2820" y="1191"/>
                    <a:pt x="2872" y="1132"/>
                  </a:cubicBezTo>
                  <a:cubicBezTo>
                    <a:pt x="2924" y="1073"/>
                    <a:pt x="2967" y="1041"/>
                    <a:pt x="3008" y="996"/>
                  </a:cubicBezTo>
                  <a:cubicBezTo>
                    <a:pt x="3049" y="951"/>
                    <a:pt x="3071" y="901"/>
                    <a:pt x="3120" y="860"/>
                  </a:cubicBezTo>
                  <a:cubicBezTo>
                    <a:pt x="3169" y="819"/>
                    <a:pt x="3251" y="781"/>
                    <a:pt x="3304" y="748"/>
                  </a:cubicBezTo>
                  <a:cubicBezTo>
                    <a:pt x="3357" y="715"/>
                    <a:pt x="3400" y="683"/>
                    <a:pt x="3440" y="660"/>
                  </a:cubicBezTo>
                  <a:cubicBezTo>
                    <a:pt x="3480" y="637"/>
                    <a:pt x="3503" y="625"/>
                    <a:pt x="3544" y="612"/>
                  </a:cubicBezTo>
                  <a:cubicBezTo>
                    <a:pt x="3585" y="599"/>
                    <a:pt x="3624" y="595"/>
                    <a:pt x="3688" y="580"/>
                  </a:cubicBezTo>
                  <a:cubicBezTo>
                    <a:pt x="3752" y="565"/>
                    <a:pt x="3859" y="544"/>
                    <a:pt x="3928" y="524"/>
                  </a:cubicBezTo>
                  <a:cubicBezTo>
                    <a:pt x="3997" y="504"/>
                    <a:pt x="4057" y="477"/>
                    <a:pt x="4104" y="460"/>
                  </a:cubicBezTo>
                  <a:cubicBezTo>
                    <a:pt x="4151" y="443"/>
                    <a:pt x="4167" y="444"/>
                    <a:pt x="4208" y="420"/>
                  </a:cubicBezTo>
                  <a:cubicBezTo>
                    <a:pt x="4249" y="396"/>
                    <a:pt x="4313" y="352"/>
                    <a:pt x="4352" y="316"/>
                  </a:cubicBezTo>
                  <a:cubicBezTo>
                    <a:pt x="4391" y="280"/>
                    <a:pt x="4413" y="240"/>
                    <a:pt x="4440" y="204"/>
                  </a:cubicBezTo>
                  <a:cubicBezTo>
                    <a:pt x="4467" y="168"/>
                    <a:pt x="4492" y="133"/>
                    <a:pt x="4512" y="100"/>
                  </a:cubicBezTo>
                  <a:cubicBezTo>
                    <a:pt x="4532" y="67"/>
                    <a:pt x="4512" y="0"/>
                    <a:pt x="4560" y="4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9"/>
            <p:cNvSpPr/>
            <p:nvPr/>
          </p:nvSpPr>
          <p:spPr>
            <a:xfrm flipV="1">
              <a:off x="888840" y="6244920"/>
              <a:ext cx="825516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20"/>
            <p:cNvSpPr/>
            <p:nvPr/>
          </p:nvSpPr>
          <p:spPr>
            <a:xfrm flipV="1">
              <a:off x="1422360" y="1244520"/>
              <a:ext cx="12600" cy="499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21"/>
            <p:cNvSpPr/>
            <p:nvPr/>
          </p:nvSpPr>
          <p:spPr>
            <a:xfrm>
              <a:off x="965160" y="1270080"/>
              <a:ext cx="46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22"/>
            <p:cNvSpPr/>
            <p:nvPr/>
          </p:nvSpPr>
          <p:spPr>
            <a:xfrm flipV="1">
              <a:off x="1949400" y="146952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23"/>
            <p:cNvSpPr/>
            <p:nvPr/>
          </p:nvSpPr>
          <p:spPr>
            <a:xfrm flipV="1">
              <a:off x="3344760" y="14774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4"/>
            <p:cNvSpPr/>
            <p:nvPr/>
          </p:nvSpPr>
          <p:spPr>
            <a:xfrm flipV="1">
              <a:off x="6000840" y="148068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25"/>
            <p:cNvSpPr/>
            <p:nvPr/>
          </p:nvSpPr>
          <p:spPr>
            <a:xfrm flipV="1">
              <a:off x="6721560" y="14774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26"/>
            <p:cNvSpPr/>
            <p:nvPr/>
          </p:nvSpPr>
          <p:spPr>
            <a:xfrm flipV="1">
              <a:off x="8191440" y="146952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27"/>
            <p:cNvSpPr/>
            <p:nvPr/>
          </p:nvSpPr>
          <p:spPr>
            <a:xfrm flipV="1">
              <a:off x="8951760" y="14792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5"/>
            <p:cNvSpPr/>
            <p:nvPr/>
          </p:nvSpPr>
          <p:spPr>
            <a:xfrm>
              <a:off x="3816360" y="1657440"/>
              <a:ext cx="1638360" cy="11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29"/>
            <p:cNvSpPr/>
            <p:nvPr/>
          </p:nvSpPr>
          <p:spPr>
            <a:xfrm>
              <a:off x="8210520" y="800280"/>
              <a:ext cx="666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30"/>
            <p:cNvSpPr/>
            <p:nvPr/>
          </p:nvSpPr>
          <p:spPr>
            <a:xfrm>
              <a:off x="4194000" y="6227640"/>
              <a:ext cx="20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l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31"/>
            <p:cNvSpPr/>
            <p:nvPr/>
          </p:nvSpPr>
          <p:spPr>
            <a:xfrm rot="16200000">
              <a:off x="167400" y="3534120"/>
              <a:ext cx="20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lse He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32"/>
            <p:cNvSpPr/>
            <p:nvPr/>
          </p:nvSpPr>
          <p:spPr>
            <a:xfrm>
              <a:off x="382680" y="6073920"/>
              <a:ext cx="65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33"/>
            <p:cNvSpPr/>
            <p:nvPr/>
          </p:nvSpPr>
          <p:spPr>
            <a:xfrm>
              <a:off x="378000" y="11034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34"/>
            <p:cNvSpPr/>
            <p:nvPr/>
          </p:nvSpPr>
          <p:spPr>
            <a:xfrm rot="16200000">
              <a:off x="267480" y="318672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ombination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35"/>
            <p:cNvSpPr/>
            <p:nvPr/>
          </p:nvSpPr>
          <p:spPr>
            <a:xfrm rot="16200000">
              <a:off x="1148400" y="319608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nization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36"/>
            <p:cNvSpPr/>
            <p:nvPr/>
          </p:nvSpPr>
          <p:spPr>
            <a:xfrm rot="16200000">
              <a:off x="3082680" y="3624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portional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37"/>
            <p:cNvSpPr/>
            <p:nvPr/>
          </p:nvSpPr>
          <p:spPr>
            <a:xfrm rot="16200000">
              <a:off x="4717080" y="4407480"/>
              <a:ext cx="33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mited Proportional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38"/>
            <p:cNvSpPr/>
            <p:nvPr/>
          </p:nvSpPr>
          <p:spPr>
            <a:xfrm rot="16200000">
              <a:off x="5753520" y="3921840"/>
              <a:ext cx="33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iger-Mueller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39"/>
            <p:cNvSpPr/>
            <p:nvPr/>
          </p:nvSpPr>
          <p:spPr>
            <a:xfrm rot="16200000">
              <a:off x="6678360" y="3724200"/>
              <a:ext cx="375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inuous Discharge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40"/>
            <p:cNvSpPr/>
            <p:nvPr/>
          </p:nvSpPr>
          <p:spPr>
            <a:xfrm>
              <a:off x="1527120" y="1427040"/>
              <a:ext cx="73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            2                           3                          4                5               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6"/>
            <p:cNvSpPr/>
            <p:nvPr/>
          </p:nvSpPr>
          <p:spPr>
            <a:xfrm flipH="1">
              <a:off x="6810120" y="1171440"/>
              <a:ext cx="104760" cy="87660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4:16:58Z</dcterms:created>
  <dc:creator>SCANA USER</dc:creator>
  <dc:description/>
  <dc:language>en-US</dc:language>
  <cp:lastModifiedBy>Peggy Hines IRSC</cp:lastModifiedBy>
  <dcterms:modified xsi:type="dcterms:W3CDTF">2013-03-06T20:20:37Z</dcterms:modified>
  <cp:revision>181</cp:revision>
  <dc:subject/>
  <dc:title>Protection Against Rad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061033</vt:lpwstr>
  </property>
</Properties>
</file>