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043E-6019-439F-B833-B87F4E1468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edit other slides, use Arial (Headings) 36 flush left for titles and Arial (Body) 24 for body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04D8-FD81-492B-A14E-01D3819BEE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6551-FA21-4E2B-84C9-9878C4525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CCE4-CD98-4F55-B1E1-FED5302C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B4DB-7B13-4725-99FB-31F4EBE2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F0A8-13E6-4978-AC64-82635815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44A1-45BB-4AE9-8FFA-3025D670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3E7B-B7C7-486B-82DE-4886A143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579C-7920-457E-BC20-38BF0628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4888-34FE-4495-905C-99D8D9A8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E8E5-DA2C-4144-B8D6-31300E4C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B096-7028-497B-B276-5B118B3D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F505-A1D7-470F-ACAF-2AE8D5E9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E5AF-70E4-4FCB-9B4E-AAACD5AA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F13C-22D6-4298-A8A2-12DFC6B9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3A5D-93A2-47AD-B5A8-EE5BD42B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BA1F-BFB1-4389-914E-1AC8C398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E6CF-A08D-49B9-BACA-9723E1D5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DA46-9024-410F-B3AD-D254F7CE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7813-1E26-4D87-B20C-DEB2CA37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B693-D73B-4CCC-996E-07849FB2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8330-664E-47C5-AC1D-4FF26044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1A0C-E7E0-4709-AB33-15963E37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9E51-8FE0-43B0-B8EF-E797C80B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90C5-344F-43E0-B076-DC561779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BCBE-10FC-450A-AB11-C57D3009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2806-48CA-43E8-9F05-57E8E279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9AE7-AC02-4609-8D7D-C897D11895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EF43-2096-476B-80A6-D7CA7DD86A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152280" y="102888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w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smic terrestrial internal radiation, uranium, thorium, radium, curie, becquerel, roentgen, dose, RAD, REM, x-rays, gamma, beta, alpha, fission fragments,  mrad,  tissue, organ,  affect on cells, blood,  whole body exposure,  acute, chronic,  genetic,  body burden, time distance shielding, gon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is module examines the affects of short and long term exposure to all types of radia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2280" y="1600200"/>
          <a:ext cx="8107560" cy="1515960"/>
        </p:xfrm>
        <a:graphic>
          <a:graphicData uri="http://schemas.openxmlformats.org/drawingml/2006/table">
            <a:tbl>
              <a:tblPr/>
              <a:tblGrid>
                <a:gridCol w="1351080"/>
                <a:gridCol w="1351080"/>
                <a:gridCol w="1350720"/>
                <a:gridCol w="1352520"/>
                <a:gridCol w="1351080"/>
                <a:gridCol w="1351080"/>
              </a:tblGrid>
              <a:tr h="40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9021-9DDD-472D-B8E7-440F51A5D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Produ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minous watches (trit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tern mantles (thor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bacco (polonium-21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hthalmic glass used in eyegla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ceramic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011C-E2E8-4080-8FF2-10FD8C6C5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360" y="15998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pationally Exposed Individuals (Work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ial radiography (X-ray imag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medicine depart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logy (medical imaging, X-rays, et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oncology (cancer treat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power pl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fuel cycle fac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pos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and university research laborator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Measurement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e Material Quant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ie :: the amount of radioactive material decaying at 2.22 X 1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oms per minute or 3.7 X 1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oms per 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ci = 3.7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cays per second (d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querel :: the amount of radioactive material decaying at 1 decay per seco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ci = 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Bq = 1 d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429B-D510-4E10-8502-DD7389A96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93B7-AD48-4247-B5BF-2C0FA4CD4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Eff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fully described by decay rate of radioactive mate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tional factors must consid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ener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Measurement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oentgen (R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2189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es to gamma or x-ray interactions in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es to energy deposition in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ty of x-ray or gamma radiation producing 1 esu of charge (positive or negative) in 1 cc (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of dry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u = electrostatic unit of ch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ionizing event = addition or removal of 1 electron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8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-1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s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R = 2.08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on pa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R = 88 erg/gram energy deposition in a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g = unit of work or ener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: Doesn’t relate to biological dam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4E38-5BE5-42C7-9C4E-68B019B2C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57200" y="5032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Absorbed Dose (RAD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= Total amount of energy delivered to a specific area or organ by radi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 = dose units per unit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RAD is an amount of any type of ionizing radiation that deposits 100 ergs/gram in tiss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RAD = 100 ergs/gram energy deposition (tiss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: Different types of ionizing radiation might have the same energy, but have totally different effects on tiss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8348-FBDE-4131-A473-5BD739A8B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1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oentgen Equivalent Man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(REM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mount of ionizing radiation required to produce the same biological effect as one rad of high-penetration x-ray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dose in rem is referred to as the dose equivalent (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 (rem) = Dose (rad)  x  Q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 Factor (Q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s for differences in biological effect for different types of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3156-7297-4784-9004-A659D2003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ality Fa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83808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Gamma, X-Rays, and High-Energy B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 rad = 1 r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lpha, Proton, Neutron, and Low-Energy B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 rad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1 r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 rem = 1 rad * Q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A93D-4576-4C66-9942-0B8E4B7DE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19320" y="3591000"/>
          <a:ext cx="6232320" cy="3051000"/>
        </p:xfrm>
        <a:graphic>
          <a:graphicData uri="http://schemas.openxmlformats.org/drawingml/2006/table">
            <a:tbl>
              <a:tblPr/>
              <a:tblGrid>
                <a:gridCol w="3116160"/>
                <a:gridCol w="3116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Rectangle 136"/>
          <p:cNvSpPr/>
          <p:nvPr/>
        </p:nvSpPr>
        <p:spPr>
          <a:xfrm>
            <a:off x="0" y="24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1219320" y="3895560"/>
            <a:ext cx="6219720" cy="914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1219320" y="4838760"/>
            <a:ext cx="6221160" cy="1792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t Radiation Typ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8760" y="823680"/>
            <a:ext cx="8763120" cy="57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logical effect of any radiation is related to rate at which radiation transfers energy to t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ear Energy Transfer (L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 of the interaction density along radiation travel pa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ivalent to ionization potential or stopping power of body t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rsely proportional to radiation r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 range particles like alphas have a high L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damaging types of radiation to a biological system are those with a high 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LET radiation deposits all of its energy in a short distance of trav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99B6-81BE-4DD2-8080-21F095D6E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 increases wi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mass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charge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ing energy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der of decreasing LE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ssion frag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mass number nucle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pha parti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utr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energy Beta, x-ray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energy beta, x-ray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D258-FA1D-4DC2-8C23-609BCA6A5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Different Radiation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9A10-A273-47CB-8E1C-17D66C888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91440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ources of Radiation Exposure in the U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Object 8"/>
          <p:cNvGraphicFramePr/>
          <p:nvPr/>
        </p:nvGraphicFramePr>
        <p:xfrm>
          <a:off x="1031760" y="993600"/>
          <a:ext cx="6672240" cy="541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993600"/>
                    <a:ext cx="667224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lationship between LET and Q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85CF-340B-4A74-B387-179CB2A6E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80880" y="990720"/>
          <a:ext cx="8382240" cy="518148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217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EAR ENERGY TRANSFE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LET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KeV/micron in water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QF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 or les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 – 7.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– 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0 – 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– 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 - 5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– 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 – 17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- 2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82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0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2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otal dose of alpha particles to an individual is three rad.  Calculate the dose equivalent in rem using the appropriate Quality Factor (QF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0B7D-DC9E-409C-9132-EFB3D2EB9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"/>
              <p:cNvSpPr txBox="1"/>
              <p:nvPr/>
            </p:nvSpPr>
            <p:spPr>
              <a:xfrm>
                <a:off x="162000" y="3570120"/>
                <a:ext cx="3638520" cy="316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04" name=""/>
          <p:cNvGraphicFramePr/>
          <p:nvPr/>
        </p:nvGraphicFramePr>
        <p:xfrm>
          <a:off x="4179960" y="3589200"/>
          <a:ext cx="4767120" cy="3051360"/>
        </p:xfrm>
        <a:graphic>
          <a:graphicData uri="http://schemas.openxmlformats.org/drawingml/2006/table">
            <a:tbl>
              <a:tblPr/>
              <a:tblGrid>
                <a:gridCol w="2790720"/>
                <a:gridCol w="1976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3840" y="814320"/>
            <a:ext cx="902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measured by instruments, an individual was exposed to radiation field consisting of 5 mrad gamma, 2 mrad beta, and 5 mrad fast neutrons. Calculate the dose equivalent in r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D3F3-8F04-49E6-B44D-88725EC11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"/>
              <p:cNvSpPr txBox="1"/>
              <p:nvPr/>
            </p:nvSpPr>
            <p:spPr>
              <a:xfrm>
                <a:off x="419040" y="2255760"/>
                <a:ext cx="4135320" cy="401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ad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γ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N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re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12" name=""/>
          <p:cNvGraphicFramePr/>
          <p:nvPr/>
        </p:nvGraphicFramePr>
        <p:xfrm>
          <a:off x="5742000" y="3521160"/>
          <a:ext cx="3273480" cy="3051000"/>
        </p:xfrm>
        <a:graphic>
          <a:graphicData uri="http://schemas.openxmlformats.org/drawingml/2006/table">
            <a:tbl>
              <a:tblPr/>
              <a:tblGrid>
                <a:gridCol w="2790720"/>
                <a:gridCol w="4827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logical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– basic unit of the human bod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ssue - cells with similar structure performing sam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 – cells with different structure (different tissues) performing similar overall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 – group of organs performing common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7542-B9CF-4526-805D-474A4F0B1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3367-1D9D-4726-9F89-3EB9255B6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457200" y="7452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Biological Organization: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ontent Placeholder 3"/>
          <p:cNvSpPr/>
          <p:nvPr/>
        </p:nvSpPr>
        <p:spPr>
          <a:xfrm>
            <a:off x="0" y="873000"/>
            <a:ext cx="507348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cell from external influences, such as tox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ekeep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%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convert nutrients into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 of biochemical reactions for bodily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0" descr=""/>
          <p:cNvPicPr/>
          <p:nvPr/>
        </p:nvPicPr>
        <p:blipFill>
          <a:blip r:embed="rId1"/>
          <a:srcRect l="0" t="15406" r="29839" b="16427"/>
          <a:stretch/>
        </p:blipFill>
        <p:spPr>
          <a:xfrm>
            <a:off x="4491000" y="3860640"/>
            <a:ext cx="4653000" cy="2826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1"/>
          <p:cNvSpPr/>
          <p:nvPr/>
        </p:nvSpPr>
        <p:spPr>
          <a:xfrm>
            <a:off x="5529240" y="766800"/>
            <a:ext cx="361476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b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esic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ough endoplasmic reticulum (E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olgi apparat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toskelet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mooth endoplasmic reticul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entrioles within centr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2036880" y="6176880"/>
            <a:ext cx="3165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 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DE19-1605-4F74-90B5-781263AE4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457200" y="7452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Biological Organization: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ontent Placeholder 3"/>
          <p:cNvSpPr/>
          <p:nvPr/>
        </p:nvSpPr>
        <p:spPr>
          <a:xfrm>
            <a:off x="0" y="873000"/>
            <a:ext cx="507348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instructions f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504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ed within chromoso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nds of amino acids (deoxyribonucleic acids – 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normal bodily function if damaged or mal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"/>
          <p:cNvPicPr/>
          <p:nvPr/>
        </p:nvPicPr>
        <p:blipFill>
          <a:blip r:embed="rId1"/>
          <a:srcRect l="2859" t="20147" r="43381" b="12370"/>
          <a:stretch/>
        </p:blipFill>
        <p:spPr>
          <a:xfrm>
            <a:off x="4419720" y="1236600"/>
            <a:ext cx="4724280" cy="37051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6878520" y="4890960"/>
            <a:ext cx="22654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F6A8-BDB4-4734-A830-BAFAC1F86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457200" y="74520"/>
            <a:ext cx="82296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Segment of DNA Str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"/>
          <p:cNvPicPr/>
          <p:nvPr/>
        </p:nvPicPr>
        <p:blipFill>
          <a:blip r:embed="rId1"/>
          <a:srcRect l="520" t="21499" r="48358" b="10002"/>
          <a:stretch/>
        </p:blipFill>
        <p:spPr>
          <a:xfrm>
            <a:off x="660240" y="939960"/>
            <a:ext cx="6634440" cy="55562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9"/>
          <p:cNvSpPr/>
          <p:nvPr/>
        </p:nvSpPr>
        <p:spPr>
          <a:xfrm>
            <a:off x="7532640" y="551484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932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 radical 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radiation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D153-EB16-451E-8B52-3C55AF746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76040" y="1382400"/>
            <a:ext cx="879192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tom (either neutral or charged) with unpaired electrons that wants to join with another atom to stabilize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 radic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cals that have not yet bonded with other 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reactive atoms or chemical compounds that can alter existing state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in cellular chemistry are the root causes of all the harmful effects of rad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C5F1-F664-45A7-A51E-49E67180D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46240" y="1580760"/>
            <a:ext cx="868176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irect Effect of Radiation on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Ionization and excitation of intracellular water molecules produces free radic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direct Effect of Radiation on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bsequent interference of free radicals with cells not direct affected by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2500-F0E8-4257-A143-219B42219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 background radiation comes from three sourc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mic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restrial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37CC-A3EA-4475-99AF-EBFC242AA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D815-1AA3-48BE-B3E4-078123D6D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4252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diolysis: production of free radicals in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diolysis by Ionization: Hydrogen Radical (H</a:t>
            </a:r>
            <a:r>
              <a:rPr b="0" lang="en-US" sz="3300" spc="-1" strike="noStrike" baseline="75000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ectron absorb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ydrogen radical and hydroxyl ion form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6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= radic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3"/>
              <p:cNvSpPr txBox="1"/>
              <p:nvPr/>
            </p:nvSpPr>
            <p:spPr>
              <a:xfrm>
                <a:off x="1160640" y="4595760"/>
                <a:ext cx="684504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H</m:t>
                        </m:r>
                      </m:e>
                      <m:sup/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1" name="Rectangle 10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BCCD-8896-4E4A-845C-5DE530616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1814400"/>
            <a:ext cx="914400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diolysis by Ioniz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ydroxyl Radical (OH</a:t>
            </a:r>
            <a:r>
              <a:rPr b="0" lang="en-US" sz="2300" spc="-1" strike="noStrike" baseline="75000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ectron removed from water molec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itively ionized water removes hydrogen from neutral water to form hydroxyl rad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1"/>
              <p:cNvSpPr txBox="1"/>
              <p:nvPr/>
            </p:nvSpPr>
            <p:spPr>
              <a:xfrm>
                <a:off x="1374840" y="4827600"/>
                <a:ext cx="6013440" cy="15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Rectangle 6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C633-D867-42B1-B728-973F934E3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1442520"/>
            <a:ext cx="9020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lysis by Excit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and Hydroxyl Radic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ident electron excites water molecule, but is not absorb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ited water molecule splits into hydrogen and hydroxyl radic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1633680" y="4665600"/>
                <a:ext cx="5441760" cy="18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5" name="Rectangle 6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7120080" y="627228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= exc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5529-8489-48F7-87D2-E1D109AD2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1420560"/>
            <a:ext cx="88470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se radicals immediately react with each other to produce harmless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they might react with other molecules in the cell, causing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1382760" y="2577960"/>
                <a:ext cx="4554360" cy="257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Rectangle 10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5958000" y="2654280"/>
            <a:ext cx="30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drogen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drogen Pe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d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roduce but new cells may d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roduce producing abnormal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air itself and function norm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F8C1-C6BF-4240-8C28-F2DFD3E59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457200" y="9360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81B2-44DB-4FDE-A277-AF99FFE02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979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radiation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1835280" y="4106880"/>
            <a:ext cx="1143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457200" y="9360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0" descr=""/>
          <p:cNvPicPr/>
          <p:nvPr/>
        </p:nvPicPr>
        <p:blipFill>
          <a:blip r:embed="rId1"/>
          <a:srcRect l="0" t="51499" r="0" b="2798"/>
          <a:stretch/>
        </p:blipFill>
        <p:spPr>
          <a:xfrm>
            <a:off x="2725560" y="2157480"/>
            <a:ext cx="3079800" cy="416700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11"/>
          <p:cNvSpPr/>
          <p:nvPr/>
        </p:nvSpPr>
        <p:spPr>
          <a:xfrm>
            <a:off x="6865920" y="548496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DE4F-1452-4183-8AD1-D07E728E5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lecul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mage to enzymes, DNA etc. and interference with biological path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cell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mage to cell membranes, nucleus, chromosomes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ular Inhibition of cell division, cell death, transformation to a malignant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457200" y="93600"/>
            <a:ext cx="82882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Effects of Radiation by Biologica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CA41-D814-470E-9D92-89C917237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issue, Org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ruption to central nervous system, bone marrow, intestinal tr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uction of canc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le Anim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a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fe shorte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pul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nges in the genetic characteristics of individual memb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457200" y="93600"/>
            <a:ext cx="82882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Effects of Radiation by Biologica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232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sensi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cells within the body have different structures and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y in their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adiosensi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sceptibility to radiation-induced da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7B26-F413-41A9-9C02-E304CDE4A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66560" y="107964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ular division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pidly dividing cells are more sensitivity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ular metabolism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ls with high metabolism rate are more susceptible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mental s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ls in division stage are more susceptible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/ nourishment to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rmally undernourished cells reproduce l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ster reproduction = more mu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19CE-A5C5-453B-9329-6C0618E03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457200" y="112680"/>
            <a:ext cx="8229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4 Factors Affecting Radiosensi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mic Radi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 and stars send constant stream of cosmic radiation to Ea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ke steady drizzle of r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ces in certain variables can change the amount (or dose) of cosmic radiation that we rece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mospheric 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th's magnetic fi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96E1-0DD8-4A04-936B-4E9A7D047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rgan / Tissue Radiation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1147680"/>
            <a:ext cx="914400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/ tissue radiosensitivity influenced by 2 fa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sensitivity of the tissue/organ cel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rtance to overall organ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st radiosensitive organs and t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lood (tissu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lood-forming org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onads (reproductive orga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ens of the e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k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east radiosensitive org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rain (cells do not reprodu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14F8-50AB-48AF-81B6-C1C203BF6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rgan / Tissue Radiation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0" y="1147680"/>
            <a:ext cx="914400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of the most radiosensitive tissues in the human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 blood cells have an already short lifespan and high metabolic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in toxins quick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nads (reproductive org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tations occurring in egg or sperm cells could result in a mutation in the offsp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 rads: temporary depletion of sperm 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00 to 400 rad: function of ovaries impa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81B0-1FB2-4386-B5BF-C2CF777FC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4125-9408-4373-89E6-A7E6B1C39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0" y="460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 Bl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225360" y="700200"/>
          <a:ext cx="8575920" cy="5945040"/>
        </p:xfrm>
        <a:graphic>
          <a:graphicData uri="http://schemas.openxmlformats.org/drawingml/2006/table">
            <a:tbl>
              <a:tblPr/>
              <a:tblGrid>
                <a:gridCol w="1602000"/>
                <a:gridCol w="1611000"/>
                <a:gridCol w="1638360"/>
                <a:gridCol w="1478160"/>
                <a:gridCol w="2246400"/>
              </a:tblGrid>
              <a:tr h="1006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CELL TYP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N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ION S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FETIME OF CEL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ECT OF SINGLE RADIATION EXPOSURE OF &gt; 100 RAD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d (Erythrocyte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ry oxygen and nutrients to bod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ight decrease in numb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ymphocyte (type of white blood cel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ght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ymph nodes and splee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d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increases with dose; decrease within 2 days after exposure; large decrease in number can result in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throphils (type of white blood cell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ght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proportional to dose; depletion results in infection and fev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tele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clot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– 10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increases with dose; decrease in number can result in hemorrhag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80720" y="772920"/>
            <a:ext cx="896292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tissue to exhibit noticeable radiation inj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radiosensitivity due to the high rate of cell division and degree of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00 to 500 rad: Erythema (redden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 dose: blistering and ulceration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term complications: scarring and skin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2484-9E41-4575-99D8-36CBBE8B8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0" y="58680"/>
            <a:ext cx="91440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 Sk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9" descr=""/>
          <p:cNvPicPr/>
          <p:nvPr/>
        </p:nvPicPr>
        <p:blipFill>
          <a:blip r:embed="rId1"/>
          <a:stretch/>
        </p:blipFill>
        <p:spPr>
          <a:xfrm>
            <a:off x="2801880" y="3276720"/>
            <a:ext cx="3178080" cy="326700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10"/>
          <p:cNvSpPr/>
          <p:nvPr/>
        </p:nvSpPr>
        <p:spPr>
          <a:xfrm>
            <a:off x="6865920" y="548496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2DE9-AFE8-4A87-8579-A0565DB71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1600200"/>
            <a:ext cx="879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result in cataract formation (cloudin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 dose of 200-500 r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mulative (spread over several months) dose of 1000 r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66560" y="182520"/>
            <a:ext cx="82677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</a:t>
            </a:r>
            <a:br>
              <a:rPr sz="4000"/>
            </a:b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Lens of the 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9" descr=""/>
          <p:cNvPicPr/>
          <p:nvPr/>
        </p:nvPicPr>
        <p:blipFill>
          <a:blip r:embed="rId1"/>
          <a:srcRect l="16669" t="20483" r="24977" b="12186"/>
          <a:stretch/>
        </p:blipFill>
        <p:spPr>
          <a:xfrm>
            <a:off x="3960720" y="3413160"/>
            <a:ext cx="4419720" cy="31860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0"/>
          <p:cNvSpPr/>
          <p:nvPr/>
        </p:nvSpPr>
        <p:spPr>
          <a:xfrm>
            <a:off x="2397240" y="560088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932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Effects on Hum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fac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a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EEDB-B1EE-4BAC-B68B-FCF8F0AA7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39680" y="1599840"/>
            <a:ext cx="900432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radiation of same type, range in tissue increases with increasing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th of penetration is function of type of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d particles and neutrons will not penetrate as far as electromagnetic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Energy Transfer (LE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depends on charge, mass, and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er LET = higher QF = more biological da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ECFE-DD9B-409E-84C4-FC66752E9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457200" y="27468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Radiation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radiation of all cells, organs, and t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s depends on which organ is sensitive at the given dos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al Body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mage limited to tissues and organs within exposed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high localized doses of radiation are used to treat certain cancers without significant damage to the rest of the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AF71-FFE5-4826-B071-4DAB13B92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457200" y="227160"/>
            <a:ext cx="833760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Portion of Body Expo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5998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damage decreases with decreasing dose 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cute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hort exposur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Chronic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ow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ong exposure ti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upational radiation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osure from natural background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E380-F7D6-410B-8984-ECE60BEDF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457200" y="93600"/>
            <a:ext cx="840564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Rate of Expo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8933040" cy="12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10600" y="1599840"/>
            <a:ext cx="8750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clinical Range (0 to 1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sickness occurs which requires medical att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changes occur in the blood for doses near 100 r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apeutic Range (100 to 2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usea, vomiting, loss of appetite, and fati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ood damage more sev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ness of the sk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thal Range (&gt;2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usea and vomiting become more sev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l hemorrhaging may occ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ir loss at 300 r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 - 600 rem: small percentage of people will die within 30 d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00 - 1000 rem: higher chance of de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1000 rem: Certain de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3DB3-83BA-49A0-B075-2EFFE775F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restrial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arth itself is a source of terrestrial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active materials exist naturally in soil and r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ran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o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d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contains small amounts of dissolved uranium and thor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rganic matter (both plant and animal) contains radioactive carbon and potassiu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F383-7700-4608-8778-8E9B9607F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274D-C595-4B73-9CE9-52D0B51A7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442800" y="1074600"/>
          <a:ext cx="8229600" cy="5346720"/>
        </p:xfrm>
        <a:graphic>
          <a:graphicData uri="http://schemas.openxmlformats.org/drawingml/2006/table">
            <a:tbl>
              <a:tblPr/>
              <a:tblGrid>
                <a:gridCol w="2359080"/>
                <a:gridCol w="58705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ose (Rads*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5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irst sign of physical 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drop in white blood cell coun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hreshold for vomi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in a few hours of exposu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20 - 3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 50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 minimal supportive ca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80 - 5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50 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 supportive medical ca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 100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Rectangle 28"/>
          <p:cNvSpPr/>
          <p:nvPr/>
        </p:nvSpPr>
        <p:spPr>
          <a:xfrm>
            <a:off x="0" y="71280"/>
            <a:ext cx="9144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Acute Radiation Effects: Whole Body 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FD49-FCF7-4E8F-B706-9B6DAA382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0" y="0"/>
          <a:ext cx="9144000" cy="6561000"/>
        </p:xfrm>
        <a:graphic>
          <a:graphicData uri="http://schemas.openxmlformats.org/drawingml/2006/table">
            <a:tbl>
              <a:tblPr/>
              <a:tblGrid>
                <a:gridCol w="1488960"/>
                <a:gridCol w="1263600"/>
                <a:gridCol w="1378080"/>
                <a:gridCol w="1252440"/>
                <a:gridCol w="1257480"/>
                <a:gridCol w="1254240"/>
                <a:gridCol w="212400"/>
                <a:gridCol w="1036800"/>
              </a:tblGrid>
              <a:tr h="43056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TO 1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CLINICAL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TO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EUTIC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THAL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TO 2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 TO 6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 TO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0 TO 5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 5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 SURVEIL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EFFE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PROMI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PALLIA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idence of vomi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rems: 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 rems: 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rems =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lay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h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599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ding org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matopoietic tiss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trointestinal tr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al nervous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acteristic sig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rate Leukope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vere leucopenia; purpose; hemorrhage; infection.  Hair loss above 300 rem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rrhea; fever, disturbance of electrolyte ba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ulsions; tremor; ataxia; letharg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ical period post expos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to 6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to 14 d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to 48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ssu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ssurance; hematological surveil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transfusion; antibiot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ider bone marrow transplan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tenance of electrolyte ba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dativ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nos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ll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ll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uard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pel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259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alescent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veral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to 12 mon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 to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idence of dea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to 100% (variab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to 100% (variab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ath occurs with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on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d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use of dea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morrhage; inf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rculatory collap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iratory fail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ute Radiation Effect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ocalized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7CBF-E7B2-41B6-9C0B-8DEFED00F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Content Placeholder 4" descr="capture4.jpg"/>
          <p:cNvPicPr/>
          <p:nvPr/>
        </p:nvPicPr>
        <p:blipFill>
          <a:blip r:embed="rId1"/>
          <a:srcRect l="22911" t="0" r="21263" b="13409"/>
          <a:stretch/>
        </p:blipFill>
        <p:spPr>
          <a:xfrm>
            <a:off x="0" y="2152800"/>
            <a:ext cx="2490840" cy="3903480"/>
          </a:xfrm>
          <a:prstGeom prst="rect">
            <a:avLst/>
          </a:prstGeom>
          <a:ln w="0">
            <a:noFill/>
          </a:ln>
        </p:spPr>
      </p:pic>
      <p:pic>
        <p:nvPicPr>
          <p:cNvPr id="403" name="Content Placeholder 3" descr="capture12.jpg"/>
          <p:cNvPicPr/>
          <p:nvPr/>
        </p:nvPicPr>
        <p:blipFill>
          <a:blip r:embed="rId2"/>
          <a:srcRect l="31803" t="0" r="0" b="0"/>
          <a:stretch/>
        </p:blipFill>
        <p:spPr>
          <a:xfrm>
            <a:off x="2778120" y="2317680"/>
            <a:ext cx="2968560" cy="3359160"/>
          </a:xfrm>
          <a:prstGeom prst="rect">
            <a:avLst/>
          </a:prstGeom>
          <a:ln w="0">
            <a:noFill/>
          </a:ln>
        </p:spPr>
      </p:pic>
      <p:pic>
        <p:nvPicPr>
          <p:cNvPr id="404" name="Content Placeholder 3" descr="capture6.jpg"/>
          <p:cNvPicPr/>
          <p:nvPr/>
        </p:nvPicPr>
        <p:blipFill>
          <a:blip r:embed="rId3"/>
          <a:srcRect l="15212" t="0" r="12209" b="0"/>
          <a:stretch/>
        </p:blipFill>
        <p:spPr>
          <a:xfrm>
            <a:off x="5959440" y="2522520"/>
            <a:ext cx="30322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A7B5-65B7-4E8F-B8EE-6F03E039D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Content Placeholder 3" descr="capture8.jpg"/>
          <p:cNvPicPr/>
          <p:nvPr/>
        </p:nvPicPr>
        <p:blipFill>
          <a:blip r:embed="rId1"/>
          <a:stretch/>
        </p:blipFill>
        <p:spPr>
          <a:xfrm>
            <a:off x="0" y="2298600"/>
            <a:ext cx="5429160" cy="3660840"/>
          </a:xfrm>
          <a:prstGeom prst="rect">
            <a:avLst/>
          </a:prstGeom>
          <a:ln w="0">
            <a:noFill/>
          </a:ln>
        </p:spPr>
      </p:pic>
      <p:pic>
        <p:nvPicPr>
          <p:cNvPr id="409" name="Content Placeholder 3" descr="capture10.jpg"/>
          <p:cNvPicPr/>
          <p:nvPr/>
        </p:nvPicPr>
        <p:blipFill>
          <a:blip r:embed="rId2"/>
          <a:stretch/>
        </p:blipFill>
        <p:spPr>
          <a:xfrm>
            <a:off x="5624640" y="1373040"/>
            <a:ext cx="3352680" cy="527076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6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E627-C13E-4E7D-98C3-FCD25C685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Content Placeholder 3" descr="capture15.jpg"/>
          <p:cNvPicPr/>
          <p:nvPr/>
        </p:nvPicPr>
        <p:blipFill>
          <a:blip r:embed="rId1"/>
          <a:stretch/>
        </p:blipFill>
        <p:spPr>
          <a:xfrm>
            <a:off x="0" y="1405080"/>
            <a:ext cx="3618000" cy="52196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6840" y="1599840"/>
            <a:ext cx="850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angiecta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lation (expansion) of the blood vessels in the sk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areas receive excessive blood flow, diverting blood away from other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ells that LOSE blood flow suffer from oxygen depri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yth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ly Transient: Slight inflammation of skin due to inflamed blood ves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: more severe inflam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te: Severe inflammation of skin due to damaged blood ves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5830-32A7-4511-8154-C90A5950F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60020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yth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Transient: Slight inflammation of skin due to inflamed blood vess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: more severe inflam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e: Severe inflammation of skin due to damaged blood vess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4E74-3718-43D3-8ED1-6FB0D023E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71000" y="1600200"/>
            <a:ext cx="879156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ute Ulc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rly loss of outer skin cells (peel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rmal Atro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nning of the skin t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pilation (hair lo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y Desqua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ratinization (hardening) of the sk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ist Desqua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in loss due to inability of damaged skin cells to reprodu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ary Ulc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in damage due to dehydration and infection resulting from severe moist desqua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9D6C-0056-4A55-B2F9-02B4B5DA5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16C5-C74B-44C3-9543-8BE92921B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mal Nec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/tissue death due to insufficient blood 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ute Epidermal Nec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e tissue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-dose, low-energy beta ir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47840" y="-36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ronic Radiation Effect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95280"/>
            <a:ext cx="82598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ody tolerates small doses of radiation exposure better over a long period of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ody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airs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iminates radiation-induced byprod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As long as the repair or elimination rate is larger than the production r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500 rem acute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vere radiation sick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500 rem delivered at 10 rem per we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Little noticeable ef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8431-74B9-4D66-B29B-98B1A1AA3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animals (including people) have internal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es from radioactive potassium-40 and carbon-14 inside their bo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t from bi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minor sources of exposure to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F04E-9619-4532-A372-A7A4966AF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728640" y="2027160"/>
            <a:ext cx="77961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permanent biological damage occurs unless total dose exceeds some value (threshol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it long term chronic exposures to less than threshold values to protect against permanent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409D-C7FB-4E7E-9597-714ACD225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496800" y="325440"/>
            <a:ext cx="82296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hronic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Threshold Ef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0" y="149508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dy continuously attempts to repair damage as it occ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amage too sev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air mechanisms become str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ing effects are increa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ed exposure shortens average life sp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result in can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tic mutation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ukemia: Inability to produce white blood cells norm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DAEF-5FB6-4444-B616-C37C73D48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447840" y="0"/>
            <a:ext cx="82296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hronic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Tissue Damage and Rep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9360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etic Effects of Rad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38120" y="1030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seen in offspring of exposed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to genetic information in reproductive cells due to damaged DNA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spontaneous changes due to background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EF8E-DED6-4276-8B1A-BAB2B339A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4AF6-94D0-4781-8BBE-7F5E5FAFE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 in the exposed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in reddening (erythem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s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 %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457200" y="93600"/>
            <a:ext cx="82296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Somatic Effects of Rad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ernal Radiation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ways radionuclides can enter the bo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ha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allow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Cu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0B69-4BEC-4E5C-8DEF-B6AFBA520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1573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al or Target Organ Concep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allowing and Inhalation of Radionucl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599840"/>
            <a:ext cx="82296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wallowed, radionuclides pass through normal digestion proc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nhaled, radionuclides enter the lu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oluble, transmitted through blood str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blood stream, it travels through out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organs have an affinity to specific elements – radioactive or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BFCA-4042-46B3-95B0-AE41515CB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-360" y="727200"/>
            <a:ext cx="898668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l painters contract bone cancer after years of “pointing” the radium dipped brush with their tong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um falls in same periodic table grouping as Calc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aces Calcium in b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arget organ for Radium is b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93B4-BB19-4E46-8CA8-67863AD54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497d"/>
                </a:solidFill>
                <a:latin typeface="Arial"/>
              </a:rPr>
              <a:t>Critical or Target Organ Concep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9" descr=""/>
          <p:cNvPicPr/>
          <p:nvPr/>
        </p:nvPicPr>
        <p:blipFill>
          <a:blip r:embed="rId1"/>
          <a:srcRect l="24505" t="19688" r="28569" b="19066"/>
          <a:stretch/>
        </p:blipFill>
        <p:spPr>
          <a:xfrm>
            <a:off x="0" y="4203720"/>
            <a:ext cx="2459160" cy="240660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10"/>
          <p:cNvSpPr/>
          <p:nvPr/>
        </p:nvSpPr>
        <p:spPr>
          <a:xfrm>
            <a:off x="2527200" y="573264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11" descr=""/>
          <p:cNvPicPr/>
          <p:nvPr/>
        </p:nvPicPr>
        <p:blipFill>
          <a:blip r:embed="rId2"/>
          <a:stretch/>
        </p:blipFill>
        <p:spPr>
          <a:xfrm>
            <a:off x="6626160" y="4137120"/>
            <a:ext cx="2517840" cy="251784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12"/>
          <p:cNvSpPr/>
          <p:nvPr/>
        </p:nvSpPr>
        <p:spPr>
          <a:xfrm>
            <a:off x="5176800" y="576900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B6DD-F5C6-48B7-A2B6-8F1FDE8D6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um –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tium –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balt – whol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sium – large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dine - Thyro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157320"/>
            <a:ext cx="91440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497d"/>
                </a:solidFill>
                <a:latin typeface="Arial"/>
              </a:rPr>
              <a:t>Critical or Target Organ Concep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dy Bu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unt  of internally-deposited radioactivity causing maximum permissible dose to any org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B1C0-D086-4511-B446-B6C56F8BF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120" y="71280"/>
            <a:ext cx="890244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tection from External Radioac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– minimize time expo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ance – Increase distance from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elding – Increase shiel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95BF-2CCF-4505-90B5-B12FB11F8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living things are exposed to natural background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sure to man-made radiation sources differs by group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of the Publi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upationally Exposed Individuals (Worker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2A27-211D-4DD6-83FE-FB31CCB39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69BB-E5F9-47B5-808C-E121EB413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ively controlled: PREV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i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eating / drinking in contaminated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open w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114480" y="71280"/>
            <a:ext cx="890244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Protection from Internal Radio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E8C2-857B-4AD2-B80F-E4C574D86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bers of the Publ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l Sources (by far, the most significant man-made sourc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gnostic x-ray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clear medicine procedures (iodine-131, cesium-137, and other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2C24-532D-47C5-B8A0-D373B9438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Produ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and road construction materi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bustible fuels, including gas and co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-ray security syste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evis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uorescent lamp start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oke detectors (americ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argaret Hines</dc:creator>
  <dc:description/>
  <dc:language>en-US</dc:language>
  <cp:lastModifiedBy>Peggy Hines IRSC</cp:lastModifiedBy>
  <dcterms:modified xsi:type="dcterms:W3CDTF">2013-02-07T19:55:15Z</dcterms:modified>
  <cp:revision>1166</cp:revision>
  <dc:subject/>
  <dc:title>Biological Effects of Radiation</dc:title>
</cp:coreProperties>
</file>