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EE0B-28FB-459C-85DE-64498DAA3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81A18-40D0-4ABC-BA10-BECD1BC93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CB480-AF0E-46E1-9253-8ACDEC201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EA0F9-DED6-4710-A4CF-FBA66B2E75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F8787-9960-4ABF-8CB7-905F7BBC92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86ED1-A1E2-4F4F-89A5-90283A0AF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0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3035E-FFBC-421F-8D06-B297B4E4F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E101-88F8-4280-BC3D-7330F2B9D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7AF1C-3AA0-4C9D-8F64-B800F5277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FB750-7D23-4696-B329-F821D1635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A7D9-A591-4B0E-BD1D-DDB95BAFC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5255-AAD6-4357-9E1D-3EDA7E64C2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22E6-EB56-4321-B78A-296E880892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59160-4FE3-4420-8EC8-FF6208759D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0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DDD49-9A71-4228-8ECE-DAD41A28F1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C1E53-3704-4CF7-8BF7-A146D3F0C2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50A07-ACF7-4064-8C9D-DA7867C0C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659F-8B02-4A52-955F-BE3B495D70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63241-90E1-44A2-AC29-CA9B4E343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C3B80-4209-415A-9F85-1D3477E7FC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1577-29E4-4DA0-BA47-9B98D2B4E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7431C-EF17-4AFC-AE66-6B020F787D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66A39-1D10-4E28-9565-4F8F35716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AC416-1844-4621-9F70-F0085784D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8E778-C427-46EF-B9AB-36CD7153C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9D6B-C532-4CCC-83CB-5DDE0F2F1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F157B-CDA2-417E-A89E-2C21A638D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40AD-AF80-470B-9652-13B0B57B5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67546-07FE-4030-BA9A-0C0FD0ADA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A8274-D2FD-4931-846B-E91969DE2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076F9-55B3-407E-8E29-9CE7BFEDB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92941-F15F-4336-B35C-66EC0E221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9784-8E7C-4AF5-BF5E-60CD7D76D8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D69E4-F00D-497A-8CA4-40311C0359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9770E-C955-42FF-B8E4-939583352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A68E-1734-405E-80BE-2D3530BE4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AE8C-1736-486B-A9EC-DEE8EB8795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C7022-9625-4D4B-80AE-FC1E3BD5A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0A6A2-587F-4C6B-96E0-B87F724360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5B50-3CE2-49EE-A288-A37776C35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3BD46-381B-405D-B6BB-75349CE0C4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17BB-0D72-49F0-88AD-8AFBC1DCAC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9D7E7-50BE-449D-90E7-DBF3C0264D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3A29E-D836-456F-9B89-F764B9656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6C317-F51A-4EA0-8D32-2630198AD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70E0D-764D-4233-8A17-2339E38E53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B617-F8CF-45F5-AD90-49CA8DF4D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D62E-231B-48D6-B647-0C6DD6B7D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7AB-E653-45E9-B104-2A8C33BB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3BD-9CA0-49E6-8B14-CFF316DE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329-FF22-4408-9892-579579EB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870-043C-445B-9F2E-C8781141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908-7A90-45EC-88C8-69D24D6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F6-707F-4081-9145-A79BD25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CBC-ECE5-4344-A89D-AAA0EA9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C9F-7941-4639-AEAE-4C10498E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224-95B5-4210-A725-D63EBFB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9EA-D557-479C-9F2A-ADE33BF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F42-6247-44AA-B6BF-7950ABB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4AC-63EB-4736-8BBA-EF8C8804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1F674-B6E9-480C-9172-2682117E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ectronic.co.uk/img/m550.jpg&amp;imgrefurl=http://www.spectronic.co.uk/uv-vis-spectrophotometers/m550.htm&amp;h=292&amp;w=400&amp;sz=14&amp;hl=en&amp;start=3&amp;um=1&amp;tbnid=sr7jPIzm_qoizM:&amp;tbnh=91&amp;tbnw=124&amp;prev=/images%3Fq%3Dspectrophotometer%26um%3D1%26hl%3Den%26ie%3DUTF-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cscale.net/pictures/large/Electronic-Balance-LED-HX-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rumentation and 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cience of physical measurement appli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ariables such as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asurements contain some error and it is calculated by the following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Error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 Value  -   Average Measured 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22256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7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 Gives a Measure of Var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76520" y="3178080"/>
            <a:ext cx="121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099680" y="2876400"/>
            <a:ext cx="2165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56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623120" y="3790800"/>
            <a:ext cx="1269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2865600" y="3436920"/>
            <a:ext cx="198360" cy="274680"/>
          </a:xfrm>
          <a:custGeom>
            <a:avLst/>
            <a:gdLst>
              <a:gd name="textAreaLeft" fmla="*/ 0 w 198360"/>
              <a:gd name="textAreaRight" fmla="*/ 198720 w 198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5" h="173">
                <a:moveTo>
                  <a:pt x="0" y="173"/>
                </a:moveTo>
                <a:lnTo>
                  <a:pt x="12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3063960" y="3422520"/>
            <a:ext cx="220680" cy="1301760"/>
          </a:xfrm>
          <a:custGeom>
            <a:avLst/>
            <a:gdLst>
              <a:gd name="textAreaLeft" fmla="*/ 0 w 220680"/>
              <a:gd name="textAreaRight" fmla="*/ 221040 w 22068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139" h="820">
                <a:moveTo>
                  <a:pt x="0" y="0"/>
                </a:moveTo>
                <a:lnTo>
                  <a:pt x="139" y="8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289320" y="2568600"/>
            <a:ext cx="376200" cy="2146320"/>
          </a:xfrm>
          <a:custGeom>
            <a:avLst/>
            <a:gdLst>
              <a:gd name="textAreaLeft" fmla="*/ 0 w 376200"/>
              <a:gd name="textAreaRight" fmla="*/ 376560 w 3762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237" h="1352">
                <a:moveTo>
                  <a:pt x="0" y="1352"/>
                </a:moveTo>
                <a:lnTo>
                  <a:pt x="23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3670200" y="2568600"/>
            <a:ext cx="332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28800" y="3178080"/>
            <a:ext cx="121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746520" y="3787920"/>
            <a:ext cx="3098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5740560" y="3102120"/>
            <a:ext cx="25380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ignificant Fig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cessary number of figures (digits) required to express the result of a measurement or calculation so that only the last digit in the number is in doub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gives significance (or meaning) to each digit in the number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10680"/>
            <a:ext cx="80773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nsider Significant Fig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depends upon experimentation which requires numerical measu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taken from instruments made by other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asurement is 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is alway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Significant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17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 figure is estimated in measuring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3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whole #'s are significant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2.33 =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zeros between 2 numbers are significant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03 =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s to the right of whole number digits are significant if prec by a decimal point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03.00  = 5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zeros to the right of a decimal point &amp; whole number are significant                                                  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.0230 = 5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s to the right of a decimal but to the left of a whole number are not significant 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0.0203  3 sig fi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racy of an analytical measurement is how close a result comes to the true value.  The analytical method is calibrated using a known standard to determine the accuracy of a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The reproducibility of multipl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It is evaluated statistically using standard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ation, standard error, or confidenc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1840" indent="-3218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Requires 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14376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205740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alue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 flipH="1">
            <a:off x="5700600" y="2514600"/>
            <a:ext cx="486000" cy="228600"/>
          </a:xfrm>
          <a:prstGeom prst="line">
            <a:avLst/>
          </a:prstGeom>
          <a:ln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71600" y="4646520"/>
            <a:ext cx="6172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371600" y="4800600"/>
            <a:ext cx="2635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vs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of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is reset to detect a specific weight  according to directions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00.00 g standard is placed on the balance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calibrating, the balance will then show a value equal to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using balanc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ion versus Accuracy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ion of balances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of pipet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2636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of Pipe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tman is selected and set to a specific volume :  1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or 2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drawn up to a desired volume and place into weighed small beaker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eq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= Mass/Volu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alculate the volume using 1 gram/ml           for density of water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 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02040" indent="-302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ation from an expected value can be expressed as a Percent E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-302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Percent Error use the formula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% Error  =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ue Value – Average val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 100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trum of electromagnetic waves ranges from low-frequency radio waves to high-frequency gamma rays. Only a small portion of the spectrum, representing wavelengths of roughly 400–700 nanometers, is visible to the human ey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© Merriam-Webster In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0007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ght of a specific wavelength interacts with a substance, the subsequent energy transfer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224"/>
              </a:spcBef>
              <a:buNone/>
              <a:tabLst>
                <a:tab algn="l" pos="0"/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9544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7200" y="18288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light hits a substa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ransferred to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by raising its energy to an exc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79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05640" indent="-30564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absorption of a photon triggers the emission of another photon with a longer wavelength when the molecule relaxes back to its ground st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7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ation: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7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ce: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Planck’s cons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frequenc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round state of the fluorescent molecu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xcited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that are excited through light absorption can transfer energy to a second molecule, which is converted to its excited state and can then fluores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rescent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emitting diodes (LEDs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vapor street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w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 fluorescent lighting (CFL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V/Vis Spectropho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of light in the visible and ultraviolet  spectrum results in changes electronic structure of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V/Vis Spectrophot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light 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range: Tungsten lamp (400 – 700 n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 range: Deutrium lamp (200 – 400 n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ting Monoch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using Balan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Pi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ert-Beer Law A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whe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abso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molar extinction coefficient (L mmo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= molar concentration (m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= pathlength (c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ambert-Beer law is used to accurately determine the concentration of a substance by measure absorbance at a specific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ert-Beer Law is used to determine the concentration of an unknown using a standard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628800" cy="2828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124080" y="33526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0.063 x + 0.002 R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80880" y="3352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for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2438280" y="35337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Nucleic Acid Concent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measurement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for nucleic acids (DNA and RNA) at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specific for each type of nucle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ds-DNA = 50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s-DNA = 37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s-RNA = 40 µ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 and 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60/2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y of nucleic acid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re range 1.8 – 2.0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572000"/>
            <a:ext cx="13716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ion of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mogenous liquid mixture composed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u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 which dissolves in the sol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v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in which solute is dis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nt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io of the mass of a solute t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solution Examples: g/mL, mol/L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tor, medium, volu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dilution is logarith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dilution using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(cont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iquo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divided portions of a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lt solution which resists change in 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addition of acid or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ag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hich is involved in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d during a chemical reaction or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other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349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isc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 in the surface of a liquid which res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teraction with the 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914400" y="1295280"/>
            <a:ext cx="6202440" cy="4972320"/>
            <a:chOff x="914400" y="1295280"/>
            <a:chExt cx="6202440" cy="497232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tretch/>
          </p:blipFill>
          <p:spPr>
            <a:xfrm>
              <a:off x="914400" y="1295280"/>
              <a:ext cx="6202440" cy="49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4"/>
            <p:cNvSpPr/>
            <p:nvPr/>
          </p:nvSpPr>
          <p:spPr>
            <a:xfrm>
              <a:off x="1066320" y="1371240"/>
              <a:ext cx="594216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6627960" y="2057040"/>
              <a:ext cx="380520" cy="396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1066320" y="2057040"/>
              <a:ext cx="380880" cy="396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1218960" y="5942160"/>
              <a:ext cx="556092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763560" y="18288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pH ranges for common laboratory buf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: [H+]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: [H+] &g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lt;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c: [H+] &lt;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 meter is an instrument used to measure the pH of a liquid. Componen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(glass electro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 (measures and displays pH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pH is Meas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solutions with different pH values exist inside and outside a glass membrane, an electromotive force is proportional to the difference between the two pH values. The solution inside the glass membrane has a pH value of 7. The pH value of the solution outside the membrane can be obtained by measuring the electromotive force generated in the membr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uses and limitations of the balances we use in the labora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volved in making and reporting a measur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affect the uncertainty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easur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significant figures signific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 meter consists of a glass electrode and a reference electrode. It allows the pH value of the sample to be obtained by measuring the potential difference between the two electrodes with a potential difference 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ibrate the pH meter, a standard solution with a known pH value is used. As standard solutions, phthalic acid (pH 4.01), neutral phosphate (pH 6.86), and borate (pH 9.18) are mainly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34290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is the ratio of the mass (or volume) of a solute to the mass (or volume) of the solution (or solvent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/volume (%w/v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/volume (%v/v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ar volume (mol/L or 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Prepare 1 L of 1.5 M Tris pH 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tal number of moles of Tris required. 1 L X 1.5 mol/L = 1.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s (MW = 121.1 g/mo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mol X 121.1 g/mol = 181.65 g T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Dissolve 181.65 g Tris in 700 mL 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(using beak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Adjust pH to 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Transfer to 1 L graduated cylinder. Bring to final volume with 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Safety Data Sheet (MSD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materials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 (PPE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ves, eye protection, hood,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equipment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wash station, safety shower, fire alarms, fire extinguisher,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808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6524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Safety Data Sheet (MSDS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information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chem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respons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ust be a MSDS for every chemical used and stored in a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DS for all chemicals must be read and understood before starting 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line of defense are contain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manufacturers post physical and health hazards on contain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goes on a container labe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’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, handling, and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733920" cy="283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367668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057400" y="457200"/>
            <a:ext cx="2286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971440" y="379440"/>
            <a:ext cx="2514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1160"/>
            <a:ext cx="6858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Fire Protection Association - NFPA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0120" y="2057040"/>
            <a:ext cx="4033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ue =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= 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llow = 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119480" y="5570640"/>
            <a:ext cx="4795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98800" indent="-298800" algn="ctr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= 0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800" indent="-298800" algn="ctr"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Intense to Most Int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58520" y="4800600"/>
            <a:ext cx="38138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= Special Haz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 : ACID, NO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4160" y="146196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rcbs.msu.edu/chemical/nfpa/nfp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… Bio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324480" y="2057400"/>
            <a:ext cx="2619360" cy="2048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304920" y="1600200"/>
            <a:ext cx="7619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Biohazardous mater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producing harmful ef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ther biological organisms, particularly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bacteria, fungi, viruses, parasites, recombinant products, allergens, cultured human or animal cells and their potentially infectious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746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are equipped with two types of bal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34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95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loading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34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5440" indent="0">
              <a:spcBef>
                <a:spcPts val="799"/>
              </a:spcBef>
              <a:buNone/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ary difference between these instrument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78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sion = +/- 0.01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5247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oading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411480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03284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less quantitative results are required (+/- 0.01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pacity &lt; 1200 g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measurements requiring highly quantitative results i.e. +/- 0.0002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pacity &lt; 100 g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7524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-Rad Pipe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ts can measure +/-1% of their largest volume and be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Jennifer Imbesi</cp:lastModifiedBy>
  <dcterms:modified xsi:type="dcterms:W3CDTF">2016-01-06T15:07:52Z</dcterms:modified>
  <cp:revision>14</cp:revision>
  <dc:subject/>
  <dc:title>Slide 1</dc:title>
</cp:coreProperties>
</file>