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48920" y="965160"/>
            <a:ext cx="506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3840" indent="-216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5480" indent="-21420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7480" indent="-216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7480" indent="-2160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7480" indent="-2160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1371600" y="45720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Pipette Calibrat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Procedur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Pipette, water and balanc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est the maximum volume or minimum volum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Pre-wet tip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est 5 volumes per setting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114800" y="1025640"/>
            <a:ext cx="22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2057400" y="1828800"/>
            <a:ext cx="6172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1371600" y="1600200"/>
            <a:ext cx="2514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495520" y="1809720"/>
            <a:ext cx="2533680" cy="2305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910640" y="2027160"/>
            <a:ext cx="180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799480" y="2598840"/>
            <a:ext cx="181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228160" y="2471760"/>
            <a:ext cx="180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6381720" y="1828800"/>
            <a:ext cx="253368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8458200" y="2514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8001000" y="2743200"/>
            <a:ext cx="914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0287000" y="2854440"/>
            <a:ext cx="22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9144000" y="3200400"/>
            <a:ext cx="22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828800" y="4800600"/>
            <a:ext cx="3657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950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50e"/>
                </a:solidFill>
                <a:latin typeface="Arial"/>
              </a:rPr>
              <a:t>Pr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400800" y="4800600"/>
            <a:ext cx="2286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950e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950e"/>
                </a:solidFill>
                <a:latin typeface="Arial"/>
              </a:rPr>
              <a:t>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2971800" y="685800"/>
            <a:ext cx="4032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950e"/>
                </a:solidFill>
                <a:latin typeface="Arial"/>
              </a:rPr>
              <a:t>The Best of Both Wor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950e"/>
                </a:solidFill>
                <a:latin typeface="Arial"/>
              </a:rPr>
              <a:t>Precision + 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741240" y="326880"/>
            <a:ext cx="86090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Pipette calibration cri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741240" y="1963800"/>
            <a:ext cx="877248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Times New Roman"/>
              </a:rPr>
              <a:t>Calibration Acceptance Criteria 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Accuracy (mean error): How close a measurement is to an accepted value. Difference between the dispensed mass and the selected volume of a pipette.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Precision (random error): Indicates how close together or how repeatable the pipette volumes are. A precise measuring instrument will give very nearly the same  result each time it is 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Averages for Sample Weights</a:t>
            </a:r>
            <a:br>
              <a:rPr sz="4000"/>
            </a:b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and correction factor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60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Mean weight  =      </a:t>
            </a:r>
            <a:r>
              <a:rPr b="0" lang="en-US" sz="3200" spc="-1" strike="noStrike" u="sng">
                <a:solidFill>
                  <a:srgbClr val="e6e6e6"/>
                </a:solidFill>
                <a:uFillTx/>
                <a:latin typeface="Times New Roman"/>
              </a:rPr>
              <a:t>sum of sample weight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of samples         number of sampl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Mean volume =     (ave. weight + e) x Z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of sampl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w = mean weight in m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v  = mean volume u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e  = evaporation rate in m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                           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Z  = factor for correc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37116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Introduction to Calibration Activit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50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You will be given a pipet to calibrat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alibration will be done by using the  equa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Density = Mass/volum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Using a balance that can weigh up to 0.001m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Place a weigh boat on the balance and tare i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Adjust pipet to 100 ul and place this into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326880"/>
            <a:ext cx="86076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alibration Continue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10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Adjust pipet to 100 ul volum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Attach a fresh pipet tip to the end of the pipe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Press the top button down until you meet resistanc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Place tip into water and slowly release butt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Now place water into weigh boat on balanc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Weigh the amount of water present to 1 m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alibration Acceptance Criteri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740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                           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Accurac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e closeness of a dispensed volume to the expected volume as set on the pipett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It can be determined by how close the volumes  measured are to the values expected volum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Measure the weight of the water an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nia Wallman</cp:lastModifiedBy>
  <dcterms:modified xsi:type="dcterms:W3CDTF">2010-03-16T22:01:11Z</dcterms:modified>
  <cp:revision>1</cp:revision>
  <dc:subject/>
  <dc:title>Pipette Calibration</dc:title>
</cp:coreProperties>
</file>