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  <p:sldId id="328" r:id="rId92"/>
    <p:sldId id="329" r:id="rId93"/>
    <p:sldId id="330" r:id="rId94"/>
    <p:sldId id="331" r:id="rId95"/>
    <p:sldId id="332" r:id="rId96"/>
    <p:sldId id="333" r:id="rId97"/>
    <p:sldId id="334" r:id="rId98"/>
    <p:sldId id="335" r:id="rId99"/>
    <p:sldId id="336" r:id="rId100"/>
    <p:sldId id="337" r:id="rId101"/>
    <p:sldId id="338" r:id="rId102"/>
    <p:sldId id="339" r:id="rId103"/>
    <p:sldId id="340" r:id="rId104"/>
    <p:sldId id="341" r:id="rId105"/>
    <p:sldId id="342" r:id="rId106"/>
    <p:sldId id="343" r:id="rId107"/>
    <p:sldId id="344" r:id="rId108"/>
    <p:sldId id="345" r:id="rId109"/>
    <p:sldId id="346" r:id="rId110"/>
    <p:sldId id="347" r:id="rId111"/>
    <p:sldId id="348" r:id="rId112"/>
    <p:sldId id="349" r:id="rId113"/>
    <p:sldId id="350" r:id="rId114"/>
    <p:sldId id="351" r:id="rId115"/>
    <p:sldId id="352" r:id="rId116"/>
    <p:sldId id="353" r:id="rId117"/>
    <p:sldId id="354" r:id="rId118"/>
    <p:sldId id="355" r:id="rId119"/>
    <p:sldId id="356" r:id="rId120"/>
    <p:sldId id="357" r:id="rId121"/>
    <p:sldId id="358" r:id="rId122"/>
    <p:sldId id="359" r:id="rId123"/>
    <p:sldId id="360" r:id="rId124"/>
    <p:sldId id="361" r:id="rId125"/>
    <p:sldId id="362" r:id="rId126"/>
    <p:sldId id="363" r:id="rId127"/>
    <p:sldId id="364" r:id="rId128"/>
    <p:sldId id="365" r:id="rId129"/>
    <p:sldId id="366" r:id="rId130"/>
    <p:sldId id="367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slide" Target="slides/slide73.xml"/><Relationship Id="rId93" Type="http://schemas.openxmlformats.org/officeDocument/2006/relationships/slide" Target="slides/slide74.xml"/><Relationship Id="rId94" Type="http://schemas.openxmlformats.org/officeDocument/2006/relationships/slide" Target="slides/slide75.xml"/><Relationship Id="rId95" Type="http://schemas.openxmlformats.org/officeDocument/2006/relationships/slide" Target="slides/slide76.xml"/><Relationship Id="rId96" Type="http://schemas.openxmlformats.org/officeDocument/2006/relationships/slide" Target="slides/slide77.xml"/><Relationship Id="rId97" Type="http://schemas.openxmlformats.org/officeDocument/2006/relationships/slide" Target="slides/slide78.xml"/><Relationship Id="rId98" Type="http://schemas.openxmlformats.org/officeDocument/2006/relationships/slide" Target="slides/slide79.xml"/><Relationship Id="rId99" Type="http://schemas.openxmlformats.org/officeDocument/2006/relationships/slide" Target="slides/slide80.xml"/><Relationship Id="rId100" Type="http://schemas.openxmlformats.org/officeDocument/2006/relationships/slide" Target="slides/slide81.xml"/><Relationship Id="rId101" Type="http://schemas.openxmlformats.org/officeDocument/2006/relationships/slide" Target="slides/slide82.xml"/><Relationship Id="rId102" Type="http://schemas.openxmlformats.org/officeDocument/2006/relationships/slide" Target="slides/slide83.xml"/><Relationship Id="rId103" Type="http://schemas.openxmlformats.org/officeDocument/2006/relationships/slide" Target="slides/slide84.xml"/><Relationship Id="rId104" Type="http://schemas.openxmlformats.org/officeDocument/2006/relationships/slide" Target="slides/slide85.xml"/><Relationship Id="rId105" Type="http://schemas.openxmlformats.org/officeDocument/2006/relationships/slide" Target="slides/slide86.xml"/><Relationship Id="rId106" Type="http://schemas.openxmlformats.org/officeDocument/2006/relationships/slide" Target="slides/slide87.xml"/><Relationship Id="rId107" Type="http://schemas.openxmlformats.org/officeDocument/2006/relationships/slide" Target="slides/slide88.xml"/><Relationship Id="rId108" Type="http://schemas.openxmlformats.org/officeDocument/2006/relationships/slide" Target="slides/slide89.xml"/><Relationship Id="rId109" Type="http://schemas.openxmlformats.org/officeDocument/2006/relationships/slide" Target="slides/slide90.xml"/><Relationship Id="rId110" Type="http://schemas.openxmlformats.org/officeDocument/2006/relationships/slide" Target="slides/slide91.xml"/><Relationship Id="rId111" Type="http://schemas.openxmlformats.org/officeDocument/2006/relationships/slide" Target="slides/slide92.xml"/><Relationship Id="rId112" Type="http://schemas.openxmlformats.org/officeDocument/2006/relationships/slide" Target="slides/slide93.xml"/><Relationship Id="rId113" Type="http://schemas.openxmlformats.org/officeDocument/2006/relationships/slide" Target="slides/slide94.xml"/><Relationship Id="rId114" Type="http://schemas.openxmlformats.org/officeDocument/2006/relationships/slide" Target="slides/slide95.xml"/><Relationship Id="rId115" Type="http://schemas.openxmlformats.org/officeDocument/2006/relationships/slide" Target="slides/slide96.xml"/><Relationship Id="rId116" Type="http://schemas.openxmlformats.org/officeDocument/2006/relationships/slide" Target="slides/slide97.xml"/><Relationship Id="rId117" Type="http://schemas.openxmlformats.org/officeDocument/2006/relationships/slide" Target="slides/slide98.xml"/><Relationship Id="rId118" Type="http://schemas.openxmlformats.org/officeDocument/2006/relationships/slide" Target="slides/slide99.xml"/><Relationship Id="rId119" Type="http://schemas.openxmlformats.org/officeDocument/2006/relationships/slide" Target="slides/slide100.xml"/><Relationship Id="rId120" Type="http://schemas.openxmlformats.org/officeDocument/2006/relationships/slide" Target="slides/slide101.xml"/><Relationship Id="rId121" Type="http://schemas.openxmlformats.org/officeDocument/2006/relationships/slide" Target="slides/slide102.xml"/><Relationship Id="rId122" Type="http://schemas.openxmlformats.org/officeDocument/2006/relationships/slide" Target="slides/slide103.xml"/><Relationship Id="rId123" Type="http://schemas.openxmlformats.org/officeDocument/2006/relationships/slide" Target="slides/slide104.xml"/><Relationship Id="rId124" Type="http://schemas.openxmlformats.org/officeDocument/2006/relationships/slide" Target="slides/slide105.xml"/><Relationship Id="rId125" Type="http://schemas.openxmlformats.org/officeDocument/2006/relationships/slide" Target="slides/slide106.xml"/><Relationship Id="rId126" Type="http://schemas.openxmlformats.org/officeDocument/2006/relationships/slide" Target="slides/slide107.xml"/><Relationship Id="rId127" Type="http://schemas.openxmlformats.org/officeDocument/2006/relationships/slide" Target="slides/slide108.xml"/><Relationship Id="rId128" Type="http://schemas.openxmlformats.org/officeDocument/2006/relationships/slide" Target="slides/slide109.xml"/><Relationship Id="rId129" Type="http://schemas.openxmlformats.org/officeDocument/2006/relationships/slide" Target="slides/slide110.xml"/><Relationship Id="rId130" Type="http://schemas.openxmlformats.org/officeDocument/2006/relationships/slide" Target="slides/slide111.xml"/><Relationship Id="rId131" Type="http://schemas.openxmlformats.org/officeDocument/2006/relationships/slide" Target="slides/slide112.xml"/><Relationship Id="rId1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9F9C-3CBD-4439-8C45-9BAEF376D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371E-C531-4AAD-B3A7-2515BC7A6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4388-9090-442F-8B2D-B7D380E29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9C5-FECB-4866-A5E8-968C86A0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E51-9CE5-4B9B-BEE0-C3478CCC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0EEB0-1BBB-443D-902D-3BB79DF2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7CDDE-2CB4-4009-A344-28497CAF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F146D-CD49-42D6-9D07-E7D467A2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896E0-9276-4ABF-A162-8D44F64B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28E5C-6491-45BF-8257-658694EE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6D3B5-E1CE-40D4-94A3-7C90D789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85B1D-A785-4F10-8AA8-CFC4EA5D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AD87F-18A9-45B5-9AE7-2B49EABF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A9622-4E90-451D-9001-8DED8346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0B8B5-7D19-4595-9107-57D9A8B5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E51-A46A-4444-8557-28422DDD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E6FC3-0FDE-42E0-A812-37D5F127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F5D69-04A2-42FE-B857-C0A17088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74FA1-AED2-4EB3-A1E8-0F5E29CD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9C108-C26C-4605-8163-FA453D55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7646D-82EF-4A27-ABC1-102FCBDF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531B4-7D4E-47F6-820C-7E8BB6C5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23A62-163F-4511-846E-89239A3F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972AE-34CD-4601-A0A5-79EFB428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2935B-9CDE-454D-82C5-44CBF86A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AC593-A5D0-46AA-8265-563E155C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45E-D329-40C6-9F88-FBCD41D3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AECF2-E803-4190-9A96-E2D87F91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A39F8-EFE9-4CAB-8109-DD15D556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270C5-1184-4E99-8811-5A385AC5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B9701-9417-492E-847D-5F0DE709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B4827-8F64-49C4-82C0-6C686224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C6239-9704-45D8-AA49-E075B740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F7B4B-7AE1-4833-97CC-39338065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8682C-FC81-4F43-A2F9-F1EF5AB1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ACCFA-6688-4D3F-ACFF-6572625C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96FB5-D4B9-48F7-9B97-55CE679A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D913-66CD-4C11-9F90-AD21E94B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3FA0B-B2DD-4E06-8BA5-1FB9AAD4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813AE-1ED1-49B9-B0C2-5ED4BB38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F537A-D3EE-4D2B-A0C7-C099C346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50969-C8F0-48BE-A8A9-0863E6FF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5FB9B-A625-4E5A-A5E6-A1C74F80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53D8E-9FD7-419A-934A-53567BE8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23810-0F49-422B-866C-45BF0795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1F579-5335-4058-B53B-9ABB75C6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75D46-7505-4A40-94C0-F3E518C7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EECD2-B06D-46BA-B6C9-FE5D5275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8B13-3E45-4240-989C-8BB2AD8C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7DC69-9333-4C0C-A92F-55841FF1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3BDC7-1863-4F8A-B3E4-D9DDFAFB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07226-4202-4F8F-98F3-6A958384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327DA-AAC8-4F2F-888C-92B78574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06A08-6996-4444-A8D6-3CF40B1A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65871-34A4-472F-B69C-45C82599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492AC-DF58-40BC-A9D7-7A84EEE9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77C5B-284A-4A79-9FBB-1246EFA6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F0D123-E39E-41EE-9835-E0F9BD82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36163-2486-4537-8CD1-0565BACB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DC93-E896-4117-B210-C21FCBA9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5B89C-2145-4552-AA3F-190E4040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030C8-4FC3-44A8-AC48-2BB0838B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F74C6-08FB-493E-8456-699B2AFE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35F6E-16D4-47BE-A299-134312ED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DAE65-29DD-4265-81EA-77F89226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FF2A4-6A8F-4485-8713-5528005B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4D63A-9BD7-487B-8A1F-D7988763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D9157-3D1D-45C1-9D4A-D94BBD82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7CE6EE-4DFE-4357-8D9F-489F542E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61EC8-C503-4BDD-B3EF-867E7A79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02B5-3301-4396-8FBD-4DA43A9D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3BE41-2B99-459D-8AA8-BA3208E0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1CC5BA-4134-4E67-ABEC-922C7411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A1F66-EB2C-48C8-A814-378B19BF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61ACB-C545-416C-A830-AED5E284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B80FD-607C-4DC7-B93C-EEE6C9D0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D1590-129E-43E3-B394-35532EC0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C52470-92D9-4835-8CFD-0B590A1E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78A6A-7AD1-4B5C-B460-36B3FA55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3D001-B015-433E-B69A-E7861D7D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258BD1-A142-49A5-8D84-0F864FD0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E1EF-B0C0-41E8-A2C8-2835BA8D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30809E-D9F7-47B3-A956-5642A7AE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DA234-9197-4304-8C71-7B01DC04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27AB8-579B-4810-8FEE-77A0E72D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54F0EC-EE67-4445-AD75-2FD5F400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9379BC-2746-4E05-A2AC-FCC2B3D4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4E385-8B3D-458D-9781-B9FA7EC9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B06AF7-B704-4397-9D79-53A05314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9A38D9-F7B3-4CB6-87E3-4D275C3A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6AE193-0EC8-4B68-BEE8-C9CE9DBD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98D67D-109C-48AA-90E3-62C12CEF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ED38-6D63-44B9-8CDA-DA3B74F1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E56C4-3AE8-4255-90D3-88D9DAF0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FC796E-377B-435D-AFE7-71AAE2FF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5A0B70-B248-4254-8F4D-1D47A9FB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0474A3-AE39-44C9-8DF9-AB5B5F7E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81F3E-FC7F-47CE-9F8B-4F5B45B4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8A166-D442-4957-9FE6-153E1B8D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68F0AD-8145-449C-866C-AC42BD4A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A83633-3732-422E-9DBD-FD1E82CC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94A68-E8AF-4E00-A87B-456F7446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AD7F37-4ACC-4F74-BA66-9D1AAC7D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4ED2-F0AC-4880-B361-12AB8E4F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E16A2-D74D-49A8-B073-7C5DA249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97A62-7A56-423B-B1BC-2AFD6876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0346FC-325D-4F7F-B7CE-F45DC93A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0903E8-583F-4EDC-A84A-2B1E3E9D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5C5D77-83A0-41F1-8BBF-43FDD07B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8D454C-719A-4D9E-A327-7CA35582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987EA1-07A4-46BE-8474-D47389AD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4FD025-C4F9-4960-B154-7BBE17C1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7F6ED-2000-4E0C-B9EF-4B7DE6DF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756C30-4859-4612-80B0-6BFA0971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BF2-C827-4943-B640-A8A1620B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BC9F-5D12-4083-AF74-323EF08A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472816-3F24-4DE4-965A-C55110CA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3647D9-328A-45A6-BD78-BD2A204E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BCB2FF-A197-4034-93B0-A384F5ED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8A15A-F088-43D7-BE3F-6FA37D04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89427-6223-4809-80CB-47FAA6E7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1C79-0C2D-4AD9-BCA8-68C36206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E3FE-C4A1-4CD4-A929-8D0B4C73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6D73-D5F8-4FAA-B8DA-E9222DCB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C68E-2756-485F-8070-1CE1070D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B6AF1-C567-434A-8618-8547804C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67A33-9B6A-4C84-805F-9B2ADC54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CFF84-D8F8-4FF7-8601-6335CEE9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30E55-8302-4223-9AFB-816B27F6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B6BD1-569D-4FB3-BF69-2DFD7F53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F7C-4CF3-4154-9A8F-5BD89051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9297-518F-46CC-8D09-9E8CBCE7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9627-944A-4BB1-B272-A51FF479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BB239-A753-439D-9AC4-D2B74371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49867-C3DA-4E68-9FD1-AE6CE305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CFC3-B074-45F8-8089-0BA7A813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70CA3-FF2D-451A-8D72-7DB85DAB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66035-1701-473D-B9A2-9E840BBE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CBEF6-405B-4529-B414-91416D78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31C89-E074-424F-9328-33E5E35A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23CC8-D4C2-4E68-824F-DBC06E19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863-43C7-4915-BF8E-F2310B1F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6BCE7-51CB-4465-84B8-0164FA65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7B561-F1FA-41F3-9BA9-715343E0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F1826-FA74-4F55-97F0-DC938788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B1093-919A-4CB8-B258-D1A729D7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C76F4-BF4B-431B-B9F3-28CE258B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C8B06-302E-4E8D-B68C-A753BC5F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F72D3-AC5C-475F-8728-611972C1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DE5C2-4116-4C64-8333-9B2B4102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E1423-C7FC-43FD-8D01-647A289C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792AF-0CC0-4B9B-909C-DAE0B1AA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5E8-7CD0-4A8D-815F-9906288C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A4E22-F6EB-4426-A53B-59ECF770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E53F2-35B7-4278-97C5-26FFC004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D1192-8658-4256-B226-CDA9D197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9CEEE-FCCE-40DC-8ECD-593970BE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761A7-A785-401D-9086-A471B306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4C353-5F7B-41F5-986A-266E9CC7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C9F2F-06C3-489B-A2E1-7DA42512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F4897-2619-49B6-B8D0-5C016887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55525-BE0F-40A4-A5F2-9DD8F4FB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AECE8-047C-47D7-9D2E-4534AB8F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873-F6B7-4FA2-B09F-A711351A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B670D-5441-4FB7-8646-7980B9E5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0B80E-A36F-49E6-9C74-120676F7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98378-F7D6-4D62-A624-581D5421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8BBD1-19A6-49E3-A6E0-D8B15D47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ED3E2-D171-42F1-8214-7538BB26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3DAD4-DF83-4674-9FE3-9CEFBD9A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2802B-8209-4F94-A75E-0CD2DBC7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A3BD9-0B22-485F-A887-455454D0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3A15B-4BB1-44F5-BB60-C7A54928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FCDC7-9AE2-495D-B7B3-BB986882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0A9-94D0-42DF-9CD1-17784F5D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7069E-FC27-4B00-B180-68C35729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6BD82-9DA6-4D60-B88B-4806D863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0BF87-892C-4AD7-9196-75C4D0FD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F512A-AC5A-4BDD-A8E3-2F0548CE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BC746-D6FC-484D-A3D3-7A6B1F4A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E703F-A739-41C1-9602-4CF93AA6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B574A-22AB-424D-8B5E-6DA4F0C2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7A7BC-8708-4A44-B579-B53329CE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7506B-B3AB-403F-8DC9-2372250C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8B0B7-1BDE-490F-B5D7-D3C8E49F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1CF-A36A-4C0F-88B8-C694DDB7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D5E01-77B3-40B0-98AF-37262C0A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B3DD5-1152-49EB-9EE9-9E25BCD1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D3044-E1DC-443E-991E-B9799C45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2A892-A229-4DB1-993A-4C960D3B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0FEAF-8126-48BA-B1C0-4167ECBE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6A881-7F69-4404-854C-E2E7760D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EEC07-6B2F-44DD-BB87-F478D156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16335-2137-4376-A662-BAB883C7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37336-306D-4593-BF03-C07762DF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A12E9-51E7-4111-A9DB-61D86A28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4FF-92A0-49E8-9B16-02324FF6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C00AC-9B66-4E47-B148-558F6EEE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79D29-57E4-4C4C-8149-1C79EDED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BB2D6-6245-4EAC-B2EE-4AC482FE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29781-9850-49A8-82A7-79409649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6A93B-767F-46A9-8DC7-1476EB4E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19333-1687-4765-B59E-37F72E6D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37859-5F11-4333-888D-69DD3138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28CF2-04B5-414E-AFD7-28A91FE5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EB034-936E-4326-8AC6-7BA88874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C2AB9-4FC8-4DD9-A0D2-E167C5E3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17184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939A-AB44-4964-94BE-456C44DFD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3A26-E835-4E14-95BE-F0D8609A31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8912-05EE-4CFD-9477-88B7603173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1275-BCC6-4374-AA37-B713D4A5CE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8854-73A3-4E7E-A396-19618998C9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382F-2F7D-45C0-9BFD-A43D2D4243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8A6F-5E0E-4BB4-B3EE-733B31A2D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1035-90D5-40C0-B8F7-E1B21FF5B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C02D-19ED-49C4-8F30-50693520CD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24816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0E16-AD64-4C8E-8145-3148EEFD1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2AB5D369-0491-4AE8-82AE-CA0791916A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8331-F1AD-433B-9AAC-9A382B81A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09412B2A-4D63-4A93-9426-8102B73640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590560" y="6244920"/>
            <a:ext cx="3886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1C4B40AB-484C-4094-9105-BAE37EEACE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C85D-E7AA-4D4A-A6F6-822CD66E0F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AA65-0291-4FDF-8F5F-74A619FC74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C8A8-C9CD-46B3-9391-530196B83D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"/>
          <p:cNvSpPr/>
          <p:nvPr/>
        </p:nvSpPr>
        <p:spPr>
          <a:xfrm>
            <a:off x="152280" y="7952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3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146240"/>
                <a:gridCol w="1020600"/>
                <a:gridCol w="1084320"/>
                <a:gridCol w="1082520"/>
                <a:gridCol w="1084320"/>
                <a:gridCol w="10828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4.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rpos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 Comply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itude &amp; Extent of Radi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active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Radiological Haz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51C45E1-2FC0-4286-BB77-A4DBEC2A93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= Fetal Age at time of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Transfer Coefficient o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milated Radioactivity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ory Guide 8.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 = mrem/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5A740CC-FEB6-4572-8654-3117FEDE60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Conta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(Skin) Dose Equivalent (SDE) = Dose to a depth of 0.007 cm (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ep Dose Equivalent (DDE)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1 cm (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s of Eye Dose Equivalent (LDE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0.3 cm (3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757A4B1-4028-48E0-AFB8-21EA256323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amination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ions Required fo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 (54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 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/= 10 mrem (170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EB325B6-7A1C-4C83-84E0-7E1D2D0E79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tivity-Hour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/(2.22 E 6)(Eff.)(Are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Activity-h Concentration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Counts per Minute-hour Total, cpm-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.22 E 6 = Conversion:  2.22E6 dpm/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ff = Detector Counting Efficienc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pm/dpm (0.10 for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rea = Surface Area (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SD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DDE or L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3486A01-27D2-4D2E-A400-E620B7462F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allow (Skin)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S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Surface (Skin)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rad) for Beta 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=S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3,7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Beta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8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E85EBB6-4D6D-4BFE-B758-9BE5A7D861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ep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D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Deep Dose Equivalent (mrad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f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 =D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1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FED00AA-7B47-49AF-8772-009BA3101E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Hot P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les Usuall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0 mic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ctivity Usually At Least 0.1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y Discrete Particle &gt;/= 20,000 c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ose Calculation Same as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5216227-7E28-4B2E-B658-32ABC3CD45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Organ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TO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DDE &amp;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E = DDE +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07035A6-900D-474F-A5A7-8D1F168C46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Effec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 (TE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Internal (CEDE) and External (DDE) Expo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= CEDE +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/&gt; Workers Age (Years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orker Limited to 1,0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37B7948-33B0-44B8-AB54-58AFBD8A45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Track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d Repor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 % of Limit – Dos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 % of Limit – Dose Extension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Restricted Access to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ation of Prior Dose –NRC Form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Exposure Report – NRC For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574DA3B-6746-4D3C-B86B-B7F938E6AA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External Monito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10% of 10CFR20.1201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gt; 0.15 rem (1.5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Dose &gt; 0.5 rem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During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ntering High or Very High Radi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0B6F2DD-1BD4-4D5C-9DCC-72236A2B1BC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– It’s Everywhe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 Exposure – AL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a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s Low for Low D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Limits – 10CFR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F110638-ACB5-4B1A-988A-45BAF07A63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ic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In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reta Samp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2BFB74E-DE8F-4D2C-8675-F9060D7FF1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and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orbed Dose - rad, 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Equivalent - rem, S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&amp; D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/Tissue Dose –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F9325D1-30FA-49B0-B203-AF0DEDB140F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Monitoring for Internal Expos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r than 10% of Applicable 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 0.1 rem (1 mSv) Dur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C362A95-01AB-4B39-B6D0-2BD8441EAC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Limits &amp;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5 rems (0.05 Sv)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+ CDE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lt;/= 15 rem (0.1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 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VA Administrative Limi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EDE &lt;/= 1 rem (0.01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38509F3-9E1B-4736-85E8-D6D81C2020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lanned Special Exposures (PS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ditio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thorized in Writing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efo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posure Occu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Purp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Do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structed in Meas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Keep Doses ALA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E1A6440-7500-406F-B8D6-360516EE2F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mergency Dose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ary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formed of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Rem TEDE to Prev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Damage to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Hazard to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Rem TEDE to Save a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32FA127-58AB-4623-B865-BD7A2594F5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to Pregnant W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y of Regulatory Guide 8.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 Airborne or Contaminated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itial Whole Body Count Per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6740C1E-49C8-4DFE-B374-7E9AE69B02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s of 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6F272AD-F5E0-4092-8C9A-791F6CECAE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Partial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138958A-6F9D-4CAE-8D88-502A9A3FBD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moluminesc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o – H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minescent -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08311DD-000E-41A7-8709-6E9485366E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sonnel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onitor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HTP001.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7037369-829F-41EF-A31C-EA870D5782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ctron Tr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4" descr="TCD01"/>
          <p:cNvPicPr/>
          <p:nvPr/>
        </p:nvPicPr>
        <p:blipFill>
          <a:blip r:embed="rId1"/>
          <a:stretch/>
        </p:blipFill>
        <p:spPr>
          <a:xfrm>
            <a:off x="1905120" y="2228760"/>
            <a:ext cx="5333760" cy="3268800"/>
          </a:xfrm>
          <a:prstGeom prst="rect">
            <a:avLst/>
          </a:prstGeom>
          <a:ln w="0">
            <a:noFill/>
          </a:ln>
        </p:spPr>
      </p:pic>
      <p:sp>
        <p:nvSpPr>
          <p:cNvPr id="7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04AA7D5-AC8C-46AA-978E-749532893C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E403171-2FE0-4678-B247-AFF95897149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Cu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 Range (10 mR to 100,000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Data Retention (Low F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X-Rays, and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usable and Econom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t Susceptible to Radiofrequenc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CECD5B5-8272-432F-B739-AB6C1016E8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hium Bo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 rot="16200000">
            <a:off x="-1334520" y="3143880"/>
            <a:ext cx="382896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adiation Respon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0F0F806-6DE9-4AE1-A962-5BD6BA7B1A7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1428840" y="186696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5"/>
          <p:cNvSpPr/>
          <p:nvPr/>
        </p:nvSpPr>
        <p:spPr>
          <a:xfrm>
            <a:off x="1542960" y="3600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6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7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8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9"/>
          <p:cNvSpPr/>
          <p:nvPr/>
        </p:nvSpPr>
        <p:spPr>
          <a:xfrm>
            <a:off x="1428840" y="2819520"/>
            <a:ext cx="325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1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2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3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4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7"/>
          <p:cNvSpPr/>
          <p:nvPr/>
        </p:nvSpPr>
        <p:spPr>
          <a:xfrm>
            <a:off x="180972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8"/>
          <p:cNvSpPr/>
          <p:nvPr/>
        </p:nvSpPr>
        <p:spPr>
          <a:xfrm flipV="1">
            <a:off x="1657440" y="2876040"/>
            <a:ext cx="1047600" cy="9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0"/>
          <p:cNvSpPr/>
          <p:nvPr/>
        </p:nvSpPr>
        <p:spPr>
          <a:xfrm>
            <a:off x="3238560" y="2781360"/>
            <a:ext cx="1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1"/>
          <p:cNvSpPr/>
          <p:nvPr/>
        </p:nvSpPr>
        <p:spPr>
          <a:xfrm flipV="1">
            <a:off x="2647800" y="2743200"/>
            <a:ext cx="66708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2"/>
          <p:cNvSpPr/>
          <p:nvPr/>
        </p:nvSpPr>
        <p:spPr>
          <a:xfrm flipV="1">
            <a:off x="3295800" y="2705040"/>
            <a:ext cx="1028520" cy="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3"/>
          <p:cNvSpPr/>
          <p:nvPr/>
        </p:nvSpPr>
        <p:spPr>
          <a:xfrm flipV="1">
            <a:off x="1695600" y="4991040"/>
            <a:ext cx="1085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4"/>
          <p:cNvSpPr/>
          <p:nvPr/>
        </p:nvSpPr>
        <p:spPr>
          <a:xfrm flipV="1">
            <a:off x="2800440" y="4914720"/>
            <a:ext cx="571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5"/>
          <p:cNvSpPr/>
          <p:nvPr/>
        </p:nvSpPr>
        <p:spPr>
          <a:xfrm>
            <a:off x="3352680" y="489600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6"/>
          <p:cNvSpPr/>
          <p:nvPr/>
        </p:nvSpPr>
        <p:spPr>
          <a:xfrm>
            <a:off x="103392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103392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8"/>
          <p:cNvSpPr/>
          <p:nvPr/>
        </p:nvSpPr>
        <p:spPr>
          <a:xfrm>
            <a:off x="1014840" y="175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9"/>
          <p:cNvSpPr/>
          <p:nvPr/>
        </p:nvSpPr>
        <p:spPr>
          <a:xfrm>
            <a:off x="1071720" y="563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0"/>
          <p:cNvSpPr/>
          <p:nvPr/>
        </p:nvSpPr>
        <p:spPr>
          <a:xfrm>
            <a:off x="1090800" y="478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1109880" y="405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2"/>
          <p:cNvSpPr/>
          <p:nvPr/>
        </p:nvSpPr>
        <p:spPr>
          <a:xfrm>
            <a:off x="4938480" y="26114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3"/>
          <p:cNvSpPr/>
          <p:nvPr/>
        </p:nvSpPr>
        <p:spPr>
          <a:xfrm>
            <a:off x="4957560" y="4745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5"/>
          <p:cNvSpPr/>
          <p:nvPr/>
        </p:nvSpPr>
        <p:spPr>
          <a:xfrm>
            <a:off x="1357920" y="5694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6"/>
          <p:cNvSpPr/>
          <p:nvPr/>
        </p:nvSpPr>
        <p:spPr>
          <a:xfrm>
            <a:off x="2386080" y="569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7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8"/>
          <p:cNvSpPr/>
          <p:nvPr/>
        </p:nvSpPr>
        <p:spPr>
          <a:xfrm>
            <a:off x="4367880" y="5713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Tm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:  1 mR to 1,0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up to about 2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and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ver responds to Low Energy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Useful for Environmental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99088AC-F280-493D-BCF5-C21DF3B5CA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ium Sulf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 rot="16200000">
            <a:off x="-1524960" y="2839320"/>
            <a:ext cx="41720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diation Respon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A276F17-8D36-4678-8B4F-8E662519B02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"/>
          <p:cNvSpPr/>
          <p:nvPr/>
        </p:nvSpPr>
        <p:spPr>
          <a:xfrm>
            <a:off x="1467000" y="184788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6"/>
          <p:cNvSpPr/>
          <p:nvPr/>
        </p:nvSpPr>
        <p:spPr>
          <a:xfrm>
            <a:off x="16192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7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8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9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4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5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6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7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8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9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0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1"/>
          <p:cNvSpPr/>
          <p:nvPr/>
        </p:nvSpPr>
        <p:spPr>
          <a:xfrm>
            <a:off x="173340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2"/>
          <p:cNvSpPr/>
          <p:nvPr/>
        </p:nvSpPr>
        <p:spPr>
          <a:xfrm>
            <a:off x="109080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1053000" y="287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957960" y="2208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5"/>
          <p:cNvSpPr/>
          <p:nvPr/>
        </p:nvSpPr>
        <p:spPr>
          <a:xfrm>
            <a:off x="1090800" y="55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6"/>
          <p:cNvSpPr/>
          <p:nvPr/>
        </p:nvSpPr>
        <p:spPr>
          <a:xfrm>
            <a:off x="1071720" y="481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7"/>
          <p:cNvSpPr/>
          <p:nvPr/>
        </p:nvSpPr>
        <p:spPr>
          <a:xfrm>
            <a:off x="1071720" y="403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8"/>
          <p:cNvSpPr/>
          <p:nvPr/>
        </p:nvSpPr>
        <p:spPr>
          <a:xfrm>
            <a:off x="1486080" y="302904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32"/>
          <p:cNvSpPr/>
          <p:nvPr/>
        </p:nvSpPr>
        <p:spPr>
          <a:xfrm>
            <a:off x="1486080" y="2381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36"/>
          <p:cNvSpPr/>
          <p:nvPr/>
        </p:nvSpPr>
        <p:spPr>
          <a:xfrm>
            <a:off x="1847880" y="2209680"/>
            <a:ext cx="2514600" cy="1409760"/>
          </a:xfrm>
          <a:custGeom>
            <a:avLst/>
            <a:gdLst/>
            <a:ahLst/>
            <a:rect l="l" t="t" r="r" b="b"/>
            <a:pathLst>
              <a:path w="1584" h="888">
                <a:moveTo>
                  <a:pt x="0" y="0"/>
                </a:moveTo>
                <a:cubicBezTo>
                  <a:pt x="36" y="24"/>
                  <a:pt x="72" y="36"/>
                  <a:pt x="108" y="60"/>
                </a:cubicBezTo>
                <a:cubicBezTo>
                  <a:pt x="133" y="135"/>
                  <a:pt x="161" y="219"/>
                  <a:pt x="228" y="264"/>
                </a:cubicBezTo>
                <a:cubicBezTo>
                  <a:pt x="241" y="303"/>
                  <a:pt x="275" y="333"/>
                  <a:pt x="288" y="372"/>
                </a:cubicBezTo>
                <a:cubicBezTo>
                  <a:pt x="315" y="454"/>
                  <a:pt x="324" y="480"/>
                  <a:pt x="372" y="552"/>
                </a:cubicBezTo>
                <a:cubicBezTo>
                  <a:pt x="388" y="575"/>
                  <a:pt x="472" y="754"/>
                  <a:pt x="492" y="768"/>
                </a:cubicBezTo>
                <a:cubicBezTo>
                  <a:pt x="516" y="784"/>
                  <a:pt x="540" y="800"/>
                  <a:pt x="564" y="816"/>
                </a:cubicBezTo>
                <a:cubicBezTo>
                  <a:pt x="585" y="830"/>
                  <a:pt x="612" y="832"/>
                  <a:pt x="636" y="840"/>
                </a:cubicBezTo>
                <a:cubicBezTo>
                  <a:pt x="781" y="888"/>
                  <a:pt x="875" y="881"/>
                  <a:pt x="1044" y="888"/>
                </a:cubicBezTo>
                <a:cubicBezTo>
                  <a:pt x="1130" y="877"/>
                  <a:pt x="1203" y="855"/>
                  <a:pt x="1284" y="828"/>
                </a:cubicBezTo>
                <a:cubicBezTo>
                  <a:pt x="1326" y="814"/>
                  <a:pt x="1372" y="820"/>
                  <a:pt x="1416" y="816"/>
                </a:cubicBezTo>
                <a:cubicBezTo>
                  <a:pt x="1570" y="765"/>
                  <a:pt x="1412" y="814"/>
                  <a:pt x="1548" y="780"/>
                </a:cubicBezTo>
                <a:cubicBezTo>
                  <a:pt x="1560" y="777"/>
                  <a:pt x="1584" y="768"/>
                  <a:pt x="1584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37"/>
          <p:cNvSpPr/>
          <p:nvPr/>
        </p:nvSpPr>
        <p:spPr>
          <a:xfrm>
            <a:off x="1847880" y="4743360"/>
            <a:ext cx="743040" cy="381240"/>
          </a:xfrm>
          <a:custGeom>
            <a:avLst/>
            <a:gdLst/>
            <a:ahLst/>
            <a:rect l="l" t="t" r="r" b="b"/>
            <a:pathLst>
              <a:path w="468" h="240">
                <a:moveTo>
                  <a:pt x="0" y="240"/>
                </a:moveTo>
                <a:cubicBezTo>
                  <a:pt x="21" y="177"/>
                  <a:pt x="64" y="163"/>
                  <a:pt x="120" y="144"/>
                </a:cubicBezTo>
                <a:cubicBezTo>
                  <a:pt x="128" y="132"/>
                  <a:pt x="133" y="117"/>
                  <a:pt x="144" y="108"/>
                </a:cubicBezTo>
                <a:cubicBezTo>
                  <a:pt x="166" y="89"/>
                  <a:pt x="216" y="60"/>
                  <a:pt x="216" y="60"/>
                </a:cubicBezTo>
                <a:cubicBezTo>
                  <a:pt x="251" y="7"/>
                  <a:pt x="263" y="15"/>
                  <a:pt x="324" y="0"/>
                </a:cubicBezTo>
                <a:cubicBezTo>
                  <a:pt x="348" y="8"/>
                  <a:pt x="388" y="0"/>
                  <a:pt x="396" y="24"/>
                </a:cubicBezTo>
                <a:cubicBezTo>
                  <a:pt x="400" y="36"/>
                  <a:pt x="400" y="50"/>
                  <a:pt x="408" y="60"/>
                </a:cubicBezTo>
                <a:cubicBezTo>
                  <a:pt x="424" y="80"/>
                  <a:pt x="450" y="90"/>
                  <a:pt x="468" y="1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9"/>
          <p:cNvSpPr/>
          <p:nvPr/>
        </p:nvSpPr>
        <p:spPr>
          <a:xfrm flipV="1">
            <a:off x="2590920" y="4933440"/>
            <a:ext cx="12189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47"/>
          <p:cNvSpPr/>
          <p:nvPr/>
        </p:nvSpPr>
        <p:spPr>
          <a:xfrm>
            <a:off x="3695760" y="4759200"/>
            <a:ext cx="762120" cy="174600"/>
          </a:xfrm>
          <a:custGeom>
            <a:avLst/>
            <a:gdLst/>
            <a:ahLst/>
            <a:rect l="l" t="t" r="r" b="b"/>
            <a:pathLst>
              <a:path w="480" h="110">
                <a:moveTo>
                  <a:pt x="0" y="110"/>
                </a:moveTo>
                <a:cubicBezTo>
                  <a:pt x="67" y="104"/>
                  <a:pt x="138" y="104"/>
                  <a:pt x="204" y="86"/>
                </a:cubicBezTo>
                <a:cubicBezTo>
                  <a:pt x="280" y="65"/>
                  <a:pt x="354" y="42"/>
                  <a:pt x="432" y="26"/>
                </a:cubicBezTo>
                <a:cubicBezTo>
                  <a:pt x="471" y="0"/>
                  <a:pt x="454" y="2"/>
                  <a:pt x="48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48"/>
          <p:cNvSpPr/>
          <p:nvPr/>
        </p:nvSpPr>
        <p:spPr>
          <a:xfrm>
            <a:off x="1319760" y="5675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9"/>
          <p:cNvSpPr/>
          <p:nvPr/>
        </p:nvSpPr>
        <p:spPr>
          <a:xfrm>
            <a:off x="2348280" y="5675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0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51"/>
          <p:cNvSpPr/>
          <p:nvPr/>
        </p:nvSpPr>
        <p:spPr>
          <a:xfrm>
            <a:off x="4329720" y="569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2"/>
          <p:cNvSpPr/>
          <p:nvPr/>
        </p:nvSpPr>
        <p:spPr>
          <a:xfrm>
            <a:off x="4843440" y="2459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53"/>
          <p:cNvSpPr/>
          <p:nvPr/>
        </p:nvSpPr>
        <p:spPr>
          <a:xfrm>
            <a:off x="4957560" y="46879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mitations of Both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Heat, Moisture, and 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Shield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 to Improper Wear by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use Results in Incorrec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rors from Logistical/Record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DCEED96-FB36-400B-ADD4-21B82BD52A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Picture 3" descr=""/>
          <p:cNvPicPr/>
          <p:nvPr/>
        </p:nvPicPr>
        <p:blipFill>
          <a:blip r:embed="rId1"/>
          <a:stretch/>
        </p:blipFill>
        <p:spPr>
          <a:xfrm>
            <a:off x="438120" y="1523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D7341D8-1ABF-4234-8727-CF66BD10F8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Picture 4" descr="MVC-030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302C0E8-763B-4C3B-9A09-2D42BECCB6C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762120" y="285840"/>
            <a:ext cx="65912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Thermoluminescent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1" name="Picture 7" descr="MVC-023F"/>
          <p:cNvPicPr/>
          <p:nvPr/>
        </p:nvPicPr>
        <p:blipFill>
          <a:blip r:embed="rId1"/>
          <a:stretch/>
        </p:blipFill>
        <p:spPr>
          <a:xfrm>
            <a:off x="0" y="0"/>
            <a:ext cx="7683480" cy="6126120"/>
          </a:xfrm>
          <a:prstGeom prst="rect">
            <a:avLst/>
          </a:prstGeom>
          <a:ln w="0">
            <a:noFill/>
          </a:ln>
        </p:spPr>
      </p:pic>
      <p:sp>
        <p:nvSpPr>
          <p:cNvPr id="8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4E2DA5C-67DD-4554-BE9E-D9BEA4533F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0"/>
          <p:cNvSpPr/>
          <p:nvPr/>
        </p:nvSpPr>
        <p:spPr>
          <a:xfrm>
            <a:off x="4781520" y="6667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1"/>
          <p:cNvSpPr/>
          <p:nvPr/>
        </p:nvSpPr>
        <p:spPr>
          <a:xfrm>
            <a:off x="4686480" y="228600"/>
            <a:ext cx="2781000" cy="132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urse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&amp;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, Exposure Limits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&amp; Dose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64BCCEF-1802-4139-B4D2-3C7E432FB8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Picture 4" descr="MVC-03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5BB0137-59AA-4B60-8D9F-0C37A1DC71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7"/>
          <p:cNvSpPr/>
          <p:nvPr/>
        </p:nvSpPr>
        <p:spPr>
          <a:xfrm>
            <a:off x="0" y="2286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8"/>
          <p:cNvSpPr/>
          <p:nvPr/>
        </p:nvSpPr>
        <p:spPr>
          <a:xfrm>
            <a:off x="2476440" y="361800"/>
            <a:ext cx="22669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BB1F918-8273-4BFE-95B3-F03669B357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asuring Neutrons with TL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Rather Than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st Neutrons not Directly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s Moderat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er Recoil Neutrons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bedo Effec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67FD7E5-F631-4D4B-977B-B4F9F529D3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27C2FED-60EC-4EAC-9F39-0E09A6E17C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ading 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4" descr=""/>
          <p:cNvPicPr/>
          <p:nvPr/>
        </p:nvPicPr>
        <p:blipFill>
          <a:blip r:embed="rId1"/>
          <a:stretch/>
        </p:blipFill>
        <p:spPr>
          <a:xfrm>
            <a:off x="1057320" y="2592360"/>
            <a:ext cx="7029360" cy="2541600"/>
          </a:xfrm>
          <a:prstGeom prst="rect">
            <a:avLst/>
          </a:prstGeom>
          <a:ln w="0">
            <a:noFill/>
          </a:ln>
        </p:spPr>
      </p:pic>
      <p:sp>
        <p:nvSpPr>
          <p:cNvPr id="8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0B2DA87-5315-416E-A134-B07688A49F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Calib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Calib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 QC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bration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-Line QC TLDs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3D80114-8D12-4137-AF69-B51BB80D21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QC/Q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S Accredited by NIST and NVL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omparison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&amp; Verification Ch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stical Review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ed by External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Manage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Internal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F3F3C82-427D-4EC1-AE52-17A11FE19E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dge Issue &amp;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&amp; Collected by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Assigns a TLD 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for a 3-Month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d by T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LDs Mai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00F967B-D951-4AA2-91E4-A9200E943B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ecial Pu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 Dose Limits Exc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D Off Scale or Displays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/Relocation of Employ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Control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Badge or Neutron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00E93DA-A4BB-4CD7-98B3-5AA2CC421E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the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nt of Body, Neck to Wa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May Requir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Coveralls in Contamina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Open or Pamper With the Ba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3F44567-A84C-4E76-BB20-E20812D3C6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Dose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Regulations &amp;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iar with Radiation Monitoring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Operation of Various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imetry Administrative 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Multiple &amp; Extremity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ry for Various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4E232AE-B365-49F6-AC2A-738E5AB0C2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8" name="Picture 8" descr="MVC-041F"/>
          <p:cNvPicPr/>
          <p:nvPr/>
        </p:nvPicPr>
        <p:blipFill>
          <a:blip r:embed="rId1"/>
          <a:stretch/>
        </p:blipFill>
        <p:spPr>
          <a:xfrm>
            <a:off x="-422280" y="0"/>
            <a:ext cx="5192640" cy="603252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p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ar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osimet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159F17A-A913-4BF6-8232-E4664F8198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ple Bad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/h &amp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est Dose Location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adiation Levels Unknown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adient Nonun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6E5823D-A0F1-40A2-AB3D-D5A28CC811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-Badge 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n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(Not Wor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2D8386E-853A-4153-985E-3790945ECE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Ba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500 mrem to Extrem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Unshielded Beta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ole Body (Except Hands) Shiel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Small Non-Shielde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contamination of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love Box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I-1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BDB02CA-EA86-4B03-9481-374DFAFDF8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Dosi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Picture 5" descr="MVC-036F"/>
          <p:cNvPicPr/>
          <p:nvPr/>
        </p:nvPicPr>
        <p:blipFill>
          <a:blip r:embed="rId1"/>
          <a:stretch/>
        </p:blipFill>
        <p:spPr>
          <a:xfrm>
            <a:off x="952560" y="1630440"/>
            <a:ext cx="7124760" cy="427824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32CD0B7-A4A4-4B71-A7F7-F284767340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Extremity Ba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Picture 7" descr="MVC-038F"/>
          <p:cNvPicPr/>
          <p:nvPr/>
        </p:nvPicPr>
        <p:blipFill>
          <a:blip r:embed="rId1"/>
          <a:stretch/>
        </p:blipFill>
        <p:spPr>
          <a:xfrm>
            <a:off x="1500120" y="1717560"/>
            <a:ext cx="6446880" cy="4222800"/>
          </a:xfrm>
          <a:prstGeom prst="rect">
            <a:avLst/>
          </a:prstGeom>
          <a:ln w="0">
            <a:noFill/>
          </a:ln>
        </p:spPr>
      </p:pic>
      <p:sp>
        <p:nvSpPr>
          <p:cNvPr id="9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4EFEC90-C2A7-4E9E-A08D-4D136E83BE6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ondary Dosi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y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eriodically During Job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on Front of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in Contamin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C897598-86AE-4227-91A9-8FD8A38058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1" name="Picture 4" descr="MVC-019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52F95B5-683C-4035-9A59-686FBEAFB5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"/>
          <p:cNvSpPr/>
          <p:nvPr/>
        </p:nvSpPr>
        <p:spPr>
          <a:xfrm>
            <a:off x="1542960" y="0"/>
            <a:ext cx="4419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5" name="Picture 4" descr="MVC-022F"/>
          <p:cNvPicPr/>
          <p:nvPr/>
        </p:nvPicPr>
        <p:blipFill>
          <a:blip r:embed="rId1"/>
          <a:stretch/>
        </p:blipFill>
        <p:spPr>
          <a:xfrm>
            <a:off x="0" y="266760"/>
            <a:ext cx="7588080" cy="5859360"/>
          </a:xfrm>
          <a:prstGeom prst="rect">
            <a:avLst/>
          </a:prstGeom>
          <a:ln w="0">
            <a:noFill/>
          </a:ln>
        </p:spPr>
      </p:pic>
      <p:sp>
        <p:nvSpPr>
          <p:cNvPr id="9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6CC9AC4-9AE3-4A4C-93C7-A5B67B79A0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"/>
          <p:cNvSpPr/>
          <p:nvPr/>
        </p:nvSpPr>
        <p:spPr>
          <a:xfrm>
            <a:off x="838080" y="4991040"/>
            <a:ext cx="62485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9" name="Picture 4" descr="MVC-02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9281CAF-3962-4DDA-8352-06E62650B9D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4400640" y="533520"/>
            <a:ext cx="2514600" cy="147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P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Actions for Abnormal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Concepts of Internal Dosime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Radionuclides of Conc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Biological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e Calculation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 of Radioactivity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and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9377E63-DA89-46F4-9C70-0BA162B988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20" descr="MVC-018F"/>
          <p:cNvPicPr/>
          <p:nvPr/>
        </p:nvPicPr>
        <p:blipFill>
          <a:blip r:embed="rId1"/>
          <a:stretch/>
        </p:blipFill>
        <p:spPr>
          <a:xfrm>
            <a:off x="0" y="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9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CCF9D17-F268-48D3-9EAA-729F6B86A6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ricted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A – TLD &amp; DAD/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Doses to Extremitie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0F0A8E1-4D0D-40B4-9B08-0958577A4D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 Areas –Process TLD for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Radiation Area – Secondary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High Radiation Area – Second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ed Special Exposure –Per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ors – Same as Esc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1487D29-3A2F-4E15-BF47-CF65C121515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meter Discrepa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er Investigative Report (DIR)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 or Damaged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/Damaged/Malfunctioning D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uspect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condary Dosime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100 mrem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&lt;/= 25% Difference i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Customer Complaints &amp;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2DE1898-71DA-4B73-8207-8E42F7A68F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Path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W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6124EAD-1DE9-4FC4-8E7D-370034BAB6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ducing Internal Expos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ating, Drinking, Smoking, Chew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Dipping in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Protective Clothing Cor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 All W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irators in 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Work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90B1E07-20D0-419E-AF19-9B91C7A990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limination of Internal Radio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ogical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3F95C4C-5A9D-4395-8231-8FB1EE5E41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tential Health Effects and Risk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06EF148-D2A8-425D-BAE2-4C544E6B8C2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9960" y="96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turally Occurring Radioactive Materi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514440" y="257148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-4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8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-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 1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-22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2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3DE1BA1-C973-4DAF-9883-E957305939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tential Health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fro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,000 mrem (100 m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nver, CO, Background 1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No Adverse Biological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ancer Associated with &gt; 50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Leukemia, Lung, Colon &amp;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ong Latent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distinguishable from Cancers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n-Radiation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303ADA9-723A-4E03-BD42-D4948BD354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bsorbed D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y – The SI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Gray = 1 Joule/Kilogra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gray = 100 ra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 – The Special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rad = 100 ergs/gram or 0.01 Joule/k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ad = 0.01 gr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EB92B28-A822-4CE7-9A61-C824B25AAB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ther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&amp; Physical Hazards Contribute to the Same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1032D4B-22E6-478F-B9F9-B941F9C341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3812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38120" y="17330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– Activity/Volume of Ai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x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c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– Curies of Radioactive Mater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n into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– (10CFR20, Appendix B, Table 1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ention of Radioactive Material 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lmonary Region of the Lung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=Days, W=Weeks, Y=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64A7F97-F1E6-4965-85D1-789D57D5F0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Limit on Intake (ALI) –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 Taken into the Body in 1 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00 h) Resulting in a CEDE (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Dose) of 5 rem (0.05 Sv) or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(Organ Dose) of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raction (fALI) – Fraction of ALI from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ntake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I = Intak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AL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20AD7DF-E749-48A6-BABB-C827257D83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ALI(s) for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or Class W = 2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 for Class Y =    30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2C9475E-D368-4BDE-8254-02197E5D2D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8120" y="63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57200" y="188604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ed Air Concentration (DAC)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of Air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Breathed for 2000 h at 1.2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,000 ml/min) Results in an Intak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1 AL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,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7EA5415-5302-4699-9B1B-8BA20AAECC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3812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Betwee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57200" y="21718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= AL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(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Breathing Rate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000 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20,000 ml/min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.4 E 9 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9FD79EC-643F-4E27-93C0-B8E7EDC466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Fraction (fDAC) – Fraction of DA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ing from Exposure to a Specif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of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AC = Conc.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/DA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our – The fDAC Multiplied by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Exposure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fDAC)(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9E5168B-E7E8-409B-BC1C-C172F31787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 Fraction (fDAC) for 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1 E -9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 of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Oxide Fo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for Co-60 (Oxide Form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E -8 µCi/ml,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AC = (1 E -9 µCi/ml)/(1 E -8 µCi/ml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, fDAC = 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9935EB7-BAE7-42A3-8C7B-540C21DBC4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-h for Sample Problem # 3 Where the Exposure Time is 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0.1)(3 h), o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0.3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4B548D5-2324-4AF1-9896-7BDC394853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-h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ALI is Based on an Exposur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rem (5,000 mrem) in 2,000 hours/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,000 mrem/2000 h = 2.5 mrem/DAC-h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DAC-h = 2.5 mrem 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57C5C87-C1C4-4DAC-8647-D9D39B19A8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 – The Special Unit of Any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= Absorbed Dose times 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em = 0.01 sieve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evert (Sv) – The SI Unit of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Sv = 100 r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5A740FE-6FB4-43F8-9597-1D77888AEF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1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57200" y="224748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Concept of ALI and DAC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if a Worker Should W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espirator for a Specific Task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B0ADE6B-E877-4F16-B3DD-7439F8DC97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= 24 mrem/h, Plus s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b Time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Respirator = 2 h, 20 min, or 2.33 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DAC-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A3B2690-26E7-4896-9581-8C0B385185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Dose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.33 h) = 56 mrem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Direct Radiat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xposure from Airbor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(Respirat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4E1B1C1-5601-4C74-8F33-6AF70E42F3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Not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 h) = 48 mrem, Dir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 DAC-h)(2.5 mrem/DAC-h) = 5 m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Airborne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= 48 mrem + 5 mrem = 53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8B60B5F-3983-4C97-813B-852D3DD8FC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aring a Respirator,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 Will Rece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Dose Equivalent, Therefor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Respirator Should be Worn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Jo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7BC8FF6-29D9-441C-A802-CE24E51916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asuring Intern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dioactivity (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CFR20.1204 Requires Measur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Take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s of Radioactive Materi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ir in Work Areas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in the Bod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Excre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Body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s of thes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62A3B8C-7068-42CB-A987-68BCCAC030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Means Used at TVA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e Compli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Sampling,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ing DAC-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6177023-783D-48E1-90EC-181D12F328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Dos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 Monitoring Required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0.1 ALI or 20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Adu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/= 100 mrem or 4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Pregnant Wom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3EE1862-A290-45CE-A7EB-C8C772A4BC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oassay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Initial Entry to Contamination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n Face Indicates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sal Contamination De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or Suspected In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f Open W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ly (Evaluate Contro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195BB4E-9CC2-4CF4-932B-21A6A5FA2C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In-Vivo 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Bioassay Tech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use Bed, Chair, Booth, or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Detectors Placed Near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ccumulated by Multichannel Analy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nalyzed by Compute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ed if Exposu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20 DAC-h/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3E59500-D16C-4379-8B19-458DD7E725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ality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6292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ype of Radi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or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pha, Fis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ragments, et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2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utrons (Unknown Energy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-Energy Prot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29471ED-12EC-4B28-866D-1A5EA4D22F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3" name="Picture 14" descr="MVC-001F"/>
          <p:cNvPicPr/>
          <p:nvPr/>
        </p:nvPicPr>
        <p:blipFill>
          <a:blip r:embed="rId1"/>
          <a:stretch/>
        </p:blipFill>
        <p:spPr>
          <a:xfrm>
            <a:off x="0" y="0"/>
            <a:ext cx="7943760" cy="5959440"/>
          </a:xfrm>
          <a:prstGeom prst="rect">
            <a:avLst/>
          </a:prstGeom>
          <a:ln w="0">
            <a:noFill/>
          </a:ln>
        </p:spPr>
      </p:pic>
      <p:sp>
        <p:nvSpPr>
          <p:cNvPr id="10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73B2F4D-498B-4E97-8E9D-5D48F08941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0" y="1455840"/>
            <a:ext cx="24670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I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9"/>
          <p:cNvSpPr/>
          <p:nvPr/>
        </p:nvSpPr>
        <p:spPr>
          <a:xfrm>
            <a:off x="1676520" y="2000160"/>
            <a:ext cx="118116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5"/>
          <p:cNvSpPr/>
          <p:nvPr/>
        </p:nvSpPr>
        <p:spPr>
          <a:xfrm>
            <a:off x="285840" y="723960"/>
            <a:ext cx="302904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yroid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6"/>
          <p:cNvSpPr/>
          <p:nvPr/>
        </p:nvSpPr>
        <p:spPr>
          <a:xfrm>
            <a:off x="5886360" y="1657440"/>
            <a:ext cx="2171880" cy="1169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rm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9"/>
          <p:cNvSpPr/>
          <p:nvPr/>
        </p:nvSpPr>
        <p:spPr>
          <a:xfrm flipH="1">
            <a:off x="5238720" y="2781360"/>
            <a:ext cx="95256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0"/>
          <p:cNvSpPr/>
          <p:nvPr/>
        </p:nvSpPr>
        <p:spPr>
          <a:xfrm>
            <a:off x="2990880" y="1257480"/>
            <a:ext cx="762120" cy="13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1"/>
          <p:cNvSpPr/>
          <p:nvPr/>
        </p:nvSpPr>
        <p:spPr>
          <a:xfrm>
            <a:off x="2133720" y="1943280"/>
            <a:ext cx="150480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3" name="Picture 12" descr="MVC-002F"/>
          <p:cNvPicPr/>
          <p:nvPr/>
        </p:nvPicPr>
        <p:blipFill>
          <a:blip r:embed="rId1"/>
          <a:stretch/>
        </p:blipFill>
        <p:spPr>
          <a:xfrm>
            <a:off x="30240" y="0"/>
            <a:ext cx="4587840" cy="613404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781520" y="2400480"/>
            <a:ext cx="403848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oth Who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dy Cou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4C00A4E-64D9-41E7-A820-309D99B631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7" name="Picture 14" descr="MVC-006F"/>
          <p:cNvPicPr/>
          <p:nvPr/>
        </p:nvPicPr>
        <p:blipFill>
          <a:blip r:embed="rId1"/>
          <a:stretch/>
        </p:blipFill>
        <p:spPr>
          <a:xfrm>
            <a:off x="0" y="0"/>
            <a:ext cx="4583160" cy="613404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hannel Analyzer System Used for Whole Body 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379A21F-907D-4331-8267-DCF7266DC3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BC Measur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ality As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 Performance Verif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QA)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Traceable to N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Expected 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MQA Inter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ind Phan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Results with Know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1F9CE1E-ED5F-43C3-ABDD-795BC73F80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ntaminate and Follow-up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 Unt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tivity 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ore De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tic Count if Radioactivity Contin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8C1D55F-40AB-41C4-80FA-8A0D757A11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 (WBC)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Sampl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al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FFA4579-FE1F-476E-85ED-A60C0CCED8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and Fecal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s Taken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544BE60-DBA3-48A8-9409-0E5AFD4F7D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ed by ERM&amp;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Individual’s Exposure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3190409-81A8-45E5-AA25-CCE7C8AF0D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quired A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ult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&gt;/= 0.01 ALI or 20 DAC-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Invest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Internal &amp;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 Intake &amp; C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on NRC Form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C4ACD76-A615-4B56-8332-434074BE1F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erms &amp; Calc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tted Effective Dose Equivalent-(CE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a Functio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ALI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&amp; DAC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Dose Conver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e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B5E05A2-1EDA-4120-B469-8044088384E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sonnel Monitoring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quired by 10CFR20.15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BF46641-F744-4359-89EA-32DDE4FC8A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DE From C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CDE), W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Weighting Factor (rem) for ea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Organ or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BC0589C-625F-4E30-B3C1-601571FB38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uclide 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f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ALI for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485C0C3-3264-4EFE-8B8F-5913930A0A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t)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5 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 Airborne Concentration (µCi/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Time of Exposure (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AC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CE973F3-79C8-4671-B443-F8B52D432C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Nuclide Intak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&amp; 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ology Used by HIS-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,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&amp;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PA Report No. 11), 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FB8D3AD-3FA9-4722-93CA-E78A8952551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mitted Dose Equival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rgan or Tissue Specific Committed Dose Equivalent (CDE) Must be Calculated When the 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.0 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 an Overdose has Occu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64BC3B1-00DB-40BC-B913-8A9CE3ED15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ederal Guidance Report No.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Guidance Report No. 11 (EPA Report No. 11) Provides Conversion Factors for CDE per Unit Intake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alation (Table 2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(Table 2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sion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v/Bq * 3.7 E 6 = re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v/Bq * 3.7 E 9 = m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6E70C00-98A0-4E6A-A569-EADC164C49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0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Intake for Nuclide i (µCi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ALI for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171DE83-A904-4723-87F6-B81C8DE92F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0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50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]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=Committed Dose Equivalent (m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Airborne Concentration of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Duration of Exposure (hour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DAC for Nuclide i 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2F723D3-8E75-41DC-B70E-921A196292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Intake &amp;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i *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ommitted Dose Equivalent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or Tissue 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Intake for Nuclide 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and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/µCi) from Federal Guidan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port No.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3AD22DC-594E-483F-A7B5-142936B53E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1,000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E = Dose Equivalent (mrem) to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take (µCi)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Fetal Dose Conver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(rem/µCi) for Mother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ssimilation of Radionuclide i 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etal Age t (Regulatory Guide 8.3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2EE797F-5845-49AA-9CC9-43F7E98F57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6:16:16Z</dcterms:created>
  <dc:creator>Ralph G. Wallace`</dc:creator>
  <dc:description/>
  <dc:language>en-US</dc:language>
  <cp:lastModifiedBy>Peggy Hines IRSC</cp:lastModifiedBy>
  <dcterms:modified xsi:type="dcterms:W3CDTF">2013-02-18T19:25:41Z</dcterms:modified>
  <cp:revision>28</cp:revision>
  <dc:subject/>
  <dc:title>Personnel Monitoring</dc:title>
</cp:coreProperties>
</file>