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4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4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4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16DA-0DCE-42DB-86EA-A8913F44A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C5A4-7B21-4409-A3AD-FD4D982B580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8617-BD74-412F-9047-68143496499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6114-B2DF-4E5E-BE7C-418D2977664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02C1-FDCA-4989-A12B-491BCDDDA4C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7329-69F2-4490-8C19-36387B98F3C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151D-3FB9-4DEC-8DFC-6497EDF561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CF49-AC6A-4EA9-80CB-F5FBDCF836A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A52F-77C0-4420-8813-814CB5AB232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8DB5-8545-4E31-8BC7-4B68BE9CF47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830C-8F2B-47D6-A19B-BD71FD77800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15CA-F3A4-4B8A-9BFD-AC9D9AC8538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93AB-BC4C-4DF9-BEBC-695E5EFAF14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DFBD-EA2F-41E5-9070-F56028AAC50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58E2-35D0-4A5A-90B4-0CC10667708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6AA5-8FC9-4CEA-B3BA-40EC5DAB1F1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8964-CF2B-4924-9CFA-DA5D5C6C8DE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1961-A943-41A3-BADD-4431AE6FFF3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9455-130A-47F8-9095-63AA9A03C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BE5A-3D97-46E1-A898-093D12BA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6118F-EAFD-4EFE-892D-AF2840E8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CA7C0-319A-4AFD-8D56-529763E8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6DC1C-4DA3-45CB-99F4-DB8A0F8D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D601A-558C-45BD-BBF1-A0C0E3F2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F2AF6-4359-4487-8651-8CBCF4BC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C9181-C314-4B62-AD00-3605A2F1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0B3E9-AA7D-4110-96A0-B6A6F89D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BF439-3D99-4A15-8C29-DC0B1977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C34A3-B520-4782-BB5B-843AC1F1C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095EAB-28AE-4ACB-94BE-34B41BECD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5EB7-686B-451D-A936-BB99EB7A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1C3DD-C5C6-4394-A0D9-701DF0AE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AB344E-85C2-422A-A2B9-80985523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C5D87-732E-4CA3-B5B3-AEC1DC97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90034-BDA9-4C39-BD15-E6AF80A6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C48D7-28DF-4588-9D2A-61965486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77F75-4343-4703-8497-E62FDB65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7D673-8373-401F-92A0-988DA6D7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0E22B-9DDB-4DD9-8CF8-74FF2013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FE4CA-D009-4398-AB71-F1CDB288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335B6-BE6F-4B10-A259-D402F08D0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66B4-963B-4F22-B9F7-555B4EA2B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CC4C8-40B8-46E6-901B-72D1D82B1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ECAEB-B6CF-4F0D-A485-761A9169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28A28-55FF-4744-A119-E995788A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FDB01-297C-41F7-A215-8D2F7C61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D79AA-814E-4C18-A0D8-3F9CD555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D6AC9-B6E8-462D-A8D6-8BEBD5C7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164AE-53D5-434C-B16C-ECD0ADF0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7E42C-C9BD-4AC0-B8AD-D6589029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ED499-56E3-45C8-8A5C-072F3D6F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501D8-E836-447E-B175-E1DF6189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2E6C-5FF6-4252-9DAF-F7CD0AB4E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F5D8A-9772-4AA5-AD91-FD1C40E0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FEEB6-EAA0-4EE0-AE39-DEC08586F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1B03C-2690-42FA-B5AC-1D0DAD419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33E5F-80E9-4EEB-A8E8-0E23400E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FE15A8-19F6-4F04-8F31-D1F8E946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190E77-FD5B-47CF-995A-6A87A474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DD049-20CF-4331-8085-004C28DE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4E8D8E-A11B-4EAB-8AAF-F8173236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B3879-1B4F-4A5F-A2DD-5EC09009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AF7BB1-B976-4B83-B1A5-E0003106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1C41-DF7E-4F65-A745-88CC243C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22AB18-BD84-4FFF-AF01-DC81DC8F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46B8A8-C699-4A14-A03E-40EFB06B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72B648-7E64-4254-9C49-17AC5387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77069C-5804-4FC8-9B87-2778C4B2E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ED5C8B-7859-4A22-8045-04876D0F9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7D2797-AAE5-4D38-9585-C75B919A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FBBBB3-1D13-46AC-ACED-8F2BB7DE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E2D8B8-606D-4539-BC2F-3BED36C4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D4467C-A86F-4415-887C-DC2BE67B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6244B0-6641-4A8D-A614-22BB1B5B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554D-C3A2-4E6B-8FB3-E228FA26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43ABDB-5E7C-461A-9489-96F29D2C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38C3A5-7046-43A2-AF13-BB6B9700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910609-144F-48A9-A183-5D1743F8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EAD096-CD92-4B87-AED2-A333DF4A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0BAE00-4E35-4603-92B4-6DD3EEF1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341419-A373-4D94-81A0-968752BAD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E0B4A4-1315-4DE8-8634-134DD5F19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200590-13C9-422D-950D-047A9B783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A2C016-80B4-4B79-88A8-5AB34C88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BC34F7-0D5A-44F6-9A7C-C121E19B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A4F5-B243-4B37-A25A-78BC9F2D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DABC1A-ECC5-477E-8DAF-EC03078B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E0C6CB-F6A7-4AF3-B1AB-0CA6A657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8BFA2D-A09D-4F25-B24D-D57D5127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ED2FF0-762A-4390-AFDB-BA0B41A2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88C477-4894-4382-828B-D0A06B2C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82E539-6E75-47F6-A3F6-801A19F3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201F27-6871-40CE-9D98-5AE0C108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A89AE2-62D4-4DF5-AC2E-4E3DCD8B6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5FD294-9960-43F0-BB55-C91ADD71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919C-D19D-4F47-B8B8-7AFDAD65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E535-BBCA-44D1-9C96-869C5520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0234-EBBA-4E94-A702-F54992A9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3C9C-CDF0-4AA6-B392-54B66BC2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C15C-DBFC-4F3D-BDFE-4E286C23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07A0-A4D7-41AE-AE42-914CD035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FD96-8380-4A71-BD3B-62A4FDA6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B9B3-249E-4BD2-BEE6-634AC907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47A6-866A-4689-B147-5C98ED794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A1F76-1492-4AFE-8AAC-F95D0E32E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48369-C155-4F9A-A305-6740E1B8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072BC-5D91-4952-BA0E-4ED9A3C9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F7CEA-D171-4F15-812A-D886290F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7DBB2-E2C1-4083-BEA8-12F81D71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EFAB-E69D-476C-BEF0-EC5082EA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CFBC3-F2B2-42B9-A1D0-DE4556C8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F6355-EFA2-4723-9C0B-5129BCB9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E1637-1824-42AB-8DE8-D74B50E0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56DD6-9DB1-466E-B231-22B6D63B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61251-2731-4E16-A730-9275F015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3FB81-DE53-4957-B641-1B29E4A19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557B2-7C34-4CAD-9F34-0E41400B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DA98C-0197-4726-B2C9-8DE47FFA5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EDD83-88BE-4B42-9BFA-9512E21A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FD302-0BEA-4631-988F-57D96AFE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A50A-0197-4B50-A1B0-DFE109FA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331CD-EA2C-4A4C-A5B7-ECC14B8D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38662-A6A8-4F0F-8C6E-2296D269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6AF1F-CA8B-4BBC-8333-98FBB674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D26D4-7216-43CC-AC1C-AB31DFDD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0A5BE-309F-40F3-B759-77E25CEC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A3ACB-3874-4D93-9359-82F533A9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D1EED-A87E-46F6-9670-03823739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A9C03-150D-4806-A7BB-255B22A02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D6178-A494-45A9-B73D-6A891596F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6491E-6EE7-4C99-8EB3-0638A912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689B-AD56-4AF2-98AE-93A5F9C3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21CC3-9290-4F74-978A-79DCC3FC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CBA17-C859-4808-9BCB-3036D610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7C09E-377A-4E50-9891-0A407699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82469-F5DB-4F60-AEBC-0247DE24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5588C-3B1D-4DCF-B933-623D9A23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49C74-D7E9-44C3-9285-82833ECA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52C78-A2F2-4FAD-9EA9-102F115C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4BB3C-D7B1-4CFC-97C7-9BB2FDCE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E4152-3C75-46F4-A667-42BDEE3F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D3290-03B2-46C8-96F4-0469EEB9E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6DAC-5E51-47B2-BE55-DD0E30B9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114E4-956D-4A30-920A-6FFD25C7D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55F63-5313-41E1-A61C-D77709CFA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6BBF2-652A-48D9-8B95-6A7081FC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3D8C4-C291-4CC1-8439-DE6B942A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9A786-74B4-421B-BDBF-3A942DDC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778A4-0F08-4322-9BB5-5BB8F500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1FB20-A462-432F-B231-6C9196E5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EE5F4-D0EA-47D3-870B-9560E478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83FAC-27C8-4503-878D-D4862304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5C80F-F7D0-4464-A763-3BD1CC0B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E1D4-E166-4727-81C2-F69A89A1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1ECDC-FFCB-4DBB-AC4A-619A3BC9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88464-9580-4C44-B36E-D14FB26AF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C4504-DE82-41DA-803E-96BA73751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A4CE5-A6A5-4286-B024-6638BFDDF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00933-DD5A-465D-BEE3-DBF6F69E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5F683-6550-4EDB-9077-532E7176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C36C6-77E7-46BB-9773-EDCA5C24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DEB30-EBF4-42B7-9C44-D0A14423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2B087-C9E7-43C4-9E36-ED798D26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EBE51-4385-4BB9-9AA0-3B5A6FC2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0D1F-4C2A-4A31-9882-84E28851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50FBB-152D-4B26-8069-2CD313B4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841BF-3E6A-42A0-8E06-1D7326C1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31139-F7CA-49D0-8D87-B731CAD2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354F7-09D7-43AD-9523-59DA65BFA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F87FA-46BA-4F67-8383-033745F23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452D2-4B97-4D77-A52F-F4E73AF0B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50636-4862-4504-B7FC-28F09D69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C7FC3-54C5-4343-95F5-1B81B5FA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916CB-63D3-4E32-987B-FC55872B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B1536-0396-41C7-8879-EA93F895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FB15-2CC4-4AE4-B138-73C3F128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E0917-068E-4199-830E-FBE7F527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66491-7CB0-4226-B17F-B1604D01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91EA4-3625-43A1-9849-C6D287EA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289E7-8D63-406D-8917-36876670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63CCB-040B-41DF-B8A6-B29F3435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ADBBB-ACCD-4FBF-851F-6BF414544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B4394-AED2-4755-8E0A-44E0FA2AA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34294-A9DF-45DA-B380-6FDE16F3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3A239-F344-4CE5-9E64-E48B4954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391BB-154C-4333-8B1A-C51FE889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122D-02B6-4662-A37A-9006D70078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C742-3C98-4D58-89B5-42293DCFFE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9B0C-91D8-4C53-9D2A-0A9264EB6F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4285-FE92-4E64-B8E3-FE80BAA345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287A-B445-47B9-ABF5-A006C089D6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C8E1-02F8-4989-9F77-D0F6F3F884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3BEB-77C5-4343-A448-18C99076A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7FFD-5C60-4641-8BEA-680DA7EFDA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6D5A-137B-4236-BA66-59BBA3DB87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6486-5E2C-45BF-A66D-D51FC6843D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A291-F8C7-4D89-A4C5-B08D32434B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604A-9B3D-4D0D-82A4-17FDAB86D8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6BE4-BE07-49A6-94C9-6F3CD1E52A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B141-5B77-42D6-9CFE-AD0767465D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FR policy, CFR violation, CFR enforc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8196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7" name=""/>
          <p:cNvGraphicFramePr/>
          <p:nvPr/>
        </p:nvGraphicFramePr>
        <p:xfrm>
          <a:off x="237960" y="1523880"/>
          <a:ext cx="8668080" cy="1738440"/>
        </p:xfrm>
        <a:graphic>
          <a:graphicData uri="http://schemas.openxmlformats.org/drawingml/2006/table">
            <a:tbl>
              <a:tblPr/>
              <a:tblGrid>
                <a:gridCol w="1084320"/>
                <a:gridCol w="1082880"/>
                <a:gridCol w="1084320"/>
                <a:gridCol w="1082520"/>
                <a:gridCol w="1084320"/>
                <a:gridCol w="1082520"/>
                <a:gridCol w="1084320"/>
                <a:gridCol w="108288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3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5.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5.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5.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5.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8.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1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10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4.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4.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4.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4.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Proceeding to modify, suspend, or revoke a licen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icates alleged violations or potentially hazardous conditions and specifies proposed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s written response to the order under oath or affi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rms licensee of right to demand a hearing on all or part of the or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es the issues for the hea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e the effective date of the order – may be immediately effective if public health or safety of concer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Llicensee must admit or deny each alleg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and for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Issued by Commission to determine if an order should be issu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Licensee must reply in wr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arts of 10CF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066320" y="1981080"/>
            <a:ext cx="312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1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2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191120" y="198108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50, Appendix 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50, Appendix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5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7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1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arts of 10CF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2 - Rules Of Practice For Domestic Licensing Proceedings And Issuance Of Ord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als with proceeding relating to all aspects of licensing issues, and the enforcement of licensing agre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19 - Notices, Instructions And Reports To Workers: Inspection And Investiga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20 - Standards For Protection Against Radi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ols the receipt, possession, use, transfer, and disposal of licensed mater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arts of 10CF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21 - Reporting Of Defects And Noncomplia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s responsible officer of a nuclear faciity to immediately notify the Commission of an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ailure to comply with laws relating to substantial safety hazar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fects which could create a substantial safety haza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26 - Fitness For Duty Program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50 - Domestic Licensing Of Production And Utilization Facili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ments for obtaining an operating license or construction perm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arts of 10CF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50, Appendix A - General Design Criteria For Nuclear Power Pl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es necessary design, fabrication, construction, testing, and performance requirements for structures, systems, and components important to saf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50, Appendix B - Quality Assurance Criteria For Nuclear Power Plants And Fuel Reprocessing Pl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/A requirements for the design, construction, and operation of all structures, systems, and components included in a production or utilization facil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re details: student reports on criterion I - XVI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arts of 10CF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06632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51 - Environmental Protection Regulations For Domestic Licensing And Related Regulatory Fu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55 - Operators' Licens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als with the issuance and renewal of licenses for operators and senior operators at nuclear fac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73 - Physical Protection Of Plants And Materia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other words, secu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100 - Reactor Site Criteri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ed on population zones, seismic activity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Existing U.S. Nuclear Reactors (10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0" name="Content Placeholder 3" descr="reactors-map.gif"/>
          <p:cNvPicPr/>
          <p:nvPr/>
        </p:nvPicPr>
        <p:blipFill>
          <a:blip r:embed="rId1"/>
          <a:stretch/>
        </p:blipFill>
        <p:spPr>
          <a:xfrm>
            <a:off x="1295280" y="1905120"/>
            <a:ext cx="686772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Proposed New U.S. Nuclear Reactors (28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2" name="Content Placeholder 5" descr="new-plants.jpg"/>
          <p:cNvPicPr/>
          <p:nvPr/>
        </p:nvPicPr>
        <p:blipFill>
          <a:blip r:embed="rId1"/>
          <a:stretch/>
        </p:blipFill>
        <p:spPr>
          <a:xfrm>
            <a:off x="1295280" y="1828800"/>
            <a:ext cx="66294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Quality Assurance for Nuclear Rea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ity assurance (QA) comprises all planned and systematic actions that are necessary to provide adequate confidence that a structure, system, or component will perform satisfactorily in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ributes of a QA program include procedures, recordkeeping, inspections, corrective actions, and aud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itle 1"/>
          <p:cNvSpPr/>
          <p:nvPr/>
        </p:nvSpPr>
        <p:spPr>
          <a:xfrm>
            <a:off x="1066680" y="1905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NE 127 – Codes, Standards, and Regula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Subtitle 2"/>
          <p:cNvSpPr/>
          <p:nvPr/>
        </p:nvSpPr>
        <p:spPr>
          <a:xfrm>
            <a:off x="121932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</a:rPr>
              <a:t>Key Parts of 10CFR (for the Nuclear Industry)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NSTRUCTOR: Chattanooga State CC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RC Review of QA Pro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RC reviews and inspects QA programs and their 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RC's objective is to determine whether licensees and their contractors are meeting the agency's requir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particular, the NRC reviews the QA programs for commercial nuclear power pl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addition, for operating nuclear power plants, the NRC reviews any changes that reduce previous commitments to the plant’s QA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RC Regulatory Gu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tail acceptable methods of design, fabrication, construction, operation, and quality assur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ulations are mandato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ulatory Guides and NUREGs mandatory only as committed to by the applicant (as stipulated in the construction permit or operating licens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ulatory Guides 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t forth requirements for submitting environmental reports, safety analysis report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SAR – Preliminary Safety Analysis Report (for construction permit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SAR – Final Safety Analysis Report  (for operating licens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gulatory Guide 1.70 describes the type of information to be submitted by the applicant for PSARs and FS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URE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 NUREG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chnical reports relative to the regulation of nuclear ener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UREG-800 - Standard Review Plan For The Review Of Safety Analysis Reports For Nuclear Power Plants: LWR Edi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bes what the NRC expects to see in the SAR, including the applicable acceptance crite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ful for auditors for identification of specific regulations and guideline documents that address each topic of a S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UREG-1946 - Inservice Testing of Pumps and Valves, and Inservice Examination and Testing of Dynamic Restraints (Snubbers) at Nuclear Powe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erences the ASME c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Institute of Nuclear Power Operations (INPO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stablished in 1979 following the Three Mile Island inciden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ts mission is to “promote the highest levels of safety and reliability – to promote excellence – in the operation of commercial nuclear power plants” by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tablishing performance objectives, criteria and guidelines for the nuclear power indust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ducting regular detailed evaluations of nuclear power pla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ing assistance to help nuclear power plants continually improve their perform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INPO Continu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O provid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nt evalu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ining and accreditation (ACAD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vents analysis and information exchan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ist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to be confused wit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I (Nuclear Energy Institute) – lobbyist group for nuclear energy indust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UCP (National Uniform Curriculum Program) – program sponsored by NEI to provide a national certificate of accreditation for QA/QC progr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RC Technical Training Ce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ted in Chattanooga (off Marlin Road near the air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RC TTC Administration Offices are located on the second floor of a 6-story all glass exterior office buil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ors are located on the first, second, third, and fourth flo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Next Tim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ASME Boiler and Pressure Vessel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RC Enforcement Poli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pecified in 10CFR2: Rules of Practice for Domestic Licensing Procedures and Issuance of Or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sures compliance with NRC regulations and licensee condi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s prompt correction of licensee weaknes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es a deterrent to future non-compli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courages improvement of licensee performance – leads to enhanced degree of public health and safe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gnificance of Viol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Assessed based on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ual safety consequ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ch as actual release of radiation, damage to core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tential safety consequ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sed on risk fac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act on the regulatory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ailure to report or keep accurate and timely recor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llful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cates deliberate intent to violate or falsif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verity Level of Viol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Normally categorized in terms of four levels of severity to show their relative importance or signific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Severity Level I – most signific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vels I and II involve actual or high potential consequences on public health and saf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Severity Level IV – least signific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forcement 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The NRC Commission may issue 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n-Cited Viol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ice of Viol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ivil Penal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ated Administrative Action (such as a Demand for Informatio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on-Cited Vio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issues of very low safety significa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cumented as violations in inspection reports to establish public records of the vio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cited in Notices of Violation which normally require written responses from licens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otice of Vio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rved by the Commis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May require licensee submit a written statement to address all alleged violations includ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sons for violation, or, if contested, basis for disputing the vio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rrective steps taken by licensee and results achiev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rrective steps which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il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 ta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e for full compli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Available for viewing on www.nrc.g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vil Penal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Civil penalties may be imposed for up to $140,000 per day for each vio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Actual fee based on severity level of vio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If a violation is on-going, each day of the violation constitutes a separate vio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7:57:16Z</dcterms:created>
  <dc:creator>Mark and Jacki Smith</dc:creator>
  <dc:description/>
  <dc:language>en-US</dc:language>
  <cp:lastModifiedBy>Peggy Hines IRSC</cp:lastModifiedBy>
  <dcterms:modified xsi:type="dcterms:W3CDTF">2013-02-14T14:49:00Z</dcterms:modified>
  <cp:revision>248</cp:revision>
  <dc:subject/>
  <dc:title>Statics and Strength of Materials</dc:title>
</cp:coreProperties>
</file>