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164F-E7C6-49BA-95EF-3A9BB5D42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A91D-AE4E-42DD-BA58-0AAEC012596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8361-EADB-47FE-B494-A93F970C83A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9DEF-F172-49B6-8984-E2E9D030896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10B5-45C2-4444-BB4A-D9DF634FE49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AB95-7BE2-4CE1-8A4D-41E0EAC9DDF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D646-1141-4148-AE5D-2061A6E37C0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A83E-698C-4096-B20D-CD7F231E48B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AA93-EB44-4C6A-B01D-ED95DE04066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A525-1469-499C-A180-5CC40EFA5FA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AE2C-F58A-42FF-9A91-8950015BD8B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2A2B-6634-4727-90E6-D0191F0B763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B561-9615-4C25-A770-89740C04A6F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F56B-F85E-4606-A269-C0221F86074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64AF-716C-47E5-9CBE-70DAF83CD2D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C2C3-AAA1-4811-92CA-D57D644040D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DB81-2B11-410A-BA36-EC52DD2F549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CCC9-8813-4C9A-BF5C-944C5B79CCB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66F3-F419-476E-8A09-829CF871099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2744-2EA9-4048-BCDD-51B87E1EA5E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E220-2A18-4FBE-A6BD-583716C70C8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089C-E4D7-40A9-B62C-E1446E5CC4E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D8D5-412F-49A6-A55D-B2C926FF4EE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6FEB-84E0-41D5-AE73-E71EA5F9197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1BE8-3471-428F-8BDF-1F90D50383C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4A86-0821-46CE-AD2F-656515F9DBA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472A-CA0B-4654-BA80-096642EA14A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A250-20E8-45D5-94B3-47F47280524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EB4E-E4AF-4F72-822F-E7DA2D16787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AEEE-E882-4A87-A347-CAEC2A6BE99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4F65-D5B7-4C61-B2D3-EAD4553B040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53A6-F45D-4AA9-BAC3-B2BBD323584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FD47-45EC-4CE7-BA5E-18141D6B8E1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9679-5286-486C-A597-335A1D522F4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6E28-5A3E-409E-9E10-26BC895442C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CCF9-8D42-4799-8759-0835C28F8D6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2D48-BF82-49D5-AB86-7A26B50383E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3D84-2C14-4C9E-83F0-51AE60E525C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F7B2-7870-473F-B2D5-70D2BEBE2E1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7ADE-C9EF-4FA0-96DF-6019C34D636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7A45-5236-4787-9A17-507A6BC2C27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54F0-1B02-43B6-ADA0-128DAC98391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C154A-03ED-4D87-8152-DCFCAEBEFB4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B6C-D622-418B-9D01-DC76C065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72F0-85A0-4D83-9F07-F9C7B40E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C763-3A1B-416B-8CA4-4C03997D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BF4-1CBB-429B-B9CF-6C2F0663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C50D-FB71-4061-9A7E-5BF9256E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15B4-C1D6-4919-94C4-97C3E718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C124-416C-4F3D-85AE-1783D265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8035-A48F-40ED-9C23-436F9B37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718E-E85C-4DDF-B7D9-942D4A05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619A-00C1-4188-8ABA-41CC8C92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7732-7C0A-4699-82D6-A6725843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2E94-748A-43B6-B9DE-36AB408C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7F46-A4DE-4700-A141-477EDC98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01AA-E46E-41F7-A192-0B8874EC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2A80-F247-4CFD-9BF1-EF2EB28E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2FAB-5660-45C2-9366-CB42E5CE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493E-E679-4A66-8246-1E19C069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5A4-C57D-40A4-B2A0-288A6748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DDBA-8466-4187-A9ED-863148F7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1603-361F-4A4F-B42A-336E0DD5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B66-AA77-4A92-AE53-66DC9B6C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6CF-3DC9-40F1-8182-1BF82D0A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F1A-6FC4-42D4-AC78-5BB94C3E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B8A-9898-4CF1-BFA6-9B361B06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8956-058F-4FE0-812D-073BA87A2AB5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A9CB-4CFC-4DB8-A142-35D2D13BC87A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amma%20Exposure%20Video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graphic testing,  x-ray,  natural radiation, curie, becquerel, personnel monitoring, decay, half-life, intensity, exposure limits, inverse square, stochastic, nonstochastic, radiation safety officer.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5"/>
          <p:cNvSpPr/>
          <p:nvPr/>
        </p:nvSpPr>
        <p:spPr>
          <a:xfrm>
            <a:off x="3124080" y="6524640"/>
            <a:ext cx="2895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Augusta Technical College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2011</a:t>
            </a:r>
            <a:endParaRPr b="0" lang="en-US" sz="1000" spc="-1" strike="noStrike">
              <a:solidFill>
                <a:srgbClr val="2f2b2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7960" y="17524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2880"/>
                <a:gridCol w="108432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1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2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4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7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0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ucleus of atom – contains the positively-charged protons and neutrally-charge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lectrons – negatively-charged particles that travel at high speed around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number – based on an element’s number of prot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. Carbon (C) has atomic number 6, Potassium (K) has atomic number 19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sotopes – atoms of the same element with different number of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mass – approximately equal to sum of protons an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release of energy and matter that results from changes in the nucleus of an ato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 atom that contains additional neutrons is unst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order to move to a more stable state, the nucleus seeks to remove the extra neutrons, thereby emitting radi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s with atomic numbers &gt; 83 referred to as radioisotopes – they have unstable nuclei and are radioac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spontaneous breakdown of an atomic nucleus resulting in the release of energy and matter from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ccurs by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pha decay (emits 2 protons and 2 neutrons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ta decay (a neutron split into a proton and an electro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amma decay (energy in the form of gamma radiation emitted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pha and beta decay involve particl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 nuclear reacti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gamma ray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17" name="Straight Arrow Connector 4"/>
          <p:cNvCxnSpPr/>
          <p:nvPr/>
        </p:nvCxnSpPr>
        <p:spPr>
          <a:xfrm>
            <a:off x="2438280" y="6324120"/>
            <a:ext cx="610560" cy="2520"/>
          </a:xfrm>
          <a:prstGeom prst="straightConnector1">
            <a:avLst/>
          </a:prstGeom>
          <a:ln w="93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When an atom undergoes radiographic decay, it emits one or more forms of radiation with sufficient energy to ionize the atoms with which it intera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ing radiation – high speed subatomic particles ejected from the nucleus, or gamma rays emitted by the either the nucleus or orbital elec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ation – complete removal of an electron from an atom following the transfer of energy from a passing charged partic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ctivity – quantity which expresses the degree of radioactivity or the radiation-producing potential of a given amount of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iven in units of Curie (English system) or Becquerel (SI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ne Curie is quantity of radioactive material in which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atoms disintegrate per second (move to a more stable stat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Becquerel = quantity of radioactive material in which 1 atom disintegrates per seco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Curie =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ecquer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ic activity – activity per unit mass or volu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ime required for the activity of a particular radioisotope to decrease to half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ries for different radioisotop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anges from microseconds to billions of years (uraniu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of Cobalt-60 = 5.3 ye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Iridium-192 = 74 day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arbon-14 da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d to approximate the age of fossil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cays with a half-life of 5730 yea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 Exampl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:  You originally have a 30-Curie source of  Cobalt-60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many Curies will you have in 5.3 year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The source will have decayed by one half-life in 5.3 years, therefore half of the original source will remain, or 1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long will it take for the source to decay to 3.75 Curie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 Every 5.3 years the source will be reduced by half.  In 1 half-life, the source will be reduced to 15 Curies.  In 2 half-lives, the source will be down to 7.5 Curies.  Finally, in 3 half-lives, the source will be 3.75 Curies.  Therefore, it will take a total of 3 half-lives (or 15.9 years) for the source to decay to 3.7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netrating Power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ly x-rays and gamma rays can penetrate solid materials to a significant extent (alpha and beta particles can penetrate skin only up to 8 mm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ransmission of radiation depends 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thickn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dens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of the phot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hotons that are not transmitted are attenuated (absorbed or scatter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cience of radiation protection (also called health physics) developed to address acceptable radiation levels to reduce risk of injury to huma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rimary health concern (for chronic, not acute exposure) is increased risk for canc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pends on amount of radiation dose, duration of dose, and specific body parts expos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ion and use of radioactive materials strictly regulated by the Nuclear Regulatory Commission (NRC) as specified in Title 10 of the Code of Federal Regulations (CF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1900 it was understood that use of x-rays and gamma radiation required safety precautions to protect one’s healt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20’s – routine use of film badges for personnel monitoring begun, genetic effects of radiation recogniz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igin of radiati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atural (sun, radon g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(x-rays, gamma ray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ubtitle 2"/>
          <p:cNvSpPr/>
          <p:nvPr/>
        </p:nvSpPr>
        <p:spPr>
          <a:xfrm>
            <a:off x="137160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2b20"/>
                </a:solidFill>
                <a:latin typeface="Calibri"/>
              </a:rPr>
              <a:t>Radiographic Testing</a:t>
            </a:r>
            <a:endParaRPr b="0" lang="en-US" sz="38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Prepared by: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Chattanooga State Community College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Energ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ifferent radioactive materials and x-ray generators produce radiation at different energ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ergy of radiation – responsible for the ability to penetrate mat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asured in electronvolts (eV) or kiloelectronvolts (keV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n electronvolt is the energy gained by an electron passing through a potential difference of 1 vol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djustable on an x-ray generat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n unchangeable characteristic of a radioisotop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Intens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mount of energy passing through a given area (perpendicular to the direction of radiation travel) in a given unit of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rvey meter – used to measure intensity or radiation dose r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nits in mRem/hr or Rem/h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equently referred to as the most important tool a radiographer has to determine the presence and intensity of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er the inverse square law, the intensity varies inversely with the square of the dista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posure – measure of the strength of a radiation fie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oentgen or 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(also called absorbed dose) – amount of ionizing energy absorbed by an objec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ad (“radiation absorbed dose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equivalent relates absorbed dose to biological effect of dose – equals absorbed dose times a quality factor (quality factor = 1 for x-ray and gamma radiation in human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em (“Roentgen equivalent in man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r humans, 1 R = 1 Rad = 1 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 vs. Dose Rat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rate – measure of how fast a radiation dose is being receiv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rate = dose /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/hr, mR/hr, Rem/hr, mRem/hr (same units as intensit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calculate a person’s dose, multiply the dose rate (measured with a survey meter) by the duration of exposu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= dose rate *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radiation intensity in a particular area is 5 mRem/hr, and the person remains in that area for 30 minutes, what is the person’s radiation dos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= 5 mRem/hr * 0.5 hr = 2.5 m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Biological Effects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bsorbed dose depends 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tensity of radiation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istance from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ime of exposu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onization of living tissue causes molecules in cells to be broken apa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logical effects vary with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ype of radiation (penetrating ability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ize of dose receiv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ose rat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Body part exposed (extremities can handle more exposure than blood-forming organs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ge of individual (cell divisions slow with age – older people less sensitive to ionizing radi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Stochastic and Nonstochastic Effect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ochastic effects are delayed and difficult to specifically correlate to radiation exposure (canc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nstochastic effects are acute effe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rectly proportional to size of d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ympto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redd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and tissue bur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aract form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eril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ation sickness (nausea, vomiting, diarrhea, headache, fever, dizziness, weakness, hair los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a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Important NRC Cod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19 – Notices, Instructions, and Reports to Workers: Inspection and Investig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20 – Standards for Protection Against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34 – Licenses for Industrial Radiography and Radiation Safety Requirements for Industrial Radiographic Oper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uidelines established to both prevent acute exposure and limit chronic exposure to “acceptable” lev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re to maintain all exposure “as low as reasonably achievable” – referred to a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ALA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BANA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– “build absolutely nothing anywhere near anyone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ffect of exposure (dose received in a 24-hour period)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0-25 Rem – no evident injury (blood changes detectable at 5 Rem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400-500 Rem – results in death in 50% of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1000+ Rem – results in death in ALL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Occupational Limi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tal effective dose – 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regnant women - 0.5 Rem during gestation perio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eople younger than age 18 – 0.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Non-Occupational Limits (for general public exposure to industrial ionizing radiation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1 Rem (2% of occupational limi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oesn’t include natural background radiation (0.3 Rem) or radiation from man-made sources, such as medical x-rays (0.05 Rem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ull-body X-ray Scanners at Airpor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ccording to the FAA web-site, the effective dose per scan is less than 0.0001 mSv (milliSiever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01 Sievert = 1 Rem, therefore 0.0001 mSv = 0.01 mRem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e Health Physics Society (HPS) recommends 0.25 mSv (25 mRem) max annual dose from single source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is corresponds to 2500 exposures per year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: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ME, DISTANCE, and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call that dose = dose rate *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llimator – device used to direct radiation onto a part and shield the radiation in other dire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general, the denser the material the greater the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ost effective shielding by depleted uranium – used to shield the source in gamma ray camera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 and concrete commonly used for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History of R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cience of Radiation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Terminolog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cal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inverse square law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“the radiation intensity varies inversely with the square of the distance”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= 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intensity at 1’ from the source is 500 Rem/hr, at what distance is the intensity 2 mRem/hr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ution:  Let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500 Rem/hr; D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1 foot;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2 mRem/h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ve for D2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= Square root (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1" lang="en-US" sz="18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/ 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) = 500 fe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gns must be posted at intensity boundaries (usually 2 mRem/hr and 100 mRem/hr) to warn individuals that radiographic testing is in prog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519920" indent="-21708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Value Lay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hickness of a material needed to reduce the radiation intensity to ½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provide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radioisotope used for gamma radiation (or voltage if radiation source is an x-ray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voltage if radiation source if an x-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4419720"/>
          <a:ext cx="7674120" cy="1882800"/>
        </p:xfrm>
        <a:graphic>
          <a:graphicData uri="http://schemas.openxmlformats.org/drawingml/2006/table">
            <a:tbl>
              <a:tblPr/>
              <a:tblGrid>
                <a:gridCol w="1324080"/>
                <a:gridCol w="1270080"/>
                <a:gridCol w="1270080"/>
                <a:gridCol w="1269720"/>
                <a:gridCol w="1270080"/>
                <a:gridCol w="1270080"/>
              </a:tblGrid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alf-Value Layer, mm (inch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ncret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ungste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anium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ridium-19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4.5 (1.7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7 (0.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8 (0.19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 (0.13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.8 (0.1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balt-6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0.5 (2.38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.6 (0.85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5 (0.49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.9 (0.3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.9 (0.27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Offic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ation Safety Officer (RSO) - individual authorized by company to ensure radiation activities performed safely and per approved procedures and regul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ographers required to wear personnel monitoring devices to aid in tracking and minimizing their radiation exposu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sonnel Monitoring Devic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cket dosimet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milar in appearance to small mark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ads radiation dose (not dose rat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lows workers to track daily dose received (reset at the start of each shif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udible alarm rate me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ounds an alarm at a preset dose rate (typically 500 mRem/h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T a replacement for a survey meter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Gamma Exposure Video.mo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Personnel Monitoring Devices - Continu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lm bad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iece of radiation-sensitive film that provides a permanent record of radiation dose receiv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LD (thermoluminescent dosimet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ften used instead of a film badge (may be reus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oth film badges and TLDs typically worn for 1-3 months before being processed to determine d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X-Ray Generator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re generated by directing a stream of high-speed electrons at a target material, such as tungsten, which has a high atomic numb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teraction with the tungsten atoms slows or stops the electrons, and x-rays are produc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jor components of an x-ray machin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ube – contains a cathode (coiled wire) and an anode (target) – operates in a vacu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voltage generato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ntrol console (to adjust output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oling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X-Ray Generator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X-ray control conso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current (or milliamperage) increases number  of electrons that flow from the cathode to the anode – thus increases the x-ray intens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the voltage increases the speed at which the electrons travel – thus increasing the energy or penetrating power of the x-r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radioactive sources produced by introducing an extra neutron to atoms of the source material by neutron bombard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s the atoms shed the neutron energy is released in the form of gamma 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-60 and Ir-192 common industrial gamma ray sources due to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ortability (as opposed to x-ray machine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sadvantage of gamma sources – cannot be turned off, therefore source must be isolated and shielded within an exposure device (camera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urces typically consist of multiple pellets loaded into a stainless steel capsule to obtain desired activity level (number of Curie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psule sealed by w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ttached to a short flexible cable called a pigtai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sed in a shielding device referred to as an exposure device or came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tivity of source governs amount of shielding requir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has a higher activity (1.25MeV) than Ir-192 (460ke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cameras typically weigh 500 lbs vs. ~45 lbs for Ir-192 camera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forming Radiograph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osure device connected to source tube on one end and a crank-out mechanism on the other e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urce tube in positioned as needed to obtain radiograph of component (with the source itself safely housed in the exposure devic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rom as far away as possible, the radiograph turns the crank to move the source from the camera to the tip of the source tub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fter the proper exposure time (calculated based on source strength, source to film distance, and thickness of the component), the radiographer cranks the source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radiographer must use the survey meter to confirm the source fully extracted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ic Testing (RT)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Definition: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 NDT method that utilizes x-rays or gamma radiation to detect discontinuities in materials, and to present their images on recording medium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nsitivity – a measure of the quality of the image in terms of the smallest detail that may be detec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mage Quality Indicators (IQIs or penetrameters) – devices used to indicate the quality level or sensitivity of the radiograph (plaque type or wire typ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pends on contrast and defini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ntrast – degree of density difference between two areas on a radiograp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ition – degree of sharpness of the radiographic ima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des require a minimum “unsharpness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y – degree of film dark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0.01% of transmitted light reaches far side of film the density is 4.0 (based on an exponential equ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1.0% of transmitted light reaches far side of film the density is 2.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Many governing codes require densities of 2-4% (don’t want image too light or too dark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ometer – device used to measure film dens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ensity through the IQI must meet code (2-4%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lso, the density in the area of interest (the weld perhaps), must satisfy plus/minus criteri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Darkest area must have a density of not more than 30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Lightest area must have  a density of not less than 15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8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f2b20"/>
                </a:solidFill>
                <a:latin typeface="Calibri"/>
              </a:rPr>
              <a:t>Assignment…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RT Worksheet/Calculation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Densitometersa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X-Ray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discovered in 1895 by Wilhelm Roent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used by physicians to locate bullets in wounded soldi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13 – development of high vacuum x-ray tubes enabled voltages of 100,000 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creased penetrating power of x-rays led to industrial applic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31 – GE developed 1,000,000 V x-ray generato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ME approved use of x-ray to test fusion-welded pressure vesse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Natural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Henri Becquerel identified uranium as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8 – Pierre and Marie Curie discovered polonium, followed by radium (“shining” elemen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um capable of filming through 10-12” thick steel casting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sed extensively during WWII as part of U.S. Navy shipbuilding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46 – cobalt and iridium became avail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oth stronger and cheaper than radi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What is radiation?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are types of electromagnetic radiation of shorter wavelengths than visible light: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visibl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= 600 Angstroms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x-ray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= 1 A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gamma ray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= 0.0001 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orter wavelengths permit penetration through materia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y levels break chemical b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*Leads to destruction of living tiss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differ only in source of origi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detectable by human sens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not be seen, felt, heard, or smell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es no charge or ma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ferred to as photons (packets of energ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nerally travels in straight lines (can bend at material interface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haracterized by frequency, wavelength, and veloc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art of electromagnetic spectrum but not influenced by electrical or magnetic fiel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tom - the smallest particle of any element that retains the characteristics of that elemen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batomic particles – protons, electrons,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0" name="Picture 3" descr="AtomLabeledLarge.gif"/>
          <p:cNvPicPr/>
          <p:nvPr/>
        </p:nvPicPr>
        <p:blipFill>
          <a:blip r:embed="rId1"/>
          <a:stretch/>
        </p:blipFill>
        <p:spPr>
          <a:xfrm>
            <a:off x="3352680" y="2971800"/>
            <a:ext cx="26672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cp:lastPrinted>2011-10-20T14:45:59Z</cp:lastPrinted>
  <dcterms:modified xsi:type="dcterms:W3CDTF">2013-02-07T17:17:01Z</dcterms:modified>
  <cp:revision>321</cp:revision>
  <dc:subject/>
  <dc:title>Statics and Strength of Materials</dc:title>
</cp:coreProperties>
</file>