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move the slide</a:t>
            </a:r>
            <a:endParaRPr b="0" lang="en-US" sz="6300" spc="-1" strike="noStrike">
              <a:solidFill>
                <a:srgbClr val="000000"/>
              </a:solidFill>
              <a:latin typeface="Calibri"/>
            </a:endParaRPr>
          </a:p>
        </p:txBody>
      </p:sp>
      <p:sp>
        <p:nvSpPr>
          <p:cNvPr id="11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11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AA2A-6896-4834-8DF8-01D014EBE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8AAE-1865-4CDE-AE43-1DF5A3F65E65}" type="slidenum">
              <a:rPr b="0" lang="en-US" sz="1200" spc="-1" strike="noStrike">
                <a:solidFill>
                  <a:srgbClr val="000000"/>
                </a:solidFill>
                <a:latin typeface="Palatino"/>
              </a:rPr>
              <a:t>&lt;number&gt;</a:t>
            </a:fld>
            <a:endParaRPr b="0" lang="en-US" sz="1200" spc="-1" strike="noStrike">
              <a:solidFill>
                <a:srgbClr val="3f3f3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7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6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22A48-3DE9-4731-BF36-4CCAEFD9D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0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FDBAD-EB54-403E-B87F-9CAABE1F9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EB8DF-CD33-45D8-ADFF-CF232588E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2FC3D-7342-4B92-A20F-480B7AEA6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BD9B0-021D-42A3-933F-89A29B109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74F8F-6788-4725-B4FA-563745C3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E60A8-0CB1-428F-A4D9-88A94F2B3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CE7D-7FD0-4255-AB82-367BECF33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CA6E4-51DC-441B-B154-FCEE4757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4BE4B-27B4-4139-ACBF-8A33F03A7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5C3FB-1794-4DA7-A748-9815CFB56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98F01-9417-4A44-B48B-2E9D3619D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B0024-926E-499E-B9F7-E91C5AF1C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C4181-1BD5-4D10-8FD1-54E9096E9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30A51-8CB2-4B81-8119-BD03CD15F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6E80A-E5BD-46A3-A534-CBC651DED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2065F-E917-48A4-805C-7C62A601B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01378-569A-4B02-89C7-72A784F0B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DA227-93D3-47A2-A525-FA12CDED8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07402-86D7-4994-B6B7-515A135B7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E1D9F-C9ED-43D0-9CBE-AF432093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E96F2-78CA-4EDA-8CE5-2F85CB010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981E1-9343-4307-AD02-FFE9897FF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6C4E4-86E0-4487-B0C2-73527BD7D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D0D906-658E-4F06-838C-AD6AE42F9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461CE-B353-4E3C-9C2C-B6BD9E9D4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D024F-EAA6-4298-925A-F0198166C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9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AFCD43-71F4-4BB7-B147-EB99EAC99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89760-C4A0-4BD6-A7F6-D73531D19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1DCDDB-44F1-4607-A8D0-661171465A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28FDE-049D-4B9B-A757-0E179F982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C3924-80C2-4AAF-B6E6-6F22217A2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FA57F-DCB3-4E58-A3B2-1883B1D3E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4316A-0546-412C-B3FC-3533DB9F1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5ABE4D-391C-49BE-9E4E-19CE48991D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2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D17A9A-EFDC-4DAE-8BF3-9212C7478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A4B42-C4F2-4951-B8EB-0AF2113865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6734A-BD69-48B1-9D26-7EDB676EFD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205126-46AC-4833-9C9A-856AB6962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BBEE0-5F64-4805-968A-DC061E728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9120E-FD8A-4941-989F-FC4C4DE80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54FB6-C0C9-4DBB-9BE1-6C81BB4C6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23031-FAED-48EE-B311-FD2492BA9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5CD54-E8D1-4994-8E7F-797EFBA6F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5E923-249F-41CD-BC69-258B205B4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05EED7-4246-46FD-A20A-0C9BC5F9E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6CEFF8-DA7A-4B9F-B169-6C86DC1089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6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805836-0BBA-4325-B294-A4F140043A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EA0FF3-B108-4B78-BD8E-4BC92EABE1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050B2-3ECB-4E37-BB5B-20F84DCE76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AC4209-9CDB-4088-9098-2EAB377E53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87993D-56B6-4B80-88A0-2825AF1E4F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410A9-AE8A-438C-8072-5C2BFC7C4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51E9AC-1AA6-4323-A413-FF4B397A92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12B0D1-1855-4D08-A87B-5B51DF0D0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9D409-BBB2-439A-9DF6-9747CB89F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C9408-4708-4C46-9367-20397DED0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8560D3-039A-4F8D-9DB4-B8F1CE6531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21894B-174E-4051-B0E3-F6A50AD2A6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F02155-5B6A-4239-9F34-DB0C119EE8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34EEDC-93D6-4A35-A9D6-792485438E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A3722F-3052-4CA4-9850-7730FC3D95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F1DF0F-A479-4639-8349-2AC9696753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A8D486-1E99-48DE-AC11-EA77F7F1C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0BE7B7-2BDE-49BE-8FA7-C47B9D36B3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C8C45F-6585-4382-B7F6-315C4E82B8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5881C-6B21-4C71-B2FD-7C622151D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811FEB-69A0-47AA-9912-8657FCEC7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332A0-6173-4917-83F3-396CB895B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84FCFA-0376-4BAE-BA11-F869D0803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7AF479-010C-4E41-8ED2-F274F2797A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4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E3946A-5EC2-4F5E-950B-FD3D375D6B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9860FC-B92C-492C-9C49-26757A0F38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4FFC6E-DB89-4C4C-950A-4DF800E9F9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30E91-AE55-45A5-AF18-9E1F83CE0E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4BDD04-5CB1-4962-82B0-97D8116792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2D840E-4A2D-4167-BAA3-30CF5DF685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777028-66FF-4B28-8816-4035B5546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E6C3C5-D4D2-4FF0-B083-74ABD078E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B25C8-CB59-40D8-BF7E-D230EFB6E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A4085-18A1-405A-BA8E-62D037C5F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38732-9B3E-4E4E-AF49-B5A86AF29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26A9A4-250D-448C-A3C0-1327E59EF6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8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57234D-1339-4629-A749-6190CF818B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4A8289-2797-4285-AB31-856EB790C9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A8F8C0-A80E-4949-9BEF-A6C7385E52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EED46-F995-4701-BD25-ABF5903939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3C22FF-65A4-4140-8338-8BCD2467FA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F0CEEA-A79F-44FE-8C8C-95C4B170B2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5B0506-7B76-4D09-8E72-C0BD59565D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652ED-BCC9-4417-B053-62C3DD63F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1AD11D-B042-4FFC-B4B9-E807074FCE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A0EF0A-2740-4514-BE13-E9273F6E5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389EB4-A7A7-47AB-A4FC-A478C4A76A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0EAC60-2111-48A0-ACB6-DAE76AF6E2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F97AD5-6207-4746-982D-6D1418C5D1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4C225F-7F08-4898-8FEC-8B15C15D58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3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3D3C82-EBB3-4CD9-B02C-20DB368500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7D9B48-FE7D-4A14-934B-3AD401D15B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188657-5EFD-450D-A42E-6DA47D8D74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5DAE77-EE9A-4DC0-AF4F-651211DC79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C4D9DF-BB1C-4023-87DB-DBBDAAB9C3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14B256-0908-4F2D-9EDF-83FDE260BD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4E48A6-FEE6-4517-9DDD-67CB9EC277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D44F5-ED2E-4095-9A4B-098A8C029B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D0A416-6585-4FA6-BD1B-8EA9B821C3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CE0E6B-BFFC-4A01-A89A-681D8B6DC6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AF630E-579A-4C5E-A917-89B2DD7DA2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BBDDC2-F4FD-476B-A837-F6BC130E8B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32D8A2-1066-4D0D-9258-FFDD16380D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7649D6-C936-4F85-9FAD-DF6412BD61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A00565-B3DC-40DD-9A72-BD7E933B91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B89F50-69F6-45CB-A0D5-95352EA11C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115303-B295-43C9-8116-B6CAAEE7B3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E59926-D73E-49A2-8443-98800A4A97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B771FE-AD31-48A7-9A60-1E31CAFBFC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6185BF-CF9D-45F3-9F44-EEB1287FD8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6B5199-A049-4F7B-8E5A-1086E6D73E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4A91D4-5168-469A-9065-C314DE4233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3311B2-AE15-47F8-810E-D447B9BF46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9C2A3C-BAFF-40F1-BB34-5E8180BE91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8F8E08-5D63-484D-8441-6A3BC2F55A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74804C-9AF7-4FA6-8E0E-9650C3EAB1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D51AEB-2E8D-454E-9E90-805F172E92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BF5231-E832-4A2E-943C-8EFBA7956B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BB99F0-4835-44B7-BF6D-0ED0ED402A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E5EC8F-E4F2-447C-BAE8-D51B5AB55D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DC6664-5305-4569-B1B8-E1190768E8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BFA07E-1BD4-4B05-927F-915928E66B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39AF1B-DF0C-4F79-A0B7-4AD33FE315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FFD137-CEC6-45F9-B20A-64979D0A83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B85137-245F-4746-8494-65F98CECBA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8990D8-E0C7-4B83-9858-5CA872F9A3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F5F6FC-B25D-40EA-AFD7-D315844AA7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A8E724-83F7-46EE-95AE-36DAC3A5ED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CC121C-DEC6-49D8-865A-E589BF2813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2DDDF7-4AF1-4B1B-9573-55B2321759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A12EF4-7290-49EB-BD75-865D5E8C27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66A81D-0639-40DC-A91A-EA935B70E0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09AE54-CFCD-4DE7-BFB8-A34CF6B2B0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D1DA79-1729-44DF-92AD-DF48A83628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DBE1AF-BF63-4EC2-801D-C115C13721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F14313-7211-496D-86F7-6A39C0BF84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9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532F26-87AA-4442-B8B3-6CF08BEA8C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2307ABD-2996-4EED-8C21-5464F0EC29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ABA37E-DEDF-4D3A-AD2E-07BEBA3F1C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2D8182-6882-488C-8DB8-1918944AD1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E63BD0-919A-4A30-8F83-B8DF79F22F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CECAD9-BCE2-498F-A701-7E70AD7A3B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384A9D-23F7-4F26-B894-E4EC756489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35CA93-1E80-4DD5-8B77-23EA292870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D19A33-25FA-4C50-A79D-CDFBB3915D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2581BD-32B0-49D5-B4D4-5CE968B3EF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5A210B-0CD7-4F2F-838F-168A8ACD2A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016E66F-F7D5-4F04-A1DE-17763985D0D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3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8F54414-C5B7-42A2-A8BD-93A5BE03AC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5689D0-255F-4548-A8D2-F2EF3863CA8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2F65D5-0C29-4797-9048-FCCB8AB434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535E1E-66D4-4B7E-81D1-BFFBCF62A5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8EFBAE-8147-4810-9A96-9C83FB95F8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AA20A0-0C06-4FA8-8513-1EF6AA2B3A3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5BA567-C253-4145-A270-0153D91096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92A1B9-210D-402F-B3A2-E1E7C37A79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F7455E-AFE8-4509-8F5D-761415481F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5C71A4-3A61-4E71-964A-FBAB0E4911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A64566C-9309-40E0-8601-42FB39F029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B59F2CC-70EA-4365-A09A-CA2933D9A57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F2486A7-F831-4C02-B457-0653A138EDF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8000"/>
          </a:bodyPr>
          <a:p>
            <a:pPr marL="8197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Click to edit the outline text format</a:t>
            </a:r>
            <a:endParaRPr b="0" lang="en-US" sz="4300" spc="-1" strike="noStrike">
              <a:solidFill>
                <a:srgbClr val="404040"/>
              </a:solidFill>
              <a:latin typeface="Palatino"/>
            </a:endParaRPr>
          </a:p>
          <a:p>
            <a:pPr lvl="1" marL="12553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cond Outline Level</a:t>
            </a:r>
            <a:endParaRPr b="0" lang="en-US" sz="4300" spc="-1" strike="noStrike">
              <a:solidFill>
                <a:srgbClr val="404040"/>
              </a:solidFill>
              <a:latin typeface="Palatino"/>
            </a:endParaRPr>
          </a:p>
          <a:p>
            <a:pPr lvl="2" marL="16909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Third Outline Level</a:t>
            </a:r>
            <a:endParaRPr b="0" lang="en-US" sz="4300" spc="-1" strike="noStrike">
              <a:solidFill>
                <a:srgbClr val="404040"/>
              </a:solidFill>
              <a:latin typeface="Palatino"/>
            </a:endParaRPr>
          </a:p>
          <a:p>
            <a:pPr lvl="3" marL="21265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ourth Outline Level</a:t>
            </a:r>
            <a:endParaRPr b="0" lang="en-US" sz="4300" spc="-1" strike="noStrike">
              <a:solidFill>
                <a:srgbClr val="404040"/>
              </a:solidFill>
              <a:latin typeface="Palatino"/>
            </a:endParaRPr>
          </a:p>
          <a:p>
            <a:pPr lvl="4" marL="25621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ifth Outline Level</a:t>
            </a:r>
            <a:endParaRPr b="0" lang="en-US" sz="4300" spc="-1" strike="noStrike">
              <a:solidFill>
                <a:srgbClr val="404040"/>
              </a:solidFill>
              <a:latin typeface="Palatino"/>
            </a:endParaRPr>
          </a:p>
          <a:p>
            <a:pPr lvl="5"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ixth Outline Level</a:t>
            </a:r>
            <a:endParaRPr b="0" lang="en-US" sz="4300" spc="-1" strike="noStrike">
              <a:solidFill>
                <a:srgbClr val="404040"/>
              </a:solidFill>
              <a:latin typeface="Palatino"/>
            </a:endParaRPr>
          </a:p>
          <a:p>
            <a:pPr lvl="6"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venth Outline Level</a:t>
            </a:r>
            <a:endParaRPr b="0" lang="en-US" sz="43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40"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1"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379"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17"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marL="245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5"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565"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37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28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15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06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693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566"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0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05"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Times New Roman"/>
            </a:endParaRPr>
          </a:p>
        </p:txBody>
      </p:sp>
      <p:sp>
        <p:nvSpPr>
          <p:cNvPr id="606"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07"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6C932C17-5D32-4573-88F9-30BF5D836D97}"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4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46"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7"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8"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19C6-1E93-4D3D-BFCE-4E79F06DC41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8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87" name="PlaceHolder 3"/>
          <p:cNvSpPr>
            <a:spLocks noGrp="1"/>
          </p:cNvSpPr>
          <p:nvPr>
            <p:ph type="dt" idx="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688" name="PlaceHolder 4"/>
          <p:cNvSpPr>
            <a:spLocks noGrp="1"/>
          </p:cNvSpPr>
          <p:nvPr>
            <p:ph type="ftr" idx="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89" name="PlaceHolder 5"/>
          <p:cNvSpPr>
            <a:spLocks noGrp="1"/>
          </p:cNvSpPr>
          <p:nvPr>
            <p:ph type="sldNum" idx="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84C0-8363-4DB6-BD96-ED31D999C9BA}"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38"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2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28" name="PlaceHolder 3"/>
          <p:cNvSpPr>
            <a:spLocks noGrp="1"/>
          </p:cNvSpPr>
          <p:nvPr>
            <p:ph type="dt" idx="1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29" name="PlaceHolder 4"/>
          <p:cNvSpPr>
            <a:spLocks noGrp="1"/>
          </p:cNvSpPr>
          <p:nvPr>
            <p:ph type="ftr" idx="1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0" name="PlaceHolder 5"/>
          <p:cNvSpPr>
            <a:spLocks noGrp="1"/>
          </p:cNvSpPr>
          <p:nvPr>
            <p:ph type="sldNum" idx="1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9F68-C359-4943-A1B4-CF1487897EA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6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69" name="PlaceHolder 3"/>
          <p:cNvSpPr>
            <a:spLocks noGrp="1"/>
          </p:cNvSpPr>
          <p:nvPr>
            <p:ph type="dt" idx="13"/>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70" name="PlaceHolder 4"/>
          <p:cNvSpPr>
            <a:spLocks noGrp="1"/>
          </p:cNvSpPr>
          <p:nvPr>
            <p:ph type="ftr" idx="14"/>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71" name="PlaceHolder 5"/>
          <p:cNvSpPr>
            <a:spLocks noGrp="1"/>
          </p:cNvSpPr>
          <p:nvPr>
            <p:ph type="sldNum" idx="15"/>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493D-EB3D-4DB2-A590-031F5ACE6835}"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09"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10" name="PlaceHolder 3"/>
          <p:cNvSpPr>
            <a:spLocks noGrp="1"/>
          </p:cNvSpPr>
          <p:nvPr>
            <p:ph type="dt" idx="16"/>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11" name="PlaceHolder 4"/>
          <p:cNvSpPr>
            <a:spLocks noGrp="1"/>
          </p:cNvSpPr>
          <p:nvPr>
            <p:ph type="ftr" idx="17"/>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12" name="PlaceHolder 5"/>
          <p:cNvSpPr>
            <a:spLocks noGrp="1"/>
          </p:cNvSpPr>
          <p:nvPr>
            <p:ph type="sldNum" idx="18"/>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5893-ED36-4B87-B605-EFCA314BA73B}"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50"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51" name="PlaceHolder 3"/>
          <p:cNvSpPr>
            <a:spLocks noGrp="1"/>
          </p:cNvSpPr>
          <p:nvPr>
            <p:ph type="dt" idx="19"/>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52" name="PlaceHolder 4"/>
          <p:cNvSpPr>
            <a:spLocks noGrp="1"/>
          </p:cNvSpPr>
          <p:nvPr>
            <p:ph type="ftr" idx="20"/>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53" name="PlaceHolder 5"/>
          <p:cNvSpPr>
            <a:spLocks noGrp="1"/>
          </p:cNvSpPr>
          <p:nvPr>
            <p:ph type="sldNum" idx="21"/>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8E86-8214-44C5-9F43-D4359B8C1573}"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9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92" name="PlaceHolder 3"/>
          <p:cNvSpPr>
            <a:spLocks noGrp="1"/>
          </p:cNvSpPr>
          <p:nvPr>
            <p:ph type="dt" idx="22"/>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93" name="PlaceHolder 4"/>
          <p:cNvSpPr>
            <a:spLocks noGrp="1"/>
          </p:cNvSpPr>
          <p:nvPr>
            <p:ph type="ftr" idx="23"/>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94" name="PlaceHolder 5"/>
          <p:cNvSpPr>
            <a:spLocks noGrp="1"/>
          </p:cNvSpPr>
          <p:nvPr>
            <p:ph type="sldNum" idx="24"/>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8DD0-7005-4C23-A426-7946C711EEE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1" name="Picture 6" descr="RCNET.jpg"/>
          <p:cNvPicPr/>
          <p:nvPr/>
        </p:nvPicPr>
        <p:blipFill>
          <a:blip r:embed="rId3"/>
          <a:stretch/>
        </p:blipFill>
        <p:spPr>
          <a:xfrm>
            <a:off x="11550600" y="8477280"/>
            <a:ext cx="1486080" cy="1376280"/>
          </a:xfrm>
          <a:prstGeom prst="rect">
            <a:avLst/>
          </a:prstGeom>
          <a:ln w="0">
            <a:noFill/>
          </a:ln>
        </p:spPr>
      </p:pic>
      <p:pic>
        <p:nvPicPr>
          <p:cNvPr id="932" name="Picture 7" descr="IRSC_NSFPoster.jpg"/>
          <p:cNvPicPr/>
          <p:nvPr/>
        </p:nvPicPr>
        <p:blipFill>
          <a:blip r:embed="rId4"/>
          <a:stretch/>
        </p:blipFill>
        <p:spPr>
          <a:xfrm>
            <a:off x="0" y="9164520"/>
            <a:ext cx="650880" cy="509760"/>
          </a:xfrm>
          <a:prstGeom prst="rect">
            <a:avLst/>
          </a:prstGeom>
          <a:ln w="0">
            <a:noFill/>
          </a:ln>
        </p:spPr>
      </p:pic>
      <p:sp>
        <p:nvSpPr>
          <p:cNvPr id="9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3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35" name="PlaceHolder 3"/>
          <p:cNvSpPr>
            <a:spLocks noGrp="1"/>
          </p:cNvSpPr>
          <p:nvPr>
            <p:ph type="dt" idx="25"/>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36" name="PlaceHolder 4"/>
          <p:cNvSpPr>
            <a:spLocks noGrp="1"/>
          </p:cNvSpPr>
          <p:nvPr>
            <p:ph type="ftr" idx="26"/>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37" name="PlaceHolder 5"/>
          <p:cNvSpPr>
            <a:spLocks noGrp="1"/>
          </p:cNvSpPr>
          <p:nvPr>
            <p:ph type="sldNum" idx="27"/>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85B3-02D4-4639-B90D-C4AF1DB23A1B}"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7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76" name="PlaceHolder 3"/>
          <p:cNvSpPr>
            <a:spLocks noGrp="1"/>
          </p:cNvSpPr>
          <p:nvPr>
            <p:ph type="dt" idx="28"/>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77" name="PlaceHolder 4"/>
          <p:cNvSpPr>
            <a:spLocks noGrp="1"/>
          </p:cNvSpPr>
          <p:nvPr>
            <p:ph type="ftr" idx="29"/>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78" name="PlaceHolder 5"/>
          <p:cNvSpPr>
            <a:spLocks noGrp="1"/>
          </p:cNvSpPr>
          <p:nvPr>
            <p:ph type="sldNum" idx="30"/>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886D-C433-4702-8A16-2CC57803DA6B}"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17" name="PlaceHolder 3"/>
          <p:cNvSpPr>
            <a:spLocks noGrp="1"/>
          </p:cNvSpPr>
          <p:nvPr>
            <p:ph type="dt" idx="3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18" name="PlaceHolder 4"/>
          <p:cNvSpPr>
            <a:spLocks noGrp="1"/>
          </p:cNvSpPr>
          <p:nvPr>
            <p:ph type="ftr" idx="3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19" name="PlaceHolder 5"/>
          <p:cNvSpPr>
            <a:spLocks noGrp="1"/>
          </p:cNvSpPr>
          <p:nvPr>
            <p:ph type="sldNum" idx="3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C1B3-6EE6-4032-AE22-E032FDE0228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5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58" name="PlaceHolder 3"/>
          <p:cNvSpPr>
            <a:spLocks noGrp="1"/>
          </p:cNvSpPr>
          <p:nvPr>
            <p:ph type="dt" idx="34"/>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59" name="PlaceHolder 4"/>
          <p:cNvSpPr>
            <a:spLocks noGrp="1"/>
          </p:cNvSpPr>
          <p:nvPr>
            <p:ph type="ftr" idx="3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60" name="PlaceHolder 5"/>
          <p:cNvSpPr>
            <a:spLocks noGrp="1"/>
          </p:cNvSpPr>
          <p:nvPr>
            <p:ph type="sldNum" idx="3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55F4-1CCC-4274-8419-0A56482125A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9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99" name="PlaceHolder 3"/>
          <p:cNvSpPr>
            <a:spLocks noGrp="1"/>
          </p:cNvSpPr>
          <p:nvPr>
            <p:ph type="dt" idx="3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00" name="PlaceHolder 4"/>
          <p:cNvSpPr>
            <a:spLocks noGrp="1"/>
          </p:cNvSpPr>
          <p:nvPr>
            <p:ph type="ftr" idx="3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01" name="PlaceHolder 5"/>
          <p:cNvSpPr>
            <a:spLocks noGrp="1"/>
          </p:cNvSpPr>
          <p:nvPr>
            <p:ph type="sldNum" idx="3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D686-D343-407F-B6C9-0B6F8660537F}"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76"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8" name="Picture 6" descr="RCNET.jpg"/>
          <p:cNvPicPr/>
          <p:nvPr/>
        </p:nvPicPr>
        <p:blipFill>
          <a:blip r:embed="rId3"/>
          <a:stretch/>
        </p:blipFill>
        <p:spPr>
          <a:xfrm>
            <a:off x="11550600" y="8477280"/>
            <a:ext cx="1486080" cy="1376280"/>
          </a:xfrm>
          <a:prstGeom prst="rect">
            <a:avLst/>
          </a:prstGeom>
          <a:ln w="0">
            <a:noFill/>
          </a:ln>
        </p:spPr>
      </p:pic>
      <p:pic>
        <p:nvPicPr>
          <p:cNvPr id="1139" name="Picture 7" descr="IRSC_NSFPoster.jpg"/>
          <p:cNvPicPr/>
          <p:nvPr/>
        </p:nvPicPr>
        <p:blipFill>
          <a:blip r:embed="rId4"/>
          <a:stretch/>
        </p:blipFill>
        <p:spPr>
          <a:xfrm>
            <a:off x="0" y="9164520"/>
            <a:ext cx="650880" cy="509760"/>
          </a:xfrm>
          <a:prstGeom prst="rect">
            <a:avLst/>
          </a:prstGeom>
          <a:ln w="0">
            <a:noFill/>
          </a:ln>
        </p:spPr>
      </p:pic>
      <p:sp>
        <p:nvSpPr>
          <p:cNvPr id="1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14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142" name="PlaceHolder 3"/>
          <p:cNvSpPr>
            <a:spLocks noGrp="1"/>
          </p:cNvSpPr>
          <p:nvPr>
            <p:ph type="dt" idx="4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43" name="PlaceHolder 4"/>
          <p:cNvSpPr>
            <a:spLocks noGrp="1"/>
          </p:cNvSpPr>
          <p:nvPr>
            <p:ph type="ftr" idx="4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44" name="PlaceHolder 5"/>
          <p:cNvSpPr>
            <a:spLocks noGrp="1"/>
          </p:cNvSpPr>
          <p:nvPr>
            <p:ph type="sldNum" idx="4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0A7F-7C43-46E0-AA5F-868E5932610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88" name="Line 2"/>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62"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263"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01"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05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51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794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40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686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02"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Box 1"/>
          <p:cNvSpPr/>
          <p:nvPr/>
        </p:nvSpPr>
        <p:spPr>
          <a:xfrm>
            <a:off x="217440" y="1425600"/>
            <a:ext cx="12569760" cy="696276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ACADs (08-006)  Covered</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Keywords</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Interpersonal Relations, Pre-job preparation, Area controls, </a:t>
            </a:r>
            <a:r>
              <a:rPr b="0" lang="en-US" sz="2800" spc="-1" strike="noStrike">
                <a:solidFill>
                  <a:srgbClr val="3f3f3f"/>
                </a:solidFill>
                <a:latin typeface="Calibri"/>
              </a:rPr>
              <a:t>Special Considerations, Airborne Radioactivity, Airborne Controls, Airborne Monitoring, Protective Clothing, Respiratory Protection, Dosimetry, Work Documents, Radioactive Material Handling, Radioactive Waste, Shipping Radioactive Material</a:t>
            </a: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000000"/>
                </a:solidFill>
                <a:latin typeface="Calibri"/>
              </a:rPr>
              <a:t> </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p:txBody>
      </p:sp>
      <p:pic>
        <p:nvPicPr>
          <p:cNvPr id="1189" name="Title 1" descr=""/>
          <p:cNvPicPr/>
          <p:nvPr/>
        </p:nvPicPr>
        <p:blipFill>
          <a:blip r:embed="rId1"/>
          <a:stretch/>
        </p:blipFill>
        <p:spPr>
          <a:xfrm>
            <a:off x="-268200" y="0"/>
            <a:ext cx="13271400" cy="1785960"/>
          </a:xfrm>
          <a:prstGeom prst="rect">
            <a:avLst/>
          </a:prstGeom>
          <a:ln w="0">
            <a:noFill/>
          </a:ln>
        </p:spPr>
      </p:pic>
      <p:graphicFrame>
        <p:nvGraphicFramePr>
          <p:cNvPr id="1190" name=""/>
          <p:cNvGraphicFramePr/>
          <p:nvPr/>
        </p:nvGraphicFramePr>
        <p:xfrm>
          <a:off x="460440" y="1981080"/>
          <a:ext cx="12326760" cy="4711680"/>
        </p:xfrm>
        <a:graphic>
          <a:graphicData uri="http://schemas.openxmlformats.org/drawingml/2006/table">
            <a:tbl>
              <a:tblPr/>
              <a:tblGrid>
                <a:gridCol w="2536920"/>
                <a:gridCol w="1828800"/>
                <a:gridCol w="1676160"/>
                <a:gridCol w="2133720"/>
                <a:gridCol w="2057400"/>
                <a:gridCol w="2093760"/>
              </a:tblGrid>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3.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8.2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3</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0</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7</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5</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4</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4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2</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54756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69372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4.11.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1.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9" name=""/>
          <p:cNvSpPr txBox="1"/>
          <p:nvPr/>
        </p:nvSpPr>
        <p:spPr>
          <a:xfrm>
            <a:off x="1269720" y="2031840"/>
            <a:ext cx="10464840" cy="73915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utron</a:t>
            </a:r>
            <a:endParaRPr b="0" lang="en-US" sz="40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Hydrogenous material</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Water</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Oil</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Neutron absorbers</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on</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ated material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cenario</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QA walkthrough and inspection of area housekeeping and cleanliness. Includes inspection of several rooms including one room posted High Radiation Area. The inspection of the valve room is expected to take less than five minu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Remotely operated valve in the middle of an 8’x8’ room has a contact dose rate of 500 mrem/hour and a 30-cm dose rate of 150 mrem/hour.</a:t>
            </a:r>
            <a:endParaRPr b="0" lang="en-US" sz="4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valve for the insp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y or why not?</a:t>
            </a:r>
            <a:endParaRPr b="0" lang="en-US" sz="4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Homework</a:t>
            </a:r>
            <a:endParaRPr b="0" lang="en-US" sz="6300" spc="-1" strike="noStrike">
              <a:solidFill>
                <a:srgbClr val="000000"/>
              </a:solidFill>
              <a:latin typeface="Calibri"/>
            </a:endParaRPr>
          </a:p>
        </p:txBody>
      </p:sp>
      <p:pic>
        <p:nvPicPr>
          <p:cNvPr id="1217" name="Content Placeholder 3" descr="Farside___Dogs_Eat_Homework.gif"/>
          <p:cNvPicPr/>
          <p:nvPr/>
        </p:nvPicPr>
        <p:blipFill>
          <a:blip r:embed="rId1"/>
          <a:stretch/>
        </p:blipFill>
        <p:spPr>
          <a:xfrm>
            <a:off x="4140360" y="2416320"/>
            <a:ext cx="4724280" cy="615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Content Placeholder 3" descr="http://home.seacrow.com/~jace/lj/2006/01/Calvin-Hobbes-In-Your-Own-Words-thumb.jpg"/>
          <p:cNvPicPr/>
          <p:nvPr/>
        </p:nvPicPr>
        <p:blipFill>
          <a:blip r:embed="rId1"/>
          <a:stretch/>
        </p:blipFill>
        <p:spPr>
          <a:xfrm>
            <a:off x="939960" y="3276720"/>
            <a:ext cx="1089648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Disassemble pump in a High Radiation Area pump room. At any given time there will be up to five people in the room. The job is expected to take approximately two weeks from start to finish, with approximately 400 man-hours spent in the room.</a:t>
            </a:r>
            <a:endParaRPr b="0" lang="en-US" sz="4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2" name=""/>
          <p:cNvSpPr txBox="1"/>
          <p:nvPr/>
        </p:nvSpPr>
        <p:spPr>
          <a:xfrm>
            <a:off x="1447560" y="2615760"/>
            <a:ext cx="10464840" cy="6286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contains four pumps and associated piping. Several hot spots from 300 mrem/hour to 2000 mrem/hour.</a:t>
            </a:r>
            <a:endParaRPr b="0" lang="en-US" sz="4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hot spo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at factors need to be considered?</a:t>
            </a:r>
            <a:endParaRPr b="0" lang="en-US" sz="4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226" name=""/>
          <p:cNvSpPr txBox="1"/>
          <p:nvPr/>
        </p:nvSpPr>
        <p:spPr>
          <a:xfrm>
            <a:off x="1269720" y="2082960"/>
            <a:ext cx="10464840" cy="7416720"/>
          </a:xfrm>
          <a:prstGeom prst="rect">
            <a:avLst/>
          </a:prstGeom>
          <a:noFill/>
          <a:ln w="0">
            <a:noFill/>
          </a:ln>
        </p:spPr>
        <p:txBody>
          <a:bodyPr lIns="129960" rIns="129960" tIns="65160" bIns="65160" anchor="t">
            <a:normAutofit/>
          </a:bodyPr>
          <a:p>
            <a:pPr marL="887400" indent="-487440">
              <a:spcBef>
                <a:spcPts val="7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Consideration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Structural strength of the piping where shielding will be hung</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Do we shield all the hot spot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hottest one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ones closest to the work?</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Is shadow shielding possible?</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Are there other methods for reducing exposure that might work for this evolution?</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2" name=""/>
          <p:cNvSpPr txBox="1"/>
          <p:nvPr/>
        </p:nvSpPr>
        <p:spPr>
          <a:xfrm>
            <a:off x="939960" y="2768400"/>
            <a:ext cx="10921680" cy="571500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prepar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rea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ties and Responsibiliti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controls</a:t>
            </a:r>
            <a:endParaRPr b="0" lang="en-US" sz="4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8"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in-process radiological surveys to be performed under various radiological conditions, including radiation surveys, contamination surveys, and airborne radioactivity surveys.</a:t>
            </a:r>
            <a:endParaRPr b="0" lang="en-US" sz="4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ation Surveys</a:t>
            </a:r>
            <a:endParaRPr b="0" lang="en-US" sz="6300" spc="-1" strike="noStrike">
              <a:solidFill>
                <a:srgbClr val="000000"/>
              </a:solidFill>
              <a:latin typeface="Calibri"/>
            </a:endParaRPr>
          </a:p>
        </p:txBody>
      </p:sp>
      <p:sp>
        <p:nvSpPr>
          <p:cNvPr id="123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Radiation survey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stablishing area conditions and low-dose standby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Movement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centration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perating valv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ntry into previously unsurveyed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2" name=""/>
          <p:cNvSpPr txBox="1"/>
          <p:nvPr/>
        </p:nvSpPr>
        <p:spPr>
          <a:xfrm>
            <a:off x="1269720" y="2120400"/>
            <a:ext cx="10464840" cy="74041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mponents being worked on</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arby piping and componen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cations where workers are positioned</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ath to and from the work site</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w dose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Hot spo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otentially transient dose rate areas (resin lines, drain lines, movement of sources).</a:t>
            </a:r>
            <a:endParaRPr b="0" lang="en-US" sz="4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a800"/>
            </a:gs>
          </a:gsLst>
          <a:lin ang="5400000"/>
        </a:gradFill>
      </p:bgPr>
    </p:bg>
    <p:spTree>
      <p:nvGrpSpPr>
        <p:cNvPr id="1" name=""/>
        <p:cNvGrpSpPr/>
        <p:nvPr/>
      </p:nvGrpSpPr>
      <p:grpSpPr>
        <a:xfrm>
          <a:off x="0" y="0"/>
          <a:ext cx="0" cy="0"/>
          <a:chOff x="0" y="0"/>
          <a:chExt cx="0" cy="0"/>
        </a:xfrm>
      </p:grpSpPr>
      <p:pic>
        <p:nvPicPr>
          <p:cNvPr id="1233" name="Content Placeholder 3" descr="farsidegifted.gif"/>
          <p:cNvPicPr/>
          <p:nvPr/>
        </p:nvPicPr>
        <p:blipFill>
          <a:blip r:embed="rId1"/>
          <a:stretch/>
        </p:blipFill>
        <p:spPr>
          <a:xfrm>
            <a:off x="4219560" y="2276640"/>
            <a:ext cx="4565520" cy="643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amination Surveys</a:t>
            </a:r>
            <a:endParaRPr b="0" lang="en-US" sz="6300" spc="-1" strike="noStrike">
              <a:solidFill>
                <a:srgbClr val="000000"/>
              </a:solidFill>
              <a:latin typeface="Calibri"/>
            </a:endParaRPr>
          </a:p>
        </p:txBody>
      </p:sp>
      <p:sp>
        <p:nvSpPr>
          <p:cNvPr id="1235" name=""/>
          <p:cNvSpPr txBox="1"/>
          <p:nvPr/>
        </p:nvSpPr>
        <p:spPr>
          <a:xfrm>
            <a:off x="1269720" y="2616120"/>
            <a:ext cx="10464840" cy="4927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pening system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osing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ntering unsurveyed areas</a:t>
            </a:r>
            <a:endParaRPr b="0" lang="en-US" sz="4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urfaces being worked 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arby piping and compon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cations where workers are position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th to and from the work si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wly exposed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otentially contaminated surfaces </a:t>
            </a:r>
            <a:endParaRPr b="0" lang="en-US" sz="4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 Sampling</a:t>
            </a:r>
            <a:endParaRPr b="0" lang="en-US" sz="6300" spc="-1" strike="noStrike">
              <a:solidFill>
                <a:srgbClr val="000000"/>
              </a:solidFill>
              <a:latin typeface="Calibri"/>
            </a:endParaRPr>
          </a:p>
        </p:txBody>
      </p:sp>
      <p:sp>
        <p:nvSpPr>
          <p:cNvPr id="123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high contamin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with the potential to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ther work in the area or plant conditions may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ification (Negative dat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4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reathing zon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wnwind of sour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utside of posted area to verify posting</a:t>
            </a:r>
            <a:endParaRPr b="0" lang="en-US" sz="4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000000"/>
                </a:solidFill>
                <a:latin typeface="Calibri"/>
              </a:rPr>
              <a:t>Unexpected</a:t>
            </a:r>
            <a:br>
              <a:rPr sz="5700"/>
            </a:br>
            <a:r>
              <a:rPr b="0" lang="en-US" sz="5700" spc="-1" strike="noStrike">
                <a:solidFill>
                  <a:srgbClr val="000000"/>
                </a:solidFill>
                <a:latin typeface="Calibri"/>
              </a:rPr>
              <a:t>Levels</a:t>
            </a:r>
            <a:endParaRPr b="0" lang="en-US" sz="5700" spc="-1" strike="noStrike">
              <a:solidFill>
                <a:srgbClr val="000000"/>
              </a:solidFill>
              <a:latin typeface="Calibri"/>
            </a:endParaRPr>
          </a:p>
        </p:txBody>
      </p:sp>
      <p:sp>
        <p:nvSpPr>
          <p:cNvPr id="124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dose ra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contamination levels</a:t>
            </a:r>
            <a:endParaRPr b="0" lang="en-US" sz="4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do you do?</a:t>
            </a:r>
            <a:endParaRPr b="0" lang="en-US" sz="6300" spc="-1" strike="noStrike">
              <a:solidFill>
                <a:srgbClr val="000000"/>
              </a:solidFill>
              <a:latin typeface="Calibri"/>
            </a:endParaRPr>
          </a:p>
        </p:txBody>
      </p:sp>
      <p:sp>
        <p:nvSpPr>
          <p:cNvPr id="124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evaluate</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Dosimetry</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trol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hielding</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urvey frequencie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PE requirements</a:t>
            </a:r>
            <a:endParaRPr b="0" lang="en-US" sz="4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sid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Monitor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a:t>
            </a:r>
            <a:endParaRPr b="0" lang="en-US" sz="4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Else?</a:t>
            </a:r>
            <a:endParaRPr b="0" lang="en-US" sz="6300" spc="-1" strike="noStrike">
              <a:solidFill>
                <a:srgbClr val="000000"/>
              </a:solidFill>
              <a:latin typeface="Calibri"/>
            </a:endParaRPr>
          </a:p>
        </p:txBody>
      </p:sp>
      <p:sp>
        <p:nvSpPr>
          <p:cNvPr id="124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view available dose of crew</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sider stopping the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ay need a new RWP</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urvey with a different instrument</a:t>
            </a:r>
            <a:endParaRPr b="0" lang="en-US" sz="4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49" name="Judgement3.wmv" descr=""/>
          <p:cNvPicPr/>
          <p:nvPr/>
        </p:nvPicPr>
        <p:blipFill>
          <a:blip r:embed="rId1"/>
          <a:stretch/>
        </p:blipFill>
        <p:spPr>
          <a:xfrm>
            <a:off x="3301920" y="3352680"/>
            <a:ext cx="5994360" cy="44960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1916"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49"/>
                    </p:tgtEl>
                  </p:cond>
                </p:stCondLst>
                <p:childTnLst>
                  <p:par>
                    <p:cTn id="8" nodeType="clickEffect" fill="hold">
                      <p:stCondLst>
                        <p:cond evt="onClick">
                          <p:tgtEl>
                            <p:spTgt spid="124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roper job coverage and radiological protection measures for high-exposure jobs and potential high-exposure jobs, such as the following:</a:t>
            </a:r>
            <a:endParaRPr b="0" lang="en-US" sz="4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team generator maintenance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coolant pump seal replacement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water cleanup pump maintenance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circulation pump seal replacement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internal pump maintenance (ABWR) </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 rod driver maintenance (BWR and A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ving op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resin transfer operations</a:t>
            </a:r>
            <a:endParaRPr b="0" lang="en-US" sz="4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fuel move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ore detector maintenan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or around the spent fuel pool</a:t>
            </a:r>
            <a:endParaRPr b="0" lang="en-US" sz="4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actions required when personnel leave a work site upon completion of radiological work, such as:</a:t>
            </a:r>
            <a:endParaRPr b="0" lang="en-US" sz="4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6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ckaging, marking, and transferring contaminated tools, equipment, and trash</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moving protective clothing</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onitoring for contamina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turning special dosimetry</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gning out of the RWP</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tifying radiological protections personnel of job comple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63" name="Judgement5.wmv" descr=""/>
          <p:cNvPicPr/>
          <p:nvPr/>
        </p:nvPicPr>
        <p:blipFill>
          <a:blip r:embed="rId1"/>
          <a:stretch/>
        </p:blipFill>
        <p:spPr>
          <a:xfrm>
            <a:off x="5283360" y="4579920"/>
            <a:ext cx="2438280" cy="1828800"/>
          </a:xfrm>
          <a:prstGeom prst="rect">
            <a:avLst/>
          </a:prstGeom>
          <a:ln w="0">
            <a:noFill/>
          </a:ln>
        </p:spPr>
      </p:pic>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29866"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263"/>
                    </p:tgtEl>
                  </p:cond>
                </p:stCondLst>
                <p:childTnLst>
                  <p:par>
                    <p:cTn id="19" nodeType="clickEffect" fill="hold">
                      <p:stCondLst>
                        <p:cond evt="onClick">
                          <p:tgtEl>
                            <p:spTgt spid="126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lant access control procedures for entry into the following for the performance of work:</a:t>
            </a:r>
            <a:endParaRPr b="0" lang="en-US" sz="4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6"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Docu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Material Handl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Was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pping Radioactive Material</a:t>
            </a:r>
            <a:endParaRPr b="0" lang="en-US" sz="4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l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Area</a:t>
            </a:r>
            <a:endParaRPr b="0" lang="en-US" sz="4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y 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 area</a:t>
            </a:r>
            <a:endParaRPr b="0" lang="en-US" sz="46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quirements for conducting prejob briefings for radiological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lude discussion of the following:</a:t>
            </a:r>
            <a:endParaRPr b="0" lang="en-US" sz="46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en are briefings requir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requency of briefings for ongoing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quired attendance (who has to be ther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tems to be dicuss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mportance of resolving all questions</a:t>
            </a:r>
            <a:endParaRPr b="0" lang="en-US" sz="46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scope changes from RWP.</a:t>
            </a:r>
            <a:endParaRPr b="0" lang="en-US" sz="46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location differs from RWP.</a:t>
            </a:r>
            <a:endParaRPr b="0" lang="en-US" sz="4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importance of Stop Work Author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priate use of Stop Work Authority</a:t>
            </a:r>
            <a:endParaRPr b="0" lang="en-US" sz="4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81" name="judgement6.wmv" descr=""/>
          <p:cNvPicPr/>
          <p:nvPr/>
        </p:nvPicPr>
        <p:blipFill>
          <a:blip r:embed="rId1"/>
          <a:stretch/>
        </p:blipFill>
        <p:spPr>
          <a:xfrm>
            <a:off x="3454560" y="3429000"/>
            <a:ext cx="6095880" cy="457200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29910"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281"/>
                    </p:tgtEl>
                  </p:cond>
                </p:stCondLst>
                <p:childTnLst>
                  <p:par>
                    <p:cTn id="30" nodeType="clickEffect" fill="hold">
                      <p:stCondLst>
                        <p:cond evt="onClick">
                          <p:tgtEl>
                            <p:spTgt spid="128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s used to invoke radiological protection requirements, such as</a:t>
            </a:r>
            <a:endParaRPr b="0" lang="en-US" sz="46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 </a:t>
            </a:r>
            <a:r>
              <a:rPr b="0" lang="en-US" sz="4600" spc="-1" strike="noStrike">
                <a:solidFill>
                  <a:srgbClr val="000000"/>
                </a:solidFill>
                <a:latin typeface="Calibri"/>
              </a:rPr>
              <a:t>Steps in written procedur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work permi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s from the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 from radiological protection personnel.</a:t>
            </a:r>
            <a:endParaRPr b="0" lang="en-US" sz="4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371240" y="279000"/>
            <a:ext cx="10464840" cy="17146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198" name=""/>
          <p:cNvSpPr txBox="1"/>
          <p:nvPr/>
        </p:nvSpPr>
        <p:spPr>
          <a:xfrm>
            <a:off x="1371240" y="2285640"/>
            <a:ext cx="10464840" cy="782316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ook Report: Dale Carnegie How to Win Friends and Influence People</a:t>
            </a:r>
            <a:endParaRPr b="0" lang="en-US" sz="4600" spc="-1" strike="noStrike">
              <a:solidFill>
                <a:srgbClr val="000000"/>
              </a:solidFill>
              <a:latin typeface="Calibri"/>
            </a:endParaRPr>
          </a:p>
        </p:txBody>
      </p:sp>
      <p:pic>
        <p:nvPicPr>
          <p:cNvPr id="1199" name="Picture 2" descr=""/>
          <p:cNvPicPr/>
          <p:nvPr/>
        </p:nvPicPr>
        <p:blipFill>
          <a:blip r:embed="rId1"/>
          <a:stretch/>
        </p:blipFill>
        <p:spPr>
          <a:xfrm>
            <a:off x="9105840" y="2120760"/>
            <a:ext cx="2416320" cy="375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esponsibilities of the following personnel regarding specifying, complying with, monitoring, and enforcing radiological protection and ALARA requirements:</a:t>
            </a:r>
            <a:endParaRPr b="0" lang="en-US" sz="46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Protection Technicia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T Supervisor</a:t>
            </a:r>
            <a:endParaRPr b="0" lang="en-US" sz="4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conditions under which each of the following is to be invoked during radiological work:</a:t>
            </a:r>
            <a:endParaRPr b="0" lang="en-US" sz="4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RPT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mittent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 technician present at start of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dvanced radiation worker coverage</a:t>
            </a:r>
            <a:endParaRPr b="0" lang="en-US" sz="46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e-job radiological survey requirements for the work operation to be performed. Based on the results of the pre-job surveys and the scope of work, identify or evaluate the need for the following:</a:t>
            </a:r>
            <a:endParaRPr b="0" lang="en-US" sz="4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rmal ALARA review</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brief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 placement</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trols f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contro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xposure reduc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irborne</a:t>
            </a:r>
            <a:endParaRPr b="0" lang="en-US" sz="3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coverag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process survey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hold points</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tions to control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pecial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rea 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water, or keep surface wet</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utions to be used to minimize the spread of radioactive contamination</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tective cloth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isposable coverings in job site preparation</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special precautions to control or reduce exposures,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stay times and timekeep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inuous coverag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larming dosimeters or dose rate met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emporary shield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ow dose waiting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al of sources</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endParaRPr b="0" lang="en-US" sz="6300" spc="-1" strike="noStrike">
              <a:solidFill>
                <a:srgbClr val="000000"/>
              </a:solidFill>
              <a:latin typeface="Calibri"/>
            </a:endParaRPr>
          </a:p>
        </p:txBody>
      </p:sp>
      <p:sp>
        <p:nvSpPr>
          <p:cNvPr id="1201" name=""/>
          <p:cNvSpPr txBox="1"/>
          <p:nvPr/>
        </p:nvSpPr>
        <p:spPr>
          <a:xfrm>
            <a:off x="1269720" y="2044440"/>
            <a:ext cx="10464840" cy="7365960"/>
          </a:xfrm>
          <a:prstGeom prst="rect">
            <a:avLst/>
          </a:prstGeom>
          <a:noFill/>
          <a:ln w="0">
            <a:noFill/>
          </a:ln>
        </p:spPr>
        <p:txBody>
          <a:bodyPr lIns="129960" rIns="129960" tIns="65160" bIns="65160" anchor="t">
            <a:normAutofit/>
          </a:bodyPr>
          <a:p>
            <a:pPr marL="1344600" indent="-487440">
              <a:spcBef>
                <a:spcPts val="1151"/>
              </a:spcBef>
              <a:buClr>
                <a:srgbClr val="000000"/>
              </a:buClr>
              <a:buFont typeface="Arial"/>
              <a:buChar char="•"/>
              <a:tabLst>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and demonstrate the interpersonal skills required for successful performance of duties in the following situations:</a:t>
            </a:r>
            <a:endParaRPr b="0" lang="en-US" sz="4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Job coverage</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tellite 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aling with problems during work coverage</a:t>
            </a:r>
            <a:endParaRPr b="0" lang="en-US" sz="36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isotopes of primary concern for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3, Co-58, Co-60, Cs-134, Cs-137, I-131</a:t>
            </a:r>
            <a:endParaRPr b="0" lang="en-US" sz="3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equirements for posting airborne radioactivity areas (10CFR20)</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between different types of airborne radioactivity (particulate, iodine, tritium and noble gas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in monitoring different types of airborne radioactivity </a:t>
            </a:r>
            <a:endParaRPr b="0" lang="en-US" sz="4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1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 for determining the derived air concentration (DAC), DAC-hours, and annual limit on intake (ALI) for a worker in an airborne radioactivity area.</a:t>
            </a:r>
            <a:endParaRPr b="0" lang="en-US" sz="4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work situations and practices that could produce airborne radioactivity,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Opening a contaminated system</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ing in highly contaminated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utting, grinding, or welding on contaminated surfa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aks from contaminated systems</a:t>
            </a:r>
            <a:endParaRPr b="0" lang="en-US" sz="36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trols that can reduce exposure to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Filtered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air lea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 water or keep work wet</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spirator (last resort)</a:t>
            </a:r>
            <a:endParaRPr b="0" lang="en-US" sz="36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low-volume, high-volume, and lapel air sampl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and when each is used.</a:t>
            </a:r>
            <a:endParaRPr b="0" lang="en-US" sz="46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differences between paper filters and charcoal filters and when each is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purpose of using a continuous air monitor and identify situation in which continuous air monitors are to be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rends in airborne radioactivity based on sampling results</a:t>
            </a:r>
            <a:endParaRPr b="0" lang="en-US" sz="46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2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methods for tracking exposure to airborne radioactivity,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vels at which monitoring is require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mpling requiremen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protection fac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cumentation of exposur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imekeep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orting and summing exposures</a:t>
            </a:r>
            <a:endParaRPr b="0" lang="en-US" sz="36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323" name="Judgement4.wmv" descr=""/>
          <p:cNvPicPr/>
          <p:nvPr/>
        </p:nvPicPr>
        <p:blipFill>
          <a:blip r:embed="rId1"/>
          <a:stretch/>
        </p:blipFill>
        <p:spPr>
          <a:xfrm>
            <a:off x="2997360" y="2971800"/>
            <a:ext cx="6400800" cy="480060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3329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323"/>
                    </p:tgtEl>
                  </p:cond>
                </p:stCondLst>
                <p:childTnLst>
                  <p:par>
                    <p:cTn id="41" nodeType="clickEffect" fill="hold">
                      <p:stCondLst>
                        <p:cond evt="onClick">
                          <p:tgtEl>
                            <p:spTgt spid="1323"/>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determining the need for and type of protective cloth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osition of the worker</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airborne radioactivity</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liqui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y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nvironmental conditions and “total risk.”</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he use of temporary shielding for specific jobs applic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elding for different radiation types</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Alph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Paper</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ayer of dead skin</a:t>
            </a:r>
            <a:endParaRPr b="0" lang="en-US" sz="3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measures to take when protective clothing is used in conditions that could result in heat stress.</a:t>
            </a:r>
            <a:endParaRPr b="0" lang="en-US" sz="4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2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protection factor (10CFR20)</a:t>
            </a:r>
            <a:endParaRPr b="0" lang="en-US" sz="46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otection factors, advantages and disadvantages of the following respirator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Nega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posi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airlin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line (bubble) hood respirator</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lf-contained breathing apparatu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quirements and individual must meet before being issued a respirat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in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hysical ex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Quantitative fit test</a:t>
            </a:r>
            <a:endParaRPr b="0" lang="en-US" sz="36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ditions under which each type of respiratory protection must be used</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xygen deficiency?</a:t>
            </a:r>
            <a:endParaRPr b="0" lang="en-US" sz="40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IDLH?</a:t>
            </a:r>
            <a:endParaRPr b="0" lang="en-US" sz="40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51" dur="2000"/>
                                        <p:tgtEl>
                                          <p:spTgt spid="133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56" dur="2000"/>
                                        <p:tgtEl>
                                          <p:spTgt spid="133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61" dur="2000"/>
                                        <p:tgtEl>
                                          <p:spTgt spid="1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that determine the need for and type of respiratory equipment to be used during radiological work such as:</a:t>
            </a:r>
            <a:endParaRPr b="0" lang="en-US" sz="4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airborne radio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ion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et or dr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on factor</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ration of the job</a:t>
            </a:r>
            <a:endParaRPr b="0" lang="en-US" sz="46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4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work being performed (welding, grinding, cutt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e impact of decreased worker efficiency, resulting in increased whole body exposur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pplicability of portable ventilation instead of respirators</a:t>
            </a:r>
            <a:endParaRPr b="0" lang="en-US" sz="4600" spc="-1" strike="noStrike">
              <a:solidFill>
                <a:srgbClr val="000000"/>
              </a:solidFill>
              <a:latin typeface="Calibri"/>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
                                  <p:stCondLst>
                                    <p:cond delay="0"/>
                                  </p:stCondLst>
                                  <p:childTnLst>
                                    <p:set>
                                      <p:cBhvr>
                                        <p:cTn id="93"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43" name="Medieval IT Help Desk.wmv" descr=""/>
          <p:cNvPicPr/>
          <p:nvPr/>
        </p:nvPicPr>
        <p:blipFill>
          <a:blip r:embed="rId1"/>
          <a:stretch/>
        </p:blipFill>
        <p:spPr>
          <a:xfrm>
            <a:off x="5283360" y="4579920"/>
            <a:ext cx="2438280" cy="1828800"/>
          </a:xfrm>
          <a:prstGeom prst="rect">
            <a:avLst/>
          </a:prstGeom>
          <a:ln w="0">
            <a:noFill/>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56897"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343"/>
                    </p:tgtEl>
                  </p:cond>
                </p:stCondLst>
                <p:childTnLst>
                  <p:par>
                    <p:cTn id="109" nodeType="clickEffect" fill="hold">
                      <p:stCondLst>
                        <p:cond evt="onClick">
                          <p:tgtEl>
                            <p:spTgt spid="1343"/>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the type and location of whole-body dosimetry is determined for body position and dose rate gradient</a:t>
            </a: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5"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Bet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ow Z-number material</a:t>
            </a:r>
            <a:endParaRPr b="0" lang="en-US" sz="34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Plastic</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Aluminum</a:t>
            </a:r>
            <a:endParaRPr b="0" lang="en-US" sz="28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criteria used to determine tha need for multiple badging or for extremity monitor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use of lapel air samples</a:t>
            </a:r>
            <a:endParaRPr b="0" lang="en-US" sz="46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4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radiation work permits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standing” and job-specific RWPs</a:t>
            </a:r>
            <a:endParaRPr b="0" lang="en-US" sz="4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a:t>
            </a:r>
            <a:r>
              <a:rPr b="0" lang="en-US" sz="3600" spc="-1" strike="noStrike">
                <a:solidFill>
                  <a:srgbClr val="000000"/>
                </a:solidFill>
                <a:latin typeface="Calibri"/>
              </a:rPr>
              <a:t>d</a:t>
            </a:r>
            <a:r>
              <a:rPr b="0" lang="en-US" sz="4600" spc="-1" strike="noStrike">
                <a:solidFill>
                  <a:srgbClr val="000000"/>
                </a:solidFill>
                <a:latin typeface="Calibri"/>
              </a:rPr>
              <a:t>entify the information to be included on an RWP,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co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condition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e ac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spo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uthorized personne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imetry requirements</a:t>
            </a:r>
            <a:endParaRPr b="0" lang="en-US" sz="36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WP expiration da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coverage and notification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precautions, limitations and restrictions</a:t>
            </a:r>
            <a:endParaRPr b="0" lang="en-US" sz="46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having each worker read and sign the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monstrate actions that should be taken if radiological conditions at the job site are significantly different from those shown on the RWP</a:t>
            </a:r>
            <a:endParaRPr b="0" lang="en-US" sz="46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57" name="bow fell off.wmv" descr=""/>
          <p:cNvPicPr/>
          <p:nvPr/>
        </p:nvPicPr>
        <p:blipFill>
          <a:blip r:embed="rId1"/>
          <a:stretch/>
        </p:blipFill>
        <p:spPr>
          <a:xfrm>
            <a:off x="3454560" y="3124080"/>
            <a:ext cx="6095880" cy="457200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mediacall" presetID="1">
                                  <p:stCondLst>
                                    <p:cond delay="0"/>
                                  </p:stCondLst>
                                  <p:childTnLst>
                                    <p:cmd type="call" cmd="playFrom(0.0)">
                                      <p:cBhvr>
                                        <p:cTn id="118" dur="121799"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357"/>
                    </p:tgtEl>
                  </p:cond>
                </p:stCondLst>
                <p:childTnLst>
                  <p:par>
                    <p:cTn id="120" nodeType="clickEffect" fill="hold">
                      <p:stCondLst>
                        <p:cond evt="onClick">
                          <p:tgtEl>
                            <p:spTgt spid="1357"/>
                          </p:tgtEl>
                        </p:cond>
                      </p:stCondLst>
                      <p:childTnLst>
                        <p:par>
                          <p:cTn id="121" nodeType="withEffect" fill="hold">
                            <p:stCondLst>
                              <p:cond delay="0"/>
                            </p:stCondLst>
                            <p:childTnLst>
                              <p:par>
                                <p:cTn id="122" nodeType="clickEffect" fill="hold" presetClass="mediacall" presetID="2">
                                  <p:stCondLst>
                                    <p:cond delay="0"/>
                                  </p:stCondLst>
                                  <p:childTnLst>
                                    <p:cmd type="call" cmd="togglePause">
                                      <p:cBhvr>
                                        <p:cTn id="123" dur="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5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ackaging, marking and labeling requirements for storing radioactive materials.</a:t>
            </a:r>
            <a:endParaRPr b="0" lang="en-US" sz="4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NRC-licensed radioactive materials that require special controls, and discuss the controls requir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val and posting requirements for radioactive material areas and radioactive material storage areas.</a:t>
            </a:r>
            <a:endParaRPr b="0" lang="en-US" sz="4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special precautions and restrictions for storing radioactive materials outdoors.</a:t>
            </a:r>
            <a:endParaRPr b="0" lang="en-US" sz="46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5" name=""/>
          <p:cNvSpPr txBox="1"/>
          <p:nvPr/>
        </p:nvSpPr>
        <p:spPr>
          <a:xfrm>
            <a:off x="1269720" y="2133360"/>
            <a:ext cx="10464840" cy="739116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controls over radioactive effluent releases,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iquid and gaseous radioactivity release path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ation monitors to detect and measure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cedure controls and records associated with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DAC and technical specification (tech spec) limi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environmental “tech specs”</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7"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Gamm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High Z-Number materia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ead</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Stee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Depleted Uranium</a:t>
            </a:r>
            <a:endParaRPr b="0" lang="en-US" sz="3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lant systems for storing and processing radioactive liquid was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vapora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olidification of evaporated bottom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nsfer of demineralizer resin to shipping cas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watering and solidification of resin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adiological protection requirements for operating a radioactive waste compactor</a:t>
            </a:r>
            <a:endParaRPr b="0" lang="en-US" sz="46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echniques for reducing the volume of radioactive solid waste generated, such as:</a:t>
            </a:r>
            <a:endParaRPr b="0" lang="en-US" sz="46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Minimize material entering radiological area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egregating non-radioactive wast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use cloth rags, shoe covers, bags, PC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mpac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Tool Room</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e packing materials outside the radiologically restricted area</a:t>
            </a:r>
            <a:endParaRPr b="0" lang="en-US" sz="36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37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gulations and procedures for shipping and receiving radioactive materials</a:t>
            </a:r>
            <a:endParaRPr b="0" lang="en-US" sz="46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7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the following terms related to shipping radioactive material:</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A and Type B</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w Specific 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imited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empt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Form and Normal Form</a:t>
            </a:r>
            <a:endParaRPr b="0" lang="en-US" sz="46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8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gulatory limits for radiation levels and contamination levels for packages and vehicles while in transit.</a:t>
            </a:r>
            <a:endParaRPr b="0" lang="en-US" sz="4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ggy's Computer</dc:creator>
  <dc:description/>
  <dc:language>en-US</dc:language>
  <cp:lastModifiedBy>Peggy Hines IRSC</cp:lastModifiedBy>
  <dcterms:modified xsi:type="dcterms:W3CDTF">2013-02-12T20:01:14Z</dcterms:modified>
  <cp:revision>29</cp:revision>
  <dc:subject/>
  <dc:title>Radioactive Material Handling</dc:title>
</cp:coreProperties>
</file>