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C426-2F25-4475-9282-F5A6102C1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edit other slides, use Arial (Headings) 36 flush left for titles and Arial (Body) 24 for body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FFDF-7525-4ECB-BD29-C6CC65FB8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BBCB-400A-4AA2-9EB4-FF39161E9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E40-C975-471B-837F-BAF39EBB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6F2-C892-4E40-81E9-08768A1F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6045-D8B8-4FDE-9BDA-C62B0468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2AC-07D5-4F5D-A25F-7B1B877E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35A6-00EB-44D2-ACFE-414E4944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369E-75EB-41B2-8004-FCDE6835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505B-7D4A-4744-B480-CD18258F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5E68-7A8B-4CA9-97C7-18317455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E2A9-EEA5-412A-B2E4-2E30E0CD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B673-3512-49BE-8B40-2228E100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4F63-F651-4A61-9B03-682A470E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3BC-A236-456A-86C3-6CCF36D0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EB48-4A4F-4937-BA63-7EE629CC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59FB-C754-4657-9B61-44E16A47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058C-39A2-406D-8B5C-9797FA6B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BD4E-6C01-4CC8-B651-C307377D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20A2-0EC5-4965-8BCB-45A2219F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D5E-EE13-4595-8FCB-CE8F236F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C64-A398-4959-973C-8A923743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F92-79AA-44D4-9F75-28C3D761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967-78C3-49E7-8F25-A1B6CD8C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E091-BAC4-4239-9D8D-3F52FDC3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3E0-9CC8-491F-818C-84A26318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10B6-3984-41EC-A59B-42BDF1FA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D7F4-4082-4C1D-BE32-BA365168E8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6580-AD4C-4342-A112-F6E8FAC7E9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152280" y="10288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w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smic terrestrial internal radiation, uranium, thorium, radium, curie, becquerel, roentgen, dose, RAD, REM, x-rays, gamma, beta, alpha, fission fragments,  mrad,  tissue, organ,  affect on cells, blood,  whole body exposure,  acute, chronic,  genetic,  body burden, time distance shielding, gon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is module examines the affects of short and long term exposure to all types of radi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280" y="1600200"/>
          <a:ext cx="8107560" cy="1515960"/>
        </p:xfrm>
        <a:graphic>
          <a:graphicData uri="http://schemas.openxmlformats.org/drawingml/2006/table">
            <a:tbl>
              <a:tblPr/>
              <a:tblGrid>
                <a:gridCol w="1351080"/>
                <a:gridCol w="1351080"/>
                <a:gridCol w="1350720"/>
                <a:gridCol w="1352520"/>
                <a:gridCol w="1351080"/>
                <a:gridCol w="1351080"/>
              </a:tblGrid>
              <a:tr h="40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F023-9F88-4A64-A322-5BBCEFF1A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inous watches (trit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tern mantles (thor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bacco (polonium-21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hthalmic glass used in eyegla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eram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B244-71BE-43EC-9826-3322D9026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ly Exposed Individuals (Work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 radiography (X-ray imag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medicine depart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logy (medical imaging, X-rays, et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oncology (cancer treat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power pl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fuel cycle 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and university research laborator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e Material Qua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ie :: the amount of radioactive material decaying at 2.22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minute or 3.7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.7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ays per second (d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querel :: the amount of radioactive material decaying at 1 decay per seco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Bq = 1 d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7744-502C-47AC-9A2F-961CE7E40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0F37-9003-464A-B877-C4CBE1771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fully described by decay rate of radioactive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factors must consid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oentgen (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2189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gamma or x-ray interactions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energy deposition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ty of x-ray or gamma radiation producing 1 esu of charge (positive or negative) in 1 cc (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f dry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u = electrostatic unit of ch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ionizing event = addition or removal of 1 electron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s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2.0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on p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88 erg/gram energy deposition in 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g = unit of work or ener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oesn’t relate to biological dam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FE23-77EA-4BA8-B6CB-0B2CBA889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57200" y="5032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Absorbed Dose (RAD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= Total amount of energy delivered to a specific area or organ by rad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 = dose units per unit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is an amount of any type of ionizing radiation that deposits 100 ergs/gram i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= 100 ergs/gram energy deposition (tiss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ifferent types of ionizing radiation might have the same energy, but have totally different effects o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38EF-1709-4C64-A1F8-64D5CC5E2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1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oentgen Equivalent Man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(REM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mount of ionizing radiation required to produce the same biological effect as one rad of high-penetration x-r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dose in rem is referred to as the dose equivalent (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(rem) = Dose (rad)  x 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Factor (Q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s for differences in biological effect for different type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688E-7B5D-494B-A75C-35F7DF66F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lity Fa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3808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amma, X-Rays, and High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 rad =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lpha, Proton, Neutron, and Low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ad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em = 1 rad *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C1A7-F065-4331-9277-3912887C7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19320" y="3591000"/>
          <a:ext cx="6232320" cy="3051000"/>
        </p:xfrm>
        <a:graphic>
          <a:graphicData uri="http://schemas.openxmlformats.org/drawingml/2006/table">
            <a:tbl>
              <a:tblPr/>
              <a:tblGrid>
                <a:gridCol w="3116160"/>
                <a:gridCol w="3116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136"/>
          <p:cNvSpPr/>
          <p:nvPr/>
        </p:nvSpPr>
        <p:spPr>
          <a:xfrm>
            <a:off x="0" y="24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1219320" y="3895560"/>
            <a:ext cx="6219720" cy="914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219320" y="4838760"/>
            <a:ext cx="6221160" cy="1792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t Radiation Ty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8760" y="823680"/>
            <a:ext cx="876312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logical effect of any radiation is related to rate at which radiation transfers energy to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of the interaction density along radiation travel p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ivalent to ionization potential or stopping power of body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sely proportional to radiation 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 range particles like alphas have a high 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damaging types of radiation to a biological system are those with a high 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LET radiation deposits all of its energy in a short distance of tra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530E-76A7-49CC-9EA1-2C040A95F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increases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mass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charge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energy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of decreasing L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sion fra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ass number nucl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pha part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0810-447D-4D75-8754-5E53F70B2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Different Radiatio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F374-FF6D-438A-8B81-C9AE7FA05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ources of Radiation Exposure in the U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8"/>
          <p:cNvGraphicFramePr/>
          <p:nvPr/>
        </p:nvGraphicFramePr>
        <p:xfrm>
          <a:off x="1031760" y="993600"/>
          <a:ext cx="6672240" cy="54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993600"/>
                    <a:ext cx="667224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onship between LET and Q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B0D5-8D06-4C0B-9B76-2DA35020F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80880" y="990720"/>
          <a:ext cx="8382240" cy="518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21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AR ENERGY TRANSF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LET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eV/micron in water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QF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or les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– 7.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– 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0 – 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– 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- 5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– 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– 1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- 2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8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2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tal dose of alpha particles to an individual is three rad.  Calculate the dose equivalent in rem using the appropriate Quality Factor (QF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23A5-6076-45AD-92C0-B60D3E41C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"/>
              <p:cNvSpPr txBox="1"/>
              <p:nvPr/>
            </p:nvSpPr>
            <p:spPr>
              <a:xfrm>
                <a:off x="162000" y="3570120"/>
                <a:ext cx="3638520" cy="31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04" name=""/>
          <p:cNvGraphicFramePr/>
          <p:nvPr/>
        </p:nvGraphicFramePr>
        <p:xfrm>
          <a:off x="4179960" y="3589200"/>
          <a:ext cx="4767120" cy="3051360"/>
        </p:xfrm>
        <a:graphic>
          <a:graphicData uri="http://schemas.openxmlformats.org/drawingml/2006/table">
            <a:tbl>
              <a:tblPr/>
              <a:tblGrid>
                <a:gridCol w="2790720"/>
                <a:gridCol w="1976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3840" y="814320"/>
            <a:ext cx="902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measured by instruments, an individual was exposed to radiation field consisting of 5 mrad gamma, 2 mrad beta, and 5 mrad fast neutrons. Calculate the dose equivalent in r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C18E-5531-49BC-8D70-AC8B550EA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"/>
              <p:cNvSpPr txBox="1"/>
              <p:nvPr/>
            </p:nvSpPr>
            <p:spPr>
              <a:xfrm>
                <a:off x="419040" y="2255760"/>
                <a:ext cx="4135320" cy="401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d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5742000" y="3521160"/>
          <a:ext cx="3273480" cy="3051000"/>
        </p:xfrm>
        <a:graphic>
          <a:graphicData uri="http://schemas.openxmlformats.org/drawingml/2006/table">
            <a:tbl>
              <a:tblPr/>
              <a:tblGrid>
                <a:gridCol w="2790720"/>
                <a:gridCol w="482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logical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– basic unit of the human 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ssue - cells with similar structure performing sam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– cells with different structure (different tissues) performing similar overall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 – group of organs performing common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BE4A-BC5F-4BD6-897A-9C713D32E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58D4-7F51-480D-993F-9F2C8E0E0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cell from external influences, such as tox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keep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%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convert nutrients into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of biochemical reactions for bodil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rcRect l="0" t="15406" r="29839" b="16427"/>
          <a:stretch/>
        </p:blipFill>
        <p:spPr>
          <a:xfrm>
            <a:off x="4491000" y="3860640"/>
            <a:ext cx="4653000" cy="2826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5529240" y="766800"/>
            <a:ext cx="361476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sic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ough endoplasmic reticulum (E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ntrioles within centr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036880" y="6176880"/>
            <a:ext cx="3165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 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3937-03CA-4E6A-B38E-96C3CED80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instructions f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d within chromoso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nds of amino acids (deoxyribonucleic acids – 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bodily function if damaged or mal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1"/>
          <a:srcRect l="2859" t="20147" r="43381" b="12370"/>
          <a:stretch/>
        </p:blipFill>
        <p:spPr>
          <a:xfrm>
            <a:off x="4419720" y="1236600"/>
            <a:ext cx="4724280" cy="37051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6878520" y="4890960"/>
            <a:ext cx="2265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EE11-71DD-4FBE-A37C-1D554DFFF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57200" y="74520"/>
            <a:ext cx="82296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Segment of DNA St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rcRect l="520" t="21499" r="48358" b="10002"/>
          <a:stretch/>
        </p:blipFill>
        <p:spPr>
          <a:xfrm>
            <a:off x="660240" y="939960"/>
            <a:ext cx="6634440" cy="55562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7532640" y="55148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 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4983-39D4-4C9F-A928-EFC1E27AB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76040" y="1382400"/>
            <a:ext cx="87919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tom (either neutral or charged) with unpaired electrons that wants to join with another atom to stabilize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cals that have not yet bonded with other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reactive atoms or chemical compounds that can alter existing state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cellular chemistry are the root causes of all the harmful effects of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9098-EA83-4468-A045-BAC2D28BB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46240" y="1580760"/>
            <a:ext cx="868176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Ionization and excitation of intracellular water molecules produces free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sequent interference of free radicals with cells not direct affected by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6F7E-0787-48E3-A332-0A0FAC62A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background radiation comes from three sour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7AB6-725A-46F2-AF37-788A399A7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123B-C41B-4539-B9E7-2DBCB7D01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4252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: production of free radicals in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 by Ionization: Hydrogen Radical (H</a:t>
            </a:r>
            <a:r>
              <a:rPr b="0" lang="en-US" sz="3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on absorb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drogen radical and hydroxyl ion form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6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radic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3"/>
              <p:cNvSpPr txBox="1"/>
              <p:nvPr/>
            </p:nvSpPr>
            <p:spPr>
              <a:xfrm>
                <a:off x="1160640" y="4595760"/>
                <a:ext cx="68450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1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8E42-6BC3-47B9-A057-ECFE2719D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181440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olysis by Ioniz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droxyl Radical (OH</a:t>
            </a:r>
            <a:r>
              <a:rPr b="0" lang="en-US" sz="2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ctron removed from water molec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itively ionized water removes hydrogen from neutral water to form hydroxyl ra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"/>
              <p:cNvSpPr txBox="1"/>
              <p:nvPr/>
            </p:nvSpPr>
            <p:spPr>
              <a:xfrm>
                <a:off x="1374840" y="4827600"/>
                <a:ext cx="601344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4F52-4DE9-4E4A-9ED6-B2F23B821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442520"/>
            <a:ext cx="9020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ysis by Exci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and Hydroxyl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electron excites water molecule, but is not absor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ited water molecule splits into hydrogen and hydroxyl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1633680" y="4665600"/>
                <a:ext cx="544176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7120080" y="627228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= ex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190D-B250-40CC-B697-070C12050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1420560"/>
            <a:ext cx="88470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se radicals immediately react with each other to produce harmless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they might react with other molecules in the cell, causing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1382760" y="2577960"/>
                <a:ext cx="4554360" cy="25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958000" y="265428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but new cells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producing ab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air itself and function norm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1C9D-45E0-4F3D-9AC7-5FA7245DC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931A-37D0-4BE4-BB80-D54DAA593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979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835280" y="410688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"/>
          <p:cNvPicPr/>
          <p:nvPr/>
        </p:nvPicPr>
        <p:blipFill>
          <a:blip r:embed="rId1"/>
          <a:srcRect l="0" t="51499" r="0" b="2798"/>
          <a:stretch/>
        </p:blipFill>
        <p:spPr>
          <a:xfrm>
            <a:off x="2725560" y="2157480"/>
            <a:ext cx="3079800" cy="4167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1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689B-4183-4F6E-9017-9D8E2138C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ecul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enzymes, DNA etc. and interference with biological path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cell membranes, nucleus, chromosomes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Inhibition of cell division, cell death, transformation to a malignant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266C-DABC-49DB-AFC2-CCD6C0842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ssue, Org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ruption to central nervous system, bone marrow, intestinal 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uction of canc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le Anim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a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fe shorte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pul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nges in the genetic characteristics of individual memb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sensi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cells within the body have different structures and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y in thei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adio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ceptibility to radiation-induced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5EAA-AE16-4897-BE96-82F64EA07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66560" y="107964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division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pidly dividing cells are more sensitivity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metabolism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with high metabolism rat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al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in division stag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/ nourishment to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ly undernourished cells reproduce 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ster reproduction = more mu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8CA5-47D1-412B-BF99-D5176F542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57200" y="112680"/>
            <a:ext cx="8229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4 Factors Affecting Radiosensi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 and stars send constant stream of cosmic radiation to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 steady drizzle of 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ces in certain variables can change the amount (or dose) of cosmic radiation that we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mospheric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th's magnetic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CE2C-BE1B-4B13-92D2-C32B08E3D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/ tissue radiosensitivity influenced by 2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sensitivity of the tissue/organ cel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ce to overall org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st radiosensitive organs and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 (tissu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-forming org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nads (reproductive orga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ens of the e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east radiosensitive org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rain (cells do not reprodu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4995-F622-4A7A-A487-3662A9E61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most radiosensitive tissues in the human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blood cells have an already short lifespan and high metabolic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in toxins quick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nads (reproductive org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tations occurring in egg or sperm cells could result in a mutation in the offsp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 rads: temporary depletion of sperm 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0 to 400 rad: function of ovaries impa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3C8B-2E8E-4F36-98A0-BF90B957B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919C-1B98-4A60-A3D1-29E0AFE47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460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Bl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25360" y="700200"/>
          <a:ext cx="8575920" cy="5945040"/>
        </p:xfrm>
        <a:graphic>
          <a:graphicData uri="http://schemas.openxmlformats.org/drawingml/2006/table">
            <a:tbl>
              <a:tblPr/>
              <a:tblGrid>
                <a:gridCol w="1602000"/>
                <a:gridCol w="1611000"/>
                <a:gridCol w="1638360"/>
                <a:gridCol w="1478160"/>
                <a:gridCol w="2246400"/>
              </a:tblGrid>
              <a:tr h="1006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ELL TYP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FETIME OF CEL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CT OF SINGLE RADIATION EXPOSURE OF &gt; 100 RA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 (Erythrocyte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ry oxygen and nutrients to bod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ight decrease in numb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ocyte (type of white blood cel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 nodes and splee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d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within 2 days after exposure; large decrease in number can result in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throphils (type of white blood cell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proportional to dose; depletion results in infection and fev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tele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lot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– 1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in number can result in hemorrhag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0720" y="772920"/>
            <a:ext cx="896292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tissue to exhibit noticeable radiation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radiosensitivity due to the high rate of cell division and degree of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0 to 500 rad: Erythema (redden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dose: blistering and ulceration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term complications: scarring and skin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0C75-A053-495C-AAA3-F5B883C46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0" y="58680"/>
            <a:ext cx="91440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S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9" descr=""/>
          <p:cNvPicPr/>
          <p:nvPr/>
        </p:nvPicPr>
        <p:blipFill>
          <a:blip r:embed="rId1"/>
          <a:stretch/>
        </p:blipFill>
        <p:spPr>
          <a:xfrm>
            <a:off x="2801880" y="3276720"/>
            <a:ext cx="3178080" cy="32670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0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A45E-CEB2-46A2-A8C7-5D57A9F13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1600200"/>
            <a:ext cx="879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taract formation (cloudin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dose of 200-500 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mulative (spread over several months) dose of 1000 r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6560" y="182520"/>
            <a:ext cx="82677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</a:t>
            </a:r>
            <a:br>
              <a:rPr sz="4000"/>
            </a:b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Lens of the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9" descr=""/>
          <p:cNvPicPr/>
          <p:nvPr/>
        </p:nvPicPr>
        <p:blipFill>
          <a:blip r:embed="rId1"/>
          <a:srcRect l="16669" t="20483" r="24977" b="12186"/>
          <a:stretch/>
        </p:blipFill>
        <p:spPr>
          <a:xfrm>
            <a:off x="3960720" y="3413160"/>
            <a:ext cx="4419720" cy="3186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0"/>
          <p:cNvSpPr/>
          <p:nvPr/>
        </p:nvSpPr>
        <p:spPr>
          <a:xfrm>
            <a:off x="2397240" y="560088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Effects on Hum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a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8690-67C2-428D-9CC8-A45F58C51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39680" y="1599840"/>
            <a:ext cx="90043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radiation of same type, range in tissue increases with increasing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th of penetration is function of type of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d particles and neutrons will not penetrate as far as electromagnetic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depends on charge, mass, and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er LET = higher QF = more biological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5143-CBA2-48D9-BFEF-843EE26A6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457200" y="27468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diation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diation of all cells, organs, and t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s depends on which organ is sensitive at the given dos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al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mage limited to tissues and organs within exposed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localized doses of radiation are used to treat certain cancers without significant damage to the rest of the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99E1-C978-458D-8A3F-2A56D66DC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457200" y="227160"/>
            <a:ext cx="83376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Portion of Body Exp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99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damage decreases with decreasing dose 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ut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ort exposur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hronic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w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ng exposure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 radiation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sure from natural background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14DF-7B91-4F77-AB9B-92D4AD008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457200" y="93600"/>
            <a:ext cx="84056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te of Exp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893304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0600" y="1599840"/>
            <a:ext cx="8750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clinical Range (0 to 1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ickness occurs which requires medical att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changes occur in the blood for doses near 1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apeutic Range (100 to 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, vomiting, loss of appetite, and fati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od damag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ness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hal Range (&gt;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 and vomiting becom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hemorrhaging may occ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r loss at 3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 - 600 rem: small percentage of people will die within 30 d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00 - 1000 rem: higher chance of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1000 rem: Certain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4D5F-4669-4A42-B39A-B38A83400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arth itself is a source of terrestrial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active materials exist naturally in soil and r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o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contains small amounts of dissolved uranium and tho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rganic matter (both plant and animal) contains radioactive carbon and potassiu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707B-4ED0-4935-998F-D854296A4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72A9-E0A8-4E3A-BBA1-EEA0AE780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42800" y="1074600"/>
          <a:ext cx="8229600" cy="5346720"/>
        </p:xfrm>
        <a:graphic>
          <a:graphicData uri="http://schemas.openxmlformats.org/drawingml/2006/table">
            <a:tbl>
              <a:tblPr/>
              <a:tblGrid>
                <a:gridCol w="2359080"/>
                <a:gridCol w="58705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ose (Rads*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irst sign of physical 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drop in white blood cell cou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hreshold for vomi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in a few hours of exposu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0 - 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5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minimal supportive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80 - 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50 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supportive medical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10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Rectangle 28"/>
          <p:cNvSpPr/>
          <p:nvPr/>
        </p:nvSpPr>
        <p:spPr>
          <a:xfrm>
            <a:off x="0" y="71280"/>
            <a:ext cx="914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Acute Radiation Effects: Whole Body 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B7B0-6ACB-4A84-A9BF-16900EE77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0" y="0"/>
          <a:ext cx="9144000" cy="6561000"/>
        </p:xfrm>
        <a:graphic>
          <a:graphicData uri="http://schemas.openxmlformats.org/drawingml/2006/table">
            <a:tbl>
              <a:tblPr/>
              <a:tblGrid>
                <a:gridCol w="1488960"/>
                <a:gridCol w="1263600"/>
                <a:gridCol w="1378080"/>
                <a:gridCol w="1252440"/>
                <a:gridCol w="1257480"/>
                <a:gridCol w="1254240"/>
                <a:gridCol w="212400"/>
                <a:gridCol w="1036800"/>
              </a:tblGrid>
              <a:tr h="4305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CLINIC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EUTIC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TH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2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TO 6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0 TO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EFFE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ROMI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ALLIA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vomi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rems: 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rems: 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rems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ay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ding org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atopoietic tiss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trointestinal tr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 nervous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acteristic sig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 Leukope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e leucopenia; purpose; hemorrhage; infection.  Hair loss above 300 rem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rrhea; fever, disturb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ulsions; tremor; ataxia; lethar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ical period post expo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to 6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to 14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48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; hematolog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transfusion; antibio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ider bone marrow transplan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dativ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no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ar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pel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alescent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al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1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 to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th occurs with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orrhage; in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rculatory collap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iratory fail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calized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89F1-A39A-48AE-9313-254836CAA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Content Placeholder 4" descr="capture4.jpg"/>
          <p:cNvPicPr/>
          <p:nvPr/>
        </p:nvPicPr>
        <p:blipFill>
          <a:blip r:embed="rId1"/>
          <a:srcRect l="22911" t="0" r="21263" b="13409"/>
          <a:stretch/>
        </p:blipFill>
        <p:spPr>
          <a:xfrm>
            <a:off x="0" y="2152800"/>
            <a:ext cx="2490840" cy="3903480"/>
          </a:xfrm>
          <a:prstGeom prst="rect">
            <a:avLst/>
          </a:prstGeom>
          <a:ln w="0">
            <a:noFill/>
          </a:ln>
        </p:spPr>
      </p:pic>
      <p:pic>
        <p:nvPicPr>
          <p:cNvPr id="403" name="Content Placeholder 3" descr="capture12.jpg"/>
          <p:cNvPicPr/>
          <p:nvPr/>
        </p:nvPicPr>
        <p:blipFill>
          <a:blip r:embed="rId2"/>
          <a:srcRect l="31803" t="0" r="0" b="0"/>
          <a:stretch/>
        </p:blipFill>
        <p:spPr>
          <a:xfrm>
            <a:off x="2778120" y="2317680"/>
            <a:ext cx="2968560" cy="3359160"/>
          </a:xfrm>
          <a:prstGeom prst="rect">
            <a:avLst/>
          </a:prstGeom>
          <a:ln w="0">
            <a:noFill/>
          </a:ln>
        </p:spPr>
      </p:pic>
      <p:pic>
        <p:nvPicPr>
          <p:cNvPr id="404" name="Content Placeholder 3" descr="capture6.jpg"/>
          <p:cNvPicPr/>
          <p:nvPr/>
        </p:nvPicPr>
        <p:blipFill>
          <a:blip r:embed="rId3"/>
          <a:srcRect l="15212" t="0" r="12209" b="0"/>
          <a:stretch/>
        </p:blipFill>
        <p:spPr>
          <a:xfrm>
            <a:off x="5959440" y="2522520"/>
            <a:ext cx="30322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0C18-7415-4CA7-B291-DCC0827E0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Content Placeholder 3" descr="capture8.jpg"/>
          <p:cNvPicPr/>
          <p:nvPr/>
        </p:nvPicPr>
        <p:blipFill>
          <a:blip r:embed="rId1"/>
          <a:stretch/>
        </p:blipFill>
        <p:spPr>
          <a:xfrm>
            <a:off x="0" y="2298600"/>
            <a:ext cx="5429160" cy="3660840"/>
          </a:xfrm>
          <a:prstGeom prst="rect">
            <a:avLst/>
          </a:prstGeom>
          <a:ln w="0">
            <a:noFill/>
          </a:ln>
        </p:spPr>
      </p:pic>
      <p:pic>
        <p:nvPicPr>
          <p:cNvPr id="409" name="Content Placeholder 3" descr="capture10.jpg"/>
          <p:cNvPicPr/>
          <p:nvPr/>
        </p:nvPicPr>
        <p:blipFill>
          <a:blip r:embed="rId2"/>
          <a:stretch/>
        </p:blipFill>
        <p:spPr>
          <a:xfrm>
            <a:off x="5624640" y="1373040"/>
            <a:ext cx="3352680" cy="52707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38D0-8732-41F5-BFFB-40E9FF2C0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Content Placeholder 3" descr="capture15.jpg"/>
          <p:cNvPicPr/>
          <p:nvPr/>
        </p:nvPicPr>
        <p:blipFill>
          <a:blip r:embed="rId1"/>
          <a:stretch/>
        </p:blipFill>
        <p:spPr>
          <a:xfrm>
            <a:off x="0" y="1405080"/>
            <a:ext cx="3618000" cy="52196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6840" y="1599840"/>
            <a:ext cx="850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angiect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lation (expansion) of the blood vessels in the 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areas receive excessive blood flow, diverting blood away from other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ells that LOSE blood flow suffer from oxygen depr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0117-CE97-40C9-A80A-1D2ED3B65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60020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08AB-D267-4BFD-87D8-59B58F71F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1000" y="1600200"/>
            <a:ext cx="879156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ute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rly loss of outer skin cells (peel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mal Atr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nning of the skin t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ilation (hair lo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y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ratinization (hardening)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ist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loss due to inability of damaged skin cells to reprodu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damage due to dehydration and infection resulting from severe moist desqua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8858-4CCF-4964-A11F-2FBB81973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C15A-3F43-4624-A00B-92067E8FD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/tissue death due to insufficient blood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ute Epi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tissue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dose, low-energy beta ir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ronic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95280"/>
            <a:ext cx="82598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tolerates small doses of radiation exposure better over a long period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airs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tes radiation-induced by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As long as the repair or elimination rate is larger than the production 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500 rem acute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vere radiation sick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500 rem delivered at 10 rem per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Little noticeable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B6B6-EA08-4E65-BEEB-F921B1711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animals (including people) have intern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es from radioactive potassium-40 and carbon-14 inside their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from bi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minor sources of exposure to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9B9C-4461-427D-B8C5-2C6C04CE4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728640" y="2027160"/>
            <a:ext cx="77961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permanent biological damage occurs unless total dose exceeds some value (thresho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 long term chronic exposures to less than threshold values to protect against permanent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E404-0D60-4DB6-9E75-7A44BF453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496800" y="32544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hreshold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0" y="14950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continuously attempts to repair damage as it occ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amage too sev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mechanisms become str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ing effects are incre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d exposure shortens average life sp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mutation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ukemia: Inability to produce white blood cells norm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B505-FC18-4650-90E7-6BA6ECEAC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447840" y="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issue Damage and Rep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tic Effects of Rad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38120" y="1030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seen in offspring of exposed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to genetic information in reproductive cells due to damaged DNA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spontaneous changes due to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77CD-E7B3-4A24-9C52-173DAD51B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7951-B422-40A8-979C-B8640EC92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 in the exposed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in reddening (erythe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%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omatic Effects of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nal Radiation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ways radionuclides can enter the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a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Cu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1427-91A2-439F-A6C5-94FE887F3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or Target Organ Concep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allowing and Inhalation of Radio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599840"/>
            <a:ext cx="82296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wallowed, radionuclides pass through normal digestion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nhaled, radionuclides enter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luble, transmitted through blood 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blood stream, it travels through out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rgans have an affinity to specific elements – radioactive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B1A1-0B7E-4634-A5ED-53E462D96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-360" y="727200"/>
            <a:ext cx="898668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l painters contract bone cancer after years of “pointing” the radium dipped brush with their tong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um falls in same periodic table grouping as 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s Calcium in b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arget organ for Radium is b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5C30-9F40-4E29-B74A-1D91AF55D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"/>
          <p:cNvPicPr/>
          <p:nvPr/>
        </p:nvPicPr>
        <p:blipFill>
          <a:blip r:embed="rId1"/>
          <a:srcRect l="24505" t="19688" r="28569" b="19066"/>
          <a:stretch/>
        </p:blipFill>
        <p:spPr>
          <a:xfrm>
            <a:off x="0" y="4203720"/>
            <a:ext cx="2459160" cy="240660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0"/>
          <p:cNvSpPr/>
          <p:nvPr/>
        </p:nvSpPr>
        <p:spPr>
          <a:xfrm>
            <a:off x="2527200" y="57326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1" descr=""/>
          <p:cNvPicPr/>
          <p:nvPr/>
        </p:nvPicPr>
        <p:blipFill>
          <a:blip r:embed="rId2"/>
          <a:stretch/>
        </p:blipFill>
        <p:spPr>
          <a:xfrm>
            <a:off x="6626160" y="4137120"/>
            <a:ext cx="2517840" cy="25178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2"/>
          <p:cNvSpPr/>
          <p:nvPr/>
        </p:nvSpPr>
        <p:spPr>
          <a:xfrm>
            <a:off x="5176800" y="576900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842D-4FD1-4433-9D66-E882D72DA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t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balt – whol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sium – large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 - Thy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dy Bu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 of internally-deposited radioactivity causing maximum permissible dose to any org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850F-3245-4095-9591-409E1F30C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120" y="71280"/>
            <a:ext cx="890244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ection from External Radioa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– minimize time expo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 – Increase distance from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ing – Increase shie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FB15-D8AA-4723-B154-F9580608D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living things are exposed to natural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man-made radiation sources differs by grou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ly Exposed Individuals (Worker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A3F9-DC28-4BAC-BC90-C15E7AE0C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44BF-9940-4F67-BC7A-7AEFB2F05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ly controlled: PRE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i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ating / drinking in contaminated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pen w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114480" y="71280"/>
            <a:ext cx="890244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Protection from Internal Radio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8A7C-1798-4CA6-96F6-750C91D65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Sources (by far, the most significant man-made sour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gnostic x-ray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medicine procedures (iodine-131, cesium-137, and other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304C-06BF-457F-A965-B898BA9C5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nd road construction materi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bustible fuels, including gas and co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ray security sys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evi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escent lamp start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oke detectors (americ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rgaret Hines</dc:creator>
  <dc:description/>
  <dc:language>en-US</dc:language>
  <cp:lastModifiedBy>Peggy Hines IRSC</cp:lastModifiedBy>
  <dcterms:modified xsi:type="dcterms:W3CDTF">2013-02-07T19:55:15Z</dcterms:modified>
  <cp:revision>1166</cp:revision>
  <dc:subject/>
  <dc:title>Biological Effects of Radiation</dc:title>
</cp:coreProperties>
</file>