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  <p:sldId id="331" r:id="rId95"/>
    <p:sldId id="332" r:id="rId96"/>
    <p:sldId id="333" r:id="rId97"/>
    <p:sldId id="334" r:id="rId98"/>
    <p:sldId id="335" r:id="rId99"/>
    <p:sldId id="336" r:id="rId100"/>
    <p:sldId id="337" r:id="rId101"/>
    <p:sldId id="338" r:id="rId102"/>
    <p:sldId id="339" r:id="rId103"/>
    <p:sldId id="340" r:id="rId104"/>
    <p:sldId id="341" r:id="rId105"/>
    <p:sldId id="342" r:id="rId106"/>
    <p:sldId id="343" r:id="rId107"/>
    <p:sldId id="344" r:id="rId108"/>
    <p:sldId id="345" r:id="rId109"/>
    <p:sldId id="346" r:id="rId110"/>
    <p:sldId id="347" r:id="rId111"/>
    <p:sldId id="348" r:id="rId112"/>
    <p:sldId id="349" r:id="rId113"/>
    <p:sldId id="350" r:id="rId114"/>
    <p:sldId id="351" r:id="rId115"/>
    <p:sldId id="352" r:id="rId116"/>
    <p:sldId id="353" r:id="rId117"/>
    <p:sldId id="354" r:id="rId118"/>
    <p:sldId id="355" r:id="rId119"/>
    <p:sldId id="356" r:id="rId120"/>
    <p:sldId id="357" r:id="rId121"/>
    <p:sldId id="358" r:id="rId122"/>
    <p:sldId id="359" r:id="rId123"/>
    <p:sldId id="360" r:id="rId124"/>
    <p:sldId id="361" r:id="rId125"/>
    <p:sldId id="362" r:id="rId126"/>
    <p:sldId id="363" r:id="rId127"/>
    <p:sldId id="364" r:id="rId128"/>
    <p:sldId id="365" r:id="rId129"/>
    <p:sldId id="366" r:id="rId130"/>
    <p:sldId id="367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slide" Target="slides/slide76.xml"/><Relationship Id="rId96" Type="http://schemas.openxmlformats.org/officeDocument/2006/relationships/slide" Target="slides/slide77.xml"/><Relationship Id="rId97" Type="http://schemas.openxmlformats.org/officeDocument/2006/relationships/slide" Target="slides/slide78.xml"/><Relationship Id="rId98" Type="http://schemas.openxmlformats.org/officeDocument/2006/relationships/slide" Target="slides/slide79.xml"/><Relationship Id="rId99" Type="http://schemas.openxmlformats.org/officeDocument/2006/relationships/slide" Target="slides/slide80.xml"/><Relationship Id="rId100" Type="http://schemas.openxmlformats.org/officeDocument/2006/relationships/slide" Target="slides/slide81.xml"/><Relationship Id="rId101" Type="http://schemas.openxmlformats.org/officeDocument/2006/relationships/slide" Target="slides/slide82.xml"/><Relationship Id="rId102" Type="http://schemas.openxmlformats.org/officeDocument/2006/relationships/slide" Target="slides/slide83.xml"/><Relationship Id="rId103" Type="http://schemas.openxmlformats.org/officeDocument/2006/relationships/slide" Target="slides/slide84.xml"/><Relationship Id="rId104" Type="http://schemas.openxmlformats.org/officeDocument/2006/relationships/slide" Target="slides/slide85.xml"/><Relationship Id="rId105" Type="http://schemas.openxmlformats.org/officeDocument/2006/relationships/slide" Target="slides/slide86.xml"/><Relationship Id="rId106" Type="http://schemas.openxmlformats.org/officeDocument/2006/relationships/slide" Target="slides/slide87.xml"/><Relationship Id="rId107" Type="http://schemas.openxmlformats.org/officeDocument/2006/relationships/slide" Target="slides/slide88.xml"/><Relationship Id="rId108" Type="http://schemas.openxmlformats.org/officeDocument/2006/relationships/slide" Target="slides/slide89.xml"/><Relationship Id="rId109" Type="http://schemas.openxmlformats.org/officeDocument/2006/relationships/slide" Target="slides/slide90.xml"/><Relationship Id="rId110" Type="http://schemas.openxmlformats.org/officeDocument/2006/relationships/slide" Target="slides/slide91.xml"/><Relationship Id="rId111" Type="http://schemas.openxmlformats.org/officeDocument/2006/relationships/slide" Target="slides/slide92.xml"/><Relationship Id="rId112" Type="http://schemas.openxmlformats.org/officeDocument/2006/relationships/slide" Target="slides/slide93.xml"/><Relationship Id="rId113" Type="http://schemas.openxmlformats.org/officeDocument/2006/relationships/slide" Target="slides/slide94.xml"/><Relationship Id="rId114" Type="http://schemas.openxmlformats.org/officeDocument/2006/relationships/slide" Target="slides/slide95.xml"/><Relationship Id="rId115" Type="http://schemas.openxmlformats.org/officeDocument/2006/relationships/slide" Target="slides/slide96.xml"/><Relationship Id="rId116" Type="http://schemas.openxmlformats.org/officeDocument/2006/relationships/slide" Target="slides/slide97.xml"/><Relationship Id="rId117" Type="http://schemas.openxmlformats.org/officeDocument/2006/relationships/slide" Target="slides/slide98.xml"/><Relationship Id="rId118" Type="http://schemas.openxmlformats.org/officeDocument/2006/relationships/slide" Target="slides/slide99.xml"/><Relationship Id="rId119" Type="http://schemas.openxmlformats.org/officeDocument/2006/relationships/slide" Target="slides/slide100.xml"/><Relationship Id="rId120" Type="http://schemas.openxmlformats.org/officeDocument/2006/relationships/slide" Target="slides/slide101.xml"/><Relationship Id="rId121" Type="http://schemas.openxmlformats.org/officeDocument/2006/relationships/slide" Target="slides/slide102.xml"/><Relationship Id="rId122" Type="http://schemas.openxmlformats.org/officeDocument/2006/relationships/slide" Target="slides/slide103.xml"/><Relationship Id="rId123" Type="http://schemas.openxmlformats.org/officeDocument/2006/relationships/slide" Target="slides/slide104.xml"/><Relationship Id="rId124" Type="http://schemas.openxmlformats.org/officeDocument/2006/relationships/slide" Target="slides/slide105.xml"/><Relationship Id="rId125" Type="http://schemas.openxmlformats.org/officeDocument/2006/relationships/slide" Target="slides/slide106.xml"/><Relationship Id="rId126" Type="http://schemas.openxmlformats.org/officeDocument/2006/relationships/slide" Target="slides/slide107.xml"/><Relationship Id="rId127" Type="http://schemas.openxmlformats.org/officeDocument/2006/relationships/slide" Target="slides/slide108.xml"/><Relationship Id="rId128" Type="http://schemas.openxmlformats.org/officeDocument/2006/relationships/slide" Target="slides/slide109.xml"/><Relationship Id="rId129" Type="http://schemas.openxmlformats.org/officeDocument/2006/relationships/slide" Target="slides/slide110.xml"/><Relationship Id="rId130" Type="http://schemas.openxmlformats.org/officeDocument/2006/relationships/slide" Target="slides/slide111.xml"/><Relationship Id="rId131" Type="http://schemas.openxmlformats.org/officeDocument/2006/relationships/slide" Target="slides/slide112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6403-8095-4A99-9490-5175951A8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D7D7-481B-4D81-A446-566DED3FB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2B06-634D-4950-99DE-E43F6406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274-D315-43BC-B8FD-06194F72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772-24E0-436D-901E-5A97B0AD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A25BC-35D5-4747-BCAB-2711B1B6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9DB81-FD37-4BDF-9D52-7C5EE235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FF6A0-1C60-488E-B93C-5AB0160F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A68FF-53B6-4E8D-8FCD-3BAA16B4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AB4D2-DFAE-4088-B093-8793B623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72FAB-DA47-42BE-92A9-248BC870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04DBF-743E-4338-B33E-B9858763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9EF52-D181-44CF-A867-FB042138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B8510-A0DB-40E3-8EAC-ACC304D3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A5A5E-9A50-4E0D-95DE-D6CF75A0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A3B-0B48-4768-94B6-A3BA6F22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F99E0-9E6A-4ED0-92EA-76B2535D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273BC-40C7-434B-B372-5D70CF0B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E9AD6-3E57-4914-B77E-A76FF353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2049F-B13C-4F8B-B0A8-03DA1505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539C3-4844-4D3F-9F5F-5FF1A90E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6CF53-6359-4D80-B0B2-A89025D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FB1DB-8B9F-419E-9CB0-9CFA0473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104BF-31BF-4341-AC2A-434B6337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1B954-2D78-4936-812D-6A751A4F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8482F-0C9D-4E2C-A845-311708BC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B0B-F570-439B-9035-B5483C04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0BA4A-372E-417E-BCD7-C0DB4F56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1368B-407D-4A64-98A1-CF2CAC90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8DA1E-A8C5-4AFE-BDFD-8A2375C5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DD6E7-98AA-4F51-9D19-CEBEAB4F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93B4E-2521-4802-B9CE-ADF48CED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3C57D-8ED9-46FA-B206-38BB0D63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DA06C-201C-466C-B908-BD759492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ED5FB-C562-4F5F-B9FE-4306AFE7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5ACAA-1487-4347-A76E-683CA00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9751D-47AD-4EC2-BBD5-97CCE581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0898-8579-46A5-AC27-DEC0621F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F8855-3B12-42E2-AA76-10651F28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893A6-54D5-46AD-9A5F-F1C143F1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0C321-8133-4ADC-998D-0A422632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0E410-FE4C-4566-8257-D964DF7A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5B4F6-BF4F-4CBF-99D8-A05E8909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A7393-21ED-4D76-B416-7FE8EF33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C6FB4-04DB-43F7-8EB8-BC7CC2DE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B52B4-0B9A-4262-BDC7-E7D30CBA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637DB-2550-4F69-BD82-C09579A4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2F299-5FEB-4708-AF6F-B3AF9D48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8D52-1B6A-4EBD-A25D-12B661F1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BC7F4-123C-4C63-B8A9-60D16D23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B5EC5-CD4E-4DD0-9712-B9EFF9B0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BE289-62B9-4034-8443-BDCF2AF3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5E1A3-91C4-458F-A0D6-3ECB9078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6B3F8-FEDA-45AD-B46D-4656FB03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21E0C-EE47-4D1F-90FA-F42F55E6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FA906-75DB-47DB-9D0A-1DBCD4B0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DA6BE-4C50-4C24-9F52-27AEC9D5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2ED9B-C5E4-44F2-AF01-EB5E42B8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90FE1-0ED8-4F50-B591-2E593249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4487-245F-4E3D-AA12-80DB7D88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D0BB7-5505-49CB-9118-30A484EF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28D61-8C52-449B-AC13-8107D171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D8E4D-DCE6-4022-AA9B-A8F0058B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DBE10-2EB5-4817-9379-F2EB6A89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513B7-AAEC-4C0E-AEA9-5FD321B9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06206-5406-4BC3-8EC9-9EC2F722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62562-BA0D-4640-985A-86D138F6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66A31-BB5F-410B-8248-D0EC2F2C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D0587-1C0B-47DE-8A19-D2954AFC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3BBE3-6A9B-4775-A430-3FC8B010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B1EE-504C-4954-8CEE-131C801C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58D0D-3302-4DC2-B05C-C1DC2049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E6389-149C-4D9A-A6AF-EDFFADD6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CBFBD-D7E1-4D97-BD59-5CBFBBE4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BC6C3-56F3-4E7A-9889-6658EDDC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33813-9327-4E48-94B5-531A5136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F794E-D9C4-4688-AAA5-BDA70799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FFC45-5FF4-4E53-A098-D38AA653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E3B8D-2AC5-4CB2-AB22-3EC20D6D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072D8-C4B1-425C-A4A5-50E7F362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AB0C3B-87DF-46DE-A53F-9B3ACA96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CF17-D7EB-4C8C-8863-773FFA67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802D9-2735-4C77-A93A-0B9B1F78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718A6-FFE5-4B2B-9494-633DCCF9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D1FEC-FCB3-4D2E-B8C9-2EB3697E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CB930-5A7C-485F-8EB0-DE01ADD2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211C7-22B4-4A63-9D59-101C47D3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57D85-211F-40FC-BB4F-46E8928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4F63C-9E87-4AAD-ABF5-17AA39EA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F32F9-6371-4379-8898-3C6D7D3D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67550-0B0C-458F-A0B4-A6969C8B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63C9A-8885-42B5-9287-D3388223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5D82-6078-48B8-B4B8-66BC0507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BC839-8A8D-467D-8B44-1A8DE8D9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9ADB8-729F-47EF-97A0-3A6CA9A0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01C8D-BDF3-4C12-9CFA-100C7D98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55087-9648-42C3-9C67-7106E4CD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07EBD-53D8-44D4-BEC1-7621C0EE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2B4DA-41FA-48DE-8F69-4E03F93E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9DCA0-1C7A-4D5D-B228-0506D637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3F978-90AC-4BDF-A81B-C2722ACD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2ABB2A-5ED9-41FC-B640-A405085C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23686-58D4-406C-96FE-253B22EE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12DE-CA3E-4E26-82C5-49C14D89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CEC87-C533-4905-935E-ABF98493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97D89-5891-40D2-B6F4-1AFCC263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C0B86-3883-463D-BF28-764A5780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9A618-91D2-4B43-A787-1F3A3F80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8C0BA-6F8F-4DC1-9A2E-251560C9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B2069A-AE71-419C-AE0E-DA0F1F8F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CC2B3A-B184-4BDC-8A30-394BC2E9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77B37-ABD1-420D-AC2E-63D5E342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706E3-FE3D-41F0-949B-92585C42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7C16F-7215-4FCD-A433-286A04FA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702-09A9-4A42-8D43-E28E107A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A7EB-A65D-48A5-BF6B-1B8AFFE6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C89FF4-9551-465A-A7D2-4DD8144B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B9363-5517-4AF8-8B98-ACF6B7B1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3C034-B5EE-4FE6-8DF4-BDCA11CB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19856-A00D-4BB9-97B0-A64A399A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A24F7B-19E3-49B5-B8D3-6483E750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30DC-6861-45E8-AFAA-80470CB0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034F-E4DC-410E-B0F0-24961C31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A3FA-8A5F-4E9F-9915-2E6CCD0D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6DA6-1ECC-4B1B-B71B-E9BBCBE5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A9B1-B654-4160-BA66-638E634F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DA56-4F59-4D51-B9C0-60AD3C2A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04EE-D9C2-4FB3-9533-09998B16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499B-1A58-4C48-9242-1B454194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034A2-B04D-4090-911E-9A9C4462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9AC-B5B6-449A-9AEC-3B9B97AD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55D3D-DDBA-4B01-91B8-2FBFEE34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D99B7-DFB6-499D-B020-32B429DF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27DB-93E6-48D1-93A5-7E7C4060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D22D-1A94-49CB-870F-2FC5171D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F12C-9C2A-4C10-AF40-ABBB5295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97BDC-D498-47A0-A771-49B75C24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BC52-2D95-4A58-AE89-4EE75352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4E73-2E37-454F-94B2-7439EAA7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9A68F-76A4-4149-939C-124DDED6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4F15-5229-4DE6-8C26-46BA0AB8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07B-D0F4-487E-9484-FD76E34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721A8-E917-4C05-8C73-2E5F854B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8A93C-E186-4F6E-AA66-594117EF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CD72-F0BC-4CF9-B1FE-9F1A9C13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FB27-F59F-4BD4-87B7-F82FFBE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43EE6-9C62-4B70-9CFD-FD49B6B8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F6B5B-1F5D-4BD6-8110-B7141B8B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72C8E-0DC4-4824-8A1D-7536883E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B6713-C739-4862-AF96-F5657F09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804FD-6628-4081-8E0C-C171FF6C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03106-8ADD-4B02-9A0B-4A84933C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B9A-039D-4155-AFC2-F3178F1B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1D476-DA14-47D8-90E1-73599752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DA3F8-1A12-4B63-8621-202C90EA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C9F29-23E7-41C8-B75E-031C135C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85EA-0604-416E-B20C-A324800D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B95DB-0482-4A28-934A-2FF5FCDA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6AEE6-AE4E-4A9B-B0C3-6C5C00B1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CA4B8-CD50-43C1-93F2-5585FBDF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5C4F0-8270-4B25-93D2-F27A8223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65B58-BBF4-41C1-B03F-BA97F41C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383C9-2137-4620-8E89-649309C7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0C6-EA40-4BCA-B52C-8045580E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40F2C-5672-44EE-BEFE-5BA24C44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BE439-487A-41A6-B3CB-2C4C647B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EDB12-EDF6-4A76-AFCE-BAFA98D8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935EA-64B3-44CD-BB7E-3B942FA5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3A399-A230-4854-8787-117E7AAF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4B1D3-F34A-425F-ADB0-5016004F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A77E4-C727-4C30-AD83-CFF6DD7D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FD132-3D0B-460A-BEFB-8289B70B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E52B6-5AF3-4648-AE87-37D416E3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1F683-D90F-4FD6-9360-D0E61CBE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4CA-DBC8-4C3F-8D61-12DA7A2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CE7CA-6F1E-4D74-BCB6-7265981F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9192C-5B1F-45F2-82C1-F641ECD9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206C8-F714-43FF-A3E9-7447181A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7195C-83C5-4616-9C0E-63F08A66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1672B-8F89-41B7-BA5C-361FAA19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63540-259D-4A7A-A93F-24F80E38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10FA0-6183-4D06-97D6-0524E349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421C2-FB38-4C5B-AEFC-CFEE5DAE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3D64B-1860-42A4-BEBF-2F794C90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17A23-0B63-4FC5-8441-95D70349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4DC-EADE-4AEB-AE30-93E2F5AB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F65B2-A32F-4AA4-889E-6467DA1F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34D24-E610-4488-958D-310AF94E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89D61-30F5-44B9-BF28-3D7F4DB9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2D231-96BF-4527-810F-E35E8355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59B68-DF77-44F8-99B8-CEAA1539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35672-BA2D-4821-A10D-F1C1BB8C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F60C5-5AFD-4AA2-800C-BB2C2EFE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E06AD-62F6-4780-BA57-58118A07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A57D4-BA46-482B-AE20-162AC695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01A93-88FA-4F83-935D-F31C1216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16E-DADC-4D5D-88F8-5666C9B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1505E-C313-408D-9D60-6AC4822D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26F21-B3A0-4760-A271-A2F950F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8D4ED-8FA8-45F4-9269-B22252E9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BCBEE-BFD4-4746-93B3-778CC857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8A2AD-685B-4A4D-ABE5-1018E3A4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6ED37-325C-406D-95AA-BFD16BF6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CC72A-641E-42EA-AEBC-09598715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16A60-5608-4E3A-8966-51CF8760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FE4C0-E7EA-4678-AB62-59446AE8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EB208-7989-4DF3-B2E6-5958DD7E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82E3-F5F7-4BC2-ADF1-C790D781A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0E69-CBB3-4FA1-805A-F7B445EC0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4C56-BE6F-426F-82D1-73B3AEF287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0584-1A96-490A-AD07-5DB729A0CC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511F-A8CD-4E29-8B35-683A695688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2778-7763-4065-BCD2-B54C1441C2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D122-B227-449A-BB37-0BB02841F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9796-2B0B-4226-AD1B-33186EF266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F9A1-D4EF-42F7-8381-00463BAD1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2481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6D44-01DE-4546-B960-9BD301348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92E3FD7D-855B-456E-B6BA-47189C89F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7932-8E48-4D78-A4D4-8F5148F3D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BA9B2432-C635-4A60-80C7-994E95CC5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590560" y="6244920"/>
            <a:ext cx="3886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3D4D25DA-03F4-44B1-ABAC-1B5387CFEE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E087-B736-40E7-AAC2-57890EE2A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B956-1768-478D-BD9B-6DB6C5A38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E227-6243-439F-BCC2-ECAB17E3F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152280" y="7952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146240"/>
                <a:gridCol w="102060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4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po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 Comply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 &amp; Extent of Radi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activ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Radiological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30A9E8E-F34D-4509-9453-E43805BC77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= Fetal Age at time of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ransfer Coefficient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milated Radioactivity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ory Guide 8.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= mrem/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185D410-046A-4719-91FC-F85B729153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Cont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(Skin) Dose Equivalent (SDE) = Dose to a depth of 0.007 cm (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ep Dose Equivalent (DDE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1 cm (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s of Eye Dose Equivalent (LDE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0.3 cm (3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37323BE-6EB9-4E64-98C2-F161682312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mination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ions Required fo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 (54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 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/= 10 mrem (170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8A58BE5-041E-4606-91DD-8C3ECDB761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tivity-Hour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(2.22 E 6)(Eff.)(Are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Activity-h Concentration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Counts per Minute-hour Total, cpm-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22 E 6 = Conversion:  2.22E6 dpm/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ff = Detector Counting Efficienc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pm/dpm (0.10 for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rea = Surface Area (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SD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DDE or L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C7421ED-53E3-4121-9762-DD4914A905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llow (Skin)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S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Surface (Skin)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rad) for Beta 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=S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3,7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Beta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8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E1A58E6-4FDE-4431-9512-52B687C8A1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ep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D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Deep Dose Equivalent (mra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f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 =D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1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DB70C3C-A955-447C-9B98-AD12AD4A5F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Hot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Usual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0 mic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ivity Usually At Least 0.1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y Discrete Particle &gt;/= 20,000 c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se Calculation Same as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9E9600F-98EE-43AF-9C0B-078C5CDFDE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Organ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TO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DDE &amp;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E = DDE +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6270A36-9F92-43E1-8292-5B671BAF74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Effec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 (TE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Internal (CEDE) and External (DDE) Expo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= CEDE +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/&gt; Workers Age (Years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ker Limited to 1,0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9F0A004-39BA-40E9-B468-B0C4DE2183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Track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Repor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% of Limit – Dos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 % of Limit – Dose Extension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Restricted Access to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tion of Prior Dose –NRC Form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Exposure Report – NRC For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31802AA-D25F-4930-BB51-B30A3290EE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External Monito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10% of 10CFR20.1201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gt; 0.15 rem (1.5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Dose &gt; 0.5 rem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During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ntering High or Very High Radi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D1283D6-E339-46A3-BA95-426D4C8A4E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– It’s Everywh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 Exposure – AL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s Low for Low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Limits – 10CFR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62C2A6E-3435-4E02-8C08-CBD1891DE5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In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reta 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8062B24-45EB-4D44-87AE-5B40F2EC2C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and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ed Dose - rad, 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Equivalent - rem, S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&amp; D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/Tissue Dose –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B16CB3A-7E78-4E42-BBFD-871ECD3406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Monitoring for Internal Expos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r than 10% of Applicable 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 0.1 rem (1 mSv) Dur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1DBA436-6EB8-4B19-8BD8-A72C91E21C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Limits &amp;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5 rems (0.05 Sv)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+ CDE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lt;/= 15 rem (0.1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 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VA Administrative Limi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DE &lt;/= 1 rem (0.01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7E9044F-6693-4A3B-BBC6-2685D47738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nned Special Exposures (P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di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thorized in Writin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fo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osure Oc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Do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structed in Meas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Keep Doses ALA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629A6C6-5197-4AC2-B188-9C4C51C6AD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mergency Dose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ary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formed of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Rem TEDE to Prev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Damage to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Hazard to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Rem TEDE to Save a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F0F73D2-23A4-4CD9-80C3-F7E7167391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to Pregnant W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y of Regulatory Guide 8.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 Airborne or Contaminate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itial Whole Body Count 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7EDD495-243C-4397-8310-112ECE59E7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s of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9405841-C426-41A3-8816-4AE9ABEAD2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Partial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992B333-1B0A-41F5-AF96-F3B0911CB1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moluminesc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o – H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minescent -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FB2F995-50B1-43EE-B6AD-6598F14703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sonne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HTP001.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4C60468-C877-4BA9-978C-F261373841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n T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4" descr="TCD01"/>
          <p:cNvPicPr/>
          <p:nvPr/>
        </p:nvPicPr>
        <p:blipFill>
          <a:blip r:embed="rId1"/>
          <a:stretch/>
        </p:blipFill>
        <p:spPr>
          <a:xfrm>
            <a:off x="1905120" y="2228760"/>
            <a:ext cx="5333760" cy="3268800"/>
          </a:xfrm>
          <a:prstGeom prst="rect">
            <a:avLst/>
          </a:prstGeom>
          <a:ln w="0">
            <a:noFill/>
          </a:ln>
        </p:spPr>
      </p:pic>
      <p:sp>
        <p:nvSpPr>
          <p:cNvPr id="7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65EDC8A-0122-4557-8B17-E7CC77F43F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95CAA35-34AB-4973-B154-6E91814113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Cu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Range (10 mR to 100,000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Data Retention (Low F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X-Rays, and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usable and Econom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t Susceptible to Radio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572A087-B52D-46F9-A4DD-425E022729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Bo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 rot="16200000">
            <a:off x="-1334520" y="3143880"/>
            <a:ext cx="38289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adiation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0FACB22-11DB-4B28-98CC-6286B2E1B44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1428840" y="186696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5"/>
          <p:cNvSpPr/>
          <p:nvPr/>
        </p:nvSpPr>
        <p:spPr>
          <a:xfrm>
            <a:off x="1542960" y="3600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7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8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9"/>
          <p:cNvSpPr/>
          <p:nvPr/>
        </p:nvSpPr>
        <p:spPr>
          <a:xfrm>
            <a:off x="1428840" y="2819520"/>
            <a:ext cx="32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1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180972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8"/>
          <p:cNvSpPr/>
          <p:nvPr/>
        </p:nvSpPr>
        <p:spPr>
          <a:xfrm flipV="1">
            <a:off x="1657440" y="2876040"/>
            <a:ext cx="1047600" cy="9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238560" y="2781360"/>
            <a:ext cx="1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1"/>
          <p:cNvSpPr/>
          <p:nvPr/>
        </p:nvSpPr>
        <p:spPr>
          <a:xfrm flipV="1">
            <a:off x="2647800" y="2743200"/>
            <a:ext cx="66708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2"/>
          <p:cNvSpPr/>
          <p:nvPr/>
        </p:nvSpPr>
        <p:spPr>
          <a:xfrm flipV="1">
            <a:off x="3295800" y="2705040"/>
            <a:ext cx="1028520" cy="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3"/>
          <p:cNvSpPr/>
          <p:nvPr/>
        </p:nvSpPr>
        <p:spPr>
          <a:xfrm flipV="1">
            <a:off x="1695600" y="4991040"/>
            <a:ext cx="1085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4"/>
          <p:cNvSpPr/>
          <p:nvPr/>
        </p:nvSpPr>
        <p:spPr>
          <a:xfrm flipV="1">
            <a:off x="2800440" y="4914720"/>
            <a:ext cx="571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5"/>
          <p:cNvSpPr/>
          <p:nvPr/>
        </p:nvSpPr>
        <p:spPr>
          <a:xfrm>
            <a:off x="3352680" y="489600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6"/>
          <p:cNvSpPr/>
          <p:nvPr/>
        </p:nvSpPr>
        <p:spPr>
          <a:xfrm>
            <a:off x="103392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3392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8"/>
          <p:cNvSpPr/>
          <p:nvPr/>
        </p:nvSpPr>
        <p:spPr>
          <a:xfrm>
            <a:off x="1014840" y="175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9"/>
          <p:cNvSpPr/>
          <p:nvPr/>
        </p:nvSpPr>
        <p:spPr>
          <a:xfrm>
            <a:off x="1071720" y="563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0"/>
          <p:cNvSpPr/>
          <p:nvPr/>
        </p:nvSpPr>
        <p:spPr>
          <a:xfrm>
            <a:off x="1090800" y="478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1109880" y="405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2"/>
          <p:cNvSpPr/>
          <p:nvPr/>
        </p:nvSpPr>
        <p:spPr>
          <a:xfrm>
            <a:off x="4938480" y="26114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4957560" y="4745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5"/>
          <p:cNvSpPr/>
          <p:nvPr/>
        </p:nvSpPr>
        <p:spPr>
          <a:xfrm>
            <a:off x="1357920" y="5694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6"/>
          <p:cNvSpPr/>
          <p:nvPr/>
        </p:nvSpPr>
        <p:spPr>
          <a:xfrm>
            <a:off x="2386080" y="569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7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4367880" y="5713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Tm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:  1 mR to 1,0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up to about 2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and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ver responds to Low Energy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Useful for Environmental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E23C71F-ED0B-47C5-A7F9-F3BA94167B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ium Sulf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 rot="16200000">
            <a:off x="-1524960" y="2839320"/>
            <a:ext cx="41720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diation Respon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9F8762B-6E79-4DE2-8D33-E9ED4C429E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1467000" y="184788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16192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7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8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4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6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8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9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173340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109080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105300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957960" y="220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5"/>
          <p:cNvSpPr/>
          <p:nvPr/>
        </p:nvSpPr>
        <p:spPr>
          <a:xfrm>
            <a:off x="10908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6"/>
          <p:cNvSpPr/>
          <p:nvPr/>
        </p:nvSpPr>
        <p:spPr>
          <a:xfrm>
            <a:off x="1071720" y="481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7"/>
          <p:cNvSpPr/>
          <p:nvPr/>
        </p:nvSpPr>
        <p:spPr>
          <a:xfrm>
            <a:off x="1071720" y="403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8"/>
          <p:cNvSpPr/>
          <p:nvPr/>
        </p:nvSpPr>
        <p:spPr>
          <a:xfrm>
            <a:off x="1486080" y="302904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32"/>
          <p:cNvSpPr/>
          <p:nvPr/>
        </p:nvSpPr>
        <p:spPr>
          <a:xfrm>
            <a:off x="148608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6"/>
          <p:cNvSpPr/>
          <p:nvPr/>
        </p:nvSpPr>
        <p:spPr>
          <a:xfrm>
            <a:off x="1847880" y="2209680"/>
            <a:ext cx="2514600" cy="1409760"/>
          </a:xfrm>
          <a:custGeom>
            <a:avLst/>
            <a:gdLst/>
            <a:ahLst/>
            <a:rect l="l" t="t" r="r" b="b"/>
            <a:pathLst>
              <a:path w="1584" h="888">
                <a:moveTo>
                  <a:pt x="0" y="0"/>
                </a:moveTo>
                <a:cubicBezTo>
                  <a:pt x="36" y="24"/>
                  <a:pt x="72" y="36"/>
                  <a:pt x="108" y="60"/>
                </a:cubicBezTo>
                <a:cubicBezTo>
                  <a:pt x="133" y="135"/>
                  <a:pt x="161" y="219"/>
                  <a:pt x="228" y="264"/>
                </a:cubicBezTo>
                <a:cubicBezTo>
                  <a:pt x="241" y="303"/>
                  <a:pt x="275" y="333"/>
                  <a:pt x="288" y="372"/>
                </a:cubicBezTo>
                <a:cubicBezTo>
                  <a:pt x="315" y="454"/>
                  <a:pt x="324" y="480"/>
                  <a:pt x="372" y="552"/>
                </a:cubicBezTo>
                <a:cubicBezTo>
                  <a:pt x="388" y="575"/>
                  <a:pt x="472" y="754"/>
                  <a:pt x="492" y="768"/>
                </a:cubicBezTo>
                <a:cubicBezTo>
                  <a:pt x="516" y="784"/>
                  <a:pt x="540" y="800"/>
                  <a:pt x="564" y="816"/>
                </a:cubicBezTo>
                <a:cubicBezTo>
                  <a:pt x="585" y="830"/>
                  <a:pt x="612" y="832"/>
                  <a:pt x="636" y="840"/>
                </a:cubicBezTo>
                <a:cubicBezTo>
                  <a:pt x="781" y="888"/>
                  <a:pt x="875" y="881"/>
                  <a:pt x="1044" y="888"/>
                </a:cubicBezTo>
                <a:cubicBezTo>
                  <a:pt x="1130" y="877"/>
                  <a:pt x="1203" y="855"/>
                  <a:pt x="1284" y="828"/>
                </a:cubicBezTo>
                <a:cubicBezTo>
                  <a:pt x="1326" y="814"/>
                  <a:pt x="1372" y="820"/>
                  <a:pt x="1416" y="816"/>
                </a:cubicBezTo>
                <a:cubicBezTo>
                  <a:pt x="1570" y="765"/>
                  <a:pt x="1412" y="814"/>
                  <a:pt x="1548" y="780"/>
                </a:cubicBezTo>
                <a:cubicBezTo>
                  <a:pt x="1560" y="777"/>
                  <a:pt x="1584" y="768"/>
                  <a:pt x="1584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7"/>
          <p:cNvSpPr/>
          <p:nvPr/>
        </p:nvSpPr>
        <p:spPr>
          <a:xfrm>
            <a:off x="1847880" y="4743360"/>
            <a:ext cx="743040" cy="381240"/>
          </a:xfrm>
          <a:custGeom>
            <a:avLst/>
            <a:gdLst/>
            <a:ahLst/>
            <a:rect l="l" t="t" r="r" b="b"/>
            <a:pathLst>
              <a:path w="468" h="240">
                <a:moveTo>
                  <a:pt x="0" y="240"/>
                </a:moveTo>
                <a:cubicBezTo>
                  <a:pt x="21" y="177"/>
                  <a:pt x="64" y="163"/>
                  <a:pt x="120" y="144"/>
                </a:cubicBezTo>
                <a:cubicBezTo>
                  <a:pt x="128" y="132"/>
                  <a:pt x="133" y="117"/>
                  <a:pt x="144" y="108"/>
                </a:cubicBezTo>
                <a:cubicBezTo>
                  <a:pt x="166" y="89"/>
                  <a:pt x="216" y="60"/>
                  <a:pt x="216" y="60"/>
                </a:cubicBezTo>
                <a:cubicBezTo>
                  <a:pt x="251" y="7"/>
                  <a:pt x="263" y="15"/>
                  <a:pt x="324" y="0"/>
                </a:cubicBezTo>
                <a:cubicBezTo>
                  <a:pt x="348" y="8"/>
                  <a:pt x="388" y="0"/>
                  <a:pt x="396" y="24"/>
                </a:cubicBezTo>
                <a:cubicBezTo>
                  <a:pt x="400" y="36"/>
                  <a:pt x="400" y="50"/>
                  <a:pt x="408" y="60"/>
                </a:cubicBezTo>
                <a:cubicBezTo>
                  <a:pt x="424" y="80"/>
                  <a:pt x="450" y="90"/>
                  <a:pt x="468" y="1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9"/>
          <p:cNvSpPr/>
          <p:nvPr/>
        </p:nvSpPr>
        <p:spPr>
          <a:xfrm flipV="1">
            <a:off x="2590920" y="4933440"/>
            <a:ext cx="12189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7"/>
          <p:cNvSpPr/>
          <p:nvPr/>
        </p:nvSpPr>
        <p:spPr>
          <a:xfrm>
            <a:off x="3695760" y="4759200"/>
            <a:ext cx="762120" cy="174600"/>
          </a:xfrm>
          <a:custGeom>
            <a:avLst/>
            <a:gdLst/>
            <a:ahLst/>
            <a:rect l="l" t="t" r="r" b="b"/>
            <a:pathLst>
              <a:path w="480" h="110">
                <a:moveTo>
                  <a:pt x="0" y="110"/>
                </a:moveTo>
                <a:cubicBezTo>
                  <a:pt x="67" y="104"/>
                  <a:pt x="138" y="104"/>
                  <a:pt x="204" y="86"/>
                </a:cubicBezTo>
                <a:cubicBezTo>
                  <a:pt x="280" y="65"/>
                  <a:pt x="354" y="42"/>
                  <a:pt x="432" y="26"/>
                </a:cubicBezTo>
                <a:cubicBezTo>
                  <a:pt x="471" y="0"/>
                  <a:pt x="454" y="2"/>
                  <a:pt x="48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8"/>
          <p:cNvSpPr/>
          <p:nvPr/>
        </p:nvSpPr>
        <p:spPr>
          <a:xfrm>
            <a:off x="1319760" y="5675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9"/>
          <p:cNvSpPr/>
          <p:nvPr/>
        </p:nvSpPr>
        <p:spPr>
          <a:xfrm>
            <a:off x="2348280" y="5675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1"/>
          <p:cNvSpPr/>
          <p:nvPr/>
        </p:nvSpPr>
        <p:spPr>
          <a:xfrm>
            <a:off x="4329720" y="569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2"/>
          <p:cNvSpPr/>
          <p:nvPr/>
        </p:nvSpPr>
        <p:spPr>
          <a:xfrm>
            <a:off x="4843440" y="2459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4957560" y="4687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mitations of Both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Heat, Moisture, and 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Shield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to Improper Wear b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use Results in Incorrec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s from Logistical/Record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8A582FE-41EA-46AF-AAC4-404E3D25CE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EDDC66C-CD7B-42B5-822A-068BCD5DF2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Picture 4" descr="MVC-030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FB402C8-2A03-4A58-947F-98F520F0C2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762120" y="285840"/>
            <a:ext cx="65912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Thermoluminescent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1" name="Picture 7" descr="MVC-023F"/>
          <p:cNvPicPr/>
          <p:nvPr/>
        </p:nvPicPr>
        <p:blipFill>
          <a:blip r:embed="rId1"/>
          <a:stretch/>
        </p:blipFill>
        <p:spPr>
          <a:xfrm>
            <a:off x="0" y="0"/>
            <a:ext cx="7683480" cy="6126120"/>
          </a:xfrm>
          <a:prstGeom prst="rect">
            <a:avLst/>
          </a:prstGeom>
          <a:ln w="0">
            <a:noFill/>
          </a:ln>
        </p:spPr>
      </p:pic>
      <p:sp>
        <p:nvSpPr>
          <p:cNvPr id="8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D3C749B-3C60-412C-8B00-7DC9E4F8A6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781520" y="6667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1"/>
          <p:cNvSpPr/>
          <p:nvPr/>
        </p:nvSpPr>
        <p:spPr>
          <a:xfrm>
            <a:off x="4686480" y="228600"/>
            <a:ext cx="2781000" cy="132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&amp;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, Exposure Limits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&amp; Dose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3015784-36AE-42C2-B50A-40491A04A8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Picture 4" descr="MVC-03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8B316DD-C74E-4350-99EA-4A633EC8CD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7"/>
          <p:cNvSpPr/>
          <p:nvPr/>
        </p:nvSpPr>
        <p:spPr>
          <a:xfrm>
            <a:off x="0" y="2286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2476440" y="361800"/>
            <a:ext cx="2266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EC8B7B5-BB12-4639-8A72-92CEA12111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asuring Neutrons with T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Rather Tha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Neutrons not Directly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s Moderat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Recoil Neutrons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bedo Effec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F343C56-1EF1-479A-B415-1B01A423B7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34B3EF2-EE5A-4C2C-AF6A-256407F7F5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ding 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1057320" y="2592360"/>
            <a:ext cx="7029360" cy="254160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B6F1676-2C37-49FB-B62A-D00BE9E31B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Calib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Cal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QC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QC TLDs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247C659-F159-4E45-BEED-233D470351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QC/Q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S Accredited by NIST and NVL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mparison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&amp; Verification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stical Revi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d by Exter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Manage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Internal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B1686CE-F3FF-4893-B701-34ECB97FF9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dge Issue &amp;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&amp; Collected by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Assigns a TLD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for a 3-Month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d by T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LDs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0E4ABD3-5857-4D3E-A046-8FF6C45EA1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ecial Pu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Dose Limits Exc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D Off Scale or Displays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/Relocation of Employ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Badge or Neutr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9DED406-EFA9-4E66-9BF4-D153C0F0E8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the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 of Body, Neck to Wa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May Requir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Coveralls in Contamin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Open or Pamper With the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735149B-DEFA-4F2A-B621-866C4FDB56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Dos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Regulations &amp;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ar with Radiation Monitoring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Operation of Various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imetry Administrative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Multiple &amp; Extremity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ry for Various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2C161D3-EF5D-4FBB-9FBC-26AEEB96BF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8" descr="MVC-041F"/>
          <p:cNvPicPr/>
          <p:nvPr/>
        </p:nvPicPr>
        <p:blipFill>
          <a:blip r:embed="rId1"/>
          <a:stretch/>
        </p:blipFill>
        <p:spPr>
          <a:xfrm>
            <a:off x="-422280" y="0"/>
            <a:ext cx="5192640" cy="603252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p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a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simet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6D86E67-0F57-4A71-A4DD-9DDA77FD72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ple Bad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/h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est Dose Location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adiation Levels Unknow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ient Non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BCAB9DB-B6F4-42F4-9C26-E29D923EC4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-Badge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n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(Not Wo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1168403-DB7F-4107-B4E4-BFF8789AA7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Ba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500 mrem to Extre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Unshielded Beta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ole Body (Except Hands) Shiel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Small Non-Shielde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contamination of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love Box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I-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31FDC50-A9E1-42E7-897F-9DE4632B8A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Dosi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5" descr="MVC-036F"/>
          <p:cNvPicPr/>
          <p:nvPr/>
        </p:nvPicPr>
        <p:blipFill>
          <a:blip r:embed="rId1"/>
          <a:stretch/>
        </p:blipFill>
        <p:spPr>
          <a:xfrm>
            <a:off x="952560" y="1630440"/>
            <a:ext cx="7124760" cy="427824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023596E-13AC-48FE-829E-A4B1723ADF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Extremity Ba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Picture 7" descr="MVC-038F"/>
          <p:cNvPicPr/>
          <p:nvPr/>
        </p:nvPicPr>
        <p:blipFill>
          <a:blip r:embed="rId1"/>
          <a:stretch/>
        </p:blipFill>
        <p:spPr>
          <a:xfrm>
            <a:off x="1500120" y="1717560"/>
            <a:ext cx="6446880" cy="4222800"/>
          </a:xfrm>
          <a:prstGeom prst="rect">
            <a:avLst/>
          </a:prstGeom>
          <a:ln w="0">
            <a:noFill/>
          </a:ln>
        </p:spPr>
      </p:pic>
      <p:sp>
        <p:nvSpPr>
          <p:cNvPr id="9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EF5FE68-348C-4149-A098-0273DAFF86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ondary Dosi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y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eriodically During Job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on Front of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in Contamin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FDA5BC2-DA6C-4E46-8C2B-91CDB6B91A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4" descr="MVC-019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0F72732-1C82-4792-BC1A-1E4F8DB62F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"/>
          <p:cNvSpPr/>
          <p:nvPr/>
        </p:nvSpPr>
        <p:spPr>
          <a:xfrm>
            <a:off x="1542960" y="0"/>
            <a:ext cx="4419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Picture 4" descr="MVC-022F"/>
          <p:cNvPicPr/>
          <p:nvPr/>
        </p:nvPicPr>
        <p:blipFill>
          <a:blip r:embed="rId1"/>
          <a:stretch/>
        </p:blipFill>
        <p:spPr>
          <a:xfrm>
            <a:off x="0" y="266760"/>
            <a:ext cx="7588080" cy="58593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C626806-12FD-45C7-9ACB-11C341D903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838080" y="4991040"/>
            <a:ext cx="6248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9" name="Picture 4" descr="MVC-02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FE5D570-8C8B-4734-8CC2-DD2FBB39E4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4400640" y="533520"/>
            <a:ext cx="2514600" cy="147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ctions for Abnormal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Concepts of Internal Dosime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Radionuclides of Conc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Biological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e Calculation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of Radioactivity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and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2464684-DE20-43C1-B009-6872D5A2E7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20" descr="MVC-018F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9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DE7BFB0-A904-4F58-ACA4-425D9B2565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icted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A – TLD &amp; DAD/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Doses to Extremitie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BBED952-D0E0-4D14-95A5-256E2F2E35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 Areas –Process TLD for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Radiation Area – Secondary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High Radiation Area – Second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ed Special Exposure –Per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ors – Same as Esc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B9268A9-E1C3-49B6-AD8A-C2AD0E0379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meter Discrepa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er Investigative Report (DIR)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 or Damaged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/Damaged/Malfunctioning D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spect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condary Dosime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100 mrem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&lt;/= 25% Difference i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Customer Complaints &amp;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C4D63BE-BC53-4E0A-9449-63A22E3780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Path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W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90CD747-C9B6-4593-99F6-2621568A25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ducing Internal Expo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ating, Drinking, Smoking, Chew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Dipping in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Protective Clothing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ll W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ors in 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Work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8837325-EFB0-4599-9A12-060C77C594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imination of Internal Radio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ogical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19FC7F0-3AF9-4FCD-A7FA-EE2116BA57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tential Health Effects and Risk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6AE7702-50A2-4B33-AFBE-300B97432D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9960" y="9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urally Occurring Radioactive Materi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14440" y="257148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-4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8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 1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-2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2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AEA1B61-E654-40FF-B5EE-D40994AF1A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tential Health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,000 mrem (100 m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nver, CO, Background 1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No Adverse Biological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ncer Associated with &gt; 50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Leukemia, Lung, Colon &amp;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ng Laten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distinguishable from Cancers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Radiation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36F794F-37D0-44F1-B80D-57459F953F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sorbed D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y – The SI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y = 1 Joule/Kilogra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gray = 100 r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 – The Special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rad = 100 ergs/gram or 0.01 Joule/k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ad = 0.01 gr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FCFF9C0-4AE3-438E-9C6B-CDB40D3081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&amp; Physical Hazards Contribute to the Same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BEC4305-49C5-4719-A3F9-756EFFFB7D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3812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38120" y="17330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– Activity/Volume of Ai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x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c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– Curies of Radioactive Mater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n into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– (10CFR20, Appendix B, Table 1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of Radioactive Material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lmonary Region of the Lu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=Days, W=Weeks, Y=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E598133-26CF-4171-AABD-A2F17756DD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Limit on Intake (ALI) –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Taken into the Body in 1 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00 h) Resulting in a CEDE (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Dose) of 5 rem (0.05 Sv) or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(Organ Dose) of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raction (fALI) – Fraction of ALI from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ntake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I = Intak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AL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05A3F5C-D473-4E9B-B437-B8EFD5F252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ALI(s) for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or Class W = 2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 for Class Y =    30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FB80645-09AA-44D2-85CB-81E9422EAB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8120" y="63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8860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d Air Concentration (DAC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of Air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Breathed for 2000 h at 1.2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,000 ml/min) Results in an Intak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1 AL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,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A2E1334-E8EF-429E-B702-DDBC8B667F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812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Betwee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57200" y="21718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= AL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(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Breathing Rate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000 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20,000 ml/min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.4 E 9 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E0545EE-35C7-4B60-89A4-E30F888DDC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Fraction (fDAC) – Fraction of DA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ing from Exposure to a Specif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of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AC = Conc.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/DA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our – The fDAC Multiplied by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Exposure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fDAC)(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8D4453C-B928-4C9D-84C9-1EBA030F84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 Fraction (fDAC) for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1 E -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 of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Oxide Fo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for Co-60 (Oxide Form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E -8 µCi/ml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AC = (1 E -9 µCi/ml)/(1 E -8 µCi/ml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, fDAC = 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661DE29-5713-4091-A574-83F5068083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-h for Sample Problem # 3 Where the Exposure Time is 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0.1)(3 h), o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0.3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826E454-5F92-44C1-8EE8-0734E06C0D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-h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ALI is Based on an Exposur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rem (5,000 mrem) in 2,000 hours/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,000 mrem/2000 h = 2.5 mrem/DAC-h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DAC-h = 2.5 mrem 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11F4266-756B-4A65-9D79-2422F43EC3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 – The Special Unit of Any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= Absorbed Dose times 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em = 0.01 siev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evert (Sv) – The SI Unit of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Sv = 100 r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2CB6C66-DCD5-4D98-8A5A-3A71A53DEB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57200" y="22474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Concept of ALI and DA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if a Worker Should W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spirator for a Specific Task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FB32581-FAE9-4E04-8DE5-548F4434BA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= 24 mrem/h, Plus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Tim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Respirator = 2 h, 20 min, or 2.33 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DAC-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17267BA-F68B-4A22-AF2B-42AC24AE20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ose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.33 h) = 56 mrem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Direct Radia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xposure from Airbor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(Respir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523ABAB-4E4D-4D92-A7D9-C00469BF5B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Not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 h) = 48 mrem, Dir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 DAC-h)(2.5 mrem/DAC-h) = 5 m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Airborne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= 48 mrem + 5 mrem = 53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7404BB2-339B-430F-B200-8761002890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aring a Respirator,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 Will Rece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Dose Equivalent, Therefo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Respirator Should be Worn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C44A1B-0B20-4592-931A-B1ADF74A6E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ing Intern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dioactivity (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CFR20.1204 Requires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Take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s of Radioactive Materi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ir in Work Areas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in the Bod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Excre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Body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s of thes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8C25985-5404-445E-A94F-ECBB8CEB71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Means Used at TVA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Compli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Sampling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ing DAC-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7C7FC55-FCC0-444E-91F7-910E11D33B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Dos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 Monitoring Require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0.1 ALI or 20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Adu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/= 100 mrem or 4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Pregnant Wom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C10B3E3-1679-4137-9E91-C6F2DA34BA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assa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Initial Entry to Contamination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n Face Indicates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al Contamination De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or Suspected I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f Open W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(Evaluate Contro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03F7065-3A8F-40C4-82AA-8507C9363B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In-Vivo 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Bioassay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use Bed, Chair, Booth, or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etectors Placed Near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cumulated by Multichannel Analy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nalyzed by Compute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ed if Expos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20 DAC-h/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DF3ACD3-489B-4191-ABF9-BF68EBF027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ality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6292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of Rad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pha, Fis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ragments, et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2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utrons (Unknown Ener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-Energy Prot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22AA8AC-EEB3-4344-B611-EA4F133294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14" descr="MVC-001F"/>
          <p:cNvPicPr/>
          <p:nvPr/>
        </p:nvPicPr>
        <p:blipFill>
          <a:blip r:embed="rId1"/>
          <a:stretch/>
        </p:blipFill>
        <p:spPr>
          <a:xfrm>
            <a:off x="0" y="0"/>
            <a:ext cx="7943760" cy="595944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B28FB79-A043-46AE-B3A4-FDA67CB0EA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0" y="1455840"/>
            <a:ext cx="246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I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9"/>
          <p:cNvSpPr/>
          <p:nvPr/>
        </p:nvSpPr>
        <p:spPr>
          <a:xfrm>
            <a:off x="1676520" y="2000160"/>
            <a:ext cx="118116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285840" y="723960"/>
            <a:ext cx="302904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yroid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5886360" y="1657440"/>
            <a:ext cx="2171880" cy="116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rm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9"/>
          <p:cNvSpPr/>
          <p:nvPr/>
        </p:nvSpPr>
        <p:spPr>
          <a:xfrm flipH="1">
            <a:off x="5238720" y="2781360"/>
            <a:ext cx="95256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0"/>
          <p:cNvSpPr/>
          <p:nvPr/>
        </p:nvSpPr>
        <p:spPr>
          <a:xfrm>
            <a:off x="2990880" y="1257480"/>
            <a:ext cx="76212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1"/>
          <p:cNvSpPr/>
          <p:nvPr/>
        </p:nvSpPr>
        <p:spPr>
          <a:xfrm>
            <a:off x="2133720" y="1943280"/>
            <a:ext cx="150480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12" descr="MVC-002F"/>
          <p:cNvPicPr/>
          <p:nvPr/>
        </p:nvPicPr>
        <p:blipFill>
          <a:blip r:embed="rId1"/>
          <a:stretch/>
        </p:blipFill>
        <p:spPr>
          <a:xfrm>
            <a:off x="30240" y="0"/>
            <a:ext cx="4587840" cy="61340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781520" y="2400480"/>
            <a:ext cx="403848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oth Wh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dy Cou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D4A50D2-ED56-42A7-8D83-DF1C07FFDA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7" name="Picture 14" descr="MVC-006F"/>
          <p:cNvPicPr/>
          <p:nvPr/>
        </p:nvPicPr>
        <p:blipFill>
          <a:blip r:embed="rId1"/>
          <a:stretch/>
        </p:blipFill>
        <p:spPr>
          <a:xfrm>
            <a:off x="0" y="0"/>
            <a:ext cx="4583160" cy="61340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hannel Analyzer System Used for Whole Body 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20C063C-2983-4F63-BB8A-F473FDEECF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BC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Performance Ver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QA)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Traceable to 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Expected 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MQA Inter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ind Phan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Results with Know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38932BB-5500-489B-8322-CB17C4A670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ntaminate and Follow-up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Unt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tivity 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ore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tic Count if Radioactivity Contin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25E0EF1-E194-4B55-85D2-0C606E4D30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 (WBC)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Sampl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32D2501-2486-4377-8894-92D191CA0F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and Fecal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s Taken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58323A6-EEC9-4173-8654-62F7BE7FBD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d by ERM&amp;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Individual’s Exposur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5888546-F621-44FA-A772-8DE7CF5346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quired A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ul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&gt;/= 0.01 ALI or 20 DAC-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Internal &amp;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Intake &amp; C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on NRC Form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C2F95CF-24A2-4BEF-B35C-57879338A8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erms &amp;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tted Effective Dose Equivalent-(CE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a Func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ALI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&amp; DAC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Dose 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e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78AF376-E684-4D3B-9CED-42B0D84D5A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nel Monitoring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quired by 10CFR20.15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734FE8E-7B3A-419E-A694-9B8995ACEB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DE From C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CDE), W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Weighting Factor (rem) for ea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Organ or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BF85330-3B15-4657-8D44-309323B392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uclide 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f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ALI for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CBDB36F-8C8A-4AA0-9E0E-6C34917F71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t)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5 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 Airborne Concentration (µCi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Time of Exposure (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AC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E7A4CB6-278F-46A3-BA2C-23D725B2BD1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Nuclide Int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&amp; 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Used by HIS-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,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&amp;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PA Report No. 11), 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3C5B757-8E5B-49D4-A511-8B4EAFABC0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itted Dose Equiva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gan or Tissue Specific Committed Dose Equivalent (CDE) Must be Calculated When the 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.0 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 an Overdose has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BBD0DD2-9CF8-4229-80EF-89443FF64C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ederal Guidance Report No.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uidance Report No. 11 (EPA Report No. 11) Provides Conversion Factors for CDE per Unit Intake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alation (Table 2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(Table 2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ion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/Bq * 3.7 E 6 = re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v/Bq * 3.7 E 9 = m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04E6C65-9299-47FD-A1B3-FA416A692C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0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Intake for Nuclide i (µCi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ALI for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0AE8E5C-7E87-4EA9-9797-FB0C607FE6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0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50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]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=Committed Dose Equivalent (m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Airborne Concentration of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Duration of Exposure (hou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DAC for Nuclide i 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E1D2DF8-8AB2-4DA9-805B-C39BC74830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Intake &amp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i *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ommitted Dose Equivalent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or Tissue 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Intake for Nuclide 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and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/µCi) from Federal Guid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port No.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3586B7C-9CE6-4A05-86D0-B4312A875C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1,000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E = Dose Equivalent (mrem) to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take (µCi)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Fetal Dose Conver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(rem/µCi) for Mothe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ssimilation of Radionuclide i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etal Age t (Regulatory Guide 8.3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CB1CCDF-4D69-40C1-B462-8C64240596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6:16:16Z</dcterms:created>
  <dc:creator>Ralph G. Wallace`</dc:creator>
  <dc:description/>
  <dc:language>en-US</dc:language>
  <cp:lastModifiedBy>Peggy Hines IRSC</cp:lastModifiedBy>
  <dcterms:modified xsi:type="dcterms:W3CDTF">2013-02-18T19:25:41Z</dcterms:modified>
  <cp:revision>28</cp:revision>
  <dc:subject/>
  <dc:title>Personnel Monitoring</dc:title>
</cp:coreProperties>
</file>