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7.jpeg" ContentType="image/jpeg"/>
  <Override PartName="/ppt/media/image6.wmf" ContentType="image/x-wmf"/>
  <Override PartName="/ppt/media/image8.wmf" ContentType="image/x-wmf"/>
  <Override PartName="/ppt/media/image9.wmf" ContentType="image/x-wmf"/>
  <Override PartName="/ppt/media/image10.jpeg" ContentType="image/jpe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64" name="PlaceHolder 2"/>
          <p:cNvSpPr>
            <a:spLocks noGrp="1"/>
          </p:cNvSpPr>
          <p:nvPr>
            <p:ph type="dt" idx="4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67" name="PlaceHolder 5"/>
          <p:cNvSpPr>
            <a:spLocks noGrp="1"/>
          </p:cNvSpPr>
          <p:nvPr>
            <p:ph type="ftr" idx="5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68" name="PlaceHolder 6"/>
          <p:cNvSpPr>
            <a:spLocks noGrp="1"/>
          </p:cNvSpPr>
          <p:nvPr>
            <p:ph type="sldNum" idx="5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4D284-B292-42FB-B7EB-A6417C203F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A0EF8-BBD3-45FD-8A3D-8E10306EDD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6283C-860E-4013-B602-6A792C5D29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2D634-83CE-4C3C-B144-A5A89E0B01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1"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E5215-A2C2-4650-84F4-15BCC69D89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2"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6322D-4502-4CA7-B753-45F8B02AD5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93" name="PlaceHolder 1"/>
          <p:cNvSpPr>
            <a:spLocks noGrp="1"/>
          </p:cNvSpPr>
          <p:nvPr>
            <p:ph type="sldImg"/>
          </p:nvPr>
        </p:nvSpPr>
        <p:spPr>
          <a:xfrm>
            <a:off x="1143000" y="687240"/>
            <a:ext cx="4572000" cy="3429000"/>
          </a:xfrm>
          <a:prstGeom prst="rect">
            <a:avLst/>
          </a:prstGeom>
          <a:ln w="0">
            <a:noFill/>
          </a:ln>
        </p:spPr>
      </p:sp>
      <p:sp>
        <p:nvSpPr>
          <p:cNvPr id="794"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04F1F-B548-4A67-998A-ECE932CAA1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13A64-1BA1-4E6D-9A6D-49EE45612E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7"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684BF-D35B-4C33-9B65-0EE66DDD7D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8"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4D070-AD24-4525-AEE6-1273BCF6E57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99" name="PlaceHolder 1"/>
          <p:cNvSpPr>
            <a:spLocks noGrp="1"/>
          </p:cNvSpPr>
          <p:nvPr>
            <p:ph type="sldImg"/>
          </p:nvPr>
        </p:nvSpPr>
        <p:spPr>
          <a:xfrm>
            <a:off x="1143000" y="687240"/>
            <a:ext cx="4572000" cy="3429000"/>
          </a:xfrm>
          <a:prstGeom prst="rect">
            <a:avLst/>
          </a:prstGeom>
          <a:ln w="0">
            <a:noFill/>
          </a:ln>
        </p:spPr>
      </p:sp>
      <p:sp>
        <p:nvSpPr>
          <p:cNvPr id="800"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1BAEA-22ED-402F-AA87-7E27430A81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5DA3E-B00C-4D57-BD6E-69FBBC8E8D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3"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3C573-4E5A-491D-9659-76998354BE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4"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AADB2-C1BA-4ABC-8E6C-3FE55AD29C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05" name="PlaceHolder 1"/>
          <p:cNvSpPr>
            <a:spLocks noGrp="1"/>
          </p:cNvSpPr>
          <p:nvPr>
            <p:ph type="sldImg"/>
          </p:nvPr>
        </p:nvSpPr>
        <p:spPr>
          <a:xfrm>
            <a:off x="1143000" y="687240"/>
            <a:ext cx="4572000" cy="3429000"/>
          </a:xfrm>
          <a:prstGeom prst="rect">
            <a:avLst/>
          </a:prstGeom>
          <a:ln w="0">
            <a:noFill/>
          </a:ln>
        </p:spPr>
      </p:sp>
      <p:sp>
        <p:nvSpPr>
          <p:cNvPr id="806"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A51D1-A342-42D8-9758-EE317034C9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75152-6538-4035-9938-17B0A4A94A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9"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8F864-9332-4B3C-B375-0F88BC8743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0"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70F41-5400-47ED-8CD9-E8DD1DA5CE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11" name="PlaceHolder 1"/>
          <p:cNvSpPr>
            <a:spLocks noGrp="1"/>
          </p:cNvSpPr>
          <p:nvPr>
            <p:ph type="sldImg"/>
          </p:nvPr>
        </p:nvSpPr>
        <p:spPr>
          <a:xfrm>
            <a:off x="1143000" y="687240"/>
            <a:ext cx="4572000" cy="3429000"/>
          </a:xfrm>
          <a:prstGeom prst="rect">
            <a:avLst/>
          </a:prstGeom>
          <a:ln w="0">
            <a:noFill/>
          </a:ln>
        </p:spPr>
      </p:sp>
      <p:sp>
        <p:nvSpPr>
          <p:cNvPr id="812"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BCB4A-56DE-4AD4-B0D3-7EB527503E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04C46-6BA4-4463-BC30-1B5F54C52A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5"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814DB-13FB-42F9-8F91-3FAD2EF27D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6"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BE850-68F0-43D7-96AD-FFC722B5A8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17" name="PlaceHolder 1"/>
          <p:cNvSpPr>
            <a:spLocks noGrp="1"/>
          </p:cNvSpPr>
          <p:nvPr>
            <p:ph type="sldImg"/>
          </p:nvPr>
        </p:nvSpPr>
        <p:spPr>
          <a:xfrm>
            <a:off x="1143000" y="687240"/>
            <a:ext cx="4572000" cy="3429000"/>
          </a:xfrm>
          <a:prstGeom prst="rect">
            <a:avLst/>
          </a:prstGeom>
          <a:ln w="0">
            <a:noFill/>
          </a:ln>
        </p:spPr>
      </p:sp>
      <p:sp>
        <p:nvSpPr>
          <p:cNvPr id="818"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FEB5D-0AC9-48BD-85D3-9670E06BBF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42231-7AB1-434E-80F0-29DE23DAC2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1"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A3F31-46B5-44FC-B4A0-CCB576662D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2"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3484F-BD2A-4B4D-B0EE-30654D959D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23" name="PlaceHolder 1"/>
          <p:cNvSpPr>
            <a:spLocks noGrp="1"/>
          </p:cNvSpPr>
          <p:nvPr>
            <p:ph type="sldImg"/>
          </p:nvPr>
        </p:nvSpPr>
        <p:spPr>
          <a:xfrm>
            <a:off x="1143000" y="687240"/>
            <a:ext cx="4572000" cy="3429000"/>
          </a:xfrm>
          <a:prstGeom prst="rect">
            <a:avLst/>
          </a:prstGeom>
          <a:ln w="0">
            <a:noFill/>
          </a:ln>
        </p:spPr>
      </p:sp>
      <p:sp>
        <p:nvSpPr>
          <p:cNvPr id="824"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75229-B919-4AB2-9DEE-4FCE0466F6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797BF-5C0A-4CCE-8309-55C2985A2F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7"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F8C36-0348-4A02-904B-4D9A96B07D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8C06B-A494-4A8C-8B5B-819C4E847E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29" name="PlaceHolder 1"/>
          <p:cNvSpPr>
            <a:spLocks noGrp="1"/>
          </p:cNvSpPr>
          <p:nvPr>
            <p:ph type="sldImg"/>
          </p:nvPr>
        </p:nvSpPr>
        <p:spPr>
          <a:xfrm>
            <a:off x="1143000" y="687240"/>
            <a:ext cx="4572000" cy="3429000"/>
          </a:xfrm>
          <a:prstGeom prst="rect">
            <a:avLst/>
          </a:prstGeom>
          <a:ln w="0">
            <a:noFill/>
          </a:ln>
        </p:spPr>
      </p:sp>
      <p:sp>
        <p:nvSpPr>
          <p:cNvPr id="830"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8F5DE-73D9-4323-9158-A2182E570E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D0BB0-7B2F-420C-9AB6-5EC791B522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3"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622FC-D6B0-49A1-A805-3ED3BB3AFA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4"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2EF8C-DD32-49A5-8F29-89A65C22DF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35" name="PlaceHolder 1"/>
          <p:cNvSpPr>
            <a:spLocks noGrp="1"/>
          </p:cNvSpPr>
          <p:nvPr>
            <p:ph type="sldImg"/>
          </p:nvPr>
        </p:nvSpPr>
        <p:spPr>
          <a:xfrm>
            <a:off x="1143000" y="687240"/>
            <a:ext cx="4572000" cy="3429000"/>
          </a:xfrm>
          <a:prstGeom prst="rect">
            <a:avLst/>
          </a:prstGeom>
          <a:ln w="0">
            <a:noFill/>
          </a:ln>
        </p:spPr>
      </p:sp>
      <p:sp>
        <p:nvSpPr>
          <p:cNvPr id="836"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D5E7B-B021-418D-BB46-D7843668D9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22194-75C4-450A-A9BC-A11FDF742E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9"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2FBCB-E5C1-4A84-80C1-60120F184A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4E3AD-13DB-49DB-AC11-C9B3969CF6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41" name="PlaceHolder 1"/>
          <p:cNvSpPr>
            <a:spLocks noGrp="1"/>
          </p:cNvSpPr>
          <p:nvPr>
            <p:ph type="sldImg"/>
          </p:nvPr>
        </p:nvSpPr>
        <p:spPr>
          <a:xfrm>
            <a:off x="1143000" y="687240"/>
            <a:ext cx="4572000" cy="3429000"/>
          </a:xfrm>
          <a:prstGeom prst="rect">
            <a:avLst/>
          </a:prstGeom>
          <a:ln w="0">
            <a:noFill/>
          </a:ln>
        </p:spPr>
      </p:sp>
      <p:sp>
        <p:nvSpPr>
          <p:cNvPr id="842"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753B3-26C0-41AE-BE47-EA15748DFD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4AC6F-C30E-4354-A047-435C036ACA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5"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A67FE-1879-4C77-9D48-56726B89C6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E4D42-D768-4063-B07C-A25C52C3A3E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47" name="PlaceHolder 1"/>
          <p:cNvSpPr>
            <a:spLocks noGrp="1"/>
          </p:cNvSpPr>
          <p:nvPr>
            <p:ph type="sldImg"/>
          </p:nvPr>
        </p:nvSpPr>
        <p:spPr>
          <a:xfrm>
            <a:off x="1143000" y="687240"/>
            <a:ext cx="4572000" cy="3429000"/>
          </a:xfrm>
          <a:prstGeom prst="rect">
            <a:avLst/>
          </a:prstGeom>
          <a:ln w="0">
            <a:noFill/>
          </a:ln>
        </p:spPr>
      </p:sp>
      <p:sp>
        <p:nvSpPr>
          <p:cNvPr id="848"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4A5A7-49AF-4C3A-895A-B853C2F524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E48A0-A5DA-43A5-A0B7-8AE1175E84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3"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EAD52-97FB-4BCE-8CB0-5750FBB5CF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4"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A04E2-C203-43B8-91E6-D4610DD307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45" name="PlaceHolder 1"/>
          <p:cNvSpPr>
            <a:spLocks noGrp="1"/>
          </p:cNvSpPr>
          <p:nvPr>
            <p:ph type="sldImg"/>
          </p:nvPr>
        </p:nvSpPr>
        <p:spPr>
          <a:xfrm>
            <a:off x="1143000" y="687240"/>
            <a:ext cx="4572000" cy="3429000"/>
          </a:xfrm>
          <a:prstGeom prst="rect">
            <a:avLst/>
          </a:prstGeom>
          <a:ln w="0">
            <a:noFill/>
          </a:ln>
        </p:spPr>
      </p:sp>
      <p:sp>
        <p:nvSpPr>
          <p:cNvPr id="746"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B41FA-36A9-4E84-99EA-7F116BE1DD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5BBEC-872E-4D2A-BB57-BFB52A5280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1"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4871D-E049-441A-9646-D2D2712AD8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2"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BE7FC-2600-414E-8CE6-8CFAADC785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53" name="PlaceHolder 1"/>
          <p:cNvSpPr>
            <a:spLocks noGrp="1"/>
          </p:cNvSpPr>
          <p:nvPr>
            <p:ph type="sldImg"/>
          </p:nvPr>
        </p:nvSpPr>
        <p:spPr>
          <a:xfrm>
            <a:off x="1143000" y="687240"/>
            <a:ext cx="4572000" cy="3429000"/>
          </a:xfrm>
          <a:prstGeom prst="rect">
            <a:avLst/>
          </a:prstGeom>
          <a:ln w="0">
            <a:noFill/>
          </a:ln>
        </p:spPr>
      </p:sp>
      <p:sp>
        <p:nvSpPr>
          <p:cNvPr id="854"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B4950-B099-4C13-972C-520D25251F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36887-E3D8-4FD7-820C-B555F08652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7"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BCB31-78B6-4527-A1A4-0A95075932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8"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27AAB-347F-49C4-BD24-4A7AC75270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59" name="PlaceHolder 1"/>
          <p:cNvSpPr>
            <a:spLocks noGrp="1"/>
          </p:cNvSpPr>
          <p:nvPr>
            <p:ph type="sldImg"/>
          </p:nvPr>
        </p:nvSpPr>
        <p:spPr>
          <a:xfrm>
            <a:off x="1143000" y="687240"/>
            <a:ext cx="4572000" cy="3429000"/>
          </a:xfrm>
          <a:prstGeom prst="rect">
            <a:avLst/>
          </a:prstGeom>
          <a:ln w="0">
            <a:noFill/>
          </a:ln>
        </p:spPr>
      </p:sp>
      <p:sp>
        <p:nvSpPr>
          <p:cNvPr id="860"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F13B6-A57A-4C62-A957-348C489260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C4EAD-6E19-4799-8C0A-31F2B4D8E4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9"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314ED-2778-4B6A-8749-A598B167AC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0"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2F93F-03BC-444E-AE9B-545D15603D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51" name="PlaceHolder 1"/>
          <p:cNvSpPr>
            <a:spLocks noGrp="1"/>
          </p:cNvSpPr>
          <p:nvPr>
            <p:ph type="sldImg"/>
          </p:nvPr>
        </p:nvSpPr>
        <p:spPr>
          <a:xfrm>
            <a:off x="1143000" y="687240"/>
            <a:ext cx="4572000" cy="3429000"/>
          </a:xfrm>
          <a:prstGeom prst="rect">
            <a:avLst/>
          </a:prstGeom>
          <a:ln w="0">
            <a:noFill/>
          </a:ln>
        </p:spPr>
      </p:sp>
      <p:sp>
        <p:nvSpPr>
          <p:cNvPr id="752"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C3810-7936-4459-A09D-C0F380B7F7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D519E-B100-4723-ACCE-337B4A957D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5"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A575E-5461-451B-8EFA-F5DE4E56D7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6"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B8D77-B17D-47DC-836D-384E9AC8AB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57" name="PlaceHolder 1"/>
          <p:cNvSpPr>
            <a:spLocks noGrp="1"/>
          </p:cNvSpPr>
          <p:nvPr>
            <p:ph type="sldImg"/>
          </p:nvPr>
        </p:nvSpPr>
        <p:spPr>
          <a:xfrm>
            <a:off x="1143000" y="687240"/>
            <a:ext cx="4572000" cy="3429000"/>
          </a:xfrm>
          <a:prstGeom prst="rect">
            <a:avLst/>
          </a:prstGeom>
          <a:ln w="0">
            <a:noFill/>
          </a:ln>
        </p:spPr>
      </p:sp>
      <p:sp>
        <p:nvSpPr>
          <p:cNvPr id="758"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84AD5-6832-4CDE-ACC1-3CF47CCFD3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6B1F2-E2EF-42E1-A489-7FBE43411C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1"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F750C-9DB3-42DF-9030-D464737B66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2"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2675C-08DB-4959-B78D-D742C0276B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63" name="PlaceHolder 1"/>
          <p:cNvSpPr>
            <a:spLocks noGrp="1"/>
          </p:cNvSpPr>
          <p:nvPr>
            <p:ph type="sldImg"/>
          </p:nvPr>
        </p:nvSpPr>
        <p:spPr>
          <a:xfrm>
            <a:off x="1143000" y="687240"/>
            <a:ext cx="4572000" cy="3429000"/>
          </a:xfrm>
          <a:prstGeom prst="rect">
            <a:avLst/>
          </a:prstGeom>
          <a:ln w="0">
            <a:noFill/>
          </a:ln>
        </p:spPr>
      </p:sp>
      <p:sp>
        <p:nvSpPr>
          <p:cNvPr id="764"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0F0F0-33B9-41DE-A4FB-D7E129CF68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0173D-4645-4487-8291-8B20204DFF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7"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8EEF7-A57E-4BFE-9819-F20AFDE7AC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8"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761B2-C993-4721-AB33-88694223ED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69" name="PlaceHolder 1"/>
          <p:cNvSpPr>
            <a:spLocks noGrp="1"/>
          </p:cNvSpPr>
          <p:nvPr>
            <p:ph type="sldImg"/>
          </p:nvPr>
        </p:nvSpPr>
        <p:spPr>
          <a:xfrm>
            <a:off x="1143000" y="687240"/>
            <a:ext cx="4572000" cy="3429000"/>
          </a:xfrm>
          <a:prstGeom prst="rect">
            <a:avLst/>
          </a:prstGeom>
          <a:ln w="0">
            <a:noFill/>
          </a:ln>
        </p:spPr>
      </p:sp>
      <p:sp>
        <p:nvSpPr>
          <p:cNvPr id="770"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3CD68-A7F0-4B62-B8AB-B7CD2C2DDE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C2A4A-07A0-4F79-B45D-3702954263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3"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6F31C-364E-492A-B7C3-2F49CB625D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4"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11BDD-E519-43C5-B648-EDFEC66F93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75" name="PlaceHolder 1"/>
          <p:cNvSpPr>
            <a:spLocks noGrp="1"/>
          </p:cNvSpPr>
          <p:nvPr>
            <p:ph type="sldImg"/>
          </p:nvPr>
        </p:nvSpPr>
        <p:spPr>
          <a:xfrm>
            <a:off x="1143000" y="687240"/>
            <a:ext cx="4572000" cy="3429000"/>
          </a:xfrm>
          <a:prstGeom prst="rect">
            <a:avLst/>
          </a:prstGeom>
          <a:ln w="0">
            <a:noFill/>
          </a:ln>
        </p:spPr>
      </p:sp>
      <p:sp>
        <p:nvSpPr>
          <p:cNvPr id="776"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0901B-8351-4DAE-9C69-78ADF28F14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EA2EA-4951-471C-AC08-6276C7AE2B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909D3-7949-40EA-992B-5DCB8F8482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0"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8CFC2-A350-46E2-9EA8-6CC5F3FAF47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81" name="PlaceHolder 1"/>
          <p:cNvSpPr>
            <a:spLocks noGrp="1"/>
          </p:cNvSpPr>
          <p:nvPr>
            <p:ph type="sldImg"/>
          </p:nvPr>
        </p:nvSpPr>
        <p:spPr>
          <a:xfrm>
            <a:off x="1143000" y="687240"/>
            <a:ext cx="4572000" cy="3429000"/>
          </a:xfrm>
          <a:prstGeom prst="rect">
            <a:avLst/>
          </a:prstGeom>
          <a:ln w="0">
            <a:noFill/>
          </a:ln>
        </p:spPr>
      </p:sp>
      <p:sp>
        <p:nvSpPr>
          <p:cNvPr id="782"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BC8FE-F26E-44F8-B12C-4A36FBD6F0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FFDDB-5587-4B21-AB5D-AF85FC3E0C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5"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9BCF5-C131-4A3A-94AA-6B86B73922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6"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67472-1FFA-4172-9B0D-F16599705A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87" name="PlaceHolder 1"/>
          <p:cNvSpPr>
            <a:spLocks noGrp="1"/>
          </p:cNvSpPr>
          <p:nvPr>
            <p:ph type="sldImg"/>
          </p:nvPr>
        </p:nvSpPr>
        <p:spPr>
          <a:xfrm>
            <a:off x="1143000" y="687240"/>
            <a:ext cx="4572000" cy="3429000"/>
          </a:xfrm>
          <a:prstGeom prst="rect">
            <a:avLst/>
          </a:prstGeom>
          <a:ln w="0">
            <a:noFill/>
          </a:ln>
        </p:spPr>
      </p:sp>
      <p:sp>
        <p:nvSpPr>
          <p:cNvPr id="788"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905446-4AAD-40C0-A53B-4A3158FAC1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4BEEC-CB42-4C4A-B6DA-5277B1775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D2841D-6B86-4622-9B1F-9F263C8AF0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CF2848-75C0-4B43-94E0-BC81AF9003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0D1AFD-FB68-4411-9B2F-8AD2406E31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9CB500-6F45-4B69-A5D5-FA44A73916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3924BF-E071-40E6-A34F-80C3176082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0BEAE0-248C-47AB-88E9-A6A0A858E6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B8B664-E3BD-4694-8007-ED25706F86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42F2F32-856B-4750-ADC9-14254DF45B9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4797749-69C8-4F5C-9278-A25BDA45D0C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EFEEECA-2183-47DE-9488-F49777D5F89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57D561-C612-45A8-A0AA-4411F0D559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5CEB3F0-676B-4853-A1C7-3439B1207E2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93AC24F-9AF7-46C3-AB8F-DE2B155C5FE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A87704F-7BEE-4769-BC7F-8F75F22FFDA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8B0F205-8709-4917-A1B7-A8C8043B6CF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182B220-778C-4972-982D-54B6E354675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8F4740D-0719-4C80-A1F1-DFC75276356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9F2104A-3EFD-41BD-8A3B-CFD0C9F314D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A5AC0AA-B3DB-4D2A-8442-4D441099394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E5BB65F-C54A-44F0-8B1B-8A8097A9A9C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14CA57E-2561-451D-A336-C8906A81F46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ECBBF1-0BF2-4E25-8B0F-C71656B19C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CCC66CE-7FEA-4E69-9B40-63E360DD06A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0316216-E5F6-40D1-9624-0659B089005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287FDBA-FD9E-49BD-8BA9-86126991BB4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A0EFAB8-CE34-48D9-98A9-FB8DB73435F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984FA97-90C2-4F6E-A50B-9D9577A7EDE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5EBD558-FE1E-4B33-9322-46AD0226182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873BE53-00DE-4B2C-A18B-5C46F91BF05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989BE8A-DE53-4B53-A992-B7438A88B0B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F157C2C-0D56-44B6-B1A2-28B4ADF221D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888D66-FF95-4DA0-A0BE-C4F5C033F52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B6E6FE-3707-4983-868B-A3DB186BEE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1895CB1-74E1-44F1-8D13-E0BC01F8275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ABA9EB9-9637-4275-936F-7847206BD24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53FBE8B-0E40-4A9F-A0A5-8FAB33605D9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1D95E41-AE5A-42A3-9DF4-6A407BA3FC9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99B012E-0EF9-40A2-A0A1-92BD24A7392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91D80A1-E91F-486B-B61F-68253E160DD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6F29C99-4DE7-49A9-A341-972EBEF8349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BFD0E52-33D8-4D75-A038-52F1EB45C0A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AA0433C-924C-497E-9470-12FB9ACA245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2F4C767-BB3C-4386-84E4-09159D84AA1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81A9D1-D4FE-42BD-9299-F5BC3724C3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FC060B7-7CCA-49A8-B658-24142C0D995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293B66E-4A5F-46CA-BE16-051CABF7F84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3573EDD-6EC2-4FA8-BFA3-6DB83C21409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A68F769-0830-4E34-851B-2CA3536B097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3886FA6-D1D2-4A41-BB25-57067323A3C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F612B8C-E5C3-47FB-A378-22897FF7B1E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81F11F4-9250-41C3-B629-A256D976767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3A9E2D1-7C44-48BD-81E7-65BA130068D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F5F1B98-3AF9-4C46-937E-FF802BF8BA4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7513F7A-1D93-499D-AA3E-A29CE09BB98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18AABD-B698-419B-9BF6-6491D4A628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A686DA2-3E51-45BB-8062-471B5BFB852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95D6A11-9AB9-4AC6-A783-E3351A2726C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E0C0086-4922-46C1-9021-5E2366C7674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8C130DF-1FA7-44AB-8E80-D98BB957A59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DF377E5-F4DF-489E-9B9B-01ACF9E29E2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D03FE63-A477-488F-95A7-C007C5F7CC0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EA57A05-FA33-4DE1-92B9-DEE1B1A974F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A397C5F-DBF3-4848-8727-6256E9A035B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98D0F56-9BF2-4D9A-A3EE-31EA01006FF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169B978-FDF9-4BF2-AB3C-EFE36C7A31A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49736C-8DD1-4086-A5AE-C7C888AD2E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FDC745E-24E3-4142-9253-A56C40F17C8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BDC0642-D19B-4587-B7BC-E2049EA189E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C5B73E9-560A-4CD2-80C1-4FADF9A49D0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ADB0850-718C-468A-99E4-E7FA5A98D8D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31BD855-C716-4DEE-81EF-F91E9CD4FCD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47B39FE-7E97-4E9D-9627-14EA5F84A11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BBB85B6-C163-49DF-A66B-48AA409F890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E91026D-C49C-4AAF-97E9-A52A11148AF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7C2F91D-BDA6-4B30-A550-904C54B59EB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DF54DDA-BCE2-4D9E-89CF-5DD4915D7DA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A2EE9A-2BC4-4DF7-8E08-84FDCD2EF7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71E0C42-A0DA-47B9-8AAE-9F2DBEE5F63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A82AB1A-D2EB-4CB7-9CB1-0C44805E9F3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A09795D-7160-4DCA-A4BF-C2FB2F84BD2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0F7EE4D-0EE5-4096-9B0A-091FEBAE660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A852672-6E4B-4868-B8FA-0197706B860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5AD58CD-CC5F-4051-BC2C-41729A7067F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3C54C2E-585E-416D-A23E-75F4EECCB9C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771049D-401E-4C46-BAA6-06AB4D8A729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CC5B6D5-BE16-4F3B-A181-25673BB62D0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5FDFA72-190C-4392-B882-88A67F381FF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AD54AD-84BA-4D2E-A396-A3792221D0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C6F97F0-4C7A-4164-B244-6D9E0DDB2C2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20D979F-DF61-40FB-85E6-D7A8A442CE0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4D8FD6F-0F5A-46B6-88B8-27CFCE29E66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3165D02-93CC-4696-A9BE-925FD4EA004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D9C4C70-82B9-4351-AA38-126846A7F50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9A56828-549A-4189-B40C-EE1892E8126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3D8EEA9-6CDA-4709-8ECD-340B352D1FE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DB80942-09F0-46F9-9648-BEC21FE2F17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F9DE02D-3AB4-4F6A-8592-54DF4EDDF7A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794E9A7-A7E1-4BC3-956F-837ABB45225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8A6C4-6F1C-4F3B-88A1-FF1F60D79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35080C4-1B61-4E02-AB00-A8677A9CD6C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8A413A8-D88C-4990-A6C8-DBC92316BB75}"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A1B3FB3-6107-44FC-A432-44C92E683FA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8DFFE-0D3B-4F19-9789-CEEEE1A45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BD85A3-1B26-471D-B0F3-0C69B3622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9617B3-6431-4AF6-9100-CC2E10DC1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ECEF99-13ED-4B1B-92B4-DFB2D0199B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4E7C07-CB81-4174-A00A-B6A7DB9558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B80C2B-16C4-4AD0-A5AF-499287FC02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A3F44C-E393-4E6D-B71E-83E7461A6F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8D05F2-D54B-46D7-98B0-628069D7D9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851B8D-EE2F-4260-9B1B-7196BBECCD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2374F4-5CD0-4FB3-A642-EDF12D5574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54AA53-8F74-4972-A4EB-668F2F956A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1F0C5-22F5-4228-A12E-E2BE1CF64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18AB6C-7A59-40A0-961D-AF583B57E1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89F158-08AE-4A51-A19D-B16F142C08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168538-977A-4E9E-845C-17DA8708FB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482912-8F83-47DE-AB97-64F7586EBB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16F7DB-617E-44F3-AF1D-8119337B78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898A28-B2FC-4409-9A55-2C26089048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817117-5FDF-48FA-907B-E7E570325D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72A6E0-08AD-4B7C-8848-40442B5C8C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3ED832-3BB2-4BED-A170-1AC21B6754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9FA201-F20B-4188-97A4-52DA179FC5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5FA43-B86F-4419-98BF-CD0154127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B8BF0F-B026-4606-AF82-298EE1F30F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19232F-620E-44C2-83AD-2E70F7C19F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2BCE65-86B6-44A0-BD7D-D5B3DE3C13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11076D-8259-48CC-8ECD-D0EF375131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E69562-C70B-434F-A503-41D5C3589F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9F35BB-C932-4A3F-B7B3-7FD02F28BF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12E861-2ED0-4BFF-9705-BD6B0E5D88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E3A8B1-FC4B-41BE-9C91-E877CBA8FF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F94B0B-FE56-43E3-9CC0-EAA22DC2AB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75C8A3-8AB8-4D72-9626-51DBC982B6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E17EA-E5ED-414F-97C4-125170DDE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F39DB0-390D-41BE-A89F-D572E1A312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09DB65-CB22-4D1B-89D9-33E4D248C8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748488-F958-43A9-9B96-2574E2373B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EE365A-5FC1-44F7-939E-DD068480F9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2EEABF-6FBA-4F77-B919-0F4792A97F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372F6A-ABF8-495E-9F1E-929742DD1B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3255ED-20F8-4EF3-BB47-328C61549C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0E3742-F4D3-4F79-A0CE-95AE6C2CC6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0FD0B4-2FC0-4976-86EB-6ECAEEAA88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64F17B-5A2A-4DF5-BC8D-CF24C65936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0E1DB-2959-4DD2-A9BE-ED81E2BFD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CE2CE9-92F3-4CD8-AE7C-A1CEC36CDF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8B9AD2-0D06-4A4F-9E35-E73E635AD7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4CC409-3005-4C05-9644-A42D8171FE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6D3812-3201-4CBB-81C6-EF150F0D62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6179F1-21D3-424D-BD81-4339FA8B29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74D094-F77E-41BC-A0B8-CFECD75985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0CE4B2-69D4-4DD2-BD07-E585FCCC2C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913474-4F37-40AC-A461-DBE2775AA9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0680B6-ADE3-4D52-9E2C-0B2E1C8C50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3D0A1D-3CFB-4C07-B7B3-BE164E278C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2F434-B006-4E18-986A-6D2C7D959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EC0208-CA5F-415B-A31D-46D9E3FF0B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96C6EE-6B4F-4EED-82D2-25E7CF4B2C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3F8438-4643-4CAF-9322-CDB3C866BF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109A67F-DD6E-4D46-BC3A-B0A2A701A5B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458E78-1883-4426-A6F1-00FA1ACA0D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C4A2A2-8188-4945-BB4C-585371E7E8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29C001-A5FB-490A-9CF9-FF50D387DF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3964A8-0466-4AD6-85DF-D4DFF03507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B7D435-C362-4EF5-B709-0A6836B75B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DC2D03-ED8B-4B5D-BA0F-D47FE34337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83A97-985F-465C-B9D9-7F60C9173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70F2ED-738E-4C8F-9B1F-8E76386385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77EC05-433C-45D5-B74C-D4933ED929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283F6C-629C-4F79-9B31-B23BB863BE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D37648-5CC7-452E-B603-BF270502A5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A8A7866-0323-41F5-9C64-C55679E994F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4E9F5B2-4E32-492B-9847-D424EA0B65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BEC6A3-F986-4A9D-ADA4-3DF80164FD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E653DD-C320-4E73-8565-B5C732B7AA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AF738A-2A22-4972-AC6D-4E1F6DA268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F4159B-F7F4-4E8E-8BAE-E021621571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26230-CF0D-4806-A8F8-9FCF2BA84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DB7DFD-71F0-4044-8C11-AD654062B1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E03046-E741-463D-8A17-8945D97F7D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229F6F-979E-445A-9AB6-B240202477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44B489-30AC-49AF-B374-1CFFEF134E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8D0E4A-4C35-402E-AAC1-FCE966F590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9277D9-1FE3-40B7-B2B4-0FA5853DFCB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FA9B49-3B38-417E-AFFA-CE229BA4680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860D7FB-2AD9-47B6-9121-91A647FD5E0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0316F8-F798-4198-9F16-5EEFAF241E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A715EF-CDB6-4E5D-B99F-8F09375E3AF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3A0D7-D8B6-4EEB-B0A5-698ECE94618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5"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6"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CCAFF-6A9D-4AE5-8B42-0E5244743F7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6"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7"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9705F-12BE-4DDD-983C-2939130F240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55" name="Picture 6" descr="RCNET.jpg"/>
          <p:cNvPicPr/>
          <p:nvPr/>
        </p:nvPicPr>
        <p:blipFill>
          <a:blip r:embed="rId3"/>
          <a:stretch/>
        </p:blipFill>
        <p:spPr>
          <a:xfrm>
            <a:off x="8121600" y="5961240"/>
            <a:ext cx="1044720" cy="966600"/>
          </a:xfrm>
          <a:prstGeom prst="rect">
            <a:avLst/>
          </a:prstGeom>
          <a:ln w="0">
            <a:noFill/>
          </a:ln>
        </p:spPr>
      </p:pic>
      <p:pic>
        <p:nvPicPr>
          <p:cNvPr id="456" name="Picture 7" descr="IRSC_NSFPoster.jpg"/>
          <p:cNvPicPr/>
          <p:nvPr/>
        </p:nvPicPr>
        <p:blipFill>
          <a:blip r:embed="rId4"/>
          <a:stretch/>
        </p:blipFill>
        <p:spPr>
          <a:xfrm>
            <a:off x="0" y="6443640"/>
            <a:ext cx="457200" cy="358920"/>
          </a:xfrm>
          <a:prstGeom prst="rect">
            <a:avLst/>
          </a:prstGeom>
          <a:ln w="0">
            <a:noFill/>
          </a:ln>
        </p:spPr>
      </p:pic>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9"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0"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CA81B-5234-4DD5-9AC8-01596B7EED8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1"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C0D22-9BA9-45F3-9C4C-8F205BA5695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1"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42"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00AA7-1341-466F-AAAF-797717FAFFF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2"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83"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AA5A0-7156-4F37-A6B7-E8A31D3A871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3"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24"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26A78-8EC6-4A2A-8B66-9145B00EDED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F9617-F349-41B3-AF51-EC87681B46A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DCDDB-4950-4D00-A637-311A41EC738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3" name="Picture 6" descr="RCNET.jpg"/>
          <p:cNvPicPr/>
          <p:nvPr/>
        </p:nvPicPr>
        <p:blipFill>
          <a:blip r:embed="rId3"/>
          <a:stretch/>
        </p:blipFill>
        <p:spPr>
          <a:xfrm>
            <a:off x="8121600" y="5961240"/>
            <a:ext cx="1044720" cy="966600"/>
          </a:xfrm>
          <a:prstGeom prst="rect">
            <a:avLst/>
          </a:prstGeom>
          <a:ln w="0">
            <a:noFill/>
          </a:ln>
        </p:spPr>
      </p:pic>
      <p:pic>
        <p:nvPicPr>
          <p:cNvPr id="124" name="Picture 7" descr="IRSC_NSFPoster.jpg"/>
          <p:cNvPicPr/>
          <p:nvPr/>
        </p:nvPicPr>
        <p:blipFill>
          <a:blip r:embed="rId4"/>
          <a:stretch/>
        </p:blipFill>
        <p:spPr>
          <a:xfrm>
            <a:off x="0" y="6443640"/>
            <a:ext cx="457200" cy="35892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60091-45FC-4460-AC29-FC964053102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6" name="Picture 6" descr="RCNET.jpg"/>
          <p:cNvPicPr/>
          <p:nvPr/>
        </p:nvPicPr>
        <p:blipFill>
          <a:blip r:embed="rId3"/>
          <a:stretch/>
        </p:blipFill>
        <p:spPr>
          <a:xfrm>
            <a:off x="8121600" y="5961240"/>
            <a:ext cx="1044720" cy="966600"/>
          </a:xfrm>
          <a:prstGeom prst="rect">
            <a:avLst/>
          </a:prstGeom>
          <a:ln w="0">
            <a:noFill/>
          </a:ln>
        </p:spPr>
      </p:pic>
      <p:pic>
        <p:nvPicPr>
          <p:cNvPr id="167" name="Picture 7" descr="IRSC_NSFPoster.jpg"/>
          <p:cNvPicPr/>
          <p:nvPr/>
        </p:nvPicPr>
        <p:blipFill>
          <a:blip r:embed="rId4"/>
          <a:stretch/>
        </p:blipFill>
        <p:spPr>
          <a:xfrm>
            <a:off x="0" y="6443640"/>
            <a:ext cx="457200" cy="35892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EF00E-589B-4235-BBEE-F63D3E26ACD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1"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713CE-4CB2-4970-9293-FB11CA04D34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B714C-063D-402B-B810-EA3548DDA66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3"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4"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3BCD4-1C67-42B7-A031-859D58CCD60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4"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5"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0D04B-DE3B-4C0D-BD8B-517FF5976DE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WR, main steam, piping and instrument drawing, functional operating sketch, flowpath, interrelationships, safety relief val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0" name="Title 1" descr=""/>
          <p:cNvPicPr/>
          <p:nvPr/>
        </p:nvPicPr>
        <p:blipFill>
          <a:blip r:embed="rId1"/>
          <a:stretch/>
        </p:blipFill>
        <p:spPr>
          <a:xfrm>
            <a:off x="-195120" y="0"/>
            <a:ext cx="9339120" cy="1262160"/>
          </a:xfrm>
          <a:prstGeom prst="rect">
            <a:avLst/>
          </a:prstGeom>
          <a:ln w="0">
            <a:noFill/>
          </a:ln>
        </p:spPr>
      </p:pic>
      <p:graphicFrame>
        <p:nvGraphicFramePr>
          <p:cNvPr id="671" name=""/>
          <p:cNvGraphicFramePr/>
          <p:nvPr/>
        </p:nvGraphicFramePr>
        <p:xfrm>
          <a:off x="237960" y="1523880"/>
          <a:ext cx="8668080" cy="1463760"/>
        </p:xfrm>
        <a:graphic>
          <a:graphicData uri="http://schemas.openxmlformats.org/drawingml/2006/table">
            <a:tbl>
              <a:tblPr/>
              <a:tblGrid>
                <a:gridCol w="1084320"/>
                <a:gridCol w="1082880"/>
                <a:gridCol w="1084320"/>
                <a:gridCol w="1082520"/>
                <a:gridCol w="1084320"/>
                <a:gridCol w="1082520"/>
                <a:gridCol w="1084320"/>
                <a:gridCol w="1082880"/>
              </a:tblGrid>
              <a:tr h="36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1.11</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1.1.9</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1.4</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7.20</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7.33</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7.34</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r h="365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r h="36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r h="365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69928-14A4-4182-9864-35421EE5640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99" name="Text Box 2"/>
          <p:cNvSpPr/>
          <p:nvPr/>
        </p:nvSpPr>
        <p:spPr>
          <a:xfrm>
            <a:off x="990720" y="22860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 STEAM</a:t>
            </a:r>
            <a:endParaRPr b="0" lang="en-US" sz="2400" spc="-1" strike="noStrike">
              <a:solidFill>
                <a:srgbClr val="000000"/>
              </a:solidFill>
              <a:latin typeface="Arial"/>
            </a:endParaRPr>
          </a:p>
        </p:txBody>
      </p:sp>
      <p:pic>
        <p:nvPicPr>
          <p:cNvPr id="700" name="Picture 6" descr="OI00616"/>
          <p:cNvPicPr/>
          <p:nvPr/>
        </p:nvPicPr>
        <p:blipFill>
          <a:blip r:embed="rId1"/>
          <a:srcRect l="9019" t="23943" r="0" b="33118"/>
          <a:stretch/>
        </p:blipFill>
        <p:spPr>
          <a:xfrm>
            <a:off x="1523880" y="762120"/>
            <a:ext cx="6934320" cy="4329000"/>
          </a:xfrm>
          <a:prstGeom prst="rect">
            <a:avLst/>
          </a:prstGeom>
          <a:ln w="0">
            <a:noFill/>
          </a:ln>
        </p:spPr>
      </p:pic>
      <p:sp>
        <p:nvSpPr>
          <p:cNvPr id="701" name="Text Box 7"/>
          <p:cNvSpPr/>
          <p:nvPr/>
        </p:nvSpPr>
        <p:spPr>
          <a:xfrm>
            <a:off x="1284480" y="4456080"/>
            <a:ext cx="5292360" cy="1191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rawing shows the pneumatic supp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controls of the MSIVs.  The accumula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e sufficient air/nitrogen to allow several cycl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valve operation even if normal supply is l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25700-51D4-4320-9B74-2980968FA79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703" name="Text Box 2"/>
          <p:cNvSpPr/>
          <p:nvPr/>
        </p:nvSpPr>
        <p:spPr>
          <a:xfrm>
            <a:off x="990720" y="22860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 STEAM</a:t>
            </a:r>
            <a:endParaRPr b="0" lang="en-US" sz="2400" spc="-1" strike="noStrike">
              <a:solidFill>
                <a:srgbClr val="000000"/>
              </a:solidFill>
              <a:latin typeface="Arial"/>
            </a:endParaRPr>
          </a:p>
        </p:txBody>
      </p:sp>
      <p:pic>
        <p:nvPicPr>
          <p:cNvPr id="704" name="Picture 6" descr="Esm00491_5"/>
          <p:cNvPicPr/>
          <p:nvPr/>
        </p:nvPicPr>
        <p:blipFill>
          <a:blip r:embed="rId1"/>
          <a:srcRect l="0" t="0" r="0" b="15677"/>
          <a:stretch/>
        </p:blipFill>
        <p:spPr>
          <a:xfrm>
            <a:off x="3352680" y="609480"/>
            <a:ext cx="5193000" cy="5718240"/>
          </a:xfrm>
          <a:prstGeom prst="rect">
            <a:avLst/>
          </a:prstGeom>
          <a:ln w="0">
            <a:noFill/>
          </a:ln>
        </p:spPr>
      </p:pic>
      <p:sp>
        <p:nvSpPr>
          <p:cNvPr id="705" name="Text Box 7"/>
          <p:cNvSpPr/>
          <p:nvPr/>
        </p:nvSpPr>
        <p:spPr>
          <a:xfrm>
            <a:off x="289080" y="950760"/>
            <a:ext cx="2835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ing of a typical Safety Relief Valve (SRV). These are rapid-acting valves that open at either their setpoint lift pressure, safety function logic or manual actuation from the Control Ro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ABC63-E2B8-44AA-BFE3-EEBEBDE2550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707" name="Text Box 2"/>
          <p:cNvSpPr/>
          <p:nvPr/>
        </p:nvSpPr>
        <p:spPr>
          <a:xfrm>
            <a:off x="990720" y="22860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 STEAM</a:t>
            </a:r>
            <a:endParaRPr b="0" lang="en-US" sz="2400" spc="-1" strike="noStrike">
              <a:solidFill>
                <a:srgbClr val="000000"/>
              </a:solidFill>
              <a:latin typeface="Arial"/>
            </a:endParaRPr>
          </a:p>
        </p:txBody>
      </p:sp>
      <p:pic>
        <p:nvPicPr>
          <p:cNvPr id="708" name="Picture 6" descr=""/>
          <p:cNvPicPr/>
          <p:nvPr/>
        </p:nvPicPr>
        <p:blipFill>
          <a:blip r:embed="rId1"/>
          <a:stretch/>
        </p:blipFill>
        <p:spPr>
          <a:xfrm>
            <a:off x="1752480" y="914400"/>
            <a:ext cx="6820200" cy="511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8B465-CF1E-466D-A4EC-B48B9AD4E05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710"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 STEAM</a:t>
            </a:r>
            <a:endParaRPr b="0" lang="en-US" sz="2400" spc="-1" strike="noStrike">
              <a:solidFill>
                <a:srgbClr val="000000"/>
              </a:solidFill>
              <a:latin typeface="Arial"/>
            </a:endParaRPr>
          </a:p>
        </p:txBody>
      </p:sp>
      <p:sp>
        <p:nvSpPr>
          <p:cNvPr id="711" name="Text Box 31"/>
          <p:cNvSpPr/>
          <p:nvPr/>
        </p:nvSpPr>
        <p:spPr>
          <a:xfrm>
            <a:off x="1219320" y="1219320"/>
            <a:ext cx="6959520" cy="4483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fety Relief Valves (SRV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 total SRVs are mounted to the MS lines between the RPV and the Inbd MSIV.</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pressure activates the pilot valve which then causes the main valve to open.  Flow through the SRV goes to quencher pipes inside the Torus below the water line.  Explain why?</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of the SRVs are part of the Automatic Depressurization System (ADS).  ADS is automatically or manually initiated, causes the 5 SRVs to open, which rapidly depressurizes the reactor.  More about this function in later lesson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of the remaining SRVs have an additional function known as Low-Low Set.  The Low-Low Set logic automatically lowers the setpoint of these 2 SRVs so that they will open and stay open in certain overpressure scenarios, preventing numerous other SRVs from having to cycle open/clo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31B5F-4B38-448C-BBC6-28C6F473429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713"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 STEAM</a:t>
            </a:r>
            <a:endParaRPr b="0" lang="en-US" sz="2400" spc="-1" strike="noStrike">
              <a:solidFill>
                <a:srgbClr val="000000"/>
              </a:solidFill>
              <a:latin typeface="Arial"/>
            </a:endParaRPr>
          </a:p>
        </p:txBody>
      </p:sp>
      <p:sp>
        <p:nvSpPr>
          <p:cNvPr id="714" name="Text Box 31"/>
          <p:cNvSpPr/>
          <p:nvPr/>
        </p:nvSpPr>
        <p:spPr>
          <a:xfrm>
            <a:off x="1219320" y="1219320"/>
            <a:ext cx="6959520" cy="4483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fety Relief Valves (SRV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SRV discharge line is equipped with a vacuum breaker to prevent water rise in pipe during cooldown and condensation after lifting.</a:t>
            </a:r>
            <a:endParaRPr b="0" lang="en-US" sz="18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vacuum drawn in the Main Steam lines can cause backflow through the SRVs which can lead to decreasing Drywell pressure.  This may cause actuation of the Torus to Drywell and Rx Bldg. to Torus Vacuum Breakers.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RVs must be tested periodically to ensure their setpoint lift pressures have not drifted and to prove that they would have been functional since their last test.  Industry operating experience revealed pilot valve seat “sticking” problems many years ago.  Those valve seats are now coated with platinum to avoid the sticking problem.  The platinum coating is only about 20 microns thi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73B33-B855-42CA-9615-A71BA840FE9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716"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 STEAM</a:t>
            </a:r>
            <a:endParaRPr b="0" lang="en-US" sz="2400" spc="-1" strike="noStrike">
              <a:solidFill>
                <a:srgbClr val="000000"/>
              </a:solidFill>
              <a:latin typeface="Arial"/>
            </a:endParaRPr>
          </a:p>
        </p:txBody>
      </p:sp>
      <p:sp>
        <p:nvSpPr>
          <p:cNvPr id="717" name="Text Box 31"/>
          <p:cNvSpPr/>
          <p:nvPr/>
        </p:nvSpPr>
        <p:spPr>
          <a:xfrm>
            <a:off x="1143000" y="1219320"/>
            <a:ext cx="6959520" cy="4483080"/>
          </a:xfrm>
          <a:prstGeom prst="rect">
            <a:avLst/>
          </a:prstGeom>
          <a:noFill/>
          <a:ln w="0">
            <a:noFill/>
          </a:ln>
        </p:spPr>
        <p:style>
          <a:lnRef idx="0"/>
          <a:fillRef idx="0"/>
          <a:effectRef idx="0"/>
          <a:fontRef idx="minor"/>
        </p:style>
        <p:txBody>
          <a:bodyPr lIns="90000" rIns="90000" tIns="46800" bIns="46800" anchor="t">
            <a:spAutoFit/>
          </a:bodyPr>
          <a:p>
            <a:pPr marL="690480" indent="-350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Steam operation:</a:t>
            </a:r>
            <a:endParaRPr b="0" lang="en-US" sz="1800" spc="-1" strike="noStrike">
              <a:solidFill>
                <a:srgbClr val="000000"/>
              </a:solidFill>
              <a:latin typeface="Arial"/>
            </a:endParaRPr>
          </a:p>
          <a:p>
            <a:pPr marL="690480" indent="-350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90480" indent="-350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full reactor power (100%), the steam pressure leaving the RPV is around 1030 psig. 52 Inch Manifold pressure is app. 960 psig.  </a:t>
            </a:r>
            <a:endParaRPr b="0" lang="en-US" sz="1800" spc="-1" strike="noStrike">
              <a:solidFill>
                <a:srgbClr val="000000"/>
              </a:solidFill>
              <a:latin typeface="Arial"/>
            </a:endParaRPr>
          </a:p>
          <a:p>
            <a:pPr marL="690480" indent="-350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Steam Flow 14,850,000 lbm/hr (14.85 x 106 lbm/hr) </a:t>
            </a:r>
            <a:endParaRPr b="0" lang="en-US" sz="1800" spc="-1" strike="noStrike">
              <a:solidFill>
                <a:srgbClr val="000000"/>
              </a:solidFill>
              <a:latin typeface="Arial"/>
            </a:endParaRPr>
          </a:p>
          <a:p>
            <a:pPr marL="690480" indent="-350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am temperature 550°F </a:t>
            </a:r>
            <a:endParaRPr b="0" lang="en-US" sz="1800" spc="-1" strike="noStrike">
              <a:solidFill>
                <a:srgbClr val="000000"/>
              </a:solidFill>
              <a:latin typeface="Arial"/>
            </a:endParaRPr>
          </a:p>
          <a:p>
            <a:pPr marL="690480" indent="-350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am Quality 99.56% </a:t>
            </a:r>
            <a:endParaRPr b="0" lang="en-US" sz="1800" spc="-1" strike="noStrike">
              <a:solidFill>
                <a:srgbClr val="000000"/>
              </a:solidFill>
              <a:latin typeface="Arial"/>
            </a:endParaRPr>
          </a:p>
          <a:p>
            <a:pPr marL="690480" indent="-350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90480" indent="-350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690480" indent="-350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connected to the 52 in Manifold are the 2 MS Bypass valve lines.  These lines are used to draw steam from the reactor and dump directly to the Main Condenser during turbine startup or trip conditions.  This is part of the Reactor Pressure Control system, which will be covered in more detail in later less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40891-5A8A-47C5-9B9F-30B8C5B84EC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719"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 STEAM</a:t>
            </a:r>
            <a:endParaRPr b="0" lang="en-US" sz="2400" spc="-1" strike="noStrike">
              <a:solidFill>
                <a:srgbClr val="000000"/>
              </a:solidFill>
              <a:latin typeface="Arial"/>
            </a:endParaRPr>
          </a:p>
        </p:txBody>
      </p:sp>
      <p:sp>
        <p:nvSpPr>
          <p:cNvPr id="720" name="Text Box 31"/>
          <p:cNvSpPr/>
          <p:nvPr/>
        </p:nvSpPr>
        <p:spPr>
          <a:xfrm>
            <a:off x="1143000" y="1219320"/>
            <a:ext cx="6959520" cy="4757400"/>
          </a:xfrm>
          <a:prstGeom prst="rect">
            <a:avLst/>
          </a:prstGeom>
          <a:noFill/>
          <a:ln w="0">
            <a:noFill/>
          </a:ln>
        </p:spPr>
        <p:style>
          <a:lnRef idx="0"/>
          <a:fillRef idx="0"/>
          <a:effectRef idx="0"/>
          <a:fontRef idx="minor"/>
        </p:style>
        <p:txBody>
          <a:bodyPr lIns="90000" rIns="90000" tIns="46800" bIns="46800" anchor="t">
            <a:spAutoFit/>
          </a:bodyPr>
          <a:p>
            <a:pPr marL="690480" indent="-350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in Steam functions:</a:t>
            </a:r>
            <a:endParaRPr b="0" lang="en-US" sz="1800" spc="-1" strike="noStrike">
              <a:solidFill>
                <a:srgbClr val="000000"/>
              </a:solidFill>
              <a:latin typeface="Arial"/>
            </a:endParaRPr>
          </a:p>
          <a:p>
            <a:pPr marL="690480" indent="-350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90480" indent="-350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S provides steam to the High Pressure Coolant Injection HPCI) turbine.  The HPCI turbine drives a pump which then provides water to the reactor in the event of emergencies, such as Loss of Coolant Accidents (LOCA)</a:t>
            </a:r>
            <a:endParaRPr b="0" lang="en-US" sz="1800" spc="-1" strike="noStrike">
              <a:solidFill>
                <a:srgbClr val="000000"/>
              </a:solidFill>
              <a:latin typeface="Arial"/>
            </a:endParaRPr>
          </a:p>
          <a:p>
            <a:pPr marL="690480" indent="-350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S provides steam to the Reactor Core Isolation Cooling (RCIC) turbine.  The RCIC turbine drives a pump which  also provides water to the reactor in the event of emergencies, including LOCA</a:t>
            </a:r>
            <a:endParaRPr b="0" lang="en-US" sz="1800" spc="-1" strike="noStrike">
              <a:solidFill>
                <a:srgbClr val="000000"/>
              </a:solidFill>
              <a:latin typeface="Arial"/>
            </a:endParaRPr>
          </a:p>
          <a:p>
            <a:pPr marL="690480" indent="-350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PCI and RCIC systems will be discussed in later sessions.</a:t>
            </a:r>
            <a:endParaRPr b="0" lang="en-US" sz="1800" spc="-1" strike="noStrike">
              <a:solidFill>
                <a:srgbClr val="000000"/>
              </a:solidFill>
              <a:latin typeface="Arial"/>
            </a:endParaRPr>
          </a:p>
          <a:p>
            <a:pPr marL="690480" indent="-350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S provides steam to the Steam Jet Air Ejectors (SJAE).  The SJAEs pull a suction on the Main Condenser which helps to maintain a vacuum and also removes air and other non-condensible gasses.</a:t>
            </a:r>
            <a:endParaRPr b="0" lang="en-US" sz="1800" spc="-1" strike="noStrike">
              <a:solidFill>
                <a:srgbClr val="000000"/>
              </a:solidFill>
              <a:latin typeface="Arial"/>
            </a:endParaRPr>
          </a:p>
          <a:p>
            <a:pPr marL="690480" indent="-350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AA5EC-C8C8-426E-ABEF-72FA76C48EE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722"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 STEAM</a:t>
            </a:r>
            <a:endParaRPr b="0" lang="en-US" sz="2400" spc="-1" strike="noStrike">
              <a:solidFill>
                <a:srgbClr val="000000"/>
              </a:solidFill>
              <a:latin typeface="Arial"/>
            </a:endParaRPr>
          </a:p>
        </p:txBody>
      </p:sp>
      <p:sp>
        <p:nvSpPr>
          <p:cNvPr id="723" name="Text Box 31"/>
          <p:cNvSpPr/>
          <p:nvPr/>
        </p:nvSpPr>
        <p:spPr>
          <a:xfrm>
            <a:off x="1143000" y="1219320"/>
            <a:ext cx="6959520" cy="3660120"/>
          </a:xfrm>
          <a:prstGeom prst="rect">
            <a:avLst/>
          </a:prstGeom>
          <a:noFill/>
          <a:ln w="0">
            <a:noFill/>
          </a:ln>
        </p:spPr>
        <p:style>
          <a:lnRef idx="0"/>
          <a:fillRef idx="0"/>
          <a:effectRef idx="0"/>
          <a:fontRef idx="minor"/>
        </p:style>
        <p:txBody>
          <a:bodyPr lIns="90000" rIns="90000" tIns="46800" bIns="46800" anchor="t">
            <a:spAutoFit/>
          </a:bodyPr>
          <a:p>
            <a:pPr marL="690480" indent="-350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in Steam functions:</a:t>
            </a:r>
            <a:endParaRPr b="0" lang="en-US" sz="1800" spc="-1" strike="noStrike">
              <a:solidFill>
                <a:srgbClr val="000000"/>
              </a:solidFill>
              <a:latin typeface="Arial"/>
            </a:endParaRPr>
          </a:p>
          <a:p>
            <a:pPr marL="690480" indent="-350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90480" indent="-350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Steam is supplied to the Reheater/ Separators to reheat (superheat) turbine steam as it passes from the High Pressure Turbine through the Reheater/Separators to the Low Pressure Turbines. </a:t>
            </a:r>
            <a:endParaRPr b="0" lang="en-US" sz="1800" spc="-1" strike="noStrike">
              <a:solidFill>
                <a:srgbClr val="000000"/>
              </a:solidFill>
              <a:latin typeface="Arial"/>
            </a:endParaRPr>
          </a:p>
          <a:p>
            <a:pPr marL="690480" indent="-350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90480" indent="-350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urbine Sealing Steam System uses Main Steam to supply sealing steam to the shaft glands of the Main Turbine and Reactor Feed Pump Turbines to prevent air leakage into the Main Condenser which could cause a loss or reduction of condenser vacuum.</a:t>
            </a:r>
            <a:endParaRPr b="0" lang="en-US" sz="1800" spc="-1" strike="noStrike">
              <a:solidFill>
                <a:srgbClr val="000000"/>
              </a:solidFill>
              <a:latin typeface="Arial"/>
            </a:endParaRPr>
          </a:p>
          <a:p>
            <a:pPr marL="690480" indent="-350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3FC50-FE06-4561-835B-525E0DA0087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725" name="Text Box 2"/>
          <p:cNvSpPr/>
          <p:nvPr/>
        </p:nvSpPr>
        <p:spPr>
          <a:xfrm>
            <a:off x="990720" y="22860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 STEAM</a:t>
            </a:r>
            <a:endParaRPr b="0" lang="en-US" sz="2400" spc="-1" strike="noStrike">
              <a:solidFill>
                <a:srgbClr val="000000"/>
              </a:solidFill>
              <a:latin typeface="Arial"/>
            </a:endParaRPr>
          </a:p>
        </p:txBody>
      </p:sp>
      <p:sp>
        <p:nvSpPr>
          <p:cNvPr id="726" name="Text Box 31"/>
          <p:cNvSpPr/>
          <p:nvPr/>
        </p:nvSpPr>
        <p:spPr>
          <a:xfrm>
            <a:off x="1066680" y="762120"/>
            <a:ext cx="6959880" cy="4757400"/>
          </a:xfrm>
          <a:prstGeom prst="rect">
            <a:avLst/>
          </a:prstGeom>
          <a:noFill/>
          <a:ln w="0">
            <a:noFill/>
          </a:ln>
        </p:spPr>
        <p:style>
          <a:lnRef idx="0"/>
          <a:fillRef idx="0"/>
          <a:effectRef idx="0"/>
          <a:fontRef idx="minor"/>
        </p:style>
        <p:txBody>
          <a:bodyPr lIns="90000" rIns="90000" tIns="46800" bIns="46800" anchor="t">
            <a:spAutoFit/>
          </a:bodyPr>
          <a:p>
            <a:pPr marL="339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Accident discussion:</a:t>
            </a:r>
            <a:endParaRPr b="0" lang="en-US" sz="1800" spc="-1" strike="noStrike">
              <a:solidFill>
                <a:srgbClr val="000000"/>
              </a:solidFill>
              <a:latin typeface="Arial"/>
            </a:endParaRPr>
          </a:p>
          <a:p>
            <a:pPr marL="339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actor steam output and the distance the steam has to be transported determines the allowable pressure drop and hence the total flow area required from the steam lines. One of the conditions that must be evaluated for the design of a nuclear steam plant is a hypothetical accident where one of the steam lines is assumed to break outside the primary containment. The rate at which the steam-water mixture and associated radioactivity can escape through the break depends on the cross sectional area of the broken section.  The use of four steam lines permits the pipe break analysis to use a cross sectional area that is one fourth of the total steam flow area. The use of four steam lines also generates a smaller differential pressure on the reactor internals under the assumed pipe break conditions. </a:t>
            </a:r>
            <a:endParaRPr b="0" lang="en-US" sz="1800" spc="-1" strike="noStrike">
              <a:solidFill>
                <a:srgbClr val="000000"/>
              </a:solidFill>
              <a:latin typeface="Arial"/>
            </a:endParaRPr>
          </a:p>
          <a:p>
            <a:pPr marL="339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671F6-48EF-4721-A0DB-5C633317BD2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728"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 STEAM</a:t>
            </a:r>
            <a:endParaRPr b="0" lang="en-US" sz="2400" spc="-1" strike="noStrike">
              <a:solidFill>
                <a:srgbClr val="000000"/>
              </a:solidFill>
              <a:latin typeface="Arial"/>
            </a:endParaRPr>
          </a:p>
        </p:txBody>
      </p:sp>
      <p:sp>
        <p:nvSpPr>
          <p:cNvPr id="729" name="Text Box 31"/>
          <p:cNvSpPr/>
          <p:nvPr/>
        </p:nvSpPr>
        <p:spPr>
          <a:xfrm>
            <a:off x="1066680" y="1219320"/>
            <a:ext cx="69598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a:t>
            </a:r>
            <a:endParaRPr b="0" lang="en-US" sz="2400" spc="-1" strike="noStrike">
              <a:solidFill>
                <a:srgbClr val="000000"/>
              </a:solidFill>
              <a:latin typeface="Arial"/>
            </a:endParaRPr>
          </a:p>
        </p:txBody>
      </p:sp>
      <p:sp>
        <p:nvSpPr>
          <p:cNvPr id="730" name="Text Box 31"/>
          <p:cNvSpPr/>
          <p:nvPr/>
        </p:nvSpPr>
        <p:spPr>
          <a:xfrm>
            <a:off x="1371600" y="2209680"/>
            <a:ext cx="6959520" cy="1465560"/>
          </a:xfrm>
          <a:prstGeom prst="rect">
            <a:avLst/>
          </a:prstGeom>
          <a:noFill/>
          <a:ln w="0">
            <a:noFill/>
          </a:ln>
        </p:spPr>
        <p:style>
          <a:lnRef idx="0"/>
          <a:fillRef idx="0"/>
          <a:effectRef idx="0"/>
          <a:fontRef idx="minor"/>
        </p:style>
        <p:txBody>
          <a:bodyPr lIns="90000" rIns="90000" tIns="46800" bIns="46800" anchor="t">
            <a:sp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 OBJECTIVE</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will understand the Main Steam system, its major components and flowpaths</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C9D1B-8B47-4C42-B71E-36A5E1F3B6D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73"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ET 130   MAIN STEAM SYSTEM</a:t>
            </a:r>
            <a:endParaRPr b="0" lang="en-US" sz="2400" spc="-1" strike="noStrike">
              <a:solidFill>
                <a:srgbClr val="000000"/>
              </a:solidFill>
              <a:latin typeface="Arial"/>
            </a:endParaRPr>
          </a:p>
        </p:txBody>
      </p:sp>
      <p:sp>
        <p:nvSpPr>
          <p:cNvPr id="674" name="Rectangle 5"/>
          <p:cNvSpPr/>
          <p:nvPr/>
        </p:nvSpPr>
        <p:spPr>
          <a:xfrm>
            <a:off x="990720" y="1905120"/>
            <a:ext cx="731520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urpose of this class is to familiarize students with a BWR Main Steam syste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use the Functional Operating Sketch (FOS) and Piping &amp; Instrumentation Drawing (P&amp;ID) of the Main Steam system at Fermi 2 as the primary tools to learn this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FB22F-CF85-4767-97AA-08CACC3E412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732"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 STEAM</a:t>
            </a:r>
            <a:endParaRPr b="0" lang="en-US" sz="2400" spc="-1" strike="noStrike">
              <a:solidFill>
                <a:srgbClr val="000000"/>
              </a:solidFill>
              <a:latin typeface="Arial"/>
            </a:endParaRPr>
          </a:p>
        </p:txBody>
      </p:sp>
      <p:sp>
        <p:nvSpPr>
          <p:cNvPr id="733" name="Text Box 31"/>
          <p:cNvSpPr/>
          <p:nvPr/>
        </p:nvSpPr>
        <p:spPr>
          <a:xfrm>
            <a:off x="1066680" y="1219320"/>
            <a:ext cx="69598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a:t>
            </a:r>
            <a:endParaRPr b="0" lang="en-US" sz="2400" spc="-1" strike="noStrike">
              <a:solidFill>
                <a:srgbClr val="000000"/>
              </a:solidFill>
              <a:latin typeface="Arial"/>
            </a:endParaRPr>
          </a:p>
        </p:txBody>
      </p:sp>
      <p:sp>
        <p:nvSpPr>
          <p:cNvPr id="734" name="Text Box 31"/>
          <p:cNvSpPr/>
          <p:nvPr/>
        </p:nvSpPr>
        <p:spPr>
          <a:xfrm>
            <a:off x="685800" y="1981080"/>
            <a:ext cx="7924680" cy="368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the purpose of the Main Steam system, including its importance to nuclear safety.</a:t>
            </a:r>
            <a:endParaRPr b="0" lang="en-US" sz="16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a simplified diagram, identify and explain the purpose of the major components and equipment of the Main Steam system.</a:t>
            </a:r>
            <a:endParaRPr b="0" lang="en-US" sz="16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the modes of operation of the Main Steam system, including the major components and flowpaths associated with each mode.</a:t>
            </a:r>
            <a:endParaRPr b="0" lang="en-US" sz="16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the basic interrelationships between the Main Steam system and other plant system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962A8-57C3-4F01-8A08-B5C7F7E6440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736"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 STEAM</a:t>
            </a:r>
            <a:endParaRPr b="0" lang="en-US" sz="2400" spc="-1" strike="noStrike">
              <a:solidFill>
                <a:srgbClr val="000000"/>
              </a:solidFill>
              <a:latin typeface="Arial"/>
            </a:endParaRPr>
          </a:p>
        </p:txBody>
      </p:sp>
      <p:sp>
        <p:nvSpPr>
          <p:cNvPr id="737" name="Text Box 31"/>
          <p:cNvSpPr/>
          <p:nvPr/>
        </p:nvSpPr>
        <p:spPr>
          <a:xfrm>
            <a:off x="1270080" y="2075040"/>
            <a:ext cx="695952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BE2BF-7AC6-4E7D-92E9-D4F629A194A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76"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 STEAM</a:t>
            </a:r>
            <a:endParaRPr b="0" lang="en-US" sz="2400" spc="-1" strike="noStrike">
              <a:solidFill>
                <a:srgbClr val="000000"/>
              </a:solidFill>
              <a:latin typeface="Arial"/>
            </a:endParaRPr>
          </a:p>
        </p:txBody>
      </p:sp>
      <p:sp>
        <p:nvSpPr>
          <p:cNvPr id="677" name="Text Box 31"/>
          <p:cNvSpPr/>
          <p:nvPr/>
        </p:nvSpPr>
        <p:spPr>
          <a:xfrm>
            <a:off x="1295280" y="2057400"/>
            <a:ext cx="6959880" cy="1465560"/>
          </a:xfrm>
          <a:prstGeom prst="rect">
            <a:avLst/>
          </a:prstGeom>
          <a:noFill/>
          <a:ln w="0">
            <a:noFill/>
          </a:ln>
        </p:spPr>
        <p:style>
          <a:lnRef idx="0"/>
          <a:fillRef idx="0"/>
          <a:effectRef idx="0"/>
          <a:fontRef idx="minor"/>
        </p:style>
        <p:txBody>
          <a:bodyPr lIns="90000" rIns="90000" tIns="46800" bIns="46800" anchor="t">
            <a:sp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 OBJECTIVE</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will understand the Main Steam system, its major components and flowpaths</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2A010-1F79-49FF-AB1D-65463070CC6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79"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 STEAM</a:t>
            </a:r>
            <a:endParaRPr b="0" lang="en-US" sz="2400" spc="-1" strike="noStrike">
              <a:solidFill>
                <a:srgbClr val="000000"/>
              </a:solidFill>
              <a:latin typeface="Arial"/>
            </a:endParaRPr>
          </a:p>
        </p:txBody>
      </p:sp>
      <p:sp>
        <p:nvSpPr>
          <p:cNvPr id="680" name="Text Box 31"/>
          <p:cNvSpPr/>
          <p:nvPr/>
        </p:nvSpPr>
        <p:spPr>
          <a:xfrm>
            <a:off x="762120" y="1295280"/>
            <a:ext cx="7924680" cy="368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the purpose of the Main Steam system, including its importance to nuclear safety.</a:t>
            </a:r>
            <a:endParaRPr b="0" lang="en-US" sz="16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a simplified diagram, identify and explain the purpose of the major components and equipment of the Main Steam system.</a:t>
            </a:r>
            <a:endParaRPr b="0" lang="en-US" sz="16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the modes of operation of the Main Steam system, including the major components and flowpaths associated with each mode.</a:t>
            </a:r>
            <a:endParaRPr b="0" lang="en-US" sz="16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the basic interrelationships between the Main Steam system and other plant system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26665-6222-4C70-A37A-F1BC701F9CE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2"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 STEAM</a:t>
            </a:r>
            <a:endParaRPr b="0" lang="en-US" sz="2400" spc="-1" strike="noStrike">
              <a:solidFill>
                <a:srgbClr val="000000"/>
              </a:solidFill>
              <a:latin typeface="Arial"/>
            </a:endParaRPr>
          </a:p>
        </p:txBody>
      </p:sp>
      <p:sp>
        <p:nvSpPr>
          <p:cNvPr id="683" name="Text Box 31"/>
          <p:cNvSpPr/>
          <p:nvPr/>
        </p:nvSpPr>
        <p:spPr>
          <a:xfrm>
            <a:off x="1270080" y="2075040"/>
            <a:ext cx="6959520" cy="3385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s of the Main Steam (MS) system</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irect dry saturated steam from the Reactor vessel to: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in Turbine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actor Feed Pump Turbines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isture Separator Reheaters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lected Balance-of-Plant (BOP) Systems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for relief of over-pressure conditions in the Reactor Pressure Vessel (RPV)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F9967-C5DA-49DF-B405-D21733BF93D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5"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 STEAM</a:t>
            </a:r>
            <a:endParaRPr b="0" lang="en-US" sz="2400" spc="-1" strike="noStrike">
              <a:solidFill>
                <a:srgbClr val="000000"/>
              </a:solidFill>
              <a:latin typeface="Arial"/>
            </a:endParaRPr>
          </a:p>
        </p:txBody>
      </p:sp>
      <p:sp>
        <p:nvSpPr>
          <p:cNvPr id="686" name="Text Box 31"/>
          <p:cNvSpPr/>
          <p:nvPr/>
        </p:nvSpPr>
        <p:spPr>
          <a:xfrm>
            <a:off x="1295280" y="1295280"/>
            <a:ext cx="6959880" cy="4483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Flowpath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 Main Steam lines (MS lines A-D) exit the RPV</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Main Steam line contains an inboard and outboard Main Steam Isolation Valve (MSIV).  The Inboard MSIVs are located in the Drywell and the Outboard MSIVs are located in the Reactor Bldg Steam Tunnel</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Main Steam line also contains a large Motor-Operated valve called the third MSIVs, located in the Turbine Bldg.  These are primarily used as maintenance isolation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eam lines dump into a large 52 inch diameter manifold, steam lines to each of the major loads are connected to this manifold</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steam line also includes drain connections.  The MS line drains collect into common piping and eventually dump into the Main Condens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6F769-683D-4080-88B1-5CE015007F5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8" name="Text Box 2"/>
          <p:cNvSpPr/>
          <p:nvPr/>
        </p:nvSpPr>
        <p:spPr>
          <a:xfrm>
            <a:off x="990720" y="22860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 STEAM</a:t>
            </a:r>
            <a:endParaRPr b="0" lang="en-US" sz="2400" spc="-1" strike="noStrike">
              <a:solidFill>
                <a:srgbClr val="000000"/>
              </a:solidFill>
              <a:latin typeface="Arial"/>
            </a:endParaRPr>
          </a:p>
        </p:txBody>
      </p:sp>
      <p:pic>
        <p:nvPicPr>
          <p:cNvPr id="689" name="Picture 7" descr="BD00132"/>
          <p:cNvPicPr/>
          <p:nvPr/>
        </p:nvPicPr>
        <p:blipFill>
          <a:blip r:embed="rId1"/>
          <a:srcRect l="10709" t="23977" r="0" b="33073"/>
          <a:stretch/>
        </p:blipFill>
        <p:spPr>
          <a:xfrm>
            <a:off x="685800" y="762120"/>
            <a:ext cx="8001000" cy="5079960"/>
          </a:xfrm>
          <a:prstGeom prst="rect">
            <a:avLst/>
          </a:prstGeom>
          <a:ln w="0">
            <a:noFill/>
          </a:ln>
        </p:spPr>
      </p:pic>
      <p:sp>
        <p:nvSpPr>
          <p:cNvPr id="690" name="Text Box 8"/>
          <p:cNvSpPr/>
          <p:nvPr/>
        </p:nvSpPr>
        <p:spPr>
          <a:xfrm>
            <a:off x="228600" y="1371600"/>
            <a:ext cx="549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W Sump</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25EF5-4E0D-47F9-932C-19BB08D024E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92" name="Text Box 2"/>
          <p:cNvSpPr/>
          <p:nvPr/>
        </p:nvSpPr>
        <p:spPr>
          <a:xfrm>
            <a:off x="990720" y="22860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 STEAM</a:t>
            </a:r>
            <a:endParaRPr b="0" lang="en-US" sz="2400" spc="-1" strike="noStrike">
              <a:solidFill>
                <a:srgbClr val="000000"/>
              </a:solidFill>
              <a:latin typeface="Arial"/>
            </a:endParaRPr>
          </a:p>
        </p:txBody>
      </p:sp>
      <p:pic>
        <p:nvPicPr>
          <p:cNvPr id="693" name="Picture 6" descr="OM00293"/>
          <p:cNvPicPr/>
          <p:nvPr/>
        </p:nvPicPr>
        <p:blipFill>
          <a:blip r:embed="rId1"/>
          <a:srcRect l="40707" t="11335" r="5197" b="28107"/>
          <a:stretch/>
        </p:blipFill>
        <p:spPr>
          <a:xfrm>
            <a:off x="4495680" y="685800"/>
            <a:ext cx="3708360" cy="5477040"/>
          </a:xfrm>
          <a:prstGeom prst="rect">
            <a:avLst/>
          </a:prstGeom>
          <a:ln w="0">
            <a:noFill/>
          </a:ln>
        </p:spPr>
      </p:pic>
      <p:sp>
        <p:nvSpPr>
          <p:cNvPr id="694" name="Text Box 7"/>
          <p:cNvSpPr/>
          <p:nvPr/>
        </p:nvSpPr>
        <p:spPr>
          <a:xfrm>
            <a:off x="517680" y="1255680"/>
            <a:ext cx="39020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 Main Steam Isolation Valve. These valves are closed automatically by various safety logic functions.  Closure time is between 3-5 seconds – a function of the large springs and the upstream pressure  acting on the top of the dis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83B2B-9C59-4504-9D10-B7F21A0970B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96" name="Text Box 2"/>
          <p:cNvSpPr/>
          <p:nvPr/>
        </p:nvSpPr>
        <p:spPr>
          <a:xfrm>
            <a:off x="990720" y="22860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 STEAM</a:t>
            </a:r>
            <a:endParaRPr b="0" lang="en-US" sz="2400" spc="-1" strike="noStrike">
              <a:solidFill>
                <a:srgbClr val="000000"/>
              </a:solidFill>
              <a:latin typeface="Arial"/>
            </a:endParaRPr>
          </a:p>
        </p:txBody>
      </p:sp>
      <p:pic>
        <p:nvPicPr>
          <p:cNvPr id="697" name="Picture 8" descr=""/>
          <p:cNvPicPr/>
          <p:nvPr/>
        </p:nvPicPr>
        <p:blipFill>
          <a:blip r:embed="rId1"/>
          <a:stretch/>
        </p:blipFill>
        <p:spPr>
          <a:xfrm>
            <a:off x="1371600" y="838080"/>
            <a:ext cx="7010280" cy="525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7T13:23:18Z</dcterms:created>
  <dc:creator>Cavey Main</dc:creator>
  <dc:description/>
  <dc:language>en-US</dc:language>
  <cp:lastModifiedBy>Peggy Hines IRSC</cp:lastModifiedBy>
  <dcterms:modified xsi:type="dcterms:W3CDTF">2013-02-25T14:17:44Z</dcterms:modified>
  <cp:revision>12</cp:revision>
  <dc:subject/>
  <dc:title>Slide 1</dc:title>
</cp:coreProperties>
</file>