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CA64-7CCC-44D6-A31A-2AD0DA812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en.wikipedia.org/wiki/ABWR" TargetMode="External"/><Relationship Id="rId2" Type="http://schemas.openxmlformats.org/officeDocument/2006/relationships/hyperlink" Target="http://en.wikipedia.org/wiki/Nuclear_safety_systems#Emergency_Core_Cooling_System" TargetMode="External"/><Relationship Id="rId3" Type="http://schemas.openxmlformats.org/officeDocument/2006/relationships/hyperlink" Target="http://en.wikipedia.org/wiki/Boric_acid" TargetMode="External"/><Relationship Id="rId4" Type="http://schemas.openxmlformats.org/officeDocument/2006/relationships/hyperlink" Target="http://en.wikipedia.org/wiki/Davis-Besse" TargetMode="External"/><Relationship Id="rId5" Type="http://schemas.openxmlformats.org/officeDocument/2006/relationships/hyperlink" Target="http://en.wikipedia.org/wiki/Mitsubishi_APWR" TargetMode="External"/><Relationship Id="rId6" Type="http://schemas.openxmlformats.org/officeDocument/2006/relationships/hyperlink" Target="http://en.wikipedia.org/wiki/European_Pressurized_Reactor" TargetMode="External"/><Relationship Id="rId7" Type="http://schemas.openxmlformats.org/officeDocument/2006/relationships/hyperlink" Target="http://en.wikipedia.org/wiki/AP1000" TargetMode="External"/><Relationship Id="rId8" Type="http://schemas.openxmlformats.org/officeDocument/2006/relationships/hyperlink" Target="http://en.wikipedia.org/wiki/AP600" TargetMode="External"/><Relationship Id="rId9" Type="http://schemas.openxmlformats.org/officeDocument/2006/relationships/hyperlink" Target="http://en.wikipedia.org/wiki/CANDU" TargetMode="External"/><Relationship Id="rId10" Type="http://schemas.openxmlformats.org/officeDocument/2006/relationships/hyperlink" Target="http://en.wikipedia.org/wiki/Central_Electricity_Generating_Board" TargetMode="External"/><Relationship Id="rId11" Type="http://schemas.openxmlformats.org/officeDocument/2006/relationships/slide" Target="../slides/slide22.xml"/><Relationship Id="rId1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434960" y="685800"/>
            <a:ext cx="3759480" cy="2819520"/>
          </a:xfrm>
          <a:prstGeom prst="rect">
            <a:avLst/>
          </a:prstGeom>
          <a:ln w="0">
            <a:noFill/>
          </a:ln>
        </p:spPr>
      </p:sp>
      <p:sp>
        <p:nvSpPr>
          <p:cNvPr id="186"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65BF-DF89-430B-867B-A0AD7C791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DF82-C513-40F7-AB24-DF55C5FFF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6A7D-DC81-4884-9E12-40F719C31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62FC-7E5A-43C7-9269-7432ECFCC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6E4E-08AC-461C-8A61-327E2CCFDE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82600" y="687240"/>
            <a:ext cx="3349800" cy="2513160"/>
          </a:xfrm>
          <a:prstGeom prst="rect">
            <a:avLst/>
          </a:prstGeom>
          <a:ln w="0">
            <a:noFill/>
          </a:ln>
        </p:spPr>
      </p:sp>
      <p:sp>
        <p:nvSpPr>
          <p:cNvPr id="241" name="PlaceHolder 2"/>
          <p:cNvSpPr>
            <a:spLocks noGrp="1"/>
          </p:cNvSpPr>
          <p:nvPr>
            <p:ph type="body"/>
          </p:nvPr>
        </p:nvSpPr>
        <p:spPr>
          <a:xfrm>
            <a:off x="609120" y="3352680"/>
            <a:ext cx="5334120" cy="51055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or core, and all associated support and alignment devices, are housed within the reactor vessel(cutaway view on page 4-10). The major components are the reactor vessel, the core barrel, the reactor core, and the upper internals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or vessel is a cylindrical vessel with a hemispherical bottom head and a removable hemispherical top head. The top head is removable to allow for the refueling of the reactor. There will be one inlet (or cold leg) nozzle and one outlet (or hot leg) nozzle for each reactor coolant system loop.  The reactor vessel is constructed of a manganese molybdenum steel, and all surfaces that come into contact with reactor coolant are clad with stainless steel to increase corrosion  resistance.  The core barrel slides down inside of the reactor vessel and houses the fuel. Toward the bottom of the core barrel, there is a lower core support plate on which the fuel assemblies sit. The core barrel and all of the lower internals actually hang inside the reactor vessel from the internals support ledge. On the outside of the core barrel will be irradiation specimen holders in which samples of the material used to manufacture the vessel will be placed. At periodic time intervals, some of these samples will be removed and tested to see how the radiation from the fuel has affected the strength of the material.  The upper internals package sits on top of the fuel. It contains the guide columns to guide the control rods when they are pulled from the fuel. The upper internals package prevents the core from trying to move up during operation due to the force from the coolant flowing through the assemb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w path for the reactor coolant through the reactor vessel would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olant enters the reactor vessel at the inlet nozzle and hits against the core barr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e barrel forces the water to flow downward in the space between the reactor vessel wall and the core barr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fter reaching the bottom of the reactor vessel, the flow is turned upward to pass through the fuel assemb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olant flows all around and through the fuel assemblies, removing the heat produced by the fission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ow hotter water enters the upper internals region, where it is routed out the outlet nozzle and goes on to the steam gene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4DCB-1B60-4B1D-B462-0E5087795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7D7B-EFAE-4C4E-B55F-8F2A49295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22E3-D57E-427A-95EB-9B0ECE12E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89FD-A47E-4DA5-97E1-D90F10433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360440" y="687240"/>
            <a:ext cx="4060800" cy="3046680"/>
          </a:xfrm>
          <a:prstGeom prst="rect">
            <a:avLst/>
          </a:prstGeom>
          <a:ln w="0">
            <a:noFill/>
          </a:ln>
        </p:spPr>
      </p:sp>
      <p:sp>
        <p:nvSpPr>
          <p:cNvPr id="247" name="PlaceHolder 2"/>
          <p:cNvSpPr>
            <a:spLocks noGrp="1"/>
          </p:cNvSpPr>
          <p:nvPr>
            <p:ph type="body"/>
          </p:nvPr>
        </p:nvSpPr>
        <p:spPr>
          <a:xfrm>
            <a:off x="914400" y="4114440"/>
            <a:ext cx="5029200" cy="43434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or coolant flows from the reactor to the steam generator. Inside of the steam generator, the hot reactor coolant flows inside of the many tubes. The secondary coolant, or feedwater, flows ar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ide of the tubes, where it picks up heat from the primary coolant. When the feedwater absorbs sufficient heat, it starts to boil and form steam. At this point, the steam generators used by the thr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urized Water Reactor vendors differ slightly in their designs and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estinghouse (page 4-12) and Combustion Engineering (page 4-13) designs, the steam/water mixture passes through multiple stages of moisture separation. One stage causes the mixture to spin, which slings the water to the outside. The water is then drained back to be used to make more ste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er steam is routed to the second stage of separation. In this stage, the mixture is forced to make rapid changes in direction. Because of the steam’s ability to change direction and the water’s inability to change, the steam exits the steam generator, and the water is drained back for reuse. The two stage process of moisture removal is so efficient at removing the water that for every 100 pounds of steam that exits the steam generator, the water content is less than 0.25 pounds. It is important to mainta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isture content of the steam as low as possible to prevent damage to the turbine bl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5C6A-BBC2-48B7-999E-F6CDD3A84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DCFD-5895-48BE-AFD5-244935DFD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74B8-7A7F-423C-93EF-71A25BC7B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EB8D-CAB6-4671-943F-8ED5EF892A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cock &amp; Wilcox design uses a once through steam generator (OTSG, page 4-14). In this design, the flow of primary coolant is from the top of the steam generator to the bottom, instead of through Ushaped tubes as in the Westinghouse and Combustion Engineering designs. Because of the heat transfer achieved by this design, the steam that exits the once through steam generator contains no moisture.  This is done by heating the steam above the boiling point, or superheating.  Other differences in design include the ways in which the steam and the cooler primary coolant exit the steam generators. In a Westinghouse steam generator, there is a single outlet fro the steam and a single outlet for the primary coolant. For both the Babcock &amp; Wilcox design and the Combustion Engineering design there are two steam outlets and two primary coolant out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of the steam generator designs, the steam is piped to the main turbine, and the coolant is routed to the suction of the reactor coolant p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827D-FFEC-4ED6-B662-6FAB10C7F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BECA-5CC3-4F59-942E-0E5331E33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0D4D-59C5-4371-8F9F-4CC5D4A85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2DBC-B238-4D1B-8136-B746A1CA19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 reactor coolant pump is to provide forced primary coolant flow to remove the amount of heat being generated by the fission process. Even without a pump, there would be natural circulation flow through the reactor. However, this flow is not sufficient to remove the heat being generated when the reactor is at power. Natural circulation flow is sufficient for heat removal when the plant is shutdown (not critical).  The reactor coolant enters the suction side of the pump from the outlet of the steam generator. The water is increased in velocity by the pump impeller. This increase in velocity is converted to pressure in the discharge volute. At the discharge of the reactor coolant pump, the reactor coolant pressure will be approximately 90 psi higher than the inlet pressure.  After the coolant leaves the discharge side of the pump, it will enter the inlet or cold leg side of the reactor vessel. The coolant will then pass through the fuel to collect more heat and is sent back to the steam gener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 components of a reactor coolant pump (page 4-16) are the motor, the hydraulic section, and the seal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tor is a large, air cooled, electric motor. The horsepower rating of the motor will be from 6,000 to 10,000 horsepower. This large amount of power is needed in order to provide the necessary flow of coolant for heat removal (approximately 100,000 gallons per minute per pum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ydraulic section of the pump is the impeller and the discharge volute. The impeller of the pump is attached to the motor by a long sha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al package is located between the motor and the hydraulic section and prevents any water from leaking up the shaft into the containment atmosphere. Any water that does leak up the shaft is collected and routed to the seal leakoff system for collection in various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A722-9106-4ACF-9E60-AB9EC6211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8A89-DE40-44EB-8358-E52293627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E721-016A-48A4-AB51-2BCC9E4FC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51FF-756F-4201-AFCE-1901EC93DF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31840" y="687240"/>
            <a:ext cx="3756240" cy="2818080"/>
          </a:xfrm>
          <a:prstGeom prst="rect">
            <a:avLst/>
          </a:prstGeom>
          <a:ln w="0">
            <a:noFill/>
          </a:ln>
        </p:spPr>
      </p:sp>
      <p:sp>
        <p:nvSpPr>
          <p:cNvPr id="265" name="PlaceHolder 2"/>
          <p:cNvSpPr>
            <a:spLocks noGrp="1"/>
          </p:cNvSpPr>
          <p:nvPr>
            <p:ph type="body"/>
          </p:nvPr>
        </p:nvSpPr>
        <p:spPr>
          <a:xfrm>
            <a:off x="533520" y="3733560"/>
            <a:ext cx="5867280" cy="47242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surizer (page 4-18) is the component in the reactor coolant system which provides a means of controlling the system pressure. Pressure is controlled by the use of electrical heaters, pressurizer spray, power operated relief valves, and safety valves.  The pressurizer operates with a mixture of steam and water in equilibrium. If pressure starts to deviate from the desired value, the various components will actuate to bring pressure back to the normal operating point. The cause of the pressure deviation is normally associated with a change in the temperature of the reactor coolant system. If reactor coolant system temperature starts to increase, the density of the reactor coolant will decrease, and the water will take up more space. Since the pressurizer is connected to the reactor coolant system via the surge line, the water will expand up into the pressurizer. This will cause the steam in the top of the pressurizer to be compressed, and therefore, the pressure to incr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posite effect will occur if the reactor coolant system temperature decreases. The water will become more dense, and will occupy less space. The level in the pressurizer will decrease, which will cause a pressure decrease. For a pressure increase or decrease, the pressurizer will operate to bring pressure back to normal.  For example, if pressure starts to increase above the desired setpoint, the spray line will allow relatively cold water from the discharge of the reactor coolant pump to be sprayed into the steam space. The cold water will condense the steam into water, which will reduce pressure (due to the fact that steam takes up about six times more space than the same mass of water). If pressure continues to increase, the pressurizer relief valves will open and dump steam to the pressurizer relief tank. If this does not relieve pressure, the safety valves will lift, also discharging to the pressurizer relief tank.  If pressure starts to decrease, the electrical heaters will be energized to boil more water into steam, and therefore increase pressure. If pressure continues to decrease, and reaches a predetermined setpoint, the reactor protection system will trip the rea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surizer relief tank (page 4-19) is a large tank containing water with a nitrogen atmosphere. The water is there to condense any steam discharged by the safety or relief valves. Since the reactor coolant system contains hydrogen, the nitrogen atmosphere is used to prevent the hydrogen from existing in a potentially explosiv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4159-C82A-45A7-8269-A9BCAE6F7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4266-0002-4AF8-AEF6-C3171274D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139C-3029-4418-98BE-1CFC5A825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1123-8520-41D4-B2E2-634FC254F9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4440" y="687240"/>
            <a:ext cx="3349800" cy="2513160"/>
          </a:xfrm>
          <a:prstGeom prst="rect">
            <a:avLst/>
          </a:prstGeom>
          <a:ln w="0">
            <a:noFill/>
          </a:ln>
        </p:spPr>
      </p:sp>
      <p:sp>
        <p:nvSpPr>
          <p:cNvPr id="271" name="PlaceHolder 2"/>
          <p:cNvSpPr>
            <a:spLocks noGrp="1"/>
          </p:cNvSpPr>
          <p:nvPr>
            <p:ph type="body"/>
          </p:nvPr>
        </p:nvSpPr>
        <p:spPr>
          <a:xfrm>
            <a:off x="533520" y="3352680"/>
            <a:ext cx="5943600" cy="51055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 secondary systems of a pressurized water reactor are the main steam system and the condensate/feedwater system. Since the primary and secondary systems are physically separated from each other (by the steam generator tubes), the secondary system will contain little or no radioactive material.  The main steam system starts at the outlet of the steam generator. The steam is routed to the high pressure main turbine. After passing through the high pressure turbine, the steam is piped to the moisture separator/reheaters (MSRs). In the MSRs, the steam is dried with moisture separators and reheated using other steam as a heat source. From the MSRs, the steam goes to the low pressure turbines. After passing through the low pressure turbines, the steam goes to the main condenser, which is operated at a vacuum to allow for the greatest removal of energy by the low pressure turbines. The steam is condensed into water by the flow of circulating water through the condenser tu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the condensate/feedwater system starts. The condensed steam collects in the hotwell area of the main condenser. The condensate pumps take a suction on the hotwell to increase the pressure of the water. The condensate then passes through a cleanup system to remove any impurities in the water. This is necessary because the steam generator acts as a concentrator. If the impurities are not removed, they will be left in the steam generator after the steam forming process, and this could reduce the heat transfer capability of the steam generator and/or damage the steam generator tubes. The condensate then passes through some low pressure feedwater heaters. The temperature of the condensate is increased in the heaters by using steam from the low pressure turbine (extraction steam). The condensate flow then enters the suction of the main feedwater pumps, which increases the pressure of the water high enough to enter the steam generator. The feedwater now passes through a set of high pressure feedwater heaters, which are heated by extraction steam from the high pressure turbine (heating the feedwater helps to increase the efficiency of the plant). The flow rate of the feedwater is controlled as it enters the steam generator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9DC3-8F43-48D4-B685-841974077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B03F-51B5-45AB-8D95-D67FEF854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F0AD-3735-40A6-8480-2010343BF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DDC3-FD36-495D-AEAF-11FD590B57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09680" y="687240"/>
            <a:ext cx="2943360" cy="2208240"/>
          </a:xfrm>
          <a:prstGeom prst="rect">
            <a:avLst/>
          </a:prstGeom>
          <a:ln w="0">
            <a:noFill/>
          </a:ln>
        </p:spPr>
      </p:sp>
      <p:sp>
        <p:nvSpPr>
          <p:cNvPr id="277" name="PlaceHolder 2"/>
          <p:cNvSpPr>
            <a:spLocks noGrp="1"/>
          </p:cNvSpPr>
          <p:nvPr>
            <p:ph type="body"/>
          </p:nvPr>
        </p:nvSpPr>
        <p:spPr>
          <a:xfrm>
            <a:off x="533520" y="3048120"/>
            <a:ext cx="5790960" cy="5410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 and volume control system (CVCS) is a major support system for the reactor coolant system. Some of the functions of the system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rify the reactor coolant system using filters and demineraliz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d remove boron as necessar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the level of the pressurizer at the desired set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amount of water (about 75 gpm) is continuously routed through the chemical and volume control system (called letdown). This provides a continuous cleanup of the reactor coolant system which maintains the purity of the coolant and helps to minimize the amount of radioactive material in the coo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or coolant pump seals prevent the leakage of primary coolant to the containment atmosphere.  The chemical and volume control system provides seal injection to keep the seals cool and provide lubrication for the seals. This water has been cooled by the heat exchangers and cleaned by the filters and deminera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path (not shown) to route the letdown flow to the radioactive waste system for processing and/or dis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ED39-FB69-4B85-BB57-42B03B31C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DC4F-5329-45AC-AAE7-DE5683F7F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C493-25AE-44BF-9272-AD02F646F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D7DB-C22D-48CF-87A0-7B3ADD7D2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449360" y="687240"/>
            <a:ext cx="2739960" cy="2055960"/>
          </a:xfrm>
          <a:prstGeom prst="rect">
            <a:avLst/>
          </a:prstGeom>
          <a:ln w="0">
            <a:noFill/>
          </a:ln>
        </p:spPr>
      </p:sp>
      <p:sp>
        <p:nvSpPr>
          <p:cNvPr id="283" name="PlaceHolder 2"/>
          <p:cNvSpPr>
            <a:spLocks noGrp="1"/>
          </p:cNvSpPr>
          <p:nvPr>
            <p:ph type="body"/>
          </p:nvPr>
        </p:nvSpPr>
        <p:spPr>
          <a:xfrm>
            <a:off x="609480" y="2895480"/>
            <a:ext cx="563904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normal operation, the heat produced by the fission process is removed by the reactor coolant and transferred to the secondary coolant in the steam generators. Here, the secondary coolant is boiled into steam and sent to the main turbine.  Even after the reactor has been shutdown, there is a significant amount of heat produced by the decay of fission products (decay heat). The amount of heat produced by decay heat is sufficient to cause fuel damage if not removed. Therefore, systems must be designed and installed in the plant to remove the decay from the core and transfer that heat to the environment, even in a shutdown plant condition. Also, if it is desired to perform maintenance on reactor coolant system components, the temperature and pressure of the reactor coolant system must be reduced low enough to allow personnel access to the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xiliary feedwater system and the steam dump system (turbine bypass valves) work together to allow the operators to remove the decay heat from the reactor. The auxiliary feedwater system pumps water from the condensate storage tank to the steam generators. This water is allowed to boil to make steam. The steam can then be dumped to the main condenser through the steam dump valves. The circulating water will then condense the steam and take the heat to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eam dump system is not available (for example, no circulating water for the main condenser), the steam can be dumped directly to the atmosphere through the atmospheric relief va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either method of steam removal, the heat is being removed from the reactor coolant system, and the temperature of the reactor coolant system can be reduced to the desired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EB71-1B90-4510-8262-83FE57479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290B-9AC9-494B-8A2B-F3E314DC5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A632-E9AC-495C-940F-9AD05F67E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AC9E-D700-452A-B1E0-A918891542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decay heat being produced will not be sufficient to generate enough steam in the steam generators to continue the cooldown. When the reactor coolant system pressure and temperature have been reduced to within the operational limits, the residual heat removal system (RHR) will be used to continue the cooldown by removing heat from the core and transferring it to the environment.  This is accomplished by routing some of the reactor coolant through the residual heat removal system heat exchanger, which is cooled by the component cooling water system (CCW). The heat removed by the component cooling water system is then transferred to the service water system in the component cooling water heat exchanger. The heat picked up by the service water system will be transferred directly to the environment from the service wa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dual heat removal system can be used to cool the plant down to a low enough temperature that personnel can perform any maintenance functions, including refuel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9710-D816-448F-B03B-99F2A96B5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1E0D-A16E-48F3-B876-8530F120B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C953-5ABD-41E6-86A0-115A7E417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6914-E753-419A-A728-EF67E7AC9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284120" y="687240"/>
            <a:ext cx="3146760" cy="2360880"/>
          </a:xfrm>
          <a:prstGeom prst="rect">
            <a:avLst/>
          </a:prstGeom>
          <a:ln w="0">
            <a:noFill/>
          </a:ln>
        </p:spPr>
      </p:sp>
      <p:sp>
        <p:nvSpPr>
          <p:cNvPr id="295" name="PlaceHolder 2"/>
          <p:cNvSpPr>
            <a:spLocks noGrp="1"/>
          </p:cNvSpPr>
          <p:nvPr>
            <p:ph type="body"/>
          </p:nvPr>
        </p:nvSpPr>
        <p:spPr>
          <a:xfrm>
            <a:off x="685440" y="3123720"/>
            <a:ext cx="5638680" cy="533412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two purposes of the emergency core cooling systems (ECCS). The first is to provide core cooling to minimize fuel damage following a loss of coolant accident. This is accomplished by the injection of large amounts of cool, borated water into the reactor coolant system. The second is to provide extra neutron poisons to ensure the reactor remains shutdown following the cooldown associated with a main steam line rupture, which is accomplished by the use of the same borated water source. This water source is called the refueling water storage tank (RW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erform this function of injection of large quantities of borated water, the emergency core cooling systems consist of four separate systems (page 4-25). In order of highest pressure to lowest pressure, these systems are: the high pressure injection (or charging) system, the intermediate pressure injection system, the cold leg accumulators, and the low pressure injection system (residual heat removal). Even though the diagram shows only one pump in each system, there are actually two, each of which is capable of providing sufficient flow. Also, these systems must be able to operate when the normal supply of power is lost to the plant. For this reason, these systems are powered from the plant emergency (diesel generators) power sys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igh pressure injection system uses the pumps in the chemical and volume control system. Upon receipt of an emergency actuation signal, the system will automatically realign to take water from the refueling water storage tank and pump it into the reactor coolant system. The high pressure injection system is designed to provide water to the core during emergencies in which reactor coolant system pressure remains relatively high (such as small break in the reactor coolant system, steam break accidents, and leaks of reactor coolant through a steam generator tube to the secondary si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termediate pressure injection system is also designed for emergencies in which the primary pressure stays relatively high, such as small to intermediate size primary breaks. Upon an emergency start signal, the pumps will take water from the refueling water storage tank and pump it into the reactor coolant sys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d leg accumulators do not require electrical power to operate. These tanks contain large amounts of borated water with a pressurized nitrogen gas bubble in the top. If the pressure of the primary system drops below low enough, the nitrogen will force the borated water out of the tank and into the reactor coolant system. These tanks are designed to provide water to the reactor coolant system during emergencies in which the pressure of the primary drops very rapidly, such as large primary brea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ow pressure injection system (residual heat removal) is designed to inject water from the refueling water storage tank into the reactor coolant system during large breaks, which would cause a very low reactor coolant system pressure. In addition, the residual heat removal system has a feature that allows it to take water from the containment sump, pump it through the residual heat removal system heat exchanger for cooling, and then send the cooled water back to the reactor for core cooling. This is the method of cooling that will be used when the refueling water storage tank goes empty after a large primary system break. This is called the long term core cooling or recirculation mo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9210-76F7-4164-89D1-899F7D786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E8CE-6860-43C1-966B-F35698D01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1BC7-A15E-44D5-B678-DF7E4B5F1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AE31-AFE9-452E-A0BD-2F6E09719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7240"/>
            <a:ext cx="4572000" cy="3429000"/>
          </a:xfrm>
          <a:prstGeom prst="rect">
            <a:avLst/>
          </a:prstGeom>
          <a:ln w="0">
            <a:noFill/>
          </a:ln>
        </p:spPr>
      </p:sp>
      <p:sp>
        <p:nvSpPr>
          <p:cNvPr id="19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064B-9D0F-4ABD-B7F8-91C599E06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5847-15AE-4607-8EBA-162F3349F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277C-9FF0-4D5A-983C-CFCDA32A2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A024-9071-4226-A210-EB2AE444DC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411200" y="687240"/>
            <a:ext cx="2435400" cy="1827360"/>
          </a:xfrm>
          <a:prstGeom prst="rect">
            <a:avLst/>
          </a:prstGeom>
          <a:ln w="0">
            <a:noFill/>
          </a:ln>
        </p:spPr>
      </p:sp>
      <p:sp>
        <p:nvSpPr>
          <p:cNvPr id="301" name="PlaceHolder 2"/>
          <p:cNvSpPr>
            <a:spLocks noGrp="1"/>
          </p:cNvSpPr>
          <p:nvPr>
            <p:ph type="body"/>
          </p:nvPr>
        </p:nvSpPr>
        <p:spPr>
          <a:xfrm>
            <a:off x="914400" y="2590920"/>
            <a:ext cx="5029200" cy="5867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in previous chapters, the reactor coolant system is located inside the containment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s are designed to withstand the pressures and temperatures that would accompany a high energy fluid (primary coolant, steam, or feedwater) release into the building, but exposure to high temperature and pressure over a long period of time would tend to degrade the concrete. If a break occurred in the primary system, the coolant that is released into the containment building would contain radioactive material (fission products). If the concrete developed any cracks, the high pressure in the containment would tend to force the radioactive material out of the containment and into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mit the leakage out of containment following an accident, there is a steel liner that covers the inside surface of the containment building. This liner acts as a vapor proof membrane to prevent any gas from escaping through any cracks that may develop in the concr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two systems designed with the purpose of reducing containment temperature and pressure after an accident in the containment building. The fan cooler system circulates the air through heat exchangers to accomplish the cooling. The second system is the containment spray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E014-3C2E-4D83-BA7F-353BFC018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427D-C6A5-41F7-BB83-4882B7481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7B02-2365-4576-878A-870D2E2E9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58DF-1924-4D09-8778-A29D42122B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occurrence of either a secondary break or primary break inside the containment building, the containment atmosphere would become filled with steam. To reduce the pressure and temperature of the building, the containment spray system is automatically started. The containment spray pump will take a suction from the refueling water storage tank and pump the water into spray rings located in the upper part of the containment. The water droplets, being cooler than the steam, will remove heat from the steam, which will cause the steam to condense. This will cause a reduction in the pressure of the building and will also reduce the temperature of the containment atmosphere (similar to the operation of the pressurizer). Like the residual heat removal system, the containment spray system has the capability to take water from the containment sump if the refueling water storage tank goes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EC57-DF9A-4699-A21F-6672B5071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85E1-8F3E-454D-A161-9C270CA43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F2FF-93F1-4790-8044-65E5B8A6E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79F2-9883-4754-871C-F3D20FA9E8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7240"/>
            <a:ext cx="4572000" cy="3429000"/>
          </a:xfrm>
          <a:prstGeom prst="rect">
            <a:avLst/>
          </a:prstGeom>
          <a:ln w="0">
            <a:noFill/>
          </a:ln>
        </p:spPr>
      </p:sp>
      <p:sp>
        <p:nvSpPr>
          <p:cNvPr id="313"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interaction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sh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control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ived advantages and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kipedi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R Advant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or vessel and associated components operate at a substantially lower pressure (about 75 times atmospheric pressure) compared to a PWR (about 158 times atmospheric press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ure vessel is subject to significantly less irradiation compared to a PWR, and so does not become as brittle with 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es at a lower nuclear fuel temp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er components due to no steam generators and no pressurizer vessel. (Older BWRs have external recirculation loops, but even this piping is eliminated in modern BWRs, such as the </a:t>
            </a:r>
            <a:r>
              <a:rPr b="0" lang="en-US" sz="1000" spc="-1" strike="noStrike" u="sng">
                <a:solidFill>
                  <a:srgbClr val="009999"/>
                </a:solidFill>
                <a:uFillTx/>
                <a:latin typeface="Arial"/>
                <a:hlinkClick r:id="rId1"/>
              </a:rPr>
              <a:t>ABW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 risk (probability) of a rupture causing loss of coolant compared to a PWR, and lower risk of core damage should such a rupture occur. This is due to fewer pipes, fewer large diameter pipes, fewer welds and no steam generator tu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RC assessments of limiting fault potentials indicate if such a fault occurred, the average BWR would be less likely to sustain core damage than the average PWR due to the robustness and redundancy of the </a:t>
            </a:r>
            <a:r>
              <a:rPr b="0" lang="en-US" sz="1000" spc="-1" strike="noStrike" u="sng">
                <a:solidFill>
                  <a:srgbClr val="009999"/>
                </a:solidFill>
                <a:uFillTx/>
                <a:latin typeface="Arial"/>
                <a:hlinkClick r:id="rId2"/>
              </a:rPr>
              <a:t>Emergency Core Cooling System (ECCS)</a:t>
            </a: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ke PWRs, BWRs have at least a few steam-turbine driven ECCS systems that can be directly operated by steam produced after a reactor shutdown, and require no electrical power. This results in less dependence on emergency diesel generators—of which there are four—in any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ing the water level in the pressure vessel is the same for both normal and emergency operations, which results in easy and intuitive assessment of emergency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operate at lower core power density levels using natural circulation without forced f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WR may be designed to operate using only natural circulation so that recirculation pumps are eliminated entirely. (The new ESBWR design uses natural circ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Rs do not use </a:t>
            </a:r>
            <a:r>
              <a:rPr b="0" lang="en-US" sz="1000" spc="-1" strike="noStrike" u="sng">
                <a:solidFill>
                  <a:srgbClr val="009999"/>
                </a:solidFill>
                <a:uFillTx/>
                <a:latin typeface="Arial"/>
                <a:hlinkClick r:id="rId3"/>
              </a:rPr>
              <a:t>boric acid</a:t>
            </a:r>
            <a:r>
              <a:rPr b="0" lang="en-US" sz="1000" spc="-1" strike="noStrike">
                <a:solidFill>
                  <a:srgbClr val="000000"/>
                </a:solidFill>
                <a:latin typeface="Arial"/>
              </a:rPr>
              <a:t> to control fission burn-up, leading to less possibility of corrosion within the reactor vessel and piping. (Corrosion from boric acid must be carefully monitored in PWRs; it has been demonstrated that reactor vessel head corrosion can occur if the reactor vessel head is not properly maintained. See </a:t>
            </a:r>
            <a:r>
              <a:rPr b="0" lang="en-US" sz="1000" spc="-1" strike="noStrike" u="sng">
                <a:solidFill>
                  <a:srgbClr val="009999"/>
                </a:solidFill>
                <a:uFillTx/>
                <a:latin typeface="Arial"/>
                <a:hlinkClick r:id="rId4"/>
              </a:rPr>
              <a:t>Davis-Besse</a:t>
            </a:r>
            <a:r>
              <a:rPr b="0" lang="en-US" sz="1000" spc="-1" strike="noStrike">
                <a:solidFill>
                  <a:srgbClr val="000000"/>
                </a:solidFill>
                <a:latin typeface="Arial"/>
              </a:rPr>
              <a:t>. Since BWRs do not utilize boric acid, these contingencies are elimin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Rs generally have </a:t>
            </a:r>
            <a:r>
              <a:rPr b="0" i="1" lang="en-US" sz="1000" spc="-1" strike="noStrike">
                <a:solidFill>
                  <a:srgbClr val="000000"/>
                </a:solidFill>
                <a:latin typeface="Arial"/>
              </a:rPr>
              <a:t>N</a:t>
            </a:r>
            <a:r>
              <a:rPr b="0" lang="en-US" sz="1000" spc="-1" strike="noStrike">
                <a:solidFill>
                  <a:srgbClr val="000000"/>
                </a:solidFill>
                <a:latin typeface="Arial"/>
              </a:rPr>
              <a:t>-2 redundancy on their major safety-related systems, which normally consist of four "trains" of components. This generally means that up to two of the four components of a safety system can fail and the system will still perform if called up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ir single major vendor (GE/Hitachi), the current fleet of BWRs have predictable, uniform designs that, while not completely standardized, generally are very similar to one another. The ABWR/ESBWR designs are completely standardized. Lack of standardization remains a problem with PWRs, as, at least in the United States, there are three design families represented among the current PWR fleet (Combustion Engineering, -Westinghouse, and Babcock &amp; Wilcox), within these families, there are quite divergent design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amilies of PWRs are being introduced. For example, Mitsubishi's </a:t>
            </a:r>
            <a:r>
              <a:rPr b="0" lang="en-US" sz="1000" spc="-1" strike="noStrike" u="sng">
                <a:solidFill>
                  <a:srgbClr val="009999"/>
                </a:solidFill>
                <a:uFillTx/>
                <a:latin typeface="Arial"/>
                <a:hlinkClick r:id="rId5"/>
              </a:rPr>
              <a:t>APWR</a:t>
            </a:r>
            <a:r>
              <a:rPr b="0" lang="en-US" sz="1000" spc="-1" strike="noStrike">
                <a:solidFill>
                  <a:srgbClr val="000000"/>
                </a:solidFill>
                <a:latin typeface="Arial"/>
              </a:rPr>
              <a:t>, Areva's US-</a:t>
            </a:r>
            <a:r>
              <a:rPr b="0" lang="en-US" sz="1000" spc="-1" strike="noStrike" u="sng">
                <a:solidFill>
                  <a:srgbClr val="009999"/>
                </a:solidFill>
                <a:uFillTx/>
                <a:latin typeface="Arial"/>
                <a:hlinkClick r:id="rId6"/>
              </a:rPr>
              <a:t>EPR</a:t>
            </a:r>
            <a:r>
              <a:rPr b="0" lang="en-US" sz="1000" spc="-1" strike="noStrike">
                <a:solidFill>
                  <a:srgbClr val="000000"/>
                </a:solidFill>
                <a:latin typeface="Arial"/>
              </a:rPr>
              <a:t>, and Westinghouse's </a:t>
            </a:r>
            <a:r>
              <a:rPr b="0" lang="en-US" sz="1000" spc="-1" strike="noStrike" u="sng">
                <a:solidFill>
                  <a:srgbClr val="009999"/>
                </a:solidFill>
                <a:uFillTx/>
                <a:latin typeface="Arial"/>
                <a:hlinkClick r:id="rId7"/>
              </a:rPr>
              <a:t>AP1000</a:t>
            </a:r>
            <a:r>
              <a:rPr b="0" lang="en-US" sz="1000" spc="-1" strike="noStrike">
                <a:solidFill>
                  <a:srgbClr val="000000"/>
                </a:solidFill>
                <a:latin typeface="Arial"/>
              </a:rPr>
              <a:t>/</a:t>
            </a:r>
            <a:r>
              <a:rPr b="0" lang="en-US" sz="1000" spc="-1" strike="noStrike" u="sng">
                <a:solidFill>
                  <a:srgbClr val="009999"/>
                </a:solidFill>
                <a:uFillTx/>
                <a:latin typeface="Arial"/>
                <a:hlinkClick r:id="rId8"/>
              </a:rPr>
              <a:t>AP600</a:t>
            </a:r>
            <a:r>
              <a:rPr b="0" lang="en-US" sz="1000" spc="-1" strike="noStrike">
                <a:solidFill>
                  <a:srgbClr val="000000"/>
                </a:solidFill>
                <a:latin typeface="Arial"/>
              </a:rPr>
              <a:t> will add diversity and complexity to an already diverse crowd, and possibly cause customers seeking stability and predictability to seek other designs, such as the BW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Rs are overrepresented in imports, if the importing nation doesn't have a nuclear navy (PWRs are favored by nuclear naval states due to their compact, high-power design used on nuclear-powered vessels; since naval reactors are generally not exported, they cause national skill to be developed in PWR design, construction, and operation), or special national aspirations (special national aspirations lead to a marked preference for the </a:t>
            </a:r>
            <a:r>
              <a:rPr b="0" lang="en-US" sz="1000" spc="-1" strike="noStrike" u="sng">
                <a:solidFill>
                  <a:srgbClr val="009999"/>
                </a:solidFill>
                <a:uFillTx/>
                <a:latin typeface="Arial"/>
                <a:hlinkClick r:id="rId9"/>
              </a:rPr>
              <a:t>CANDU</a:t>
            </a:r>
            <a:r>
              <a:rPr b="0" lang="en-US" sz="1000" spc="-1" strike="noStrike">
                <a:solidFill>
                  <a:srgbClr val="000000"/>
                </a:solidFill>
                <a:latin typeface="Arial"/>
              </a:rPr>
              <a:t> reactor type due to special features of that type). This may be due to the fact that BWRs are ideally suited for peaceful uses like power generation, process/industrial/district heating, and desalinization, due to low cost, simplicity, and safety focus, which come at the expense of larger size and slightly lower thermal efficienc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eden is standardized mainly on BW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xico's only two reactors are BW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pan experimented with both PWRs and BWRs, but most builds as of late have been of BWRs, specifically ABW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t>
            </a:r>
            <a:r>
              <a:rPr b="0" lang="en-US" sz="1000" spc="-1" strike="noStrike" u="sng">
                <a:solidFill>
                  <a:srgbClr val="009999"/>
                </a:solidFill>
                <a:uFillTx/>
                <a:latin typeface="Arial"/>
                <a:hlinkClick r:id="rId10"/>
              </a:rPr>
              <a:t>CEGB</a:t>
            </a:r>
            <a:r>
              <a:rPr b="0" lang="en-US" sz="1000" spc="-1" strike="noStrike">
                <a:solidFill>
                  <a:srgbClr val="000000"/>
                </a:solidFill>
                <a:latin typeface="Arial"/>
              </a:rPr>
              <a:t> open competition in the early 1960s for a standard design for UK 2nd-generation power reactors, the PWR didn't even make it to the final round, which was a showdown between the BWR (preferred for its easily understood design as well as for being predictable and "boring") and the AGCR, a uniquely British design; the indigenous design won, possibly on technical merits, possibly due to the proximity of a general ele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 Disadvant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x calculations for managing consumption of nuclear fuel during operation due to "two phase (water and steam) fluid flow" in the upper part of the core. This requires more instrumentation in the reactor core. The innovation of computers, however, makes this less of an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larger pressure vessel than for a PWR of similar power, with correspondingly higher cost. (However, the overall cost is reduced because a modern BWR has no main steam generators and associated pip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tion of the turbine by short-lived activation products. This means that shielding and access control around the steam turbine are required during normal operations due to the radiation levels arising from the steam entering directly from the reactor core. This is a moderately minor concern, as most of the radiation flux is due to Nitrogen-16, which has a half-life measured in seconds, allowing the turbine chamber to be entered into within minutes of shutd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gh the present fleet of BWRs are said to be less likely to suffer core damage from the "1 in 100,000 reactor-year" limiting fault than the present fleet of PWRs are (due to increased ECCS robustness and redundancy) there have been concerns raised about the pressure containment ability of the as-built, unmodified Mark I containment – that such may be insufficient to contain pressures generated by a limiting fault combined with complete ECCS failure that results in extremely severe core damage. In this double failure scenario, assumed to be extremely unlikely prior to the Fukushima I nuclear accidents, an unmodified Mark I containment can allow some degree of radioactive release to occur. This is supposed to be mitigated by the modification of the Mark I containment; namely, the addition of an outgas stack system that, if containment pressure exceeds critical setpoints, is supposed to allow the orderly discharge of pressurizing gases after the gases pass through activated carbon filters designed to trap radionuclides.</a:t>
            </a:r>
            <a:r>
              <a:rPr b="0" lang="en-US" sz="1000" spc="-1" strike="noStrike" baseline="30000">
                <a:solidFill>
                  <a:srgbClr val="000000"/>
                </a:solidFill>
                <a:latin typeface="Arial"/>
              </a:rPr>
              <a:t>[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WR requires active cooling for a period of several hours to several days following shutdown, depending on its power history. Full insertion of BWRs control rods safely shuts down the primary nuclear reaction. However, radioactive decay of the fission products in the fuel will continue to actively generate decay heat at a gradually decreasing rate, requiring pumping of cooling water for an initial period to prevent overheating of the fuel. If active cooling fails during this post-shutdown period, the reactor can still overheat to a temperature high enough that zirconium in the fuel cladding will react with water and steam, producing hydrogen gas. In this event there is a high danger of hydrogen explosions, threatening structural damage to the reactor and/or associated safety systems and/or the exposure of highly radioactive spent fuel rods that may be stored in the reactor building (approx 15 tons of fuel is replenished each year to maintain normal BWR operation) as happened with the Fukushima I nuclear acci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rods are inserted from below for current BWR designs. There are two available hydraulic power sources that can drive the control rods into the core for a BWR under emergency conditions. There is a dedicated high pressure hydraulic accumulator and also the pressure inside of the reactor pressure vessel available to each control rod. Either the dedicated accumulator (one per rod) or reactor pressure is capable of fully inserting each rod. Most other reactor types use top entry control rods that are held up in the withdrawn position by electromagnets, causing them to fall into the reactor by gravity if power is l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F473-9C27-4E19-A35B-F611A6EF8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76E4-17DC-4FAA-8A12-6C6AC3C9A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D31D-352E-43B9-A07E-D6C11862A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958E-2EC4-41E5-AC7C-66E0F4A90E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2F33-F54B-47F3-821D-083C09D1C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80B3-62C2-40DB-B7C6-35F43CF5F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0ADD-A494-4693-B86C-98CDC3E91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EF22-4FEF-421A-BD8B-6D4AA97AED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E019-B980-45FC-9CE0-CC9E6A108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D24C-34C5-4797-A81F-3624B9DA6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647F-3908-475E-A68B-30203D234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EBFB-A680-41B4-9C76-7C8488384A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7240"/>
            <a:ext cx="4572000" cy="3429000"/>
          </a:xfrm>
          <a:prstGeom prst="rect">
            <a:avLst/>
          </a:prstGeom>
          <a:ln w="0">
            <a:noFill/>
          </a:ln>
        </p:spPr>
      </p:sp>
      <p:sp>
        <p:nvSpPr>
          <p:cNvPr id="19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2D31-5E21-4B9A-A5C1-B9233AF27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3810-74FA-4C31-83FB-6C3FD34E2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D721-27BE-45C6-A16D-C76564973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60FF-0A68-46F9-AAE2-F181D7CC24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system (also called the Reactor Coolant System) consists of the reactor vessel, the steam generators, the reactor coolant pumps, a pressurizer, and the connecting piping. A reactor coolant loop is a reactor coolant pump, a steam generator, and the piping that connects these components to the reactor vessel. The primary function of the reactor coolant system is to transfer the heat from the fuel to the steam generators. A second function is to contain any fission products that escape the fu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rawings show the layout of the reactor coolant systems for three pressurized water reactor vendors. All of the systems consist of the same major components, but they are arranged in slightly different ways. For example, Westinghouse has built plant with two, three, or four loops, depending upon the power output of the plant. The Combustion Engineering plants and the Babcock &amp; Wilcox plants only have two steam generators, but they have four reactor coolant p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7950-8D46-4F9A-9C03-8B38600A9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715C-F98D-47F5-8BC7-ABEE49E81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BB0A-0196-43D7-A20B-FEB2A6BD2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1F25-6DFE-46E7-B31A-DCD3856385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wo-loop Westinghouse plant has two steam generators, two reactor coolant pumps, and a pressur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loop units in the United States are Ginna, Kewaunee, Point Beach 1 and 2, and Prairie Island 1 and 2. Each of these plants has 121, 14 x 14 fuel assemblies arranged inside a reactor vessel tha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diameter of 132 inches. The electrical output of these plants is approximately 500 megawa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A2D1-2B47-40AF-86BA-5D6036D93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3E36-8004-4DBC-B41C-02C050B9D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9D7B-8DAF-4CB6-BF3A-A7A3CEFCE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03BB-BA16-4893-8B00-AC2B3FB239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ree-loop Westinghouse plant has three steam generators, three reactor coolant pumps, and a pressurizer. The three-loop units in the United States are Beaver Valley 1 and 2, Farley 1 and 2, H. B. Robinson 2, North Anna 1 and 2, Shearon Harris 1, V. C. Summer, Surry 1 and 2, and Turkey Point 3 and 4. Each of these plants has 157 fuel assemblies. Some units use 15 x 15 fuel assemblies while others use 17 x 17 arrays. The reactor vessels have internal diameters of 156 to 159 inches, except Summer and Turkey Point, which have 172-inch reactor vessels. The electrical output of these plants varies from almost 700 to more than 900 megawa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0F60-BE05-4AB0-8E31-AFDAEFDAA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15CF-5FD5-4184-ADD1-D668A0D10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80BB-BA85-40BA-B332-F58F9B946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8305-269A-47A7-BF38-8B52B3F22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loop Westinghouse plant has four steam generators, four reactor coolant pumps, and a pressurizer. The four-loop units in the United States are Braidwood 1 and 2, Byron 1 and 2, Callaway, Catawba 1 and 2, Comanche Peak 1 and 2, D. C. Cook 1 and 2, Diablo Canyon 1 and 2, Indian Point 2 and 3, McGuire 1 and 2, Millstone 3, Salem 1 and 2, Seabrook, Sequoyah 1 and 2, South Texas Project 1 and 2, Vogtle 1 and 2, Watts Bar 1, and Wolf Creek. Each of these plants has 193 fuel assemblies arranged inside a reactor vessel that has an internal diameter of 173 inches (except South Texas has an internal diameter of 167 inches). The fuel assemblies are arranged in 17 x 17 array except for Cook and Indian Point, which have 15 x 15 fuel. The electrical output of these plants ranges from 950 to 1250 megawa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7C23-ED40-4E83-97EC-0D5945FE6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EC58-1533-452E-9F52-540D63840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F153-502A-4C85-9642-BF4E0F46F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8E7C-B111-454B-B97A-6C1ED3B916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bcock &amp; Wilcox plant has two once through steam generators, four reactor coolant pumps, and a pressurizer. The Babcock &amp; Wilcox units in the United States are Arkansas 1, Crystal River 3, Davis Besse, Oconee 1, 2, and 3, and Three Mile Island 1. Each of these plants has 177 fuel assemblies. The electrical output of these plants is approximately 850 megawa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67EB-E3B7-4D36-BC58-E65D89678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E41E-E717-4371-ADE7-56722E91F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3A17-7E21-41F4-B5C6-C90EA88B3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FB6F-0743-419C-87CA-9FFA9CAF45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bustion Engineering plant has two steam generators, four reactor coolant pumps, and a pressurizer. The Combustion Engineering units in the United States are Arkansas 2, Calvert Cliffs 1 and 2, Fort Calhoun, Millstone 2, Palisades, Palo Verde 1, 2, and 3, San Onofre 2 and 3, Saint Lucie 1 and 2, and Waterford 3. The electrical output of these plants varies from less than 500 to more than 1200 megawa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B5904-10A0-4E5A-8084-F04EF2D6B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D20B9-426F-4D50-AA44-DC13E79EA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B4C5A-3311-4056-8DF7-12E6146DE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664A5-814B-4541-BF98-66C0B192A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5AE9B-863B-4927-9491-8569E7ECE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D5C5C-CC8E-44D2-8A88-CE2C0A932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EA467-31A1-4635-8B46-A47F094C8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18320-0A0B-41ED-A6BF-64640D3D9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000EB-4CB8-4B03-A7FB-955FC4873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32CD3-03AA-4F00-9550-A331375EA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BE8BB-70C0-4CD0-A86B-7D7B741D3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B6400-6392-4ECB-BBD9-EA758A6BC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92BD-CCEF-4D7C-85A3-35145E275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8055D-6157-4330-ABEB-B6D49886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555BE-E6F4-4D31-84CC-50FBA4E4C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0A1F7-7730-4FDC-A2E7-940CF9452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4DBE3-7673-4DDE-A221-BA8295425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3361-A531-4A20-8CEA-4C97E562D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8DDC-C1C1-411C-884B-0CCD48066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5602-7750-481F-AAC6-1BB73ADEF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7803E-EB19-41FB-AC1C-81AABD90F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28BD3-61D7-4CD1-A16F-266B7AD3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F1C6-A8CF-4D24-86F2-36F3755AD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6490-1B25-463D-8230-C6B1EDCFE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CD10-0225-4979-B876-1ABC5799C4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9065-2CEF-4081-9D25-2BD655D5C8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and volume control, circulating water, condensate, containment, containment sprat, control rod drive, emergency core cooling, emergency power, feedwater, PWR, BW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components of a pressurized water reactor pl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341720"/>
        </p:xfrm>
        <a:graphic>
          <a:graphicData uri="http://schemas.openxmlformats.org/drawingml/2006/table">
            <a:tbl>
              <a:tblPr/>
              <a:tblGrid>
                <a:gridCol w="1133640"/>
                <a:gridCol w="1033560"/>
                <a:gridCol w="1084320"/>
                <a:gridCol w="1082520"/>
                <a:gridCol w="1084320"/>
                <a:gridCol w="1082520"/>
                <a:gridCol w="1084320"/>
                <a:gridCol w="1082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8</a:t>
                      </a:r>
                      <a:endParaRPr b="0" lang="en-US" sz="1600" spc="-1" strike="noStrike">
                        <a:solidFill>
                          <a:srgbClr val="000000"/>
                        </a:solidFill>
                        <a:latin typeface="Arial"/>
                      </a:endParaRPr>
                    </a:p>
                  </a:txBody>
                  <a:tcPr anchor="t" marL="91440" marR="91440">
                    <a:lnL>
                      <a:noFill/>
                    </a:lnL>
                    <a:lnR>
                      <a:noFill/>
                    </a:lnR>
                    <a:lnT>
                      <a:noFill/>
                    </a:lnT>
                    <a:lnB>
                      <a:noFill/>
                    </a:lnB>
                    <a:noFill/>
                  </a:tcPr>
                </a:tc>
              </a:tr>
              <a:tr h="33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19</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3</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9</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1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2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29</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36</a:t>
                      </a:r>
                      <a:endParaRPr b="0" lang="en-US" sz="16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68A0-B008-41BB-AEB4-75958040EE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REACTOR VESSEL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27" name="Picture 2" descr=""/>
          <p:cNvPicPr/>
          <p:nvPr/>
        </p:nvPicPr>
        <p:blipFill>
          <a:blip r:embed="rId1"/>
          <a:stretch/>
        </p:blipFill>
        <p:spPr>
          <a:xfrm>
            <a:off x="2960640" y="1879560"/>
            <a:ext cx="3527640" cy="438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98C6-2FE9-4927-BF6C-3A902E2666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M GENERATOR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31" name="Picture 2" descr=""/>
          <p:cNvPicPr/>
          <p:nvPr/>
        </p:nvPicPr>
        <p:blipFill>
          <a:blip r:embed="rId1"/>
          <a:stretch/>
        </p:blipFill>
        <p:spPr>
          <a:xfrm>
            <a:off x="1143000" y="1785960"/>
            <a:ext cx="3166920" cy="4462560"/>
          </a:xfrm>
          <a:prstGeom prst="rect">
            <a:avLst/>
          </a:prstGeom>
          <a:ln w="0">
            <a:noFill/>
          </a:ln>
        </p:spPr>
      </p:pic>
      <p:pic>
        <p:nvPicPr>
          <p:cNvPr id="132" name="Picture 3" descr=""/>
          <p:cNvPicPr/>
          <p:nvPr/>
        </p:nvPicPr>
        <p:blipFill>
          <a:blip r:embed="rId2"/>
          <a:stretch/>
        </p:blipFill>
        <p:spPr>
          <a:xfrm>
            <a:off x="4903920" y="1785960"/>
            <a:ext cx="3298680" cy="451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CE7E-1B6C-46A0-9CFA-F02EA8FAD8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M GENERATOR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36" name="Picture 2" descr=""/>
          <p:cNvPicPr/>
          <p:nvPr/>
        </p:nvPicPr>
        <p:blipFill>
          <a:blip r:embed="rId1"/>
          <a:stretch/>
        </p:blipFill>
        <p:spPr>
          <a:xfrm>
            <a:off x="2925720" y="1803240"/>
            <a:ext cx="3214800" cy="444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B998-2E0D-4CCE-9D50-9A83038621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REACTOR COOLANT PUMP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40" name="Picture 2" descr=""/>
          <p:cNvPicPr/>
          <p:nvPr/>
        </p:nvPicPr>
        <p:blipFill>
          <a:blip r:embed="rId1"/>
          <a:stretch/>
        </p:blipFill>
        <p:spPr>
          <a:xfrm>
            <a:off x="2816280" y="1879560"/>
            <a:ext cx="3435120" cy="436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FE02-49BC-40BD-B6D8-6E8125875A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SURIZER SYSTEM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44" name="Picture 2" descr=""/>
          <p:cNvPicPr/>
          <p:nvPr/>
        </p:nvPicPr>
        <p:blipFill>
          <a:blip r:embed="rId1"/>
          <a:stretch/>
        </p:blipFill>
        <p:spPr>
          <a:xfrm>
            <a:off x="990720" y="1879560"/>
            <a:ext cx="2881080" cy="4395960"/>
          </a:xfrm>
          <a:prstGeom prst="rect">
            <a:avLst/>
          </a:prstGeom>
          <a:ln w="0">
            <a:noFill/>
          </a:ln>
        </p:spPr>
      </p:pic>
      <p:pic>
        <p:nvPicPr>
          <p:cNvPr id="145" name="Picture 3" descr=""/>
          <p:cNvPicPr/>
          <p:nvPr/>
        </p:nvPicPr>
        <p:blipFill>
          <a:blip r:embed="rId2"/>
          <a:stretch/>
        </p:blipFill>
        <p:spPr>
          <a:xfrm>
            <a:off x="4214880" y="1879560"/>
            <a:ext cx="3862440" cy="42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C00C-1A77-486F-A62C-125818E7E3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 (STEAM)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49" name="Picture 2" descr=""/>
          <p:cNvPicPr/>
          <p:nvPr/>
        </p:nvPicPr>
        <p:blipFill>
          <a:blip r:embed="rId1"/>
          <a:stretch/>
        </p:blipFill>
        <p:spPr>
          <a:xfrm>
            <a:off x="1312920" y="1879560"/>
            <a:ext cx="6441840" cy="436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9EC2-DD5F-4430-84F0-922149CF84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 AND VOLUME CONTROL SYSTEM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53" name="Picture 2" descr=""/>
          <p:cNvPicPr/>
          <p:nvPr/>
        </p:nvPicPr>
        <p:blipFill>
          <a:blip r:embed="rId1"/>
          <a:stretch/>
        </p:blipFill>
        <p:spPr>
          <a:xfrm>
            <a:off x="1143000" y="1879560"/>
            <a:ext cx="7315200" cy="442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D805-84CD-4254-ABA7-660AF24B96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AY HEAT REMOVAL SYSTEM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57" name="Picture 2" descr=""/>
          <p:cNvPicPr/>
          <p:nvPr/>
        </p:nvPicPr>
        <p:blipFill>
          <a:blip r:embed="rId1"/>
          <a:stretch/>
        </p:blipFill>
        <p:spPr>
          <a:xfrm>
            <a:off x="1655640" y="1879560"/>
            <a:ext cx="6135840" cy="442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A4EF-5CF8-4806-91EF-9069C08CDD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DUAL HEAT REMOVAL SYSTEM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61" name="Picture 2" descr=""/>
          <p:cNvPicPr/>
          <p:nvPr/>
        </p:nvPicPr>
        <p:blipFill>
          <a:blip r:embed="rId1"/>
          <a:stretch/>
        </p:blipFill>
        <p:spPr>
          <a:xfrm>
            <a:off x="1814400" y="1879560"/>
            <a:ext cx="5805720" cy="436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BF29-BCF1-49A3-9ED2-F3E76E3AD5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CORE COOLING SYSTEM (ECCS)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65" name="Picture 2" descr=""/>
          <p:cNvPicPr/>
          <p:nvPr/>
        </p:nvPicPr>
        <p:blipFill>
          <a:blip r:embed="rId1"/>
          <a:stretch/>
        </p:blipFill>
        <p:spPr>
          <a:xfrm>
            <a:off x="1025640" y="1879560"/>
            <a:ext cx="7356240" cy="438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25AB-892E-465F-9FB4-DF7D6E2154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31"/>
          <p:cNvSpPr/>
          <p:nvPr/>
        </p:nvSpPr>
        <p:spPr>
          <a:xfrm>
            <a:off x="762120" y="1295280"/>
            <a:ext cx="7924680" cy="198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various PWR systems and the operation of each.</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differences between PWR and BWR reactor plants.</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78D5-C652-4E71-8D86-CEBD8F9F1A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ME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69" name="Picture 2" descr=""/>
          <p:cNvPicPr/>
          <p:nvPr/>
        </p:nvPicPr>
        <p:blipFill>
          <a:blip r:embed="rId1"/>
          <a:stretch/>
        </p:blipFill>
        <p:spPr>
          <a:xfrm>
            <a:off x="2951280" y="1832040"/>
            <a:ext cx="3297240" cy="441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3711-CEB1-47D9-9798-99A7513D0C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MENT SPRAY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73" name="Picture 2" descr=""/>
          <p:cNvPicPr/>
          <p:nvPr/>
        </p:nvPicPr>
        <p:blipFill>
          <a:blip r:embed="rId1"/>
          <a:stretch/>
        </p:blipFill>
        <p:spPr>
          <a:xfrm>
            <a:off x="1668600" y="1879560"/>
            <a:ext cx="6110280" cy="41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5D26-09B7-4DD9-9840-811AFBB6EF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R AND BWR COMPARIS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77" name="Picture 3" descr=""/>
          <p:cNvPicPr/>
          <p:nvPr/>
        </p:nvPicPr>
        <p:blipFill>
          <a:blip r:embed="rId1"/>
          <a:stretch/>
        </p:blipFill>
        <p:spPr>
          <a:xfrm>
            <a:off x="457200" y="1784520"/>
            <a:ext cx="5029200" cy="2577960"/>
          </a:xfrm>
          <a:prstGeom prst="rect">
            <a:avLst/>
          </a:prstGeom>
          <a:ln w="0">
            <a:noFill/>
          </a:ln>
        </p:spPr>
      </p:pic>
      <p:pic>
        <p:nvPicPr>
          <p:cNvPr id="178" name="Picture 4" descr=""/>
          <p:cNvPicPr/>
          <p:nvPr/>
        </p:nvPicPr>
        <p:blipFill>
          <a:blip r:embed="rId2"/>
          <a:stretch/>
        </p:blipFill>
        <p:spPr>
          <a:xfrm>
            <a:off x="4343400" y="3962520"/>
            <a:ext cx="4352760" cy="2209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91CA-5D85-4C8E-9278-4606FF6788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sp>
        <p:nvSpPr>
          <p:cNvPr id="181" name="Text Box 31"/>
          <p:cNvSpPr/>
          <p:nvPr/>
        </p:nvSpPr>
        <p:spPr>
          <a:xfrm>
            <a:off x="1295280" y="2057400"/>
            <a:ext cx="6959880" cy="2014200"/>
          </a:xfrm>
          <a:prstGeom prst="rect">
            <a:avLst/>
          </a:prstGeom>
          <a:noFill/>
          <a:ln w="0">
            <a:noFill/>
          </a:ln>
        </p:spPr>
        <p:style>
          <a:lnRef idx="0"/>
          <a:fillRef idx="0"/>
          <a:effectRef idx="0"/>
          <a:fontRef idx="minor"/>
        </p:style>
        <p:txBody>
          <a:bodyPr lIns="90000" rIns="90000" tIns="46800" bIns="46800" anchor="t">
            <a:sp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BJECTIVE</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various PWR systems and the operation of each.</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understand the differences between PWR and BWR reactor plants.</a:t>
            </a:r>
            <a:endParaRPr b="0" lang="en-US" sz="1800" spc="-1" strike="noStrike">
              <a:solidFill>
                <a:srgbClr val="000000"/>
              </a:solidFill>
              <a:latin typeface="Arial"/>
            </a:endParaRPr>
          </a:p>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E834-0B97-4E10-A7C8-04561E1624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Text Box 31"/>
          <p:cNvSpPr/>
          <p:nvPr/>
        </p:nvSpPr>
        <p:spPr>
          <a:xfrm>
            <a:off x="762120" y="1295280"/>
            <a:ext cx="7924680" cy="3536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mechanism for steam generation in a PWR.</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implified diagrams, identify and explain the purpose of the major components and equipment involved with a PWR.</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quipment used to control reactor power.</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hibit a basic understanding of steam generator theory and operation.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hibit a basic understanding of pressurizer theory and operation.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and contrast PWR and BWR reactor plant design with advantages and disadvantages of each.</a:t>
            </a:r>
            <a:endParaRPr b="0" lang="en-US" sz="1800" spc="-1" strike="noStrike">
              <a:solidFill>
                <a:srgbClr val="000000"/>
              </a:solidFill>
              <a:latin typeface="Arial"/>
            </a:endParaRPr>
          </a:p>
        </p:txBody>
      </p:sp>
      <p:sp>
        <p:nvSpPr>
          <p:cNvPr id="18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30FF-9FC5-4AA9-8B5C-4D1660A729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3536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mechanism for steam generation in a PWR.</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implified diagrams, identify and explain the purpose of the major components and equipment involved with a PWR.</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quipment used to control reactor power.</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hibit a basic understanding of steam generator theory and operation.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hibit a basic understanding of pressurizer theory and operation. </a:t>
            </a:r>
            <a:endParaRPr b="0" lang="en-US" sz="18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and contrast PWR and BWR reactor plant design with advantages and disadvantages of each.</a:t>
            </a:r>
            <a:endParaRPr b="0" lang="en-US" sz="1800" spc="-1" strike="noStrike">
              <a:solidFill>
                <a:srgbClr val="000000"/>
              </a:solidFill>
              <a:latin typeface="Arial"/>
            </a:endParaRPr>
          </a:p>
        </p:txBody>
      </p:sp>
      <p:sp>
        <p:nvSpPr>
          <p:cNvPr id="99"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8ADD-4A93-4FF2-805E-9B44D7CB3E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03" name="Picture 2" descr=""/>
          <p:cNvPicPr/>
          <p:nvPr/>
        </p:nvPicPr>
        <p:blipFill>
          <a:blip r:embed="rId1"/>
          <a:stretch/>
        </p:blipFill>
        <p:spPr>
          <a:xfrm>
            <a:off x="1676520" y="1879560"/>
            <a:ext cx="6248160" cy="402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915D-A24B-41F8-B100-943E41F17A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STINGHOUSE 2-LOOP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07" name="Picture 2" descr=""/>
          <p:cNvPicPr/>
          <p:nvPr/>
        </p:nvPicPr>
        <p:blipFill>
          <a:blip r:embed="rId1"/>
          <a:stretch/>
        </p:blipFill>
        <p:spPr>
          <a:xfrm>
            <a:off x="2583000" y="1908000"/>
            <a:ext cx="3900240" cy="422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DD01-DF36-4961-8C23-A080966243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STINGHOUSE 3-LOOP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11" name="Picture 2" descr=""/>
          <p:cNvPicPr/>
          <p:nvPr/>
        </p:nvPicPr>
        <p:blipFill>
          <a:blip r:embed="rId1"/>
          <a:stretch/>
        </p:blipFill>
        <p:spPr>
          <a:xfrm>
            <a:off x="2583000" y="1879560"/>
            <a:ext cx="3900240" cy="422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98CE-A97C-4C9D-89E4-F7846BF76C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STINGHOUSE 4-LOOP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15" name="Picture 2" descr=""/>
          <p:cNvPicPr/>
          <p:nvPr/>
        </p:nvPicPr>
        <p:blipFill>
          <a:blip r:embed="rId1"/>
          <a:stretch/>
        </p:blipFill>
        <p:spPr>
          <a:xfrm>
            <a:off x="2379600" y="1839960"/>
            <a:ext cx="4307040" cy="440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EBE0-6590-463D-BAF7-EC4A4BC38D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BCOCK &amp; WILCOX 2-LOOP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19" name="Picture 2" descr=""/>
          <p:cNvPicPr/>
          <p:nvPr/>
        </p:nvPicPr>
        <p:blipFill>
          <a:blip r:embed="rId1"/>
          <a:stretch/>
        </p:blipFill>
        <p:spPr>
          <a:xfrm>
            <a:off x="2765520" y="1879560"/>
            <a:ext cx="3917880" cy="425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691A-4131-45FF-92E6-E7D652DF03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Text Box 31"/>
          <p:cNvSpPr/>
          <p:nvPr/>
        </p:nvSpPr>
        <p:spPr>
          <a:xfrm>
            <a:off x="762120" y="1295280"/>
            <a:ext cx="792468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BUSTION ENGINEERING 2-LOOP PLANT OVERVIEW</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Text Box 2"/>
          <p:cNvSpPr/>
          <p:nvPr/>
        </p:nvSpPr>
        <p:spPr>
          <a:xfrm>
            <a:off x="99072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R SYSTEMS</a:t>
            </a:r>
            <a:endParaRPr b="0" lang="en-US" sz="2400" spc="-1" strike="noStrike">
              <a:solidFill>
                <a:srgbClr val="000000"/>
              </a:solidFill>
              <a:latin typeface="Arial"/>
            </a:endParaRPr>
          </a:p>
        </p:txBody>
      </p:sp>
      <p:pic>
        <p:nvPicPr>
          <p:cNvPr id="123" name="Picture 2" descr=""/>
          <p:cNvPicPr/>
          <p:nvPr/>
        </p:nvPicPr>
        <p:blipFill>
          <a:blip r:embed="rId1"/>
          <a:stretch/>
        </p:blipFill>
        <p:spPr>
          <a:xfrm>
            <a:off x="2481120" y="1944720"/>
            <a:ext cx="4484880" cy="43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2-12T19:03:58Z</dcterms:modified>
  <cp:revision>25</cp:revision>
  <dc:subject/>
  <dc:title>Slide 1</dc:title>
</cp:coreProperties>
</file>