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  <p:sldId id="272" r:id="rId74"/>
    <p:sldId id="273" r:id="rId75"/>
    <p:sldId id="274" r:id="rId76"/>
    <p:sldId id="275" r:id="rId77"/>
    <p:sldId id="276" r:id="rId78"/>
    <p:sldId id="277" r:id="rId79"/>
    <p:sldId id="278" r:id="rId80"/>
    <p:sldId id="279" r:id="rId81"/>
    <p:sldId id="280" r:id="rId82"/>
    <p:sldId id="281" r:id="rId83"/>
    <p:sldId id="28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slide" Target="slides/slide17.xml"/><Relationship Id="rId75" Type="http://schemas.openxmlformats.org/officeDocument/2006/relationships/slide" Target="slides/slide18.xml"/><Relationship Id="rId76" Type="http://schemas.openxmlformats.org/officeDocument/2006/relationships/slide" Target="slides/slide19.xml"/><Relationship Id="rId77" Type="http://schemas.openxmlformats.org/officeDocument/2006/relationships/slide" Target="slides/slide20.xml"/><Relationship Id="rId78" Type="http://schemas.openxmlformats.org/officeDocument/2006/relationships/slide" Target="slides/slide21.xml"/><Relationship Id="rId79" Type="http://schemas.openxmlformats.org/officeDocument/2006/relationships/slide" Target="slides/slide22.xml"/><Relationship Id="rId80" Type="http://schemas.openxmlformats.org/officeDocument/2006/relationships/slide" Target="slides/slide23.xml"/><Relationship Id="rId81" Type="http://schemas.openxmlformats.org/officeDocument/2006/relationships/slide" Target="slides/slide24.xml"/><Relationship Id="rId82" Type="http://schemas.openxmlformats.org/officeDocument/2006/relationships/slide" Target="slides/slide25.xml"/><Relationship Id="rId83" Type="http://schemas.openxmlformats.org/officeDocument/2006/relationships/slide" Target="slides/slide26.xml"/><Relationship Id="rId84" Type="http://schemas.openxmlformats.org/officeDocument/2006/relationships/slide" Target="slides/slide2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E93-F341-4E95-B90F-8A6E428A4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BF9-49DB-43CE-AC31-97B1E8A32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API_oil-water_sepa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3F56-E62B-4BD6-91BF-95FCFF29B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 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ntify the functions of the Chemical and Oily Waste Water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1.1 Mai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PG 11663:OB 79503(1114)&gt;&lt;&lt;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mounts of dissolved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 a large portion of systems at plant; many are or have potential to be radio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cate segregation of other drains (chemical, oily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others can be treated and released to environment easily, radioactive contamination complicates treatment and rel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 or low dissolved solid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- can be released to environment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reclaim by some means – demin. water is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means of segregating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out kn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 - sent to Liquid Radwaste low TDS holdup tanks.  Includes drain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. Building S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ment Drainage S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- Chemical Drains sent to Chem Drain Tank then to either Solid or Liquid Radwaste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n Station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ly Contaminated Chemical Drains - sent to Cooling Water Holdup Tank. 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oling Water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Radwaste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issolved solid wastes -sent to Chemical Waste Neutralizing Tank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down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- sent to Oily Waste Separator.  Include various sump drains that usually contain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ystems to discus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ng Water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Polisher Waste and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and Non-Radioactive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adioactive Drains are discussed in the Radwaste Systems lectu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F54-2C58-4B10-9202-4827A7EB6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25EC-39A0-47A4-82A2-337DE7A63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6CF1-62B3-4A90-B9FB-E49342487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128-CB92-47D9-BCF1-E4A9D996C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56E-F7D4-4887-84B0-D0A0C07B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08C-D732-42EC-800C-97AF811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9EA8A-E2ED-4725-AAC6-A92EB5D6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C1F5-12FB-4292-9B18-F25FA9EC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0D121-C45E-4FD8-9B6B-52BCE5E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A2D0D-A57A-4074-BEA1-CEF66A7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47DE8-DC8F-418C-9974-676ABBA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08EE6-FB23-47F1-A30A-6BFFCF3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E2988-82BB-411D-8343-013A2F6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054E-7516-4FEF-98EE-098FC051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A331A-6FD3-4A5F-A92B-4D4CADA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D3C16-12F8-4279-B9EF-894CE5E3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DB7-7117-481A-A8A6-92DBEDBF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49B03-60CA-4ED1-8CED-7FD4E9A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722B-EC59-48E9-AF63-636E238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0E17-9DB5-412A-805B-9FB40F72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F17E-18D1-4E34-B410-75BDD955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2C682-A99B-4EE5-AA5A-1ABD4493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81D7-BFA4-4034-883E-A831E1F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49853-5AC7-4B44-A8A3-9FC1D0E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F134A-6358-462A-B231-797B4ADB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9432-7844-45CB-9C0E-AD25117B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CD6FE-09CD-4D11-83EA-B52E933F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058-C6C3-4EA5-AA48-ECE531C8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8AB26-BE33-4162-8750-B16E23D3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44F9-5EF9-4C98-AFFC-3CCF052C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6F34F-50AE-43C6-92B5-758C362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D2093-BF2E-4D93-9FB4-054C17B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20EBC-E40F-4F71-8AD1-D03345DF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8648-A01C-414C-B568-0081043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BA9A3-98FE-4CE6-83A0-12D5661A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AE931-DDE0-41B8-B9C0-FB272905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0BE6-E631-4A15-B42A-59C9C43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6BCC-25D3-49D4-B181-56E3E0D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84D7-5DA1-45BD-B063-BC201C56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FBC5-3BA3-42A2-A546-422D030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BD5A8-BCC5-4620-81FE-4C6CF514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B6834-0933-4E53-82DC-5E208BBB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EA90E-2935-4D3D-B39F-3635C14D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2158F-CFAB-4E9E-ADB1-94C35B39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0F19-45D0-480E-AED8-06F9F74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74D8-D6CA-46F2-9855-04E9E797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066B5-5E37-4EB3-BB64-E67DFA8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A8A1B-648B-41A9-BF50-1E4A413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BCBF-32FD-468A-A364-088414A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843-8C1B-483B-AA27-E837C6F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39EA3-181D-4F65-A19B-D4557A2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F0600-E8F9-4148-94B1-AA87364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3EDBA-B35A-474C-B298-9D0E8AE1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26AF2-838E-47BE-9357-5294016F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C467D-F638-4D60-90D4-9F54529E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FA9-D272-43B2-AB64-0C8FD84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9BA-0EEC-4433-AA6D-12770114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DB3B-D987-4133-8CEE-8F21265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978-C6D7-4FBC-91B1-3A69043B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D7A6-32D0-49A2-82B6-43CBF81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257-007E-4137-B7D9-487DF129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A92-CF6A-49EE-9F0D-7DF7061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3293-0DD5-4E6B-BFD3-16A71D1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2D4B-B8F0-4A6C-90C5-51835CE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A591-EB7A-4A43-B273-A1904059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BCB9-D78B-409C-B9DA-B5C6B1B7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2DC3-118A-42C6-8E4E-04A1F7D5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E6F7-A398-4EBA-AE4F-B3A7DF4C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C06F-737B-45C7-9DC1-2C8B6938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54FD-EA71-45B8-A0FC-E4F4E9A7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6108-3CC0-4CB5-B263-84C425D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2B0-ABD9-492E-88ED-AF93FB4D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F66B-BFEC-4520-BF6E-255A86A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E816-3BF8-4ED1-8FB6-CF01A39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7B7-AE12-4E5D-8FB6-2830B8C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106E-D06A-4501-B11F-7088F61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7BE9-3D85-4DA9-B717-AB982C6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6CF0-902D-4509-ADE2-4227E04B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2BB3-BC85-42C2-98A7-A16363F0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FEA9-7AE1-4C3C-B1C5-A3F8595C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D1FFD-122A-490E-BCC7-28AC22D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84B4-A70A-4D77-8754-E71BC6F6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A93D2-C87E-4F55-BD64-9E2A317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567B5-15DF-404A-B42E-F084599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9266E-9F2C-4F52-BE7D-518CB0C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913-6550-4AE0-AB9C-48E8D1E6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596C-E5D3-4264-AFBA-74355AF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8CC8F-FDC9-4562-BDBA-7770C197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7DBB3-6883-43B0-AB75-BD1DE649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FFDDF-B235-47E1-8CDF-51693BE2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D0F03-F9DD-4198-AF3C-0E154A3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A06D3-6258-4C54-A967-4E184B4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B5DCB-F356-4F1F-A1EE-3AC2D43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47D14-51D5-4FC6-811C-9002BB0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021AF-286E-47A7-B16A-509ED8CD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ED70F-5873-40FE-80D1-736B16DE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1519A-1590-424D-9A7B-E735B869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6322-8FA9-441C-86E9-062D955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63957-466F-4AD0-91FC-1371B74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A0D8F-65DF-4CE3-AD17-7676D9B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9FC33-B8BB-4E5D-BEC7-689EF0D0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94298-AB4F-40B3-A971-1ADE328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A00A2-0FC4-4706-8F1E-93F0F41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BDCA3-D28B-4180-8871-6B05909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4AD76-0FAC-4FA1-A1A5-1228F71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C5711-F3A9-4CA0-99BA-C81F981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5CE81-9EF3-42CD-BF21-09E846C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F6E01-762B-4829-8F82-5CC99E63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9E06-EBC6-424A-816A-92B6DEC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43CC6-4AEF-4EFA-B6F1-0FAFAFB2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58AF9-AA06-41E9-A484-2E4A9A74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F5249-3058-4A5C-A64D-7456818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C603F-EBDD-4BDD-8D71-082480FB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AC01B-0B90-4CFD-B501-9C3A277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A2A0C-8C8A-429F-AEC3-58EFBFA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EFCEE-D2CD-48C5-B80D-5B813BB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9B59A-FEE0-4ED3-B2AC-5352DC5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91113-7A2E-4702-844D-7AB0D51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88C0E-BE61-447C-8D0F-7053C03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C900-4E18-404D-9094-1A19C1C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8492B-984E-46AB-AA11-4B60CB6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A1CA1-719A-4394-AB50-965BCF4C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F9DD0-6A5F-46C7-9414-49EE838D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2D267-96B2-4E10-8BDB-B42750F3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5DF26-5318-43A1-9A77-3752FA42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D3A29-7879-4793-8660-1797A37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3146F-40B7-4A12-B7E0-CF767F4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11FB5-984C-4CF1-BA86-CA4E5370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92E5D-4F1F-48C2-A9BC-8D7D445D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C68B0-8DB2-4310-B176-1537841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0278-52E4-4750-BF30-535197C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59720-19BA-41D4-B9D2-D1BB329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7C0D4-F0D9-4792-932E-AB9583A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253D9-9398-43D3-8223-9B747E2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BA774-C68D-42E7-A4D3-C7D1576A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BB576-EFCD-47B3-833C-D241E549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2932E-7EFF-477A-83F1-EBCF66F1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82DAE-4F63-44EC-8DE7-D2D2DA8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CF957-4E29-4A28-9F88-B93AC5C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53EC4-0E8D-4E58-9D91-6A4EF753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42F21-356B-4178-9CE3-1866FDC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70D8-C31E-415D-B92C-3016966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4184-FCBE-4586-9D6B-19EC20F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7FE77-EF33-4FFD-BBBE-29AB112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4CB17-56DD-4D5E-9551-06DE276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CE012-396D-44C0-A151-02572C8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1346E-807C-4ECF-A968-71C1E5AA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38E7A-84A3-4518-AA85-F14634CB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54910-804F-42EF-BE27-006F0CCB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C5480-CFE4-4F9C-A749-591E1322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6D4D8-D5EB-40F1-9155-B5F6B9D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494AC-B8F0-4D06-8F7D-C4E4613E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F7C0-DFB5-41F8-B7C6-50492CE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DACA6-7FAC-465A-9664-895C3DB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287FE-6410-475D-9C91-F65F2CD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056E3-B851-490C-BD9B-D0710C4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8DC62-5C1D-40A3-9989-E89C0E3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FE804-5E89-4B2F-B365-933A7788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EC025-A100-4A83-BC86-92BCF68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EE91E-04D0-4174-9489-199B809D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12888-69E7-47E3-BFD0-4CAE791E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6B6EC-CBA5-4A2B-BDD8-E1F30B1A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52E83-9DCD-43AB-B91F-402948EB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A278-FFA7-437E-9E66-606CC10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5841C-D7DE-479F-AC01-CA620C73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BF439-DEEC-453B-90E5-6AAB125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8EF4E0-714B-41E7-8C2A-7D953A5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E5A54-8E0E-4753-B196-F411EFE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6CBDB-B225-4AB7-9EFA-AC06237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DB10B-7408-4788-9038-0DAA703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393BD-9979-4233-9099-3653914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C1157-7D47-44DF-B09B-8B7DCC6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F149A-6B98-4817-9241-D426EDD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B1858A-63CE-44B3-AAE2-08F64A0E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1DA6-ED9C-49F2-A555-BF296B18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24FB1-2607-4CC9-9F47-5947BE1F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CD9BA-A258-4589-B2AA-75A17012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A6BFF-4200-4F7A-9C6D-7E4D4C15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4E887-E06A-4C0E-A804-1C44F61E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1B061-798F-4012-95D8-0B0B3AFB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E0638-7799-4364-80D2-50EC21A8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49920-AC5C-4DBC-AD6E-88E671C7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8CF3D-3CDA-4C72-928A-6399CF9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FF349-9423-48ED-B6DA-94DE7BD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44E85-FF75-4F38-80A9-18E4D25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B80F-8CD7-4C95-895D-74CEE5C9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92AA2-8F01-42D9-8E6E-88C809BD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8F1CD-6590-48D7-B43A-1BB8EDB5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9B45A-1BE0-498F-93CC-B9EA459C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EEFB5-7721-4D54-8020-F41B8351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59A00-D79D-4954-A3A4-4E7510A6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0DC8C-8771-4CBF-B76A-5DFE9ADF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C50FF-4A18-42A9-926C-9E1F8A2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EA350-38FA-4AFB-9EEB-6C3C439C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49103-95D8-4779-A65B-892C4911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EF8F4-425B-4705-9020-4CA6AAE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775-6E5E-46F7-8264-C6FF21A7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EE5C-FB82-4674-805D-30573DD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3C353-B05E-48FC-B72A-8B59203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84DCA-C4E0-4487-A564-EEE4759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B6FFF-0C34-4175-8AC7-ADB756E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EF668F-D85E-415D-B87C-20A6062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98625-7E34-4292-A875-30F8B38A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587B6-F8E2-42F9-83A4-B3AA2AA3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93F938-7400-4F21-9E69-677E79FE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3022F-F409-4FF0-8B73-514AB1F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73667E-D338-474C-910D-D5E6EB95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51A1C-0A23-4FE7-872D-38A314F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85EC9-C50C-4708-88E4-84C08AF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A3AB0-F932-4FEC-8C9A-0EE91B95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CABD66-60AD-435D-ACD3-3920EEE3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C577E-38EA-4E25-A11D-0AE1423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C2B5C-088E-4763-9403-FD88A95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E6688B-7952-423C-906C-C8294B74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C4AFC-2EE1-441A-A2D3-EBECCB37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65905-DF57-40C1-A678-A8643004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7BE74-7819-4870-8BCF-1E77426E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D6F38F-6CC0-4C67-8E2C-B470AC8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380B17-8F7D-4F92-846B-0235425D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1C04-A9FE-4D41-931E-549CC0C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6475D0-2FA3-454E-A978-90CFFE9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CCFDC-BDA3-4221-A41E-511F50E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FB8AD6-B60C-4C60-824E-1915611E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F8F4F-1836-4C9B-9313-C8BE903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A3105-B6D3-4CB8-94DA-2E09AF4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B81C3-87E6-4E70-8828-312C000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8D105B-8CB4-4DA9-9512-3B07A3C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901E69-D9A3-4A84-89F4-0202E6F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02BAD-BC88-4997-93A3-7BFD6E2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794E2-DCE3-4DE2-8FF1-F20D5445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BDB6-994B-4699-91C9-F054CAB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528F8-C3B0-444D-9107-17D8AD00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B7DB7-6D4B-4BD6-B531-9E2A25A0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F609FA-91C4-487E-A1F2-7E68927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DEDB08-5008-43A8-9779-06796B62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65D8A7-5041-4F70-9F33-D636FADB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6805E8-E179-4369-99BD-B7FD051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D8438-F3DD-4371-8C86-DEC527B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E1B67-5F4A-4CC0-9B11-971B111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9B7E74-BB4E-4CA1-B785-6C1B9A3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B0830-6FB9-4C5C-A631-C127FA00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F870-7AEF-495A-8CE7-9D50836F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711326-9A9E-44A9-AE16-05D95B63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C21801-B3D9-4FCC-8272-ACEB2DA3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148843-E4A9-4023-842B-646683F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4B29D2-4B6F-4912-B1D0-2C4F11E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02BE80-3DB3-4676-81DF-56C03975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15FC77-BCEF-4F5D-A1C8-F871F99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DC7AE5-603C-49D9-AA77-3965044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D44B1C-F0BD-4881-9F38-3F4C7CE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CDA813-910E-470A-9222-5527EB0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96D15-D9D3-45F3-A060-15ADD83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2767-78E1-433C-BA2F-041E8CF1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47D25-732E-4A16-AB52-3AF3FB6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E40F48-8228-4339-86F6-242226AE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0E1FF-7739-40BD-99DD-6BCDC4ED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6D6780-85C3-46A3-ACCA-2ADA088A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701536-7BCD-4934-9320-41D2FD73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613BD2-4C50-42CD-8CDF-362750D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A04A5-C7AE-4795-BD24-AFB6AAC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9D61A-1B75-4594-8B99-CECAE16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F0B7C2-61D2-4A3C-8861-2DC3AE2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D248C-875E-43C2-A412-582C09E9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852D-2B85-48B1-86B2-98B6514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C77B5F-F290-41DA-ACED-B118613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BB0F67-8647-4825-963A-2E6ED6C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13E97D-A777-49E8-8B4F-9C319B1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EA626E-21CF-47A9-8EDA-F9C8B911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9B771E-EC5A-47DE-B9E6-D05EDF3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FA4B17-E979-4DFF-8090-1200644F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E52508-799C-44D4-85AA-2953F3C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983C70-5331-43DD-8EC7-9A2CA68A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E09DCB-D8FE-4513-B147-93C811A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AE7167-33B3-45FD-9C97-68B4A45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DFB3-6B77-4BAC-B5BC-61D5A25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9D2AC8-E6FE-4C09-B09F-15975765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9DC80A-546D-4FFE-B9EC-73DC545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EC398A-4B6E-4EC1-82A5-11C42B5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2C7909-EA33-4600-BAEA-D22141B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08A2EE-4F92-4A0C-8C16-0EA4061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E2BA1D-66FB-43F5-A3FD-39087D02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A61733-03E0-48A3-835D-5EA3E331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5C0802-94BF-40F5-BAD3-6BFCFE4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655D3-1D99-4340-8002-383E148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1E1D79-6D66-4F37-8952-76991688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5EAE-603C-4036-A2BC-78B8FCC1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41EB8A-AD0D-4B97-9020-20C146A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8A7CDA-B6ED-469A-9495-64417CE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97251D-8020-4D41-890F-AEBCD19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5A940E-3082-49EA-99AA-7FC74CD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638372-9E0F-4B4F-8D78-D3BB18F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DAD74-F731-43DF-90FD-40303EEF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74CF36-5BBB-4F50-87CA-368AA1F6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834B51-1507-47D9-8064-97BB5CB6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B896BA-E38F-4083-AF9D-8AC1CC72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8C35B5-A6F0-4653-B86D-6D7D8DD6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225E-9909-4E53-8036-3ABBA74F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5BD7CA-D983-4A98-B1BA-0C1D4949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59CE9E-D74C-461F-AE3B-CFF17C7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11ED60-DEBE-481A-B53D-659D9659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5FBC3D-3573-4CDA-A9B5-943396E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D84AFC-F1EA-44C4-A029-7E7F73A0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1210B-FF42-4C2F-BB1F-8EF98C4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A84F7D-FDD1-4D33-B185-209AD67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328715-240B-40B3-99ED-E2B04CE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045F00-95DA-4590-BCA7-79019B4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9A2FA7-9460-4D0F-BF3F-4C66FA26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0A5-5C97-4D5E-A4CC-18DEB1DF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B165-0681-4C60-9363-702A04B0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AC565D-6763-4520-8548-FD355F97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FF356A-D3C0-4282-B9AE-9CF652CB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8D7409-9050-4E89-B0C5-7DF03AD6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350858-EC3F-4044-B851-1F8CBA3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FF9422-5B66-4347-9ED1-976D63E9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C879AE-03AF-41B5-8232-F0616A84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13B66D-F71A-4E14-A3B6-D0357F8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319868-18D3-4FCB-A21D-40CEA2C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21E743-E504-42E2-A47B-0B70AED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A5CE45-9A6C-4A6C-9452-80C4B0F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5636-3D6D-4AEF-AFE0-BF93D093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707A1A-579B-49B9-9160-05BF925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8E52C8-9AD7-4E8A-A2F2-911B2128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5E4A3D-DB34-4133-BAA5-0FF78687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4AF755-5A50-4019-B7D6-F3F2595D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E9CB06-B99A-4F30-8FC7-B167DD3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A75361-6600-4865-9F91-52BEA9C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65856E-CED0-41E4-AB57-69C3AFF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6FECC6-92AF-4AAE-BC55-25DB2AD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B5F86E-3A47-48AC-BB99-741E006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715187-6EBF-41AC-A4FB-DB30595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DB46-334C-433A-A535-DAA4FDE6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5E5E68-5F78-4608-8567-F99FDDEC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573C65-E11D-444A-9DD7-D973635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49DCE8-FCC7-4FF1-B385-C196B361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E09A4D-2CAB-4E53-B37D-6173B80B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8F9BD8-0DFB-4FB8-9510-E2DB5C7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682A44-D60F-4E30-B0B9-A34E5269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A68C0C-1AA3-4CCC-863A-3C2CCBE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CA9AD2-7DBE-4506-9E32-775E3D4C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DE0503-3912-4225-9B8D-BF47F9C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1D8F1B-BD63-4679-8C84-9F6BA625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3B7DC-091B-4D3A-8108-7F78E9C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1699BA-0646-47E7-959F-29BB113C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CCD140-1D54-4729-8470-4943EB7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087052-8765-49A5-8DE8-D6143B3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68CC7F-A54F-4C9B-80DB-E99C5F3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29096D-B3F9-42BE-85D3-A6453C42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50DC0-51E2-4885-BC78-1AC31BDB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0F9096-9D6F-4D2A-8779-71FDADC3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9D17A-B2BE-4C3E-BFB7-DBEEE4FB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1ED80E-A684-4BA0-A78D-086B4A46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2201F3-C882-42DD-90A5-B33D8DA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529B-5F81-4224-BB9A-B508857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9E6870-90E4-4204-8AD3-6365D82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B105A0-268D-41BC-8946-76E6951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E954B6-CA3A-489A-9B12-1F0456C3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887F57-5BEA-4095-952B-0B7A2F1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32716A-BDBA-4045-BB1C-70D2B86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DDDD7B-C7F0-4232-AB5F-2C29DAF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A67B44-982C-438B-9DE6-B8996CC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BF0F47-243E-484F-9FD9-AF9F422C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6FC632-7440-41CB-9F3C-751738D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544B00-6BA7-4E4B-93AF-83171971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4893-C5BF-474E-B8F2-2F51FDE6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D3205F-F798-4445-A098-1D8065D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EEFC52-7B09-48D4-A1FB-F216623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B3152C-EC1F-4C6E-B1EB-1B3A44A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7FF83D-1BF9-43A5-9FF4-E2E8B49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66F74B-32B9-4FA1-B5B3-0D4CF4D8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5C78F8-AEBE-4557-A416-6861C9E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CE3C13-CBBB-432F-8C4A-227341E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B404B5-D3AF-42AE-A017-1231516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65786-14FB-4BDB-AAED-039383B8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68798F-4EF2-431A-8866-4EAE9EC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A92D-D20B-4770-A2AB-442CD691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3F4B79-4D9C-435B-AAAD-9FDB576C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0F45-D15D-43A0-96C3-BDAF081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DDAB-1287-4C27-8156-BAA44A0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DBD3-91BE-4354-AC09-585D458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86C-25EF-41A3-A9A0-C72BA20E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3A023-CA97-445C-9FB5-202C188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5C9D-5C28-4EA0-A8CA-BBB0E519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58ED-0A97-4BC4-96D6-080025A9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1D521-579A-4889-948A-823F89BA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D2E20-29DD-4E44-8A4D-67B97F9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F0CD-B860-4265-835E-3E578BD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3B97-4478-4BEA-8C3D-FFDF91C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B352F-E844-4470-8972-FF55BEC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D72B-A648-46BC-AE8D-B7E55F7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03ECF-6B6C-4DD5-A214-48268B3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3AC-4125-410D-ABA3-094018B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88CD-9BCA-467A-9D2F-F293562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7FAE-0912-44DA-BF06-D9B96C6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D693-90C1-4D83-8E6A-5C59FE8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9B6B0-869B-40E9-9B68-E9B7612D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CB36-0493-423D-9A94-E1CDC5A0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83ACE-A940-4D6B-A3F6-A2DF802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0904-F2BD-44C1-B6DA-F3904A4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8180-A6A2-4454-8D10-124C38E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D5FFC-09A7-415D-A11D-F6EF1BC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2D549-CECB-475D-BE4E-191D439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471-3114-426D-BB3B-9769CE4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EAE8-5C71-420D-BA56-619B9D4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77407-0291-44DB-BC68-64BB539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962D-C5B4-4B76-880F-848F7F1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B31A8-17C2-4E55-A69D-BB3066C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C0D0-0E0F-4B59-AB7C-A76ED9F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F568-9F5F-4C65-8FDD-8668615B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680B-3155-468E-A5D6-708C8C60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4819-1AAC-4F45-8ADA-DAC5BBEF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9A6F0-DF70-4650-9032-A3B09D77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7F03-F5ED-4208-94C6-9CD96D5D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154C-7DA7-4666-8AF9-4A6512233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114-A58A-4E0F-9547-3B5D5B5B6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7B60-3EEE-4097-9C41-C0D57CDD0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4C0-EF42-4563-8082-7913031E8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9F5-7FC7-4C46-AD99-ED94B673B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0252-143A-42A1-9FF4-5B1395716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8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284-1C0E-4F20-B316-657B12C7E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2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53F-C519-4BA1-A595-D5C9064F9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9225-5086-4217-BBD8-D88FFA36D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04D-4B7E-455E-AE17-4C2D32FCF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5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FB6-645E-4A56-889F-37C37EC78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545D-39F1-4509-B60B-65D29A083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9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1AEA-16E9-451B-8CAD-2B17D136F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3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1CB0-FFA1-42C1-B7AA-E8B5C5FFE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E77B-EC67-4BB5-8A48-4C8A14784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1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2424-2257-44DC-8A8A-2697C95F5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5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103A-C0FF-42FD-8743-96259040E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9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D80-1F14-4924-87CD-73B36262F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C77-5E59-4AD0-8358-46CEB7502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7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32D9-17CC-41F4-8544-134E820FA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2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2BC-0051-4A24-AEC0-FF665B812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6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E46-1273-4E42-A511-B561936BD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2C42-F406-48F6-BF92-8790A62C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0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E66-D90B-4291-800E-8580DAEAA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4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CE53-1519-40B3-A542-2A8F3A284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8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410-BCF9-4B9D-8966-821F88F2B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8" descr="chstcc.jpg"/>
          <p:cNvPicPr/>
          <p:nvPr/>
        </p:nvPicPr>
        <p:blipFill>
          <a:blip r:embed="rId4"/>
          <a:stretch/>
        </p:blipFill>
        <p:spPr>
          <a:xfrm>
            <a:off x="1219320" y="6248520"/>
            <a:ext cx="1224000" cy="53316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0AA-FB79-4791-BD2E-BFAF15745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E922-A753-4904-8CE4-E7B0FC310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F479-A22D-4E66-8AFA-6BCB1BE2F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34B-4692-4164-A970-ADDB6E635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BE4-C120-44CD-A00F-E244B3B83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2F9-9932-4DAF-BE21-4A7A33D6D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8C95-C738-490B-ABF7-2E07E81A4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089-761C-4373-B818-68E1AD9B5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AF6-D880-4DE3-9999-9825A0C10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9234-CAE5-48D2-8DE5-661B2F020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5AF-41B2-4467-904F-28CEF94BE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927-0DEF-4774-B166-D1DE38652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C4D6-0EFA-4BFF-80A9-E41DC6C14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594-C2FF-4E08-B2C8-020EC4B30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6919-1D5B-499D-8B5E-24906DD7E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9C5-F028-441F-94BB-ED1E65827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48B0-49AF-4FF8-AA2D-92BFDB71A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381-4931-49E2-B996-A0A363039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5263-BFFA-475C-8C96-289D2CC57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23D-8AE2-40B0-8375-91C6D6BDB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01B-12DB-44ED-8796-18744ED2E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836-1382-4AB2-A447-CF65EF1F5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A60C-AB54-4382-A341-7A7868296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860F-4DBB-4B98-9729-E41C3FAFA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DFBA-41B4-4056-A0D8-8C82930D3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CNET.jpg"/>
          <p:cNvPicPr/>
          <p:nvPr/>
        </p:nvPicPr>
        <p:blipFill>
          <a:blip r:embed="rId4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RSC_NSFPoster.jpg"/>
          <p:cNvPicPr/>
          <p:nvPr/>
        </p:nvPicPr>
        <p:blipFill>
          <a:blip r:embed="rId5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11F-72DE-4220-97D8-C231084D7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CDE3-F945-4CE5-9042-5EE4F88B9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A1D-9B7D-4C7B-8C64-6B8A17D39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ineralization, reverse osmosis, evaporation, distillation, oil separation, condensate polishing, boiler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8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9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.1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.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5" descr=""/>
          <p:cNvPicPr/>
          <p:nvPr/>
        </p:nvPicPr>
        <p:blipFill>
          <a:blip r:embed="rId1"/>
          <a:srcRect l="1677" t="0" r="12693" b="56204"/>
          <a:stretch/>
        </p:blipFill>
        <p:spPr>
          <a:xfrm>
            <a:off x="990720" y="1752480"/>
            <a:ext cx="8153280" cy="31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2" name="Picture 4" descr=""/>
          <p:cNvPicPr/>
          <p:nvPr/>
        </p:nvPicPr>
        <p:blipFill>
          <a:blip r:embed="rId1"/>
          <a:srcRect l="1677" t="43773" r="12693" b="5989"/>
          <a:stretch/>
        </p:blipFill>
        <p:spPr>
          <a:xfrm>
            <a:off x="1066680" y="1752480"/>
            <a:ext cx="8077320" cy="3611520"/>
          </a:xfrm>
          <a:prstGeom prst="rect">
            <a:avLst/>
          </a:prstGeom>
          <a:ln w="0">
            <a:noFill/>
          </a:ln>
        </p:spPr>
      </p:pic>
      <p:sp>
        <p:nvSpPr>
          <p:cNvPr id="2313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and water separators are commonly used in electrical subs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formers found in substations use a large amount of oil for cooling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ats are constructed surrounding unenclosed substations to catch any leaked oil, but these will also catch rainwater. Oil and water separators therefore provide a quicker and easier cleanup of an oil l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Recognize the components, functions and operation of the Chemical and Oily Waste Water Syst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Dr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 and transport liquid waste from equipment and floor drains of th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bine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sel Generator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yard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ntrailed oil from the waste for disposal and transfer the oil free water to the retention basin and then to the evaporation po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ystem consists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umps and respective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sepa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 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Picture 5" descr="1-s2"/>
          <p:cNvPicPr/>
          <p:nvPr/>
        </p:nvPicPr>
        <p:blipFill>
          <a:blip r:embed="rId1"/>
          <a:srcRect l="0" t="0" r="0" b="47516"/>
          <a:stretch/>
        </p:blipFill>
        <p:spPr>
          <a:xfrm>
            <a:off x="1066680" y="1295280"/>
            <a:ext cx="3733920" cy="3319560"/>
          </a:xfrm>
          <a:prstGeom prst="rect">
            <a:avLst/>
          </a:prstGeom>
          <a:ln w="0">
            <a:noFill/>
          </a:ln>
        </p:spPr>
      </p:pic>
      <p:sp>
        <p:nvSpPr>
          <p:cNvPr id="232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7" name="Picture 7" descr="1-s2"/>
          <p:cNvPicPr/>
          <p:nvPr/>
        </p:nvPicPr>
        <p:blipFill>
          <a:blip r:embed="rId2"/>
          <a:srcRect l="0" t="52489" r="0" b="0"/>
          <a:stretch/>
        </p:blipFill>
        <p:spPr>
          <a:xfrm>
            <a:off x="5105520" y="2819520"/>
            <a:ext cx="4038480" cy="3249360"/>
          </a:xfrm>
          <a:prstGeom prst="rect">
            <a:avLst/>
          </a:prstGeom>
          <a:ln w="0">
            <a:noFill/>
          </a:ln>
        </p:spPr>
      </p:pic>
      <p:sp>
        <p:nvSpPr>
          <p:cNvPr id="2328" name="Line 10"/>
          <p:cNvSpPr/>
          <p:nvPr/>
        </p:nvSpPr>
        <p:spPr>
          <a:xfrm>
            <a:off x="1689120" y="457848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11"/>
          <p:cNvSpPr/>
          <p:nvPr/>
        </p:nvSpPr>
        <p:spPr>
          <a:xfrm>
            <a:off x="1676520" y="5105520"/>
            <a:ext cx="32130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12"/>
          <p:cNvSpPr/>
          <p:nvPr/>
        </p:nvSpPr>
        <p:spPr>
          <a:xfrm flipV="1">
            <a:off x="4889520" y="2521080"/>
            <a:ext cx="0" cy="2590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3"/>
          <p:cNvSpPr/>
          <p:nvPr/>
        </p:nvSpPr>
        <p:spPr>
          <a:xfrm flipV="1">
            <a:off x="4889520" y="2514600"/>
            <a:ext cx="8920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4"/>
          <p:cNvSpPr/>
          <p:nvPr/>
        </p:nvSpPr>
        <p:spPr>
          <a:xfrm>
            <a:off x="5775480" y="25146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 –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5" descr="water_treat"/>
          <p:cNvPicPr/>
          <p:nvPr/>
        </p:nvPicPr>
        <p:blipFill>
          <a:blip r:embed="rId1"/>
          <a:stretch/>
        </p:blipFill>
        <p:spPr>
          <a:xfrm>
            <a:off x="1905120" y="1193760"/>
            <a:ext cx="5753160" cy="545472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6"/>
          <p:cNvSpPr/>
          <p:nvPr/>
        </p:nvSpPr>
        <p:spPr>
          <a:xfrm>
            <a:off x="65530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ries b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Picture 4" descr=""/>
          <p:cNvPicPr/>
          <p:nvPr/>
        </p:nvPicPr>
        <p:blipFill>
          <a:blip r:embed="rId1"/>
          <a:srcRect l="5174" t="5478" r="1654" b="4108"/>
          <a:stretch/>
        </p:blipFill>
        <p:spPr>
          <a:xfrm>
            <a:off x="4322880" y="838080"/>
            <a:ext cx="4551120" cy="5562720"/>
          </a:xfrm>
          <a:prstGeom prst="rect">
            <a:avLst/>
          </a:prstGeom>
          <a:ln w="0">
            <a:noFill/>
          </a:ln>
        </p:spPr>
      </p:pic>
      <p:sp>
        <p:nvSpPr>
          <p:cNvPr id="2339" name="Rectangle 5"/>
          <p:cNvSpPr/>
          <p:nvPr/>
        </p:nvSpPr>
        <p:spPr>
          <a:xfrm>
            <a:off x="5686560" y="2743200"/>
            <a:ext cx="1600200" cy="114300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6"/>
          <p:cNvSpPr/>
          <p:nvPr/>
        </p:nvSpPr>
        <p:spPr>
          <a:xfrm>
            <a:off x="5715000" y="3886200"/>
            <a:ext cx="1600200" cy="1143000"/>
          </a:xfrm>
          <a:prstGeom prst="rect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9"/>
          <p:cNvSpPr/>
          <p:nvPr/>
        </p:nvSpPr>
        <p:spPr>
          <a:xfrm rot="5400000">
            <a:off x="6400440" y="4343400"/>
            <a:ext cx="152280" cy="15238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AutoShape 11"/>
          <p:cNvSpPr/>
          <p:nvPr/>
        </p:nvSpPr>
        <p:spPr>
          <a:xfrm rot="5400000">
            <a:off x="6400080" y="4724280"/>
            <a:ext cx="152640" cy="10666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Picture 13" descr="Cation%2Banion_exchanger"/>
          <p:cNvPicPr/>
          <p:nvPr/>
        </p:nvPicPr>
        <p:blipFill>
          <a:blip r:embed="rId2"/>
          <a:srcRect l="48550" t="0" r="7126" b="9217"/>
          <a:stretch/>
        </p:blipFill>
        <p:spPr>
          <a:xfrm>
            <a:off x="1066680" y="4114800"/>
            <a:ext cx="2297160" cy="25146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4" descr="Cation%2Banion_exchanger"/>
          <p:cNvPicPr/>
          <p:nvPr/>
        </p:nvPicPr>
        <p:blipFill>
          <a:blip r:embed="rId3"/>
          <a:srcRect l="0" t="0" r="53567" b="9217"/>
          <a:stretch/>
        </p:blipFill>
        <p:spPr>
          <a:xfrm>
            <a:off x="1066680" y="1219320"/>
            <a:ext cx="2332080" cy="2438280"/>
          </a:xfrm>
          <a:prstGeom prst="rect">
            <a:avLst/>
          </a:prstGeom>
          <a:ln w="0">
            <a:noFill/>
          </a:ln>
        </p:spPr>
      </p:pic>
      <p:sp>
        <p:nvSpPr>
          <p:cNvPr id="2345" name="Text Box 15"/>
          <p:cNvSpPr/>
          <p:nvPr/>
        </p:nvSpPr>
        <p:spPr>
          <a:xfrm>
            <a:off x="297180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ga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6"/>
          <p:cNvSpPr/>
          <p:nvPr/>
        </p:nvSpPr>
        <p:spPr>
          <a:xfrm>
            <a:off x="2590920" y="3886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Group 21"/>
          <p:cNvGrpSpPr/>
          <p:nvPr/>
        </p:nvGrpSpPr>
        <p:grpSpPr>
          <a:xfrm>
            <a:off x="3352680" y="4343400"/>
            <a:ext cx="1142280" cy="1371240"/>
            <a:chOff x="3352680" y="4343400"/>
            <a:chExt cx="1142280" cy="1371240"/>
          </a:xfrm>
        </p:grpSpPr>
        <p:pic>
          <p:nvPicPr>
            <p:cNvPr id="2348" name="Picture 19" descr="HydrIons"/>
            <p:cNvPicPr/>
            <p:nvPr/>
          </p:nvPicPr>
          <p:blipFill>
            <a:blip r:embed="rId4"/>
            <a:srcRect l="59326" t="8825" r="1866" b="0"/>
            <a:stretch/>
          </p:blipFill>
          <p:spPr>
            <a:xfrm>
              <a:off x="3431880" y="4386240"/>
              <a:ext cx="106308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9" name="Rectangle 20"/>
            <p:cNvSpPr/>
            <p:nvPr/>
          </p:nvSpPr>
          <p:spPr>
            <a:xfrm>
              <a:off x="3352680" y="4343400"/>
              <a:ext cx="181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3"/>
          <p:cNvGrpSpPr/>
          <p:nvPr/>
        </p:nvGrpSpPr>
        <p:grpSpPr>
          <a:xfrm>
            <a:off x="3200400" y="2286000"/>
            <a:ext cx="1142640" cy="1395000"/>
            <a:chOff x="3200400" y="2286000"/>
            <a:chExt cx="1142640" cy="1395000"/>
          </a:xfrm>
        </p:grpSpPr>
        <p:pic>
          <p:nvPicPr>
            <p:cNvPr id="2351" name="Picture 18" descr="HydrIons"/>
            <p:cNvPicPr/>
            <p:nvPr/>
          </p:nvPicPr>
          <p:blipFill>
            <a:blip r:embed="rId5"/>
            <a:srcRect l="4121" t="12196" r="61518" b="4875"/>
            <a:stretch/>
          </p:blipFill>
          <p:spPr>
            <a:xfrm>
              <a:off x="3284640" y="2310840"/>
              <a:ext cx="10584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2" name="Rectangle 22"/>
            <p:cNvSpPr/>
            <p:nvPr/>
          </p:nvSpPr>
          <p:spPr>
            <a:xfrm>
              <a:off x="3200400" y="2286000"/>
              <a:ext cx="253800" cy="1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s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 Plant Construction and QA/Q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2.6– Water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1" name="Picture 8" descr="chstcc.jpg"/>
          <p:cNvPicPr/>
          <p:nvPr/>
        </p:nvPicPr>
        <p:blipFill>
          <a:blip r:embed="rId1"/>
          <a:stretch/>
        </p:blipFill>
        <p:spPr>
          <a:xfrm>
            <a:off x="3505320" y="5334120"/>
            <a:ext cx="2620800" cy="114300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9"/>
          <p:cNvSpPr/>
          <p:nvPr/>
        </p:nvSpPr>
        <p:spPr>
          <a:xfrm>
            <a:off x="1219320" y="228600"/>
            <a:ext cx="7140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000"/>
                </a:solidFill>
                <a:latin typeface="Calibri"/>
              </a:rPr>
              <a:t>Engineering Technology Divis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0"/>
          <p:cNvSpPr/>
          <p:nvPr/>
        </p:nvSpPr>
        <p:spPr>
          <a:xfrm>
            <a:off x="7543800" y="15228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Picture 10" descr="reverse-osmosis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Picture 4" descr="rodiagram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018040"/>
          </a:xfrm>
          <a:prstGeom prst="rect">
            <a:avLst/>
          </a:prstGeom>
          <a:ln w="0">
            <a:noFill/>
          </a:ln>
        </p:spPr>
      </p:pic>
      <p:sp>
        <p:nvSpPr>
          <p:cNvPr id="2359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Picture 7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8" descr=""/>
          <p:cNvPicPr/>
          <p:nvPr/>
        </p:nvPicPr>
        <p:blipFill>
          <a:blip r:embed="rId2"/>
          <a:stretch/>
        </p:blipFill>
        <p:spPr>
          <a:xfrm>
            <a:off x="1066680" y="1928880"/>
            <a:ext cx="8007480" cy="342720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9"/>
          <p:cNvSpPr/>
          <p:nvPr/>
        </p:nvSpPr>
        <p:spPr>
          <a:xfrm>
            <a:off x="1600200" y="5638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ypically operates in a vacuum to reduce source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Picture 4" descr="dist1_001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97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1"/>
          <a:stretch/>
        </p:blipFill>
        <p:spPr>
          <a:xfrm>
            <a:off x="1143000" y="1454040"/>
            <a:ext cx="7848720" cy="498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Picture 5" descr="iis201106042-01_072dpi"/>
          <p:cNvPicPr/>
          <p:nvPr/>
        </p:nvPicPr>
        <p:blipFill>
          <a:blip r:embed="rId1"/>
          <a:stretch/>
        </p:blipFill>
        <p:spPr>
          <a:xfrm>
            <a:off x="1143000" y="1312920"/>
            <a:ext cx="7467480" cy="505764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"/>
          <p:cNvSpPr/>
          <p:nvPr/>
        </p:nvSpPr>
        <p:spPr>
          <a:xfrm>
            <a:off x="1219320" y="1600200"/>
            <a:ext cx="76197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ource water is properly analyzed and water treatment address the impurities, then Boiler Protec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rove protection, additional chemicals can be added (Oxalates, pH controls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nd Carbon Dioxide reduction in the De-aeration process reduces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MPj04331650000[1]"/>
          <p:cNvPicPr/>
          <p:nvPr/>
        </p:nvPicPr>
        <p:blipFill>
          <a:blip r:embed="rId1"/>
          <a:stretch/>
        </p:blipFill>
        <p:spPr>
          <a:xfrm>
            <a:off x="2666880" y="1981080"/>
            <a:ext cx="4921200" cy="3692520"/>
          </a:xfrm>
          <a:prstGeom prst="rect">
            <a:avLst/>
          </a:prstGeom>
          <a:ln w="0">
            <a:noFill/>
          </a:ln>
        </p:spPr>
      </p:pic>
      <p:sp>
        <p:nvSpPr>
          <p:cNvPr id="2378" name="TextBox 6"/>
          <p:cNvSpPr/>
          <p:nvPr/>
        </p:nvSpPr>
        <p:spPr>
          <a:xfrm>
            <a:off x="35812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121932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7"/>
          <p:cNvSpPr/>
          <p:nvPr/>
        </p:nvSpPr>
        <p:spPr>
          <a:xfrm>
            <a:off x="1447920" y="152388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i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0"/>
          <p:cNvSpPr/>
          <p:nvPr/>
        </p:nvSpPr>
        <p:spPr>
          <a:xfrm>
            <a:off x="1219320" y="144792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eatment is the attempt to remove anything that is not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compounds in water create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measure of acidity or alkal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maintain chemistry control can lead to reduced efficiency and/or premature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source water chemistry is the key to determining Water Treatment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18040" cy="274320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9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638680" cy="46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6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R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9" name="Picture 5" descr="salinity-791740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071960"/>
          </a:xfrm>
          <a:prstGeom prst="rect">
            <a:avLst/>
          </a:prstGeom>
          <a:ln w="0">
            <a:noFill/>
          </a:ln>
        </p:spPr>
      </p:pic>
      <p:sp>
        <p:nvSpPr>
          <p:cNvPr id="2300" name="Rectangle 6"/>
          <p:cNvSpPr/>
          <p:nvPr/>
        </p:nvSpPr>
        <p:spPr>
          <a:xfrm>
            <a:off x="6705720" y="2666880"/>
            <a:ext cx="685800" cy="312444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2" name="Picture 6" descr="americus_water2"/>
          <p:cNvPicPr/>
          <p:nvPr/>
        </p:nvPicPr>
        <p:blipFill>
          <a:blip r:embed="rId1"/>
          <a:srcRect l="0" t="4038" r="0" b="0"/>
          <a:stretch/>
        </p:blipFill>
        <p:spPr>
          <a:xfrm>
            <a:off x="1143000" y="1258920"/>
            <a:ext cx="7772400" cy="509760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7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Tap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5" name="Picture 5" descr="hvymetals"/>
          <p:cNvPicPr/>
          <p:nvPr/>
        </p:nvPicPr>
        <p:blipFill>
          <a:blip r:embed="rId1"/>
          <a:srcRect l="2322" t="9231" r="7512" b="0"/>
          <a:stretch/>
        </p:blipFill>
        <p:spPr>
          <a:xfrm>
            <a:off x="1066680" y="1914480"/>
            <a:ext cx="8077320" cy="4078440"/>
          </a:xfrm>
          <a:prstGeom prst="rect">
            <a:avLst/>
          </a:prstGeom>
          <a:ln w="0">
            <a:noFill/>
          </a:ln>
        </p:spPr>
      </p:pic>
      <p:sp>
        <p:nvSpPr>
          <p:cNvPr id="230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Industrial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7"/>
          <p:cNvSpPr/>
          <p:nvPr/>
        </p:nvSpPr>
        <p:spPr>
          <a:xfrm>
            <a:off x="1066680" y="5562720"/>
            <a:ext cx="6172200" cy="304560"/>
          </a:xfrm>
          <a:prstGeom prst="rect">
            <a:avLst/>
          </a:prstGeom>
          <a:solidFill>
            <a:srgbClr val="cc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eggy's Computer</dc:creator>
  <dc:description/>
  <dc:language>en-US</dc:language>
  <cp:lastModifiedBy>Peggy Hines IRSC</cp:lastModifiedBy>
  <dcterms:modified xsi:type="dcterms:W3CDTF">2013-03-13T19:42:28Z</dcterms:modified>
  <cp:revision>332</cp:revision>
  <dc:subject/>
  <dc:title>Engineering technology</dc:title>
</cp:coreProperties>
</file>