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1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4.png" ContentType="image/png"/>
  <Override PartName="/ppt/media/image10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44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33.jpeg" ContentType="image/jpeg"/>
  <Override PartName="/ppt/media/image37.jpeg" ContentType="image/jpeg"/>
  <Override PartName="/ppt/media/image41.jpeg" ContentType="image/jpeg"/>
  <Override PartName="/ppt/media/image45.jpeg" ContentType="image/jpeg"/>
  <Override PartName="/ppt/media/image5.png" ContentType="image/png"/>
  <Override PartName="/ppt/media/image43.jpeg" ContentType="image/jpeg"/>
  <Override PartName="/ppt/media/image35.png" ContentType="image/png"/>
  <Override PartName="/ppt/media/image46.jpeg" ContentType="image/jpeg"/>
  <Override PartName="/ppt/media/image30.jpeg" ContentType="image/jpeg"/>
  <Override PartName="/ppt/media/image31.png" ContentType="image/png"/>
  <Override PartName="/ppt/media/image6.png" ContentType="image/png"/>
  <Override PartName="/ppt/media/image47.jpeg" ContentType="image/jpeg"/>
  <Override PartName="/ppt/media/image4.png" ContentType="image/png"/>
  <Override PartName="/ppt/media/image11.jpeg" ContentType="image/jpeg"/>
  <Override PartName="/ppt/media/image9.jpeg" ContentType="image/jpeg"/>
  <Override PartName="/ppt/media/image39.jpeg" ContentType="image/jpe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  <p:sldId id="308" r:id="rId69"/>
    <p:sldId id="309" r:id="rId70"/>
    <p:sldId id="310" r:id="rId71"/>
    <p:sldId id="311" r:id="rId72"/>
    <p:sldId id="312" r:id="rId73"/>
    <p:sldId id="313" r:id="rId74"/>
    <p:sldId id="314" r:id="rId75"/>
    <p:sldId id="315" r:id="rId76"/>
    <p:sldId id="316" r:id="rId77"/>
    <p:sldId id="317" r:id="rId78"/>
    <p:sldId id="318" r:id="rId79"/>
    <p:sldId id="319" r:id="rId80"/>
    <p:sldId id="320" r:id="rId81"/>
    <p:sldId id="321" r:id="rId82"/>
    <p:sldId id="322" r:id="rId83"/>
    <p:sldId id="323" r:id="rId84"/>
    <p:sldId id="324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slide" Target="slides/slide53.xml"/><Relationship Id="rId70" Type="http://schemas.openxmlformats.org/officeDocument/2006/relationships/slide" Target="slides/slide54.xml"/><Relationship Id="rId71" Type="http://schemas.openxmlformats.org/officeDocument/2006/relationships/slide" Target="slides/slide55.xml"/><Relationship Id="rId72" Type="http://schemas.openxmlformats.org/officeDocument/2006/relationships/slide" Target="slides/slide56.xml"/><Relationship Id="rId73" Type="http://schemas.openxmlformats.org/officeDocument/2006/relationships/slide" Target="slides/slide57.xml"/><Relationship Id="rId74" Type="http://schemas.openxmlformats.org/officeDocument/2006/relationships/slide" Target="slides/slide58.xml"/><Relationship Id="rId75" Type="http://schemas.openxmlformats.org/officeDocument/2006/relationships/slide" Target="slides/slide59.xml"/><Relationship Id="rId76" Type="http://schemas.openxmlformats.org/officeDocument/2006/relationships/slide" Target="slides/slide60.xml"/><Relationship Id="rId77" Type="http://schemas.openxmlformats.org/officeDocument/2006/relationships/slide" Target="slides/slide61.xml"/><Relationship Id="rId78" Type="http://schemas.openxmlformats.org/officeDocument/2006/relationships/slide" Target="slides/slide62.xml"/><Relationship Id="rId79" Type="http://schemas.openxmlformats.org/officeDocument/2006/relationships/slide" Target="slides/slide63.xml"/><Relationship Id="rId80" Type="http://schemas.openxmlformats.org/officeDocument/2006/relationships/slide" Target="slides/slide64.xml"/><Relationship Id="rId81" Type="http://schemas.openxmlformats.org/officeDocument/2006/relationships/slide" Target="slides/slide65.xml"/><Relationship Id="rId82" Type="http://schemas.openxmlformats.org/officeDocument/2006/relationships/slide" Target="slides/slide66.xml"/><Relationship Id="rId83" Type="http://schemas.openxmlformats.org/officeDocument/2006/relationships/slide" Target="slides/slide67.xml"/><Relationship Id="rId84" Type="http://schemas.openxmlformats.org/officeDocument/2006/relationships/slide" Target="slides/slide68.xml"/><Relationship Id="rId85" Type="http://schemas.openxmlformats.org/officeDocument/2006/relationships/slide" Target="slides/slide69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1165-B483-46C5-9F10-F6A9726F3BE9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52EC-EFCF-4709-9369-DABC014D428C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48D3-6D7B-4483-99C2-A0B5A3822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3D14-1BE5-42F4-8D8B-A2156D2C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A9903-1070-4730-A6A9-8895FCFC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AEE13-EA34-4B84-AEF2-39B034F8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BB671-20C7-44F2-A726-A7D1BC85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275CB-7806-41F2-AC8D-1AAB8176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0EC60-4EF6-46BF-8F5E-4E86D405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AF114-7399-4C72-BD0C-9C42C81F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95CD4-D62D-490D-8438-79D403C1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2FF7C-2756-419B-9D0D-1C6BCD12D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F5AE5-EEBD-4969-B649-A148254A5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B02FD2-3FEA-4FE3-B5A7-3213D0A75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5DD3-6B5E-4812-A0ED-511B1D192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D8D4BD-0D8E-4FED-AE46-FC39893D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C3007B-7BFD-4AAC-ABE5-1B3E629B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D5A316-738B-4292-9398-EC3AF65E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43019F-3A9F-407B-B449-C335A55F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4BC7AF-2F4C-4EC4-97B8-FD52A842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0D96C-F2CC-40E1-8F0A-FD4E358A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FBD0EF-21A1-4AC3-96F8-E6D9C906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9F4B3-F9BA-4D1C-ACD9-8DF3D310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DCD0D-4DDF-4657-AD8C-57EC96EC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06454-F30A-4794-A87D-83BD24B6D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2DD3-F8A6-47C8-8AE5-CA71ECE30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334FA9-64A6-4E08-8F81-8E89B286D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3CBD5-728E-46DA-813F-22546242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873C5-A47A-4D87-8A5C-90CDBE94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DA09B-02ED-42F4-9E91-AA1B5694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95FA5-031B-48BB-AAC7-03FD9AA8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108E9-2AF4-4F82-939D-B57F8001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3A489-6358-4D66-B4C8-31290FEB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3599B-3E41-45AE-9301-D3BA5B74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74027-F1FB-4820-A149-D79CC45F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1B371-BDE7-42AF-9667-880DDDE0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C740-5668-4E72-9071-9C81DA952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DA224-918F-4679-94E8-7B9F3E92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60FC0-A9A3-462C-A346-148A85EED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841D7-3685-46AF-BD98-28535C8D8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DBEEA1-A516-421C-8F78-D654AC92A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103ADA-CB68-41CC-AF26-03586AB8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AFD5FF-CC75-466B-88F1-D81FC85D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B7BD28-0C4C-4A0A-925B-027D27B7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82D839-D030-48E5-BEAE-7BE6B851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34ED70-C356-4945-B4F8-FF0B6D3B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32F9FD-9A8F-42C8-A848-58B6C6C6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9CAB-CFA4-4D05-9C6F-578589CE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EC30B8-C054-47E1-ADA6-E9F13446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026AD-5DA3-4397-B5E8-F905ED4B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A1AA8E-285B-4BC3-ACBB-E8414B2F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FF61B0-C163-4BAC-AB7C-24DC22E2A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CDD0F9-0470-4469-885F-D43CDA565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C831D3-CE69-4B5F-B570-10BD3884C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2DDAE5-31D3-4C80-86E3-390C0B13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8E3568-E2EB-4268-BF70-62379C82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E41DA9-3EDC-4981-B6B0-75F09860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7648FD-D90E-4A9B-BE97-D51DED1F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1F12-E71F-4C53-BFF1-7A9E7A2E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38B322-66E8-4AA3-8813-8F280AFA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FF299E-3D01-4B5F-A44A-5CDC8D53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D50077-458B-4A21-BDF5-A3974C70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AAFE5B-7A25-4CEC-BDCE-405895C0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9EB50C-EB77-4481-B52C-4E964E58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0EE584-0264-4677-B525-6EB81E861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ADAAB2-ADCA-4C47-900F-F12F1EC33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E10026-EBB8-46C5-B149-F147634DC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D141AC-6B89-46FB-AB42-90E7DB95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114BF3-311C-43D8-B57F-91936C5A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123C-BAAF-41F4-A6DC-00FA9716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14739F-5206-481F-9E98-56424B7D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C79DE8-A9DF-49AE-932E-571A655A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043F1D-5DC6-4181-BBF6-4FC0F2E5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DB5AEE-9EED-4796-9EE0-A2802F6E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9A9330-7C69-40C1-B82B-4135747B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010101-D31F-4F4D-99F7-94D8BB8A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6C5A9A-C7CC-4628-886B-529FDA9F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8536BD-E0FF-4C59-A792-938E5497A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70FE9E-4943-476B-AF00-C1F5DAFB6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055F-7974-48F2-9835-77D86FA7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D9DF-2C0C-4B91-BBFB-86C94FF2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B5F7-6B6A-4B59-8AEC-3953818D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B70E-4AF6-4E26-B3C6-72351549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771F-AABC-494E-9E34-385E66E2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6D91-A237-4206-B7B5-CD2B4DE7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8AD6-0269-4BF9-B6DB-8F31AF5D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085B-91EB-4D9E-96E7-D63843F45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51F3-F147-4804-B49F-618195BA2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B15E8-4825-4448-97BC-8B34169C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1A3CF-0641-4F61-B33D-D1B7A86C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65938-AFF6-497B-BAAD-DEB1AD7F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B3679-4D39-499F-B680-0DEC932A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C1F18-FDBC-4B90-9A6C-CB41CAAC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29D7-AEDC-4CD2-9631-865CA60B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519AF-CDB1-4685-8AA6-C887E591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0B61B-B5EB-40C1-9F36-E3E2DDC7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F1E65-DD48-4162-9C5B-BAB4ACA8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B4F37-2495-4A1E-BD27-C1BEE194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F376B-93C9-4FAD-AA69-0E1ECAFF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43ECF-5B1F-4D74-921E-27325AB8A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5CB3F-DB6A-4AD1-BB8E-0A88D74F6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7DADD-9EDF-4457-BB73-9CEA5EFD7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77D4E-4049-44F8-AE4A-955520BA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C0FD6-9252-42FD-AE6D-2B0360BB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E3BA-8077-44F3-904E-688B82FD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230D3-0E6B-47B0-9171-D5126CEE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8CEE9-31B9-4276-ADEF-192202B4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C4515-237C-43D6-B863-F937B2D8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D2701-0DC1-45F7-B909-E45A80FD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C4654-925C-47E1-8049-626C538F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ACABC-F158-41F0-8522-36B7C9CC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4A992-1AE4-401A-971D-70FC3FA8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38766-30F9-4AA4-BF47-0FE742500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03761-74D1-4EBB-9F91-74C561E74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03494-3352-46A0-82EC-E58A5C3D7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1E91-A947-4A96-B900-73A48416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80642-9D91-40A4-9A46-FC0D71B3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9D19B-AD61-47A0-9E1F-1C74DF28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A719E-0067-45A7-B67E-AB7D063E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BFF47-D821-45FF-9522-6C98C1F6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6B466-7C74-479D-BB71-8328342A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5DCB9-6E4C-40D4-A02A-69933A56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4C6A8-C37F-4AF3-BC6D-ABBABA08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000E6-8D53-4C9F-BE99-DA121822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02174-927B-435D-9A7E-7EE9F819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C5BBB-F587-48B9-A756-721C797CA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FC19-5211-46E7-AA3F-64B88AD4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87842-7C3D-4FE6-B502-0627265D2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B5653-F619-423E-861D-81EED52F3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06F59-28CD-48E3-B5EE-B780BD53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AED93-AE11-4ABA-8E73-7259CA40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31955-8637-4153-A3B0-A743860F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3F66F-4CE4-4629-A1EA-5C3E2565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1511A-0EB0-4A5C-8435-7685E60A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CA5D9-B67F-4391-9330-FC58FC68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EFC85-67A7-4B2C-9087-CA7C3933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ABCEA-184F-4D59-BE5D-FCA8B5D1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003C-23F5-426B-90FC-A00A311F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9ADEF-14E9-4581-8760-5BA18792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42D01-3947-45CC-8B0F-326FF6DB4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0A3CC-CB19-4E19-8830-8411E9861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2D988-FE7F-4436-B46D-718A5B75A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9C43D-E3FA-4FB6-98AF-077CFA70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B0F76-2656-4415-B4D8-75AFCDDF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D96F7-1487-4D8C-AF9F-14CCEAC2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985A7-93CE-49BD-A917-504A0049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9B5BA-1A38-49CD-BCEC-7432D9DC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15B1D-FA98-4C9B-BD72-6FC7B053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CCA3-1CD2-40EF-8ADA-88F1311A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F873D-EEAD-4F57-A932-3917617A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E1721-0352-4E6D-B8BC-27F62A18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48D5F-6AAD-4BED-90EA-67CD97AC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BCCF3-1C5B-4E92-9B61-854EF96E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2443B-2EAB-4A2C-94E5-A0ABFDA1A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EB2EE-880C-4F0A-83E8-520386FA0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348C2-20DD-4D56-9FB0-71CB10C0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C14E9-4550-4562-8B6F-4FDF3BFF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994E4-83EA-4FDB-B878-4984FF44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DA0FD-11FE-4E84-ADFE-7A16CA02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A72F-ECA0-4DAC-8DDC-7306F131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E2204-40A2-4039-A8B8-86E2BAD5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4EC8A-F06B-4572-A34D-26727737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E8E55-631D-4DF4-936F-23D9B169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35012-56EC-4A7D-BC08-E495A9C9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D174D-E758-46E7-9923-F4A66918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11614-0F46-4055-BD83-659BD381A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C1F49-23D8-4569-A835-82493A4DB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5FD31-7D5F-48A8-9E01-DD5DC4398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7E2FB-9596-4F19-B42C-3B98F24E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F9F90-FC62-46C8-B77C-875665F0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ule 6: Portable Radiation Survey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8909-7A55-4C20-8032-E501F6ED28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B343-F60C-4E67-8487-3DD27D1762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963C-F986-4F61-8317-1D80BA977A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3B82-D1BB-43D0-A448-F2FC957CCE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0A66-13AA-494A-8E3C-CA9D428376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C8AE-B86B-46DB-BE91-2FCF61C487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E1D7-FFE2-4F0C-B74E-604C0930A4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ule 6: Portable Radiation Survey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704E-494C-4718-BC62-B0C06D828E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6E0A-F3DA-4578-B77D-B612C3A3AA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2725-6870-469B-829F-14E9CE9B41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683B-9C81-4BB2-860D-F29901140A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AD6E-616A-4892-BF41-81D1875449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5DD6-8175-4B5A-9ADA-13AE983025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88F8-7608-4210-ADE7-2BCA786CD2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Box 1"/>
          <p:cNvSpPr/>
          <p:nvPr/>
        </p:nvSpPr>
        <p:spPr>
          <a:xfrm>
            <a:off x="152280" y="10238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vey instruments, ionization, gas filled, scintillation, thermoluminesence, geiger-mueller detectors, beta, gamma, neutron, alpha, ion chamber, eberline instruments, frisking device, air sampler, radiation levels, proportional counter, loose surf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7" name=""/>
          <p:cNvGraphicFramePr/>
          <p:nvPr/>
        </p:nvGraphicFramePr>
        <p:xfrm>
          <a:off x="237960" y="1523880"/>
          <a:ext cx="8668080" cy="1463760"/>
        </p:xfrm>
        <a:graphic>
          <a:graphicData uri="http://schemas.openxmlformats.org/drawingml/2006/table">
            <a:tbl>
              <a:tblPr/>
              <a:tblGrid>
                <a:gridCol w="1195560"/>
                <a:gridCol w="971640"/>
                <a:gridCol w="1082520"/>
                <a:gridCol w="1084320"/>
                <a:gridCol w="1084320"/>
                <a:gridCol w="1082520"/>
                <a:gridCol w="1084320"/>
                <a:gridCol w="1082880"/>
              </a:tblGrid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28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 Amplif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228600" y="8377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lse magnitude determined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ed vol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umber of initial (primary) ionizing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tant number based on specific ionization and detector siz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s amplification factor for the particular gas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o of total # of collected electrons to # of primary electr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s ampl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ter initial (primary) ion pair is formed and moves toward electrodes, secondary ionization occu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itional ion pairs form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applied voltage increases, gas amplification factor chan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variable that primarily determines the pulse magnitude is the applied volt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4FE3-09B8-4EE3-946D-CCCC05DFB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iger-Mueller Dete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228600" y="990720"/>
            <a:ext cx="5943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s-filled chambers that operate in Region V of the gas amplification cur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to detect both beta and gamma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lar-covered "window" serves as inlet fil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ws passage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articles of ~0.05 Me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have movable cover that can be adjusted to allow bo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enter,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n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CAAD-8EDE-4AC2-932E-A377C2AB6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4" descr=""/>
          <p:cNvPicPr/>
          <p:nvPr/>
        </p:nvPicPr>
        <p:blipFill>
          <a:blip r:embed="rId1"/>
          <a:srcRect l="0" t="7869" r="0" b="2949"/>
          <a:stretch/>
        </p:blipFill>
        <p:spPr>
          <a:xfrm>
            <a:off x="5562720" y="2286000"/>
            <a:ext cx="358128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portional Counter for Neutron Dete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228240" y="9903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s-filled proportional counter det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lse height discrimin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inguish between larger pulses due to neutron radiation (thus secondar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and smaller pulses due to other incident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s used is boron trifluoride (B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) enriched with Boron-10 (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high cross-section for absorbing thermal neutr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ident neutrons absorbed by boron 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ults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mi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les cause measureable ionization in the 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D533-9336-438E-AE16-290AD6969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Object 8"/>
              <p:cNvSpPr txBox="1"/>
              <p:nvPr/>
            </p:nvSpPr>
            <p:spPr>
              <a:xfrm>
                <a:off x="2362320" y="5602320"/>
                <a:ext cx="434340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5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B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η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457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intillation Dete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152280" y="838080"/>
            <a:ext cx="883944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onizing radiation producing flashes of light when interacting with certain materials containing phosph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remely sensitive to most forms of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ful for detecting alpha radi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pha particles can be detected since they aren’t stopped by the metal walls of a gas chamb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es both amount and energy level of radiation pres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A8D7-DDC5-42E1-99DB-5CFE82F7E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6" descr=""/>
          <p:cNvPicPr/>
          <p:nvPr/>
        </p:nvPicPr>
        <p:blipFill>
          <a:blip r:embed="rId1"/>
          <a:stretch/>
        </p:blipFill>
        <p:spPr>
          <a:xfrm>
            <a:off x="0" y="3632040"/>
            <a:ext cx="2220840" cy="256716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1" descr=""/>
          <p:cNvPicPr/>
          <p:nvPr/>
        </p:nvPicPr>
        <p:blipFill>
          <a:blip r:embed="rId2"/>
          <a:srcRect l="3381" t="25555" r="4652" b="18610"/>
          <a:stretch/>
        </p:blipFill>
        <p:spPr>
          <a:xfrm>
            <a:off x="2287440" y="3792600"/>
            <a:ext cx="68565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se of Survey Instr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228600" y="7617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able radiation survey instruments are to be used for the detection and determination of radiation exposure lev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able and able to withstand normal use, but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destruction pro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be handled with care and used proper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ject to damage from rough handling the same as any electronic equip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following a few rules and recommendations, the instruments should last many years and provide the user with a measure of knowled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5F48-02D9-41A2-96FA-33785060F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se of Survey Instr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-360" y="762120"/>
            <a:ext cx="8991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ecting the right instrument for the right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rument must be capable of measuring the type and intensity of the radiation which is present or suspec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Beta and gamma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Ion chamber instruments (Ionization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alibri"/>
              </a:rPr>
              <a:t>Alpha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Scintillation det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Gas proportional counter (Proportional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Neutron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BF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 gas proportional counter (Proportional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f1e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1e84"/>
                </a:solidFill>
                <a:latin typeface="Calibri"/>
              </a:rPr>
              <a:t>Gamma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f1e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1e84"/>
                </a:solidFill>
                <a:latin typeface="Calibri"/>
              </a:rPr>
              <a:t>G-M detector (G-M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f1e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1e84"/>
                </a:solidFill>
                <a:latin typeface="Calibri"/>
              </a:rPr>
              <a:t>Ion chamber (Ionization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146B-2E10-4149-956A-C8A7074CC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lpha Survey Instrument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-360" y="914400"/>
            <a:ext cx="6248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E-6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vey instrument commonly paired with scintillator det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check smears and/or air sample filters 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ntam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normally used on daily ba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 smear or air sample filter 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lanche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specimen cu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 planchet 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unting ji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 scintillator on counting ji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gin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8D76-804D-45E0-A9A6-FA934F2D1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1" descr="100_0951.JPG"/>
          <p:cNvPicPr/>
          <p:nvPr/>
        </p:nvPicPr>
        <p:blipFill>
          <a:blip r:embed="rId1">
            <a:lum bright="-14000"/>
          </a:blip>
          <a:srcRect l="31098" t="0" r="38653" b="9413"/>
          <a:stretch/>
        </p:blipFill>
        <p:spPr>
          <a:xfrm>
            <a:off x="6400800" y="730080"/>
            <a:ext cx="2558880" cy="57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lpha Survey: Eberline E-600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E6FC-081D-4CD5-A165-7C44525E4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1" descr="100_0951.JPG"/>
          <p:cNvPicPr/>
          <p:nvPr/>
        </p:nvPicPr>
        <p:blipFill>
          <a:blip r:embed="rId1">
            <a:lum bright="-14000"/>
          </a:blip>
          <a:srcRect l="31098" t="0" r="0" b="11960"/>
          <a:stretch/>
        </p:blipFill>
        <p:spPr>
          <a:xfrm>
            <a:off x="152280" y="838080"/>
            <a:ext cx="5715000" cy="547704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1" descr="100_1136.JPG"/>
          <p:cNvPicPr/>
          <p:nvPr/>
        </p:nvPicPr>
        <p:blipFill>
          <a:blip r:embed="rId2"/>
          <a:stretch/>
        </p:blipFill>
        <p:spPr>
          <a:xfrm>
            <a:off x="6172200" y="838080"/>
            <a:ext cx="2693880" cy="5486400"/>
          </a:xfrm>
          <a:prstGeom prst="rect">
            <a:avLst/>
          </a:prstGeom>
          <a:ln w="0">
            <a:noFill/>
          </a:ln>
        </p:spPr>
      </p:pic>
      <p:sp>
        <p:nvSpPr>
          <p:cNvPr id="704" name="Text Box 8"/>
          <p:cNvSpPr/>
          <p:nvPr/>
        </p:nvSpPr>
        <p:spPr>
          <a:xfrm>
            <a:off x="2514600" y="76212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wn with Eberline SHP 380 AB frisker/survey scintillator 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lpha Survey Instr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0" y="837720"/>
            <a:ext cx="6477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ESP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ro-computer-based survey instr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set up with different detectors to monitor several types of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alpha, digital display reads in d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only used with AC-3 scintillator probe for alpha det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F08E-1E3F-43DD-A689-49C52FCCB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1" descr="100_1148.JPG"/>
          <p:cNvPicPr/>
          <p:nvPr/>
        </p:nvPicPr>
        <p:blipFill>
          <a:blip r:embed="rId1"/>
          <a:stretch/>
        </p:blipFill>
        <p:spPr>
          <a:xfrm>
            <a:off x="6442200" y="1143000"/>
            <a:ext cx="2701800" cy="457200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8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5334120" cy="173376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10"/>
          <p:cNvSpPr/>
          <p:nvPr/>
        </p:nvSpPr>
        <p:spPr>
          <a:xfrm>
            <a:off x="304920" y="5562720"/>
            <a:ext cx="25146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rtable Neutron Survey Instru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0" y="1066320"/>
            <a:ext cx="6477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ASP-2/2E Portable Neutron Rate Me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ion and measurement of dose rate (mrem/hr) from both fast and thermal neutron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s from 1 to 60000 mrem / h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or: 9” diameter, cadmium-loaded polyethylene sphere with BF3 tube in cen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ws excellent gamma rej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only used: </a:t>
            </a: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NRD-4 RemB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9D86-8F50-4F6E-8B23-804BF16A7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1" descr="100_1157.JPG"/>
          <p:cNvPicPr/>
          <p:nvPr/>
        </p:nvPicPr>
        <p:blipFill>
          <a:blip r:embed="rId1"/>
          <a:srcRect l="1665" t="0" r="53335" b="18892"/>
          <a:stretch/>
        </p:blipFill>
        <p:spPr>
          <a:xfrm>
            <a:off x="6551640" y="838080"/>
            <a:ext cx="2592360" cy="3505320"/>
          </a:xfrm>
          <a:prstGeom prst="rect">
            <a:avLst/>
          </a:prstGeom>
          <a:ln w="0">
            <a:noFill/>
          </a:ln>
        </p:spPr>
      </p:pic>
      <p:sp>
        <p:nvSpPr>
          <p:cNvPr id="719" name="Rectangle 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8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9" descr=""/>
          <p:cNvPicPr/>
          <p:nvPr/>
        </p:nvPicPr>
        <p:blipFill>
          <a:blip r:embed="rId2"/>
          <a:srcRect l="50558" t="26891" r="26111" b="20668"/>
          <a:stretch/>
        </p:blipFill>
        <p:spPr>
          <a:xfrm>
            <a:off x="7037280" y="4495680"/>
            <a:ext cx="15732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7395-516C-43A5-8C5C-AADCC6765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39720" y="2054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 130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ological Prot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73040" y="41148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ule 6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table Radiation Survey Instr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P-2/2E with NRD-4 RemB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ECDA-4F8F-493F-8D9A-0770BDA07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1" descr="100_1157.JPG"/>
          <p:cNvPicPr/>
          <p:nvPr/>
        </p:nvPicPr>
        <p:blipFill>
          <a:blip r:embed="rId1"/>
          <a:srcRect l="1665" t="0" r="53335" b="18892"/>
          <a:stretch/>
        </p:blipFill>
        <p:spPr>
          <a:xfrm>
            <a:off x="109440" y="1219320"/>
            <a:ext cx="3776760" cy="5105160"/>
          </a:xfrm>
          <a:prstGeom prst="rect">
            <a:avLst/>
          </a:prstGeom>
          <a:ln w="0">
            <a:noFill/>
          </a:ln>
        </p:spPr>
      </p:pic>
      <p:sp>
        <p:nvSpPr>
          <p:cNvPr id="729" name="Rectangle 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7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8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9" descr=""/>
          <p:cNvPicPr/>
          <p:nvPr/>
        </p:nvPicPr>
        <p:blipFill>
          <a:blip r:embed="rId2"/>
          <a:srcRect l="50558" t="26891" r="26111" b="20668"/>
          <a:stretch/>
        </p:blipFill>
        <p:spPr>
          <a:xfrm>
            <a:off x="4024440" y="1752480"/>
            <a:ext cx="2549520" cy="358164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1" descr=""/>
          <p:cNvPicPr/>
          <p:nvPr/>
        </p:nvPicPr>
        <p:blipFill>
          <a:blip r:embed="rId3"/>
          <a:stretch/>
        </p:blipFill>
        <p:spPr>
          <a:xfrm>
            <a:off x="6678720" y="1143000"/>
            <a:ext cx="2313000" cy="3886200"/>
          </a:xfrm>
          <a:prstGeom prst="rect">
            <a:avLst/>
          </a:prstGeom>
          <a:ln w="0">
            <a:noFill/>
          </a:ln>
        </p:spPr>
      </p:pic>
      <p:sp>
        <p:nvSpPr>
          <p:cNvPr id="735" name="Text Box 12"/>
          <p:cNvSpPr/>
          <p:nvPr/>
        </p:nvSpPr>
        <p:spPr>
          <a:xfrm>
            <a:off x="6705720" y="52578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ifferent meter shown with b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rtable Neutron Survey Instru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0" y="99036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Eberline ASP-1 with NRD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similar to ASP-2/2E with NRD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s 0 to 100000 mrem / h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1408-3CE8-427F-B1CE-151D9447A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1" descr="100_1157.JPG"/>
          <p:cNvPicPr/>
          <p:nvPr/>
        </p:nvPicPr>
        <p:blipFill>
          <a:blip r:embed="rId1"/>
          <a:srcRect l="48335" t="10000" r="3335" b="14446"/>
          <a:stretch/>
        </p:blipFill>
        <p:spPr>
          <a:xfrm>
            <a:off x="4648320" y="1143000"/>
            <a:ext cx="44193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151920" y="1066320"/>
            <a:ext cx="89917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jor portion of radiation encountered in nuclear plant working areas is beta and ga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us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tecting instruments are most comm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2C37-4060-4F9B-B2F5-65F826CDE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4" descr=""/>
          <p:cNvPicPr/>
          <p:nvPr/>
        </p:nvPicPr>
        <p:blipFill>
          <a:blip r:embed="rId1"/>
          <a:stretch/>
        </p:blipFill>
        <p:spPr>
          <a:xfrm>
            <a:off x="4952880" y="2819520"/>
            <a:ext cx="4191120" cy="3504960"/>
          </a:xfrm>
          <a:prstGeom prst="rect">
            <a:avLst/>
          </a:prstGeom>
          <a:ln w="0">
            <a:noFill/>
          </a:ln>
        </p:spPr>
      </p:pic>
      <p:sp>
        <p:nvSpPr>
          <p:cNvPr id="748" name="Rectangle 6"/>
          <p:cNvSpPr/>
          <p:nvPr/>
        </p:nvSpPr>
        <p:spPr>
          <a:xfrm>
            <a:off x="0" y="2819520"/>
            <a:ext cx="5257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eletector Model 6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weight, portable, battery-operated, beta-gamma survey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scoping probe that extends 13 ft to allow dose rate measurements far from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dose rate due to gamma over wide range of intens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tect beta, remove rubber tip from end of 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215640" y="1396800"/>
            <a:ext cx="78613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2000W Exten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ilar to Telet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nds to 12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dible speaker and illuminated sc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42BF-6EE1-4031-804A-830C17113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7" descr=""/>
          <p:cNvPicPr/>
          <p:nvPr/>
        </p:nvPicPr>
        <p:blipFill>
          <a:blip r:embed="rId1"/>
          <a:srcRect l="0" t="0" r="2066" b="0"/>
          <a:stretch/>
        </p:blipFill>
        <p:spPr>
          <a:xfrm>
            <a:off x="104760" y="4102200"/>
            <a:ext cx="89629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000W Exte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396F-13C9-4F82-9CBF-66C304542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240840" y="1003320"/>
            <a:ext cx="4496040" cy="15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tem Telep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to Telet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to 11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03C4-3B2C-455E-8E65-F45ED35C9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2" descr="\\SCANA\shares\GroupDirs\0539\539HP\Pictures\FHB Filter Job\FHB Filter Job 011.jpg"/>
          <p:cNvPicPr/>
          <p:nvPr/>
        </p:nvPicPr>
        <p:blipFill>
          <a:blip r:embed="rId1"/>
          <a:stretch/>
        </p:blipFill>
        <p:spPr>
          <a:xfrm>
            <a:off x="0" y="2786040"/>
            <a:ext cx="4892760" cy="373212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7" descr=""/>
          <p:cNvPicPr/>
          <p:nvPr/>
        </p:nvPicPr>
        <p:blipFill>
          <a:blip r:embed="rId2"/>
          <a:srcRect l="0" t="0" r="8904" b="0"/>
          <a:stretch/>
        </p:blipFill>
        <p:spPr>
          <a:xfrm>
            <a:off x="7132680" y="752400"/>
            <a:ext cx="1985760" cy="58262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1" descr="telepolemr.jpg"/>
          <p:cNvPicPr/>
          <p:nvPr/>
        </p:nvPicPr>
        <p:blipFill>
          <a:blip r:embed="rId3"/>
          <a:srcRect l="20369" t="20735" r="15530" b="2373"/>
          <a:stretch/>
        </p:blipFill>
        <p:spPr>
          <a:xfrm>
            <a:off x="5011560" y="3962520"/>
            <a:ext cx="29275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385E-1FC7-41B9-9B29-10DC18A9F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9" descr=""/>
          <p:cNvPicPr/>
          <p:nvPr/>
        </p:nvPicPr>
        <p:blipFill>
          <a:blip r:embed="rId1"/>
          <a:stretch/>
        </p:blipFill>
        <p:spPr>
          <a:xfrm>
            <a:off x="0" y="898560"/>
            <a:ext cx="914400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0" y="914040"/>
            <a:ext cx="6324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Rotem AMP-100 (Area Monitor Prob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M detector with microprocessor-based instr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stable and accu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ghtweight and comp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ble of measuring both dose and dose rate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nge: 0 to 1000 Rem/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used in 3 way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lly as a hand-held mon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ed to an area monitor for general area dose r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d remotely by means of a wireless remote monitoring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used for underwater applications, but not typic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C1FB-33E5-40F9-AFB5-671395568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5" descr=""/>
          <p:cNvPicPr/>
          <p:nvPr/>
        </p:nvPicPr>
        <p:blipFill>
          <a:blip r:embed="rId1"/>
          <a:srcRect l="0" t="0" r="7196" b="0"/>
          <a:stretch/>
        </p:blipFill>
        <p:spPr>
          <a:xfrm>
            <a:off x="6342120" y="1143000"/>
            <a:ext cx="268596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RM-14 Rad. Moni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most for personnel monito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, versatile count rate 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hargeable battery or 110 V A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justable audible al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e multiplier r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0, 5K, and 50K CPM full-sc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d by 3-position switc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l, X10 or X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se sett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st (~2 sec) or Slow (~20 se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6889-59EE-4CE7-90F0-9C221A7F7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1" descr="100_1147.JPG"/>
          <p:cNvPicPr/>
          <p:nvPr/>
        </p:nvPicPr>
        <p:blipFill>
          <a:blip r:embed="rId1"/>
          <a:srcRect l="0" t="12346" r="3705" b="13580"/>
          <a:stretch/>
        </p:blipFill>
        <p:spPr>
          <a:xfrm>
            <a:off x="5562720" y="3581280"/>
            <a:ext cx="358128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M-14 Radiation Moni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31B5-03B5-4CAE-9CCD-FEAAB133D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1" descr="100_1147.JPG"/>
          <p:cNvPicPr/>
          <p:nvPr/>
        </p:nvPicPr>
        <p:blipFill>
          <a:blip r:embed="rId1"/>
          <a:srcRect l="0" t="12409" r="5280" b="12037"/>
          <a:stretch/>
        </p:blipFill>
        <p:spPr>
          <a:xfrm>
            <a:off x="228600" y="1079640"/>
            <a:ext cx="86612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6840" y="91404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and measuring radiation levels around the p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r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dor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st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: How can we measure radiation to determine if the levels are saf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B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o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 measurement based almost solely on either direct or indirect ion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0880-B1E3-4911-9632-A76ECCBAA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51920" y="91440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HP-210 G-M tube pro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ly used with RM-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 mica window to allow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nsitivity down to ~40Ke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elded to permi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in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sonnel fris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 of table, floo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ipment surface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A0B0-B93C-447D-89E2-E6A851477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Picture 4" descr=""/>
          <p:cNvPicPr/>
          <p:nvPr/>
        </p:nvPicPr>
        <p:blipFill>
          <a:blip r:embed="rId1"/>
          <a:stretch/>
        </p:blipFill>
        <p:spPr>
          <a:xfrm>
            <a:off x="5486400" y="2895480"/>
            <a:ext cx="365760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57200" y="10666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RM-14S and  RM-14S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er versions of RM-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ral scales that earlier model lacked: 50, 500, 5000, 50000, 500000, and 5000000 c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RM-14’s are operated with conservative assumption of 10% e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6BD3-4739-402D-95F6-16580791E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Content Placeholder 3" descr="100_0938.JPG"/>
          <p:cNvPicPr/>
          <p:nvPr/>
        </p:nvPicPr>
        <p:blipFill>
          <a:blip r:embed="rId1"/>
          <a:stretch/>
        </p:blipFill>
        <p:spPr>
          <a:xfrm>
            <a:off x="0" y="3618000"/>
            <a:ext cx="4495680" cy="290664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1" descr="100_1146.JPG"/>
          <p:cNvPicPr/>
          <p:nvPr/>
        </p:nvPicPr>
        <p:blipFill>
          <a:blip r:embed="rId2"/>
          <a:stretch/>
        </p:blipFill>
        <p:spPr>
          <a:xfrm>
            <a:off x="4572000" y="3621240"/>
            <a:ext cx="45720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228240" y="1066680"/>
            <a:ext cx="7010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Rotem RAM SURF frisking de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table, self-conta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ctor and monitor in 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gital readout w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omatic range adj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dible indic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assume 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BFA2-F769-4359-B9FE-312FC4772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Picture 5" descr=""/>
          <p:cNvPicPr/>
          <p:nvPr/>
        </p:nvPicPr>
        <p:blipFill>
          <a:blip r:embed="rId1"/>
          <a:srcRect l="0" t="0" r="0" b="4102"/>
          <a:stretch/>
        </p:blipFill>
        <p:spPr>
          <a:xfrm>
            <a:off x="5133960" y="1523880"/>
            <a:ext cx="40100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-360" y="837720"/>
            <a:ext cx="7467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-2 / RO-2A / RO-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able air ion-chamber instr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mber vented to atmospheric pres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sitive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X but calibrated 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se time: ~5 s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switch turns on instrument, checks batteries, checks zero setting, selects 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-2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, 50, 500, and 5000 mr/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-2A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 mr/hr, 500 mr/hr, 5 R/hr, and 50 R/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-20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of the abo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open shield to expose mylar wind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5020-090D-498B-BE3E-2CEC69F37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1" descr="100_0950.JPG"/>
          <p:cNvPicPr/>
          <p:nvPr/>
        </p:nvPicPr>
        <p:blipFill>
          <a:blip r:embed="rId1"/>
          <a:srcRect l="38342" t="18883" r="33333" b="5565"/>
          <a:stretch/>
        </p:blipFill>
        <p:spPr>
          <a:xfrm>
            <a:off x="7429680" y="1066680"/>
            <a:ext cx="1714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-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-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0CB4-0F12-41A8-A43B-E9591F6A9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Picture 1" descr="IMG_0990.JPG"/>
          <p:cNvPicPr/>
          <p:nvPr/>
        </p:nvPicPr>
        <p:blipFill>
          <a:blip r:embed="rId1"/>
          <a:stretch/>
        </p:blipFill>
        <p:spPr>
          <a:xfrm>
            <a:off x="5029200" y="762120"/>
            <a:ext cx="3962520" cy="579096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1" descr="100_0950.JPG"/>
          <p:cNvPicPr/>
          <p:nvPr/>
        </p:nvPicPr>
        <p:blipFill>
          <a:blip r:embed="rId2"/>
          <a:srcRect l="38342" t="18883" r="33333" b="5565"/>
          <a:stretch/>
        </p:blipFill>
        <p:spPr>
          <a:xfrm>
            <a:off x="228600" y="762120"/>
            <a:ext cx="2857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609120" y="9907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Bicron RSO-5 / RSO-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ilar to RO-2 and RO-2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SO-5: Same scales as RO-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SO-50: Same scales as RO-2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se rates (includ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ndow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E97F-EFF4-4DA3-9A31-F6A8FC4D6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5" descr=""/>
          <p:cNvPicPr/>
          <p:nvPr/>
        </p:nvPicPr>
        <p:blipFill>
          <a:blip r:embed="rId1"/>
          <a:stretch/>
        </p:blipFill>
        <p:spPr>
          <a:xfrm>
            <a:off x="152280" y="2743200"/>
            <a:ext cx="3009960" cy="380988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6" descr=""/>
          <p:cNvPicPr/>
          <p:nvPr/>
        </p:nvPicPr>
        <p:blipFill>
          <a:blip r:embed="rId2"/>
          <a:stretch/>
        </p:blipFill>
        <p:spPr>
          <a:xfrm>
            <a:off x="3438360" y="2743200"/>
            <a:ext cx="3038760" cy="380988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1" descr="100_1144.JPG"/>
          <p:cNvPicPr/>
          <p:nvPr/>
        </p:nvPicPr>
        <p:blipFill>
          <a:blip r:embed="rId3"/>
          <a:stretch/>
        </p:blipFill>
        <p:spPr>
          <a:xfrm>
            <a:off x="6705720" y="2743200"/>
            <a:ext cx="2325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76320" y="1066680"/>
            <a:ext cx="633888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tem RAM 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in function to RO-2 or RSO-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e similar to RAM SUR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able, self-cont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or and monitor in one un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gital readout with automatic range adju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ge 0.1 mRem/hr to 50 Rem/h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a wind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0FD6-5A90-4FAB-A653-3282E6821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Picture 1" descr="100_1152.JPG"/>
          <p:cNvPicPr/>
          <p:nvPr/>
        </p:nvPicPr>
        <p:blipFill>
          <a:blip r:embed="rId1"/>
          <a:stretch/>
        </p:blipFill>
        <p:spPr>
          <a:xfrm>
            <a:off x="6365880" y="990720"/>
            <a:ext cx="262584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134640" y="888840"/>
            <a:ext cx="609588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tem RAM 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6FAE-A82A-47CA-BE59-1D5981BED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6" descr=""/>
          <p:cNvPicPr/>
          <p:nvPr/>
        </p:nvPicPr>
        <p:blipFill>
          <a:blip r:embed="rId1"/>
          <a:srcRect l="44074" t="11610" r="10833" b="2368"/>
          <a:stretch/>
        </p:blipFill>
        <p:spPr>
          <a:xfrm>
            <a:off x="0" y="1347840"/>
            <a:ext cx="4429080" cy="528012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1" descr="telepolemr.jpg"/>
          <p:cNvPicPr/>
          <p:nvPr/>
        </p:nvPicPr>
        <p:blipFill>
          <a:blip r:embed="rId2"/>
          <a:srcRect l="19855" t="20120" r="15226" b="11813"/>
          <a:stretch/>
        </p:blipFill>
        <p:spPr>
          <a:xfrm>
            <a:off x="4613400" y="1708200"/>
            <a:ext cx="43783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De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444600" y="7488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alibri"/>
              </a:rPr>
              <a:t>RADēCO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 H809V Air Samp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C48F-4C96-4319-8A8A-B2278C69E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1" descr="100_1149.JPG"/>
          <p:cNvPicPr/>
          <p:nvPr/>
        </p:nvPicPr>
        <p:blipFill>
          <a:blip r:embed="rId1"/>
          <a:stretch/>
        </p:blipFill>
        <p:spPr>
          <a:xfrm>
            <a:off x="1994040" y="1282680"/>
            <a:ext cx="510516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De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0EBE-5F13-46D2-9592-919843E25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Picture 1" descr="100_1139.JPG"/>
          <p:cNvPicPr/>
          <p:nvPr/>
        </p:nvPicPr>
        <p:blipFill>
          <a:blip r:embed="rId1"/>
          <a:stretch/>
        </p:blipFill>
        <p:spPr>
          <a:xfrm>
            <a:off x="730080" y="873000"/>
            <a:ext cx="786132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9CC1-EE85-4A0C-8315-E5B1254A1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1371600" y="9140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 of I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ssage of nuclear radiation through a substance will result in the removal of electrons from neutral ato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on pair formed (free electron and residual positively-charged ato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I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on pairs produced by the direct action of charged particles, such as alphas and bet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rged particles may collide with electrons and remove th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energy transfer insufficient to remove the electron, atom may be left in a state of exci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rect I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duction of ion pairs by photons, gammas, and X-r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Portable Instruments for Monitoring For Loose-Surface Contamin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152280" y="121896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beta and gamma: RM-14, RM-14s, and RAM SURF are used for determination of quant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alpha: E-600 and ESP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-600 probe must be held within 1/4 inch of the area being monitored to ensure proper respon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M-14 with HP-210 pro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for monitoring personel conta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be must be within 1/2 inch of the surface being monitored to pick up possible contamin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-600 and RM-14 with HP-210 require slow probe movement to cover the area being monitored, about 1 to 2 in / s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53A0-69FB-4C29-B24A-F7944185B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488F-B511-417A-8940-348F9C35D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eter Reading Challen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C14B-31B6-4084-8C46-128BECE95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6" name=""/>
          <p:cNvGraphicFramePr/>
          <p:nvPr/>
        </p:nvGraphicFramePr>
        <p:xfrm>
          <a:off x="1523880" y="3336840"/>
          <a:ext cx="6096240" cy="2127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67" name="Group 10"/>
          <p:cNvGrpSpPr/>
          <p:nvPr/>
        </p:nvGrpSpPr>
        <p:grpSpPr>
          <a:xfrm>
            <a:off x="1778040" y="708120"/>
            <a:ext cx="6289560" cy="5819400"/>
            <a:chOff x="1778040" y="708120"/>
            <a:chExt cx="6289560" cy="5819400"/>
          </a:xfrm>
        </p:grpSpPr>
        <p:pic>
          <p:nvPicPr>
            <p:cNvPr id="868" name="Picture 2" descr=""/>
            <p:cNvPicPr/>
            <p:nvPr/>
          </p:nvPicPr>
          <p:blipFill>
            <a:blip r:embed="rId1"/>
            <a:stretch/>
          </p:blipFill>
          <p:spPr>
            <a:xfrm>
              <a:off x="1778040" y="708120"/>
              <a:ext cx="6289560" cy="390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9" name="Picture 1" descr=""/>
            <p:cNvPicPr/>
            <p:nvPr/>
          </p:nvPicPr>
          <p:blipFill>
            <a:blip r:embed="rId2"/>
            <a:stretch/>
          </p:blipFill>
          <p:spPr>
            <a:xfrm>
              <a:off x="1778040" y="4569480"/>
              <a:ext cx="6289560" cy="195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AB03-DF62-4B85-BDC5-E7B905008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Picture 2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791040" cy="62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7995-7EA7-438C-979B-09C42E522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and DP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9" name="Picture 2" descr=""/>
          <p:cNvPicPr/>
          <p:nvPr/>
        </p:nvPicPr>
        <p:blipFill>
          <a:blip r:embed="rId1"/>
          <a:srcRect l="0" t="0" r="0" b="7349"/>
          <a:stretch/>
        </p:blipFill>
        <p:spPr>
          <a:xfrm>
            <a:off x="0" y="993600"/>
            <a:ext cx="9144000" cy="544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D63F-A7B5-41D2-ADC3-AEA76C216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Picture 2" descr=""/>
          <p:cNvPicPr/>
          <p:nvPr/>
        </p:nvPicPr>
        <p:blipFill>
          <a:blip r:embed="rId1"/>
          <a:srcRect l="25835" t="4814" r="0" b="15559"/>
          <a:stretch/>
        </p:blipFill>
        <p:spPr>
          <a:xfrm>
            <a:off x="914400" y="330120"/>
            <a:ext cx="6781680" cy="546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38D6-D3F0-4B67-BCD0-EEDE73665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Picture 2" descr=""/>
          <p:cNvPicPr/>
          <p:nvPr/>
        </p:nvPicPr>
        <p:blipFill>
          <a:blip r:embed="rId1"/>
          <a:srcRect l="38333" t="0" r="0" b="0"/>
          <a:stretch/>
        </p:blipFill>
        <p:spPr>
          <a:xfrm>
            <a:off x="1841400" y="571680"/>
            <a:ext cx="563904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131C-3BDE-41F6-81D5-3A6BBDB83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1" name="Picture 2" descr=""/>
          <p:cNvPicPr/>
          <p:nvPr/>
        </p:nvPicPr>
        <p:blipFill>
          <a:blip r:embed="rId1"/>
          <a:srcRect l="47362" t="0" r="0" b="0"/>
          <a:stretch/>
        </p:blipFill>
        <p:spPr>
          <a:xfrm>
            <a:off x="2362320" y="177840"/>
            <a:ext cx="4813200" cy="641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ABCE-9823-4992-AB73-147193351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2" descr=""/>
          <p:cNvPicPr/>
          <p:nvPr/>
        </p:nvPicPr>
        <p:blipFill>
          <a:blip r:embed="rId1"/>
          <a:srcRect l="32500" t="11113" r="0" b="19816"/>
          <a:stretch/>
        </p:blipFill>
        <p:spPr>
          <a:xfrm>
            <a:off x="863640" y="685800"/>
            <a:ext cx="7074000" cy="54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DBE6-FC84-495A-910E-6AE0C9173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Picture 2" descr=""/>
          <p:cNvPicPr/>
          <p:nvPr/>
        </p:nvPicPr>
        <p:blipFill>
          <a:blip r:embed="rId1"/>
          <a:srcRect l="34169" t="6296" r="0" b="5556"/>
          <a:stretch/>
        </p:blipFill>
        <p:spPr>
          <a:xfrm>
            <a:off x="1600200" y="431640"/>
            <a:ext cx="6019920" cy="604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6436-19CF-41EA-B875-9CE70B2A8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609120" y="16002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e basic principles of radiation dete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s-Filled Cha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intil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molumines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ill focus primarily on the first tw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8615-52DA-4476-BC72-63EE3CB5C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PM and DPM and uC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fficiency=18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4" name="Picture 2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1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2AFB-819B-448D-B8CC-3486D5DD3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42720" y="10666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eter Reading Challen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0" y="3327120"/>
            <a:ext cx="4952880" cy="18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’s compare notes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B2C1-BAE7-4D3D-AFE6-E075ADC8D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4" name=""/>
          <p:cNvGraphicFramePr/>
          <p:nvPr/>
        </p:nvGraphicFramePr>
        <p:xfrm>
          <a:off x="1523880" y="3336840"/>
          <a:ext cx="6096240" cy="2127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Group 10"/>
          <p:cNvGrpSpPr/>
          <p:nvPr/>
        </p:nvGrpSpPr>
        <p:grpSpPr>
          <a:xfrm>
            <a:off x="1981080" y="619200"/>
            <a:ext cx="6073920" cy="5920920"/>
            <a:chOff x="1981080" y="619200"/>
            <a:chExt cx="6073920" cy="5920920"/>
          </a:xfrm>
        </p:grpSpPr>
        <p:pic>
          <p:nvPicPr>
            <p:cNvPr id="917" name="Picture 2" descr=""/>
            <p:cNvPicPr/>
            <p:nvPr/>
          </p:nvPicPr>
          <p:blipFill>
            <a:blip r:embed="rId1"/>
            <a:stretch/>
          </p:blipFill>
          <p:spPr>
            <a:xfrm>
              <a:off x="1981080" y="619200"/>
              <a:ext cx="6073920" cy="39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8" name="Picture 1" descr=""/>
            <p:cNvPicPr/>
            <p:nvPr/>
          </p:nvPicPr>
          <p:blipFill>
            <a:blip r:embed="rId2"/>
            <a:stretch/>
          </p:blipFill>
          <p:spPr>
            <a:xfrm>
              <a:off x="1981080" y="4547880"/>
              <a:ext cx="6073920" cy="1992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6816-59B2-4FE3-A1AA-5C4D03793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# 1=   32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4383-C7F7-4749-A4DA-F992FB9D5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Picture 2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79104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8C4F-B063-4F6F-AED3-3862C23FF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10,0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6683-9D02-4E0F-9961-F6F4B5028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and DP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5" name="Picture 2" descr=""/>
          <p:cNvPicPr/>
          <p:nvPr/>
        </p:nvPicPr>
        <p:blipFill>
          <a:blip r:embed="rId1"/>
          <a:srcRect l="0" t="0" r="0" b="7135"/>
          <a:stretch/>
        </p:blipFill>
        <p:spPr>
          <a:xfrm>
            <a:off x="0" y="981000"/>
            <a:ext cx="883908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0017-2104-4D18-938E-CA4375077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379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2,0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0" y="3327120"/>
            <a:ext cx="4952880" cy="18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PM=cpm/e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2,000 cpm/.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20,000 d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6114-A70E-4B77-A0EC-3D2EDA1D2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Picture 2" descr=""/>
          <p:cNvPicPr/>
          <p:nvPr/>
        </p:nvPicPr>
        <p:blipFill>
          <a:blip r:embed="rId1"/>
          <a:srcRect l="25835" t="11076" r="0" b="17386"/>
          <a:stretch/>
        </p:blipFill>
        <p:spPr>
          <a:xfrm>
            <a:off x="457200" y="444600"/>
            <a:ext cx="8229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2CF0-E602-46A5-8A58-4B3BDE2C4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3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-Filled Ion Chamb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52280" y="761760"/>
            <a:ext cx="8801280" cy="38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ldest and most widely used device for detecting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al cylindrical gas-filled cha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ltage (V) applied across two electro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ode (positive): central electrod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thode (negative): chamber wal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tion passing through the chamber ionizes some of the gas ato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sitive ions drawn to chamber wa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ster-moving electrons (negative) drawn to the central an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4E47-B174-48C6-B124-B8632DCEC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11" descr=""/>
          <p:cNvPicPr/>
          <p:nvPr/>
        </p:nvPicPr>
        <p:blipFill>
          <a:blip r:embed="rId1"/>
          <a:srcRect l="845" t="23187" r="1066" b="17947"/>
          <a:stretch/>
        </p:blipFill>
        <p:spPr>
          <a:xfrm>
            <a:off x="2023920" y="4464000"/>
            <a:ext cx="495648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5864-2C30-49D0-B78C-A3A87B0F6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Picture 2" descr=""/>
          <p:cNvPicPr/>
          <p:nvPr/>
        </p:nvPicPr>
        <p:blipFill>
          <a:blip r:embed="rId1"/>
          <a:srcRect l="47112" t="2222" r="3156" b="0"/>
          <a:stretch/>
        </p:blipFill>
        <p:spPr>
          <a:xfrm>
            <a:off x="2308320" y="60480"/>
            <a:ext cx="5006880" cy="6480000"/>
          </a:xfrm>
          <a:prstGeom prst="rect">
            <a:avLst/>
          </a:prstGeom>
          <a:ln w="0">
            <a:noFill/>
          </a:ln>
        </p:spPr>
      </p:pic>
      <p:sp>
        <p:nvSpPr>
          <p:cNvPr id="953" name="Text Box 4"/>
          <p:cNvSpPr/>
          <p:nvPr/>
        </p:nvSpPr>
        <p:spPr>
          <a:xfrm>
            <a:off x="4905360" y="4751280"/>
            <a:ext cx="873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R/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Oval 5"/>
          <p:cNvSpPr/>
          <p:nvPr/>
        </p:nvSpPr>
        <p:spPr>
          <a:xfrm>
            <a:off x="4508640" y="5010120"/>
            <a:ext cx="431640" cy="2858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26E2-070E-4D2A-A61A-6226778AA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400 m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86FD-075D-4D13-985A-C0193D5EF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2" descr=""/>
          <p:cNvPicPr/>
          <p:nvPr/>
        </p:nvPicPr>
        <p:blipFill>
          <a:blip r:embed="rId1"/>
          <a:srcRect l="49169" t="14446" r="0" b="0"/>
          <a:stretch/>
        </p:blipFill>
        <p:spPr>
          <a:xfrm>
            <a:off x="1954080" y="0"/>
            <a:ext cx="4980240" cy="65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49FE-4621-428E-BF7C-02663FCFC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3.6 m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3253-B864-47F8-A9EC-5C703711D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2" descr=""/>
          <p:cNvPicPr/>
          <p:nvPr/>
        </p:nvPicPr>
        <p:blipFill>
          <a:blip r:embed="rId1"/>
          <a:srcRect l="50004" t="14446" r="8335" b="22672"/>
          <a:stretch/>
        </p:blipFill>
        <p:spPr>
          <a:xfrm>
            <a:off x="1676520" y="0"/>
            <a:ext cx="511812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F7EB-E311-43BD-8545-AF93A876E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.5 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39AF-7D4B-4B81-811B-297AD79E2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8" name="Picture 2" descr=""/>
          <p:cNvPicPr/>
          <p:nvPr/>
        </p:nvPicPr>
        <p:blipFill>
          <a:blip r:embed="rId1"/>
          <a:srcRect l="39169" t="6669" r="0" b="4444"/>
          <a:stretch/>
        </p:blipFill>
        <p:spPr>
          <a:xfrm>
            <a:off x="1295280" y="0"/>
            <a:ext cx="625788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5089-1186-44F6-824D-0631A662E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8.5 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C73E-24F7-4459-8215-A833CBBF5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PM and DPM and uC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fficiency=18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7" name="Picture 2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6F3B-007B-4747-8733-EC3A824B1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440" y="17794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5.1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0" y="3327120"/>
            <a:ext cx="4952880" cy="18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PM=CPM/E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25.1/0.18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139 D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-Filled Ion Chamb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609480" y="76176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ical charge collects on an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ge buildup causes voltage change, aka 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pul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lse causes current to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meter used to measure curr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ent level correlated to radiation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7086-6D28-42BB-A25A-38F142E7F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10" descr=""/>
          <p:cNvPicPr/>
          <p:nvPr/>
        </p:nvPicPr>
        <p:blipFill>
          <a:blip r:embed="rId1"/>
          <a:srcRect l="845" t="23187" r="1066" b="17947"/>
          <a:stretch/>
        </p:blipFill>
        <p:spPr>
          <a:xfrm>
            <a:off x="2036880" y="4172040"/>
            <a:ext cx="495612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-Filled Ion Chamb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228600" y="8380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lse magnitude determined 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ed vol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ber of initial (primary) ionizing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tant number based on specific ionization and detector si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gas-ionizing types of radiation detectors are technically ion cha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However, the term “ion chamber” is typically used to refer to such devices for which the input voltage is low enough to prevent secondary ionization (gas amplific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95B0-86EB-4DFA-990C-D537BDFB6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1DCB-5EDC-4E66-A9ED-AA195D894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3"/>
          <p:cNvSpPr/>
          <p:nvPr/>
        </p:nvSpPr>
        <p:spPr>
          <a:xfrm>
            <a:off x="228600" y="76320"/>
            <a:ext cx="85345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Six-Region Gas Amplification Cu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Group 14"/>
          <p:cNvGrpSpPr/>
          <p:nvPr/>
        </p:nvGrpSpPr>
        <p:grpSpPr>
          <a:xfrm>
            <a:off x="378000" y="714240"/>
            <a:ext cx="8766000" cy="5881680"/>
            <a:chOff x="378000" y="714240"/>
            <a:chExt cx="8766000" cy="5881680"/>
          </a:xfrm>
        </p:grpSpPr>
        <p:sp>
          <p:nvSpPr>
            <p:cNvPr id="630" name="Rectangle 5"/>
            <p:cNvSpPr/>
            <p:nvPr/>
          </p:nvSpPr>
          <p:spPr>
            <a:xfrm>
              <a:off x="3819600" y="714240"/>
              <a:ext cx="2971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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, 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, 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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  each produce the same detector response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6"/>
            <p:cNvSpPr/>
            <p:nvPr/>
          </p:nvSpPr>
          <p:spPr>
            <a:xfrm>
              <a:off x="1409760" y="973080"/>
              <a:ext cx="7440480" cy="5275440"/>
            </a:xfrm>
            <a:custGeom>
              <a:avLst/>
              <a:gdLst/>
              <a:ahLst/>
              <a:rect l="l" t="t" r="r" b="b"/>
              <a:pathLst>
                <a:path w="4687" h="3323">
                  <a:moveTo>
                    <a:pt x="0" y="3323"/>
                  </a:moveTo>
                  <a:cubicBezTo>
                    <a:pt x="73" y="3252"/>
                    <a:pt x="147" y="3182"/>
                    <a:pt x="352" y="3147"/>
                  </a:cubicBezTo>
                  <a:cubicBezTo>
                    <a:pt x="557" y="3112"/>
                    <a:pt x="1004" y="3143"/>
                    <a:pt x="1232" y="3115"/>
                  </a:cubicBezTo>
                  <a:cubicBezTo>
                    <a:pt x="1460" y="3087"/>
                    <a:pt x="1572" y="3048"/>
                    <a:pt x="1720" y="2979"/>
                  </a:cubicBezTo>
                  <a:cubicBezTo>
                    <a:pt x="1868" y="2910"/>
                    <a:pt x="2004" y="2804"/>
                    <a:pt x="2120" y="2699"/>
                  </a:cubicBezTo>
                  <a:cubicBezTo>
                    <a:pt x="2236" y="2594"/>
                    <a:pt x="2316" y="2476"/>
                    <a:pt x="2416" y="2347"/>
                  </a:cubicBezTo>
                  <a:cubicBezTo>
                    <a:pt x="2516" y="2218"/>
                    <a:pt x="2620" y="2091"/>
                    <a:pt x="2720" y="1923"/>
                  </a:cubicBezTo>
                  <a:cubicBezTo>
                    <a:pt x="2820" y="1755"/>
                    <a:pt x="2935" y="1503"/>
                    <a:pt x="3016" y="1339"/>
                  </a:cubicBezTo>
                  <a:cubicBezTo>
                    <a:pt x="3097" y="1175"/>
                    <a:pt x="3147" y="1051"/>
                    <a:pt x="3208" y="939"/>
                  </a:cubicBezTo>
                  <a:cubicBezTo>
                    <a:pt x="3269" y="827"/>
                    <a:pt x="3337" y="719"/>
                    <a:pt x="3384" y="667"/>
                  </a:cubicBezTo>
                  <a:cubicBezTo>
                    <a:pt x="3431" y="615"/>
                    <a:pt x="3435" y="644"/>
                    <a:pt x="3488" y="627"/>
                  </a:cubicBezTo>
                  <a:cubicBezTo>
                    <a:pt x="3541" y="610"/>
                    <a:pt x="3628" y="580"/>
                    <a:pt x="3704" y="563"/>
                  </a:cubicBezTo>
                  <a:cubicBezTo>
                    <a:pt x="3780" y="546"/>
                    <a:pt x="3863" y="544"/>
                    <a:pt x="3944" y="523"/>
                  </a:cubicBezTo>
                  <a:cubicBezTo>
                    <a:pt x="4025" y="502"/>
                    <a:pt x="4121" y="474"/>
                    <a:pt x="4192" y="435"/>
                  </a:cubicBezTo>
                  <a:cubicBezTo>
                    <a:pt x="4263" y="396"/>
                    <a:pt x="4321" y="331"/>
                    <a:pt x="4368" y="291"/>
                  </a:cubicBezTo>
                  <a:cubicBezTo>
                    <a:pt x="4415" y="251"/>
                    <a:pt x="4439" y="240"/>
                    <a:pt x="4472" y="195"/>
                  </a:cubicBezTo>
                  <a:cubicBezTo>
                    <a:pt x="4505" y="150"/>
                    <a:pt x="4687" y="0"/>
                    <a:pt x="4568" y="19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7"/>
            <p:cNvSpPr/>
            <p:nvPr/>
          </p:nvSpPr>
          <p:spPr>
            <a:xfrm>
              <a:off x="1422360" y="1015920"/>
              <a:ext cx="7396200" cy="5232600"/>
            </a:xfrm>
            <a:custGeom>
              <a:avLst/>
              <a:gdLst/>
              <a:ahLst/>
              <a:rect l="l" t="t" r="r" b="b"/>
              <a:pathLst>
                <a:path w="4659" h="3296">
                  <a:moveTo>
                    <a:pt x="0" y="3296"/>
                  </a:moveTo>
                  <a:cubicBezTo>
                    <a:pt x="18" y="3232"/>
                    <a:pt x="36" y="3169"/>
                    <a:pt x="80" y="3120"/>
                  </a:cubicBezTo>
                  <a:cubicBezTo>
                    <a:pt x="124" y="3071"/>
                    <a:pt x="205" y="3028"/>
                    <a:pt x="264" y="3000"/>
                  </a:cubicBezTo>
                  <a:cubicBezTo>
                    <a:pt x="323" y="2972"/>
                    <a:pt x="347" y="2961"/>
                    <a:pt x="432" y="2952"/>
                  </a:cubicBezTo>
                  <a:cubicBezTo>
                    <a:pt x="517" y="2943"/>
                    <a:pt x="673" y="2948"/>
                    <a:pt x="776" y="2944"/>
                  </a:cubicBezTo>
                  <a:cubicBezTo>
                    <a:pt x="879" y="2940"/>
                    <a:pt x="968" y="2935"/>
                    <a:pt x="1048" y="2928"/>
                  </a:cubicBezTo>
                  <a:cubicBezTo>
                    <a:pt x="1128" y="2921"/>
                    <a:pt x="1181" y="2917"/>
                    <a:pt x="1256" y="2904"/>
                  </a:cubicBezTo>
                  <a:cubicBezTo>
                    <a:pt x="1331" y="2891"/>
                    <a:pt x="1416" y="2880"/>
                    <a:pt x="1496" y="2848"/>
                  </a:cubicBezTo>
                  <a:cubicBezTo>
                    <a:pt x="1576" y="2816"/>
                    <a:pt x="1657" y="2763"/>
                    <a:pt x="1736" y="2712"/>
                  </a:cubicBezTo>
                  <a:cubicBezTo>
                    <a:pt x="1815" y="2661"/>
                    <a:pt x="1893" y="2612"/>
                    <a:pt x="1968" y="2544"/>
                  </a:cubicBezTo>
                  <a:cubicBezTo>
                    <a:pt x="2043" y="2476"/>
                    <a:pt x="2091" y="2415"/>
                    <a:pt x="2184" y="2304"/>
                  </a:cubicBezTo>
                  <a:cubicBezTo>
                    <a:pt x="2277" y="2193"/>
                    <a:pt x="2432" y="2015"/>
                    <a:pt x="2528" y="1880"/>
                  </a:cubicBezTo>
                  <a:cubicBezTo>
                    <a:pt x="2624" y="1745"/>
                    <a:pt x="2683" y="1624"/>
                    <a:pt x="2760" y="1496"/>
                  </a:cubicBezTo>
                  <a:cubicBezTo>
                    <a:pt x="2837" y="1368"/>
                    <a:pt x="2929" y="1212"/>
                    <a:pt x="2992" y="1112"/>
                  </a:cubicBezTo>
                  <a:cubicBezTo>
                    <a:pt x="3055" y="1012"/>
                    <a:pt x="3092" y="957"/>
                    <a:pt x="3136" y="896"/>
                  </a:cubicBezTo>
                  <a:cubicBezTo>
                    <a:pt x="3180" y="835"/>
                    <a:pt x="3217" y="781"/>
                    <a:pt x="3256" y="744"/>
                  </a:cubicBezTo>
                  <a:cubicBezTo>
                    <a:pt x="3295" y="707"/>
                    <a:pt x="3324" y="697"/>
                    <a:pt x="3368" y="672"/>
                  </a:cubicBezTo>
                  <a:cubicBezTo>
                    <a:pt x="3412" y="647"/>
                    <a:pt x="3451" y="617"/>
                    <a:pt x="3520" y="592"/>
                  </a:cubicBezTo>
                  <a:cubicBezTo>
                    <a:pt x="3589" y="567"/>
                    <a:pt x="3708" y="537"/>
                    <a:pt x="3784" y="520"/>
                  </a:cubicBezTo>
                  <a:cubicBezTo>
                    <a:pt x="3860" y="503"/>
                    <a:pt x="3909" y="505"/>
                    <a:pt x="3976" y="488"/>
                  </a:cubicBezTo>
                  <a:cubicBezTo>
                    <a:pt x="4043" y="471"/>
                    <a:pt x="4127" y="447"/>
                    <a:pt x="4184" y="416"/>
                  </a:cubicBezTo>
                  <a:cubicBezTo>
                    <a:pt x="4241" y="385"/>
                    <a:pt x="4279" y="340"/>
                    <a:pt x="4320" y="304"/>
                  </a:cubicBezTo>
                  <a:cubicBezTo>
                    <a:pt x="4361" y="268"/>
                    <a:pt x="4399" y="236"/>
                    <a:pt x="4432" y="200"/>
                  </a:cubicBezTo>
                  <a:cubicBezTo>
                    <a:pt x="4465" y="164"/>
                    <a:pt x="4497" y="121"/>
                    <a:pt x="4520" y="88"/>
                  </a:cubicBezTo>
                  <a:cubicBezTo>
                    <a:pt x="4543" y="55"/>
                    <a:pt x="4659" y="20"/>
                    <a:pt x="4568" y="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8"/>
            <p:cNvSpPr/>
            <p:nvPr/>
          </p:nvSpPr>
          <p:spPr>
            <a:xfrm>
              <a:off x="1409760" y="984240"/>
              <a:ext cx="7238880" cy="5264280"/>
            </a:xfrm>
            <a:custGeom>
              <a:avLst/>
              <a:gdLst/>
              <a:ahLst/>
              <a:rect l="l" t="t" r="r" b="b"/>
              <a:pathLst>
                <a:path w="4560" h="3316">
                  <a:moveTo>
                    <a:pt x="0" y="3316"/>
                  </a:moveTo>
                  <a:cubicBezTo>
                    <a:pt x="18" y="3227"/>
                    <a:pt x="36" y="3139"/>
                    <a:pt x="56" y="3092"/>
                  </a:cubicBezTo>
                  <a:cubicBezTo>
                    <a:pt x="76" y="3045"/>
                    <a:pt x="85" y="3069"/>
                    <a:pt x="120" y="3036"/>
                  </a:cubicBezTo>
                  <a:cubicBezTo>
                    <a:pt x="155" y="3003"/>
                    <a:pt x="219" y="2927"/>
                    <a:pt x="264" y="2892"/>
                  </a:cubicBezTo>
                  <a:cubicBezTo>
                    <a:pt x="309" y="2857"/>
                    <a:pt x="344" y="2845"/>
                    <a:pt x="392" y="2828"/>
                  </a:cubicBezTo>
                  <a:cubicBezTo>
                    <a:pt x="440" y="2811"/>
                    <a:pt x="481" y="2800"/>
                    <a:pt x="552" y="2788"/>
                  </a:cubicBezTo>
                  <a:cubicBezTo>
                    <a:pt x="623" y="2776"/>
                    <a:pt x="732" y="2763"/>
                    <a:pt x="816" y="2756"/>
                  </a:cubicBezTo>
                  <a:cubicBezTo>
                    <a:pt x="900" y="2749"/>
                    <a:pt x="975" y="2755"/>
                    <a:pt x="1056" y="2748"/>
                  </a:cubicBezTo>
                  <a:cubicBezTo>
                    <a:pt x="1137" y="2741"/>
                    <a:pt x="1225" y="2733"/>
                    <a:pt x="1304" y="2716"/>
                  </a:cubicBezTo>
                  <a:cubicBezTo>
                    <a:pt x="1383" y="2699"/>
                    <a:pt x="1448" y="2685"/>
                    <a:pt x="1528" y="2644"/>
                  </a:cubicBezTo>
                  <a:cubicBezTo>
                    <a:pt x="1608" y="2603"/>
                    <a:pt x="1713" y="2520"/>
                    <a:pt x="1784" y="2468"/>
                  </a:cubicBezTo>
                  <a:cubicBezTo>
                    <a:pt x="1855" y="2416"/>
                    <a:pt x="1888" y="2393"/>
                    <a:pt x="1952" y="2332"/>
                  </a:cubicBezTo>
                  <a:cubicBezTo>
                    <a:pt x="2016" y="2271"/>
                    <a:pt x="2103" y="2176"/>
                    <a:pt x="2168" y="2100"/>
                  </a:cubicBezTo>
                  <a:cubicBezTo>
                    <a:pt x="2233" y="2024"/>
                    <a:pt x="2287" y="1952"/>
                    <a:pt x="2344" y="1876"/>
                  </a:cubicBezTo>
                  <a:cubicBezTo>
                    <a:pt x="2401" y="1800"/>
                    <a:pt x="2453" y="1732"/>
                    <a:pt x="2512" y="1644"/>
                  </a:cubicBezTo>
                  <a:cubicBezTo>
                    <a:pt x="2571" y="1556"/>
                    <a:pt x="2636" y="1433"/>
                    <a:pt x="2696" y="1348"/>
                  </a:cubicBezTo>
                  <a:cubicBezTo>
                    <a:pt x="2756" y="1263"/>
                    <a:pt x="2820" y="1191"/>
                    <a:pt x="2872" y="1132"/>
                  </a:cubicBezTo>
                  <a:cubicBezTo>
                    <a:pt x="2924" y="1073"/>
                    <a:pt x="2967" y="1041"/>
                    <a:pt x="3008" y="996"/>
                  </a:cubicBezTo>
                  <a:cubicBezTo>
                    <a:pt x="3049" y="951"/>
                    <a:pt x="3071" y="901"/>
                    <a:pt x="3120" y="860"/>
                  </a:cubicBezTo>
                  <a:cubicBezTo>
                    <a:pt x="3169" y="819"/>
                    <a:pt x="3251" y="781"/>
                    <a:pt x="3304" y="748"/>
                  </a:cubicBezTo>
                  <a:cubicBezTo>
                    <a:pt x="3357" y="715"/>
                    <a:pt x="3400" y="683"/>
                    <a:pt x="3440" y="660"/>
                  </a:cubicBezTo>
                  <a:cubicBezTo>
                    <a:pt x="3480" y="637"/>
                    <a:pt x="3503" y="625"/>
                    <a:pt x="3544" y="612"/>
                  </a:cubicBezTo>
                  <a:cubicBezTo>
                    <a:pt x="3585" y="599"/>
                    <a:pt x="3624" y="595"/>
                    <a:pt x="3688" y="580"/>
                  </a:cubicBezTo>
                  <a:cubicBezTo>
                    <a:pt x="3752" y="565"/>
                    <a:pt x="3859" y="544"/>
                    <a:pt x="3928" y="524"/>
                  </a:cubicBezTo>
                  <a:cubicBezTo>
                    <a:pt x="3997" y="504"/>
                    <a:pt x="4057" y="477"/>
                    <a:pt x="4104" y="460"/>
                  </a:cubicBezTo>
                  <a:cubicBezTo>
                    <a:pt x="4151" y="443"/>
                    <a:pt x="4167" y="444"/>
                    <a:pt x="4208" y="420"/>
                  </a:cubicBezTo>
                  <a:cubicBezTo>
                    <a:pt x="4249" y="396"/>
                    <a:pt x="4313" y="352"/>
                    <a:pt x="4352" y="316"/>
                  </a:cubicBezTo>
                  <a:cubicBezTo>
                    <a:pt x="4391" y="280"/>
                    <a:pt x="4413" y="240"/>
                    <a:pt x="4440" y="204"/>
                  </a:cubicBezTo>
                  <a:cubicBezTo>
                    <a:pt x="4467" y="168"/>
                    <a:pt x="4492" y="133"/>
                    <a:pt x="4512" y="100"/>
                  </a:cubicBezTo>
                  <a:cubicBezTo>
                    <a:pt x="4532" y="67"/>
                    <a:pt x="4512" y="0"/>
                    <a:pt x="4560" y="4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19"/>
            <p:cNvSpPr/>
            <p:nvPr/>
          </p:nvSpPr>
          <p:spPr>
            <a:xfrm flipV="1">
              <a:off x="888840" y="6244920"/>
              <a:ext cx="825516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20"/>
            <p:cNvSpPr/>
            <p:nvPr/>
          </p:nvSpPr>
          <p:spPr>
            <a:xfrm flipV="1">
              <a:off x="1422360" y="1244520"/>
              <a:ext cx="12600" cy="499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21"/>
            <p:cNvSpPr/>
            <p:nvPr/>
          </p:nvSpPr>
          <p:spPr>
            <a:xfrm>
              <a:off x="965160" y="1270080"/>
              <a:ext cx="469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22"/>
            <p:cNvSpPr/>
            <p:nvPr/>
          </p:nvSpPr>
          <p:spPr>
            <a:xfrm flipV="1">
              <a:off x="1949400" y="146952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23"/>
            <p:cNvSpPr/>
            <p:nvPr/>
          </p:nvSpPr>
          <p:spPr>
            <a:xfrm flipV="1">
              <a:off x="3344760" y="147744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24"/>
            <p:cNvSpPr/>
            <p:nvPr/>
          </p:nvSpPr>
          <p:spPr>
            <a:xfrm flipV="1">
              <a:off x="6000840" y="148068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25"/>
            <p:cNvSpPr/>
            <p:nvPr/>
          </p:nvSpPr>
          <p:spPr>
            <a:xfrm flipV="1">
              <a:off x="6721560" y="147744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26"/>
            <p:cNvSpPr/>
            <p:nvPr/>
          </p:nvSpPr>
          <p:spPr>
            <a:xfrm flipV="1">
              <a:off x="8191440" y="146952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27"/>
            <p:cNvSpPr/>
            <p:nvPr/>
          </p:nvSpPr>
          <p:spPr>
            <a:xfrm flipV="1">
              <a:off x="8951760" y="147924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5"/>
            <p:cNvSpPr/>
            <p:nvPr/>
          </p:nvSpPr>
          <p:spPr>
            <a:xfrm>
              <a:off x="3816360" y="1657440"/>
              <a:ext cx="1638360" cy="11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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29"/>
            <p:cNvSpPr/>
            <p:nvPr/>
          </p:nvSpPr>
          <p:spPr>
            <a:xfrm>
              <a:off x="8210520" y="800280"/>
              <a:ext cx="66672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30"/>
            <p:cNvSpPr/>
            <p:nvPr/>
          </p:nvSpPr>
          <p:spPr>
            <a:xfrm>
              <a:off x="4194000" y="6227640"/>
              <a:ext cx="201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ol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31"/>
            <p:cNvSpPr/>
            <p:nvPr/>
          </p:nvSpPr>
          <p:spPr>
            <a:xfrm rot="16200000">
              <a:off x="167400" y="3534120"/>
              <a:ext cx="201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ulse He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32"/>
            <p:cNvSpPr/>
            <p:nvPr/>
          </p:nvSpPr>
          <p:spPr>
            <a:xfrm>
              <a:off x="382680" y="6073920"/>
              <a:ext cx="65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 Box 33"/>
            <p:cNvSpPr/>
            <p:nvPr/>
          </p:nvSpPr>
          <p:spPr>
            <a:xfrm>
              <a:off x="378000" y="1103400"/>
              <a:ext cx="63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 Box 34"/>
            <p:cNvSpPr/>
            <p:nvPr/>
          </p:nvSpPr>
          <p:spPr>
            <a:xfrm rot="16200000">
              <a:off x="267480" y="3186720"/>
              <a:ext cx="278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combination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35"/>
            <p:cNvSpPr/>
            <p:nvPr/>
          </p:nvSpPr>
          <p:spPr>
            <a:xfrm rot="16200000">
              <a:off x="1148400" y="3196080"/>
              <a:ext cx="278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nization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36"/>
            <p:cNvSpPr/>
            <p:nvPr/>
          </p:nvSpPr>
          <p:spPr>
            <a:xfrm rot="16200000">
              <a:off x="3082680" y="3624120"/>
              <a:ext cx="17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portional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37"/>
            <p:cNvSpPr/>
            <p:nvPr/>
          </p:nvSpPr>
          <p:spPr>
            <a:xfrm rot="16200000">
              <a:off x="4717080" y="4407480"/>
              <a:ext cx="33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mited Proportional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38"/>
            <p:cNvSpPr/>
            <p:nvPr/>
          </p:nvSpPr>
          <p:spPr>
            <a:xfrm rot="16200000">
              <a:off x="5753520" y="3921840"/>
              <a:ext cx="33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iger-Mueller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39"/>
            <p:cNvSpPr/>
            <p:nvPr/>
          </p:nvSpPr>
          <p:spPr>
            <a:xfrm rot="16200000">
              <a:off x="6678360" y="3724200"/>
              <a:ext cx="375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tinuous Discharge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40"/>
            <p:cNvSpPr/>
            <p:nvPr/>
          </p:nvSpPr>
          <p:spPr>
            <a:xfrm>
              <a:off x="1527120" y="1427040"/>
              <a:ext cx="73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             2                           3                          4                5                 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6"/>
            <p:cNvSpPr/>
            <p:nvPr/>
          </p:nvSpPr>
          <p:spPr>
            <a:xfrm flipH="1">
              <a:off x="6810120" y="1171440"/>
              <a:ext cx="104760" cy="87660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4:16:58Z</dcterms:created>
  <dc:creator>SCANA USER</dc:creator>
  <dc:description/>
  <dc:language>en-US</dc:language>
  <cp:lastModifiedBy>Peggy Hines IRSC</cp:lastModifiedBy>
  <dcterms:modified xsi:type="dcterms:W3CDTF">2013-03-06T20:20:37Z</dcterms:modified>
  <cp:revision>181</cp:revision>
  <dc:subject/>
  <dc:title>Protection Against Radi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061033</vt:lpwstr>
  </property>
</Properties>
</file>