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17.jpeg" ContentType="image/jpeg"/>
  <Override PartName="/ppt/media/image23.wmf" ContentType="image/x-wmf"/>
  <Override PartName="/ppt/media/image6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.jpeg" ContentType="image/jpeg"/>
  <Override PartName="/ppt/media/image15.wmf" ContentType="image/x-wmf"/>
  <Override PartName="/ppt/media/image5.jpeg" ContentType="image/jpeg"/>
  <Override PartName="/ppt/media/image20.wmf" ContentType="image/x-wmf"/>
  <Override PartName="/ppt/media/image18.wmf" ContentType="image/x-wmf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dt" idx="55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 type="sldImg"/>
          </p:nvPr>
        </p:nvSpPr>
        <p:spPr>
          <a:xfrm>
            <a:off x="1136520" y="696600"/>
            <a:ext cx="4584960" cy="343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 type="ftr" idx="56"/>
          </p:nvPr>
        </p:nvSpPr>
        <p:spPr>
          <a:xfrm>
            <a:off x="-3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6"/>
          <p:cNvSpPr>
            <a:spLocks noGrp="1"/>
          </p:cNvSpPr>
          <p:nvPr>
            <p:ph type="sldNum" idx="57"/>
          </p:nvPr>
        </p:nvSpPr>
        <p:spPr>
          <a:xfrm>
            <a:off x="388584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74210-897E-4A4A-A6D5-F713A61D512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Slide Number Placeholder 3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FD282-9A83-4379-AE62-74191E7ABDA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30DD0-6D36-4011-AF15-7C0342DC2EC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0A70A-0111-4254-9846-2353CD8CA14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A718F-FE45-429D-B527-7E573343531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BA97E-2987-4D92-B91B-859B33C4C8B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1AD36-1B80-46CF-9A54-1CFF7DDAF27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559B6-C541-48CF-AF92-5692CD8A212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86801-FC12-4B27-909D-F9AE25B74C0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697BB-583B-415F-BA92-E0B8BC2B4A9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D580C-08FD-4991-B6FC-ABC8D44E956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79DEB-5999-40A2-8577-BD61464C3C1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the chamber is filled with gas (sometimes air) with a central electrode well insulated from the chamber wa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de - center electrode (positive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hode - chamber wall (negative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tential difference is applied between the wall and the central electrode to produce an electric field in the cha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A1F58-2E4B-4861-BB03-C1F0A009AD1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59D9B-3F60-4D57-BCCC-9C793C34C48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DC37A-89C2-4F12-8869-1D676D1CCFE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ionization is the process by which a neutral atom or molecule acq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res a negative or positive cha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ation causes ion pairs to be produced in the gas within the chamber (this is shown on the sli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ic field between the cathode and anode draws the ions toward the electro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74969-00A5-41F3-B686-76AF34F8E5B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sitive ions are drawn to the cath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gative ions are drawn to the an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ed at which the ions move toward the electrodes is a function of the field strength and the nature of the g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harge collects on the anode causing a voltage change in the circuit (pulse).  This pulse causes a current to flow in the internal meter circ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simple radiation dete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5332A-7E83-4214-A39D-EE155013D34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bring in the build which actually shows the gas amplification cur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y the draft game where there are four teams and each team has to draft players to make up the perfect team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he teams are made up, ask the class recall the names of the six regions of the gas amplification cur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points in the lesson plan will be covered by the various laminated pages for each of the reg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e game is played bring in the build (which shows the regions) and give them each a handout on which to capture the main points for each of the reg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each team to review their pages and allow participants to fill in their handout for each of the reg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9F519-A0C5-4EB7-B5A8-87B267A3390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7208F-0F50-4062-9B42-2799C81641D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B2F91-2424-40E9-8EE3-BA7FA3056A9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29AD9-AF53-4F24-82FE-9FAB96952C4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B372-373E-4BCA-ADFE-3F6B5482F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54B9-D27E-4309-A250-39B82A083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F0580D-C883-4ABC-91CD-1710BD6BD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E3C055-5335-45C4-BE59-EBE9991B8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B71C5C-E47B-4819-B8FB-63F586FCC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6A07F8-B705-47EF-96FD-929BE2C7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60BCE2-7E25-4CCA-813C-72B60A66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79717D-BB1E-4D7B-A42C-D33E8B30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862ED0-C5CA-425D-8DD0-92AD3C880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DA92D7-1638-48B2-AFE3-0AB9FD790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6CB1C3-2B38-44DD-BD0B-3FB9F21D0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810BB3-D371-4A0B-8B02-135312FAC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C3FE-C251-4788-B3F5-157A711C5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49DA18-C494-4B27-8E11-1C56DA6B3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D3764F-8D9D-4E50-8100-0AE6D9E6E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19B60C-3E21-4459-BBDC-00DA0F31F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E3F118-BA64-4BF2-B475-A1465938B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39EDDC-3FE4-4A42-9FD6-992C1CBD9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5BF00F-AF61-4782-8697-34387501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6D72C9-B0FC-4E2F-A5F3-942EC652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3DFC06-10A4-4049-BAF6-209E22F0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A8A1A4-6332-48EA-8319-43ACC36E5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1CDD30-6EF0-41E5-BA8D-2C89FCE1D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525A-574F-4C8B-A543-21944B102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D3F2C5-935A-41EF-8E08-BDA2BB4A3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A17B99-AB78-4AAC-AEBB-36BCFEF09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7A2DC9-8A8E-4E37-9D37-4EE5568F0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F1BB40-5FE7-4134-988C-D10B1DDEA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486CB8-EF81-461C-9717-8AA7B19A5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9F6E0E-B335-4BEB-BE38-A87A99AF4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828E71-155C-479A-9D90-CBD079DDD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F3CF72-CF4E-4173-A990-4FBB417F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CEE2CA-7876-4A93-9F5B-327DB3B0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923DF3-EB4D-4D60-848E-7109DE09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F751A-558A-4520-A074-FF0EB13F1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677C6F-1763-4027-8927-6BE7572C9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EF468C-03A6-458F-A232-40C51F45A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1C5673-E97D-4DC7-A4C6-BF06C5FDE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1DA4B4-980E-49EF-B969-46498AC33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1B4EAE-6877-47F9-AE90-694FB2362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5EBD89-8FDD-43A4-92C0-AA6978AFA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F71BF5-F205-44DE-800F-D3CBCB5A3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B5CF41-6D11-472F-AEB5-DAD81BE47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61BE19-002B-41D5-A465-A399D9333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9A93FF-503A-4FA8-914B-128626A6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81D75-C2AB-4300-91D2-611664FB3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498CFC-6EB6-4CC1-B139-DFF079E4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47030D-6FCF-4819-BE17-B77D4E1D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23CE27-73FB-4910-BBF4-04082A4E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3561EB-3B6F-4D90-9EC8-47B577AD8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646A20-7BB0-43A8-B985-8340AA4CC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98F2D4-E5C4-48DB-851D-DAE10CDC4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A30D65-B178-47D2-88B9-FB8D8CEF2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2253FD-E2C4-47BA-9A8B-44DF163EB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A45BB3-7838-488A-9C28-1BD5D854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12923A-096B-4EB1-986A-66CFE5A14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C11AB-B206-4859-9E1C-7666D8F43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652BE8-D2FE-49B5-AA42-FE890EC07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06FFD4-9F0E-4AE0-9914-F527FEF5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877AF3-41C0-491C-825A-491DF5AB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8CA1FB-99CE-4681-915E-68D24609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EF6283-92FF-4EF2-B484-2A3B8D00C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819F95-E463-404B-90E7-0DD2A3A19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DA725D-F3BB-4E6F-BFFF-895DD43B6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E57C28-A135-439C-B7A6-D915B3AB3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EAC723-7C9E-40BC-A5D1-4D53016CB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B98CDA-55A7-41F9-ACE0-F35D8CFAC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C7522-7A36-4F39-882A-0E93AB478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1A8458-4F09-484D-BF4C-0045772BC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1C6331-6182-4D6F-A0B6-29CBAB96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E0A511-03B3-4DD0-B3EE-99E59B15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540C1E-D1CC-4C0B-B7C0-BF166BA1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043241-A2FC-4997-B67A-FB516122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99B826-A150-445B-9719-042C6A85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EF8D14-B018-4ED1-953D-144975202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D77621-B991-4CDE-BC76-9DD182146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CA12AA-3B3E-4A58-B9A3-60C21F16A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ECFF2E-CCFF-4537-8D14-50A6A516B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31883-8A9C-4DAB-BBAA-FA8211499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F25861-14B9-4D38-9B15-D919A3F03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07B04F-100B-4FA8-A926-6EA39740F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7A238C-82F0-4920-9E6E-39C03A57B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9ECBC0-7158-4BED-AF1B-F2BBB70DE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A80959-B17D-49C7-AB9A-28BE85F66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12EE01-CF68-406A-8FC1-B6072245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6CAEB2-5596-49DE-9E31-7C10ADCA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6DEDCF-2D1C-4591-943D-B410E527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797EDF-2F18-4E16-A1CD-67C4082E7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8D6693-E00A-446D-8647-A30448629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5BA33-A702-4AFC-8EC5-B15233ADF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77F76A-B8E4-4306-BC5F-DD934FB65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61EFFB-D361-473B-9716-41FED4768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6CE4BD-B667-414F-9EDA-64CD89B26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DB0305-387E-4C2D-9255-2D29DAAB1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6AF0B3-0801-40B9-9480-FE3D0B5D6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9B4BC0-7D4F-4511-ACE5-FFEAAE90B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6E401C-4D3E-486B-BA58-49E708353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EC27F1-D31A-4C49-B2F2-24CDC529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E78102-E4AF-42CE-ACE1-D49C69CD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6A3054-81B0-4409-BB0C-3ACE56C4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1613E-B2DD-4329-BA08-77964C6D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F24187-7006-472A-A619-196749A04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AD5390-B85B-49BD-896C-71154C9DB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78F979-05E1-4903-AD7D-A56B42998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DA5A29-CA29-4842-865A-0E559F581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A4B2F1-5F25-463E-8113-C8354661E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C84CBF-1FAF-4D9B-A880-FD69C6F5D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3448BF-54BB-4D35-AA02-FAF5B25BD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65B533-77B1-4381-9F47-D9052F995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0A9F20-8CAA-4F13-ABA2-61D191726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815529-A97D-4C6B-AA9E-2592CF94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424C-800E-45BF-AC12-43C68ADB2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10528-F06E-43FB-8D3D-A567E770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728ECF-5994-498F-9E17-0F1CDB58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382134-744A-4C49-B05F-6B6ED2EA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F1FC75-113E-429F-84AD-354E3481A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152F1D-77FA-442A-9B58-73F208BA7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18B2E8-03E8-4E3E-9112-2E6A93759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9D8D50-96F6-4E7F-98EA-462BDF263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ABF221-CA67-478A-A0FE-43328CFB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96305E-7C1B-4453-8A10-49966B96B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2D7AE6-0160-42E6-8D9E-16E1236A1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FE335E-1AD1-4CF7-B706-DF4998CA8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DC817-856A-44F2-82D9-878315B5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DCE40E-3A04-49EF-A905-6A77BF625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4A1839-FA18-4A75-9D1C-381B4430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B02619-70BF-46EF-9AA3-FF4BC6F6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66C3DB-39B6-43B7-8648-AA8707EE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969E1E-CE8D-4087-93E5-91D6CF053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7E5751-B050-431C-AEE1-2E1B418E0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0A449C-FC02-42B5-A45D-359274A17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7DFF3-F054-4DFD-8C85-641F70772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C7C55-0A8A-403C-9C1C-1A0F8AC65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55A9E-57BD-4C22-B329-7CE4B0958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15D78-1D3C-4442-8BB4-35B873FFF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5AD3E-F5FB-41F9-9F55-458F57493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48C3E-F7C2-45E0-9847-0E20F5FC6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EF39A-48AC-4351-8BA9-193A82442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843AD-985E-481E-90BA-31D876D09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6891-9AD8-4092-8686-B34AE8C61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26A24-5E6C-447A-9B30-06CF9FFED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E6593-30DD-4A47-A685-4950A52F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C82E4-E93A-4DB2-8F7A-9162D109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517E3-7B72-48CB-ABBF-A182DCAC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38EAD-D8F6-4211-BF8E-920C57001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FBE29-5F01-4959-9B9E-0CCFBBB59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D9F62-536A-4836-9204-CA5C95585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FA422-77E4-48D5-AB2F-375E2A3D2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B4B40-2ABE-40B1-A396-F7CCD753E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E0920-8AB5-469A-B5C4-7BB89B7F4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B251-1206-4FF4-948E-8E9EA33CF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E1D6C-22F9-41D7-B130-096706439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37024-A511-4A74-A515-B59942BEB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493FA-CD53-44EE-B8F2-124EF559A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9F6F4-6850-4633-9C67-D2A9CC24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87361-BE95-434C-88A7-EA984641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04B4F-AE55-47F5-912A-FD7B3602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58994-5775-4D9F-A090-94A95F3C6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F777D-5927-4F50-AD25-E392F84C1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87040-042C-4BF6-805C-129B43FC1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7BB0B-2506-41FD-9D63-CF12B40F2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F0D8-A83F-48C8-8841-5AF23ED47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F9D7D-B5EB-4686-9AE0-6EB8E960C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9D86F-B0FF-4A25-91DB-165763764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842CE-2841-4881-A650-F19FC37CD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78CEB-B656-48EA-88B0-AC370C30E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D8CC6-1201-44F2-BBF7-28C3A87E2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213AD-48A1-408D-837A-7F18DECD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F1F0B-3EC5-43D0-A9C5-9F14D19E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5615F-4588-4AE0-B2D2-D60DA23C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8B961-F547-491A-91CD-04957213D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F98E0-A662-435B-B604-865038B26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D836-BF55-4482-BE03-3F2D09AC9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FDFDD-D17E-4761-9592-A5A1D11A1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6D734-304F-4CB9-B22D-F73ADADA1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B5129-F239-4CFB-B8A7-9E09F27F8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FF47E-2C7F-4110-83E9-48231E9D5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25382-BE01-4B04-B234-68A1A8494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9D179-1A86-47E1-934D-565A710C0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90D5B-A1B8-4C0A-AE9F-A4A2B5303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644D8-6274-44B5-B2F2-90399F6D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D90A98-1A3B-42E4-8CC8-E59060C5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01D26B-AE63-451E-BFE9-1AA79DFE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504C-7A2C-4C69-8990-C7DD4CC9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9E90B-6115-4B72-BFBE-CFBCF9069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CD980-7619-4378-A6CB-3B8BBC7B8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80EDF-9B3F-4AC7-B1D7-B2CC4504B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880D6-64FF-4146-97CF-00D815B3F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E1E0FD-EB53-4D30-89D2-B773D7274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AF8589-9D21-407A-B469-3576DDB4B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E3041-B245-4EEE-82EB-B59693FA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7D0E8-A41B-4DD1-AC7C-EDFE73B80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7F6635-9DB4-4B92-B03B-93B14A7F9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1BB54-DEB1-447C-ACF4-9F6CEA9E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FA54-29FD-4C4C-BA17-04BD5003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75550E-B059-41B3-9C47-59BA2B0C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73B0E-4909-4394-9227-F738057D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5CBE4A-4A62-45F8-B1B7-AF92CCA55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872D3-CC83-4975-8DCF-6789252CB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DE0C4C-800C-4318-9E06-15EB07F37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2538CB-508F-4526-82D0-3A1B275F9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060862-D2C6-41CC-8644-32ACDB9B0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F8E046-AF5A-42EF-AB4D-A55464643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33AE7C-4CA0-4504-82DC-82E5E602B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B9FF31-6DD2-42DE-9B8E-0170FE996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7653-D622-4D05-B096-6449614F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574A03-7CBE-47B1-B7D1-BF05DD023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4339A9-177B-450F-88C6-F2D2B789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D615F6-944E-4BDA-8747-7E4E6F75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36BF8-9E56-4FBD-81A4-8E428A63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CA5D90-1583-4615-BD7E-BCF54980A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0203E1-D90E-4BDE-A518-6693DE7D5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DAC6F2-5D08-4BC3-9340-8E4FE3249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C81FFB-8642-434E-9A57-89AB15ECE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C0EAA6-BBA1-447F-B36A-1A182EDAC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10C4BA-48C6-4F11-AC7C-32D23B2B9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5CA8E-7355-4C0A-84DA-7DDF5EE87A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E0BB6-94EB-4AB9-A227-911E8C4C52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8D3B-0D51-4ACE-AA99-C71DD9628D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D8C2F-DE4E-45BF-B8F6-98BD675978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672E3-D96A-46D0-B11B-4988F1E00E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9CD5B-DD84-4D1F-B9EA-9A77EA7A28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68AAB-47FD-4F0B-AA0F-A06D940168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9D3C2-5504-41B0-BD4F-EFB959F4D6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894C8-7C55-4734-A3FF-28E138718A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52133-F2CF-4A4F-BBBA-599E72790A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5EDE8-7A9D-4B68-8BDF-F0CCFD5C6B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RCNET.jpg"/>
          <p:cNvPicPr/>
          <p:nvPr/>
        </p:nvPicPr>
        <p:blipFill>
          <a:blip r:embed="rId5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IRSC_NSFPoster.jpg"/>
          <p:cNvPicPr/>
          <p:nvPr/>
        </p:nvPicPr>
        <p:blipFill>
          <a:blip r:embed="rId6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RCNET.jpg"/>
          <p:cNvPicPr/>
          <p:nvPr/>
        </p:nvPicPr>
        <p:blipFill>
          <a:blip r:embed="rId7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IRSC_NSFPoster.jpg"/>
          <p:cNvPicPr/>
          <p:nvPr/>
        </p:nvPicPr>
        <p:blipFill>
          <a:blip r:embed="rId8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59C8B-54E0-40E5-8C6F-17232F6106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RCNET.jpg"/>
          <p:cNvPicPr/>
          <p:nvPr/>
        </p:nvPicPr>
        <p:blipFill>
          <a:blip r:embed="rId5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IRSC_NSFPoster.jpg"/>
          <p:cNvPicPr/>
          <p:nvPr/>
        </p:nvPicPr>
        <p:blipFill>
          <a:blip r:embed="rId6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A7E3B-9180-492F-A2DE-E01882D347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RCNET.jpg"/>
          <p:cNvPicPr/>
          <p:nvPr/>
        </p:nvPicPr>
        <p:blipFill>
          <a:blip r:embed="rId5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IRSC_NSFPoster.jpg"/>
          <p:cNvPicPr/>
          <p:nvPr/>
        </p:nvPicPr>
        <p:blipFill>
          <a:blip r:embed="rId6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886AA-43B2-40FC-AAEE-D043BFAE4B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RCNET.jpg"/>
          <p:cNvPicPr/>
          <p:nvPr/>
        </p:nvPicPr>
        <p:blipFill>
          <a:blip r:embed="rId5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IRSC_NSFPoster.jpg"/>
          <p:cNvPicPr/>
          <p:nvPr/>
        </p:nvPicPr>
        <p:blipFill>
          <a:blip r:embed="rId6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2B9C0-9CC4-44E4-977C-F01A3CED86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8" descr="RCNET.jpg"/>
          <p:cNvPicPr/>
          <p:nvPr/>
        </p:nvPicPr>
        <p:blipFill>
          <a:blip r:embed="rId5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9" descr="IRSC_NSFPoster.jpg"/>
          <p:cNvPicPr/>
          <p:nvPr/>
        </p:nvPicPr>
        <p:blipFill>
          <a:blip r:embed="rId6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855DD-771B-4296-8025-CBA744E257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F8DBB-E869-4A31-9D76-B46674D289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D02E7-31C3-4D11-879B-A9A5F705B5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Rad%20Measurements%20Instrument%20Instructor%20Notes.docx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TextBox 1"/>
          <p:cNvSpPr/>
          <p:nvPr/>
        </p:nvSpPr>
        <p:spPr>
          <a:xfrm>
            <a:off x="152280" y="1219320"/>
            <a:ext cx="88394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ACADs (08-006)  Covered</a:t>
            </a: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Keywords</a:t>
            </a: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as-filled detector, ionization chamber, proportional detector, Geiger-Mueller detector scintillation detector, semiconductor, thermoluminescent detector, characteristics, operating principles, advantages, disadvantages.</a:t>
            </a:r>
            <a:endParaRPr b="0" lang="en-US" sz="16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escription</a:t>
            </a: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upporting Material</a:t>
            </a: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Rad Measurements Instrument Instructor Notes</a:t>
            </a: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772" name="Title 1" descr=""/>
          <p:cNvPicPr/>
          <p:nvPr/>
        </p:nvPicPr>
        <p:blipFill>
          <a:blip r:embed="rId2"/>
          <a:stretch/>
        </p:blipFill>
        <p:spPr>
          <a:xfrm>
            <a:off x="-195120" y="-66600"/>
            <a:ext cx="9339120" cy="1554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3" name=""/>
          <p:cNvGraphicFramePr/>
          <p:nvPr/>
        </p:nvGraphicFramePr>
        <p:xfrm>
          <a:off x="154080" y="2133720"/>
          <a:ext cx="8448480" cy="1249200"/>
        </p:xfrm>
        <a:graphic>
          <a:graphicData uri="http://schemas.openxmlformats.org/drawingml/2006/table">
            <a:tbl>
              <a:tblPr/>
              <a:tblGrid>
                <a:gridCol w="1133280"/>
                <a:gridCol w="1135080"/>
                <a:gridCol w="1455840"/>
                <a:gridCol w="1219320"/>
                <a:gridCol w="1143000"/>
                <a:gridCol w="1295280"/>
                <a:gridCol w="1066680"/>
              </a:tblGrid>
              <a:tr h="33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1.8.1.1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1.8.1.2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1.8.1.3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1.8.1.4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1.8.4.5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1.8.1.6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1.8.1.7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2.2.1.1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2.2.2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2.2.33.2.3.2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2.3.17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2.3.18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3.3.1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.4.3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.5.3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.5.6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.4.1.5a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.4.1.5b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.4.1.5c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.4.1.5d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.4.1.5e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Rectangle 2"/>
          <p:cNvSpPr/>
          <p:nvPr/>
        </p:nvSpPr>
        <p:spPr>
          <a:xfrm>
            <a:off x="914400" y="304920"/>
            <a:ext cx="74674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PCM-2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14" name="Rectangle 3"/>
          <p:cNvSpPr/>
          <p:nvPr/>
        </p:nvSpPr>
        <p:spPr>
          <a:xfrm>
            <a:off x="380880" y="5869080"/>
            <a:ext cx="85345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Gas Proportional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15" name="Picture 4" descr=""/>
          <p:cNvPicPr/>
          <p:nvPr/>
        </p:nvPicPr>
        <p:blipFill>
          <a:blip r:embed="rId1"/>
          <a:stretch/>
        </p:blipFill>
        <p:spPr>
          <a:xfrm>
            <a:off x="3352680" y="1219320"/>
            <a:ext cx="2614680" cy="47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2"/>
          <p:cNvSpPr/>
          <p:nvPr/>
        </p:nvSpPr>
        <p:spPr>
          <a:xfrm>
            <a:off x="1447920" y="304920"/>
            <a:ext cx="74674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PNR-4 &amp; Ludlum 12-4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17" name="Rectangle 3"/>
          <p:cNvSpPr/>
          <p:nvPr/>
        </p:nvSpPr>
        <p:spPr>
          <a:xfrm>
            <a:off x="1523880" y="5869080"/>
            <a:ext cx="58676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Gas Proportional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18" name="Picture 4" descr=""/>
          <p:cNvPicPr/>
          <p:nvPr/>
        </p:nvPicPr>
        <p:blipFill>
          <a:blip r:embed="rId1"/>
          <a:stretch/>
        </p:blipFill>
        <p:spPr>
          <a:xfrm>
            <a:off x="2498760" y="1295280"/>
            <a:ext cx="4067280" cy="46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2"/>
          <p:cNvSpPr/>
          <p:nvPr/>
        </p:nvSpPr>
        <p:spPr>
          <a:xfrm>
            <a:off x="990720" y="304920"/>
            <a:ext cx="69339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Ludlum 14C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20" name="Rectangle 3"/>
          <p:cNvSpPr/>
          <p:nvPr/>
        </p:nvSpPr>
        <p:spPr>
          <a:xfrm>
            <a:off x="2133720" y="5869080"/>
            <a:ext cx="5029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GM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21" name="Picture 4" descr=""/>
          <p:cNvPicPr/>
          <p:nvPr/>
        </p:nvPicPr>
        <p:blipFill>
          <a:blip r:embed="rId1"/>
          <a:stretch/>
        </p:blipFill>
        <p:spPr>
          <a:xfrm>
            <a:off x="2840040" y="1219320"/>
            <a:ext cx="3714840" cy="47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2"/>
          <p:cNvSpPr/>
          <p:nvPr/>
        </p:nvSpPr>
        <p:spPr>
          <a:xfrm>
            <a:off x="1447920" y="304920"/>
            <a:ext cx="74674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Ludlum 177 with pancake probe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23" name="Rectangle 3"/>
          <p:cNvSpPr/>
          <p:nvPr/>
        </p:nvSpPr>
        <p:spPr>
          <a:xfrm>
            <a:off x="1523880" y="5942160"/>
            <a:ext cx="58676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GM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24" name="Picture 4" descr=""/>
          <p:cNvPicPr/>
          <p:nvPr/>
        </p:nvPicPr>
        <p:blipFill>
          <a:blip r:embed="rId1"/>
          <a:stretch/>
        </p:blipFill>
        <p:spPr>
          <a:xfrm>
            <a:off x="3276720" y="2071800"/>
            <a:ext cx="2746080" cy="10411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5" descr=""/>
          <p:cNvPicPr/>
          <p:nvPr/>
        </p:nvPicPr>
        <p:blipFill>
          <a:blip r:embed="rId2"/>
          <a:stretch/>
        </p:blipFill>
        <p:spPr>
          <a:xfrm>
            <a:off x="2819520" y="2994120"/>
            <a:ext cx="42796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2"/>
          <p:cNvSpPr/>
          <p:nvPr/>
        </p:nvSpPr>
        <p:spPr>
          <a:xfrm>
            <a:off x="1447920" y="304920"/>
            <a:ext cx="74674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Ludlum 375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27" name="Rectangle 3"/>
          <p:cNvSpPr/>
          <p:nvPr/>
        </p:nvSpPr>
        <p:spPr>
          <a:xfrm>
            <a:off x="228600" y="5869080"/>
            <a:ext cx="87631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f81bd"/>
                </a:solidFill>
                <a:latin typeface="Times New Roman"/>
              </a:rPr>
              <a:t>GM</a:t>
            </a:r>
            <a:endParaRPr b="0" lang="en-US" sz="48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28" name="Picture 4" descr=""/>
          <p:cNvPicPr/>
          <p:nvPr/>
        </p:nvPicPr>
        <p:blipFill>
          <a:blip r:embed="rId1"/>
          <a:stretch/>
        </p:blipFill>
        <p:spPr>
          <a:xfrm>
            <a:off x="1839960" y="1371600"/>
            <a:ext cx="5792760" cy="43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2"/>
          <p:cNvSpPr/>
          <p:nvPr/>
        </p:nvSpPr>
        <p:spPr>
          <a:xfrm>
            <a:off x="1447920" y="304920"/>
            <a:ext cx="74674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Surveyor-50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30" name="Rectangle 3"/>
          <p:cNvSpPr/>
          <p:nvPr/>
        </p:nvSpPr>
        <p:spPr>
          <a:xfrm>
            <a:off x="1523880" y="5869080"/>
            <a:ext cx="68580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GM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31" name="Picture 4" descr=""/>
          <p:cNvPicPr/>
          <p:nvPr/>
        </p:nvPicPr>
        <p:blipFill>
          <a:blip r:embed="rId1"/>
          <a:stretch/>
        </p:blipFill>
        <p:spPr>
          <a:xfrm>
            <a:off x="2362320" y="1430280"/>
            <a:ext cx="5003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7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f81bd"/>
                </a:solidFill>
                <a:latin typeface="Calibri"/>
              </a:rPr>
              <a:t>Teletector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3" name="Picture 4" descr="http://www.volk-gmbh.de/IMAGES/949110-949114.jpg"/>
          <p:cNvPicPr/>
          <p:nvPr/>
        </p:nvPicPr>
        <p:blipFill>
          <a:blip r:embed="rId1"/>
          <a:stretch/>
        </p:blipFill>
        <p:spPr>
          <a:xfrm rot="17541600">
            <a:off x="2493720" y="247320"/>
            <a:ext cx="4500360" cy="6561000"/>
          </a:xfrm>
          <a:prstGeom prst="rect">
            <a:avLst/>
          </a:prstGeom>
          <a:ln w="0">
            <a:noFill/>
          </a:ln>
        </p:spPr>
      </p:pic>
      <p:sp>
        <p:nvSpPr>
          <p:cNvPr id="934" name="Text Box 7"/>
          <p:cNvSpPr/>
          <p:nvPr/>
        </p:nvSpPr>
        <p:spPr>
          <a:xfrm>
            <a:off x="0" y="59436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GM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Rectangle 2"/>
          <p:cNvSpPr/>
          <p:nvPr/>
        </p:nvSpPr>
        <p:spPr>
          <a:xfrm>
            <a:off x="1676520" y="304920"/>
            <a:ext cx="64008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Surveyor M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36" name="Rectangle 3"/>
          <p:cNvSpPr/>
          <p:nvPr/>
        </p:nvSpPr>
        <p:spPr>
          <a:xfrm>
            <a:off x="2133720" y="5792760"/>
            <a:ext cx="5029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Scintillation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37" name="Picture 4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6027480" cy="44863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5" descr=""/>
          <p:cNvPicPr/>
          <p:nvPr/>
        </p:nvPicPr>
        <p:blipFill>
          <a:blip r:embed="rId2"/>
          <a:stretch/>
        </p:blipFill>
        <p:spPr>
          <a:xfrm>
            <a:off x="6400800" y="685800"/>
            <a:ext cx="249408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2"/>
          <p:cNvSpPr/>
          <p:nvPr/>
        </p:nvSpPr>
        <p:spPr>
          <a:xfrm>
            <a:off x="1676520" y="304920"/>
            <a:ext cx="64008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Microanalyst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40" name="Rectangle 3"/>
          <p:cNvSpPr/>
          <p:nvPr/>
        </p:nvSpPr>
        <p:spPr>
          <a:xfrm>
            <a:off x="2133720" y="5792760"/>
            <a:ext cx="5029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Scintillation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41" name="Picture 4" descr=""/>
          <p:cNvPicPr/>
          <p:nvPr/>
        </p:nvPicPr>
        <p:blipFill>
          <a:blip r:embed="rId1"/>
          <a:stretch/>
        </p:blipFill>
        <p:spPr>
          <a:xfrm>
            <a:off x="2725560" y="1676520"/>
            <a:ext cx="4069080" cy="38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Rectangle 2"/>
          <p:cNvSpPr/>
          <p:nvPr/>
        </p:nvSpPr>
        <p:spPr>
          <a:xfrm>
            <a:off x="1447920" y="304920"/>
            <a:ext cx="74674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PM-7 (Portal Monitor)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43" name="Rectangle 3"/>
          <p:cNvSpPr/>
          <p:nvPr/>
        </p:nvSpPr>
        <p:spPr>
          <a:xfrm>
            <a:off x="2133720" y="5869080"/>
            <a:ext cx="5029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Scintillation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44" name="Picture 4" descr=""/>
          <p:cNvPicPr/>
          <p:nvPr/>
        </p:nvPicPr>
        <p:blipFill>
          <a:blip r:embed="rId1"/>
          <a:stretch/>
        </p:blipFill>
        <p:spPr>
          <a:xfrm>
            <a:off x="3279600" y="1143000"/>
            <a:ext cx="281484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2"/>
          <p:cNvSpPr/>
          <p:nvPr/>
        </p:nvSpPr>
        <p:spPr>
          <a:xfrm>
            <a:off x="1523880" y="32400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f497d"/>
                </a:solidFill>
                <a:latin typeface="Times New Roman"/>
              </a:rPr>
              <a:t>Simple Gas Filled Detector</a:t>
            </a:r>
            <a:endParaRPr b="0" lang="en-US" sz="4400" spc="-1" strike="noStrike">
              <a:solidFill>
                <a:srgbClr val="4f81bd"/>
              </a:solidFill>
              <a:latin typeface="Times New Roman"/>
            </a:endParaRPr>
          </a:p>
        </p:txBody>
      </p:sp>
      <p:grpSp>
        <p:nvGrpSpPr>
          <p:cNvPr id="775" name="Group 21"/>
          <p:cNvGrpSpPr/>
          <p:nvPr/>
        </p:nvGrpSpPr>
        <p:grpSpPr>
          <a:xfrm>
            <a:off x="1454040" y="2206800"/>
            <a:ext cx="6851880" cy="3889080"/>
            <a:chOff x="1454040" y="2206800"/>
            <a:chExt cx="6851880" cy="3889080"/>
          </a:xfrm>
        </p:grpSpPr>
        <p:grpSp>
          <p:nvGrpSpPr>
            <p:cNvPr id="776" name="Group 6"/>
            <p:cNvGrpSpPr/>
            <p:nvPr/>
          </p:nvGrpSpPr>
          <p:grpSpPr>
            <a:xfrm>
              <a:off x="2247840" y="2965320"/>
              <a:ext cx="4989600" cy="3130560"/>
              <a:chOff x="2247840" y="2965320"/>
              <a:chExt cx="4989600" cy="3130560"/>
            </a:xfrm>
          </p:grpSpPr>
          <p:sp>
            <p:nvSpPr>
              <p:cNvPr id="777" name="Line 3"/>
              <p:cNvSpPr/>
              <p:nvPr/>
            </p:nvSpPr>
            <p:spPr>
              <a:xfrm>
                <a:off x="2247840" y="3828960"/>
                <a:ext cx="0" cy="1295640"/>
              </a:xfrm>
              <a:prstGeom prst="line">
                <a:avLst/>
              </a:prstGeom>
              <a:ln w="255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  <p:sp>
            <p:nvSpPr>
              <p:cNvPr id="778" name="Line 4"/>
              <p:cNvSpPr/>
              <p:nvPr/>
            </p:nvSpPr>
            <p:spPr>
              <a:xfrm>
                <a:off x="2247840" y="6095880"/>
                <a:ext cx="4989600" cy="0"/>
              </a:xfrm>
              <a:prstGeom prst="line">
                <a:avLst/>
              </a:prstGeom>
              <a:ln w="255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  <p:sp>
            <p:nvSpPr>
              <p:cNvPr id="779" name="Line 5"/>
              <p:cNvSpPr/>
              <p:nvPr/>
            </p:nvSpPr>
            <p:spPr>
              <a:xfrm flipV="1">
                <a:off x="7237440" y="2965320"/>
                <a:ext cx="0" cy="1835280"/>
              </a:xfrm>
              <a:prstGeom prst="line">
                <a:avLst/>
              </a:prstGeom>
              <a:ln w="255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</p:grpSp>
        <p:sp>
          <p:nvSpPr>
            <p:cNvPr id="780" name="Line 7"/>
            <p:cNvSpPr/>
            <p:nvPr/>
          </p:nvSpPr>
          <p:spPr>
            <a:xfrm>
              <a:off x="2160720" y="5232240"/>
              <a:ext cx="17784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81" name="Line 8"/>
            <p:cNvSpPr/>
            <p:nvPr/>
          </p:nvSpPr>
          <p:spPr>
            <a:xfrm>
              <a:off x="2071800" y="5340240"/>
              <a:ext cx="35532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82" name="Line 9"/>
            <p:cNvSpPr/>
            <p:nvPr/>
          </p:nvSpPr>
          <p:spPr>
            <a:xfrm>
              <a:off x="2160720" y="5556240"/>
              <a:ext cx="17784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83" name="Line 10"/>
            <p:cNvSpPr/>
            <p:nvPr/>
          </p:nvSpPr>
          <p:spPr>
            <a:xfrm>
              <a:off x="2160720" y="5448240"/>
              <a:ext cx="17784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84" name="Line 11"/>
            <p:cNvSpPr/>
            <p:nvPr/>
          </p:nvSpPr>
          <p:spPr>
            <a:xfrm flipV="1">
              <a:off x="2247840" y="5663880"/>
              <a:ext cx="0" cy="43164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85" name="Freeform 12"/>
            <p:cNvSpPr/>
            <p:nvPr/>
          </p:nvSpPr>
          <p:spPr>
            <a:xfrm>
              <a:off x="7149960" y="4800600"/>
              <a:ext cx="182880" cy="64944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649440"/>
                <a:gd name="textAreaBottom" fmla="*/ 649800 h 649440"/>
              </a:gdLst>
              <a:ahLst/>
              <a:rect l="textAreaLeft" t="textAreaTop" r="textAreaRight" b="textAreaBottom"/>
              <a:pathLst>
                <a:path w="115" h="409">
                  <a:moveTo>
                    <a:pt x="55" y="0"/>
                  </a:moveTo>
                  <a:lnTo>
                    <a:pt x="88" y="60"/>
                  </a:lnTo>
                  <a:lnTo>
                    <a:pt x="114" y="76"/>
                  </a:lnTo>
                  <a:lnTo>
                    <a:pt x="88" y="121"/>
                  </a:lnTo>
                  <a:lnTo>
                    <a:pt x="50" y="136"/>
                  </a:lnTo>
                  <a:lnTo>
                    <a:pt x="25" y="167"/>
                  </a:lnTo>
                  <a:lnTo>
                    <a:pt x="0" y="196"/>
                  </a:lnTo>
                  <a:lnTo>
                    <a:pt x="25" y="228"/>
                  </a:lnTo>
                  <a:lnTo>
                    <a:pt x="63" y="242"/>
                  </a:lnTo>
                  <a:lnTo>
                    <a:pt x="88" y="273"/>
                  </a:lnTo>
                  <a:lnTo>
                    <a:pt x="50" y="303"/>
                  </a:lnTo>
                  <a:lnTo>
                    <a:pt x="37" y="334"/>
                  </a:lnTo>
                  <a:lnTo>
                    <a:pt x="0" y="364"/>
                  </a:lnTo>
                  <a:lnTo>
                    <a:pt x="25" y="379"/>
                  </a:lnTo>
                  <a:lnTo>
                    <a:pt x="63" y="393"/>
                  </a:lnTo>
                  <a:lnTo>
                    <a:pt x="55" y="408"/>
                  </a:lnTo>
                </a:path>
              </a:pathLst>
            </a:custGeom>
            <a:noFill/>
            <a:ln cap="rnd" w="255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86" name="Line 13"/>
            <p:cNvSpPr/>
            <p:nvPr/>
          </p:nvSpPr>
          <p:spPr>
            <a:xfrm>
              <a:off x="7237440" y="5448240"/>
              <a:ext cx="0" cy="64764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87" name="AutoShape 14"/>
            <p:cNvSpPr/>
            <p:nvPr/>
          </p:nvSpPr>
          <p:spPr>
            <a:xfrm>
              <a:off x="1454040" y="2324160"/>
              <a:ext cx="4886280" cy="1498680"/>
            </a:xfrm>
            <a:prstGeom prst="roundRect">
              <a:avLst>
                <a:gd name="adj" fmla="val 12486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88" name="Oval 15"/>
            <p:cNvSpPr/>
            <p:nvPr/>
          </p:nvSpPr>
          <p:spPr>
            <a:xfrm>
              <a:off x="5997600" y="2324160"/>
              <a:ext cx="520560" cy="1498680"/>
            </a:xfrm>
            <a:prstGeom prst="ellipse">
              <a:avLst/>
            </a:prstGeom>
            <a:solidFill>
              <a:srgbClr val="eeece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89" name="Line 16"/>
            <p:cNvSpPr/>
            <p:nvPr/>
          </p:nvSpPr>
          <p:spPr>
            <a:xfrm>
              <a:off x="2873520" y="2965320"/>
              <a:ext cx="5165640" cy="0"/>
            </a:xfrm>
            <a:prstGeom prst="line">
              <a:avLst/>
            </a:prstGeom>
            <a:ln w="507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90" name="Rectangle 17"/>
            <p:cNvSpPr/>
            <p:nvPr/>
          </p:nvSpPr>
          <p:spPr>
            <a:xfrm>
              <a:off x="3265200" y="2430360"/>
              <a:ext cx="1102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Times New Roman"/>
                </a:rPr>
                <a:t>Anode +</a:t>
              </a:r>
              <a:endParaRPr b="0" lang="en-US" sz="20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91" name="Rectangle 18"/>
            <p:cNvSpPr/>
            <p:nvPr/>
          </p:nvSpPr>
          <p:spPr>
            <a:xfrm>
              <a:off x="3265200" y="3338640"/>
              <a:ext cx="121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504d"/>
                  </a:solidFill>
                  <a:latin typeface="Times New Roman"/>
                </a:rPr>
                <a:t>Cathode</a:t>
              </a:r>
              <a:r>
                <a:rPr b="0" lang="en-US" sz="2400" spc="-1" strike="noStrike">
                  <a:solidFill>
                    <a:srgbClr val="c0504d"/>
                  </a:solidFill>
                  <a:latin typeface="Times New Roman"/>
                </a:rPr>
                <a:t> 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92" name="Rectangle 19"/>
            <p:cNvSpPr/>
            <p:nvPr/>
          </p:nvSpPr>
          <p:spPr>
            <a:xfrm>
              <a:off x="7133760" y="2206800"/>
              <a:ext cx="10216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o  meter </a:t>
              </a:r>
              <a:endParaRPr b="0" lang="en-US" sz="16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93" name="Line 20"/>
            <p:cNvSpPr/>
            <p:nvPr/>
          </p:nvSpPr>
          <p:spPr>
            <a:xfrm>
              <a:off x="7148520" y="2747880"/>
              <a:ext cx="11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Rectangle 2"/>
          <p:cNvSpPr/>
          <p:nvPr/>
        </p:nvSpPr>
        <p:spPr>
          <a:xfrm>
            <a:off x="1447920" y="304920"/>
            <a:ext cx="74674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SAM 11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46" name="Rectangle 3"/>
          <p:cNvSpPr/>
          <p:nvPr/>
        </p:nvSpPr>
        <p:spPr>
          <a:xfrm>
            <a:off x="1523880" y="5869080"/>
            <a:ext cx="68580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Scintillation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47" name="Picture 4" descr=""/>
          <p:cNvPicPr/>
          <p:nvPr/>
        </p:nvPicPr>
        <p:blipFill>
          <a:blip r:embed="rId1"/>
          <a:stretch/>
        </p:blipFill>
        <p:spPr>
          <a:xfrm>
            <a:off x="2590920" y="1343160"/>
            <a:ext cx="4454280" cy="46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Rectangle 2"/>
          <p:cNvSpPr/>
          <p:nvPr/>
        </p:nvSpPr>
        <p:spPr>
          <a:xfrm>
            <a:off x="1447920" y="304920"/>
            <a:ext cx="74674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ED (DMC 2000)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49" name="Rectangle 3"/>
          <p:cNvSpPr/>
          <p:nvPr/>
        </p:nvSpPr>
        <p:spPr>
          <a:xfrm>
            <a:off x="1523880" y="5869080"/>
            <a:ext cx="68580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Solid State Detector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50" name="Picture 4" descr=""/>
          <p:cNvPicPr/>
          <p:nvPr/>
        </p:nvPicPr>
        <p:blipFill>
          <a:blip r:embed="rId1"/>
          <a:stretch/>
        </p:blipFill>
        <p:spPr>
          <a:xfrm>
            <a:off x="2895480" y="1173240"/>
            <a:ext cx="3670560" cy="47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76320" y="299880"/>
            <a:ext cx="9145440" cy="10764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ctr">
            <a:noAutofit/>
          </a:bodyPr>
          <a:p>
            <a:pPr indent="0" algn="ctr">
              <a:buNone/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alibri"/>
              </a:rPr>
              <a:t>Simple Gas Filled Detector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5" name="Group 21"/>
          <p:cNvGrpSpPr/>
          <p:nvPr/>
        </p:nvGrpSpPr>
        <p:grpSpPr>
          <a:xfrm>
            <a:off x="1165320" y="2344680"/>
            <a:ext cx="6896160" cy="3230640"/>
            <a:chOff x="1165320" y="2344680"/>
            <a:chExt cx="6896160" cy="3230640"/>
          </a:xfrm>
        </p:grpSpPr>
        <p:grpSp>
          <p:nvGrpSpPr>
            <p:cNvPr id="796" name="Group 6"/>
            <p:cNvGrpSpPr/>
            <p:nvPr/>
          </p:nvGrpSpPr>
          <p:grpSpPr>
            <a:xfrm>
              <a:off x="1965240" y="2974680"/>
              <a:ext cx="5019840" cy="2600640"/>
              <a:chOff x="1965240" y="2974680"/>
              <a:chExt cx="5019840" cy="2600640"/>
            </a:xfrm>
          </p:grpSpPr>
          <p:sp>
            <p:nvSpPr>
              <p:cNvPr id="797" name="Line 3"/>
              <p:cNvSpPr/>
              <p:nvPr/>
            </p:nvSpPr>
            <p:spPr>
              <a:xfrm>
                <a:off x="1965240" y="3692520"/>
                <a:ext cx="0" cy="1076400"/>
              </a:xfrm>
              <a:prstGeom prst="line">
                <a:avLst/>
              </a:prstGeom>
              <a:ln w="255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  <p:sp>
            <p:nvSpPr>
              <p:cNvPr id="798" name="Line 4"/>
              <p:cNvSpPr/>
              <p:nvPr/>
            </p:nvSpPr>
            <p:spPr>
              <a:xfrm>
                <a:off x="1965240" y="5575320"/>
                <a:ext cx="5019840" cy="0"/>
              </a:xfrm>
              <a:prstGeom prst="line">
                <a:avLst/>
              </a:prstGeom>
              <a:ln w="255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  <p:sp>
            <p:nvSpPr>
              <p:cNvPr id="799" name="Line 5"/>
              <p:cNvSpPr/>
              <p:nvPr/>
            </p:nvSpPr>
            <p:spPr>
              <a:xfrm flipV="1">
                <a:off x="6985080" y="2974680"/>
                <a:ext cx="0" cy="1523880"/>
              </a:xfrm>
              <a:prstGeom prst="line">
                <a:avLst/>
              </a:prstGeom>
              <a:ln w="255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</p:grpSp>
        <p:sp>
          <p:nvSpPr>
            <p:cNvPr id="800" name="Line 7"/>
            <p:cNvSpPr/>
            <p:nvPr/>
          </p:nvSpPr>
          <p:spPr>
            <a:xfrm>
              <a:off x="1874880" y="4857840"/>
              <a:ext cx="17928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01" name="Line 8"/>
            <p:cNvSpPr/>
            <p:nvPr/>
          </p:nvSpPr>
          <p:spPr>
            <a:xfrm>
              <a:off x="1785960" y="4948200"/>
              <a:ext cx="35892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02" name="Line 9"/>
            <p:cNvSpPr/>
            <p:nvPr/>
          </p:nvSpPr>
          <p:spPr>
            <a:xfrm>
              <a:off x="1874880" y="5127480"/>
              <a:ext cx="17928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03" name="Line 10"/>
            <p:cNvSpPr/>
            <p:nvPr/>
          </p:nvSpPr>
          <p:spPr>
            <a:xfrm>
              <a:off x="1874880" y="5037120"/>
              <a:ext cx="17928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04" name="Line 11"/>
            <p:cNvSpPr/>
            <p:nvPr/>
          </p:nvSpPr>
          <p:spPr>
            <a:xfrm flipV="1">
              <a:off x="1965240" y="5216040"/>
              <a:ext cx="0" cy="35892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05" name="Freeform 12"/>
            <p:cNvSpPr/>
            <p:nvPr/>
          </p:nvSpPr>
          <p:spPr>
            <a:xfrm>
              <a:off x="6897600" y="4498920"/>
              <a:ext cx="184320" cy="53964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116" h="340">
                  <a:moveTo>
                    <a:pt x="55" y="0"/>
                  </a:moveTo>
                  <a:lnTo>
                    <a:pt x="88" y="50"/>
                  </a:lnTo>
                  <a:lnTo>
                    <a:pt x="115" y="63"/>
                  </a:lnTo>
                  <a:lnTo>
                    <a:pt x="88" y="101"/>
                  </a:lnTo>
                  <a:lnTo>
                    <a:pt x="50" y="113"/>
                  </a:lnTo>
                  <a:lnTo>
                    <a:pt x="26" y="138"/>
                  </a:lnTo>
                  <a:lnTo>
                    <a:pt x="0" y="163"/>
                  </a:lnTo>
                  <a:lnTo>
                    <a:pt x="26" y="189"/>
                  </a:lnTo>
                  <a:lnTo>
                    <a:pt x="64" y="201"/>
                  </a:lnTo>
                  <a:lnTo>
                    <a:pt x="88" y="227"/>
                  </a:lnTo>
                  <a:lnTo>
                    <a:pt x="50" y="251"/>
                  </a:lnTo>
                  <a:lnTo>
                    <a:pt x="37" y="277"/>
                  </a:lnTo>
                  <a:lnTo>
                    <a:pt x="0" y="302"/>
                  </a:lnTo>
                  <a:lnTo>
                    <a:pt x="26" y="315"/>
                  </a:lnTo>
                  <a:lnTo>
                    <a:pt x="64" y="327"/>
                  </a:lnTo>
                  <a:lnTo>
                    <a:pt x="55" y="339"/>
                  </a:lnTo>
                </a:path>
              </a:pathLst>
            </a:custGeom>
            <a:noFill/>
            <a:ln cap="rnd" w="255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06" name="Line 13"/>
            <p:cNvSpPr/>
            <p:nvPr/>
          </p:nvSpPr>
          <p:spPr>
            <a:xfrm>
              <a:off x="6985080" y="5035680"/>
              <a:ext cx="0" cy="53964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07" name="AutoShape 14"/>
            <p:cNvSpPr/>
            <p:nvPr/>
          </p:nvSpPr>
          <p:spPr>
            <a:xfrm>
              <a:off x="1165320" y="2443320"/>
              <a:ext cx="4917960" cy="1242720"/>
            </a:xfrm>
            <a:prstGeom prst="roundRect">
              <a:avLst>
                <a:gd name="adj" fmla="val 12486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08" name="Oval 15"/>
            <p:cNvSpPr/>
            <p:nvPr/>
          </p:nvSpPr>
          <p:spPr>
            <a:xfrm>
              <a:off x="5737320" y="2443320"/>
              <a:ext cx="525240" cy="1242720"/>
            </a:xfrm>
            <a:prstGeom prst="ellipse">
              <a:avLst/>
            </a:prstGeom>
            <a:solidFill>
              <a:srgbClr val="eeece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09" name="Line 16"/>
            <p:cNvSpPr/>
            <p:nvPr/>
          </p:nvSpPr>
          <p:spPr>
            <a:xfrm>
              <a:off x="2592360" y="2975040"/>
              <a:ext cx="5200560" cy="0"/>
            </a:xfrm>
            <a:prstGeom prst="line">
              <a:avLst/>
            </a:prstGeom>
            <a:ln w="507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10" name="Rectangle 17"/>
            <p:cNvSpPr/>
            <p:nvPr/>
          </p:nvSpPr>
          <p:spPr>
            <a:xfrm>
              <a:off x="2990520" y="2532240"/>
              <a:ext cx="106272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imes New Roman"/>
                </a:rPr>
                <a:t>Anode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11" name="Rectangle 18"/>
            <p:cNvSpPr/>
            <p:nvPr/>
          </p:nvSpPr>
          <p:spPr>
            <a:xfrm>
              <a:off x="2990880" y="3284640"/>
              <a:ext cx="160812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800" spc="-1" strike="noStrike">
                  <a:solidFill>
                    <a:srgbClr val="c0504d"/>
                  </a:solidFill>
                  <a:latin typeface="Times New Roman"/>
                </a:rPr>
                <a:t>Cathode -</a:t>
              </a:r>
              <a:endParaRPr b="0" lang="en-US" sz="28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12" name="Rectangle 19"/>
            <p:cNvSpPr/>
            <p:nvPr/>
          </p:nvSpPr>
          <p:spPr>
            <a:xfrm>
              <a:off x="6877800" y="2344680"/>
              <a:ext cx="1155600" cy="3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To meter </a:t>
              </a:r>
              <a:endParaRPr b="0" lang="en-US" sz="19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13" name="Line 20"/>
            <p:cNvSpPr/>
            <p:nvPr/>
          </p:nvSpPr>
          <p:spPr>
            <a:xfrm>
              <a:off x="6896160" y="2795760"/>
              <a:ext cx="1165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</p:grpSp>
      <p:sp>
        <p:nvSpPr>
          <p:cNvPr id="814" name="Rectangle 22"/>
          <p:cNvSpPr/>
          <p:nvPr/>
        </p:nvSpPr>
        <p:spPr>
          <a:xfrm>
            <a:off x="6384960" y="6208560"/>
            <a:ext cx="2241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grpSp>
        <p:nvGrpSpPr>
          <p:cNvPr id="815" name="Group 25"/>
          <p:cNvGrpSpPr/>
          <p:nvPr/>
        </p:nvGrpSpPr>
        <p:grpSpPr>
          <a:xfrm>
            <a:off x="2543760" y="2940120"/>
            <a:ext cx="474840" cy="839880"/>
            <a:chOff x="2543760" y="2940120"/>
            <a:chExt cx="474840" cy="839880"/>
          </a:xfrm>
        </p:grpSpPr>
        <p:sp>
          <p:nvSpPr>
            <p:cNvPr id="816" name="Rectangle 23"/>
            <p:cNvSpPr/>
            <p:nvPr/>
          </p:nvSpPr>
          <p:spPr>
            <a:xfrm>
              <a:off x="2543760" y="302904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17" name="Rectangle 24"/>
            <p:cNvSpPr/>
            <p:nvPr/>
          </p:nvSpPr>
          <p:spPr>
            <a:xfrm>
              <a:off x="2629800" y="2940120"/>
              <a:ext cx="388800" cy="8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</p:grpSp>
      <p:grpSp>
        <p:nvGrpSpPr>
          <p:cNvPr id="818" name="Group 28"/>
          <p:cNvGrpSpPr/>
          <p:nvPr/>
        </p:nvGrpSpPr>
        <p:grpSpPr>
          <a:xfrm>
            <a:off x="4893120" y="2940120"/>
            <a:ext cx="652680" cy="839880"/>
            <a:chOff x="4893120" y="2940120"/>
            <a:chExt cx="652680" cy="839880"/>
          </a:xfrm>
        </p:grpSpPr>
        <p:sp>
          <p:nvSpPr>
            <p:cNvPr id="819" name="Rectangle 26"/>
            <p:cNvSpPr/>
            <p:nvPr/>
          </p:nvSpPr>
          <p:spPr>
            <a:xfrm>
              <a:off x="4893120" y="329868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20" name="Rectangle 27"/>
            <p:cNvSpPr/>
            <p:nvPr/>
          </p:nvSpPr>
          <p:spPr>
            <a:xfrm>
              <a:off x="5157000" y="2940120"/>
              <a:ext cx="388800" cy="8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</p:grpSp>
      <p:grpSp>
        <p:nvGrpSpPr>
          <p:cNvPr id="821" name="Group 31"/>
          <p:cNvGrpSpPr/>
          <p:nvPr/>
        </p:nvGrpSpPr>
        <p:grpSpPr>
          <a:xfrm>
            <a:off x="2910240" y="2781360"/>
            <a:ext cx="654480" cy="921600"/>
            <a:chOff x="2910240" y="2781360"/>
            <a:chExt cx="654480" cy="921600"/>
          </a:xfrm>
        </p:grpSpPr>
        <p:sp>
          <p:nvSpPr>
            <p:cNvPr id="822" name="Rectangle 29"/>
            <p:cNvSpPr/>
            <p:nvPr/>
          </p:nvSpPr>
          <p:spPr>
            <a:xfrm>
              <a:off x="2910240" y="322884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23" name="Rectangle 30"/>
            <p:cNvSpPr/>
            <p:nvPr/>
          </p:nvSpPr>
          <p:spPr>
            <a:xfrm>
              <a:off x="3175920" y="2781360"/>
              <a:ext cx="388800" cy="8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</p:grpSp>
      <p:grpSp>
        <p:nvGrpSpPr>
          <p:cNvPr id="824" name="Group 34"/>
          <p:cNvGrpSpPr/>
          <p:nvPr/>
        </p:nvGrpSpPr>
        <p:grpSpPr>
          <a:xfrm>
            <a:off x="1767240" y="3016080"/>
            <a:ext cx="654480" cy="839880"/>
            <a:chOff x="1767240" y="3016080"/>
            <a:chExt cx="654480" cy="839880"/>
          </a:xfrm>
        </p:grpSpPr>
        <p:sp>
          <p:nvSpPr>
            <p:cNvPr id="825" name="Rectangle 32"/>
            <p:cNvSpPr/>
            <p:nvPr/>
          </p:nvSpPr>
          <p:spPr>
            <a:xfrm>
              <a:off x="1767240" y="319572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26" name="Rectangle 33"/>
            <p:cNvSpPr/>
            <p:nvPr/>
          </p:nvSpPr>
          <p:spPr>
            <a:xfrm>
              <a:off x="2032920" y="3016080"/>
              <a:ext cx="388800" cy="8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</p:grpSp>
      <p:grpSp>
        <p:nvGrpSpPr>
          <p:cNvPr id="827" name="Group 37"/>
          <p:cNvGrpSpPr/>
          <p:nvPr/>
        </p:nvGrpSpPr>
        <p:grpSpPr>
          <a:xfrm>
            <a:off x="2080080" y="2482920"/>
            <a:ext cx="563760" cy="839880"/>
            <a:chOff x="2080080" y="2482920"/>
            <a:chExt cx="563760" cy="839880"/>
          </a:xfrm>
        </p:grpSpPr>
        <p:sp>
          <p:nvSpPr>
            <p:cNvPr id="828" name="Rectangle 35"/>
            <p:cNvSpPr/>
            <p:nvPr/>
          </p:nvSpPr>
          <p:spPr>
            <a:xfrm>
              <a:off x="2080080" y="266220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29" name="Rectangle 36"/>
            <p:cNvSpPr/>
            <p:nvPr/>
          </p:nvSpPr>
          <p:spPr>
            <a:xfrm>
              <a:off x="2255040" y="2482920"/>
              <a:ext cx="388800" cy="8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</p:grpSp>
      <p:grpSp>
        <p:nvGrpSpPr>
          <p:cNvPr id="830" name="Group 40"/>
          <p:cNvGrpSpPr/>
          <p:nvPr/>
        </p:nvGrpSpPr>
        <p:grpSpPr>
          <a:xfrm>
            <a:off x="3985200" y="2787480"/>
            <a:ext cx="563760" cy="839880"/>
            <a:chOff x="3985200" y="2787480"/>
            <a:chExt cx="563760" cy="839880"/>
          </a:xfrm>
        </p:grpSpPr>
        <p:sp>
          <p:nvSpPr>
            <p:cNvPr id="831" name="Rectangle 38"/>
            <p:cNvSpPr/>
            <p:nvPr/>
          </p:nvSpPr>
          <p:spPr>
            <a:xfrm>
              <a:off x="3985200" y="314640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32" name="Rectangle 39"/>
            <p:cNvSpPr/>
            <p:nvPr/>
          </p:nvSpPr>
          <p:spPr>
            <a:xfrm>
              <a:off x="4160160" y="2787480"/>
              <a:ext cx="388800" cy="8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</p:grpSp>
      <p:grpSp>
        <p:nvGrpSpPr>
          <p:cNvPr id="833" name="Group 50"/>
          <p:cNvGrpSpPr/>
          <p:nvPr/>
        </p:nvGrpSpPr>
        <p:grpSpPr>
          <a:xfrm>
            <a:off x="940680" y="942840"/>
            <a:ext cx="6486480" cy="4089600"/>
            <a:chOff x="940680" y="942840"/>
            <a:chExt cx="6486480" cy="4089600"/>
          </a:xfrm>
        </p:grpSpPr>
        <p:grpSp>
          <p:nvGrpSpPr>
            <p:cNvPr id="834" name="Group 43"/>
            <p:cNvGrpSpPr/>
            <p:nvPr/>
          </p:nvGrpSpPr>
          <p:grpSpPr>
            <a:xfrm>
              <a:off x="940680" y="1211400"/>
              <a:ext cx="765720" cy="1936440"/>
              <a:chOff x="940680" y="1211400"/>
              <a:chExt cx="765720" cy="1936440"/>
            </a:xfrm>
          </p:grpSpPr>
          <p:sp>
            <p:nvSpPr>
              <p:cNvPr id="835" name="Freeform 41"/>
              <p:cNvSpPr/>
              <p:nvPr/>
            </p:nvSpPr>
            <p:spPr>
              <a:xfrm>
                <a:off x="1324080" y="1265400"/>
                <a:ext cx="382320" cy="1882440"/>
              </a:xfrm>
              <a:custGeom>
                <a:avLst/>
                <a:gdLst>
                  <a:gd name="textAreaLeft" fmla="*/ 0 w 382320"/>
                  <a:gd name="textAreaRight" fmla="*/ 382680 w 382320"/>
                  <a:gd name="textAreaTop" fmla="*/ 0 h 1882440"/>
                  <a:gd name="textAreaBottom" fmla="*/ 1882800 h 1882440"/>
                </a:gdLst>
                <a:ahLst/>
                <a:rect l="textAreaLeft" t="textAreaTop" r="textAreaRight" b="textAreaBottom"/>
                <a:pathLst>
                  <a:path w="241" h="1186">
                    <a:moveTo>
                      <a:pt x="0" y="0"/>
                    </a:moveTo>
                    <a:lnTo>
                      <a:pt x="0" y="56"/>
                    </a:lnTo>
                    <a:lnTo>
                      <a:pt x="0" y="98"/>
                    </a:lnTo>
                    <a:lnTo>
                      <a:pt x="0" y="155"/>
                    </a:lnTo>
                    <a:lnTo>
                      <a:pt x="42" y="211"/>
                    </a:lnTo>
                    <a:lnTo>
                      <a:pt x="42" y="253"/>
                    </a:lnTo>
                    <a:lnTo>
                      <a:pt x="42" y="296"/>
                    </a:lnTo>
                    <a:lnTo>
                      <a:pt x="42" y="338"/>
                    </a:lnTo>
                    <a:lnTo>
                      <a:pt x="127" y="395"/>
                    </a:lnTo>
                    <a:lnTo>
                      <a:pt x="211" y="423"/>
                    </a:lnTo>
                    <a:lnTo>
                      <a:pt x="211" y="465"/>
                    </a:lnTo>
                    <a:lnTo>
                      <a:pt x="197" y="507"/>
                    </a:lnTo>
                    <a:lnTo>
                      <a:pt x="197" y="550"/>
                    </a:lnTo>
                    <a:lnTo>
                      <a:pt x="197" y="592"/>
                    </a:lnTo>
                    <a:lnTo>
                      <a:pt x="197" y="648"/>
                    </a:lnTo>
                    <a:lnTo>
                      <a:pt x="197" y="747"/>
                    </a:lnTo>
                    <a:lnTo>
                      <a:pt x="197" y="804"/>
                    </a:lnTo>
                    <a:lnTo>
                      <a:pt x="183" y="860"/>
                    </a:lnTo>
                    <a:lnTo>
                      <a:pt x="225" y="916"/>
                    </a:lnTo>
                    <a:lnTo>
                      <a:pt x="225" y="959"/>
                    </a:lnTo>
                    <a:lnTo>
                      <a:pt x="225" y="1001"/>
                    </a:lnTo>
                    <a:lnTo>
                      <a:pt x="240" y="1058"/>
                    </a:lnTo>
                    <a:lnTo>
                      <a:pt x="240" y="1100"/>
                    </a:lnTo>
                    <a:lnTo>
                      <a:pt x="240" y="1142"/>
                    </a:lnTo>
                    <a:lnTo>
                      <a:pt x="240" y="1185"/>
                    </a:lnTo>
                    <a:lnTo>
                      <a:pt x="225" y="1185"/>
                    </a:lnTo>
                  </a:path>
                </a:pathLst>
              </a:custGeom>
              <a:noFill/>
              <a:ln cap="rnd" w="50760">
                <a:solidFill>
                  <a:srgbClr val="4f81bd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  <p:sp>
            <p:nvSpPr>
              <p:cNvPr id="836" name="Rectangle 42"/>
              <p:cNvSpPr/>
              <p:nvPr/>
            </p:nvSpPr>
            <p:spPr>
              <a:xfrm>
                <a:off x="940680" y="1211400"/>
                <a:ext cx="390600" cy="47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8000" rIns="108000" tIns="54000" bIns="54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266840"/>
                    <a:tab algn="l" pos="2533680"/>
                    <a:tab algn="l" pos="3800520"/>
                    <a:tab algn="l" pos="5067360"/>
                    <a:tab algn="l" pos="6334200"/>
                    <a:tab algn="l" pos="7601040"/>
                    <a:tab algn="l" pos="8867880"/>
                    <a:tab algn="l" pos="1013472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entury Gothic"/>
                  </a:rPr>
                  <a:t>y</a:t>
                </a: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</p:grpSp>
        <p:grpSp>
          <p:nvGrpSpPr>
            <p:cNvPr id="837" name="Group 46"/>
            <p:cNvGrpSpPr/>
            <p:nvPr/>
          </p:nvGrpSpPr>
          <p:grpSpPr>
            <a:xfrm>
              <a:off x="3720960" y="1481040"/>
              <a:ext cx="763560" cy="2117880"/>
              <a:chOff x="3720960" y="1481040"/>
              <a:chExt cx="763560" cy="2117880"/>
            </a:xfrm>
          </p:grpSpPr>
          <p:sp>
            <p:nvSpPr>
              <p:cNvPr id="838" name="Freeform 44"/>
              <p:cNvSpPr/>
              <p:nvPr/>
            </p:nvSpPr>
            <p:spPr>
              <a:xfrm>
                <a:off x="3720960" y="1714680"/>
                <a:ext cx="763560" cy="188424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884240"/>
                  <a:gd name="textAreaBottom" fmla="*/ 1884600 h 1884240"/>
                </a:gdLst>
                <a:ahLst/>
                <a:rect l="textAreaLeft" t="textAreaTop" r="textAreaRight" b="textAreaBottom"/>
                <a:pathLst>
                  <a:path w="481" h="1187">
                    <a:moveTo>
                      <a:pt x="465" y="0"/>
                    </a:moveTo>
                    <a:lnTo>
                      <a:pt x="480" y="56"/>
                    </a:lnTo>
                    <a:lnTo>
                      <a:pt x="480" y="98"/>
                    </a:lnTo>
                    <a:lnTo>
                      <a:pt x="465" y="197"/>
                    </a:lnTo>
                    <a:lnTo>
                      <a:pt x="451" y="282"/>
                    </a:lnTo>
                    <a:lnTo>
                      <a:pt x="367" y="310"/>
                    </a:lnTo>
                    <a:lnTo>
                      <a:pt x="338" y="352"/>
                    </a:lnTo>
                    <a:lnTo>
                      <a:pt x="324" y="437"/>
                    </a:lnTo>
                    <a:lnTo>
                      <a:pt x="338" y="550"/>
                    </a:lnTo>
                    <a:lnTo>
                      <a:pt x="367" y="635"/>
                    </a:lnTo>
                    <a:lnTo>
                      <a:pt x="381" y="677"/>
                    </a:lnTo>
                    <a:lnTo>
                      <a:pt x="381" y="720"/>
                    </a:lnTo>
                    <a:lnTo>
                      <a:pt x="352" y="762"/>
                    </a:lnTo>
                    <a:lnTo>
                      <a:pt x="338" y="804"/>
                    </a:lnTo>
                    <a:lnTo>
                      <a:pt x="296" y="847"/>
                    </a:lnTo>
                    <a:lnTo>
                      <a:pt x="183" y="960"/>
                    </a:lnTo>
                    <a:lnTo>
                      <a:pt x="169" y="1044"/>
                    </a:lnTo>
                    <a:lnTo>
                      <a:pt x="141" y="1101"/>
                    </a:lnTo>
                    <a:lnTo>
                      <a:pt x="42" y="1143"/>
                    </a:lnTo>
                    <a:lnTo>
                      <a:pt x="0" y="1157"/>
                    </a:lnTo>
                    <a:lnTo>
                      <a:pt x="14" y="1186"/>
                    </a:lnTo>
                  </a:path>
                </a:pathLst>
              </a:custGeom>
              <a:noFill/>
              <a:ln cap="rnd" w="50760">
                <a:solidFill>
                  <a:srgbClr val="4f81bd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  <p:sp>
            <p:nvSpPr>
              <p:cNvPr id="839" name="Rectangle 45"/>
              <p:cNvSpPr/>
              <p:nvPr/>
            </p:nvSpPr>
            <p:spPr>
              <a:xfrm>
                <a:off x="4079160" y="1481040"/>
                <a:ext cx="390600" cy="47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8000" rIns="108000" tIns="54000" bIns="54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266840"/>
                    <a:tab algn="l" pos="2533680"/>
                    <a:tab algn="l" pos="3800520"/>
                    <a:tab algn="l" pos="5067360"/>
                    <a:tab algn="l" pos="6334200"/>
                    <a:tab algn="l" pos="7601040"/>
                    <a:tab algn="l" pos="8867880"/>
                    <a:tab algn="l" pos="1013472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entury Gothic"/>
                  </a:rPr>
                  <a:t>y</a:t>
                </a: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</p:grpSp>
        <p:grpSp>
          <p:nvGrpSpPr>
            <p:cNvPr id="840" name="Group 49"/>
            <p:cNvGrpSpPr/>
            <p:nvPr/>
          </p:nvGrpSpPr>
          <p:grpSpPr>
            <a:xfrm>
              <a:off x="2755800" y="942840"/>
              <a:ext cx="4671360" cy="4089600"/>
              <a:chOff x="2755800" y="942840"/>
              <a:chExt cx="4671360" cy="4089600"/>
            </a:xfrm>
          </p:grpSpPr>
          <p:sp>
            <p:nvSpPr>
              <p:cNvPr id="841" name="Freeform 47"/>
              <p:cNvSpPr/>
              <p:nvPr/>
            </p:nvSpPr>
            <p:spPr>
              <a:xfrm>
                <a:off x="2755800" y="1265400"/>
                <a:ext cx="4665600" cy="3767040"/>
              </a:xfrm>
              <a:custGeom>
                <a:avLst/>
                <a:gdLst>
                  <a:gd name="textAreaLeft" fmla="*/ 0 w 4665600"/>
                  <a:gd name="textAreaRight" fmla="*/ 4665960 w 4665600"/>
                  <a:gd name="textAreaTop" fmla="*/ 0 h 3767040"/>
                  <a:gd name="textAreaBottom" fmla="*/ 3767400 h 3767040"/>
                </a:gdLst>
                <a:ahLst/>
                <a:rect l="textAreaLeft" t="textAreaTop" r="textAreaRight" b="textAreaBottom"/>
                <a:pathLst>
                  <a:path w="2939" h="2373">
                    <a:moveTo>
                      <a:pt x="2938" y="0"/>
                    </a:moveTo>
                    <a:lnTo>
                      <a:pt x="2853" y="42"/>
                    </a:lnTo>
                    <a:lnTo>
                      <a:pt x="2768" y="56"/>
                    </a:lnTo>
                    <a:lnTo>
                      <a:pt x="2712" y="70"/>
                    </a:lnTo>
                    <a:lnTo>
                      <a:pt x="2613" y="70"/>
                    </a:lnTo>
                    <a:lnTo>
                      <a:pt x="2500" y="98"/>
                    </a:lnTo>
                    <a:lnTo>
                      <a:pt x="2457" y="141"/>
                    </a:lnTo>
                    <a:lnTo>
                      <a:pt x="2457" y="183"/>
                    </a:lnTo>
                    <a:lnTo>
                      <a:pt x="2457" y="225"/>
                    </a:lnTo>
                    <a:lnTo>
                      <a:pt x="2429" y="268"/>
                    </a:lnTo>
                    <a:lnTo>
                      <a:pt x="2387" y="381"/>
                    </a:lnTo>
                    <a:lnTo>
                      <a:pt x="2302" y="395"/>
                    </a:lnTo>
                    <a:lnTo>
                      <a:pt x="2217" y="423"/>
                    </a:lnTo>
                    <a:lnTo>
                      <a:pt x="2132" y="437"/>
                    </a:lnTo>
                    <a:lnTo>
                      <a:pt x="2048" y="465"/>
                    </a:lnTo>
                    <a:lnTo>
                      <a:pt x="1963" y="494"/>
                    </a:lnTo>
                    <a:lnTo>
                      <a:pt x="1878" y="522"/>
                    </a:lnTo>
                    <a:lnTo>
                      <a:pt x="1822" y="663"/>
                    </a:lnTo>
                    <a:lnTo>
                      <a:pt x="1808" y="776"/>
                    </a:lnTo>
                    <a:lnTo>
                      <a:pt x="1793" y="889"/>
                    </a:lnTo>
                    <a:lnTo>
                      <a:pt x="1779" y="974"/>
                    </a:lnTo>
                    <a:lnTo>
                      <a:pt x="1751" y="1058"/>
                    </a:lnTo>
                    <a:lnTo>
                      <a:pt x="1723" y="1115"/>
                    </a:lnTo>
                    <a:lnTo>
                      <a:pt x="1624" y="1143"/>
                    </a:lnTo>
                    <a:lnTo>
                      <a:pt x="1539" y="1171"/>
                    </a:lnTo>
                    <a:lnTo>
                      <a:pt x="1398" y="1186"/>
                    </a:lnTo>
                    <a:lnTo>
                      <a:pt x="1285" y="1214"/>
                    </a:lnTo>
                    <a:lnTo>
                      <a:pt x="1200" y="1242"/>
                    </a:lnTo>
                    <a:lnTo>
                      <a:pt x="1172" y="1284"/>
                    </a:lnTo>
                    <a:lnTo>
                      <a:pt x="1144" y="1327"/>
                    </a:lnTo>
                    <a:lnTo>
                      <a:pt x="1130" y="1411"/>
                    </a:lnTo>
                    <a:lnTo>
                      <a:pt x="1115" y="1496"/>
                    </a:lnTo>
                    <a:lnTo>
                      <a:pt x="1087" y="1581"/>
                    </a:lnTo>
                    <a:lnTo>
                      <a:pt x="1073" y="1666"/>
                    </a:lnTo>
                    <a:lnTo>
                      <a:pt x="1017" y="1779"/>
                    </a:lnTo>
                    <a:lnTo>
                      <a:pt x="960" y="1821"/>
                    </a:lnTo>
                    <a:lnTo>
                      <a:pt x="847" y="1835"/>
                    </a:lnTo>
                    <a:lnTo>
                      <a:pt x="734" y="1863"/>
                    </a:lnTo>
                    <a:lnTo>
                      <a:pt x="649" y="1863"/>
                    </a:lnTo>
                    <a:lnTo>
                      <a:pt x="565" y="1877"/>
                    </a:lnTo>
                    <a:lnTo>
                      <a:pt x="466" y="1920"/>
                    </a:lnTo>
                    <a:lnTo>
                      <a:pt x="409" y="1976"/>
                    </a:lnTo>
                    <a:lnTo>
                      <a:pt x="381" y="2061"/>
                    </a:lnTo>
                    <a:lnTo>
                      <a:pt x="353" y="2117"/>
                    </a:lnTo>
                    <a:lnTo>
                      <a:pt x="296" y="2146"/>
                    </a:lnTo>
                    <a:lnTo>
                      <a:pt x="240" y="2174"/>
                    </a:lnTo>
                    <a:lnTo>
                      <a:pt x="155" y="2188"/>
                    </a:lnTo>
                    <a:lnTo>
                      <a:pt x="70" y="2202"/>
                    </a:lnTo>
                    <a:lnTo>
                      <a:pt x="42" y="2244"/>
                    </a:lnTo>
                    <a:lnTo>
                      <a:pt x="14" y="2301"/>
                    </a:lnTo>
                    <a:lnTo>
                      <a:pt x="0" y="2343"/>
                    </a:lnTo>
                    <a:lnTo>
                      <a:pt x="0" y="2372"/>
                    </a:lnTo>
                  </a:path>
                </a:pathLst>
              </a:custGeom>
              <a:noFill/>
              <a:ln cap="rnd" w="50760">
                <a:solidFill>
                  <a:srgbClr val="4f81bd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  <p:sp>
            <p:nvSpPr>
              <p:cNvPr id="842" name="Rectangle 48"/>
              <p:cNvSpPr/>
              <p:nvPr/>
            </p:nvSpPr>
            <p:spPr>
              <a:xfrm>
                <a:off x="7036560" y="942840"/>
                <a:ext cx="390600" cy="47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8000" rIns="108000" tIns="54000" bIns="54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266840"/>
                    <a:tab algn="l" pos="2533680"/>
                    <a:tab algn="l" pos="3800520"/>
                    <a:tab algn="l" pos="5067360"/>
                    <a:tab algn="l" pos="6334200"/>
                    <a:tab algn="l" pos="7601040"/>
                    <a:tab algn="l" pos="8867880"/>
                    <a:tab algn="l" pos="1013472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entury Gothic"/>
                  </a:rPr>
                  <a:t>y</a:t>
                </a: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2"/>
          <p:cNvSpPr/>
          <p:nvPr/>
        </p:nvSpPr>
        <p:spPr>
          <a:xfrm>
            <a:off x="76320" y="299880"/>
            <a:ext cx="914544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54000" bIns="54000" anchor="ctr">
            <a:noAutofit/>
          </a:bodyPr>
          <a:p>
            <a:pPr algn="ctr"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Simple Gas Filled Detector</a:t>
            </a:r>
            <a:endParaRPr b="0" lang="en-US" sz="3800" spc="-1" strike="noStrike">
              <a:solidFill>
                <a:srgbClr val="4f81bd"/>
              </a:solidFill>
              <a:latin typeface="Times New Roman"/>
            </a:endParaRPr>
          </a:p>
        </p:txBody>
      </p:sp>
      <p:grpSp>
        <p:nvGrpSpPr>
          <p:cNvPr id="844" name="Group 30"/>
          <p:cNvGrpSpPr/>
          <p:nvPr/>
        </p:nvGrpSpPr>
        <p:grpSpPr>
          <a:xfrm>
            <a:off x="1165320" y="2344680"/>
            <a:ext cx="6896160" cy="3230640"/>
            <a:chOff x="1165320" y="2344680"/>
            <a:chExt cx="6896160" cy="3230640"/>
          </a:xfrm>
        </p:grpSpPr>
        <p:grpSp>
          <p:nvGrpSpPr>
            <p:cNvPr id="845" name="Group 6"/>
            <p:cNvGrpSpPr/>
            <p:nvPr/>
          </p:nvGrpSpPr>
          <p:grpSpPr>
            <a:xfrm>
              <a:off x="1965240" y="2974680"/>
              <a:ext cx="5019840" cy="2600640"/>
              <a:chOff x="1965240" y="2974680"/>
              <a:chExt cx="5019840" cy="2600640"/>
            </a:xfrm>
          </p:grpSpPr>
          <p:sp>
            <p:nvSpPr>
              <p:cNvPr id="846" name="Line 3"/>
              <p:cNvSpPr/>
              <p:nvPr/>
            </p:nvSpPr>
            <p:spPr>
              <a:xfrm>
                <a:off x="1965240" y="3692520"/>
                <a:ext cx="0" cy="1076400"/>
              </a:xfrm>
              <a:prstGeom prst="line">
                <a:avLst/>
              </a:prstGeom>
              <a:ln w="255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  <p:sp>
            <p:nvSpPr>
              <p:cNvPr id="847" name="Line 4"/>
              <p:cNvSpPr/>
              <p:nvPr/>
            </p:nvSpPr>
            <p:spPr>
              <a:xfrm>
                <a:off x="1965240" y="5575320"/>
                <a:ext cx="5019840" cy="0"/>
              </a:xfrm>
              <a:prstGeom prst="line">
                <a:avLst/>
              </a:prstGeom>
              <a:ln w="255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  <p:sp>
            <p:nvSpPr>
              <p:cNvPr id="848" name="Line 5"/>
              <p:cNvSpPr/>
              <p:nvPr/>
            </p:nvSpPr>
            <p:spPr>
              <a:xfrm flipV="1">
                <a:off x="6985080" y="2974680"/>
                <a:ext cx="0" cy="1523880"/>
              </a:xfrm>
              <a:prstGeom prst="line">
                <a:avLst/>
              </a:prstGeom>
              <a:ln w="255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</p:grpSp>
        <p:sp>
          <p:nvSpPr>
            <p:cNvPr id="849" name="Line 7"/>
            <p:cNvSpPr/>
            <p:nvPr/>
          </p:nvSpPr>
          <p:spPr>
            <a:xfrm>
              <a:off x="1874880" y="4857840"/>
              <a:ext cx="17928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50" name="Line 8"/>
            <p:cNvSpPr/>
            <p:nvPr/>
          </p:nvSpPr>
          <p:spPr>
            <a:xfrm>
              <a:off x="1785960" y="4948200"/>
              <a:ext cx="35892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51" name="Line 9"/>
            <p:cNvSpPr/>
            <p:nvPr/>
          </p:nvSpPr>
          <p:spPr>
            <a:xfrm>
              <a:off x="1874880" y="5127480"/>
              <a:ext cx="17928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52" name="Line 10"/>
            <p:cNvSpPr/>
            <p:nvPr/>
          </p:nvSpPr>
          <p:spPr>
            <a:xfrm>
              <a:off x="1874880" y="5037120"/>
              <a:ext cx="17928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53" name="Line 11"/>
            <p:cNvSpPr/>
            <p:nvPr/>
          </p:nvSpPr>
          <p:spPr>
            <a:xfrm flipV="1">
              <a:off x="1965240" y="5216040"/>
              <a:ext cx="0" cy="35892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54" name="Freeform 12"/>
            <p:cNvSpPr/>
            <p:nvPr/>
          </p:nvSpPr>
          <p:spPr>
            <a:xfrm>
              <a:off x="6897600" y="4498920"/>
              <a:ext cx="184320" cy="53964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116" h="340">
                  <a:moveTo>
                    <a:pt x="55" y="0"/>
                  </a:moveTo>
                  <a:lnTo>
                    <a:pt x="88" y="50"/>
                  </a:lnTo>
                  <a:lnTo>
                    <a:pt x="115" y="63"/>
                  </a:lnTo>
                  <a:lnTo>
                    <a:pt x="88" y="101"/>
                  </a:lnTo>
                  <a:lnTo>
                    <a:pt x="50" y="113"/>
                  </a:lnTo>
                  <a:lnTo>
                    <a:pt x="26" y="138"/>
                  </a:lnTo>
                  <a:lnTo>
                    <a:pt x="0" y="163"/>
                  </a:lnTo>
                  <a:lnTo>
                    <a:pt x="26" y="189"/>
                  </a:lnTo>
                  <a:lnTo>
                    <a:pt x="64" y="201"/>
                  </a:lnTo>
                  <a:lnTo>
                    <a:pt x="88" y="227"/>
                  </a:lnTo>
                  <a:lnTo>
                    <a:pt x="50" y="251"/>
                  </a:lnTo>
                  <a:lnTo>
                    <a:pt x="37" y="277"/>
                  </a:lnTo>
                  <a:lnTo>
                    <a:pt x="0" y="302"/>
                  </a:lnTo>
                  <a:lnTo>
                    <a:pt x="26" y="315"/>
                  </a:lnTo>
                  <a:lnTo>
                    <a:pt x="64" y="327"/>
                  </a:lnTo>
                  <a:lnTo>
                    <a:pt x="55" y="339"/>
                  </a:lnTo>
                </a:path>
              </a:pathLst>
            </a:custGeom>
            <a:noFill/>
            <a:ln cap="rnd" w="255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55" name="Line 13"/>
            <p:cNvSpPr/>
            <p:nvPr/>
          </p:nvSpPr>
          <p:spPr>
            <a:xfrm>
              <a:off x="6985080" y="5035680"/>
              <a:ext cx="0" cy="53964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56" name="AutoShape 14"/>
            <p:cNvSpPr/>
            <p:nvPr/>
          </p:nvSpPr>
          <p:spPr>
            <a:xfrm>
              <a:off x="1165320" y="2443320"/>
              <a:ext cx="4917960" cy="1242720"/>
            </a:xfrm>
            <a:prstGeom prst="roundRect">
              <a:avLst>
                <a:gd name="adj" fmla="val 12486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57" name="Oval 15"/>
            <p:cNvSpPr/>
            <p:nvPr/>
          </p:nvSpPr>
          <p:spPr>
            <a:xfrm>
              <a:off x="5737320" y="2443320"/>
              <a:ext cx="525240" cy="1242720"/>
            </a:xfrm>
            <a:prstGeom prst="ellipse">
              <a:avLst/>
            </a:prstGeom>
            <a:solidFill>
              <a:srgbClr val="eeece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58" name="Line 16"/>
            <p:cNvSpPr/>
            <p:nvPr/>
          </p:nvSpPr>
          <p:spPr>
            <a:xfrm>
              <a:off x="2592360" y="2975040"/>
              <a:ext cx="5200560" cy="0"/>
            </a:xfrm>
            <a:prstGeom prst="line">
              <a:avLst/>
            </a:prstGeom>
            <a:ln w="507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59" name="Rectangle 17"/>
            <p:cNvSpPr/>
            <p:nvPr/>
          </p:nvSpPr>
          <p:spPr>
            <a:xfrm>
              <a:off x="2990880" y="2532240"/>
              <a:ext cx="131256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imes New Roman"/>
                </a:rPr>
                <a:t>Anode +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60" name="Rectangle 18"/>
            <p:cNvSpPr/>
            <p:nvPr/>
          </p:nvSpPr>
          <p:spPr>
            <a:xfrm>
              <a:off x="1736640" y="3284640"/>
              <a:ext cx="160812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800" spc="-1" strike="noStrike">
                  <a:solidFill>
                    <a:srgbClr val="c0504d"/>
                  </a:solidFill>
                  <a:latin typeface="Times New Roman"/>
                </a:rPr>
                <a:t>Cathode -</a:t>
              </a:r>
              <a:endParaRPr b="0" lang="en-US" sz="28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61" name="Rectangle 19"/>
            <p:cNvSpPr/>
            <p:nvPr/>
          </p:nvSpPr>
          <p:spPr>
            <a:xfrm>
              <a:off x="6877800" y="2344680"/>
              <a:ext cx="1155600" cy="3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To meter </a:t>
              </a:r>
              <a:endParaRPr b="0" lang="en-US" sz="19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62" name="Line 20"/>
            <p:cNvSpPr/>
            <p:nvPr/>
          </p:nvSpPr>
          <p:spPr>
            <a:xfrm>
              <a:off x="6896160" y="2795760"/>
              <a:ext cx="1165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63" name="Rectangle 21"/>
            <p:cNvSpPr/>
            <p:nvPr/>
          </p:nvSpPr>
          <p:spPr>
            <a:xfrm>
              <a:off x="2757960" y="292248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64" name="Rectangle 22"/>
            <p:cNvSpPr/>
            <p:nvPr/>
          </p:nvSpPr>
          <p:spPr>
            <a:xfrm>
              <a:off x="3385080" y="292248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65" name="Rectangle 23"/>
            <p:cNvSpPr/>
            <p:nvPr/>
          </p:nvSpPr>
          <p:spPr>
            <a:xfrm>
              <a:off x="3832560" y="292248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66" name="Rectangle 24"/>
            <p:cNvSpPr/>
            <p:nvPr/>
          </p:nvSpPr>
          <p:spPr>
            <a:xfrm>
              <a:off x="4191480" y="292248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67" name="Rectangle 25"/>
            <p:cNvSpPr/>
            <p:nvPr/>
          </p:nvSpPr>
          <p:spPr>
            <a:xfrm>
              <a:off x="4638960" y="292248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68" name="Rectangle 26"/>
            <p:cNvSpPr/>
            <p:nvPr/>
          </p:nvSpPr>
          <p:spPr>
            <a:xfrm>
              <a:off x="4997880" y="292248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69" name="Rectangle 27"/>
            <p:cNvSpPr/>
            <p:nvPr/>
          </p:nvSpPr>
          <p:spPr>
            <a:xfrm>
              <a:off x="3200400" y="3370320"/>
              <a:ext cx="142236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++++++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70" name="Rectangle 28"/>
            <p:cNvSpPr/>
            <p:nvPr/>
          </p:nvSpPr>
          <p:spPr>
            <a:xfrm>
              <a:off x="1860840" y="256392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71" name="Rectangle 29"/>
            <p:cNvSpPr/>
            <p:nvPr/>
          </p:nvSpPr>
          <p:spPr>
            <a:xfrm>
              <a:off x="2487960" y="292248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Gas Amplification Curv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3" name="Group 24"/>
          <p:cNvGrpSpPr/>
          <p:nvPr/>
        </p:nvGrpSpPr>
        <p:grpSpPr>
          <a:xfrm>
            <a:off x="528480" y="2055600"/>
            <a:ext cx="8006040" cy="4688640"/>
            <a:chOff x="528480" y="2055600"/>
            <a:chExt cx="8006040" cy="4688640"/>
          </a:xfrm>
        </p:grpSpPr>
        <p:sp>
          <p:nvSpPr>
            <p:cNvPr id="874" name="Rectangle 3"/>
            <p:cNvSpPr/>
            <p:nvPr/>
          </p:nvSpPr>
          <p:spPr>
            <a:xfrm>
              <a:off x="1228680" y="2057400"/>
              <a:ext cx="7224840" cy="409104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000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75" name="Freeform 4"/>
            <p:cNvSpPr/>
            <p:nvPr/>
          </p:nvSpPr>
          <p:spPr>
            <a:xfrm>
              <a:off x="1228680" y="3057480"/>
              <a:ext cx="6585120" cy="3092400"/>
            </a:xfrm>
            <a:custGeom>
              <a:avLst/>
              <a:gdLst>
                <a:gd name="textAreaLeft" fmla="*/ 0 w 6585120"/>
                <a:gd name="textAreaRight" fmla="*/ 6585480 w 6585120"/>
                <a:gd name="textAreaTop" fmla="*/ 0 h 3092400"/>
                <a:gd name="textAreaBottom" fmla="*/ 3092760 h 3092400"/>
              </a:gdLst>
              <a:ahLst/>
              <a:rect l="textAreaLeft" t="textAreaTop" r="textAreaRight" b="textAreaBottom"/>
              <a:pathLst>
                <a:path w="4148" h="1948">
                  <a:moveTo>
                    <a:pt x="0" y="1947"/>
                  </a:moveTo>
                  <a:lnTo>
                    <a:pt x="6" y="1892"/>
                  </a:lnTo>
                  <a:lnTo>
                    <a:pt x="16" y="1857"/>
                  </a:lnTo>
                  <a:lnTo>
                    <a:pt x="40" y="1823"/>
                  </a:lnTo>
                  <a:lnTo>
                    <a:pt x="62" y="1799"/>
                  </a:lnTo>
                  <a:lnTo>
                    <a:pt x="94" y="1776"/>
                  </a:lnTo>
                  <a:lnTo>
                    <a:pt x="128" y="1765"/>
                  </a:lnTo>
                  <a:lnTo>
                    <a:pt x="161" y="1742"/>
                  </a:lnTo>
                  <a:lnTo>
                    <a:pt x="194" y="1730"/>
                  </a:lnTo>
                  <a:lnTo>
                    <a:pt x="227" y="1707"/>
                  </a:lnTo>
                  <a:lnTo>
                    <a:pt x="305" y="1696"/>
                  </a:lnTo>
                  <a:lnTo>
                    <a:pt x="339" y="1684"/>
                  </a:lnTo>
                  <a:lnTo>
                    <a:pt x="383" y="1661"/>
                  </a:lnTo>
                  <a:lnTo>
                    <a:pt x="416" y="1650"/>
                  </a:lnTo>
                  <a:lnTo>
                    <a:pt x="449" y="1638"/>
                  </a:lnTo>
                  <a:lnTo>
                    <a:pt x="482" y="1638"/>
                  </a:lnTo>
                  <a:lnTo>
                    <a:pt x="516" y="1638"/>
                  </a:lnTo>
                  <a:lnTo>
                    <a:pt x="594" y="1627"/>
                  </a:lnTo>
                  <a:lnTo>
                    <a:pt x="660" y="1627"/>
                  </a:lnTo>
                  <a:lnTo>
                    <a:pt x="693" y="1627"/>
                  </a:lnTo>
                  <a:lnTo>
                    <a:pt x="726" y="1627"/>
                  </a:lnTo>
                  <a:lnTo>
                    <a:pt x="771" y="1627"/>
                  </a:lnTo>
                  <a:lnTo>
                    <a:pt x="804" y="1615"/>
                  </a:lnTo>
                  <a:lnTo>
                    <a:pt x="837" y="1615"/>
                  </a:lnTo>
                  <a:lnTo>
                    <a:pt x="871" y="1602"/>
                  </a:lnTo>
                  <a:lnTo>
                    <a:pt x="903" y="1602"/>
                  </a:lnTo>
                  <a:lnTo>
                    <a:pt x="981" y="1602"/>
                  </a:lnTo>
                  <a:lnTo>
                    <a:pt x="1026" y="1602"/>
                  </a:lnTo>
                  <a:lnTo>
                    <a:pt x="1059" y="1602"/>
                  </a:lnTo>
                  <a:lnTo>
                    <a:pt x="1104" y="1568"/>
                  </a:lnTo>
                  <a:lnTo>
                    <a:pt x="1136" y="1533"/>
                  </a:lnTo>
                  <a:lnTo>
                    <a:pt x="1170" y="1499"/>
                  </a:lnTo>
                  <a:lnTo>
                    <a:pt x="1204" y="1464"/>
                  </a:lnTo>
                  <a:lnTo>
                    <a:pt x="1236" y="1418"/>
                  </a:lnTo>
                  <a:lnTo>
                    <a:pt x="1259" y="1383"/>
                  </a:lnTo>
                  <a:lnTo>
                    <a:pt x="1292" y="1349"/>
                  </a:lnTo>
                  <a:lnTo>
                    <a:pt x="1337" y="1303"/>
                  </a:lnTo>
                  <a:lnTo>
                    <a:pt x="1369" y="1268"/>
                  </a:lnTo>
                  <a:lnTo>
                    <a:pt x="1391" y="1234"/>
                  </a:lnTo>
                  <a:lnTo>
                    <a:pt x="1437" y="1199"/>
                  </a:lnTo>
                  <a:lnTo>
                    <a:pt x="1469" y="1164"/>
                  </a:lnTo>
                  <a:lnTo>
                    <a:pt x="1503" y="1141"/>
                  </a:lnTo>
                  <a:lnTo>
                    <a:pt x="1536" y="1107"/>
                  </a:lnTo>
                  <a:lnTo>
                    <a:pt x="1569" y="1072"/>
                  </a:lnTo>
                  <a:lnTo>
                    <a:pt x="1602" y="1038"/>
                  </a:lnTo>
                  <a:lnTo>
                    <a:pt x="1636" y="1015"/>
                  </a:lnTo>
                  <a:lnTo>
                    <a:pt x="1669" y="980"/>
                  </a:lnTo>
                  <a:lnTo>
                    <a:pt x="1758" y="934"/>
                  </a:lnTo>
                  <a:lnTo>
                    <a:pt x="1791" y="899"/>
                  </a:lnTo>
                  <a:lnTo>
                    <a:pt x="1824" y="865"/>
                  </a:lnTo>
                  <a:lnTo>
                    <a:pt x="1857" y="842"/>
                  </a:lnTo>
                  <a:lnTo>
                    <a:pt x="1891" y="807"/>
                  </a:lnTo>
                  <a:lnTo>
                    <a:pt x="1913" y="772"/>
                  </a:lnTo>
                  <a:lnTo>
                    <a:pt x="1947" y="749"/>
                  </a:lnTo>
                  <a:lnTo>
                    <a:pt x="1979" y="715"/>
                  </a:lnTo>
                  <a:lnTo>
                    <a:pt x="2001" y="680"/>
                  </a:lnTo>
                  <a:lnTo>
                    <a:pt x="2023" y="646"/>
                  </a:lnTo>
                  <a:lnTo>
                    <a:pt x="2035" y="611"/>
                  </a:lnTo>
                  <a:lnTo>
                    <a:pt x="2079" y="519"/>
                  </a:lnTo>
                  <a:lnTo>
                    <a:pt x="2090" y="484"/>
                  </a:lnTo>
                  <a:lnTo>
                    <a:pt x="2124" y="461"/>
                  </a:lnTo>
                  <a:lnTo>
                    <a:pt x="2168" y="427"/>
                  </a:lnTo>
                  <a:lnTo>
                    <a:pt x="2202" y="392"/>
                  </a:lnTo>
                  <a:lnTo>
                    <a:pt x="2234" y="369"/>
                  </a:lnTo>
                  <a:lnTo>
                    <a:pt x="2312" y="334"/>
                  </a:lnTo>
                  <a:lnTo>
                    <a:pt x="2345" y="311"/>
                  </a:lnTo>
                  <a:lnTo>
                    <a:pt x="2368" y="300"/>
                  </a:lnTo>
                  <a:lnTo>
                    <a:pt x="2401" y="277"/>
                  </a:lnTo>
                  <a:lnTo>
                    <a:pt x="2434" y="254"/>
                  </a:lnTo>
                  <a:lnTo>
                    <a:pt x="2467" y="242"/>
                  </a:lnTo>
                  <a:lnTo>
                    <a:pt x="2501" y="231"/>
                  </a:lnTo>
                  <a:lnTo>
                    <a:pt x="2545" y="208"/>
                  </a:lnTo>
                  <a:lnTo>
                    <a:pt x="2634" y="196"/>
                  </a:lnTo>
                  <a:lnTo>
                    <a:pt x="2667" y="196"/>
                  </a:lnTo>
                  <a:lnTo>
                    <a:pt x="2756" y="185"/>
                  </a:lnTo>
                  <a:lnTo>
                    <a:pt x="2834" y="185"/>
                  </a:lnTo>
                  <a:lnTo>
                    <a:pt x="2911" y="173"/>
                  </a:lnTo>
                  <a:lnTo>
                    <a:pt x="3021" y="173"/>
                  </a:lnTo>
                  <a:lnTo>
                    <a:pt x="3089" y="173"/>
                  </a:lnTo>
                  <a:lnTo>
                    <a:pt x="3210" y="173"/>
                  </a:lnTo>
                  <a:lnTo>
                    <a:pt x="3299" y="173"/>
                  </a:lnTo>
                  <a:lnTo>
                    <a:pt x="3344" y="173"/>
                  </a:lnTo>
                  <a:lnTo>
                    <a:pt x="3410" y="173"/>
                  </a:lnTo>
                  <a:lnTo>
                    <a:pt x="3443" y="173"/>
                  </a:lnTo>
                  <a:lnTo>
                    <a:pt x="3554" y="173"/>
                  </a:lnTo>
                  <a:lnTo>
                    <a:pt x="3587" y="173"/>
                  </a:lnTo>
                  <a:lnTo>
                    <a:pt x="3676" y="173"/>
                  </a:lnTo>
                  <a:lnTo>
                    <a:pt x="3765" y="173"/>
                  </a:lnTo>
                  <a:lnTo>
                    <a:pt x="3854" y="173"/>
                  </a:lnTo>
                  <a:lnTo>
                    <a:pt x="3886" y="173"/>
                  </a:lnTo>
                  <a:lnTo>
                    <a:pt x="3920" y="150"/>
                  </a:lnTo>
                  <a:lnTo>
                    <a:pt x="3953" y="138"/>
                  </a:lnTo>
                  <a:lnTo>
                    <a:pt x="3986" y="115"/>
                  </a:lnTo>
                  <a:lnTo>
                    <a:pt x="4031" y="92"/>
                  </a:lnTo>
                  <a:lnTo>
                    <a:pt x="4075" y="58"/>
                  </a:lnTo>
                  <a:lnTo>
                    <a:pt x="4109" y="23"/>
                  </a:lnTo>
                  <a:lnTo>
                    <a:pt x="4141" y="0"/>
                  </a:lnTo>
                  <a:lnTo>
                    <a:pt x="4147" y="1"/>
                  </a:lnTo>
                </a:path>
              </a:pathLst>
            </a:custGeom>
            <a:noFill/>
            <a:ln cap="rnd" w="2556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76" name="Freeform 5"/>
            <p:cNvSpPr/>
            <p:nvPr/>
          </p:nvSpPr>
          <p:spPr>
            <a:xfrm>
              <a:off x="1228680" y="2975040"/>
              <a:ext cx="6666120" cy="2506680"/>
            </a:xfrm>
            <a:custGeom>
              <a:avLst/>
              <a:gdLst>
                <a:gd name="textAreaLeft" fmla="*/ 0 w 6666120"/>
                <a:gd name="textAreaRight" fmla="*/ 6666480 w 6666120"/>
                <a:gd name="textAreaTop" fmla="*/ 0 h 2506680"/>
                <a:gd name="textAreaBottom" fmla="*/ 2507040 h 2506680"/>
              </a:gdLst>
              <a:ahLst/>
              <a:rect l="textAreaLeft" t="textAreaTop" r="textAreaRight" b="textAreaBottom"/>
              <a:pathLst>
                <a:path w="4199" h="1579">
                  <a:moveTo>
                    <a:pt x="0" y="1578"/>
                  </a:moveTo>
                  <a:lnTo>
                    <a:pt x="28" y="1528"/>
                  </a:lnTo>
                  <a:lnTo>
                    <a:pt x="50" y="1493"/>
                  </a:lnTo>
                  <a:lnTo>
                    <a:pt x="84" y="1470"/>
                  </a:lnTo>
                  <a:lnTo>
                    <a:pt x="128" y="1447"/>
                  </a:lnTo>
                  <a:lnTo>
                    <a:pt x="172" y="1435"/>
                  </a:lnTo>
                  <a:lnTo>
                    <a:pt x="205" y="1424"/>
                  </a:lnTo>
                  <a:lnTo>
                    <a:pt x="272" y="1412"/>
                  </a:lnTo>
                  <a:lnTo>
                    <a:pt x="305" y="1401"/>
                  </a:lnTo>
                  <a:lnTo>
                    <a:pt x="371" y="1401"/>
                  </a:lnTo>
                  <a:lnTo>
                    <a:pt x="405" y="1401"/>
                  </a:lnTo>
                  <a:lnTo>
                    <a:pt x="438" y="1389"/>
                  </a:lnTo>
                  <a:lnTo>
                    <a:pt x="482" y="1366"/>
                  </a:lnTo>
                  <a:lnTo>
                    <a:pt x="505" y="1366"/>
                  </a:lnTo>
                  <a:lnTo>
                    <a:pt x="538" y="1355"/>
                  </a:lnTo>
                  <a:lnTo>
                    <a:pt x="572" y="1355"/>
                  </a:lnTo>
                  <a:lnTo>
                    <a:pt x="660" y="1355"/>
                  </a:lnTo>
                  <a:lnTo>
                    <a:pt x="727" y="1343"/>
                  </a:lnTo>
                  <a:lnTo>
                    <a:pt x="837" y="1332"/>
                  </a:lnTo>
                  <a:lnTo>
                    <a:pt x="881" y="1332"/>
                  </a:lnTo>
                  <a:lnTo>
                    <a:pt x="915" y="1320"/>
                  </a:lnTo>
                  <a:lnTo>
                    <a:pt x="948" y="1309"/>
                  </a:lnTo>
                  <a:lnTo>
                    <a:pt x="971" y="1309"/>
                  </a:lnTo>
                  <a:lnTo>
                    <a:pt x="1082" y="1274"/>
                  </a:lnTo>
                  <a:lnTo>
                    <a:pt x="1170" y="1263"/>
                  </a:lnTo>
                  <a:lnTo>
                    <a:pt x="1204" y="1239"/>
                  </a:lnTo>
                  <a:lnTo>
                    <a:pt x="1248" y="1205"/>
                  </a:lnTo>
                  <a:lnTo>
                    <a:pt x="1315" y="1182"/>
                  </a:lnTo>
                  <a:lnTo>
                    <a:pt x="1347" y="1147"/>
                  </a:lnTo>
                  <a:lnTo>
                    <a:pt x="1369" y="1113"/>
                  </a:lnTo>
                  <a:lnTo>
                    <a:pt x="1437" y="1090"/>
                  </a:lnTo>
                  <a:lnTo>
                    <a:pt x="1481" y="1055"/>
                  </a:lnTo>
                  <a:lnTo>
                    <a:pt x="1558" y="1032"/>
                  </a:lnTo>
                  <a:lnTo>
                    <a:pt x="1602" y="940"/>
                  </a:lnTo>
                  <a:lnTo>
                    <a:pt x="1670" y="917"/>
                  </a:lnTo>
                  <a:lnTo>
                    <a:pt x="1702" y="882"/>
                  </a:lnTo>
                  <a:lnTo>
                    <a:pt x="1724" y="848"/>
                  </a:lnTo>
                  <a:lnTo>
                    <a:pt x="1825" y="813"/>
                  </a:lnTo>
                  <a:lnTo>
                    <a:pt x="1847" y="744"/>
                  </a:lnTo>
                  <a:lnTo>
                    <a:pt x="1891" y="709"/>
                  </a:lnTo>
                  <a:lnTo>
                    <a:pt x="1935" y="675"/>
                  </a:lnTo>
                  <a:lnTo>
                    <a:pt x="1979" y="639"/>
                  </a:lnTo>
                  <a:lnTo>
                    <a:pt x="2013" y="616"/>
                  </a:lnTo>
                  <a:lnTo>
                    <a:pt x="2046" y="581"/>
                  </a:lnTo>
                  <a:lnTo>
                    <a:pt x="2080" y="558"/>
                  </a:lnTo>
                  <a:lnTo>
                    <a:pt x="2112" y="535"/>
                  </a:lnTo>
                  <a:lnTo>
                    <a:pt x="2135" y="512"/>
                  </a:lnTo>
                  <a:lnTo>
                    <a:pt x="2168" y="489"/>
                  </a:lnTo>
                  <a:lnTo>
                    <a:pt x="2202" y="455"/>
                  </a:lnTo>
                  <a:lnTo>
                    <a:pt x="2234" y="432"/>
                  </a:lnTo>
                  <a:lnTo>
                    <a:pt x="2257" y="408"/>
                  </a:lnTo>
                  <a:lnTo>
                    <a:pt x="2290" y="385"/>
                  </a:lnTo>
                  <a:lnTo>
                    <a:pt x="2335" y="362"/>
                  </a:lnTo>
                  <a:lnTo>
                    <a:pt x="2413" y="351"/>
                  </a:lnTo>
                  <a:lnTo>
                    <a:pt x="2445" y="328"/>
                  </a:lnTo>
                  <a:lnTo>
                    <a:pt x="2489" y="316"/>
                  </a:lnTo>
                  <a:lnTo>
                    <a:pt x="2578" y="293"/>
                  </a:lnTo>
                  <a:lnTo>
                    <a:pt x="2601" y="282"/>
                  </a:lnTo>
                  <a:lnTo>
                    <a:pt x="2668" y="270"/>
                  </a:lnTo>
                  <a:lnTo>
                    <a:pt x="2712" y="259"/>
                  </a:lnTo>
                  <a:lnTo>
                    <a:pt x="2789" y="247"/>
                  </a:lnTo>
                  <a:lnTo>
                    <a:pt x="2822" y="236"/>
                  </a:lnTo>
                  <a:lnTo>
                    <a:pt x="2889" y="224"/>
                  </a:lnTo>
                  <a:lnTo>
                    <a:pt x="2955" y="224"/>
                  </a:lnTo>
                  <a:lnTo>
                    <a:pt x="2989" y="224"/>
                  </a:lnTo>
                  <a:lnTo>
                    <a:pt x="3100" y="224"/>
                  </a:lnTo>
                  <a:lnTo>
                    <a:pt x="3188" y="224"/>
                  </a:lnTo>
                  <a:lnTo>
                    <a:pt x="3222" y="224"/>
                  </a:lnTo>
                  <a:lnTo>
                    <a:pt x="3332" y="224"/>
                  </a:lnTo>
                  <a:lnTo>
                    <a:pt x="3421" y="224"/>
                  </a:lnTo>
                  <a:lnTo>
                    <a:pt x="3487" y="224"/>
                  </a:lnTo>
                  <a:lnTo>
                    <a:pt x="3565" y="224"/>
                  </a:lnTo>
                  <a:lnTo>
                    <a:pt x="3676" y="224"/>
                  </a:lnTo>
                  <a:lnTo>
                    <a:pt x="3742" y="224"/>
                  </a:lnTo>
                  <a:lnTo>
                    <a:pt x="3810" y="224"/>
                  </a:lnTo>
                  <a:lnTo>
                    <a:pt x="3887" y="212"/>
                  </a:lnTo>
                  <a:lnTo>
                    <a:pt x="3975" y="201"/>
                  </a:lnTo>
                  <a:lnTo>
                    <a:pt x="4053" y="178"/>
                  </a:lnTo>
                  <a:lnTo>
                    <a:pt x="4087" y="155"/>
                  </a:lnTo>
                  <a:lnTo>
                    <a:pt x="4109" y="120"/>
                  </a:lnTo>
                  <a:lnTo>
                    <a:pt x="4142" y="86"/>
                  </a:lnTo>
                  <a:lnTo>
                    <a:pt x="4153" y="51"/>
                  </a:lnTo>
                  <a:lnTo>
                    <a:pt x="4198" y="0"/>
                  </a:lnTo>
                </a:path>
              </a:pathLst>
            </a:custGeom>
            <a:noFill/>
            <a:ln cap="rnd" w="255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77" name="Freeform 6"/>
            <p:cNvSpPr/>
            <p:nvPr/>
          </p:nvSpPr>
          <p:spPr>
            <a:xfrm>
              <a:off x="1228680" y="2975040"/>
              <a:ext cx="6666120" cy="1676160"/>
            </a:xfrm>
            <a:custGeom>
              <a:avLst/>
              <a:gdLst>
                <a:gd name="textAreaLeft" fmla="*/ 0 w 6666120"/>
                <a:gd name="textAreaRight" fmla="*/ 6666480 w 6666120"/>
                <a:gd name="textAreaTop" fmla="*/ 0 h 1676160"/>
                <a:gd name="textAreaBottom" fmla="*/ 1676520 h 1676160"/>
              </a:gdLst>
              <a:ahLst/>
              <a:rect l="textAreaLeft" t="textAreaTop" r="textAreaRight" b="textAreaBottom"/>
              <a:pathLst>
                <a:path w="4199" h="1056">
                  <a:moveTo>
                    <a:pt x="0" y="1051"/>
                  </a:moveTo>
                  <a:lnTo>
                    <a:pt x="72" y="1055"/>
                  </a:lnTo>
                  <a:lnTo>
                    <a:pt x="116" y="1031"/>
                  </a:lnTo>
                  <a:lnTo>
                    <a:pt x="194" y="1008"/>
                  </a:lnTo>
                  <a:lnTo>
                    <a:pt x="239" y="985"/>
                  </a:lnTo>
                  <a:lnTo>
                    <a:pt x="283" y="973"/>
                  </a:lnTo>
                  <a:lnTo>
                    <a:pt x="317" y="962"/>
                  </a:lnTo>
                  <a:lnTo>
                    <a:pt x="349" y="950"/>
                  </a:lnTo>
                  <a:lnTo>
                    <a:pt x="383" y="950"/>
                  </a:lnTo>
                  <a:lnTo>
                    <a:pt x="416" y="950"/>
                  </a:lnTo>
                  <a:lnTo>
                    <a:pt x="449" y="950"/>
                  </a:lnTo>
                  <a:lnTo>
                    <a:pt x="527" y="950"/>
                  </a:lnTo>
                  <a:lnTo>
                    <a:pt x="560" y="939"/>
                  </a:lnTo>
                  <a:lnTo>
                    <a:pt x="594" y="927"/>
                  </a:lnTo>
                  <a:lnTo>
                    <a:pt x="626" y="927"/>
                  </a:lnTo>
                  <a:lnTo>
                    <a:pt x="660" y="927"/>
                  </a:lnTo>
                  <a:lnTo>
                    <a:pt x="704" y="904"/>
                  </a:lnTo>
                  <a:lnTo>
                    <a:pt x="738" y="904"/>
                  </a:lnTo>
                  <a:lnTo>
                    <a:pt x="815" y="893"/>
                  </a:lnTo>
                  <a:lnTo>
                    <a:pt x="849" y="881"/>
                  </a:lnTo>
                  <a:lnTo>
                    <a:pt x="881" y="870"/>
                  </a:lnTo>
                  <a:lnTo>
                    <a:pt x="948" y="870"/>
                  </a:lnTo>
                  <a:lnTo>
                    <a:pt x="1015" y="858"/>
                  </a:lnTo>
                  <a:lnTo>
                    <a:pt x="1104" y="835"/>
                  </a:lnTo>
                  <a:lnTo>
                    <a:pt x="1148" y="823"/>
                  </a:lnTo>
                  <a:lnTo>
                    <a:pt x="1214" y="812"/>
                  </a:lnTo>
                  <a:lnTo>
                    <a:pt x="1292" y="800"/>
                  </a:lnTo>
                  <a:lnTo>
                    <a:pt x="1381" y="789"/>
                  </a:lnTo>
                  <a:lnTo>
                    <a:pt x="1469" y="777"/>
                  </a:lnTo>
                  <a:lnTo>
                    <a:pt x="1503" y="777"/>
                  </a:lnTo>
                  <a:lnTo>
                    <a:pt x="1580" y="777"/>
                  </a:lnTo>
                  <a:lnTo>
                    <a:pt x="1614" y="766"/>
                  </a:lnTo>
                  <a:lnTo>
                    <a:pt x="1646" y="743"/>
                  </a:lnTo>
                  <a:lnTo>
                    <a:pt x="1670" y="731"/>
                  </a:lnTo>
                  <a:lnTo>
                    <a:pt x="1702" y="708"/>
                  </a:lnTo>
                  <a:lnTo>
                    <a:pt x="1736" y="685"/>
                  </a:lnTo>
                  <a:lnTo>
                    <a:pt x="1769" y="674"/>
                  </a:lnTo>
                  <a:lnTo>
                    <a:pt x="1802" y="662"/>
                  </a:lnTo>
                  <a:lnTo>
                    <a:pt x="1847" y="639"/>
                  </a:lnTo>
                  <a:lnTo>
                    <a:pt x="1891" y="639"/>
                  </a:lnTo>
                  <a:lnTo>
                    <a:pt x="1957" y="628"/>
                  </a:lnTo>
                  <a:lnTo>
                    <a:pt x="1991" y="616"/>
                  </a:lnTo>
                  <a:lnTo>
                    <a:pt x="2024" y="604"/>
                  </a:lnTo>
                  <a:lnTo>
                    <a:pt x="2057" y="570"/>
                  </a:lnTo>
                  <a:lnTo>
                    <a:pt x="2135" y="547"/>
                  </a:lnTo>
                  <a:lnTo>
                    <a:pt x="2168" y="524"/>
                  </a:lnTo>
                  <a:lnTo>
                    <a:pt x="2212" y="489"/>
                  </a:lnTo>
                  <a:lnTo>
                    <a:pt x="2246" y="466"/>
                  </a:lnTo>
                  <a:lnTo>
                    <a:pt x="2279" y="443"/>
                  </a:lnTo>
                  <a:lnTo>
                    <a:pt x="2312" y="420"/>
                  </a:lnTo>
                  <a:lnTo>
                    <a:pt x="2357" y="408"/>
                  </a:lnTo>
                  <a:lnTo>
                    <a:pt x="2401" y="374"/>
                  </a:lnTo>
                  <a:lnTo>
                    <a:pt x="2435" y="362"/>
                  </a:lnTo>
                  <a:lnTo>
                    <a:pt x="2467" y="339"/>
                  </a:lnTo>
                  <a:lnTo>
                    <a:pt x="2512" y="328"/>
                  </a:lnTo>
                  <a:lnTo>
                    <a:pt x="2545" y="316"/>
                  </a:lnTo>
                  <a:lnTo>
                    <a:pt x="2578" y="305"/>
                  </a:lnTo>
                  <a:lnTo>
                    <a:pt x="2601" y="293"/>
                  </a:lnTo>
                  <a:lnTo>
                    <a:pt x="2690" y="282"/>
                  </a:lnTo>
                  <a:lnTo>
                    <a:pt x="2722" y="282"/>
                  </a:lnTo>
                  <a:lnTo>
                    <a:pt x="2822" y="270"/>
                  </a:lnTo>
                  <a:lnTo>
                    <a:pt x="2889" y="270"/>
                  </a:lnTo>
                  <a:lnTo>
                    <a:pt x="2923" y="270"/>
                  </a:lnTo>
                  <a:lnTo>
                    <a:pt x="2955" y="270"/>
                  </a:lnTo>
                  <a:lnTo>
                    <a:pt x="2989" y="270"/>
                  </a:lnTo>
                  <a:lnTo>
                    <a:pt x="3089" y="259"/>
                  </a:lnTo>
                  <a:lnTo>
                    <a:pt x="3155" y="259"/>
                  </a:lnTo>
                  <a:lnTo>
                    <a:pt x="3266" y="259"/>
                  </a:lnTo>
                  <a:lnTo>
                    <a:pt x="3377" y="259"/>
                  </a:lnTo>
                  <a:lnTo>
                    <a:pt x="3465" y="259"/>
                  </a:lnTo>
                  <a:lnTo>
                    <a:pt x="3555" y="259"/>
                  </a:lnTo>
                  <a:lnTo>
                    <a:pt x="3621" y="259"/>
                  </a:lnTo>
                  <a:lnTo>
                    <a:pt x="3688" y="259"/>
                  </a:lnTo>
                  <a:lnTo>
                    <a:pt x="3720" y="247"/>
                  </a:lnTo>
                  <a:lnTo>
                    <a:pt x="3754" y="247"/>
                  </a:lnTo>
                  <a:lnTo>
                    <a:pt x="3788" y="224"/>
                  </a:lnTo>
                  <a:lnTo>
                    <a:pt x="3876" y="212"/>
                  </a:lnTo>
                  <a:lnTo>
                    <a:pt x="3909" y="201"/>
                  </a:lnTo>
                  <a:lnTo>
                    <a:pt x="3998" y="166"/>
                  </a:lnTo>
                  <a:lnTo>
                    <a:pt x="4043" y="132"/>
                  </a:lnTo>
                  <a:lnTo>
                    <a:pt x="4075" y="109"/>
                  </a:lnTo>
                  <a:lnTo>
                    <a:pt x="4109" y="86"/>
                  </a:lnTo>
                  <a:lnTo>
                    <a:pt x="4142" y="51"/>
                  </a:lnTo>
                  <a:lnTo>
                    <a:pt x="4164" y="17"/>
                  </a:lnTo>
                  <a:lnTo>
                    <a:pt x="4198" y="0"/>
                  </a:lnTo>
                </a:path>
              </a:pathLst>
            </a:custGeom>
            <a:noFill/>
            <a:ln cap="rnd" w="50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78" name="Freeform 7"/>
            <p:cNvSpPr/>
            <p:nvPr/>
          </p:nvSpPr>
          <p:spPr>
            <a:xfrm>
              <a:off x="1228680" y="3040200"/>
              <a:ext cx="6666120" cy="1282680"/>
            </a:xfrm>
            <a:custGeom>
              <a:avLst/>
              <a:gdLst>
                <a:gd name="textAreaLeft" fmla="*/ 0 w 6666120"/>
                <a:gd name="textAreaRight" fmla="*/ 6666480 w 6666120"/>
                <a:gd name="textAreaTop" fmla="*/ 0 h 1282680"/>
                <a:gd name="textAreaBottom" fmla="*/ 1283040 h 1282680"/>
              </a:gdLst>
              <a:ahLst/>
              <a:rect l="textAreaLeft" t="textAreaTop" r="textAreaRight" b="textAreaBottom"/>
              <a:pathLst>
                <a:path w="4199" h="808">
                  <a:moveTo>
                    <a:pt x="0" y="800"/>
                  </a:moveTo>
                  <a:lnTo>
                    <a:pt x="62" y="807"/>
                  </a:lnTo>
                  <a:lnTo>
                    <a:pt x="106" y="782"/>
                  </a:lnTo>
                  <a:lnTo>
                    <a:pt x="139" y="748"/>
                  </a:lnTo>
                  <a:lnTo>
                    <a:pt x="183" y="748"/>
                  </a:lnTo>
                  <a:lnTo>
                    <a:pt x="217" y="736"/>
                  </a:lnTo>
                  <a:lnTo>
                    <a:pt x="261" y="725"/>
                  </a:lnTo>
                  <a:lnTo>
                    <a:pt x="295" y="702"/>
                  </a:lnTo>
                  <a:lnTo>
                    <a:pt x="361" y="690"/>
                  </a:lnTo>
                  <a:lnTo>
                    <a:pt x="394" y="679"/>
                  </a:lnTo>
                  <a:lnTo>
                    <a:pt x="427" y="656"/>
                  </a:lnTo>
                  <a:lnTo>
                    <a:pt x="505" y="656"/>
                  </a:lnTo>
                  <a:lnTo>
                    <a:pt x="538" y="656"/>
                  </a:lnTo>
                  <a:lnTo>
                    <a:pt x="572" y="656"/>
                  </a:lnTo>
                  <a:lnTo>
                    <a:pt x="604" y="656"/>
                  </a:lnTo>
                  <a:lnTo>
                    <a:pt x="638" y="656"/>
                  </a:lnTo>
                  <a:lnTo>
                    <a:pt x="727" y="644"/>
                  </a:lnTo>
                  <a:lnTo>
                    <a:pt x="859" y="644"/>
                  </a:lnTo>
                  <a:lnTo>
                    <a:pt x="926" y="644"/>
                  </a:lnTo>
                  <a:lnTo>
                    <a:pt x="959" y="633"/>
                  </a:lnTo>
                  <a:lnTo>
                    <a:pt x="993" y="621"/>
                  </a:lnTo>
                  <a:lnTo>
                    <a:pt x="1026" y="610"/>
                  </a:lnTo>
                  <a:lnTo>
                    <a:pt x="1136" y="610"/>
                  </a:lnTo>
                  <a:lnTo>
                    <a:pt x="1248" y="610"/>
                  </a:lnTo>
                  <a:lnTo>
                    <a:pt x="1381" y="610"/>
                  </a:lnTo>
                  <a:lnTo>
                    <a:pt x="1492" y="610"/>
                  </a:lnTo>
                  <a:lnTo>
                    <a:pt x="1558" y="610"/>
                  </a:lnTo>
                  <a:lnTo>
                    <a:pt x="1636" y="610"/>
                  </a:lnTo>
                  <a:lnTo>
                    <a:pt x="1702" y="598"/>
                  </a:lnTo>
                  <a:lnTo>
                    <a:pt x="1736" y="588"/>
                  </a:lnTo>
                  <a:lnTo>
                    <a:pt x="1825" y="575"/>
                  </a:lnTo>
                  <a:lnTo>
                    <a:pt x="1857" y="563"/>
                  </a:lnTo>
                  <a:lnTo>
                    <a:pt x="1891" y="563"/>
                  </a:lnTo>
                  <a:lnTo>
                    <a:pt x="1935" y="552"/>
                  </a:lnTo>
                  <a:lnTo>
                    <a:pt x="1969" y="529"/>
                  </a:lnTo>
                  <a:lnTo>
                    <a:pt x="2002" y="517"/>
                  </a:lnTo>
                  <a:lnTo>
                    <a:pt x="2035" y="506"/>
                  </a:lnTo>
                  <a:lnTo>
                    <a:pt x="2068" y="494"/>
                  </a:lnTo>
                  <a:lnTo>
                    <a:pt x="2146" y="471"/>
                  </a:lnTo>
                  <a:lnTo>
                    <a:pt x="2212" y="471"/>
                  </a:lnTo>
                  <a:lnTo>
                    <a:pt x="2257" y="448"/>
                  </a:lnTo>
                  <a:lnTo>
                    <a:pt x="2290" y="425"/>
                  </a:lnTo>
                  <a:lnTo>
                    <a:pt x="2323" y="402"/>
                  </a:lnTo>
                  <a:lnTo>
                    <a:pt x="2390" y="392"/>
                  </a:lnTo>
                  <a:lnTo>
                    <a:pt x="2423" y="367"/>
                  </a:lnTo>
                  <a:lnTo>
                    <a:pt x="2457" y="356"/>
                  </a:lnTo>
                  <a:lnTo>
                    <a:pt x="2489" y="321"/>
                  </a:lnTo>
                  <a:lnTo>
                    <a:pt x="2556" y="310"/>
                  </a:lnTo>
                  <a:lnTo>
                    <a:pt x="2601" y="287"/>
                  </a:lnTo>
                  <a:lnTo>
                    <a:pt x="2634" y="264"/>
                  </a:lnTo>
                  <a:lnTo>
                    <a:pt x="2668" y="252"/>
                  </a:lnTo>
                  <a:lnTo>
                    <a:pt x="2756" y="241"/>
                  </a:lnTo>
                  <a:lnTo>
                    <a:pt x="2822" y="241"/>
                  </a:lnTo>
                  <a:lnTo>
                    <a:pt x="2856" y="229"/>
                  </a:lnTo>
                  <a:lnTo>
                    <a:pt x="2945" y="229"/>
                  </a:lnTo>
                  <a:lnTo>
                    <a:pt x="3033" y="229"/>
                  </a:lnTo>
                  <a:lnTo>
                    <a:pt x="3067" y="229"/>
                  </a:lnTo>
                  <a:lnTo>
                    <a:pt x="3100" y="218"/>
                  </a:lnTo>
                  <a:lnTo>
                    <a:pt x="3188" y="218"/>
                  </a:lnTo>
                  <a:lnTo>
                    <a:pt x="3277" y="218"/>
                  </a:lnTo>
                  <a:lnTo>
                    <a:pt x="3310" y="218"/>
                  </a:lnTo>
                  <a:lnTo>
                    <a:pt x="3377" y="218"/>
                  </a:lnTo>
                  <a:lnTo>
                    <a:pt x="3410" y="218"/>
                  </a:lnTo>
                  <a:lnTo>
                    <a:pt x="3521" y="218"/>
                  </a:lnTo>
                  <a:lnTo>
                    <a:pt x="3610" y="218"/>
                  </a:lnTo>
                  <a:lnTo>
                    <a:pt x="3643" y="218"/>
                  </a:lnTo>
                  <a:lnTo>
                    <a:pt x="3710" y="218"/>
                  </a:lnTo>
                  <a:lnTo>
                    <a:pt x="3776" y="218"/>
                  </a:lnTo>
                  <a:lnTo>
                    <a:pt x="3810" y="218"/>
                  </a:lnTo>
                  <a:lnTo>
                    <a:pt x="3854" y="218"/>
                  </a:lnTo>
                  <a:lnTo>
                    <a:pt x="3898" y="206"/>
                  </a:lnTo>
                  <a:lnTo>
                    <a:pt x="3965" y="196"/>
                  </a:lnTo>
                  <a:lnTo>
                    <a:pt x="4009" y="171"/>
                  </a:lnTo>
                  <a:lnTo>
                    <a:pt x="4043" y="137"/>
                  </a:lnTo>
                  <a:lnTo>
                    <a:pt x="4075" y="114"/>
                  </a:lnTo>
                  <a:lnTo>
                    <a:pt x="4109" y="91"/>
                  </a:lnTo>
                  <a:lnTo>
                    <a:pt x="4142" y="68"/>
                  </a:lnTo>
                  <a:lnTo>
                    <a:pt x="4175" y="33"/>
                  </a:lnTo>
                  <a:lnTo>
                    <a:pt x="4186" y="0"/>
                  </a:lnTo>
                  <a:lnTo>
                    <a:pt x="4198" y="12"/>
                  </a:lnTo>
                </a:path>
              </a:pathLst>
            </a:custGeom>
            <a:noFill/>
            <a:ln cap="rnd" w="507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grpSp>
          <p:nvGrpSpPr>
            <p:cNvPr id="879" name="Group 10"/>
            <p:cNvGrpSpPr/>
            <p:nvPr/>
          </p:nvGrpSpPr>
          <p:grpSpPr>
            <a:xfrm>
              <a:off x="1228680" y="2057400"/>
              <a:ext cx="7305840" cy="4091040"/>
              <a:chOff x="1228680" y="2057400"/>
              <a:chExt cx="7305840" cy="4091040"/>
            </a:xfrm>
          </p:grpSpPr>
          <p:sp>
            <p:nvSpPr>
              <p:cNvPr id="880" name="Line 8"/>
              <p:cNvSpPr/>
              <p:nvPr/>
            </p:nvSpPr>
            <p:spPr>
              <a:xfrm>
                <a:off x="1228680" y="2057400"/>
                <a:ext cx="0" cy="4091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  <p:sp>
            <p:nvSpPr>
              <p:cNvPr id="881" name="Line 9"/>
              <p:cNvSpPr/>
              <p:nvPr/>
            </p:nvSpPr>
            <p:spPr>
              <a:xfrm>
                <a:off x="1228680" y="6148440"/>
                <a:ext cx="7305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</p:grpSp>
        <p:sp>
          <p:nvSpPr>
            <p:cNvPr id="882" name="Rectangle 11"/>
            <p:cNvSpPr/>
            <p:nvPr/>
          </p:nvSpPr>
          <p:spPr>
            <a:xfrm rot="16200000">
              <a:off x="448200" y="4488120"/>
              <a:ext cx="2167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combination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83" name="Rectangle 12"/>
            <p:cNvSpPr/>
            <p:nvPr/>
          </p:nvSpPr>
          <p:spPr>
            <a:xfrm rot="16200000">
              <a:off x="1618200" y="4777560"/>
              <a:ext cx="1508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onization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84" name="Rectangle 13"/>
            <p:cNvSpPr/>
            <p:nvPr/>
          </p:nvSpPr>
          <p:spPr>
            <a:xfrm rot="16200000">
              <a:off x="3517200" y="4302000"/>
              <a:ext cx="2973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imited Proportional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85" name="Rectangle 14"/>
            <p:cNvSpPr/>
            <p:nvPr/>
          </p:nvSpPr>
          <p:spPr>
            <a:xfrm rot="16200000">
              <a:off x="2717280" y="4620600"/>
              <a:ext cx="1863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portional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86" name="Rectangle 15"/>
            <p:cNvSpPr/>
            <p:nvPr/>
          </p:nvSpPr>
          <p:spPr>
            <a:xfrm rot="16200000">
              <a:off x="5075640" y="4486320"/>
              <a:ext cx="2178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eiger Mueller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87" name="Rectangle 16"/>
            <p:cNvSpPr/>
            <p:nvPr/>
          </p:nvSpPr>
          <p:spPr>
            <a:xfrm rot="16200000">
              <a:off x="-763200" y="4162320"/>
              <a:ext cx="2981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umber of Ions Collected</a:t>
              </a:r>
              <a:endParaRPr b="0" lang="en-US" sz="20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88" name="Rectangle 17"/>
            <p:cNvSpPr/>
            <p:nvPr/>
          </p:nvSpPr>
          <p:spPr>
            <a:xfrm rot="16200000">
              <a:off x="5877360" y="4217400"/>
              <a:ext cx="3072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ntinuous Discharge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89" name="Line 18"/>
            <p:cNvSpPr/>
            <p:nvPr/>
          </p:nvSpPr>
          <p:spPr>
            <a:xfrm flipV="1">
              <a:off x="1870200" y="2055600"/>
              <a:ext cx="0" cy="409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90" name="Line 19"/>
            <p:cNvSpPr/>
            <p:nvPr/>
          </p:nvSpPr>
          <p:spPr>
            <a:xfrm flipV="1">
              <a:off x="2913120" y="2055600"/>
              <a:ext cx="0" cy="409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91" name="Line 20"/>
            <p:cNvSpPr/>
            <p:nvPr/>
          </p:nvSpPr>
          <p:spPr>
            <a:xfrm flipV="1">
              <a:off x="4519440" y="2055600"/>
              <a:ext cx="0" cy="409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92" name="Line 21"/>
            <p:cNvSpPr/>
            <p:nvPr/>
          </p:nvSpPr>
          <p:spPr>
            <a:xfrm flipV="1">
              <a:off x="5564160" y="2055600"/>
              <a:ext cx="0" cy="409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93" name="Line 22"/>
            <p:cNvSpPr/>
            <p:nvPr/>
          </p:nvSpPr>
          <p:spPr>
            <a:xfrm flipV="1">
              <a:off x="6848640" y="2055600"/>
              <a:ext cx="0" cy="409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94" name="Rectangle 23"/>
            <p:cNvSpPr/>
            <p:nvPr/>
          </p:nvSpPr>
          <p:spPr>
            <a:xfrm>
              <a:off x="4178520" y="6346800"/>
              <a:ext cx="1021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oltage</a:t>
              </a:r>
              <a:endParaRPr b="0" lang="en-US" sz="20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</p:grpSp>
      <p:grpSp>
        <p:nvGrpSpPr>
          <p:cNvPr id="895" name="Group 30"/>
          <p:cNvGrpSpPr/>
          <p:nvPr/>
        </p:nvGrpSpPr>
        <p:grpSpPr>
          <a:xfrm>
            <a:off x="287280" y="1706400"/>
            <a:ext cx="8170920" cy="397440"/>
            <a:chOff x="287280" y="1706400"/>
            <a:chExt cx="8170920" cy="397440"/>
          </a:xfrm>
        </p:grpSpPr>
        <p:sp>
          <p:nvSpPr>
            <p:cNvPr id="896" name="Rectangle 25"/>
            <p:cNvSpPr/>
            <p:nvPr/>
          </p:nvSpPr>
          <p:spPr>
            <a:xfrm>
              <a:off x="287280" y="1706400"/>
              <a:ext cx="7391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ission produc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lpha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eta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amma</a:t>
              </a:r>
              <a:endParaRPr b="0" lang="en-US" sz="20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97" name="Line 26"/>
            <p:cNvSpPr/>
            <p:nvPr/>
          </p:nvSpPr>
          <p:spPr>
            <a:xfrm>
              <a:off x="2057400" y="1905120"/>
              <a:ext cx="762120" cy="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98" name="Line 27"/>
            <p:cNvSpPr/>
            <p:nvPr/>
          </p:nvSpPr>
          <p:spPr>
            <a:xfrm>
              <a:off x="3886200" y="1905120"/>
              <a:ext cx="76212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99" name="Line 28"/>
            <p:cNvSpPr/>
            <p:nvPr/>
          </p:nvSpPr>
          <p:spPr>
            <a:xfrm>
              <a:off x="5562720" y="1905120"/>
              <a:ext cx="761760" cy="0"/>
            </a:xfrm>
            <a:prstGeom prst="line">
              <a:avLst/>
            </a:prstGeom>
            <a:ln w="1260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900" name="Line 29"/>
            <p:cNvSpPr/>
            <p:nvPr/>
          </p:nvSpPr>
          <p:spPr>
            <a:xfrm>
              <a:off x="7696080" y="1905120"/>
              <a:ext cx="762120" cy="0"/>
            </a:xfrm>
            <a:prstGeom prst="line">
              <a:avLst/>
            </a:prstGeom>
            <a:ln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2"/>
          <p:cNvSpPr/>
          <p:nvPr/>
        </p:nvSpPr>
        <p:spPr>
          <a:xfrm>
            <a:off x="1676520" y="304920"/>
            <a:ext cx="64008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RO-2, 2A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02" name="Rectangle 3"/>
          <p:cNvSpPr/>
          <p:nvPr/>
        </p:nvSpPr>
        <p:spPr>
          <a:xfrm>
            <a:off x="2133720" y="5792760"/>
            <a:ext cx="5029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Ion Chamber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03" name="Picture 4" descr=""/>
          <p:cNvPicPr/>
          <p:nvPr/>
        </p:nvPicPr>
        <p:blipFill>
          <a:blip r:embed="rId1"/>
          <a:stretch/>
        </p:blipFill>
        <p:spPr>
          <a:xfrm>
            <a:off x="2976480" y="1143000"/>
            <a:ext cx="336096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2"/>
          <p:cNvSpPr/>
          <p:nvPr/>
        </p:nvSpPr>
        <p:spPr>
          <a:xfrm>
            <a:off x="1676520" y="304920"/>
            <a:ext cx="64008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RO-7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05" name="Rectangle 3"/>
          <p:cNvSpPr/>
          <p:nvPr/>
        </p:nvSpPr>
        <p:spPr>
          <a:xfrm>
            <a:off x="2133720" y="5792760"/>
            <a:ext cx="5029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Ion Chamber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06" name="Picture 4" descr=""/>
          <p:cNvPicPr/>
          <p:nvPr/>
        </p:nvPicPr>
        <p:blipFill>
          <a:blip r:embed="rId1"/>
          <a:stretch/>
        </p:blipFill>
        <p:spPr>
          <a:xfrm>
            <a:off x="1905120" y="1152360"/>
            <a:ext cx="557532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2"/>
          <p:cNvSpPr/>
          <p:nvPr/>
        </p:nvSpPr>
        <p:spPr>
          <a:xfrm>
            <a:off x="1219320" y="304920"/>
            <a:ext cx="70866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RSO-50E, 5, 50, 500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08" name="Rectangle 3"/>
          <p:cNvSpPr/>
          <p:nvPr/>
        </p:nvSpPr>
        <p:spPr>
          <a:xfrm>
            <a:off x="2133720" y="5792760"/>
            <a:ext cx="5029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Ion Chamber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09" name="Picture 4" descr=""/>
          <p:cNvPicPr/>
          <p:nvPr/>
        </p:nvPicPr>
        <p:blipFill>
          <a:blip r:embed="rId1"/>
          <a:stretch/>
        </p:blipFill>
        <p:spPr>
          <a:xfrm>
            <a:off x="2438280" y="1135080"/>
            <a:ext cx="441324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2"/>
          <p:cNvSpPr/>
          <p:nvPr/>
        </p:nvSpPr>
        <p:spPr>
          <a:xfrm>
            <a:off x="914400" y="304920"/>
            <a:ext cx="74674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PCM-1B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11" name="Rectangle 3"/>
          <p:cNvSpPr/>
          <p:nvPr/>
        </p:nvSpPr>
        <p:spPr>
          <a:xfrm>
            <a:off x="762120" y="5869080"/>
            <a:ext cx="76960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Gas Proportional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12" name="Picture 4" descr=""/>
          <p:cNvPicPr/>
          <p:nvPr/>
        </p:nvPicPr>
        <p:blipFill>
          <a:blip r:embed="rId1"/>
          <a:stretch/>
        </p:blipFill>
        <p:spPr>
          <a:xfrm>
            <a:off x="3429000" y="1295280"/>
            <a:ext cx="25272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34:56Z</dcterms:created>
  <dc:creator>Kerr, Sue Ann</dc:creator>
  <dc:description/>
  <dc:language>en-US</dc:language>
  <cp:lastModifiedBy>Peggy Hines IRSC</cp:lastModifiedBy>
  <cp:lastPrinted>2003-10-28T18:50:13Z</cp:lastPrinted>
  <dcterms:modified xsi:type="dcterms:W3CDTF">2013-04-15T17:15:00Z</dcterms:modified>
  <cp:revision>31</cp:revision>
  <dc:subject/>
  <dc:title>No Slide Title</dc:title>
</cp:coreProperties>
</file>