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CAA5-B378-4A81-9566-30949FB04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51FE-5EFE-45DB-87AE-5350816A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3D0-132A-4955-8D6A-A52D3747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09A-702C-4CB6-9398-8FD6EB9E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11C-5453-49EC-B402-40E584C9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A0A-1384-4324-94F0-952C1937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B323-C2DD-4436-9D65-43AEF277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DB9-BF59-4BA2-B5F6-4E064ED2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345A-790F-435F-8F7C-E6CC23F0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8587-E901-4AAD-96B8-9110A5F7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9484-F644-44CC-A035-ACBD2716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67CC-FB14-4D58-9337-BC48257E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0362-8753-4383-87BB-EF62EBA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718-6DB4-499D-9891-677A010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5380-7641-4E43-A753-7027437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22FC-C0A7-4DF8-ABE0-C23CB3C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23D3-9224-45DE-8011-D199FCE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09F1-6AC2-4A1E-B418-6D958280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A65A-53B0-44E4-9D0C-D1FB0A70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57A-5050-4795-BBF9-33C4384F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229-27D1-4427-AA07-138D8DC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FD4-225B-407E-9A4E-33DC4C90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816-3F15-467D-8CE7-4A9C60B5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B69-4CE7-472D-8D63-D0A83A0A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4CB-F177-4DF1-A8BA-F5777FF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246-12A2-4901-9125-1CBD767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1215-D12F-465E-B6AF-A62EF4D80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DD6F3D-B3D6-4908-8409-7A0BA761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9B885EF5-F5CF-4AA0-A97C-309546BA8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2585A5-D3BA-45C8-AE48-61FF98806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3AE38CC4-4DA4-43F0-9456-E177FD47F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40D3-CA8E-4C7E-A511-38F9E015A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52280" y="114300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, gas-filled, scintillation, alpha source, beta source, counter test, counting efficiency,  minimum detectable activity, percent slope, counter voltage, sourc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4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24000" y="2133720"/>
          <a:ext cx="8667720" cy="1828800"/>
        </p:xfrm>
        <a:graphic>
          <a:graphicData uri="http://schemas.openxmlformats.org/drawingml/2006/table">
            <a:tbl>
              <a:tblPr/>
              <a:tblGrid>
                <a:gridCol w="1047600"/>
                <a:gridCol w="1066680"/>
                <a:gridCol w="1067040"/>
                <a:gridCol w="761760"/>
                <a:gridCol w="990720"/>
                <a:gridCol w="990720"/>
                <a:gridCol w="1295280"/>
                <a:gridCol w="1447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7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Reli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ck 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– Tc-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– Th-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able to National Institute of Standards and Technology (N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c-9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211,0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Energ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verag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85 Me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Maximu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95 M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Conservativ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ays by Beta only (No Gam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ughter In-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h-2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75,4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Particle Energ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8 MeV, 76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2 MeV, 2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an Efficiency Appropriate with Alphas in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ROR PREVENTION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WAYS FOLLOW PROCED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HANDLING SOURC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ACTIVE MATERIAL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tting the Operating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UTION: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just Detector Voltage Slowly.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pid High Voltage Transits Can Damage Detec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CUS ON THE F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ustri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quipment Reliabi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ake Care of Your Equip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llence in Human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lerance for Equipment Deficienc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Report Probl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owest Voltage Setting Producing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Source into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Voltage 50 Volts &amp; 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until Counts Rise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o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perating Vol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cessive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ssive Applied Voltage M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 in Detector Dam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Not Exceed the Following Values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Counters – 19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-M Detectors                      – 16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ntillation Counters          – 1500 Vo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lculate Percent S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 Slope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2 X 10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(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– 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Base of Plat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Top of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Deter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ormed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Empty, Clean Planchet into Cha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quire 10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2 Types of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3 Types of Gas Filled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2 Scintillation Detect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Beta and Alpha Sources Used to Check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Squar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 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Background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Approximately 20 1-Minute Cou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ute Average of 1-Minute Counts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quare Each Count Value (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x-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ify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ed in Conjunction with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ndout 4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Lower &amp; Upper 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unting Efficiency (Absolu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 =  (Number of Pulses Recorded)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(Number of Radiation Quan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Emit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0-Minute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ctivity Which Increases Instrument Readings by an Amount Equal to 3 Times the Standard Deviation of the Background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andout 5 Work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-Squar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Maximum Voltages for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atistical Test Used for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 for thi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Expected Value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unting Time f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Count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nditions that Indicate the Presence of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ctors Used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boratory Cou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s-Filled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onizat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iger-Mueller (G-M)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-M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Scaler, Beta-Gamma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Iodide (Thallium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NaI(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nc Sulf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Z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S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Alpha Scaler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2:29:57Z</dcterms:created>
  <dc:creator>Ralph G. Wallace`</dc:creator>
  <dc:description/>
  <dc:language>en-US</dc:language>
  <cp:lastModifiedBy>Peggy Hines IRSC</cp:lastModifiedBy>
  <dcterms:modified xsi:type="dcterms:W3CDTF">2013-04-02T18:31:00Z</dcterms:modified>
  <cp:revision>16</cp:revision>
  <dc:subject/>
  <dc:title>CORE RADIOLOCICAL  INSTRUCTIONS</dc:title>
</cp:coreProperties>
</file>