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  <p:sldId id="328" r:id="rId92"/>
    <p:sldId id="329" r:id="rId93"/>
    <p:sldId id="330" r:id="rId94"/>
    <p:sldId id="331" r:id="rId95"/>
    <p:sldId id="332" r:id="rId96"/>
    <p:sldId id="333" r:id="rId97"/>
    <p:sldId id="334" r:id="rId98"/>
    <p:sldId id="335" r:id="rId99"/>
    <p:sldId id="336" r:id="rId100"/>
    <p:sldId id="337" r:id="rId101"/>
    <p:sldId id="338" r:id="rId102"/>
    <p:sldId id="339" r:id="rId103"/>
    <p:sldId id="340" r:id="rId104"/>
    <p:sldId id="341" r:id="rId105"/>
    <p:sldId id="342" r:id="rId106"/>
    <p:sldId id="343" r:id="rId107"/>
    <p:sldId id="344" r:id="rId108"/>
    <p:sldId id="345" r:id="rId109"/>
    <p:sldId id="346" r:id="rId110"/>
    <p:sldId id="347" r:id="rId111"/>
    <p:sldId id="348" r:id="rId112"/>
    <p:sldId id="349" r:id="rId113"/>
    <p:sldId id="350" r:id="rId114"/>
    <p:sldId id="351" r:id="rId115"/>
    <p:sldId id="352" r:id="rId116"/>
    <p:sldId id="353" r:id="rId117"/>
    <p:sldId id="354" r:id="rId118"/>
    <p:sldId id="355" r:id="rId119"/>
    <p:sldId id="356" r:id="rId120"/>
    <p:sldId id="357" r:id="rId121"/>
    <p:sldId id="358" r:id="rId122"/>
    <p:sldId id="359" r:id="rId123"/>
    <p:sldId id="360" r:id="rId124"/>
    <p:sldId id="361" r:id="rId125"/>
    <p:sldId id="362" r:id="rId126"/>
    <p:sldId id="363" r:id="rId127"/>
    <p:sldId id="364" r:id="rId128"/>
    <p:sldId id="365" r:id="rId129"/>
    <p:sldId id="366" r:id="rId130"/>
    <p:sldId id="367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slide" Target="slides/slide73.xml"/><Relationship Id="rId93" Type="http://schemas.openxmlformats.org/officeDocument/2006/relationships/slide" Target="slides/slide74.xml"/><Relationship Id="rId94" Type="http://schemas.openxmlformats.org/officeDocument/2006/relationships/slide" Target="slides/slide75.xml"/><Relationship Id="rId95" Type="http://schemas.openxmlformats.org/officeDocument/2006/relationships/slide" Target="slides/slide76.xml"/><Relationship Id="rId96" Type="http://schemas.openxmlformats.org/officeDocument/2006/relationships/slide" Target="slides/slide77.xml"/><Relationship Id="rId97" Type="http://schemas.openxmlformats.org/officeDocument/2006/relationships/slide" Target="slides/slide78.xml"/><Relationship Id="rId98" Type="http://schemas.openxmlformats.org/officeDocument/2006/relationships/slide" Target="slides/slide79.xml"/><Relationship Id="rId99" Type="http://schemas.openxmlformats.org/officeDocument/2006/relationships/slide" Target="slides/slide80.xml"/><Relationship Id="rId100" Type="http://schemas.openxmlformats.org/officeDocument/2006/relationships/slide" Target="slides/slide81.xml"/><Relationship Id="rId101" Type="http://schemas.openxmlformats.org/officeDocument/2006/relationships/slide" Target="slides/slide82.xml"/><Relationship Id="rId102" Type="http://schemas.openxmlformats.org/officeDocument/2006/relationships/slide" Target="slides/slide83.xml"/><Relationship Id="rId103" Type="http://schemas.openxmlformats.org/officeDocument/2006/relationships/slide" Target="slides/slide84.xml"/><Relationship Id="rId104" Type="http://schemas.openxmlformats.org/officeDocument/2006/relationships/slide" Target="slides/slide85.xml"/><Relationship Id="rId105" Type="http://schemas.openxmlformats.org/officeDocument/2006/relationships/slide" Target="slides/slide86.xml"/><Relationship Id="rId106" Type="http://schemas.openxmlformats.org/officeDocument/2006/relationships/slide" Target="slides/slide87.xml"/><Relationship Id="rId107" Type="http://schemas.openxmlformats.org/officeDocument/2006/relationships/slide" Target="slides/slide88.xml"/><Relationship Id="rId108" Type="http://schemas.openxmlformats.org/officeDocument/2006/relationships/slide" Target="slides/slide89.xml"/><Relationship Id="rId109" Type="http://schemas.openxmlformats.org/officeDocument/2006/relationships/slide" Target="slides/slide90.xml"/><Relationship Id="rId110" Type="http://schemas.openxmlformats.org/officeDocument/2006/relationships/slide" Target="slides/slide91.xml"/><Relationship Id="rId111" Type="http://schemas.openxmlformats.org/officeDocument/2006/relationships/slide" Target="slides/slide92.xml"/><Relationship Id="rId112" Type="http://schemas.openxmlformats.org/officeDocument/2006/relationships/slide" Target="slides/slide93.xml"/><Relationship Id="rId113" Type="http://schemas.openxmlformats.org/officeDocument/2006/relationships/slide" Target="slides/slide94.xml"/><Relationship Id="rId114" Type="http://schemas.openxmlformats.org/officeDocument/2006/relationships/slide" Target="slides/slide95.xml"/><Relationship Id="rId115" Type="http://schemas.openxmlformats.org/officeDocument/2006/relationships/slide" Target="slides/slide96.xml"/><Relationship Id="rId116" Type="http://schemas.openxmlformats.org/officeDocument/2006/relationships/slide" Target="slides/slide97.xml"/><Relationship Id="rId117" Type="http://schemas.openxmlformats.org/officeDocument/2006/relationships/slide" Target="slides/slide98.xml"/><Relationship Id="rId118" Type="http://schemas.openxmlformats.org/officeDocument/2006/relationships/slide" Target="slides/slide99.xml"/><Relationship Id="rId119" Type="http://schemas.openxmlformats.org/officeDocument/2006/relationships/slide" Target="slides/slide100.xml"/><Relationship Id="rId120" Type="http://schemas.openxmlformats.org/officeDocument/2006/relationships/slide" Target="slides/slide101.xml"/><Relationship Id="rId121" Type="http://schemas.openxmlformats.org/officeDocument/2006/relationships/slide" Target="slides/slide102.xml"/><Relationship Id="rId122" Type="http://schemas.openxmlformats.org/officeDocument/2006/relationships/slide" Target="slides/slide103.xml"/><Relationship Id="rId123" Type="http://schemas.openxmlformats.org/officeDocument/2006/relationships/slide" Target="slides/slide104.xml"/><Relationship Id="rId124" Type="http://schemas.openxmlformats.org/officeDocument/2006/relationships/slide" Target="slides/slide105.xml"/><Relationship Id="rId125" Type="http://schemas.openxmlformats.org/officeDocument/2006/relationships/slide" Target="slides/slide106.xml"/><Relationship Id="rId126" Type="http://schemas.openxmlformats.org/officeDocument/2006/relationships/slide" Target="slides/slide107.xml"/><Relationship Id="rId127" Type="http://schemas.openxmlformats.org/officeDocument/2006/relationships/slide" Target="slides/slide108.xml"/><Relationship Id="rId128" Type="http://schemas.openxmlformats.org/officeDocument/2006/relationships/slide" Target="slides/slide109.xml"/><Relationship Id="rId129" Type="http://schemas.openxmlformats.org/officeDocument/2006/relationships/slide" Target="slides/slide110.xml"/><Relationship Id="rId130" Type="http://schemas.openxmlformats.org/officeDocument/2006/relationships/slide" Target="slides/slide111.xml"/><Relationship Id="rId131" Type="http://schemas.openxmlformats.org/officeDocument/2006/relationships/slide" Target="slides/slide112.xml"/><Relationship Id="rId1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2FC0-7A19-4216-A976-B96B66A18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3C18-C9AD-4450-AA5D-86256CF11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822A-FAC6-43D5-8B49-A72082179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8A0-3BF2-417F-929B-F4C7138F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D10-6C0B-499C-A53C-BD797317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79BF9-9126-428E-B57C-796920D1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BE0F9-97FB-42D1-8538-B6315FDB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14D70-B932-40D8-A9D9-BAF43A90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E173F-D950-40D1-B55B-287CA743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8DEAF-CD80-4303-9B40-13A841EC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698DC-9B06-4AC2-9C77-5B843F9B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4FB98-5DC7-4D84-AA78-0B9F292A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D5E41-B70D-40B6-A953-5DB860F2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3EA0C-63EB-4A55-9110-27B33895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6EF88-BDA4-4B22-8995-42C4B21C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4E3-0F83-4B3F-AD10-DD6AF71A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F1843-C497-47D6-9AB3-2C046010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3E718-4A31-4E5A-8A43-6A16EEDA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96960-37A4-4B8F-A77B-FFDE0C3E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E4854-FA67-4816-B74E-00D81836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8E4AB-CC4A-433B-B6E0-78E0C2DE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2446C-0994-42A8-8A48-1E64DEE2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E330F-88F8-4E90-9EA9-318A4D49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B6E08-C50F-45F7-B321-7FE186BA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12977-CED0-4667-9503-66F63CC7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05AA2-3C06-49A0-9C44-EED111A8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9BF-892F-4C02-89BA-D417E7AC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77FA4-5611-44A9-AB12-B5D19E58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99594-2815-480A-A074-4FD96070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2975C-4A67-45FB-B62E-852D5E81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12D45-D028-4FF2-AFC3-41CE2F35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A0E3D-0882-4C0C-B6CB-4CEEA182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163F4-9FC5-498D-B069-26AF4F34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65180-9150-453C-B8E6-C557D681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24B63-E5A4-452D-BF1B-060ED054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481B3-BDF6-428A-B644-DE5AACF6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F431F-5DF0-4C6A-B131-B75220AC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1B35-F2E3-4415-ACB1-7A2AC8EA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784C8-0B4A-4150-9AEE-6EA2C4A5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7B393-1809-4222-B84A-C04EC8C6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E9150-536F-4467-AD7B-5C491930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EAE3B-8091-43D8-94E3-0D547C25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BF637-AFAF-4A52-9A23-F56C6645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02789-845F-4910-AC36-109FD142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5AB0D-5DD8-4471-AA08-F71D754F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34851-211A-4CDB-A26F-820BCCC6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4BDC9-A837-4135-AD65-81BC3D21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1B5D5-E10C-4AAE-8196-5459C85B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B867-57EA-48B3-8E8E-711DCD7C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B898E-9DF4-4EF9-8B0C-0D508740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D7A31-0D68-4F94-AED8-F4525441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714E0-2EBF-4B83-9E3E-EE258055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87870-3DB6-45FF-86AF-A068C8A2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71030-DC22-4D32-9D33-F7B22248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2CFDE-2646-4B30-8556-FE8C8A61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CDB58-9DA3-4D85-BA1B-A1A42419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1968A-9974-4760-B78A-74A59057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9A99F-DD88-4CA7-ADFD-D33FBF57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AEA7F-6101-4A30-9282-C5919C42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3942-08E8-4579-8DE1-FCCAD5BF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E8033-F017-401C-ADBB-F49CA027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F9AF3-90AD-4BD9-8294-A3F75B0C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02DA2-5B13-4554-81A9-65AED9B1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F5FC1-7EF1-4547-BB99-B18E2771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58C27-44B3-4F42-BEF7-2F725558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1EB2E-1A2A-49B3-B38C-38969075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3CE60-BCB0-4106-A49E-EAC7CCB8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7C60B-C00F-42D2-BA11-8B1656C4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BF307-418A-41E7-A03E-4CDB0C19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E26FE7-051A-41BD-AC08-7133D249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F74E-BDA5-4F29-B7AB-270086E0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C94C5-556D-4974-8FC4-72CBE346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55692-6FBB-456A-AE64-66905166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CE879-C607-4B8C-9EE8-2B263E30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6756B-2EC4-4350-AC09-5166B46E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A5782-D940-433A-B196-72C40368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E00372-C35D-448B-BF3E-5823A77F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8A8CF7-8F48-477A-948C-CF963468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1C2046-E76A-48E4-A9F0-44CA7F17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230B9-047C-442E-B4A8-CE5537FA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3BBC7B-D6C8-4168-B771-543D63B0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C409-2EB3-41F5-A833-14EB2A7A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E2B6B-11E5-4C86-BC58-E3389B84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040C4-8D16-49FF-9DD3-C2692890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96BDAC-002D-45FA-B54E-5CE5DECB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49FBE-82A5-4762-9209-5E8FB91A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344DD1-E745-413D-9538-72E85533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CB1C19-3003-4E0F-BBCC-FB0F5C3D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738BD-9AB2-499B-9A56-D4D2FD95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91F49-7691-477D-8FF0-C9C2B3D7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EDDCE-2A79-44FD-A21D-57E4B8EE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B28E7E-37A8-4E65-BC9F-41E5C0B8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EE84-FB4D-4E73-9A4A-3A3DCB9C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DC5C00-D8A0-4E76-A23B-9AE1262F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49373A-6C65-47D2-8E0D-6706D03F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E0575-082F-4A1E-99C8-4265FB3A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51F937-CD95-4072-A1C3-2C9C0FAD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1197ED-F148-41ED-838C-EB17E410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CE9147-6E61-4328-BBA7-7228443B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7998D2-21B9-48F0-B209-D1D37E3C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EF5A4C-3F7F-48DE-A954-7A375BCD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1562C3-5FCA-4550-9F2E-C8A72D4C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7EB8BB-45F9-42B9-87FA-1ACFB7C7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D6B9-500C-473C-9B70-38BF51CD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E12177-C31A-4CD0-87E7-CB10DAB3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C01CEC-6318-47A9-B69A-EE5AA38C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4DEA4-057D-49C8-A278-BCC638E5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F3849D-444F-4B2A-97A8-F2460163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F85971-2EEE-42B9-AD0B-ED3034F4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EA043B-E986-4743-AE95-F3E16002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46989-A847-4EFF-B5CC-847A290A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8EEA44-F25B-4C5B-ACBD-7BB3386B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7564C8-DFCF-4924-9D2F-44AC9219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B6B52-8817-4731-A25E-7A019C9F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916-ADC0-4AC8-960F-92C7FA6B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3E7D-CE68-4298-8BBF-F56156A3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735D0-23A5-4040-A42C-5B8A5F06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0009E-671D-4AF9-9AF2-0F7B282B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D44CE-7445-44BA-82EC-B02C528D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C37E89-51BA-40B2-94D3-88085124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FB477B-54E6-4E9A-9E20-BF5A8177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ABA9-01AF-4426-A471-BCBF8360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CD47-8DD7-4507-BC59-A9E24556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EE2A-E45C-4D36-87C9-2963FF11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743B-CE45-4833-BCD9-8EFDB24E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CF60B-C77E-40EE-A0A6-BD411A3B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4F370-57BA-4EB7-B1C0-30508F1E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A97D5-2F38-4CA9-84BE-2382B0A1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6EDA8-E953-4F37-9D2A-D88D6708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BB789-0E9E-4064-9B54-9457C8D8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C838-933D-49E2-8F3B-4767A3B4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B2945-0D55-4CD2-BE9A-FEBEC2E8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C0CED-0744-4A79-B3A0-BE839D31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EB35B-3A47-453E-8C94-61E03BB4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98E1-921F-4935-A983-D9E6084F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125B2-89F7-4AAF-9061-934F06C1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187A1-14E3-4481-BB2A-9D591FD9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C7F72-EC9A-4816-9468-47027761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E83C2-3B55-4ABD-927B-37890D7F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85575-42FD-4400-ABA2-CCED9B64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5A3F0-EAAC-49DF-8685-93671C19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0FB-B323-4925-A869-4963BB9A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12326-5EF5-4025-8E68-E1A0BEF6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3181-6B4E-4BA1-90DB-6469B521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E9865-45FB-490F-868E-FBD2F0FE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E9FB5-39EC-4D5B-BEA4-2C04D62F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5B60-C179-4548-AD62-AE122A21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08D14-F89B-4D44-A64C-63F3D145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AC213-10EF-475E-95A5-F0400774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1EADF-1EA8-4A84-AD31-EED7266B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DE98E-5DFE-4C3D-B07B-844282F1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D3C19-79BB-4A35-BB81-045F3DDE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472-8D76-47E6-8F81-4316661B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641AD-26CB-4FE7-BEF4-C866C017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3731C-CA40-4C89-9935-49A215CA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A3139-EE79-44F3-8AD9-79362B45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C14AE-CEEA-4B03-9F90-EDF82A3F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8C6A0-8265-4361-A75F-9758EF0E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41A4E-574B-45F6-BE0B-74B12365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99A6F-9FF2-4296-84D9-C231E577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C1D47-F0F4-4DE6-A67C-1D12376C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9ED93-D949-4C71-96D6-1C02AA6E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67E16-5B1B-49E4-8878-B9C9B9C7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764-938D-4C12-BA66-451C4A4D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816A0-C088-4333-A32F-10ACAB81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617AF-5099-4951-B19E-D8AB9FD5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78E26-BEE4-413D-B414-F9FCFC5C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407BD-9638-4B1F-9C02-90E223BB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82CAE-E3F9-4D28-9631-73969244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628D0-B907-4782-9B1C-CF340D0C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C9C74-CF24-45AB-9ED6-AF8BF9EB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19250-0C28-4F43-BB57-64F40CF1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4A65F-7175-4F6D-9F66-06C26817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2557E-59D4-4863-8874-558A454B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5F4-AB29-4242-A607-EA2D9B85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4327B-D1A1-4815-BB21-16ED51CD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B574E-262C-4C06-BA28-E383A440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0C9C1-3005-4C44-9906-C2BBB5E3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E99FA-9A31-4AB6-AB94-203ADCDD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5E596-90F8-46C0-BBCD-8B75415A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B823D-681F-4F9F-865D-AB900CFC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C4A4C-C59D-4B4A-A624-13B91B93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FF592-EFB5-4802-8F6B-A3578D8B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9DD7B-FBF1-4352-A15F-14E40DC3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E2B4C-C39D-42F8-86E3-FCAE8CB7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DD6-DB1F-41A3-8628-31A14908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C428E-ADDC-44B1-9F50-6BF9B53A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201D5-EDE5-485B-9F2D-312F8569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331B8-9388-44B7-953A-EA83ECD1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9FF2A-8FCB-40F3-A340-2BE3E6F9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70DEF-CD5E-4475-895E-FFB2F810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B351D-B78E-494A-AA96-4309BF11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4F82C-C6DB-487E-9E7D-5791EFA6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E41B5-C910-438C-AD37-449C3AD3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EDCA4-4C09-454D-852F-6E068D6D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C0510-42CE-48ED-89F3-D52B223D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57D-7E80-40E0-9AA8-F34C04CD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CBEA7-017B-47CE-A63A-107B0464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8A6FF-D07F-42C2-9064-5B1E1C10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345C0-D149-405C-B860-E0F17046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E1E30-F05C-4084-934D-B7576DDF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DD19D-A807-4642-AB2C-9F68AD25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AE805-6032-40DD-ACD6-BB63A848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1C2E1-081E-445F-A5A3-8841AB99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AD515-B2AF-4275-A448-C96C6531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57381-C443-4F2E-A3A8-70D43A7E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DB445-8CBA-406B-B80F-EE961BAF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17184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2441-B085-40A7-AE22-1885D28E0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8FD2-B8BE-44D1-9FE8-76DE688645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75AA-99D5-4365-9531-A616158323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3E28-EF9F-4E13-991A-E297549FB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0EC0-95C8-48B7-B3A8-ADA4C2859D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61E0-309F-437B-9665-11B6FB70FD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A2C2-B37F-47FD-BCFA-2F24FEDAD9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672D-4115-4521-AF18-901CC191D8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D96F-4DA8-4627-9669-01F99A4E41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24816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10B5-F4B3-4BAD-A17F-FFABCD849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02849DD3-0B4A-4CD3-9117-75A8C168CC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7348-2D28-455F-A62E-F346C6B28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BA04616C-7EEB-4209-919E-944930386A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590560" y="6244920"/>
            <a:ext cx="3886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1BB0FE91-6D86-4710-B092-BC633C65B3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D827-FD88-432A-9A3C-558B8B34D4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5092-8167-45B3-AE23-B3FD199A23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B479-E096-4409-B5B4-FE2B84FC0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"/>
          <p:cNvSpPr/>
          <p:nvPr/>
        </p:nvSpPr>
        <p:spPr>
          <a:xfrm>
            <a:off x="152280" y="7952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3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146240"/>
                <a:gridCol w="1020600"/>
                <a:gridCol w="1084320"/>
                <a:gridCol w="1082520"/>
                <a:gridCol w="1084320"/>
                <a:gridCol w="10828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4.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rpos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 Comply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itude &amp; Extent of Radi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active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Radiological Haz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5886FAF-3E99-41A2-AAC3-FB92E0B3EC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= Fetal Age at time of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Transfer Coefficient o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milated Radioactivity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ory Guide 8.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 = mrem/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C9353C6-3DA0-4CC8-A7BA-50528CAF19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Conta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(Skin) Dose Equivalent (SDE) = Dose to a depth of 0.007 cm (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ep Dose Equivalent (DDE)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1 cm (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s of Eye Dose Equivalent (LDE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0.3 cm (3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8DB1320-3BC1-4429-B4D3-F78117EFBA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amination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ions Required fo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 (54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 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/= 10 mrem (170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7C5EA5D-E518-4CFA-BDA1-29AC768E57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tivity-Hour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/(2.22 E 6)(Eff.)(Are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Activity-h Concentration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Counts per Minute-hour Total, cpm-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.22 E 6 = Conversion:  2.22E6 dpm/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ff = Detector Counting Efficienc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pm/dpm (0.10 for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rea = Surface Area (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SD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DDE or L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FF38156-10E0-46C4-BD18-4B35C94388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allow (Skin)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S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Surface (Skin)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rad) for Beta 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=S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3,7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Beta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8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36EC0C1-8F52-4382-8377-3593521D60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ep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D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Deep Dose Equivalent (mrad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f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 =D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1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4C27A9E-0171-43DD-A9E0-FB2A20AAED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Hot P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les Usuall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0 mic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ctivity Usually At Least 0.1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y Discrete Particle &gt;/= 20,000 c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ose Calculation Same as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39841E2-6023-4E30-899D-B2441AE0C7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Organ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TO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DDE &amp;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E = DDE +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E5F6F09-6AC4-43BC-8C9F-8BE58D1126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Effec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 (TE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Internal (CEDE) and External (DDE) Expo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= CEDE +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/&gt; Workers Age (Years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orker Limited to 1,0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349F266-9428-429F-A5FE-92AEEB14B5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Track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d Repor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 % of Limit – Dos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 % of Limit – Dose Extension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Restricted Access to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ation of Prior Dose –NRC Form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Exposure Report – NRC For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F913ECA-D649-4029-A93E-5D211C0141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External Monito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10% of 10CFR20.1201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gt; 0.15 rem (1.5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Dose &gt; 0.5 rem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During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ntering High or Very High Radi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2BBC842-C6ED-4DBE-A91D-F761925A25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– It’s Everywhe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 Exposure – AL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a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s Low for Low D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Limits – 10CFR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59540D5-CA35-41CC-9A67-C98A43A41D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ic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In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reta Samp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09148DF-83CF-4094-87D6-2B7820DE5B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and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orbed Dose - rad, 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Equivalent - rem, S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&amp; D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/Tissue Dose –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95160E9-F671-4C1F-AE9D-2F6240D4CC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Monitoring for Internal Expos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r than 10% of Applicable 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 0.1 rem (1 mSv) Dur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017D5E8-0E9F-40B0-A430-40D2F799C6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Limits &amp;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5 rems (0.05 Sv)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+ CDE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lt;/= 15 rem (0.1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 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VA Administrative Limi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EDE &lt;/= 1 rem (0.01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39F4ED1-9354-444A-8149-88E34281FD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lanned Special Exposures (PS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ditio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thorized in Writing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efo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posure Occu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Purp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Do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structed in Meas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Keep Doses ALA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3960E31-3E3E-4C2A-BA0E-02CEFC75884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mergency Dose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ary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formed of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Rem TEDE to Prev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Damage to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Hazard to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Rem TEDE to Save a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C097013-4AF4-4F8B-A0C6-FDF7702952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to Pregnant W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y of Regulatory Guide 8.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 Airborne or Contaminated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itial Whole Body Count Per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F905766-BA9A-49A2-B343-79C24489424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s of 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7B2C0CF-FE87-411F-AC34-7731324B3B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Partial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FAA296C-4FFF-483E-A561-4DB829F47C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moluminesc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o – H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minescent -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7AB4C07-367F-4717-91CC-4F379C0D744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sonnel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onitor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HTP001.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7E5DBBD-EA86-4844-8290-D301455830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ctron Tr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4" descr="TCD01"/>
          <p:cNvPicPr/>
          <p:nvPr/>
        </p:nvPicPr>
        <p:blipFill>
          <a:blip r:embed="rId1"/>
          <a:stretch/>
        </p:blipFill>
        <p:spPr>
          <a:xfrm>
            <a:off x="1905120" y="2228760"/>
            <a:ext cx="5333760" cy="3268800"/>
          </a:xfrm>
          <a:prstGeom prst="rect">
            <a:avLst/>
          </a:prstGeom>
          <a:ln w="0">
            <a:noFill/>
          </a:ln>
        </p:spPr>
      </p:pic>
      <p:sp>
        <p:nvSpPr>
          <p:cNvPr id="7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F0F1BF4-F647-4921-8C6B-B65CEB400E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9AE63B9-0280-4E56-BB92-2D1A94F71F6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Cu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 Range (10 mR to 100,000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Data Retention (Low F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X-Rays, and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usable and Econom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t Susceptible to Radiofrequenc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5EB91AC-75EB-4070-88EB-7803138FD5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hium Bo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 rot="16200000">
            <a:off x="-1334520" y="3143880"/>
            <a:ext cx="382896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adiation Respon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0F9E93B-CD43-4DFE-A741-DF56815893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1428840" y="186696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5"/>
          <p:cNvSpPr/>
          <p:nvPr/>
        </p:nvSpPr>
        <p:spPr>
          <a:xfrm>
            <a:off x="1542960" y="3600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6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7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8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9"/>
          <p:cNvSpPr/>
          <p:nvPr/>
        </p:nvSpPr>
        <p:spPr>
          <a:xfrm>
            <a:off x="1428840" y="2819520"/>
            <a:ext cx="325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1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2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3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4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7"/>
          <p:cNvSpPr/>
          <p:nvPr/>
        </p:nvSpPr>
        <p:spPr>
          <a:xfrm>
            <a:off x="180972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8"/>
          <p:cNvSpPr/>
          <p:nvPr/>
        </p:nvSpPr>
        <p:spPr>
          <a:xfrm flipV="1">
            <a:off x="1657440" y="2876040"/>
            <a:ext cx="1047600" cy="9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0"/>
          <p:cNvSpPr/>
          <p:nvPr/>
        </p:nvSpPr>
        <p:spPr>
          <a:xfrm>
            <a:off x="3238560" y="2781360"/>
            <a:ext cx="1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1"/>
          <p:cNvSpPr/>
          <p:nvPr/>
        </p:nvSpPr>
        <p:spPr>
          <a:xfrm flipV="1">
            <a:off x="2647800" y="2743200"/>
            <a:ext cx="66708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2"/>
          <p:cNvSpPr/>
          <p:nvPr/>
        </p:nvSpPr>
        <p:spPr>
          <a:xfrm flipV="1">
            <a:off x="3295800" y="2705040"/>
            <a:ext cx="1028520" cy="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3"/>
          <p:cNvSpPr/>
          <p:nvPr/>
        </p:nvSpPr>
        <p:spPr>
          <a:xfrm flipV="1">
            <a:off x="1695600" y="4991040"/>
            <a:ext cx="1085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4"/>
          <p:cNvSpPr/>
          <p:nvPr/>
        </p:nvSpPr>
        <p:spPr>
          <a:xfrm flipV="1">
            <a:off x="2800440" y="4914720"/>
            <a:ext cx="571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5"/>
          <p:cNvSpPr/>
          <p:nvPr/>
        </p:nvSpPr>
        <p:spPr>
          <a:xfrm>
            <a:off x="3352680" y="489600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6"/>
          <p:cNvSpPr/>
          <p:nvPr/>
        </p:nvSpPr>
        <p:spPr>
          <a:xfrm>
            <a:off x="103392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103392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8"/>
          <p:cNvSpPr/>
          <p:nvPr/>
        </p:nvSpPr>
        <p:spPr>
          <a:xfrm>
            <a:off x="1014840" y="175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9"/>
          <p:cNvSpPr/>
          <p:nvPr/>
        </p:nvSpPr>
        <p:spPr>
          <a:xfrm>
            <a:off x="1071720" y="563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0"/>
          <p:cNvSpPr/>
          <p:nvPr/>
        </p:nvSpPr>
        <p:spPr>
          <a:xfrm>
            <a:off x="1090800" y="478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1109880" y="405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2"/>
          <p:cNvSpPr/>
          <p:nvPr/>
        </p:nvSpPr>
        <p:spPr>
          <a:xfrm>
            <a:off x="4938480" y="26114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3"/>
          <p:cNvSpPr/>
          <p:nvPr/>
        </p:nvSpPr>
        <p:spPr>
          <a:xfrm>
            <a:off x="4957560" y="4745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5"/>
          <p:cNvSpPr/>
          <p:nvPr/>
        </p:nvSpPr>
        <p:spPr>
          <a:xfrm>
            <a:off x="1357920" y="5694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6"/>
          <p:cNvSpPr/>
          <p:nvPr/>
        </p:nvSpPr>
        <p:spPr>
          <a:xfrm>
            <a:off x="2386080" y="569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7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8"/>
          <p:cNvSpPr/>
          <p:nvPr/>
        </p:nvSpPr>
        <p:spPr>
          <a:xfrm>
            <a:off x="4367880" y="5713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Tm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:  1 mR to 1,0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up to about 2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and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ver responds to Low Energy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Useful for Environmental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4A54231-4C3A-46ED-A2E3-9673532793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ium Sulf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 rot="16200000">
            <a:off x="-1524960" y="2839320"/>
            <a:ext cx="41720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diation Respon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BFA4E30-0042-4E08-A3CA-6E30C67CC3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"/>
          <p:cNvSpPr/>
          <p:nvPr/>
        </p:nvSpPr>
        <p:spPr>
          <a:xfrm>
            <a:off x="1467000" y="184788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6"/>
          <p:cNvSpPr/>
          <p:nvPr/>
        </p:nvSpPr>
        <p:spPr>
          <a:xfrm>
            <a:off x="16192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7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8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9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4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5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6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7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8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9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0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1"/>
          <p:cNvSpPr/>
          <p:nvPr/>
        </p:nvSpPr>
        <p:spPr>
          <a:xfrm>
            <a:off x="173340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2"/>
          <p:cNvSpPr/>
          <p:nvPr/>
        </p:nvSpPr>
        <p:spPr>
          <a:xfrm>
            <a:off x="109080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1053000" y="287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957960" y="2208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5"/>
          <p:cNvSpPr/>
          <p:nvPr/>
        </p:nvSpPr>
        <p:spPr>
          <a:xfrm>
            <a:off x="1090800" y="55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6"/>
          <p:cNvSpPr/>
          <p:nvPr/>
        </p:nvSpPr>
        <p:spPr>
          <a:xfrm>
            <a:off x="1071720" y="481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7"/>
          <p:cNvSpPr/>
          <p:nvPr/>
        </p:nvSpPr>
        <p:spPr>
          <a:xfrm>
            <a:off x="1071720" y="403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8"/>
          <p:cNvSpPr/>
          <p:nvPr/>
        </p:nvSpPr>
        <p:spPr>
          <a:xfrm>
            <a:off x="1486080" y="302904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32"/>
          <p:cNvSpPr/>
          <p:nvPr/>
        </p:nvSpPr>
        <p:spPr>
          <a:xfrm>
            <a:off x="1486080" y="2381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36"/>
          <p:cNvSpPr/>
          <p:nvPr/>
        </p:nvSpPr>
        <p:spPr>
          <a:xfrm>
            <a:off x="1847880" y="2209680"/>
            <a:ext cx="2514600" cy="1409760"/>
          </a:xfrm>
          <a:custGeom>
            <a:avLst/>
            <a:gdLst/>
            <a:ahLst/>
            <a:rect l="l" t="t" r="r" b="b"/>
            <a:pathLst>
              <a:path w="1584" h="888">
                <a:moveTo>
                  <a:pt x="0" y="0"/>
                </a:moveTo>
                <a:cubicBezTo>
                  <a:pt x="36" y="24"/>
                  <a:pt x="72" y="36"/>
                  <a:pt x="108" y="60"/>
                </a:cubicBezTo>
                <a:cubicBezTo>
                  <a:pt x="133" y="135"/>
                  <a:pt x="161" y="219"/>
                  <a:pt x="228" y="264"/>
                </a:cubicBezTo>
                <a:cubicBezTo>
                  <a:pt x="241" y="303"/>
                  <a:pt x="275" y="333"/>
                  <a:pt x="288" y="372"/>
                </a:cubicBezTo>
                <a:cubicBezTo>
                  <a:pt x="315" y="454"/>
                  <a:pt x="324" y="480"/>
                  <a:pt x="372" y="552"/>
                </a:cubicBezTo>
                <a:cubicBezTo>
                  <a:pt x="388" y="575"/>
                  <a:pt x="472" y="754"/>
                  <a:pt x="492" y="768"/>
                </a:cubicBezTo>
                <a:cubicBezTo>
                  <a:pt x="516" y="784"/>
                  <a:pt x="540" y="800"/>
                  <a:pt x="564" y="816"/>
                </a:cubicBezTo>
                <a:cubicBezTo>
                  <a:pt x="585" y="830"/>
                  <a:pt x="612" y="832"/>
                  <a:pt x="636" y="840"/>
                </a:cubicBezTo>
                <a:cubicBezTo>
                  <a:pt x="781" y="888"/>
                  <a:pt x="875" y="881"/>
                  <a:pt x="1044" y="888"/>
                </a:cubicBezTo>
                <a:cubicBezTo>
                  <a:pt x="1130" y="877"/>
                  <a:pt x="1203" y="855"/>
                  <a:pt x="1284" y="828"/>
                </a:cubicBezTo>
                <a:cubicBezTo>
                  <a:pt x="1326" y="814"/>
                  <a:pt x="1372" y="820"/>
                  <a:pt x="1416" y="816"/>
                </a:cubicBezTo>
                <a:cubicBezTo>
                  <a:pt x="1570" y="765"/>
                  <a:pt x="1412" y="814"/>
                  <a:pt x="1548" y="780"/>
                </a:cubicBezTo>
                <a:cubicBezTo>
                  <a:pt x="1560" y="777"/>
                  <a:pt x="1584" y="768"/>
                  <a:pt x="1584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37"/>
          <p:cNvSpPr/>
          <p:nvPr/>
        </p:nvSpPr>
        <p:spPr>
          <a:xfrm>
            <a:off x="1847880" y="4743360"/>
            <a:ext cx="743040" cy="381240"/>
          </a:xfrm>
          <a:custGeom>
            <a:avLst/>
            <a:gdLst/>
            <a:ahLst/>
            <a:rect l="l" t="t" r="r" b="b"/>
            <a:pathLst>
              <a:path w="468" h="240">
                <a:moveTo>
                  <a:pt x="0" y="240"/>
                </a:moveTo>
                <a:cubicBezTo>
                  <a:pt x="21" y="177"/>
                  <a:pt x="64" y="163"/>
                  <a:pt x="120" y="144"/>
                </a:cubicBezTo>
                <a:cubicBezTo>
                  <a:pt x="128" y="132"/>
                  <a:pt x="133" y="117"/>
                  <a:pt x="144" y="108"/>
                </a:cubicBezTo>
                <a:cubicBezTo>
                  <a:pt x="166" y="89"/>
                  <a:pt x="216" y="60"/>
                  <a:pt x="216" y="60"/>
                </a:cubicBezTo>
                <a:cubicBezTo>
                  <a:pt x="251" y="7"/>
                  <a:pt x="263" y="15"/>
                  <a:pt x="324" y="0"/>
                </a:cubicBezTo>
                <a:cubicBezTo>
                  <a:pt x="348" y="8"/>
                  <a:pt x="388" y="0"/>
                  <a:pt x="396" y="24"/>
                </a:cubicBezTo>
                <a:cubicBezTo>
                  <a:pt x="400" y="36"/>
                  <a:pt x="400" y="50"/>
                  <a:pt x="408" y="60"/>
                </a:cubicBezTo>
                <a:cubicBezTo>
                  <a:pt x="424" y="80"/>
                  <a:pt x="450" y="90"/>
                  <a:pt x="468" y="1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9"/>
          <p:cNvSpPr/>
          <p:nvPr/>
        </p:nvSpPr>
        <p:spPr>
          <a:xfrm flipV="1">
            <a:off x="2590920" y="4933440"/>
            <a:ext cx="12189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47"/>
          <p:cNvSpPr/>
          <p:nvPr/>
        </p:nvSpPr>
        <p:spPr>
          <a:xfrm>
            <a:off x="3695760" y="4759200"/>
            <a:ext cx="762120" cy="174600"/>
          </a:xfrm>
          <a:custGeom>
            <a:avLst/>
            <a:gdLst/>
            <a:ahLst/>
            <a:rect l="l" t="t" r="r" b="b"/>
            <a:pathLst>
              <a:path w="480" h="110">
                <a:moveTo>
                  <a:pt x="0" y="110"/>
                </a:moveTo>
                <a:cubicBezTo>
                  <a:pt x="67" y="104"/>
                  <a:pt x="138" y="104"/>
                  <a:pt x="204" y="86"/>
                </a:cubicBezTo>
                <a:cubicBezTo>
                  <a:pt x="280" y="65"/>
                  <a:pt x="354" y="42"/>
                  <a:pt x="432" y="26"/>
                </a:cubicBezTo>
                <a:cubicBezTo>
                  <a:pt x="471" y="0"/>
                  <a:pt x="454" y="2"/>
                  <a:pt x="48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48"/>
          <p:cNvSpPr/>
          <p:nvPr/>
        </p:nvSpPr>
        <p:spPr>
          <a:xfrm>
            <a:off x="1319760" y="5675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9"/>
          <p:cNvSpPr/>
          <p:nvPr/>
        </p:nvSpPr>
        <p:spPr>
          <a:xfrm>
            <a:off x="2348280" y="5675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0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51"/>
          <p:cNvSpPr/>
          <p:nvPr/>
        </p:nvSpPr>
        <p:spPr>
          <a:xfrm>
            <a:off x="4329720" y="569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2"/>
          <p:cNvSpPr/>
          <p:nvPr/>
        </p:nvSpPr>
        <p:spPr>
          <a:xfrm>
            <a:off x="4843440" y="2459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53"/>
          <p:cNvSpPr/>
          <p:nvPr/>
        </p:nvSpPr>
        <p:spPr>
          <a:xfrm>
            <a:off x="4957560" y="46879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mitations of Both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Heat, Moisture, and 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Shield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 to Improper Wear by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use Results in Incorrec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rors from Logistical/Record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E6F5C65-212A-4767-893B-95CCF45A66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Picture 3" descr=""/>
          <p:cNvPicPr/>
          <p:nvPr/>
        </p:nvPicPr>
        <p:blipFill>
          <a:blip r:embed="rId1"/>
          <a:stretch/>
        </p:blipFill>
        <p:spPr>
          <a:xfrm>
            <a:off x="438120" y="1523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AC0E8E6-C2B5-468A-826F-92C92807F9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Picture 4" descr="MVC-030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D9A9AE8-9613-4280-BA65-FAC760CEEB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762120" y="285840"/>
            <a:ext cx="65912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Thermoluminescent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1" name="Picture 7" descr="MVC-023F"/>
          <p:cNvPicPr/>
          <p:nvPr/>
        </p:nvPicPr>
        <p:blipFill>
          <a:blip r:embed="rId1"/>
          <a:stretch/>
        </p:blipFill>
        <p:spPr>
          <a:xfrm>
            <a:off x="0" y="0"/>
            <a:ext cx="7683480" cy="6126120"/>
          </a:xfrm>
          <a:prstGeom prst="rect">
            <a:avLst/>
          </a:prstGeom>
          <a:ln w="0">
            <a:noFill/>
          </a:ln>
        </p:spPr>
      </p:pic>
      <p:sp>
        <p:nvSpPr>
          <p:cNvPr id="8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17A5A49-2AE1-4A89-B508-7162DA65B2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0"/>
          <p:cNvSpPr/>
          <p:nvPr/>
        </p:nvSpPr>
        <p:spPr>
          <a:xfrm>
            <a:off x="4781520" y="6667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1"/>
          <p:cNvSpPr/>
          <p:nvPr/>
        </p:nvSpPr>
        <p:spPr>
          <a:xfrm>
            <a:off x="4686480" y="228600"/>
            <a:ext cx="2781000" cy="132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urse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&amp;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, Exposure Limits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&amp; Dose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78E592C-0693-457C-8D5F-89859AB531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Picture 4" descr="MVC-03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0605934-C31C-4C42-9F47-9B549E622C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7"/>
          <p:cNvSpPr/>
          <p:nvPr/>
        </p:nvSpPr>
        <p:spPr>
          <a:xfrm>
            <a:off x="0" y="2286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8"/>
          <p:cNvSpPr/>
          <p:nvPr/>
        </p:nvSpPr>
        <p:spPr>
          <a:xfrm>
            <a:off x="2476440" y="361800"/>
            <a:ext cx="22669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AF0FC35-CC8C-4559-9AE3-C38AF87A88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asuring Neutrons with TL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Rather Than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st Neutrons not Directly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s Moderat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er Recoil Neutrons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bedo Effec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EC3D51B-6470-40F7-A42C-03F25552206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27AE008-4E21-40A8-9EAF-61D0951A64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ading 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4" descr=""/>
          <p:cNvPicPr/>
          <p:nvPr/>
        </p:nvPicPr>
        <p:blipFill>
          <a:blip r:embed="rId1"/>
          <a:stretch/>
        </p:blipFill>
        <p:spPr>
          <a:xfrm>
            <a:off x="1057320" y="2592360"/>
            <a:ext cx="7029360" cy="2541600"/>
          </a:xfrm>
          <a:prstGeom prst="rect">
            <a:avLst/>
          </a:prstGeom>
          <a:ln w="0">
            <a:noFill/>
          </a:ln>
        </p:spPr>
      </p:pic>
      <p:sp>
        <p:nvSpPr>
          <p:cNvPr id="8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E54A220-03C9-41C4-A819-56A2E4E52C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Calib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Calib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 QC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bration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-Line QC TLDs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DDF0C7D-6A67-43DE-A28E-C9EAFBEF24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QC/Q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S Accredited by NIST and NVL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omparison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&amp; Verification Ch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stical Review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ed by External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Manage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Internal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4125E16-B10C-44A0-B285-13A973CB01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dge Issue &amp;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&amp; Collected by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Assigns a TLD 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for a 3-Month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d by T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LDs Mai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78DC717-34A6-4FD0-8EBD-5BCF820141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ecial Pu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 Dose Limits Exc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D Off Scale or Displays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/Relocation of Employ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Control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Badge or Neutron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22840D7-7559-4250-ADBE-1CB1AEC926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the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nt of Body, Neck to Wa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May Requir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Coveralls in Contamina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Open or Pamper With the Ba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0E95C6A-658F-4572-801B-3A0D1AA49FD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Dose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Regulations &amp;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iar with Radiation Monitoring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Operation of Various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imetry Administrative 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Multiple &amp; Extremity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ry for Various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5384F46-8D35-4D24-ACE8-31A317DCB8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8" name="Picture 8" descr="MVC-041F"/>
          <p:cNvPicPr/>
          <p:nvPr/>
        </p:nvPicPr>
        <p:blipFill>
          <a:blip r:embed="rId1"/>
          <a:stretch/>
        </p:blipFill>
        <p:spPr>
          <a:xfrm>
            <a:off x="-422280" y="0"/>
            <a:ext cx="5192640" cy="603252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p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ar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osimet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B3CD249-2D26-47AC-BA89-97EC9AB2ADE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ple Bad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/h &amp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est Dose Location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adiation Levels Unknown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adient Nonun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5414441-5CD6-4C93-A998-16DF7D5ECF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-Badge 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n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(Not Wor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9B751A2-DFAB-49F1-90F3-1F5D8B4448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Ba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500 mrem to Extrem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Unshielded Beta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ole Body (Except Hands) Shiel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Small Non-Shielde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contamination of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love Box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I-1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20DD9AC-4D7A-459D-8819-541D652B3B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Dosi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Picture 5" descr="MVC-036F"/>
          <p:cNvPicPr/>
          <p:nvPr/>
        </p:nvPicPr>
        <p:blipFill>
          <a:blip r:embed="rId1"/>
          <a:stretch/>
        </p:blipFill>
        <p:spPr>
          <a:xfrm>
            <a:off x="952560" y="1630440"/>
            <a:ext cx="7124760" cy="427824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831C398-6ED2-482D-B661-0C68445163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Extremity Ba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Picture 7" descr="MVC-038F"/>
          <p:cNvPicPr/>
          <p:nvPr/>
        </p:nvPicPr>
        <p:blipFill>
          <a:blip r:embed="rId1"/>
          <a:stretch/>
        </p:blipFill>
        <p:spPr>
          <a:xfrm>
            <a:off x="1500120" y="1717560"/>
            <a:ext cx="6446880" cy="4222800"/>
          </a:xfrm>
          <a:prstGeom prst="rect">
            <a:avLst/>
          </a:prstGeom>
          <a:ln w="0">
            <a:noFill/>
          </a:ln>
        </p:spPr>
      </p:pic>
      <p:sp>
        <p:nvSpPr>
          <p:cNvPr id="9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8C24DCE-F392-484A-BA2F-DF500AF9D3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ondary Dosi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y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eriodically During Job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on Front of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in Contamin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F076BFA-B615-4003-8C06-8E9CE30A44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1" name="Picture 4" descr="MVC-019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BF415EB-AB3C-4677-A74B-E434C98446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"/>
          <p:cNvSpPr/>
          <p:nvPr/>
        </p:nvSpPr>
        <p:spPr>
          <a:xfrm>
            <a:off x="1542960" y="0"/>
            <a:ext cx="4419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5" name="Picture 4" descr="MVC-022F"/>
          <p:cNvPicPr/>
          <p:nvPr/>
        </p:nvPicPr>
        <p:blipFill>
          <a:blip r:embed="rId1"/>
          <a:stretch/>
        </p:blipFill>
        <p:spPr>
          <a:xfrm>
            <a:off x="0" y="266760"/>
            <a:ext cx="7588080" cy="5859360"/>
          </a:xfrm>
          <a:prstGeom prst="rect">
            <a:avLst/>
          </a:prstGeom>
          <a:ln w="0">
            <a:noFill/>
          </a:ln>
        </p:spPr>
      </p:pic>
      <p:sp>
        <p:nvSpPr>
          <p:cNvPr id="9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8B8ABF2-57C8-4D7F-B04E-5394FAD8BB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"/>
          <p:cNvSpPr/>
          <p:nvPr/>
        </p:nvSpPr>
        <p:spPr>
          <a:xfrm>
            <a:off x="838080" y="4991040"/>
            <a:ext cx="62485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9" name="Picture 4" descr="MVC-02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7068B8D-25A8-4723-B754-4851FADE8A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4400640" y="533520"/>
            <a:ext cx="2514600" cy="147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P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Actions for Abnormal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Concepts of Internal Dosime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Radionuclides of Conc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Biological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e Calculation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 of Radioactivity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and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2108D74-B199-4174-B1B1-A2B91AFD3D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20" descr="MVC-018F"/>
          <p:cNvPicPr/>
          <p:nvPr/>
        </p:nvPicPr>
        <p:blipFill>
          <a:blip r:embed="rId1"/>
          <a:stretch/>
        </p:blipFill>
        <p:spPr>
          <a:xfrm>
            <a:off x="0" y="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9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76B2772-A9BA-4A5C-A288-D489A67616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ricted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A – TLD &amp; DAD/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Doses to Extremitie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EE76FB7-C893-4739-84E6-3609E9708F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 Areas –Process TLD for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Radiation Area – Secondary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High Radiation Area – Second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ed Special Exposure –Per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ors – Same as Esc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687BAED-DBC8-438C-A648-B5DE528AFC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meter Discrepa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er Investigative Report (DIR)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 or Damaged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/Damaged/Malfunctioning D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uspect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condary Dosime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100 mrem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&lt;/= 25% Difference i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Customer Complaints &amp;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98360D3-C094-4368-B13C-8B114415B9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Path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W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BE70E7E-48AE-48C3-AF41-526572CAE3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ducing Internal Expos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ating, Drinking, Smoking, Chew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Dipping in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Protective Clothing Cor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 All W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irators in 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Work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E4E3E19-D9EB-4043-8612-62A2059247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limination of Internal Radio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ogical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3EEB231-C4E5-441F-B12B-A4DA3D2C48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tential Health Effects and Risk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BF4D2C1-5F04-489F-94BE-44979A7773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9960" y="96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turally Occurring Radioactive Materi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514440" y="257148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-4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8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-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 1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-22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2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FA8A85E-71D9-4D58-A33D-2B92EBA383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tential Health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fro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,000 mrem (100 m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nver, CO, Background 1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No Adverse Biological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ancer Associated with &gt; 50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Leukemia, Lung, Colon &amp;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ong Latent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distinguishable from Cancers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n-Radiation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B5CB637-1511-4CAD-A770-65CCB213C0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bsorbed D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y – The SI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Gray = 1 Joule/Kilogra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gray = 100 ra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 – The Special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rad = 100 ergs/gram or 0.01 Joule/k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ad = 0.01 gr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C1FA029-D087-4008-ACF2-8A007D7FBC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ther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&amp; Physical Hazards Contribute to the Same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D5904E9-2A59-4F01-A60D-88B1242E79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3812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38120" y="17330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– Activity/Volume of Ai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x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c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– Curies of Radioactive Mater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n into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– (10CFR20, Appendix B, Table 1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ention of Radioactive Material 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lmonary Region of the Lung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=Days, W=Weeks, Y=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C166A39-0FEA-4DBF-97C7-E7288317B4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Limit on Intake (ALI) –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 Taken into the Body in 1 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00 h) Resulting in a CEDE (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Dose) of 5 rem (0.05 Sv) or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(Organ Dose) of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raction (fALI) – Fraction of ALI from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ntake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I = Intak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AL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84495C2-21AC-43D9-9F39-3FAE452647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ALI(s) for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or Class W = 2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 for Class Y =    30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32D4C7B-78E9-4C1A-9EF3-320D7A56B7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8120" y="63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57200" y="188604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ed Air Concentration (DAC)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of Air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Breathed for 2000 h at 1.2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,000 ml/min) Results in an Intak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1 AL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,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A30EF6D-9962-4C55-9969-0FEC77FE8C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3812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Betwee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57200" y="21718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= AL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(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Breathing Rate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000 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20,000 ml/min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.4 E 9 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F11869A-4A67-4B42-BF25-B4112C10EC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Fraction (fDAC) – Fraction of DA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ing from Exposure to a Specif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of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AC = Conc.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/DA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our – The fDAC Multiplied by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Exposure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fDAC)(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8A04A58-A58A-4601-BF18-4AE43ABD35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 Fraction (fDAC) for 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1 E -9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 of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Oxide Fo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for Co-60 (Oxide Form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E -8 µCi/ml,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AC = (1 E -9 µCi/ml)/(1 E -8 µCi/ml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, fDAC = 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59EF9C7-86BC-420C-85A3-32067FC478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-h for Sample Problem # 3 Where the Exposure Time is 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0.1)(3 h), o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0.3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B5005AB-1A4E-4850-8A48-5AD64C3C58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-h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ALI is Based on an Exposur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rem (5,000 mrem) in 2,000 hours/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,000 mrem/2000 h = 2.5 mrem/DAC-h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DAC-h = 2.5 mrem 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25462B8-FE83-437A-9B98-6A674B5D5C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 – The Special Unit of Any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= Absorbed Dose times 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em = 0.01 sieve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evert (Sv) – The SI Unit of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Sv = 100 r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02E3EDC-0AF8-427E-A2F3-ED83B469EF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1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57200" y="224748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Concept of ALI and DAC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if a Worker Should W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espirator for a Specific Task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B9936EE-2733-447D-929B-FD62A914AC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= 24 mrem/h, Plus s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b Time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Respirator = 2 h, 20 min, or 2.33 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DAC-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85C6151-CCBC-47F8-98D7-A21D55C427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Dose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.33 h) = 56 mrem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Direct Radiat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xposure from Airbor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(Respirat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683A70D-F24C-4162-A8EE-7B503D37B3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Not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 h) = 48 mrem, Dir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 DAC-h)(2.5 mrem/DAC-h) = 5 m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Airborne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= 48 mrem + 5 mrem = 53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62D596A-CADE-427A-9DCF-7E14885228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aring a Respirator,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 Will Rece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Dose Equivalent, Therefor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Respirator Should be Worn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Jo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BD50004-886A-4D18-9DA4-91AEB5286D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asuring Intern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dioactivity (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CFR20.1204 Requires Measur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Take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s of Radioactive Materi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ir in Work Areas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in the Bod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Excre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Body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s of thes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0476482-2A06-4E83-BE52-77B7DA78D3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Means Used at TVA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e Compli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Sampling,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ing DAC-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2732C93-79FB-4B24-A02D-A3A6BDAFD8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Dos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 Monitoring Required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0.1 ALI or 20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Adu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/= 100 mrem or 4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Pregnant Wom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3B54D6F-6775-467D-AC6B-6B3727E078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oassay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Initial Entry to Contamination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n Face Indicates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sal Contamination De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or Suspected In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f Open W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ly (Evaluate Contro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6F2F0C4-615A-4E3B-B184-4BA08D7A53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In-Vivo 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Bioassay Tech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use Bed, Chair, Booth, or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Detectors Placed Near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ccumulated by Multichannel Analy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nalyzed by Compute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ed if Exposu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20 DAC-h/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465E9D0-9B87-44C2-9212-7F1EF51E70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ality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6292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ype of Radi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or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pha, Fis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ragments, et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2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utrons (Unknown Energy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-Energy Prot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005109C-7A0F-4B6B-8C34-32EC5FCA38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3" name="Picture 14" descr="MVC-001F"/>
          <p:cNvPicPr/>
          <p:nvPr/>
        </p:nvPicPr>
        <p:blipFill>
          <a:blip r:embed="rId1"/>
          <a:stretch/>
        </p:blipFill>
        <p:spPr>
          <a:xfrm>
            <a:off x="0" y="0"/>
            <a:ext cx="7943760" cy="5959440"/>
          </a:xfrm>
          <a:prstGeom prst="rect">
            <a:avLst/>
          </a:prstGeom>
          <a:ln w="0">
            <a:noFill/>
          </a:ln>
        </p:spPr>
      </p:pic>
      <p:sp>
        <p:nvSpPr>
          <p:cNvPr id="10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F0B6338-2A2A-481E-A2D7-2BE60016BB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0" y="1455840"/>
            <a:ext cx="24670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I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9"/>
          <p:cNvSpPr/>
          <p:nvPr/>
        </p:nvSpPr>
        <p:spPr>
          <a:xfrm>
            <a:off x="1676520" y="2000160"/>
            <a:ext cx="118116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5"/>
          <p:cNvSpPr/>
          <p:nvPr/>
        </p:nvSpPr>
        <p:spPr>
          <a:xfrm>
            <a:off x="285840" y="723960"/>
            <a:ext cx="302904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yroid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6"/>
          <p:cNvSpPr/>
          <p:nvPr/>
        </p:nvSpPr>
        <p:spPr>
          <a:xfrm>
            <a:off x="5886360" y="1657440"/>
            <a:ext cx="2171880" cy="1169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rm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9"/>
          <p:cNvSpPr/>
          <p:nvPr/>
        </p:nvSpPr>
        <p:spPr>
          <a:xfrm flipH="1">
            <a:off x="5238720" y="2781360"/>
            <a:ext cx="95256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0"/>
          <p:cNvSpPr/>
          <p:nvPr/>
        </p:nvSpPr>
        <p:spPr>
          <a:xfrm>
            <a:off x="2990880" y="1257480"/>
            <a:ext cx="762120" cy="13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1"/>
          <p:cNvSpPr/>
          <p:nvPr/>
        </p:nvSpPr>
        <p:spPr>
          <a:xfrm>
            <a:off x="2133720" y="1943280"/>
            <a:ext cx="150480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3" name="Picture 12" descr="MVC-002F"/>
          <p:cNvPicPr/>
          <p:nvPr/>
        </p:nvPicPr>
        <p:blipFill>
          <a:blip r:embed="rId1"/>
          <a:stretch/>
        </p:blipFill>
        <p:spPr>
          <a:xfrm>
            <a:off x="30240" y="0"/>
            <a:ext cx="4587840" cy="613404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781520" y="2400480"/>
            <a:ext cx="403848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oth Who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dy Cou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1280241-57F0-4184-AF7E-208F792342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7" name="Picture 14" descr="MVC-006F"/>
          <p:cNvPicPr/>
          <p:nvPr/>
        </p:nvPicPr>
        <p:blipFill>
          <a:blip r:embed="rId1"/>
          <a:stretch/>
        </p:blipFill>
        <p:spPr>
          <a:xfrm>
            <a:off x="0" y="0"/>
            <a:ext cx="4583160" cy="613404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hannel Analyzer System Used for Whole Body 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81EC8B6-7B16-4508-980B-2563946C9C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BC Measur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ality As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 Performance Verif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QA)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Traceable to N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Expected 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MQA Inter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ind Phan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Results with Know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0B8713E-9DE1-4284-80E9-C596B68143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ntaminate and Follow-up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 Unt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tivity 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ore De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tic Count if Radioactivity Contin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3EE0DFF-59E6-4CC1-ABDB-5B22B2F596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 (WBC)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Sampl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al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D2874A7-885C-4C0F-AB82-51651249C8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and Fecal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s Taken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7506E55-17DD-4DC7-87D0-720081DA68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ed by ERM&amp;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Individual’s Exposure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E80F8FA-96D0-41C8-847B-8F457F5B77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quired A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ult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&gt;/= 0.01 ALI or 20 DAC-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Invest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Internal &amp;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 Intake &amp; C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on NRC Form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B84B2BB-78F5-4516-96F3-26C3544450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erms &amp; Calc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tted Effective Dose Equivalent-(CE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a Functio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ALI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&amp; DAC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Dose Conver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e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032932E-BE98-4D99-92EF-AA010EB387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sonnel Monitoring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quired by 10CFR20.15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1BE587A-9605-4C06-B94B-0CD705D692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DE From C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CDE), W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Weighting Factor (rem) for ea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Organ or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A3B8A64-9C0C-4FF6-8B02-B0255BFD0A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uclide 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f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ALI for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AEC0FA2-8964-4DF6-8DD1-D92BA2A1C7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t)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5 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 Airborne Concentration (µCi/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Time of Exposure (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AC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7D043F4-8F98-4E28-B07D-8E8BBD3531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Nuclide Intak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&amp; 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ology Used by HIS-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,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&amp;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PA Report No. 11), 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5C15378-6C19-4AF1-AB83-C61C791D35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mitted Dose Equival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rgan or Tissue Specific Committed Dose Equivalent (CDE) Must be Calculated When the 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.0 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 an Overdose has Occu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BB2E4EF-F490-4244-8E26-57E8901E981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ederal Guidance Report No.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Guidance Report No. 11 (EPA Report No. 11) Provides Conversion Factors for CDE per Unit Intake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alation (Table 2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(Table 2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sion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v/Bq * 3.7 E 6 = re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v/Bq * 3.7 E 9 = m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37CCFC4-057E-4BC3-BFA4-C28AA37784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0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Intake for Nuclide i (µCi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ALI for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8339364-5416-4DDD-B330-1E722A0364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0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50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]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=Committed Dose Equivalent (m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Airborne Concentration of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Duration of Exposure (hour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DAC for Nuclide i 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E144D9E-A918-474A-A33D-24586EDBDB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Intake &amp;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i *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ommitted Dose Equivalent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or Tissue 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Intake for Nuclide 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and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/µCi) from Federal Guidan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port No.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FEE0E0F-9EDE-4A64-BF82-6F84E4692C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1,000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E = Dose Equivalent (mrem) to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take (µCi)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Fetal Dose Conver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(rem/µCi) for Mother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ssimilation of Radionuclide i 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etal Age t (Regulatory Guide 8.3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753188B-4CA0-494F-AE11-B8F5B2B5EC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6:16:16Z</dcterms:created>
  <dc:creator>Ralph G. Wallace`</dc:creator>
  <dc:description/>
  <dc:language>en-US</dc:language>
  <cp:lastModifiedBy>Peggy Hines IRSC</cp:lastModifiedBy>
  <dcterms:modified xsi:type="dcterms:W3CDTF">2013-02-18T19:25:41Z</dcterms:modified>
  <cp:revision>28</cp:revision>
  <dc:subject/>
  <dc:title>Personnel Monitoring</dc:title>
</cp:coreProperties>
</file>