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20D6-6E84-45B1-BF25-C40CA95CC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edit other slides, use Arial (Headings) 36 flush left for titles and Arial (Body) 24 for body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B67C-64F2-476C-92A0-22F1810F9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8049-70B9-4EF9-A398-345944959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9EF-11D6-4818-8FA1-3F9C7678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5CF-9790-4469-9976-1DF76313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4925-B267-4285-97DF-6196D45D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D7E-F679-42B2-8438-B6528922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2CED-7A15-4B0D-A5B5-38F95F91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ADFA-A8C8-410F-9A4F-233B82F1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EBFA-CA57-4769-88BF-451D3ED2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E73B-4C2B-45C4-839B-D9C386AD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70BE-5D6C-405E-B7E0-C65D9CA7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44B9-AB5B-4F7A-B03D-2858C3F1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B8FC-5FDC-4E76-A6CA-A5822B3B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9D9-38D4-47FC-83B9-6CB4027D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F9E6-5352-4AD4-80CC-2117CA68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53E3-D51E-4F31-A5B0-05BF4F91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F245-B2E7-4E0F-A2A5-960EE4A0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89C52-3DEA-4826-8A58-50FFD254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8273-039C-453F-A456-D0B8C05E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7B2-C26C-4A7D-AA89-E0E2A70C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763-8FE1-4513-ACDA-30AA2391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FA1-0186-4815-ADC0-543FB1EC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F23-44DB-472D-8A9B-8F625B93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4D79-0A13-40B1-8FF7-FCFC4E78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6FF-0099-4758-8DCF-4E15B229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EC8-4E3E-4B2E-95DD-E41DEC86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8E0F-B15D-4C0A-BC0C-BB67D8D3FB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496A-9E36-4D6F-87D0-798428233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0288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terrestrial internal radiation, uranium, thorium, radium, curie, becquerel, roentgen, dose, RAD, REM, x-rays, gamma, beta, alpha, fission fragments,  mrad,  tissue, organ,  affect on cells, blood,  whole body exposure,  acute, chronic,  genetic,  body burden, time distance shielding, g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module examines the affects of short and long term exposure to all types of radi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600200"/>
          <a:ext cx="8107560" cy="1515960"/>
        </p:xfrm>
        <a:graphic>
          <a:graphicData uri="http://schemas.openxmlformats.org/drawingml/2006/table">
            <a:tbl>
              <a:tblPr/>
              <a:tblGrid>
                <a:gridCol w="1351080"/>
                <a:gridCol w="1351080"/>
                <a:gridCol w="1350720"/>
                <a:gridCol w="1352520"/>
                <a:gridCol w="1351080"/>
                <a:gridCol w="1351080"/>
              </a:tblGrid>
              <a:tr h="40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3DFC-0B8C-4BB1-BBD3-50540BA66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inous watches (trit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tern mantles (thor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 (polonium-21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hthalmic glass used in eyegla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r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FBF4-76B6-4546-AC4D-256FEF6D6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ly Exposed Individuals (Work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radiography (X-ray imag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dicine depar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logy (medical imaging, X-rays,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oncology (cancer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power pl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fuel cycle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and university research labora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Qua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e :: the amount of radioactive material decaying at 2.22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minute or 3.7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.7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ays per second (d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querel :: the amount of radioactive material decaying at 1 decay per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Bq = 1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B378-EF3E-490F-9F0D-DC2E8A465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8480-2B84-46F8-A583-519165890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lly described by decay rate of radioactive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actors must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entgen (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2189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gamma or x-ray interactions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energy deposition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y of x-ray or gamma radiation producing 1 esu of charge (positive or negative) in 1 cc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dr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u = electrostatic unit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ionizing event = addition or removal of 1 electron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2.0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on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88 erg/gram energy deposition in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 = unit of work or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oesn’t relate to biological da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A518-08A1-4592-9E08-3019A7CEC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Absorbed Dose (RA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= Total amount of energy delivered to a specific area or organ by rad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 = dose units per unit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is an amount of any type of ionizing radiation that deposits 100 ergs/gram i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= 100 ergs/gram energy deposition (t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ifferent types of ionizing radiation might have the same energy, but have totally different effects 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8485-C012-4C82-B27F-26560F2EC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1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entgen Equivalent M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(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ionizing radiation required to produce the same biological effect as one rad of high-penetration x-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dose in rem is referred to as the dose equivalent (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(rem) = Dose (rad)  x 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Factor (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s for differences in biological effect for different type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7D2D-697C-4C39-9088-35C221746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3808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amma, X-Rays, and High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 rad =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pha, Proton, Neutron, and Low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a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em = 1 rad *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A31E-3481-49E9-B827-9F7B1961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91000"/>
          <a:ext cx="6232320" cy="3051000"/>
        </p:xfrm>
        <a:graphic>
          <a:graphicData uri="http://schemas.openxmlformats.org/drawingml/2006/table">
            <a:tbl>
              <a:tblPr/>
              <a:tblGrid>
                <a:gridCol w="31161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6"/>
          <p:cNvSpPr/>
          <p:nvPr/>
        </p:nvSpPr>
        <p:spPr>
          <a:xfrm>
            <a:off x="0" y="24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19320" y="3895560"/>
            <a:ext cx="621972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19320" y="4838760"/>
            <a:ext cx="6221160" cy="179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Radiation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8760" y="823680"/>
            <a:ext cx="87631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effect of any radiation is related to rate at which radiation transfers energy to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of the interaction density along radiation travel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valent to ionization potential or stopping power of body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ly proportional to radi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 range particles like alphas have a high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damaging types of radiation to a biological system are those with a high 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T radiation deposits all of its energy in a short distance of tra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FD6B-550B-4498-91E9-3F09FA491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increase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mass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charge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energy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of decreasing 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sion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ass number nucl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81B0-4EB4-4AFB-AD77-21F824842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Different Radia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714A-47E5-45E1-A0E5-2744C577F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ources of Radiation Exposure in the 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1031760" y="993600"/>
          <a:ext cx="667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93600"/>
                    <a:ext cx="667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LET and Q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BD52-12D0-40D0-9B72-9F37A4331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990720"/>
          <a:ext cx="8382240" cy="51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1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 ENERGY TRANSF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E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/micron in water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QF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or l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– 7.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 – 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–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- 5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– 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– 1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dose of alpha particles to an individual is three rad.  Calculate the dose equivalent in rem using the appropriate Quality Factor (QF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2674-86D9-4692-9EF2-D6296E19A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"/>
              <p:cNvSpPr txBox="1"/>
              <p:nvPr/>
            </p:nvSpPr>
            <p:spPr>
              <a:xfrm>
                <a:off x="162000" y="3570120"/>
                <a:ext cx="3638520" cy="31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179960" y="3589200"/>
          <a:ext cx="4767120" cy="3051360"/>
        </p:xfrm>
        <a:graphic>
          <a:graphicData uri="http://schemas.openxmlformats.org/drawingml/2006/table">
            <a:tbl>
              <a:tblPr/>
              <a:tblGrid>
                <a:gridCol w="2790720"/>
                <a:gridCol w="197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8143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measured by instruments, an individual was exposed to radiation field consisting of 5 mrad gamma, 2 mrad beta, and 5 mrad fast neutrons. Calculate the dose equivalent in r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B91A-770E-4E04-BD6B-7C94419B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19040" y="2255760"/>
                <a:ext cx="413532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742000" y="3521160"/>
          <a:ext cx="3273480" cy="3051000"/>
        </p:xfrm>
        <a:graphic>
          <a:graphicData uri="http://schemas.openxmlformats.org/drawingml/2006/table">
            <a:tbl>
              <a:tblPr/>
              <a:tblGrid>
                <a:gridCol w="2790720"/>
                <a:gridCol w="482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– basic unit of the human 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ssue - cells with similar structure performing sam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– cells with different structure (different tissues) performing similar overall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– group of organs performing comm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54E8-3A37-4363-B339-4566DDEED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1289-9741-4081-9A28-34768EDF0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cell from external influences, such as 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kee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nvert nutrients int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iochemical reactions for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rcRect l="0" t="15406" r="29839" b="16427"/>
          <a:stretch/>
        </p:blipFill>
        <p:spPr>
          <a:xfrm>
            <a:off x="4491000" y="3860640"/>
            <a:ext cx="4653000" cy="282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529240" y="766800"/>
            <a:ext cx="36147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gh endoplasmic reticulum (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ioles within centr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036880" y="6176880"/>
            <a:ext cx="316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 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A3D0-25C5-478A-B8E9-AA78E4217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struction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within chromos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ds of amino acids (deoxyribonucleic acids –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bodily function if damaged or mal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rcRect l="2859" t="20147" r="43381" b="12370"/>
          <a:stretch/>
        </p:blipFill>
        <p:spPr>
          <a:xfrm>
            <a:off x="4419720" y="1236600"/>
            <a:ext cx="4724280" cy="3705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6878520" y="4890960"/>
            <a:ext cx="226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6002-1AFB-4BD3-BC05-581AC297F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" y="74520"/>
            <a:ext cx="8229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Segment of DNA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520" t="21499" r="48358" b="10002"/>
          <a:stretch/>
        </p:blipFill>
        <p:spPr>
          <a:xfrm>
            <a:off x="660240" y="939960"/>
            <a:ext cx="6634440" cy="5556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7532640" y="55148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1D4D-F1AA-445F-ABD3-05CEAC8D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6040" y="1382400"/>
            <a:ext cx="8791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om (either neutral or charged) with unpaired electrons that wants to join with another atom to stabiliz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s that have not yet bonded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reactive atoms or chemical compounds that can alter existing state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cellular chemistry are the root causes of all the harmful effects of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7422-2BB4-4B3D-B441-C7D0ED823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46240" y="1580760"/>
            <a:ext cx="86817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onization and excitation of intracellular water molecules produces free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sequent interference of free radicals with cells not direct affected b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EDFE-2130-4428-877C-B464EC92B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background radiation comes from three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8BD3-8242-4994-9EBB-0F231E4BA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9C92-3530-4E10-A6A4-43E6CAEFA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425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: production of free radicals i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 by Ionization: Hydrogen Radical (H</a:t>
            </a:r>
            <a:r>
              <a:rPr b="0" lang="en-US" sz="3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absorb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rogen radical and hydroxyl ion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ad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160640" y="4595760"/>
                <a:ext cx="6845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DB0D-FCCE-4354-A14C-29A8D174A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8144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ysis by Ioniz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xyl Radical (OH</a:t>
            </a:r>
            <a:r>
              <a:rPr b="0" lang="en-US" sz="2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 removed from water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ionized water removes hydrogen from neutral water to form hydroxyl ra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1374840" y="4827600"/>
                <a:ext cx="601344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4566-A5A0-4B5B-B445-50D139C56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2520"/>
            <a:ext cx="9020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ysis by Exc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and Hydroxyl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electron excites water molecule, but is not absor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ited water molecule splits into hydrogen and hydroxyl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633680" y="4665600"/>
                <a:ext cx="54417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120080" y="627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FD6B-4ECC-45B7-97EF-4F9827246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1420560"/>
            <a:ext cx="88470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radicals immediately react with each other to produce harmless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y might react with other molecules in the cell, causing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382760" y="2577960"/>
                <a:ext cx="455436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958000" y="2654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but new cells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producing ab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air itself and function n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852B-98C1-4380-98D6-1E18C24CB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8A31-52BE-459B-90F6-4844E126F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35280" y="410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rcRect l="0" t="51499" r="0" b="2798"/>
          <a:stretch/>
        </p:blipFill>
        <p:spPr>
          <a:xfrm>
            <a:off x="2725560" y="2157480"/>
            <a:ext cx="3079800" cy="41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DBD6-707F-4AA9-A793-2A4733109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enzymes, DNA etc. and interference with biological path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cell membranes, nucleus, chromosome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Inhibition of cell division, cell death, transformation to a maligna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9BEC-B7DE-4E68-999A-E9939F687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ssue, Org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ruption to central nervous system, bone marrow, 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on of canc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le Anim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fe short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he genetic characteristics of individual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sensi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ells within the body have different structures an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in thei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o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ceptibility to radiation-induced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63A4-B3A3-4D88-B92F-FAA75A79D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6560" y="107964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ivis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ly dividing cells are more sensitivity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metabolism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with high metabolism rat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division stag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/ nourishment to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undernourished cells reproduce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er reproduction = more mu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8738-DCA6-4BB1-8793-13AAAE219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7200" y="1126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4 Factors Affecting Radio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 and stars send constant stream of cosmic radiation to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steady drizzle of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in certain variables can change the amount (or dose) of cosmic radiation that we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mospheric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's magnetic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AE24-8421-489B-A950-EC08EF00B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/ tissue radiosensitivity influenced by 2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sensitivity of the tissue/organ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to overall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radiosensitive organs and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 (t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-forming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nads (reproductive org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ns of the e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st radiosensitive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rain (cells do not reprod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3BF7-4B29-4F1A-8F9B-218719F4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ost radiosensitive tissues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blood cells have an already short lifespan and high metabolic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in toxin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s (reproductive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s occurring in egg or sperm cells could result in a mutation in the 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rads: temporary depletion of sperm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 to 400 rad: function of ovaries impa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FF96-3179-483E-8867-6673CFFE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F491-5CBD-4496-B25B-5096D00FF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60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5360" y="700200"/>
          <a:ext cx="8575920" cy="5945040"/>
        </p:xfrm>
        <a:graphic>
          <a:graphicData uri="http://schemas.openxmlformats.org/drawingml/2006/table">
            <a:tbl>
              <a:tblPr/>
              <a:tblGrid>
                <a:gridCol w="1602000"/>
                <a:gridCol w="1611000"/>
                <a:gridCol w="1638360"/>
                <a:gridCol w="1478160"/>
                <a:gridCol w="2246400"/>
              </a:tblGrid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ELL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OF CE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 OF SINGLE RADIATION EXPOSURE OF &gt; 100 R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(Erythrocyt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oxygen and nutrients to bo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 decrease in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ocyte (type of white blood ce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 nodes and sple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within 2 days after exposure; large decrease in number can result in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hrophils (type of white blood cel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proportional to dose; depletion results in infection and fe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tele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lo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– 1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in number can result in hemorrh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0720" y="772920"/>
            <a:ext cx="89629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issue to exhibit noticeable radiation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diosensitivity due to the high rate of cell division and degree of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 to 500 rad: Erythema (redde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dose: blistering and ulceration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term complications: scarring and skin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BCAF-5FBF-434E-9235-6B32A7BFF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58680"/>
            <a:ext cx="9144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2801880" y="3276720"/>
            <a:ext cx="3178080" cy="3267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B40D-5ACC-441C-BE42-3EC1B9433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00200"/>
            <a:ext cx="87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taract formation (cloud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dose of 200-500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mulative (spread over several months) dose of 1000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6560" y="182520"/>
            <a:ext cx="8267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</a:t>
            </a:r>
            <a:br>
              <a:rPr sz="40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ens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rcRect l="16669" t="20483" r="24977" b="12186"/>
          <a:stretch/>
        </p:blipFill>
        <p:spPr>
          <a:xfrm>
            <a:off x="3960720" y="3413160"/>
            <a:ext cx="4419720" cy="3186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397240" y="560088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Effects on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F8EC-6E0A-4435-BB26-582DB41B8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39680" y="1599840"/>
            <a:ext cx="90043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diation of same type, range in tissue increases with incr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of penetration is function of type of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particles and neutrons will not penetrate as far as electromagnetic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depends on charge, mass, an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LET = higher QF = more biological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9ED5-5BF3-4284-B6BA-7CFE1EEF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dia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diation of all cells, organs, and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s depends on which organ is sensitive at the given dos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limited to tissues and organs within exposed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localized doses of radiation are used to treat certain cancers without significant damage to the rest of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1A5F-1ADC-407A-AB02-E119F1D1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57200" y="227160"/>
            <a:ext cx="83376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Portion of Body Ex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99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damage decreases with decreasing dos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ut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 exposur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hronic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w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ng exposure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radiation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ure from natural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E4ED-3E38-45E7-A028-A9D5F643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93600"/>
            <a:ext cx="84056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te of Exp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893304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0600" y="159984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clinical Range (0 to 1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ckness occurs which requires medical 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hanges occur in the blood for doses near 1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apeutic Range (100 to 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loss of appetite, and fati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od damag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ness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hal Range (&gt;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 and vomiting becom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hemorrhaging may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r loss at 3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- 600 rem: small percentage of people will die within 30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 - 1000 rem: higher chance of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1000 rem: Certain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0A49-5E7A-47B1-BC56-6B21CC55B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itself is a source of terrestrial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active materials exist naturally in soil and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contains small amounts of dissolved uranium and th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rganic matter (both plant and animal) contains radioactive carbon and potassi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A5EB-2B6D-4339-9884-E693AE43A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5360-CD18-4476-A132-5428B9D04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074600"/>
          <a:ext cx="8229600" cy="5346720"/>
        </p:xfrm>
        <a:graphic>
          <a:graphicData uri="http://schemas.openxmlformats.org/drawingml/2006/table">
            <a:tbl>
              <a:tblPr/>
              <a:tblGrid>
                <a:gridCol w="2359080"/>
                <a:gridCol w="58705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se (Rads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rst sign of physical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drop in white blood cell cou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reshold for vom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in a few hours of exp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0 - 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5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minimal supportive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0 -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50 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supportive medical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10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28"/>
          <p:cNvSpPr/>
          <p:nvPr/>
        </p:nvSpPr>
        <p:spPr>
          <a:xfrm>
            <a:off x="0" y="712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Acute Radiation Effects: Whole Body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28FC-79CA-44E1-8883-F44E195D7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0"/>
          <a:ext cx="9144000" cy="6561000"/>
        </p:xfrm>
        <a:graphic>
          <a:graphicData uri="http://schemas.openxmlformats.org/drawingml/2006/table">
            <a:tbl>
              <a:tblPr/>
              <a:tblGrid>
                <a:gridCol w="1488960"/>
                <a:gridCol w="1263600"/>
                <a:gridCol w="1378080"/>
                <a:gridCol w="1252440"/>
                <a:gridCol w="1257480"/>
                <a:gridCol w="1254240"/>
                <a:gridCol w="212400"/>
                <a:gridCol w="1036800"/>
              </a:tblGrid>
              <a:tr h="4305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CLINIC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EUTIC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H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2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TO 6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 TO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EFF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ROMI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ALLI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vomi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rems: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rems: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rems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ing or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atopoietic t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intestinal 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ervous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sig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Leukop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 leucopenia; purpose; hemorrhage; infection.  Hair loss above 300 rem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hea; fever, disturb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ulsions; tremor; ataxia; lethar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period post 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to 6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to 14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48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; hematolog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transfusion; antibio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 bone marrow transpla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el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alescent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al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1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to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occurs with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hage; in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latory collap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y fail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ized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8032-094B-4D3C-BB12-4794F6258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Content Placeholder 4" descr="capture4.jpg"/>
          <p:cNvPicPr/>
          <p:nvPr/>
        </p:nvPicPr>
        <p:blipFill>
          <a:blip r:embed="rId1"/>
          <a:srcRect l="22911" t="0" r="21263" b="13409"/>
          <a:stretch/>
        </p:blipFill>
        <p:spPr>
          <a:xfrm>
            <a:off x="0" y="2152800"/>
            <a:ext cx="2490840" cy="390348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3" descr="capture12.jpg"/>
          <p:cNvPicPr/>
          <p:nvPr/>
        </p:nvPicPr>
        <p:blipFill>
          <a:blip r:embed="rId2"/>
          <a:srcRect l="31803" t="0" r="0" b="0"/>
          <a:stretch/>
        </p:blipFill>
        <p:spPr>
          <a:xfrm>
            <a:off x="2778120" y="2317680"/>
            <a:ext cx="2968560" cy="335916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capture6.jpg"/>
          <p:cNvPicPr/>
          <p:nvPr/>
        </p:nvPicPr>
        <p:blipFill>
          <a:blip r:embed="rId3"/>
          <a:srcRect l="15212" t="0" r="12209" b="0"/>
          <a:stretch/>
        </p:blipFill>
        <p:spPr>
          <a:xfrm>
            <a:off x="5959440" y="2522520"/>
            <a:ext cx="3032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9FAF-81E8-4D57-9EB2-9797237F6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3" descr="capture8.jpg"/>
          <p:cNvPicPr/>
          <p:nvPr/>
        </p:nvPicPr>
        <p:blipFill>
          <a:blip r:embed="rId1"/>
          <a:stretch/>
        </p:blipFill>
        <p:spPr>
          <a:xfrm>
            <a:off x="0" y="2298600"/>
            <a:ext cx="5429160" cy="3660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3" descr="capture10.jpg"/>
          <p:cNvPicPr/>
          <p:nvPr/>
        </p:nvPicPr>
        <p:blipFill>
          <a:blip r:embed="rId2"/>
          <a:stretch/>
        </p:blipFill>
        <p:spPr>
          <a:xfrm>
            <a:off x="5624640" y="1373040"/>
            <a:ext cx="3352680" cy="52707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0CED-3E16-4F41-A679-233D285B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Content Placeholder 3" descr="capture15.jpg"/>
          <p:cNvPicPr/>
          <p:nvPr/>
        </p:nvPicPr>
        <p:blipFill>
          <a:blip r:embed="rId1"/>
          <a:stretch/>
        </p:blipFill>
        <p:spPr>
          <a:xfrm>
            <a:off x="0" y="1405080"/>
            <a:ext cx="3618000" cy="5219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599840"/>
            <a:ext cx="850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ngiect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lation (expansion) of the blood vessels in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receive excessive blood flow, diverting blood away from other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lls that LOSE blood flow suffer from oxygen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C810-B2C6-4667-9DC1-002B0D0A0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0E9E-8C20-4D87-9A98-49FB91EB7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1000" y="1600200"/>
            <a:ext cx="879156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ly loss of outer skin cells (pe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mal A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nning of the skin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lation (hair l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tinization (hardening)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ist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loss due to inability of damaged skin cells to re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damage due to dehydration and infection resulting from severe moist desqu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66BF-85BF-4487-BF8F-761F8B3CC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1DCC-430C-49B4-8CBE-B3A985B2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/tissue death due to insufficient blood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Epi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tissu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dose, low-energy beta ir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95280"/>
            <a:ext cx="82598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tolerates small doses of radiation exposure better over a long period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s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radiation-induced by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As long as the repair or elimination rate is larger than the produc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00 rem acute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vere radiation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00 rem delivered at 10 rem per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ittle noticeable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3EF2-A351-424D-B9A7-6E808CDD9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nimals (including people) have intern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s from radioactive potassium-40 and carbon-14 inside thei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rom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minor sources of exposure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DF4E-18F6-4390-BEEF-BA2EAAB7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8640" y="2027160"/>
            <a:ext cx="7796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manent biological damage occurs unless total dose exceeds some value (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long term chronic exposures to less than threshold values to protect against permanen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E77F-0F8B-45C0-8EDF-2F8140578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96800" y="32544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hreshol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14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continuously attempts to repair damage as it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amage too se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mechanisms become str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ng effects are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d exposure shortens average life s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mutation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ukemia: Inability to produce white blood cells n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69E7-3A0B-4B51-A752-0BC035415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447840" y="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issue Damage and Rep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Effects of Rad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38120" y="103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een in offspring of expose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o genetic information in reproductive cells due to damaged DNA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spontaneous changes due to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3E8F-C3E3-4576-83DC-E30562D9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F2A0-1055-4EEC-8002-AC0253CA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the exposed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n reddening (eryt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%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omatic Effects of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nal Radiation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ways radionuclides can enter the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C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18B5-9837-4ED1-8E97-D35A60089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or Target Organ Con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llowing and Inhalation of Radio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59984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wallowed, radionuclides pass through normal digestion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haled, radionuclides enter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luble, transmitted through blood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lood stream, it travels through out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s have an affinity to specific elements – radioactive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B201-1AC4-4A35-B698-AB1CFB34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727200"/>
            <a:ext cx="898668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painters contract bone cancer after years of “pointing” the radium dipped brush with their tong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m falls in same periodic table grouping as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s Calcium in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arget organ for Radium is b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DB39-1189-44EE-9522-EB30E279F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1"/>
          <a:srcRect l="24505" t="19688" r="28569" b="19066"/>
          <a:stretch/>
        </p:blipFill>
        <p:spPr>
          <a:xfrm>
            <a:off x="0" y="4203720"/>
            <a:ext cx="2459160" cy="24066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2527200" y="57326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2"/>
          <a:stretch/>
        </p:blipFill>
        <p:spPr>
          <a:xfrm>
            <a:off x="6626160" y="4137120"/>
            <a:ext cx="2517840" cy="25178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5176800" y="576900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49A7-E7BD-4A65-9CA4-73FAEB997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t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t – whol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sium –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 -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Bu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 of internally-deposited radioactivity causing maximum permissible dose to any or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DD71-5B46-4F87-82FE-AEF53005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120" y="71280"/>
            <a:ext cx="8902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on from External Radio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– minimize time ex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– Increase distance from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ing – Increase shie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FCF5-6FE1-46F9-AE64-E43B4C938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ving things are exposed to natural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man-made radiation sources differs by gro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ly Exposed Individuals (Work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F28B-BB4C-491B-A949-0CFDD3570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93EF-CC8D-4C72-A9FA-39D8ECA0F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ly controlled: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ating / drinking in contaminated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pen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14480" y="71280"/>
            <a:ext cx="8902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rotection from Internal Radio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32DD-1061-44FF-A79F-65C75983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Sources (by far, the most significant man-made sour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x-r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medicine procedures (iodine-131, cesium-137, and othe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FBE6-2B33-4AD1-9410-CE2D04D5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road construction mate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ustible fuels, including gas and c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security sy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vi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escent lamp star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e detectors (americ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garet Hines</dc:creator>
  <dc:description/>
  <dc:language>en-US</dc:language>
  <cp:lastModifiedBy>Peggy Hines IRSC</cp:lastModifiedBy>
  <dcterms:modified xsi:type="dcterms:W3CDTF">2013-02-07T19:55:15Z</dcterms:modified>
  <cp:revision>1166</cp:revision>
  <dc:subject/>
  <dc:title>Biological Effects of Radiation</dc:title>
</cp:coreProperties>
</file>