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D257-FB06-44EC-B42B-9830B811E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AD48-33CF-4A4C-97E3-7FBDEAB1710E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ABA9-9C87-40AA-9143-DB84F8C2D8F0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B6E6-9AFE-4B5B-9414-709083A4CAF3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E08C-4C6B-4A3F-8DF5-E23A10BF6C2E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E1CB-68EE-4470-874D-1071AA9E42CC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CBF0-591A-42CA-A0FA-5802A755A580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D7DE-72EA-4FF8-ADB4-2EF2833F3D35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E2BD-FEBD-40C7-A9A8-CB5B982E9AF4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4548-8FB2-4FC3-A99E-D34040A563D6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883B-41BA-4A96-894B-1A2EEE853E3D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D4EF-B949-4D7B-83E6-DB31D1D26167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8C55-7059-4D3C-867A-6CF040AF1399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2280-25A7-426A-8C9D-447DEDDF2573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F67F-5F81-4344-9CB3-EBE15BD685E0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6E822-25BA-4056-970C-19C64C84AF04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292F-84A8-41C5-8366-9C694DC8D5E5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EFB0-A994-4CD2-B31A-B70E8FAF2694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0AA0-9967-4FC7-9036-83CF3AE1D550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6F1A-6756-4D3E-8D59-A253BEE32DF1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24F6-41BD-4A32-BDFF-BD7A6829AEF8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DF34-7E26-4145-8F95-D2B0294FB2F1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BFE5-1BE4-43C3-BE33-6E6ECE9ABE7E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3482-954E-4BED-A70F-B12761C9C9F1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E30E6-0D33-45C1-BB23-78583592BFA9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8555-0607-4A5C-BFDE-EFDEFCBD55FC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56B5-EBA7-481A-B156-0F589A70BFA7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8779-BCAD-45A0-8234-CCB5C3990628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B8BF-DB87-4A73-8BED-AF92630A90A5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0368-697B-443B-BE50-0FDC6E0C2758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8F6B-1370-4204-A491-DB676D730382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1D44-051F-4472-B385-CDB5932C980D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0D5A-A19D-49A5-931B-9E1413483EDB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E01D-E1B2-428C-A661-4EB292A7FA33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EE6C-3247-40B6-B616-60C08FA68C69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AF33-36BF-4A38-AD62-0F7408CC3348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07EB-F092-42E4-A74E-45D21AEEE898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5EBF-ABAA-441F-8C47-C7D835C2D71C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03CC-6D78-4DA1-8970-992D9501A968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62E6-B88D-4718-9FC0-4ED2FB4E9BC7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4405-5B0B-4C10-8A12-5209728F16ED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DB08-0143-4F05-9F6A-9132DC71148D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ACEE-6F46-4140-9CB8-238476C91280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B6F9-5A7B-4D47-8B26-6F54DBDFD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6909-8D89-4845-921A-744D8899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E401-C7A8-480E-A7E3-669EF01BB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DA56-A8BE-46EE-B9BD-7F0F1A1E0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8CDF-1EB8-475A-A678-7F6B271C0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F4DE-E803-4EE3-AA2D-91CA89F0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8721-E4EF-4DF4-A970-86DD14BF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D7EE-E1BA-4743-8F41-F9E1341E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C9513-3E0F-4645-A482-EB454DBB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0F96E-14C6-4B34-AEF8-A9CA7B77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458EA-063B-4C90-BBF7-646A775F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E81D-1ECE-4DD1-96C2-47D367B2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7EAC-ABF0-4902-A9E4-86020F57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9AC3A-DCB5-49A2-834A-094F4B83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F920-BF5E-4191-AFD3-FAE12EDD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CCE9-E345-4C0A-AE22-5423C11E2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B393-08AC-45B1-BA24-FAB2BEE61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E9D5-6D71-4F7B-BF21-515A3710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0748-7F36-41A0-9DD7-9653A80D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8806-A2CE-4BE4-870F-5E578A6A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4D3A-894C-455A-BDA0-F4A74079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47E7-04B9-40F4-8D79-244473B7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00DB-101D-4503-8FB7-11C015C5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65F4-D3B9-4A23-BAD7-B6C1D0F9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e8d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75F7-9A70-4592-BBBC-AFE478A7CC71}" type="slidenum">
              <a:rPr b="0" lang="en-US" sz="1200" spc="-1" strike="noStrike">
                <a:solidFill>
                  <a:srgbClr val="8e8d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e8d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6818-2748-45BF-8702-7BE420519A5B}" type="slidenum">
              <a:rPr b="0" lang="en-US" sz="1200" spc="-1" strike="noStrike">
                <a:solidFill>
                  <a:srgbClr val="8e8d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Gamma%20Exposure%20Video.m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152280" y="102384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diographic testing,  x-ray,  natural radiation, curie, becquerel, personnel monitoring, decay, half-life, intensity, exposure limits, inverse square, stochastic, nonstochastic, radiation safety officer.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262160"/>
          </a:xfrm>
          <a:prstGeom prst="rect">
            <a:avLst/>
          </a:prstGeom>
          <a:ln w="0">
            <a:noFill/>
          </a:ln>
        </p:spPr>
      </p:pic>
      <p:sp>
        <p:nvSpPr>
          <p:cNvPr id="93" name="Footer Placeholder 5"/>
          <p:cNvSpPr/>
          <p:nvPr/>
        </p:nvSpPr>
        <p:spPr>
          <a:xfrm>
            <a:off x="3124080" y="6524640"/>
            <a:ext cx="28958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e8d8c"/>
                </a:solidFill>
                <a:latin typeface="Tahoma"/>
              </a:rPr>
              <a:t>Augusta Technical College</a:t>
            </a:r>
            <a:r>
              <a:rPr b="0" lang="en-US" sz="1000" spc="-1" strike="noStrike">
                <a:solidFill>
                  <a:srgbClr val="8e8d8c"/>
                </a:solidFill>
                <a:latin typeface="Tahoma"/>
              </a:rPr>
              <a:t>	</a:t>
            </a:r>
            <a:r>
              <a:rPr b="0" lang="en-US" sz="1000" spc="-1" strike="noStrike">
                <a:solidFill>
                  <a:srgbClr val="8e8d8c"/>
                </a:solidFill>
                <a:latin typeface="Tahoma"/>
              </a:rPr>
              <a:t>2011</a:t>
            </a:r>
            <a:endParaRPr b="0" lang="en-US" sz="1000" spc="-1" strike="noStrike">
              <a:solidFill>
                <a:srgbClr val="2f2b20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37960" y="1752480"/>
          <a:ext cx="8668080" cy="1463760"/>
        </p:xfrm>
        <a:graphic>
          <a:graphicData uri="http://schemas.openxmlformats.org/drawingml/2006/table">
            <a:tbl>
              <a:tblPr/>
              <a:tblGrid>
                <a:gridCol w="1082880"/>
                <a:gridCol w="1084320"/>
                <a:gridCol w="1082520"/>
                <a:gridCol w="1084320"/>
                <a:gridCol w="1084320"/>
                <a:gridCol w="1082520"/>
                <a:gridCol w="1084320"/>
                <a:gridCol w="1082880"/>
              </a:tblGrid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.1.8.1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.1.8.3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1.8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2.4.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3.1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4.3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5.6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5.6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5.6.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6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7.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9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9.8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0.4.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3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4.6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4.6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4.6.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Atoms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ucleus of atom – contains the positively-charged protons and neutrally-charged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lectrons – negatively-charged particles that travel at high speed around the nucleu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tomic number – based on an element’s number of prot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Ex. Carbon (C) has atomic number 6, Potassium (K) has atomic number 19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sotopes – atoms of the same element with different number of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tomic mass – approximately equal to sum of protons and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activit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release of energy and matter that results from changes in the nucleus of an ato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n atom that contains additional neutrons is unstabl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 order to move to a more stable state, the nucleus seeks to remove the extra neutrons, thereby emitting radiatio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toms with atomic numbers &gt; 83 referred to as radioisotopes – they have unstable nuclei and are radioactiv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active Deca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spontaneous breakdown of an atomic nucleus resulting in the release of energy and matter from the nucleu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ccurs by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lpha decay (emits 2 protons and 2 neutrons from the nucleu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Beta decay (a neutron split into a proton and an electron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Gamma decay (energy in the form of gamma radiation emitted from the nucleu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lpha and beta decay involve particle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xample nuclear reactio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9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U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38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        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90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34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+ 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e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4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+ gamma ray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cxnSp>
        <p:nvCxnSpPr>
          <p:cNvPr id="117" name="Straight Arrow Connector 4"/>
          <p:cNvCxnSpPr/>
          <p:nvPr/>
        </p:nvCxnSpPr>
        <p:spPr>
          <a:xfrm>
            <a:off x="2438280" y="6324120"/>
            <a:ext cx="610560" cy="2520"/>
          </a:xfrm>
          <a:prstGeom prst="straightConnector1">
            <a:avLst/>
          </a:prstGeom>
          <a:ln w="9360">
            <a:solidFill>
              <a:srgbClr val="2f2b2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Radioactive Decay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When an atom undergoes radiographic decay, it emits one or more forms of radiation with sufficient energy to ionize the atoms with which it interac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Ionizing radiation – high speed subatomic particles ejected from the nucleus, or gamma rays emitted by the either the nucleus or orbital elec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Ionization – complete removal of an electron from an atom following the transfer of energy from a passing charged particl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active Decay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ctivity – quantity which expresses the degree of radioactivity or the radiation-producing potential of a given amount of radioactive materia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Given in units of Curie (English system) or Becquerel (SI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One Curie is quantity of radioactive material in which 3.7 * 10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10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atoms disintegrate per second (move to a more stable state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 Becquerel = quantity of radioactive material in which 1 atom disintegrates per secon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 Curie = 3.7 * 10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10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Becquer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pecific activity – activity per unit mass or volum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alf-Lif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time required for the activity of a particular radioisotope to decrease to half of its original valu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Varies for different radioisotop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anges from microseconds to billions of years (uranium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alf-life of Cobalt-60 = 5.3 year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alf-life Iridium-192 = 74 day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arbon-14 dat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used to approximate the age of fossil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cays with a half-life of 5730 year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alf-Life Exampl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xample:  You originally have a 30-Curie source of  Cobalt-60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How many Curies will you have in 5.3 years?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Answer: The source will have decayed by one half-life in 5.3 years, therefore half of the original source will remain, or 15 Curies.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Calibri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How long will it take for the source to decay to 3.75 Curies?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Answer:  Every 5.3 years the source will be reduced by half.  In 1 half-life, the source will be reduced to 15 Curies.  In 2 half-lives, the source will be down to 7.5 Curies.  Finally, in 3 half-lives, the source will be 3.75 Curies.  Therefore, it will take a total of 3 half-lives (or 15.9 years) for the source to decay to 3.75 Curies.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Penetrating Power of Radiation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nly x-rays and gamma rays can penetrate solid materials to a significant extent (alpha and beta particles can penetrate skin only up to 8 mm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ransmission of radiation depends o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terial thicknes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terial densit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nergy of the phot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hotons that are not transmitted are attenuated (absorbed or scattered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3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Safet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cience of radiation protection (also called health physics) developed to address acceptable radiation levels to reduce risk of injury to huma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rimary health concern (for chronic, not acute exposure) is increased risk for canc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pends on amount of radiation dose, duration of dose, and specific body parts expos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ssession and use of radioactive materials strictly regulated by the Nuclear Regulatory Commission (NRC) as specified in Title 10 of the Code of Federal Regulations (CF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Safety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y 1900 it was understood that use of x-rays and gamma radiation required safety precautions to protect one’s health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20’s – routine use of film badges for personnel monitoring begun, genetic effects of radiation recogniz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rigin of radiation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Natural (sun, radon ga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n-made (x-rays, gamma ray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ubtitle 2"/>
          <p:cNvSpPr/>
          <p:nvPr/>
        </p:nvSpPr>
        <p:spPr>
          <a:xfrm>
            <a:off x="1371600" y="10666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f2b20"/>
                </a:solidFill>
                <a:latin typeface="Calibri"/>
              </a:rPr>
              <a:t>Radiographic Testing</a:t>
            </a:r>
            <a:endParaRPr b="0" lang="en-US" sz="3800" spc="-1" strike="noStrike">
              <a:solidFill>
                <a:srgbClr val="2f2b2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Tahom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f2b20"/>
                </a:solidFill>
                <a:latin typeface="Tahoma"/>
              </a:rPr>
              <a:t>Prepared by:</a:t>
            </a:r>
            <a:endParaRPr b="0" lang="en-US" sz="2500" spc="-1" strike="noStrike">
              <a:solidFill>
                <a:srgbClr val="2f2b20"/>
              </a:solidFill>
              <a:latin typeface="Tahom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f2b20"/>
                </a:solidFill>
                <a:latin typeface="Tahoma"/>
              </a:rPr>
              <a:t>Chattanooga State Community College</a:t>
            </a:r>
            <a:endParaRPr b="0" lang="en-US" sz="25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Energ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ifferent radioactive materials and x-ray generators produce radiation at different energie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nergy of radiation – responsible for the ability to penetrate matt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easured in electronvolts (eV) or kiloelectronvolts (keV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n electronvolt is the energy gained by an electron passing through a potential difference of 1 vol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nergy adjustable on an x-ray generato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nergy an unchangeable characteristic of a radioisotop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Intensit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mount of energy passing through a given area (perpendicular to the direction of radiation travel) in a given unit of tim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urvey meter – used to measure intensity or radiation dose rat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Units in mRem/hr or Rem/h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equently referred to as the most important tool a radiographer has to determine the presence and intensity of radia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er the inverse square law, the intensity varies inversely with the square of the distanc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Dos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66320" y="18288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xposure – measure of the strength of a radiation fiel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oentgen or 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(also called absorbed dose) – amount of ionizing energy absorbed by an object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ad (“radiation absorbed dose”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equivalent relates absorbed dose to biological effect of dose – equals absorbed dose times a quality factor (quality factor = 1 for x-ray and gamma radiation in human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em (“Roentgen equivalent in man”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r humans, 1 R = 1 Rad = 1 Re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8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8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Dose vs. Dose Rat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66320" y="18284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rate – measure of how fast a radiation dose is being receiv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dose rate = dose / tim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/hr, mR/hr, Rem/hr, mRem/hr (same units as intensity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o calculate a person’s dose, multiply the dose rate (measured with a survey meter) by the duration of exposur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dose = dose rate * tim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xample: If the radiation intensity in a particular area is 5 mRem/hr, and the person remains in that area for 30 minutes, what is the person’s radiation dose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      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= 5 mRem/hr * 0.5 hr = 2.5 mRe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0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5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5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0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Biological Effects of Radiation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bsorbed dose depends on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Intensity of radiation sourc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Distance from sourc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Time of exposur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onization of living tissue causes molecules in cells to be broken apar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Biological effects vary with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Type of radiation (penetrating ability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Size of dose received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Dose rat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Body part exposed (extremities can handle more exposure than blood-forming organs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Age of individual (cell divisions slow with age – older people less sensitive to ionizing radiation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2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7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2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7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2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7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2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7" dur="5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2" dur="500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Stochastic and Nonstochastic Effect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tochastic effects are delayed and difficult to specifically correlate to radiation exposure (cance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onstochastic effects are acute effec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irectly proportional to size of dos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ymptom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kin redden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kin and tissue burn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ataract format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terilit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adiation sickness (nausea, vomiting, diarrhea, headache, fever, dizziness, weakness, hair los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ath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4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7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0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3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6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9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2" dur="5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Important NRC Cod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0CFR19 – Notices, Instructions, and Reports to Workers: Inspection and Investigati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0CFR20 – Standards for Protection Against Radia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0CFR34 – Licenses for Industrial Radiography and Radiation Safety Requirements for Industrial Radiographic Operati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Guidelines established to both prevent acute exposure and limit chronic exposure to “acceptable” level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sire to maintain all exposure “as low as reasonably achievable” – referred to as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ALAR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BANANA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– “build absolutely nothing anywhere near anyone”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4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9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4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9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4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Exposure Limit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ffect of exposure (dose received in a 24-hour period)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0-25 Rem – no evident injury (blood changes detectable at 5 Rem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400-500 Rem – results in death in 50% of cas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1000+ Rem – results in death in ALL cas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nnual Occupational Limi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otal effective dose – 5 Re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or pregnant women - 0.5 Rem during gestation perio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or people younger than age 18 – 0.5 Re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1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6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1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6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Exposure Limits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066320" y="18288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nnual Non-Occupational Limits (for general public exposure to industrial ionizing radiation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0.1 Rem (2% of occupational limit)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Doesn’t include natural background radiation (0.3 Rem) or radiation from man-made sources, such as medical x-rays (0.05 Rem)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ull-body X-ray Scanners at Airpor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According to the FAA web-site, the effective dose per scan is less than 0.0001 mSv (milliSievert)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0.01 Sievert = 1 Rem, therefore 0.0001 mSv = 0.01 mRem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The Health Physics Society (HPS) recommends 0.25 mSv (25 mRem) max annual dose from single source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This corresponds to 2500 exposures per year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3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8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3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3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8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8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ontrolling Radiation Exposur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member: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TIME, DISTANCE, and SHIELD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call that dose = dose rate * tim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ollimator – device used to direct radiation onto a part and shield the radiation in other directi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 general, the denser the material the greater the shield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ost effective shielding by depleted uranium – used to shield the source in gamma ray camera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Lead and concrete commonly used for shield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0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5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0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5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0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Topic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History of RT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Science of Radiation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Radiation Terminology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Radiation Safety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ontrolling Radiation Exposur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66320" y="19810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ecall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inverse square law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– “the radiation intensity varies inversely with the square of the distance”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1*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= I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2*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xample: If the intensity at 1’ from the source is 500 Rem/hr, at what distance is the intensity 2 mRem/hr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Solution:  Let I</a:t>
            </a:r>
            <a:r>
              <a:rPr b="0" lang="en-US" sz="18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= 500 Rem/hr; D</a:t>
            </a:r>
            <a:r>
              <a:rPr b="0" lang="en-US" sz="18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= 1 foot; I</a:t>
            </a:r>
            <a:r>
              <a:rPr b="0" lang="en-US" sz="18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= 2 mRem/hr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Solve for D2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05600" indent="-2714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 = Square root (I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1*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1" lang="en-US" sz="1800" spc="-1" strike="noStrike" baseline="30000">
                <a:solidFill>
                  <a:srgbClr val="2f2b2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 / I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) = 500 feet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gns must be posted at intensity boundaries (usually 2 mRem/hr and 100 mRem/hr) to warn individuals that radiographic testing is in progres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519920" indent="-21708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7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2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7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2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7" dur="5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alf-Value Layer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thickness of a material needed to reduce the radiation intensity to ½ of its original valu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o provide shield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pends on radioisotope used for gamma radiation (or voltage if radiation source is an x-ray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pends on voltage if radiation source if an x-ra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38080" y="4419720"/>
          <a:ext cx="7674120" cy="1882800"/>
        </p:xfrm>
        <a:graphic>
          <a:graphicData uri="http://schemas.openxmlformats.org/drawingml/2006/table">
            <a:tbl>
              <a:tblPr/>
              <a:tblGrid>
                <a:gridCol w="1324080"/>
                <a:gridCol w="1270080"/>
                <a:gridCol w="1270080"/>
                <a:gridCol w="1269720"/>
                <a:gridCol w="1270080"/>
                <a:gridCol w="1270080"/>
              </a:tblGrid>
              <a:tr h="379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a9a57c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Half-Value Layer, mm (inch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a9a57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9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Source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oncrete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Steel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Lead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ungsten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ranium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561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Iridium-19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4.5 (1.75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2.7 (0.5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8 (0.19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 (0.13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.8 (0.11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61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obalt-6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60.5 (2.38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1.6 (0.85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2.5 (0.49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7.9 (0.31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6.9 (0.27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nodeType="clickEffect" fill="hold">
                      <p:stCondLst>
                        <p:cond delay="0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Safety Officer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adiation Safety Officer (RSO) - individual authorized by company to ensure radiation activities performed safely and per approved procedures and regulati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adiographers required to wear personnel monitoring devices to aid in tracking and minimizing their radiation exposur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Personnel Monitoring Devic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66320" y="18288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cket dosimeter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imilar in appearance to small mark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ads radiation dose (not dose rate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llows workers to track daily dose received (reset at the start of each shift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udible alarm rate met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ounds an alarm at a preset dose rate (typically 500 mRem/h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OT a replacement for a survey meter!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25814"/>
                </a:solidFill>
                <a:uFillTx/>
                <a:latin typeface="Calibri"/>
                <a:hlinkClick r:id="rId1"/>
              </a:rPr>
              <a:t>Gamma Exposure Video.mov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2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7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2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7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2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7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2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Personnel Monitoring Devices - Continued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ilm badg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iece of radiation-sensitive film that provides a permanent record of radiation dose receiv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LD (thermoluminescent dosimete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ften used instead of a film badge (may be reused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oth film badges and TLDs typically worn for 1-3 months before being processed to determine dos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9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4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9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4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9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Radiography Equipment – X-Ray Generator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are generated by directing a stream of high-speed electrons at a target material, such as tungsten, which has a high atomic numb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teraction with the tungsten atoms slows or stops the electrons, and x-rays are produc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Major components of an x-ray machin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ube – contains a cathode (coiled wire) and an anode (target) – operates in a vacuu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igh voltage generato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ntrol console (to adjust output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oling syste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6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1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6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1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6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1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6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X-Ray Generators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X-ray control console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creasing current (or milliamperage) increases number  of electrons that flow from the cathode to the anode – thus increases the x-ray intensit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creasing the voltage increases the speed at which the electrons travel – thus increasing the energy or penetrating power of the x-ra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8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3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Radiography Equipment – Gamma Source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n-made radioactive sources produced by introducing an extra neutron to atoms of the source material by neutron bombardmen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s the atoms shed the neutron energy is released in the form of gamma ra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o-60 and Ir-192 common industrial gamma ray sources due to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igh energi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Portability (as opposed to x-ray machine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isadvantage of gamma sources – cannot be turned off, therefore source must be isolated and shielded within an exposure device (camera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5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0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5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0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5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Radiography Equipment – Gamma Source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ources typically consist of multiple pellets loaded into a stainless steel capsule to obtain desired activity level (number of Curie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apsule sealed by weld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ttached to a short flexible cable called a pigtail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oused in a shielding device referred to as an exposure device or camer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ctivity of source governs amount of shielding requir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-60 has a higher activity (1.25MeV) than Ir-192 (460keV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-60 cameras typically weigh 500 lbs vs. ~45 lbs for Ir-192 camera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2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7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2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7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2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7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2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Performing Radiograph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Exposure device connected to source tube on one end and a crank-out mechanism on the other en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ource tube in positioned as needed to obtain radiograph of component (with the source itself safely housed in the exposure device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rom as far away as possible, the radiograph turns the crank to move the source from the camera to the tip of the source tub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fter the proper exposure time (calculated based on source strength, source to film distance, and thickness of the component), the radiographer cranks the source back into the camer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he radiographer must use the survey meter to confirm the source fully extracted back into the camer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9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9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4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9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graphic Testing (RT)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66320" y="20570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Definition: </a:t>
            </a: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An NDT method that utilizes x-rays or gamma radiation to detect discontinuities in materials, and to present their images on recording medium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graph Image Properti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ensitivity – a measure of the quality of the image in terms of the smallest detail that may be detect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Image Quality Indicators (IQIs or penetrameters) – devices used to indicate the quality level or sensitivity of the radiograph (plaque type or wire type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pends on contrast and definit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ontrast – degree of density difference between two areas on a radiograph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ition – degree of sharpness of the radiographic imag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des require a minimum “unsharpness”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0" dur="indefinite" restart="never" nodeType="tmRoot">
          <p:childTnLst>
            <p:seq>
              <p:cTn id="1141" dur="indefinite" nodeType="mainSeq">
                <p:childTnLst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6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1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6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6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graph Image Properti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nsity – degree of film darken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If 0.01% of transmitted light reaches far side of film the density is 4.0 (based on an exponential equation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If 1.0% of transmitted light reaches far side of film the density is 2.0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Many governing codes require densities of 2-4% (don’t want image too light or too dark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nsitometer – device used to measure film densit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Density through the IQI must meet code (2-4%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Also, the density in the area of interest (the weld perhaps), must satisfy plus/minus criteria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Calibri"/>
              </a:rPr>
              <a:t>Darkest area must have a density of not more than 30% of the density under the IQI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Calibri"/>
              </a:rPr>
              <a:t>Lightest area must have  a density of not less than 15% of the density under the IQI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nodeType="clickEffect" fill="hold">
                      <p:stCondLst>
                        <p:cond delay="indefinite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3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8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3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8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3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8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3" dur="5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8" dur="5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2f2b20"/>
                </a:solidFill>
                <a:latin typeface="Calibri"/>
              </a:rPr>
              <a:t>Assignment…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RT Worksheet/Calculations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Densitometersa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istory – X-Ray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discovered in 1895 by Wilhelm Roentg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896 – used by physicians to locate bullets in wounded soldier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13 – development of high vacuum x-ray tubes enabled voltages of 100,000 V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ncreased penetrating power of x-rays led to industrial applicati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31 – GE developed 1,000,000 V x-ray generato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SME approved use of x-ray to test fusion-welded pressure vessel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istory – Natural Radiation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896 – Henri Becquerel identified uranium as radioactive materia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898 – Pierre and Marie Curie discovered polonium, followed by radium (“shining” element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adium capable of filming through 10-12” thick steel casting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sed extensively during WWII as part of U.S. Navy shipbuilding progra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46 – cobalt and iridium became availabl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Both stronger and cheaper than radiu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What is radiation?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and gamma rays are types of electromagnetic radiation of shorter wavelengths than visible light: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λ</a:t>
            </a:r>
            <a:r>
              <a:rPr b="0" lang="en-US" sz="2000" spc="-1" strike="noStrike" baseline="-25000">
                <a:solidFill>
                  <a:srgbClr val="2f2b20"/>
                </a:solidFill>
                <a:latin typeface="Calibri"/>
              </a:rPr>
              <a:t>visible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= 600 Angstroms, </a:t>
            </a:r>
            <a:r>
              <a:rPr b="0" lang="el-GR" sz="2000" spc="-1" strike="noStrike">
                <a:solidFill>
                  <a:srgbClr val="2f2b20"/>
                </a:solidFill>
                <a:latin typeface="Calibri"/>
              </a:rPr>
              <a:t>λ</a:t>
            </a:r>
            <a:r>
              <a:rPr b="0" lang="en-US" sz="2000" spc="-1" strike="noStrike" baseline="-25000">
                <a:solidFill>
                  <a:srgbClr val="2f2b20"/>
                </a:solidFill>
                <a:latin typeface="Calibri"/>
              </a:rPr>
              <a:t>x-rays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= 1 A, </a:t>
            </a:r>
            <a:r>
              <a:rPr b="0" lang="el-GR" sz="2000" spc="-1" strike="noStrike">
                <a:solidFill>
                  <a:srgbClr val="2f2b20"/>
                </a:solidFill>
                <a:latin typeface="Calibri"/>
              </a:rPr>
              <a:t>λ</a:t>
            </a:r>
            <a:r>
              <a:rPr b="0" lang="en-US" sz="2000" spc="-1" strike="noStrike" baseline="-25000">
                <a:solidFill>
                  <a:srgbClr val="2f2b20"/>
                </a:solidFill>
                <a:latin typeface="Calibri"/>
              </a:rPr>
              <a:t>gamma rays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= 0.0001 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horter wavelengths permit penetration through material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igh energy levels break chemical bond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*Leads to destruction of living tissu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and gamma rays differ only in source of origi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Properti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Undetectable by human senses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annot be seen, felt, heard, or smelle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ssesses no charge or mas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eferred to as photons (packets of energy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enerally travels in straight lines (can bend at material interfaces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haracterized by frequency, wavelength, and velocit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art of electromagnetic spectrum but not influenced by electrical or magnetic field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Atom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Atom - the smallest particle of any element that retains the characteristics of that element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ubatomic particles – protons, electrons,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0" name="Picture 3" descr="AtomLabeledLarge.gif"/>
          <p:cNvPicPr/>
          <p:nvPr/>
        </p:nvPicPr>
        <p:blipFill>
          <a:blip r:embed="rId1"/>
          <a:stretch/>
        </p:blipFill>
        <p:spPr>
          <a:xfrm>
            <a:off x="3352680" y="2971800"/>
            <a:ext cx="266724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2T17:57:16Z</dcterms:created>
  <dc:creator>Mark and Jacki Smith</dc:creator>
  <dc:description/>
  <dc:language>en-US</dc:language>
  <cp:lastModifiedBy>Peggy Hines IRSC</cp:lastModifiedBy>
  <cp:lastPrinted>2011-10-20T14:45:59Z</cp:lastPrinted>
  <dcterms:modified xsi:type="dcterms:W3CDTF">2013-02-07T17:17:01Z</dcterms:modified>
  <cp:revision>321</cp:revision>
  <dc:subject/>
  <dc:title>Statics and Strength of Materials</dc:title>
</cp:coreProperties>
</file>