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  <p:sldId id="274" r:id="rId35"/>
    <p:sldId id="275" r:id="rId36"/>
    <p:sldId id="276" r:id="rId37"/>
    <p:sldId id="277" r:id="rId38"/>
    <p:sldId id="278" r:id="rId39"/>
    <p:sldId id="279" r:id="rId40"/>
    <p:sldId id="280" r:id="rId41"/>
    <p:sldId id="281" r:id="rId42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slide" Target="slides/slide19.xml"/><Relationship Id="rId36" Type="http://schemas.openxmlformats.org/officeDocument/2006/relationships/slide" Target="slides/slide20.xml"/><Relationship Id="rId37" Type="http://schemas.openxmlformats.org/officeDocument/2006/relationships/slide" Target="slides/slide21.xml"/><Relationship Id="rId38" Type="http://schemas.openxmlformats.org/officeDocument/2006/relationships/slide" Target="slides/slide22.xml"/><Relationship Id="rId39" Type="http://schemas.openxmlformats.org/officeDocument/2006/relationships/slide" Target="slides/slide23.xml"/><Relationship Id="rId40" Type="http://schemas.openxmlformats.org/officeDocument/2006/relationships/slide" Target="slides/slide24.xml"/><Relationship Id="rId41" Type="http://schemas.openxmlformats.org/officeDocument/2006/relationships/slide" Target="slides/slide25.xml"/><Relationship Id="rId42" Type="http://schemas.openxmlformats.org/officeDocument/2006/relationships/slide" Target="slides/slide26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dt" idx="43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88200" rIns="88200" tIns="43920" bIns="439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 type="ftr" idx="44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PlaceHolder 6"/>
          <p:cNvSpPr>
            <a:spLocks noGrp="1"/>
          </p:cNvSpPr>
          <p:nvPr>
            <p:ph type="sldNum" idx="45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07416-431A-4208-9616-6DECFBEF40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200" rIns="88200" tIns="43920" bIns="439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A6DA4-D91C-4C05-8A5C-D5804B152A4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6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200" rIns="88200" tIns="43920" bIns="439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04D85-8C0A-44B4-85EF-C1EC1413D08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200" rIns="88200" tIns="43920" bIns="439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90E2D-31BF-4611-86BC-7CDC274D5B8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200" rIns="88200" tIns="43920" bIns="439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F76BF-C4D7-4B13-9D78-9EC8059FAF8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200" rIns="88200" tIns="43920" bIns="439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E881F-E0F1-4DAB-9CE7-E4F5E5B0E94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7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200" rIns="88200" tIns="43920" bIns="439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2DEEB-87A4-472A-9C71-EA814067D23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200" rIns="88200" tIns="43920" bIns="439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25FBD-6C3B-4867-B5F7-70EDD58A7EA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8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200" rIns="88200" tIns="43920" bIns="439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D5108-42A0-4594-8FED-B3726281CEA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200" rIns="88200" tIns="43920" bIns="439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BB2F4-A791-4352-A991-5831E33863F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200" rIns="88200" tIns="43920" bIns="439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DCFE9-2B54-4BDE-9F10-9CD65973378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200" rIns="88200" tIns="43920" bIns="439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CC029-7993-4680-A445-978CF631E8F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200" rIns="88200" tIns="43920" bIns="439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5201C-6698-45D6-A60F-D10C604C667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200" rIns="88200" tIns="43920" bIns="439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EB0DD-07C7-46D1-ACC9-8598CFD45D1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200" rIns="88200" tIns="43920" bIns="439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B532B-2DB2-4F1C-9BB5-CA7CDC40B2F3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200" rIns="88200" tIns="43920" bIns="439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07D6B-224E-483E-B4A5-5B992519EE6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200" rIns="88200" tIns="43920" bIns="439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992E9-A1A5-44D6-8E4F-1C9773A5164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200" rIns="88200" tIns="43920" bIns="439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76881-388D-4F35-AC78-151FB7E4335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2C53B-1074-4252-85E2-E3D77C5B1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0265A-EF1A-4F66-95E4-882BABCFD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46D7E6-55A4-41BE-8D41-299498A5E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604CBC-599C-480A-B3D7-2F6255DCB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6F328B-6786-4BFC-88F8-33DC5875F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F04C04-8206-4FD2-A6EB-D3927C070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86F8B9-B403-4A7F-AAFF-8F0DCC09B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02B607-2C92-4554-A5C7-F0D7A37D4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28E2F2-7D0C-441F-8AC5-DE026FD37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A5EA06-5BCE-4ACC-AA89-805BAD581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A95696-1209-4A7D-ACFB-C5B4955DF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539F19-29C7-4B00-B4A2-690F1CC55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4D2B5-DCDE-4738-BFDA-951CFC5AF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0C4089-D4E3-4751-B74D-EFE6C8519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637724-DF2F-4A89-910D-24D96D793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298B80-EC75-41CB-9BF4-BB3CF265E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19C249-EA94-4453-BD6F-0367A8A02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CB2B54-39D9-4EBA-A7E6-AEB620383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E8D072-F3EF-4A62-9953-4A08CCE56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75C6B6-B4B7-4300-AFE6-8FB0323FD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2424D7-3E36-42F8-8068-F8537A986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FBCC91-CF08-430F-B20E-8E5FD3FB9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6FC391-7018-4C91-B3D9-B95D5D18F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15D0E-AE0C-4076-A078-F669666AF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E0D2EB-0E06-4C26-8D69-10843C781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BF2C4E-03C7-48A0-AA58-AF796D9B9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7A2D24-09B7-4BCB-B972-47E331DD8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32381F-A571-4DB4-A1E5-AF1F34C09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8A231A-E667-4490-BD11-97BFF9137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0E95ED-60D9-4064-94F5-1CEF4424D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8F7572-989D-47FA-9484-9A0D02CA6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E67136-5B79-4CA2-9C0B-1E2E95FDB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78247B-C3F7-423E-B3D0-34A7DAD66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729BFB-2D7B-4EFD-9628-1428FE838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96451-F7B7-4487-9AFE-F2E889DD7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A2683C-BB67-454C-94FF-88C72D48F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1DA817-1964-4D8F-A4AC-BB9749B02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677030-8F9B-4CBB-A60E-18E3DEFF2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9C8DAB-3E30-4732-B004-751921A54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10A457-4D29-4675-896B-FEA9CE247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176F7C-CE1B-4B4C-AE85-C9FF5340A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0F1903-F739-4F1E-978F-9C75F5521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9D1E01-3A95-41D8-985A-A07B5B6B4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8E5ECB-CC13-4A5C-AB15-0C92632F8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334F44-7AD3-4B13-94BE-B1F0B2C08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CDF02-5799-4C6F-8AC7-CC855AA01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F7F88F-C789-4CF3-8E11-CA3E8BEE3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3F62F0-0A78-4A39-9524-52E2413D1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EBD26E-9636-4A9D-BB3E-151074EB9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BD806B-8F9D-43C9-B9C1-F7AFC9FFF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437F00-02F5-49CD-8B70-B62F47961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ABC53FD-D317-43DD-93EA-44CC75E2D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C174740-DADE-478D-B1D2-D6014908B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BEC25B5-9F33-4B97-A9F9-3DF1076B6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F15C78B-7D39-4FA4-956F-75BBE62DC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82FEB14-C2FF-4C7B-84B9-2A580EF53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3BE0A-6ED6-4A13-AF08-39F909BF7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9BCF4D2-EF0F-4BFF-97AB-1BC80E83C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3FCBB25-3C77-4CBC-BD1A-F6D3083F3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F020486-3814-4C15-AD5F-F898BFB5B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89B6B5A-49CE-481C-B9FC-329CF7712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F923BD9-6F60-40A5-86B9-EB94B08C5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D4C4967-05DA-4E2C-B8A1-5F1CF3FCB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F480B08-4BB7-415F-93F9-6BAE34433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779DC94-3957-4FF8-AD2B-FE80D0994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2F5E361-4223-493D-B3DA-930384445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914BD60-3E83-4011-AD30-C851D5F5E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7B855-3C3C-4CCD-995C-30353F380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659CD40-E924-41DF-B995-72F33BC26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93442A5-A828-4EA2-92D4-DCD3FF529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25C0ED6-0BD1-4D03-A44B-0A0DDB32F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A4E1704-C84B-4E4C-9596-DB4FC3C72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45DFED8-9AEF-4E00-B81A-2AA3541BD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E5F20BE-6112-4D87-B53E-1064CAA38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3E67F44-D55E-464A-B4B2-15D447B55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FDDD473-C9ED-4542-8363-F9DF466AA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035A8AA-7F16-413D-BFC0-85AE4C193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27166-9645-499B-9EC8-EF28092DA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63FC4-B457-43F3-88B1-51093E105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218B5-0DA2-4A0E-89FA-CC57A3FFD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DA070-E4D1-4395-BCEB-84616ACBE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AE189-A014-45F9-9328-CE80F6377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747E5-A17A-4ECE-8271-0688E5572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76883-0F30-493C-8934-AC1A9EA88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3CA65-3945-4EE9-8589-E5FA4C66B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B7908-9BCB-4281-AB38-4994F2626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76C574-E459-42D9-A710-9013183D7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89D35D-497A-47BA-9EC7-2842BDC1E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CE9927-CF7A-4FE2-B13A-1F8F08200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87A1FA-CE41-4168-9E42-78D4D8E09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6B5922-4526-4363-AF63-15705E038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86D76-99B1-404E-A725-04AD9C355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2ED6A7-6DF9-4103-8099-F949FEBB3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300671-ACB7-407D-AA60-5D71DC5EC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014D46-320D-4582-9025-7F0CCF7D6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4C90B1-7358-465F-BE96-F8B6544EB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FA7980-F90A-4C4C-B391-66071C4E1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B26847-0EF4-41F9-989E-1AA3C5D0C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9608A3-C394-4513-AEA0-3448761DC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281EB5-1995-4D22-8783-5DE5F6925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0959CD-0D67-4818-AD47-3E1B58CFA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1C231C-77B9-4EA3-8839-6012DB97B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6FF4E-FC5C-46B2-ABC5-DBACA4EA9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CD90B3-E6DF-404C-BEF9-D84891860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1FC8BB-CB30-4CA0-8900-2BC88267C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AF7970-A708-4FF7-8648-8E870C775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5BBC3C-6C1D-4FB7-B177-244034C21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F280A7-94AD-4682-A724-F3EB6AE68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BDFC03-606B-442F-82C3-EC3377CAF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8697C2-E782-480F-8F7C-F15F53992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F32B79-329F-4235-BC08-5B5A80BE0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91E191-F14A-40FA-BD4A-97648B3EA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4E1D5A-796B-456E-A98A-2386D39D5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05C8B-AE4E-4DF6-90DB-35E708ED7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A44391-F31E-40C5-8597-C97CB4A6C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CDAD9B-816F-4E9E-9D6A-1FDB99A29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1C3AB3-884A-4148-A44E-BC19E62B6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59FDC1-74E0-4A6B-85ED-4BD898D48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6AA9C8-897B-4093-85C9-2F2D0A585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5E198E-49A7-4021-AA25-DC02621FA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3C8A7B-0828-4F3E-9B87-894DAF117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5A63F9-BB28-4525-A495-D8F58D9CC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8EBBDC-59F9-4D2E-9DEA-809D37856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A8A672-162C-438C-82AC-7ACF2700D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12737-E062-4836-8553-E1D31C4BF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73196B-2957-4632-8E96-ED3006931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00C1BB-7482-4B7C-9107-D5445EC33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3F6EFD-40E8-454E-A73D-96CAD1574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1019D9-C505-40F4-B2A6-DF6A733C5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C57A16-87C4-4FC3-ACD9-4449FB3D1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392930-9826-46C5-AAE2-2C691A41D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FA7406-ECDE-495A-91F5-215F397CB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8DE09A-4FA8-487E-8CD4-32F34077D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707E37-B208-47DE-8307-B856C845E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EA382B-B7C5-4D45-B242-9C33C4562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C14B3-55D6-42AC-B7DC-BE00D00C6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721E9D-9A44-437B-9AE5-5E67FFF4D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47F718-08D0-49F5-8DD7-B4CFAAB12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34CEA1-26FC-4AD8-88D7-FB1C6F2F9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D132AB-F0A4-4FEE-9528-0AD38C2E2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CF19CF-3388-4F2A-9387-63C4D5BA9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914FBC-CD53-476E-8042-D897D2C8B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F29AB3-BF1B-465B-9A77-9487361A4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3824E2-5991-4EF8-9FDD-C9C4FBE2F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C85C32-A58D-40C9-9501-6D9B410BD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760C5A-D7BB-42D5-B2C3-0707EB876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BC03D-E09E-4548-B977-F7C5638A8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C8498B-2600-431F-8136-D3AE3F5D5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F677F6-4644-4D08-9E9C-95819E690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C2AC36-9EED-4A56-B4E7-1AA977232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276D2D-6D4A-44CE-822F-6CFDCC693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6C20E8-0EC0-4CAC-970E-35A483244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3CD931-E5C8-4A77-AF4D-A657262D5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C2135D-75F1-4EF2-AB42-6094AC83B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6BCD97-1372-486F-9E06-C558C07C9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9E8D51-1AA1-43EB-B742-DED0D00DC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0A390C-B5DF-4E61-88FF-60A8A36BC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BD2D5-5E4B-4B86-9F1C-90092CEC0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4CA96E-B172-4CFB-BD31-7D017089B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7C5AEB-B7E2-457E-8C7E-E3DFB29EA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550406-32AE-4BD8-8F47-54870B016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D6C4F5-12E3-4685-9B54-31801D656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86B131-0E27-4CB7-AE98-544745BDB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4E8F66-BB62-4710-8E08-8E575B76D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1A7420-1430-4DC5-845C-FE8A6978F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A510D8-9150-4D66-A184-EE12E18AB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639CB8-6BF9-430B-95D2-E2FD09731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6C35F6-C1C3-41D0-B33B-E9E219AF5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C1D06-BD6D-498D-8E8C-8E5413D83BA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Picture 6" descr="RCNET.jpg"/>
          <p:cNvPicPr/>
          <p:nvPr/>
        </p:nvPicPr>
        <p:blipFill>
          <a:blip r:embed="rId3"/>
          <a:stretch/>
        </p:blipFill>
        <p:spPr>
          <a:xfrm>
            <a:off x="8121600" y="5961240"/>
            <a:ext cx="1044720" cy="96660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7" descr="IRSC_NSFPoster.jpg"/>
          <p:cNvPicPr/>
          <p:nvPr/>
        </p:nvPicPr>
        <p:blipFill>
          <a:blip r:embed="rId4"/>
          <a:stretch/>
        </p:blipFill>
        <p:spPr>
          <a:xfrm>
            <a:off x="0" y="6443640"/>
            <a:ext cx="457200" cy="358920"/>
          </a:xfrm>
          <a:prstGeom prst="rect">
            <a:avLst/>
          </a:prstGeom>
          <a:ln w="0">
            <a:noFill/>
          </a:ln>
        </p:spPr>
      </p:pic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20C02-F0CC-45F2-8979-A7FC4630E46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ADC40-E9DC-44D5-BEED-4383DFFDB98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8A604-5B01-49AC-B91E-0AF3A9276A9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06C7F-8A3F-48B3-8936-85BC20C6448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91C3E-B6A0-444B-99C1-F84EB0A0A71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6BFAA-B2B7-4A9E-945B-9A19EDEA36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6" descr="RCNET.jpg"/>
          <p:cNvPicPr/>
          <p:nvPr/>
        </p:nvPicPr>
        <p:blipFill>
          <a:blip r:embed="rId3"/>
          <a:stretch/>
        </p:blipFill>
        <p:spPr>
          <a:xfrm>
            <a:off x="8121600" y="5961240"/>
            <a:ext cx="1044720" cy="9666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7" descr="IRSC_NSFPoster.jpg"/>
          <p:cNvPicPr/>
          <p:nvPr/>
        </p:nvPicPr>
        <p:blipFill>
          <a:blip r:embed="rId4"/>
          <a:stretch/>
        </p:blipFill>
        <p:spPr>
          <a:xfrm>
            <a:off x="0" y="6443640"/>
            <a:ext cx="457200" cy="3589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62994-2A19-4776-93DE-CFF78799456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EA7E1-71B3-4007-A18F-AF08BBFF887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CF873-EF40-42CC-BFB6-D661D55927E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D095E-68B9-49D0-A18E-8FA0B5A2757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68CE9-3F8F-4370-8418-4FBB2A266E0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D73D4-769B-41CC-BBB6-5B56D10005F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7B3AA-15F5-4385-81E9-0E76D550520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09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TextBox 1"/>
          <p:cNvSpPr/>
          <p:nvPr/>
        </p:nvSpPr>
        <p:spPr>
          <a:xfrm>
            <a:off x="152280" y="1023840"/>
            <a:ext cx="883944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ACADs (08-006)  Cover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Keywor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FR policy, CFR violation, CFR enforcem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Descrip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Supporting Materi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Title 1" descr=""/>
          <p:cNvPicPr/>
          <p:nvPr/>
        </p:nvPicPr>
        <p:blipFill>
          <a:blip r:embed="rId1"/>
          <a:stretch/>
        </p:blipFill>
        <p:spPr>
          <a:xfrm>
            <a:off x="-195120" y="0"/>
            <a:ext cx="9381960" cy="1262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7" name=""/>
          <p:cNvGraphicFramePr/>
          <p:nvPr/>
        </p:nvGraphicFramePr>
        <p:xfrm>
          <a:off x="237960" y="1523880"/>
          <a:ext cx="8668080" cy="1738440"/>
        </p:xfrm>
        <a:graphic>
          <a:graphicData uri="http://schemas.openxmlformats.org/drawingml/2006/table">
            <a:tbl>
              <a:tblPr/>
              <a:tblGrid>
                <a:gridCol w="1084320"/>
                <a:gridCol w="1082880"/>
                <a:gridCol w="1084320"/>
                <a:gridCol w="1082520"/>
                <a:gridCol w="1084320"/>
                <a:gridCol w="1082520"/>
                <a:gridCol w="1084320"/>
                <a:gridCol w="1082880"/>
              </a:tblGrid>
              <a:tr h="639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.8.4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3.3.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3.5.6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3.5.6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3.5.6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3.5.6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3.8.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3.10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3.10.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14.6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14.6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14.6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14.6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5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rd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alibri"/>
              </a:rPr>
              <a:t>Proceeding to modify, suspend, or revoke a licen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dicates alleged violations or potentially hazardous conditions and specifies proposed ac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quires written response to the order under oath or affirm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forms licensee of right to demand a hearing on all or part of the ord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pecifies the issues for the hear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te the effective date of the order – may be immediately effective if public health or safety of concer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499"/>
              </a:spcBef>
              <a:buClr>
                <a:srgbClr val="0070c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Calibri"/>
              </a:rPr>
              <a:t>Llicensee must admit or deny each alleg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6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6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6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6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6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6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mand for Inform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alibri"/>
              </a:rPr>
              <a:t>Issued by Commission to determine if an order should be issu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alibri"/>
              </a:rPr>
              <a:t>Licensee must reply in wri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6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6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Key Parts of 10CF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1066320" y="1981080"/>
            <a:ext cx="3124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0CFR2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0CFR19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0CFR2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0CFR2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0CFR2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0CFR5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"/>
          <p:cNvSpPr txBox="1"/>
          <p:nvPr/>
        </p:nvSpPr>
        <p:spPr>
          <a:xfrm>
            <a:off x="4191120" y="1981080"/>
            <a:ext cx="4419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0CFR50, Appendix 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0CFR50, Appendix 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0CFR5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0CFR5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0CFR7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0CFR10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6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"/>
                                        <p:tgtEl>
                                          <p:spTgt spid="6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6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500"/>
                                        <p:tgtEl>
                                          <p:spTgt spid="6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6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Key Parts of 10CF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0CFR2 - Rules Of Practice For Domestic Licensing Proceedings And Issuance Of Order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als with proceeding relating to all aspects of licensing issues, and the enforcement of licensing agreem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0CFR19 - Notices, Instructions And Reports To Workers: Inspection And Investigation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0CFR20 - Standards For Protection Against Radiatio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trols the receipt, possession, use, transfer, and disposal of licensed materi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6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" dur="500"/>
                                        <p:tgtEl>
                                          <p:spTgt spid="6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" dur="500"/>
                                        <p:tgtEl>
                                          <p:spTgt spid="6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500"/>
                                        <p:tgtEl>
                                          <p:spTgt spid="6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Key Parts of 10CF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0CFR21 - Reporting Of Defects And Noncomplianc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quires responsible officer of a nuclear faciity to immediately notify the Commission of any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ailure to comply with laws relating to substantial safety hazard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Defects which could create a substantial safety hazar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0CFR26 - Fitness For Duty Program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0CFR50 - Domestic Licensing Of Production And Utilization Faciliti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quirements for obtaining an operating license or construction permi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" dur="500"/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6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6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" dur="500"/>
                                        <p:tgtEl>
                                          <p:spTgt spid="6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" dur="500"/>
                                        <p:tgtEl>
                                          <p:spTgt spid="6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" dur="500"/>
                                        <p:tgtEl>
                                          <p:spTgt spid="6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" dur="500"/>
                                        <p:tgtEl>
                                          <p:spTgt spid="6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Key Parts of 10CF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"/>
          <p:cNvSpPr txBox="1"/>
          <p:nvPr/>
        </p:nvSpPr>
        <p:spPr>
          <a:xfrm>
            <a:off x="1066320" y="19807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0CFR50, Appendix A - General Design Criteria For Nuclear Power Pla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stablishes necessary design, fabrication, construction, testing, and performance requirements for structures, systems, and components important to safe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0CFR50, Appendix B - Quality Assurance Criteria For Nuclear Power Plants And Fuel Reprocessing Pla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Q/A requirements for the design, construction, and operation of all structures, systems, and components included in a production or utilization facility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ore details: student reports on criterion I - XVII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1" dur="500"/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" dur="500"/>
                                        <p:tgtEl>
                                          <p:spTgt spid="6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" dur="500"/>
                                        <p:tgtEl>
                                          <p:spTgt spid="6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6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1" dur="500"/>
                                        <p:tgtEl>
                                          <p:spTgt spid="6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Key Parts of 10CF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"/>
          <p:cNvSpPr txBox="1"/>
          <p:nvPr/>
        </p:nvSpPr>
        <p:spPr>
          <a:xfrm>
            <a:off x="1066320" y="1980720"/>
            <a:ext cx="7543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0CFR51 - Environmental Protection Regulations For Domestic Licensing And Related Regulatory Func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0CFR55 - Operators' Licens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als with the issuance and renewal of licenses for operators and senior operators at nuclear facilit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0CFR73 - Physical Protection Of Plants And Material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 other words, securi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0CFR100 - Reactor Site Criteri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ased on population zones, seismic activity, etc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8" dur="500"/>
                                        <p:tgtEl>
                                          <p:spTgt spid="6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" dur="500"/>
                                        <p:tgtEl>
                                          <p:spTgt spid="6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" dur="500"/>
                                        <p:tgtEl>
                                          <p:spTgt spid="6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500"/>
                                        <p:tgtEl>
                                          <p:spTgt spid="6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" dur="500"/>
                                        <p:tgtEl>
                                          <p:spTgt spid="6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3" dur="500"/>
                                        <p:tgtEl>
                                          <p:spTgt spid="6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8" dur="500"/>
                                        <p:tgtEl>
                                          <p:spTgt spid="6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Calibri"/>
              </a:rPr>
              <a:t>Existing U.S. Nuclear Reactors (104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0" name="Content Placeholder 3" descr="reactors-map.gif"/>
          <p:cNvPicPr/>
          <p:nvPr/>
        </p:nvPicPr>
        <p:blipFill>
          <a:blip r:embed="rId1"/>
          <a:stretch/>
        </p:blipFill>
        <p:spPr>
          <a:xfrm>
            <a:off x="1295280" y="1905120"/>
            <a:ext cx="6867720" cy="440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70c0"/>
                </a:solidFill>
                <a:latin typeface="Calibri"/>
              </a:rPr>
              <a:t>Proposed New U.S. Nuclear Reactors (28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2" name="Content Placeholder 5" descr="new-plants.jpg"/>
          <p:cNvPicPr/>
          <p:nvPr/>
        </p:nvPicPr>
        <p:blipFill>
          <a:blip r:embed="rId1"/>
          <a:stretch/>
        </p:blipFill>
        <p:spPr>
          <a:xfrm>
            <a:off x="1295280" y="1828800"/>
            <a:ext cx="6629400" cy="46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70c0"/>
                </a:solidFill>
                <a:latin typeface="Calibri"/>
              </a:rPr>
              <a:t>Quality Assurance for Nuclear Reactor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Quality assurance (QA) comprises all planned and systematic actions that are necessary to provide adequate confidence that a structure, system, or component will perform satisfactorily in servi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tributes of a QA program include procedures, recordkeeping, inspections, corrective actions, and audi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Title 1"/>
          <p:cNvSpPr/>
          <p:nvPr/>
        </p:nvSpPr>
        <p:spPr>
          <a:xfrm>
            <a:off x="1066680" y="190512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Calibri"/>
              </a:rPr>
              <a:t>NE 127 – Codes, Standards, and Regulation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9" name="Subtitle 2"/>
          <p:cNvSpPr/>
          <p:nvPr/>
        </p:nvSpPr>
        <p:spPr>
          <a:xfrm>
            <a:off x="1219320" y="4038480"/>
            <a:ext cx="6400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70c0"/>
                </a:solidFill>
                <a:latin typeface="Calibri"/>
              </a:rPr>
              <a:t>Key Parts of 10CFR (for the Nuclear Industry)</a:t>
            </a: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INSTRUCTOR: Chattanooga State CC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Calibri"/>
              </a:rPr>
              <a:t>NRC Review of QA Pro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RC reviews and inspects QA programs and their implement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RC's objective is to determine whether licensees and their contractors are meeting the agency's requirem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particular, the NRC reviews the QA programs for commercial nuclear power pla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addition, for operating nuclear power plants, the NRC reviews any changes that reduce previous commitments to the plant’s QA progra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Calibri"/>
              </a:rPr>
              <a:t>NRC Regulatory Guid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tail acceptable methods of design, fabrication, construction, operation, and quality assuranc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gulations are mandator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gulatory Guides and NUREGs mandatory only as committed to by the applicant (as stipulated in the construction permit or operating license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gulatory Guides 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t forth requirements for submitting environmental reports, safety analysis reports, etc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SAR – Preliminary Safety Analysis Report (for construction permit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SAR – Final Safety Analysis Report  (for operating license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gulatory Guide 1.70 describes the type of information to be submitted by the applicant for PSARs and FSA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Calibri"/>
              </a:rPr>
              <a:t>NUREG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"/>
          <p:cNvSpPr txBox="1"/>
          <p:nvPr/>
        </p:nvSpPr>
        <p:spPr>
          <a:xfrm>
            <a:off x="1066320" y="1980720"/>
            <a:ext cx="75438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hat is a NUREG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chnical reports relative to the regulation of nuclear energ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UREG-800 - Standard Review Plan For The Review Of Safety Analysis Reports For Nuclear Power Plants: LWR Edition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escribes what the NRC expects to see in the SAR, including the applicable acceptance criteri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eful for auditors for identification of specific regulations and guideline documents that address each topic of a SA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UREG-1946 - Inservice Testing of Pumps and Valves, and Inservice Examination and Testing of Dynamic Restraints (Snubbers) at Nuclear Power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ferences the ASME cod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Calibri"/>
              </a:rPr>
              <a:t>Institute of Nuclear Power Operations (INPO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"/>
          <p:cNvSpPr txBox="1"/>
          <p:nvPr/>
        </p:nvSpPr>
        <p:spPr>
          <a:xfrm>
            <a:off x="1066320" y="1980720"/>
            <a:ext cx="75438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Established in 1979 following the Three Mile Island incident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Its mission is to “promote the highest levels of safety and reliability – to promote excellence – in the operation of commercial nuclear power plants” by: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stablishing performance objectives, criteria and guidelines for the nuclear power industr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nducting regular detailed evaluations of nuclear power plan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oviding assistance to help nuclear power plants continually improve their performanc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Calibri"/>
              </a:rPr>
              <a:t>INPO Continu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"/>
          <p:cNvSpPr txBox="1"/>
          <p:nvPr/>
        </p:nvSpPr>
        <p:spPr>
          <a:xfrm>
            <a:off x="1066320" y="190512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PO provide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ant evaluatio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raining and accreditation (ACAD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vents analysis and information exchang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ssistanc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ot to be confused with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EI (Nuclear Energy Institute) – lobbyist group for nuclear energy industr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UCP (National Uniform Curriculum Program) – program sponsored by NEI to provide a national certificate of accreditation for QA/QC progra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Calibri"/>
              </a:rPr>
              <a:t>NRC Technical Training Cen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ocated in Chattanooga (off Marlin Road near the airpo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RC TTC Administration Offices are located on the second floor of a 6-story all glass exterior office build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ors are located on the first, second, third, and fourth flo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alibri"/>
              </a:rPr>
              <a:t>Next Time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Calibri"/>
              </a:rPr>
              <a:t>ASME Boiler and Pressure Vessel Co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RC Enforcement Polic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libri"/>
              </a:rPr>
              <a:t>Specified in 10CFR2: Rules of Practice for Domestic Licensing Procedures and Issuance of Ord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550"/>
              </a:spcBef>
              <a:buClr>
                <a:srgbClr val="000000"/>
              </a:buClr>
              <a:buFont typeface="Calibri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nsures compliance with NRC regulations and licensee conditio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550"/>
              </a:spcBef>
              <a:buClr>
                <a:srgbClr val="000000"/>
              </a:buClr>
              <a:buFont typeface="Calibri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quires prompt correction of licensee weakness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550"/>
              </a:spcBef>
              <a:buClr>
                <a:srgbClr val="000000"/>
              </a:buClr>
              <a:buFont typeface="Calibri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ovides a deterrent to future non-complianc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550"/>
              </a:spcBef>
              <a:buClr>
                <a:srgbClr val="000000"/>
              </a:buClr>
              <a:buFont typeface="Calibri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ncourages improvement of licensee performance – leads to enhanced degree of public health and safet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5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5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5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5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gnificance of Viol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Calibri"/>
              </a:rPr>
              <a:t>Assessed based on the following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ctual safety conseque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45720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uch as actual release of radiation, damage to core, etc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otential safety conseque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45720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Based on risk facto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mpact on the regulatory 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45720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ailure to report or keep accurate and timely record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illfuln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45720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dicates deliberate intent to violate or falsif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5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5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5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5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5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5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5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5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verity Level of Viol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alibri"/>
              </a:rPr>
              <a:t>Normally categorized in terms of four levels of severity to show their relative importance or signific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alibri"/>
              </a:rPr>
              <a:t>Severity Level I – most significa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evels I and II involve actual or high potential consequences on public health and safe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alibri"/>
              </a:rPr>
              <a:t>Severity Level IV – least significa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5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5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5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nforcement Ac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alibri"/>
              </a:rPr>
              <a:t>The NRC Commission may issue a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Non-Cited Viola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Notice of Viola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ivil Penal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Ord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elated Administrative Action (such as a Demand for Informatio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5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5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5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5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5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Calibri"/>
              </a:rPr>
              <a:t>Non-Cited Vio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 issues of very low safety significanc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ocumented as violations in inspection reports to establish public records of the viol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t cited in Notices of Violation which normally require written responses from license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5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5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5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Calibri"/>
              </a:rPr>
              <a:t>Notice of Vio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libri"/>
              </a:rPr>
              <a:t>Served by the Commiss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libri"/>
              </a:rPr>
              <a:t>May require licensee submit a written statement to address all alleged violations including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Calibri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asons for violation, or, if contested, basis for disputing the viol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Calibri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rrective steps taken by licensee and results achiev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Calibri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rrective steps which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will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be tak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Calibri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ate for full complian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libri"/>
              </a:rPr>
              <a:t>Available for viewing on www.nrc.go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6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6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6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6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6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6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ivil Penalt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alibri"/>
              </a:rPr>
              <a:t>Civil penalties may be imposed for up to $140,000 per day for each viol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alibri"/>
              </a:rPr>
              <a:t>Actual fee based on severity level of viol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alibri"/>
              </a:rPr>
              <a:t>If a violation is on-going, each day of the violation constitutes a separate viol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6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6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2T17:57:16Z</dcterms:created>
  <dc:creator>Mark and Jacki Smith</dc:creator>
  <dc:description/>
  <dc:language>en-US</dc:language>
  <cp:lastModifiedBy>Peggy Hines IRSC</cp:lastModifiedBy>
  <dcterms:modified xsi:type="dcterms:W3CDTF">2013-02-14T14:49:00Z</dcterms:modified>
  <cp:revision>248</cp:revision>
  <dc:subject/>
  <dc:title>Statics and Strength of Materials</dc:title>
</cp:coreProperties>
</file>