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notesMasterIdLst>
    <p:notesMasterId r:id="rId57"/>
  </p:notesMasterIdLst>
  <p:sldIdLst>
    <p:sldId id="256" r:id="rId58"/>
    <p:sldId id="257" r:id="rId59"/>
    <p:sldId id="258" r:id="rId60"/>
    <p:sldId id="259" r:id="rId61"/>
    <p:sldId id="260" r:id="rId62"/>
    <p:sldId id="261" r:id="rId63"/>
    <p:sldId id="262" r:id="rId64"/>
    <p:sldId id="263" r:id="rId65"/>
    <p:sldId id="264" r:id="rId66"/>
    <p:sldId id="265" r:id="rId67"/>
    <p:sldId id="266" r:id="rId68"/>
    <p:sldId id="267" r:id="rId69"/>
    <p:sldId id="268" r:id="rId70"/>
    <p:sldId id="269" r:id="rId71"/>
    <p:sldId id="270" r:id="rId72"/>
    <p:sldId id="271" r:id="rId73"/>
    <p:sldId id="272" r:id="rId74"/>
    <p:sldId id="273" r:id="rId75"/>
    <p:sldId id="274" r:id="rId76"/>
    <p:sldId id="275" r:id="rId77"/>
    <p:sldId id="276" r:id="rId78"/>
    <p:sldId id="277" r:id="rId79"/>
    <p:sldId id="278" r:id="rId80"/>
    <p:sldId id="279" r:id="rId81"/>
    <p:sldId id="280" r:id="rId82"/>
    <p:sldId id="281" r:id="rId83"/>
    <p:sldId id="28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notesMaster" Target="notesMasters/notesMaster1.xml"/><Relationship Id="rId58" Type="http://schemas.openxmlformats.org/officeDocument/2006/relationships/slide" Target="slides/slide1.xml"/><Relationship Id="rId59" Type="http://schemas.openxmlformats.org/officeDocument/2006/relationships/slide" Target="slides/slide2.xml"/><Relationship Id="rId60" Type="http://schemas.openxmlformats.org/officeDocument/2006/relationships/slide" Target="slides/slide3.xml"/><Relationship Id="rId61" Type="http://schemas.openxmlformats.org/officeDocument/2006/relationships/slide" Target="slides/slide4.xml"/><Relationship Id="rId62" Type="http://schemas.openxmlformats.org/officeDocument/2006/relationships/slide" Target="slides/slide5.xml"/><Relationship Id="rId63" Type="http://schemas.openxmlformats.org/officeDocument/2006/relationships/slide" Target="slides/slide6.xml"/><Relationship Id="rId64" Type="http://schemas.openxmlformats.org/officeDocument/2006/relationships/slide" Target="slides/slide7.xml"/><Relationship Id="rId65" Type="http://schemas.openxmlformats.org/officeDocument/2006/relationships/slide" Target="slides/slide8.xml"/><Relationship Id="rId66" Type="http://schemas.openxmlformats.org/officeDocument/2006/relationships/slide" Target="slides/slide9.xml"/><Relationship Id="rId67" Type="http://schemas.openxmlformats.org/officeDocument/2006/relationships/slide" Target="slides/slide10.xml"/><Relationship Id="rId68" Type="http://schemas.openxmlformats.org/officeDocument/2006/relationships/slide" Target="slides/slide11.xml"/><Relationship Id="rId69" Type="http://schemas.openxmlformats.org/officeDocument/2006/relationships/slide" Target="slides/slide12.xml"/><Relationship Id="rId70" Type="http://schemas.openxmlformats.org/officeDocument/2006/relationships/slide" Target="slides/slide13.xml"/><Relationship Id="rId71" Type="http://schemas.openxmlformats.org/officeDocument/2006/relationships/slide" Target="slides/slide14.xml"/><Relationship Id="rId72" Type="http://schemas.openxmlformats.org/officeDocument/2006/relationships/slide" Target="slides/slide15.xml"/><Relationship Id="rId73" Type="http://schemas.openxmlformats.org/officeDocument/2006/relationships/slide" Target="slides/slide16.xml"/><Relationship Id="rId74" Type="http://schemas.openxmlformats.org/officeDocument/2006/relationships/slide" Target="slides/slide17.xml"/><Relationship Id="rId75" Type="http://schemas.openxmlformats.org/officeDocument/2006/relationships/slide" Target="slides/slide18.xml"/><Relationship Id="rId76" Type="http://schemas.openxmlformats.org/officeDocument/2006/relationships/slide" Target="slides/slide19.xml"/><Relationship Id="rId77" Type="http://schemas.openxmlformats.org/officeDocument/2006/relationships/slide" Target="slides/slide20.xml"/><Relationship Id="rId78" Type="http://schemas.openxmlformats.org/officeDocument/2006/relationships/slide" Target="slides/slide21.xml"/><Relationship Id="rId79" Type="http://schemas.openxmlformats.org/officeDocument/2006/relationships/slide" Target="slides/slide22.xml"/><Relationship Id="rId80" Type="http://schemas.openxmlformats.org/officeDocument/2006/relationships/slide" Target="slides/slide23.xml"/><Relationship Id="rId81" Type="http://schemas.openxmlformats.org/officeDocument/2006/relationships/slide" Target="slides/slide24.xml"/><Relationship Id="rId82" Type="http://schemas.openxmlformats.org/officeDocument/2006/relationships/slide" Target="slides/slide25.xml"/><Relationship Id="rId83" Type="http://schemas.openxmlformats.org/officeDocument/2006/relationships/slide" Target="slides/slide26.xml"/><Relationship Id="rId84" Type="http://schemas.openxmlformats.org/officeDocument/2006/relationships/slide" Target="slides/slide27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dt" idx="10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 type="ftr" idx="10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6"/>
          <p:cNvSpPr>
            <a:spLocks noGrp="1"/>
          </p:cNvSpPr>
          <p:nvPr>
            <p:ph type="sldNum" idx="10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EE2E-72EA-4B2C-91D2-72DA08039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B28B-4A6E-4CBF-9866-8E3DC2A5D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API_oil-water_sepa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8AA0-38C2-4E80-9DA8-B8E804711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O 1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ntify the functions of the Chemical and Oily Waste Water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1.1 Mai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PG 11663:OB 79503(1114)&gt;&lt;&lt;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age and Leakage are facts of life for a power station.  At a Nuclear Power Station, we have to consider types of d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Wast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mounts of dissolved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ollu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Wast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kage from heavy equipment, hydraul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s water purification media - res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ollu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 a large portion of systems at plant; many are or have potential to be radio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cate segregation of other drains (chemical, oily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others can be treated and released to environment easily, radioactive contamination complicates treatment and rel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 or low dissolved solid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- can be released to environment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 to reclaim by some means – demin. water is expen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means of segregating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 out kn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rains - sent to Liquid Radwaste low TDS holdup tanks.  Includes drains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x. Building S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ment Drainage Su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- Chemical Drains sent to Chem Drain Tank then to either Solid or Liquid Radwaste.  Inclu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on Station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ly Contaminated Chemical Drains - sent to Cooling Water Holdup Tank. 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Cooling Water Room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Radwaste Room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dissolved solid wastes -sent to Chemical Waste Neutralizing Tank.  Inclu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ate Demineralizer Regeneration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down Demineralizer Regeneration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Waste - sent to Oily Waste Separator.  Include various sump drains that usually contain o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ystems to discus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ing Water Waste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ate Polisher Waste and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and Non-Radioactive Waste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adioactive Drains are discussed in the Radwaste Systems lectu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78A3-9210-4BA0-9407-EA86DA8EC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D4D7-C0AA-4BD9-B1B4-808D82BA5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7035-2968-4834-BE9C-86BEBA513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27C8-610A-41C8-9AFF-5D288CD2F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5BC-CC30-47B9-A47E-B4A0EC3E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B8D-58ED-4FAB-98ED-15D5B23C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C68DE-2627-4031-9F40-A1CF7384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EAEF6-4053-4182-AB37-3A689734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6D2B3-7196-4ED9-AA23-4E775038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E3327-D17B-4ED2-BCAA-71DE9675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C2368-C368-4DEA-98B4-BBAB1167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5A9BB-6386-4DC5-A9C5-06472B43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A6A4F-FD4A-49AF-9231-1F70CE30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18B7C-4B21-4E25-8BCC-B45592D3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DA3C9-F5FC-41CE-B08C-A8E3D49F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75635-51ED-4180-A997-25047F3E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586-824C-41D5-A39E-6E4F55EF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31B22-0061-493E-B29D-D99C04E6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55126-CADF-4C15-99BD-E37C6B7C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C684F-C8EE-4DC7-B803-52C4B5A5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303DC-2B84-4F94-9151-40DC54A7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FDA0F-9DA6-46A5-B416-A6A06B3E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F99FB-C65C-4100-9EC9-E1FCA085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D8FEA-99B1-4ECD-A561-AC57E07B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DE802-D14C-4E90-8382-5A2C5D9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A830B-B92B-4EBB-9440-92B24690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B2887-3A36-4FCD-A045-59C13124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488-166D-4FCE-83BD-1D6142E2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41ADD-57A8-4203-8981-8D30B229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2149B-64E0-4BF0-BEDE-073DE531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99708-08EC-464C-BA45-236F1E18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6EAC3-1D13-4C17-824C-D03DA4D8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44776-1EEE-4C59-93D3-BC0C4B5D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49FEE-00B3-4EC8-9DD3-1A53A7CD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CE64D-53DB-404C-B03A-418AD556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8F92B-33E2-45EF-B003-C1F7657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DD561-33F8-4B71-AE4E-E15F0CBE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98AE-A1C4-4038-AB29-5983AC3B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13C4-D2B7-4252-A6E3-DA6236A8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88CC9-C032-4B20-B260-E365078E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CBE06-9250-4611-B0CF-49A7B5FF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56645-430B-4494-AE5C-4D2D1342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A0BD6-AE69-41AB-8B4D-C9C8638B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AC296-B2A6-4778-AAB6-73351C74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1BACB-88F0-45E8-BFBC-D925C832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048CC-41E1-4A30-9AAA-351A11A0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A4213-F39B-4856-988D-41F0F674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1B9E5-443D-4F88-B32D-FD2E2C8A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F85FE-A1D0-4D15-A083-D0358EC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3D15-AD92-45CF-94BE-081C49D0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B007E-2CE1-4632-8996-CB83BBA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B42CE-666B-4E4E-8ED0-3EC53E8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05108-D32D-4B5B-9E18-5F95EAF7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B3320-3366-45D4-B151-15C89773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82E73-1D94-4FC1-BF01-2266F28E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718C-077D-4FFA-AF94-5EAA4DA6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D70B-82AA-44DC-85D1-615CE354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DC7F-0FD4-4D19-B7C8-22511C41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A31B-1C3F-47F9-8E0B-AC6879D7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E80F-69D7-4C25-A450-5B39EA16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8D2-4C22-4A72-90C1-06284F9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97A9-5048-4239-A0D9-FC5E73C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271B-EE80-4B21-8530-236420F4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67BF-E633-4DBD-BF7D-D06691CB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3E11-0027-4DBB-B1B7-25E79AD2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F181-91C7-458E-A317-4BE93EC3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8F9D-08DA-4423-98E5-6A80B68D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42CC8-A61E-4091-B05D-199E317C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0C23-51D8-4EA9-8B35-DB22D242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3D2B-9F01-464E-BEF2-975C58E0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04B9-7D55-4CBF-9FAE-A16C10AB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85C-CEAD-43B7-A340-D13B3D9D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AF8A-0186-42D2-BDAA-AA4FA3E9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92F1-39BE-4BB6-BFCC-A08AFEE9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80E4-EDE5-402A-8389-792C8524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2621-CBAF-4215-BA00-6B03E99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97D1-B25C-4B93-955E-7C2BB900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A706-C94F-4746-B316-3830900F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20CF-A79A-411E-9166-3A6DF711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AEC1-F6B3-4509-B5C0-3110D6DE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AFD38-F8B2-4C53-B9D4-24E6F30D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4981-9808-40CA-889E-B7764EB0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E9113-2270-4598-87EF-6E7A2CF1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DF530-43F2-4335-B663-523B6A44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34F47-FFA2-4301-87AB-77B85048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EA7-3153-44AC-93D7-CA2DD9BD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A850-18D8-4471-A193-066B972E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84FC4-8BBB-4EA5-95F7-B2FE75F4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8DFD2-484A-4672-99A3-70E964B3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A2B66-4009-4D88-B814-1FC2FB0A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9019C-4169-49E5-9F12-B2AA699E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9A1D0-C33D-44E0-8F7F-36FC7D12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53297-0837-4353-AB82-CBA34358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8C5F4-9221-47B9-BD14-1D21C7D4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82EFC-73E0-4579-BE29-999DEA7D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299E2-5C23-4535-825C-CFFCFDDC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EB644-11BB-460B-9F2F-98AD56C2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2FAD-38FF-412F-8FE2-DBA6874B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58840-1003-40A9-95BA-526BDA9D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22231-EE4C-4E87-A9CE-55EB8020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4C8FC-6669-41BD-B5D5-258196B2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5C2CD-AC42-4AC4-8A49-4CA6E9E4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2BA36-3BEF-429B-95C3-A9C1A220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BFD16-C754-4AC8-B220-59B7345D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2ACEF-B975-44D0-8017-A5A6593D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06D9F-086E-41D2-97DE-1C562358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E9BB1-3E4A-4B0B-857D-5C47023B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E0FBF-B6D9-4D3C-B79A-343FB4DE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7AECE-5243-480B-8A30-9A1694B3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EB18C-1F87-49C2-8FBA-3554B603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C16E7-FD5C-467B-9B8F-387217A4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8E8B7-8A1F-47A2-AA7E-E8A6254B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A40F9-697B-485A-93AC-E5822BC4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6EFB2-3B33-4CC6-B0BA-9DF745E8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EE8E1-479D-45A5-B4A4-8AC13FE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1D8DC-BE47-43A4-BE9F-D697CE0E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0C5FF-4A29-469A-9BCE-A49DF747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735B3-B581-4B55-8ED5-C90A8D47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FD1B1-68F1-4F22-B88B-37B013B6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2490-D208-40B4-ADEC-EC9A585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04297-3BDE-46A8-B7B4-7118AF06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483849-7722-4DC6-80B6-5690C865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FC20E-3DE7-47DC-BC14-0D51D8E7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A2D57-FD3F-45F8-ADC0-D3D4864E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3A687-260D-405F-9C4D-DAA0F15E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128CD-6625-4905-8F3D-26B35963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F5BA8-7FFE-4A12-927F-6E237FB6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4E0B92-CB13-46E2-AC8D-51C5CEE8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ACB47-4560-48A5-BAE1-E7070A03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A2676-BAAC-47E4-9331-5A44279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63E07-8266-4264-920E-414AC273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41C15-2DD3-4C76-9F00-5A049E9C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3A514-C165-46AB-94D6-DFC793B2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04552-EA88-46A8-AA98-A7149814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E21F8-ADFC-4167-8D6F-06E0D9B9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9611E-EAB3-40DF-8DBE-7154C41E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77455-D1CA-42D3-833B-3B1A90FE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28150-A162-47FB-9AFC-133AB4D3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20583-5144-4B93-A80B-4DD6B2F8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7B292-042F-41A0-915A-EF12FBBD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2E6F7-4F50-4129-A9E5-9CEEC00A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39A80-FA12-4DF1-90EB-26B3FF6D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7409C-767E-4278-BB3F-9B738B5D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B8C0E-0546-4371-9E0B-C5F5F19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88F2D-0B7A-4446-80D9-D982EE6C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04984C-8B7C-41DF-8869-3B504B6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587D5-4745-46EE-ABB7-F4F9A98C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5FA91-8A26-4460-8302-657EEC1F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DB83E-3E46-406D-BF43-3141E9DB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9F9BC-46A1-4D08-8375-416CC108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428F5-D207-42B7-B057-DB6C05F2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3DE866-083A-4779-A076-6DA2AFDC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7D27-6528-4F84-A050-68AC549F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92299-0E54-4390-A960-48D67E36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8C781-183D-4BA9-8034-8BD7CA3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31CDD-1791-4F53-BEA4-75973E7E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41B8A-E1EC-4F26-99F5-A3FD29E4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5685D-7BEA-486F-AC16-B2365A36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DF74D-94E0-4DD6-8733-CC35EC60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B2A0C5-386F-4496-B233-1AF39B93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7C727-D4B4-4198-9487-F22568C3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4D73DF-9631-402B-894A-39410B6B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E01F2-88A0-4E2A-8CF6-6B555757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684C-7194-4DDC-98A9-71EECFE4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42399E-9D53-437D-9CB9-10C2224E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F44D9-39C8-456D-8DED-53F38FD7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1149D-9F3B-4656-8747-48DABB08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60DF9A-D8BB-48E5-B6FC-AE0B51BE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2600B4-1DA2-4E74-9197-6267556A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32E24-C42D-4039-92C3-1A995337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5419A-EE4C-4027-A4DB-06EB8A72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1CE50-9221-4763-A642-4BA3662A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6C691-6CD7-4CF2-BCB7-A5E6FB07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7CE433-4EB1-48C7-A23B-5B1BE9AF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46250-E638-4E2B-9FB8-A29760C9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16FB7-F598-4EDB-A06D-51997EC0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3953BD-29F4-464E-AE7A-3BA8240E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A0D42-7E38-495A-ACB8-931D26CD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6CBBEA-B935-484F-B18B-D0FCA64B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FE8E2-CA19-4530-81ED-CCAEB81A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2D2A0B-FA8F-43C2-89A1-3E816B36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3AF63-8B24-456E-8313-17D25D0C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0A1F3-3F3A-4B68-9282-3B61A732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F90C00-043E-493E-9FFF-747BB5E2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16BECD-2EFD-442B-9308-4F234EFD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6E97-3B77-4224-A9B4-49E19B73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9E1E8C-5C98-4B62-9579-1F36114D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CD07B7-ED47-481D-8D6F-F9CB3B15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081637-11A6-4517-A58D-EABA5462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0E28B2-5858-43AE-A708-55DBAE47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E33259-0F4E-4D92-88A4-9CE6B35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B74A09-F2A2-401B-9518-1A8D7B11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1265C-C2EE-49AB-96A2-4218FCF7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6B8AF7-A977-4B53-BE0A-2BA43CB3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D45AC5-0E20-4520-AC71-6EB10884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CD8CB8-E670-4774-8193-CC55F5A0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AD8-4970-422E-AFFF-31103943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9CB1B-3AB0-4403-97C7-F74EB656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EA459-8AAC-4779-95BB-0EE62931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29C46F-2B60-403D-9C7C-EB50AFD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55908-25CD-4336-B87A-3A097678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A53C1-0945-487D-AFE1-3A405D59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7025A-444C-448B-B272-9B6EABFD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E9DE51-7585-4A5B-B361-0F25D95D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B76921-A1A9-47B8-92AD-837F5A60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AC6511-CEEE-4161-B8CB-C673904A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4C904F-392E-455B-ADA5-417B618F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E46DCE-9C8C-4A7D-A7EF-0ABA13CD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F9967-12DA-43C8-BE8A-07BDCCDA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4FB25C-3DA4-4E6A-A8DC-DB57E402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B688F4-2A52-490F-87EA-225CE57C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A525BC-A88D-4829-BAA6-D632A1CA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B2E305-4A3A-4463-B372-57481C77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15E085-ADED-49FB-B744-F7E70531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4F9AEB-9F1B-4FA4-BC69-E3DF44A5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D03BFC-D254-41F0-BE86-F2A2B262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D3D4F1-CC72-43D4-AE7F-E52CCD9B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238022-3B01-4C9C-A3C3-4F08D1BA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70EA52-1E29-4643-894F-E6F74125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962A7-E9C7-4A36-95DE-03F02AAB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2C9B09-D3B2-4D88-A549-6F819928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EE187A-305C-490A-9630-D3D66A6A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8F2D01-60B4-4035-AFAA-F4570ABD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9CECE9-6B90-4937-903B-8086357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846CFD-5D87-4234-B84A-DCE1C6F5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B65E10-FFB3-413B-9323-7ABAEDCB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887D53-BDD9-4138-AFF6-B7E4E97E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9C02EC-3F51-481F-A381-57721B88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87E188-C8E3-4E91-B114-93BE6C77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C56194-8BD7-496C-B2A1-7B611E3C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78FB0-F284-4338-BB11-8A8D371F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E0B882-F21A-4776-A527-244D629D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92F9BE-D47F-4A3C-8BFD-3AAB0B93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E72C83-D14F-4422-9B8A-94802D93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6520B1-34B0-45CD-8184-DB27DCDA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A26CBF-E0BF-440C-B67D-BAA89CE1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FBEFD6-E52E-4CE1-B3B1-D25E7F77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02E716-DAFC-46EE-BFAE-C738DCAA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82D01D-258E-402C-BF56-ECA8CC71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F968CB-20E1-4301-A56D-DBA9DFF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F4A5BD-410F-4417-BC20-BCBC5E8E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71F31-9CA2-42DC-A309-28BCCD46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9515D2-80F0-4585-AA3E-62BD5F85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8306B5-71A7-45FA-B2ED-6E4F8CD4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A301A5-65A6-4857-9909-B09AA62C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F37399-EBAE-4683-8F62-1A871FF5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DD2329-1C69-4CD5-8166-52976D63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27DDA0-57E9-49F2-A352-EEB071F3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2328A5-C7E0-4EC9-BD6B-F36078E7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ACE200-B225-4C46-B620-E82D47B9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9296BF-71A5-454D-9FFD-912BDBB2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C846D8-EA96-487B-8EED-7F8B3797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7DCB5-2E5D-43B0-AD56-8F6425B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41E4D6-3391-4927-8409-D7802D9F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FAFE10-82FC-4DAA-B82B-90C0DBE0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37776A-DAD4-465D-8093-792AC36D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F0B8C9-4534-4C82-A194-95007D8C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F6BA98-CFFF-4090-8AA0-2E89223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5EAB04-9640-44EE-BC6B-ADC40A02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8FBD39-DFD2-4F36-B08F-66141A69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2DC40E-8421-4F0F-8098-0B08BEE5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AE9C49-E7BE-4327-8333-5BE90445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4338EE-16CD-4BE7-B644-12EC690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4D2F4-F2F4-4DD6-8593-4DC388FB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419658-81E2-4047-B6CD-1074BA26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592AB4-08AE-49DF-9569-B1430F91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32A3BF-1DC1-4EE8-8F86-6C1DD427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C50D6D-2061-4C5D-B8AF-0FE3316C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58266B-2623-4E88-8A4A-D3BE26A5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BD36D9-4B78-4149-BB68-33A3B1C3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ECD708-726A-4F42-B9B0-8582F6F4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39055B-4919-41CD-B1CD-1350D67F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6D8AB6-7040-48F1-8C03-3F522EC7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F57F53-AFC3-496E-9913-F85099F9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8ADE5-98B1-4457-B7FF-D4F18918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8A9B64-A037-4061-8F86-CDA01407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0C8FB2-AA4E-450C-97ED-59F7664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C9C83C-9656-498C-920D-ECA86C1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975028-E9A3-43F0-8977-5849E036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1636C1-28AC-45A9-B1C1-5AE17362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157010-4C4E-4BB5-A656-818A5D56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83363D-EF13-4AAC-B0BD-5080767F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530D19-6456-46B1-BFBC-C5BC98A6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6C515D-7E5D-4C60-9708-84BF9AC4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6C4739-00D3-40BA-99E2-9EAF5B25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4A10-D01A-4435-8865-10C26015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6F92E4-0B64-4A3C-BF09-BF5F8BC8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808FC0-9666-4E48-A072-6558BDCF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CA5C89-00AB-4BEF-AE54-E0C4FA40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9BA16D-8E77-49FA-BB9F-C07ADCE8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E47C1B-3154-4171-80C7-7CD2EE70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6B2120-9BBC-49A7-89B5-C2822EEC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FF2B54-8881-43F9-962C-9EEEDB0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68F8CC-8D97-4C87-A5FD-0A48D7F8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7CC031-CB81-427D-88EB-F8917AFE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4EAD14-9A59-4712-9079-51BC75A6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82AD5-FDEF-4EE0-ABF1-F135EDBA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E3F9C4-0B20-4F42-B7B2-054C64AE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838159-31A2-4091-B60D-E349837E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5D4A9F-A2CC-4B70-AA30-57B60317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3D0691-2575-4754-A8E2-1F2B47F0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61A253-DBB6-4273-91EB-7081C6E9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C13FFD-2691-44C8-B766-6F1C3EF2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75C5A3-DCBF-418A-8294-99E0329F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7D81B0-F95F-4274-B7F0-2A37E354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C66386-C4E7-497D-AC67-2E6623B5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030305-CCF6-4DAC-B0D3-D4F4D56B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E37-9FDB-4210-9C3C-A58EBBDE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F5CF-5A9B-4FDD-B891-60DE913A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8147BD-55B4-408A-9357-4B08EA2E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BDCFCF-95CE-402D-95C2-93CCD2A3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C8CB05-5330-4354-AD6C-210130F8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0774EF-722B-4024-982A-87479734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610175-4D9A-42F9-8B52-5FDD7BD4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B061BE-373A-4841-9955-0AF45E12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1364C2-AACA-47C7-B116-6AFA3E1A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926220-19AA-48C3-8FB3-0BCBEC93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A2A18C-1714-4417-8025-48B1B08C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B90733-33F2-4EB9-8918-A6DE58B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9DCC0-CF0B-4B30-8468-C4E7CA3E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5CB22B-902B-4E97-8E8B-604A73CD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75A5E4-7253-4504-A963-80F4A9C5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686BA2-0645-4010-AC4E-04EDEE78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AA8D31-8C38-409A-9E4F-AC7F0A72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FC7C70-06AB-4764-A3F2-B6A8C69C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7BE3BF-5F27-4FF1-A1E2-D8331F14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0BB147-0D4C-471D-AED9-B508777C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A12A4A-A803-41C7-B9A2-4B95C91C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F8044B-16F8-4C3C-8003-768EF248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741365-AF4A-4EBA-8743-B80CDEE6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618C4-4755-4B7D-A102-E20F5999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6BCF64-7E4E-486D-B9D0-369DCDD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E5BCC1-BA09-4E85-811D-124676E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6C9F30-09F5-4CAE-BB39-8C489DF4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2844FE-6791-4B30-86B1-B73120EB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F43972-9599-45EA-980D-2F9080AF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DBA550-B88D-4D44-AEDC-47AF7E1E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9A5399-DC0F-46D3-8604-8912C214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972C39-68D7-466B-9E4D-5574AA34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AA9646-8EAC-4F6D-8B60-6D4385CB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CE121B-C687-43A7-8414-B350E132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5E85B-BE68-4EE2-8C87-7EDB6202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731536-FE5F-4067-8A11-5FB1FAA6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F67890-D864-4B0C-90F5-65195463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425B53-D396-48B2-9600-E32DC44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1BE58B-B401-4053-B61E-D8A0027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8F70FC-5AFA-4DFA-BD5E-43284A6C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2D634B-A263-4624-8BFD-1D05F1F5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B8E46D-CD57-41D8-ADFB-776DD406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5842A6-8DAD-4C0A-9728-424C3FA3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FB38A3-6E5C-4936-9D0C-667ABB07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205444-7FD4-4466-8E66-7FCF2552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6F570-8B8E-48F7-B51A-C4B17CE0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70832D-2201-4820-8D80-3DC397DA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86F2AF-F858-473F-8445-A1A4FE3F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669DFD-0818-4905-B8F7-231FA278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4DA77B-69DC-47F5-ADEE-EEC9A476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BDBBE0-A4F1-4F71-92B5-1DD06EBE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8A0D20-C228-4653-B55E-3D2A5EE4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889737-C2AD-446D-B796-43B5421A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6D5517-7332-4454-890A-934FAAB5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FEE4F3-1C6F-47DF-9321-33BB1341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23167A-5094-4A43-B0E4-E5E45049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3E5FD-C4F2-4254-A3AD-6E9223F4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856087-C3FB-4DDE-8322-B8A664D5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C80C07-CCB2-48B1-8EDD-E8DFB0DF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01A258-55F9-4746-8404-DA23C5F6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097D2F-8110-4EB8-90B6-C110E159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82D131-13F4-483B-BF02-DD0A26D3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FD8553-FD12-487F-9800-22ED1E5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7CB2A6-A18D-4A4B-8D0E-A5CC73B7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0873F1-5990-4752-9404-7869FE9C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0E59FC-363A-44FD-97E8-BC0302E6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8880FA-10AB-41CD-B513-BB9F3934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20CB2-0FFF-43FF-99C5-169483D9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35C4A0-4C3D-41C3-A03A-F3B31B2A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001C0-731C-40EE-A52B-A33B4EBC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265AE-8DB6-488E-AD3C-0555D9D4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8E74-5B30-4A2E-A54F-65E21C0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78A-2B9A-4DAF-9342-F779D5F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FDA79-7FFD-4FBE-B3AD-7F8E23F5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647BC-9E62-401D-8EE1-962453A6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A28B7-AB25-4783-BF0A-EAFDB153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583E-7B07-4B4E-BD76-2479C218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056CF-3B4F-434C-BE87-E7972B87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832FB-C85C-4826-AFA4-A52901A3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8B66F-0F8F-475C-87F1-BD20E2D7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C2755-DB8C-4790-9FAF-F9515D0A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45C09-A898-48E4-A3E3-FCB81069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A58A8-7060-433B-8350-923E1517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826-BEB2-466E-8ED7-7B0C2B00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6A5D4-8BF8-4EAB-9355-1C1596F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5869-830D-4C4C-96AC-3AC2FE50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366AB-8CE5-4D89-BB4F-6A623446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6A883-5C29-4470-B1AA-C787825F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B3A9A-2773-4E47-A1E5-CB191DDD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1F760-D595-4CF7-AEBB-0EC8BFFF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D5536-1E66-41A2-8A13-DF5B3C00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A3547-0E37-447A-AC9E-791BA2CF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73813-A24D-4AA7-8E02-83EC1872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16F76-3976-44A2-B9C9-17A269D8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D5D-E5FE-49B3-8DA5-A233DE31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6DB60-6A03-4C9F-A01C-52CA2F56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AED86-C49B-4A88-9ECF-A20C73F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8DC55-5FF5-4F30-8CC5-54E81B4D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DE6A9-0F1D-4AC1-9E68-88E6A5F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7E676-F41E-4686-B2A0-51D237B1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725BE-8EBB-4519-8DC3-8C5BC2CF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EC413-2475-4D6A-9E2E-C3D2933E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F6D3B-AF28-463E-A934-E4E17A1E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C1A4F-DF6D-4D8D-9451-945C3835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FEF27-6E2A-434F-B548-14797170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C308-B0B6-4040-B543-6DD4F9540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E10D-BFDC-497B-9454-F91DE9942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DFEC-847B-43CA-A4C6-DD82E00AE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38D7-0166-49DA-B19F-A7C2E94CD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8F2D-E04D-4D3A-829C-E536510DD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46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7EE5-9EF6-45AA-A2BA-D22B5A068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87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BFDA-E5F8-4D58-A60B-92E531C77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628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23D8-8F45-48A7-B71C-4679AD358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669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88CC-4CA2-4188-8197-F22D47A1E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10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BA2F-13CB-4097-A53B-3A5CFAE24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51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D4B2-84EC-45AF-8886-12D1CC941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15A6-C986-49A0-9515-59A0AE4AB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92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4818-73C1-4910-83DE-71B4B768E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833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8878-CC9B-4AFA-9C84-17C5787BB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874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6635-FB2C-4A6D-8037-463D6B578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15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476A-10CE-4DF8-9E76-95234F209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56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021E-7891-4B69-8990-F5C641C1F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97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6BDF-6C64-4B59-A4DE-307033944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038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2BB-82C6-4F67-A22D-16E4807C3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079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2D98-CBAA-496C-BC32-80FF259E1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120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D733-E223-446F-8FB4-629162260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161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6CDB-DC75-4453-8D0F-B656C0196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0C7D-2898-48A7-887E-254D48871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02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FB00-CF2D-4544-8545-000CCAE32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43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1E78-ED2B-4017-AC9E-DF4B996A0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84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86BE-2BBB-4718-A6BD-B344FF6A9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8" descr="chstcc.jpg"/>
          <p:cNvPicPr/>
          <p:nvPr/>
        </p:nvPicPr>
        <p:blipFill>
          <a:blip r:embed="rId4"/>
          <a:stretch/>
        </p:blipFill>
        <p:spPr>
          <a:xfrm>
            <a:off x="1219320" y="6248520"/>
            <a:ext cx="1224000" cy="533160"/>
          </a:xfrm>
          <a:prstGeom prst="rect">
            <a:avLst/>
          </a:prstGeom>
          <a:ln w="0">
            <a:noFill/>
          </a:ln>
        </p:spPr>
      </p:pic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E88C-A457-407D-BC24-8954FE14DE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BB2E-86DE-421F-940F-2DBF7B870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2435-C92B-4F05-A938-3E85144F6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E562-33B4-44AB-87B6-612A612A8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6041-ED3E-40E1-B992-F7C22A9BA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9129-B2CD-46BD-915E-8697DA42A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DE15-CA1F-4490-8EEC-5D9287E9FF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0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159E-CF72-421A-8604-2D0CAA394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76A7-96C5-4616-95E1-BF591C019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4CF1-DBB7-43B8-BF05-D5278EEBD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256E-0CE8-440B-A087-DF7AA3001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5D2D-C2CE-47D3-8189-1875C7709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5639-DE0D-4BAB-B332-46B24D035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5FD8-5271-41A1-95D9-6C9251984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F945-540E-41A0-BABA-023866F13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1347-53FC-4BA2-B60B-C0AE1E3BC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5C1E-711D-44B5-91EC-ACFF88E76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B8F0-1E73-4B7C-8C08-B2095176F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59CF-DCC6-4460-918A-A0EFFEC6C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3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064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FDE9-345F-49F6-9EF5-A72642127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8F9F-F76E-43D7-B571-78E0457E2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2FE2-683B-4C4E-84F4-B69E82C28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7EC2-5F5E-4372-9773-3FA46A2D30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1778-2816-4171-A8CD-61B0429B2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E695-8AD7-42CC-AAD5-B8E926C6C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CNET.jpg"/>
          <p:cNvPicPr/>
          <p:nvPr/>
        </p:nvPicPr>
        <p:blipFill>
          <a:blip r:embed="rId4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RSC_NSFPoster.jpg"/>
          <p:cNvPicPr/>
          <p:nvPr/>
        </p:nvPicPr>
        <p:blipFill>
          <a:blip r:embed="rId5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CFA2-5639-4273-A1D9-25958CC4D1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6A6F-7CE7-4AA0-916D-510734030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49D5-80DE-47B8-A5D0-0BC64F703D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0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ineralization, reverse osmosis, evaporation, distillation, oil separation, condensate polishing, boiler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8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9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6.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6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0.1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2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.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Other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0" name="Picture 5" descr=""/>
          <p:cNvPicPr/>
          <p:nvPr/>
        </p:nvPicPr>
        <p:blipFill>
          <a:blip r:embed="rId1"/>
          <a:srcRect l="1677" t="0" r="12693" b="56204"/>
          <a:stretch/>
        </p:blipFill>
        <p:spPr>
          <a:xfrm>
            <a:off x="990720" y="1752480"/>
            <a:ext cx="8153280" cy="31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2" name="Picture 4" descr=""/>
          <p:cNvPicPr/>
          <p:nvPr/>
        </p:nvPicPr>
        <p:blipFill>
          <a:blip r:embed="rId1"/>
          <a:srcRect l="1677" t="43773" r="12693" b="5989"/>
          <a:stretch/>
        </p:blipFill>
        <p:spPr>
          <a:xfrm>
            <a:off x="1066680" y="1752480"/>
            <a:ext cx="8077320" cy="3611520"/>
          </a:xfrm>
          <a:prstGeom prst="rect">
            <a:avLst/>
          </a:prstGeom>
          <a:ln w="0">
            <a:noFill/>
          </a:ln>
        </p:spPr>
      </p:pic>
      <p:sp>
        <p:nvSpPr>
          <p:cNvPr id="2313" name="Text Box 5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Other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and water separators are commonly used in electrical subs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nsformers found in substations use a large amount of oil for cooling purpo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ats are constructed surrounding unenclosed substations to catch any leaked oil, but these will also catch rainwater. Oil and water separators therefore provide a quicker and easier cleanup of an oil l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  Recognize the components, functions and operation of the Chemical and Oily Waste Water Syste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inage and Leakage are facts of life for a power station.  At a Nuclear Power Station, we have to consider types of dr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y Waste Dr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kage from heavy equipment, hydraul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s water purification media - re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pollu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ily and Non-Radioactive Waste Dr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c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llect and transport liquid waste from equipment and floor drains of th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bine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ol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sel Generator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nt yard a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ove entrailed oil from the waste for disposal and transfer the oil free water to the retention basin and then to the evaporation po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ily and Non-Radioactive Waste Dr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ystem consists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sumps and respective pu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y waste sepa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Ba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 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5" name="Picture 5" descr="1-s2"/>
          <p:cNvPicPr/>
          <p:nvPr/>
        </p:nvPicPr>
        <p:blipFill>
          <a:blip r:embed="rId1"/>
          <a:srcRect l="0" t="0" r="0" b="47516"/>
          <a:stretch/>
        </p:blipFill>
        <p:spPr>
          <a:xfrm>
            <a:off x="1066680" y="1295280"/>
            <a:ext cx="3733920" cy="3319560"/>
          </a:xfrm>
          <a:prstGeom prst="rect">
            <a:avLst/>
          </a:prstGeom>
          <a:ln w="0">
            <a:noFill/>
          </a:ln>
        </p:spPr>
      </p:pic>
      <p:sp>
        <p:nvSpPr>
          <p:cNvPr id="2326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7" name="Picture 7" descr="1-s2"/>
          <p:cNvPicPr/>
          <p:nvPr/>
        </p:nvPicPr>
        <p:blipFill>
          <a:blip r:embed="rId2"/>
          <a:srcRect l="0" t="52489" r="0" b="0"/>
          <a:stretch/>
        </p:blipFill>
        <p:spPr>
          <a:xfrm>
            <a:off x="5105520" y="2819520"/>
            <a:ext cx="4038480" cy="3249360"/>
          </a:xfrm>
          <a:prstGeom prst="rect">
            <a:avLst/>
          </a:prstGeom>
          <a:ln w="0">
            <a:noFill/>
          </a:ln>
        </p:spPr>
      </p:pic>
      <p:sp>
        <p:nvSpPr>
          <p:cNvPr id="2328" name="Line 10"/>
          <p:cNvSpPr/>
          <p:nvPr/>
        </p:nvSpPr>
        <p:spPr>
          <a:xfrm>
            <a:off x="1689120" y="457848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Line 11"/>
          <p:cNvSpPr/>
          <p:nvPr/>
        </p:nvSpPr>
        <p:spPr>
          <a:xfrm>
            <a:off x="1676520" y="5105520"/>
            <a:ext cx="321300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Line 12"/>
          <p:cNvSpPr/>
          <p:nvPr/>
        </p:nvSpPr>
        <p:spPr>
          <a:xfrm flipV="1">
            <a:off x="4889520" y="2521080"/>
            <a:ext cx="0" cy="2590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Line 13"/>
          <p:cNvSpPr/>
          <p:nvPr/>
        </p:nvSpPr>
        <p:spPr>
          <a:xfrm flipV="1">
            <a:off x="4889520" y="2514600"/>
            <a:ext cx="89208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Line 14"/>
          <p:cNvSpPr/>
          <p:nvPr/>
        </p:nvSpPr>
        <p:spPr>
          <a:xfrm>
            <a:off x="5775480" y="25146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treatment –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5" name="Picture 5" descr="water_treat"/>
          <p:cNvPicPr/>
          <p:nvPr/>
        </p:nvPicPr>
        <p:blipFill>
          <a:blip r:embed="rId1"/>
          <a:stretch/>
        </p:blipFill>
        <p:spPr>
          <a:xfrm>
            <a:off x="1905120" y="1193760"/>
            <a:ext cx="5753160" cy="5454720"/>
          </a:xfrm>
          <a:prstGeom prst="rect">
            <a:avLst/>
          </a:prstGeom>
          <a:ln w="0">
            <a:noFill/>
          </a:ln>
        </p:spPr>
      </p:pic>
      <p:sp>
        <p:nvSpPr>
          <p:cNvPr id="2336" name="Text Box 6"/>
          <p:cNvSpPr/>
          <p:nvPr/>
        </p:nvSpPr>
        <p:spPr>
          <a:xfrm>
            <a:off x="6553080" y="914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ries b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8" name="Picture 4" descr=""/>
          <p:cNvPicPr/>
          <p:nvPr/>
        </p:nvPicPr>
        <p:blipFill>
          <a:blip r:embed="rId1"/>
          <a:srcRect l="5174" t="5478" r="1654" b="4108"/>
          <a:stretch/>
        </p:blipFill>
        <p:spPr>
          <a:xfrm>
            <a:off x="4322880" y="838080"/>
            <a:ext cx="4551120" cy="5562720"/>
          </a:xfrm>
          <a:prstGeom prst="rect">
            <a:avLst/>
          </a:prstGeom>
          <a:ln w="0">
            <a:noFill/>
          </a:ln>
        </p:spPr>
      </p:pic>
      <p:sp>
        <p:nvSpPr>
          <p:cNvPr id="2339" name="Rectangle 5"/>
          <p:cNvSpPr/>
          <p:nvPr/>
        </p:nvSpPr>
        <p:spPr>
          <a:xfrm>
            <a:off x="5686560" y="2743200"/>
            <a:ext cx="1600200" cy="114300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6"/>
          <p:cNvSpPr/>
          <p:nvPr/>
        </p:nvSpPr>
        <p:spPr>
          <a:xfrm>
            <a:off x="5715000" y="3886200"/>
            <a:ext cx="1600200" cy="1143000"/>
          </a:xfrm>
          <a:prstGeom prst="rect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AutoShape 9"/>
          <p:cNvSpPr/>
          <p:nvPr/>
        </p:nvSpPr>
        <p:spPr>
          <a:xfrm rot="5400000">
            <a:off x="6400440" y="4343400"/>
            <a:ext cx="152280" cy="1523880"/>
          </a:xfrm>
          <a:prstGeom prst="flowChartDelay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AutoShape 11"/>
          <p:cNvSpPr/>
          <p:nvPr/>
        </p:nvSpPr>
        <p:spPr>
          <a:xfrm rot="5400000">
            <a:off x="6400080" y="4724280"/>
            <a:ext cx="152640" cy="1066680"/>
          </a:xfrm>
          <a:prstGeom prst="flowChartDelay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3" name="Picture 13" descr="Cation%2Banion_exchanger"/>
          <p:cNvPicPr/>
          <p:nvPr/>
        </p:nvPicPr>
        <p:blipFill>
          <a:blip r:embed="rId2"/>
          <a:srcRect l="48550" t="0" r="7126" b="9217"/>
          <a:stretch/>
        </p:blipFill>
        <p:spPr>
          <a:xfrm>
            <a:off x="1066680" y="4114800"/>
            <a:ext cx="2297160" cy="2514600"/>
          </a:xfrm>
          <a:prstGeom prst="rect">
            <a:avLst/>
          </a:prstGeom>
          <a:ln w="0">
            <a:noFill/>
          </a:ln>
        </p:spPr>
      </p:pic>
      <p:pic>
        <p:nvPicPr>
          <p:cNvPr id="2344" name="Picture 14" descr="Cation%2Banion_exchanger"/>
          <p:cNvPicPr/>
          <p:nvPr/>
        </p:nvPicPr>
        <p:blipFill>
          <a:blip r:embed="rId3"/>
          <a:srcRect l="0" t="0" r="53567" b="9217"/>
          <a:stretch/>
        </p:blipFill>
        <p:spPr>
          <a:xfrm>
            <a:off x="1066680" y="1219320"/>
            <a:ext cx="2332080" cy="2438280"/>
          </a:xfrm>
          <a:prstGeom prst="rect">
            <a:avLst/>
          </a:prstGeom>
          <a:ln w="0">
            <a:noFill/>
          </a:ln>
        </p:spPr>
      </p:pic>
      <p:sp>
        <p:nvSpPr>
          <p:cNvPr id="2345" name="Text Box 15"/>
          <p:cNvSpPr/>
          <p:nvPr/>
        </p:nvSpPr>
        <p:spPr>
          <a:xfrm>
            <a:off x="297180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egative V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Text Box 16"/>
          <p:cNvSpPr/>
          <p:nvPr/>
        </p:nvSpPr>
        <p:spPr>
          <a:xfrm>
            <a:off x="2590920" y="3886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ositive V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7" name="Group 21"/>
          <p:cNvGrpSpPr/>
          <p:nvPr/>
        </p:nvGrpSpPr>
        <p:grpSpPr>
          <a:xfrm>
            <a:off x="3352680" y="4343400"/>
            <a:ext cx="1142280" cy="1371240"/>
            <a:chOff x="3352680" y="4343400"/>
            <a:chExt cx="1142280" cy="1371240"/>
          </a:xfrm>
        </p:grpSpPr>
        <p:pic>
          <p:nvPicPr>
            <p:cNvPr id="2348" name="Picture 19" descr="HydrIons"/>
            <p:cNvPicPr/>
            <p:nvPr/>
          </p:nvPicPr>
          <p:blipFill>
            <a:blip r:embed="rId4"/>
            <a:srcRect l="59326" t="8825" r="1866" b="0"/>
            <a:stretch/>
          </p:blipFill>
          <p:spPr>
            <a:xfrm>
              <a:off x="3431880" y="4386240"/>
              <a:ext cx="106308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9" name="Rectangle 20"/>
            <p:cNvSpPr/>
            <p:nvPr/>
          </p:nvSpPr>
          <p:spPr>
            <a:xfrm>
              <a:off x="3352680" y="4343400"/>
              <a:ext cx="18180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Group 23"/>
          <p:cNvGrpSpPr/>
          <p:nvPr/>
        </p:nvGrpSpPr>
        <p:grpSpPr>
          <a:xfrm>
            <a:off x="3200400" y="2286000"/>
            <a:ext cx="1142640" cy="1395000"/>
            <a:chOff x="3200400" y="2286000"/>
            <a:chExt cx="1142640" cy="1395000"/>
          </a:xfrm>
        </p:grpSpPr>
        <p:pic>
          <p:nvPicPr>
            <p:cNvPr id="2351" name="Picture 18" descr="HydrIons"/>
            <p:cNvPicPr/>
            <p:nvPr/>
          </p:nvPicPr>
          <p:blipFill>
            <a:blip r:embed="rId5"/>
            <a:srcRect l="4121" t="12196" r="61518" b="4875"/>
            <a:stretch/>
          </p:blipFill>
          <p:spPr>
            <a:xfrm>
              <a:off x="3284640" y="2310840"/>
              <a:ext cx="105840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2" name="Rectangle 22"/>
            <p:cNvSpPr/>
            <p:nvPr/>
          </p:nvSpPr>
          <p:spPr>
            <a:xfrm>
              <a:off x="3200400" y="2286000"/>
              <a:ext cx="253800" cy="10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3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si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129528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wer Plant Construction and QA/Q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ion 2.6– Water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1" name="Picture 8" descr="chstcc.jpg"/>
          <p:cNvPicPr/>
          <p:nvPr/>
        </p:nvPicPr>
        <p:blipFill>
          <a:blip r:embed="rId1"/>
          <a:stretch/>
        </p:blipFill>
        <p:spPr>
          <a:xfrm>
            <a:off x="3505320" y="5334120"/>
            <a:ext cx="2620800" cy="1143000"/>
          </a:xfrm>
          <a:prstGeom prst="rect">
            <a:avLst/>
          </a:prstGeom>
          <a:ln w="0">
            <a:noFill/>
          </a:ln>
        </p:spPr>
      </p:pic>
      <p:sp>
        <p:nvSpPr>
          <p:cNvPr id="2282" name="Rectangle 9"/>
          <p:cNvSpPr/>
          <p:nvPr/>
        </p:nvSpPr>
        <p:spPr>
          <a:xfrm>
            <a:off x="1219320" y="228600"/>
            <a:ext cx="71406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000"/>
                </a:solidFill>
                <a:latin typeface="Calibri"/>
              </a:rPr>
              <a:t>Engineering Technology Divis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10"/>
          <p:cNvSpPr/>
          <p:nvPr/>
        </p:nvSpPr>
        <p:spPr>
          <a:xfrm>
            <a:off x="7543800" y="15228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Text Box 4"/>
          <p:cNvSpPr/>
          <p:nvPr/>
        </p:nvSpPr>
        <p:spPr>
          <a:xfrm>
            <a:off x="1447920" y="762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verse Osmosi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Picture 10" descr="reverse-osmosis"/>
          <p:cNvPicPr/>
          <p:nvPr/>
        </p:nvPicPr>
        <p:blipFill>
          <a:blip r:embed="rId1"/>
          <a:stretch/>
        </p:blipFill>
        <p:spPr>
          <a:xfrm>
            <a:off x="1143000" y="15238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8" name="Picture 4" descr="rodiagram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018040"/>
          </a:xfrm>
          <a:prstGeom prst="rect">
            <a:avLst/>
          </a:prstGeom>
          <a:ln w="0">
            <a:noFill/>
          </a:ln>
        </p:spPr>
      </p:pic>
      <p:sp>
        <p:nvSpPr>
          <p:cNvPr id="2359" name="Text Box 5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verse Osm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2" name="Picture 7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63" name="Picture 8" descr=""/>
          <p:cNvPicPr/>
          <p:nvPr/>
        </p:nvPicPr>
        <p:blipFill>
          <a:blip r:embed="rId2"/>
          <a:stretch/>
        </p:blipFill>
        <p:spPr>
          <a:xfrm>
            <a:off x="1066680" y="1928880"/>
            <a:ext cx="8007480" cy="3427200"/>
          </a:xfrm>
          <a:prstGeom prst="rect">
            <a:avLst/>
          </a:prstGeom>
          <a:ln w="0">
            <a:noFill/>
          </a:ln>
        </p:spPr>
      </p:pic>
      <p:sp>
        <p:nvSpPr>
          <p:cNvPr id="2364" name="Text Box 9"/>
          <p:cNvSpPr/>
          <p:nvPr/>
        </p:nvSpPr>
        <p:spPr>
          <a:xfrm>
            <a:off x="1600200" y="56386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ypically operates in a vacuum to reduce source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Dis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7" name="Picture 4" descr="dist1_001"/>
          <p:cNvPicPr/>
          <p:nvPr/>
        </p:nvPicPr>
        <p:blipFill>
          <a:blip r:embed="rId1"/>
          <a:stretch/>
        </p:blipFill>
        <p:spPr>
          <a:xfrm>
            <a:off x="1447920" y="1447920"/>
            <a:ext cx="6476760" cy="497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0" name="Picture 6" descr=""/>
          <p:cNvPicPr/>
          <p:nvPr/>
        </p:nvPicPr>
        <p:blipFill>
          <a:blip r:embed="rId1"/>
          <a:stretch/>
        </p:blipFill>
        <p:spPr>
          <a:xfrm>
            <a:off x="1143000" y="1454040"/>
            <a:ext cx="7848720" cy="498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2" name="Picture 5" descr="iis201106042-01_072dpi"/>
          <p:cNvPicPr/>
          <p:nvPr/>
        </p:nvPicPr>
        <p:blipFill>
          <a:blip r:embed="rId1"/>
          <a:stretch/>
        </p:blipFill>
        <p:spPr>
          <a:xfrm>
            <a:off x="1143000" y="1312920"/>
            <a:ext cx="7467480" cy="5057640"/>
          </a:xfrm>
          <a:prstGeom prst="rect">
            <a:avLst/>
          </a:prstGeom>
          <a:ln w="0">
            <a:noFill/>
          </a:ln>
        </p:spPr>
      </p:pic>
      <p:sp>
        <p:nvSpPr>
          <p:cNvPr id="2373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il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Text Box 4"/>
          <p:cNvSpPr/>
          <p:nvPr/>
        </p:nvSpPr>
        <p:spPr>
          <a:xfrm>
            <a:off x="1219320" y="1600200"/>
            <a:ext cx="761976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ource water is properly analyzed and water treatment address the impurities, then Boiler Protection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mprove protection, additional chemicals can be added (Oxalates, pH controls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and Carbon Dioxide reduction in the De-aeration process reduces corro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7" name="Picture 5" descr="MPj04331650000[1]"/>
          <p:cNvPicPr/>
          <p:nvPr/>
        </p:nvPicPr>
        <p:blipFill>
          <a:blip r:embed="rId1"/>
          <a:stretch/>
        </p:blipFill>
        <p:spPr>
          <a:xfrm>
            <a:off x="2666880" y="1981080"/>
            <a:ext cx="4921200" cy="3692520"/>
          </a:xfrm>
          <a:prstGeom prst="rect">
            <a:avLst/>
          </a:prstGeom>
          <a:ln w="0">
            <a:noFill/>
          </a:ln>
        </p:spPr>
      </p:pic>
      <p:sp>
        <p:nvSpPr>
          <p:cNvPr id="2378" name="TextBox 6"/>
          <p:cNvSpPr/>
          <p:nvPr/>
        </p:nvSpPr>
        <p:spPr>
          <a:xfrm>
            <a:off x="3581280" y="1295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Rectangle 5"/>
          <p:cNvSpPr/>
          <p:nvPr/>
        </p:nvSpPr>
        <p:spPr>
          <a:xfrm>
            <a:off x="121932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5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7"/>
          <p:cNvSpPr/>
          <p:nvPr/>
        </p:nvSpPr>
        <p:spPr>
          <a:xfrm>
            <a:off x="1447920" y="1523880"/>
            <a:ext cx="7086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i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il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7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0"/>
          <p:cNvSpPr/>
          <p:nvPr/>
        </p:nvSpPr>
        <p:spPr>
          <a:xfrm>
            <a:off x="1219320" y="144792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Treatment is the attempt to remove anything that is not wate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s and compounds in water create corro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is a measure of acidity or alkali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maintain chemistry control can lead to reduced efficiency and/or premature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source water chemistry is the key to determining Water Treatment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Wate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2" name="Picture 5" descr=""/>
          <p:cNvPicPr/>
          <p:nvPr/>
        </p:nvPicPr>
        <p:blipFill>
          <a:blip r:embed="rId1"/>
          <a:stretch/>
        </p:blipFill>
        <p:spPr>
          <a:xfrm>
            <a:off x="6553080" y="838080"/>
            <a:ext cx="2318040" cy="274320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9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5638680" cy="460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Wate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6" name="Picture 5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River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9" name="Picture 5" descr="salinity-791740"/>
          <p:cNvPicPr/>
          <p:nvPr/>
        </p:nvPicPr>
        <p:blipFill>
          <a:blip r:embed="rId1"/>
          <a:stretch/>
        </p:blipFill>
        <p:spPr>
          <a:xfrm>
            <a:off x="1143000" y="1752480"/>
            <a:ext cx="7696080" cy="4071960"/>
          </a:xfrm>
          <a:prstGeom prst="rect">
            <a:avLst/>
          </a:prstGeom>
          <a:ln w="0">
            <a:noFill/>
          </a:ln>
        </p:spPr>
      </p:pic>
      <p:sp>
        <p:nvSpPr>
          <p:cNvPr id="2300" name="Rectangle 6"/>
          <p:cNvSpPr/>
          <p:nvPr/>
        </p:nvSpPr>
        <p:spPr>
          <a:xfrm>
            <a:off x="6705720" y="2666880"/>
            <a:ext cx="685800" cy="3124440"/>
          </a:xfrm>
          <a:prstGeom prst="rect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2" name="Picture 6" descr="americus_water2"/>
          <p:cNvPicPr/>
          <p:nvPr/>
        </p:nvPicPr>
        <p:blipFill>
          <a:blip r:embed="rId1"/>
          <a:srcRect l="0" t="4038" r="0" b="0"/>
          <a:stretch/>
        </p:blipFill>
        <p:spPr>
          <a:xfrm>
            <a:off x="1143000" y="1258920"/>
            <a:ext cx="7772400" cy="5097600"/>
          </a:xfrm>
          <a:prstGeom prst="rect">
            <a:avLst/>
          </a:prstGeom>
          <a:ln w="0">
            <a:noFill/>
          </a:ln>
        </p:spPr>
      </p:pic>
      <p:sp>
        <p:nvSpPr>
          <p:cNvPr id="2303" name="Text Box 7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Tap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5" name="Picture 5" descr="hvymetals"/>
          <p:cNvPicPr/>
          <p:nvPr/>
        </p:nvPicPr>
        <p:blipFill>
          <a:blip r:embed="rId1"/>
          <a:srcRect l="2322" t="9231" r="7512" b="0"/>
          <a:stretch/>
        </p:blipFill>
        <p:spPr>
          <a:xfrm>
            <a:off x="1066680" y="1914480"/>
            <a:ext cx="8077320" cy="4078440"/>
          </a:xfrm>
          <a:prstGeom prst="rect">
            <a:avLst/>
          </a:prstGeom>
          <a:ln w="0">
            <a:noFill/>
          </a:ln>
        </p:spPr>
      </p:pic>
      <p:sp>
        <p:nvSpPr>
          <p:cNvPr id="2306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Industrial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7"/>
          <p:cNvSpPr/>
          <p:nvPr/>
        </p:nvSpPr>
        <p:spPr>
          <a:xfrm>
            <a:off x="1066680" y="5562720"/>
            <a:ext cx="6172200" cy="304560"/>
          </a:xfrm>
          <a:prstGeom prst="rect">
            <a:avLst/>
          </a:prstGeom>
          <a:solidFill>
            <a:srgbClr val="cc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eggy's Computer</dc:creator>
  <dc:description/>
  <dc:language>en-US</dc:language>
  <cp:lastModifiedBy>Peggy Hines IRSC</cp:lastModifiedBy>
  <dcterms:modified xsi:type="dcterms:W3CDTF">2013-03-13T19:42:28Z</dcterms:modified>
  <cp:revision>332</cp:revision>
  <dc:subject/>
  <dc:title>Engineering technology</dc:title>
</cp:coreProperties>
</file>