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</p:sldMasterIdLst>
  <p:notesMasterIdLst>
    <p:notesMasterId r:id="rId57"/>
  </p:notesMasterIdLst>
  <p:sldIdLst>
    <p:sldId id="256" r:id="rId58"/>
    <p:sldId id="257" r:id="rId59"/>
    <p:sldId id="258" r:id="rId60"/>
    <p:sldId id="259" r:id="rId61"/>
    <p:sldId id="260" r:id="rId62"/>
    <p:sldId id="261" r:id="rId63"/>
    <p:sldId id="262" r:id="rId64"/>
    <p:sldId id="263" r:id="rId65"/>
    <p:sldId id="264" r:id="rId66"/>
    <p:sldId id="265" r:id="rId67"/>
    <p:sldId id="266" r:id="rId68"/>
    <p:sldId id="267" r:id="rId69"/>
    <p:sldId id="268" r:id="rId70"/>
    <p:sldId id="269" r:id="rId71"/>
    <p:sldId id="270" r:id="rId72"/>
    <p:sldId id="271" r:id="rId73"/>
    <p:sldId id="272" r:id="rId74"/>
    <p:sldId id="273" r:id="rId75"/>
    <p:sldId id="274" r:id="rId76"/>
    <p:sldId id="275" r:id="rId77"/>
    <p:sldId id="276" r:id="rId78"/>
    <p:sldId id="277" r:id="rId79"/>
    <p:sldId id="278" r:id="rId80"/>
    <p:sldId id="279" r:id="rId81"/>
    <p:sldId id="280" r:id="rId82"/>
    <p:sldId id="281" r:id="rId83"/>
    <p:sldId id="28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notesMaster" Target="notesMasters/notesMaster1.xml"/><Relationship Id="rId58" Type="http://schemas.openxmlformats.org/officeDocument/2006/relationships/slide" Target="slides/slide1.xml"/><Relationship Id="rId59" Type="http://schemas.openxmlformats.org/officeDocument/2006/relationships/slide" Target="slides/slide2.xml"/><Relationship Id="rId60" Type="http://schemas.openxmlformats.org/officeDocument/2006/relationships/slide" Target="slides/slide3.xml"/><Relationship Id="rId61" Type="http://schemas.openxmlformats.org/officeDocument/2006/relationships/slide" Target="slides/slide4.xml"/><Relationship Id="rId62" Type="http://schemas.openxmlformats.org/officeDocument/2006/relationships/slide" Target="slides/slide5.xml"/><Relationship Id="rId63" Type="http://schemas.openxmlformats.org/officeDocument/2006/relationships/slide" Target="slides/slide6.xml"/><Relationship Id="rId64" Type="http://schemas.openxmlformats.org/officeDocument/2006/relationships/slide" Target="slides/slide7.xml"/><Relationship Id="rId65" Type="http://schemas.openxmlformats.org/officeDocument/2006/relationships/slide" Target="slides/slide8.xml"/><Relationship Id="rId66" Type="http://schemas.openxmlformats.org/officeDocument/2006/relationships/slide" Target="slides/slide9.xml"/><Relationship Id="rId67" Type="http://schemas.openxmlformats.org/officeDocument/2006/relationships/slide" Target="slides/slide10.xml"/><Relationship Id="rId68" Type="http://schemas.openxmlformats.org/officeDocument/2006/relationships/slide" Target="slides/slide11.xml"/><Relationship Id="rId69" Type="http://schemas.openxmlformats.org/officeDocument/2006/relationships/slide" Target="slides/slide12.xml"/><Relationship Id="rId70" Type="http://schemas.openxmlformats.org/officeDocument/2006/relationships/slide" Target="slides/slide13.xml"/><Relationship Id="rId71" Type="http://schemas.openxmlformats.org/officeDocument/2006/relationships/slide" Target="slides/slide14.xml"/><Relationship Id="rId72" Type="http://schemas.openxmlformats.org/officeDocument/2006/relationships/slide" Target="slides/slide15.xml"/><Relationship Id="rId73" Type="http://schemas.openxmlformats.org/officeDocument/2006/relationships/slide" Target="slides/slide16.xml"/><Relationship Id="rId74" Type="http://schemas.openxmlformats.org/officeDocument/2006/relationships/slide" Target="slides/slide17.xml"/><Relationship Id="rId75" Type="http://schemas.openxmlformats.org/officeDocument/2006/relationships/slide" Target="slides/slide18.xml"/><Relationship Id="rId76" Type="http://schemas.openxmlformats.org/officeDocument/2006/relationships/slide" Target="slides/slide19.xml"/><Relationship Id="rId77" Type="http://schemas.openxmlformats.org/officeDocument/2006/relationships/slide" Target="slides/slide20.xml"/><Relationship Id="rId78" Type="http://schemas.openxmlformats.org/officeDocument/2006/relationships/slide" Target="slides/slide21.xml"/><Relationship Id="rId79" Type="http://schemas.openxmlformats.org/officeDocument/2006/relationships/slide" Target="slides/slide22.xml"/><Relationship Id="rId80" Type="http://schemas.openxmlformats.org/officeDocument/2006/relationships/slide" Target="slides/slide23.xml"/><Relationship Id="rId81" Type="http://schemas.openxmlformats.org/officeDocument/2006/relationships/slide" Target="slides/slide24.xml"/><Relationship Id="rId82" Type="http://schemas.openxmlformats.org/officeDocument/2006/relationships/slide" Target="slides/slide25.xml"/><Relationship Id="rId83" Type="http://schemas.openxmlformats.org/officeDocument/2006/relationships/slide" Target="slides/slide26.xml"/><Relationship Id="rId84" Type="http://schemas.openxmlformats.org/officeDocument/2006/relationships/slide" Target="slides/slide2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3212-E5E5-45E3-AC95-E2406793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687-258D-46E2-88D9-E2090B693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API_oil-water_sepa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CD83-022D-4612-8E62-A94716FBC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O 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entify the functions of the Chemical and Oily Waste Water Syst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1.1 Mai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PG 11663:OB 79503(1114)&gt;&lt;&lt;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mounts of dissolved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 a large portion of systems at plant; many are or have potential to be radio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cate segregation of other drains (chemical, oily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others can be treated and released to environment easily, radioactive contamination complicates treatment and rel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 or low dissolved solid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- can be released to environment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 to reclaim by some means – demin. water is expen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means of segregating th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out kn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rains - sent to Liquid Radwaste low TDS holdup tanks.  Includes drain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. Building S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ment Drainage Su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- Chemical Drains sent to Chem Drain Tank then to either Solid or Liquid Radwaste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on Station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ly Contaminated Chemical Drains - sent to Cooling Water Holdup Tank. 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oling Water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Radwaste Room D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dissolved solid wastes -sent to Chemical Waste Neutralizing Tank.  Includ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down Demineralizer Regeneration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Waste - sent to Oily Waste Separator.  Include various sump drains that usually contain o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ystems to discus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ng Water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ate Polisher Waste and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y and Non-Radioactive Waste Drai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adioactive Drains are discussed in the Radwaste Systems lectu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9DE-3366-49BB-9F4D-7DA1D9D2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208-E3D2-478C-AB2E-CC86F7381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7F5-320C-4523-BBA0-017B0AEF3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emical and Oily Waste Wate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ALO VER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UCLEAR GENERATING S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strumentation &amp; Control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assroom Les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AF7-AE9E-43B8-9E0B-E8FC50A17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FC1-5059-4A62-8510-98297FD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6BF-1EB7-45B3-B79A-D210559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A969-F8D8-49FC-8082-4886DB89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B3067-1271-4E68-8075-8F6FFB4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85187-8FF9-4252-94CA-AF00AA8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DD4D9-ED10-4473-A8D9-39336BA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8793C-1D5C-4804-8CA9-3735E12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48A7-7A6B-4C20-8A38-6B22ACA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7F5DA-4635-4B84-BA0F-8EA96454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21C88-9B24-4D0E-89EA-0F8A4B86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8514-0A49-4B86-BB51-646AA133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0183-E41E-4912-B4CC-F271D2C8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ACC-0DB0-48A3-950F-FF8B10A0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D0B31-FA2E-44F0-9C03-22BB0FDE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27B49-B8C2-4B54-9E40-25D7AE56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75800-3170-43BC-AF1D-D8D45A9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F4794-67AE-439E-BA1D-1F2350D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8FEEB-F328-4F88-97CA-71BD3015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6414-8BEB-4765-9236-6ADA63B3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99211-73FB-42B6-96B0-E37672B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A8BC8-E1EC-4428-A063-E545A35E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4031C-8ACC-4422-8D6E-AD06095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966C3-5483-47B6-B167-2B18F435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CB8-C394-473A-8E53-83C080DE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BAA2B-B452-4E29-A50F-FC8614A3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5A52B-F43D-47F8-82F3-549A2859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23E43-1584-4458-9AF4-C6DC434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274EE-5E30-439F-913B-667EF19C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53ED-362B-4F1A-A4F1-29FB7E73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A4B34-9854-46EC-B871-6378D98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78D7-3F88-4709-BFD7-778A97D1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716F-94D5-4EB6-8DE5-5074D16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F6538-6832-49D5-AFAB-C3D0618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F86D-A464-4B94-8944-466F286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2C9-6E48-4657-862E-E53FB1A7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4D73C-286A-438D-B81C-EB59CA4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B8D10-C4F4-4250-AB27-2C3004B6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01806-03FD-4966-BCEA-F2D376A1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21576-64C0-4ADA-A7E3-D26C2733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4E7A9-6278-4DBB-9479-8798F28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B64F0-7772-4E46-B627-9970796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0DF1-8955-4D13-AAE5-71B09F6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3D742-D0A2-479E-8AD4-CA350F8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1763D-9DAB-4510-A836-B419DBA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AF76B-038D-43EA-8976-B599406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7E97-4658-4856-BC93-171748C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63D3-CB16-4A17-9325-C12C96E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74454-A4EF-4160-8567-48C26D4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DCFB4-C5B8-4236-AF15-F3F80B90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40B4F-1CA1-4418-B4E0-6555ABC7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56937-AD9A-480C-9D3B-828351BD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3BB-455A-4B4F-878E-A8E394B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6FEF-7200-4C32-ACD0-25475CA3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FC4D-E241-440E-8FBB-6EC7A74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54AA-565A-4884-86CC-543C9374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C6DF-4731-4DD7-A552-4296270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A41-7BA4-4745-BE71-A9BC3DBA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504-326F-4931-B1D7-42DC552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B259-F8C0-478D-969D-A8F49C8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EDB-FBE2-4447-85C5-3D33DD87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B93-6EDD-45F5-A4F0-6F4CDBE4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0C8-F827-41A2-8DBD-7971811E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9728-0D8B-4048-8927-DF6A59B2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687B-AFD0-462B-9D23-F81D7E79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DDE2-45C5-43C0-96F2-040DC7F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4A4B-3B1C-444F-8783-BF131B32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1A40-CE9F-41B8-BBF2-871D641B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005-FFD2-4431-8063-E405446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3A50-65AB-4699-8C80-6212368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95CB-38B9-4126-B7AC-64D0D82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B99D-1AD4-4F00-BE27-2AD37C7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2ADD-2CA7-4AAD-8AF4-E5C27E0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5C17-4892-4837-BE8F-8502F7ED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00B1-C37C-4E3F-BDB2-826CD82E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49D7-CA17-446E-8958-3DD6310E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7F4C-79E4-4696-8F85-77A5461D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0A0D-9C73-4760-959F-3BE63515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98C0-FDBA-4E39-B0F2-2DC4917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24013-39C9-4D64-A3D9-ED25B02A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10578-6B81-45F4-8490-A3853DC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0C11B-B758-4362-A5E2-5E82BE01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57F-BE8B-4E90-984E-6FE582B3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FF48-B826-4344-AAC6-DFA716E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8FAAC-7143-4936-9598-5F5EEE6B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7D1A3-ED8B-4B6E-ACE4-7B9F44E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AFB53-B5E6-4A31-9E9A-59F53CA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EC8FF-D3F2-4BB0-AD36-44CCDDC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9D495-6E6A-4FD7-827F-BA2D4AF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F7CB4-EA3C-4B9D-812C-328EF08B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265D8-9048-4E74-A0C9-42F86B2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9DD66-C5D0-4D9B-AFF2-4BB60ACD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7A55C-820C-4CD4-AF70-D86E34E6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4FC48-FB11-455D-8451-E585F476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63D3-0410-4C7E-979C-C781E039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BC8F7-9C01-4DD4-8285-EBCB4E9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C0609-90CC-49F3-88F3-A8B642B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159DF-81EA-4D9B-A580-FA05DD46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B832D-D864-4A29-8006-F98739A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6AC71-F4EA-4507-A096-33CBC38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4FCFA-87AB-4924-93DE-B042EA6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FFCCA-5EB4-4E89-8B7A-B5CAC31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743B9-25A2-4D3A-AC46-D1D294D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7346A-7E38-4A5A-81BB-F1BBA02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A67D9-D82F-4A0D-8A47-BCE10D9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F0B3-A5C5-4F60-8BEB-E7F1411D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DD66C-B648-4A9E-A07A-29887010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2885A-913B-4698-97D3-03AC9C70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C3207-17D9-4701-9D84-317F5B8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F31E4-E97C-43EB-8A98-8CC04A32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1F78A-6C06-4421-8AC6-A2B00FB0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0B8DE-DCDA-4B54-8958-B14B40E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56BC2-F17C-4BB2-B702-B63C739E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7F953-5DC7-4632-BDBB-11DD5A6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C4F14-A1FB-408D-9E4D-7AA11FDD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B480C-2B42-49CC-9454-7FBB8BA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947F-3C40-4AF6-96E1-8F25C2B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94340-6E3D-49B4-98CD-4CAA42D9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C688D-EB8A-49D5-8FAD-A6ED82C7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7C1AA-EA96-4289-A211-C144C38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68261-583B-4D9E-9F75-21CDE91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72E9F-B8FC-484D-A438-69FF27C1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FED36-8D35-41BE-8306-A6AB6B45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4D714-9D2C-428B-919D-9734E1D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E2C4C-EEE7-41F5-8544-651CED23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3CCDB-98C1-4BF1-BFC5-102BAADA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3478C-158C-4A5C-BEB9-E9CE4E9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F09D-A5FC-4B4B-8B43-20DBEBE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5ABFB-E8F5-451B-BF8F-495C79E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0DD9B-EA0E-4C7D-A8DF-07859A9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87A67-46A8-4FB1-A289-0EE81190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C1377-604F-4AE4-A512-006FB568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E00C0-5832-4F1E-815C-490E53F3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45897-65B7-49E4-AE30-E02A8AD7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BA852-4A4B-47F6-84D1-57601FC9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EA45B-BCE3-45C2-A7F8-B19B50DC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C12ED-4429-455B-A2FD-AE0AD30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C8865-223B-467C-83FB-2941DA7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B3F0-D761-4FA9-B926-574F0A5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6D2BF-2EC6-46A7-97FF-A5DDD39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B4FD1-41A4-4F26-927F-935F34C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88B00-976F-4146-AB5F-A08EEB6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04610-E6BC-4758-8E03-75905DA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5A959-83C4-4A46-8371-8569EFD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8A483-84FD-421E-BF55-D2B97FD4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75DF7-E6B9-46B9-8B30-C7D2BD68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E3134-1C4B-47FA-8C45-862AB5F5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0FE6C-B27D-42EC-96C3-CFB7488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33F43-E8E4-469C-8460-961D2D9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24DD-A97A-417D-AD97-7A62E5FC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46ACC-D9EA-4860-86B7-F4BA547F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C3E53-9E21-4762-9FB7-C1580BF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EECB4-EBF7-41E4-AF23-2E5FB47E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FFF47-F12F-4C9F-A8A8-1364DF0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E4A75-2FAF-4653-BA42-1064A22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A7AEE-579E-409E-9CC8-A4DE4A1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BF015-221C-4743-AF79-F6B88BEC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E7B1B-8E15-4A22-A5A8-EB322851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DA907-EA01-4DB9-B822-3CB5F370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F8121-1864-4BB7-8F0C-13B253C2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0932-D029-497A-AEF9-382E9B6C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BD64E-5CFF-4364-9AD8-D53E2A5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94C18-AC28-4116-A031-3C8DBB05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A5D16-1BEC-4175-AF9A-F6BE18C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3BABA-648A-4E57-B59E-A7D40809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896A8-F4C9-4318-A635-69B257B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0ADFE-E0B0-4C9B-8FFC-4245D4B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99A82-2B09-484E-8E10-7D324204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2369F-B5AE-43B3-AE3B-C774DDD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8A87A-DAAD-449F-B215-5C7BD5F1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82017-31AD-4186-9F46-A7A41F33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7A6E-D40D-4970-8E66-478E497E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658AE-748D-494B-A568-06005204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9802C-ED48-44F1-A835-678D025C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6BDB6-BED3-4936-B32F-A8DB83DF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B5643-D8CE-4501-8F67-49BC2B7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CC577-874C-4872-A380-493E512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9F08F-1C5A-4CB7-A636-FE320C8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5C9EA-E87D-497D-BF84-A10B28F6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FD1EB-1D64-4AFD-A1E0-6753ED2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573A4-F0A3-4924-A4F2-B846B15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16EDD-B795-4FE7-91B0-53B0A71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4FD1-EAAF-4508-A115-C5EC0149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F5A89-226E-4E45-A305-36E3352F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E8355-702D-4573-BD74-4071AF19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E2308-78CC-431A-8A5E-23AE6D53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C4F03-905B-43DF-B69D-6D03CD23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D4835-C4D8-4A44-9F93-80FDAFCB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3BB3F-C967-4195-BF48-1370091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4C006-EC5A-4CFB-83E8-F2441D97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F0EF7-0F85-4488-A258-2DDD4AB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848F9-CAE8-4CAC-AF30-AF929E5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98379F-B36B-451B-9771-FD6278A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BD9-3501-47A9-ADFF-E9949083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D414-D6A8-4409-B351-5808FE6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B23E3B-08BF-491F-A148-4DDD455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A6D83-332F-4CA1-A9FF-6921D8C7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048E5-E5A9-4D27-85CF-F8DF361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593A5-0620-4B8F-A9DF-06E415B2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94F15-1838-499C-AFBB-E082546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C81D76-DC0B-411B-BC91-EC7222FC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F2D95C-20F7-4FFE-A239-80905A7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15F9F-B019-4107-906F-D3BBD21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B527A-1FA6-427D-91C3-A95AB40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3D0992-AD83-41EF-8820-4063B61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30F32-5551-460F-8194-914307E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8233FB-D1F3-44FF-AB61-68E4D839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F7867-152F-48F2-9122-0C8A957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9B519-E7CA-4240-9DBB-E234283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5B924-5F6D-4B43-AF67-B01D493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816EA-A3BC-4B74-928A-2A5D2E7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0EE7F-293E-4F2C-8722-D966623D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F35975-D8A0-4592-A343-F6A7434C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39D42-5D67-40D7-A8BE-FCB1D48B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96AAA6-E566-4A78-83C3-F26B01E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6A172C-4F10-418E-81A6-1CFB478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54DA-517A-40E6-BA16-7E603B0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DCDAD-DBC0-4060-9C05-CDE1A00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B0A947-EBC9-492C-8FA6-4093A8C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FF503-C7C2-401B-A093-1636CE53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D73BD6-F75D-402D-8F42-B78E0CF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39ED8-480B-4D5B-8EDC-9AFD7ED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55CF3D-C977-41AC-BB46-1E9558B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DB6DD-6C96-4ACB-8D20-8052499E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2EED9F-3425-40C1-9D2D-CD6D0A41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A9398-CA3F-42F0-B481-3FEEF1E3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DC8FF3-78D8-4C08-99D7-662C0FF8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4998-4F47-485D-AD8C-D7303EB9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038B63-B592-4C5A-A698-E6785A9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5259EC-190B-4EEA-B065-7CA27EA7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86480B-C7A5-403F-9E34-15E7CE55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59AEA0-CAEA-41B8-B7BC-3E2B8BC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961FE3-D18E-428D-AF4F-BF76FEC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D1AE68-C800-4127-ADC0-3A4BE3D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A5728F-A8A1-4CEC-95DD-ADE73B0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0F7731-73DC-4084-935C-7ACF453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A0A088-0C97-4C6B-A078-6242A58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7613F-BF89-4FE9-9F43-748A5B3C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383A-9580-4F01-9D79-202B3299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6EEC6-E52D-4E57-A23B-88DB214F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337FF7-A75C-447F-97FD-0B765485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569C13-4815-45F2-A105-03C34CA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7B9F1F-BAFF-42BF-B487-8DD73CE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18B495-9D5D-4656-B149-DFBB5A8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458516-E2F0-48B6-874A-A9E6D55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BAEFF-478B-4E69-898D-D1A2917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0DBF16-8E0E-44A4-A627-49CB94C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7CE92B-1C64-4638-B3DA-F34C5D3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DBE38B-3EFF-47CE-953B-10D3E79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EC3C5-839A-4135-AE14-EEB6810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B21216-213C-433D-BA44-CBB94EC8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DB704-C020-44BE-9FCE-8D76E4C6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FDE29F-A894-428D-B6A8-1DD1AB70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BEF896-8FBD-450D-8E83-9E975889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69B9BC-08B4-46FB-8D26-993CA0E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2FEDC5-4DF0-4EA9-88A2-1336B8C9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3B9AFF-9596-4F91-959D-D06720A9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81C09C-FB69-4555-B5F2-5FE1AB76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41AE71-3DCC-44B3-8BCA-094CAC78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6A0244-4DDF-4D4E-A53C-87E9FBA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761F-152F-458E-BC5A-2B0A6E5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B30954-8BBF-4EDB-BCDF-7C54E2D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45ABDF-8BDC-4780-ABD1-6F6A7B8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FDA31-50B5-4666-A1F2-39AF9EA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808A50-413E-4ED5-8416-E0FCF6B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E4E5FB-7160-4580-B467-2B6052EC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5CD12D-05AD-4CD6-8BC0-2D6F6BBF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E8AD4F-BDDC-4AE1-9473-03D2F07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CE2A79-89FD-43B1-8214-AFB0495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BA2041-F1F1-45A3-B5F8-90B53BA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903AC5-CE20-44F6-B505-42C1FE0E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4467-5DF7-41C2-8F31-BCA92EC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1FEA7-8507-4A85-8CFA-D121E273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8CF0BB-8961-476D-99E6-E8C8AF0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12E1A0-535B-449E-A7D8-E7967B22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0AD5CF-D84C-4C4A-B300-8A3E2E4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9DB09E-2FC5-46CC-A669-617B3F0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D8A3CD-7EE1-47EE-B92F-44601D7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2C9981-773F-423A-B2BD-BAAAD200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8D6F6F-F1C6-44EA-BEED-B2C6D29E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9668E9-52B0-4522-9B44-8BC93935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BC9E21-A71C-4C2D-A38D-B9263884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9141-8581-427A-B8DE-94A20DF6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306B93-DFD6-49BE-B8F8-B6E55E7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52722E-81EC-49B5-BCF3-FC5B519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4FA0A1-5F0E-4263-9D73-226AAEDB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AC3E20-7ACA-4E07-9C60-5AB35B0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B959F1-7773-4DA9-B04D-B195C86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B8128A-490A-4086-9C5D-8F5CDA6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3057A5-689E-4FCF-BFEF-7AE9AAD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0949E3-FF90-4F13-AB2D-410C7E5C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A753D9-7473-4315-A326-EC7BF389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442870-DA86-44B3-99AF-460F2F56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EF96-36E5-4E14-B5D1-4F2EC6CB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107DB2-8882-49AF-BE5A-24E2DD64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E04F8-03BD-4DC1-9424-9946671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8DC76-1122-4337-B2B7-672C85B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0BB0A1-B392-4388-AEAE-69EE5716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340D3D-8831-4F38-A738-19D0214A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10FE6B-4246-4129-980E-9E3001A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CBE2A2-1F44-4398-B384-BCF128C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BE42F0-5790-4D01-8F5D-E75E517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600D1-945D-48BA-AE16-0B3EF7F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EFE27D-7C5B-47D0-8618-6B3C656B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5BD-6249-409E-A5CB-8B8F2F3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8223-188F-4303-A973-B6A7074A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F5564A-FC33-48D1-8DD4-1ABEB19C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D30AF2-413C-411C-8550-E2A283C8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392DC3-6D05-4635-94C6-1BA4D12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D4974E-4BC4-429B-9E25-428455C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EA3D95-1533-4A6E-847A-35A3279B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F5D55C-73A7-4774-81AB-58D0707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3FA530-1A96-4778-A5C3-51564872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D1EDC-F294-4DC2-A018-C5596EA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0A702A-C18C-48BA-A362-88A8C8C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E8846F-0FE2-4D51-B05B-0F3B5FC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4950-4250-4875-AC4B-75AC50CB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67927B-E27C-462B-A9BA-44D6C8C2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FAED8F-B068-4FE1-867B-72E2E086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A5BD84-08F4-4C94-ADA7-FBF2363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D70970-08BF-47FB-BB94-F27C62D9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5D5812-E598-4E18-AF38-1F4FFF7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0CAD6D-CE8F-414C-8DB4-3E8BF07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B3C8EA-4525-494E-B447-1556235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EF102-9290-4C69-9108-30ACD48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A02572-3FA0-448E-B8AD-1B7DC13A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B90FC-7783-4CCB-91DF-0A6619C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17E6E-DD3F-4523-9A55-2CD04F1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7AC012-6F6E-479A-8276-74E31AD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486AAE-46BE-4BBA-A13F-7DCC8F2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5C724C-3E65-4D38-BBCD-9A95D4CD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508AF8-0529-4EEC-9461-76FABC1D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B3F129-DBC2-4F6A-9D4F-4A32CC91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1DCE1F-9A8C-4187-9555-25828A73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73C259-0CC0-4596-9EFE-D29E6C3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DA54C9-C4F9-4220-A12D-55CF585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644B12-1BF6-49D2-82B6-707F114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6491E5-08A5-4AD2-AEFE-5B5B9DC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D5D9-7CFB-48C8-877B-1422C8D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A1CC89-FE22-44CD-BAA1-3CD195C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766551-D5CD-48A0-9CB3-C4973B5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29B98A-46DB-4DBC-832B-065AE25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9FD669-F36E-40CA-B58E-AA9FC9A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E95527-C2C5-4562-B9FD-7B30A7BA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B475EF-EF8E-4553-A4DE-87C25486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B0E195-0FCC-4F71-AE04-4BE9EF8C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13422B-98F6-45FD-8CFC-17108B0E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EA7D16-D3D9-4C45-B07A-7E493E0A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88695F-93A7-4259-9076-67C6867C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5BEEE-F199-4800-8E88-BA5A91E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738030-4C4C-4DDC-8AAD-B1992E69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3A4F91-C373-455B-B95C-DA4EDD6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D8F13D-5CC7-4D75-B166-FA690ABA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14B2C5-5566-48B3-8904-274356B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A3ECCF-D5D0-4A80-9AE8-CB80950A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E8A3D1-ACF7-441F-86C3-E975F75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2AE604-B293-468F-B6A1-AA713F0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2F55F3-7FE2-467E-A5E7-2D58D322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B80FE9-0984-4F82-A4F3-AE0B3815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2D3E38-F278-4387-9ED2-6D745E6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01FA-68FB-47C9-9F8F-B37CF15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851489-AFAC-4392-B72A-3BC8123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6795BF-8F99-49F5-A472-33B50F2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558167-6825-432E-B7E7-07D7E592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1842C3-DC3B-4479-9CBC-D4E9AFC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14C104-5B6A-4813-BDA5-16876CC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C4AF2B-8704-4564-8255-F0D7326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D53A30-373B-4043-A6A4-69C6C8D2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92F92B-20CF-4EF8-93D7-DF4A217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FA55AE-500F-4902-B37C-1A9A139F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80D959-CC92-42D6-92DA-F38FD74C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26CE-7CC6-47E2-A2F2-46E76D1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B3ACB7-75C5-49DF-8219-BFB70B4F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9775-6137-410B-A7CC-D8E6C2A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2B8E-3878-4829-8893-17FB9CC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B137-4021-4BBC-AADE-D849005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9B0-EB47-49E0-B1B8-CB98F72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22A0-D2E6-46D7-BFA6-E7717B1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3918-8BDA-4B4A-89FC-7F225EB5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5ABA-EBA0-408F-AAB6-F6896A3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854B-DD7E-4B44-AB0E-776ACE15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6D0D-BDAE-4913-A8CA-9A2C0A56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5545-3F77-460B-AE4B-8CF2994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EA74-83C6-444E-8F3E-BAA91EA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FCDF-79D6-4B7A-8B26-E1021A1A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4447-228B-46D2-A52F-2ABE3DBA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50C2D-3E6B-4440-AB93-C30C313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870-0E86-4FA3-8975-729F9DB2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C0BF8-DC95-45CB-804A-91FEF3D9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1ACAF-DCF2-4099-9EA2-3F11C98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5745-6E4C-4B31-9850-3E763D14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D602-482C-4EFB-91AE-CC8015D8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837B-2002-4820-8C8E-2D13EBD9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443A-1EDF-4951-9523-D03DEBB4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7755C-332E-47FD-901E-1E0D1B18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50D6A-BC84-49EA-8392-C68549B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BE31-9838-48DC-B410-86A2925B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78EDA-143E-40D8-AD30-0A89EBCA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DF8-31F1-4667-85DD-7CE5B5A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4A59-5F4B-46A4-8EBE-5946371F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F605-6CC9-4ACE-A083-53E1113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2432-061D-4A58-9A00-E586C935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2801E-7454-4220-ACB6-03EF513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A716-B3B7-40CA-AB02-2D27C7B4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12D5-111B-4371-8AD7-204D2906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DBC8-3C6A-4BE9-9833-A370B08D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3735E-CF93-4ED3-8D64-293E1BFE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B403-05C1-4EAC-9479-4421732F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904CA-7463-4153-848B-0FE581A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2681-0E19-4259-88BC-4DAE799F5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EAE-D95D-42E1-881A-9AA19143A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8C6-BECA-4324-8EA9-DB6464858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A54-40C3-4951-90FF-1A5EA4642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B59-89F7-4280-B780-6BBA6C4FD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4096-BB7B-4DAC-9AD6-6DE1F8A03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58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C6D-10C9-452C-AB0C-F598EEDA5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2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854D-9D14-4C95-A056-6BA1ED760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66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16FB-5AC0-4A39-A847-695EF5344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532-B87C-45ED-8D5B-3EFBFB3A5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5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28B7-9310-4C78-A298-A3FF75CEC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E3F-224C-4016-BC3B-D84267E0F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79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95C1-5FD7-40DC-AD69-61C33D6A3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3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64D4-97B9-4F0F-8A59-D5A9FE28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87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AD88-2FFD-498B-8BD2-5C6CF8C42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15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FA8-721F-4515-8E07-B2D96E947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56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4AB-B31E-4F6C-BF71-580024674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997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33DA-0688-4E43-8632-8D1519674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A7C-FDEC-4544-8FC3-DFD779A8D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079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DC3-C308-41F3-A3F5-3BB2B280C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20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70B-86CE-4BAC-8B21-65E69EA84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161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637-4129-4A15-AF27-99B473E09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27E-C0AE-4E17-82C0-C46EE6C73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02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A99-BAA8-41B5-85E2-3C2CEE51B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43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3D7-E82A-41D8-820C-53074ACC1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84" name="Straight Connector 7"/>
          <p:cNvSpPr/>
          <p:nvPr/>
        </p:nvSpPr>
        <p:spPr>
          <a:xfrm>
            <a:off x="1447920" y="7621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Box 8"/>
          <p:cNvSpPr/>
          <p:nvPr/>
        </p:nvSpPr>
        <p:spPr>
          <a:xfrm>
            <a:off x="8229600" y="6400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D12-264B-4F6A-85C6-B6A2DE9E3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8" descr="chstcc.jpg"/>
          <p:cNvPicPr/>
          <p:nvPr/>
        </p:nvPicPr>
        <p:blipFill>
          <a:blip r:embed="rId4"/>
          <a:stretch/>
        </p:blipFill>
        <p:spPr>
          <a:xfrm>
            <a:off x="1219320" y="6248520"/>
            <a:ext cx="1224000" cy="533160"/>
          </a:xfrm>
          <a:prstGeom prst="rect">
            <a:avLst/>
          </a:prstGeom>
          <a:ln w="0">
            <a:noFill/>
          </a:ln>
        </p:spPr>
      </p:pic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4DC-C058-4DE4-AE9C-93A8B6CE4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560-5274-4DDF-9290-9BA21F41D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7DFF-D783-4A65-8642-1A412FF26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781D-C6B4-413F-82D7-68057EB1BA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ACAE-0A70-451A-9FF1-EA0CB200E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C32-80D0-4728-BE1A-0E1BAF5C2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9FD-BBD4-4E99-A864-1342C2873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86D-F122-48EC-9CDC-9471A2416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213-4056-4756-A6BE-A7CEA9BED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99EA-36ED-4F0D-A861-A65436125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A73C-DAC7-48E4-917F-19599FBC2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F51-1584-4B66-A88D-1115BE813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F44-E53B-4C3D-B746-C133C17A9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559D-6E43-44FC-8258-D222543DA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220-127E-4A14-BF47-996428787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009-C7C5-4F4C-A293-A93677B4E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B54-50CD-4438-9132-D9C0429F1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E2EA-1450-4AED-B56D-A0FF5BCC1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F2E6-A0AF-4AC0-8D9D-9A950B57E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A2B-88CC-4F37-9D34-BA44729E7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E8ED-B952-4E38-BB10-86A06E855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65D-5EE9-49F5-95B7-4C97328DB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F001-2AC3-4397-85AC-5B6372CF8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6E5-6CF4-40B8-84CC-D2BD44898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CB5-8D37-488E-BA01-1869A3D4E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CNET.jpg"/>
          <p:cNvPicPr/>
          <p:nvPr/>
        </p:nvPicPr>
        <p:blipFill>
          <a:blip r:embed="rId4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RSC_NSFPoster.jpg"/>
          <p:cNvPicPr/>
          <p:nvPr/>
        </p:nvPicPr>
        <p:blipFill>
          <a:blip r:embed="rId5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315-92F1-4E6B-BA05-64AF940F6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8775-AA48-41F9-82C0-2775F75F4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3" descr="chstcc.jpg"/>
          <p:cNvPicPr/>
          <p:nvPr/>
        </p:nvPicPr>
        <p:blipFill>
          <a:blip r:embed="rId3"/>
          <a:stretch/>
        </p:blipFill>
        <p:spPr>
          <a:xfrm>
            <a:off x="7543800" y="228600"/>
            <a:ext cx="990720" cy="4316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1A49-2D42-436A-B8D9-94A6F339B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ineralization, reverse osmosis, evaporation, distillation, oil separation, condensate polishing, boiler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8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9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6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.1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2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.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5" descr=""/>
          <p:cNvPicPr/>
          <p:nvPr/>
        </p:nvPicPr>
        <p:blipFill>
          <a:blip r:embed="rId1"/>
          <a:srcRect l="1677" t="0" r="12693" b="56204"/>
          <a:stretch/>
        </p:blipFill>
        <p:spPr>
          <a:xfrm>
            <a:off x="990720" y="1752480"/>
            <a:ext cx="8153280" cy="31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2" name="Picture 4" descr=""/>
          <p:cNvPicPr/>
          <p:nvPr/>
        </p:nvPicPr>
        <p:blipFill>
          <a:blip r:embed="rId1"/>
          <a:srcRect l="1677" t="43773" r="12693" b="5989"/>
          <a:stretch/>
        </p:blipFill>
        <p:spPr>
          <a:xfrm>
            <a:off x="1066680" y="1752480"/>
            <a:ext cx="8077320" cy="3611520"/>
          </a:xfrm>
          <a:prstGeom prst="rect">
            <a:avLst/>
          </a:prstGeom>
          <a:ln w="0">
            <a:noFill/>
          </a:ln>
        </p:spPr>
      </p:pic>
      <p:sp>
        <p:nvSpPr>
          <p:cNvPr id="2313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Other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and water separators are commonly used in electrical subs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nsformers found in substations use a large amount of oil for cooling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ats are constructed surrounding unenclosed substations to catch any leaked oil, but these will also catch rainwater. Oil and water separators therefore provide a quicker and easier cleanup of an oil l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  Recognize the components, functions and operation of the Chemical and Oily Waste Water Syst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 and Leakage are facts of life for a power station.  At a Nuclear Power Station, we have to consider types of d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Dr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kage from heavy equipment, hydraul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water purification media - re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pollu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mm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ect and transport liquid waste from equipment and floor drains of th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bine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sel Generator Bld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yard a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ntrailed oil from the waste for disposal and transfer the oil free water to the retention basin and then to the evaporation po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il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ily and Non-Radioactive Waste D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ystem consists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umps and respective p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y waste sepa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Bas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 P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Picture 5" descr="1-s2"/>
          <p:cNvPicPr/>
          <p:nvPr/>
        </p:nvPicPr>
        <p:blipFill>
          <a:blip r:embed="rId1"/>
          <a:srcRect l="0" t="0" r="0" b="47516"/>
          <a:stretch/>
        </p:blipFill>
        <p:spPr>
          <a:xfrm>
            <a:off x="1066680" y="1295280"/>
            <a:ext cx="3733920" cy="3319560"/>
          </a:xfrm>
          <a:prstGeom prst="rect">
            <a:avLst/>
          </a:prstGeom>
          <a:ln w="0">
            <a:noFill/>
          </a:ln>
        </p:spPr>
      </p:pic>
      <p:sp>
        <p:nvSpPr>
          <p:cNvPr id="232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7" name="Picture 7" descr="1-s2"/>
          <p:cNvPicPr/>
          <p:nvPr/>
        </p:nvPicPr>
        <p:blipFill>
          <a:blip r:embed="rId2"/>
          <a:srcRect l="0" t="52489" r="0" b="0"/>
          <a:stretch/>
        </p:blipFill>
        <p:spPr>
          <a:xfrm>
            <a:off x="5105520" y="2819520"/>
            <a:ext cx="4038480" cy="3249360"/>
          </a:xfrm>
          <a:prstGeom prst="rect">
            <a:avLst/>
          </a:prstGeom>
          <a:ln w="0">
            <a:noFill/>
          </a:ln>
        </p:spPr>
      </p:pic>
      <p:sp>
        <p:nvSpPr>
          <p:cNvPr id="2328" name="Line 10"/>
          <p:cNvSpPr/>
          <p:nvPr/>
        </p:nvSpPr>
        <p:spPr>
          <a:xfrm>
            <a:off x="1689120" y="457848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11"/>
          <p:cNvSpPr/>
          <p:nvPr/>
        </p:nvSpPr>
        <p:spPr>
          <a:xfrm>
            <a:off x="1676520" y="5105520"/>
            <a:ext cx="3213000" cy="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Line 12"/>
          <p:cNvSpPr/>
          <p:nvPr/>
        </p:nvSpPr>
        <p:spPr>
          <a:xfrm flipV="1">
            <a:off x="4889520" y="2521080"/>
            <a:ext cx="0" cy="2590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3"/>
          <p:cNvSpPr/>
          <p:nvPr/>
        </p:nvSpPr>
        <p:spPr>
          <a:xfrm flipV="1">
            <a:off x="4889520" y="2514600"/>
            <a:ext cx="892080" cy="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4"/>
          <p:cNvSpPr/>
          <p:nvPr/>
        </p:nvSpPr>
        <p:spPr>
          <a:xfrm>
            <a:off x="5775480" y="25146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treatment –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5" name="Picture 5" descr="water_treat"/>
          <p:cNvPicPr/>
          <p:nvPr/>
        </p:nvPicPr>
        <p:blipFill>
          <a:blip r:embed="rId1"/>
          <a:stretch/>
        </p:blipFill>
        <p:spPr>
          <a:xfrm>
            <a:off x="1905120" y="1193760"/>
            <a:ext cx="5753160" cy="5454720"/>
          </a:xfrm>
          <a:prstGeom prst="rect">
            <a:avLst/>
          </a:prstGeom>
          <a:ln w="0">
            <a:noFill/>
          </a:ln>
        </p:spPr>
      </p:pic>
      <p:sp>
        <p:nvSpPr>
          <p:cNvPr id="2336" name="Text Box 6"/>
          <p:cNvSpPr/>
          <p:nvPr/>
        </p:nvSpPr>
        <p:spPr>
          <a:xfrm>
            <a:off x="6553080" y="914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aries b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Picture 4" descr=""/>
          <p:cNvPicPr/>
          <p:nvPr/>
        </p:nvPicPr>
        <p:blipFill>
          <a:blip r:embed="rId1"/>
          <a:srcRect l="5174" t="5478" r="1654" b="4108"/>
          <a:stretch/>
        </p:blipFill>
        <p:spPr>
          <a:xfrm>
            <a:off x="4322880" y="838080"/>
            <a:ext cx="4551120" cy="5562720"/>
          </a:xfrm>
          <a:prstGeom prst="rect">
            <a:avLst/>
          </a:prstGeom>
          <a:ln w="0">
            <a:noFill/>
          </a:ln>
        </p:spPr>
      </p:pic>
      <p:sp>
        <p:nvSpPr>
          <p:cNvPr id="2339" name="Rectangle 5"/>
          <p:cNvSpPr/>
          <p:nvPr/>
        </p:nvSpPr>
        <p:spPr>
          <a:xfrm>
            <a:off x="5686560" y="2743200"/>
            <a:ext cx="1600200" cy="114300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6"/>
          <p:cNvSpPr/>
          <p:nvPr/>
        </p:nvSpPr>
        <p:spPr>
          <a:xfrm>
            <a:off x="5715000" y="3886200"/>
            <a:ext cx="1600200" cy="1143000"/>
          </a:xfrm>
          <a:prstGeom prst="rect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9"/>
          <p:cNvSpPr/>
          <p:nvPr/>
        </p:nvSpPr>
        <p:spPr>
          <a:xfrm rot="5400000">
            <a:off x="6400440" y="4343400"/>
            <a:ext cx="152280" cy="15238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AutoShape 11"/>
          <p:cNvSpPr/>
          <p:nvPr/>
        </p:nvSpPr>
        <p:spPr>
          <a:xfrm rot="5400000">
            <a:off x="6400080" y="4724280"/>
            <a:ext cx="152640" cy="1066680"/>
          </a:xfrm>
          <a:prstGeom prst="flowChartDelay">
            <a:avLst/>
          </a:prstGeom>
          <a:solidFill>
            <a:srgbClr val="00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3" name="Picture 13" descr="Cation%2Banion_exchanger"/>
          <p:cNvPicPr/>
          <p:nvPr/>
        </p:nvPicPr>
        <p:blipFill>
          <a:blip r:embed="rId2"/>
          <a:srcRect l="48550" t="0" r="7126" b="9217"/>
          <a:stretch/>
        </p:blipFill>
        <p:spPr>
          <a:xfrm>
            <a:off x="1066680" y="4114800"/>
            <a:ext cx="2297160" cy="251460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14" descr="Cation%2Banion_exchanger"/>
          <p:cNvPicPr/>
          <p:nvPr/>
        </p:nvPicPr>
        <p:blipFill>
          <a:blip r:embed="rId3"/>
          <a:srcRect l="0" t="0" r="53567" b="9217"/>
          <a:stretch/>
        </p:blipFill>
        <p:spPr>
          <a:xfrm>
            <a:off x="1066680" y="1219320"/>
            <a:ext cx="2332080" cy="2438280"/>
          </a:xfrm>
          <a:prstGeom prst="rect">
            <a:avLst/>
          </a:prstGeom>
          <a:ln w="0">
            <a:noFill/>
          </a:ln>
        </p:spPr>
      </p:pic>
      <p:sp>
        <p:nvSpPr>
          <p:cNvPr id="2345" name="Text Box 15"/>
          <p:cNvSpPr/>
          <p:nvPr/>
        </p:nvSpPr>
        <p:spPr>
          <a:xfrm>
            <a:off x="297180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Nega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6"/>
          <p:cNvSpPr/>
          <p:nvPr/>
        </p:nvSpPr>
        <p:spPr>
          <a:xfrm>
            <a:off x="2590920" y="3886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ive V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7" name="Group 21"/>
          <p:cNvGrpSpPr/>
          <p:nvPr/>
        </p:nvGrpSpPr>
        <p:grpSpPr>
          <a:xfrm>
            <a:off x="3352680" y="4343400"/>
            <a:ext cx="1142280" cy="1371240"/>
            <a:chOff x="3352680" y="4343400"/>
            <a:chExt cx="1142280" cy="1371240"/>
          </a:xfrm>
        </p:grpSpPr>
        <p:pic>
          <p:nvPicPr>
            <p:cNvPr id="2348" name="Picture 19" descr="HydrIons"/>
            <p:cNvPicPr/>
            <p:nvPr/>
          </p:nvPicPr>
          <p:blipFill>
            <a:blip r:embed="rId4"/>
            <a:srcRect l="59326" t="8825" r="1866" b="0"/>
            <a:stretch/>
          </p:blipFill>
          <p:spPr>
            <a:xfrm>
              <a:off x="3431880" y="4386240"/>
              <a:ext cx="106308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9" name="Rectangle 20"/>
            <p:cNvSpPr/>
            <p:nvPr/>
          </p:nvSpPr>
          <p:spPr>
            <a:xfrm>
              <a:off x="3352680" y="4343400"/>
              <a:ext cx="181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3"/>
          <p:cNvGrpSpPr/>
          <p:nvPr/>
        </p:nvGrpSpPr>
        <p:grpSpPr>
          <a:xfrm>
            <a:off x="3200400" y="2286000"/>
            <a:ext cx="1142640" cy="1395000"/>
            <a:chOff x="3200400" y="2286000"/>
            <a:chExt cx="1142640" cy="1395000"/>
          </a:xfrm>
        </p:grpSpPr>
        <p:pic>
          <p:nvPicPr>
            <p:cNvPr id="2351" name="Picture 18" descr="HydrIons"/>
            <p:cNvPicPr/>
            <p:nvPr/>
          </p:nvPicPr>
          <p:blipFill>
            <a:blip r:embed="rId5"/>
            <a:srcRect l="4121" t="12196" r="61518" b="4875"/>
            <a:stretch/>
          </p:blipFill>
          <p:spPr>
            <a:xfrm>
              <a:off x="3284640" y="2310840"/>
              <a:ext cx="105840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2" name="Rectangle 22"/>
            <p:cNvSpPr/>
            <p:nvPr/>
          </p:nvSpPr>
          <p:spPr>
            <a:xfrm>
              <a:off x="3200400" y="2286000"/>
              <a:ext cx="253800" cy="10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3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s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129528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 Plant Construction and QA/Q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tion 2.6– Water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1" name="Picture 8" descr="chstcc.jpg"/>
          <p:cNvPicPr/>
          <p:nvPr/>
        </p:nvPicPr>
        <p:blipFill>
          <a:blip r:embed="rId1"/>
          <a:stretch/>
        </p:blipFill>
        <p:spPr>
          <a:xfrm>
            <a:off x="3505320" y="5334120"/>
            <a:ext cx="2620800" cy="114300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9"/>
          <p:cNvSpPr/>
          <p:nvPr/>
        </p:nvSpPr>
        <p:spPr>
          <a:xfrm>
            <a:off x="1219320" y="228600"/>
            <a:ext cx="71406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000"/>
                </a:solidFill>
                <a:latin typeface="Calibri"/>
              </a:rPr>
              <a:t>Engineering Technology Divis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0"/>
          <p:cNvSpPr/>
          <p:nvPr/>
        </p:nvSpPr>
        <p:spPr>
          <a:xfrm>
            <a:off x="7543800" y="15228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144792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Picture 10" descr="reverse-osmosis"/>
          <p:cNvPicPr/>
          <p:nvPr/>
        </p:nvPicPr>
        <p:blipFill>
          <a:blip r:embed="rId1"/>
          <a:stretch/>
        </p:blipFill>
        <p:spPr>
          <a:xfrm>
            <a:off x="11430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Picture 4" descr="rodiagram"/>
          <p:cNvPicPr/>
          <p:nvPr/>
        </p:nvPicPr>
        <p:blipFill>
          <a:blip r:embed="rId1"/>
          <a:stretch/>
        </p:blipFill>
        <p:spPr>
          <a:xfrm>
            <a:off x="1143000" y="1295280"/>
            <a:ext cx="7620120" cy="5018040"/>
          </a:xfrm>
          <a:prstGeom prst="rect">
            <a:avLst/>
          </a:prstGeom>
          <a:ln w="0">
            <a:noFill/>
          </a:ln>
        </p:spPr>
      </p:pic>
      <p:sp>
        <p:nvSpPr>
          <p:cNvPr id="2359" name="Text Box 5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Reverse O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2" name="Picture 7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63" name="Picture 8" descr=""/>
          <p:cNvPicPr/>
          <p:nvPr/>
        </p:nvPicPr>
        <p:blipFill>
          <a:blip r:embed="rId2"/>
          <a:stretch/>
        </p:blipFill>
        <p:spPr>
          <a:xfrm>
            <a:off x="1066680" y="1928880"/>
            <a:ext cx="8007480" cy="3427200"/>
          </a:xfrm>
          <a:prstGeom prst="rect">
            <a:avLst/>
          </a:prstGeom>
          <a:ln w="0">
            <a:noFill/>
          </a:ln>
        </p:spPr>
      </p:pic>
      <p:sp>
        <p:nvSpPr>
          <p:cNvPr id="2364" name="Text Box 9"/>
          <p:cNvSpPr/>
          <p:nvPr/>
        </p:nvSpPr>
        <p:spPr>
          <a:xfrm>
            <a:off x="1600200" y="5638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ypically operates in a vacuum to reduce source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ineralization –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Picture 4" descr="dist1_001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97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1"/>
          <a:stretch/>
        </p:blipFill>
        <p:spPr>
          <a:xfrm>
            <a:off x="1143000" y="1454040"/>
            <a:ext cx="7848720" cy="498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Picture 5" descr="iis201106042-01_072dpi"/>
          <p:cNvPicPr/>
          <p:nvPr/>
        </p:nvPicPr>
        <p:blipFill>
          <a:blip r:embed="rId1"/>
          <a:stretch/>
        </p:blipFill>
        <p:spPr>
          <a:xfrm>
            <a:off x="1143000" y="1312920"/>
            <a:ext cx="7467480" cy="5057640"/>
          </a:xfrm>
          <a:prstGeom prst="rect">
            <a:avLst/>
          </a:prstGeom>
          <a:ln w="0">
            <a:noFill/>
          </a:ln>
        </p:spPr>
      </p:pic>
      <p:sp>
        <p:nvSpPr>
          <p:cNvPr id="2373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Text Box 4"/>
          <p:cNvSpPr/>
          <p:nvPr/>
        </p:nvSpPr>
        <p:spPr>
          <a:xfrm>
            <a:off x="1219320" y="1600200"/>
            <a:ext cx="76197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ource water is properly analyzed and water treatment address the impurities, then Boiler Protec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rove protection, additional chemicals can be added (Oxalates, pH controls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and Carbon Dioxide reduction in the De-aeration process reduces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7" name="Picture 5" descr="MPj04331650000[1]"/>
          <p:cNvPicPr/>
          <p:nvPr/>
        </p:nvPicPr>
        <p:blipFill>
          <a:blip r:embed="rId1"/>
          <a:stretch/>
        </p:blipFill>
        <p:spPr>
          <a:xfrm>
            <a:off x="2666880" y="1981080"/>
            <a:ext cx="4921200" cy="3692520"/>
          </a:xfrm>
          <a:prstGeom prst="rect">
            <a:avLst/>
          </a:prstGeom>
          <a:ln w="0">
            <a:noFill/>
          </a:ln>
        </p:spPr>
      </p:pic>
      <p:sp>
        <p:nvSpPr>
          <p:cNvPr id="2378" name="TextBox 6"/>
          <p:cNvSpPr/>
          <p:nvPr/>
        </p:nvSpPr>
        <p:spPr>
          <a:xfrm>
            <a:off x="35812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121932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5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7"/>
          <p:cNvSpPr/>
          <p:nvPr/>
        </p:nvSpPr>
        <p:spPr>
          <a:xfrm>
            <a:off x="1447920" y="1523880"/>
            <a:ext cx="7086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i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ensate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il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7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0"/>
          <p:cNvSpPr/>
          <p:nvPr/>
        </p:nvSpPr>
        <p:spPr>
          <a:xfrm>
            <a:off x="1219320" y="144792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Treatment is the attempt to remove anything that is not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 and compounds in water create corrosiv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measure of acidity or alkal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maintain chemistry control can lead to reduced efficiency and/or premature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source water chemistry is the key to determining Water Treatment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4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5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18040" cy="274320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9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5638680" cy="46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2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3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Wate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6" name="Picture 5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Text Box 2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R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9" name="Picture 5" descr="salinity-791740"/>
          <p:cNvPicPr/>
          <p:nvPr/>
        </p:nvPicPr>
        <p:blipFill>
          <a:blip r:embed="rId1"/>
          <a:stretch/>
        </p:blipFill>
        <p:spPr>
          <a:xfrm>
            <a:off x="1143000" y="1752480"/>
            <a:ext cx="7696080" cy="4071960"/>
          </a:xfrm>
          <a:prstGeom prst="rect">
            <a:avLst/>
          </a:prstGeom>
          <a:ln w="0">
            <a:noFill/>
          </a:ln>
        </p:spPr>
      </p:pic>
      <p:sp>
        <p:nvSpPr>
          <p:cNvPr id="2300" name="Rectangle 6"/>
          <p:cNvSpPr/>
          <p:nvPr/>
        </p:nvSpPr>
        <p:spPr>
          <a:xfrm>
            <a:off x="6705720" y="2666880"/>
            <a:ext cx="685800" cy="312444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2" name="Picture 6" descr="americus_water2"/>
          <p:cNvPicPr/>
          <p:nvPr/>
        </p:nvPicPr>
        <p:blipFill>
          <a:blip r:embed="rId1"/>
          <a:srcRect l="0" t="4038" r="0" b="0"/>
          <a:stretch/>
        </p:blipFill>
        <p:spPr>
          <a:xfrm>
            <a:off x="1143000" y="1258920"/>
            <a:ext cx="7772400" cy="509760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7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Tap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3"/>
          <p:cNvSpPr/>
          <p:nvPr/>
        </p:nvSpPr>
        <p:spPr>
          <a:xfrm>
            <a:off x="1219320" y="304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2.6– 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5" name="Picture 5" descr="hvymetals"/>
          <p:cNvPicPr/>
          <p:nvPr/>
        </p:nvPicPr>
        <p:blipFill>
          <a:blip r:embed="rId1"/>
          <a:srcRect l="2322" t="9231" r="7512" b="0"/>
          <a:stretch/>
        </p:blipFill>
        <p:spPr>
          <a:xfrm>
            <a:off x="1066680" y="1914480"/>
            <a:ext cx="8077320" cy="4078440"/>
          </a:xfrm>
          <a:prstGeom prst="rect">
            <a:avLst/>
          </a:prstGeom>
          <a:ln w="0">
            <a:noFill/>
          </a:ln>
        </p:spPr>
      </p:pic>
      <p:sp>
        <p:nvSpPr>
          <p:cNvPr id="2306" name="Text Box 6"/>
          <p:cNvSpPr/>
          <p:nvPr/>
        </p:nvSpPr>
        <p:spPr>
          <a:xfrm>
            <a:off x="1447920" y="762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stry Basics – Industrial Conta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7"/>
          <p:cNvSpPr/>
          <p:nvPr/>
        </p:nvSpPr>
        <p:spPr>
          <a:xfrm>
            <a:off x="1066680" y="5562720"/>
            <a:ext cx="6172200" cy="304560"/>
          </a:xfrm>
          <a:prstGeom prst="rect">
            <a:avLst/>
          </a:prstGeom>
          <a:solidFill>
            <a:srgbClr val="cc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eggy's Computer</dc:creator>
  <dc:description/>
  <dc:language>en-US</dc:language>
  <cp:lastModifiedBy>Peggy Hines IRSC</cp:lastModifiedBy>
  <dcterms:modified xsi:type="dcterms:W3CDTF">2013-03-13T19:42:28Z</dcterms:modified>
  <cp:revision>332</cp:revision>
  <dc:subject/>
  <dc:title>Engineering technology</dc:title>
</cp:coreProperties>
</file>