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523044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523044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395D-F61B-42FF-B9A0-DBBD77CF4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1671-32A0-48E6-937A-F9814762DA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D9DC-C606-4801-89BA-4DFBC9BFDB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1EB9-318C-4D04-A265-A031FBF7A8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1C32-A6DE-4DB0-B752-9E0CAA5AC6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8AAB-4665-4F57-A9C5-5C301AE64A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2A29-583C-47D2-A70D-B9402FD727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5747-E584-44B2-8F2B-15DF7AF0A2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460F-22EA-44AB-AD11-70995DBF57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CEB1-BBBF-49C6-AF61-4A74014D68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F503-5EC0-41F7-8BBC-971F11356E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4042-4CBA-4F82-A59B-AC2DD5A492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0138-3281-4760-BF71-4921C832DB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EC65-287D-4FE9-8214-5A91222005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6A88-E142-4CBF-9460-7E1B9745DB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2169-217F-4020-A6DB-CBFE7590A2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32E8-8815-44A2-958F-31C2AB855F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FEC-C153-421D-8FB8-6F6E254A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F16-2AAD-40F6-8AF2-2BF7BD65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A4DCB-3861-4A48-B756-AB64BDE4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40EFA-5674-4FF0-94BA-0237978A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EAA08-2CB9-4525-BEEC-460A123D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93F29-B1A5-47F7-B7E1-FA1DDB07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EEDB1-DA43-4E2F-83AE-80441B5A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FEAD1-15E6-4DC1-AAFE-12E6BA00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20982-BEA7-4600-979A-E2538D20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93C07-C970-44AD-A4B8-BA49F686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22F08-DCD9-4534-9B43-5CDBC4C8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78CB5-58DF-481D-A14B-2FF135F4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B12-E2EF-49ED-B273-CE9C2E98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F7AFE-69B2-4C95-BFDB-5D861598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A823A-B65E-4687-9331-C2A5179C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A5074-A17E-41C3-8F1B-A7AFA111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6D939-E675-4853-87CF-9D1374EA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3602A-7E11-4A8C-8363-FF881390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1E0CC-CFC2-4EE2-81AC-E47E6ADF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FFB58-F158-43F4-9CE7-343A041D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C83D2-9A9E-4C26-B179-BB6AA49D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10FDC-9B2A-4C97-998C-6787546C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299CD-D74C-491B-9356-02D3C367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1BF-F30A-414E-8CC3-E2226AFE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3CB23-5067-4388-B050-33C5E39F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DD281-8729-426F-A684-20DCF75F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CAE8A-211E-4FA5-8480-AED87481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8045A-80FB-4937-A251-4977A669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EE5D4-17C4-46DB-8688-A10C8CFA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5FAFB-A9E0-45DA-98CC-9406DC3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E3FBF-6C28-4C98-9105-76138887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CB6E6-C963-4492-8066-5CB2D436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404EC-C6BC-4639-9892-FD591591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CEC16-4740-4366-B326-5AD5C6D5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BBA1-9973-4AE7-B17E-BE92A203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5EAEF-1DB3-4C38-A374-8A88042D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F1DCB-2E5F-403C-B494-2E41D57B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4C046-2251-4BEE-9B4B-F01A8F44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14E1A-123D-4BDC-AD76-8E3E6A94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1B349-883B-417B-A0B0-07EB9782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A0678-0097-4B1F-829A-F7CF12C6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BC505-D6D5-461F-83F0-332B21A0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58E3C-3FA4-448B-A55D-26645B86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F2028-FCBC-4EF8-A3DA-260B90F1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CD3FE-8AD8-404A-9B74-F9A3D4A3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52E9-0636-44C3-8FF0-E1506D5F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8AEF5-1340-41A4-9838-A26FDD54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956B7-A3F7-4B17-A5AB-69B09B0E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F211C-3372-4876-8214-E9F0B497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EB6E0-901A-4E28-AC88-1F566965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01F67-BAFB-4C41-8A92-C2CDB3BF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CF007-FF01-4374-BAD1-20798049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ED7D2-BCD2-4FC3-9FD8-850F5B8E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29501-CD5A-4905-B323-401B8775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F3031-DC2F-4422-9001-D85C55A9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912EF-FC5E-4B80-A0DA-8ED58B0D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F084-F03B-45E4-AB99-58550D13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B749E-98D7-458D-A31D-E1B86684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529DA-259A-4494-8B15-79E74E6A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7E8DE-7AA2-4D34-B089-3746ACDE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C2588-58F7-4A28-97B0-8DDBFE1C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B8BCB-5A05-4D0D-B31F-E63301A5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96620-CF58-492B-8036-C3E143E9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E3C85-077A-4FB9-85D2-5D8D5D26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8BF5B-E3AC-4A4E-B477-3427F65F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E2D59-0001-4CA7-B936-E6265784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EA251-4483-4D51-8E29-4891704E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2B8A-CD65-43C5-A95B-1AD8CBB1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D9533-99FD-4AD1-AB3F-1E1D77BD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BFB4E-806A-41B2-9853-B25A635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8AD44-460F-4833-A6A1-A6D1E281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85EBF-9468-4228-9553-1C769A1B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A26BA-4713-4045-951A-12309F4B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289FE-F565-4F90-AF76-FBA3E7EA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23EDF-56BF-4D85-8C5E-29DE8277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DD1AD-ABF5-4666-BBC5-7752E0B4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B76F1-66CC-4EE4-9B2E-3960C28F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3DD6-A6D8-40A2-A558-538AA8B6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C1A3-9FE2-4FBF-9F74-4B49CC14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F39B-C490-46A4-A52F-5D20238E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E4F-AA67-4D24-AB05-91D38D1C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8E52-1FEB-4599-9217-94446F96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A941-AF15-418C-B8DA-1BEB8103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AA58-EF3F-4A83-9BC7-1B561687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FA7A-A0D6-41E9-8791-73BA0DF3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6A1F-C799-43D4-A154-1DFB2387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EEB9-93E5-4A5D-8689-43CC7F8B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CBA9-3F8A-4554-85DD-752666EE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11DDE-B257-4F13-A9A7-10AD2FF6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CC6F7-ADA0-40E5-8252-4448BA75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21374-CBBB-454F-93D5-0713F7BB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95C-72A0-4C6E-8375-A3414F24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6D0E4-9158-44F2-B1E3-E43FF0D6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4EB4-993D-4C85-8AE5-5775FF3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62C4-E704-4DB6-8AE7-796189A3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72ECC-668A-46A4-A16C-D7355F9A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3FE21-4862-4E14-9481-44680304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27A1-98CB-4E15-9332-EA3028A7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B435-D22A-4908-BFB9-F0F85DCE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FFB9-0284-4F6C-8046-8AD34425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9B15-C263-4D96-9A9A-94E173F9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FC8DF-1267-4F6D-8C8F-A907AF5F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1C7-751B-4FDD-8C79-059AB139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0A2B-74CC-46E7-A529-3A5FCE61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61EC-C533-4EE9-A53F-7C687A28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3AB5-A32E-4EC4-AC42-F3FB918B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7BCAE-A63E-4840-A10D-D9CBDB4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8CDF-1484-4853-AB75-7EE9399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45A9D-708B-4A82-AA77-C4072323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02E9A-BB81-4BB0-BCD6-017705C2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ABC2-12D8-4F48-97DA-0A31BCED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2CE7-4CB9-451A-BFE9-CBD7358B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1B59F-464D-4E96-8D74-A9591A8B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355-99F4-4C9F-ADEF-E383BDF9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6DE3-2D69-4C14-93EB-BF05ADCC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D3B12-A8C6-4CB4-8F8E-3CB70949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4A66B-07CF-42A1-9AA7-9CB3E3B4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8CF87-3D13-4141-BDCC-046F320E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95D31-180A-42C9-93F6-1211BB3F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D269A-422A-4C65-91F2-72BDBBAF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F4C38-9026-443B-B307-91FFC918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2097E-5AA3-4E1C-A54F-BF16C6E3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92E0-0E13-4C66-A2C0-92C560B0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D2AC8-4125-4F90-859A-464BE890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BA0-9B67-479F-8CD2-89C4D1EB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F6108-9E8E-47E0-85B0-EA7E910F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E54E7-1C10-4769-827A-107CE1F7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75E02-D5F9-41A3-B5DC-3EF2A48C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D6A27-11C2-4590-B493-0099A88F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0BB00-3B13-4C7E-993D-55332797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D0EE3-D88A-47CF-9390-42794B70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F4DEE-ACA8-45B0-BE25-0E75E9E5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CF9D5-32CE-4DC9-8F6D-A16D01DF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EA69E-63D6-4AA0-99AD-21B9882A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27FB9-D729-484D-BFAA-175E6442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D69-F963-49B6-B213-6EA957A2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630F-19D5-4F5E-9093-C473022A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F7F20-AB23-48C7-9AD1-3B144A6A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50DE4-6318-4C92-AA9C-A6FDC531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02EF2-5435-4897-9D6F-3A1BE245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8CDCA-CC5F-433C-8D7E-235AB24C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C6F33-B120-41A3-848E-698A0D13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9E4F6-D603-427F-A7CA-442917C0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11ADB-487F-43A0-9733-BAF980EC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89C3-D4BA-402D-98AF-3213F4AC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82E62-39EF-4B0D-B45D-6FECEF1F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659-DD70-4E5F-8C85-972F601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571D9-5695-478D-B634-D78A1FA0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05B4-0248-4E27-BAC0-7863F854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3853A-5DAD-44BB-8497-26A969F4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0D159-973F-420F-AC27-044A24EC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25FF4-B948-460D-854C-FCFBE955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60C81-EFBF-44FC-9B78-956C405A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BCDB0-57F3-4B70-BA60-07E36216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24F34-1D2D-459C-8AB7-50DAD15A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58A0D-F220-4D8D-9CFE-A181E36D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B2F68-9658-4C38-8708-E58C2D30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1F4-A2BD-4BDD-9463-98A53708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3D197-3671-4DB1-99A2-09B86CF4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5353D-B12A-4F3D-9131-E3C5171B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1CCCF-0A29-4705-9D67-E0C72277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75CBF-DEEB-4EE1-9420-DB5909CB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3CD63-736A-4597-A4CD-9FB761CD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7DB69-44B2-4180-AA7A-E73EBD8B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CB10B-634C-4FFF-97DA-F82D3065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9113C-B8ED-47D4-B8A4-F92EC345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A1BD5-7DBE-40B6-A772-80BBC6F0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9C725-0AEA-4D73-AFDC-A53D87BD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0148-FCEF-4FEE-B194-2BB632DCCE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4F54-C481-49C0-A81C-385CEADE2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BECC-8E62-4D60-89F7-B7019C4DF4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7239-40D9-4AB8-850F-42B88C8287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25A3-3477-409F-BA12-B187BB636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4E6F-678C-4AEE-A565-1046CF074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DC32-8CCC-412A-9019-3AAEE692C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7F14-BB7B-4477-83F1-9814B163D5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1321-3305-4BEF-96CD-EDC390013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3236-92A4-4EB6-BA4A-391E5FF7C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2E1F-8257-49FE-81CC-97D108C14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FDDA-F344-401C-8CB3-4DB809603B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47C-21CD-4127-8E51-8228B5FB21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ABC8-3002-45F6-B7A4-9081FD6541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ual, surface, volumetric, specification, procedure, standard, regulation, code discontinuity, defect, relevant condition, evaluation, micrometer, caliper, depth gauge, thread pitch gauge,  feeler gauge, weld gau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590840"/>
                <a:gridCol w="1219320"/>
                <a:gridCol w="441360"/>
                <a:gridCol w="108252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.2.1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.2.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egulation Vs.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66320" y="1905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gulation: 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 principle, rule, or law designed to control or govern behav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49"/>
              </a:spcBef>
              <a:buClr>
                <a:srgbClr val="00206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A systematic collection of regulations and rules of procedure or conduc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49"/>
              </a:spcBef>
              <a:buClr>
                <a:srgbClr val="00b05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A standard that has been adopted by one or more governmental bodies and is enforceable by law, or when it has been incorporated into a business contrac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ample: ASME Boiler &amp; Pressure Vessel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Common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discontinuity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an interruption in the normal physical structure of an article (ex. cracks, seams, por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defec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a discontinuity that interferes with the usefulness of the arti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*All defects are discontinuities, but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not all discontinuities are defects!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relevant condi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a condition that requires supplemental examination, corrective measure, or analytical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he process of determining the significance of examination results through the comparison of those results with applicable acceptance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etermine whether an article is acceptable, salvageable (can be repaired), or rejec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a “small” imperfection acceptab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-1, VT-2, VT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VT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s conducted to detect discontinuities on the surface of components (“specific exam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VT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s conducted to detect evidence of leakage from pressure retaining components (tanks, pipe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VT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s conducted to determine the general mechanical and structural condition of components and their supports (“general exam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cation of clearances and sett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ion for loose or missing p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pec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ually requires a written procedure that outlines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 of exam to be performed (VT-1 or VT-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llumination requirements (ex. 50 foot-candl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1 foot candle is equal to the amount of light given off by a standard candle at a distance of 1 f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rface preparation requir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ceptance criteri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ion interval (how often inspection must occu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test docu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 vs. Rem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Direct visual exams usually occur within 24” of the surface to be exam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use mirrors or magnifying l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Remote visual exams performed in areas that are inaccessible for direct examination (inside of pipes and tanks or in hazardous or radioactive are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cal A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Used when direct visual examination is not 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esco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berscop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eo Came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ical A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icro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alip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Depth gau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read pitch gau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Feeler gau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Weld gau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rtific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914400" y="2971800"/>
          <a:ext cx="7543800" cy="202716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rtific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h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imum Experience in Method (h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imum Experience in NDT (h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623" name="TextBox 14"/>
          <p:cNvSpPr/>
          <p:nvPr/>
        </p:nvSpPr>
        <p:spPr>
          <a:xfrm>
            <a:off x="1066680" y="21337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 ASNT Recommended Practice No. SNT-TC-1A, 2011 edi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TextBox 14"/>
          <p:cNvSpPr/>
          <p:nvPr/>
        </p:nvSpPr>
        <p:spPr>
          <a:xfrm>
            <a:off x="1066680" y="53341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vel I – Train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vel II – More experienc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vel III – Highest certif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rtification Requirements, Continu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lso pass annual eye exam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ar vision acuity (sharpness of vision) – Jaeger chart   Example Jaeger Ch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 vision acuity – Snellen chart  Example Snellen Ch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r vision – Ishihara  http://colorvisiontesting.com/ishihara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55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55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Note the human eye can generally detect flaws 0.25” or gre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1066680" y="190512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NE 110 – Introduction to NDT &amp; QA/Q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ubtitle 2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Visual Inspection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ssignment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Using Calipers/Micro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Perform a Visual Inspectio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0404"/>
                </a:solidFill>
                <a:latin typeface="Calibri"/>
              </a:rPr>
              <a:t>*Reference: ASME BPVC Section V, Article 9, Visual Ex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ypes of Exami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Section XI of the ASME Boiler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Vessel Code (Rules for Inserv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pection of Nuclear Power Pla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), there are three types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ations used during an in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p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66960" indent="-6094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66960" indent="-6094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66960" indent="-6094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Volumetr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Surface/Volumetric Exami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Surface examinations indicate the presence of discontinuities on the surface of an artic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 inspection methods: liquid penetrant, magnetic particle, eddy curr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Volumetric examinations indicate the presence of discontinuities throughout the volume of the arti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be conducted from either the inside or outside of the compon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 inspection methods: radiography, ultrasonic testing, eddy current (for thin tubing or pla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Visual Ex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Definition: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A nondestructive examination method used to evaluate an item by observ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Used to determine the surface condition of an article, alignment of mating surfaces, compliance with physical requirements (dimensions, settings), etc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Usually the first method employed for locating suspected def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Also the oldest and most commonly used NDT meth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y Visual Examin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Can be used to inspect for surface-breaking discontinuit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Crac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H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Corro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Does not require special equipment other than good eyesight (optical and mechanical aids optional to improve inspection qua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Low cos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Some Key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676160" y="2209320"/>
            <a:ext cx="52578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1028"/>
          <p:cNvSpPr/>
          <p:nvPr/>
        </p:nvSpPr>
        <p:spPr>
          <a:xfrm>
            <a:off x="5165640" y="1965240"/>
            <a:ext cx="34419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Specification Vs. 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990720" y="1905120"/>
            <a:ext cx="685800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Specification: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n explicit set of requirements to be satisfied by a material, product, or service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a material, product or service fails to meet one or more of the applicable specifications, it may be referred to as being out of specification (OO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Procedure: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ed and documented process for performing an experiment or conducting an evaluatio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ard – Two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6632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0c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rtifact that serves as a basis for comparison; a reference against which other things can be evaluated or calibrated.  Official U.S.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A set of technical definitions and guidelines that function as instructions for designers, manufacturers, operators, or users of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dcterms:modified xsi:type="dcterms:W3CDTF">2013-03-04T17:38:41Z</dcterms:modified>
  <cp:revision>237</cp:revision>
  <dc:subject/>
  <dc:title>Statics and Strength of Materials</dc:title>
</cp:coreProperties>
</file>