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4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ftr" idx="4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 type="sldNum" idx="4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F3AA-A608-4357-8DFC-94D647433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A620-BFE2-4DB8-9DE1-7B6600FCD20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A18F-DDAF-4754-B119-1275A7365A8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2C14-AF29-42C5-A01B-1C8055E910B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41EE-AA79-401A-8A78-6E15733CFAA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209E-83FE-4475-943A-6BF6C6E89A2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3E28-3E02-4609-84C3-86CDBA92A55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76D5-8F73-4177-A140-428B2F9583F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7F66-CCA8-4668-A611-48EC389BA43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CA41-5F96-4354-9F17-676008F6094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AC8A-CA1A-4658-BDCB-7EC4C7F606C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64CA-AD5A-41F9-B56C-8BD425777EF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4E02-4996-4B80-A2C5-7BB19A3D61B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5152-A268-47C0-AB7E-77D960B3BB1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DB18-A06D-47D2-A701-0F1F147E877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06C5-EF7B-490E-8A43-7D9E8D70F5F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E85B-4FF5-40EB-B63C-A0176669D3A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FBF4-DB9A-4A55-9335-60A98105C54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A9A6-E4BF-4597-B0B5-662C16C57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5C98-BB49-4325-8867-55DA3DCC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51962F-B2A6-41E7-ABF9-B9E42129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4E0EB-7FB4-46E9-8ECA-FFAD9E63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FC31EC-D4E0-4B06-B708-ED3601F3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EC7657-2CBE-452E-9AAB-EFF6B039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4C627D-A1FB-44EA-972C-EB09AC51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57EEE8-8B96-42BB-A451-AC922B62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16AA1C-8E87-4F20-80D5-C6A6CCCF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7876F1-7926-4ED1-9749-3B6433F79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9F9B1-D0D7-4426-9D7A-9F0F957D1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3EBBA0-AF0E-4A3B-8222-C07FF466A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26CD-2F2D-4651-BE55-766306706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616A6A-F30F-4EA6-8994-03934DC9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7AC950-88EE-4BFB-A380-3137818F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367C19-3212-4CF1-9246-990B5BE1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CEC02A-7151-413D-A7B8-EA23134B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04B246-AAB7-4DD3-9EF4-4BF3EFA3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453AF9-03DC-4B6B-824B-263AB429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038F22-D702-4E2A-8A2A-28751469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23AE6E-C08D-444B-851C-2BE9C565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E4A3F0-0793-4368-AB5C-35F54BED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3C5079-9465-434C-8EB3-D19F13055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C2A6-23F1-4104-91B3-1248BF821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439D58-9312-4F97-922A-732B1364F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5D9F12-C87C-41F6-8026-9F0904810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FEFC0A-6BBA-47B5-9F97-FB1AB841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5CB8F7-B54C-4F70-A421-9F19F6E9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5D67A6-1606-4A6C-BF58-DD562BEB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BA3E1E-E0E3-41A8-AEE5-AF97FA15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EF3DB-A04E-4CC1-B239-D002E972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C2D00-A240-420F-A6A7-41AADD23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99CE0-34CB-4FA8-83BA-A9914074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90438-7E89-444F-8D70-81858EAA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50B69-651F-4DCA-BE10-4EAD2537C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22BFB-7E94-4CE6-91BD-89B9655D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FED09B-144A-4CF4-9751-E76770C97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3925A-840E-415A-A1D3-8FD469FE7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AD99F4-4DEB-49BF-8CDE-BF1292A52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F29F19-2998-4415-B712-B2FD7F9F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C43469-9861-46C9-86A0-FAB42BEC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D80866-063C-47A7-9E2A-32238C37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936666-6478-4101-91FD-E4A4A836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98634F-888C-4953-9E1E-172B7927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64BC31-B23B-4A53-A776-6A9D0F68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6A0A-D342-48E9-AAE4-264EE130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49EAEE-8C67-4F52-94FB-EF7AB097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B2C966-4B96-4C22-8115-31FA4746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2184A8-E017-47DE-B294-863F9FD0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79835B-C6EB-494B-92A7-285D7C30A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80A23F-2ECB-4247-9839-F2D3C1229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C27E7A-C858-4089-A3EC-8B9233D8C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1F7350-8971-421D-BE83-CD2AC9AC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44A74D-7CCF-4C21-ACE8-7C1CA7BE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DEF6CF-FF7B-4AA0-A215-8E57C749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424E58-9805-409A-ACCF-53751CF9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C29A-C568-4E21-BABD-1BD5A752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B86AD4-EBDB-46C8-B0A9-416A7600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FE92EE-9119-406D-A01C-29BC22DE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A854E8-7C9E-47A7-B202-AC741F3E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AC9F12-F6A3-467B-8609-87D213F1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D53AB3-0FE9-4772-ADE6-9246A114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808A2A-522E-42EE-8DA4-911134757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44C336-6E88-4DDB-B86B-439DF0B2A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C8668A-D376-45DC-8674-1932B4A66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56F9FD-7A3F-4CE2-B44B-F0164C1C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557A8C-5BEB-4154-AC73-145D54FF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210DA-04F3-4240-8A15-ADF28BBE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6D4208-40E6-4350-BC24-D9E9ECAA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73B526-E70C-4303-81FF-976F2F1A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9DE51C-6489-4F05-B697-A8FCF4C0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289274-4BCE-42DB-BCE7-014FF229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964115-2B52-4C67-B0E9-9F7A83BE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6511AD-C3DF-4BD3-9654-6B251128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F20B57-AF70-493A-8362-28CEDE0E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F59384-C9CE-409E-A2B3-D71D9F4B3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B7015C-8ACB-42C2-9BF0-944847C61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5930B-08C1-4743-A1AE-95134217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FEAC-B8D8-4F5A-B768-17D641B7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1C0F-9D62-4CCD-AE1B-0B73C632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1844-01A3-4BD7-B986-D07CD343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F0E1-4144-48EA-8122-18627FDD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9577-A2BD-43DA-9B0E-20F49719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5D45A-C87A-445A-88A5-40B3145C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8F46E-F89E-4BC1-809E-4A0089A62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58B1-1533-4B5D-9C48-63D846CCF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67377-EE91-43BA-9E21-D9D4CCB57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3DC98-E2D4-4C3B-B42D-3A701FF7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7F017-CFDB-4A78-95D4-F5DB78B7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16998-6483-46CC-87D4-F4530772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4AAB7-10DF-4F7D-9964-7168C6E4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EDC3-26D6-424A-A4A7-40F2E87A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9A563-CF83-49FB-9C08-CB133ACC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D64C2-B96F-4A83-83A3-DE4B052C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5B2BD-91F8-43A3-9AE6-669B8677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06A76-876A-4C2E-937D-F8851F3A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AD60D-0AF8-4A47-966E-D77A213D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59913-B1E4-4CE4-944B-E34FC9473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77419-E4E8-4B68-ADF1-90CC145CC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8A49B-1B80-4AF5-8134-35519682F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4F40D-FD43-43A5-B390-F54EE881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87A2B-BA3F-4D6E-AA08-3BB8D619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D155-1506-4B44-8E60-2B0C100B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BA3C8-1AF9-4DDF-878C-C3C12DC3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7F3A6-3C91-4AA3-9AE7-6EA2FEED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54041-0C43-42BE-8DEC-576B37DA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EA5E6-0D1B-43C2-B7E1-7CE9C971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A2B32-0439-451B-AAB2-AA57E3EA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CC98D-0456-4A01-A408-F8C8967F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F7813-4BEF-4FF9-B568-AE742139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3499B-C1AA-4C14-B2A1-72B631B5E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6451B-D15D-47E2-A7D8-5507A0DFC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20DE5-23A6-4679-96C7-57EC8C650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64C6-0448-4D57-B7E4-D328CD26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09E6F-A129-49FF-8A51-BA8D81C9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67793-8B9B-4451-B557-CD2B430B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93226-CEED-4890-9C4E-BE08CB2A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D804A-64C9-4614-A037-55E6D39D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98074-36C2-4940-AA98-5C12BB2A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B65AE-3056-4120-8B1C-4D821A3A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D7595-DE56-4A55-9477-555A4548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A3312-D5EA-4043-8811-1047178A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7E909-F934-44EC-AFB3-17867F7A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65CF7-719D-4A09-BDED-EE98BBD20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268D-A0E6-483B-909C-1AE575A9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CE65A-29F8-493C-B69A-10401C57E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3A1D4-4B4B-4C6C-8C6F-189C150AA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CEB3F-ABD4-4780-B5A2-AD8E134C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7A02B-0A3C-4CCF-AB95-649DA504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92B6A-5C90-4DF0-90CC-2BD618D5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59F3A-FA9E-4364-81B3-8C3A6231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1295D-05C3-4400-BAB9-E09EEDA1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EE83F-8B34-4B73-8407-51EB53AF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0A509-3577-4B08-B7F1-578868E8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DB837-0D73-4224-99B6-9AEF8F32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3F3E-7DFE-46A3-B8E9-AE8A93D9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91E72-4BC2-4908-943F-C8819765B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525EF-D99E-49ED-BBA0-50D7FB0BA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45254-6420-4111-852F-D0C6A7BA0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A2A1A-41B2-4D72-AA7F-AC6FA9FDF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E97D2-9CB8-48DD-B130-2B99F9B9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22023-3F41-4E2C-AE4F-0BBA7CAB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A40CC-EFF4-4723-BD97-49805B33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06F47-4B59-4347-9C95-9C40A8A3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8F207-81CA-4D94-9E07-ABB55580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AFEBD-7E72-4EF6-B0E2-55E1A6AB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40B0-B916-401D-AD6D-01F12C77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ABF38-6236-4996-B9C0-3231583C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890D5-D79F-4C75-8974-538A51A3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CD153-A014-44FC-8878-8B4925A1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02A51-B60B-4611-B642-3C827D278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FEAF0-A7A9-4AB2-AC2B-9F52A447F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7E296-96D3-42D8-BA9A-4B014AE8E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F1973-857E-4144-A608-03AF48C0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5A97B-59A3-41FC-8745-1112F443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06803-1636-4DDD-A314-C2F887E2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89D91-9F7D-498F-BC5F-DB901D50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787C-F4A1-4907-A317-76ECD608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27092-05C3-4BE3-9D72-D9D8E3E5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B15CC-124E-4040-B818-5965BBA0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AB590-498E-40CB-AE09-52880E07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663BD-A82E-4BC8-A721-D5421F8C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FBD99-C609-47A8-B1B4-9A6FA61D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CD811-83BD-47C7-BFB5-DA1195604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2FDDD-8361-4928-BB48-E22B488B3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AF6DE6-DE9E-44D5-A646-046300799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BA1DA1-A97F-4CD3-890A-89B48A73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DB3685-2523-4DBA-89E7-6AA5F0E9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0076-736B-4C57-9DA7-5D69FA196D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3019-DF5B-45C7-8E8E-A543B22A6E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A139-0591-4075-99F0-13B3169F89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7330-A467-4E68-921F-EF27C4DD93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629B-291A-44FD-B309-DCC6E2FACD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6AE4-FD36-47ED-BE02-4775458128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F54D-A683-417F-8695-E73A43C201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BFF91-4CA1-4443-93CE-75FE17E523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F96B-2299-4DE5-925E-4EF1A7198B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45D1-00F0-4F0E-ACEF-314EDEC8E1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98DA-3E33-40F8-904F-75132F441C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9553-A31E-48C7-B0CC-7FA2D06235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9840-F0AD-4EE4-A919-6631930465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9123-22DB-417D-A20C-168F5774C2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Box 1"/>
          <p:cNvSpPr/>
          <p:nvPr/>
        </p:nvSpPr>
        <p:spPr>
          <a:xfrm>
            <a:off x="152280" y="102384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FR policy, CFR violation, CFR enforc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8196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7" name=""/>
          <p:cNvGraphicFramePr/>
          <p:nvPr/>
        </p:nvGraphicFramePr>
        <p:xfrm>
          <a:off x="237960" y="1523880"/>
          <a:ext cx="8668080" cy="1738440"/>
        </p:xfrm>
        <a:graphic>
          <a:graphicData uri="http://schemas.openxmlformats.org/drawingml/2006/table">
            <a:tbl>
              <a:tblPr/>
              <a:tblGrid>
                <a:gridCol w="1084320"/>
                <a:gridCol w="1082880"/>
                <a:gridCol w="1084320"/>
                <a:gridCol w="1082520"/>
                <a:gridCol w="1084320"/>
                <a:gridCol w="1082520"/>
                <a:gridCol w="1084320"/>
                <a:gridCol w="1082880"/>
              </a:tblGrid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3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5.6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5.6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5.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5.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8.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1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10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4.6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4.6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4.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4.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Proceeding to modify, suspend, or revoke a licen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icates alleged violations or potentially hazardous conditions and specifies proposed 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ires written response to the order under oath or affi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rms licensee of right to demand a hearing on all or part of the or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fies the issues for the hea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te the effective date of the order – may be immediately effective if public health or safety of concer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Llicensee must admit or deny each alleg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and for In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Issued by Commission to determine if an order should be issu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Licensee must reply in wri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Parts of 10CF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066320" y="1981080"/>
            <a:ext cx="312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1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2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2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191120" y="198108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50, Appendix 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50, Appendix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5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5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7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1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Parts of 10CF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2 - Rules Of Practice For Domestic Licensing Proceedings And Issuance Of Ord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als with proceeding relating to all aspects of licensing issues, and the enforcement of licensing agre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19 - Notices, Instructions And Reports To Workers: Inspection And Investiga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20 - Standards For Protection Against Radi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rols the receipt, possession, use, transfer, and disposal of licensed mater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Parts of 10CF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21 - Reporting Of Defects And Noncomplian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ires responsible officer of a nuclear faciity to immediately notify the Commission of an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ailure to comply with laws relating to substantial safety hazar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fects which could create a substantial safety haza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26 - Fitness For Duty Program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50 - Domestic Licensing Of Production And Utilization Facilit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irements for obtaining an operating license or construction perm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Parts of 10CF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50, Appendix A - General Design Criteria For Nuclear Power Pl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es necessary design, fabrication, construction, testing, and performance requirements for structures, systems, and components important to saf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50, Appendix B - Quality Assurance Criteria For Nuclear Power Plants And Fuel Reprocessing Pl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/A requirements for the design, construction, and operation of all structures, systems, and components included in a production or utilization facili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re details: student reports on criterion I - XVII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Parts of 10CF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1066320" y="19807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51 - Environmental Protection Regulations For Domestic Licensing And Related Regulatory Fun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55 - Operators' Licens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als with the issuance and renewal of licenses for operators and senior operators at nuclear faci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73 - Physical Protection Of Plants And Material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other words, secu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100 - Reactor Site Criteri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sed on population zones, seismic activity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Existing U.S. Nuclear Reactors (10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0" name="Content Placeholder 3" descr="reactors-map.gif"/>
          <p:cNvPicPr/>
          <p:nvPr/>
        </p:nvPicPr>
        <p:blipFill>
          <a:blip r:embed="rId1"/>
          <a:stretch/>
        </p:blipFill>
        <p:spPr>
          <a:xfrm>
            <a:off x="1295280" y="1905120"/>
            <a:ext cx="6867720" cy="44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Proposed New U.S. Nuclear Reactors (28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2" name="Content Placeholder 5" descr="new-plants.jpg"/>
          <p:cNvPicPr/>
          <p:nvPr/>
        </p:nvPicPr>
        <p:blipFill>
          <a:blip r:embed="rId1"/>
          <a:stretch/>
        </p:blipFill>
        <p:spPr>
          <a:xfrm>
            <a:off x="1295280" y="1828800"/>
            <a:ext cx="662940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Quality Assurance for Nuclear Rea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lity assurance (QA) comprises all planned and systematic actions that are necessary to provide adequate confidence that a structure, system, or component will perform satisfactorily in ser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ributes of a QA program include procedures, recordkeeping, inspections, corrective actions, and aud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itle 1"/>
          <p:cNvSpPr/>
          <p:nvPr/>
        </p:nvSpPr>
        <p:spPr>
          <a:xfrm>
            <a:off x="1066680" y="1905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NE 127 – Codes, Standards, and Regulatio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Subtitle 2"/>
          <p:cNvSpPr/>
          <p:nvPr/>
        </p:nvSpPr>
        <p:spPr>
          <a:xfrm>
            <a:off x="121932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70c0"/>
                </a:solidFill>
                <a:latin typeface="Calibri"/>
              </a:rPr>
              <a:t>Key Parts of 10CFR (for the Nuclear Industry)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NSTRUCTOR: Chattanooga State CC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NRC Review of QA Pro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RC reviews and inspects QA programs and their imple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RC's objective is to determine whether licensees and their contractors are meeting the agency's requir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particular, the NRC reviews the QA programs for commercial nuclear power pl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addition, for operating nuclear power plants, the NRC reviews any changes that reduce previous commitments to the plant’s QA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NRC Regulatory Gui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tail acceptable methods of design, fabrication, construction, operation, and quality assur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gulations are mandato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gulatory Guides and NUREGs mandatory only as committed to by the applicant (as stipulated in the construction permit or operating licens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gulatory Guides 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t forth requirements for submitting environmental reports, safety analysis report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SAR – Preliminary Safety Analysis Report (for construction permit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SAR – Final Safety Analysis Report  (for operating licens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gulatory Guide 1.70 describes the type of information to be submitted by the applicant for PSARs and FS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NURE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 NUREG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chnical reports relative to the regulation of nuclear ener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UREG-800 - Standard Review Plan For The Review Of Safety Analysis Reports For Nuclear Power Plants: LWR Edi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cribes what the NRC expects to see in the SAR, including the applicable acceptance crite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ful for auditors for identification of specific regulations and guideline documents that address each topic of a S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UREG-1946 - Inservice Testing of Pumps and Valves, and Inservice Examination and Testing of Dynamic Restraints (Snubbers) at Nuclear Powe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ferences the ASME co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Institute of Nuclear Power Operations (INPO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stablished in 1979 following the Three Mile Island inciden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Its mission is to “promote the highest levels of safety and reliability – to promote excellence – in the operation of commercial nuclear power plants” by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stablishing performance objectives, criteria and guidelines for the nuclear power indust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ducting regular detailed evaluations of nuclear power pla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viding assistance to help nuclear power plants continually improve their perform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INPO Continu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O provid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ant evalu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aining and accreditation (ACAD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vents analysis and information exchan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ist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 to be confused wit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I (Nuclear Energy Institute) – lobbyist group for nuclear energy indust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UCP (National Uniform Curriculum Program) – program sponsored by NEI to provide a national certificate of accreditation for QA/QC progr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NRC Technical Training Ce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ted in Chattanooga (off Marlin Road near the air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RC TTC Administration Offices are located on the second floor of a 6-story all glass exterior office build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ors are located on the first, second, third, and fourth flo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Next Tim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ASME Boiler and Pressure Vessel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RC Enforcement Poli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pecified in 10CFR2: Rules of Practice for Domestic Licensing Procedures and Issuance of Or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sures compliance with NRC regulations and licensee condi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s prompt correction of licensee weaknes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vides a deterrent to future non-compli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courages improvement of licensee performance – leads to enhanced degree of public health and safe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gnificance of Viol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Assessed based on the follow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ual safety consequ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4572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ch as actual release of radiation, damage to core,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tential safety consequ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4572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sed on risk fac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act on the regulatory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4572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ailure to report or keep accurate and timely recor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llful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4572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icates deliberate intent to violate or falsif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verity Level of Viol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Normally categorized in terms of four levels of severity to show their relative importance or signific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Severity Level I – most signific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vels I and II involve actual or high potential consequences on public health and saf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Severity Level IV – least signific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forcement A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The NRC Commission may issue 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n-Cited Viol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tice of Viol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ivil Penal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lated Administrative Action (such as a Demand for Informatio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Non-Cited Vio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issues of very low safety significan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cumented as violations in inspection reports to establish public records of the vio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cited in Notices of Violation which normally require written responses from licens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Notice of Vio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rved by the Commiss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May require licensee submit a written statement to address all alleged violations includ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sons for violation, or, if contested, basis for disputing the vio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rrective steps taken by licensee and results achiev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rrective steps which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il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e tak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e for full compli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Available for viewing on www.nrc.g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vil Penal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Civil penalties may be imposed for up to $140,000 per day for each vio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Actual fee based on severity level of vio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If a violation is on-going, each day of the violation constitutes a separate vio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2T17:57:16Z</dcterms:created>
  <dc:creator>Mark and Jacki Smith</dc:creator>
  <dc:description/>
  <dc:language>en-US</dc:language>
  <cp:lastModifiedBy>Peggy Hines IRSC</cp:lastModifiedBy>
  <dcterms:modified xsi:type="dcterms:W3CDTF">2013-02-14T14:49:00Z</dcterms:modified>
  <cp:revision>248</cp:revision>
  <dc:subject/>
  <dc:title>Statics and Strength of Materials</dc:title>
</cp:coreProperties>
</file>