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8119-62AB-4A9B-A57D-475B8FD23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DCFC-6B5B-4B97-9516-62D46B240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0649-2292-4BCA-ACAA-9A93CEF6F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tter you get at troubleshooting, the more intermittents you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C050-8BFC-4A26-BEB3-770BC15D6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inking sk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ky groun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ly everyone can troublesh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better than others, some faster, less random, more di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do it better than others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get your mind right before troubleshooting.  If you think you already know what the problem is, you’re not being syste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 versus Confi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too confident.  You can’t be too hu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good troubleshooting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, accurate &amp; consis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C679-CC0F-4DDE-942B-6F791DC9F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point selected using the ‘SEL’ button, controller in automatic using the A/M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275C-08F5-40E6-83C0-AD83EF8D8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put selected using the ‘SEL’ button, Controller in manual using the A/M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2C33-3AA2-4082-B593-3C79CB1BC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selected using the ‘SEL’ button, Controller in automatic using the A/M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B3C6-D5AF-4C9C-A98F-4614DC23A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and contrast systematic versus non-systematic troubleshooting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AD27-2FCC-405F-BC34-939159F9D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systematic methods and som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uitive or Experience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often by experienced people on problems they’ve seen before.  Can be quite reliable for recognized symptoms but is not syste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tgun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tgun Metap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's a fine line between replacing good parts to make repair more efficient, as opposed to replacing good parts because of incompe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-eg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obably won’t find all the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must be do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management driven or culture dr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6998-1852-494D-9881-83C8D9CFB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Ve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one end and verify every component and conn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conditions before and after problem, then determine what changed that may have caused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 Cause or Failur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used by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ner-Tregoe (KT) Analytical  Troubleshootin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® (AT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ed system for problem solving in any system, not just technical 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keting –or- Half Splitting –or- diagnosis by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ten used by techn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EFBA-CDFA-4318-8344-83D365EB2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be taught by Doug Doty (RI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BD21-7F73-490B-B595-B7C070092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bracket on a known good spot and another bracket on a known bad spot, then move the brackets keeping one on good an the other on bad until there is only one component between the br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split – each step splits the circuit in half. At each step you determine in which direction the problem 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and conqu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is by division – same as half spli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50F3-D87B-4204-AEAC-C2546D4D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54C4-102D-465C-B49F-5DA1BAD6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48351-73D2-4E31-8C8A-46F2CF02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79927-3FAF-4B47-87B9-5EA567A4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3D718-ECC9-4FC8-A56B-D41CA319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76FA3-60C4-47A3-AF31-D549220F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3AD6C-3AA2-4F02-AC73-1F0BED0B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D33EC-C608-4478-AC28-D9F4465B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FACCA-FCED-48E4-8ECA-01C124EB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6AC62-06B4-4659-A10A-CF46CAD9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6F9C0-85E2-4AB4-991D-02CECB3C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5E6C9-8BA5-4013-AAAD-05CF6865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FE6-BED8-4C40-BD14-47B1F00B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BEBDD-AC30-4D0A-87FE-376EB72C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F3346-E110-4B68-AAE2-70C80CBB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287E8-F731-41D1-9614-F7CE3504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6E396-4762-4EC4-829D-1638B519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32D5E-6E5C-4182-9FC8-9B75FF32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B5CA6-C32F-4A86-AC95-215330F4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7C1FF-4B7B-4891-BEC2-B23DBBF6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94AD6-9392-43D4-8150-55BAAD08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E6F5E-6720-4D07-BE42-3E14988E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C500B-9893-4BC5-BAEC-E808F679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D045-9DD2-497F-AAA9-6D8DD83E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3A3FC-EF16-4728-9A1A-84D63BB4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858D4-0642-4B3D-8AD6-367FDC6F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3086E-2370-4321-880F-21C5535A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820C2-74E1-4366-A166-A18FCAEA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2E7A5-D288-44F6-B13E-A908338D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C10F0-EFB1-4FC8-8316-6B92600D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92383-B629-4856-A774-8EC58128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A3288-2DAD-47F9-B73B-92767233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535A5-7A73-4951-A972-B6D4597F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AC12E-0102-4EA1-90CB-12E0CC00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C2CC-E33D-42BE-BC99-FD09AA1E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154E3-7CBA-4F2C-9A95-EB849CE0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B983E-6CD8-487C-8576-0424384E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26041-1664-4D8D-A05C-1D69F9B3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2B29D-26F3-47BE-B4E1-353C5927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533C0-CF5B-429D-BAA6-FECEB7C3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CEF1C-355B-497A-B50B-604BC15A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AEEF1-CA70-47FC-9F4E-CC63D2B2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8C460-459B-4AAD-A669-46FBC0AF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3E07C-3EDD-4ACB-8F8E-18A177D5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FABFC-99BD-4B87-8E49-19C87E85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4609-7DFA-4F88-BA27-A3347553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AB5E5-E542-48D2-83E2-9C73413D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CA8CE-C238-4708-BF34-C5D83713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8C442-9FC3-4BF3-AC4B-C696F26C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67D52-AE4E-4EED-9143-3C7C6994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41A7A-71E3-4FB4-A8ED-712BED4E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09BA4D-327F-4923-8A42-51DFF1E8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5074F6-2A3E-4BA7-BEF0-7B5DC731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3515C-44F8-4148-94FA-0C1203B4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A37CD-EFD9-4BE1-95AF-3AB86046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80F8A-2B9F-4EFF-8A24-F987989D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5E85-596F-4A93-93EC-FC3AACE0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C8375-5B3C-40B3-A324-4850875A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DEF38-C29F-4259-A381-1EB63EA4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6B606-06AF-469D-969B-7557027A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75303-273B-4F67-A43E-5843AB52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5C93F-3F99-4118-950A-7A2CB0B0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FE0DC-42BE-47DA-A54F-F858C17F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89BB6F-5CF0-47C6-A607-862E6C4D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835016-23EB-4582-AF1B-465D9665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2425A1-3C58-4C0B-AB53-E5202C48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10BEB-2378-4057-B11E-437105E7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B079-02E4-4C05-9CAB-CE0CE443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034650-0DD2-4C25-8807-217577B6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30AB6C-96E2-4C09-AE1E-83FFA981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F85C17-1C91-4EB6-8DCD-28E37933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DBB57-B0B8-48B0-9B72-2CECDF55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81E915-C534-4CE5-86EB-FA29B090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E46B5E-6382-4D24-8251-8C221CC9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2D80BC-5E9B-4790-8B98-0543AA62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76C20B-3C7C-45D2-8871-1ED1B443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986AD-2E5D-47CB-9600-28DACFC4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1ABE-B693-4D99-8318-88E00E76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0F2B-8FCA-46A5-8A48-FF77FA4B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9029-915C-4607-83CF-04608ECE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9D0-AF34-4CBE-8F63-0998F6CC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7B8D-FC39-407F-A4B7-FFD844D4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9C49-E23A-4C8A-8988-C9A19D28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A077-1315-4BD1-91D0-E69E7410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C266-A2EB-42E6-B81C-AC3B29B4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94ED-52E2-413C-8ED5-098F307D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7C5D7-5E2A-40AA-99D8-D5222F84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4BD39-EC55-4BDE-B66C-9786BC6F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9568B-0A80-4812-91F9-9B8D1306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6AB79-F0FF-46E2-BB75-80A879B0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A77E8-8F50-474F-87C8-CD0FFD46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A6A-AACF-4D1B-8B35-5B8E8FD7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89ADA-8251-42A6-93DF-FBC485D3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D8864-1ACD-4374-8AE5-4D0211C3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5CE62-31C2-47B9-9292-F112656F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203AA-54E0-4FC7-923D-10C45637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D9DAB-315F-41A0-8C09-119482DA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24C42-3F74-44D1-B29B-B10B2047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A8F1D-55F7-417D-8C56-27093FFD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B6B2E-49A6-4418-8D3E-0F1E576B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BDA5B-8FD8-46C2-9A96-63F003C6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8CBE6-D998-42CF-9C96-CD7062DC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6CA-296D-4D53-B444-65F2625D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573FC-7888-44D4-8187-5DF9629D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C9CFC-6591-46AB-A90A-1AC3E590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7EAF9-A833-46CE-9AD1-DB502520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ED666-5FDE-4B32-94C8-FD34F8DD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C3198-F83E-43B8-8BED-89DB06D0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00FA5-F605-483C-B36D-B1D2BD7F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B4874-FC2B-494A-B7EA-6BB59258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85CFD-2814-43B6-8C3B-E40D59B2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7244A-0CF4-4872-B52A-B13F9FEA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C434B-9790-4204-875B-65B1EB7C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FD54-5CE4-47BD-A616-B02C2908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EFBF2-02CE-411F-A1B8-0EB71C47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D0DDC-3966-49F8-BEA3-89855BDE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50E6A-0BE4-42FB-8197-C471AE1A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B3238-1B66-4156-A4BD-70600A61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4B8CC-0900-4EC6-BF67-41B93C09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3A03D-6F55-4381-95B4-FFCB58E3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CDFE7-AD8D-4416-8987-53FFA509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02508-DBD4-4DF1-900E-DDF3A8FA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AA842-102D-4BC3-9D3E-8D38FE9C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38F12-9716-464E-BCB0-F488FCCB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3A0F-2E25-4CA1-A529-E2BDA616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97E15-E888-4F41-8651-6427C603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27F09-119A-4C25-83F9-454DB21A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BADBF-0AC2-492D-99D9-A623BCF2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A093C-50B7-4D70-AB8D-6B967F96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DF393-3BCB-4F70-9C8F-BE4835DA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6C058-CD35-4BBB-B043-80CBAAA5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2CDB1-0056-47E7-9D01-6A8E364C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22D05-64AA-4F4B-8AB9-4994B0CB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BE83D-FE6E-457C-9601-AABDDF63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B6F7E-A63B-441C-A8D8-8B78D717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3D3-E61A-4C2F-B753-DAE78156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DAF51-45F6-4D21-A82B-ACFFE1BA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A3792-CEBC-4E01-ACCE-3B55EBFE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016E4-911C-4238-807A-B4D1B129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EF4CF-5605-4FC5-8258-66AA7377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11F28-BB48-417D-8EB6-DE0206AA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7BE73-B1D8-478B-A488-5FA77A09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3F797-8574-4ADB-B087-C6F62013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2E975-81CA-4662-9A02-6AF24554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BA399-9C07-4C82-946B-49B69956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140BE-76C2-481A-A131-B6C6865F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474E-27FD-495B-B38F-F8D3088D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97459-128E-472F-800F-4FF6E696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FAC1E-B071-4972-98AA-AB4D9F90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6B3E2-A23A-4821-8AA0-FBC13512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32D76-C42D-4EC5-A447-A96014B0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2A38F-5BA6-4DD9-A754-E14983ED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93A0A-CB12-43F0-B84B-C633337E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EDB0E-9456-446D-980D-4A1ECFB8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B17ED-02B2-4B33-AFCA-2F9C58F7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7D52B-043D-4CD4-AA9C-B89D45A0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B1D5F-670F-47F8-B49A-11649036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3AB1-68CF-4857-AB1E-91007712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6EB32-AD95-458F-BEBA-9A8AFAA2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620E6-EE0E-4EC6-B2AE-A1D12A15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01D07-53F3-45BC-A71F-DDADC349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BEA0B-3687-4B85-AC9D-4394D497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6C22C-27F9-4032-8283-F817ECCA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9D976-AEDB-4A09-9A95-3A19A675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F74D4-09C9-4E12-8C33-F77F37FB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B179A-FCC6-4F34-B9E2-730F8275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B0065-C0B5-443B-AD0F-F76516A8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CA587-DC49-4824-83BF-A7BBE2BC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AE4A-C571-4462-B0EE-CFE0915F65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F3B5-BD63-4830-BC1E-75B37A6585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D219-F674-4F6F-BEA1-AB0BFA47A5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E22C-794C-46BD-B208-ED6E7C3AA3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1F2E-1776-4A34-BD01-6ED65E75EF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E563-5D85-464B-A969-240C84A8BD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54A8-5089-490A-A8BE-E1728E668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008E-B31B-4BCF-BDD5-D8B1229028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E959-1809-44D7-8285-229FF65F8B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3E68-4AE5-4764-89EE-15A5F43DF6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1537-2B10-4881-90E3-9530878DCF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8AF5-58B8-4471-986F-BF2F9CB26D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8E55-EF69-4AD2-A147-DD7AE96EF4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CF2A-734A-4996-8401-61A5B2FFC9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lf-splitting, bracketing, change analysis, end-to-end, linear, Kepner-Tregoe, failure analysis, intuitive, correlation, intermitt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084320"/>
                <a:gridCol w="1082520"/>
                <a:gridCol w="1084320"/>
                <a:gridCol w="1082520"/>
                <a:gridCol w="1084320"/>
                <a:gridCol w="10828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.2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00200" y="317520"/>
            <a:ext cx="77580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Determine Sympto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85800" y="1600200"/>
            <a:ext cx="7772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must know what is happening before you can determine why it’s happe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sed on observation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quires some knowledge of how the equipment normally wor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rmal system manipulation may be requ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arisons between good and bad channels may be valu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ry attempt should be made to determine the nature of the fault through passive me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Localize to a functional 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ystem drawings, functional block diagrams, big picture information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symp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equipment not used at this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reasoning; which functional blocks could be causing the probl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minates functional units from consid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Isolate to a local circu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prints, schematics, tech manual and more detailed technical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est equipment extensively to determine inputs and outpu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normal system manipulations may be n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Locate Specific Trou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prints, schematics, tech manual and the most detailed technical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est equipment extensively to isolate down to the compon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detailed knowledge of system internal operation, circuit operation, signal tra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quently done in the rework fac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racteristics of good troubleshoo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’t panic.  Don’t freak o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ep track of what you have chec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 at one place, deal with one symptom, then move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oid random checks.  Be purposef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fore making a check, say out loud what you expect to find if the system were work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ce you check something, say out loud what the deviation was between what you saw and what you expe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stand what usually causes 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man err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configu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nent fail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mittent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295280" y="1599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roblems that are not reliably reproduc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Rectangle 4"/>
          <p:cNvSpPr/>
          <p:nvPr/>
        </p:nvSpPr>
        <p:spPr>
          <a:xfrm>
            <a:off x="0" y="2529000"/>
            <a:ext cx="9144000" cy="76176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WordArt 5"/>
          <p:cNvSpPr txBox="1"/>
          <p:nvPr/>
        </p:nvSpPr>
        <p:spPr>
          <a:xfrm rot="17755200">
            <a:off x="-657000" y="4190760"/>
            <a:ext cx="265284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ingle occurr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52" name="WordArt 6"/>
          <p:cNvSpPr txBox="1"/>
          <p:nvPr/>
        </p:nvSpPr>
        <p:spPr>
          <a:xfrm rot="17755200">
            <a:off x="1095120" y="4176000"/>
            <a:ext cx="2652840" cy="8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y infrequent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53" name="WordArt 7"/>
          <p:cNvSpPr txBox="1"/>
          <p:nvPr/>
        </p:nvSpPr>
        <p:spPr>
          <a:xfrm rot="17755200">
            <a:off x="3076560" y="4252680"/>
            <a:ext cx="265284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ccurs occasional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54" name="WordArt 8"/>
          <p:cNvSpPr txBox="1"/>
          <p:nvPr/>
        </p:nvSpPr>
        <p:spPr>
          <a:xfrm rot="17755200">
            <a:off x="5209920" y="4252320"/>
            <a:ext cx="2652840" cy="8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ccurs frequent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55" name="WordArt 9"/>
          <p:cNvSpPr txBox="1"/>
          <p:nvPr/>
        </p:nvSpPr>
        <p:spPr>
          <a:xfrm rot="17755200">
            <a:off x="7072200" y="4252680"/>
            <a:ext cx="265284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produc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rategies for dealing with intermittent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gnore it until it becomes reproduc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cal analysis – look for corre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ph ERFDADS historical tre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ve maintenance / general maint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tgun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rn the intermittent into a reproducable problem (Break the most likely thing, then replace 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 - Wait 30 days then send it back to I&amp;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time it rains we get ground alarm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time we start ‘E’ charging pump, indication on source range ‘C’ goes away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WordArt 5"/>
          <p:cNvSpPr txBox="1"/>
          <p:nvPr/>
        </p:nvSpPr>
        <p:spPr>
          <a:xfrm rot="17755200">
            <a:off x="-618840" y="4168080"/>
            <a:ext cx="26478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rrelated o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62" name="WordArt 6"/>
          <p:cNvSpPr txBox="1"/>
          <p:nvPr/>
        </p:nvSpPr>
        <p:spPr>
          <a:xfrm rot="17755200">
            <a:off x="4524120" y="4237920"/>
            <a:ext cx="2652840" cy="8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rrelates occasional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63" name="WordArt 7"/>
          <p:cNvSpPr txBox="1"/>
          <p:nvPr/>
        </p:nvSpPr>
        <p:spPr>
          <a:xfrm rot="17755200">
            <a:off x="1890720" y="4238280"/>
            <a:ext cx="265284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rrelates sporadical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64" name="WordArt 8"/>
          <p:cNvSpPr txBox="1"/>
          <p:nvPr/>
        </p:nvSpPr>
        <p:spPr>
          <a:xfrm rot="17755200">
            <a:off x="7224480" y="4176000"/>
            <a:ext cx="2652840" cy="8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rrelates reliab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lation is not cau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nce is not a trend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wice is not  al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ubleshooting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382680" y="2284560"/>
            <a:ext cx="1755720" cy="15271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abul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2895480" y="2286000"/>
            <a:ext cx="1755720" cy="15271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lateral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rac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6626160" y="2286000"/>
            <a:ext cx="1755720" cy="15271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cop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zel va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3505320" y="4645080"/>
            <a:ext cx="1755720" cy="15271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e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7"/>
          <p:cNvSpPr/>
          <p:nvPr/>
        </p:nvSpPr>
        <p:spPr>
          <a:xfrm>
            <a:off x="6629400" y="4648320"/>
            <a:ext cx="1755720" cy="15271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rdlesp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8"/>
          <p:cNvSpPr/>
          <p:nvPr/>
        </p:nvSpPr>
        <p:spPr>
          <a:xfrm>
            <a:off x="2133720" y="3048120"/>
            <a:ext cx="761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9"/>
          <p:cNvSpPr/>
          <p:nvPr/>
        </p:nvSpPr>
        <p:spPr>
          <a:xfrm>
            <a:off x="4648320" y="3048120"/>
            <a:ext cx="19810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5" name="AutoShape 10"/>
          <p:cNvCxnSpPr>
            <a:stCxn id="674" idx="0"/>
            <a:endCxn id="671" idx="0"/>
          </p:cNvCxnSpPr>
          <p:nvPr/>
        </p:nvCxnSpPr>
        <p:spPr>
          <a:xfrm rot="5400000">
            <a:off x="3716280" y="3705840"/>
            <a:ext cx="1597680" cy="266040"/>
          </a:xfrm>
          <a:prstGeom prst="bentConnector3">
            <a:avLst>
              <a:gd name="adj1" fmla="val 86973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6" name="Line 11"/>
          <p:cNvSpPr/>
          <p:nvPr/>
        </p:nvSpPr>
        <p:spPr>
          <a:xfrm>
            <a:off x="5257800" y="5410080"/>
            <a:ext cx="13716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ematic Troubleshoo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inking sk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arly everyone can troublesh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do it better than others. 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al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ility versus Confide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good troubleshooting look li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ick, accurate &amp; consis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xboro 743CB Digital Control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tangle 3"/>
          <p:cNvSpPr/>
          <p:nvPr/>
        </p:nvSpPr>
        <p:spPr>
          <a:xfrm rot="16200000">
            <a:off x="-676080" y="2124000"/>
            <a:ext cx="5410080" cy="405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3962520" y="2209680"/>
            <a:ext cx="5181480" cy="3886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3693960" cy="41148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3" descr=""/>
          <p:cNvPicPr/>
          <p:nvPr/>
        </p:nvPicPr>
        <p:blipFill>
          <a:blip r:embed="rId2"/>
          <a:stretch/>
        </p:blipFill>
        <p:spPr>
          <a:xfrm>
            <a:off x="3581280" y="615960"/>
            <a:ext cx="55627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990720" y="55440"/>
            <a:ext cx="739116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xboro 743CB Digital Control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: 4-20ma, 1-5VDC, 1-9999 Hz pulses, or contact inp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: 4-20ma, 1-5VDC or contact 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s can be condition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quared or square root, characterized including for thermocouple, RTD, or lag filt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ler can be set up for PID, EXACT auto-tuning, cascade, batch control, alarms, remote or local setpoint, totalizing and dynamic compen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AutoShape 2"/>
          <p:cNvSpPr/>
          <p:nvPr/>
        </p:nvSpPr>
        <p:spPr>
          <a:xfrm>
            <a:off x="1066680" y="457200"/>
            <a:ext cx="1752840" cy="4572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3"/>
          <p:cNvSpPr/>
          <p:nvPr/>
        </p:nvSpPr>
        <p:spPr>
          <a:xfrm>
            <a:off x="685800" y="1143000"/>
            <a:ext cx="2514600" cy="12193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bro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4"/>
          <p:cNvSpPr/>
          <p:nvPr/>
        </p:nvSpPr>
        <p:spPr>
          <a:xfrm>
            <a:off x="6210360" y="4343400"/>
            <a:ext cx="2514600" cy="11430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you bl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5"/>
          <p:cNvSpPr/>
          <p:nvPr/>
        </p:nvSpPr>
        <p:spPr>
          <a:xfrm>
            <a:off x="3619440" y="2705040"/>
            <a:ext cx="2133720" cy="12193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any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6"/>
          <p:cNvSpPr/>
          <p:nvPr/>
        </p:nvSpPr>
        <p:spPr>
          <a:xfrm>
            <a:off x="3581280" y="1143000"/>
            <a:ext cx="2210040" cy="12193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d you m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7"/>
          <p:cNvSpPr/>
          <p:nvPr/>
        </p:nvSpPr>
        <p:spPr>
          <a:xfrm>
            <a:off x="6705720" y="1486080"/>
            <a:ext cx="1752480" cy="5331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or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8"/>
          <p:cNvSpPr/>
          <p:nvPr/>
        </p:nvSpPr>
        <p:spPr>
          <a:xfrm>
            <a:off x="6781680" y="3048120"/>
            <a:ext cx="1371600" cy="5331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k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9"/>
          <p:cNvSpPr/>
          <p:nvPr/>
        </p:nvSpPr>
        <p:spPr>
          <a:xfrm>
            <a:off x="4076640" y="4572000"/>
            <a:ext cx="1219320" cy="3808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d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10"/>
          <p:cNvSpPr/>
          <p:nvPr/>
        </p:nvSpPr>
        <p:spPr>
          <a:xfrm>
            <a:off x="1066680" y="5715000"/>
            <a:ext cx="1752840" cy="5335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1"/>
          <p:cNvSpPr/>
          <p:nvPr/>
        </p:nvSpPr>
        <p:spPr>
          <a:xfrm>
            <a:off x="1066680" y="3352680"/>
            <a:ext cx="1752840" cy="5335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m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12"/>
          <p:cNvSpPr/>
          <p:nvPr/>
        </p:nvSpPr>
        <p:spPr>
          <a:xfrm>
            <a:off x="4572000" y="5410080"/>
            <a:ext cx="1295280" cy="38124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d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AutoShape 13"/>
          <p:cNvCxnSpPr>
            <a:stCxn id="590" idx="2"/>
            <a:endCxn id="591" idx="0"/>
          </p:cNvCxnSpPr>
          <p:nvPr/>
        </p:nvCxnSpPr>
        <p:spPr>
          <a:xfrm>
            <a:off x="1942920" y="914040"/>
            <a:ext cx="1080" cy="22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AutoShape 14"/>
          <p:cNvCxnSpPr>
            <a:stCxn id="591" idx="3"/>
            <a:endCxn id="594" idx="1"/>
          </p:cNvCxnSpPr>
          <p:nvPr/>
        </p:nvCxnSpPr>
        <p:spPr>
          <a:xfrm>
            <a:off x="3200400" y="1752120"/>
            <a:ext cx="381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3" name="AutoShape 15"/>
          <p:cNvCxnSpPr>
            <a:stCxn id="594" idx="3"/>
            <a:endCxn id="595" idx="1"/>
          </p:cNvCxnSpPr>
          <p:nvPr/>
        </p:nvCxnSpPr>
        <p:spPr>
          <a:xfrm>
            <a:off x="5791320" y="1752120"/>
            <a:ext cx="9151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4" name="AutoShape 16"/>
          <p:cNvCxnSpPr>
            <a:stCxn id="591" idx="2"/>
            <a:endCxn id="599" idx="0"/>
          </p:cNvCxnSpPr>
          <p:nvPr/>
        </p:nvCxnSpPr>
        <p:spPr>
          <a:xfrm>
            <a:off x="1942920" y="2361960"/>
            <a:ext cx="1080" cy="99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5" name="AutoShape 17"/>
          <p:cNvSpPr/>
          <p:nvPr/>
        </p:nvSpPr>
        <p:spPr>
          <a:xfrm>
            <a:off x="1066680" y="4800600"/>
            <a:ext cx="1752840" cy="5335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8"/>
          <p:cNvSpPr/>
          <p:nvPr/>
        </p:nvSpPr>
        <p:spPr>
          <a:xfrm>
            <a:off x="1828800" y="2286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9"/>
          <p:cNvSpPr/>
          <p:nvPr/>
        </p:nvSpPr>
        <p:spPr>
          <a:xfrm>
            <a:off x="4572000" y="42418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0"/>
          <p:cNvSpPr/>
          <p:nvPr/>
        </p:nvSpPr>
        <p:spPr>
          <a:xfrm>
            <a:off x="2895480" y="14479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1"/>
          <p:cNvSpPr/>
          <p:nvPr/>
        </p:nvSpPr>
        <p:spPr>
          <a:xfrm>
            <a:off x="5638680" y="14479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AutoShape 22"/>
          <p:cNvCxnSpPr>
            <a:stCxn id="594" idx="2"/>
            <a:endCxn id="593" idx="0"/>
          </p:cNvCxnSpPr>
          <p:nvPr/>
        </p:nvCxnSpPr>
        <p:spPr>
          <a:xfrm>
            <a:off x="4686120" y="2362320"/>
            <a:ext cx="1080" cy="343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1" name="AutoShape 23"/>
          <p:cNvCxnSpPr>
            <a:stCxn id="593" idx="2"/>
            <a:endCxn id="597" idx="0"/>
          </p:cNvCxnSpPr>
          <p:nvPr/>
        </p:nvCxnSpPr>
        <p:spPr>
          <a:xfrm>
            <a:off x="4686120" y="3924000"/>
            <a:ext cx="1080" cy="648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2" name="AutoShape 24"/>
          <p:cNvCxnSpPr>
            <a:stCxn id="593" idx="3"/>
            <a:endCxn id="596" idx="1"/>
          </p:cNvCxnSpPr>
          <p:nvPr/>
        </p:nvCxnSpPr>
        <p:spPr>
          <a:xfrm>
            <a:off x="5752800" y="3314520"/>
            <a:ext cx="1028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3" name="Text Box 25"/>
          <p:cNvSpPr/>
          <p:nvPr/>
        </p:nvSpPr>
        <p:spPr>
          <a:xfrm>
            <a:off x="4280040" y="22352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6"/>
          <p:cNvSpPr/>
          <p:nvPr/>
        </p:nvSpPr>
        <p:spPr>
          <a:xfrm>
            <a:off x="5562720" y="3048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AutoShape 27"/>
          <p:cNvCxnSpPr>
            <a:stCxn id="597" idx="2"/>
            <a:endCxn id="605" idx="3"/>
          </p:cNvCxnSpPr>
          <p:nvPr/>
        </p:nvCxnSpPr>
        <p:spPr>
          <a:xfrm rot="5400000">
            <a:off x="3695040" y="4076640"/>
            <a:ext cx="115200" cy="18676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6" name="AutoShape 28"/>
          <p:cNvCxnSpPr>
            <a:stCxn id="605" idx="2"/>
            <a:endCxn id="598" idx="0"/>
          </p:cNvCxnSpPr>
          <p:nvPr/>
        </p:nvCxnSpPr>
        <p:spPr>
          <a:xfrm>
            <a:off x="1942920" y="5334120"/>
            <a:ext cx="108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7" name="AutoShape 29"/>
          <p:cNvCxnSpPr>
            <a:stCxn id="599" idx="2"/>
            <a:endCxn id="605" idx="0"/>
          </p:cNvCxnSpPr>
          <p:nvPr/>
        </p:nvCxnSpPr>
        <p:spPr>
          <a:xfrm>
            <a:off x="1942920" y="3886200"/>
            <a:ext cx="108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8" name="AutoShape 30"/>
          <p:cNvCxnSpPr>
            <a:stCxn id="596" idx="2"/>
            <a:endCxn id="592" idx="0"/>
          </p:cNvCxnSpPr>
          <p:nvPr/>
        </p:nvCxnSpPr>
        <p:spPr>
          <a:xfrm>
            <a:off x="7467120" y="3580920"/>
            <a:ext cx="108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9" name="AutoShape 31"/>
          <p:cNvCxnSpPr>
            <a:stCxn id="592" idx="1"/>
            <a:endCxn id="600" idx="3"/>
          </p:cNvCxnSpPr>
          <p:nvPr/>
        </p:nvCxnSpPr>
        <p:spPr>
          <a:xfrm flipV="1" rot="10800000">
            <a:off x="5866560" y="4914000"/>
            <a:ext cx="343800" cy="686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0" name="AutoShape 32"/>
          <p:cNvCxnSpPr>
            <a:stCxn id="600" idx="1"/>
            <a:endCxn id="605" idx="3"/>
          </p:cNvCxnSpPr>
          <p:nvPr/>
        </p:nvCxnSpPr>
        <p:spPr>
          <a:xfrm rot="10800000">
            <a:off x="2818800" y="5066640"/>
            <a:ext cx="1753200" cy="534240"/>
          </a:xfrm>
          <a:prstGeom prst="bentConnector3">
            <a:avLst>
              <a:gd name="adj1" fmla="val 7036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1" name="Text Box 33"/>
          <p:cNvSpPr/>
          <p:nvPr/>
        </p:nvSpPr>
        <p:spPr>
          <a:xfrm>
            <a:off x="5715000" y="4648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2" name="AutoShape 34"/>
          <p:cNvCxnSpPr>
            <a:stCxn id="592" idx="3"/>
            <a:endCxn id="596" idx="3"/>
          </p:cNvCxnSpPr>
          <p:nvPr/>
        </p:nvCxnSpPr>
        <p:spPr>
          <a:xfrm flipH="1" flipV="1">
            <a:off x="8152920" y="3314160"/>
            <a:ext cx="572400" cy="1600920"/>
          </a:xfrm>
          <a:prstGeom prst="bentConnector3">
            <a:avLst>
              <a:gd name="adj1" fmla="val -3996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AutoShape 35"/>
          <p:cNvCxnSpPr>
            <a:stCxn id="595" idx="2"/>
            <a:endCxn id="593" idx="0"/>
          </p:cNvCxnSpPr>
          <p:nvPr/>
        </p:nvCxnSpPr>
        <p:spPr>
          <a:xfrm rot="5400000">
            <a:off x="5790600" y="914040"/>
            <a:ext cx="686520" cy="2896200"/>
          </a:xfrm>
          <a:prstGeom prst="bentConnector3">
            <a:avLst>
              <a:gd name="adj1" fmla="val 7518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4" name="Text Box 36"/>
          <p:cNvSpPr/>
          <p:nvPr/>
        </p:nvSpPr>
        <p:spPr>
          <a:xfrm>
            <a:off x="8483760" y="461016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ubleshooting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ystematic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lf-spl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-to-end or lin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pner-Tregoe (K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ilure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419720" y="1600200"/>
            <a:ext cx="441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on-Systematic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uitiv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tgun troubleshoo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ter eg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n-Systematic Troubleshooting metho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tuitive or Experience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know what’s wrong!  I’ve seen this befor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tgun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bitrarily replacing all replaceable components within a system in no logical seq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ter-eg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ing unrelated components more or less at random in hopes that a malfunction will go a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hing must be don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blem no longer exists, but we must document that we fixed somet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stematic Troubleshooting Metho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 Verification -or- end to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ot Cause or Failure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pner-Tregoe (KT) Analytical  Troubleshoot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® (A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cketing –or- Half Splitting –or- diagnosis by di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pner-Tregoe (KT) Analytical  Troubleshooting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® (AT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 what the problem i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be the problem in detai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 possible cause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possible cause against the problem descriptio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ify the most probable caus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 a fix, and fin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other places that may need the same fi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racketing, Half splitting, or Diagnosis by div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uitive diagnosis by division often results in circular troubleshooting and skipped steps, both of which decrease effective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is by division works only when the Troubleshooter keeps track of what he's ruled out and what he hasn'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 Steps of Systematic Troubleshoo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the symp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ize to a functional 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late to a circu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 specific trou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23:24:19Z</dcterms:created>
  <dc:creator>z00433</dc:creator>
  <dc:description/>
  <dc:language>en-US</dc:language>
  <cp:lastModifiedBy>Peggy Hines IRSC</cp:lastModifiedBy>
  <dcterms:modified xsi:type="dcterms:W3CDTF">2013-03-04T18:20:08Z</dcterms:modified>
  <cp:revision>8</cp:revision>
  <dc:subject/>
  <dc:title>Systematic Troubleshooting</dc:title>
</cp:coreProperties>
</file>