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9771-2CB0-4156-9204-00EA59A750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1DA8-0BA9-4E43-A851-47A6C0617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37D8-434A-43B1-BA41-846B9789D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17BA-A07E-4AF7-B20D-91AEB53D4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F666-F708-48A1-A2D2-4316FFD61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0ADD-0A09-4F9E-8B16-7110381E6B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7240"/>
            <a:ext cx="4572000" cy="3429000"/>
          </a:xfrm>
          <a:prstGeom prst="rect">
            <a:avLst/>
          </a:prstGeom>
          <a:ln w="0">
            <a:noFill/>
          </a:ln>
        </p:spPr>
      </p:sp>
      <p:sp>
        <p:nvSpPr>
          <p:cNvPr id="34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6566-6930-47D2-9919-72AC3637E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F373-A0AD-4B43-9434-DB1631276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24DB-B08D-4FD5-8E19-40D2F7E22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BC68-1F82-43A8-88FF-B74A9CB929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7240"/>
            <a:ext cx="4572000" cy="3429000"/>
          </a:xfrm>
          <a:prstGeom prst="rect">
            <a:avLst/>
          </a:prstGeom>
          <a:ln w="0">
            <a:noFill/>
          </a:ln>
        </p:spPr>
      </p:sp>
      <p:sp>
        <p:nvSpPr>
          <p:cNvPr id="35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EFED-B583-49D5-9D02-4472FD1C3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7563-94C0-4EDD-8B72-415AD457D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95B7-413E-4541-8044-354FF99A7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7FA7-1404-429D-B165-574C7E3B68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7240"/>
            <a:ext cx="4572000" cy="3429000"/>
          </a:xfrm>
          <a:prstGeom prst="rect">
            <a:avLst/>
          </a:prstGeom>
          <a:ln w="0">
            <a:noFill/>
          </a:ln>
        </p:spPr>
      </p:sp>
      <p:sp>
        <p:nvSpPr>
          <p:cNvPr id="36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8F33-AD76-43FD-A9F2-A22433211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A13B-E07B-4292-BE4E-2EDFA1DA2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7901-0D26-4A35-BA22-F49D1C8B6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66E9-746B-4C3C-8F74-720689546C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7240"/>
            <a:ext cx="4572000" cy="3429000"/>
          </a:xfrm>
          <a:prstGeom prst="rect">
            <a:avLst/>
          </a:prstGeom>
          <a:ln w="0">
            <a:noFill/>
          </a:ln>
        </p:spPr>
      </p:sp>
      <p:sp>
        <p:nvSpPr>
          <p:cNvPr id="36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6E8C-C058-4329-BEDA-8DBDBD6E8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58CC-95B1-4CC4-845A-6780D4BEF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B8EA-5584-4A66-ABD3-94B3C61E3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A391-C0A2-4E23-812C-D5AA0CE87B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7240"/>
            <a:ext cx="4572000" cy="3429000"/>
          </a:xfrm>
          <a:prstGeom prst="rect">
            <a:avLst/>
          </a:prstGeom>
          <a:ln w="0">
            <a:noFill/>
          </a:ln>
        </p:spPr>
      </p:sp>
      <p:sp>
        <p:nvSpPr>
          <p:cNvPr id="37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84B1-6496-4CBE-87D4-52E552E57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A34A-F73D-43DF-BA2F-6216CB260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4739-309F-40B4-87FC-1B805F0C4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2725-C886-49EB-AC96-68526C2467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7240"/>
            <a:ext cx="4572000" cy="3429000"/>
          </a:xfrm>
          <a:prstGeom prst="rect">
            <a:avLst/>
          </a:prstGeom>
          <a:ln w="0">
            <a:noFill/>
          </a:ln>
        </p:spPr>
      </p:sp>
      <p:sp>
        <p:nvSpPr>
          <p:cNvPr id="37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665F-E96F-4639-9EE5-944D09DFC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841D-D7B1-4F64-AE63-DF8A36E7C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0FFB-A8A8-463D-8630-CA2232F9C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0BA3-2931-4CE0-B1E1-4852BCF386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7240"/>
            <a:ext cx="4572000" cy="3429000"/>
          </a:xfrm>
          <a:prstGeom prst="rect">
            <a:avLst/>
          </a:prstGeom>
          <a:ln w="0">
            <a:noFill/>
          </a:ln>
        </p:spPr>
      </p:sp>
      <p:sp>
        <p:nvSpPr>
          <p:cNvPr id="38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3D3E-84D6-4C9E-BD3B-25A16986C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207C-7DEE-4024-ADEF-B858B14C1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6861-8431-46E1-9B15-D9493F00A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D573-53FD-4418-8560-482512C592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7240"/>
            <a:ext cx="4572000" cy="3429000"/>
          </a:xfrm>
          <a:prstGeom prst="rect">
            <a:avLst/>
          </a:prstGeom>
          <a:ln w="0">
            <a:noFill/>
          </a:ln>
        </p:spPr>
      </p:sp>
      <p:sp>
        <p:nvSpPr>
          <p:cNvPr id="39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1DB8-F8E6-4BE0-981A-905044984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972B-3E8B-4B2A-9317-47F43968E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A9B4-3544-4889-A94E-1B41C5465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E84C-0BAE-456B-9A47-FC1C8D9588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7240"/>
            <a:ext cx="4572000" cy="3429000"/>
          </a:xfrm>
          <a:prstGeom prst="rect">
            <a:avLst/>
          </a:prstGeom>
          <a:ln w="0">
            <a:noFill/>
          </a:ln>
        </p:spPr>
      </p:sp>
      <p:sp>
        <p:nvSpPr>
          <p:cNvPr id="39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4EC3-509D-4E66-8925-A214654C8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BC08-5B71-4089-ACE0-8ADAF8B8C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AC18-0798-473C-BFCD-809F300C8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4C44-9584-498F-8ECD-2D4C24B7E5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7240"/>
            <a:ext cx="4572000" cy="3429000"/>
          </a:xfrm>
          <a:prstGeom prst="rect">
            <a:avLst/>
          </a:prstGeom>
          <a:ln w="0">
            <a:noFill/>
          </a:ln>
        </p:spPr>
      </p:sp>
      <p:sp>
        <p:nvSpPr>
          <p:cNvPr id="40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3F94-95AB-4B7A-9BAF-1632B048F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D539-5DCD-4E83-8B30-ED3D187DB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D529-6851-41A7-A760-26ED067A8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FD09-2251-4580-AD02-9BA3933F46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7240"/>
            <a:ext cx="4572000" cy="3429000"/>
          </a:xfrm>
          <a:prstGeom prst="rect">
            <a:avLst/>
          </a:prstGeom>
          <a:ln w="0">
            <a:noFill/>
          </a:ln>
        </p:spPr>
      </p:sp>
      <p:sp>
        <p:nvSpPr>
          <p:cNvPr id="30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72E7-9D59-4410-8354-AE7EC2F16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57D5-8025-497C-8345-F7799C0A0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EE69-A40C-47FE-ADE2-A09BA974A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D5BA-9320-4FDE-AC9E-BDD6507A9C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7240"/>
            <a:ext cx="4572000" cy="3429000"/>
          </a:xfrm>
          <a:prstGeom prst="rect">
            <a:avLst/>
          </a:prstGeom>
          <a:ln w="0">
            <a:noFill/>
          </a:ln>
        </p:spPr>
      </p:sp>
      <p:sp>
        <p:nvSpPr>
          <p:cNvPr id="40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7E04-F84F-42C2-8226-0F97A6BA8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5174-E740-4B26-8DD7-8E3BE1B78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A9B3-C1DC-43C7-B5E4-9BA211339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759B-EE64-4445-8E6A-73BF0DBF90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7240"/>
            <a:ext cx="4572000" cy="3429000"/>
          </a:xfrm>
          <a:prstGeom prst="rect">
            <a:avLst/>
          </a:prstGeom>
          <a:ln w="0">
            <a:noFill/>
          </a:ln>
        </p:spPr>
      </p:sp>
      <p:sp>
        <p:nvSpPr>
          <p:cNvPr id="41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F877-51AE-4FD3-980A-2EE7F3EDD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5C39-55CA-414F-BA4F-E9E6E3212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1B15-4A05-4660-A747-118A7F4E7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BC91-C4A3-4790-8E2F-DA5B192428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7240"/>
            <a:ext cx="4572000" cy="3429000"/>
          </a:xfrm>
          <a:prstGeom prst="rect">
            <a:avLst/>
          </a:prstGeom>
          <a:ln w="0">
            <a:noFill/>
          </a:ln>
        </p:spPr>
      </p:sp>
      <p:sp>
        <p:nvSpPr>
          <p:cNvPr id="42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77F7-2094-44D8-AC97-F810EF7F8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A7BA-19CA-4946-9831-B6EAE746F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DBAC-BB79-4520-9E9F-484DCA1A8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AA9B-C977-4BA0-B6BC-D4A63FE4F5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7240"/>
            <a:ext cx="4572000" cy="3429000"/>
          </a:xfrm>
          <a:prstGeom prst="rect">
            <a:avLst/>
          </a:prstGeom>
          <a:ln w="0">
            <a:noFill/>
          </a:ln>
        </p:spPr>
      </p:sp>
      <p:sp>
        <p:nvSpPr>
          <p:cNvPr id="30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DAD2-B21D-40C4-AA7A-C7CD007D9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807A-D922-4DC8-8451-D1140C28A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C8A1-EFB4-474D-A40E-8A186FE59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06F7-849E-4BCE-9C59-851E519A35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7240"/>
            <a:ext cx="4572000" cy="3429000"/>
          </a:xfrm>
          <a:prstGeom prst="rect">
            <a:avLst/>
          </a:prstGeom>
          <a:ln w="0">
            <a:noFill/>
          </a:ln>
        </p:spPr>
      </p:sp>
      <p:sp>
        <p:nvSpPr>
          <p:cNvPr id="31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D81B-CADD-4BBF-9537-B54499926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58FF-4DFB-499B-BBEB-119C05D54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A24E-993D-4D11-9D11-B2EB1FD2B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656F-A4C3-48C1-8158-A947B6A908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7240"/>
            <a:ext cx="4572000" cy="3429000"/>
          </a:xfrm>
          <a:prstGeom prst="rect">
            <a:avLst/>
          </a:prstGeom>
          <a:ln w="0">
            <a:noFill/>
          </a:ln>
        </p:spPr>
      </p:sp>
      <p:sp>
        <p:nvSpPr>
          <p:cNvPr id="31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4D9C-0DB1-43CD-BB5D-6511A7ED5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4AC3-3A75-44DC-B52C-669A896A5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B080-4D24-403E-AD64-676200BF8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1181-D471-494A-89AA-ED9080AEA6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7240"/>
            <a:ext cx="4572000" cy="3429000"/>
          </a:xfrm>
          <a:prstGeom prst="rect">
            <a:avLst/>
          </a:prstGeom>
          <a:ln w="0">
            <a:noFill/>
          </a:ln>
        </p:spPr>
      </p:sp>
      <p:sp>
        <p:nvSpPr>
          <p:cNvPr id="32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E3EC-C8BE-42D4-8ECC-42D70AF1C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5614-EEAB-48CA-81B5-A1D6134E7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4C98-773C-42C7-A528-83F8FAE88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7B69-1CEB-4AFC-8403-C8BBD7B36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7240"/>
            <a:ext cx="4572000" cy="3429000"/>
          </a:xfrm>
          <a:prstGeom prst="rect">
            <a:avLst/>
          </a:prstGeom>
          <a:ln w="0">
            <a:noFill/>
          </a:ln>
        </p:spPr>
      </p:sp>
      <p:sp>
        <p:nvSpPr>
          <p:cNvPr id="33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0C36-B0EF-4CA6-89E2-A1C4F6AB2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FDC2-E316-4148-BDD9-39FE3F25C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091D-8B51-4DD0-8D33-980AB82A2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DE6E-E0A0-492F-A3F6-09F7D64D1D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7240"/>
            <a:ext cx="4572000" cy="3429000"/>
          </a:xfrm>
          <a:prstGeom prst="rect">
            <a:avLst/>
          </a:prstGeom>
          <a:ln w="0">
            <a:noFill/>
          </a:ln>
        </p:spPr>
      </p:sp>
      <p:sp>
        <p:nvSpPr>
          <p:cNvPr id="33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B0EA-8AED-4AD8-BDB1-0DE666426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BBCD-2C08-471B-99A2-D0ECFB979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FA55-960D-4E80-B422-6FEF7B2FA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FB6B-DDB7-49B5-969D-32D75017B0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7240"/>
            <a:ext cx="4572000" cy="3429000"/>
          </a:xfrm>
          <a:prstGeom prst="rect">
            <a:avLst/>
          </a:prstGeom>
          <a:ln w="0">
            <a:noFill/>
          </a:ln>
        </p:spPr>
      </p:sp>
      <p:sp>
        <p:nvSpPr>
          <p:cNvPr id="34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F7A40-10E8-44C7-9C77-B862471E0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A62D8-F472-4718-A21D-92376DFAB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BF675-B16F-43CB-82E1-0C79B7F46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B8157-9D60-4775-9C00-0EE9F2A5A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A8AF0-754B-48E3-A782-5516A83D3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4A148-558C-43BA-A503-A58410F5A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97D35-C0FD-4519-976D-8DDF5369E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14C05-96BC-4933-A9F8-5B5BD8D9D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1C963-26D3-4096-A3C4-0F8CE386A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66FA9-2702-466F-BBE2-3269CD2B8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759E8-8748-45E7-A5A2-D7EDF24CA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C727D-34A6-4C9B-98BC-5DBA638FA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F6125-86E8-4467-8F4C-82BB95555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EB06A-32DA-4E99-A8BA-4E58E9330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F8A6F-FF56-45BA-B5C6-9AEFFA4C1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C1E6A-391E-40C0-8897-E80F2F20F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457DF-AF1A-4B68-83ED-5E7632362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52D2AD-7DE5-4819-A468-F54EB9AAB0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0812BA-05DA-4B46-BD53-013B320BA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AB724F-8DF8-41E5-B434-683A6FC92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392D0-4AA3-4C7B-B054-335DBE640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DC2B6-8CDA-40C1-9BBC-01D3FC7DC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E4DA3-6AD3-4898-B1DD-7100CB85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EF799-7C85-4E91-8D02-6D73BDEEE2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034BB-E052-4D61-BE1E-78C9F004A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F962F-CFC0-4DF9-ACC2-14BD3C5BA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DB30F-B96B-4FBA-82B7-0F10EA0E2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AEEA0-9AE0-44F6-9AA6-5F22A097F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BC1A1E-C7C3-456E-AEF7-8FB6E21B38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0A9B03-CF08-49FE-8F8C-1ED59D3361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472428-2F22-4306-828B-956A19A6F9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1C2940-E882-4702-AC92-570E1218E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EFD6BF-EA01-4FA6-97BF-CFE7B88A5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37600-FA41-49DB-A4A2-7F940DE8C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5BEB9B-A172-42B9-AD02-E3DD31CF0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7DB7B-443C-446E-A1EE-224D394EB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391CBE-B374-4B58-85F9-27E8DC6969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E6933-9F06-4F1E-A532-AD1E431BB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F531F-58EE-4C58-B556-EF0E3AB01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A9F2A-75B5-4BD5-A056-69D2A5EFD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1757CD-E9B2-4074-A5F2-EC79DBA7D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827B37-8EBB-4086-BFD2-9202F8F09D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B2034E-B9BC-4B31-9A29-68598D9AC8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394EDF-6C5B-43B8-871C-D7000ECDC1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E082A-958A-4B92-8066-A68D48E9B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C02F00-ABA1-4CE5-9FFD-5F4B42D839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81B58-59B7-41CE-A513-B7CCE555BB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EAA21-7567-41BE-9FAF-CC48563D3A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BA5E82-7EC3-4D90-8278-2AFC843E9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EE4A0E-A7F8-4199-8293-FBF8EDEA6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84325-02F5-4983-9A29-B2DD23CE0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B5AEA-3D87-4475-AD3B-63108C8F8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2F42CA-2154-4D16-B8DD-3BF5CF08C1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8AD85-CE9D-4682-924C-5AF2205E0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17F4D9-5A1B-43BD-84AE-1879068320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6D215-E3E6-48FD-BEF9-D7DE1EBB1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914FDF-FFD2-4EBC-9C4D-11373FEE64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B918D-9158-444D-A775-7B90FEA4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5F50-8F7D-4B6F-9D6B-6162B37E0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3FD61-CB73-441F-A407-F8DA20381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5B0F-FC25-4442-A505-6FDC48F76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CCC - NUET 130</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C127-1309-4A2A-9D27-B54D8BC03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D5CB-9588-4F6A-9B2A-59D778E03F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6" name="Group 7"/>
          <p:cNvGrpSpPr/>
          <p:nvPr/>
        </p:nvGrpSpPr>
        <p:grpSpPr>
          <a:xfrm>
            <a:off x="168120" y="228600"/>
            <a:ext cx="8823600" cy="6095880"/>
            <a:chOff x="168120" y="228600"/>
            <a:chExt cx="8823600" cy="6095880"/>
          </a:xfrm>
        </p:grpSpPr>
        <p:sp>
          <p:nvSpPr>
            <p:cNvPr id="127"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33"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134" name="PlaceHolder 3"/>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4"/>
          <p:cNvSpPr>
            <a:spLocks noGrp="1"/>
          </p:cNvSpPr>
          <p:nvPr>
            <p:ph type="ftr" idx="11"/>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857640" y="639144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6586-D272-42B8-BF0E-DE3F4DAA1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 name="Picture 6" descr="RCNET.jpg"/>
          <p:cNvPicPr/>
          <p:nvPr/>
        </p:nvPicPr>
        <p:blipFill>
          <a:blip r:embed="rId3"/>
          <a:stretch/>
        </p:blipFill>
        <p:spPr>
          <a:xfrm>
            <a:off x="8121600" y="5961240"/>
            <a:ext cx="1044720" cy="966600"/>
          </a:xfrm>
          <a:prstGeom prst="rect">
            <a:avLst/>
          </a:prstGeom>
          <a:ln w="0">
            <a:noFill/>
          </a:ln>
        </p:spPr>
      </p:pic>
      <p:pic>
        <p:nvPicPr>
          <p:cNvPr id="174" name="Picture 7" descr="IRSC_NSFPoster.jpg"/>
          <p:cNvPicPr/>
          <p:nvPr/>
        </p:nvPicPr>
        <p:blipFill>
          <a:blip r:embed="rId4"/>
          <a:stretch/>
        </p:blipFill>
        <p:spPr>
          <a:xfrm>
            <a:off x="0" y="6443640"/>
            <a:ext cx="457200" cy="35892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40AD-5312-4C9A-824E-4229D758BC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eign material exclusion, </a:t>
            </a:r>
            <a:r>
              <a:rPr b="0" lang="en-US" sz="1800" spc="-1" strike="noStrike">
                <a:solidFill>
                  <a:srgbClr val="000000"/>
                </a:solidFill>
                <a:latin typeface="Arial"/>
              </a:rPr>
              <a:t>electrical divisional separation, electrical physical separation, cable tray layout, wrapping, fire detection, Class 1E electrical distribu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Title 1" descr=""/>
          <p:cNvPicPr/>
          <p:nvPr/>
        </p:nvPicPr>
        <p:blipFill>
          <a:blip r:embed="rId1"/>
          <a:stretch/>
        </p:blipFill>
        <p:spPr>
          <a:xfrm>
            <a:off x="-195120" y="0"/>
            <a:ext cx="9339120" cy="1262160"/>
          </a:xfrm>
          <a:prstGeom prst="rect">
            <a:avLst/>
          </a:prstGeom>
          <a:ln w="0">
            <a:noFill/>
          </a:ln>
        </p:spPr>
      </p:pic>
      <p:graphicFrame>
        <p:nvGraphicFramePr>
          <p:cNvPr id="225"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8.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B509-F5B2-482B-94CF-F896124AE9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pic>
        <p:nvPicPr>
          <p:cNvPr id="252" name="Picture 6" descr="FME AluminumExpansionplugs"/>
          <p:cNvPicPr/>
          <p:nvPr/>
        </p:nvPicPr>
        <p:blipFill>
          <a:blip r:embed="rId1"/>
          <a:stretch/>
        </p:blipFill>
        <p:spPr>
          <a:xfrm>
            <a:off x="2209680" y="3048120"/>
            <a:ext cx="4876920" cy="3149640"/>
          </a:xfrm>
          <a:prstGeom prst="rect">
            <a:avLst/>
          </a:prstGeom>
          <a:ln w="0">
            <a:noFill/>
          </a:ln>
        </p:spPr>
      </p:pic>
      <p:pic>
        <p:nvPicPr>
          <p:cNvPr id="253" name="Picture 7" descr="FME nylon-pipe-cover"/>
          <p:cNvPicPr/>
          <p:nvPr/>
        </p:nvPicPr>
        <p:blipFill>
          <a:blip r:embed="rId2"/>
          <a:stretch/>
        </p:blipFill>
        <p:spPr>
          <a:xfrm>
            <a:off x="457200" y="1066680"/>
            <a:ext cx="2352600" cy="2292480"/>
          </a:xfrm>
          <a:prstGeom prst="rect">
            <a:avLst/>
          </a:prstGeom>
          <a:ln w="0">
            <a:noFill/>
          </a:ln>
        </p:spPr>
      </p:pic>
      <p:pic>
        <p:nvPicPr>
          <p:cNvPr id="254" name="Picture 8" descr="FME bagplug480x316"/>
          <p:cNvPicPr/>
          <p:nvPr/>
        </p:nvPicPr>
        <p:blipFill>
          <a:blip r:embed="rId3"/>
          <a:stretch/>
        </p:blipFill>
        <p:spPr>
          <a:xfrm>
            <a:off x="5791320" y="1219320"/>
            <a:ext cx="3047760" cy="18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FD23-2012-4378-BD7B-A724EFBD66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pic>
        <p:nvPicPr>
          <p:cNvPr id="257" name="Picture 6" descr="FME focus_prevention"/>
          <p:cNvPicPr/>
          <p:nvPr/>
        </p:nvPicPr>
        <p:blipFill>
          <a:blip r:embed="rId1"/>
          <a:stretch/>
        </p:blipFill>
        <p:spPr>
          <a:xfrm>
            <a:off x="950760" y="1600200"/>
            <a:ext cx="2649600" cy="3200400"/>
          </a:xfrm>
          <a:prstGeom prst="rect">
            <a:avLst/>
          </a:prstGeom>
          <a:ln w="0">
            <a:noFill/>
          </a:ln>
        </p:spPr>
      </p:pic>
      <p:pic>
        <p:nvPicPr>
          <p:cNvPr id="258" name="Picture 7" descr="FME fme_signage"/>
          <p:cNvPicPr/>
          <p:nvPr/>
        </p:nvPicPr>
        <p:blipFill>
          <a:blip r:embed="rId2"/>
          <a:stretch/>
        </p:blipFill>
        <p:spPr>
          <a:xfrm>
            <a:off x="4495680" y="1676520"/>
            <a:ext cx="3276720" cy="300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7704-E7B4-4D69-8E26-6EE9F2E6F5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pic>
        <p:nvPicPr>
          <p:cNvPr id="261" name="Picture 8" descr="FME file_1"/>
          <p:cNvPicPr/>
          <p:nvPr/>
        </p:nvPicPr>
        <p:blipFill>
          <a:blip r:embed="rId1"/>
          <a:stretch/>
        </p:blipFill>
        <p:spPr>
          <a:xfrm>
            <a:off x="533520" y="1447920"/>
            <a:ext cx="822960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7C1A-21BF-44F7-8B26-F2CEC8815E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3" name="Text Box 31"/>
          <p:cNvSpPr/>
          <p:nvPr/>
        </p:nvSpPr>
        <p:spPr>
          <a:xfrm>
            <a:off x="990720" y="1295280"/>
            <a:ext cx="7467480" cy="448308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efuel Floor FME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standard requirements of the FME procedure, the following FME guidelines are specific to the Refuel Floor. The primary concern on the Refuel Floor is protecting the Reactor Cavity, Spent Fuel Pool (SFP), Dryer Separator Pit (DSP), and the Fuel from adverse chemical and metallic foreign material intrusion. Historically, fuel fretting failures have been caused by ribbon or wire-like metallic elements that get trapped in the fuel bundle and fuel bundle support arrangement. Particular interest will be paid to limiting and controlling processes requiring or generating gasses, liquids, wire strips/wire brushes, grinding/machining debris, nuts, bolts and screws adjacent to, or over, the Refuel Floor FME areas. When these processes are required on the Refuel Floor (prior to performance of the work), it must be demonstrated that materials, tools, or debris generated in the FME area will be controlled such that: </a:t>
            </a:r>
            <a:endParaRPr b="0" lang="en-US" sz="1800" spc="-1" strike="noStrike">
              <a:solidFill>
                <a:srgbClr val="000000"/>
              </a:solidFill>
              <a:latin typeface="Arial"/>
            </a:endParaRPr>
          </a:p>
        </p:txBody>
      </p:sp>
      <p:sp>
        <p:nvSpPr>
          <p:cNvPr id="26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FB6E-D123-41C3-AB20-FE33AFA56A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Text Box 31"/>
          <p:cNvSpPr/>
          <p:nvPr/>
        </p:nvSpPr>
        <p:spPr>
          <a:xfrm>
            <a:off x="990720" y="1295280"/>
            <a:ext cx="6959520" cy="393444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efuel Floor FME</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will be easily identifiable and retrievable underwater.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ll not react with the components or other materials and tools in a manner that will harm fuel or RPV components.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will not fall or be dropped into the Reactor Cavity, SFP or DSP.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ME practice on the Refuel Floor shall be sequenced and controlled by the Refuel Floor Coordinator (RFC).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safety conditions, work conditions, or radiological conditions change and affect established FME controls and procedures, the Refuel Floor Coordinator may temporarily modify FME controls and procedures for the Refuel Floor FME Area until conditions return to normal. </a:t>
            </a:r>
            <a:endParaRPr b="0" lang="en-US" sz="1800" spc="-1" strike="noStrike">
              <a:solidFill>
                <a:srgbClr val="000000"/>
              </a:solidFill>
              <a:latin typeface="Arial"/>
            </a:endParaRPr>
          </a:p>
        </p:txBody>
      </p:sp>
      <p:sp>
        <p:nvSpPr>
          <p:cNvPr id="267"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6D65-6C61-4EE4-9A02-CB27EED9E3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9" name="Text Box 31"/>
          <p:cNvSpPr/>
          <p:nvPr/>
        </p:nvSpPr>
        <p:spPr>
          <a:xfrm>
            <a:off x="990720" y="1828800"/>
            <a:ext cx="6959520" cy="201420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efuel Floor Buffer Zone</a:t>
            </a:r>
            <a:r>
              <a:rPr b="0" lang="en-US" sz="1800" spc="-1" strike="noStrike">
                <a:solidFill>
                  <a:srgbClr val="000000"/>
                </a:solidFill>
                <a:latin typeface="Arial"/>
              </a:rPr>
              <a:t>: A 3-foot area on the Refuel Floor surrounding the SFP, DSP, and the Reactor Cavity. The area is painted yellow on the floor and is marked with black lettering "FME BUFFER ZONE." This area designates an area of HEIGHTENED FME AWARENESS. Personnel shall avoid entering the buffer zone unless required to complete work activities. </a:t>
            </a:r>
            <a:endParaRPr b="0" lang="en-US" sz="1800" spc="-1" strike="noStrike">
              <a:solidFill>
                <a:srgbClr val="000000"/>
              </a:solidFill>
              <a:latin typeface="Arial"/>
            </a:endParaRPr>
          </a:p>
        </p:txBody>
      </p:sp>
      <p:sp>
        <p:nvSpPr>
          <p:cNvPr id="27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C458-4E3B-40C4-8DD5-B422921F01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2" name="Text Box 31"/>
          <p:cNvSpPr/>
          <p:nvPr/>
        </p:nvSpPr>
        <p:spPr>
          <a:xfrm>
            <a:off x="990720" y="1219320"/>
            <a:ext cx="6959520" cy="420876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ain Generator or Recirculation Motor Generator Sets</a:t>
            </a:r>
            <a:r>
              <a:rPr b="0" lang="en-US" sz="1800" spc="-1" strike="noStrike">
                <a:solidFill>
                  <a:srgbClr val="000000"/>
                </a:solidFill>
                <a:latin typeface="Arial"/>
              </a:rPr>
              <a:t> –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size of the component and the large number of persons involved in generator maintenance, the electrical generator is extremely susceptible to foreign material during maintenance operations. Assignment of FMEA control is required for the main generator whenever the generator and MG Sets are open for maintenance.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rience Alert!</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9 Fermi 2 was shutdown for over a month due to a leak within the main generator stator winding coolant system.  The cause of the leak was attributed to a very small piece of metal that got into the coolant system and “fretted” in a location, damaging the coolant tubing inside the stator.</a:t>
            </a:r>
            <a:endParaRPr b="0" lang="en-US" sz="1800" spc="-1" strike="noStrike">
              <a:solidFill>
                <a:srgbClr val="000000"/>
              </a:solidFill>
              <a:latin typeface="Arial"/>
            </a:endParaRPr>
          </a:p>
        </p:txBody>
      </p:sp>
      <p:sp>
        <p:nvSpPr>
          <p:cNvPr id="273"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7FEE-F118-472A-A6DF-3F4E78B265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Text Box 31"/>
          <p:cNvSpPr/>
          <p:nvPr/>
        </p:nvSpPr>
        <p:spPr>
          <a:xfrm>
            <a:off x="990720" y="1295280"/>
            <a:ext cx="6959520" cy="475740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ME High Risk systems:</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21) Main Steam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31) Reactor Recirculation System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11) Control Rod Drive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11) Residual Heat Removal System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21) Core Spray System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41) High Pressure Coolant Injection System (HPCI)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51) Reactor Core Isolation Cooling (RCIC)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33) Reactor Water Cleanup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2100) Reactor Feedwater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2103) Standby Feedwater System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3000S001) Turbine Main Generator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1100) Condensate Storage and Transfer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ork in or over the Spent Fuel Pool/Cavity/Dryer Separator Pit (when flooded)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2DA5-5E1F-481F-A414-60ED007177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8" name="Text Box 31"/>
          <p:cNvSpPr/>
          <p:nvPr/>
        </p:nvSpPr>
        <p:spPr>
          <a:xfrm>
            <a:off x="990720" y="1295280"/>
            <a:ext cx="7086600" cy="256284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High Risk locations: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ternal </a:t>
            </a:r>
            <a:r>
              <a:rPr b="0" lang="en-US" sz="1800" spc="-1" strike="noStrike">
                <a:solidFill>
                  <a:srgbClr val="000000"/>
                </a:solidFill>
                <a:latin typeface="Arial"/>
              </a:rPr>
              <a:t>work in the Torus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ternal </a:t>
            </a:r>
            <a:r>
              <a:rPr b="0" lang="en-US" sz="1800" spc="-1" strike="noStrike">
                <a:solidFill>
                  <a:srgbClr val="000000"/>
                </a:solidFill>
                <a:latin typeface="Arial"/>
              </a:rPr>
              <a:t>work in the Main Turbine / Generator / Exciter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ternal </a:t>
            </a:r>
            <a:r>
              <a:rPr b="0" lang="en-US" sz="1800" spc="-1" strike="noStrike">
                <a:solidFill>
                  <a:srgbClr val="000000"/>
                </a:solidFill>
                <a:latin typeface="Arial"/>
              </a:rPr>
              <a:t>work in the Main Condensers / Feedwater Heaters / Moisture Separator Reheaters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ternal </a:t>
            </a:r>
            <a:r>
              <a:rPr b="0" lang="en-US" sz="1800" spc="-1" strike="noStrike">
                <a:solidFill>
                  <a:srgbClr val="000000"/>
                </a:solidFill>
                <a:latin typeface="Arial"/>
              </a:rPr>
              <a:t>work in the Main and Auxiliary Transformers (including isophase bus duct)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ternals </a:t>
            </a:r>
            <a:r>
              <a:rPr b="0" lang="en-US" sz="1800" spc="-1" strike="noStrike">
                <a:solidFill>
                  <a:srgbClr val="000000"/>
                </a:solidFill>
                <a:latin typeface="Arial"/>
              </a:rPr>
              <a:t>of Emergency Diesel Generator </a:t>
            </a:r>
            <a:endParaRPr b="0" lang="en-US" sz="1800" spc="-1" strike="noStrike">
              <a:solidFill>
                <a:srgbClr val="000000"/>
              </a:solidFill>
              <a:latin typeface="Arial"/>
            </a:endParaRPr>
          </a:p>
        </p:txBody>
      </p:sp>
      <p:sp>
        <p:nvSpPr>
          <p:cNvPr id="279"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54E7-ECAB-4E2F-AFAB-3ED0B22932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Text Box 31"/>
          <p:cNvSpPr/>
          <p:nvPr/>
        </p:nvSpPr>
        <p:spPr>
          <a:xfrm>
            <a:off x="990720" y="1295280"/>
            <a:ext cx="6959520" cy="146556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DURE:</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Section 4 of Conduct Manual MMA17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6706-3A92-43A3-B1F0-673E444313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Text Box 2"/>
          <p:cNvSpPr/>
          <p:nvPr/>
        </p:nvSpPr>
        <p:spPr>
          <a:xfrm>
            <a:off x="990720" y="533520"/>
            <a:ext cx="708660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ET 130   FOREIGN MATERIAL EXCLUSION</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 DEUX</a:t>
            </a:r>
            <a:endParaRPr b="0" lang="en-US" sz="1400" spc="-1" strike="noStrike">
              <a:solidFill>
                <a:srgbClr val="000000"/>
              </a:solidFill>
              <a:latin typeface="Arial"/>
            </a:endParaRPr>
          </a:p>
        </p:txBody>
      </p:sp>
      <p:sp>
        <p:nvSpPr>
          <p:cNvPr id="228" name="Rectangle 5"/>
          <p:cNvSpPr/>
          <p:nvPr/>
        </p:nvSpPr>
        <p:spPr>
          <a:xfrm>
            <a:off x="990720" y="2041200"/>
            <a:ext cx="73152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Foreign Material Exclusion (FME) progra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essions will also include reviews of major industry operating experience events tied to FM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E21B-85E3-4095-B6AE-2510717D47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
        <p:nvSpPr>
          <p:cNvPr id="285" name="Text Box 31"/>
          <p:cNvSpPr/>
          <p:nvPr/>
        </p:nvSpPr>
        <p:spPr>
          <a:xfrm>
            <a:off x="1295280" y="2057400"/>
            <a:ext cx="6959880" cy="14655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need for and fundamentals of nuclear power plant FME Program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4AE2-31A7-4292-B712-BCD6F4B3F8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7" name="Text Box 31"/>
          <p:cNvSpPr/>
          <p:nvPr/>
        </p:nvSpPr>
        <p:spPr>
          <a:xfrm>
            <a:off x="762120" y="1295280"/>
            <a:ext cx="7924680" cy="3232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concept of electrical divisional separation, including its importance to nuclear safety.</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concept of electrical physical separation, including its importance to nuclear safety.</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concept of cable tray layout and wrapping to ensure limitations on fire damage</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fire detection and mitigation associated with Class 1E electrical distribution. </a:t>
            </a:r>
            <a:endParaRPr b="0" lang="en-US" sz="1800" spc="-1" strike="noStrike">
              <a:solidFill>
                <a:srgbClr val="000000"/>
              </a:solidFill>
              <a:latin typeface="Arial"/>
            </a:endParaRPr>
          </a:p>
        </p:txBody>
      </p:sp>
      <p:sp>
        <p:nvSpPr>
          <p:cNvPr id="28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AFDA-83C1-47C2-8E08-7C23081E9C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Text Box 31"/>
          <p:cNvSpPr/>
          <p:nvPr/>
        </p:nvSpPr>
        <p:spPr>
          <a:xfrm>
            <a:off x="990720" y="2057400"/>
            <a:ext cx="6959520" cy="1556280"/>
          </a:xfrm>
          <a:prstGeom prst="rect">
            <a:avLst/>
          </a:prstGeom>
          <a:noFill/>
          <a:ln w="0">
            <a:noFill/>
          </a:ln>
        </p:spPr>
        <p:style>
          <a:lnRef idx="0"/>
          <a:fillRef idx="0"/>
          <a:effectRef idx="0"/>
          <a:fontRef idx="minor"/>
        </p:style>
        <p:txBody>
          <a:bodyPr lIns="90000" rIns="90000" tIns="46800" bIns="46800" anchor="t">
            <a:spAutoFit/>
          </a:bodyPr>
          <a:p>
            <a:pPr marL="289080" indent="-63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UESTIONS ???????????</a:t>
            </a:r>
            <a:endParaRPr b="0" lang="en-US" sz="3200" spc="-1" strike="noStrike">
              <a:solidFill>
                <a:srgbClr val="000000"/>
              </a:solidFill>
              <a:latin typeface="Arial"/>
            </a:endParaRPr>
          </a:p>
          <a:p>
            <a:pPr marL="289080" indent="-63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9080" indent="-63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6D18-C092-4320-9A2D-CEEDAC2FBD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
        <p:nvSpPr>
          <p:cNvPr id="231" name="Text Box 31"/>
          <p:cNvSpPr/>
          <p:nvPr/>
        </p:nvSpPr>
        <p:spPr>
          <a:xfrm>
            <a:off x="1295280" y="2057400"/>
            <a:ext cx="6959880" cy="14655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need for and fundamentals of nuclear power plant FME Program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A00D-78A9-4CCF-9BD9-CB3E270D59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Text Box 31"/>
          <p:cNvSpPr/>
          <p:nvPr/>
        </p:nvSpPr>
        <p:spPr>
          <a:xfrm>
            <a:off x="762120" y="1295280"/>
            <a:ext cx="7924680" cy="3232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concept of electrical divisional separation, including its importance to nuclear safety.</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concept of electrical physical separation, including its importance to nuclear safety.</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concept of cable tray layout and wrapping to ensure limitations on fire damage</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fire detection and mitigation associated with Class 1E electrical distribution. </a:t>
            </a:r>
            <a:endParaRPr b="0" lang="en-US" sz="1800" spc="-1" strike="noStrike">
              <a:solidFill>
                <a:srgbClr val="000000"/>
              </a:solidFill>
              <a:latin typeface="Arial"/>
            </a:endParaRPr>
          </a:p>
        </p:txBody>
      </p:sp>
      <p:sp>
        <p:nvSpPr>
          <p:cNvPr id="23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AE46-76D8-4E34-9973-9E2477195E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Text Box 31"/>
          <p:cNvSpPr/>
          <p:nvPr/>
        </p:nvSpPr>
        <p:spPr>
          <a:xfrm>
            <a:off x="990720" y="1295280"/>
            <a:ext cx="6959520" cy="311148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ding Foreign material from plant systems will help prevent: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ge to Fuel cladding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mage to equipment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gradation of Heat Transfer capability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ed radiation levels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ed presence of discrete hot particles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ed radwaste generation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gradation of system flow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scheduled plant outages and outage extensions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to plant chemistry </a:t>
            </a:r>
            <a:endParaRPr b="0" lang="en-US" sz="1800" spc="-1" strike="noStrike">
              <a:solidFill>
                <a:srgbClr val="000000"/>
              </a:solidFill>
              <a:latin typeface="Arial"/>
            </a:endParaRPr>
          </a:p>
        </p:txBody>
      </p:sp>
      <p:sp>
        <p:nvSpPr>
          <p:cNvPr id="237"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5F91-CF99-42FB-A9FB-8266AE8C9A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9" name="Text Box 31"/>
          <p:cNvSpPr/>
          <p:nvPr/>
        </p:nvSpPr>
        <p:spPr>
          <a:xfrm>
            <a:off x="685800" y="1295280"/>
            <a:ext cx="7696080" cy="420876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ME control basics will involve: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ing training and regular briefings for the workers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olating the work area with a rope or barrier and posting the work area with a sign identifying it as an FME area.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inspecting items for loose or faulty components prior to bringing them into FME Control Area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eeping foreign materials and tools from entering an open system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eeping the area clean and orderly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eaning and inspecting internals prior to closing the system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ing pre-inspection of temporary equipment to verify that gaskets, seals, and packings are approved for use at Fermi 2. Examples of temporary equipment are decontamination, flushing, cleaning, and performance monitoring equipment or attachments.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ME Areas should be kept as small as practical. </a:t>
            </a:r>
            <a:endParaRPr b="0" lang="en-US" sz="1800" spc="-1" strike="noStrike">
              <a:solidFill>
                <a:srgbClr val="000000"/>
              </a:solidFill>
              <a:latin typeface="Arial"/>
            </a:endParaRPr>
          </a:p>
        </p:txBody>
      </p:sp>
      <p:sp>
        <p:nvSpPr>
          <p:cNvPr id="24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393F-B4B1-4591-A21C-65E7B0882D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Text Box 31"/>
          <p:cNvSpPr/>
          <p:nvPr/>
        </p:nvSpPr>
        <p:spPr>
          <a:xfrm>
            <a:off x="990720" y="1295280"/>
            <a:ext cx="6959520" cy="475740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FME control basics will involve: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ange cleaning or gasket removal should be performed prior to removal of plugs.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ols and materials/parts shall be inspected before items are brought into a FMEA, and during removal from a FMEA, to identify loose or missing parts.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 to entering the FMEA, personnel shall remove personal items and/or secure items using lanyards or other appropriate means.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nyards should be used on items that could be dropped and lost, could cause damage or be a safety issue. Lanyards provide a backup method for preventing loss of tools and equipment.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y or silver tape shall not be used within an FME Area. If lost, recovery of this material would be difficult since it is hard to see underwater against a stainless steel background. </a:t>
            </a:r>
            <a:endParaRPr b="0" lang="en-US" sz="1800" spc="-1" strike="noStrike">
              <a:solidFill>
                <a:srgbClr val="000000"/>
              </a:solidFill>
              <a:latin typeface="Arial"/>
            </a:endParaRPr>
          </a:p>
        </p:txBody>
      </p:sp>
      <p:sp>
        <p:nvSpPr>
          <p:cNvPr id="243"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3D26-CCDD-4B30-A22A-D720BC1E18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5"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
        <p:nvSpPr>
          <p:cNvPr id="246" name="Text Box 31"/>
          <p:cNvSpPr/>
          <p:nvPr/>
        </p:nvSpPr>
        <p:spPr>
          <a:xfrm>
            <a:off x="914400" y="1295280"/>
            <a:ext cx="6959520" cy="283716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FME control basics will involve: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allation materials should not be delivered to the FMEA sooner than required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onents should be assembled so that visual inspection of internals may be performed just prior to closure. </a:t>
            </a:r>
            <a:endParaRPr b="0" lang="en-US" sz="1800" spc="-1" strike="noStrike">
              <a:solidFill>
                <a:srgbClr val="000000"/>
              </a:solidFill>
              <a:latin typeface="Arial"/>
            </a:endParaRPr>
          </a:p>
          <a:p>
            <a:pPr marL="289080" indent="-63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cal cleanup of the area shall be performed as work progresses to preclude the introduction of contaminants into clean systems. </a:t>
            </a:r>
            <a:endParaRPr b="0" lang="en-US" sz="1800" spc="-1" strike="noStrike">
              <a:solidFill>
                <a:srgbClr val="000000"/>
              </a:solidFill>
              <a:latin typeface="Arial"/>
            </a:endParaRPr>
          </a:p>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9965-C328-4D04-B1F0-3291AD8CA3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8" name="Text Box 31"/>
          <p:cNvSpPr/>
          <p:nvPr/>
        </p:nvSpPr>
        <p:spPr>
          <a:xfrm>
            <a:off x="914400" y="1905120"/>
            <a:ext cx="6959520" cy="2562840"/>
          </a:xfrm>
          <a:prstGeom prst="rect">
            <a:avLst/>
          </a:prstGeom>
          <a:noFill/>
          <a:ln w="0">
            <a:noFill/>
          </a:ln>
        </p:spPr>
        <p:style>
          <a:lnRef idx="0"/>
          <a:fillRef idx="0"/>
          <a:effectRef idx="0"/>
          <a:fontRef idx="minor"/>
        </p:style>
        <p:txBody>
          <a:bodyPr lIns="90000" rIns="90000" tIns="46800" bIns="46800" anchor="t">
            <a:spAutoFit/>
          </a:bodyPr>
          <a:p>
            <a:pPr marL="289080" indent="-6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uct tape adhesive is easily dissolved by fuel oil and to a lesser extent by oil-based products. Due to the potential loss of the adhesive from the duct tape in contact with fuel oil and/or oil-based products, duct tape should not to be used as an FME cover. The duct tape itself could become foreign material. In those cases where only duct tape can adequately serve as an FME cover, the surface on which the duct tape will adhere to shall be thoroughly cleaned to eliminate fuel oil/oil residue to the extent possible. </a:t>
            </a:r>
            <a:endParaRPr b="0" lang="en-US" sz="1800" spc="-1" strike="noStrike">
              <a:solidFill>
                <a:srgbClr val="000000"/>
              </a:solidFill>
              <a:latin typeface="Arial"/>
            </a:endParaRPr>
          </a:p>
        </p:txBody>
      </p:sp>
      <p:sp>
        <p:nvSpPr>
          <p:cNvPr id="249"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 MATERIAL EXCLUSION (F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15:54:48Z</dcterms:created>
  <dc:creator>e51307</dc:creator>
  <dc:description/>
  <dc:language>en-US</dc:language>
  <cp:lastModifiedBy>Peggy Hines IRSC</cp:lastModifiedBy>
  <dcterms:modified xsi:type="dcterms:W3CDTF">2013-02-12T19:27:40Z</dcterms:modified>
  <cp:revision>12</cp:revision>
  <dc:subject/>
  <dc:title>Slide 1</dc:title>
</cp:coreProperties>
</file>