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0.wmf" ContentType="image/x-wmf"/>
  <Override PartName="/ppt/media/image12.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26C23-B114-4563-857B-2078F0087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05854-E1A2-4668-A7D0-90BA88EA1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A425-1F84-4C2B-AF9B-1268C3AF0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C04FF-01C6-44B9-8D4F-2F2771852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7670-1BDC-4D28-8462-E0F350090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F4ED8-23A1-4E23-9093-2A61038080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7240"/>
            <a:ext cx="4572000" cy="3429000"/>
          </a:xfrm>
          <a:prstGeom prst="rect">
            <a:avLst/>
          </a:prstGeom>
          <a:ln w="0">
            <a:noFill/>
          </a:ln>
        </p:spPr>
      </p:sp>
      <p:sp>
        <p:nvSpPr>
          <p:cNvPr id="28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3F468-4AA9-427C-9907-BB169B09D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56C81-DFFE-4D8C-B949-8F5DAF845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300E-413D-420A-847B-1A9288070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D15BE-42B7-43AB-9026-37CEDDEEC3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7240"/>
            <a:ext cx="4572000" cy="3429000"/>
          </a:xfrm>
          <a:prstGeom prst="rect">
            <a:avLst/>
          </a:prstGeom>
          <a:ln w="0">
            <a:noFill/>
          </a:ln>
        </p:spPr>
      </p:sp>
      <p:sp>
        <p:nvSpPr>
          <p:cNvPr id="28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390F-6A5E-48F0-82A0-7796251C1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DE24-4925-4D0F-9BAC-19AF9CE09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E1F3E-124E-4F77-AD6D-12E3CA511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35F2-3531-4398-9DAC-B032831A5B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7240"/>
            <a:ext cx="4572000" cy="3429000"/>
          </a:xfrm>
          <a:prstGeom prst="rect">
            <a:avLst/>
          </a:prstGeom>
          <a:ln w="0">
            <a:noFill/>
          </a:ln>
        </p:spPr>
      </p:sp>
      <p:sp>
        <p:nvSpPr>
          <p:cNvPr id="29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5BABA-7A22-47A5-85F3-ABAB758A8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0644F-C8FC-49A3-B7EB-23536670C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30220-F980-4B33-B639-A0BA89189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8B78-A7B0-4D15-8E13-A8F8C8DB4F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7240"/>
            <a:ext cx="4572000" cy="3429000"/>
          </a:xfrm>
          <a:prstGeom prst="rect">
            <a:avLst/>
          </a:prstGeom>
          <a:ln w="0">
            <a:noFill/>
          </a:ln>
        </p:spPr>
      </p:sp>
      <p:sp>
        <p:nvSpPr>
          <p:cNvPr id="30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3FD8-6EB2-43BC-84E4-FFA7ACA6E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17475-088E-4437-AD9B-C1853D734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4ACE-7D5E-4761-831E-B8D2862CC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3BCEB-CAD8-47E3-987B-23A7AE9295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7240"/>
            <a:ext cx="4572000" cy="3429000"/>
          </a:xfrm>
          <a:prstGeom prst="rect">
            <a:avLst/>
          </a:prstGeom>
          <a:ln w="0">
            <a:noFill/>
          </a:ln>
        </p:spPr>
      </p:sp>
      <p:sp>
        <p:nvSpPr>
          <p:cNvPr id="30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8207A-D1CF-4BF7-97F6-72C91F9A0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D6459-82BE-4BDF-ADC1-B3557FBEE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943D-628E-40CD-B879-F15CB1827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507F-B24A-4480-894C-DBC24D46DC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7240"/>
            <a:ext cx="4572000" cy="3429000"/>
          </a:xfrm>
          <a:prstGeom prst="rect">
            <a:avLst/>
          </a:prstGeom>
          <a:ln w="0">
            <a:noFill/>
          </a:ln>
        </p:spPr>
      </p:sp>
      <p:sp>
        <p:nvSpPr>
          <p:cNvPr id="31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8082-E2B2-41DB-B547-C330E8712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7291F-D486-48E8-A7D0-686545CC8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3B0A-2DA4-4BF7-BE2D-691C3E981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DDF9-15A6-4FC0-981D-391C14C5F7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7240"/>
            <a:ext cx="4572000" cy="3429000"/>
          </a:xfrm>
          <a:prstGeom prst="rect">
            <a:avLst/>
          </a:prstGeom>
          <a:ln w="0">
            <a:noFill/>
          </a:ln>
        </p:spPr>
      </p:sp>
      <p:sp>
        <p:nvSpPr>
          <p:cNvPr id="31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779D6-67A1-428A-AB32-3E34F4C26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705C-79ED-4384-BD37-F102F29A8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3FED-7561-46E7-8878-B3D0E853F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E103-FA79-40C8-A03F-36D77B45FB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7240"/>
            <a:ext cx="4572000" cy="3429000"/>
          </a:xfrm>
          <a:prstGeom prst="rect">
            <a:avLst/>
          </a:prstGeom>
          <a:ln w="0">
            <a:noFill/>
          </a:ln>
        </p:spPr>
      </p:sp>
      <p:sp>
        <p:nvSpPr>
          <p:cNvPr id="32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E5C65-BF83-4D10-BFDA-996A676C7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34C8-864C-4796-BE9D-8BBD7BCA1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B698-0299-4287-942B-D285D98EA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E35E8-793F-4093-A429-A12400E924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7240"/>
            <a:ext cx="4572000" cy="3429000"/>
          </a:xfrm>
          <a:prstGeom prst="rect">
            <a:avLst/>
          </a:prstGeom>
          <a:ln w="0">
            <a:noFill/>
          </a:ln>
        </p:spPr>
      </p:sp>
      <p:sp>
        <p:nvSpPr>
          <p:cNvPr id="33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25C5-0EE8-48BE-A806-270E896F2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5252-3CDF-4A99-8B20-6B5B33ECD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BED7B-E4A6-44F7-B16C-75A7E0EDE9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0128-B9F5-45DD-9AFB-A7C33DEF17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7240"/>
            <a:ext cx="4572000" cy="3429000"/>
          </a:xfrm>
          <a:prstGeom prst="rect">
            <a:avLst/>
          </a:prstGeom>
          <a:ln w="0">
            <a:noFill/>
          </a:ln>
        </p:spPr>
      </p:sp>
      <p:sp>
        <p:nvSpPr>
          <p:cNvPr id="33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4A14-62A9-4C89-AC3B-08461EAC9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0A175-5167-43AD-84F3-D970FC1CB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6C22-7CEE-412F-96CD-575D6C401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D90D-18FE-4CF9-8B55-A07E6B6294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7240"/>
            <a:ext cx="4572000" cy="3429000"/>
          </a:xfrm>
          <a:prstGeom prst="rect">
            <a:avLst/>
          </a:prstGeom>
          <a:ln w="0">
            <a:noFill/>
          </a:ln>
        </p:spPr>
      </p:sp>
      <p:sp>
        <p:nvSpPr>
          <p:cNvPr id="24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FED8-6291-492C-B259-271F9B388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2395-0804-4399-9779-A00C47E5F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7CFE-3420-4AB2-ACA1-632285F31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0400-82F5-49B6-92F7-9896625B68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7240"/>
            <a:ext cx="4572000" cy="3429000"/>
          </a:xfrm>
          <a:prstGeom prst="rect">
            <a:avLst/>
          </a:prstGeom>
          <a:ln w="0">
            <a:noFill/>
          </a:ln>
        </p:spPr>
      </p:sp>
      <p:sp>
        <p:nvSpPr>
          <p:cNvPr id="34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F34DC-45E8-4D69-ADC7-2C8C77DB8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C9ED-C225-4BC5-B4AF-51C3EFC44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F641D-53D4-4A11-9B22-C688DC70B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48FD7-E10E-4414-9E48-5AD89AB15F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7240"/>
            <a:ext cx="4572000" cy="3429000"/>
          </a:xfrm>
          <a:prstGeom prst="rect">
            <a:avLst/>
          </a:prstGeom>
          <a:ln w="0">
            <a:noFill/>
          </a:ln>
        </p:spPr>
      </p:sp>
      <p:sp>
        <p:nvSpPr>
          <p:cNvPr id="34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84A2-57DD-49E5-BF52-284F7D535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285B-2772-4C15-B916-9913B6D80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F44A3-46BC-4343-9907-136DC5C11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22E0-C28D-46BF-A8BA-F8BEC83625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7240"/>
            <a:ext cx="4572000" cy="3429000"/>
          </a:xfrm>
          <a:prstGeom prst="rect">
            <a:avLst/>
          </a:prstGeom>
          <a:ln w="0">
            <a:noFill/>
          </a:ln>
        </p:spPr>
      </p:sp>
      <p:sp>
        <p:nvSpPr>
          <p:cNvPr id="35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4E0F7-51E6-430F-B1D3-AD4CC9095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9C3E8-2848-416B-9AAB-5F6C7FE5C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C9F9-E4C2-447B-A1C6-5215E386E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20F1-5A5A-4B6B-8306-F9CF915F1D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7240"/>
            <a:ext cx="4572000" cy="3429000"/>
          </a:xfrm>
          <a:prstGeom prst="rect">
            <a:avLst/>
          </a:prstGeom>
          <a:ln w="0">
            <a:noFill/>
          </a:ln>
        </p:spPr>
      </p:sp>
      <p:sp>
        <p:nvSpPr>
          <p:cNvPr id="36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BBFC3-D2CC-450E-BE66-CCDAB6D39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643F8-F811-41EE-A2FD-7BAB31752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E4C21-D155-4218-9AEE-8759A64CE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E53E-DF89-4267-9D7E-F0BAE66B78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7240"/>
            <a:ext cx="4572000" cy="3429000"/>
          </a:xfrm>
          <a:prstGeom prst="rect">
            <a:avLst/>
          </a:prstGeom>
          <a:ln w="0">
            <a:noFill/>
          </a:ln>
        </p:spPr>
      </p:sp>
      <p:sp>
        <p:nvSpPr>
          <p:cNvPr id="36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F44C5-837F-4E74-9198-C7E2D2772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B6420-3DCB-473D-B172-22CFAF293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031B3-3D9E-4064-B85C-2502F7209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8FF8-FD86-4070-8B39-B4DEC7D81D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7240"/>
            <a:ext cx="4572000" cy="3429000"/>
          </a:xfrm>
          <a:prstGeom prst="rect">
            <a:avLst/>
          </a:prstGeom>
          <a:ln w="0">
            <a:noFill/>
          </a:ln>
        </p:spPr>
      </p:sp>
      <p:sp>
        <p:nvSpPr>
          <p:cNvPr id="37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A352-F5B4-4DE9-BE2E-D971152E5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AA132-9310-4235-AB8C-9B9E73A3D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EF549-E972-4747-A069-9AEA32C81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FD44-B99A-4A58-8019-F6D776869A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7240"/>
            <a:ext cx="4572000" cy="3429000"/>
          </a:xfrm>
          <a:prstGeom prst="rect">
            <a:avLst/>
          </a:prstGeom>
          <a:ln w="0">
            <a:noFill/>
          </a:ln>
        </p:spPr>
      </p:sp>
      <p:sp>
        <p:nvSpPr>
          <p:cNvPr id="37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C0E3-D0BD-442E-A154-FE68946D2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05E20-9507-410E-90BF-66CE795A8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6AA6-0BC2-48A0-9C76-406D55E17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862E-868F-4B85-A60D-FEA1C75DB5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7240"/>
            <a:ext cx="4572000" cy="3429000"/>
          </a:xfrm>
          <a:prstGeom prst="rect">
            <a:avLst/>
          </a:prstGeom>
          <a:ln w="0">
            <a:noFill/>
          </a:ln>
        </p:spPr>
      </p:sp>
      <p:sp>
        <p:nvSpPr>
          <p:cNvPr id="38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B40A1-6106-4E83-9625-97B5A58C9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CCA4-0C2B-4085-AE8B-94BBA2E3C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EE900-B727-4E08-9FE6-ED56FD858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808F-E86D-420B-9A6D-8BFD74562B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7240"/>
            <a:ext cx="4572000" cy="3429000"/>
          </a:xfrm>
          <a:prstGeom prst="rect">
            <a:avLst/>
          </a:prstGeom>
          <a:ln w="0">
            <a:noFill/>
          </a:ln>
        </p:spPr>
      </p:sp>
      <p:sp>
        <p:nvSpPr>
          <p:cNvPr id="39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2781-0482-40B1-A330-BC903F5C1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4704-3800-4083-AE21-E6BD107BB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C2619-BA0B-4B52-B250-D5FE75CE5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CF1D2-7C8F-43C8-BE2B-873E841DCA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7240"/>
            <a:ext cx="4572000" cy="3429000"/>
          </a:xfrm>
          <a:prstGeom prst="rect">
            <a:avLst/>
          </a:prstGeom>
          <a:ln w="0">
            <a:noFill/>
          </a:ln>
        </p:spPr>
      </p:sp>
      <p:sp>
        <p:nvSpPr>
          <p:cNvPr id="24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A4C6-9055-452B-B69A-79FD77230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072AC-4112-4AE5-9FEF-96EB3B35F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82AF6-6333-4D21-B3D0-997E0A63F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58E2-880C-4CA6-8D53-A77085CFBE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7240"/>
            <a:ext cx="4572000" cy="3429000"/>
          </a:xfrm>
          <a:prstGeom prst="rect">
            <a:avLst/>
          </a:prstGeom>
          <a:ln w="0">
            <a:noFill/>
          </a:ln>
        </p:spPr>
      </p:sp>
      <p:sp>
        <p:nvSpPr>
          <p:cNvPr id="39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5763-CB07-4915-B6B1-56B03A5FA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DC47-B5AE-4A35-82CE-3EE90C6E9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9D66-79AE-4F96-AD05-180263650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CAB6-8EED-41F9-8526-AFD313025C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7240"/>
            <a:ext cx="4572000" cy="3429000"/>
          </a:xfrm>
          <a:prstGeom prst="rect">
            <a:avLst/>
          </a:prstGeom>
          <a:ln w="0">
            <a:noFill/>
          </a:ln>
        </p:spPr>
      </p:sp>
      <p:sp>
        <p:nvSpPr>
          <p:cNvPr id="40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8FD8-5D86-4C5F-8728-EEAD6A314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D1D0-29B3-453D-A723-45897B177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8CF6-59A7-4A89-AFEA-8D9153480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533F-1C09-447A-BA51-9597F40909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7240"/>
            <a:ext cx="4572000" cy="3429000"/>
          </a:xfrm>
          <a:prstGeom prst="rect">
            <a:avLst/>
          </a:prstGeom>
          <a:ln w="0">
            <a:noFill/>
          </a:ln>
        </p:spPr>
      </p:sp>
      <p:sp>
        <p:nvSpPr>
          <p:cNvPr id="40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45C2-F0A1-4B9D-B6CC-A081123A7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78D3-2ECF-41FE-A028-FF7E60FD1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DEC9-2285-4CDC-B0F7-96D2B3CE4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01CD1-DEA5-460E-AD54-A7F3E339AE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7240"/>
            <a:ext cx="4572000" cy="3429000"/>
          </a:xfrm>
          <a:prstGeom prst="rect">
            <a:avLst/>
          </a:prstGeom>
          <a:ln w="0">
            <a:noFill/>
          </a:ln>
        </p:spPr>
      </p:sp>
      <p:sp>
        <p:nvSpPr>
          <p:cNvPr id="41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EF5F-6C3D-44E0-9242-FA2FF65F4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9C31-1491-4A7B-9055-772C39740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CB572-4CED-41D2-A826-604F2CAEA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5915-962A-489D-BB7D-EE16B3D115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7240"/>
            <a:ext cx="4572000" cy="3429000"/>
          </a:xfrm>
          <a:prstGeom prst="rect">
            <a:avLst/>
          </a:prstGeom>
          <a:ln w="0">
            <a:noFill/>
          </a:ln>
        </p:spPr>
      </p:sp>
      <p:sp>
        <p:nvSpPr>
          <p:cNvPr id="25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EE8B7-A34A-41B0-B536-95D51EE8B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3D02F-7E59-4606-B0D5-E75ECFE79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80FC9-635F-4879-B9CE-E7BB0C543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647F6-71AF-405F-9BE7-66903E3628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7240"/>
            <a:ext cx="4572000" cy="3429000"/>
          </a:xfrm>
          <a:prstGeom prst="rect">
            <a:avLst/>
          </a:prstGeom>
          <a:ln w="0">
            <a:noFill/>
          </a:ln>
        </p:spPr>
      </p:sp>
      <p:sp>
        <p:nvSpPr>
          <p:cNvPr id="25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8462-4ABA-48EB-8F93-1CCC70DDC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156E-39AE-416A-9F02-98C9DA6C3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8070B-C1B3-4EB8-81A6-048446B95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A44E-12A6-427D-A4C6-AE2131A1A0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7240"/>
            <a:ext cx="4572000" cy="3429000"/>
          </a:xfrm>
          <a:prstGeom prst="rect">
            <a:avLst/>
          </a:prstGeom>
          <a:ln w="0">
            <a:noFill/>
          </a:ln>
        </p:spPr>
      </p:sp>
      <p:sp>
        <p:nvSpPr>
          <p:cNvPr id="26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BAB2-B5E8-4018-9B1C-1E2C3E1A2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54A7C-5F69-4C30-9052-7485CBAE2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E6C3-4D14-4A06-AB1C-17BC3B0F2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25A5-09E4-4E7B-8A15-367322FB4E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7240"/>
            <a:ext cx="4572000" cy="3429000"/>
          </a:xfrm>
          <a:prstGeom prst="rect">
            <a:avLst/>
          </a:prstGeom>
          <a:ln w="0">
            <a:noFill/>
          </a:ln>
        </p:spPr>
      </p:sp>
      <p:sp>
        <p:nvSpPr>
          <p:cNvPr id="27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F983-7432-4B16-98DF-43EFD2DF0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E3D5-1AB8-4D6E-A7E7-CE120D7E42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C1B8D-1A91-4BAB-B0C9-476172AE0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FC316-C7F9-48A1-B755-7654EF3B24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7240"/>
            <a:ext cx="4572000" cy="3429000"/>
          </a:xfrm>
          <a:prstGeom prst="rect">
            <a:avLst/>
          </a:prstGeom>
          <a:ln w="0">
            <a:noFill/>
          </a:ln>
        </p:spPr>
      </p:sp>
      <p:sp>
        <p:nvSpPr>
          <p:cNvPr id="27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B30F7-51F5-41D4-BE76-CD69B8B3F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EBBC6-0B75-489E-9F6C-2A0A8578D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A2302-14C3-4509-905C-41FAC1CF3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BDD12-FA59-4A1A-B311-D80D773A1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AED682-EA8F-4027-AC7F-A1A26B52B7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2430D-A4AD-4008-A827-981660DC7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FE998-DA7E-483B-9A40-5D97CBAE0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1632C-36C9-4C53-B904-39090B0A5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F9664-4FD2-4175-BC5D-FF06413D3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C7F82-B59C-4349-B9DA-9C5957373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1072E-5524-4E2D-B729-B4C335CCB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E35F5-A6B2-4675-A419-ED83D3169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6F47B-6125-48C3-BE8B-9023E8AB7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EDD95-3880-453F-A24F-8BC97B3B6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544C8-9803-449F-8B32-5BD2ED2F1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1384BC-5BF7-43A3-80EF-5390A6920C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BEBAF1-0618-4D5C-B54A-E8BCE8A1AB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66CCDA-5FF3-44A5-A36B-A486DA83EF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CE5D9E-C711-459B-A2B7-C984B83933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208C43-D608-4486-8D13-D87DB9CDF2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C7CBDB-7F00-47CA-B56B-78754EB778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ED181D-030C-466E-A676-BEC4E6DB8E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BB9F5-9657-4D53-8E63-C33B7263A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FFA58D-C9C8-49F7-A454-49AF397CFE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1C9DA-A942-4CA4-B421-7B34C90CDD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350789-B986-44B5-AEFB-DC70E629BB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FF2D35-480B-4438-A882-E4FCED24BE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547BE3-3617-4121-BB87-E2F82E5855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F2ABC3-099E-4A93-BA87-9EA2D55B01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66F835-2F13-46E5-BCF7-8085652312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3E22C-9BBE-4B04-A163-6556EDE8F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6367B-DCC7-477E-BB7F-F12171ECE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B3155-18F4-42B0-946C-9A4FEC453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84133-F9C1-4A42-979E-35B152422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5D2C2-D785-438B-9989-29AE6C82F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6ADEA-F4A1-49E7-85EE-7A4FB6CD0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765E-78C1-4D31-9B2C-E7DFA79411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71B5-C71A-460F-8AE5-B95FDA6EF4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6" descr="RCNET.jpg"/>
          <p:cNvPicPr/>
          <p:nvPr/>
        </p:nvPicPr>
        <p:blipFill>
          <a:blip r:embed="rId3"/>
          <a:stretch/>
        </p:blipFill>
        <p:spPr>
          <a:xfrm>
            <a:off x="8121600" y="5961240"/>
            <a:ext cx="1044720" cy="966600"/>
          </a:xfrm>
          <a:prstGeom prst="rect">
            <a:avLst/>
          </a:prstGeom>
          <a:ln w="0">
            <a:noFill/>
          </a:ln>
        </p:spPr>
      </p:pic>
      <p:pic>
        <p:nvPicPr>
          <p:cNvPr id="83" name="Picture 7" descr="IRSC_NSFPoster.jpg"/>
          <p:cNvPicPr/>
          <p:nvPr/>
        </p:nvPicPr>
        <p:blipFill>
          <a:blip r:embed="rId4"/>
          <a:stretch/>
        </p:blipFill>
        <p:spPr>
          <a:xfrm>
            <a:off x="0" y="6443640"/>
            <a:ext cx="457200" cy="358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F34C3-3DAF-4087-84B3-107FAE1373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rculating water, condensate system, flowpath, feed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class is to familiarize students with a BWR Main Circulating Water (CW) and Condensate (Cond) syste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use the Functional Operating Sketches (FOS) and Piping &amp; Instrumentation Drawings (P&amp;ID) of the CW and Cond systems at Fermi 2 as the primary tools to learn this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Title 1" descr=""/>
          <p:cNvPicPr/>
          <p:nvPr/>
        </p:nvPicPr>
        <p:blipFill>
          <a:blip r:embed="rId1"/>
          <a:stretch/>
        </p:blipFill>
        <p:spPr>
          <a:xfrm>
            <a:off x="-195120" y="0"/>
            <a:ext cx="9339120" cy="1262160"/>
          </a:xfrm>
          <a:prstGeom prst="rect">
            <a:avLst/>
          </a:prstGeom>
          <a:ln w="0">
            <a:noFill/>
          </a:ln>
        </p:spPr>
      </p:pic>
      <p:graphicFrame>
        <p:nvGraphicFramePr>
          <p:cNvPr id="134" name=""/>
          <p:cNvGraphicFramePr/>
          <p:nvPr/>
        </p:nvGraphicFramePr>
        <p:xfrm>
          <a:off x="237960" y="1523880"/>
          <a:ext cx="8668080" cy="1463760"/>
        </p:xfrm>
        <a:graphic>
          <a:graphicData uri="http://schemas.openxmlformats.org/drawingml/2006/table">
            <a:tbl>
              <a:tblPr/>
              <a:tblGrid>
                <a:gridCol w="1084320"/>
                <a:gridCol w="1082880"/>
                <a:gridCol w="1084320"/>
                <a:gridCol w="1082520"/>
                <a:gridCol w="1084320"/>
                <a:gridCol w="1082520"/>
                <a:gridCol w="1084320"/>
                <a:gridCol w="108288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1.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1.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1.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1.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1.8</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7.4</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7.5</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7.14</a:t>
                      </a:r>
                      <a:endParaRPr b="0" lang="en-US" sz="18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989FB-F099-42E1-AD43-8328E5FEEE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pic>
        <p:nvPicPr>
          <p:cNvPr id="161" name="Picture 7" descr="Fos00029_2"/>
          <p:cNvPicPr/>
          <p:nvPr/>
        </p:nvPicPr>
        <p:blipFill>
          <a:blip r:embed="rId1"/>
          <a:srcRect l="20684" t="12582" r="0" b="20499"/>
          <a:stretch/>
        </p:blipFill>
        <p:spPr>
          <a:xfrm>
            <a:off x="3473280" y="685800"/>
            <a:ext cx="5169240" cy="5757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B9D5D-D5AB-4AFC-AEC9-A9DF4949BD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3"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
        <p:nvSpPr>
          <p:cNvPr id="164" name="Text Box 31"/>
          <p:cNvSpPr/>
          <p:nvPr/>
        </p:nvSpPr>
        <p:spPr>
          <a:xfrm>
            <a:off x="1295280" y="1219320"/>
            <a:ext cx="6959880" cy="436140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ce to Safety:</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lating water is not required for safe shutdown of the plant, but a loss of Circulating Water would result in a loss of condenser vacuum and a MSIV closure.  This in turn causes a Main Generator trip and Reactor Scram.</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 system removes heat from the condenser (steam cycle) during normal operations.  By maintaining vacuum, the condenser is available for normal operations and in some cases available for off-normal and emergency conditions.  For instance, the EOPs allow bypassing interlocks to maintain the condenser available to remove heat generated during certain accident scenario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7522-E16D-4296-AB83-1809AE6D4E0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
        <p:nvSpPr>
          <p:cNvPr id="167" name="Text Box 31"/>
          <p:cNvSpPr/>
          <p:nvPr/>
        </p:nvSpPr>
        <p:spPr>
          <a:xfrm>
            <a:off x="1066680" y="1219320"/>
            <a:ext cx="7391520" cy="448308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 system component information:</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W Reservoir</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W Reservoir is a water supply basin containing approximately 27.5 x 10</a:t>
            </a:r>
            <a:r>
              <a:rPr b="0" lang="en-US" sz="1800" spc="-1" strike="noStrike" baseline="30000">
                <a:solidFill>
                  <a:srgbClr val="000000"/>
                </a:solidFill>
                <a:latin typeface="Arial"/>
              </a:rPr>
              <a:t>6</a:t>
            </a:r>
            <a:r>
              <a:rPr b="0" lang="en-US" sz="1800" spc="-1" strike="noStrike">
                <a:solidFill>
                  <a:srgbClr val="000000"/>
                </a:solidFill>
                <a:latin typeface="Arial"/>
              </a:rPr>
              <a:t> gallons of water at the low operating level.  The reservoir was initially filled with water from Lake Erie via the General Service Water System.</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W Pumps 1,2,3,4,5</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normal plant operating conditions, 1 to 5 CW pumps are in operation depending upon plant heat load and weather conditions.  Each CW pump draws water from the CW reservoir through a stationary screen and provides the pressure for water flow through CW.</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W pumps are each rated at 180,000 gpm design flow.  Each pump is a single stage centrifugal design, and is driven by a 5,000 horsepower induction mo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F6E9-B320-4A4D-AEFF-01DD2DFB3A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
        <p:nvSpPr>
          <p:cNvPr id="170" name="Text Box 31"/>
          <p:cNvSpPr/>
          <p:nvPr/>
        </p:nvSpPr>
        <p:spPr>
          <a:xfrm>
            <a:off x="990720" y="1219320"/>
            <a:ext cx="7391160" cy="475740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 system component information:</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W Pump Discharge Valve, N7100F601,2,3,4,5</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tor operated butterfly valve is installed on the discharge side of each CW pump.  This discharge valve allows its respective pump to be isolated from the common discharge header during plant operation.  The valve will automatically open on pump start and close on pump shutdown.  It is also interlocked with the pump such that if the valve reaches full closed the pump will trip off.</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W Pump Discharge Piping</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12 foot diameter, underground concrete pipes direct CW pump discharge flow to the Main Condenser inlet water boxe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W Water Box Inlet Isolation Valve, F606(7,8,9)</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half of the Main Condenser can be isolated from the CW pump discharge header by 9 foot diameter, motor operated, butterfly valves. </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659B-8500-49AF-9B3B-A11A00E89F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2"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
        <p:nvSpPr>
          <p:cNvPr id="173" name="Text Box 31"/>
          <p:cNvSpPr/>
          <p:nvPr/>
        </p:nvSpPr>
        <p:spPr>
          <a:xfrm>
            <a:off x="1295280" y="1219320"/>
            <a:ext cx="6959880" cy="420876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 system component information:</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Condenser</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Condenser is a single pressure, single pass, deaerating, shell and tube type heat exchanger.  The Main Condenser shell is provided with two 50% capacity tube bundles, which are arranged such that each tube bundle will serve half, East or West, of the condenser.  The East (West) section is provided with 2 inlet connections, one located at each end, and one outlet connection located in the center of the condenser.  CW flows into the inlet connections, through the tubes, and exits to the Cooling Towers from the outlet connections. The condenser is designed for an 18°F circulating water temperature rise from inlet to outlet.</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1820-4DED-44EF-ACA2-E3850158E2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
        <p:nvSpPr>
          <p:cNvPr id="176" name="Text Box 31"/>
          <p:cNvSpPr/>
          <p:nvPr/>
        </p:nvSpPr>
        <p:spPr>
          <a:xfrm>
            <a:off x="1295280" y="1219320"/>
            <a:ext cx="6959880" cy="503172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 system component information:</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ling Tower, W2400B001,2</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mi 2 has two 50% capacity, hyperbolic, natural draft, concrete Cooling Towers.  The towers are 400 feet high and 454 feet wide at the base.  The towers are the cross flow type where air flow is perpendicular to the downward flow of water. </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wer shell is a reinforced concrete hyperbolic structure supported by 36 precast X-shaped columns.  The shell does not have to be hyperbolic, but this design is the strongest and uses the least amount of material for the required size structure for the predetermined heat transfer capability.  The height of the shell results in a chimney effect, inducing a natural upward draft of air flow through the tower. A sloped, reinforced concrete basin is located beneath the shell and flume structures.  The cooled water droplets are collected in the basin.  The basin is sloped to assist in tower drainage to the CW Reservoir and silt removal.</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19B9-B843-4E4F-8DC5-DD3D49BF55E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pic>
        <p:nvPicPr>
          <p:cNvPr id="179" name="Picture 7" descr="Sd00002_3"/>
          <p:cNvPicPr/>
          <p:nvPr/>
        </p:nvPicPr>
        <p:blipFill>
          <a:blip r:embed="rId1"/>
          <a:srcRect l="25688" t="15152" r="1911" b="26630"/>
          <a:stretch/>
        </p:blipFill>
        <p:spPr>
          <a:xfrm>
            <a:off x="3200400" y="762120"/>
            <a:ext cx="5180040" cy="548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BD8A-1765-466D-9B89-8D20BE961A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
        <p:nvSpPr>
          <p:cNvPr id="182" name="Text Box 31"/>
          <p:cNvSpPr/>
          <p:nvPr/>
        </p:nvSpPr>
        <p:spPr>
          <a:xfrm>
            <a:off x="1295280" y="1219320"/>
            <a:ext cx="6959880" cy="475740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 system component information:</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W Cooling Tower Bypass Spill Gate, W2400F605,6,7,8</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ooling Tower has 2 motor operated bypass gates.  The CW tower bypass gates can divert approximately 225,000 gpm around each tower fill section by discharging the water directly to the cold water basin.  Flow drop structures are designed within the basin to minimize the erosive effect of the high velocity bypass flow.</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W Cooling Tower Isolation Valve, W2400F601,2,3,4</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ooling Tower has 2 motor operated isolation butterfly valves to isolate CW flow to each half of the Cooling Tower.</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W Cooling Tower GSW Bypass Valve, W2400F609,610</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d off each Cooling Tower riser is a motor operated, 20 inch diameter, butterfly valve.  Each valve opens to allow GSW at approximately 14,500 gpm flow rate each to be routed directly to the cold water bas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DA13-3746-4A48-9637-2419F7490A8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
        <p:nvSpPr>
          <p:cNvPr id="185" name="Text Box 31"/>
          <p:cNvSpPr/>
          <p:nvPr/>
        </p:nvSpPr>
        <p:spPr>
          <a:xfrm>
            <a:off x="1295280" y="1219320"/>
            <a:ext cx="6959880" cy="448308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 system component information:</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W Screen Wash System</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W Screen Wash System was added to allow maintenance to clean suction screens without having to use a crane and the fire system. A trolley mounted hoist (crane) runs on rail car tracks to lift the screens and take them to the screen wash area. A Screen Washdown Pump (N7100C009) – 10 hp centrifugal pump is installed in the NE corner of the CW Pump House (old Chlorination Room) to provide the driving force for the screen wash system. The suction comes from the discharge of the #1 CW Pump downstream of the discharge isolation valve. The pump discharges to a fire house connection outside of the CWPH. Maintenance personnel attach a fire hose and then are ready to clean the screens. The pump is operated outside – using and on-off pushbutton on the control pan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5474F-FE1B-4DA8-BDE8-63C3E8A5D60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
        <p:nvSpPr>
          <p:cNvPr id="188" name="Text Box 31"/>
          <p:cNvSpPr/>
          <p:nvPr/>
        </p:nvSpPr>
        <p:spPr>
          <a:xfrm>
            <a:off x="1295280" y="1219320"/>
            <a:ext cx="6959880" cy="475740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 system component information:</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mp House HVAC</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W Pump has an exhaust fan associated with it from the CW Pump House HVAC System.  This fan draws room air and outside air across the CW Pump Motor for cooling.  This fan is interlocked with the CW Pump start logic.</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HVAC fan associated with the CW Pump to be started is not in AUTO or already running the CW Pump will not start.</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sing Flight Service Office of the FAA</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W Cooling Towers are 400 feet tall and therefore must have aircraft warning lights on them.</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any of the aircraft warning lights fail on the Cooling Towers the Lansing Flight Service Office of the FAA must be notified.  The FAA will then put out a notification of the failure to pilots operating in the ar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EFC6-358F-402E-AB5F-E852AA0EBE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Text Box 2"/>
          <p:cNvSpPr/>
          <p:nvPr/>
        </p:nvSpPr>
        <p:spPr>
          <a:xfrm>
            <a:off x="990720" y="533520"/>
            <a:ext cx="7086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CIRC WATER AND CONDENSATE</a:t>
            </a:r>
            <a:endParaRPr b="0" lang="en-US" sz="1800" spc="-1" strike="noStrike">
              <a:solidFill>
                <a:srgbClr val="000000"/>
              </a:solidFill>
              <a:latin typeface="Arial"/>
            </a:endParaRPr>
          </a:p>
        </p:txBody>
      </p:sp>
      <p:sp>
        <p:nvSpPr>
          <p:cNvPr id="137" name="Text Box 31"/>
          <p:cNvSpPr/>
          <p:nvPr/>
        </p:nvSpPr>
        <p:spPr>
          <a:xfrm>
            <a:off x="1295280" y="2057400"/>
            <a:ext cx="6959880" cy="173988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OBJECTIVE</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understand the Main Circ Water (CW) and Condensate (Cond) systems, their major components and flowpath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DE576-A54D-439E-ADCC-C1221A76A7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ONDENSATE</a:t>
            </a:r>
            <a:endParaRPr b="0" lang="en-US" sz="2000" spc="-1" strike="noStrike">
              <a:solidFill>
                <a:srgbClr val="000000"/>
              </a:solidFill>
              <a:latin typeface="Arial"/>
            </a:endParaRPr>
          </a:p>
        </p:txBody>
      </p:sp>
      <p:sp>
        <p:nvSpPr>
          <p:cNvPr id="191" name="Text Box 8"/>
          <p:cNvSpPr/>
          <p:nvPr/>
        </p:nvSpPr>
        <p:spPr>
          <a:xfrm>
            <a:off x="762120" y="1219320"/>
            <a:ext cx="754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p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Condensate is to collect steam from the overall turbine cycle and return condensate to the suction of the reactor feed pumps at the proper water quality, pressure, temperature and flow to support power oper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BE2F-E565-4C94-ABC6-8D1E03BD56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ONDENSATE</a:t>
            </a:r>
            <a:endParaRPr b="0" lang="en-US" sz="2000" spc="-1" strike="noStrike">
              <a:solidFill>
                <a:srgbClr val="000000"/>
              </a:solidFill>
              <a:latin typeface="Arial"/>
            </a:endParaRPr>
          </a:p>
        </p:txBody>
      </p:sp>
      <p:sp>
        <p:nvSpPr>
          <p:cNvPr id="194" name="Text Box 7"/>
          <p:cNvSpPr/>
          <p:nvPr/>
        </p:nvSpPr>
        <p:spPr>
          <a:xfrm>
            <a:off x="762120" y="1219320"/>
            <a:ext cx="77724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escription and major flowpath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ensed turbine exhaust steam collects in the Hotwell of the Main Condenser.  This condensate is removed from the Hotwell by 3 parallel operating Condenser Pumps.  Each Condenser Pump has suction and discharge isolation valves, and a discharge check valve that prevents reverse flow through an idle pump.  The Condenser Pumps are located in the Turbine Building basement as far below the Hotwell as possible, to provide the highest Net Positive Suction He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denser Pumps serve to transfer the water collected in the Hotwell to the Heater Feed Pumps.  Condensate is delivered to the Heater Feed Pumps by way of the Steam Jet Air Ejector Intercondensers, Off Gas Condensers, Gland Steam Exhaust Condenser, and Condensate Filter/Demineraliz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5A21-2E57-449B-B38E-04F9E8D045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ONDENSATE</a:t>
            </a:r>
            <a:endParaRPr b="0" lang="en-US" sz="2000" spc="-1" strike="noStrike">
              <a:solidFill>
                <a:srgbClr val="000000"/>
              </a:solidFill>
              <a:latin typeface="Arial"/>
            </a:endParaRPr>
          </a:p>
        </p:txBody>
      </p:sp>
      <p:pic>
        <p:nvPicPr>
          <p:cNvPr id="197" name="Picture 7" descr="Fos00042"/>
          <p:cNvPicPr/>
          <p:nvPr/>
        </p:nvPicPr>
        <p:blipFill>
          <a:blip r:embed="rId1"/>
          <a:srcRect l="7418" t="22757" r="0" b="31756"/>
          <a:stretch/>
        </p:blipFill>
        <p:spPr>
          <a:xfrm>
            <a:off x="914400" y="838080"/>
            <a:ext cx="7772400" cy="503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B38B-8495-4A0C-A8DD-926B456C08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9"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ONDENSATE</a:t>
            </a:r>
            <a:endParaRPr b="0" lang="en-US" sz="2000" spc="-1" strike="noStrike">
              <a:solidFill>
                <a:srgbClr val="000000"/>
              </a:solidFill>
              <a:latin typeface="Arial"/>
            </a:endParaRPr>
          </a:p>
        </p:txBody>
      </p:sp>
      <p:sp>
        <p:nvSpPr>
          <p:cNvPr id="200" name="Text Box 10"/>
          <p:cNvSpPr/>
          <p:nvPr/>
        </p:nvSpPr>
        <p:spPr>
          <a:xfrm>
            <a:off x="762120" y="1219320"/>
            <a:ext cx="77724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escription and major flowpath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ght Condensate Filter/Demineralizers are provided to remove dissolved and suspended impurities from the condensate.  A line bypassing the Condensate Filter/Demineralizers serves to direct condensate around the demineralizer units if excessive differential pressure is developed or if a demineralizer fault exists.  The bypass flow control valve in this line will automatically open to ensure constant flow to Reactor Feedwater in the event of excessive differential pressure or a demineralizer fau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ensate which exits the Condensate Filter/Demineralizers is directed to the suction of the parallel operated Heater Feed Pum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33% capacity Heater Feed Pumps are provided to support normal full power oper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densate is directed from the discharge of the Heater Feed Pumps and split into 3 separate Drains Cooler flowpaths (East, Center, West).  In the Drains Coolers the temperature of the condensate is raised by cascading Heater Dra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F7F0-B1FC-4CD1-BB4F-6DB718EC89F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2"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ONDENSATE</a:t>
            </a:r>
            <a:endParaRPr b="0" lang="en-US" sz="2000" spc="-1" strike="noStrike">
              <a:solidFill>
                <a:srgbClr val="000000"/>
              </a:solidFill>
              <a:latin typeface="Arial"/>
            </a:endParaRPr>
          </a:p>
        </p:txBody>
      </p:sp>
      <p:pic>
        <p:nvPicPr>
          <p:cNvPr id="203" name="Picture 8" descr="Fos00008"/>
          <p:cNvPicPr/>
          <p:nvPr/>
        </p:nvPicPr>
        <p:blipFill>
          <a:blip r:embed="rId1"/>
          <a:srcRect l="0" t="21503" r="0" b="27939"/>
          <a:stretch/>
        </p:blipFill>
        <p:spPr>
          <a:xfrm>
            <a:off x="685800" y="838080"/>
            <a:ext cx="7620120" cy="5079960"/>
          </a:xfrm>
          <a:prstGeom prst="rect">
            <a:avLst/>
          </a:prstGeom>
          <a:ln w="0">
            <a:noFill/>
          </a:ln>
        </p:spPr>
      </p:pic>
      <p:sp>
        <p:nvSpPr>
          <p:cNvPr id="204" name="AutoShape 9"/>
          <p:cNvSpPr/>
          <p:nvPr/>
        </p:nvSpPr>
        <p:spPr>
          <a:xfrm>
            <a:off x="533520" y="4876920"/>
            <a:ext cx="609480" cy="1143000"/>
          </a:xfrm>
          <a:custGeom>
            <a:avLst/>
            <a:gdLst>
              <a:gd name="textAreaLeft" fmla="*/ 29520 w 609480"/>
              <a:gd name="textAreaRight" fmla="*/ 579960 w 609480"/>
              <a:gd name="textAreaTop" fmla="*/ 29520 h 1143000"/>
              <a:gd name="textAreaBottom" fmla="*/ 1113480 h 1143000"/>
            </a:gdLst>
            <a:ahLst/>
            <a:rect l="textAreaLeft" t="textAreaTop" r="textAreaRight" b="textAreaBottom"/>
            <a:pathLst>
              <a:path w="21600" h="40497">
                <a:moveTo>
                  <a:pt x="3600" y="0"/>
                </a:moveTo>
                <a:arcTo wR="3600" hR="3600" stAng="16200000" swAng="-5400000"/>
                <a:lnTo>
                  <a:pt x="0" y="36897"/>
                </a:lnTo>
                <a:arcTo wR="3600" hR="3600" stAng="10800000" swAng="-5400000"/>
                <a:lnTo>
                  <a:pt x="18000" y="4049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z9-cVGrR9OE?version=3&amp;hl=en_US&amp;rel=0" descr=""/>
          <p:cNvPicPr/>
          <p:nvPr/>
        </p:nvPicPr>
        <p:blipFill>
          <a:blip r:embed="rId1"/>
          <a:stretch/>
        </p:blipFill>
        <p:spPr>
          <a:xfrm>
            <a:off x="406440" y="228600"/>
            <a:ext cx="8432640" cy="6324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93D5-03F0-49DD-A15B-2B878BF08E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ONDENSATE</a:t>
            </a:r>
            <a:endParaRPr b="0" lang="en-US" sz="2000" spc="-1" strike="noStrike">
              <a:solidFill>
                <a:srgbClr val="000000"/>
              </a:solidFill>
              <a:latin typeface="Arial"/>
            </a:endParaRPr>
          </a:p>
        </p:txBody>
      </p:sp>
      <p:pic>
        <p:nvPicPr>
          <p:cNvPr id="208" name="Picture 8" descr="Ssf00017_3"/>
          <p:cNvPicPr/>
          <p:nvPr/>
        </p:nvPicPr>
        <p:blipFill>
          <a:blip r:embed="rId1"/>
          <a:srcRect l="0" t="0" r="0" b="29230"/>
          <a:stretch/>
        </p:blipFill>
        <p:spPr>
          <a:xfrm>
            <a:off x="1523880" y="533520"/>
            <a:ext cx="6324840" cy="5913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C355A-58B9-46DD-BF8B-43106F61D4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0"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ONDENSATE</a:t>
            </a:r>
            <a:endParaRPr b="0" lang="en-US" sz="2000" spc="-1" strike="noStrike">
              <a:solidFill>
                <a:srgbClr val="000000"/>
              </a:solidFill>
              <a:latin typeface="Arial"/>
            </a:endParaRPr>
          </a:p>
        </p:txBody>
      </p:sp>
      <p:sp>
        <p:nvSpPr>
          <p:cNvPr id="211" name="Text Box 8"/>
          <p:cNvSpPr/>
          <p:nvPr/>
        </p:nvSpPr>
        <p:spPr>
          <a:xfrm>
            <a:off x="2194920" y="3008160"/>
            <a:ext cx="415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PIC OF COND PUMPS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3F37-4310-4853-B54B-E414483EA7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3"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ONDENSATE</a:t>
            </a:r>
            <a:endParaRPr b="0" lang="en-US" sz="2000" spc="-1" strike="noStrike">
              <a:solidFill>
                <a:srgbClr val="000000"/>
              </a:solidFill>
              <a:latin typeface="Arial"/>
            </a:endParaRPr>
          </a:p>
        </p:txBody>
      </p:sp>
      <p:sp>
        <p:nvSpPr>
          <p:cNvPr id="214" name="Text Box 8"/>
          <p:cNvSpPr/>
          <p:nvPr/>
        </p:nvSpPr>
        <p:spPr>
          <a:xfrm>
            <a:off x="2195640" y="3008160"/>
            <a:ext cx="406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PIC OF CONDENSER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593D5-74C8-416E-BA5C-3D4ECFC29E0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6"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ONDENSATE</a:t>
            </a:r>
            <a:endParaRPr b="0" lang="en-US" sz="2000" spc="-1" strike="noStrike">
              <a:solidFill>
                <a:srgbClr val="000000"/>
              </a:solidFill>
              <a:latin typeface="Arial"/>
            </a:endParaRPr>
          </a:p>
        </p:txBody>
      </p:sp>
      <p:sp>
        <p:nvSpPr>
          <p:cNvPr id="217" name="Text Box 7"/>
          <p:cNvSpPr/>
          <p:nvPr/>
        </p:nvSpPr>
        <p:spPr>
          <a:xfrm>
            <a:off x="685800" y="1143000"/>
            <a:ext cx="7772400" cy="435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omponent descrip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Condens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in Condenser collects and condenses the steam from the Turbine.  Condensate is collected in the Main Condenser and supplied to the suction of the Condenser Pumps. The Main Condenser is a deaerating type, single pressure, single pass condenser.  It consists of 2 condensing sections (east and west) which are located in the common shell beneath the 3 Low Pressure Turbines.  The condenser tubes are parallel to the turbine shaft, with Circulating Water entering at the ends of the condenser and discharging from the center.  The tubes are 1 inch in diameter and fabricated of titanium me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twell</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ensate in each tube bundle falls onto a sloping drain tray where it is broken up into small streams as it flows through the various rows of holes in perforated plates into the Hotwell.  As steam from the top of the condenser passes directly down through the condenser and comes in contact with these small streams, the condensate is reheat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2097-7B1A-45DF-B1B1-80E6D6F76A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9" name="Text Box 31"/>
          <p:cNvSpPr/>
          <p:nvPr/>
        </p:nvSpPr>
        <p:spPr>
          <a:xfrm>
            <a:off x="762120" y="1295280"/>
            <a:ext cx="7924680" cy="454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ING OBJEC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the purpose of the Main Circ Water system, including its importance to nuclear safety.</a:t>
            </a: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the purpose of the Condensate system, including its importance to nuclear safety.</a:t>
            </a: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 simplified diagram, identify and explain the purpose of the major components and equipment of the Main Circ Water (CW) and Condensate (Cond) systems.</a:t>
            </a: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modes of operation of the Main Circ Water (CW) and Condensate (Cond) systems, including the major components and flowpaths associated with each mode.</a:t>
            </a: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basic interrelationships between the Main Circ Water (CW) and Condensate (Cond) systems and other plant systems. </a:t>
            </a:r>
            <a:endParaRPr b="0" lang="en-US" sz="1800" spc="-1" strike="noStrike">
              <a:solidFill>
                <a:srgbClr val="000000"/>
              </a:solidFill>
              <a:latin typeface="Arial"/>
            </a:endParaRPr>
          </a:p>
        </p:txBody>
      </p:sp>
      <p:sp>
        <p:nvSpPr>
          <p:cNvPr id="140" name="Text Box 2"/>
          <p:cNvSpPr/>
          <p:nvPr/>
        </p:nvSpPr>
        <p:spPr>
          <a:xfrm>
            <a:off x="990720" y="533520"/>
            <a:ext cx="7086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CIRC WATER AND CONDENS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95BE-1796-497D-B5DD-EA8146F95B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Text Box 6"/>
          <p:cNvSpPr/>
          <p:nvPr/>
        </p:nvSpPr>
        <p:spPr>
          <a:xfrm>
            <a:off x="685800" y="1143000"/>
            <a:ext cx="7772400" cy="408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omponent descrip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enser Pum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denser Pumps take a suction from the Condenser Hotwell and provide the driving force for flow through the Condensate Filter/Demineraliz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Condenser Pump is equipped with a motor operated suction valve, a discharge check valve and a motor operated discharge valve.  The suction and discharge valves are interlocked with the pump start sequence.  The suction valve must be &gt;90% open and the discharge valve has to be &gt;10% open in order to start the associated pum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denser Pumps are vertical, 4-stage, induction motor driven pum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mp motors are lubricated from 2 self-contained oil reservoi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denser Pumps are controlled from CMC switches located on H11-P805 in the Main Control Room. A Minimum Flow Control Valve, N20-F404, protects the Condenser Pumps by providing the required minimum flow during plant startup and shutdown modes.</a:t>
            </a:r>
            <a:endParaRPr b="0" lang="en-US" sz="1600" spc="-1" strike="noStrike">
              <a:solidFill>
                <a:srgbClr val="000000"/>
              </a:solidFill>
              <a:latin typeface="Arial"/>
            </a:endParaRPr>
          </a:p>
        </p:txBody>
      </p:sp>
      <p:sp>
        <p:nvSpPr>
          <p:cNvPr id="220"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ONDENS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F011-3136-4E92-8C86-891264D688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2"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ONDENSATE</a:t>
            </a:r>
            <a:endParaRPr b="0" lang="en-US" sz="2000" spc="-1" strike="noStrike">
              <a:solidFill>
                <a:srgbClr val="000000"/>
              </a:solidFill>
              <a:latin typeface="Arial"/>
            </a:endParaRPr>
          </a:p>
        </p:txBody>
      </p:sp>
      <p:sp>
        <p:nvSpPr>
          <p:cNvPr id="223" name="Text Box 7"/>
          <p:cNvSpPr/>
          <p:nvPr/>
        </p:nvSpPr>
        <p:spPr>
          <a:xfrm>
            <a:off x="685800" y="1143000"/>
            <a:ext cx="7772400" cy="509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omponent descrip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densate Filter/Demineralizers (CF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ensate is directed to the CFDs.  The 8 parallel units provide mechanical filtration and ion exchange to improve overall water qual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FD Bypass Control Valve allows condensate to flow around the demineralizers during high differential pressure conditions or in the event that a demineralizer fault occurs. Normally, 8 CFD are in service, however, the system is capable of supporting full power operations with 6 CFD inserv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ter Feed Pumps</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ensate flows from the Condensate Filter/Demineralizers to the suction header for the Heater Feed Pumps.  Three Heater Feed Pumps are provided to increase system pressure to provide the driving force for flow through the Drains Coolers and Low Pressure Heaters. Each pump is a horizontal, single stage, double suction, motor driven pump.  The Heater Feed Pumps are powered from the BOP 4160VAC Bus. Each Heater Feed Pump is equipped with a minimum flow recirculation valve, F405A(B,C), which allows condensate to return to the Main Condenser Hotwell during periods of low system flow.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054D-90E3-4AA2-B0A5-B8DBC3A7FF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5" name="Text Box 2"/>
          <p:cNvSpPr/>
          <p:nvPr/>
        </p:nvSpPr>
        <p:spPr>
          <a:xfrm>
            <a:off x="990720" y="533520"/>
            <a:ext cx="7086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CIRC WATER AND CONDENSATE</a:t>
            </a:r>
            <a:endParaRPr b="0" lang="en-US" sz="1800" spc="-1" strike="noStrike">
              <a:solidFill>
                <a:srgbClr val="000000"/>
              </a:solidFill>
              <a:latin typeface="Arial"/>
            </a:endParaRPr>
          </a:p>
        </p:txBody>
      </p:sp>
      <p:sp>
        <p:nvSpPr>
          <p:cNvPr id="226" name="Text Box 31"/>
          <p:cNvSpPr/>
          <p:nvPr/>
        </p:nvSpPr>
        <p:spPr>
          <a:xfrm>
            <a:off x="1295280" y="2057400"/>
            <a:ext cx="6959880" cy="173988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OBJECTIVE</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understand the Main Circ Water (CW) and Condensate (Cond) systems, their major components and flowpath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7"/>
          <p:cNvSpPr/>
          <p:nvPr/>
        </p:nvSpPr>
        <p:spPr>
          <a:xfrm>
            <a:off x="3659400" y="1143000"/>
            <a:ext cx="1253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72E1-E8B6-4891-8ADD-D73B9AAB63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9" name="Text Box 31"/>
          <p:cNvSpPr/>
          <p:nvPr/>
        </p:nvSpPr>
        <p:spPr>
          <a:xfrm>
            <a:off x="762120" y="1295280"/>
            <a:ext cx="7924680" cy="454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ING OBJEC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the purpose of the Main Circ Water system, including its importance to nuclear safety.</a:t>
            </a: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the purpose of the Condensate system, including its importance to nuclear safety.</a:t>
            </a: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 simplified diagram, identify and explain the purpose of the major components and equipment of the Main Circ Water (CW) and Condensate (Cond) systems.</a:t>
            </a: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modes of operation of the Main Circ Water (CW) and Condensate (Cond) systems, including the major components and flowpaths associated with each mode.</a:t>
            </a: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basic interrelationships between the Main Circ Water (CW) and Condensate (Cond) systems and other plant systems. </a:t>
            </a:r>
            <a:endParaRPr b="0" lang="en-US" sz="1800" spc="-1" strike="noStrike">
              <a:solidFill>
                <a:srgbClr val="000000"/>
              </a:solidFill>
              <a:latin typeface="Arial"/>
            </a:endParaRPr>
          </a:p>
        </p:txBody>
      </p:sp>
      <p:sp>
        <p:nvSpPr>
          <p:cNvPr id="230" name="Text Box 2"/>
          <p:cNvSpPr/>
          <p:nvPr/>
        </p:nvSpPr>
        <p:spPr>
          <a:xfrm>
            <a:off x="990720" y="533520"/>
            <a:ext cx="7086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CIRC WATER AND CONDENSATE</a:t>
            </a:r>
            <a:endParaRPr b="0" lang="en-US" sz="1800" spc="-1" strike="noStrike">
              <a:solidFill>
                <a:srgbClr val="000000"/>
              </a:solidFill>
              <a:latin typeface="Arial"/>
            </a:endParaRPr>
          </a:p>
        </p:txBody>
      </p:sp>
      <p:sp>
        <p:nvSpPr>
          <p:cNvPr id="231" name="Text Box 7"/>
          <p:cNvSpPr/>
          <p:nvPr/>
        </p:nvSpPr>
        <p:spPr>
          <a:xfrm>
            <a:off x="839880" y="838080"/>
            <a:ext cx="1253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9B85-7887-4DC4-903D-A738DAEEE3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Text Box 31"/>
          <p:cNvSpPr/>
          <p:nvPr/>
        </p:nvSpPr>
        <p:spPr>
          <a:xfrm>
            <a:off x="1219320" y="1219320"/>
            <a:ext cx="6959520" cy="2989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the Circ Water (CW) system</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Circulating Water (CW) is to remove the heat rejected to the Main Condenser by the low pressure turbines exhaust steam.</a:t>
            </a:r>
            <a:endParaRPr b="0" lang="en-US" sz="18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 transfers the heat from the Main Condenser to the atmosphere via 2 natural draft Cooling Towe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3B05-488A-458C-897A-E8900901F1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5"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pic>
        <p:nvPicPr>
          <p:cNvPr id="146" name="Picture 9" descr="Ssf00004_1"/>
          <p:cNvPicPr/>
          <p:nvPr/>
        </p:nvPicPr>
        <p:blipFill>
          <a:blip r:embed="rId1"/>
          <a:srcRect l="14014" t="18899" r="0" b="28077"/>
          <a:stretch/>
        </p:blipFill>
        <p:spPr>
          <a:xfrm>
            <a:off x="1676520" y="838080"/>
            <a:ext cx="5892840" cy="480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igf96TS3Els?version=3&amp;hl=en_US&amp;rel=0" descr=""/>
          <p:cNvPicPr/>
          <p:nvPr/>
        </p:nvPicPr>
        <p:blipFill>
          <a:blip r:embed="rId1"/>
          <a:stretch/>
        </p:blipFill>
        <p:spPr>
          <a:xfrm>
            <a:off x="406440" y="285840"/>
            <a:ext cx="8356680" cy="6267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2"/>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ET 130</a:t>
            </a:r>
            <a:endParaRPr b="0" lang="en-US" sz="1400" spc="-1" strike="noStrike">
              <a:solidFill>
                <a:srgbClr val="000000"/>
              </a:solidFill>
              <a:latin typeface="Arial"/>
            </a:endParaRPr>
          </a:p>
        </p:txBody>
      </p:sp>
      <p:sp>
        <p:nvSpPr>
          <p:cNvPr id="14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7E9F-A781-47BD-AD5A-FF39F7C009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0" name="Text Box 31"/>
          <p:cNvSpPr/>
          <p:nvPr/>
        </p:nvSpPr>
        <p:spPr>
          <a:xfrm>
            <a:off x="685800" y="1295280"/>
            <a:ext cx="784872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escription and major flowpath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irculating water system supplies the main condenser with the necessary cooling water at temperatures ranging from nominal 55°F to 94°F.  In the winter, the water temperature may be as low as 35°F; however, if that is the case, the cooling towers are bypasse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irculating water reservoir is sized to permit at least 12 hr full-load operation of Fermi 2 following loss of makeup water, which might occur with simultaneous conditions of sustained strong westerly winds and low Lake Erie water level.  The reservoir area is 5.5 acres.  Approximately 27.5 x 10</a:t>
            </a:r>
            <a:r>
              <a:rPr b="0" lang="en-US" sz="1800" spc="-1" strike="noStrike" baseline="30000">
                <a:solidFill>
                  <a:srgbClr val="000000"/>
                </a:solidFill>
                <a:latin typeface="Arial"/>
              </a:rPr>
              <a:t>6</a:t>
            </a:r>
            <a:r>
              <a:rPr b="0" lang="en-US" sz="1800" spc="-1" strike="noStrike">
                <a:solidFill>
                  <a:srgbClr val="000000"/>
                </a:solidFill>
                <a:latin typeface="Arial"/>
              </a:rPr>
              <a:t> gal are available at sufficient head for the circulating water pumps and represent evaporative losses in 12 hr.  Following this, if makeup water still were not available, an orderly shutdown would be initiated.  About 20 x 10</a:t>
            </a:r>
            <a:r>
              <a:rPr b="0" lang="en-US" sz="1800" spc="-1" strike="noStrike" baseline="30000">
                <a:solidFill>
                  <a:srgbClr val="000000"/>
                </a:solidFill>
                <a:latin typeface="Arial"/>
              </a:rPr>
              <a:t>6</a:t>
            </a:r>
            <a:r>
              <a:rPr b="0" lang="en-US" sz="1800" spc="-1" strike="noStrike">
                <a:solidFill>
                  <a:srgbClr val="000000"/>
                </a:solidFill>
                <a:latin typeface="Arial"/>
              </a:rPr>
              <a:t> gal would still remain in the reservoir to supply general service water (GSW) during and following the shutdow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2"/>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ET 130</a:t>
            </a:r>
            <a:endParaRPr b="0" lang="en-US" sz="1400" spc="-1" strike="noStrike">
              <a:solidFill>
                <a:srgbClr val="000000"/>
              </a:solidFill>
              <a:latin typeface="Arial"/>
            </a:endParaRPr>
          </a:p>
        </p:txBody>
      </p:sp>
      <p:sp>
        <p:nvSpPr>
          <p:cNvPr id="1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89AE8-9870-45FA-A0EB-75ABBCD973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
        <p:nvSpPr>
          <p:cNvPr id="155" name="Text Box 31"/>
          <p:cNvSpPr/>
          <p:nvPr/>
        </p:nvSpPr>
        <p:spPr>
          <a:xfrm>
            <a:off x="838080" y="1219320"/>
            <a:ext cx="7620120" cy="420876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escription and major flowpath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 consists of the CW Reservoir, CW Pumps, Main Condenser, and Cooling Tower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ve CW Pumps are located in the CW Pump House.  These pumps take suction from the CW Reservoir and discharge via two pipes to the 4 Main Condenser inlet water boxes.  The water boxes direct the incoming flow of water through the Main Condenser tubes.  Heat is removed from the Main Turbine exhaust steam in the Condenser.  The heated water is then discharged from the 2 outlet water boxes through 2 pipes, connected by an equalizing line, to the Cooling Tower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Condenser, CW is directed to 2 hyperbolic natural draft Cooling Towers through the Cooling Tower fill area.  Heat is transferred to the air in the Cooling Tower.  Some water will evaporate during this process.  The rest is collected in a cold water bas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74A4-AA74-4DA6-8BE6-E8F1CD9FF1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
        <p:nvSpPr>
          <p:cNvPr id="158" name="Text Box 31"/>
          <p:cNvSpPr/>
          <p:nvPr/>
        </p:nvSpPr>
        <p:spPr>
          <a:xfrm>
            <a:off x="1295280" y="1219320"/>
            <a:ext cx="6959880" cy="510804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escription and major flowpath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Cooling Tower cold water basin, the water flows down into the Circulating Water Reservoir and to the circulating water pump house located at the South end of the reservoir.</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keup water system replaces the circulating water losses caused by evaporation.  Makeup water to CW is from the General Service Water (GSW) discharge or from the CW Reservoir Makeup Pumps.</a:t>
            </a:r>
            <a:endParaRPr b="0" lang="en-US" sz="1800" spc="-1" strike="noStrike">
              <a:solidFill>
                <a:srgbClr val="000000"/>
              </a:solidFill>
              <a:latin typeface="Arial"/>
            </a:endParaRPr>
          </a:p>
          <a:p>
            <a:pPr marL="233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dium Hypochloride is added to the circulating water to prevent growth of algae and slime on the inner surfaces of the condenser tubes. Regular monitoring of residual chemicals at the decanting line is done to comply with environmental regulations.  Chemicals may be added to the circulating water for dehalogenation and pH control prior to decanting. In addition, an organic polymer is added at the CW Pump intake to control scale formation in the piping.</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7T15:20:16Z</dcterms:created>
  <dc:creator>Cavey Main</dc:creator>
  <dc:description/>
  <dc:language>en-US</dc:language>
  <cp:lastModifiedBy>Peggy Hines IRSC</cp:lastModifiedBy>
  <dcterms:modified xsi:type="dcterms:W3CDTF">2013-02-12T19:23:56Z</dcterms:modified>
  <cp:revision>10</cp:revision>
  <dc:subject/>
  <dc:title>Slide 1</dc:title>
</cp:coreProperties>
</file>