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0191-F639-4975-9E7D-0967AB5DF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87E7-3BAC-4CA2-A787-69F1225C1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383D-1163-4D0A-9319-C6E4594F0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E138-2D06-4A44-AB95-8A589A9D2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FFB9-B6C5-4259-B2D8-D9FAEEBBB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466A-08B1-4608-AFD1-F6299B388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867C-5B2D-437C-A588-8E1023C63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3DB5-65BC-4E69-8777-3CC8DDE43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807C-2E9D-4ACF-BDEF-316008170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C388-E408-4238-AFA0-60BB3E03D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87AA-D06B-4837-87BC-2201EAFBF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A127-B840-4C05-ACAB-8A63BF233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25CE-8360-4DCA-B07D-0FEF861A2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E787-4B87-4ADF-83BA-5A36C68BB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B7D5-5202-40E5-AF1B-C185D2847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5C6BD-64FE-4886-BE7D-5BA249E457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5107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DE8AA-2C64-45ED-9434-4D2811864E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7367D-1967-45AE-8C1D-EE63814DD8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5107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5107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5107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1F18B-39FC-4E60-8A0A-2A8EA28488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148D7-92B4-414F-8D95-DF98BF1045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E2F7A-7338-4A90-A074-F76E4B32D3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302E5-3005-4338-A8EA-B6D2C05748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CB339-AA30-4A94-AC39-E8CA77705F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16524-741E-4D49-B764-A29B8D8E04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60525-1430-472F-A885-1C24BE62F4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EB7FC-80E8-4741-A91C-9517320928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5107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409B6-9F2A-46C9-9A50-A612B80276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3115-E960-43C0-89EA-FBFD5FAD8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642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13 The Pennsylvania State Univer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9528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Nanotechnology Process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SC 2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630520" y="765000"/>
            <a:ext cx="35053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1" descr=""/>
          <p:cNvPicPr/>
          <p:nvPr/>
        </p:nvPicPr>
        <p:blipFill>
          <a:blip r:embed="rId1"/>
          <a:stretch/>
        </p:blipFill>
        <p:spPr>
          <a:xfrm>
            <a:off x="2362320" y="1714680"/>
            <a:ext cx="4066920" cy="43812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Set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6"/>
          <p:cNvSpPr/>
          <p:nvPr/>
        </p:nvSpPr>
        <p:spPr>
          <a:xfrm>
            <a:off x="3809880" y="2743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ath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6"/>
          <p:cNvSpPr/>
          <p:nvPr/>
        </p:nvSpPr>
        <p:spPr>
          <a:xfrm>
            <a:off x="3809880" y="44956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n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Straight Arrow Connector 9"/>
          <p:cNvCxnSpPr/>
          <p:nvPr/>
        </p:nvCxnSpPr>
        <p:spPr>
          <a:xfrm flipV="1">
            <a:off x="2286000" y="4428360"/>
            <a:ext cx="534240" cy="15300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1" name="TextBox 36"/>
          <p:cNvSpPr/>
          <p:nvPr/>
        </p:nvSpPr>
        <p:spPr>
          <a:xfrm>
            <a:off x="3505320" y="35812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6"/>
          <p:cNvSpPr/>
          <p:nvPr/>
        </p:nvSpPr>
        <p:spPr>
          <a:xfrm>
            <a:off x="914400" y="45054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Vacuum Chamber W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4976640" y="5765760"/>
            <a:ext cx="393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-made Plasmas for Processing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cuum = Clean and completely contro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vironment is completely defined by user so full control of possible chemical reactions and of collisions between molecules, atom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l space between the gas, molecules, ions and electrons thereby controlling collisions and possibility of i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y is spacing importa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ace allows for collisions of the material to provide dissoc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acing between the gas atoms or molecules is called Mean Free Path (MFP)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sma glows a specific color depending on its constitu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sma Overview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FP allows energy to be transferred to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ic fields in a plasma can cause accelerated collisions, dissociation, and/or ioniz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ciation is the splitting of molecules into parts of molecules.  Often these parts are radicals (unpaired electrons) which are very chemically a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nization is stripping electrons from atoms or molecu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re Plas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ful in Process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ergetic ions can be used to bombard surfaces thereby driving chemical reactions giving etching or deposi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smas can be used to split apart precursor gas atoms or molecules in the plasma. The fragments can recombine to produce unique materials that deposit as fil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nergy is not supplied in the form of hea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ut as electrical energy through current and voltage.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Generally this allows a relatively lower temperature proces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smas have dissociated atoms, molecules, and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radical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nd can also have chemical reactions, occurring in the plasma and/or at the surfa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smas have physical processes too: ion bombardmen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olling Factors in Man-made Plas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n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tage developed between the plasma and subs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mber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C Plas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Straight Arrow Connector 13"/>
          <p:cNvCxnSpPr/>
          <p:nvPr/>
        </p:nvCxnSpPr>
        <p:spPr>
          <a:xfrm flipV="1">
            <a:off x="2057400" y="3895200"/>
            <a:ext cx="534240" cy="1533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grpSp>
        <p:nvGrpSpPr>
          <p:cNvPr id="84" name="Group 9"/>
          <p:cNvGrpSpPr/>
          <p:nvPr/>
        </p:nvGrpSpPr>
        <p:grpSpPr>
          <a:xfrm>
            <a:off x="685800" y="1390680"/>
            <a:ext cx="7086600" cy="4324320"/>
            <a:chOff x="685800" y="1390680"/>
            <a:chExt cx="7086600" cy="4324320"/>
          </a:xfrm>
        </p:grpSpPr>
        <p:pic>
          <p:nvPicPr>
            <p:cNvPr id="85" name="Picture 10" descr=""/>
            <p:cNvPicPr/>
            <p:nvPr/>
          </p:nvPicPr>
          <p:blipFill>
            <a:blip r:embed="rId1"/>
            <a:stretch/>
          </p:blipFill>
          <p:spPr>
            <a:xfrm>
              <a:off x="2200320" y="1390680"/>
              <a:ext cx="4048200" cy="432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Box 36"/>
            <p:cNvSpPr/>
            <p:nvPr/>
          </p:nvSpPr>
          <p:spPr>
            <a:xfrm>
              <a:off x="6172200" y="335268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DC Power Sour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36"/>
            <p:cNvSpPr/>
            <p:nvPr/>
          </p:nvSpPr>
          <p:spPr>
            <a:xfrm>
              <a:off x="3733920" y="426744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Catho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Box 36"/>
            <p:cNvSpPr/>
            <p:nvPr/>
          </p:nvSpPr>
          <p:spPr>
            <a:xfrm>
              <a:off x="3657600" y="243828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Ano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36"/>
            <p:cNvSpPr/>
            <p:nvPr/>
          </p:nvSpPr>
          <p:spPr>
            <a:xfrm>
              <a:off x="685800" y="397188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Vacuum Chamber Wal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36"/>
            <p:cNvSpPr/>
            <p:nvPr/>
          </p:nvSpPr>
          <p:spPr>
            <a:xfrm>
              <a:off x="3276720" y="3276720"/>
              <a:ext cx="8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las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Rectangle 10"/>
          <p:cNvSpPr/>
          <p:nvPr/>
        </p:nvSpPr>
        <p:spPr>
          <a:xfrm>
            <a:off x="5257800" y="5697360"/>
            <a:ext cx="372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C Plas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strate to undergo processing can be placed on the cathode or ano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strate on cathode will be impacted by neutral particles (atoms, molecules) and positive 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strates on the anode will be impacted by neutral particles (atoms, molecules), negative ions, and electr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-up can be designed to have strong positive ion bombardment on the cathode. Material etched off cathode can then be deposited on a substrate placed on the anode. This deposition process is called DC sputtering. The material removal at the cathode is etching. A plasma processing tool can be designed to optimize deposition or etch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1" descr=""/>
          <p:cNvPicPr/>
          <p:nvPr/>
        </p:nvPicPr>
        <p:blipFill>
          <a:blip r:embed="rId1"/>
          <a:stretch/>
        </p:blipFill>
        <p:spPr>
          <a:xfrm>
            <a:off x="2362320" y="1714680"/>
            <a:ext cx="4066920" cy="43812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 Capacitively Coup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6"/>
          <p:cNvSpPr/>
          <p:nvPr/>
        </p:nvSpPr>
        <p:spPr>
          <a:xfrm>
            <a:off x="3809880" y="2743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ath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6"/>
          <p:cNvSpPr/>
          <p:nvPr/>
        </p:nvSpPr>
        <p:spPr>
          <a:xfrm>
            <a:off x="3809880" y="44956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n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Straight Arrow Connector 9"/>
          <p:cNvCxnSpPr/>
          <p:nvPr/>
        </p:nvCxnSpPr>
        <p:spPr>
          <a:xfrm flipV="1">
            <a:off x="2286000" y="4428360"/>
            <a:ext cx="534240" cy="15300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9" name="TextBox 36"/>
          <p:cNvSpPr/>
          <p:nvPr/>
        </p:nvSpPr>
        <p:spPr>
          <a:xfrm>
            <a:off x="3505320" y="35812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6"/>
          <p:cNvSpPr/>
          <p:nvPr/>
        </p:nvSpPr>
        <p:spPr>
          <a:xfrm>
            <a:off x="914400" y="45054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Vacuum Chamber W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5224320" y="5850000"/>
            <a:ext cx="361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 Plasma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acitive Cou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ergy is coupled into the plasma through time-changing electric fiel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ually driven at Radio Frequency 13.54 MHz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ing plasma can be used for etching and deposition depending on the design of the processing chamber and the gases us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designed to have positive ions bombard the cathod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 Plasma: Inductive Cou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ergy is coupled into the plasmas through time-changing magnetic fiel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two common version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uctively Coupled Plasma (ICP) 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former Coupled Plasma (TCP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ending upon the system, they can be driven at RF or microwave energ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ing plasmas can be used for etching and deposition, depending on the design of the processing chamber and the selected g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le 1"/>
          <p:cNvSpPr/>
          <p:nvPr/>
        </p:nvSpPr>
        <p:spPr>
          <a:xfrm>
            <a:off x="457200" y="1066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nit 2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n Introduction to Uses of Plasma in 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lasma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533520" y="34671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ecture 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 of Types of Plasma Proc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96524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ve processes---using plasmas for de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ractive processes---using plasmas for e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sma Processing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2790720" y="2247840"/>
            <a:ext cx="469908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619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mas play a very big role in nano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gest role is in top down nano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important because they open paths to useful chemistry and this chemistry can be done at (relatively) low temper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hemistry can be used for deposition (additive processes) or etching (subtractive proce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mas can be used to exploit chemical and physical phenom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 plasm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re they ma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are they useful in proc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ve Plasma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ive Plasma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Definition of a Plas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88424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(almost) neutral “soup” of electrons and positively charged 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Anw-Plasmaaetzen_small"/>
          <p:cNvPicPr/>
          <p:nvPr/>
        </p:nvPicPr>
        <p:blipFill>
          <a:blip r:embed="rId1"/>
          <a:stretch/>
        </p:blipFill>
        <p:spPr>
          <a:xfrm>
            <a:off x="3083040" y="2944800"/>
            <a:ext cx="383040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it mad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using some energy source to tear the electrons off of atoms (ionize the atoms) resulting in energetic electrons and 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lighting discharge, fluorescent light, sodium vapor lamps, fla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lasma has a specific color determined by its composition (the gas(es) used) due to quantum mechanical energy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Plasma--Light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2906640" y="1057320"/>
            <a:ext cx="35118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1360" y="46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Plasma--Fluorescent Lights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ood example of a “plasma system” that you are familiar with is the fluorescent ligh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know about the fluorescent ligh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lectrical energy to ionize at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vacuum to prevent chemical reactions with air and to allow atoms and materials sufficient mean free path to allow for electron dissociation (i.e., ioniz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ssions from ionized Hg gas (plasma) plus impact of coating on inside of tube plus causing fluorescence gives light at many wavelenghts = (almost) white light.  Different gases can change the color of the fluorescent 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425520" y="254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-made Plasmas for Processing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are the Plasmas Used in Processing Cre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C bias (like a lightning storm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 bias (like a fluorescent bulb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two basic types of AC plasm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acitively coup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uctively coupled plas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0T15:47:20Z</dcterms:created>
  <dc:creator>jgm145</dc:creator>
  <dc:description/>
  <dc:language>en-US</dc:language>
  <cp:lastModifiedBy>Lisa A. Daub</cp:lastModifiedBy>
  <dcterms:modified xsi:type="dcterms:W3CDTF">2013-04-01T12:47:05Z</dcterms:modified>
  <cp:revision>358</cp:revision>
  <dc:subject/>
  <dc:title>Nanofabrication Manufacturing Technology</dc:title>
</cp:coreProperties>
</file>