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A6C8-A671-4772-A78E-705C7104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7EA4-4025-4EF0-A53F-B70064C39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D873-ED38-42C7-AAFF-F5D489A1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0575-D494-4AAA-AD55-855A56445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F7BB-558E-4B60-8EF9-2ED17D83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5D2D-041B-4E4B-A889-AF5B76714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1C6-7D74-426C-A3B8-94B7F924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F588-0065-436E-9F31-CB82815A3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961D-501C-4B31-A25D-338531FE3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D550-D568-4725-835D-46280BD39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6E3C-C85C-43AD-842B-5FAC5561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B735-5B3B-403C-84F5-C193F09A3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C617-970B-4E06-81B5-2B5258B5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CCEE-0CEE-4F75-865E-F483DDA4C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CE37-F498-4DF5-8AF5-425A25E6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0CB1-B8FC-4280-B522-4E8A883E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0EC8-4085-4B63-853C-41E3AB37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8B22-316A-4E4B-B7B3-C320C676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AE38-2DBD-405E-B755-546C0219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7CD1-F72F-4F9B-9C67-4402165A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978C-CF59-4DCF-BE1B-1ED03D433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6EE9-0814-4172-9C2B-32AE012E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55CA-67F9-448D-82EB-2BA72E248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58D-5E0F-4579-BF2A-C1F50ACAE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E07-CA7F-47BC-887D-32C6A34E1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A787-9523-472E-A15D-0C838126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0C5-04A2-4A39-A909-59310689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A1C1-8713-4DD1-9E4D-CBE6FCAB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07D1-11BE-4845-B48D-30669965C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EC27-6327-4946-9E16-ECFEA597A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A0B3-A4D1-4C9E-976A-F7992504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5B84-AFD3-4E9C-B415-5233B40F4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F881-1F2F-42BB-863C-CFEC4D98B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8B9C-D264-4A3A-B24C-F7A0996D5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9CF9-A44F-4F79-8AD2-1D27284FB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3390-9368-4B43-8C9F-40BBE2A24C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929E-86E1-4A60-9D12-625236246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A977-36F9-4F54-8853-E34F12934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7FF4-1209-4EC7-9D9F-DC296555E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578D-0536-4C0C-A5B8-AFE8CD10E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4899-C96E-4924-A22D-3ED4EAFD1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4DFD-9BE1-4657-BBE5-8CEA9F7CA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274F-ED6D-4F66-B33B-BF5B61649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829B-7FC9-42DA-91BE-8DF84E73D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2552760" y="693720"/>
            <a:ext cx="3505320" cy="2665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685800" y="3695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notechnology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C 2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leaning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600200"/>
          <a:ext cx="8229600" cy="2936880"/>
        </p:xfrm>
        <a:graphic>
          <a:graphicData uri="http://schemas.openxmlformats.org/drawingml/2006/table">
            <a:tbl>
              <a:tblPr/>
              <a:tblGrid>
                <a:gridCol w="1882800"/>
                <a:gridCol w="3603600"/>
                <a:gridCol w="274320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ov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anha Mi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ic Acid, Hydrogen Per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s and Me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onium Hydroxide, Hydrogen Peroxide,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s and Organ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chloric Acid, Hydrogen Peroxide,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lic Resid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 or B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fluoric acid, Buffer,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ve Oxide (Si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4"/>
          <p:cNvSpPr/>
          <p:nvPr/>
        </p:nvSpPr>
        <p:spPr>
          <a:xfrm>
            <a:off x="412920" y="507852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 cleaning generally involves many sequential steps and therefore can generate a significant volume of was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anh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of Merit: Etch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h Rate = thickness etched p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desired rates are in the 10’s to 100’s of nm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ates are too high, may be difficult to control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low of rates = long etch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of Merit: Sele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6800" y="1130400"/>
            <a:ext cx="8175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bility of an etchant to attack one material and not an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t chemical etching can be very selective, or not very selective depending upon the appl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ed as a rati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1942560" y="3425760"/>
            <a:ext cx="5252400" cy="1191240"/>
            <a:chOff x="1942560" y="3425760"/>
            <a:chExt cx="5252400" cy="1191240"/>
          </a:xfrm>
        </p:grpSpPr>
        <p:sp>
          <p:nvSpPr>
            <p:cNvPr id="239" name="TextBox 7"/>
            <p:cNvSpPr/>
            <p:nvPr/>
          </p:nvSpPr>
          <p:spPr>
            <a:xfrm>
              <a:off x="3912840" y="3425760"/>
              <a:ext cx="328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tch Rate of Material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tch Rate of Material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4"/>
            <p:cNvSpPr/>
            <p:nvPr/>
          </p:nvSpPr>
          <p:spPr>
            <a:xfrm>
              <a:off x="3846600" y="3989520"/>
              <a:ext cx="331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6"/>
            <p:cNvSpPr/>
            <p:nvPr/>
          </p:nvSpPr>
          <p:spPr>
            <a:xfrm>
              <a:off x="1942560" y="3770640"/>
              <a:ext cx="189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iv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7"/>
          <p:cNvGrpSpPr/>
          <p:nvPr/>
        </p:nvGrpSpPr>
        <p:grpSpPr>
          <a:xfrm>
            <a:off x="71280" y="5221440"/>
            <a:ext cx="2457720" cy="1073160"/>
            <a:chOff x="71280" y="5221440"/>
            <a:chExt cx="2457720" cy="1073160"/>
          </a:xfrm>
        </p:grpSpPr>
        <p:sp>
          <p:nvSpPr>
            <p:cNvPr id="243" name="Rectangle 13"/>
            <p:cNvSpPr/>
            <p:nvPr/>
          </p:nvSpPr>
          <p:spPr>
            <a:xfrm>
              <a:off x="71280" y="5673240"/>
              <a:ext cx="2457720" cy="621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1"/>
            <p:cNvSpPr/>
            <p:nvPr/>
          </p:nvSpPr>
          <p:spPr>
            <a:xfrm>
              <a:off x="71280" y="5221440"/>
              <a:ext cx="990000" cy="2268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2"/>
            <p:cNvSpPr/>
            <p:nvPr/>
          </p:nvSpPr>
          <p:spPr>
            <a:xfrm>
              <a:off x="1539000" y="5221440"/>
              <a:ext cx="990000" cy="2268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1"/>
            <p:cNvSpPr/>
            <p:nvPr/>
          </p:nvSpPr>
          <p:spPr>
            <a:xfrm>
              <a:off x="71280" y="5439960"/>
              <a:ext cx="990000" cy="22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2"/>
            <p:cNvSpPr/>
            <p:nvPr/>
          </p:nvSpPr>
          <p:spPr>
            <a:xfrm>
              <a:off x="1539000" y="5439960"/>
              <a:ext cx="990000" cy="22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3"/>
          <p:cNvGrpSpPr/>
          <p:nvPr/>
        </p:nvGrpSpPr>
        <p:grpSpPr>
          <a:xfrm>
            <a:off x="3430440" y="5440320"/>
            <a:ext cx="2457720" cy="854280"/>
            <a:chOff x="3430440" y="5440320"/>
            <a:chExt cx="2457720" cy="854280"/>
          </a:xfrm>
        </p:grpSpPr>
        <p:sp>
          <p:nvSpPr>
            <p:cNvPr id="249" name="Rectangle 13"/>
            <p:cNvSpPr/>
            <p:nvPr/>
          </p:nvSpPr>
          <p:spPr>
            <a:xfrm>
              <a:off x="3430440" y="5673600"/>
              <a:ext cx="2457720" cy="621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1"/>
            <p:cNvSpPr/>
            <p:nvPr/>
          </p:nvSpPr>
          <p:spPr>
            <a:xfrm>
              <a:off x="3430440" y="5440320"/>
              <a:ext cx="990000" cy="2268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2"/>
            <p:cNvSpPr/>
            <p:nvPr/>
          </p:nvSpPr>
          <p:spPr>
            <a:xfrm>
              <a:off x="4427280" y="5440320"/>
              <a:ext cx="1459800" cy="22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9"/>
          <p:cNvGrpSpPr/>
          <p:nvPr/>
        </p:nvGrpSpPr>
        <p:grpSpPr>
          <a:xfrm>
            <a:off x="6593040" y="5440320"/>
            <a:ext cx="2457360" cy="854280"/>
            <a:chOff x="6593040" y="5440320"/>
            <a:chExt cx="2457360" cy="854280"/>
          </a:xfrm>
        </p:grpSpPr>
        <p:sp>
          <p:nvSpPr>
            <p:cNvPr id="253" name="Rectangle 13"/>
            <p:cNvSpPr/>
            <p:nvPr/>
          </p:nvSpPr>
          <p:spPr>
            <a:xfrm>
              <a:off x="6593040" y="5673600"/>
              <a:ext cx="2457360" cy="621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1"/>
            <p:cNvSpPr/>
            <p:nvPr/>
          </p:nvSpPr>
          <p:spPr>
            <a:xfrm>
              <a:off x="6593040" y="5440320"/>
              <a:ext cx="989640" cy="2268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Box 23"/>
          <p:cNvSpPr/>
          <p:nvPr/>
        </p:nvSpPr>
        <p:spPr>
          <a:xfrm>
            <a:off x="311400" y="4840200"/>
            <a:ext cx="21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er 2 Protects Lay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4"/>
          <p:cNvSpPr/>
          <p:nvPr/>
        </p:nvSpPr>
        <p:spPr>
          <a:xfrm>
            <a:off x="3390480" y="5114880"/>
            <a:ext cx="254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er 2 is Adjacent to Lay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5"/>
          <p:cNvSpPr/>
          <p:nvPr/>
        </p:nvSpPr>
        <p:spPr>
          <a:xfrm>
            <a:off x="2553120" y="5526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27"/>
          <p:cNvCxnSpPr/>
          <p:nvPr/>
        </p:nvCxnSpPr>
        <p:spPr>
          <a:xfrm>
            <a:off x="6009840" y="5711400"/>
            <a:ext cx="505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Rectangle 5"/>
          <p:cNvSpPr/>
          <p:nvPr/>
        </p:nvSpPr>
        <p:spPr>
          <a:xfrm>
            <a:off x="5576760" y="639144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ideal profile"/>
          <p:cNvPicPr/>
          <p:nvPr/>
        </p:nvPicPr>
        <p:blipFill>
          <a:blip r:embed="rId1"/>
          <a:stretch/>
        </p:blipFill>
        <p:spPr>
          <a:xfrm>
            <a:off x="349200" y="1797120"/>
            <a:ext cx="5192640" cy="11001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658800" y="28828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0400" y="3751200"/>
            <a:ext cx="75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, high aspect ratios are harder to achieve than low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pect ratio features are very desirable for many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its isotropic nature, it is difficult to obtain high aspect ratios with wet et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y etching is usually required to fabricate high aspect ratio f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5960520" y="1757520"/>
            <a:ext cx="2748600" cy="1191240"/>
            <a:chOff x="5960520" y="1757520"/>
            <a:chExt cx="2748600" cy="1191240"/>
          </a:xfrm>
        </p:grpSpPr>
        <p:sp>
          <p:nvSpPr>
            <p:cNvPr id="265" name="TextBox 7"/>
            <p:cNvSpPr/>
            <p:nvPr/>
          </p:nvSpPr>
          <p:spPr>
            <a:xfrm>
              <a:off x="8186400" y="1757520"/>
              <a:ext cx="4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8"/>
            <p:cNvSpPr/>
            <p:nvPr/>
          </p:nvSpPr>
          <p:spPr>
            <a:xfrm>
              <a:off x="8132760" y="232092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6"/>
            <p:cNvSpPr/>
            <p:nvPr/>
          </p:nvSpPr>
          <p:spPr>
            <a:xfrm>
              <a:off x="5960520" y="21024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pect Ratio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&amp;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otropic vs. Anisotropic 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Etch Parameters and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Etch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Etch Re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ropic vs. Anisotr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917640" y="1523880"/>
            <a:ext cx="73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tropic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in all directions. Material is removed (etched) at the same rate in all directions (lateral and vertic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sotropic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 are not equal. Etch rate in vertical direction is different from (greater than) etch rate in lateral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934920" y="3416400"/>
            <a:ext cx="3313080" cy="2423880"/>
            <a:chOff x="934920" y="3416400"/>
            <a:chExt cx="3313080" cy="2423880"/>
          </a:xfrm>
        </p:grpSpPr>
        <p:sp>
          <p:nvSpPr>
            <p:cNvPr id="273" name="Rectangle 13"/>
            <p:cNvSpPr/>
            <p:nvPr/>
          </p:nvSpPr>
          <p:spPr>
            <a:xfrm>
              <a:off x="934920" y="4638960"/>
              <a:ext cx="3313080" cy="1201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5"/>
            <p:cNvGrpSpPr/>
            <p:nvPr/>
          </p:nvGrpSpPr>
          <p:grpSpPr>
            <a:xfrm>
              <a:off x="1456920" y="3416400"/>
              <a:ext cx="2268720" cy="2267280"/>
              <a:chOff x="1456920" y="3416400"/>
              <a:chExt cx="2268720" cy="2267280"/>
            </a:xfrm>
          </p:grpSpPr>
          <p:sp>
            <p:nvSpPr>
              <p:cNvPr id="275" name="Oval 24"/>
              <p:cNvSpPr/>
              <p:nvPr/>
            </p:nvSpPr>
            <p:spPr>
              <a:xfrm>
                <a:off x="1456920" y="3416400"/>
                <a:ext cx="2268720" cy="226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13"/>
              <p:cNvGrpSpPr/>
              <p:nvPr/>
            </p:nvGrpSpPr>
            <p:grpSpPr>
              <a:xfrm>
                <a:off x="1593000" y="4689720"/>
                <a:ext cx="1996200" cy="901440"/>
                <a:chOff x="1593000" y="4689720"/>
                <a:chExt cx="1996200" cy="901440"/>
              </a:xfrm>
            </p:grpSpPr>
            <p:cxnSp>
              <p:nvCxnSpPr>
                <p:cNvPr id="277" name="Straight Arrow Connector 6"/>
                <p:cNvCxnSpPr/>
                <p:nvPr/>
              </p:nvCxnSpPr>
              <p:spPr>
                <a:xfrm>
                  <a:off x="2688840" y="4690440"/>
                  <a:ext cx="90072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  <p:cxnSp>
              <p:nvCxnSpPr>
                <p:cNvPr id="278" name="Straight Arrow Connector 7"/>
                <p:cNvCxnSpPr/>
                <p:nvPr/>
              </p:nvCxnSpPr>
              <p:spPr>
                <a:xfrm flipH="1">
                  <a:off x="1593000" y="4690440"/>
                  <a:ext cx="90072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  <p:cxnSp>
              <p:nvCxnSpPr>
                <p:cNvPr id="279" name="Straight Arrow Connector 8"/>
                <p:cNvCxnSpPr/>
                <p:nvPr/>
              </p:nvCxnSpPr>
              <p:spPr>
                <a:xfrm flipH="1">
                  <a:off x="2589480" y="4690800"/>
                  <a:ext cx="1080" cy="90072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  <p:cxnSp>
              <p:nvCxnSpPr>
                <p:cNvPr id="280" name="Straight Arrow Connector 9"/>
                <p:cNvCxnSpPr/>
                <p:nvPr/>
              </p:nvCxnSpPr>
              <p:spPr>
                <a:xfrm>
                  <a:off x="2656800" y="4689720"/>
                  <a:ext cx="779760" cy="45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  <p:cxnSp>
              <p:nvCxnSpPr>
                <p:cNvPr id="281" name="Straight Arrow Connector 10"/>
                <p:cNvCxnSpPr/>
                <p:nvPr/>
              </p:nvCxnSpPr>
              <p:spPr>
                <a:xfrm>
                  <a:off x="2627280" y="4690800"/>
                  <a:ext cx="450000" cy="7804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  <p:cxnSp>
              <p:nvCxnSpPr>
                <p:cNvPr id="282" name="Straight Arrow Connector 11"/>
                <p:cNvCxnSpPr/>
                <p:nvPr/>
              </p:nvCxnSpPr>
              <p:spPr>
                <a:xfrm flipH="1">
                  <a:off x="2102760" y="4690800"/>
                  <a:ext cx="451080" cy="77976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  <p:cxnSp>
              <p:nvCxnSpPr>
                <p:cNvPr id="283" name="Straight Arrow Connector 12"/>
                <p:cNvCxnSpPr/>
                <p:nvPr/>
              </p:nvCxnSpPr>
              <p:spPr>
                <a:xfrm flipH="1">
                  <a:off x="1741680" y="4690080"/>
                  <a:ext cx="780480" cy="45000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</p:grpSp>
        </p:grpSp>
      </p:grpSp>
      <p:grpSp>
        <p:nvGrpSpPr>
          <p:cNvPr id="284" name="Group 22"/>
          <p:cNvGrpSpPr/>
          <p:nvPr/>
        </p:nvGrpSpPr>
        <p:grpSpPr>
          <a:xfrm>
            <a:off x="4938840" y="4576680"/>
            <a:ext cx="3311280" cy="1263600"/>
            <a:chOff x="4938840" y="4576680"/>
            <a:chExt cx="3311280" cy="1263600"/>
          </a:xfrm>
        </p:grpSpPr>
        <p:sp>
          <p:nvSpPr>
            <p:cNvPr id="285" name="Rectangle 13"/>
            <p:cNvSpPr/>
            <p:nvPr/>
          </p:nvSpPr>
          <p:spPr>
            <a:xfrm>
              <a:off x="4938840" y="4638600"/>
              <a:ext cx="3311280" cy="1201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21"/>
            <p:cNvGrpSpPr/>
            <p:nvPr/>
          </p:nvGrpSpPr>
          <p:grpSpPr>
            <a:xfrm>
              <a:off x="6009480" y="4576680"/>
              <a:ext cx="1169640" cy="1116000"/>
              <a:chOff x="6009480" y="4576680"/>
              <a:chExt cx="1169640" cy="1116000"/>
            </a:xfrm>
          </p:grpSpPr>
          <p:sp>
            <p:nvSpPr>
              <p:cNvPr id="287" name="Rectangle 20"/>
              <p:cNvSpPr/>
              <p:nvPr/>
            </p:nvSpPr>
            <p:spPr>
              <a:xfrm>
                <a:off x="6009480" y="4576680"/>
                <a:ext cx="1169640" cy="11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" name="Group 18"/>
              <p:cNvGrpSpPr/>
              <p:nvPr/>
            </p:nvGrpSpPr>
            <p:grpSpPr>
              <a:xfrm>
                <a:off x="6191280" y="4684680"/>
                <a:ext cx="804960" cy="900360"/>
                <a:chOff x="6191280" y="4684680"/>
                <a:chExt cx="804960" cy="900360"/>
              </a:xfrm>
            </p:grpSpPr>
            <p:cxnSp>
              <p:nvCxnSpPr>
                <p:cNvPr id="289" name="Straight Arrow Connector 14"/>
                <p:cNvCxnSpPr/>
                <p:nvPr/>
              </p:nvCxnSpPr>
              <p:spPr>
                <a:xfrm flipH="1">
                  <a:off x="6191280" y="4684680"/>
                  <a:ext cx="1080" cy="90072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  <p:cxnSp>
              <p:nvCxnSpPr>
                <p:cNvPr id="290" name="Straight Arrow Connector 15"/>
                <p:cNvCxnSpPr/>
                <p:nvPr/>
              </p:nvCxnSpPr>
              <p:spPr>
                <a:xfrm flipH="1">
                  <a:off x="6459840" y="4684680"/>
                  <a:ext cx="1080" cy="90072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  <p:cxnSp>
              <p:nvCxnSpPr>
                <p:cNvPr id="291" name="Straight Arrow Connector 16"/>
                <p:cNvCxnSpPr/>
                <p:nvPr/>
              </p:nvCxnSpPr>
              <p:spPr>
                <a:xfrm flipH="1">
                  <a:off x="6726960" y="4684680"/>
                  <a:ext cx="1080" cy="90072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  <p:cxnSp>
              <p:nvCxnSpPr>
                <p:cNvPr id="292" name="Straight Arrow Connector 17"/>
                <p:cNvCxnSpPr/>
                <p:nvPr/>
              </p:nvCxnSpPr>
              <p:spPr>
                <a:xfrm flipH="1">
                  <a:off x="6995520" y="4684680"/>
                  <a:ext cx="1080" cy="90072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lg"/>
                </a:ln>
              </p:spPr>
            </p:cxnSp>
          </p:grpSp>
        </p:grpSp>
      </p:grpSp>
      <p:sp>
        <p:nvSpPr>
          <p:cNvPr id="293" name="TextBox 27"/>
          <p:cNvSpPr/>
          <p:nvPr/>
        </p:nvSpPr>
        <p:spPr>
          <a:xfrm>
            <a:off x="2018160" y="38768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otr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8"/>
          <p:cNvSpPr/>
          <p:nvPr/>
        </p:nvSpPr>
        <p:spPr>
          <a:xfrm>
            <a:off x="5868360" y="38768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isotr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so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1543320" y="1927080"/>
            <a:ext cx="2117880" cy="1203480"/>
            <a:chOff x="1543320" y="1927080"/>
            <a:chExt cx="2117880" cy="1203480"/>
          </a:xfrm>
        </p:grpSpPr>
        <p:sp>
          <p:nvSpPr>
            <p:cNvPr id="297" name="TextBox 3"/>
            <p:cNvSpPr/>
            <p:nvPr/>
          </p:nvSpPr>
          <p:spPr>
            <a:xfrm>
              <a:off x="1543320" y="2178360"/>
              <a:ext cx="150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 = 1 -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7"/>
            <p:cNvGrpSpPr/>
            <p:nvPr/>
          </p:nvGrpSpPr>
          <p:grpSpPr>
            <a:xfrm>
              <a:off x="3029400" y="1927080"/>
              <a:ext cx="631800" cy="1203480"/>
              <a:chOff x="3029400" y="1927080"/>
              <a:chExt cx="631800" cy="1203480"/>
            </a:xfrm>
          </p:grpSpPr>
          <p:sp>
            <p:nvSpPr>
              <p:cNvPr id="299" name="TextBox 4"/>
              <p:cNvSpPr/>
              <p:nvPr/>
            </p:nvSpPr>
            <p:spPr>
              <a:xfrm>
                <a:off x="3029400" y="1927080"/>
                <a:ext cx="63180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Straight Connector 6"/>
              <p:cNvSpPr/>
              <p:nvPr/>
            </p:nvSpPr>
            <p:spPr>
              <a:xfrm>
                <a:off x="3038400" y="2514600"/>
                <a:ext cx="6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TextBox 9"/>
          <p:cNvSpPr/>
          <p:nvPr/>
        </p:nvSpPr>
        <p:spPr>
          <a:xfrm>
            <a:off x="533520" y="3738600"/>
            <a:ext cx="4347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Lateral Etc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ertical Etc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1"/>
          <p:cNvGrpSpPr/>
          <p:nvPr/>
        </p:nvGrpSpPr>
        <p:grpSpPr>
          <a:xfrm>
            <a:off x="4935600" y="268200"/>
            <a:ext cx="3635280" cy="5864400"/>
            <a:chOff x="4935600" y="268200"/>
            <a:chExt cx="3635280" cy="5864400"/>
          </a:xfrm>
        </p:grpSpPr>
        <p:grpSp>
          <p:nvGrpSpPr>
            <p:cNvPr id="303" name="Group 12"/>
            <p:cNvGrpSpPr/>
            <p:nvPr/>
          </p:nvGrpSpPr>
          <p:grpSpPr>
            <a:xfrm>
              <a:off x="4935600" y="268200"/>
              <a:ext cx="3635280" cy="5864400"/>
              <a:chOff x="4935600" y="268200"/>
              <a:chExt cx="3635280" cy="5864400"/>
            </a:xfrm>
          </p:grpSpPr>
          <p:sp>
            <p:nvSpPr>
              <p:cNvPr id="304" name="Rectangle 10"/>
              <p:cNvSpPr/>
              <p:nvPr/>
            </p:nvSpPr>
            <p:spPr>
              <a:xfrm>
                <a:off x="4935600" y="2340000"/>
                <a:ext cx="3635280" cy="37926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11"/>
              <p:cNvSpPr/>
              <p:nvPr/>
            </p:nvSpPr>
            <p:spPr>
              <a:xfrm>
                <a:off x="5853240" y="268200"/>
                <a:ext cx="1800000" cy="4129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Straight Connector 14"/>
            <p:cNvSpPr/>
            <p:nvPr/>
          </p:nvSpPr>
          <p:spPr>
            <a:xfrm>
              <a:off x="6753240" y="1199880"/>
              <a:ext cx="0" cy="4932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" name="Straight Arrow Connector 16"/>
            <p:cNvCxnSpPr/>
            <p:nvPr/>
          </p:nvCxnSpPr>
          <p:spPr>
            <a:xfrm flipV="1">
              <a:off x="6764400" y="2340720"/>
              <a:ext cx="768960" cy="108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8" name="Straight Arrow Connector 18"/>
            <p:cNvCxnSpPr/>
            <p:nvPr/>
          </p:nvCxnSpPr>
          <p:spPr>
            <a:xfrm>
              <a:off x="6752880" y="2351520"/>
              <a:ext cx="1080" cy="144036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09" name="TextBox 19"/>
            <p:cNvSpPr/>
            <p:nvPr/>
          </p:nvSpPr>
          <p:spPr>
            <a:xfrm>
              <a:off x="6760440" y="1622160"/>
              <a:ext cx="60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0"/>
            <p:cNvSpPr/>
            <p:nvPr/>
          </p:nvSpPr>
          <p:spPr>
            <a:xfrm>
              <a:off x="6104520" y="2689200"/>
              <a:ext cx="631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r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ropic = the same in all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wet etch pro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s to undercut during 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ly chemical 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hysical energy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 Isotropic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0"/>
          <p:cNvGrpSpPr/>
          <p:nvPr/>
        </p:nvGrpSpPr>
        <p:grpSpPr>
          <a:xfrm>
            <a:off x="1828800" y="4195800"/>
            <a:ext cx="5486400" cy="2195640"/>
            <a:chOff x="1828800" y="4195800"/>
            <a:chExt cx="5486400" cy="2195640"/>
          </a:xfrm>
        </p:grpSpPr>
        <p:sp>
          <p:nvSpPr>
            <p:cNvPr id="315" name="Rectangle 13"/>
            <p:cNvSpPr/>
            <p:nvPr/>
          </p:nvSpPr>
          <p:spPr>
            <a:xfrm>
              <a:off x="1828800" y="5020200"/>
              <a:ext cx="5486400" cy="137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>
              <a:off x="1828800" y="4576680"/>
              <a:ext cx="5486400" cy="456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9"/>
            <p:cNvSpPr/>
            <p:nvPr/>
          </p:nvSpPr>
          <p:spPr>
            <a:xfrm>
              <a:off x="3429000" y="4195800"/>
              <a:ext cx="2209680" cy="83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1"/>
            <p:cNvSpPr/>
            <p:nvPr/>
          </p:nvSpPr>
          <p:spPr>
            <a:xfrm>
              <a:off x="1828800" y="4195800"/>
              <a:ext cx="2209680" cy="38088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2"/>
            <p:cNvSpPr/>
            <p:nvPr/>
          </p:nvSpPr>
          <p:spPr>
            <a:xfrm>
              <a:off x="5105520" y="4195800"/>
              <a:ext cx="2209680" cy="38088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3"/>
            <p:cNvSpPr/>
            <p:nvPr/>
          </p:nvSpPr>
          <p:spPr>
            <a:xfrm>
              <a:off x="3871080" y="461628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ercut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7"/>
          <p:cNvGrpSpPr/>
          <p:nvPr/>
        </p:nvGrpSpPr>
        <p:grpSpPr>
          <a:xfrm>
            <a:off x="2419560" y="2679840"/>
            <a:ext cx="4291560" cy="1203480"/>
            <a:chOff x="2419560" y="2679840"/>
            <a:chExt cx="4291560" cy="1203480"/>
          </a:xfrm>
        </p:grpSpPr>
        <p:grpSp>
          <p:nvGrpSpPr>
            <p:cNvPr id="322" name="Group 11"/>
            <p:cNvGrpSpPr/>
            <p:nvPr/>
          </p:nvGrpSpPr>
          <p:grpSpPr>
            <a:xfrm>
              <a:off x="2419560" y="2679840"/>
              <a:ext cx="2117880" cy="1203480"/>
              <a:chOff x="2419560" y="2679840"/>
              <a:chExt cx="2117880" cy="1203480"/>
            </a:xfrm>
          </p:grpSpPr>
          <p:sp>
            <p:nvSpPr>
              <p:cNvPr id="323" name="TextBox 12"/>
              <p:cNvSpPr/>
              <p:nvPr/>
            </p:nvSpPr>
            <p:spPr>
              <a:xfrm>
                <a:off x="2419560" y="2930760"/>
                <a:ext cx="1501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 = 1 -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4" name="Group 7"/>
              <p:cNvGrpSpPr/>
              <p:nvPr/>
            </p:nvGrpSpPr>
            <p:grpSpPr>
              <a:xfrm>
                <a:off x="3905640" y="2679840"/>
                <a:ext cx="631800" cy="1203480"/>
                <a:chOff x="3905640" y="2679840"/>
                <a:chExt cx="631800" cy="1203480"/>
              </a:xfrm>
            </p:grpSpPr>
            <p:sp>
              <p:nvSpPr>
                <p:cNvPr id="325" name="TextBox 4"/>
                <p:cNvSpPr/>
                <p:nvPr/>
              </p:nvSpPr>
              <p:spPr>
                <a:xfrm>
                  <a:off x="3905640" y="2679840"/>
                  <a:ext cx="631800" cy="12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0" lang="en-US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0" lang="en-US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Straight Connector 15"/>
                <p:cNvSpPr/>
                <p:nvPr/>
              </p:nvSpPr>
              <p:spPr>
                <a:xfrm>
                  <a:off x="3914640" y="3267360"/>
                  <a:ext cx="61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7" name="TextBox 16"/>
            <p:cNvSpPr/>
            <p:nvPr/>
          </p:nvSpPr>
          <p:spPr>
            <a:xfrm>
              <a:off x="4678560" y="292608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 1 - 1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8"/>
          <p:cNvSpPr/>
          <p:nvPr/>
        </p:nvSpPr>
        <p:spPr>
          <a:xfrm>
            <a:off x="3811680" y="1738440"/>
            <a:ext cx="1520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576760" y="639144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1760400" y="3186000"/>
            <a:ext cx="2673360" cy="1166760"/>
            <a:chOff x="1760400" y="3186000"/>
            <a:chExt cx="2673360" cy="1166760"/>
          </a:xfrm>
        </p:grpSpPr>
        <p:sp>
          <p:nvSpPr>
            <p:cNvPr id="332" name="Rectangle 21"/>
            <p:cNvSpPr/>
            <p:nvPr/>
          </p:nvSpPr>
          <p:spPr>
            <a:xfrm>
              <a:off x="1760400" y="3321360"/>
              <a:ext cx="1076760" cy="354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2"/>
            <p:cNvSpPr/>
            <p:nvPr/>
          </p:nvSpPr>
          <p:spPr>
            <a:xfrm>
              <a:off x="3357000" y="3321720"/>
              <a:ext cx="1076760" cy="356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"/>
            <p:cNvSpPr/>
            <p:nvPr/>
          </p:nvSpPr>
          <p:spPr>
            <a:xfrm>
              <a:off x="1760400" y="3677400"/>
              <a:ext cx="2673360" cy="675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1"/>
            <p:cNvSpPr/>
            <p:nvPr/>
          </p:nvSpPr>
          <p:spPr>
            <a:xfrm>
              <a:off x="1760400" y="3186000"/>
              <a:ext cx="1076760" cy="13464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2"/>
            <p:cNvSpPr/>
            <p:nvPr/>
          </p:nvSpPr>
          <p:spPr>
            <a:xfrm>
              <a:off x="3357000" y="3186000"/>
              <a:ext cx="1076760" cy="13464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7"/>
          <p:cNvGrpSpPr/>
          <p:nvPr/>
        </p:nvGrpSpPr>
        <p:grpSpPr>
          <a:xfrm>
            <a:off x="5873760" y="3186000"/>
            <a:ext cx="2673360" cy="1166760"/>
            <a:chOff x="5873760" y="3186000"/>
            <a:chExt cx="2673360" cy="1166760"/>
          </a:xfrm>
        </p:grpSpPr>
        <p:sp>
          <p:nvSpPr>
            <p:cNvPr id="338" name="Rectangle 21"/>
            <p:cNvSpPr/>
            <p:nvPr/>
          </p:nvSpPr>
          <p:spPr>
            <a:xfrm>
              <a:off x="6671880" y="3321720"/>
              <a:ext cx="1076760" cy="356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5873760" y="3677400"/>
              <a:ext cx="2673360" cy="675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1"/>
            <p:cNvSpPr/>
            <p:nvPr/>
          </p:nvSpPr>
          <p:spPr>
            <a:xfrm>
              <a:off x="6671880" y="3186000"/>
              <a:ext cx="1076760" cy="13464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7"/>
          <p:cNvGrpSpPr/>
          <p:nvPr/>
        </p:nvGrpSpPr>
        <p:grpSpPr>
          <a:xfrm>
            <a:off x="1760400" y="1374840"/>
            <a:ext cx="2673360" cy="1168200"/>
            <a:chOff x="1760400" y="1374840"/>
            <a:chExt cx="2673360" cy="1168200"/>
          </a:xfrm>
        </p:grpSpPr>
        <p:sp>
          <p:nvSpPr>
            <p:cNvPr id="342" name="Rectangle 13"/>
            <p:cNvSpPr/>
            <p:nvPr/>
          </p:nvSpPr>
          <p:spPr>
            <a:xfrm>
              <a:off x="1760400" y="1866600"/>
              <a:ext cx="2673360" cy="676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bstrate or Etch Stop 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not susceptible to etcha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1760400" y="1374840"/>
              <a:ext cx="1076760" cy="1350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3357000" y="1374840"/>
              <a:ext cx="1076760" cy="1350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1"/>
            <p:cNvSpPr/>
            <p:nvPr/>
          </p:nvSpPr>
          <p:spPr>
            <a:xfrm>
              <a:off x="1760400" y="1510560"/>
              <a:ext cx="2673360" cy="355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m to be Etch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26"/>
          <p:cNvGrpSpPr/>
          <p:nvPr/>
        </p:nvGrpSpPr>
        <p:grpSpPr>
          <a:xfrm>
            <a:off x="5873760" y="1374840"/>
            <a:ext cx="2673360" cy="1168200"/>
            <a:chOff x="5873760" y="1374840"/>
            <a:chExt cx="2673360" cy="1168200"/>
          </a:xfrm>
        </p:grpSpPr>
        <p:sp>
          <p:nvSpPr>
            <p:cNvPr id="347" name="Rectangle 13"/>
            <p:cNvSpPr/>
            <p:nvPr/>
          </p:nvSpPr>
          <p:spPr>
            <a:xfrm>
              <a:off x="5873760" y="1866600"/>
              <a:ext cx="2673360" cy="676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1"/>
            <p:cNvSpPr/>
            <p:nvPr/>
          </p:nvSpPr>
          <p:spPr>
            <a:xfrm>
              <a:off x="6671880" y="1374840"/>
              <a:ext cx="1076760" cy="1350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5873760" y="1510560"/>
              <a:ext cx="2673360" cy="355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1"/>
          <p:cNvGrpSpPr/>
          <p:nvPr/>
        </p:nvGrpSpPr>
        <p:grpSpPr>
          <a:xfrm>
            <a:off x="1760400" y="4997520"/>
            <a:ext cx="2673360" cy="1166760"/>
            <a:chOff x="1760400" y="4997520"/>
            <a:chExt cx="2673360" cy="1166760"/>
          </a:xfrm>
        </p:grpSpPr>
        <p:sp>
          <p:nvSpPr>
            <p:cNvPr id="351" name="Rectangle 13"/>
            <p:cNvSpPr/>
            <p:nvPr/>
          </p:nvSpPr>
          <p:spPr>
            <a:xfrm>
              <a:off x="1761120" y="5488920"/>
              <a:ext cx="2672640" cy="675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1"/>
            <p:cNvSpPr/>
            <p:nvPr/>
          </p:nvSpPr>
          <p:spPr>
            <a:xfrm>
              <a:off x="1761120" y="4997520"/>
              <a:ext cx="1076400" cy="13464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2"/>
            <p:cNvSpPr/>
            <p:nvPr/>
          </p:nvSpPr>
          <p:spPr>
            <a:xfrm>
              <a:off x="3357360" y="4997520"/>
              <a:ext cx="1076400" cy="13464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5"/>
            <p:cNvSpPr/>
            <p:nvPr/>
          </p:nvSpPr>
          <p:spPr>
            <a:xfrm>
              <a:off x="1760400" y="5132160"/>
              <a:ext cx="1077840" cy="355680"/>
            </a:xfrm>
            <a:custGeom>
              <a:avLst/>
              <a:gdLst/>
              <a:ahLst/>
              <a:rect l="l" t="t" r="r" b="b"/>
              <a:pathLst>
                <a:path w="1437701" h="473726">
                  <a:moveTo>
                    <a:pt x="0" y="0"/>
                  </a:moveTo>
                  <a:lnTo>
                    <a:pt x="963976" y="0"/>
                  </a:lnTo>
                  <a:lnTo>
                    <a:pt x="963976" y="27542"/>
                  </a:lnTo>
                  <a:cubicBezTo>
                    <a:pt x="964894" y="35805"/>
                    <a:pt x="965860" y="44062"/>
                    <a:pt x="966730" y="52330"/>
                  </a:cubicBezTo>
                  <a:cubicBezTo>
                    <a:pt x="967696" y="61506"/>
                    <a:pt x="967784" y="70804"/>
                    <a:pt x="969484" y="79873"/>
                  </a:cubicBezTo>
                  <a:cubicBezTo>
                    <a:pt x="970554" y="85580"/>
                    <a:pt x="974993" y="96398"/>
                    <a:pt x="974993" y="96398"/>
                  </a:cubicBezTo>
                  <a:cubicBezTo>
                    <a:pt x="980936" y="149891"/>
                    <a:pt x="972011" y="104150"/>
                    <a:pt x="983255" y="129448"/>
                  </a:cubicBezTo>
                  <a:cubicBezTo>
                    <a:pt x="985613" y="134754"/>
                    <a:pt x="988764" y="145974"/>
                    <a:pt x="988764" y="145974"/>
                  </a:cubicBezTo>
                  <a:cubicBezTo>
                    <a:pt x="992238" y="173768"/>
                    <a:pt x="989178" y="160987"/>
                    <a:pt x="997026" y="184533"/>
                  </a:cubicBezTo>
                  <a:cubicBezTo>
                    <a:pt x="997944" y="187287"/>
                    <a:pt x="997727" y="190742"/>
                    <a:pt x="999780" y="192795"/>
                  </a:cubicBezTo>
                  <a:lnTo>
                    <a:pt x="1005289" y="198304"/>
                  </a:lnTo>
                  <a:cubicBezTo>
                    <a:pt x="1011618" y="217293"/>
                    <a:pt x="1006691" y="210723"/>
                    <a:pt x="1016306" y="220338"/>
                  </a:cubicBezTo>
                  <a:cubicBezTo>
                    <a:pt x="1018142" y="225846"/>
                    <a:pt x="1017708" y="232757"/>
                    <a:pt x="1021814" y="236863"/>
                  </a:cubicBezTo>
                  <a:lnTo>
                    <a:pt x="1032831" y="247880"/>
                  </a:lnTo>
                  <a:lnTo>
                    <a:pt x="1038340" y="253388"/>
                  </a:lnTo>
                  <a:cubicBezTo>
                    <a:pt x="1039258" y="256142"/>
                    <a:pt x="1039796" y="259054"/>
                    <a:pt x="1041094" y="261651"/>
                  </a:cubicBezTo>
                  <a:cubicBezTo>
                    <a:pt x="1044569" y="268602"/>
                    <a:pt x="1046986" y="270298"/>
                    <a:pt x="1052111" y="275422"/>
                  </a:cubicBezTo>
                  <a:cubicBezTo>
                    <a:pt x="1053029" y="278176"/>
                    <a:pt x="1053567" y="281088"/>
                    <a:pt x="1054865" y="283685"/>
                  </a:cubicBezTo>
                  <a:cubicBezTo>
                    <a:pt x="1059419" y="292793"/>
                    <a:pt x="1066966" y="298540"/>
                    <a:pt x="1074144" y="305718"/>
                  </a:cubicBezTo>
                  <a:cubicBezTo>
                    <a:pt x="1081993" y="313567"/>
                    <a:pt x="1077492" y="309786"/>
                    <a:pt x="1087915" y="316735"/>
                  </a:cubicBezTo>
                  <a:cubicBezTo>
                    <a:pt x="1092940" y="331809"/>
                    <a:pt x="1089465" y="332658"/>
                    <a:pt x="1101687" y="338769"/>
                  </a:cubicBezTo>
                  <a:cubicBezTo>
                    <a:pt x="1104284" y="340067"/>
                    <a:pt x="1107195" y="340605"/>
                    <a:pt x="1109949" y="341523"/>
                  </a:cubicBezTo>
                  <a:cubicBezTo>
                    <a:pt x="1128703" y="360277"/>
                    <a:pt x="1099399" y="331693"/>
                    <a:pt x="1123720" y="352540"/>
                  </a:cubicBezTo>
                  <a:cubicBezTo>
                    <a:pt x="1127663" y="355920"/>
                    <a:pt x="1131065" y="359885"/>
                    <a:pt x="1134737" y="363557"/>
                  </a:cubicBezTo>
                  <a:lnTo>
                    <a:pt x="1140246" y="369065"/>
                  </a:lnTo>
                  <a:cubicBezTo>
                    <a:pt x="1142082" y="370901"/>
                    <a:pt x="1143290" y="373753"/>
                    <a:pt x="1145754" y="374574"/>
                  </a:cubicBezTo>
                  <a:lnTo>
                    <a:pt x="1154017" y="377328"/>
                  </a:lnTo>
                  <a:cubicBezTo>
                    <a:pt x="1160152" y="381418"/>
                    <a:pt x="1163303" y="382739"/>
                    <a:pt x="1167788" y="388345"/>
                  </a:cubicBezTo>
                  <a:cubicBezTo>
                    <a:pt x="1169357" y="390306"/>
                    <a:pt x="1175175" y="400906"/>
                    <a:pt x="1178805" y="402116"/>
                  </a:cubicBezTo>
                  <a:cubicBezTo>
                    <a:pt x="1184963" y="404169"/>
                    <a:pt x="1191658" y="403952"/>
                    <a:pt x="1198084" y="404870"/>
                  </a:cubicBezTo>
                  <a:cubicBezTo>
                    <a:pt x="1200838" y="406706"/>
                    <a:pt x="1204006" y="408038"/>
                    <a:pt x="1206347" y="410379"/>
                  </a:cubicBezTo>
                  <a:cubicBezTo>
                    <a:pt x="1208687" y="412719"/>
                    <a:pt x="1209048" y="416887"/>
                    <a:pt x="1211855" y="418641"/>
                  </a:cubicBezTo>
                  <a:cubicBezTo>
                    <a:pt x="1216779" y="421718"/>
                    <a:pt x="1222872" y="422314"/>
                    <a:pt x="1228380" y="424150"/>
                  </a:cubicBezTo>
                  <a:lnTo>
                    <a:pt x="1236643" y="426904"/>
                  </a:lnTo>
                  <a:lnTo>
                    <a:pt x="1244906" y="429658"/>
                  </a:lnTo>
                  <a:cubicBezTo>
                    <a:pt x="1250030" y="434783"/>
                    <a:pt x="1251726" y="437200"/>
                    <a:pt x="1258677" y="440675"/>
                  </a:cubicBezTo>
                  <a:cubicBezTo>
                    <a:pt x="1263304" y="442988"/>
                    <a:pt x="1273544" y="444859"/>
                    <a:pt x="1277956" y="446183"/>
                  </a:cubicBezTo>
                  <a:cubicBezTo>
                    <a:pt x="1283518" y="447852"/>
                    <a:pt x="1294482" y="451692"/>
                    <a:pt x="1294482" y="451692"/>
                  </a:cubicBezTo>
                  <a:cubicBezTo>
                    <a:pt x="1297236" y="453528"/>
                    <a:pt x="1299784" y="455720"/>
                    <a:pt x="1302744" y="457200"/>
                  </a:cubicBezTo>
                  <a:cubicBezTo>
                    <a:pt x="1311971" y="461813"/>
                    <a:pt x="1327945" y="461837"/>
                    <a:pt x="1335795" y="462709"/>
                  </a:cubicBezTo>
                  <a:lnTo>
                    <a:pt x="1352320" y="468217"/>
                  </a:lnTo>
                  <a:cubicBezTo>
                    <a:pt x="1355074" y="469135"/>
                    <a:pt x="1357682" y="470867"/>
                    <a:pt x="1360583" y="470971"/>
                  </a:cubicBezTo>
                  <a:lnTo>
                    <a:pt x="1437701" y="473726"/>
                  </a:lnTo>
                  <a:lnTo>
                    <a:pt x="0" y="4737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6"/>
            <p:cNvSpPr/>
            <p:nvPr/>
          </p:nvSpPr>
          <p:spPr>
            <a:xfrm flipH="1">
              <a:off x="3355920" y="5132160"/>
              <a:ext cx="1077840" cy="355680"/>
            </a:xfrm>
            <a:custGeom>
              <a:avLst/>
              <a:gdLst/>
              <a:ahLst/>
              <a:rect l="l" t="t" r="r" b="b"/>
              <a:pathLst>
                <a:path w="1437701" h="473726">
                  <a:moveTo>
                    <a:pt x="0" y="0"/>
                  </a:moveTo>
                  <a:lnTo>
                    <a:pt x="963976" y="0"/>
                  </a:lnTo>
                  <a:lnTo>
                    <a:pt x="963976" y="27542"/>
                  </a:lnTo>
                  <a:cubicBezTo>
                    <a:pt x="964894" y="35805"/>
                    <a:pt x="965860" y="44062"/>
                    <a:pt x="966730" y="52330"/>
                  </a:cubicBezTo>
                  <a:cubicBezTo>
                    <a:pt x="967696" y="61506"/>
                    <a:pt x="967784" y="70804"/>
                    <a:pt x="969484" y="79873"/>
                  </a:cubicBezTo>
                  <a:cubicBezTo>
                    <a:pt x="970554" y="85580"/>
                    <a:pt x="974993" y="96398"/>
                    <a:pt x="974993" y="96398"/>
                  </a:cubicBezTo>
                  <a:cubicBezTo>
                    <a:pt x="980936" y="149891"/>
                    <a:pt x="972011" y="104150"/>
                    <a:pt x="983255" y="129448"/>
                  </a:cubicBezTo>
                  <a:cubicBezTo>
                    <a:pt x="985613" y="134754"/>
                    <a:pt x="988764" y="145974"/>
                    <a:pt x="988764" y="145974"/>
                  </a:cubicBezTo>
                  <a:cubicBezTo>
                    <a:pt x="992238" y="173768"/>
                    <a:pt x="989178" y="160987"/>
                    <a:pt x="997026" y="184533"/>
                  </a:cubicBezTo>
                  <a:cubicBezTo>
                    <a:pt x="997944" y="187287"/>
                    <a:pt x="997727" y="190742"/>
                    <a:pt x="999780" y="192795"/>
                  </a:cubicBezTo>
                  <a:lnTo>
                    <a:pt x="1005289" y="198304"/>
                  </a:lnTo>
                  <a:cubicBezTo>
                    <a:pt x="1011618" y="217293"/>
                    <a:pt x="1006691" y="210723"/>
                    <a:pt x="1016306" y="220338"/>
                  </a:cubicBezTo>
                  <a:cubicBezTo>
                    <a:pt x="1018142" y="225846"/>
                    <a:pt x="1017708" y="232757"/>
                    <a:pt x="1021814" y="236863"/>
                  </a:cubicBezTo>
                  <a:lnTo>
                    <a:pt x="1032831" y="247880"/>
                  </a:lnTo>
                  <a:lnTo>
                    <a:pt x="1038340" y="253388"/>
                  </a:lnTo>
                  <a:cubicBezTo>
                    <a:pt x="1039258" y="256142"/>
                    <a:pt x="1039796" y="259054"/>
                    <a:pt x="1041094" y="261651"/>
                  </a:cubicBezTo>
                  <a:cubicBezTo>
                    <a:pt x="1044569" y="268602"/>
                    <a:pt x="1046986" y="270298"/>
                    <a:pt x="1052111" y="275422"/>
                  </a:cubicBezTo>
                  <a:cubicBezTo>
                    <a:pt x="1053029" y="278176"/>
                    <a:pt x="1053567" y="281088"/>
                    <a:pt x="1054865" y="283685"/>
                  </a:cubicBezTo>
                  <a:cubicBezTo>
                    <a:pt x="1059419" y="292793"/>
                    <a:pt x="1066966" y="298540"/>
                    <a:pt x="1074144" y="305718"/>
                  </a:cubicBezTo>
                  <a:cubicBezTo>
                    <a:pt x="1081993" y="313567"/>
                    <a:pt x="1077492" y="309786"/>
                    <a:pt x="1087915" y="316735"/>
                  </a:cubicBezTo>
                  <a:cubicBezTo>
                    <a:pt x="1092940" y="331809"/>
                    <a:pt x="1089465" y="332658"/>
                    <a:pt x="1101687" y="338769"/>
                  </a:cubicBezTo>
                  <a:cubicBezTo>
                    <a:pt x="1104284" y="340067"/>
                    <a:pt x="1107195" y="340605"/>
                    <a:pt x="1109949" y="341523"/>
                  </a:cubicBezTo>
                  <a:cubicBezTo>
                    <a:pt x="1128703" y="360277"/>
                    <a:pt x="1099399" y="331693"/>
                    <a:pt x="1123720" y="352540"/>
                  </a:cubicBezTo>
                  <a:cubicBezTo>
                    <a:pt x="1127663" y="355920"/>
                    <a:pt x="1131065" y="359885"/>
                    <a:pt x="1134737" y="363557"/>
                  </a:cubicBezTo>
                  <a:lnTo>
                    <a:pt x="1140246" y="369065"/>
                  </a:lnTo>
                  <a:cubicBezTo>
                    <a:pt x="1142082" y="370901"/>
                    <a:pt x="1143290" y="373753"/>
                    <a:pt x="1145754" y="374574"/>
                  </a:cubicBezTo>
                  <a:lnTo>
                    <a:pt x="1154017" y="377328"/>
                  </a:lnTo>
                  <a:cubicBezTo>
                    <a:pt x="1160152" y="381418"/>
                    <a:pt x="1163303" y="382739"/>
                    <a:pt x="1167788" y="388345"/>
                  </a:cubicBezTo>
                  <a:cubicBezTo>
                    <a:pt x="1169357" y="390306"/>
                    <a:pt x="1175175" y="400906"/>
                    <a:pt x="1178805" y="402116"/>
                  </a:cubicBezTo>
                  <a:cubicBezTo>
                    <a:pt x="1184963" y="404169"/>
                    <a:pt x="1191658" y="403952"/>
                    <a:pt x="1198084" y="404870"/>
                  </a:cubicBezTo>
                  <a:cubicBezTo>
                    <a:pt x="1200838" y="406706"/>
                    <a:pt x="1204006" y="408038"/>
                    <a:pt x="1206347" y="410379"/>
                  </a:cubicBezTo>
                  <a:cubicBezTo>
                    <a:pt x="1208687" y="412719"/>
                    <a:pt x="1209048" y="416887"/>
                    <a:pt x="1211855" y="418641"/>
                  </a:cubicBezTo>
                  <a:cubicBezTo>
                    <a:pt x="1216779" y="421718"/>
                    <a:pt x="1222872" y="422314"/>
                    <a:pt x="1228380" y="424150"/>
                  </a:cubicBezTo>
                  <a:lnTo>
                    <a:pt x="1236643" y="426904"/>
                  </a:lnTo>
                  <a:lnTo>
                    <a:pt x="1244906" y="429658"/>
                  </a:lnTo>
                  <a:cubicBezTo>
                    <a:pt x="1250030" y="434783"/>
                    <a:pt x="1251726" y="437200"/>
                    <a:pt x="1258677" y="440675"/>
                  </a:cubicBezTo>
                  <a:cubicBezTo>
                    <a:pt x="1263304" y="442988"/>
                    <a:pt x="1273544" y="444859"/>
                    <a:pt x="1277956" y="446183"/>
                  </a:cubicBezTo>
                  <a:cubicBezTo>
                    <a:pt x="1283518" y="447852"/>
                    <a:pt x="1294482" y="451692"/>
                    <a:pt x="1294482" y="451692"/>
                  </a:cubicBezTo>
                  <a:cubicBezTo>
                    <a:pt x="1297236" y="453528"/>
                    <a:pt x="1299784" y="455720"/>
                    <a:pt x="1302744" y="457200"/>
                  </a:cubicBezTo>
                  <a:cubicBezTo>
                    <a:pt x="1311971" y="461813"/>
                    <a:pt x="1327945" y="461837"/>
                    <a:pt x="1335795" y="462709"/>
                  </a:cubicBezTo>
                  <a:lnTo>
                    <a:pt x="1352320" y="468217"/>
                  </a:lnTo>
                  <a:cubicBezTo>
                    <a:pt x="1355074" y="469135"/>
                    <a:pt x="1357682" y="470867"/>
                    <a:pt x="1360583" y="470971"/>
                  </a:cubicBezTo>
                  <a:lnTo>
                    <a:pt x="1437701" y="473726"/>
                  </a:lnTo>
                  <a:lnTo>
                    <a:pt x="0" y="4737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45"/>
          <p:cNvGrpSpPr/>
          <p:nvPr/>
        </p:nvGrpSpPr>
        <p:grpSpPr>
          <a:xfrm>
            <a:off x="5873760" y="4997520"/>
            <a:ext cx="2673360" cy="1166760"/>
            <a:chOff x="5873760" y="4997520"/>
            <a:chExt cx="2673360" cy="1166760"/>
          </a:xfrm>
        </p:grpSpPr>
        <p:sp>
          <p:nvSpPr>
            <p:cNvPr id="357" name="Freeform 44"/>
            <p:cNvSpPr/>
            <p:nvPr/>
          </p:nvSpPr>
          <p:spPr>
            <a:xfrm>
              <a:off x="6671520" y="5131440"/>
              <a:ext cx="1077120" cy="35892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435893" h="478631">
                  <a:moveTo>
                    <a:pt x="476250" y="0"/>
                  </a:moveTo>
                  <a:lnTo>
                    <a:pt x="959643" y="0"/>
                  </a:lnTo>
                  <a:lnTo>
                    <a:pt x="964406" y="40481"/>
                  </a:lnTo>
                  <a:lnTo>
                    <a:pt x="969168" y="83344"/>
                  </a:lnTo>
                  <a:lnTo>
                    <a:pt x="985837" y="150019"/>
                  </a:lnTo>
                  <a:lnTo>
                    <a:pt x="992981" y="178594"/>
                  </a:lnTo>
                  <a:lnTo>
                    <a:pt x="1016793" y="230981"/>
                  </a:lnTo>
                  <a:lnTo>
                    <a:pt x="1038225" y="259556"/>
                  </a:lnTo>
                  <a:lnTo>
                    <a:pt x="1047750" y="273844"/>
                  </a:lnTo>
                  <a:lnTo>
                    <a:pt x="1062037" y="292894"/>
                  </a:lnTo>
                  <a:lnTo>
                    <a:pt x="1076325" y="311944"/>
                  </a:lnTo>
                  <a:lnTo>
                    <a:pt x="1100137" y="338138"/>
                  </a:lnTo>
                  <a:lnTo>
                    <a:pt x="1114425" y="352425"/>
                  </a:lnTo>
                  <a:lnTo>
                    <a:pt x="1133475" y="369094"/>
                  </a:lnTo>
                  <a:lnTo>
                    <a:pt x="1154906" y="383381"/>
                  </a:lnTo>
                  <a:lnTo>
                    <a:pt x="1178718" y="402431"/>
                  </a:lnTo>
                  <a:lnTo>
                    <a:pt x="1200150" y="416719"/>
                  </a:lnTo>
                  <a:lnTo>
                    <a:pt x="1223962" y="428625"/>
                  </a:lnTo>
                  <a:lnTo>
                    <a:pt x="1243012" y="438150"/>
                  </a:lnTo>
                  <a:lnTo>
                    <a:pt x="1269206" y="450056"/>
                  </a:lnTo>
                  <a:lnTo>
                    <a:pt x="1300162" y="459581"/>
                  </a:lnTo>
                  <a:lnTo>
                    <a:pt x="1326356" y="466725"/>
                  </a:lnTo>
                  <a:lnTo>
                    <a:pt x="1352550" y="471488"/>
                  </a:lnTo>
                  <a:lnTo>
                    <a:pt x="1388268" y="478631"/>
                  </a:lnTo>
                  <a:lnTo>
                    <a:pt x="1435893" y="476250"/>
                  </a:lnTo>
                  <a:lnTo>
                    <a:pt x="0" y="476250"/>
                  </a:lnTo>
                  <a:lnTo>
                    <a:pt x="54768" y="476250"/>
                  </a:lnTo>
                  <a:lnTo>
                    <a:pt x="126206" y="461963"/>
                  </a:lnTo>
                  <a:lnTo>
                    <a:pt x="178593" y="442913"/>
                  </a:lnTo>
                  <a:lnTo>
                    <a:pt x="216693" y="426244"/>
                  </a:lnTo>
                  <a:lnTo>
                    <a:pt x="250031" y="409575"/>
                  </a:lnTo>
                  <a:lnTo>
                    <a:pt x="283368" y="385763"/>
                  </a:lnTo>
                  <a:lnTo>
                    <a:pt x="304800" y="369094"/>
                  </a:lnTo>
                  <a:lnTo>
                    <a:pt x="333375" y="345281"/>
                  </a:lnTo>
                  <a:lnTo>
                    <a:pt x="364331" y="309563"/>
                  </a:lnTo>
                  <a:lnTo>
                    <a:pt x="390525" y="271463"/>
                  </a:lnTo>
                  <a:lnTo>
                    <a:pt x="409575" y="245269"/>
                  </a:lnTo>
                  <a:lnTo>
                    <a:pt x="431006" y="204788"/>
                  </a:lnTo>
                  <a:lnTo>
                    <a:pt x="450056" y="159544"/>
                  </a:lnTo>
                  <a:lnTo>
                    <a:pt x="461962" y="123825"/>
                  </a:lnTo>
                  <a:lnTo>
                    <a:pt x="469106" y="90488"/>
                  </a:lnTo>
                  <a:lnTo>
                    <a:pt x="473868" y="52388"/>
                  </a:lnTo>
                  <a:lnTo>
                    <a:pt x="47625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5873760" y="5488920"/>
              <a:ext cx="2673360" cy="675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6671880" y="4997520"/>
              <a:ext cx="1076760" cy="13464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46"/>
          <p:cNvSpPr/>
          <p:nvPr/>
        </p:nvSpPr>
        <p:spPr>
          <a:xfrm>
            <a:off x="416160" y="16351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7"/>
          <p:cNvSpPr/>
          <p:nvPr/>
        </p:nvSpPr>
        <p:spPr>
          <a:xfrm>
            <a:off x="334440" y="344664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8"/>
          <p:cNvSpPr/>
          <p:nvPr/>
        </p:nvSpPr>
        <p:spPr>
          <a:xfrm>
            <a:off x="334440" y="53960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9"/>
          <p:cNvSpPr/>
          <p:nvPr/>
        </p:nvSpPr>
        <p:spPr>
          <a:xfrm>
            <a:off x="4431240" y="1008000"/>
            <a:ext cx="143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ing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t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tch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54"/>
          <p:cNvCxnSpPr/>
          <p:nvPr/>
        </p:nvCxnSpPr>
        <p:spPr>
          <a:xfrm>
            <a:off x="5795640" y="1155240"/>
            <a:ext cx="794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Straight Arrow Connector 55"/>
          <p:cNvCxnSpPr/>
          <p:nvPr/>
        </p:nvCxnSpPr>
        <p:spPr>
          <a:xfrm flipH="1">
            <a:off x="3846240" y="1170000"/>
            <a:ext cx="65952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Rectangle 5"/>
          <p:cNvSpPr/>
          <p:nvPr/>
        </p:nvSpPr>
        <p:spPr>
          <a:xfrm>
            <a:off x="5576760" y="639144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4572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Wet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et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cu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6"/>
          <p:cNvGrpSpPr/>
          <p:nvPr/>
        </p:nvGrpSpPr>
        <p:grpSpPr>
          <a:xfrm>
            <a:off x="3552840" y="1693800"/>
            <a:ext cx="4754520" cy="2556000"/>
            <a:chOff x="3552840" y="1693800"/>
            <a:chExt cx="4754520" cy="2556000"/>
          </a:xfrm>
        </p:grpSpPr>
        <p:sp>
          <p:nvSpPr>
            <p:cNvPr id="369" name="Freeform 5"/>
            <p:cNvSpPr/>
            <p:nvPr/>
          </p:nvSpPr>
          <p:spPr>
            <a:xfrm>
              <a:off x="4972320" y="2411640"/>
              <a:ext cx="1915560" cy="638640"/>
            </a:xfrm>
            <a:custGeom>
              <a:avLst/>
              <a:gdLst>
                <a:gd name="textAreaLeft" fmla="*/ 0 w 1915560"/>
                <a:gd name="textAreaRight" fmla="*/ 1915920 w 191556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435893" h="478631">
                  <a:moveTo>
                    <a:pt x="476250" y="0"/>
                  </a:moveTo>
                  <a:lnTo>
                    <a:pt x="959643" y="0"/>
                  </a:lnTo>
                  <a:lnTo>
                    <a:pt x="964406" y="40481"/>
                  </a:lnTo>
                  <a:lnTo>
                    <a:pt x="969168" y="83344"/>
                  </a:lnTo>
                  <a:lnTo>
                    <a:pt x="985837" y="150019"/>
                  </a:lnTo>
                  <a:lnTo>
                    <a:pt x="992981" y="178594"/>
                  </a:lnTo>
                  <a:lnTo>
                    <a:pt x="1016793" y="230981"/>
                  </a:lnTo>
                  <a:lnTo>
                    <a:pt x="1038225" y="259556"/>
                  </a:lnTo>
                  <a:lnTo>
                    <a:pt x="1047750" y="273844"/>
                  </a:lnTo>
                  <a:lnTo>
                    <a:pt x="1062037" y="292894"/>
                  </a:lnTo>
                  <a:lnTo>
                    <a:pt x="1076325" y="311944"/>
                  </a:lnTo>
                  <a:lnTo>
                    <a:pt x="1100137" y="338138"/>
                  </a:lnTo>
                  <a:lnTo>
                    <a:pt x="1114425" y="352425"/>
                  </a:lnTo>
                  <a:lnTo>
                    <a:pt x="1133475" y="369094"/>
                  </a:lnTo>
                  <a:lnTo>
                    <a:pt x="1154906" y="383381"/>
                  </a:lnTo>
                  <a:lnTo>
                    <a:pt x="1178718" y="402431"/>
                  </a:lnTo>
                  <a:lnTo>
                    <a:pt x="1200150" y="416719"/>
                  </a:lnTo>
                  <a:lnTo>
                    <a:pt x="1223962" y="428625"/>
                  </a:lnTo>
                  <a:lnTo>
                    <a:pt x="1243012" y="438150"/>
                  </a:lnTo>
                  <a:lnTo>
                    <a:pt x="1269206" y="450056"/>
                  </a:lnTo>
                  <a:lnTo>
                    <a:pt x="1300162" y="459581"/>
                  </a:lnTo>
                  <a:lnTo>
                    <a:pt x="1326356" y="466725"/>
                  </a:lnTo>
                  <a:lnTo>
                    <a:pt x="1352550" y="471488"/>
                  </a:lnTo>
                  <a:lnTo>
                    <a:pt x="1388268" y="478631"/>
                  </a:lnTo>
                  <a:lnTo>
                    <a:pt x="1435893" y="476250"/>
                  </a:lnTo>
                  <a:lnTo>
                    <a:pt x="0" y="476250"/>
                  </a:lnTo>
                  <a:lnTo>
                    <a:pt x="54768" y="476250"/>
                  </a:lnTo>
                  <a:lnTo>
                    <a:pt x="126206" y="461963"/>
                  </a:lnTo>
                  <a:lnTo>
                    <a:pt x="178593" y="442913"/>
                  </a:lnTo>
                  <a:lnTo>
                    <a:pt x="216693" y="426244"/>
                  </a:lnTo>
                  <a:lnTo>
                    <a:pt x="250031" y="409575"/>
                  </a:lnTo>
                  <a:lnTo>
                    <a:pt x="283368" y="385763"/>
                  </a:lnTo>
                  <a:lnTo>
                    <a:pt x="304800" y="369094"/>
                  </a:lnTo>
                  <a:lnTo>
                    <a:pt x="333375" y="345281"/>
                  </a:lnTo>
                  <a:lnTo>
                    <a:pt x="364331" y="309563"/>
                  </a:lnTo>
                  <a:lnTo>
                    <a:pt x="390525" y="271463"/>
                  </a:lnTo>
                  <a:lnTo>
                    <a:pt x="409575" y="245269"/>
                  </a:lnTo>
                  <a:lnTo>
                    <a:pt x="431006" y="204788"/>
                  </a:lnTo>
                  <a:lnTo>
                    <a:pt x="450056" y="159544"/>
                  </a:lnTo>
                  <a:lnTo>
                    <a:pt x="461962" y="123825"/>
                  </a:lnTo>
                  <a:lnTo>
                    <a:pt x="469106" y="90488"/>
                  </a:lnTo>
                  <a:lnTo>
                    <a:pt x="473868" y="52388"/>
                  </a:lnTo>
                  <a:lnTo>
                    <a:pt x="47625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3552840" y="3047400"/>
              <a:ext cx="4754520" cy="1202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1"/>
            <p:cNvSpPr/>
            <p:nvPr/>
          </p:nvSpPr>
          <p:spPr>
            <a:xfrm>
              <a:off x="4972680" y="2172960"/>
              <a:ext cx="1914840" cy="24012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8"/>
            <p:cNvSpPr/>
            <p:nvPr/>
          </p:nvSpPr>
          <p:spPr>
            <a:xfrm>
              <a:off x="5524560" y="16938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3" name="Straight Arrow Connector 9"/>
            <p:cNvCxnSpPr/>
            <p:nvPr/>
          </p:nvCxnSpPr>
          <p:spPr>
            <a:xfrm flipH="1">
              <a:off x="4971600" y="2068920"/>
              <a:ext cx="1916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4" name="Straight Arrow Connector 10"/>
            <p:cNvCxnSpPr/>
            <p:nvPr/>
          </p:nvCxnSpPr>
          <p:spPr>
            <a:xfrm flipH="1">
              <a:off x="6275160" y="24958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5" name="Straight Arrow Connector 11"/>
            <p:cNvCxnSpPr/>
            <p:nvPr/>
          </p:nvCxnSpPr>
          <p:spPr>
            <a:xfrm flipH="1">
              <a:off x="4971600" y="24958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6" name="Straight Arrow Connector 12"/>
            <p:cNvCxnSpPr/>
            <p:nvPr/>
          </p:nvCxnSpPr>
          <p:spPr>
            <a:xfrm flipH="1">
              <a:off x="5627160" y="24958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77" name="TextBox 13"/>
            <p:cNvSpPr/>
            <p:nvPr/>
          </p:nvSpPr>
          <p:spPr>
            <a:xfrm>
              <a:off x="5781960" y="2496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4"/>
            <p:cNvSpPr/>
            <p:nvPr/>
          </p:nvSpPr>
          <p:spPr>
            <a:xfrm>
              <a:off x="6418800" y="2496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15"/>
            <p:cNvSpPr/>
            <p:nvPr/>
          </p:nvSpPr>
          <p:spPr>
            <a:xfrm>
              <a:off x="5131800" y="2496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7"/>
          <p:cNvSpPr/>
          <p:nvPr/>
        </p:nvSpPr>
        <p:spPr>
          <a:xfrm>
            <a:off x="4314600" y="4383000"/>
            <a:ext cx="32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attern Size = 10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ing Feature Size = 4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cut = 3 um each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8"/>
          <p:cNvSpPr/>
          <p:nvPr/>
        </p:nvSpPr>
        <p:spPr>
          <a:xfrm>
            <a:off x="376200" y="177480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cu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etching that occurs under the masking (protecting) l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ed as a distance (leng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576760" y="639144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sotr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sotropic: directions are not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ually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attained using dry 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dry (plasma) etch profile, a function of chemistry and bombard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– the chemical reactions that take place on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ardment – kinetic ion energy directed at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sotr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sotropic: directions are not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ype of profile can be achieved by some wet etches, in special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 etchants etch some single crystal materials faster in certain crystallographic directions, resulting in anisotropic etch profi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MAH and KOH wet etching of silicon with certain cryst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 Anisotropic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7"/>
          <p:cNvGrpSpPr/>
          <p:nvPr/>
        </p:nvGrpSpPr>
        <p:grpSpPr>
          <a:xfrm>
            <a:off x="2057400" y="4235400"/>
            <a:ext cx="5029200" cy="2195640"/>
            <a:chOff x="2057400" y="4235400"/>
            <a:chExt cx="5029200" cy="2195640"/>
          </a:xfrm>
        </p:grpSpPr>
        <p:sp>
          <p:nvSpPr>
            <p:cNvPr id="389" name="Rectangle 21"/>
            <p:cNvSpPr/>
            <p:nvPr/>
          </p:nvSpPr>
          <p:spPr>
            <a:xfrm>
              <a:off x="2057400" y="4490280"/>
              <a:ext cx="2025720" cy="667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2"/>
            <p:cNvSpPr/>
            <p:nvPr/>
          </p:nvSpPr>
          <p:spPr>
            <a:xfrm>
              <a:off x="5060880" y="4491000"/>
              <a:ext cx="2025720" cy="67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3"/>
            <p:cNvSpPr/>
            <p:nvPr/>
          </p:nvSpPr>
          <p:spPr>
            <a:xfrm>
              <a:off x="2057400" y="5159880"/>
              <a:ext cx="5029200" cy="127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2057400" y="4235400"/>
              <a:ext cx="2025720" cy="2538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2"/>
            <p:cNvSpPr/>
            <p:nvPr/>
          </p:nvSpPr>
          <p:spPr>
            <a:xfrm>
              <a:off x="5060880" y="4235400"/>
              <a:ext cx="2025720" cy="2538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9"/>
          <p:cNvGrpSpPr/>
          <p:nvPr/>
        </p:nvGrpSpPr>
        <p:grpSpPr>
          <a:xfrm>
            <a:off x="2419560" y="2841480"/>
            <a:ext cx="4291560" cy="1203480"/>
            <a:chOff x="2419560" y="2841480"/>
            <a:chExt cx="4291560" cy="1203480"/>
          </a:xfrm>
        </p:grpSpPr>
        <p:grpSp>
          <p:nvGrpSpPr>
            <p:cNvPr id="395" name="Group 11"/>
            <p:cNvGrpSpPr/>
            <p:nvPr/>
          </p:nvGrpSpPr>
          <p:grpSpPr>
            <a:xfrm>
              <a:off x="2419560" y="2841480"/>
              <a:ext cx="2117880" cy="1203480"/>
              <a:chOff x="2419560" y="2841480"/>
              <a:chExt cx="2117880" cy="1203480"/>
            </a:xfrm>
          </p:grpSpPr>
          <p:sp>
            <p:nvSpPr>
              <p:cNvPr id="396" name="TextBox 12"/>
              <p:cNvSpPr/>
              <p:nvPr/>
            </p:nvSpPr>
            <p:spPr>
              <a:xfrm>
                <a:off x="2419560" y="3092760"/>
                <a:ext cx="1501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 = 1 -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7"/>
              <p:cNvGrpSpPr/>
              <p:nvPr/>
            </p:nvGrpSpPr>
            <p:grpSpPr>
              <a:xfrm>
                <a:off x="3905640" y="2841480"/>
                <a:ext cx="631800" cy="1203480"/>
                <a:chOff x="3905640" y="2841480"/>
                <a:chExt cx="631800" cy="1203480"/>
              </a:xfrm>
            </p:grpSpPr>
            <p:sp>
              <p:nvSpPr>
                <p:cNvPr id="398" name="TextBox 4"/>
                <p:cNvSpPr/>
                <p:nvPr/>
              </p:nvSpPr>
              <p:spPr>
                <a:xfrm>
                  <a:off x="3905640" y="2841480"/>
                  <a:ext cx="631800" cy="12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0" lang="en-US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0" lang="en-US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Straight Connector 15"/>
                <p:cNvSpPr/>
                <p:nvPr/>
              </p:nvSpPr>
              <p:spPr>
                <a:xfrm>
                  <a:off x="3914640" y="3429000"/>
                  <a:ext cx="61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0" name="TextBox 11"/>
            <p:cNvSpPr/>
            <p:nvPr/>
          </p:nvSpPr>
          <p:spPr>
            <a:xfrm>
              <a:off x="4678560" y="308772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 1 - 0 =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16"/>
          <p:cNvSpPr/>
          <p:nvPr/>
        </p:nvSpPr>
        <p:spPr>
          <a:xfrm>
            <a:off x="3924720" y="1738440"/>
            <a:ext cx="129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576760" y="643104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sotropic Silicon Wet E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6400800" y="664200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K. Sato et al.rSensors and Actuators 73(1999)131–1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419120" y="1295280"/>
            <a:ext cx="6276960" cy="45720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6"/>
          <p:cNvSpPr/>
          <p:nvPr/>
        </p:nvSpPr>
        <p:spPr>
          <a:xfrm>
            <a:off x="685800" y="58309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etch profiles of deep grooves etched into a (110) or (100) silicon substrate using TMAH and KOH: (a) 26% TMAH 8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; (b) 40% KOH 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sotropic Etching of Single Crys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1304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ys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material consisting of very well-ordered atoms or molecules with a repeating pattern that extends in all three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 and faces are not necessarily the same. Crystals may be anisotropic due to the packing arrangement of their constituent atoms o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27"/>
          <p:cNvGrpSpPr/>
          <p:nvPr/>
        </p:nvGrpSpPr>
        <p:grpSpPr>
          <a:xfrm>
            <a:off x="529200" y="3865680"/>
            <a:ext cx="5478480" cy="2701800"/>
            <a:chOff x="529200" y="3865680"/>
            <a:chExt cx="5478480" cy="2701800"/>
          </a:xfrm>
        </p:grpSpPr>
        <p:grpSp>
          <p:nvGrpSpPr>
            <p:cNvPr id="410" name="Group 122"/>
            <p:cNvGrpSpPr/>
            <p:nvPr/>
          </p:nvGrpSpPr>
          <p:grpSpPr>
            <a:xfrm>
              <a:off x="529200" y="3865680"/>
              <a:ext cx="4581720" cy="2701800"/>
              <a:chOff x="529200" y="3865680"/>
              <a:chExt cx="4581720" cy="2701800"/>
            </a:xfrm>
          </p:grpSpPr>
          <p:grpSp>
            <p:nvGrpSpPr>
              <p:cNvPr id="411" name="Group 102"/>
              <p:cNvGrpSpPr/>
              <p:nvPr/>
            </p:nvGrpSpPr>
            <p:grpSpPr>
              <a:xfrm>
                <a:off x="1720800" y="4777560"/>
                <a:ext cx="3390120" cy="1789920"/>
                <a:chOff x="1720800" y="4777560"/>
                <a:chExt cx="3390120" cy="1789920"/>
              </a:xfrm>
            </p:grpSpPr>
            <p:grpSp>
              <p:nvGrpSpPr>
                <p:cNvPr id="412" name="Group 47"/>
                <p:cNvGrpSpPr/>
                <p:nvPr/>
              </p:nvGrpSpPr>
              <p:grpSpPr>
                <a:xfrm>
                  <a:off x="1720800" y="4777560"/>
                  <a:ext cx="3390120" cy="360000"/>
                  <a:chOff x="1720800" y="4777560"/>
                  <a:chExt cx="3390120" cy="360000"/>
                </a:xfrm>
              </p:grpSpPr>
              <p:sp>
                <p:nvSpPr>
                  <p:cNvPr id="413" name="Oval 3"/>
                  <p:cNvSpPr/>
                  <p:nvPr/>
                </p:nvSpPr>
                <p:spPr>
                  <a:xfrm>
                    <a:off x="1720800" y="477756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Oval 4"/>
                  <p:cNvSpPr/>
                  <p:nvPr/>
                </p:nvSpPr>
                <p:spPr>
                  <a:xfrm>
                    <a:off x="2478240" y="477756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5"/>
                  <p:cNvSpPr/>
                  <p:nvPr/>
                </p:nvSpPr>
                <p:spPr>
                  <a:xfrm>
                    <a:off x="3235680" y="477756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Oval 6"/>
                  <p:cNvSpPr/>
                  <p:nvPr/>
                </p:nvSpPr>
                <p:spPr>
                  <a:xfrm>
                    <a:off x="3993120" y="477756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Oval 8"/>
                  <p:cNvSpPr/>
                  <p:nvPr/>
                </p:nvSpPr>
                <p:spPr>
                  <a:xfrm>
                    <a:off x="4750560" y="477756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Straight Connector 10"/>
                  <p:cNvSpPr/>
                  <p:nvPr/>
                </p:nvSpPr>
                <p:spPr>
                  <a:xfrm>
                    <a:off x="2081160" y="496224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Straight Connector 11"/>
                  <p:cNvSpPr/>
                  <p:nvPr/>
                </p:nvSpPr>
                <p:spPr>
                  <a:xfrm>
                    <a:off x="2838600" y="496224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Straight Connector 14"/>
                  <p:cNvSpPr/>
                  <p:nvPr/>
                </p:nvSpPr>
                <p:spPr>
                  <a:xfrm>
                    <a:off x="3596040" y="496224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Straight Connector 17"/>
                  <p:cNvSpPr/>
                  <p:nvPr/>
                </p:nvSpPr>
                <p:spPr>
                  <a:xfrm>
                    <a:off x="4353480" y="496224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50"/>
                <p:cNvGrpSpPr/>
                <p:nvPr/>
              </p:nvGrpSpPr>
              <p:grpSpPr>
                <a:xfrm>
                  <a:off x="1720800" y="5254200"/>
                  <a:ext cx="3390120" cy="360000"/>
                  <a:chOff x="1720800" y="5254200"/>
                  <a:chExt cx="3390120" cy="360000"/>
                </a:xfrm>
              </p:grpSpPr>
              <p:sp>
                <p:nvSpPr>
                  <p:cNvPr id="423" name="Oval 20"/>
                  <p:cNvSpPr/>
                  <p:nvPr/>
                </p:nvSpPr>
                <p:spPr>
                  <a:xfrm>
                    <a:off x="1720800" y="525420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21"/>
                  <p:cNvSpPr/>
                  <p:nvPr/>
                </p:nvSpPr>
                <p:spPr>
                  <a:xfrm>
                    <a:off x="2478240" y="525420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22"/>
                  <p:cNvSpPr/>
                  <p:nvPr/>
                </p:nvSpPr>
                <p:spPr>
                  <a:xfrm>
                    <a:off x="3235680" y="525420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23"/>
                  <p:cNvSpPr/>
                  <p:nvPr/>
                </p:nvSpPr>
                <p:spPr>
                  <a:xfrm>
                    <a:off x="3993120" y="525420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24"/>
                  <p:cNvSpPr/>
                  <p:nvPr/>
                </p:nvSpPr>
                <p:spPr>
                  <a:xfrm>
                    <a:off x="4750560" y="525420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Straight Connector 25"/>
                  <p:cNvSpPr/>
                  <p:nvPr/>
                </p:nvSpPr>
                <p:spPr>
                  <a:xfrm>
                    <a:off x="2081160" y="543492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Straight Connector 26"/>
                  <p:cNvSpPr/>
                  <p:nvPr/>
                </p:nvSpPr>
                <p:spPr>
                  <a:xfrm>
                    <a:off x="2838600" y="543492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Straight Connector 27"/>
                  <p:cNvSpPr/>
                  <p:nvPr/>
                </p:nvSpPr>
                <p:spPr>
                  <a:xfrm>
                    <a:off x="3596040" y="543492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Straight Connector 28"/>
                  <p:cNvSpPr/>
                  <p:nvPr/>
                </p:nvSpPr>
                <p:spPr>
                  <a:xfrm>
                    <a:off x="4353480" y="543492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49"/>
                <p:cNvGrpSpPr/>
                <p:nvPr/>
              </p:nvGrpSpPr>
              <p:grpSpPr>
                <a:xfrm>
                  <a:off x="1720800" y="5730840"/>
                  <a:ext cx="3390120" cy="360000"/>
                  <a:chOff x="1720800" y="5730840"/>
                  <a:chExt cx="3390120" cy="360000"/>
                </a:xfrm>
              </p:grpSpPr>
              <p:sp>
                <p:nvSpPr>
                  <p:cNvPr id="433" name="Oval 29"/>
                  <p:cNvSpPr/>
                  <p:nvPr/>
                </p:nvSpPr>
                <p:spPr>
                  <a:xfrm>
                    <a:off x="1720800" y="573084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30"/>
                  <p:cNvSpPr/>
                  <p:nvPr/>
                </p:nvSpPr>
                <p:spPr>
                  <a:xfrm>
                    <a:off x="2478240" y="573084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31"/>
                  <p:cNvSpPr/>
                  <p:nvPr/>
                </p:nvSpPr>
                <p:spPr>
                  <a:xfrm>
                    <a:off x="3235680" y="573084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32"/>
                  <p:cNvSpPr/>
                  <p:nvPr/>
                </p:nvSpPr>
                <p:spPr>
                  <a:xfrm>
                    <a:off x="3993120" y="573084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33"/>
                  <p:cNvSpPr/>
                  <p:nvPr/>
                </p:nvSpPr>
                <p:spPr>
                  <a:xfrm>
                    <a:off x="4750560" y="573084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Straight Connector 34"/>
                  <p:cNvSpPr/>
                  <p:nvPr/>
                </p:nvSpPr>
                <p:spPr>
                  <a:xfrm>
                    <a:off x="2081160" y="591156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Straight Connector 35"/>
                  <p:cNvSpPr/>
                  <p:nvPr/>
                </p:nvSpPr>
                <p:spPr>
                  <a:xfrm>
                    <a:off x="2838600" y="591156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Straight Connector 36"/>
                  <p:cNvSpPr/>
                  <p:nvPr/>
                </p:nvSpPr>
                <p:spPr>
                  <a:xfrm>
                    <a:off x="3596040" y="591156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Straight Connector 37"/>
                  <p:cNvSpPr/>
                  <p:nvPr/>
                </p:nvSpPr>
                <p:spPr>
                  <a:xfrm>
                    <a:off x="4353480" y="591156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48"/>
                <p:cNvGrpSpPr/>
                <p:nvPr/>
              </p:nvGrpSpPr>
              <p:grpSpPr>
                <a:xfrm>
                  <a:off x="1720800" y="6207480"/>
                  <a:ext cx="3390120" cy="360000"/>
                  <a:chOff x="1720800" y="6207480"/>
                  <a:chExt cx="3390120" cy="360000"/>
                </a:xfrm>
              </p:grpSpPr>
              <p:sp>
                <p:nvSpPr>
                  <p:cNvPr id="443" name="Oval 38"/>
                  <p:cNvSpPr/>
                  <p:nvPr/>
                </p:nvSpPr>
                <p:spPr>
                  <a:xfrm>
                    <a:off x="1720800" y="620748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39"/>
                  <p:cNvSpPr/>
                  <p:nvPr/>
                </p:nvSpPr>
                <p:spPr>
                  <a:xfrm>
                    <a:off x="2478240" y="620748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40"/>
                  <p:cNvSpPr/>
                  <p:nvPr/>
                </p:nvSpPr>
                <p:spPr>
                  <a:xfrm>
                    <a:off x="3235680" y="620748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41"/>
                  <p:cNvSpPr/>
                  <p:nvPr/>
                </p:nvSpPr>
                <p:spPr>
                  <a:xfrm>
                    <a:off x="3993120" y="620748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42"/>
                  <p:cNvSpPr/>
                  <p:nvPr/>
                </p:nvSpPr>
                <p:spPr>
                  <a:xfrm>
                    <a:off x="4750560" y="6207480"/>
                    <a:ext cx="360360" cy="360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Straight Connector 43"/>
                  <p:cNvSpPr/>
                  <p:nvPr/>
                </p:nvSpPr>
                <p:spPr>
                  <a:xfrm>
                    <a:off x="2081160" y="638820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Straight Connector 44"/>
                  <p:cNvSpPr/>
                  <p:nvPr/>
                </p:nvSpPr>
                <p:spPr>
                  <a:xfrm>
                    <a:off x="2838600" y="638820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Straight Connector 45"/>
                  <p:cNvSpPr/>
                  <p:nvPr/>
                </p:nvSpPr>
                <p:spPr>
                  <a:xfrm>
                    <a:off x="3596040" y="638820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Straight Connector 46"/>
                  <p:cNvSpPr/>
                  <p:nvPr/>
                </p:nvSpPr>
                <p:spPr>
                  <a:xfrm>
                    <a:off x="4353480" y="6388200"/>
                    <a:ext cx="39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Straight Connector 51"/>
                <p:cNvSpPr/>
                <p:nvPr/>
              </p:nvSpPr>
              <p:spPr>
                <a:xfrm>
                  <a:off x="1900080" y="513864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Straight Connector 60"/>
                <p:cNvSpPr/>
                <p:nvPr/>
              </p:nvSpPr>
              <p:spPr>
                <a:xfrm>
                  <a:off x="1900080" y="561492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Straight Connector 63"/>
                <p:cNvSpPr/>
                <p:nvPr/>
              </p:nvSpPr>
              <p:spPr>
                <a:xfrm>
                  <a:off x="1900080" y="609120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Straight Connector 66"/>
                <p:cNvSpPr/>
                <p:nvPr/>
              </p:nvSpPr>
              <p:spPr>
                <a:xfrm>
                  <a:off x="2657160" y="513864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Straight Connector 69"/>
                <p:cNvSpPr/>
                <p:nvPr/>
              </p:nvSpPr>
              <p:spPr>
                <a:xfrm>
                  <a:off x="2657160" y="561492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Straight Connector 72"/>
                <p:cNvSpPr/>
                <p:nvPr/>
              </p:nvSpPr>
              <p:spPr>
                <a:xfrm>
                  <a:off x="2657160" y="609120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Straight Connector 75"/>
                <p:cNvSpPr/>
                <p:nvPr/>
              </p:nvSpPr>
              <p:spPr>
                <a:xfrm>
                  <a:off x="3416400" y="513864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Straight Connector 78"/>
                <p:cNvSpPr/>
                <p:nvPr/>
              </p:nvSpPr>
              <p:spPr>
                <a:xfrm>
                  <a:off x="3416400" y="561492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Straight Connector 81"/>
                <p:cNvSpPr/>
                <p:nvPr/>
              </p:nvSpPr>
              <p:spPr>
                <a:xfrm>
                  <a:off x="3416400" y="609120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Straight Connector 84"/>
                <p:cNvSpPr/>
                <p:nvPr/>
              </p:nvSpPr>
              <p:spPr>
                <a:xfrm>
                  <a:off x="4173840" y="513864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Straight Connector 87"/>
                <p:cNvSpPr/>
                <p:nvPr/>
              </p:nvSpPr>
              <p:spPr>
                <a:xfrm>
                  <a:off x="4173840" y="561492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90"/>
                <p:cNvSpPr/>
                <p:nvPr/>
              </p:nvSpPr>
              <p:spPr>
                <a:xfrm>
                  <a:off x="4173840" y="609120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Straight Connector 93"/>
                <p:cNvSpPr/>
                <p:nvPr/>
              </p:nvSpPr>
              <p:spPr>
                <a:xfrm>
                  <a:off x="4930920" y="513864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Straight Connector 96"/>
                <p:cNvSpPr/>
                <p:nvPr/>
              </p:nvSpPr>
              <p:spPr>
                <a:xfrm>
                  <a:off x="4930920" y="561492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Straight Connector 99"/>
                <p:cNvSpPr/>
                <p:nvPr/>
              </p:nvSpPr>
              <p:spPr>
                <a:xfrm>
                  <a:off x="4930920" y="6091200"/>
                  <a:ext cx="0" cy="1155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TextBox 103"/>
              <p:cNvSpPr/>
              <p:nvPr/>
            </p:nvSpPr>
            <p:spPr>
              <a:xfrm>
                <a:off x="2097000" y="386568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eak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Box 104"/>
              <p:cNvSpPr/>
              <p:nvPr/>
            </p:nvSpPr>
            <p:spPr>
              <a:xfrm>
                <a:off x="529200" y="5111280"/>
                <a:ext cx="105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rong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9" name="Straight Arrow Connector 106"/>
              <p:cNvCxnSpPr/>
              <p:nvPr/>
            </p:nvCxnSpPr>
            <p:spPr>
              <a:xfrm flipV="1">
                <a:off x="1425600" y="5189760"/>
                <a:ext cx="403920" cy="255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109"/>
              <p:cNvCxnSpPr>
                <a:stCxn id="467" idx="2"/>
              </p:cNvCxnSpPr>
              <p:nvPr/>
            </p:nvCxnSpPr>
            <p:spPr>
              <a:xfrm flipH="1">
                <a:off x="2231640" y="4511160"/>
                <a:ext cx="347760" cy="41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112"/>
              <p:cNvCxnSpPr>
                <a:stCxn id="467" idx="2"/>
              </p:cNvCxnSpPr>
              <p:nvPr/>
            </p:nvCxnSpPr>
            <p:spPr>
              <a:xfrm>
                <a:off x="2579760" y="4511520"/>
                <a:ext cx="444960" cy="39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115"/>
              <p:cNvCxnSpPr/>
              <p:nvPr/>
            </p:nvCxnSpPr>
            <p:spPr>
              <a:xfrm>
                <a:off x="1438200" y="5445360"/>
                <a:ext cx="34992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473" name="Straight Arrow Connector 123"/>
            <p:cNvCxnSpPr/>
            <p:nvPr/>
          </p:nvCxnSpPr>
          <p:spPr>
            <a:xfrm flipH="1" flipV="1">
              <a:off x="5243400" y="5649120"/>
              <a:ext cx="721440" cy="108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74" name="Straight Arrow Connector 124"/>
            <p:cNvCxnSpPr/>
            <p:nvPr/>
          </p:nvCxnSpPr>
          <p:spPr>
            <a:xfrm>
              <a:off x="4574880" y="4018320"/>
              <a:ext cx="1080" cy="7196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75" name="TextBox 125"/>
            <p:cNvSpPr/>
            <p:nvPr/>
          </p:nvSpPr>
          <p:spPr>
            <a:xfrm>
              <a:off x="5401800" y="4943520"/>
              <a:ext cx="60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126"/>
            <p:cNvSpPr/>
            <p:nvPr/>
          </p:nvSpPr>
          <p:spPr>
            <a:xfrm>
              <a:off x="3885480" y="4020120"/>
              <a:ext cx="631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Box 128"/>
          <p:cNvSpPr/>
          <p:nvPr/>
        </p:nvSpPr>
        <p:spPr>
          <a:xfrm>
            <a:off x="6401880" y="5324400"/>
            <a:ext cx="2361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idealized c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5576760" y="639144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vs. Dry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384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 Etching: higher selectivity but lower aniso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Etching: lower selectivity but higher aniso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special conditions can exist which may give increased control over selectivity and/or anisotr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&amp;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ropic vs. Anisotropic 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t Etch Parameters and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Etch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Etch Re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eps of Wet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60020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of etchant species to the surface of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reaction with the exposed film (to form soluble produ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of the reaction products away from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43"/>
          <p:cNvGrpSpPr/>
          <p:nvPr/>
        </p:nvGrpSpPr>
        <p:grpSpPr>
          <a:xfrm>
            <a:off x="1940040" y="3408480"/>
            <a:ext cx="5263920" cy="2535120"/>
            <a:chOff x="1940040" y="3408480"/>
            <a:chExt cx="5263920" cy="2535120"/>
          </a:xfrm>
        </p:grpSpPr>
        <p:grpSp>
          <p:nvGrpSpPr>
            <p:cNvPr id="486" name="Group 107"/>
            <p:cNvGrpSpPr/>
            <p:nvPr/>
          </p:nvGrpSpPr>
          <p:grpSpPr>
            <a:xfrm>
              <a:off x="1940040" y="3408480"/>
              <a:ext cx="5263920" cy="2535120"/>
              <a:chOff x="1940040" y="3408480"/>
              <a:chExt cx="5263920" cy="2535120"/>
            </a:xfrm>
          </p:grpSpPr>
          <p:grpSp>
            <p:nvGrpSpPr>
              <p:cNvPr id="487" name="Group 62"/>
              <p:cNvGrpSpPr/>
              <p:nvPr/>
            </p:nvGrpSpPr>
            <p:grpSpPr>
              <a:xfrm>
                <a:off x="1940040" y="4349160"/>
                <a:ext cx="5263920" cy="1594440"/>
                <a:chOff x="1940040" y="4349160"/>
                <a:chExt cx="5263920" cy="1594440"/>
              </a:xfrm>
            </p:grpSpPr>
            <p:sp>
              <p:nvSpPr>
                <p:cNvPr id="488" name="Rectangle 7"/>
                <p:cNvSpPr/>
                <p:nvPr/>
              </p:nvSpPr>
              <p:spPr>
                <a:xfrm>
                  <a:off x="1940040" y="4674600"/>
                  <a:ext cx="5263920" cy="1269000"/>
                </a:xfrm>
                <a:prstGeom prst="rect">
                  <a:avLst/>
                </a:prstGeom>
                <a:solidFill>
                  <a:srgbClr val="bfbfbf"/>
                </a:solidFill>
                <a:ln w="255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Oval 8"/>
                <p:cNvSpPr/>
                <p:nvPr/>
              </p:nvSpPr>
              <p:spPr>
                <a:xfrm>
                  <a:off x="1963800" y="4349160"/>
                  <a:ext cx="25524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Oval 9"/>
                <p:cNvSpPr/>
                <p:nvPr/>
              </p:nvSpPr>
              <p:spPr>
                <a:xfrm>
                  <a:off x="2292120" y="4349160"/>
                  <a:ext cx="25236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0"/>
                <p:cNvSpPr/>
                <p:nvPr/>
              </p:nvSpPr>
              <p:spPr>
                <a:xfrm>
                  <a:off x="2617560" y="4349160"/>
                  <a:ext cx="25524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11"/>
                <p:cNvSpPr/>
                <p:nvPr/>
              </p:nvSpPr>
              <p:spPr>
                <a:xfrm>
                  <a:off x="2943360" y="4349160"/>
                  <a:ext cx="25524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12"/>
                <p:cNvSpPr/>
                <p:nvPr/>
              </p:nvSpPr>
              <p:spPr>
                <a:xfrm>
                  <a:off x="3268800" y="4349160"/>
                  <a:ext cx="25380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13"/>
                <p:cNvSpPr/>
                <p:nvPr/>
              </p:nvSpPr>
              <p:spPr>
                <a:xfrm>
                  <a:off x="3597120" y="4349160"/>
                  <a:ext cx="25056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14"/>
                <p:cNvSpPr/>
                <p:nvPr/>
              </p:nvSpPr>
              <p:spPr>
                <a:xfrm>
                  <a:off x="3921120" y="4349160"/>
                  <a:ext cx="25524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15"/>
                <p:cNvSpPr/>
                <p:nvPr/>
              </p:nvSpPr>
              <p:spPr>
                <a:xfrm>
                  <a:off x="4246560" y="4349160"/>
                  <a:ext cx="25524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Oval 16"/>
                <p:cNvSpPr/>
                <p:nvPr/>
              </p:nvSpPr>
              <p:spPr>
                <a:xfrm>
                  <a:off x="4572000" y="4349160"/>
                  <a:ext cx="255240" cy="255600"/>
                </a:xfrm>
                <a:prstGeom prst="ellipse">
                  <a:avLst/>
                </a:prstGeom>
                <a:solidFill>
                  <a:srgbClr val="009900"/>
                </a:solidFill>
                <a:ln w="255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Oval 20"/>
                <p:cNvSpPr/>
                <p:nvPr/>
              </p:nvSpPr>
              <p:spPr>
                <a:xfrm>
                  <a:off x="5875200" y="4349160"/>
                  <a:ext cx="25524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21"/>
                <p:cNvSpPr/>
                <p:nvPr/>
              </p:nvSpPr>
              <p:spPr>
                <a:xfrm>
                  <a:off x="6203880" y="4349160"/>
                  <a:ext cx="25236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2"/>
                <p:cNvSpPr/>
                <p:nvPr/>
              </p:nvSpPr>
              <p:spPr>
                <a:xfrm>
                  <a:off x="6529320" y="4349160"/>
                  <a:ext cx="25236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3"/>
                <p:cNvSpPr/>
                <p:nvPr/>
              </p:nvSpPr>
              <p:spPr>
                <a:xfrm>
                  <a:off x="6854760" y="4349160"/>
                  <a:ext cx="255240" cy="25560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Oval 5"/>
              <p:cNvSpPr/>
              <p:nvPr/>
            </p:nvSpPr>
            <p:spPr>
              <a:xfrm>
                <a:off x="3544920" y="3408480"/>
                <a:ext cx="250560" cy="25560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3" name="Straight Arrow Connector 6"/>
              <p:cNvCxnSpPr>
                <a:stCxn id="502" idx="5"/>
                <a:endCxn id="496" idx="1"/>
              </p:cNvCxnSpPr>
              <p:nvPr/>
            </p:nvCxnSpPr>
            <p:spPr>
              <a:xfrm>
                <a:off x="3759840" y="3625920"/>
                <a:ext cx="524160" cy="762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ash"/>
                <a:miter/>
                <a:tailEnd len="med" type="triangle" w="med"/>
              </a:ln>
            </p:spPr>
          </p:cxnSp>
        </p:grpSp>
        <p:cxnSp>
          <p:nvCxnSpPr>
            <p:cNvPr id="504" name="Straight Arrow Connector 29"/>
            <p:cNvCxnSpPr>
              <a:stCxn id="497" idx="7"/>
            </p:cNvCxnSpPr>
            <p:nvPr/>
          </p:nvCxnSpPr>
          <p:spPr>
            <a:xfrm flipV="1">
              <a:off x="4788360" y="3696840"/>
              <a:ext cx="586440" cy="6897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grpSp>
          <p:nvGrpSpPr>
            <p:cNvPr id="505" name="Group 108"/>
            <p:cNvGrpSpPr/>
            <p:nvPr/>
          </p:nvGrpSpPr>
          <p:grpSpPr>
            <a:xfrm>
              <a:off x="3607560" y="4696560"/>
              <a:ext cx="1877040" cy="612720"/>
              <a:chOff x="3607560" y="4696560"/>
              <a:chExt cx="1877040" cy="612720"/>
            </a:xfrm>
          </p:grpSpPr>
          <p:grpSp>
            <p:nvGrpSpPr>
              <p:cNvPr id="506" name="Group 59"/>
              <p:cNvGrpSpPr/>
              <p:nvPr/>
            </p:nvGrpSpPr>
            <p:grpSpPr>
              <a:xfrm>
                <a:off x="3809520" y="4941000"/>
                <a:ext cx="1479600" cy="368280"/>
                <a:chOff x="3809520" y="4941000"/>
                <a:chExt cx="1479600" cy="368280"/>
              </a:xfrm>
            </p:grpSpPr>
            <p:sp>
              <p:nvSpPr>
                <p:cNvPr id="507" name="Oval 36"/>
                <p:cNvSpPr/>
                <p:nvPr/>
              </p:nvSpPr>
              <p:spPr>
                <a:xfrm>
                  <a:off x="3809520" y="5030640"/>
                  <a:ext cx="115560" cy="115920"/>
                </a:xfrm>
                <a:prstGeom prst="ellips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Oval 37"/>
                <p:cNvSpPr/>
                <p:nvPr/>
              </p:nvSpPr>
              <p:spPr>
                <a:xfrm>
                  <a:off x="4287240" y="5030640"/>
                  <a:ext cx="115560" cy="11592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Oval 38"/>
                <p:cNvSpPr/>
                <p:nvPr/>
              </p:nvSpPr>
              <p:spPr>
                <a:xfrm>
                  <a:off x="5173560" y="5030640"/>
                  <a:ext cx="115560" cy="115920"/>
                </a:xfrm>
                <a:prstGeom prst="ellipse">
                  <a:avLst/>
                </a:prstGeom>
                <a:solidFill>
                  <a:srgbClr val="009900"/>
                </a:solidFill>
                <a:ln w="255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TextBox 56"/>
                <p:cNvSpPr/>
                <p:nvPr/>
              </p:nvSpPr>
              <p:spPr>
                <a:xfrm>
                  <a:off x="3957840" y="494100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11" name="Straight Arrow Connector 40"/>
                <p:cNvCxnSpPr/>
                <p:nvPr/>
              </p:nvCxnSpPr>
              <p:spPr>
                <a:xfrm>
                  <a:off x="4566960" y="5088960"/>
                  <a:ext cx="45936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512" name="TextBox 81"/>
              <p:cNvSpPr/>
              <p:nvPr/>
            </p:nvSpPr>
            <p:spPr>
              <a:xfrm>
                <a:off x="3607560" y="4696560"/>
                <a:ext cx="187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. Chemical Re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41"/>
            <p:cNvSpPr/>
            <p:nvPr/>
          </p:nvSpPr>
          <p:spPr>
            <a:xfrm>
              <a:off x="3926160" y="3724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42"/>
            <p:cNvSpPr/>
            <p:nvPr/>
          </p:nvSpPr>
          <p:spPr>
            <a:xfrm>
              <a:off x="5033160" y="3957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5"/>
          <p:cNvSpPr/>
          <p:nvPr/>
        </p:nvSpPr>
        <p:spPr>
          <a:xfrm>
            <a:off x="5576760" y="639144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Limiting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464840"/>
            <a:ext cx="8229600" cy="23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lowest step determines (limits) the overall etch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lowest step in a process is called the rate limiting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671480" y="3978360"/>
          <a:ext cx="6096240" cy="2290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 Limiting 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 of etchant to the surface of the 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tation, stirring, mixing, so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reaction between etchant and 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 of products away from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tation, stirring, mixing, so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roduction &amp;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ropic vs. Anisotropic 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Etch Parameters and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Etch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Etch Re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Etch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57200" y="1438200"/>
          <a:ext cx="8229600" cy="4943520"/>
        </p:xfrm>
        <a:graphic>
          <a:graphicData uri="http://schemas.openxmlformats.org/drawingml/2006/table">
            <a:tbl>
              <a:tblPr/>
              <a:tblGrid>
                <a:gridCol w="2219400"/>
                <a:gridCol w="2701800"/>
                <a:gridCol w="33084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arity of acid in etch solution or ratio of components (etchant to buff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over time as etchant is depleted and etch products are released into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h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of immersion in etch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y to control with digital ti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 of etch b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y to control with heaters and thermos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rring or sonication (ultra- vs. mega-sonic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omplicated to control. Depends of geometry of vessel and sample 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Ru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any samples are etched at once? After how many batches is the solution chang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y to control but requires bath composition to be analy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Problems in Wet E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s can form and prevent good transport to/from the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bub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etch products ar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inment of bubbles due to vigorous a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 scumming: incomplete development leaves a thin layer of photoresist that prevents et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 Scu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Straight Arrow Connector 22"/>
          <p:cNvCxnSpPr/>
          <p:nvPr/>
        </p:nvCxnSpPr>
        <p:spPr>
          <a:xfrm flipH="1">
            <a:off x="4571280" y="3654360"/>
            <a:ext cx="1080" cy="900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grpSp>
        <p:nvGrpSpPr>
          <p:cNvPr id="525" name="Group 28"/>
          <p:cNvGrpSpPr/>
          <p:nvPr/>
        </p:nvGrpSpPr>
        <p:grpSpPr>
          <a:xfrm>
            <a:off x="1782720" y="1592280"/>
            <a:ext cx="5578560" cy="1863720"/>
            <a:chOff x="1782720" y="1592280"/>
            <a:chExt cx="5578560" cy="1863720"/>
          </a:xfrm>
        </p:grpSpPr>
        <p:grpSp>
          <p:nvGrpSpPr>
            <p:cNvPr id="526" name="Group 10"/>
            <p:cNvGrpSpPr/>
            <p:nvPr/>
          </p:nvGrpSpPr>
          <p:grpSpPr>
            <a:xfrm>
              <a:off x="1782720" y="1592280"/>
              <a:ext cx="5578560" cy="1863720"/>
              <a:chOff x="1782720" y="1592280"/>
              <a:chExt cx="5578560" cy="1863720"/>
            </a:xfrm>
          </p:grpSpPr>
          <p:sp>
            <p:nvSpPr>
              <p:cNvPr id="527" name="Rectangle 22"/>
              <p:cNvSpPr/>
              <p:nvPr/>
            </p:nvSpPr>
            <p:spPr>
              <a:xfrm>
                <a:off x="5108760" y="1843920"/>
                <a:ext cx="1187640" cy="107640"/>
              </a:xfrm>
              <a:prstGeom prst="rect">
                <a:avLst/>
              </a:prstGeom>
              <a:solidFill>
                <a:srgbClr val="de02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3"/>
              <p:cNvSpPr/>
              <p:nvPr/>
            </p:nvSpPr>
            <p:spPr>
              <a:xfrm>
                <a:off x="1782720" y="2469600"/>
                <a:ext cx="5578560" cy="986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21"/>
              <p:cNvSpPr/>
              <p:nvPr/>
            </p:nvSpPr>
            <p:spPr>
              <a:xfrm>
                <a:off x="1782720" y="1592280"/>
                <a:ext cx="1079640" cy="359640"/>
              </a:xfrm>
              <a:prstGeom prst="rect">
                <a:avLst/>
              </a:prstGeom>
              <a:solidFill>
                <a:srgbClr val="de02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22"/>
              <p:cNvSpPr/>
              <p:nvPr/>
            </p:nvSpPr>
            <p:spPr>
              <a:xfrm>
                <a:off x="4032000" y="1592280"/>
                <a:ext cx="1079640" cy="359640"/>
              </a:xfrm>
              <a:prstGeom prst="rect">
                <a:avLst/>
              </a:prstGeom>
              <a:solidFill>
                <a:srgbClr val="de02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21"/>
              <p:cNvSpPr/>
              <p:nvPr/>
            </p:nvSpPr>
            <p:spPr>
              <a:xfrm>
                <a:off x="1782720" y="1950120"/>
                <a:ext cx="5578560" cy="518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22"/>
              <p:cNvSpPr/>
              <p:nvPr/>
            </p:nvSpPr>
            <p:spPr>
              <a:xfrm>
                <a:off x="6281640" y="1592280"/>
                <a:ext cx="1079640" cy="359640"/>
              </a:xfrm>
              <a:prstGeom prst="rect">
                <a:avLst/>
              </a:prstGeom>
              <a:solidFill>
                <a:srgbClr val="de02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TextBox 23"/>
            <p:cNvSpPr/>
            <p:nvPr/>
          </p:nvSpPr>
          <p:spPr>
            <a:xfrm>
              <a:off x="4957200" y="1936800"/>
              <a:ext cx="153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um layer 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ttom of fea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4"/>
            <p:cNvSpPr/>
            <p:nvPr/>
          </p:nvSpPr>
          <p:spPr>
            <a:xfrm>
              <a:off x="2985840" y="194112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 Sc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27"/>
          <p:cNvGrpSpPr/>
          <p:nvPr/>
        </p:nvGrpSpPr>
        <p:grpSpPr>
          <a:xfrm>
            <a:off x="1782720" y="4524480"/>
            <a:ext cx="5578560" cy="2028600"/>
            <a:chOff x="1782720" y="4524480"/>
            <a:chExt cx="5578560" cy="2028600"/>
          </a:xfrm>
        </p:grpSpPr>
        <p:grpSp>
          <p:nvGrpSpPr>
            <p:cNvPr id="536" name="Group 21"/>
            <p:cNvGrpSpPr/>
            <p:nvPr/>
          </p:nvGrpSpPr>
          <p:grpSpPr>
            <a:xfrm>
              <a:off x="1782720" y="4524480"/>
              <a:ext cx="5578560" cy="2028600"/>
              <a:chOff x="1782720" y="4524480"/>
              <a:chExt cx="5578560" cy="2028600"/>
            </a:xfrm>
          </p:grpSpPr>
          <p:sp>
            <p:nvSpPr>
              <p:cNvPr id="537" name="Rectangle 22"/>
              <p:cNvSpPr/>
              <p:nvPr/>
            </p:nvSpPr>
            <p:spPr>
              <a:xfrm>
                <a:off x="5108760" y="4941360"/>
                <a:ext cx="1187640" cy="107640"/>
              </a:xfrm>
              <a:prstGeom prst="rect">
                <a:avLst/>
              </a:prstGeom>
              <a:solidFill>
                <a:srgbClr val="de02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3"/>
              <p:cNvSpPr/>
              <p:nvPr/>
            </p:nvSpPr>
            <p:spPr>
              <a:xfrm>
                <a:off x="1782720" y="5567040"/>
                <a:ext cx="5578560" cy="9860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21"/>
              <p:cNvSpPr/>
              <p:nvPr/>
            </p:nvSpPr>
            <p:spPr>
              <a:xfrm>
                <a:off x="1782720" y="5047560"/>
                <a:ext cx="5578560" cy="518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22"/>
              <p:cNvSpPr/>
              <p:nvPr/>
            </p:nvSpPr>
            <p:spPr>
              <a:xfrm>
                <a:off x="6281640" y="4689360"/>
                <a:ext cx="1079640" cy="359640"/>
              </a:xfrm>
              <a:prstGeom prst="rect">
                <a:avLst/>
              </a:prstGeom>
              <a:solidFill>
                <a:srgbClr val="de02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18"/>
              <p:cNvSpPr/>
              <p:nvPr/>
            </p:nvSpPr>
            <p:spPr>
              <a:xfrm>
                <a:off x="2342880" y="4524480"/>
                <a:ext cx="1036440" cy="1036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19"/>
              <p:cNvSpPr/>
              <p:nvPr/>
            </p:nvSpPr>
            <p:spPr>
              <a:xfrm>
                <a:off x="3516120" y="4525920"/>
                <a:ext cx="1036440" cy="1036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21"/>
              <p:cNvSpPr/>
              <p:nvPr/>
            </p:nvSpPr>
            <p:spPr>
              <a:xfrm>
                <a:off x="1782720" y="4689360"/>
                <a:ext cx="1079640" cy="359640"/>
              </a:xfrm>
              <a:prstGeom prst="rect">
                <a:avLst/>
              </a:prstGeom>
              <a:solidFill>
                <a:srgbClr val="de02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22"/>
              <p:cNvSpPr/>
              <p:nvPr/>
            </p:nvSpPr>
            <p:spPr>
              <a:xfrm>
                <a:off x="4032000" y="4689360"/>
                <a:ext cx="1079640" cy="359640"/>
              </a:xfrm>
              <a:prstGeom prst="rect">
                <a:avLst/>
              </a:prstGeom>
              <a:solidFill>
                <a:srgbClr val="de02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20"/>
              <p:cNvSpPr/>
              <p:nvPr/>
            </p:nvSpPr>
            <p:spPr>
              <a:xfrm>
                <a:off x="2873160" y="5010120"/>
                <a:ext cx="1139760" cy="54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Box 25"/>
            <p:cNvSpPr/>
            <p:nvPr/>
          </p:nvSpPr>
          <p:spPr>
            <a:xfrm>
              <a:off x="2726640" y="5154840"/>
              <a:ext cx="144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red Et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6"/>
            <p:cNvSpPr/>
            <p:nvPr/>
          </p:nvSpPr>
          <p:spPr>
            <a:xfrm>
              <a:off x="5169960" y="51548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 Et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Box 26"/>
          <p:cNvSpPr/>
          <p:nvPr/>
        </p:nvSpPr>
        <p:spPr>
          <a:xfrm>
            <a:off x="7416720" y="2070000"/>
            <a:ext cx="172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top layer is chosen to be very resistant to etch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5603760" y="6515280"/>
            <a:ext cx="36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Etching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ropic in nature (except special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s of defects (especially from particulates in the etch 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be used for smal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limit = 2-3 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large volumes of liquid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Etching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of the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 to the sample or subs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disposal of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t B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267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t benches are used to provide a safe and clean working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ly wet benches are connected to an exhaust fan to draw hazardous fumes away from the user.  The clear sash aids in containing fumes and prevents splas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ly the benches provide DI water, sinks, and storage for process chemic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ches are often segregated to prevent unwanted reactions between incompatible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IMG_0590.JPG"/>
          <p:cNvPicPr/>
          <p:nvPr/>
        </p:nvPicPr>
        <p:blipFill>
          <a:blip r:embed="rId1"/>
          <a:stretch/>
        </p:blipFill>
        <p:spPr>
          <a:xfrm>
            <a:off x="4572000" y="144792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4834080" y="6272280"/>
            <a:ext cx="37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&amp;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ropic vs. Anisotropic 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Etch Parameters and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amples of Etch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Etch Re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ropic Etch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22"/>
          <p:cNvGrpSpPr/>
          <p:nvPr/>
        </p:nvGrpSpPr>
        <p:grpSpPr>
          <a:xfrm>
            <a:off x="380880" y="1523880"/>
            <a:ext cx="2971800" cy="1143000"/>
            <a:chOff x="380880" y="1523880"/>
            <a:chExt cx="2971800" cy="1143000"/>
          </a:xfrm>
        </p:grpSpPr>
        <p:sp>
          <p:nvSpPr>
            <p:cNvPr id="562" name="Rectangle 3"/>
            <p:cNvSpPr/>
            <p:nvPr/>
          </p:nvSpPr>
          <p:spPr>
            <a:xfrm>
              <a:off x="380880" y="2362320"/>
              <a:ext cx="2971800" cy="304560"/>
            </a:xfrm>
            <a:prstGeom prst="rect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4"/>
            <p:cNvSpPr/>
            <p:nvPr/>
          </p:nvSpPr>
          <p:spPr>
            <a:xfrm>
              <a:off x="380880" y="2057400"/>
              <a:ext cx="2971800" cy="3045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>
              <a:off x="914040" y="1523880"/>
              <a:ext cx="198144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21"/>
          <p:cNvGrpSpPr/>
          <p:nvPr/>
        </p:nvGrpSpPr>
        <p:grpSpPr>
          <a:xfrm>
            <a:off x="182520" y="3124080"/>
            <a:ext cx="3429000" cy="1143000"/>
            <a:chOff x="182520" y="3124080"/>
            <a:chExt cx="3429000" cy="1143000"/>
          </a:xfrm>
        </p:grpSpPr>
        <p:sp>
          <p:nvSpPr>
            <p:cNvPr id="566" name="Rectangle 9"/>
            <p:cNvSpPr/>
            <p:nvPr/>
          </p:nvSpPr>
          <p:spPr>
            <a:xfrm>
              <a:off x="380880" y="3962520"/>
              <a:ext cx="2971800" cy="304560"/>
            </a:xfrm>
            <a:prstGeom prst="rect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0"/>
            <p:cNvSpPr/>
            <p:nvPr/>
          </p:nvSpPr>
          <p:spPr>
            <a:xfrm>
              <a:off x="380880" y="3657600"/>
              <a:ext cx="2971800" cy="3045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2"/>
            <p:cNvSpPr/>
            <p:nvPr/>
          </p:nvSpPr>
          <p:spPr>
            <a:xfrm>
              <a:off x="2849760" y="3428640"/>
              <a:ext cx="7617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3"/>
            <p:cNvSpPr/>
            <p:nvPr/>
          </p:nvSpPr>
          <p:spPr>
            <a:xfrm>
              <a:off x="182520" y="3428640"/>
              <a:ext cx="7617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>
              <a:off x="914400" y="3124080"/>
              <a:ext cx="198108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380880" y="5029200"/>
            <a:ext cx="2971800" cy="609480"/>
            <a:chOff x="380880" y="5029200"/>
            <a:chExt cx="2971800" cy="609480"/>
          </a:xfrm>
        </p:grpSpPr>
        <p:sp>
          <p:nvSpPr>
            <p:cNvPr id="572" name="Rectangle 16"/>
            <p:cNvSpPr/>
            <p:nvPr/>
          </p:nvSpPr>
          <p:spPr>
            <a:xfrm>
              <a:off x="380880" y="5333760"/>
              <a:ext cx="2971800" cy="304920"/>
            </a:xfrm>
            <a:prstGeom prst="rect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7"/>
            <p:cNvSpPr/>
            <p:nvPr/>
          </p:nvSpPr>
          <p:spPr>
            <a:xfrm>
              <a:off x="380880" y="5029200"/>
              <a:ext cx="2971800" cy="3045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9"/>
          <p:cNvGrpSpPr/>
          <p:nvPr/>
        </p:nvGrpSpPr>
        <p:grpSpPr>
          <a:xfrm>
            <a:off x="5410080" y="1523880"/>
            <a:ext cx="2971800" cy="1143000"/>
            <a:chOff x="5410080" y="1523880"/>
            <a:chExt cx="2971800" cy="1143000"/>
          </a:xfrm>
        </p:grpSpPr>
        <p:sp>
          <p:nvSpPr>
            <p:cNvPr id="575" name="Rectangle 30"/>
            <p:cNvSpPr/>
            <p:nvPr/>
          </p:nvSpPr>
          <p:spPr>
            <a:xfrm>
              <a:off x="5410080" y="2362320"/>
              <a:ext cx="2971800" cy="304560"/>
            </a:xfrm>
            <a:prstGeom prst="rect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1"/>
            <p:cNvSpPr/>
            <p:nvPr/>
          </p:nvSpPr>
          <p:spPr>
            <a:xfrm>
              <a:off x="5410080" y="2057400"/>
              <a:ext cx="2971800" cy="3045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5562360" y="1523880"/>
              <a:ext cx="76176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3"/>
            <p:cNvSpPr/>
            <p:nvPr/>
          </p:nvSpPr>
          <p:spPr>
            <a:xfrm>
              <a:off x="6705360" y="1523880"/>
              <a:ext cx="53316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34"/>
            <p:cNvSpPr/>
            <p:nvPr/>
          </p:nvSpPr>
          <p:spPr>
            <a:xfrm>
              <a:off x="7924680" y="1523880"/>
              <a:ext cx="30456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Oval 37"/>
          <p:cNvSpPr/>
          <p:nvPr/>
        </p:nvSpPr>
        <p:spPr>
          <a:xfrm>
            <a:off x="2819520" y="4800600"/>
            <a:ext cx="83808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38"/>
          <p:cNvSpPr/>
          <p:nvPr/>
        </p:nvSpPr>
        <p:spPr>
          <a:xfrm>
            <a:off x="152280" y="4800600"/>
            <a:ext cx="83844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9"/>
          <p:cNvSpPr/>
          <p:nvPr/>
        </p:nvSpPr>
        <p:spPr>
          <a:xfrm>
            <a:off x="3200400" y="3657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0"/>
          <p:cNvSpPr/>
          <p:nvPr/>
        </p:nvSpPr>
        <p:spPr>
          <a:xfrm>
            <a:off x="152280" y="3657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1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76320" y="5029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53"/>
          <p:cNvGrpSpPr/>
          <p:nvPr/>
        </p:nvGrpSpPr>
        <p:grpSpPr>
          <a:xfrm>
            <a:off x="5105520" y="3276720"/>
            <a:ext cx="3886200" cy="1142640"/>
            <a:chOff x="5105520" y="3276720"/>
            <a:chExt cx="3886200" cy="1142640"/>
          </a:xfrm>
        </p:grpSpPr>
        <p:grpSp>
          <p:nvGrpSpPr>
            <p:cNvPr id="587" name="Group 28"/>
            <p:cNvGrpSpPr/>
            <p:nvPr/>
          </p:nvGrpSpPr>
          <p:grpSpPr>
            <a:xfrm>
              <a:off x="5486400" y="3810240"/>
              <a:ext cx="2971800" cy="609120"/>
              <a:chOff x="5486400" y="3810240"/>
              <a:chExt cx="2971800" cy="609120"/>
            </a:xfrm>
          </p:grpSpPr>
          <p:sp>
            <p:nvSpPr>
              <p:cNvPr id="588" name="Rectangle 23"/>
              <p:cNvSpPr/>
              <p:nvPr/>
            </p:nvSpPr>
            <p:spPr>
              <a:xfrm>
                <a:off x="5486400" y="4114800"/>
                <a:ext cx="2971800" cy="30456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24"/>
              <p:cNvSpPr/>
              <p:nvPr/>
            </p:nvSpPr>
            <p:spPr>
              <a:xfrm>
                <a:off x="5486400" y="3810240"/>
                <a:ext cx="2971800" cy="30456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Oval 43"/>
            <p:cNvSpPr/>
            <p:nvPr/>
          </p:nvSpPr>
          <p:spPr>
            <a:xfrm>
              <a:off x="7086600" y="3581280"/>
              <a:ext cx="106668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7"/>
            <p:cNvSpPr/>
            <p:nvPr/>
          </p:nvSpPr>
          <p:spPr>
            <a:xfrm>
              <a:off x="8077320" y="3581280"/>
              <a:ext cx="9144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8"/>
            <p:cNvSpPr/>
            <p:nvPr/>
          </p:nvSpPr>
          <p:spPr>
            <a:xfrm>
              <a:off x="6172200" y="3581280"/>
              <a:ext cx="9144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9"/>
            <p:cNvSpPr/>
            <p:nvPr/>
          </p:nvSpPr>
          <p:spPr>
            <a:xfrm>
              <a:off x="5105520" y="3581280"/>
              <a:ext cx="83808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50"/>
            <p:cNvSpPr/>
            <p:nvPr/>
          </p:nvSpPr>
          <p:spPr>
            <a:xfrm>
              <a:off x="5616720" y="3276720"/>
              <a:ext cx="76176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51"/>
            <p:cNvSpPr/>
            <p:nvPr/>
          </p:nvSpPr>
          <p:spPr>
            <a:xfrm>
              <a:off x="6759720" y="3276720"/>
              <a:ext cx="53316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52"/>
            <p:cNvSpPr/>
            <p:nvPr/>
          </p:nvSpPr>
          <p:spPr>
            <a:xfrm>
              <a:off x="7979040" y="3276720"/>
              <a:ext cx="30456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54"/>
          <p:cNvGrpSpPr/>
          <p:nvPr/>
        </p:nvGrpSpPr>
        <p:grpSpPr>
          <a:xfrm>
            <a:off x="5029200" y="4876920"/>
            <a:ext cx="3886200" cy="837720"/>
            <a:chOff x="5029200" y="4876920"/>
            <a:chExt cx="3886200" cy="837720"/>
          </a:xfrm>
        </p:grpSpPr>
        <p:grpSp>
          <p:nvGrpSpPr>
            <p:cNvPr id="598" name="Group 28"/>
            <p:cNvGrpSpPr/>
            <p:nvPr/>
          </p:nvGrpSpPr>
          <p:grpSpPr>
            <a:xfrm>
              <a:off x="5410080" y="5105520"/>
              <a:ext cx="2971800" cy="609120"/>
              <a:chOff x="5410080" y="5105520"/>
              <a:chExt cx="2971800" cy="609120"/>
            </a:xfrm>
          </p:grpSpPr>
          <p:sp>
            <p:nvSpPr>
              <p:cNvPr id="599" name="Rectangle 63"/>
              <p:cNvSpPr/>
              <p:nvPr/>
            </p:nvSpPr>
            <p:spPr>
              <a:xfrm>
                <a:off x="5410080" y="5410080"/>
                <a:ext cx="2971800" cy="30456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64"/>
              <p:cNvSpPr/>
              <p:nvPr/>
            </p:nvSpPr>
            <p:spPr>
              <a:xfrm>
                <a:off x="5410080" y="5105520"/>
                <a:ext cx="2971800" cy="30456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56"/>
            <p:cNvSpPr/>
            <p:nvPr/>
          </p:nvSpPr>
          <p:spPr>
            <a:xfrm>
              <a:off x="7010280" y="4876920"/>
              <a:ext cx="106668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57"/>
            <p:cNvSpPr/>
            <p:nvPr/>
          </p:nvSpPr>
          <p:spPr>
            <a:xfrm>
              <a:off x="8001000" y="4876920"/>
              <a:ext cx="9144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58"/>
            <p:cNvSpPr/>
            <p:nvPr/>
          </p:nvSpPr>
          <p:spPr>
            <a:xfrm>
              <a:off x="6095880" y="4876920"/>
              <a:ext cx="9144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59"/>
            <p:cNvSpPr/>
            <p:nvPr/>
          </p:nvSpPr>
          <p:spPr>
            <a:xfrm>
              <a:off x="5029200" y="4876920"/>
              <a:ext cx="83808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Rectangle 5"/>
          <p:cNvSpPr/>
          <p:nvPr/>
        </p:nvSpPr>
        <p:spPr>
          <a:xfrm>
            <a:off x="5576760" y="639144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"/>
          <p:cNvGraphicFramePr/>
          <p:nvPr/>
        </p:nvGraphicFramePr>
        <p:xfrm>
          <a:off x="304920" y="1293840"/>
          <a:ext cx="8610480" cy="51814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wall Pro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 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tr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927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tr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2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sotr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2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sotropic—T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icon tr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wall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4"/>
          <p:cNvGrpSpPr/>
          <p:nvPr/>
        </p:nvGrpSpPr>
        <p:grpSpPr>
          <a:xfrm>
            <a:off x="6781680" y="2099880"/>
            <a:ext cx="1371600" cy="891000"/>
            <a:chOff x="6781680" y="2099880"/>
            <a:chExt cx="1371600" cy="891000"/>
          </a:xfrm>
        </p:grpSpPr>
        <p:grpSp>
          <p:nvGrpSpPr>
            <p:cNvPr id="609" name="Group 6"/>
            <p:cNvGrpSpPr/>
            <p:nvPr/>
          </p:nvGrpSpPr>
          <p:grpSpPr>
            <a:xfrm>
              <a:off x="6781680" y="2503440"/>
              <a:ext cx="1371600" cy="487440"/>
              <a:chOff x="6781680" y="2503440"/>
              <a:chExt cx="1371600" cy="487440"/>
            </a:xfrm>
          </p:grpSpPr>
          <p:sp>
            <p:nvSpPr>
              <p:cNvPr id="610" name="Rectangle 3"/>
              <p:cNvSpPr/>
              <p:nvPr/>
            </p:nvSpPr>
            <p:spPr>
              <a:xfrm>
                <a:off x="6781680" y="2808360"/>
                <a:ext cx="1371600" cy="18252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4"/>
              <p:cNvSpPr/>
              <p:nvPr/>
            </p:nvSpPr>
            <p:spPr>
              <a:xfrm>
                <a:off x="6781680" y="2503440"/>
                <a:ext cx="1371600" cy="3049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Chord 12"/>
            <p:cNvSpPr/>
            <p:nvPr/>
          </p:nvSpPr>
          <p:spPr>
            <a:xfrm rot="15882600">
              <a:off x="7120080" y="2094480"/>
              <a:ext cx="679320" cy="757080"/>
            </a:xfrm>
            <a:custGeom>
              <a:avLst/>
              <a:gdLst/>
              <a:ahLst/>
              <a:rect l="l" t="t" r="r" b="b"/>
              <a:pathLst>
                <a:path w="1087119" h="1346199">
                  <a:moveTo>
                    <a:pt x="541854" y="1346196"/>
                  </a:moveTo>
                  <a:cubicBezTo>
                    <a:pt x="322713" y="1345344"/>
                    <a:pt x="125417" y="1181621"/>
                    <a:pt x="41467" y="930954"/>
                  </a:cubicBezTo>
                  <a:cubicBezTo>
                    <a:pt x="-23215" y="737822"/>
                    <a:pt x="-11747" y="518435"/>
                    <a:pt x="72501" y="337241"/>
                  </a:cubicBezTo>
                  <a:cubicBezTo>
                    <a:pt x="186759" y="91505"/>
                    <a:pt x="413128" y="-39208"/>
                    <a:pt x="638588" y="10365"/>
                  </a:cubicBezTo>
                  <a:lnTo>
                    <a:pt x="541854" y="1346196"/>
                  </a:lnTo>
                  <a:close/>
                </a:path>
              </a:pathLst>
            </a:cu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29"/>
          <p:cNvGrpSpPr/>
          <p:nvPr/>
        </p:nvGrpSpPr>
        <p:grpSpPr>
          <a:xfrm>
            <a:off x="6781680" y="4419720"/>
            <a:ext cx="1371600" cy="493560"/>
            <a:chOff x="6781680" y="4419720"/>
            <a:chExt cx="1371600" cy="493560"/>
          </a:xfrm>
        </p:grpSpPr>
        <p:grpSp>
          <p:nvGrpSpPr>
            <p:cNvPr id="614" name="Group 18"/>
            <p:cNvGrpSpPr/>
            <p:nvPr/>
          </p:nvGrpSpPr>
          <p:grpSpPr>
            <a:xfrm>
              <a:off x="6781680" y="4419720"/>
              <a:ext cx="1371600" cy="493560"/>
              <a:chOff x="6781680" y="4419720"/>
              <a:chExt cx="1371600" cy="493560"/>
            </a:xfrm>
          </p:grpSpPr>
          <p:sp>
            <p:nvSpPr>
              <p:cNvPr id="615" name="Rectangle 19"/>
              <p:cNvSpPr/>
              <p:nvPr/>
            </p:nvSpPr>
            <p:spPr>
              <a:xfrm>
                <a:off x="6781680" y="4727520"/>
                <a:ext cx="1371600" cy="18576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20"/>
              <p:cNvSpPr/>
              <p:nvPr/>
            </p:nvSpPr>
            <p:spPr>
              <a:xfrm>
                <a:off x="6781680" y="4419720"/>
                <a:ext cx="1371600" cy="3078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Rectangle 21"/>
            <p:cNvSpPr/>
            <p:nvPr/>
          </p:nvSpPr>
          <p:spPr>
            <a:xfrm>
              <a:off x="7210080" y="4419720"/>
              <a:ext cx="507960" cy="3096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28"/>
          <p:cNvGrpSpPr/>
          <p:nvPr/>
        </p:nvGrpSpPr>
        <p:grpSpPr>
          <a:xfrm>
            <a:off x="6781680" y="5334120"/>
            <a:ext cx="1371600" cy="406440"/>
            <a:chOff x="6781680" y="5334120"/>
            <a:chExt cx="1371600" cy="406440"/>
          </a:xfrm>
        </p:grpSpPr>
        <p:grpSp>
          <p:nvGrpSpPr>
            <p:cNvPr id="619" name="Group 22"/>
            <p:cNvGrpSpPr/>
            <p:nvPr/>
          </p:nvGrpSpPr>
          <p:grpSpPr>
            <a:xfrm>
              <a:off x="6781680" y="5334120"/>
              <a:ext cx="1371600" cy="406440"/>
              <a:chOff x="6781680" y="5334120"/>
              <a:chExt cx="1371600" cy="406440"/>
            </a:xfrm>
          </p:grpSpPr>
          <p:sp>
            <p:nvSpPr>
              <p:cNvPr id="620" name="Rectangle 23"/>
              <p:cNvSpPr/>
              <p:nvPr/>
            </p:nvSpPr>
            <p:spPr>
              <a:xfrm>
                <a:off x="6781680" y="5588280"/>
                <a:ext cx="1371600" cy="15228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24"/>
              <p:cNvSpPr/>
              <p:nvPr/>
            </p:nvSpPr>
            <p:spPr>
              <a:xfrm>
                <a:off x="6781680" y="5334120"/>
                <a:ext cx="1371600" cy="2541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Trapezoid 25"/>
            <p:cNvSpPr/>
            <p:nvPr/>
          </p:nvSpPr>
          <p:spPr>
            <a:xfrm rot="10800000">
              <a:off x="7209720" y="5334120"/>
              <a:ext cx="514440" cy="238320"/>
            </a:xfrm>
            <a:custGeom>
              <a:avLst/>
              <a:gdLst/>
              <a:ahLst/>
              <a:rect l="l" t="t" r="r" b="b"/>
              <a:pathLst>
                <a:path w="914400" h="457202">
                  <a:moveTo>
                    <a:pt x="0" y="457202"/>
                  </a:moveTo>
                  <a:lnTo>
                    <a:pt x="114301" y="0"/>
                  </a:lnTo>
                  <a:lnTo>
                    <a:pt x="800100" y="0"/>
                  </a:lnTo>
                  <a:lnTo>
                    <a:pt x="914400" y="457202"/>
                  </a:lnTo>
                  <a:lnTo>
                    <a:pt x="0" y="457202"/>
                  </a:lnTo>
                  <a:close/>
                </a:path>
              </a:pathLst>
            </a:custGeom>
            <a:solidFill>
              <a:srgbClr val="f2f2f2"/>
            </a:solidFill>
            <a:ln w="2556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7"/>
          <p:cNvGrpSpPr/>
          <p:nvPr/>
        </p:nvGrpSpPr>
        <p:grpSpPr>
          <a:xfrm>
            <a:off x="6781680" y="6019560"/>
            <a:ext cx="1371600" cy="438480"/>
            <a:chOff x="6781680" y="6019560"/>
            <a:chExt cx="1371600" cy="438480"/>
          </a:xfrm>
        </p:grpSpPr>
        <p:sp>
          <p:nvSpPr>
            <p:cNvPr id="624" name="Rectangle 15"/>
            <p:cNvSpPr/>
            <p:nvPr/>
          </p:nvSpPr>
          <p:spPr>
            <a:xfrm>
              <a:off x="6781680" y="6019920"/>
              <a:ext cx="1371600" cy="438120"/>
            </a:xfrm>
            <a:prstGeom prst="rect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rapezoid 26"/>
            <p:cNvSpPr/>
            <p:nvPr/>
          </p:nvSpPr>
          <p:spPr>
            <a:xfrm rot="10800000">
              <a:off x="7424280" y="6019560"/>
              <a:ext cx="128520" cy="343080"/>
            </a:xfrm>
            <a:custGeom>
              <a:avLst/>
              <a:gdLst/>
              <a:ahLst/>
              <a:rect l="l" t="t" r="r" b="b"/>
              <a:pathLst>
                <a:path w="228599" h="610660">
                  <a:moveTo>
                    <a:pt x="0" y="610660"/>
                  </a:moveTo>
                  <a:lnTo>
                    <a:pt x="57150" y="0"/>
                  </a:lnTo>
                  <a:lnTo>
                    <a:pt x="171449" y="0"/>
                  </a:lnTo>
                  <a:lnTo>
                    <a:pt x="228599" y="610660"/>
                  </a:lnTo>
                  <a:lnTo>
                    <a:pt x="0" y="6106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36"/>
          <p:cNvGrpSpPr/>
          <p:nvPr/>
        </p:nvGrpSpPr>
        <p:grpSpPr>
          <a:xfrm>
            <a:off x="6781680" y="2944080"/>
            <a:ext cx="1371600" cy="884880"/>
            <a:chOff x="6781680" y="2944080"/>
            <a:chExt cx="1371600" cy="884880"/>
          </a:xfrm>
        </p:grpSpPr>
        <p:grpSp>
          <p:nvGrpSpPr>
            <p:cNvPr id="627" name="Group 6"/>
            <p:cNvGrpSpPr/>
            <p:nvPr/>
          </p:nvGrpSpPr>
          <p:grpSpPr>
            <a:xfrm>
              <a:off x="6781680" y="3341160"/>
              <a:ext cx="1371600" cy="487800"/>
              <a:chOff x="6781680" y="3341160"/>
              <a:chExt cx="1371600" cy="487800"/>
            </a:xfrm>
          </p:grpSpPr>
          <p:sp>
            <p:nvSpPr>
              <p:cNvPr id="628" name="Rectangle 39"/>
              <p:cNvSpPr/>
              <p:nvPr/>
            </p:nvSpPr>
            <p:spPr>
              <a:xfrm>
                <a:off x="6781680" y="3646440"/>
                <a:ext cx="1371600" cy="182520"/>
              </a:xfrm>
              <a:prstGeom prst="rect">
                <a:avLst/>
              </a:pr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0"/>
              <p:cNvSpPr/>
              <p:nvPr/>
            </p:nvSpPr>
            <p:spPr>
              <a:xfrm>
                <a:off x="6781680" y="3341160"/>
                <a:ext cx="1371600" cy="305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Chord 38"/>
            <p:cNvSpPr/>
            <p:nvPr/>
          </p:nvSpPr>
          <p:spPr>
            <a:xfrm rot="15940200">
              <a:off x="7120080" y="2932560"/>
              <a:ext cx="679320" cy="757080"/>
            </a:xfrm>
            <a:custGeom>
              <a:avLst/>
              <a:gdLst/>
              <a:ahLst/>
              <a:rect l="l" t="t" r="r" b="b"/>
              <a:pathLst>
                <a:path w="1087120" h="1346199">
                  <a:moveTo>
                    <a:pt x="500913" y="1344124"/>
                  </a:moveTo>
                  <a:cubicBezTo>
                    <a:pt x="292625" y="1323825"/>
                    <a:pt x="112167" y="1157485"/>
                    <a:pt x="36698" y="916228"/>
                  </a:cubicBezTo>
                  <a:cubicBezTo>
                    <a:pt x="-22252" y="727775"/>
                    <a:pt x="-9703" y="516495"/>
                    <a:pt x="70880" y="340751"/>
                  </a:cubicBezTo>
                  <a:cubicBezTo>
                    <a:pt x="179674" y="103480"/>
                    <a:pt x="393378" y="-28987"/>
                    <a:pt x="611966" y="5351"/>
                  </a:cubicBezTo>
                  <a:lnTo>
                    <a:pt x="500913" y="134412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27"/>
          <p:cNvSpPr/>
          <p:nvPr/>
        </p:nvSpPr>
        <p:spPr>
          <a:xfrm>
            <a:off x="5553000" y="6570720"/>
            <a:ext cx="35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&amp;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ropic vs. Anisotropic 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Etch Parameters and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Etch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t Etch Re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etching: The process of selectively removing material by chemical, electrolytic, or physical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= a.k.a. “chemistry,” chemical reactions to convert solid material into soluble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= bombardment, as in dry 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Etch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78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have varying etch rates in different etch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articular target material, some chemistries will etch more efficiently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temperature will increase an etch rate for a specific chem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and chemistry are used to control sele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information provides general guidelines for etching various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4"/>
          <p:cNvSpPr/>
          <p:nvPr/>
        </p:nvSpPr>
        <p:spPr>
          <a:xfrm>
            <a:off x="228600" y="1447920"/>
            <a:ext cx="868680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228600" y="2090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9"/>
          <p:cNvSpPr/>
          <p:nvPr/>
        </p:nvSpPr>
        <p:spPr>
          <a:xfrm>
            <a:off x="228600" y="4200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1"/>
          <p:cNvSpPr/>
          <p:nvPr/>
        </p:nvSpPr>
        <p:spPr>
          <a:xfrm>
            <a:off x="228600" y="30607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259092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4"/>
          <p:cNvSpPr/>
          <p:nvPr/>
        </p:nvSpPr>
        <p:spPr>
          <a:xfrm>
            <a:off x="480060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7"/>
          <p:cNvSpPr/>
          <p:nvPr/>
        </p:nvSpPr>
        <p:spPr>
          <a:xfrm>
            <a:off x="6553080" y="14479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8"/>
          <p:cNvSpPr/>
          <p:nvPr/>
        </p:nvSpPr>
        <p:spPr>
          <a:xfrm>
            <a:off x="613440" y="15238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Wet Etc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9"/>
          <p:cNvSpPr/>
          <p:nvPr/>
        </p:nvSpPr>
        <p:spPr>
          <a:xfrm>
            <a:off x="390600" y="225432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drofluor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8"/>
          <p:cNvSpPr/>
          <p:nvPr/>
        </p:nvSpPr>
        <p:spPr>
          <a:xfrm>
            <a:off x="4995360" y="15238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Etch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9"/>
          <p:cNvSpPr/>
          <p:nvPr/>
        </p:nvSpPr>
        <p:spPr>
          <a:xfrm>
            <a:off x="2741400" y="152388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0"/>
          <p:cNvSpPr/>
          <p:nvPr/>
        </p:nvSpPr>
        <p:spPr>
          <a:xfrm>
            <a:off x="7095600" y="2376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1"/>
          <p:cNvSpPr/>
          <p:nvPr/>
        </p:nvSpPr>
        <p:spPr>
          <a:xfrm>
            <a:off x="5340240" y="23763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2"/>
          <p:cNvSpPr/>
          <p:nvPr/>
        </p:nvSpPr>
        <p:spPr>
          <a:xfrm>
            <a:off x="3386520" y="2376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6"/>
          <p:cNvSpPr/>
          <p:nvPr/>
        </p:nvSpPr>
        <p:spPr>
          <a:xfrm>
            <a:off x="288000" y="3321000"/>
            <a:ext cx="2224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ffered Oxide 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F:N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: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7"/>
          <p:cNvSpPr/>
          <p:nvPr/>
        </p:nvSpPr>
        <p:spPr>
          <a:xfrm>
            <a:off x="3278520" y="344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9"/>
          <p:cNvSpPr/>
          <p:nvPr/>
        </p:nvSpPr>
        <p:spPr>
          <a:xfrm>
            <a:off x="5340240" y="3443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0"/>
          <p:cNvSpPr/>
          <p:nvPr/>
        </p:nvSpPr>
        <p:spPr>
          <a:xfrm>
            <a:off x="7127280" y="34434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1"/>
          <p:cNvSpPr/>
          <p:nvPr/>
        </p:nvSpPr>
        <p:spPr>
          <a:xfrm>
            <a:off x="289440" y="4265640"/>
            <a:ext cx="2221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etic acid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monium Flu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 N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3"/>
          <p:cNvSpPr/>
          <p:nvPr/>
        </p:nvSpPr>
        <p:spPr>
          <a:xfrm>
            <a:off x="7019280" y="45100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4"/>
          <p:cNvSpPr/>
          <p:nvPr/>
        </p:nvSpPr>
        <p:spPr>
          <a:xfrm>
            <a:off x="3430800" y="4510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9"/>
          <p:cNvSpPr/>
          <p:nvPr/>
        </p:nvSpPr>
        <p:spPr>
          <a:xfrm>
            <a:off x="5340240" y="45100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6"/>
          <p:cNvSpPr/>
          <p:nvPr/>
        </p:nvSpPr>
        <p:spPr>
          <a:xfrm>
            <a:off x="4495680" y="572616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Van Zant, Peter.  Microchip Fabrication 4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d.  New York.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Runyan, W.R., Bean, K.E.  Semiconductor Intergrated Circuit Processing Technology. New York.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7"/>
          <p:cNvSpPr/>
          <p:nvPr/>
        </p:nvSpPr>
        <p:spPr>
          <a:xfrm>
            <a:off x="6551280" y="152388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Relative Etch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035000"/>
            <a:ext cx="8229600" cy="56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2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is the preferred wet etch for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t can be used in several different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iluted HF (49% by w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ed Oxide Etch (BOE): a diluted form of HF that uses ammonium fluoride to buffer th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ffer maintains the supply of HF and provides control over pH (acidity or basi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orm: 6 parts buffer solution (40 wt%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) to 1 part HF (49 wt%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5"/>
          <p:cNvSpPr/>
          <p:nvPr/>
        </p:nvSpPr>
        <p:spPr>
          <a:xfrm>
            <a:off x="228600" y="1828800"/>
            <a:ext cx="86868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6"/>
          <p:cNvSpPr/>
          <p:nvPr/>
        </p:nvSpPr>
        <p:spPr>
          <a:xfrm>
            <a:off x="228600" y="247176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9"/>
          <p:cNvSpPr/>
          <p:nvPr/>
        </p:nvSpPr>
        <p:spPr>
          <a:xfrm>
            <a:off x="228600" y="34416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0"/>
          <p:cNvSpPr/>
          <p:nvPr/>
        </p:nvSpPr>
        <p:spPr>
          <a:xfrm>
            <a:off x="25909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41"/>
          <p:cNvSpPr/>
          <p:nvPr/>
        </p:nvSpPr>
        <p:spPr>
          <a:xfrm>
            <a:off x="480060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2"/>
          <p:cNvSpPr/>
          <p:nvPr/>
        </p:nvSpPr>
        <p:spPr>
          <a:xfrm>
            <a:off x="655308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3"/>
          <p:cNvSpPr/>
          <p:nvPr/>
        </p:nvSpPr>
        <p:spPr>
          <a:xfrm>
            <a:off x="613440" y="19494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Wet Etc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6551280" y="194940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Relative Etch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5"/>
          <p:cNvSpPr/>
          <p:nvPr/>
        </p:nvSpPr>
        <p:spPr>
          <a:xfrm>
            <a:off x="4968360" y="194940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Etch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6"/>
          <p:cNvSpPr/>
          <p:nvPr/>
        </p:nvSpPr>
        <p:spPr>
          <a:xfrm>
            <a:off x="2715840" y="19494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7"/>
          <p:cNvSpPr/>
          <p:nvPr/>
        </p:nvSpPr>
        <p:spPr>
          <a:xfrm>
            <a:off x="616320" y="3827520"/>
            <a:ext cx="156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F: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8"/>
          <p:cNvSpPr/>
          <p:nvPr/>
        </p:nvSpPr>
        <p:spPr>
          <a:xfrm>
            <a:off x="3278520" y="3828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9"/>
          <p:cNvSpPr/>
          <p:nvPr/>
        </p:nvSpPr>
        <p:spPr>
          <a:xfrm>
            <a:off x="5265720" y="38289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0"/>
          <p:cNvSpPr/>
          <p:nvPr/>
        </p:nvSpPr>
        <p:spPr>
          <a:xfrm>
            <a:off x="490680" y="2711520"/>
            <a:ext cx="1857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tric Acid &amp; H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N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HF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1"/>
          <p:cNvSpPr/>
          <p:nvPr/>
        </p:nvSpPr>
        <p:spPr>
          <a:xfrm>
            <a:off x="7127280" y="38275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2"/>
          <p:cNvSpPr/>
          <p:nvPr/>
        </p:nvSpPr>
        <p:spPr>
          <a:xfrm>
            <a:off x="4495680" y="563076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Van Zant, Peter.  Microchip Fabrication 4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d.  New York.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Runyan, W.R., Bean, K.E.  Semiconductor Intergrated Circuit Processing Technology. New York.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4"/>
          <p:cNvSpPr/>
          <p:nvPr/>
        </p:nvSpPr>
        <p:spPr>
          <a:xfrm>
            <a:off x="3136320" y="2787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1 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5"/>
          <p:cNvSpPr/>
          <p:nvPr/>
        </p:nvSpPr>
        <p:spPr>
          <a:xfrm>
            <a:off x="7241040" y="27874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9"/>
          <p:cNvSpPr/>
          <p:nvPr/>
        </p:nvSpPr>
        <p:spPr>
          <a:xfrm>
            <a:off x="5324400" y="2774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5"/>
          <p:cNvSpPr/>
          <p:nvPr/>
        </p:nvSpPr>
        <p:spPr>
          <a:xfrm>
            <a:off x="228600" y="1447920"/>
            <a:ext cx="868680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6"/>
          <p:cNvSpPr/>
          <p:nvPr/>
        </p:nvSpPr>
        <p:spPr>
          <a:xfrm>
            <a:off x="228600" y="2090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8"/>
          <p:cNvSpPr/>
          <p:nvPr/>
        </p:nvSpPr>
        <p:spPr>
          <a:xfrm>
            <a:off x="228600" y="4200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9"/>
          <p:cNvSpPr/>
          <p:nvPr/>
        </p:nvSpPr>
        <p:spPr>
          <a:xfrm>
            <a:off x="228600" y="30607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40"/>
          <p:cNvSpPr/>
          <p:nvPr/>
        </p:nvSpPr>
        <p:spPr>
          <a:xfrm>
            <a:off x="29718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41"/>
          <p:cNvSpPr/>
          <p:nvPr/>
        </p:nvSpPr>
        <p:spPr>
          <a:xfrm>
            <a:off x="487692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42"/>
          <p:cNvSpPr/>
          <p:nvPr/>
        </p:nvSpPr>
        <p:spPr>
          <a:xfrm>
            <a:off x="655308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3"/>
          <p:cNvSpPr/>
          <p:nvPr/>
        </p:nvSpPr>
        <p:spPr>
          <a:xfrm>
            <a:off x="869040" y="15238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Wet Etc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4"/>
          <p:cNvSpPr/>
          <p:nvPr/>
        </p:nvSpPr>
        <p:spPr>
          <a:xfrm>
            <a:off x="6551280" y="152388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Relative Etch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5"/>
          <p:cNvSpPr/>
          <p:nvPr/>
        </p:nvSpPr>
        <p:spPr>
          <a:xfrm>
            <a:off x="4995360" y="15238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Etch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6"/>
          <p:cNvSpPr/>
          <p:nvPr/>
        </p:nvSpPr>
        <p:spPr>
          <a:xfrm>
            <a:off x="2970000" y="152388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8"/>
          <p:cNvSpPr/>
          <p:nvPr/>
        </p:nvSpPr>
        <p:spPr>
          <a:xfrm>
            <a:off x="682920" y="3352680"/>
            <a:ext cx="1828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osph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9"/>
          <p:cNvSpPr/>
          <p:nvPr/>
        </p:nvSpPr>
        <p:spPr>
          <a:xfrm>
            <a:off x="5061960" y="3429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-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0"/>
          <p:cNvSpPr/>
          <p:nvPr/>
        </p:nvSpPr>
        <p:spPr>
          <a:xfrm>
            <a:off x="5418000" y="2406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1"/>
          <p:cNvSpPr/>
          <p:nvPr/>
        </p:nvSpPr>
        <p:spPr>
          <a:xfrm>
            <a:off x="7241040" y="3429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3"/>
          <p:cNvSpPr/>
          <p:nvPr/>
        </p:nvSpPr>
        <p:spPr>
          <a:xfrm>
            <a:off x="2930760" y="34290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solution in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4"/>
          <p:cNvSpPr/>
          <p:nvPr/>
        </p:nvSpPr>
        <p:spPr>
          <a:xfrm>
            <a:off x="3615120" y="2421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5"/>
          <p:cNvSpPr/>
          <p:nvPr/>
        </p:nvSpPr>
        <p:spPr>
          <a:xfrm>
            <a:off x="4362480" y="57420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Van Zant, Peter.  Microchip Fabrication 4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d.  New York.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Runyan, W.R., Bean, K.E.  Semiconductor Intergrated Circuit Processing Technology. New York.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6"/>
          <p:cNvSpPr/>
          <p:nvPr/>
        </p:nvSpPr>
        <p:spPr>
          <a:xfrm>
            <a:off x="7165440" y="242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7"/>
          <p:cNvSpPr/>
          <p:nvPr/>
        </p:nvSpPr>
        <p:spPr>
          <a:xfrm>
            <a:off x="440280" y="2254320"/>
            <a:ext cx="2224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ffered Oxide 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/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:HF/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8"/>
          <p:cNvSpPr/>
          <p:nvPr/>
        </p:nvSpPr>
        <p:spPr>
          <a:xfrm>
            <a:off x="224280" y="4143240"/>
            <a:ext cx="2821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osphoric Aci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tric Acid: Acetic Acid: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N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 C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5"/>
          <p:cNvSpPr/>
          <p:nvPr/>
        </p:nvSpPr>
        <p:spPr>
          <a:xfrm>
            <a:off x="3354840" y="46483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:1:1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6"/>
          <p:cNvSpPr/>
          <p:nvPr/>
        </p:nvSpPr>
        <p:spPr>
          <a:xfrm>
            <a:off x="5259960" y="46623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-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67"/>
          <p:cNvSpPr/>
          <p:nvPr/>
        </p:nvSpPr>
        <p:spPr>
          <a:xfrm>
            <a:off x="7127280" y="46623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h is kept at 150 –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lective etch for S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s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0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ontrol the bath, because of the high temperature of the chemi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removal, some oxynitride is formed.  A short HF deglaze may be necessary to remove the oxynitride before further proc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metals are deposited over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nce these common dielectrics provide electrical ins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tal etching, it is important to choose a chemistry that will effectively etch the metal, without attacking the underlying materia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min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7"/>
          <p:cNvSpPr/>
          <p:nvPr/>
        </p:nvSpPr>
        <p:spPr>
          <a:xfrm>
            <a:off x="228600" y="2133720"/>
            <a:ext cx="86868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8"/>
          <p:cNvSpPr/>
          <p:nvPr/>
        </p:nvSpPr>
        <p:spPr>
          <a:xfrm>
            <a:off x="228600" y="2776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1"/>
          <p:cNvSpPr/>
          <p:nvPr/>
        </p:nvSpPr>
        <p:spPr>
          <a:xfrm>
            <a:off x="228600" y="38862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2"/>
          <p:cNvSpPr/>
          <p:nvPr/>
        </p:nvSpPr>
        <p:spPr>
          <a:xfrm>
            <a:off x="2895480" y="2133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3"/>
          <p:cNvSpPr/>
          <p:nvPr/>
        </p:nvSpPr>
        <p:spPr>
          <a:xfrm>
            <a:off x="4800600" y="2133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4"/>
          <p:cNvSpPr/>
          <p:nvPr/>
        </p:nvSpPr>
        <p:spPr>
          <a:xfrm>
            <a:off x="6477120" y="2133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5"/>
          <p:cNvSpPr/>
          <p:nvPr/>
        </p:nvSpPr>
        <p:spPr>
          <a:xfrm>
            <a:off x="765720" y="21938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Wet Etc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6"/>
          <p:cNvSpPr/>
          <p:nvPr/>
        </p:nvSpPr>
        <p:spPr>
          <a:xfrm>
            <a:off x="6514920" y="220968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Relative Etch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7"/>
          <p:cNvSpPr/>
          <p:nvPr/>
        </p:nvSpPr>
        <p:spPr>
          <a:xfrm>
            <a:off x="4919040" y="22096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Etch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8"/>
          <p:cNvSpPr/>
          <p:nvPr/>
        </p:nvSpPr>
        <p:spPr>
          <a:xfrm>
            <a:off x="2893680" y="220968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0"/>
          <p:cNvSpPr/>
          <p:nvPr/>
        </p:nvSpPr>
        <p:spPr>
          <a:xfrm>
            <a:off x="549360" y="3962520"/>
            <a:ext cx="2082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drochloric Aci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etic Anhyd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l: (C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)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1"/>
          <p:cNvSpPr/>
          <p:nvPr/>
        </p:nvSpPr>
        <p:spPr>
          <a:xfrm>
            <a:off x="154440" y="2695680"/>
            <a:ext cx="2821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osphoric Aci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tric Acid: Acetic Acid: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N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 C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2 :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52"/>
          <p:cNvSpPr/>
          <p:nvPr/>
        </p:nvSpPr>
        <p:spPr>
          <a:xfrm>
            <a:off x="3354840" y="3138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:1:1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3"/>
          <p:cNvSpPr/>
          <p:nvPr/>
        </p:nvSpPr>
        <p:spPr>
          <a:xfrm>
            <a:off x="5113800" y="313848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-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0"/>
          <p:cNvSpPr/>
          <p:nvPr/>
        </p:nvSpPr>
        <p:spPr>
          <a:xfrm>
            <a:off x="5614920" y="5616720"/>
            <a:ext cx="33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Kern, Werner.  Chemical Etching.  Princeton, NJ. 197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1"/>
          <p:cNvSpPr/>
          <p:nvPr/>
        </p:nvSpPr>
        <p:spPr>
          <a:xfrm>
            <a:off x="7159320" y="31240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2"/>
          <p:cNvSpPr/>
          <p:nvPr/>
        </p:nvSpPr>
        <p:spPr>
          <a:xfrm>
            <a:off x="3615120" y="4267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3"/>
          <p:cNvSpPr/>
          <p:nvPr/>
        </p:nvSpPr>
        <p:spPr>
          <a:xfrm>
            <a:off x="7171200" y="4205160"/>
            <a:ext cx="13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4"/>
          <p:cNvSpPr/>
          <p:nvPr/>
        </p:nvSpPr>
        <p:spPr>
          <a:xfrm>
            <a:off x="5265720" y="42051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minum 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ric acid, Nitric acid, Acet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ly used etch for alumin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ecause it can break through the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yer to etch the Al ben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can also be used to etch A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in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58"/>
          <p:cNvSpPr/>
          <p:nvPr/>
        </p:nvSpPr>
        <p:spPr>
          <a:xfrm>
            <a:off x="228600" y="1828800"/>
            <a:ext cx="86868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59"/>
          <p:cNvSpPr/>
          <p:nvPr/>
        </p:nvSpPr>
        <p:spPr>
          <a:xfrm>
            <a:off x="228600" y="247176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62"/>
          <p:cNvSpPr/>
          <p:nvPr/>
        </p:nvSpPr>
        <p:spPr>
          <a:xfrm>
            <a:off x="228600" y="34416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63"/>
          <p:cNvSpPr/>
          <p:nvPr/>
        </p:nvSpPr>
        <p:spPr>
          <a:xfrm>
            <a:off x="2590920" y="18288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4"/>
          <p:cNvSpPr/>
          <p:nvPr/>
        </p:nvSpPr>
        <p:spPr>
          <a:xfrm>
            <a:off x="4800600" y="18288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65"/>
          <p:cNvSpPr/>
          <p:nvPr/>
        </p:nvSpPr>
        <p:spPr>
          <a:xfrm>
            <a:off x="6553080" y="18288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66"/>
          <p:cNvSpPr/>
          <p:nvPr/>
        </p:nvSpPr>
        <p:spPr>
          <a:xfrm>
            <a:off x="689760" y="18892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Wet Etc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7"/>
          <p:cNvSpPr/>
          <p:nvPr/>
        </p:nvSpPr>
        <p:spPr>
          <a:xfrm>
            <a:off x="6551280" y="190512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Relative Etch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8"/>
          <p:cNvSpPr/>
          <p:nvPr/>
        </p:nvSpPr>
        <p:spPr>
          <a:xfrm>
            <a:off x="4995360" y="19051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Etch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9"/>
          <p:cNvSpPr/>
          <p:nvPr/>
        </p:nvSpPr>
        <p:spPr>
          <a:xfrm>
            <a:off x="2741400" y="190512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70"/>
          <p:cNvSpPr/>
          <p:nvPr/>
        </p:nvSpPr>
        <p:spPr>
          <a:xfrm>
            <a:off x="384120" y="2513160"/>
            <a:ext cx="2082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drochloric Aci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tric Acid: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l: HN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 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71"/>
          <p:cNvSpPr/>
          <p:nvPr/>
        </p:nvSpPr>
        <p:spPr>
          <a:xfrm>
            <a:off x="7007400" y="27576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5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2"/>
          <p:cNvSpPr/>
          <p:nvPr/>
        </p:nvSpPr>
        <p:spPr>
          <a:xfrm>
            <a:off x="34308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3"/>
          <p:cNvSpPr/>
          <p:nvPr/>
        </p:nvSpPr>
        <p:spPr>
          <a:xfrm>
            <a:off x="409320" y="362592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drochloric Acid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4"/>
          <p:cNvSpPr/>
          <p:nvPr/>
        </p:nvSpPr>
        <p:spPr>
          <a:xfrm>
            <a:off x="7190280" y="3733920"/>
            <a:ext cx="13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75"/>
          <p:cNvSpPr/>
          <p:nvPr/>
        </p:nvSpPr>
        <p:spPr>
          <a:xfrm>
            <a:off x="5342040" y="37339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78"/>
          <p:cNvSpPr/>
          <p:nvPr/>
        </p:nvSpPr>
        <p:spPr>
          <a:xfrm>
            <a:off x="4408560" y="534204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Kern, Werner.  Chemical Etching.  Princeton, NJ. 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Runyan, W.R., Bean, K.E.  Semiconductor Intergrated Circuit Processing Technology. New York.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79"/>
          <p:cNvSpPr/>
          <p:nvPr/>
        </p:nvSpPr>
        <p:spPr>
          <a:xfrm>
            <a:off x="3354480" y="2757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1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0"/>
          <p:cNvSpPr/>
          <p:nvPr/>
        </p:nvSpPr>
        <p:spPr>
          <a:xfrm>
            <a:off x="5340240" y="28195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hing is used to remove material from selected re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ions may be dictated by patterning, such as a photoresist pattern that was previously made with photolithogra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e region could be an entire wafer or substrate, as in the wet stripping of an entire blanket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1438200" y="3451320"/>
            <a:ext cx="2457360" cy="1081080"/>
            <a:chOff x="1438200" y="3451320"/>
            <a:chExt cx="2457360" cy="1081080"/>
          </a:xfrm>
        </p:grpSpPr>
        <p:sp>
          <p:nvSpPr>
            <p:cNvPr id="57" name="Rectangle 13"/>
            <p:cNvSpPr/>
            <p:nvPr/>
          </p:nvSpPr>
          <p:spPr>
            <a:xfrm>
              <a:off x="1438200" y="3911400"/>
              <a:ext cx="2457360" cy="621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0"/>
            <p:cNvSpPr/>
            <p:nvPr/>
          </p:nvSpPr>
          <p:spPr>
            <a:xfrm>
              <a:off x="1438200" y="3680280"/>
              <a:ext cx="2457360" cy="22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1438200" y="3451320"/>
              <a:ext cx="989640" cy="2268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2905920" y="3451320"/>
              <a:ext cx="989640" cy="22680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5"/>
          <p:cNvGrpSpPr/>
          <p:nvPr/>
        </p:nvGrpSpPr>
        <p:grpSpPr>
          <a:xfrm>
            <a:off x="5383080" y="3456000"/>
            <a:ext cx="2457720" cy="1071720"/>
            <a:chOff x="5383080" y="3456000"/>
            <a:chExt cx="2457720" cy="1071720"/>
          </a:xfrm>
        </p:grpSpPr>
        <p:sp>
          <p:nvSpPr>
            <p:cNvPr id="62" name="Rectangle 13"/>
            <p:cNvSpPr/>
            <p:nvPr/>
          </p:nvSpPr>
          <p:spPr>
            <a:xfrm>
              <a:off x="5383080" y="3907080"/>
              <a:ext cx="2457720" cy="6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5383080" y="3456000"/>
              <a:ext cx="990000" cy="22644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2"/>
            <p:cNvSpPr/>
            <p:nvPr/>
          </p:nvSpPr>
          <p:spPr>
            <a:xfrm>
              <a:off x="6850800" y="3456000"/>
              <a:ext cx="990000" cy="226440"/>
            </a:xfrm>
            <a:prstGeom prst="rect">
              <a:avLst/>
            </a:prstGeom>
            <a:solidFill>
              <a:srgbClr val="de02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5383080" y="3674160"/>
              <a:ext cx="990000" cy="226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2"/>
            <p:cNvSpPr/>
            <p:nvPr/>
          </p:nvSpPr>
          <p:spPr>
            <a:xfrm>
              <a:off x="6850800" y="3674160"/>
              <a:ext cx="990000" cy="226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" name="Straight Arrow Connector 17"/>
          <p:cNvCxnSpPr/>
          <p:nvPr/>
        </p:nvCxnSpPr>
        <p:spPr>
          <a:xfrm>
            <a:off x="4235040" y="3990600"/>
            <a:ext cx="848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68" name="TextBox 18"/>
          <p:cNvSpPr/>
          <p:nvPr/>
        </p:nvSpPr>
        <p:spPr>
          <a:xfrm>
            <a:off x="7861320" y="36846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430280" y="5688000"/>
            <a:ext cx="2455920" cy="852480"/>
            <a:chOff x="1430280" y="5688000"/>
            <a:chExt cx="2455920" cy="852480"/>
          </a:xfrm>
        </p:grpSpPr>
        <p:sp>
          <p:nvSpPr>
            <p:cNvPr id="70" name="Rectangle 13"/>
            <p:cNvSpPr/>
            <p:nvPr/>
          </p:nvSpPr>
          <p:spPr>
            <a:xfrm>
              <a:off x="1430280" y="5919120"/>
              <a:ext cx="2455920" cy="621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0"/>
            <p:cNvSpPr/>
            <p:nvPr/>
          </p:nvSpPr>
          <p:spPr>
            <a:xfrm>
              <a:off x="1430280" y="5688000"/>
              <a:ext cx="2455920" cy="22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13"/>
          <p:cNvSpPr/>
          <p:nvPr/>
        </p:nvSpPr>
        <p:spPr>
          <a:xfrm>
            <a:off x="5373720" y="5915160"/>
            <a:ext cx="2457360" cy="620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30"/>
          <p:cNvCxnSpPr/>
          <p:nvPr/>
        </p:nvCxnSpPr>
        <p:spPr>
          <a:xfrm>
            <a:off x="4227480" y="5998680"/>
            <a:ext cx="846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74" name="Rectangle 5"/>
          <p:cNvSpPr/>
          <p:nvPr/>
        </p:nvSpPr>
        <p:spPr>
          <a:xfrm>
            <a:off x="5576760" y="654048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9"/>
          <p:cNvSpPr/>
          <p:nvPr/>
        </p:nvSpPr>
        <p:spPr>
          <a:xfrm>
            <a:off x="228600" y="1523880"/>
            <a:ext cx="86868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50"/>
          <p:cNvSpPr/>
          <p:nvPr/>
        </p:nvSpPr>
        <p:spPr>
          <a:xfrm>
            <a:off x="228600" y="216684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52"/>
          <p:cNvSpPr/>
          <p:nvPr/>
        </p:nvSpPr>
        <p:spPr>
          <a:xfrm>
            <a:off x="228600" y="4276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53"/>
          <p:cNvSpPr/>
          <p:nvPr/>
        </p:nvSpPr>
        <p:spPr>
          <a:xfrm>
            <a:off x="228600" y="313704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54"/>
          <p:cNvSpPr/>
          <p:nvPr/>
        </p:nvSpPr>
        <p:spPr>
          <a:xfrm>
            <a:off x="2743200" y="15238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55"/>
          <p:cNvSpPr/>
          <p:nvPr/>
        </p:nvSpPr>
        <p:spPr>
          <a:xfrm>
            <a:off x="4800600" y="15238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56"/>
          <p:cNvSpPr/>
          <p:nvPr/>
        </p:nvSpPr>
        <p:spPr>
          <a:xfrm>
            <a:off x="6553080" y="15238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7"/>
          <p:cNvSpPr/>
          <p:nvPr/>
        </p:nvSpPr>
        <p:spPr>
          <a:xfrm>
            <a:off x="689760" y="15843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Wet Etc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8"/>
          <p:cNvSpPr/>
          <p:nvPr/>
        </p:nvSpPr>
        <p:spPr>
          <a:xfrm>
            <a:off x="6551280" y="160020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Relative Etch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9"/>
          <p:cNvSpPr/>
          <p:nvPr/>
        </p:nvSpPr>
        <p:spPr>
          <a:xfrm>
            <a:off x="4995360" y="160020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Etch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60"/>
          <p:cNvSpPr/>
          <p:nvPr/>
        </p:nvSpPr>
        <p:spPr>
          <a:xfrm>
            <a:off x="2741400" y="16002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1"/>
          <p:cNvSpPr/>
          <p:nvPr/>
        </p:nvSpPr>
        <p:spPr>
          <a:xfrm>
            <a:off x="4416480" y="5935680"/>
            <a:ext cx="464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Kern, Werner.  Chemical Etching.  Princeton, NJ. 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2"/>
          <p:cNvSpPr/>
          <p:nvPr/>
        </p:nvSpPr>
        <p:spPr>
          <a:xfrm>
            <a:off x="156240" y="2286000"/>
            <a:ext cx="2678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tassium Iodide: I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I: 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 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3"/>
          <p:cNvSpPr/>
          <p:nvPr/>
        </p:nvSpPr>
        <p:spPr>
          <a:xfrm>
            <a:off x="492480" y="3274920"/>
            <a:ext cx="2018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drochloric Ac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t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l:HN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64"/>
          <p:cNvSpPr/>
          <p:nvPr/>
        </p:nvSpPr>
        <p:spPr>
          <a:xfrm>
            <a:off x="162000" y="4267080"/>
            <a:ext cx="2692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tassium Ferricyani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tassium Cyani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tassium 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(CN)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 KCN: KO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5"/>
          <p:cNvSpPr/>
          <p:nvPr/>
        </p:nvSpPr>
        <p:spPr>
          <a:xfrm>
            <a:off x="6925320" y="243828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–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m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6"/>
          <p:cNvSpPr/>
          <p:nvPr/>
        </p:nvSpPr>
        <p:spPr>
          <a:xfrm>
            <a:off x="6926040" y="3519360"/>
            <a:ext cx="17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– 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m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67"/>
          <p:cNvSpPr/>
          <p:nvPr/>
        </p:nvSpPr>
        <p:spPr>
          <a:xfrm>
            <a:off x="7230240" y="47386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74"/>
          <p:cNvSpPr/>
          <p:nvPr/>
        </p:nvSpPr>
        <p:spPr>
          <a:xfrm>
            <a:off x="5416560" y="2438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5"/>
          <p:cNvSpPr/>
          <p:nvPr/>
        </p:nvSpPr>
        <p:spPr>
          <a:xfrm>
            <a:off x="5266440" y="350532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-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76"/>
          <p:cNvSpPr/>
          <p:nvPr/>
        </p:nvSpPr>
        <p:spPr>
          <a:xfrm>
            <a:off x="5416560" y="47386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8"/>
          <p:cNvSpPr/>
          <p:nvPr/>
        </p:nvSpPr>
        <p:spPr>
          <a:xfrm>
            <a:off x="3278880" y="25146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1: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9"/>
          <p:cNvSpPr/>
          <p:nvPr/>
        </p:nvSpPr>
        <p:spPr>
          <a:xfrm>
            <a:off x="3462480" y="351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80"/>
          <p:cNvSpPr/>
          <p:nvPr/>
        </p:nvSpPr>
        <p:spPr>
          <a:xfrm>
            <a:off x="3424320" y="4738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mixed gold etch is used in our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 Etch TFA made by Transene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 :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is opaque, so removal from solution is required to observe end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5"/>
          <p:cNvSpPr/>
          <p:nvPr/>
        </p:nvSpPr>
        <p:spPr>
          <a:xfrm>
            <a:off x="228600" y="1143000"/>
            <a:ext cx="86868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6"/>
          <p:cNvSpPr/>
          <p:nvPr/>
        </p:nvSpPr>
        <p:spPr>
          <a:xfrm>
            <a:off x="228600" y="178596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39"/>
          <p:cNvSpPr/>
          <p:nvPr/>
        </p:nvSpPr>
        <p:spPr>
          <a:xfrm>
            <a:off x="228600" y="275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40"/>
          <p:cNvSpPr/>
          <p:nvPr/>
        </p:nvSpPr>
        <p:spPr>
          <a:xfrm>
            <a:off x="2895480" y="11430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41"/>
          <p:cNvSpPr/>
          <p:nvPr/>
        </p:nvSpPr>
        <p:spPr>
          <a:xfrm>
            <a:off x="4800600" y="11430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42"/>
          <p:cNvSpPr/>
          <p:nvPr/>
        </p:nvSpPr>
        <p:spPr>
          <a:xfrm>
            <a:off x="6705720" y="11430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3"/>
          <p:cNvSpPr/>
          <p:nvPr/>
        </p:nvSpPr>
        <p:spPr>
          <a:xfrm>
            <a:off x="857880" y="12034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Wet Etch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4"/>
          <p:cNvSpPr/>
          <p:nvPr/>
        </p:nvSpPr>
        <p:spPr>
          <a:xfrm>
            <a:off x="7178760" y="12193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Etch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45"/>
          <p:cNvSpPr/>
          <p:nvPr/>
        </p:nvSpPr>
        <p:spPr>
          <a:xfrm>
            <a:off x="4995360" y="12193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Etch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6"/>
          <p:cNvSpPr/>
          <p:nvPr/>
        </p:nvSpPr>
        <p:spPr>
          <a:xfrm>
            <a:off x="2893680" y="121932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2c"/>
                </a:solidFill>
                <a:latin typeface="Arial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7"/>
          <p:cNvSpPr/>
          <p:nvPr/>
        </p:nvSpPr>
        <p:spPr>
          <a:xfrm>
            <a:off x="5257800" y="5881680"/>
            <a:ext cx="3657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, Werner.  Chemical Etching.  Princeton, NJ. 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transene.com/cr.html#1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50"/>
          <p:cNvSpPr/>
          <p:nvPr/>
        </p:nvSpPr>
        <p:spPr>
          <a:xfrm>
            <a:off x="460800" y="49212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C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51"/>
          <p:cNvSpPr/>
          <p:nvPr/>
        </p:nvSpPr>
        <p:spPr>
          <a:xfrm>
            <a:off x="199440" y="3962520"/>
            <a:ext cx="2769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eric Sulfate : Nitr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e(S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: HN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54"/>
          <p:cNvSpPr/>
          <p:nvPr/>
        </p:nvSpPr>
        <p:spPr>
          <a:xfrm>
            <a:off x="7019280" y="5073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5"/>
          <p:cNvSpPr/>
          <p:nvPr/>
        </p:nvSpPr>
        <p:spPr>
          <a:xfrm>
            <a:off x="708660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8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9"/>
          <p:cNvSpPr/>
          <p:nvPr/>
        </p:nvSpPr>
        <p:spPr>
          <a:xfrm>
            <a:off x="378000" y="2743200"/>
            <a:ext cx="24379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dium Hydroxi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tassium Ferricyn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OH: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(CN)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60"/>
          <p:cNvSpPr/>
          <p:nvPr/>
        </p:nvSpPr>
        <p:spPr>
          <a:xfrm>
            <a:off x="6869520" y="3048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-1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1"/>
          <p:cNvSpPr/>
          <p:nvPr/>
        </p:nvSpPr>
        <p:spPr>
          <a:xfrm>
            <a:off x="3583080" y="3048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62"/>
          <p:cNvSpPr/>
          <p:nvPr/>
        </p:nvSpPr>
        <p:spPr>
          <a:xfrm>
            <a:off x="5266440" y="3062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-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63"/>
          <p:cNvSpPr/>
          <p:nvPr/>
        </p:nvSpPr>
        <p:spPr>
          <a:xfrm>
            <a:off x="3583080" y="40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64"/>
          <p:cNvSpPr/>
          <p:nvPr/>
        </p:nvSpPr>
        <p:spPr>
          <a:xfrm>
            <a:off x="5418000" y="4052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5"/>
          <p:cNvSpPr/>
          <p:nvPr/>
        </p:nvSpPr>
        <p:spPr>
          <a:xfrm>
            <a:off x="5418000" y="5043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6"/>
          <p:cNvSpPr/>
          <p:nvPr/>
        </p:nvSpPr>
        <p:spPr>
          <a:xfrm>
            <a:off x="353880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67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69"/>
          <p:cNvSpPr/>
          <p:nvPr/>
        </p:nvSpPr>
        <p:spPr>
          <a:xfrm>
            <a:off x="5342040" y="2057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70"/>
          <p:cNvSpPr/>
          <p:nvPr/>
        </p:nvSpPr>
        <p:spPr>
          <a:xfrm>
            <a:off x="7318080" y="213372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71"/>
          <p:cNvSpPr/>
          <p:nvPr/>
        </p:nvSpPr>
        <p:spPr>
          <a:xfrm>
            <a:off x="231480" y="1828800"/>
            <a:ext cx="27943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eric Ammonium Nitra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t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eN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18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 HNO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3"/>
          <p:cNvSpPr/>
          <p:nvPr/>
        </p:nvSpPr>
        <p:spPr>
          <a:xfrm>
            <a:off x="3507480" y="2071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ium 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mix used in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 Etch 1020 made by Transene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etching Cr masks and vacuum-deposited Cr i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resist mask can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require depass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por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hemical vapor chemistry to etch rather than liquid chemi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heating of chemicals to produce the required vapor and prevent conden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ly used vapor is H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d vapor replenishment at chemical/material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trollable than the standard dip etch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 etch ter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 depend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toxic vap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contained in a closed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E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etc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 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liquid chemicals to e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creates a unique isotropic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only chemistry to e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lasma to e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a more ideal etch (can create isotropic or anisotrop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both chemistry and bombardment to e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0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tch vs. Dis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ith respect to wet chemi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ch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reaction takes place to convert the film into a solubl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solv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emical reaction is necessary. A good solvent is used to bring the material into solution without undergoing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these terms are sometimes used interchangeably in nanofab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9"/>
          <p:cNvGrpSpPr/>
          <p:nvPr/>
        </p:nvGrpSpPr>
        <p:grpSpPr>
          <a:xfrm>
            <a:off x="5556240" y="1716840"/>
            <a:ext cx="2390760" cy="893160"/>
            <a:chOff x="5556240" y="1716840"/>
            <a:chExt cx="2390760" cy="893160"/>
          </a:xfrm>
        </p:grpSpPr>
        <p:sp>
          <p:nvSpPr>
            <p:cNvPr id="81" name="Rectangle 3"/>
            <p:cNvSpPr/>
            <p:nvPr/>
          </p:nvSpPr>
          <p:spPr>
            <a:xfrm>
              <a:off x="5556240" y="2033640"/>
              <a:ext cx="2390760" cy="576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5"/>
            <p:cNvSpPr/>
            <p:nvPr/>
          </p:nvSpPr>
          <p:spPr>
            <a:xfrm>
              <a:off x="5556240" y="1725480"/>
              <a:ext cx="2390760" cy="2872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5671800" y="1787400"/>
              <a:ext cx="269640" cy="74520"/>
            </a:xfrm>
            <a:custGeom>
              <a:avLst/>
              <a:gdLst/>
              <a:ahLst/>
              <a:rect l="l" t="t" r="r" b="b"/>
              <a:pathLst>
                <a:path w="336176" h="93360">
                  <a:moveTo>
                    <a:pt x="0" y="93360"/>
                  </a:moveTo>
                  <a:cubicBezTo>
                    <a:pt x="31376" y="79913"/>
                    <a:pt x="60390" y="58210"/>
                    <a:pt x="94129" y="53019"/>
                  </a:cubicBezTo>
                  <a:cubicBezTo>
                    <a:pt x="126514" y="48037"/>
                    <a:pt x="181322" y="68636"/>
                    <a:pt x="215152" y="79913"/>
                  </a:cubicBezTo>
                  <a:cubicBezTo>
                    <a:pt x="295066" y="0"/>
                    <a:pt x="250693" y="12678"/>
                    <a:pt x="336176" y="1267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6240240" y="1803240"/>
              <a:ext cx="225360" cy="102960"/>
            </a:xfrm>
            <a:custGeom>
              <a:avLst/>
              <a:gdLst/>
              <a:ahLst/>
              <a:rect l="l" t="t" r="r" b="b"/>
              <a:pathLst>
                <a:path w="281354" h="130629">
                  <a:moveTo>
                    <a:pt x="0" y="0"/>
                  </a:moveTo>
                  <a:cubicBezTo>
                    <a:pt x="5024" y="6699"/>
                    <a:pt x="12210" y="12228"/>
                    <a:pt x="15072" y="20097"/>
                  </a:cubicBezTo>
                  <a:cubicBezTo>
                    <a:pt x="19119" y="31226"/>
                    <a:pt x="14346" y="44914"/>
                    <a:pt x="20097" y="55266"/>
                  </a:cubicBezTo>
                  <a:cubicBezTo>
                    <a:pt x="23734" y="61813"/>
                    <a:pt x="33690" y="61598"/>
                    <a:pt x="40193" y="65314"/>
                  </a:cubicBezTo>
                  <a:cubicBezTo>
                    <a:pt x="45436" y="68310"/>
                    <a:pt x="49612" y="73243"/>
                    <a:pt x="55266" y="75363"/>
                  </a:cubicBezTo>
                  <a:cubicBezTo>
                    <a:pt x="63262" y="78361"/>
                    <a:pt x="72051" y="78535"/>
                    <a:pt x="80387" y="80387"/>
                  </a:cubicBezTo>
                  <a:cubicBezTo>
                    <a:pt x="115722" y="88239"/>
                    <a:pt x="86185" y="82044"/>
                    <a:pt x="115556" y="90435"/>
                  </a:cubicBezTo>
                  <a:cubicBezTo>
                    <a:pt x="159682" y="103042"/>
                    <a:pt x="114614" y="88445"/>
                    <a:pt x="150725" y="100484"/>
                  </a:cubicBezTo>
                  <a:cubicBezTo>
                    <a:pt x="154075" y="103833"/>
                    <a:pt x="157815" y="106833"/>
                    <a:pt x="160774" y="110532"/>
                  </a:cubicBezTo>
                  <a:cubicBezTo>
                    <a:pt x="164546" y="115247"/>
                    <a:pt x="166107" y="121833"/>
                    <a:pt x="170822" y="125605"/>
                  </a:cubicBezTo>
                  <a:cubicBezTo>
                    <a:pt x="174957" y="128913"/>
                    <a:pt x="180870" y="128954"/>
                    <a:pt x="185894" y="130629"/>
                  </a:cubicBezTo>
                  <a:cubicBezTo>
                    <a:pt x="194268" y="128954"/>
                    <a:pt x="203019" y="128603"/>
                    <a:pt x="211015" y="125605"/>
                  </a:cubicBezTo>
                  <a:cubicBezTo>
                    <a:pt x="216669" y="123485"/>
                    <a:pt x="220687" y="118257"/>
                    <a:pt x="226088" y="115556"/>
                  </a:cubicBezTo>
                  <a:cubicBezTo>
                    <a:pt x="230825" y="113188"/>
                    <a:pt x="236136" y="112207"/>
                    <a:pt x="241160" y="110532"/>
                  </a:cubicBezTo>
                  <a:cubicBezTo>
                    <a:pt x="249119" y="102574"/>
                    <a:pt x="253239" y="95459"/>
                    <a:pt x="266281" y="95459"/>
                  </a:cubicBezTo>
                  <a:cubicBezTo>
                    <a:pt x="271577" y="95459"/>
                    <a:pt x="281354" y="100484"/>
                    <a:pt x="281354" y="10048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6659640" y="1823760"/>
              <a:ext cx="95040" cy="160200"/>
            </a:xfrm>
            <a:custGeom>
              <a:avLst/>
              <a:gdLst/>
              <a:ahLst/>
              <a:rect l="l" t="t" r="r" b="b"/>
              <a:pathLst>
                <a:path w="118281" h="200967">
                  <a:moveTo>
                    <a:pt x="52967" y="0"/>
                  </a:moveTo>
                  <a:cubicBezTo>
                    <a:pt x="28381" y="8195"/>
                    <a:pt x="22182" y="7764"/>
                    <a:pt x="2725" y="40193"/>
                  </a:cubicBezTo>
                  <a:cubicBezTo>
                    <a:pt x="0" y="44734"/>
                    <a:pt x="3342" y="52328"/>
                    <a:pt x="7749" y="55266"/>
                  </a:cubicBezTo>
                  <a:cubicBezTo>
                    <a:pt x="14854" y="60003"/>
                    <a:pt x="24496" y="58615"/>
                    <a:pt x="32870" y="60290"/>
                  </a:cubicBezTo>
                  <a:cubicBezTo>
                    <a:pt x="39569" y="63640"/>
                    <a:pt x="46083" y="67389"/>
                    <a:pt x="52967" y="70339"/>
                  </a:cubicBezTo>
                  <a:cubicBezTo>
                    <a:pt x="57835" y="72425"/>
                    <a:pt x="66364" y="70339"/>
                    <a:pt x="68039" y="75363"/>
                  </a:cubicBezTo>
                  <a:cubicBezTo>
                    <a:pt x="71935" y="87051"/>
                    <a:pt x="57723" y="111068"/>
                    <a:pt x="52967" y="120580"/>
                  </a:cubicBezTo>
                  <a:cubicBezTo>
                    <a:pt x="56316" y="123930"/>
                    <a:pt x="58953" y="128192"/>
                    <a:pt x="63015" y="130629"/>
                  </a:cubicBezTo>
                  <a:cubicBezTo>
                    <a:pt x="67556" y="133354"/>
                    <a:pt x="73952" y="132345"/>
                    <a:pt x="78088" y="135653"/>
                  </a:cubicBezTo>
                  <a:cubicBezTo>
                    <a:pt x="82803" y="139425"/>
                    <a:pt x="84787" y="145701"/>
                    <a:pt x="88136" y="150725"/>
                  </a:cubicBezTo>
                  <a:cubicBezTo>
                    <a:pt x="99859" y="185894"/>
                    <a:pt x="88136" y="177520"/>
                    <a:pt x="113257" y="185895"/>
                  </a:cubicBezTo>
                  <a:lnTo>
                    <a:pt x="118281" y="20096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 rot="7742400">
              <a:off x="6847920" y="1839240"/>
              <a:ext cx="268200" cy="74520"/>
            </a:xfrm>
            <a:custGeom>
              <a:avLst/>
              <a:gdLst/>
              <a:ahLst/>
              <a:rect l="l" t="t" r="r" b="b"/>
              <a:pathLst>
                <a:path w="336176" h="93360">
                  <a:moveTo>
                    <a:pt x="0" y="93360"/>
                  </a:moveTo>
                  <a:cubicBezTo>
                    <a:pt x="31376" y="79913"/>
                    <a:pt x="60390" y="58210"/>
                    <a:pt x="94129" y="53019"/>
                  </a:cubicBezTo>
                  <a:cubicBezTo>
                    <a:pt x="126514" y="48037"/>
                    <a:pt x="181322" y="68636"/>
                    <a:pt x="215152" y="79913"/>
                  </a:cubicBezTo>
                  <a:cubicBezTo>
                    <a:pt x="295066" y="0"/>
                    <a:pt x="250693" y="12678"/>
                    <a:pt x="336176" y="1267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 rot="7822800">
              <a:off x="5960520" y="1847520"/>
              <a:ext cx="225360" cy="104760"/>
            </a:xfrm>
            <a:custGeom>
              <a:avLst/>
              <a:gdLst/>
              <a:ahLst/>
              <a:rect l="l" t="t" r="r" b="b"/>
              <a:pathLst>
                <a:path w="281354" h="130629">
                  <a:moveTo>
                    <a:pt x="0" y="0"/>
                  </a:moveTo>
                  <a:cubicBezTo>
                    <a:pt x="5024" y="6699"/>
                    <a:pt x="12210" y="12228"/>
                    <a:pt x="15072" y="20097"/>
                  </a:cubicBezTo>
                  <a:cubicBezTo>
                    <a:pt x="19119" y="31226"/>
                    <a:pt x="14346" y="44914"/>
                    <a:pt x="20097" y="55266"/>
                  </a:cubicBezTo>
                  <a:cubicBezTo>
                    <a:pt x="23734" y="61813"/>
                    <a:pt x="33690" y="61598"/>
                    <a:pt x="40193" y="65314"/>
                  </a:cubicBezTo>
                  <a:cubicBezTo>
                    <a:pt x="45436" y="68310"/>
                    <a:pt x="49612" y="73243"/>
                    <a:pt x="55266" y="75363"/>
                  </a:cubicBezTo>
                  <a:cubicBezTo>
                    <a:pt x="63262" y="78361"/>
                    <a:pt x="72051" y="78535"/>
                    <a:pt x="80387" y="80387"/>
                  </a:cubicBezTo>
                  <a:cubicBezTo>
                    <a:pt x="115722" y="88239"/>
                    <a:pt x="86185" y="82044"/>
                    <a:pt x="115556" y="90435"/>
                  </a:cubicBezTo>
                  <a:cubicBezTo>
                    <a:pt x="159682" y="103042"/>
                    <a:pt x="114614" y="88445"/>
                    <a:pt x="150725" y="100484"/>
                  </a:cubicBezTo>
                  <a:cubicBezTo>
                    <a:pt x="154075" y="103833"/>
                    <a:pt x="157815" y="106833"/>
                    <a:pt x="160774" y="110532"/>
                  </a:cubicBezTo>
                  <a:cubicBezTo>
                    <a:pt x="164546" y="115247"/>
                    <a:pt x="166107" y="121833"/>
                    <a:pt x="170822" y="125605"/>
                  </a:cubicBezTo>
                  <a:cubicBezTo>
                    <a:pt x="174957" y="128913"/>
                    <a:pt x="180870" y="128954"/>
                    <a:pt x="185894" y="130629"/>
                  </a:cubicBezTo>
                  <a:cubicBezTo>
                    <a:pt x="194268" y="128954"/>
                    <a:pt x="203019" y="128603"/>
                    <a:pt x="211015" y="125605"/>
                  </a:cubicBezTo>
                  <a:cubicBezTo>
                    <a:pt x="216669" y="123485"/>
                    <a:pt x="220687" y="118257"/>
                    <a:pt x="226088" y="115556"/>
                  </a:cubicBezTo>
                  <a:cubicBezTo>
                    <a:pt x="230825" y="113188"/>
                    <a:pt x="236136" y="112207"/>
                    <a:pt x="241160" y="110532"/>
                  </a:cubicBezTo>
                  <a:cubicBezTo>
                    <a:pt x="249119" y="102574"/>
                    <a:pt x="253239" y="95459"/>
                    <a:pt x="266281" y="95459"/>
                  </a:cubicBezTo>
                  <a:cubicBezTo>
                    <a:pt x="271577" y="95459"/>
                    <a:pt x="281354" y="100484"/>
                    <a:pt x="281354" y="10048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 rot="5217600">
              <a:off x="6162120" y="1869840"/>
              <a:ext cx="93600" cy="160200"/>
            </a:xfrm>
            <a:custGeom>
              <a:avLst/>
              <a:gdLst/>
              <a:ahLst/>
              <a:rect l="l" t="t" r="r" b="b"/>
              <a:pathLst>
                <a:path w="118281" h="200967">
                  <a:moveTo>
                    <a:pt x="52967" y="0"/>
                  </a:moveTo>
                  <a:cubicBezTo>
                    <a:pt x="28381" y="8195"/>
                    <a:pt x="22182" y="7764"/>
                    <a:pt x="2725" y="40193"/>
                  </a:cubicBezTo>
                  <a:cubicBezTo>
                    <a:pt x="0" y="44734"/>
                    <a:pt x="3342" y="52328"/>
                    <a:pt x="7749" y="55266"/>
                  </a:cubicBezTo>
                  <a:cubicBezTo>
                    <a:pt x="14854" y="60003"/>
                    <a:pt x="24496" y="58615"/>
                    <a:pt x="32870" y="60290"/>
                  </a:cubicBezTo>
                  <a:cubicBezTo>
                    <a:pt x="39569" y="63640"/>
                    <a:pt x="46083" y="67389"/>
                    <a:pt x="52967" y="70339"/>
                  </a:cubicBezTo>
                  <a:cubicBezTo>
                    <a:pt x="57835" y="72425"/>
                    <a:pt x="66364" y="70339"/>
                    <a:pt x="68039" y="75363"/>
                  </a:cubicBezTo>
                  <a:cubicBezTo>
                    <a:pt x="71935" y="87051"/>
                    <a:pt x="57723" y="111068"/>
                    <a:pt x="52967" y="120580"/>
                  </a:cubicBezTo>
                  <a:cubicBezTo>
                    <a:pt x="56316" y="123930"/>
                    <a:pt x="58953" y="128192"/>
                    <a:pt x="63015" y="130629"/>
                  </a:cubicBezTo>
                  <a:cubicBezTo>
                    <a:pt x="67556" y="133354"/>
                    <a:pt x="73952" y="132345"/>
                    <a:pt x="78088" y="135653"/>
                  </a:cubicBezTo>
                  <a:cubicBezTo>
                    <a:pt x="82803" y="139425"/>
                    <a:pt x="84787" y="145701"/>
                    <a:pt x="88136" y="150725"/>
                  </a:cubicBezTo>
                  <a:cubicBezTo>
                    <a:pt x="99859" y="185894"/>
                    <a:pt x="88136" y="177520"/>
                    <a:pt x="113257" y="185895"/>
                  </a:cubicBezTo>
                  <a:lnTo>
                    <a:pt x="118281" y="20096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"/>
            <p:cNvSpPr/>
            <p:nvPr/>
          </p:nvSpPr>
          <p:spPr>
            <a:xfrm rot="10073400">
              <a:off x="6482880" y="1764360"/>
              <a:ext cx="269640" cy="75960"/>
            </a:xfrm>
            <a:custGeom>
              <a:avLst/>
              <a:gdLst/>
              <a:ahLst/>
              <a:rect l="l" t="t" r="r" b="b"/>
              <a:pathLst>
                <a:path w="336176" h="93360">
                  <a:moveTo>
                    <a:pt x="0" y="93360"/>
                  </a:moveTo>
                  <a:cubicBezTo>
                    <a:pt x="31376" y="79913"/>
                    <a:pt x="60390" y="58210"/>
                    <a:pt x="94129" y="53019"/>
                  </a:cubicBezTo>
                  <a:cubicBezTo>
                    <a:pt x="126514" y="48037"/>
                    <a:pt x="181322" y="68636"/>
                    <a:pt x="215152" y="79913"/>
                  </a:cubicBezTo>
                  <a:cubicBezTo>
                    <a:pt x="295066" y="0"/>
                    <a:pt x="250693" y="12678"/>
                    <a:pt x="336176" y="1267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>
              <a:off x="7613640" y="1768320"/>
              <a:ext cx="223560" cy="104760"/>
            </a:xfrm>
            <a:custGeom>
              <a:avLst/>
              <a:gdLst/>
              <a:ahLst/>
              <a:rect l="l" t="t" r="r" b="b"/>
              <a:pathLst>
                <a:path w="281354" h="130629">
                  <a:moveTo>
                    <a:pt x="0" y="0"/>
                  </a:moveTo>
                  <a:cubicBezTo>
                    <a:pt x="5024" y="6699"/>
                    <a:pt x="12210" y="12228"/>
                    <a:pt x="15072" y="20097"/>
                  </a:cubicBezTo>
                  <a:cubicBezTo>
                    <a:pt x="19119" y="31226"/>
                    <a:pt x="14346" y="44914"/>
                    <a:pt x="20097" y="55266"/>
                  </a:cubicBezTo>
                  <a:cubicBezTo>
                    <a:pt x="23734" y="61813"/>
                    <a:pt x="33690" y="61598"/>
                    <a:pt x="40193" y="65314"/>
                  </a:cubicBezTo>
                  <a:cubicBezTo>
                    <a:pt x="45436" y="68310"/>
                    <a:pt x="49612" y="73243"/>
                    <a:pt x="55266" y="75363"/>
                  </a:cubicBezTo>
                  <a:cubicBezTo>
                    <a:pt x="63262" y="78361"/>
                    <a:pt x="72051" y="78535"/>
                    <a:pt x="80387" y="80387"/>
                  </a:cubicBezTo>
                  <a:cubicBezTo>
                    <a:pt x="115722" y="88239"/>
                    <a:pt x="86185" y="82044"/>
                    <a:pt x="115556" y="90435"/>
                  </a:cubicBezTo>
                  <a:cubicBezTo>
                    <a:pt x="159682" y="103042"/>
                    <a:pt x="114614" y="88445"/>
                    <a:pt x="150725" y="100484"/>
                  </a:cubicBezTo>
                  <a:cubicBezTo>
                    <a:pt x="154075" y="103833"/>
                    <a:pt x="157815" y="106833"/>
                    <a:pt x="160774" y="110532"/>
                  </a:cubicBezTo>
                  <a:cubicBezTo>
                    <a:pt x="164546" y="115247"/>
                    <a:pt x="166107" y="121833"/>
                    <a:pt x="170822" y="125605"/>
                  </a:cubicBezTo>
                  <a:cubicBezTo>
                    <a:pt x="174957" y="128913"/>
                    <a:pt x="180870" y="128954"/>
                    <a:pt x="185894" y="130629"/>
                  </a:cubicBezTo>
                  <a:cubicBezTo>
                    <a:pt x="194268" y="128954"/>
                    <a:pt x="203019" y="128603"/>
                    <a:pt x="211015" y="125605"/>
                  </a:cubicBezTo>
                  <a:cubicBezTo>
                    <a:pt x="216669" y="123485"/>
                    <a:pt x="220687" y="118257"/>
                    <a:pt x="226088" y="115556"/>
                  </a:cubicBezTo>
                  <a:cubicBezTo>
                    <a:pt x="230825" y="113188"/>
                    <a:pt x="236136" y="112207"/>
                    <a:pt x="241160" y="110532"/>
                  </a:cubicBezTo>
                  <a:cubicBezTo>
                    <a:pt x="249119" y="102574"/>
                    <a:pt x="253239" y="95459"/>
                    <a:pt x="266281" y="95459"/>
                  </a:cubicBezTo>
                  <a:cubicBezTo>
                    <a:pt x="271577" y="95459"/>
                    <a:pt x="281354" y="100484"/>
                    <a:pt x="281354" y="10048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 rot="17608200">
              <a:off x="7794360" y="1873080"/>
              <a:ext cx="93600" cy="160200"/>
            </a:xfrm>
            <a:custGeom>
              <a:avLst/>
              <a:gdLst/>
              <a:ahLst/>
              <a:rect l="l" t="t" r="r" b="b"/>
              <a:pathLst>
                <a:path w="118281" h="200967">
                  <a:moveTo>
                    <a:pt x="52967" y="0"/>
                  </a:moveTo>
                  <a:cubicBezTo>
                    <a:pt x="28381" y="8195"/>
                    <a:pt x="22182" y="7764"/>
                    <a:pt x="2725" y="40193"/>
                  </a:cubicBezTo>
                  <a:cubicBezTo>
                    <a:pt x="0" y="44734"/>
                    <a:pt x="3342" y="52328"/>
                    <a:pt x="7749" y="55266"/>
                  </a:cubicBezTo>
                  <a:cubicBezTo>
                    <a:pt x="14854" y="60003"/>
                    <a:pt x="24496" y="58615"/>
                    <a:pt x="32870" y="60290"/>
                  </a:cubicBezTo>
                  <a:cubicBezTo>
                    <a:pt x="39569" y="63640"/>
                    <a:pt x="46083" y="67389"/>
                    <a:pt x="52967" y="70339"/>
                  </a:cubicBezTo>
                  <a:cubicBezTo>
                    <a:pt x="57835" y="72425"/>
                    <a:pt x="66364" y="70339"/>
                    <a:pt x="68039" y="75363"/>
                  </a:cubicBezTo>
                  <a:cubicBezTo>
                    <a:pt x="71935" y="87051"/>
                    <a:pt x="57723" y="111068"/>
                    <a:pt x="52967" y="120580"/>
                  </a:cubicBezTo>
                  <a:cubicBezTo>
                    <a:pt x="56316" y="123930"/>
                    <a:pt x="58953" y="128192"/>
                    <a:pt x="63015" y="130629"/>
                  </a:cubicBezTo>
                  <a:cubicBezTo>
                    <a:pt x="67556" y="133354"/>
                    <a:pt x="73952" y="132345"/>
                    <a:pt x="78088" y="135653"/>
                  </a:cubicBezTo>
                  <a:cubicBezTo>
                    <a:pt x="82803" y="139425"/>
                    <a:pt x="84787" y="145701"/>
                    <a:pt x="88136" y="150725"/>
                  </a:cubicBezTo>
                  <a:cubicBezTo>
                    <a:pt x="99859" y="185894"/>
                    <a:pt x="88136" y="177520"/>
                    <a:pt x="113257" y="185895"/>
                  </a:cubicBezTo>
                  <a:lnTo>
                    <a:pt x="118281" y="20096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 rot="10800000">
              <a:off x="7229160" y="1925280"/>
              <a:ext cx="268200" cy="74520"/>
            </a:xfrm>
            <a:custGeom>
              <a:avLst/>
              <a:gdLst/>
              <a:ahLst/>
              <a:rect l="l" t="t" r="r" b="b"/>
              <a:pathLst>
                <a:path w="336176" h="93360">
                  <a:moveTo>
                    <a:pt x="0" y="93360"/>
                  </a:moveTo>
                  <a:cubicBezTo>
                    <a:pt x="31376" y="79913"/>
                    <a:pt x="60390" y="58210"/>
                    <a:pt x="94129" y="53019"/>
                  </a:cubicBezTo>
                  <a:cubicBezTo>
                    <a:pt x="126514" y="48037"/>
                    <a:pt x="181322" y="68636"/>
                    <a:pt x="215152" y="79913"/>
                  </a:cubicBezTo>
                  <a:cubicBezTo>
                    <a:pt x="295066" y="0"/>
                    <a:pt x="250693" y="12678"/>
                    <a:pt x="336176" y="1267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 rot="7822800">
              <a:off x="7345080" y="1784160"/>
              <a:ext cx="225360" cy="104760"/>
            </a:xfrm>
            <a:custGeom>
              <a:avLst/>
              <a:gdLst/>
              <a:ahLst/>
              <a:rect l="l" t="t" r="r" b="b"/>
              <a:pathLst>
                <a:path w="281354" h="130629">
                  <a:moveTo>
                    <a:pt x="0" y="0"/>
                  </a:moveTo>
                  <a:cubicBezTo>
                    <a:pt x="5024" y="6699"/>
                    <a:pt x="12210" y="12228"/>
                    <a:pt x="15072" y="20097"/>
                  </a:cubicBezTo>
                  <a:cubicBezTo>
                    <a:pt x="19119" y="31226"/>
                    <a:pt x="14346" y="44914"/>
                    <a:pt x="20097" y="55266"/>
                  </a:cubicBezTo>
                  <a:cubicBezTo>
                    <a:pt x="23734" y="61813"/>
                    <a:pt x="33690" y="61598"/>
                    <a:pt x="40193" y="65314"/>
                  </a:cubicBezTo>
                  <a:cubicBezTo>
                    <a:pt x="45436" y="68310"/>
                    <a:pt x="49612" y="73243"/>
                    <a:pt x="55266" y="75363"/>
                  </a:cubicBezTo>
                  <a:cubicBezTo>
                    <a:pt x="63262" y="78361"/>
                    <a:pt x="72051" y="78535"/>
                    <a:pt x="80387" y="80387"/>
                  </a:cubicBezTo>
                  <a:cubicBezTo>
                    <a:pt x="115722" y="88239"/>
                    <a:pt x="86185" y="82044"/>
                    <a:pt x="115556" y="90435"/>
                  </a:cubicBezTo>
                  <a:cubicBezTo>
                    <a:pt x="159682" y="103042"/>
                    <a:pt x="114614" y="88445"/>
                    <a:pt x="150725" y="100484"/>
                  </a:cubicBezTo>
                  <a:cubicBezTo>
                    <a:pt x="154075" y="103833"/>
                    <a:pt x="157815" y="106833"/>
                    <a:pt x="160774" y="110532"/>
                  </a:cubicBezTo>
                  <a:cubicBezTo>
                    <a:pt x="164546" y="115247"/>
                    <a:pt x="166107" y="121833"/>
                    <a:pt x="170822" y="125605"/>
                  </a:cubicBezTo>
                  <a:cubicBezTo>
                    <a:pt x="174957" y="128913"/>
                    <a:pt x="180870" y="128954"/>
                    <a:pt x="185894" y="130629"/>
                  </a:cubicBezTo>
                  <a:cubicBezTo>
                    <a:pt x="194268" y="128954"/>
                    <a:pt x="203019" y="128603"/>
                    <a:pt x="211015" y="125605"/>
                  </a:cubicBezTo>
                  <a:cubicBezTo>
                    <a:pt x="216669" y="123485"/>
                    <a:pt x="220687" y="118257"/>
                    <a:pt x="226088" y="115556"/>
                  </a:cubicBezTo>
                  <a:cubicBezTo>
                    <a:pt x="230825" y="113188"/>
                    <a:pt x="236136" y="112207"/>
                    <a:pt x="241160" y="110532"/>
                  </a:cubicBezTo>
                  <a:cubicBezTo>
                    <a:pt x="249119" y="102574"/>
                    <a:pt x="253239" y="95459"/>
                    <a:pt x="266281" y="95459"/>
                  </a:cubicBezTo>
                  <a:cubicBezTo>
                    <a:pt x="271577" y="95459"/>
                    <a:pt x="281354" y="100484"/>
                    <a:pt x="281354" y="10048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 rot="5217600">
              <a:off x="7191720" y="1759320"/>
              <a:ext cx="95040" cy="160200"/>
            </a:xfrm>
            <a:custGeom>
              <a:avLst/>
              <a:gdLst/>
              <a:ahLst/>
              <a:rect l="l" t="t" r="r" b="b"/>
              <a:pathLst>
                <a:path w="118281" h="200967">
                  <a:moveTo>
                    <a:pt x="52967" y="0"/>
                  </a:moveTo>
                  <a:cubicBezTo>
                    <a:pt x="28381" y="8195"/>
                    <a:pt x="22182" y="7764"/>
                    <a:pt x="2725" y="40193"/>
                  </a:cubicBezTo>
                  <a:cubicBezTo>
                    <a:pt x="0" y="44734"/>
                    <a:pt x="3342" y="52328"/>
                    <a:pt x="7749" y="55266"/>
                  </a:cubicBezTo>
                  <a:cubicBezTo>
                    <a:pt x="14854" y="60003"/>
                    <a:pt x="24496" y="58615"/>
                    <a:pt x="32870" y="60290"/>
                  </a:cubicBezTo>
                  <a:cubicBezTo>
                    <a:pt x="39569" y="63640"/>
                    <a:pt x="46083" y="67389"/>
                    <a:pt x="52967" y="70339"/>
                  </a:cubicBezTo>
                  <a:cubicBezTo>
                    <a:pt x="57835" y="72425"/>
                    <a:pt x="66364" y="70339"/>
                    <a:pt x="68039" y="75363"/>
                  </a:cubicBezTo>
                  <a:cubicBezTo>
                    <a:pt x="71935" y="87051"/>
                    <a:pt x="57723" y="111068"/>
                    <a:pt x="52967" y="120580"/>
                  </a:cubicBezTo>
                  <a:cubicBezTo>
                    <a:pt x="56316" y="123930"/>
                    <a:pt x="58953" y="128192"/>
                    <a:pt x="63015" y="130629"/>
                  </a:cubicBezTo>
                  <a:cubicBezTo>
                    <a:pt x="67556" y="133354"/>
                    <a:pt x="73952" y="132345"/>
                    <a:pt x="78088" y="135653"/>
                  </a:cubicBezTo>
                  <a:cubicBezTo>
                    <a:pt x="82803" y="139425"/>
                    <a:pt x="84787" y="145701"/>
                    <a:pt x="88136" y="150725"/>
                  </a:cubicBezTo>
                  <a:cubicBezTo>
                    <a:pt x="99859" y="185894"/>
                    <a:pt x="88136" y="177520"/>
                    <a:pt x="113257" y="185895"/>
                  </a:cubicBezTo>
                  <a:lnTo>
                    <a:pt x="118281" y="20096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 rot="5906400">
              <a:off x="5653800" y="1879560"/>
              <a:ext cx="93600" cy="160200"/>
            </a:xfrm>
            <a:custGeom>
              <a:avLst/>
              <a:gdLst/>
              <a:ahLst/>
              <a:rect l="l" t="t" r="r" b="b"/>
              <a:pathLst>
                <a:path w="118281" h="200967">
                  <a:moveTo>
                    <a:pt x="52967" y="0"/>
                  </a:moveTo>
                  <a:cubicBezTo>
                    <a:pt x="28381" y="8195"/>
                    <a:pt x="22182" y="7764"/>
                    <a:pt x="2725" y="40193"/>
                  </a:cubicBezTo>
                  <a:cubicBezTo>
                    <a:pt x="0" y="44734"/>
                    <a:pt x="3342" y="52328"/>
                    <a:pt x="7749" y="55266"/>
                  </a:cubicBezTo>
                  <a:cubicBezTo>
                    <a:pt x="14854" y="60003"/>
                    <a:pt x="24496" y="58615"/>
                    <a:pt x="32870" y="60290"/>
                  </a:cubicBezTo>
                  <a:cubicBezTo>
                    <a:pt x="39569" y="63640"/>
                    <a:pt x="46083" y="67389"/>
                    <a:pt x="52967" y="70339"/>
                  </a:cubicBezTo>
                  <a:cubicBezTo>
                    <a:pt x="57835" y="72425"/>
                    <a:pt x="66364" y="70339"/>
                    <a:pt x="68039" y="75363"/>
                  </a:cubicBezTo>
                  <a:cubicBezTo>
                    <a:pt x="71935" y="87051"/>
                    <a:pt x="57723" y="111068"/>
                    <a:pt x="52967" y="120580"/>
                  </a:cubicBezTo>
                  <a:cubicBezTo>
                    <a:pt x="56316" y="123930"/>
                    <a:pt x="58953" y="128192"/>
                    <a:pt x="63015" y="130629"/>
                  </a:cubicBezTo>
                  <a:cubicBezTo>
                    <a:pt x="67556" y="133354"/>
                    <a:pt x="73952" y="132345"/>
                    <a:pt x="78088" y="135653"/>
                  </a:cubicBezTo>
                  <a:cubicBezTo>
                    <a:pt x="82803" y="139425"/>
                    <a:pt x="84787" y="145701"/>
                    <a:pt x="88136" y="150725"/>
                  </a:cubicBezTo>
                  <a:cubicBezTo>
                    <a:pt x="99859" y="185894"/>
                    <a:pt x="88136" y="177520"/>
                    <a:pt x="113257" y="185895"/>
                  </a:cubicBezTo>
                  <a:lnTo>
                    <a:pt x="118281" y="20096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8"/>
          <p:cNvGrpSpPr/>
          <p:nvPr/>
        </p:nvGrpSpPr>
        <p:grpSpPr>
          <a:xfrm>
            <a:off x="1397880" y="3029040"/>
            <a:ext cx="1677240" cy="612720"/>
            <a:chOff x="1397880" y="3029040"/>
            <a:chExt cx="1677240" cy="612720"/>
          </a:xfrm>
        </p:grpSpPr>
        <p:grpSp>
          <p:nvGrpSpPr>
            <p:cNvPr id="97" name="Group 59"/>
            <p:cNvGrpSpPr/>
            <p:nvPr/>
          </p:nvGrpSpPr>
          <p:grpSpPr>
            <a:xfrm>
              <a:off x="1500120" y="3273480"/>
              <a:ext cx="1479600" cy="368280"/>
              <a:chOff x="1500120" y="3273480"/>
              <a:chExt cx="1479600" cy="368280"/>
            </a:xfrm>
          </p:grpSpPr>
          <p:sp>
            <p:nvSpPr>
              <p:cNvPr id="98" name="Oval 53"/>
              <p:cNvSpPr/>
              <p:nvPr/>
            </p:nvSpPr>
            <p:spPr>
              <a:xfrm>
                <a:off x="1500120" y="336384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54"/>
              <p:cNvSpPr/>
              <p:nvPr/>
            </p:nvSpPr>
            <p:spPr>
              <a:xfrm>
                <a:off x="1977840" y="3363840"/>
                <a:ext cx="115920" cy="11412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55"/>
              <p:cNvSpPr/>
              <p:nvPr/>
            </p:nvSpPr>
            <p:spPr>
              <a:xfrm>
                <a:off x="2863800" y="3363840"/>
                <a:ext cx="115920" cy="114120"/>
              </a:xfrm>
              <a:prstGeom prst="ellipse">
                <a:avLst/>
              </a:prstGeom>
              <a:solidFill>
                <a:srgbClr val="009900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56"/>
              <p:cNvSpPr/>
              <p:nvPr/>
            </p:nvSpPr>
            <p:spPr>
              <a:xfrm>
                <a:off x="1648440" y="32734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" name="Straight Arrow Connector 58"/>
              <p:cNvCxnSpPr/>
              <p:nvPr/>
            </p:nvCxnSpPr>
            <p:spPr>
              <a:xfrm>
                <a:off x="2257560" y="3420720"/>
                <a:ext cx="459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103" name="TextBox 81"/>
            <p:cNvSpPr/>
            <p:nvPr/>
          </p:nvSpPr>
          <p:spPr>
            <a:xfrm>
              <a:off x="1397880" y="3029040"/>
              <a:ext cx="167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mical Re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07"/>
          <p:cNvGrpSpPr/>
          <p:nvPr/>
        </p:nvGrpSpPr>
        <p:grpSpPr>
          <a:xfrm>
            <a:off x="1028880" y="1459080"/>
            <a:ext cx="2390760" cy="1150920"/>
            <a:chOff x="1028880" y="1459080"/>
            <a:chExt cx="2390760" cy="1150920"/>
          </a:xfrm>
        </p:grpSpPr>
        <p:grpSp>
          <p:nvGrpSpPr>
            <p:cNvPr id="105" name="Group 62"/>
            <p:cNvGrpSpPr/>
            <p:nvPr/>
          </p:nvGrpSpPr>
          <p:grpSpPr>
            <a:xfrm>
              <a:off x="1028880" y="1886040"/>
              <a:ext cx="2390760" cy="723960"/>
              <a:chOff x="1028880" y="1886040"/>
              <a:chExt cx="2390760" cy="7239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1028880" y="2033640"/>
                <a:ext cx="2390760" cy="576360"/>
              </a:xfrm>
              <a:prstGeom prst="rect">
                <a:avLst/>
              </a:prstGeom>
              <a:solidFill>
                <a:srgbClr val="bfbfb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ubstr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37"/>
              <p:cNvSpPr/>
              <p:nvPr/>
            </p:nvSpPr>
            <p:spPr>
              <a:xfrm>
                <a:off x="103968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38"/>
              <p:cNvSpPr/>
              <p:nvPr/>
            </p:nvSpPr>
            <p:spPr>
              <a:xfrm>
                <a:off x="1189080" y="1886040"/>
                <a:ext cx="11412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39"/>
              <p:cNvSpPr/>
              <p:nvPr/>
            </p:nvSpPr>
            <p:spPr>
              <a:xfrm>
                <a:off x="133668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40"/>
              <p:cNvSpPr/>
              <p:nvPr/>
            </p:nvSpPr>
            <p:spPr>
              <a:xfrm>
                <a:off x="148428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41"/>
              <p:cNvSpPr/>
              <p:nvPr/>
            </p:nvSpPr>
            <p:spPr>
              <a:xfrm>
                <a:off x="163188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42"/>
              <p:cNvSpPr/>
              <p:nvPr/>
            </p:nvSpPr>
            <p:spPr>
              <a:xfrm>
                <a:off x="1781280" y="1886040"/>
                <a:ext cx="11412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3"/>
              <p:cNvSpPr/>
              <p:nvPr/>
            </p:nvSpPr>
            <p:spPr>
              <a:xfrm>
                <a:off x="192888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44"/>
              <p:cNvSpPr/>
              <p:nvPr/>
            </p:nvSpPr>
            <p:spPr>
              <a:xfrm>
                <a:off x="207648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45"/>
              <p:cNvSpPr/>
              <p:nvPr/>
            </p:nvSpPr>
            <p:spPr>
              <a:xfrm>
                <a:off x="222444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46"/>
              <p:cNvSpPr/>
              <p:nvPr/>
            </p:nvSpPr>
            <p:spPr>
              <a:xfrm>
                <a:off x="2373480" y="1886040"/>
                <a:ext cx="11412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47"/>
              <p:cNvSpPr/>
              <p:nvPr/>
            </p:nvSpPr>
            <p:spPr>
              <a:xfrm>
                <a:off x="2521080" y="1886040"/>
                <a:ext cx="11412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48"/>
              <p:cNvSpPr/>
              <p:nvPr/>
            </p:nvSpPr>
            <p:spPr>
              <a:xfrm>
                <a:off x="266868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49"/>
              <p:cNvSpPr/>
              <p:nvPr/>
            </p:nvSpPr>
            <p:spPr>
              <a:xfrm>
                <a:off x="281664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50"/>
              <p:cNvSpPr/>
              <p:nvPr/>
            </p:nvSpPr>
            <p:spPr>
              <a:xfrm>
                <a:off x="2965680" y="1886040"/>
                <a:ext cx="11412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51"/>
              <p:cNvSpPr/>
              <p:nvPr/>
            </p:nvSpPr>
            <p:spPr>
              <a:xfrm>
                <a:off x="3113280" y="1886040"/>
                <a:ext cx="11412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52"/>
              <p:cNvSpPr/>
              <p:nvPr/>
            </p:nvSpPr>
            <p:spPr>
              <a:xfrm>
                <a:off x="3260880" y="1886040"/>
                <a:ext cx="115560" cy="1159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Oval 60"/>
            <p:cNvSpPr/>
            <p:nvPr/>
          </p:nvSpPr>
          <p:spPr>
            <a:xfrm>
              <a:off x="1757520" y="1459080"/>
              <a:ext cx="114120" cy="1159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Straight Arrow Connector 82"/>
            <p:cNvCxnSpPr>
              <a:stCxn id="123" idx="5"/>
              <a:endCxn id="114" idx="1"/>
            </p:cNvCxnSpPr>
            <p:nvPr/>
          </p:nvCxnSpPr>
          <p:spPr>
            <a:xfrm>
              <a:off x="1854720" y="1557000"/>
              <a:ext cx="238680" cy="3466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ash"/>
              <a:miter/>
              <a:tailEnd len="med" type="arrow" w="med"/>
            </a:ln>
          </p:spPr>
        </p:cxnSp>
      </p:grpSp>
      <p:grpSp>
        <p:nvGrpSpPr>
          <p:cNvPr id="125" name="Group 89"/>
          <p:cNvGrpSpPr/>
          <p:nvPr/>
        </p:nvGrpSpPr>
        <p:grpSpPr>
          <a:xfrm>
            <a:off x="1028880" y="3754440"/>
            <a:ext cx="2390760" cy="723960"/>
            <a:chOff x="1028880" y="3754440"/>
            <a:chExt cx="2390760" cy="723960"/>
          </a:xfrm>
        </p:grpSpPr>
        <p:sp>
          <p:nvSpPr>
            <p:cNvPr id="126" name="Rectangle 90"/>
            <p:cNvSpPr/>
            <p:nvPr/>
          </p:nvSpPr>
          <p:spPr>
            <a:xfrm>
              <a:off x="1028880" y="3902040"/>
              <a:ext cx="2390760" cy="576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91"/>
            <p:cNvSpPr/>
            <p:nvPr/>
          </p:nvSpPr>
          <p:spPr>
            <a:xfrm>
              <a:off x="1039680" y="3754440"/>
              <a:ext cx="11556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92"/>
            <p:cNvSpPr/>
            <p:nvPr/>
          </p:nvSpPr>
          <p:spPr>
            <a:xfrm>
              <a:off x="1189080" y="3754440"/>
              <a:ext cx="11412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3"/>
            <p:cNvSpPr/>
            <p:nvPr/>
          </p:nvSpPr>
          <p:spPr>
            <a:xfrm>
              <a:off x="1336680" y="3754440"/>
              <a:ext cx="11556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4"/>
            <p:cNvSpPr/>
            <p:nvPr/>
          </p:nvSpPr>
          <p:spPr>
            <a:xfrm>
              <a:off x="1484280" y="3754440"/>
              <a:ext cx="11556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5"/>
            <p:cNvSpPr/>
            <p:nvPr/>
          </p:nvSpPr>
          <p:spPr>
            <a:xfrm>
              <a:off x="1631880" y="3754440"/>
              <a:ext cx="11556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6"/>
            <p:cNvSpPr/>
            <p:nvPr/>
          </p:nvSpPr>
          <p:spPr>
            <a:xfrm>
              <a:off x="1781280" y="3754440"/>
              <a:ext cx="11412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7"/>
            <p:cNvSpPr/>
            <p:nvPr/>
          </p:nvSpPr>
          <p:spPr>
            <a:xfrm>
              <a:off x="1928880" y="3754440"/>
              <a:ext cx="11556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8"/>
            <p:cNvSpPr/>
            <p:nvPr/>
          </p:nvSpPr>
          <p:spPr>
            <a:xfrm>
              <a:off x="2076480" y="3754440"/>
              <a:ext cx="115560" cy="11592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9"/>
            <p:cNvSpPr/>
            <p:nvPr/>
          </p:nvSpPr>
          <p:spPr>
            <a:xfrm>
              <a:off x="2224440" y="3754440"/>
              <a:ext cx="11556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00"/>
            <p:cNvSpPr/>
            <p:nvPr/>
          </p:nvSpPr>
          <p:spPr>
            <a:xfrm>
              <a:off x="2373480" y="3754440"/>
              <a:ext cx="11412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01"/>
            <p:cNvSpPr/>
            <p:nvPr/>
          </p:nvSpPr>
          <p:spPr>
            <a:xfrm>
              <a:off x="2521080" y="3754440"/>
              <a:ext cx="11412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02"/>
            <p:cNvSpPr/>
            <p:nvPr/>
          </p:nvSpPr>
          <p:spPr>
            <a:xfrm>
              <a:off x="2668680" y="3754440"/>
              <a:ext cx="11556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3"/>
            <p:cNvSpPr/>
            <p:nvPr/>
          </p:nvSpPr>
          <p:spPr>
            <a:xfrm>
              <a:off x="2816640" y="3754440"/>
              <a:ext cx="11556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4"/>
            <p:cNvSpPr/>
            <p:nvPr/>
          </p:nvSpPr>
          <p:spPr>
            <a:xfrm>
              <a:off x="2965680" y="3754440"/>
              <a:ext cx="11412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5"/>
            <p:cNvSpPr/>
            <p:nvPr/>
          </p:nvSpPr>
          <p:spPr>
            <a:xfrm>
              <a:off x="3113280" y="3754440"/>
              <a:ext cx="11412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6"/>
            <p:cNvSpPr/>
            <p:nvPr/>
          </p:nvSpPr>
          <p:spPr>
            <a:xfrm>
              <a:off x="3260880" y="3754440"/>
              <a:ext cx="115560" cy="115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3"/>
          <p:cNvGrpSpPr/>
          <p:nvPr/>
        </p:nvGrpSpPr>
        <p:grpSpPr>
          <a:xfrm>
            <a:off x="1028880" y="5288760"/>
            <a:ext cx="2390760" cy="1058040"/>
            <a:chOff x="1028880" y="5288760"/>
            <a:chExt cx="2390760" cy="1058040"/>
          </a:xfrm>
        </p:grpSpPr>
        <p:grpSp>
          <p:nvGrpSpPr>
            <p:cNvPr id="144" name="Group 63"/>
            <p:cNvGrpSpPr/>
            <p:nvPr/>
          </p:nvGrpSpPr>
          <p:grpSpPr>
            <a:xfrm>
              <a:off x="1028880" y="5623920"/>
              <a:ext cx="2390760" cy="722880"/>
              <a:chOff x="1028880" y="5623920"/>
              <a:chExt cx="2390760" cy="722880"/>
            </a:xfrm>
          </p:grpSpPr>
          <p:sp>
            <p:nvSpPr>
              <p:cNvPr id="145" name="Rectangle 64"/>
              <p:cNvSpPr/>
              <p:nvPr/>
            </p:nvSpPr>
            <p:spPr>
              <a:xfrm>
                <a:off x="1028880" y="5771520"/>
                <a:ext cx="2390760" cy="575280"/>
              </a:xfrm>
              <a:prstGeom prst="rect">
                <a:avLst/>
              </a:prstGeom>
              <a:solidFill>
                <a:srgbClr val="bfbfb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65"/>
              <p:cNvSpPr/>
              <p:nvPr/>
            </p:nvSpPr>
            <p:spPr>
              <a:xfrm>
                <a:off x="1039680" y="562392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66"/>
              <p:cNvSpPr/>
              <p:nvPr/>
            </p:nvSpPr>
            <p:spPr>
              <a:xfrm>
                <a:off x="1189080" y="562392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67"/>
              <p:cNvSpPr/>
              <p:nvPr/>
            </p:nvSpPr>
            <p:spPr>
              <a:xfrm>
                <a:off x="1336680" y="562392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68"/>
              <p:cNvSpPr/>
              <p:nvPr/>
            </p:nvSpPr>
            <p:spPr>
              <a:xfrm>
                <a:off x="1484280" y="562392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69"/>
              <p:cNvSpPr/>
              <p:nvPr/>
            </p:nvSpPr>
            <p:spPr>
              <a:xfrm>
                <a:off x="1631880" y="562392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0"/>
              <p:cNvSpPr/>
              <p:nvPr/>
            </p:nvSpPr>
            <p:spPr>
              <a:xfrm>
                <a:off x="1781280" y="562392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1"/>
              <p:cNvSpPr/>
              <p:nvPr/>
            </p:nvSpPr>
            <p:spPr>
              <a:xfrm>
                <a:off x="1928880" y="562392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3"/>
              <p:cNvSpPr/>
              <p:nvPr/>
            </p:nvSpPr>
            <p:spPr>
              <a:xfrm>
                <a:off x="2224440" y="562392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4"/>
              <p:cNvSpPr/>
              <p:nvPr/>
            </p:nvSpPr>
            <p:spPr>
              <a:xfrm>
                <a:off x="2373480" y="562392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5"/>
              <p:cNvSpPr/>
              <p:nvPr/>
            </p:nvSpPr>
            <p:spPr>
              <a:xfrm>
                <a:off x="2521080" y="562392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6"/>
              <p:cNvSpPr/>
              <p:nvPr/>
            </p:nvSpPr>
            <p:spPr>
              <a:xfrm>
                <a:off x="2668680" y="562392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7"/>
              <p:cNvSpPr/>
              <p:nvPr/>
            </p:nvSpPr>
            <p:spPr>
              <a:xfrm>
                <a:off x="2816640" y="562392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8"/>
              <p:cNvSpPr/>
              <p:nvPr/>
            </p:nvSpPr>
            <p:spPr>
              <a:xfrm>
                <a:off x="2965680" y="562392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79"/>
              <p:cNvSpPr/>
              <p:nvPr/>
            </p:nvSpPr>
            <p:spPr>
              <a:xfrm>
                <a:off x="3113280" y="5623920"/>
                <a:ext cx="11412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80"/>
              <p:cNvSpPr/>
              <p:nvPr/>
            </p:nvSpPr>
            <p:spPr>
              <a:xfrm>
                <a:off x="3260880" y="5623920"/>
                <a:ext cx="115560" cy="1141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Oval 109"/>
            <p:cNvSpPr/>
            <p:nvPr/>
          </p:nvSpPr>
          <p:spPr>
            <a:xfrm>
              <a:off x="2125800" y="5414760"/>
              <a:ext cx="114120" cy="11592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Straight Arrow Connector 110"/>
            <p:cNvCxnSpPr>
              <a:stCxn id="161" idx="7"/>
            </p:cNvCxnSpPr>
            <p:nvPr/>
          </p:nvCxnSpPr>
          <p:spPr>
            <a:xfrm flipV="1">
              <a:off x="2223000" y="5288760"/>
              <a:ext cx="168840" cy="1436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ash"/>
              <a:miter/>
              <a:tailEnd len="med" type="arrow" w="med"/>
            </a:ln>
          </p:spPr>
        </p:cxnSp>
      </p:grpSp>
      <p:grpSp>
        <p:nvGrpSpPr>
          <p:cNvPr id="163" name="Group 124"/>
          <p:cNvGrpSpPr/>
          <p:nvPr/>
        </p:nvGrpSpPr>
        <p:grpSpPr>
          <a:xfrm>
            <a:off x="5541120" y="2987640"/>
            <a:ext cx="2405880" cy="1490760"/>
            <a:chOff x="5541120" y="2987640"/>
            <a:chExt cx="2405880" cy="1490760"/>
          </a:xfrm>
        </p:grpSpPr>
        <p:grpSp>
          <p:nvGrpSpPr>
            <p:cNvPr id="164" name="Group 20"/>
            <p:cNvGrpSpPr/>
            <p:nvPr/>
          </p:nvGrpSpPr>
          <p:grpSpPr>
            <a:xfrm>
              <a:off x="5556240" y="3247200"/>
              <a:ext cx="2390760" cy="1231200"/>
              <a:chOff x="5556240" y="3247200"/>
              <a:chExt cx="2390760" cy="1231200"/>
            </a:xfrm>
          </p:grpSpPr>
          <p:sp>
            <p:nvSpPr>
              <p:cNvPr id="165" name="Rectangle 21"/>
              <p:cNvSpPr/>
              <p:nvPr/>
            </p:nvSpPr>
            <p:spPr>
              <a:xfrm>
                <a:off x="5556240" y="3902040"/>
                <a:ext cx="2390760" cy="576360"/>
              </a:xfrm>
              <a:prstGeom prst="rect">
                <a:avLst/>
              </a:prstGeom>
              <a:solidFill>
                <a:srgbClr val="bfbfb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22"/>
              <p:cNvSpPr/>
              <p:nvPr/>
            </p:nvSpPr>
            <p:spPr>
              <a:xfrm>
                <a:off x="5556240" y="3736800"/>
                <a:ext cx="2390760" cy="144360"/>
              </a:xfrm>
              <a:prstGeom prst="rect">
                <a:avLst/>
              </a:prstGeom>
              <a:solidFill>
                <a:srgbClr val="ffcccc"/>
              </a:solidFill>
              <a:ln w="255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3"/>
              <p:cNvSpPr/>
              <p:nvPr/>
            </p:nvSpPr>
            <p:spPr>
              <a:xfrm>
                <a:off x="5671800" y="3295440"/>
                <a:ext cx="269640" cy="75960"/>
              </a:xfrm>
              <a:custGeom>
                <a:avLst/>
                <a:gdLst/>
                <a:ahLst/>
                <a:rect l="l" t="t" r="r" b="b"/>
                <a:pathLst>
                  <a:path w="336176" h="93360">
                    <a:moveTo>
                      <a:pt x="0" y="93360"/>
                    </a:moveTo>
                    <a:cubicBezTo>
                      <a:pt x="31376" y="79913"/>
                      <a:pt x="60390" y="58210"/>
                      <a:pt x="94129" y="53019"/>
                    </a:cubicBezTo>
                    <a:cubicBezTo>
                      <a:pt x="126514" y="48037"/>
                      <a:pt x="181322" y="68636"/>
                      <a:pt x="215152" y="79913"/>
                    </a:cubicBezTo>
                    <a:cubicBezTo>
                      <a:pt x="295066" y="0"/>
                      <a:pt x="250693" y="12678"/>
                      <a:pt x="336176" y="12678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4"/>
              <p:cNvSpPr/>
              <p:nvPr/>
            </p:nvSpPr>
            <p:spPr>
              <a:xfrm>
                <a:off x="6092640" y="3358800"/>
                <a:ext cx="225360" cy="104760"/>
              </a:xfrm>
              <a:custGeom>
                <a:avLst/>
                <a:gdLst/>
                <a:ahLst/>
                <a:rect l="l" t="t" r="r" b="b"/>
                <a:pathLst>
                  <a:path w="281354" h="130629">
                    <a:moveTo>
                      <a:pt x="0" y="0"/>
                    </a:moveTo>
                    <a:cubicBezTo>
                      <a:pt x="5024" y="6699"/>
                      <a:pt x="12210" y="12228"/>
                      <a:pt x="15072" y="20097"/>
                    </a:cubicBezTo>
                    <a:cubicBezTo>
                      <a:pt x="19119" y="31226"/>
                      <a:pt x="14346" y="44914"/>
                      <a:pt x="20097" y="55266"/>
                    </a:cubicBezTo>
                    <a:cubicBezTo>
                      <a:pt x="23734" y="61813"/>
                      <a:pt x="33690" y="61598"/>
                      <a:pt x="40193" y="65314"/>
                    </a:cubicBezTo>
                    <a:cubicBezTo>
                      <a:pt x="45436" y="68310"/>
                      <a:pt x="49612" y="73243"/>
                      <a:pt x="55266" y="75363"/>
                    </a:cubicBezTo>
                    <a:cubicBezTo>
                      <a:pt x="63262" y="78361"/>
                      <a:pt x="72051" y="78535"/>
                      <a:pt x="80387" y="80387"/>
                    </a:cubicBezTo>
                    <a:cubicBezTo>
                      <a:pt x="115722" y="88239"/>
                      <a:pt x="86185" y="82044"/>
                      <a:pt x="115556" y="90435"/>
                    </a:cubicBezTo>
                    <a:cubicBezTo>
                      <a:pt x="159682" y="103042"/>
                      <a:pt x="114614" y="88445"/>
                      <a:pt x="150725" y="100484"/>
                    </a:cubicBezTo>
                    <a:cubicBezTo>
                      <a:pt x="154075" y="103833"/>
                      <a:pt x="157815" y="106833"/>
                      <a:pt x="160774" y="110532"/>
                    </a:cubicBezTo>
                    <a:cubicBezTo>
                      <a:pt x="164546" y="115247"/>
                      <a:pt x="166107" y="121833"/>
                      <a:pt x="170822" y="125605"/>
                    </a:cubicBezTo>
                    <a:cubicBezTo>
                      <a:pt x="174957" y="128913"/>
                      <a:pt x="180870" y="128954"/>
                      <a:pt x="185894" y="130629"/>
                    </a:cubicBezTo>
                    <a:cubicBezTo>
                      <a:pt x="194268" y="128954"/>
                      <a:pt x="203019" y="128603"/>
                      <a:pt x="211015" y="125605"/>
                    </a:cubicBezTo>
                    <a:cubicBezTo>
                      <a:pt x="216669" y="123485"/>
                      <a:pt x="220687" y="118257"/>
                      <a:pt x="226088" y="115556"/>
                    </a:cubicBezTo>
                    <a:cubicBezTo>
                      <a:pt x="230825" y="113188"/>
                      <a:pt x="236136" y="112207"/>
                      <a:pt x="241160" y="110532"/>
                    </a:cubicBezTo>
                    <a:cubicBezTo>
                      <a:pt x="249119" y="102574"/>
                      <a:pt x="253239" y="95459"/>
                      <a:pt x="266281" y="95459"/>
                    </a:cubicBezTo>
                    <a:cubicBezTo>
                      <a:pt x="271577" y="95459"/>
                      <a:pt x="281354" y="100484"/>
                      <a:pt x="281354" y="10048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5"/>
              <p:cNvSpPr/>
              <p:nvPr/>
            </p:nvSpPr>
            <p:spPr>
              <a:xfrm rot="18827400">
                <a:off x="6861600" y="3739320"/>
                <a:ext cx="9504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 rot="7742400">
                <a:off x="6836400" y="3457800"/>
                <a:ext cx="269640" cy="74520"/>
              </a:xfrm>
              <a:custGeom>
                <a:avLst/>
                <a:gdLst/>
                <a:ahLst/>
                <a:rect l="l" t="t" r="r" b="b"/>
                <a:pathLst>
                  <a:path w="336176" h="93360">
                    <a:moveTo>
                      <a:pt x="0" y="93360"/>
                    </a:moveTo>
                    <a:cubicBezTo>
                      <a:pt x="31376" y="79913"/>
                      <a:pt x="60390" y="58210"/>
                      <a:pt x="94129" y="53019"/>
                    </a:cubicBezTo>
                    <a:cubicBezTo>
                      <a:pt x="126514" y="48037"/>
                      <a:pt x="181322" y="68636"/>
                      <a:pt x="215152" y="79913"/>
                    </a:cubicBezTo>
                    <a:cubicBezTo>
                      <a:pt x="295066" y="0"/>
                      <a:pt x="250693" y="12678"/>
                      <a:pt x="336176" y="12678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 rot="9144000">
                <a:off x="5902200" y="3769560"/>
                <a:ext cx="225360" cy="104760"/>
              </a:xfrm>
              <a:custGeom>
                <a:avLst/>
                <a:gdLst/>
                <a:ahLst/>
                <a:rect l="l" t="t" r="r" b="b"/>
                <a:pathLst>
                  <a:path w="281354" h="130629">
                    <a:moveTo>
                      <a:pt x="0" y="0"/>
                    </a:moveTo>
                    <a:cubicBezTo>
                      <a:pt x="5024" y="6699"/>
                      <a:pt x="12210" y="12228"/>
                      <a:pt x="15072" y="20097"/>
                    </a:cubicBezTo>
                    <a:cubicBezTo>
                      <a:pt x="19119" y="31226"/>
                      <a:pt x="14346" y="44914"/>
                      <a:pt x="20097" y="55266"/>
                    </a:cubicBezTo>
                    <a:cubicBezTo>
                      <a:pt x="23734" y="61813"/>
                      <a:pt x="33690" y="61598"/>
                      <a:pt x="40193" y="65314"/>
                    </a:cubicBezTo>
                    <a:cubicBezTo>
                      <a:pt x="45436" y="68310"/>
                      <a:pt x="49612" y="73243"/>
                      <a:pt x="55266" y="75363"/>
                    </a:cubicBezTo>
                    <a:cubicBezTo>
                      <a:pt x="63262" y="78361"/>
                      <a:pt x="72051" y="78535"/>
                      <a:pt x="80387" y="80387"/>
                    </a:cubicBezTo>
                    <a:cubicBezTo>
                      <a:pt x="115722" y="88239"/>
                      <a:pt x="86185" y="82044"/>
                      <a:pt x="115556" y="90435"/>
                    </a:cubicBezTo>
                    <a:cubicBezTo>
                      <a:pt x="159682" y="103042"/>
                      <a:pt x="114614" y="88445"/>
                      <a:pt x="150725" y="100484"/>
                    </a:cubicBezTo>
                    <a:cubicBezTo>
                      <a:pt x="154075" y="103833"/>
                      <a:pt x="157815" y="106833"/>
                      <a:pt x="160774" y="110532"/>
                    </a:cubicBezTo>
                    <a:cubicBezTo>
                      <a:pt x="164546" y="115247"/>
                      <a:pt x="166107" y="121833"/>
                      <a:pt x="170822" y="125605"/>
                    </a:cubicBezTo>
                    <a:cubicBezTo>
                      <a:pt x="174957" y="128913"/>
                      <a:pt x="180870" y="128954"/>
                      <a:pt x="185894" y="130629"/>
                    </a:cubicBezTo>
                    <a:cubicBezTo>
                      <a:pt x="194268" y="128954"/>
                      <a:pt x="203019" y="128603"/>
                      <a:pt x="211015" y="125605"/>
                    </a:cubicBezTo>
                    <a:cubicBezTo>
                      <a:pt x="216669" y="123485"/>
                      <a:pt x="220687" y="118257"/>
                      <a:pt x="226088" y="115556"/>
                    </a:cubicBezTo>
                    <a:cubicBezTo>
                      <a:pt x="230825" y="113188"/>
                      <a:pt x="236136" y="112207"/>
                      <a:pt x="241160" y="110532"/>
                    </a:cubicBezTo>
                    <a:cubicBezTo>
                      <a:pt x="249119" y="102574"/>
                      <a:pt x="253239" y="95459"/>
                      <a:pt x="266281" y="95459"/>
                    </a:cubicBezTo>
                    <a:cubicBezTo>
                      <a:pt x="271577" y="95459"/>
                      <a:pt x="281354" y="100484"/>
                      <a:pt x="281354" y="10048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8"/>
              <p:cNvSpPr/>
              <p:nvPr/>
            </p:nvSpPr>
            <p:spPr>
              <a:xfrm rot="5217600">
                <a:off x="6407280" y="3726360"/>
                <a:ext cx="9504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9"/>
              <p:cNvSpPr/>
              <p:nvPr/>
            </p:nvSpPr>
            <p:spPr>
              <a:xfrm rot="10073400">
                <a:off x="6482520" y="3274200"/>
                <a:ext cx="269640" cy="74520"/>
              </a:xfrm>
              <a:custGeom>
                <a:avLst/>
                <a:gdLst/>
                <a:ahLst/>
                <a:rect l="l" t="t" r="r" b="b"/>
                <a:pathLst>
                  <a:path w="336176" h="93360">
                    <a:moveTo>
                      <a:pt x="0" y="93360"/>
                    </a:moveTo>
                    <a:cubicBezTo>
                      <a:pt x="31376" y="79913"/>
                      <a:pt x="60390" y="58210"/>
                      <a:pt x="94129" y="53019"/>
                    </a:cubicBezTo>
                    <a:cubicBezTo>
                      <a:pt x="126514" y="48037"/>
                      <a:pt x="181322" y="68636"/>
                      <a:pt x="215152" y="79913"/>
                    </a:cubicBezTo>
                    <a:cubicBezTo>
                      <a:pt x="295066" y="0"/>
                      <a:pt x="250693" y="12678"/>
                      <a:pt x="336176" y="12678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0"/>
              <p:cNvSpPr/>
              <p:nvPr/>
            </p:nvSpPr>
            <p:spPr>
              <a:xfrm>
                <a:off x="7696440" y="3277800"/>
                <a:ext cx="225360" cy="104760"/>
              </a:xfrm>
              <a:custGeom>
                <a:avLst/>
                <a:gdLst/>
                <a:ahLst/>
                <a:rect l="l" t="t" r="r" b="b"/>
                <a:pathLst>
                  <a:path w="281354" h="130629">
                    <a:moveTo>
                      <a:pt x="0" y="0"/>
                    </a:moveTo>
                    <a:cubicBezTo>
                      <a:pt x="5024" y="6699"/>
                      <a:pt x="12210" y="12228"/>
                      <a:pt x="15072" y="20097"/>
                    </a:cubicBezTo>
                    <a:cubicBezTo>
                      <a:pt x="19119" y="31226"/>
                      <a:pt x="14346" y="44914"/>
                      <a:pt x="20097" y="55266"/>
                    </a:cubicBezTo>
                    <a:cubicBezTo>
                      <a:pt x="23734" y="61813"/>
                      <a:pt x="33690" y="61598"/>
                      <a:pt x="40193" y="65314"/>
                    </a:cubicBezTo>
                    <a:cubicBezTo>
                      <a:pt x="45436" y="68310"/>
                      <a:pt x="49612" y="73243"/>
                      <a:pt x="55266" y="75363"/>
                    </a:cubicBezTo>
                    <a:cubicBezTo>
                      <a:pt x="63262" y="78361"/>
                      <a:pt x="72051" y="78535"/>
                      <a:pt x="80387" y="80387"/>
                    </a:cubicBezTo>
                    <a:cubicBezTo>
                      <a:pt x="115722" y="88239"/>
                      <a:pt x="86185" y="82044"/>
                      <a:pt x="115556" y="90435"/>
                    </a:cubicBezTo>
                    <a:cubicBezTo>
                      <a:pt x="159682" y="103042"/>
                      <a:pt x="114614" y="88445"/>
                      <a:pt x="150725" y="100484"/>
                    </a:cubicBezTo>
                    <a:cubicBezTo>
                      <a:pt x="154075" y="103833"/>
                      <a:pt x="157815" y="106833"/>
                      <a:pt x="160774" y="110532"/>
                    </a:cubicBezTo>
                    <a:cubicBezTo>
                      <a:pt x="164546" y="115247"/>
                      <a:pt x="166107" y="121833"/>
                      <a:pt x="170822" y="125605"/>
                    </a:cubicBezTo>
                    <a:cubicBezTo>
                      <a:pt x="174957" y="128913"/>
                      <a:pt x="180870" y="128954"/>
                      <a:pt x="185894" y="130629"/>
                    </a:cubicBezTo>
                    <a:cubicBezTo>
                      <a:pt x="194268" y="128954"/>
                      <a:pt x="203019" y="128603"/>
                      <a:pt x="211015" y="125605"/>
                    </a:cubicBezTo>
                    <a:cubicBezTo>
                      <a:pt x="216669" y="123485"/>
                      <a:pt x="220687" y="118257"/>
                      <a:pt x="226088" y="115556"/>
                    </a:cubicBezTo>
                    <a:cubicBezTo>
                      <a:pt x="230825" y="113188"/>
                      <a:pt x="236136" y="112207"/>
                      <a:pt x="241160" y="110532"/>
                    </a:cubicBezTo>
                    <a:cubicBezTo>
                      <a:pt x="249119" y="102574"/>
                      <a:pt x="253239" y="95459"/>
                      <a:pt x="266281" y="95459"/>
                    </a:cubicBezTo>
                    <a:cubicBezTo>
                      <a:pt x="271577" y="95459"/>
                      <a:pt x="281354" y="100484"/>
                      <a:pt x="281354" y="10048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1"/>
              <p:cNvSpPr/>
              <p:nvPr/>
            </p:nvSpPr>
            <p:spPr>
              <a:xfrm rot="17608200">
                <a:off x="7793640" y="3741120"/>
                <a:ext cx="9504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2"/>
              <p:cNvSpPr/>
              <p:nvPr/>
            </p:nvSpPr>
            <p:spPr>
              <a:xfrm rot="10800000">
                <a:off x="7229160" y="37936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336176" h="93360">
                    <a:moveTo>
                      <a:pt x="0" y="93360"/>
                    </a:moveTo>
                    <a:cubicBezTo>
                      <a:pt x="31376" y="79913"/>
                      <a:pt x="60390" y="58210"/>
                      <a:pt x="94129" y="53019"/>
                    </a:cubicBezTo>
                    <a:cubicBezTo>
                      <a:pt x="126514" y="48037"/>
                      <a:pt x="181322" y="68636"/>
                      <a:pt x="215152" y="79913"/>
                    </a:cubicBezTo>
                    <a:cubicBezTo>
                      <a:pt x="295066" y="0"/>
                      <a:pt x="250693" y="12678"/>
                      <a:pt x="336176" y="12678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3"/>
              <p:cNvSpPr/>
              <p:nvPr/>
            </p:nvSpPr>
            <p:spPr>
              <a:xfrm rot="7822800">
                <a:off x="7340040" y="3444480"/>
                <a:ext cx="225360" cy="104760"/>
              </a:xfrm>
              <a:custGeom>
                <a:avLst/>
                <a:gdLst/>
                <a:ahLst/>
                <a:rect l="l" t="t" r="r" b="b"/>
                <a:pathLst>
                  <a:path w="281354" h="130629">
                    <a:moveTo>
                      <a:pt x="0" y="0"/>
                    </a:moveTo>
                    <a:cubicBezTo>
                      <a:pt x="5024" y="6699"/>
                      <a:pt x="12210" y="12228"/>
                      <a:pt x="15072" y="20097"/>
                    </a:cubicBezTo>
                    <a:cubicBezTo>
                      <a:pt x="19119" y="31226"/>
                      <a:pt x="14346" y="44914"/>
                      <a:pt x="20097" y="55266"/>
                    </a:cubicBezTo>
                    <a:cubicBezTo>
                      <a:pt x="23734" y="61813"/>
                      <a:pt x="33690" y="61598"/>
                      <a:pt x="40193" y="65314"/>
                    </a:cubicBezTo>
                    <a:cubicBezTo>
                      <a:pt x="45436" y="68310"/>
                      <a:pt x="49612" y="73243"/>
                      <a:pt x="55266" y="75363"/>
                    </a:cubicBezTo>
                    <a:cubicBezTo>
                      <a:pt x="63262" y="78361"/>
                      <a:pt x="72051" y="78535"/>
                      <a:pt x="80387" y="80387"/>
                    </a:cubicBezTo>
                    <a:cubicBezTo>
                      <a:pt x="115722" y="88239"/>
                      <a:pt x="86185" y="82044"/>
                      <a:pt x="115556" y="90435"/>
                    </a:cubicBezTo>
                    <a:cubicBezTo>
                      <a:pt x="159682" y="103042"/>
                      <a:pt x="114614" y="88445"/>
                      <a:pt x="150725" y="100484"/>
                    </a:cubicBezTo>
                    <a:cubicBezTo>
                      <a:pt x="154075" y="103833"/>
                      <a:pt x="157815" y="106833"/>
                      <a:pt x="160774" y="110532"/>
                    </a:cubicBezTo>
                    <a:cubicBezTo>
                      <a:pt x="164546" y="115247"/>
                      <a:pt x="166107" y="121833"/>
                      <a:pt x="170822" y="125605"/>
                    </a:cubicBezTo>
                    <a:cubicBezTo>
                      <a:pt x="174957" y="128913"/>
                      <a:pt x="180870" y="128954"/>
                      <a:pt x="185894" y="130629"/>
                    </a:cubicBezTo>
                    <a:cubicBezTo>
                      <a:pt x="194268" y="128954"/>
                      <a:pt x="203019" y="128603"/>
                      <a:pt x="211015" y="125605"/>
                    </a:cubicBezTo>
                    <a:cubicBezTo>
                      <a:pt x="216669" y="123485"/>
                      <a:pt x="220687" y="118257"/>
                      <a:pt x="226088" y="115556"/>
                    </a:cubicBezTo>
                    <a:cubicBezTo>
                      <a:pt x="230825" y="113188"/>
                      <a:pt x="236136" y="112207"/>
                      <a:pt x="241160" y="110532"/>
                    </a:cubicBezTo>
                    <a:cubicBezTo>
                      <a:pt x="249119" y="102574"/>
                      <a:pt x="253239" y="95459"/>
                      <a:pt x="266281" y="95459"/>
                    </a:cubicBezTo>
                    <a:cubicBezTo>
                      <a:pt x="271577" y="95459"/>
                      <a:pt x="281354" y="100484"/>
                      <a:pt x="281354" y="10048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4"/>
              <p:cNvSpPr/>
              <p:nvPr/>
            </p:nvSpPr>
            <p:spPr>
              <a:xfrm rot="5217600">
                <a:off x="7191720" y="3268800"/>
                <a:ext cx="9504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5"/>
              <p:cNvSpPr/>
              <p:nvPr/>
            </p:nvSpPr>
            <p:spPr>
              <a:xfrm rot="5906400">
                <a:off x="5653080" y="3746880"/>
                <a:ext cx="9504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gular Pentagon 114"/>
            <p:cNvSpPr/>
            <p:nvPr/>
          </p:nvSpPr>
          <p:spPr>
            <a:xfrm>
              <a:off x="5689440" y="307476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gular Pentagon 115"/>
            <p:cNvSpPr/>
            <p:nvPr/>
          </p:nvSpPr>
          <p:spPr>
            <a:xfrm rot="3533400">
              <a:off x="6862320" y="301428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gular Pentagon 116"/>
            <p:cNvSpPr/>
            <p:nvPr/>
          </p:nvSpPr>
          <p:spPr>
            <a:xfrm rot="19206600">
              <a:off x="5930640" y="3478320"/>
              <a:ext cx="1425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gular Pentagon 117"/>
            <p:cNvSpPr/>
            <p:nvPr/>
          </p:nvSpPr>
          <p:spPr>
            <a:xfrm>
              <a:off x="7070760" y="347184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gular Pentagon 118"/>
            <p:cNvSpPr/>
            <p:nvPr/>
          </p:nvSpPr>
          <p:spPr>
            <a:xfrm rot="20047200">
              <a:off x="6289560" y="307440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gular Pentagon 119"/>
            <p:cNvSpPr/>
            <p:nvPr/>
          </p:nvSpPr>
          <p:spPr>
            <a:xfrm rot="2542800">
              <a:off x="6494040" y="347148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gular Pentagon 120"/>
            <p:cNvSpPr/>
            <p:nvPr/>
          </p:nvSpPr>
          <p:spPr>
            <a:xfrm rot="19035600">
              <a:off x="5570280" y="3414240"/>
              <a:ext cx="144360" cy="1425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gular Pentagon 121"/>
            <p:cNvSpPr/>
            <p:nvPr/>
          </p:nvSpPr>
          <p:spPr>
            <a:xfrm>
              <a:off x="7435800" y="312732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gular Pentagon 122"/>
            <p:cNvSpPr/>
            <p:nvPr/>
          </p:nvSpPr>
          <p:spPr>
            <a:xfrm rot="18456600">
              <a:off x="7615800" y="3481920"/>
              <a:ext cx="144360" cy="1425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25"/>
          <p:cNvGrpSpPr/>
          <p:nvPr/>
        </p:nvGrpSpPr>
        <p:grpSpPr>
          <a:xfrm>
            <a:off x="5540400" y="4857840"/>
            <a:ext cx="2406600" cy="1488960"/>
            <a:chOff x="5540400" y="4857840"/>
            <a:chExt cx="2406600" cy="1488960"/>
          </a:xfrm>
        </p:grpSpPr>
        <p:grpSp>
          <p:nvGrpSpPr>
            <p:cNvPr id="190" name="Group 20"/>
            <p:cNvGrpSpPr/>
            <p:nvPr/>
          </p:nvGrpSpPr>
          <p:grpSpPr>
            <a:xfrm>
              <a:off x="5556240" y="5117040"/>
              <a:ext cx="2390760" cy="1229760"/>
              <a:chOff x="5556240" y="5117040"/>
              <a:chExt cx="2390760" cy="1229760"/>
            </a:xfrm>
          </p:grpSpPr>
          <p:sp>
            <p:nvSpPr>
              <p:cNvPr id="191" name="Rectangle 136"/>
              <p:cNvSpPr/>
              <p:nvPr/>
            </p:nvSpPr>
            <p:spPr>
              <a:xfrm>
                <a:off x="5556240" y="5770440"/>
                <a:ext cx="2390760" cy="576360"/>
              </a:xfrm>
              <a:prstGeom prst="rect">
                <a:avLst/>
              </a:prstGeom>
              <a:solidFill>
                <a:srgbClr val="bfbfbf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8"/>
              <p:cNvSpPr/>
              <p:nvPr/>
            </p:nvSpPr>
            <p:spPr>
              <a:xfrm>
                <a:off x="5671800" y="5165280"/>
                <a:ext cx="269640" cy="74520"/>
              </a:xfrm>
              <a:custGeom>
                <a:avLst/>
                <a:gdLst/>
                <a:ahLst/>
                <a:rect l="l" t="t" r="r" b="b"/>
                <a:pathLst>
                  <a:path w="336176" h="93360">
                    <a:moveTo>
                      <a:pt x="0" y="93360"/>
                    </a:moveTo>
                    <a:cubicBezTo>
                      <a:pt x="31376" y="79913"/>
                      <a:pt x="60390" y="58210"/>
                      <a:pt x="94129" y="53019"/>
                    </a:cubicBezTo>
                    <a:cubicBezTo>
                      <a:pt x="126514" y="48037"/>
                      <a:pt x="181322" y="68636"/>
                      <a:pt x="215152" y="79913"/>
                    </a:cubicBezTo>
                    <a:cubicBezTo>
                      <a:pt x="295066" y="0"/>
                      <a:pt x="250693" y="12678"/>
                      <a:pt x="336176" y="12678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9"/>
              <p:cNvSpPr/>
              <p:nvPr/>
            </p:nvSpPr>
            <p:spPr>
              <a:xfrm>
                <a:off x="6092640" y="5228640"/>
                <a:ext cx="225360" cy="102960"/>
              </a:xfrm>
              <a:custGeom>
                <a:avLst/>
                <a:gdLst/>
                <a:ahLst/>
                <a:rect l="l" t="t" r="r" b="b"/>
                <a:pathLst>
                  <a:path w="281354" h="130629">
                    <a:moveTo>
                      <a:pt x="0" y="0"/>
                    </a:moveTo>
                    <a:cubicBezTo>
                      <a:pt x="5024" y="6699"/>
                      <a:pt x="12210" y="12228"/>
                      <a:pt x="15072" y="20097"/>
                    </a:cubicBezTo>
                    <a:cubicBezTo>
                      <a:pt x="19119" y="31226"/>
                      <a:pt x="14346" y="44914"/>
                      <a:pt x="20097" y="55266"/>
                    </a:cubicBezTo>
                    <a:cubicBezTo>
                      <a:pt x="23734" y="61813"/>
                      <a:pt x="33690" y="61598"/>
                      <a:pt x="40193" y="65314"/>
                    </a:cubicBezTo>
                    <a:cubicBezTo>
                      <a:pt x="45436" y="68310"/>
                      <a:pt x="49612" y="73243"/>
                      <a:pt x="55266" y="75363"/>
                    </a:cubicBezTo>
                    <a:cubicBezTo>
                      <a:pt x="63262" y="78361"/>
                      <a:pt x="72051" y="78535"/>
                      <a:pt x="80387" y="80387"/>
                    </a:cubicBezTo>
                    <a:cubicBezTo>
                      <a:pt x="115722" y="88239"/>
                      <a:pt x="86185" y="82044"/>
                      <a:pt x="115556" y="90435"/>
                    </a:cubicBezTo>
                    <a:cubicBezTo>
                      <a:pt x="159682" y="103042"/>
                      <a:pt x="114614" y="88445"/>
                      <a:pt x="150725" y="100484"/>
                    </a:cubicBezTo>
                    <a:cubicBezTo>
                      <a:pt x="154075" y="103833"/>
                      <a:pt x="157815" y="106833"/>
                      <a:pt x="160774" y="110532"/>
                    </a:cubicBezTo>
                    <a:cubicBezTo>
                      <a:pt x="164546" y="115247"/>
                      <a:pt x="166107" y="121833"/>
                      <a:pt x="170822" y="125605"/>
                    </a:cubicBezTo>
                    <a:cubicBezTo>
                      <a:pt x="174957" y="128913"/>
                      <a:pt x="180870" y="128954"/>
                      <a:pt x="185894" y="130629"/>
                    </a:cubicBezTo>
                    <a:cubicBezTo>
                      <a:pt x="194268" y="128954"/>
                      <a:pt x="203019" y="128603"/>
                      <a:pt x="211015" y="125605"/>
                    </a:cubicBezTo>
                    <a:cubicBezTo>
                      <a:pt x="216669" y="123485"/>
                      <a:pt x="220687" y="118257"/>
                      <a:pt x="226088" y="115556"/>
                    </a:cubicBezTo>
                    <a:cubicBezTo>
                      <a:pt x="230825" y="113188"/>
                      <a:pt x="236136" y="112207"/>
                      <a:pt x="241160" y="110532"/>
                    </a:cubicBezTo>
                    <a:cubicBezTo>
                      <a:pt x="249119" y="102574"/>
                      <a:pt x="253239" y="95459"/>
                      <a:pt x="266281" y="95459"/>
                    </a:cubicBezTo>
                    <a:cubicBezTo>
                      <a:pt x="271577" y="95459"/>
                      <a:pt x="281354" y="100484"/>
                      <a:pt x="281354" y="10048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0"/>
              <p:cNvSpPr/>
              <p:nvPr/>
            </p:nvSpPr>
            <p:spPr>
              <a:xfrm rot="18827400">
                <a:off x="6710760" y="5501160"/>
                <a:ext cx="9504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41"/>
              <p:cNvSpPr/>
              <p:nvPr/>
            </p:nvSpPr>
            <p:spPr>
              <a:xfrm rot="7742400">
                <a:off x="6836760" y="532692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336176" h="93360">
                    <a:moveTo>
                      <a:pt x="0" y="93360"/>
                    </a:moveTo>
                    <a:cubicBezTo>
                      <a:pt x="31376" y="79913"/>
                      <a:pt x="60390" y="58210"/>
                      <a:pt x="94129" y="53019"/>
                    </a:cubicBezTo>
                    <a:cubicBezTo>
                      <a:pt x="126514" y="48037"/>
                      <a:pt x="181322" y="68636"/>
                      <a:pt x="215152" y="79913"/>
                    </a:cubicBezTo>
                    <a:cubicBezTo>
                      <a:pt x="295066" y="0"/>
                      <a:pt x="250693" y="12678"/>
                      <a:pt x="336176" y="12678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42"/>
              <p:cNvSpPr/>
              <p:nvPr/>
            </p:nvSpPr>
            <p:spPr>
              <a:xfrm rot="9144000">
                <a:off x="6053040" y="5563080"/>
                <a:ext cx="225360" cy="104760"/>
              </a:xfrm>
              <a:custGeom>
                <a:avLst/>
                <a:gdLst/>
                <a:ahLst/>
                <a:rect l="l" t="t" r="r" b="b"/>
                <a:pathLst>
                  <a:path w="281354" h="130629">
                    <a:moveTo>
                      <a:pt x="0" y="0"/>
                    </a:moveTo>
                    <a:cubicBezTo>
                      <a:pt x="5024" y="6699"/>
                      <a:pt x="12210" y="12228"/>
                      <a:pt x="15072" y="20097"/>
                    </a:cubicBezTo>
                    <a:cubicBezTo>
                      <a:pt x="19119" y="31226"/>
                      <a:pt x="14346" y="44914"/>
                      <a:pt x="20097" y="55266"/>
                    </a:cubicBezTo>
                    <a:cubicBezTo>
                      <a:pt x="23734" y="61813"/>
                      <a:pt x="33690" y="61598"/>
                      <a:pt x="40193" y="65314"/>
                    </a:cubicBezTo>
                    <a:cubicBezTo>
                      <a:pt x="45436" y="68310"/>
                      <a:pt x="49612" y="73243"/>
                      <a:pt x="55266" y="75363"/>
                    </a:cubicBezTo>
                    <a:cubicBezTo>
                      <a:pt x="63262" y="78361"/>
                      <a:pt x="72051" y="78535"/>
                      <a:pt x="80387" y="80387"/>
                    </a:cubicBezTo>
                    <a:cubicBezTo>
                      <a:pt x="115722" y="88239"/>
                      <a:pt x="86185" y="82044"/>
                      <a:pt x="115556" y="90435"/>
                    </a:cubicBezTo>
                    <a:cubicBezTo>
                      <a:pt x="159682" y="103042"/>
                      <a:pt x="114614" y="88445"/>
                      <a:pt x="150725" y="100484"/>
                    </a:cubicBezTo>
                    <a:cubicBezTo>
                      <a:pt x="154075" y="103833"/>
                      <a:pt x="157815" y="106833"/>
                      <a:pt x="160774" y="110532"/>
                    </a:cubicBezTo>
                    <a:cubicBezTo>
                      <a:pt x="164546" y="115247"/>
                      <a:pt x="166107" y="121833"/>
                      <a:pt x="170822" y="125605"/>
                    </a:cubicBezTo>
                    <a:cubicBezTo>
                      <a:pt x="174957" y="128913"/>
                      <a:pt x="180870" y="128954"/>
                      <a:pt x="185894" y="130629"/>
                    </a:cubicBezTo>
                    <a:cubicBezTo>
                      <a:pt x="194268" y="128954"/>
                      <a:pt x="203019" y="128603"/>
                      <a:pt x="211015" y="125605"/>
                    </a:cubicBezTo>
                    <a:cubicBezTo>
                      <a:pt x="216669" y="123485"/>
                      <a:pt x="220687" y="118257"/>
                      <a:pt x="226088" y="115556"/>
                    </a:cubicBezTo>
                    <a:cubicBezTo>
                      <a:pt x="230825" y="113188"/>
                      <a:pt x="236136" y="112207"/>
                      <a:pt x="241160" y="110532"/>
                    </a:cubicBezTo>
                    <a:cubicBezTo>
                      <a:pt x="249119" y="102574"/>
                      <a:pt x="253239" y="95459"/>
                      <a:pt x="266281" y="95459"/>
                    </a:cubicBezTo>
                    <a:cubicBezTo>
                      <a:pt x="271577" y="95459"/>
                      <a:pt x="281354" y="100484"/>
                      <a:pt x="281354" y="10048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43"/>
              <p:cNvSpPr/>
              <p:nvPr/>
            </p:nvSpPr>
            <p:spPr>
              <a:xfrm rot="5217600">
                <a:off x="6408000" y="5595480"/>
                <a:ext cx="9360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4"/>
              <p:cNvSpPr/>
              <p:nvPr/>
            </p:nvSpPr>
            <p:spPr>
              <a:xfrm rot="10073400">
                <a:off x="6482520" y="5144040"/>
                <a:ext cx="269640" cy="74520"/>
              </a:xfrm>
              <a:custGeom>
                <a:avLst/>
                <a:gdLst/>
                <a:ahLst/>
                <a:rect l="l" t="t" r="r" b="b"/>
                <a:pathLst>
                  <a:path w="336176" h="93360">
                    <a:moveTo>
                      <a:pt x="0" y="93360"/>
                    </a:moveTo>
                    <a:cubicBezTo>
                      <a:pt x="31376" y="79913"/>
                      <a:pt x="60390" y="58210"/>
                      <a:pt x="94129" y="53019"/>
                    </a:cubicBezTo>
                    <a:cubicBezTo>
                      <a:pt x="126514" y="48037"/>
                      <a:pt x="181322" y="68636"/>
                      <a:pt x="215152" y="79913"/>
                    </a:cubicBezTo>
                    <a:cubicBezTo>
                      <a:pt x="295066" y="0"/>
                      <a:pt x="250693" y="12678"/>
                      <a:pt x="336176" y="12678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45"/>
              <p:cNvSpPr/>
              <p:nvPr/>
            </p:nvSpPr>
            <p:spPr>
              <a:xfrm>
                <a:off x="7696440" y="5147640"/>
                <a:ext cx="225360" cy="104760"/>
              </a:xfrm>
              <a:custGeom>
                <a:avLst/>
                <a:gdLst/>
                <a:ahLst/>
                <a:rect l="l" t="t" r="r" b="b"/>
                <a:pathLst>
                  <a:path w="281354" h="130629">
                    <a:moveTo>
                      <a:pt x="0" y="0"/>
                    </a:moveTo>
                    <a:cubicBezTo>
                      <a:pt x="5024" y="6699"/>
                      <a:pt x="12210" y="12228"/>
                      <a:pt x="15072" y="20097"/>
                    </a:cubicBezTo>
                    <a:cubicBezTo>
                      <a:pt x="19119" y="31226"/>
                      <a:pt x="14346" y="44914"/>
                      <a:pt x="20097" y="55266"/>
                    </a:cubicBezTo>
                    <a:cubicBezTo>
                      <a:pt x="23734" y="61813"/>
                      <a:pt x="33690" y="61598"/>
                      <a:pt x="40193" y="65314"/>
                    </a:cubicBezTo>
                    <a:cubicBezTo>
                      <a:pt x="45436" y="68310"/>
                      <a:pt x="49612" y="73243"/>
                      <a:pt x="55266" y="75363"/>
                    </a:cubicBezTo>
                    <a:cubicBezTo>
                      <a:pt x="63262" y="78361"/>
                      <a:pt x="72051" y="78535"/>
                      <a:pt x="80387" y="80387"/>
                    </a:cubicBezTo>
                    <a:cubicBezTo>
                      <a:pt x="115722" y="88239"/>
                      <a:pt x="86185" y="82044"/>
                      <a:pt x="115556" y="90435"/>
                    </a:cubicBezTo>
                    <a:cubicBezTo>
                      <a:pt x="159682" y="103042"/>
                      <a:pt x="114614" y="88445"/>
                      <a:pt x="150725" y="100484"/>
                    </a:cubicBezTo>
                    <a:cubicBezTo>
                      <a:pt x="154075" y="103833"/>
                      <a:pt x="157815" y="106833"/>
                      <a:pt x="160774" y="110532"/>
                    </a:cubicBezTo>
                    <a:cubicBezTo>
                      <a:pt x="164546" y="115247"/>
                      <a:pt x="166107" y="121833"/>
                      <a:pt x="170822" y="125605"/>
                    </a:cubicBezTo>
                    <a:cubicBezTo>
                      <a:pt x="174957" y="128913"/>
                      <a:pt x="180870" y="128954"/>
                      <a:pt x="185894" y="130629"/>
                    </a:cubicBezTo>
                    <a:cubicBezTo>
                      <a:pt x="194268" y="128954"/>
                      <a:pt x="203019" y="128603"/>
                      <a:pt x="211015" y="125605"/>
                    </a:cubicBezTo>
                    <a:cubicBezTo>
                      <a:pt x="216669" y="123485"/>
                      <a:pt x="220687" y="118257"/>
                      <a:pt x="226088" y="115556"/>
                    </a:cubicBezTo>
                    <a:cubicBezTo>
                      <a:pt x="230825" y="113188"/>
                      <a:pt x="236136" y="112207"/>
                      <a:pt x="241160" y="110532"/>
                    </a:cubicBezTo>
                    <a:cubicBezTo>
                      <a:pt x="249119" y="102574"/>
                      <a:pt x="253239" y="95459"/>
                      <a:pt x="266281" y="95459"/>
                    </a:cubicBezTo>
                    <a:cubicBezTo>
                      <a:pt x="271577" y="95459"/>
                      <a:pt x="281354" y="100484"/>
                      <a:pt x="281354" y="10048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6"/>
              <p:cNvSpPr/>
              <p:nvPr/>
            </p:nvSpPr>
            <p:spPr>
              <a:xfrm rot="17608200">
                <a:off x="7686000" y="5599800"/>
                <a:ext cx="9504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47"/>
              <p:cNvSpPr/>
              <p:nvPr/>
            </p:nvSpPr>
            <p:spPr>
              <a:xfrm rot="10800000">
                <a:off x="7206840" y="5565240"/>
                <a:ext cx="269640" cy="74520"/>
              </a:xfrm>
              <a:custGeom>
                <a:avLst/>
                <a:gdLst/>
                <a:ahLst/>
                <a:rect l="l" t="t" r="r" b="b"/>
                <a:pathLst>
                  <a:path w="336176" h="93360">
                    <a:moveTo>
                      <a:pt x="0" y="93360"/>
                    </a:moveTo>
                    <a:cubicBezTo>
                      <a:pt x="31376" y="79913"/>
                      <a:pt x="60390" y="58210"/>
                      <a:pt x="94129" y="53019"/>
                    </a:cubicBezTo>
                    <a:cubicBezTo>
                      <a:pt x="126514" y="48037"/>
                      <a:pt x="181322" y="68636"/>
                      <a:pt x="215152" y="79913"/>
                    </a:cubicBezTo>
                    <a:cubicBezTo>
                      <a:pt x="295066" y="0"/>
                      <a:pt x="250693" y="12678"/>
                      <a:pt x="336176" y="12678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8"/>
              <p:cNvSpPr/>
              <p:nvPr/>
            </p:nvSpPr>
            <p:spPr>
              <a:xfrm rot="7822800">
                <a:off x="7340040" y="5314320"/>
                <a:ext cx="225360" cy="104760"/>
              </a:xfrm>
              <a:custGeom>
                <a:avLst/>
                <a:gdLst/>
                <a:ahLst/>
                <a:rect l="l" t="t" r="r" b="b"/>
                <a:pathLst>
                  <a:path w="281354" h="130629">
                    <a:moveTo>
                      <a:pt x="0" y="0"/>
                    </a:moveTo>
                    <a:cubicBezTo>
                      <a:pt x="5024" y="6699"/>
                      <a:pt x="12210" y="12228"/>
                      <a:pt x="15072" y="20097"/>
                    </a:cubicBezTo>
                    <a:cubicBezTo>
                      <a:pt x="19119" y="31226"/>
                      <a:pt x="14346" y="44914"/>
                      <a:pt x="20097" y="55266"/>
                    </a:cubicBezTo>
                    <a:cubicBezTo>
                      <a:pt x="23734" y="61813"/>
                      <a:pt x="33690" y="61598"/>
                      <a:pt x="40193" y="65314"/>
                    </a:cubicBezTo>
                    <a:cubicBezTo>
                      <a:pt x="45436" y="68310"/>
                      <a:pt x="49612" y="73243"/>
                      <a:pt x="55266" y="75363"/>
                    </a:cubicBezTo>
                    <a:cubicBezTo>
                      <a:pt x="63262" y="78361"/>
                      <a:pt x="72051" y="78535"/>
                      <a:pt x="80387" y="80387"/>
                    </a:cubicBezTo>
                    <a:cubicBezTo>
                      <a:pt x="115722" y="88239"/>
                      <a:pt x="86185" y="82044"/>
                      <a:pt x="115556" y="90435"/>
                    </a:cubicBezTo>
                    <a:cubicBezTo>
                      <a:pt x="159682" y="103042"/>
                      <a:pt x="114614" y="88445"/>
                      <a:pt x="150725" y="100484"/>
                    </a:cubicBezTo>
                    <a:cubicBezTo>
                      <a:pt x="154075" y="103833"/>
                      <a:pt x="157815" y="106833"/>
                      <a:pt x="160774" y="110532"/>
                    </a:cubicBezTo>
                    <a:cubicBezTo>
                      <a:pt x="164546" y="115247"/>
                      <a:pt x="166107" y="121833"/>
                      <a:pt x="170822" y="125605"/>
                    </a:cubicBezTo>
                    <a:cubicBezTo>
                      <a:pt x="174957" y="128913"/>
                      <a:pt x="180870" y="128954"/>
                      <a:pt x="185894" y="130629"/>
                    </a:cubicBezTo>
                    <a:cubicBezTo>
                      <a:pt x="194268" y="128954"/>
                      <a:pt x="203019" y="128603"/>
                      <a:pt x="211015" y="125605"/>
                    </a:cubicBezTo>
                    <a:cubicBezTo>
                      <a:pt x="216669" y="123485"/>
                      <a:pt x="220687" y="118257"/>
                      <a:pt x="226088" y="115556"/>
                    </a:cubicBezTo>
                    <a:cubicBezTo>
                      <a:pt x="230825" y="113188"/>
                      <a:pt x="236136" y="112207"/>
                      <a:pt x="241160" y="110532"/>
                    </a:cubicBezTo>
                    <a:cubicBezTo>
                      <a:pt x="249119" y="102574"/>
                      <a:pt x="253239" y="95459"/>
                      <a:pt x="266281" y="95459"/>
                    </a:cubicBezTo>
                    <a:cubicBezTo>
                      <a:pt x="271577" y="95459"/>
                      <a:pt x="281354" y="100484"/>
                      <a:pt x="281354" y="10048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9"/>
              <p:cNvSpPr/>
              <p:nvPr/>
            </p:nvSpPr>
            <p:spPr>
              <a:xfrm rot="5217600">
                <a:off x="7191720" y="5139000"/>
                <a:ext cx="9504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0"/>
              <p:cNvSpPr/>
              <p:nvPr/>
            </p:nvSpPr>
            <p:spPr>
              <a:xfrm rot="5906400">
                <a:off x="5653800" y="5616360"/>
                <a:ext cx="93600" cy="160200"/>
              </a:xfrm>
              <a:custGeom>
                <a:avLst/>
                <a:gdLst/>
                <a:ahLst/>
                <a:rect l="l" t="t" r="r" b="b"/>
                <a:pathLst>
                  <a:path w="118281" h="200967">
                    <a:moveTo>
                      <a:pt x="52967" y="0"/>
                    </a:moveTo>
                    <a:cubicBezTo>
                      <a:pt x="28381" y="8195"/>
                      <a:pt x="22182" y="7764"/>
                      <a:pt x="2725" y="40193"/>
                    </a:cubicBezTo>
                    <a:cubicBezTo>
                      <a:pt x="0" y="44734"/>
                      <a:pt x="3342" y="52328"/>
                      <a:pt x="7749" y="55266"/>
                    </a:cubicBezTo>
                    <a:cubicBezTo>
                      <a:pt x="14854" y="60003"/>
                      <a:pt x="24496" y="58615"/>
                      <a:pt x="32870" y="60290"/>
                    </a:cubicBezTo>
                    <a:cubicBezTo>
                      <a:pt x="39569" y="63640"/>
                      <a:pt x="46083" y="67389"/>
                      <a:pt x="52967" y="70339"/>
                    </a:cubicBezTo>
                    <a:cubicBezTo>
                      <a:pt x="57835" y="72425"/>
                      <a:pt x="66364" y="70339"/>
                      <a:pt x="68039" y="75363"/>
                    </a:cubicBezTo>
                    <a:cubicBezTo>
                      <a:pt x="71935" y="87051"/>
                      <a:pt x="57723" y="111068"/>
                      <a:pt x="52967" y="120580"/>
                    </a:cubicBezTo>
                    <a:cubicBezTo>
                      <a:pt x="56316" y="123930"/>
                      <a:pt x="58953" y="128192"/>
                      <a:pt x="63015" y="130629"/>
                    </a:cubicBezTo>
                    <a:cubicBezTo>
                      <a:pt x="67556" y="133354"/>
                      <a:pt x="73952" y="132345"/>
                      <a:pt x="78088" y="135653"/>
                    </a:cubicBezTo>
                    <a:cubicBezTo>
                      <a:pt x="82803" y="139425"/>
                      <a:pt x="84787" y="145701"/>
                      <a:pt x="88136" y="150725"/>
                    </a:cubicBezTo>
                    <a:cubicBezTo>
                      <a:pt x="99859" y="185894"/>
                      <a:pt x="88136" y="177520"/>
                      <a:pt x="113257" y="185895"/>
                    </a:cubicBezTo>
                    <a:lnTo>
                      <a:pt x="118281" y="2009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Regular Pentagon 127"/>
            <p:cNvSpPr/>
            <p:nvPr/>
          </p:nvSpPr>
          <p:spPr>
            <a:xfrm>
              <a:off x="5689440" y="494496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gular Pentagon 128"/>
            <p:cNvSpPr/>
            <p:nvPr/>
          </p:nvSpPr>
          <p:spPr>
            <a:xfrm rot="3533400">
              <a:off x="6862320" y="488448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gular Pentagon 129"/>
            <p:cNvSpPr/>
            <p:nvPr/>
          </p:nvSpPr>
          <p:spPr>
            <a:xfrm rot="19206600">
              <a:off x="5854320" y="550836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gular Pentagon 130"/>
            <p:cNvSpPr/>
            <p:nvPr/>
          </p:nvSpPr>
          <p:spPr>
            <a:xfrm>
              <a:off x="6951600" y="551340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gular Pentagon 131"/>
            <p:cNvSpPr/>
            <p:nvPr/>
          </p:nvSpPr>
          <p:spPr>
            <a:xfrm rot="20047200">
              <a:off x="6289560" y="494460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gular Pentagon 132"/>
            <p:cNvSpPr/>
            <p:nvPr/>
          </p:nvSpPr>
          <p:spPr>
            <a:xfrm rot="2542800">
              <a:off x="6494400" y="5450040"/>
              <a:ext cx="144360" cy="1425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gular Pentagon 133"/>
            <p:cNvSpPr/>
            <p:nvPr/>
          </p:nvSpPr>
          <p:spPr>
            <a:xfrm rot="19035600">
              <a:off x="5569920" y="528300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gular Pentagon 134"/>
            <p:cNvSpPr/>
            <p:nvPr/>
          </p:nvSpPr>
          <p:spPr>
            <a:xfrm>
              <a:off x="7435800" y="4997520"/>
              <a:ext cx="144360" cy="1443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gular Pentagon 135"/>
            <p:cNvSpPr/>
            <p:nvPr/>
          </p:nvSpPr>
          <p:spPr>
            <a:xfrm rot="18456600">
              <a:off x="7616520" y="5351040"/>
              <a:ext cx="142560" cy="142560"/>
            </a:xfrm>
            <a:prstGeom prst="pentag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51"/>
          <p:cNvSpPr/>
          <p:nvPr/>
        </p:nvSpPr>
        <p:spPr>
          <a:xfrm>
            <a:off x="3846600" y="1519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2"/>
          <p:cNvSpPr/>
          <p:nvPr/>
        </p:nvSpPr>
        <p:spPr>
          <a:xfrm>
            <a:off x="431676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3"/>
          <p:cNvSpPr/>
          <p:nvPr/>
        </p:nvSpPr>
        <p:spPr>
          <a:xfrm>
            <a:off x="4316760" y="356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54"/>
          <p:cNvSpPr/>
          <p:nvPr/>
        </p:nvSpPr>
        <p:spPr>
          <a:xfrm>
            <a:off x="4316760" y="543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156"/>
          <p:cNvCxnSpPr>
            <a:stCxn id="215" idx="2"/>
            <a:endCxn id="216" idx="0"/>
          </p:cNvCxnSpPr>
          <p:nvPr/>
        </p:nvCxnSpPr>
        <p:spPr>
          <a:xfrm flipH="1">
            <a:off x="4471200" y="2352600"/>
            <a:ext cx="1080" cy="12103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219" name="Straight Arrow Connector 157"/>
          <p:cNvCxnSpPr>
            <a:stCxn id="216" idx="2"/>
            <a:endCxn id="217" idx="0"/>
          </p:cNvCxnSpPr>
          <p:nvPr/>
        </p:nvCxnSpPr>
        <p:spPr>
          <a:xfrm flipH="1">
            <a:off x="4471200" y="3931920"/>
            <a:ext cx="1080" cy="1500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220" name="TextBox 160"/>
          <p:cNvSpPr/>
          <p:nvPr/>
        </p:nvSpPr>
        <p:spPr>
          <a:xfrm>
            <a:off x="1469160" y="500220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ble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1"/>
          <p:cNvSpPr/>
          <p:nvPr/>
        </p:nvSpPr>
        <p:spPr>
          <a:xfrm>
            <a:off x="6932160" y="284148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2"/>
          <p:cNvSpPr/>
          <p:nvPr/>
        </p:nvSpPr>
        <p:spPr>
          <a:xfrm>
            <a:off x="6185880" y="138096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ymer Fi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576760" y="6391440"/>
            <a:ext cx="36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290600"/>
            <a:ext cx="520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ing may also be considered as wet a type of wet 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case, the materials being etched away include unwanted residues (organics, metals, etc.) and particulate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controlled surface on which to build things (e.g., devic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5783400" y="1835280"/>
            <a:ext cx="2997000" cy="906480"/>
            <a:chOff x="5783400" y="1835280"/>
            <a:chExt cx="2997000" cy="906480"/>
          </a:xfrm>
        </p:grpSpPr>
        <p:sp>
          <p:nvSpPr>
            <p:cNvPr id="227" name="Rectangle 3"/>
            <p:cNvSpPr/>
            <p:nvPr/>
          </p:nvSpPr>
          <p:spPr>
            <a:xfrm>
              <a:off x="5789520" y="2021040"/>
              <a:ext cx="2987640" cy="72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fore Clea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known Surface 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783400" y="1835280"/>
              <a:ext cx="2997000" cy="168120"/>
            </a:xfrm>
            <a:custGeom>
              <a:avLst/>
              <a:gdLst/>
              <a:ahLst/>
              <a:rect l="l" t="t" r="r" b="b"/>
              <a:pathLst>
                <a:path w="2998694" h="168324">
                  <a:moveTo>
                    <a:pt x="0" y="168324"/>
                  </a:moveTo>
                  <a:lnTo>
                    <a:pt x="2998694" y="168324"/>
                  </a:lnTo>
                  <a:cubicBezTo>
                    <a:pt x="2985247" y="132465"/>
                    <a:pt x="2985433" y="87827"/>
                    <a:pt x="2958353" y="60747"/>
                  </a:cubicBezTo>
                  <a:cubicBezTo>
                    <a:pt x="2945285" y="47679"/>
                    <a:pt x="2922098" y="80038"/>
                    <a:pt x="2904565" y="74194"/>
                  </a:cubicBezTo>
                  <a:cubicBezTo>
                    <a:pt x="2889233" y="69083"/>
                    <a:pt x="2886636" y="47300"/>
                    <a:pt x="2877671" y="33853"/>
                  </a:cubicBezTo>
                  <a:cubicBezTo>
                    <a:pt x="2850777" y="38335"/>
                    <a:pt x="2822156" y="36813"/>
                    <a:pt x="2796988" y="47300"/>
                  </a:cubicBezTo>
                  <a:cubicBezTo>
                    <a:pt x="2767152" y="59732"/>
                    <a:pt x="2716306" y="101088"/>
                    <a:pt x="2716306" y="101088"/>
                  </a:cubicBezTo>
                  <a:cubicBezTo>
                    <a:pt x="2702859" y="96606"/>
                    <a:pt x="2688643" y="93980"/>
                    <a:pt x="2675965" y="87641"/>
                  </a:cubicBezTo>
                  <a:cubicBezTo>
                    <a:pt x="2661510" y="80413"/>
                    <a:pt x="2651565" y="63404"/>
                    <a:pt x="2635624" y="60747"/>
                  </a:cubicBezTo>
                  <a:cubicBezTo>
                    <a:pt x="2621642" y="58417"/>
                    <a:pt x="2608730" y="69712"/>
                    <a:pt x="2595283" y="74194"/>
                  </a:cubicBezTo>
                  <a:cubicBezTo>
                    <a:pt x="2542751" y="21664"/>
                    <a:pt x="2597872" y="60747"/>
                    <a:pt x="2528047" y="60747"/>
                  </a:cubicBezTo>
                  <a:cubicBezTo>
                    <a:pt x="2513873" y="60747"/>
                    <a:pt x="2501153" y="51782"/>
                    <a:pt x="2487706" y="47300"/>
                  </a:cubicBezTo>
                  <a:cubicBezTo>
                    <a:pt x="2478741" y="33853"/>
                    <a:pt x="2475817" y="12961"/>
                    <a:pt x="2460812" y="6959"/>
                  </a:cubicBezTo>
                  <a:cubicBezTo>
                    <a:pt x="2443414" y="0"/>
                    <a:pt x="2388624" y="41637"/>
                    <a:pt x="2380130" y="47300"/>
                  </a:cubicBezTo>
                  <a:cubicBezTo>
                    <a:pt x="2371165" y="60747"/>
                    <a:pt x="2368241" y="81639"/>
                    <a:pt x="2353236" y="87641"/>
                  </a:cubicBezTo>
                  <a:cubicBezTo>
                    <a:pt x="2325434" y="98762"/>
                    <a:pt x="2281889" y="43189"/>
                    <a:pt x="2272553" y="33853"/>
                  </a:cubicBezTo>
                  <a:cubicBezTo>
                    <a:pt x="2252157" y="47451"/>
                    <a:pt x="2219707" y="74194"/>
                    <a:pt x="2191871" y="74194"/>
                  </a:cubicBezTo>
                  <a:cubicBezTo>
                    <a:pt x="2177697" y="74194"/>
                    <a:pt x="2164977" y="65229"/>
                    <a:pt x="2151530" y="60747"/>
                  </a:cubicBezTo>
                  <a:cubicBezTo>
                    <a:pt x="2138083" y="65229"/>
                    <a:pt x="2125363" y="74194"/>
                    <a:pt x="2111188" y="74194"/>
                  </a:cubicBezTo>
                  <a:cubicBezTo>
                    <a:pt x="2083352" y="74194"/>
                    <a:pt x="2050902" y="47451"/>
                    <a:pt x="2030506" y="33853"/>
                  </a:cubicBezTo>
                  <a:cubicBezTo>
                    <a:pt x="2017059" y="47300"/>
                    <a:pt x="2008206" y="68180"/>
                    <a:pt x="1990165" y="74194"/>
                  </a:cubicBezTo>
                  <a:cubicBezTo>
                    <a:pt x="1971607" y="80380"/>
                    <a:pt x="1919300" y="40398"/>
                    <a:pt x="1909483" y="33853"/>
                  </a:cubicBezTo>
                  <a:cubicBezTo>
                    <a:pt x="1896036" y="38335"/>
                    <a:pt x="1882978" y="44225"/>
                    <a:pt x="1869141" y="47300"/>
                  </a:cubicBezTo>
                  <a:cubicBezTo>
                    <a:pt x="1842525" y="53215"/>
                    <a:pt x="1814325" y="52125"/>
                    <a:pt x="1788459" y="60747"/>
                  </a:cubicBezTo>
                  <a:cubicBezTo>
                    <a:pt x="1773127" y="65858"/>
                    <a:pt x="1761565" y="78676"/>
                    <a:pt x="1748118" y="87641"/>
                  </a:cubicBezTo>
                  <a:cubicBezTo>
                    <a:pt x="1721224" y="69712"/>
                    <a:pt x="1698100" y="23632"/>
                    <a:pt x="1667436" y="33853"/>
                  </a:cubicBezTo>
                  <a:lnTo>
                    <a:pt x="1586753" y="60747"/>
                  </a:lnTo>
                  <a:cubicBezTo>
                    <a:pt x="1573306" y="56265"/>
                    <a:pt x="1560586" y="47300"/>
                    <a:pt x="1546412" y="47300"/>
                  </a:cubicBezTo>
                  <a:cubicBezTo>
                    <a:pt x="1518576" y="47300"/>
                    <a:pt x="1486126" y="74043"/>
                    <a:pt x="1465730" y="87641"/>
                  </a:cubicBezTo>
                  <a:cubicBezTo>
                    <a:pt x="1452283" y="83159"/>
                    <a:pt x="1437779" y="81078"/>
                    <a:pt x="1425388" y="74194"/>
                  </a:cubicBezTo>
                  <a:cubicBezTo>
                    <a:pt x="1397133" y="58497"/>
                    <a:pt x="1344706" y="20406"/>
                    <a:pt x="1344706" y="20406"/>
                  </a:cubicBezTo>
                  <a:cubicBezTo>
                    <a:pt x="1237130" y="92123"/>
                    <a:pt x="1371600" y="20406"/>
                    <a:pt x="1264024" y="20406"/>
                  </a:cubicBezTo>
                  <a:cubicBezTo>
                    <a:pt x="1235675" y="20406"/>
                    <a:pt x="1210844" y="40424"/>
                    <a:pt x="1183341" y="47300"/>
                  </a:cubicBezTo>
                  <a:cubicBezTo>
                    <a:pt x="1115802" y="64185"/>
                    <a:pt x="1147086" y="54903"/>
                    <a:pt x="1089212" y="74194"/>
                  </a:cubicBezTo>
                  <a:cubicBezTo>
                    <a:pt x="1075765" y="69712"/>
                    <a:pt x="1062959" y="59182"/>
                    <a:pt x="1048871" y="60747"/>
                  </a:cubicBezTo>
                  <a:cubicBezTo>
                    <a:pt x="1020695" y="63878"/>
                    <a:pt x="968188" y="87641"/>
                    <a:pt x="968188" y="87641"/>
                  </a:cubicBezTo>
                  <a:cubicBezTo>
                    <a:pt x="872129" y="23602"/>
                    <a:pt x="918863" y="26014"/>
                    <a:pt x="833718" y="47300"/>
                  </a:cubicBezTo>
                  <a:cubicBezTo>
                    <a:pt x="820271" y="56265"/>
                    <a:pt x="809318" y="71537"/>
                    <a:pt x="793377" y="74194"/>
                  </a:cubicBezTo>
                  <a:cubicBezTo>
                    <a:pt x="779395" y="76524"/>
                    <a:pt x="767210" y="60747"/>
                    <a:pt x="753036" y="60747"/>
                  </a:cubicBezTo>
                  <a:cubicBezTo>
                    <a:pt x="738861" y="60747"/>
                    <a:pt x="726141" y="69712"/>
                    <a:pt x="712694" y="74194"/>
                  </a:cubicBezTo>
                  <a:cubicBezTo>
                    <a:pt x="654424" y="69712"/>
                    <a:pt x="595324" y="71517"/>
                    <a:pt x="537883" y="60747"/>
                  </a:cubicBezTo>
                  <a:cubicBezTo>
                    <a:pt x="521998" y="57769"/>
                    <a:pt x="511996" y="41081"/>
                    <a:pt x="497541" y="33853"/>
                  </a:cubicBezTo>
                  <a:cubicBezTo>
                    <a:pt x="484863" y="27514"/>
                    <a:pt x="470647" y="24888"/>
                    <a:pt x="457200" y="20406"/>
                  </a:cubicBezTo>
                  <a:cubicBezTo>
                    <a:pt x="430306" y="38335"/>
                    <a:pt x="403412" y="92123"/>
                    <a:pt x="376518" y="74194"/>
                  </a:cubicBezTo>
                  <a:lnTo>
                    <a:pt x="295836" y="20406"/>
                  </a:lnTo>
                  <a:cubicBezTo>
                    <a:pt x="196136" y="86872"/>
                    <a:pt x="246848" y="80533"/>
                    <a:pt x="147918" y="60747"/>
                  </a:cubicBezTo>
                  <a:cubicBezTo>
                    <a:pt x="129989" y="65229"/>
                    <a:pt x="112611" y="74194"/>
                    <a:pt x="94130" y="74194"/>
                  </a:cubicBezTo>
                  <a:cubicBezTo>
                    <a:pt x="75649" y="74194"/>
                    <a:pt x="58637" y="63361"/>
                    <a:pt x="40341" y="60747"/>
                  </a:cubicBezTo>
                  <a:cubicBezTo>
                    <a:pt x="27029" y="58845"/>
                    <a:pt x="13447" y="60747"/>
                    <a:pt x="0" y="60747"/>
                  </a:cubicBezTo>
                  <a:lnTo>
                    <a:pt x="0" y="168324"/>
                  </a:ln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7"/>
          <p:cNvSpPr/>
          <p:nvPr/>
        </p:nvSpPr>
        <p:spPr>
          <a:xfrm>
            <a:off x="5788080" y="4325760"/>
            <a:ext cx="2987640" cy="71928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Clea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l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9"/>
          <p:cNvCxnSpPr/>
          <p:nvPr/>
        </p:nvCxnSpPr>
        <p:spPr>
          <a:xfrm>
            <a:off x="7280640" y="3079440"/>
            <a:ext cx="1080" cy="819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8:57:44Z</dcterms:created>
  <dc:creator>Lauren Hunter</dc:creator>
  <dc:description/>
  <dc:language>en-US</dc:language>
  <cp:lastModifiedBy>Lisa A. Daub</cp:lastModifiedBy>
  <dcterms:modified xsi:type="dcterms:W3CDTF">2013-04-01T12:52:24Z</dcterms:modified>
  <cp:revision>194</cp:revision>
  <dc:subject/>
  <dc:title>Nanofabrication Manufacturing Technology</dc:title>
</cp:coreProperties>
</file>