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D1E1-F208-4110-8534-36FAFC2B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1CD0-34BE-4456-AB9F-E111CF39E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D3EC-F82D-4EB9-95B7-F5D239D5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FEAC-419D-4B13-A091-0FCF593D0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A5874A1-D5D9-4F87-B44B-BBF6B021D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F6828D3-6F60-433B-AA09-5E59C3845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A217318-88FC-4FDA-8948-974A1C52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15E6855-8022-454D-8E8D-E0E12893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97EC-0900-4358-928C-55983615D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7542-9D69-4945-99CF-AA6F18E64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8068-1EC9-4958-B484-DA7DEAB6F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712E-2B71-4B36-803B-30BCE0A5EC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903D-284A-4DB7-ABB4-6B0849230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1182-7FB1-4D46-AA6F-A1F32298B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7895-B9B3-4901-8596-F72DEBA17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4C05-5FA3-42A1-8EE9-FC07121A1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1C20-6B0D-4D96-A01B-9ED4847E2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8A4A-ED4B-485B-A8D3-9CAA00CAA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272D-421D-45FF-BC99-0A9CE805C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E2AF-AC35-4CD0-8142-5777E70A2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A414-9C1D-4B78-B99C-667DA4ED9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952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notechnology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C 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087720" y="779400"/>
            <a:ext cx="3505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putter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9680" y="2104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agnets can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 for sputtering is about 40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: Basic Sputtering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(diod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(radio frequenc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2459160" y="984960"/>
            <a:ext cx="360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99"/>
                </a:solidFill>
                <a:latin typeface="Times New Roman"/>
                <a:ea typeface="Times New Roman"/>
              </a:rPr>
              <a:t>DC spu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st - basically what we have talked about so f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chematic of DC sputtering"/>
          <p:cNvPicPr/>
          <p:nvPr/>
        </p:nvPicPr>
        <p:blipFill>
          <a:blip r:embed="rId1"/>
          <a:stretch/>
        </p:blipFill>
        <p:spPr>
          <a:xfrm>
            <a:off x="1868400" y="2160720"/>
            <a:ext cx="4364280" cy="2766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579400" y="492696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404280" y="-46440"/>
            <a:ext cx="8335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utter vol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sputter yield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-2 to -5 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 Bias Vol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te is being bombarded by electrons and ions from target and plas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ttering film while you dep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atoms deposit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negative bias on the substrate to control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gnificantly change fil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 temper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with substrate 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ing from deposited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with increasing sputter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with increasing substrat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osition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with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with sputter y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increases with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le 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with increasing sputter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with increasing substrat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with increasing A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354400" y="122400"/>
            <a:ext cx="38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DC SPUTTERING RAT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0440" y="703440"/>
          <a:ext cx="8751960" cy="5871960"/>
        </p:xfrm>
        <a:graphic>
          <a:graphicData uri="http://schemas.openxmlformats.org/drawingml/2006/table">
            <a:tbl>
              <a:tblPr/>
              <a:tblGrid>
                <a:gridCol w="1573200"/>
                <a:gridCol w="2065320"/>
                <a:gridCol w="2316240"/>
                <a:gridCol w="2797200"/>
              </a:tblGrid>
              <a:tr h="1479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s/ion Sputter Yield @ 400 Vol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 Relative to C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c Rate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gstroms/Minute) Measured @ 4” Source-to-Substrate Distance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70 watts/in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 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1 Millit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ed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828440" y="1282680"/>
            <a:ext cx="5488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99"/>
                </a:solidFill>
                <a:latin typeface="Arial"/>
              </a:rPr>
              <a:t>RF Sputter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insulating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schematic of RF sputtering"/>
          <p:cNvPicPr/>
          <p:nvPr/>
        </p:nvPicPr>
        <p:blipFill>
          <a:blip r:embed="rId1"/>
          <a:stretch/>
        </p:blipFill>
        <p:spPr>
          <a:xfrm>
            <a:off x="2330280" y="2095560"/>
            <a:ext cx="4496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762520" cy="4667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AC Sputtering To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6"/>
          <p:cNvSpPr/>
          <p:nvPr/>
        </p:nvSpPr>
        <p:spPr>
          <a:xfrm>
            <a:off x="2971800" y="2590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h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6"/>
          <p:cNvSpPr/>
          <p:nvPr/>
        </p:nvSpPr>
        <p:spPr>
          <a:xfrm>
            <a:off x="4572000" y="1828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6"/>
          <p:cNvSpPr/>
          <p:nvPr/>
        </p:nvSpPr>
        <p:spPr>
          <a:xfrm>
            <a:off x="3048120" y="22860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6"/>
          <p:cNvSpPr/>
          <p:nvPr/>
        </p:nvSpPr>
        <p:spPr>
          <a:xfrm>
            <a:off x="2971800" y="3352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3809880" y="41911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rottle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6"/>
          <p:cNvSpPr/>
          <p:nvPr/>
        </p:nvSpPr>
        <p:spPr>
          <a:xfrm>
            <a:off x="685800" y="55627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F Power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6636960" y="2971800"/>
            <a:ext cx="38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6934320" y="4952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chanical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0"/>
          <p:cNvSpPr/>
          <p:nvPr/>
        </p:nvSpPr>
        <p:spPr>
          <a:xfrm>
            <a:off x="3809880" y="4950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urbo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914400" y="3048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on Ga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6"/>
          <p:cNvSpPr/>
          <p:nvPr/>
        </p:nvSpPr>
        <p:spPr>
          <a:xfrm>
            <a:off x="152280" y="4648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locking Capac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76320" y="3882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mpedance 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4572000" y="2590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3962520" y="53625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4800600" y="3809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oughing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4267080" y="6019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oreline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4"/>
          <p:cNvSpPr/>
          <p:nvPr/>
        </p:nvSpPr>
        <p:spPr>
          <a:xfrm>
            <a:off x="5811840" y="3355920"/>
            <a:ext cx="360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6"/>
          <p:cNvSpPr/>
          <p:nvPr/>
        </p:nvSpPr>
        <p:spPr>
          <a:xfrm>
            <a:off x="4745160" y="2209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nt/Pu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5491080" y="6175440"/>
            <a:ext cx="365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952560" y="474120"/>
            <a:ext cx="7266960" cy="55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99"/>
                </a:solidFill>
                <a:latin typeface="Arial"/>
              </a:rPr>
              <a:t>Magnetron Sputter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with DC or R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increase ionization of 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Higher sputter rates at lower Ar pressures (down to 0.5 mTor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gas collisions - more line of s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? increase probability of electrons striking 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electron path leng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lectric and magnetic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configuration: crossed electric and magnetic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magnets (200 Gauss) behind tar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ps electrons near cath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onization near cathods (10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electrons reach substrate (less hea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gnetron configuration"/>
          <p:cNvPicPr/>
          <p:nvPr/>
        </p:nvPicPr>
        <p:blipFill>
          <a:blip r:embed="rId1"/>
          <a:stretch/>
        </p:blipFill>
        <p:spPr>
          <a:xfrm>
            <a:off x="1090440" y="3414600"/>
            <a:ext cx="32767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poration and Sput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4520" y="2200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1518480" y="1491480"/>
            <a:ext cx="63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99"/>
                </a:solidFill>
                <a:latin typeface="Arial"/>
              </a:rPr>
              <a:t>Comparison of evaporation and spu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803240" y="2200320"/>
          <a:ext cx="5537520" cy="3297240"/>
        </p:xfrm>
        <a:graphic>
          <a:graphicData uri="http://schemas.openxmlformats.org/drawingml/2006/table">
            <a:tbl>
              <a:tblPr/>
              <a:tblGrid>
                <a:gridCol w="2559240"/>
                <a:gridCol w="2978280"/>
              </a:tblGrid>
              <a:tr h="366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UTT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energy a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energy ato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vacuum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 coll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of sight deposi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gas in fil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vacuum, plasma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coll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line of sight deposi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in fil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 grain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 grain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er grain orien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grain orien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er adhe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 adhe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457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Uses of Plasma in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itive Processes and Sput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306160" y="960840"/>
            <a:ext cx="453168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 assisted de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: evaporation and sputte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rd surface with 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ecessarily same type as in fil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s typically NOT incorporated in fil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low voltages (50 - 300 e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rearran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he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ange film proper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better or wor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213360" y="1678320"/>
            <a:ext cx="224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PUTTERING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(Often 99.999% p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sputtering targets - target materials - pvd"/>
          <p:cNvPicPr/>
          <p:nvPr/>
        </p:nvPicPr>
        <p:blipFill>
          <a:blip r:embed="rId1"/>
          <a:stretch/>
        </p:blipFill>
        <p:spPr>
          <a:xfrm>
            <a:off x="3287880" y="309708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31800" y="709560"/>
          <a:ext cx="6080400" cy="531036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12248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PUTTERING TARGETS MATERIA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on Nitr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on Carbi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icon Carb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7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Carb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icon Nitr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Ox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fnium Ox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ium Flor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Ox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ttrium Ox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n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Dibor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fnium Carb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Carb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Nitr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Nitr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ium Ox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7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Ox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rconium Ox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k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tal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Me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ici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ic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Sput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siting thin films for many, man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posit metals, semiconductors, and ins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eposi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versatile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posit many types of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eposition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u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pu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of spu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v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what are termed deposition processes--- add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n fil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types; e.g., evaporation, sputtering, chemical vapor deposition, plasma enhanced deposition, atomic layer de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ut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04920" y="4648320"/>
            <a:ext cx="8534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example of sputtering, a film is being depo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 the substrate by argon ions (green). These ions act as hamm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cking film atoms (orange) off the target (orange too). A negative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acts the Ar ions to the targ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182000" cy="4152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1"/>
          <p:cNvSpPr/>
          <p:nvPr/>
        </p:nvSpPr>
        <p:spPr>
          <a:xfrm>
            <a:off x="5491080" y="6300720"/>
            <a:ext cx="365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ut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18960" y="466092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used for sputtering can be AC or DC Gener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be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182000" cy="4152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1"/>
          <p:cNvSpPr/>
          <p:nvPr/>
        </p:nvSpPr>
        <p:spPr>
          <a:xfrm>
            <a:off x="5491080" y="6175440"/>
            <a:ext cx="365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ut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09480" y="45450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osition Process can be purely physical or it can be physical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182000" cy="4152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1"/>
          <p:cNvSpPr/>
          <p:nvPr/>
        </p:nvSpPr>
        <p:spPr>
          <a:xfrm>
            <a:off x="5491080" y="6175440"/>
            <a:ext cx="365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741600" y="1875600"/>
            <a:ext cx="7660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ve Sputter De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active gas to chamber during deposition (evaporation or sputte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, nitro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reaction takes place on substrate and 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poison target if chemical reactions are faster than sputter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reactive gas flow to get goo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ichio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incorporating excess gas into fil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ut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43434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can be simple or compound (alloyed, mixed, mult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182000" cy="4152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1"/>
          <p:cNvSpPr/>
          <p:nvPr/>
        </p:nvSpPr>
        <p:spPr>
          <a:xfrm>
            <a:off x="5491080" y="6175440"/>
            <a:ext cx="365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15:47:20Z</dcterms:created>
  <dc:creator>jgm145</dc:creator>
  <dc:description/>
  <dc:language>en-US</dc:language>
  <cp:lastModifiedBy>Lisa A. Daub</cp:lastModifiedBy>
  <dcterms:modified xsi:type="dcterms:W3CDTF">2013-04-01T12:48:23Z</dcterms:modified>
  <cp:revision>356</cp:revision>
  <dc:subject/>
  <dc:title>Nanofabrication Manufacturing Technology</dc:title>
</cp:coreProperties>
</file>