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43FE-F8F1-4AD2-9E82-25FF887CB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F822-F63D-4406-9379-7CCAD9FF7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F26A-1B0D-4427-A4AC-CEB75BD35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884F-478C-4A96-A7D0-989667E26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EE50-C302-43CA-AD1B-5FCE2326F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266A-A382-4260-A256-89B9D7AB8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4E05-191E-453A-B673-1CDCD7374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931BD-92CD-4B72-B08E-E7200E714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32E3-95E9-407C-9805-B0A45DE441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279D6-BF1B-434A-A17E-C1FD636A6F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7522-ACB6-4321-AB27-9BF75E99B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FF035-F815-47B8-A79D-1D31A5F62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82E12-3BFA-4A9A-90CE-D805234FC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8926-13DC-4A08-8802-2C8DAA9B6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AF50-E2B2-4C2A-82EA-7E7522035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457D-7DDE-4D4B-98DA-29CE4D607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6DFE-809F-4349-9897-0547877F5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290F-ACE2-4FA2-A1ED-9391AAFB3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9528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Nanotechnology Process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SC 2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550960" y="662040"/>
            <a:ext cx="35053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ve ion etching (RIE) is sometimes called plasma e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E always places the substrate on the ca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 “Plasma etching” is always used if the substrate is placed on the ano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---3 terms to keep straight: dry etching, RIE, and plasma e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944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 E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3840" y="826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reproduc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remove material at rates of 1-1000nm/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selectivity (only etch what you want etch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control the et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1598760" y="5135400"/>
            <a:ext cx="5486400" cy="1371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598760" y="4678200"/>
            <a:ext cx="5486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9"/>
          <p:cNvSpPr/>
          <p:nvPr/>
        </p:nvSpPr>
        <p:spPr>
          <a:xfrm>
            <a:off x="3198960" y="4297320"/>
            <a:ext cx="220968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1"/>
          <p:cNvSpPr/>
          <p:nvPr/>
        </p:nvSpPr>
        <p:spPr>
          <a:xfrm>
            <a:off x="1598760" y="4297320"/>
            <a:ext cx="1562040" cy="380880"/>
          </a:xfrm>
          <a:prstGeom prst="rect">
            <a:avLst/>
          </a:prstGeom>
          <a:solidFill>
            <a:srgbClr val="de02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5443560" y="4297320"/>
            <a:ext cx="1641600" cy="380880"/>
          </a:xfrm>
          <a:prstGeom prst="rect">
            <a:avLst/>
          </a:prstGeom>
          <a:solidFill>
            <a:srgbClr val="de02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y Cleaning Example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el Rea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removal (etching) domi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useful for removing organic thin layers (residue, sc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uses oxygen plasma (i.e., ozone radicals) to remove film—this is called as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y Cleaning Example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el Rea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630360" y="2170080"/>
            <a:ext cx="732456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y Cleaning Example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utter Clea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ely physical cl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2881440" y="2295360"/>
            <a:ext cx="299556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4" descr=""/>
          <p:cNvPicPr/>
          <p:nvPr/>
        </p:nvPicPr>
        <p:blipFill>
          <a:blip r:embed="rId1"/>
          <a:stretch/>
        </p:blipFill>
        <p:spPr>
          <a:xfrm>
            <a:off x="1114560" y="1886040"/>
            <a:ext cx="6505560" cy="4591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Dry Etching Example: 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Reactive Ion Etch System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4"/>
          <p:cNvSpPr/>
          <p:nvPr/>
        </p:nvSpPr>
        <p:spPr>
          <a:xfrm>
            <a:off x="5562720" y="3657600"/>
            <a:ext cx="360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5"/>
          <p:cNvSpPr/>
          <p:nvPr/>
        </p:nvSpPr>
        <p:spPr>
          <a:xfrm>
            <a:off x="7093440" y="3124080"/>
            <a:ext cx="348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6"/>
          <p:cNvSpPr/>
          <p:nvPr/>
        </p:nvSpPr>
        <p:spPr>
          <a:xfrm>
            <a:off x="6332400" y="3124080"/>
            <a:ext cx="43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6"/>
          <p:cNvSpPr/>
          <p:nvPr/>
        </p:nvSpPr>
        <p:spPr>
          <a:xfrm>
            <a:off x="4267080" y="17496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F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6"/>
          <p:cNvSpPr/>
          <p:nvPr/>
        </p:nvSpPr>
        <p:spPr>
          <a:xfrm>
            <a:off x="152280" y="595296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RF Power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6"/>
          <p:cNvSpPr/>
          <p:nvPr/>
        </p:nvSpPr>
        <p:spPr>
          <a:xfrm>
            <a:off x="4495680" y="251136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nt/Pu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6"/>
          <p:cNvSpPr/>
          <p:nvPr/>
        </p:nvSpPr>
        <p:spPr>
          <a:xfrm>
            <a:off x="2666880" y="305604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athode with backside coo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6"/>
          <p:cNvSpPr/>
          <p:nvPr/>
        </p:nvSpPr>
        <p:spPr>
          <a:xfrm>
            <a:off x="3505320" y="43434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rottle 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6"/>
          <p:cNvSpPr/>
          <p:nvPr/>
        </p:nvSpPr>
        <p:spPr>
          <a:xfrm>
            <a:off x="5943600" y="41148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G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5"/>
          <p:cNvSpPr/>
          <p:nvPr/>
        </p:nvSpPr>
        <p:spPr>
          <a:xfrm>
            <a:off x="6705720" y="49528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echanical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0"/>
          <p:cNvSpPr/>
          <p:nvPr/>
        </p:nvSpPr>
        <p:spPr>
          <a:xfrm>
            <a:off x="3505320" y="49500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urbo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6"/>
          <p:cNvSpPr/>
          <p:nvPr/>
        </p:nvSpPr>
        <p:spPr>
          <a:xfrm>
            <a:off x="838080" y="33498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on Gau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6"/>
          <p:cNvSpPr/>
          <p:nvPr/>
        </p:nvSpPr>
        <p:spPr>
          <a:xfrm>
            <a:off x="304920" y="5407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locking Capac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6"/>
          <p:cNvSpPr/>
          <p:nvPr/>
        </p:nvSpPr>
        <p:spPr>
          <a:xfrm>
            <a:off x="304920" y="4873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mpedance M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2"/>
          <p:cNvSpPr/>
          <p:nvPr/>
        </p:nvSpPr>
        <p:spPr>
          <a:xfrm>
            <a:off x="4267080" y="28162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3581280" y="54072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6"/>
          <p:cNvSpPr/>
          <p:nvPr/>
        </p:nvSpPr>
        <p:spPr>
          <a:xfrm>
            <a:off x="4191120" y="3505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Roughing 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4"/>
          <p:cNvSpPr/>
          <p:nvPr/>
        </p:nvSpPr>
        <p:spPr>
          <a:xfrm>
            <a:off x="3886200" y="609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oreline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5448240" y="6245280"/>
            <a:ext cx="35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2801880" y="1592280"/>
            <a:ext cx="2817720" cy="3033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1682640" y="658800"/>
            <a:ext cx="52707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utter etching (purely physi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lso called ion millin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235600" y="4538520"/>
            <a:ext cx="556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s anisotropic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sel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when want straight walled profile and sel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 an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for ion milling in chem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4" descr=""/>
          <p:cNvPicPr/>
          <p:nvPr/>
        </p:nvPicPr>
        <p:blipFill>
          <a:blip r:embed="rId1"/>
          <a:stretch/>
        </p:blipFill>
        <p:spPr>
          <a:xfrm>
            <a:off x="1114560" y="1886040"/>
            <a:ext cx="6505560" cy="45910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ing Physical Bombardment Off Against Chemical Att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4"/>
          <p:cNvSpPr/>
          <p:nvPr/>
        </p:nvSpPr>
        <p:spPr>
          <a:xfrm>
            <a:off x="5562720" y="3657600"/>
            <a:ext cx="360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5"/>
          <p:cNvSpPr/>
          <p:nvPr/>
        </p:nvSpPr>
        <p:spPr>
          <a:xfrm>
            <a:off x="7093440" y="3124080"/>
            <a:ext cx="348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6"/>
          <p:cNvSpPr/>
          <p:nvPr/>
        </p:nvSpPr>
        <p:spPr>
          <a:xfrm>
            <a:off x="6332400" y="3124080"/>
            <a:ext cx="43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6"/>
          <p:cNvSpPr/>
          <p:nvPr/>
        </p:nvSpPr>
        <p:spPr>
          <a:xfrm>
            <a:off x="4267080" y="17496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F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6"/>
          <p:cNvSpPr/>
          <p:nvPr/>
        </p:nvSpPr>
        <p:spPr>
          <a:xfrm>
            <a:off x="152280" y="595296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RF Power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6"/>
          <p:cNvSpPr/>
          <p:nvPr/>
        </p:nvSpPr>
        <p:spPr>
          <a:xfrm>
            <a:off x="4495680" y="251136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nt/Pu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6"/>
          <p:cNvSpPr/>
          <p:nvPr/>
        </p:nvSpPr>
        <p:spPr>
          <a:xfrm>
            <a:off x="2666880" y="305604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athode with backside coo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6"/>
          <p:cNvSpPr/>
          <p:nvPr/>
        </p:nvSpPr>
        <p:spPr>
          <a:xfrm>
            <a:off x="3505320" y="4343400"/>
            <a:ext cx="99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rottle 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6"/>
          <p:cNvSpPr/>
          <p:nvPr/>
        </p:nvSpPr>
        <p:spPr>
          <a:xfrm>
            <a:off x="5943600" y="41148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G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5"/>
          <p:cNvSpPr/>
          <p:nvPr/>
        </p:nvSpPr>
        <p:spPr>
          <a:xfrm>
            <a:off x="6705720" y="49528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echanical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0"/>
          <p:cNvSpPr/>
          <p:nvPr/>
        </p:nvSpPr>
        <p:spPr>
          <a:xfrm>
            <a:off x="3505320" y="49500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urbo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6"/>
          <p:cNvSpPr/>
          <p:nvPr/>
        </p:nvSpPr>
        <p:spPr>
          <a:xfrm>
            <a:off x="838080" y="33498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on Gau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6"/>
          <p:cNvSpPr/>
          <p:nvPr/>
        </p:nvSpPr>
        <p:spPr>
          <a:xfrm>
            <a:off x="304920" y="5407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locking Capac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6"/>
          <p:cNvSpPr/>
          <p:nvPr/>
        </p:nvSpPr>
        <p:spPr>
          <a:xfrm>
            <a:off x="304920" y="4873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mpedance M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2"/>
          <p:cNvSpPr/>
          <p:nvPr/>
        </p:nvSpPr>
        <p:spPr>
          <a:xfrm>
            <a:off x="4267080" y="28162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2"/>
          <p:cNvSpPr/>
          <p:nvPr/>
        </p:nvSpPr>
        <p:spPr>
          <a:xfrm>
            <a:off x="3581280" y="54072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6"/>
          <p:cNvSpPr/>
          <p:nvPr/>
        </p:nvSpPr>
        <p:spPr>
          <a:xfrm>
            <a:off x="4191120" y="3505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Roughing 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4"/>
          <p:cNvSpPr/>
          <p:nvPr/>
        </p:nvSpPr>
        <p:spPr>
          <a:xfrm>
            <a:off x="3886200" y="609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oreline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5445000" y="6191280"/>
            <a:ext cx="358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ma cleaning and etching processes produce less waste dispos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luent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ly used in cleaning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ly used in etching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E gives great versatility in selectivity and etch profil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1"/>
          <p:cNvSpPr/>
          <p:nvPr/>
        </p:nvSpPr>
        <p:spPr>
          <a:xfrm>
            <a:off x="45720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nit 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n Introduction to Uses of Plasma in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ctur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ubtractive Processes and E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8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1560" y="13809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ive process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ing and e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y cl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y et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ractiv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89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types: (1) those used for cleaning and (2) those used for etc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btractive processes that are based on using plasmas are what is termed dry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3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ning and Etching---a question of deg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ning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ing (term used for wet and dry processes). Term used when removing very thin films (residues, “scum”) ---film may be as thin as a few monola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-scumming (term used for wet and dry proces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hing (term used for dry cleaning based on oxygen plas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ching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t e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e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y Clean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5520" y="1095480"/>
            <a:ext cx="8261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uses a plasma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utter cleaning (purely physical; e.g., Ar plasma bombard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-scumming and ashing (can vary physical and chemical components; e.g., oxygen plas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Can dry clean with “dry ice”; i.e., solid carbon dioxide pell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y Etch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5520" y="13176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uses a 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utter etching (purely physi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ve ion etching (can vary physical and chemical compon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15:47:20Z</dcterms:created>
  <dc:creator>jgm145</dc:creator>
  <dc:description/>
  <dc:language>en-US</dc:language>
  <cp:lastModifiedBy>Lisa A. Daub</cp:lastModifiedBy>
  <dcterms:modified xsi:type="dcterms:W3CDTF">2013-04-01T12:50:13Z</dcterms:modified>
  <cp:revision>361</cp:revision>
  <dc:subject/>
  <dc:title>Nanofabrication Manufacturing Technology</dc:title>
</cp:coreProperties>
</file>