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289F-B9C5-4629-BDD0-A31BBEA43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1541-2F89-4385-9299-F1130A731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F019-F4F3-4F79-95AA-F6F24DFD1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4535-F3E2-4FAF-A2F0-06E79CBF9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2EE2-B5E5-466E-9A03-BFE90E775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F08D-0E08-46BD-8A0D-320830ABD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CA1-8CB2-4379-9628-CFE44280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965-6AD5-4359-9AB0-5E6A3120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B47D-8632-4061-8566-B3229772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528-B29D-4DA2-89FD-2A8388E6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BA72-EFFD-48AD-AEBC-9B82DBF6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E7DD-DE52-4FA4-AC83-861993C4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68E9-4C13-41BC-ADFD-B66BBA8C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770A-1AC3-4CDA-911E-1D1FEB06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BA79-63D8-43D7-81A9-B6300BC3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8E63-B46C-4C88-BCE3-1F38319B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A437-9DC8-48D9-A193-8FB68AE4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E48-C733-4428-822B-9FD88CAC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0D7E-1FCC-4A27-BE3A-29E132E9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87E5-4BEF-4BF9-9D40-00BD88D3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5424-0D3F-4DDF-BC15-1EAC119E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4CCA-7A91-4110-89F4-20904EB1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8EB6-C87D-4474-AA80-E90BA507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3E4365-A218-457E-8695-D283FA2BBF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1BCBF2-9D5A-4548-AC40-E84875A39C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1D3B9F-AD85-4C08-ADB2-609BA68F90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916CEA-737B-43FF-B58B-499B599A10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5596D4-F41B-400B-8494-8755AA375E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1E8-3FD3-46DD-A60F-94491BBC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3E4C5F-2978-41A0-AB39-DF7369DEFC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FAB9C0-2101-4BF1-BDFF-BA7CDB65B2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DAC3CD-31A0-4CF1-8B2E-F4363C4936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F86086-EBA1-4D03-ADE7-5D00C4AFE1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609112-EBD3-4813-BF12-395F914054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B0C109-05E6-4B05-992E-C9B1873790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E1D27A-6C84-414A-8918-BC29FCC2662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CB2A3-C468-41D1-8924-FC5F20CFCB4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B0656-D73B-41C0-99D3-FB9A9AFEF2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33F2D-1066-49F3-94E2-A1B1A7AFF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168-5241-432A-9A62-0282CF74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8A003-4CB3-43AB-B064-0FAFD31B1E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823F4B-DE74-4D54-A788-1123123FE8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56E35-859C-4DDE-BFA8-A6F5D12D49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DDAFF-9FAC-4A18-8182-584FC69037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443D2-C331-4096-BC6C-573B205EBB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C7359-26DE-448F-98E9-3292F42714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98B51-2FF4-4D79-B766-A3C3B0453A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B2A4F1-DE82-47A4-9A93-19DBBECF3E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C853C-F18B-4ECC-89ED-68E16D898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90A-6E81-4EED-9E1F-90802F0B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BB6-372D-4D00-B262-66825C79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65AF-4BF4-4996-9883-4A400D4A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FC0F-81B1-4D95-A0F6-081ECFB6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612F-3D78-47EF-90F2-80A43A57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A06F-8D1A-4535-AA17-1DAECB25A8D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C0B9-9B2B-4186-A8E3-B1FD06E32E3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BE93-6611-4B90-890A-5AC03F5EF1B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11A9-2B2E-43E7-B5FC-CEB55D5C67A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archaeometry.missouri.edu/xrf_overview.html" TargetMode="Externa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archaeometry.missouri.edu/xrf_overview.html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4360" y="3962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racterization, Testing of Nanotechnology Structures and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 SC 2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2660760" y="366840"/>
            <a:ext cx="3908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ary Ion Mass Spectrometry (SI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S is destructive characterization method for determining the chemical composition of a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surement can be done at the surface of a sample, or utilizing simultaneous ion milling, composition as a function of depth can be determ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surement tells what atoms are present, but it does not give information on chemical b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S is the most sensitive technique available for determining material composition.  It can detect down to one part per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 of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s are accelerated into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strike the sample it emits secondary ions from the surface of the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attered ions are accelerated and positioned by a series of magnetic fie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ons then go through a mass analyzer to separate ions for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SIMs Block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8001000" cy="49914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3060000" y="6324480"/>
            <a:ext cx="32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rchaeometry.missouri.edu/xrf_overview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 beam can be moved quickly across the surface for near surface chemical analysis, or the beam can be focused in one area to “dig” a profile into the s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the beam spot is approximately one micron in diameter.  Of course this varies by t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 source is typically Cs+,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, O , Ar+, and Ga+ at energies between 1 and 30 ke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 species will contaminate and interact with the surface depth of approximately 1 – 10 n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 Emis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ypes of ion emit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ous ionization by electron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ionization of Cs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tal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3520" y="4267080"/>
          <a:ext cx="8229600" cy="1482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on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am Cur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am Fo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eous Io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u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Io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-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e-Rou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quid Metal Io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F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eous Ion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eous ionization uses an electron gun to ionize a gaseous source of elements or molecules.  The ion beam created by this technique has a high current but is roughly foc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Ion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urface ionization, cesium is evaporated through a tungsten plug. This creates cesium ions.  This technique creates either a tightly focused ion beam or a high current b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quid Metal I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352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iquid metal ionization, a tungsten tip is covered in a metal or metal alloy that is typically liquid at or near room temperat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tip is subjected to a high electric field the tip will emit ions from the covering metal.  This process is capable of producing very tightly focused ion beams of less than 50 n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ic field used to create the ions can be turned on and off in order to create pulsed ion b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SIM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 source is typically Cs+,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, O , Ar+, and Ga+ at energies between 1 and 30 k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ions can chemically interact with the 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m chemistry is selected to minimize this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m chemistry and energy selection are part of the art of this proced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 and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ptable"/>
          <p:cNvPicPr/>
          <p:nvPr/>
        </p:nvPicPr>
        <p:blipFill>
          <a:blip r:embed="rId1"/>
          <a:stretch/>
        </p:blipFill>
        <p:spPr>
          <a:xfrm>
            <a:off x="0" y="2133720"/>
            <a:ext cx="5181480" cy="3306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rcRect l="33333" t="9495" r="29202" b="11414"/>
          <a:stretch/>
        </p:blipFill>
        <p:spPr>
          <a:xfrm>
            <a:off x="5391000" y="1600200"/>
            <a:ext cx="3753000" cy="49528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"/>
          <p:cNvSpPr/>
          <p:nvPr/>
        </p:nvSpPr>
        <p:spPr>
          <a:xfrm>
            <a:off x="7602840" y="6536880"/>
            <a:ext cx="152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ans Analytical Group 2007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tle 1"/>
          <p:cNvSpPr/>
          <p:nvPr/>
        </p:nvSpPr>
        <p:spPr>
          <a:xfrm>
            <a:off x="343080" y="1066680"/>
            <a:ext cx="8594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ni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urfac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ctur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article Based Spectroscop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on beam will sputter at a approximate rate of 0.5 to 5 nm/s. Naturally, sputter rates are a function of primary beam intensity, sample material, and crystal ori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uttered substrate ions will be approximately 1% of the incident ion st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50440"/>
            <a:ext cx="403848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 primary ion beam can contaminate the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jected species contain the incident ions, sample material, electrons, and phot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ary particles carry negative, positive, and neutral charges and they have kinetic energies that range from zero to several hundred e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0" descr="sputter"/>
          <p:cNvPicPr/>
          <p:nvPr/>
        </p:nvPicPr>
        <p:blipFill>
          <a:blip r:embed="rId1"/>
          <a:stretch/>
        </p:blipFill>
        <p:spPr>
          <a:xfrm>
            <a:off x="4648320" y="2205000"/>
            <a:ext cx="4038480" cy="29815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1"/>
          <p:cNvSpPr/>
          <p:nvPr/>
        </p:nvSpPr>
        <p:spPr>
          <a:xfrm>
            <a:off x="7241040" y="6171480"/>
            <a:ext cx="152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ans Analytical Group 2007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S De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364760"/>
            <a:ext cx="832788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ss spectrum detects both atomic and molecular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to charge ratio can be misinterpre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ly the molecules can be dissociated into atomic fragments.  This is especially true of organic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flyashp"/>
          <p:cNvPicPr/>
          <p:nvPr/>
        </p:nvPicPr>
        <p:blipFill>
          <a:blip r:embed="rId1"/>
          <a:stretch/>
        </p:blipFill>
        <p:spPr>
          <a:xfrm>
            <a:off x="838080" y="3276720"/>
            <a:ext cx="7162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572000" cy="44038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90720" y="55627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295280" y="5562720"/>
            <a:ext cx="6797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ToF-SIMS image of pharmaceutical ingredient distribution (Bentley)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SIM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ary ion signal from the sample may be shielded from reaching the detector due to substrate char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lectric samples may charge negatively and prevent positive ions from reaching the det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SIM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 few ways of preventing this negative charge build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nergy electron beams, are used to add negative charge to the sample.  This e-beam may interfere with the quadrapole det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lectric samples can be coated with a conductive layer.  Naturally, this layer will be included in the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can add an offset voltage to compensate for the negative charging.  Not a total solution, but more of an ai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SIM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from the sample's outer monolayer can be driven in about 10 n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damage is commonly called “surface mixing” or “knock o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ttering also creates surface roughness lattice imperfections, roughnes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destructive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sputdep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33526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7241040" y="6171480"/>
            <a:ext cx="152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ans Analytical Group 2007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X-Ray Photoelectron Spectros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ary Ion Mass Spectr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Photoelectron Spectroscopy (X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828800"/>
            <a:ext cx="822960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-ray Photoelectron Spectroscopy (XPS), also known as Electron Spectroscopy for Chemical Analysis (ESCA), is used to determine quantitative atomic composition and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ample is irradiated with monochromatic x-rays, resulting in the emission of photoelectrons whose energies are characteristic of the elements within the sampling vol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XPS spectra is created by plotting the number of electrons verses their binding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Photoelectron Spectroscopy (X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77560" y="1892160"/>
            <a:ext cx="4746600" cy="42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 x-ray beam usually comprised of k-alpha x-rays is focused on the sampl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absorption of incident x-rays results in the ejection of electron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energy of the ejected electrons is measured by the detecto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23"/>
          <p:cNvGrpSpPr/>
          <p:nvPr/>
        </p:nvGrpSpPr>
        <p:grpSpPr>
          <a:xfrm>
            <a:off x="5357880" y="2377080"/>
            <a:ext cx="2768400" cy="2620440"/>
            <a:chOff x="5357880" y="2377080"/>
            <a:chExt cx="2768400" cy="2620440"/>
          </a:xfrm>
        </p:grpSpPr>
        <p:sp>
          <p:nvSpPr>
            <p:cNvPr id="182" name="Oval 3"/>
            <p:cNvSpPr/>
            <p:nvPr/>
          </p:nvSpPr>
          <p:spPr>
            <a:xfrm>
              <a:off x="5852880" y="2798640"/>
              <a:ext cx="2273400" cy="219888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4"/>
            <p:cNvSpPr/>
            <p:nvPr/>
          </p:nvSpPr>
          <p:spPr>
            <a:xfrm>
              <a:off x="6105240" y="3052800"/>
              <a:ext cx="1768680" cy="171288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5"/>
            <p:cNvSpPr/>
            <p:nvPr/>
          </p:nvSpPr>
          <p:spPr>
            <a:xfrm>
              <a:off x="6357600" y="3306600"/>
              <a:ext cx="1238400" cy="11970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6"/>
            <p:cNvSpPr/>
            <p:nvPr/>
          </p:nvSpPr>
          <p:spPr>
            <a:xfrm>
              <a:off x="6694200" y="3645000"/>
              <a:ext cx="544320" cy="527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7"/>
            <p:cNvSpPr/>
            <p:nvPr/>
          </p:nvSpPr>
          <p:spPr>
            <a:xfrm>
              <a:off x="6021000" y="3136680"/>
              <a:ext cx="168120" cy="169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"/>
            <p:cNvSpPr/>
            <p:nvPr/>
          </p:nvSpPr>
          <p:spPr>
            <a:xfrm>
              <a:off x="6780240" y="2968560"/>
              <a:ext cx="168120" cy="168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9"/>
            <p:cNvSpPr/>
            <p:nvPr/>
          </p:nvSpPr>
          <p:spPr>
            <a:xfrm>
              <a:off x="7537320" y="3813120"/>
              <a:ext cx="168120" cy="169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0"/>
            <p:cNvSpPr/>
            <p:nvPr/>
          </p:nvSpPr>
          <p:spPr>
            <a:xfrm>
              <a:off x="6948360" y="4659480"/>
              <a:ext cx="168120" cy="168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1"/>
            <p:cNvSpPr/>
            <p:nvPr/>
          </p:nvSpPr>
          <p:spPr>
            <a:xfrm>
              <a:off x="6273720" y="3729240"/>
              <a:ext cx="168120" cy="169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2"/>
            <p:cNvSpPr/>
            <p:nvPr/>
          </p:nvSpPr>
          <p:spPr>
            <a:xfrm>
              <a:off x="7790040" y="4489560"/>
              <a:ext cx="168120" cy="169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3"/>
            <p:cNvSpPr/>
            <p:nvPr/>
          </p:nvSpPr>
          <p:spPr>
            <a:xfrm>
              <a:off x="6021000" y="4489560"/>
              <a:ext cx="168120" cy="169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4"/>
            <p:cNvSpPr/>
            <p:nvPr/>
          </p:nvSpPr>
          <p:spPr>
            <a:xfrm>
              <a:off x="7790040" y="3136680"/>
              <a:ext cx="168120" cy="169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4" name="Straight Arrow Connector 17"/>
            <p:cNvCxnSpPr/>
            <p:nvPr/>
          </p:nvCxnSpPr>
          <p:spPr>
            <a:xfrm flipV="1">
              <a:off x="7032240" y="2629440"/>
              <a:ext cx="842040" cy="33876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95" name="Oval 18"/>
            <p:cNvSpPr/>
            <p:nvPr/>
          </p:nvSpPr>
          <p:spPr>
            <a:xfrm>
              <a:off x="7958160" y="2460600"/>
              <a:ext cx="168120" cy="169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 rot="2040000">
              <a:off x="6019560" y="2590560"/>
              <a:ext cx="841320" cy="253800"/>
            </a:xfrm>
            <a:custGeom>
              <a:avLst/>
              <a:gdLst/>
              <a:ahLst/>
              <a:rect l="l" t="t" r="r" b="b"/>
              <a:pathLst>
                <a:path w="744718" h="251381">
                  <a:moveTo>
                    <a:pt x="0" y="241954"/>
                  </a:moveTo>
                  <a:cubicBezTo>
                    <a:pt x="33779" y="128047"/>
                    <a:pt x="67559" y="14140"/>
                    <a:pt x="94268" y="15711"/>
                  </a:cubicBezTo>
                  <a:cubicBezTo>
                    <a:pt x="120977" y="17282"/>
                    <a:pt x="136689" y="251381"/>
                    <a:pt x="160256" y="251381"/>
                  </a:cubicBezTo>
                  <a:cubicBezTo>
                    <a:pt x="183823" y="251381"/>
                    <a:pt x="208961" y="18853"/>
                    <a:pt x="235670" y="15711"/>
                  </a:cubicBezTo>
                  <a:cubicBezTo>
                    <a:pt x="262379" y="12569"/>
                    <a:pt x="296945" y="232527"/>
                    <a:pt x="320512" y="232527"/>
                  </a:cubicBezTo>
                  <a:cubicBezTo>
                    <a:pt x="344079" y="232527"/>
                    <a:pt x="353505" y="15711"/>
                    <a:pt x="377072" y="15711"/>
                  </a:cubicBezTo>
                  <a:cubicBezTo>
                    <a:pt x="400639" y="15711"/>
                    <a:pt x="438347" y="232527"/>
                    <a:pt x="461914" y="232527"/>
                  </a:cubicBezTo>
                  <a:cubicBezTo>
                    <a:pt x="485481" y="232527"/>
                    <a:pt x="494908" y="31422"/>
                    <a:pt x="518475" y="15711"/>
                  </a:cubicBezTo>
                  <a:cubicBezTo>
                    <a:pt x="542042" y="0"/>
                    <a:pt x="565609" y="119406"/>
                    <a:pt x="603316" y="138259"/>
                  </a:cubicBezTo>
                  <a:cubicBezTo>
                    <a:pt x="641023" y="157113"/>
                    <a:pt x="692870" y="142972"/>
                    <a:pt x="744718" y="12883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21"/>
            <p:cNvSpPr/>
            <p:nvPr/>
          </p:nvSpPr>
          <p:spPr>
            <a:xfrm>
              <a:off x="5357880" y="254484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-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Photoelectron Spectroscopy (X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752480"/>
            <a:ext cx="822960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tom has a unique XPS spect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S can determine elemental composition, stoichiometry, electrical/chemical states and examine surface contamin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S is an elemental analysis technique that is unique in providing chemical state information of the detected elements, such as distinguishing between sulfate and sulfide forms of the element sulf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xrf_over_fig2"/>
          <p:cNvPicPr/>
          <p:nvPr/>
        </p:nvPicPr>
        <p:blipFill>
          <a:blip r:embed="rId1"/>
          <a:stretch/>
        </p:blipFill>
        <p:spPr>
          <a:xfrm>
            <a:off x="971640" y="1538280"/>
            <a:ext cx="7086600" cy="43498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3"/>
          <p:cNvSpPr/>
          <p:nvPr/>
        </p:nvSpPr>
        <p:spPr>
          <a:xfrm>
            <a:off x="3505320" y="5888160"/>
            <a:ext cx="32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rchaeometry.missouri.edu/xrf_overview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ges &amp; Material for X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2080" y="13255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um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ultra high vac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ompatibility with UHV environment may be an issue with biologica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the elemental composition of the top 1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detect all elements except H and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limits typically ~ 0.1 atomic 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the smallest analytical area ~10 µ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nalyze metals, inorganic, poly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ompatibility with UH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Ray Photoelectron Spectros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ary Ion Mass Spectr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5:31:29Z</dcterms:created>
  <dc:creator>Dave Johnson</dc:creator>
  <dc:description/>
  <dc:language>en-US</dc:language>
  <cp:lastModifiedBy>Lisa A. Daub</cp:lastModifiedBy>
  <dcterms:modified xsi:type="dcterms:W3CDTF">2013-04-03T17:32:16Z</dcterms:modified>
  <cp:revision>10</cp:revision>
  <dc:subject/>
  <dc:title>Slide 1</dc:title>
</cp:coreProperties>
</file>