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DB09-FA96-4649-B4C5-4E448E06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430F-E5F5-45E8-9EED-69A746D6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E56-C969-4C54-9942-DF3047A6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1C0-CFDD-46F9-BA12-83708850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759-C118-4D08-A491-FCAC46E0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944-8E43-4D44-8633-224582DB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AD61C-9B95-42C8-9A78-D1C7553D01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ECFE4-5B40-4F3B-9993-38F9204290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6DA9-28A8-4D9A-BA32-4DF983366D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6956E-C66C-4708-835F-F1538F04AF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BF4DF-53C8-4876-BA38-8AA38EC710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C5BD6-8B16-4394-85B8-10112F2CDB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52A0C-E2F4-4DCB-955E-3C04B43F0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839-5631-4400-9F70-B882CA84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ABD5B-58A2-4E6D-AA31-E934E72E02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2FD7A-2819-462F-A5B5-1608AFC0DD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44119-83EC-49DA-8019-7305C05E89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2502D-4CC3-4EC4-AD37-D58B546FE1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3B56F-08F5-4EFC-8D16-717564BB32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C2EC7-8364-4AAD-9FBE-6EA4149F1E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0BE38-A17E-4B1D-976B-A6358F2681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81F7E-E7E6-494F-9B6D-59DC1222F2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C301C-1854-4D3E-9AB5-B540BA9BC7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6548A-5A6F-4B97-9CCD-58BA50EE7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8AB-7FAD-45CC-B566-FBB58ADF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1BD62-00FF-49DD-8179-6EB3400FAC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83CBB-DC62-49E7-B088-B921C2D2BC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434D6-D203-4501-BD89-7DE9A527AB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C4EAD-FBA4-48B9-92B3-B17431B416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A2C30-E4E6-429B-98AA-B74ED00045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19E55-601C-42F9-86AF-F643C90E80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9CBA-C441-41E8-BFB7-10EF91B6F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80D-19C1-412B-A24B-6407E5BF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658-2607-48BA-A80F-169391A6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884-C185-47EE-AE18-A8749CC7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CA0-6292-4388-9E2B-126CE43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40F-5449-4B76-A8F7-78192C51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3B1-5EA1-4753-8BC5-180E7C8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EA3B-9D44-4BAA-8CEB-2FF69E5552A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5DC8-0918-42CC-9290-043903F1CE9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4511-061E-4746-866C-67155CA5539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www.rpi.edu/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ciencedirect.com/science?_ob=ArticleURL&amp;_udi=B6TW0-47TNTT1-S&amp;_coverDate=03/03/2003&amp;_alid=520896443&amp;_rdoc=1&amp;_fmt=&amp;_orig=search&amp;_qd=1&amp;_cdi=5548&amp;_sort=d&amp;view=c&amp;_acct=C000014439&amp;_version=1&amp;_urlVersion=0&amp;_userid=209810&amp;md5=236496eaff774e92eac84a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2692440" y="304920"/>
            <a:ext cx="3908520" cy="2971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685800" y="3809880"/>
            <a:ext cx="8001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racterization, Testing of Nanotechnology Structure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SC 2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characterization that necessitates taking a product out of the production line for testing and characterization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s for performing certain characterization techniques ex-si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nva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quire special sample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low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ther or not a characterization method is performed in-situ or ex-situ depends on the production process and may vary from process to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ommon 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Characterization Techniqu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Diffraction (X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Photoelectron Spectroscopy (X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er Electron Spectroscopy 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Ion Mass Spectroscopy (SI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ommon 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Electron Microscopy (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ing Probe Microscopy (SPM) – AFM and S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ing Electron Microscopy (S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2280" y="1374480"/>
            <a:ext cx="49532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Mic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microscope is the oldest type of microscope and uses visible light and a system of lenses to magnify an ima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e to the size of the wavelength, only low-magnification views and pictures (~1000x) are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light microscopes can be connected to cameras and computers for simple and cost effective defect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Mic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bl fields"/>
          <p:cNvPicPr/>
          <p:nvPr/>
        </p:nvPicPr>
        <p:blipFill>
          <a:blip r:embed="rId1"/>
          <a:stretch/>
        </p:blipFill>
        <p:spPr>
          <a:xfrm>
            <a:off x="1143000" y="1600200"/>
            <a:ext cx="6791400" cy="41911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6934320" y="639936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rk, M., Serda, 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miconductor Manufacturing Techn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Prentice Hall, Upper Saddle River.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Mic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77680" y="5581800"/>
            <a:ext cx="690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croscopes in our lab are Leitz Ergol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 Microscopes with video and still camera CCD attach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12090"/>
          <p:cNvPicPr/>
          <p:nvPr/>
        </p:nvPicPr>
        <p:blipFill>
          <a:blip r:embed="rId1"/>
          <a:stretch/>
        </p:blipFill>
        <p:spPr>
          <a:xfrm>
            <a:off x="5029200" y="1981080"/>
            <a:ext cx="375300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icroscope"/>
          <p:cNvPicPr/>
          <p:nvPr/>
        </p:nvPicPr>
        <p:blipFill>
          <a:blip r:embed="rId2"/>
          <a:stretch/>
        </p:blipFill>
        <p:spPr>
          <a:xfrm>
            <a:off x="152280" y="1676520"/>
            <a:ext cx="4837320" cy="37605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6934320" y="639936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rk, M., Serda, 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miconductor Manufacturing Techn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Prentice Hall, Upper Saddle River.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Mic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NEU) Leitz Ergol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tand with coarse/fine adju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right field / dark field vertical illu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2v / 100w lamp housing with socket &amp; bu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rgonomic tilting trinocular he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ir of 10x ocul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otorized 5-Place nose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x, 10x, 20x, 50x, 100x BF/DF objec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" x 6" X-Y mechanical stage with glass 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ariable 12v/20w power supp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CD 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otoshop imaging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ble to view a variety of samp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ase of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right field/dark field m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bility to capture images with ca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imited magnification range (5 – 1000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annot measure feature depth on patterned subst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maging software requires manual adju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sharp probe and physically contacts the surface to determine the topography of the substrate’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mea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top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h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343080" y="1066680"/>
            <a:ext cx="859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sic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racterizing with Light or 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Profilometry 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3" descr="g3 npr-profilometer"/>
          <p:cNvPicPr/>
          <p:nvPr/>
        </p:nvPicPr>
        <p:blipFill>
          <a:blip r:embed="rId1"/>
          <a:stretch/>
        </p:blipFill>
        <p:spPr>
          <a:xfrm>
            <a:off x="1219320" y="1600200"/>
            <a:ext cx="7086600" cy="441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TencorProfilometer"/>
          <p:cNvPicPr/>
          <p:nvPr/>
        </p:nvPicPr>
        <p:blipFill>
          <a:blip r:embed="rId1"/>
          <a:stretch/>
        </p:blipFill>
        <p:spPr>
          <a:xfrm>
            <a:off x="4419720" y="1523880"/>
            <a:ext cx="370512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92680" y="19414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ncor 500 Alpha Step Profilo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eco Dekta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Profilometer"/>
          <p:cNvPicPr/>
          <p:nvPr/>
        </p:nvPicPr>
        <p:blipFill>
          <a:blip r:embed="rId1"/>
          <a:stretch/>
        </p:blipFill>
        <p:spPr>
          <a:xfrm>
            <a:off x="457200" y="1982880"/>
            <a:ext cx="3429000" cy="3808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hart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sometry is a measurement technique that uses the polarization of laser light to determine film th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destructive and non-contact techn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method of measuring thickness of materials that ar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444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linearly polarized laser light source that when reflected from the sample becomes elliptically polariz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arized light, is light that consists of only light rays traveling in one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hape of the reflected ellipse is measured and film thickness is determined based on given information: angle of reflection, index of refractio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variable"/>
          <p:cNvPicPr/>
          <p:nvPr/>
        </p:nvPicPr>
        <p:blipFill>
          <a:blip r:embed="rId1"/>
          <a:stretch/>
        </p:blipFill>
        <p:spPr>
          <a:xfrm>
            <a:off x="5638680" y="1523880"/>
            <a:ext cx="2857680" cy="2229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217800" y="1636560"/>
            <a:ext cx="47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lipsometer in the Nanofab is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Spectroscopic Ellipsomete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ertner Scientific L116C Ellipsometer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fers to the ability of the machin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 the angle of the incident light, optim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2"/>
          <a:stretch/>
        </p:blipFill>
        <p:spPr>
          <a:xfrm>
            <a:off x="2362320" y="3809880"/>
            <a:ext cx="4371840" cy="26193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3"/>
          <p:cNvSpPr/>
          <p:nvPr/>
        </p:nvSpPr>
        <p:spPr>
          <a:xfrm>
            <a:off x="6490440" y="652140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nsselaer Polytechnic Institute.  Joel L. Plawsk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essor of Chemical Engine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219320"/>
          <a:ext cx="8229600" cy="512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ertner L115S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er Light Sour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.8 nm Helium-Neon (R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ence Ang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º and 70º are used mos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m Di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x 1.6 mm at 50º and 1.0 x 3.0mm at 70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d of Measu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 detector-voltages are used to determine state-of-polarization of light of reflected beam.  The surface parameters Psi and Delta, and hence film thickness and index of refraction, are calcula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 Thickness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to 6000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urac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3 Angstr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a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1 Angstr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ractive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0.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ning M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or selectable; 5 point, 9 point, XY grid or contour map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ning St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tation with translation stages with built in stepping mo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pping Motor Drive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axis, programmable controller; manually or computer contro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ning Inc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º steps rotation ; 0.01 mm steps to transl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perty of transparent substance that addresses how much a light beam bends as it travels through the test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asuring two unique angles of incidence, the ellipsometer can determine index of refraction and th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index of refraction can represent changes in stoichi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514600" y="1447920"/>
            <a:ext cx="3809880" cy="4876200"/>
            <a:chOff x="2514600" y="1447920"/>
            <a:chExt cx="3809880" cy="4876200"/>
          </a:xfrm>
        </p:grpSpPr>
        <p:sp>
          <p:nvSpPr>
            <p:cNvPr id="196" name="Rectangle 4"/>
            <p:cNvSpPr/>
            <p:nvPr/>
          </p:nvSpPr>
          <p:spPr>
            <a:xfrm>
              <a:off x="2666880" y="2763360"/>
              <a:ext cx="3657600" cy="6966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2666880" y="2144520"/>
              <a:ext cx="365760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4267080" y="1447920"/>
              <a:ext cx="0" cy="25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2514600" y="1447920"/>
              <a:ext cx="1752480" cy="131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4267080" y="2763360"/>
              <a:ext cx="762120" cy="12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9"/>
            <p:cNvSpPr/>
            <p:nvPr/>
          </p:nvSpPr>
          <p:spPr>
            <a:xfrm>
              <a:off x="4268520" y="307332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 flipH="1">
              <a:off x="4571640" y="3073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3962520" y="3073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2743200" y="5317920"/>
              <a:ext cx="3581280" cy="6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2743200" y="4621320"/>
              <a:ext cx="3581280" cy="6966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=1.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4419720" y="415692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3124080" y="3769920"/>
              <a:ext cx="1295640" cy="15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4419720" y="5317920"/>
              <a:ext cx="1371600" cy="85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7"/>
            <p:cNvSpPr/>
            <p:nvPr/>
          </p:nvSpPr>
          <p:spPr>
            <a:xfrm>
              <a:off x="4573440" y="555012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>
              <a:off x="4800600" y="5782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 flipH="1">
              <a:off x="4495680" y="57823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304920" y="6095880"/>
            <a:ext cx="29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 Domain: Image generated by CNEU Staff for free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2280" y="1374480"/>
            <a:ext cx="49532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 spectroscopy is the analysis of light that has been reflected or scattered from a solid, liquid or gaseous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used to determine film thickness and index of ref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destructive and non-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relative 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4876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oadband light source is reflected off the sample at normal inci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sity of the reflected light is measured over the range of wavel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oftware utilizes the property of dispersion (the wavelength dependence of a medium’s index of refraction) to determine the film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9"/>
          <p:cNvSpPr/>
          <p:nvPr/>
        </p:nvSpPr>
        <p:spPr>
          <a:xfrm>
            <a:off x="244440" y="3276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1"/>
          <p:cNvGrpSpPr/>
          <p:nvPr/>
        </p:nvGrpSpPr>
        <p:grpSpPr>
          <a:xfrm>
            <a:off x="1066680" y="2362320"/>
            <a:ext cx="2449800" cy="2590560"/>
            <a:chOff x="1066680" y="2362320"/>
            <a:chExt cx="2449800" cy="2590560"/>
          </a:xfrm>
        </p:grpSpPr>
        <p:grpSp>
          <p:nvGrpSpPr>
            <p:cNvPr id="221" name="Group 9"/>
            <p:cNvGrpSpPr/>
            <p:nvPr/>
          </p:nvGrpSpPr>
          <p:grpSpPr>
            <a:xfrm>
              <a:off x="1828800" y="2362320"/>
              <a:ext cx="609480" cy="1371600"/>
              <a:chOff x="1828800" y="2362320"/>
              <a:chExt cx="609480" cy="1371600"/>
            </a:xfrm>
          </p:grpSpPr>
          <p:sp>
            <p:nvSpPr>
              <p:cNvPr id="222" name="Rounded Rectangle 4"/>
              <p:cNvSpPr/>
              <p:nvPr/>
            </p:nvSpPr>
            <p:spPr>
              <a:xfrm>
                <a:off x="1828800" y="2362320"/>
                <a:ext cx="609480" cy="1143000"/>
              </a:xfrm>
              <a:custGeom>
                <a:avLst/>
                <a:gdLst>
                  <a:gd name="textAreaLeft" fmla="*/ 29520 w 609480"/>
                  <a:gd name="textAreaRight" fmla="*/ 579960 w 60948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40497">
                    <a:moveTo>
                      <a:pt x="3600" y="0"/>
                    </a:moveTo>
                    <a:arcTo wR="3600" hR="3600" stAng="16200000" swAng="-5400000"/>
                    <a:lnTo>
                      <a:pt x="0" y="36897"/>
                    </a:lnTo>
                    <a:arcTo wR="3600" hR="3600" stAng="10800000" swAng="-5400000"/>
                    <a:lnTo>
                      <a:pt x="18000" y="404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a6a6a6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lowchart: Merge 5"/>
              <p:cNvSpPr/>
              <p:nvPr/>
            </p:nvSpPr>
            <p:spPr>
              <a:xfrm>
                <a:off x="1904760" y="3505320"/>
                <a:ext cx="228600" cy="228600"/>
              </a:xfrm>
              <a:prstGeom prst="flowChartMerge">
                <a:avLst/>
              </a:prstGeom>
              <a:solidFill>
                <a:srgbClr val="59595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"/>
              <p:cNvSpPr/>
              <p:nvPr/>
            </p:nvSpPr>
            <p:spPr>
              <a:xfrm>
                <a:off x="2133720" y="3429360"/>
                <a:ext cx="228600" cy="75960"/>
              </a:xfrm>
              <a:prstGeom prst="ellipse">
                <a:avLst/>
              </a:prstGeom>
              <a:solidFill>
                <a:srgbClr val="f2f2f2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lowchart: Connector 8"/>
              <p:cNvSpPr/>
              <p:nvPr/>
            </p:nvSpPr>
            <p:spPr>
              <a:xfrm>
                <a:off x="1981080" y="3657960"/>
                <a:ext cx="75960" cy="75960"/>
              </a:xfrm>
              <a:prstGeom prst="flowChartConnector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2"/>
            <p:cNvGrpSpPr/>
            <p:nvPr/>
          </p:nvGrpSpPr>
          <p:grpSpPr>
            <a:xfrm>
              <a:off x="1295280" y="4495680"/>
              <a:ext cx="1752840" cy="457200"/>
              <a:chOff x="1295280" y="4495680"/>
              <a:chExt cx="1752840" cy="45720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1295280" y="4571640"/>
                <a:ext cx="1752840" cy="381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4"/>
              <p:cNvSpPr/>
              <p:nvPr/>
            </p:nvSpPr>
            <p:spPr>
              <a:xfrm>
                <a:off x="1295280" y="4495680"/>
                <a:ext cx="1752840" cy="381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9" name="Straight Arrow Connector 16"/>
            <p:cNvCxnSpPr/>
            <p:nvPr/>
          </p:nvCxnSpPr>
          <p:spPr>
            <a:xfrm flipH="1">
              <a:off x="1980720" y="3809880"/>
              <a:ext cx="216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arrow" w="med"/>
            </a:ln>
          </p:spPr>
        </p:cxnSp>
        <p:cxnSp>
          <p:nvCxnSpPr>
            <p:cNvPr id="230" name="Straight Arrow Connector 17"/>
            <p:cNvCxnSpPr/>
            <p:nvPr/>
          </p:nvCxnSpPr>
          <p:spPr>
            <a:xfrm flipH="1">
              <a:off x="2057040" y="3809880"/>
              <a:ext cx="216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arrow" w="med"/>
            </a:ln>
          </p:spPr>
        </p:cxnSp>
        <p:cxnSp>
          <p:nvCxnSpPr>
            <p:cNvPr id="231" name="Straight Arrow Connector 19"/>
            <p:cNvCxnSpPr/>
            <p:nvPr/>
          </p:nvCxnSpPr>
          <p:spPr>
            <a:xfrm flipV="1">
              <a:off x="2209680" y="3580560"/>
              <a:ext cx="2160" cy="1143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arrow" w="med"/>
            </a:ln>
          </p:spPr>
        </p:cxnSp>
        <p:cxnSp>
          <p:nvCxnSpPr>
            <p:cNvPr id="232" name="Straight Arrow Connector 24"/>
            <p:cNvCxnSpPr>
              <a:endCxn id="225" idx="2"/>
            </p:cNvCxnSpPr>
            <p:nvPr/>
          </p:nvCxnSpPr>
          <p:spPr>
            <a:xfrm>
              <a:off x="1066680" y="3580920"/>
              <a:ext cx="915120" cy="1148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33" name="Straight Arrow Connector 26"/>
            <p:cNvCxnSpPr>
              <a:endCxn id="224" idx="5"/>
            </p:cNvCxnSpPr>
            <p:nvPr/>
          </p:nvCxnSpPr>
          <p:spPr>
            <a:xfrm flipH="1">
              <a:off x="2328840" y="3429000"/>
              <a:ext cx="643320" cy="655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34" name="TextBox 30"/>
            <p:cNvSpPr/>
            <p:nvPr/>
          </p:nvSpPr>
          <p:spPr>
            <a:xfrm>
              <a:off x="2473200" y="312408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MVC-001F"/>
          <p:cNvPicPr/>
          <p:nvPr/>
        </p:nvPicPr>
        <p:blipFill>
          <a:blip r:embed="rId1"/>
          <a:srcRect l="21319" t="5772" r="27060" b="3331"/>
          <a:stretch/>
        </p:blipFill>
        <p:spPr>
          <a:xfrm>
            <a:off x="6248520" y="1752480"/>
            <a:ext cx="2666880" cy="3838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Reflectometer"/>
          <p:cNvPicPr/>
          <p:nvPr/>
        </p:nvPicPr>
        <p:blipFill>
          <a:blip r:embed="rId2"/>
          <a:stretch/>
        </p:blipFill>
        <p:spPr>
          <a:xfrm>
            <a:off x="2286000" y="31240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407880" y="1636560"/>
            <a:ext cx="54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lection spectroscopy equipment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is a Nanometrics Nanospec A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010-1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015320" y="609588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metrics In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and 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analyze multilayer fi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easure organic films like photores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requires a reference sample of known composition and th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adhesion of liquids to a surface can be used to calculate surface energies or adhesion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surface parame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ability (hydrophobicity), cleanliness, finish, and ad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rameters can be used predict things such as adhesion, corrosion, or bio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s that analyze contact angles are either referred to 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Angle Analy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5268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ngent angle formed between a liquid drop and its supporting surface is relative to the forces at the liquid/solid or liquid/liquid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gle is representative of surface bonding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1294560" y="4199040"/>
            <a:ext cx="6688080" cy="1447200"/>
            <a:chOff x="1294560" y="4199040"/>
            <a:chExt cx="6688080" cy="1447200"/>
          </a:xfrm>
        </p:grpSpPr>
        <p:grpSp>
          <p:nvGrpSpPr>
            <p:cNvPr id="251" name="Group 5"/>
            <p:cNvGrpSpPr/>
            <p:nvPr/>
          </p:nvGrpSpPr>
          <p:grpSpPr>
            <a:xfrm>
              <a:off x="2362320" y="4808160"/>
              <a:ext cx="4572000" cy="838080"/>
              <a:chOff x="2362320" y="4808160"/>
              <a:chExt cx="4572000" cy="838080"/>
            </a:xfrm>
          </p:grpSpPr>
          <p:sp>
            <p:nvSpPr>
              <p:cNvPr id="252" name="Oval 6"/>
              <p:cNvSpPr/>
              <p:nvPr/>
            </p:nvSpPr>
            <p:spPr>
              <a:xfrm>
                <a:off x="3962520" y="4884120"/>
                <a:ext cx="990360" cy="533520"/>
              </a:xfrm>
              <a:prstGeom prst="ellipse">
                <a:avLst/>
              </a:prstGeom>
              <a:solidFill>
                <a:srgbClr val="8e94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7"/>
              <p:cNvSpPr/>
              <p:nvPr/>
            </p:nvSpPr>
            <p:spPr>
              <a:xfrm>
                <a:off x="2362320" y="5265360"/>
                <a:ext cx="4572000" cy="380880"/>
              </a:xfrm>
              <a:prstGeom prst="rect">
                <a:avLst/>
              </a:prstGeom>
              <a:solidFill>
                <a:srgbClr val="eeec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8"/>
              <p:cNvSpPr/>
              <p:nvPr/>
            </p:nvSpPr>
            <p:spPr>
              <a:xfrm>
                <a:off x="3505320" y="480816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9"/>
              <p:cNvSpPr/>
              <p:nvPr/>
            </p:nvSpPr>
            <p:spPr>
              <a:xfrm flipV="1">
                <a:off x="3359160" y="4879080"/>
                <a:ext cx="21564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10"/>
            <p:cNvSpPr/>
            <p:nvPr/>
          </p:nvSpPr>
          <p:spPr>
            <a:xfrm>
              <a:off x="7146720" y="529884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013360" y="46893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op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2"/>
            <p:cNvSpPr/>
            <p:nvPr/>
          </p:nvSpPr>
          <p:spPr>
            <a:xfrm>
              <a:off x="1294560" y="419904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act 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2438280" y="457956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tact Angle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4648320" y="1219320"/>
            <a:ext cx="3352680" cy="2971800"/>
            <a:chOff x="4648320" y="1219320"/>
            <a:chExt cx="3352680" cy="2971800"/>
          </a:xfrm>
        </p:grpSpPr>
        <p:pic>
          <p:nvPicPr>
            <p:cNvPr id="262" name="Picture 6" descr=""/>
            <p:cNvPicPr/>
            <p:nvPr/>
          </p:nvPicPr>
          <p:blipFill>
            <a:blip r:embed="rId1"/>
            <a:stretch/>
          </p:blipFill>
          <p:spPr>
            <a:xfrm>
              <a:off x="5257800" y="1600200"/>
              <a:ext cx="224316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7"/>
            <p:cNvSpPr/>
            <p:nvPr/>
          </p:nvSpPr>
          <p:spPr>
            <a:xfrm>
              <a:off x="4648320" y="121932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hn Radian DCA Analyz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8"/>
          <p:cNvGrpSpPr/>
          <p:nvPr/>
        </p:nvGrpSpPr>
        <p:grpSpPr>
          <a:xfrm>
            <a:off x="152280" y="1523880"/>
            <a:ext cx="5639040" cy="2695680"/>
            <a:chOff x="152280" y="1523880"/>
            <a:chExt cx="5639040" cy="2695680"/>
          </a:xfrm>
        </p:grpSpPr>
        <p:sp>
          <p:nvSpPr>
            <p:cNvPr id="265" name="Text Box 9"/>
            <p:cNvSpPr/>
            <p:nvPr/>
          </p:nvSpPr>
          <p:spPr>
            <a:xfrm>
              <a:off x="152280" y="1523880"/>
              <a:ext cx="563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russ DSA 10 Contact Angle Analyz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10" descr=""/>
            <p:cNvPicPr/>
            <p:nvPr/>
          </p:nvPicPr>
          <p:blipFill>
            <a:blip r:embed="rId2"/>
            <a:stretch/>
          </p:blipFill>
          <p:spPr>
            <a:xfrm>
              <a:off x="533520" y="1905120"/>
              <a:ext cx="3781440" cy="23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11"/>
          <p:cNvGrpSpPr/>
          <p:nvPr/>
        </p:nvGrpSpPr>
        <p:grpSpPr>
          <a:xfrm>
            <a:off x="4835520" y="4138560"/>
            <a:ext cx="4114800" cy="2568600"/>
            <a:chOff x="4835520" y="4138560"/>
            <a:chExt cx="4114800" cy="2568600"/>
          </a:xfrm>
        </p:grpSpPr>
        <p:sp>
          <p:nvSpPr>
            <p:cNvPr id="268" name="Text Box 12"/>
            <p:cNvSpPr/>
            <p:nvPr/>
          </p:nvSpPr>
          <p:spPr>
            <a:xfrm>
              <a:off x="4835520" y="413856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saDyne Bubble Tensio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3" descr=""/>
            <p:cNvPicPr/>
            <p:nvPr/>
          </p:nvPicPr>
          <p:blipFill>
            <a:blip r:embed="rId3"/>
            <a:stretch/>
          </p:blipFill>
          <p:spPr>
            <a:xfrm>
              <a:off x="4835520" y="4535280"/>
              <a:ext cx="3809880" cy="21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Rectangle 11"/>
          <p:cNvSpPr/>
          <p:nvPr/>
        </p:nvSpPr>
        <p:spPr>
          <a:xfrm>
            <a:off x="533520" y="42480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russ.de/en/products/contact-angle/easydro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7564320" y="219384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tech.com.pk/therm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2209680" y="548640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ensadyne.com/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processes used to determine physical and chemical properties of the nanoproduct during and / or after the fabr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ology tools are essential to determine the quality of fabrication processes and their resultant materials and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ase Study: Biological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ahmen, et al. studi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rface functionalization of amorphous silicon and silicon suboxides for biological application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findings were published in Thin Solid Films Vol 427, Issues 1-2 , 3 March 2003, Pages 201-20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428760" y="18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tac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041480" y="198108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1656720" y="1293840"/>
            <a:ext cx="54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tting angle for four different silicon and sub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 as a function of surface treatment with H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971640" y="5429160"/>
            <a:ext cx="68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nger these four samples were treated with HF the more the surface topography changed and the smaller the contact angle bec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5943600" y="6156360"/>
            <a:ext cx="32004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Dahmen,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urface functionalization of amorphous silicon and silicon suboxides for biological applications. Thin Solid Films Vol 427, Issues 1-2 , 3 March 2003, Pages 201-20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ess in a layer that may deform the substrate and create uniformity, reliability, or reproducibility concer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chanical stress from the deposited film is transmitted to the underlying substrate and to other lay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lm stress is an important concern of top down manufactu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based on a scanning laser-beam or a split-beam laser are commonly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radius of curvature of the substrate resulting from a film’s deposition can be measu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all types of standard thin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, dielectrics, semiconductors, and 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m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stressmap"/>
          <p:cNvPicPr/>
          <p:nvPr/>
        </p:nvPicPr>
        <p:blipFill>
          <a:blip r:embed="rId1"/>
          <a:stretch/>
        </p:blipFill>
        <p:spPr>
          <a:xfrm>
            <a:off x="2104920" y="2262240"/>
            <a:ext cx="4934160" cy="2867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3796920" y="533412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 Stress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934320" y="639936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rk, M., Serda, 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miconductor Manufacturing Techn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Prentice Hall, Upper Saddle River.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512640" y="1374840"/>
            <a:ext cx="49532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cal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fil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lips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ve Spect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lm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Sheet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measure of how much a sample opposes the flow of electric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s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material property that factors out the dimensions of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eet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measure of resistance of uniform thin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t resistivity can be determined by running a current between two points on a square of the layer to be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nterpreted as the end-to-end resistance of a square sample of a thin film on a subs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pends on film resistivity and thickness, but is independent of the size of the square being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70080" y="129528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etermine resistivity and therefore resistance, the following equation can be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"/>
          <p:cNvGrpSpPr/>
          <p:nvPr/>
        </p:nvGrpSpPr>
        <p:grpSpPr>
          <a:xfrm>
            <a:off x="2979000" y="1905120"/>
            <a:ext cx="1675800" cy="875880"/>
            <a:chOff x="2979000" y="1905120"/>
            <a:chExt cx="1675800" cy="875880"/>
          </a:xfrm>
        </p:grpSpPr>
        <p:sp>
          <p:nvSpPr>
            <p:cNvPr id="299" name="Text Box 5"/>
            <p:cNvSpPr/>
            <p:nvPr/>
          </p:nvSpPr>
          <p:spPr>
            <a:xfrm>
              <a:off x="2979000" y="1905120"/>
              <a:ext cx="16758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V x 2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6"/>
            <p:cNvSpPr/>
            <p:nvPr/>
          </p:nvSpPr>
          <p:spPr>
            <a:xfrm>
              <a:off x="3597120" y="2320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7"/>
          <p:cNvSpPr/>
          <p:nvPr/>
        </p:nvSpPr>
        <p:spPr>
          <a:xfrm>
            <a:off x="291600" y="297180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formation can be determined using the 4-point probe. It is a tool that is makes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the substrate.  This contact is required to determine the resistivity, but is destructiv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rfac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4-point probe has four equally spaced probes that are in a single line.  A know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) is passed between the probes and the potential difference (V) between the two in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es is measured.  This method avoids contact res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5789520" y="1752480"/>
            <a:ext cx="30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Sheet resis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 – DC voltage across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– DC current through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– spacing between the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9"/>
          <p:cNvGrpSpPr/>
          <p:nvPr/>
        </p:nvGrpSpPr>
        <p:grpSpPr>
          <a:xfrm>
            <a:off x="5084640" y="4495680"/>
            <a:ext cx="2654280" cy="2133360"/>
            <a:chOff x="5084640" y="4495680"/>
            <a:chExt cx="2654280" cy="2133360"/>
          </a:xfrm>
        </p:grpSpPr>
        <p:grpSp>
          <p:nvGrpSpPr>
            <p:cNvPr id="304" name="Group 10"/>
            <p:cNvGrpSpPr/>
            <p:nvPr/>
          </p:nvGrpSpPr>
          <p:grpSpPr>
            <a:xfrm>
              <a:off x="5084640" y="5486040"/>
              <a:ext cx="1981080" cy="1143000"/>
              <a:chOff x="5084640" y="5486040"/>
              <a:chExt cx="1981080" cy="1143000"/>
            </a:xfrm>
          </p:grpSpPr>
          <p:sp>
            <p:nvSpPr>
              <p:cNvPr id="305" name="Oval 11"/>
              <p:cNvSpPr/>
              <p:nvPr/>
            </p:nvSpPr>
            <p:spPr>
              <a:xfrm>
                <a:off x="5084640" y="6171840"/>
                <a:ext cx="198108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Group 12"/>
              <p:cNvGrpSpPr/>
              <p:nvPr/>
            </p:nvGrpSpPr>
            <p:grpSpPr>
              <a:xfrm>
                <a:off x="5694120" y="5486040"/>
                <a:ext cx="76320" cy="914400"/>
                <a:chOff x="5694120" y="5486040"/>
                <a:chExt cx="76320" cy="914400"/>
              </a:xfrm>
            </p:grpSpPr>
            <p:sp>
              <p:nvSpPr>
                <p:cNvPr id="307" name="Rectangle 13"/>
                <p:cNvSpPr/>
                <p:nvPr/>
              </p:nvSpPr>
              <p:spPr>
                <a:xfrm>
                  <a:off x="5694120" y="5486040"/>
                  <a:ext cx="76320" cy="83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4"/>
                <p:cNvSpPr/>
                <p:nvPr/>
              </p:nvSpPr>
              <p:spPr>
                <a:xfrm rot="10800000">
                  <a:off x="5694120" y="6324120"/>
                  <a:ext cx="7632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5"/>
              <p:cNvGrpSpPr/>
              <p:nvPr/>
            </p:nvGrpSpPr>
            <p:grpSpPr>
              <a:xfrm>
                <a:off x="5998680" y="5486040"/>
                <a:ext cx="76320" cy="914400"/>
                <a:chOff x="5998680" y="5486040"/>
                <a:chExt cx="76320" cy="914400"/>
              </a:xfrm>
            </p:grpSpPr>
            <p:sp>
              <p:nvSpPr>
                <p:cNvPr id="310" name="Rectangle 16"/>
                <p:cNvSpPr/>
                <p:nvPr/>
              </p:nvSpPr>
              <p:spPr>
                <a:xfrm>
                  <a:off x="5999040" y="5486040"/>
                  <a:ext cx="75960" cy="83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AutoShape 17"/>
                <p:cNvSpPr/>
                <p:nvPr/>
              </p:nvSpPr>
              <p:spPr>
                <a:xfrm rot="10800000">
                  <a:off x="5998680" y="6324120"/>
                  <a:ext cx="7596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18"/>
              <p:cNvGrpSpPr/>
              <p:nvPr/>
            </p:nvGrpSpPr>
            <p:grpSpPr>
              <a:xfrm>
                <a:off x="6303600" y="5486040"/>
                <a:ext cx="76320" cy="914400"/>
                <a:chOff x="6303600" y="5486040"/>
                <a:chExt cx="76320" cy="914400"/>
              </a:xfrm>
            </p:grpSpPr>
            <p:sp>
              <p:nvSpPr>
                <p:cNvPr id="313" name="Rectangle 19"/>
                <p:cNvSpPr/>
                <p:nvPr/>
              </p:nvSpPr>
              <p:spPr>
                <a:xfrm>
                  <a:off x="6303600" y="5486040"/>
                  <a:ext cx="76320" cy="83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0"/>
                <p:cNvSpPr/>
                <p:nvPr/>
              </p:nvSpPr>
              <p:spPr>
                <a:xfrm rot="10800000">
                  <a:off x="6303600" y="6324120"/>
                  <a:ext cx="7632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21"/>
              <p:cNvGrpSpPr/>
              <p:nvPr/>
            </p:nvGrpSpPr>
            <p:grpSpPr>
              <a:xfrm>
                <a:off x="6608520" y="5486040"/>
                <a:ext cx="76320" cy="914400"/>
                <a:chOff x="6608520" y="5486040"/>
                <a:chExt cx="76320" cy="914400"/>
              </a:xfrm>
            </p:grpSpPr>
            <p:sp>
              <p:nvSpPr>
                <p:cNvPr id="316" name="Rectangle 22"/>
                <p:cNvSpPr/>
                <p:nvPr/>
              </p:nvSpPr>
              <p:spPr>
                <a:xfrm>
                  <a:off x="6608520" y="5486040"/>
                  <a:ext cx="76320" cy="83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23"/>
                <p:cNvSpPr/>
                <p:nvPr/>
              </p:nvSpPr>
              <p:spPr>
                <a:xfrm rot="10800000">
                  <a:off x="6608520" y="6324120"/>
                  <a:ext cx="7632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Group 24"/>
            <p:cNvGrpSpPr/>
            <p:nvPr/>
          </p:nvGrpSpPr>
          <p:grpSpPr>
            <a:xfrm>
              <a:off x="5999040" y="5028840"/>
              <a:ext cx="304560" cy="304560"/>
              <a:chOff x="5999040" y="5028840"/>
              <a:chExt cx="304560" cy="304560"/>
            </a:xfrm>
          </p:grpSpPr>
          <p:sp>
            <p:nvSpPr>
              <p:cNvPr id="319" name="Oval 25"/>
              <p:cNvSpPr/>
              <p:nvPr/>
            </p:nvSpPr>
            <p:spPr>
              <a:xfrm>
                <a:off x="5999040" y="5028840"/>
                <a:ext cx="30456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26"/>
              <p:cNvSpPr/>
              <p:nvPr/>
            </p:nvSpPr>
            <p:spPr>
              <a:xfrm>
                <a:off x="6000480" y="5028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27"/>
            <p:cNvGrpSpPr/>
            <p:nvPr/>
          </p:nvGrpSpPr>
          <p:grpSpPr>
            <a:xfrm>
              <a:off x="5770440" y="4571640"/>
              <a:ext cx="304920" cy="313200"/>
              <a:chOff x="5770440" y="4571640"/>
              <a:chExt cx="304920" cy="313200"/>
            </a:xfrm>
          </p:grpSpPr>
          <p:sp>
            <p:nvSpPr>
              <p:cNvPr id="322" name="Oval 28"/>
              <p:cNvSpPr/>
              <p:nvPr/>
            </p:nvSpPr>
            <p:spPr>
              <a:xfrm>
                <a:off x="5770440" y="457164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29"/>
              <p:cNvSpPr/>
              <p:nvPr/>
            </p:nvSpPr>
            <p:spPr>
              <a:xfrm>
                <a:off x="5832720" y="4608360"/>
                <a:ext cx="23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0"/>
            <p:cNvGrpSpPr/>
            <p:nvPr/>
          </p:nvGrpSpPr>
          <p:grpSpPr>
            <a:xfrm>
              <a:off x="6227640" y="4723920"/>
              <a:ext cx="304560" cy="76320"/>
              <a:chOff x="6227640" y="4723920"/>
              <a:chExt cx="304560" cy="76320"/>
            </a:xfrm>
          </p:grpSpPr>
          <p:sp>
            <p:nvSpPr>
              <p:cNvPr id="325" name="Line 31"/>
              <p:cNvSpPr/>
              <p:nvPr/>
            </p:nvSpPr>
            <p:spPr>
              <a:xfrm>
                <a:off x="6227640" y="472428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32"/>
              <p:cNvSpPr/>
              <p:nvPr/>
            </p:nvSpPr>
            <p:spPr>
              <a:xfrm flipV="1">
                <a:off x="6303600" y="472392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33"/>
              <p:cNvGrpSpPr/>
              <p:nvPr/>
            </p:nvGrpSpPr>
            <p:grpSpPr>
              <a:xfrm>
                <a:off x="6379920" y="4723920"/>
                <a:ext cx="152280" cy="76320"/>
                <a:chOff x="6379920" y="4723920"/>
                <a:chExt cx="152280" cy="7632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456240" y="472392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379920" y="4724280"/>
                  <a:ext cx="763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Line 36"/>
            <p:cNvSpPr/>
            <p:nvPr/>
          </p:nvSpPr>
          <p:spPr>
            <a:xfrm flipH="1">
              <a:off x="607500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7"/>
            <p:cNvSpPr/>
            <p:nvPr/>
          </p:nvSpPr>
          <p:spPr>
            <a:xfrm>
              <a:off x="653256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38"/>
            <p:cNvSpPr/>
            <p:nvPr/>
          </p:nvSpPr>
          <p:spPr>
            <a:xfrm flipV="1">
              <a:off x="6684840" y="4724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9"/>
            <p:cNvSpPr/>
            <p:nvPr/>
          </p:nvSpPr>
          <p:spPr>
            <a:xfrm flipV="1">
              <a:off x="5694480" y="4724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0"/>
            <p:cNvSpPr/>
            <p:nvPr/>
          </p:nvSpPr>
          <p:spPr>
            <a:xfrm>
              <a:off x="569448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>
              <a:off x="630396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 flipV="1">
              <a:off x="5999040" y="5181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3"/>
            <p:cNvSpPr/>
            <p:nvPr/>
          </p:nvSpPr>
          <p:spPr>
            <a:xfrm>
              <a:off x="6380280" y="5181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4"/>
            <p:cNvSpPr/>
            <p:nvPr/>
          </p:nvSpPr>
          <p:spPr>
            <a:xfrm>
              <a:off x="6305400" y="44956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45"/>
            <p:cNvSpPr/>
            <p:nvPr/>
          </p:nvSpPr>
          <p:spPr>
            <a:xfrm>
              <a:off x="6382080" y="5105160"/>
              <a:ext cx="69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oltme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46"/>
            <p:cNvSpPr/>
            <p:nvPr/>
          </p:nvSpPr>
          <p:spPr>
            <a:xfrm>
              <a:off x="6686640" y="4647960"/>
              <a:ext cx="105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stant Curr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47"/>
          <p:cNvSpPr/>
          <p:nvPr/>
        </p:nvSpPr>
        <p:spPr>
          <a:xfrm>
            <a:off x="6858000" y="55627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rk, M., Serda, 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miconductor Manufacturing Techn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Prentice Hall, Upper Saddle River.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centage of quality goods produced out of the total group of goods 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is enhanced by the ability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e specific 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ubstrate in production.  It is us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rove upon manufacturing proce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situ characterization is a key part of manufacturing today.  It provides information about the quality of a device before it is comple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s yield, minimizes waste, monitors processes, provides data for statistical process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is often non-inva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situ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characterization tools in-line to gauge the progress of a manufactur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measured in-s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rate temperature, substrate surface quality, film thickness, growth/etch rates, optical constants, residual ga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dual Gas Analyzer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38360" y="961920"/>
            <a:ext cx="766728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dual Helium at 1.5x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System Pres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838080" y="1123920"/>
            <a:ext cx="74678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5:31:29Z</dcterms:created>
  <dc:creator>Dave Johnson</dc:creator>
  <dc:description/>
  <dc:language>en-US</dc:language>
  <cp:lastModifiedBy>Lisa A. Daub</cp:lastModifiedBy>
  <dcterms:modified xsi:type="dcterms:W3CDTF">2013-04-01T19:58:21Z</dcterms:modified>
  <cp:revision>16</cp:revision>
  <dc:subject/>
  <dc:title>Slide 1</dc:title>
</cp:coreProperties>
</file>