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8357-1A35-4F1A-92B4-EF190E33E1D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0D31-A304-438F-BA05-38342EBFA5A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6693-978B-4C1A-8127-80B9A81DD2F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F9A1-E8C7-4560-86A7-31A2F49AF05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220A-7F3D-4DDB-8D9F-67110A1B3DC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FA8A-E9E1-43AE-A4CD-050DB363750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B843-DAED-4A2B-A38B-CF1C281D66E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B859-AB5D-4525-AAC6-B5F13C6EFE1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D391-DD05-4A6A-B089-585A621BA01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2589-26B2-43D1-AF79-06249129AF9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A9FA-52A7-4984-AE30-3495CDCCFFC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C06C-C9E2-4F26-8169-7543265290C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11D1-039F-41C3-BD1D-1F4D76E83DB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A5C3-3742-4368-AB99-9BACA737D32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23A1-1E8B-47CE-AB57-263D25C0710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A210-1FA5-4018-8DA3-3576D7C2988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78FB-4656-44CE-B515-C0675677B86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449D-2CDB-4A6C-88DF-2D175256469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5C62-B4C0-4F46-8232-A52E748EB82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B7C9-EA49-4E39-A6CE-64C23BC53DB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F3A0-BBE3-4B4F-93A6-C86E4CF5495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B2E2-242E-4A57-AFFF-99CD26AD03E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C873-AE84-4BC0-841A-2880128E777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021F-189C-4ED5-86D2-DE9A3D6E4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3E42-4CC0-4312-8825-A4AAAA3DD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0913-FAF7-49D7-B499-796C0A7CB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97DD-4E83-48B3-A4D2-B04D498CE8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A4F6-FF3C-476E-9E1E-994C0D4B4B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836F-7CD6-4DF9-B29F-B7E143D1C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E586-798A-43B3-B34A-DD026AB8F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0365-D44D-4B36-816F-DF6728521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61E7-4E3E-483E-A811-AAE9C35FC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950C-03F6-4853-BB4C-D29553CC8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CED7-B61F-4F07-9552-52A81472D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A5BF-C872-4008-B39D-FDBA08A57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833C-592A-476D-A37B-D0D029A43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6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656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795320" y="6308640"/>
            <a:ext cx="543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raducción de Eileen Cruz Pastrana-Universidad de Puerto Rico, Río Piedr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formación General sobre Materiales, Seguridad y Equipos para la Nanotecnología </a:t>
            </a:r>
            <a:br>
              <a:rPr sz="3600"/>
            </a:br>
            <a:br>
              <a:rPr sz="36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 ESC 21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27280" y="441360"/>
            <a:ext cx="35956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57200" y="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stema de Evapor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219320" y="873000"/>
            <a:ext cx="7086600" cy="5410440"/>
            <a:chOff x="1219320" y="873000"/>
            <a:chExt cx="7086600" cy="5410440"/>
          </a:xfrm>
        </p:grpSpPr>
        <p:pic>
          <p:nvPicPr>
            <p:cNvPr id="111" name="Picture 2" descr="C:\Users\Patrick\Documents\NMT\notes for Terry\Thermal Evap.bmp"/>
            <p:cNvPicPr/>
            <p:nvPr/>
          </p:nvPicPr>
          <p:blipFill>
            <a:blip r:embed="rId1"/>
            <a:stretch/>
          </p:blipFill>
          <p:spPr>
            <a:xfrm>
              <a:off x="1219320" y="873000"/>
              <a:ext cx="708660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26"/>
            <p:cNvSpPr/>
            <p:nvPr/>
          </p:nvSpPr>
          <p:spPr>
            <a:xfrm>
              <a:off x="5943960" y="1849320"/>
              <a:ext cx="1149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Válvula de Ventilació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26"/>
            <p:cNvSpPr/>
            <p:nvPr/>
          </p:nvSpPr>
          <p:spPr>
            <a:xfrm>
              <a:off x="5943960" y="2751120"/>
              <a:ext cx="88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Válvula Interio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22"/>
            <p:cNvSpPr/>
            <p:nvPr/>
          </p:nvSpPr>
          <p:spPr>
            <a:xfrm>
              <a:off x="5058000" y="1849320"/>
              <a:ext cx="59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TC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22"/>
            <p:cNvSpPr/>
            <p:nvPr/>
          </p:nvSpPr>
          <p:spPr>
            <a:xfrm>
              <a:off x="4689720" y="4780080"/>
              <a:ext cx="59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TC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25"/>
            <p:cNvSpPr/>
            <p:nvPr/>
          </p:nvSpPr>
          <p:spPr>
            <a:xfrm>
              <a:off x="6608880" y="5456520"/>
              <a:ext cx="140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Bomba Mecánic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45"/>
            <p:cNvSpPr/>
            <p:nvPr/>
          </p:nvSpPr>
          <p:spPr>
            <a:xfrm>
              <a:off x="4467240" y="3803760"/>
              <a:ext cx="812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Válvula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Hi-Va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4"/>
            <p:cNvSpPr/>
            <p:nvPr/>
          </p:nvSpPr>
          <p:spPr>
            <a:xfrm>
              <a:off x="4938480" y="5331960"/>
              <a:ext cx="1254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Válvula de Línea Front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6"/>
            <p:cNvSpPr/>
            <p:nvPr/>
          </p:nvSpPr>
          <p:spPr>
            <a:xfrm>
              <a:off x="1795320" y="1787400"/>
              <a:ext cx="1030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Medidor de Ione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50"/>
            <p:cNvSpPr/>
            <p:nvPr/>
          </p:nvSpPr>
          <p:spPr>
            <a:xfrm>
              <a:off x="2475000" y="4254480"/>
              <a:ext cx="89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Bomba Turb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36"/>
            <p:cNvSpPr/>
            <p:nvPr/>
          </p:nvSpPr>
          <p:spPr>
            <a:xfrm>
              <a:off x="1589040" y="5307120"/>
              <a:ext cx="1236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Fuente de Energía D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6"/>
            <p:cNvSpPr/>
            <p:nvPr/>
          </p:nvSpPr>
          <p:spPr>
            <a:xfrm>
              <a:off x="3492720" y="1699920"/>
              <a:ext cx="103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ustrat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36"/>
            <p:cNvSpPr/>
            <p:nvPr/>
          </p:nvSpPr>
          <p:spPr>
            <a:xfrm>
              <a:off x="3370320" y="2523960"/>
              <a:ext cx="109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Obturado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36"/>
            <p:cNvSpPr/>
            <p:nvPr/>
          </p:nvSpPr>
          <p:spPr>
            <a:xfrm>
              <a:off x="2989440" y="3144960"/>
              <a:ext cx="133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Filamento de Tungsteno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36"/>
            <p:cNvSpPr/>
            <p:nvPr/>
          </p:nvSpPr>
          <p:spPr>
            <a:xfrm>
              <a:off x="1987560" y="2817720"/>
              <a:ext cx="1144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Monitor de Groso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8"/>
          <p:cNvSpPr/>
          <p:nvPr/>
        </p:nvSpPr>
        <p:spPr>
          <a:xfrm>
            <a:off x="6608880" y="6033960"/>
            <a:ext cx="230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Domain: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10800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unos Ejemplos de Pulverizadore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655640" y="1098720"/>
            <a:ext cx="86868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ente de energí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ulverización D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ulverización R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ción del Blanc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ulverización por Magnetr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ente de Pulveriza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ulverización Reacti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stema d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lverización Catód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1"/>
          <p:cNvGrpSpPr/>
          <p:nvPr/>
        </p:nvGrpSpPr>
        <p:grpSpPr>
          <a:xfrm>
            <a:off x="149400" y="1447920"/>
            <a:ext cx="8046720" cy="4875480"/>
            <a:chOff x="149400" y="1447920"/>
            <a:chExt cx="8046720" cy="4875480"/>
          </a:xfrm>
        </p:grpSpPr>
        <p:pic>
          <p:nvPicPr>
            <p:cNvPr id="131" name="Picture 13" descr=""/>
            <p:cNvPicPr/>
            <p:nvPr/>
          </p:nvPicPr>
          <p:blipFill>
            <a:blip r:embed="rId1"/>
            <a:stretch/>
          </p:blipFill>
          <p:spPr>
            <a:xfrm>
              <a:off x="1397160" y="1447920"/>
              <a:ext cx="5551200" cy="44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36"/>
            <p:cNvSpPr/>
            <p:nvPr/>
          </p:nvSpPr>
          <p:spPr>
            <a:xfrm>
              <a:off x="2719440" y="250380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Obturado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36"/>
            <p:cNvSpPr/>
            <p:nvPr/>
          </p:nvSpPr>
          <p:spPr>
            <a:xfrm>
              <a:off x="4406760" y="1810800"/>
              <a:ext cx="95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MF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36"/>
            <p:cNvSpPr/>
            <p:nvPr/>
          </p:nvSpPr>
          <p:spPr>
            <a:xfrm>
              <a:off x="2895480" y="2190600"/>
              <a:ext cx="95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Blanc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36"/>
            <p:cNvSpPr/>
            <p:nvPr/>
          </p:nvSpPr>
          <p:spPr>
            <a:xfrm>
              <a:off x="2865240" y="3262680"/>
              <a:ext cx="95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Sustrat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36"/>
            <p:cNvSpPr/>
            <p:nvPr/>
          </p:nvSpPr>
          <p:spPr>
            <a:xfrm>
              <a:off x="3672720" y="4061160"/>
              <a:ext cx="95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Válvula de Maripos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36"/>
            <p:cNvSpPr/>
            <p:nvPr/>
          </p:nvSpPr>
          <p:spPr>
            <a:xfrm>
              <a:off x="590400" y="5370480"/>
              <a:ext cx="108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Fuente de Energía R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20"/>
            <p:cNvSpPr/>
            <p:nvPr/>
          </p:nvSpPr>
          <p:spPr>
            <a:xfrm>
              <a:off x="6384960" y="2899440"/>
              <a:ext cx="40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r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25"/>
            <p:cNvSpPr/>
            <p:nvPr/>
          </p:nvSpPr>
          <p:spPr>
            <a:xfrm>
              <a:off x="6682320" y="4786920"/>
              <a:ext cx="151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Bomba Mecánic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50"/>
            <p:cNvSpPr/>
            <p:nvPr/>
          </p:nvSpPr>
          <p:spPr>
            <a:xfrm>
              <a:off x="3672720" y="4784040"/>
              <a:ext cx="117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Bomba Turb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36"/>
            <p:cNvSpPr/>
            <p:nvPr/>
          </p:nvSpPr>
          <p:spPr>
            <a:xfrm>
              <a:off x="1250280" y="3044880"/>
              <a:ext cx="95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Medidor de Ione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36"/>
            <p:cNvSpPr/>
            <p:nvPr/>
          </p:nvSpPr>
          <p:spPr>
            <a:xfrm>
              <a:off x="149400" y="4496400"/>
              <a:ext cx="1541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Condensador de Bloque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36"/>
            <p:cNvSpPr/>
            <p:nvPr/>
          </p:nvSpPr>
          <p:spPr>
            <a:xfrm>
              <a:off x="149400" y="3767760"/>
              <a:ext cx="1541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Ajuste de Impedanci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22"/>
            <p:cNvSpPr/>
            <p:nvPr/>
          </p:nvSpPr>
          <p:spPr>
            <a:xfrm>
              <a:off x="4406760" y="2536560"/>
              <a:ext cx="58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TC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22"/>
            <p:cNvSpPr/>
            <p:nvPr/>
          </p:nvSpPr>
          <p:spPr>
            <a:xfrm>
              <a:off x="3887640" y="5193720"/>
              <a:ext cx="58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TC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26"/>
            <p:cNvSpPr/>
            <p:nvPr/>
          </p:nvSpPr>
          <p:spPr>
            <a:xfrm>
              <a:off x="4673520" y="3602880"/>
              <a:ext cx="834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Válvula Interio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44"/>
            <p:cNvSpPr/>
            <p:nvPr/>
          </p:nvSpPr>
          <p:spPr>
            <a:xfrm>
              <a:off x="4113000" y="5803200"/>
              <a:ext cx="124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Válvula de Línea Front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24"/>
            <p:cNvSpPr/>
            <p:nvPr/>
          </p:nvSpPr>
          <p:spPr>
            <a:xfrm>
              <a:off x="5601240" y="326556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36"/>
            <p:cNvSpPr/>
            <p:nvPr/>
          </p:nvSpPr>
          <p:spPr>
            <a:xfrm>
              <a:off x="4410360" y="2173320"/>
              <a:ext cx="152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Ventilador/Purg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18"/>
          <p:cNvSpPr/>
          <p:nvPr/>
        </p:nvSpPr>
        <p:spPr>
          <a:xfrm>
            <a:off x="6608880" y="6033960"/>
            <a:ext cx="230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Domain: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57200" y="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stema d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lación de Las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2027160" y="1844640"/>
            <a:ext cx="4681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94920" y="1267920"/>
            <a:ext cx="878508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écnicas DQV descomponen los gases primarios (precursores) utilizando calor, energía RF (plasmas), excitación óptica (por ejemplo, láser). Los gases de descomposición reaccionan químicamente en el sustrato y forman una película delg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os Ejemplos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QV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 DQV de Baja Presió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QVB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 DQ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ejorada por Plasma (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Q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 DQ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ganometálico (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QV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 DQ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 Alambre Caliente (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QVA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Deposición de Capa Atómica (D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La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Q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tmosférica no usa vací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0"/>
            <a:ext cx="907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posición Química en Fase Vapor (DQV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45720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QVB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50920" y="981000"/>
            <a:ext cx="864216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isocian gases primarios con alta temperatura. Los gases disociados reaccionan químicamente con un sustrato y forman una películ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baja presión de proceso mejora la transferencia de masa de los gases primari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vee excelente revestimiento conformado y unifor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ácil control de composiciones de aleaciones con excelente pure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tivamente lenta velocidad de deposición de pelícu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necesita alta temperatura del proce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57200" y="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QVB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http://www.icmm.csic.es/fis/g/cvd2.gif"/>
          <p:cNvPicPr/>
          <p:nvPr/>
        </p:nvPicPr>
        <p:blipFill>
          <a:blip r:embed="rId1"/>
          <a:stretch/>
        </p:blipFill>
        <p:spPr>
          <a:xfrm>
            <a:off x="1149480" y="1792440"/>
            <a:ext cx="66625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444600" y="-13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QV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55760" y="800280"/>
            <a:ext cx="8569080" cy="59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nergía eléctrica (DC o comúnmente RF) aplicada al sistema provoca la disociación de fase gaseosa y la ionización de los gases de origen. Los gases primarios disociados e ionizados (por ejemplo, radicales, iones, átomos y moléculas neutrales) interactúan con un sustrato químico, físicamente formando una películ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 relativamente baja temperatura de proceso y una mayor tasa de deposición de película que DQVBP o DQVMP por las interacciones físicas (bombardeo de ione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ciona un revestimiento conforma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omposición de aleaci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fícil de controlar con precisió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QV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PECVD System"/>
          <p:cNvPicPr/>
          <p:nvPr/>
        </p:nvPicPr>
        <p:blipFill>
          <a:blip r:embed="rId1"/>
          <a:stretch/>
        </p:blipFill>
        <p:spPr>
          <a:xfrm>
            <a:off x="108000" y="907920"/>
            <a:ext cx="4433760" cy="306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www.appliedmaterials.com/sites/default/files/AKT-PECVD-430.jpg?1302798322"/>
          <p:cNvPicPr/>
          <p:nvPr/>
        </p:nvPicPr>
        <p:blipFill>
          <a:blip r:embed="rId2"/>
          <a:stretch/>
        </p:blipFill>
        <p:spPr>
          <a:xfrm>
            <a:off x="4392720" y="3567240"/>
            <a:ext cx="4643280" cy="23652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6243840" y="328464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VD cluster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4067280" y="6170760"/>
            <a:ext cx="399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appliedmaterials.com/technologies/library/akt-pecvd-system-si-tft-lc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287280" y="479412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owcorning.com/content/etronics/etronicschem/etronics_newcvd_tutorial3.asp?DCWS=Electronics&amp;DCWSS=Chemical%20Vapor%20Deposi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unos Sistemas de Procesamiento Basados en Vací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55480" y="209700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s de De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ción Física en Fase Vapor (DF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ción Química en Fase Vapor (DQ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Grabado Físico en Se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encia de Pat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dad 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raestructura de Procesamiento y de Manufa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528480" y="3508200"/>
            <a:ext cx="82296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ferencia 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formación General Sobre Sistemas Basados en Vací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79280" y="1088640"/>
            <a:ext cx="878544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rabado físico en seco es una técnica de extracción de material usando un haz de iones o de plas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unos ejemplos de ese tipo de grabad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- Grabado por Ión Reactiv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GIR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- Grabado por Plasma Inductivamente Acoplado (PI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79280" y="0"/>
            <a:ext cx="867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bado Físico en Sec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plasma reactors"/>
          <p:cNvPicPr/>
          <p:nvPr/>
        </p:nvPicPr>
        <p:blipFill>
          <a:blip r:embed="rId1"/>
          <a:stretch/>
        </p:blipFill>
        <p:spPr>
          <a:xfrm>
            <a:off x="1835280" y="4059360"/>
            <a:ext cx="5946480" cy="2286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"/>
          <p:cNvSpPr/>
          <p:nvPr/>
        </p:nvSpPr>
        <p:spPr>
          <a:xfrm>
            <a:off x="6911280" y="6237360"/>
            <a:ext cx="174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crystec.com/triplae.ht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457200" y="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bado por Ión Reactivo (GIR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19120" y="1089000"/>
            <a:ext cx="822960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operación básica del GIR  es muy similar a la de DQV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moléculas reactivas de gases (radicales) reaccionan químicamente con el sustrato sólido para producir un producto de grabado voláti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bombardeo de iones asiste en la extracción del material, y se pueden utilizar para controlar el perfil del grabad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porciona un grabado de perfil reproducible y variable de isotrópico a anisotrópi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bado por Ión Reactivo (G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881440" y="2332080"/>
          <a:ext cx="3381120" cy="2193840"/>
        </p:xfrm>
        <a:graphic>
          <a:graphicData uri="http://schemas.openxmlformats.org/drawingml/2006/table">
            <a:tbl>
              <a:tblPr/>
              <a:tblGrid>
                <a:gridCol w="338112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78" name="Picture 7" descr="http://www.plasmatherm.com/images/side-images/790-rie1.gif"/>
          <p:cNvPicPr/>
          <p:nvPr/>
        </p:nvPicPr>
        <p:blipFill>
          <a:blip r:embed="rId1"/>
          <a:stretch/>
        </p:blipFill>
        <p:spPr>
          <a:xfrm>
            <a:off x="4373640" y="1557360"/>
            <a:ext cx="4483080" cy="45720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4"/>
          <p:cNvSpPr/>
          <p:nvPr/>
        </p:nvSpPr>
        <p:spPr>
          <a:xfrm>
            <a:off x="6143040" y="6129360"/>
            <a:ext cx="20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plasmatherm.com/790-rie.htm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79280" y="5364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ucturas nanocilíndricas de silicio por GI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6" descr="P722psu-20s-7.tif"/>
          <p:cNvPicPr/>
          <p:nvPr/>
        </p:nvPicPr>
        <p:blipFill>
          <a:blip r:embed="rId2"/>
          <a:stretch/>
        </p:blipFill>
        <p:spPr>
          <a:xfrm>
            <a:off x="214200" y="17892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unos Sistemas de Procesamiento Basados en Vací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836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s de De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ción Física en Fase Vapor (DF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ción Química en Fase Vapor (DQ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bado Físico en Se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Transferencia de Pat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78920" y="1053720"/>
            <a:ext cx="88218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nsferencia de los patrones deseados a una capa (típicamente polímero) depositada sobre un sustr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técnica de transferencia de patrón usando vací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tografía por haz de electr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79280" y="0"/>
            <a:ext cx="867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erencia de Patr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3432240" y="4041720"/>
            <a:ext cx="21715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lgunos Sistemas de Caracterización Basados ​​en Vací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42920" y="141264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os ej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troscopía de Masas de Iones Secundarios (EM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troscopia de electrones Auger (E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095640" y="3933720"/>
            <a:ext cx="268128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2840" y="11426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¿Qué 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Por qué la necesitamos en nanotecnologí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os de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Sistemas Basados en Vací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Sistemas Basados en No-Vací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0" y="144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men de la Un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1120" y="162828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se entiende por un "sistema basado en vacío“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gunos ejemplos de sistemas basados en vací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            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* Sistemas de proces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            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* Sistemas de caracte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0" y="262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68360" y="0"/>
            <a:ext cx="8675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o que se entiende por un "sistema basado en vacío“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Patrick\Documents\NMT\notes for Terry\Thermal Evap.bmp"/>
          <p:cNvPicPr/>
          <p:nvPr/>
        </p:nvPicPr>
        <p:blipFill>
          <a:blip r:embed="rId1"/>
          <a:stretch/>
        </p:blipFill>
        <p:spPr>
          <a:xfrm>
            <a:off x="1152360" y="1592280"/>
            <a:ext cx="7596360" cy="4908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8"/>
          <p:cNvSpPr/>
          <p:nvPr/>
        </p:nvSpPr>
        <p:spPr>
          <a:xfrm>
            <a:off x="6421320" y="6033960"/>
            <a:ext cx="230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Domain: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431640" y="0"/>
            <a:ext cx="82296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Cuál es la ventaja 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"Sistemas Basados ​​en Vacío“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Patrick\Documents\NMT\notes for Terry\Thermal Evap.bmp"/>
          <p:cNvPicPr/>
          <p:nvPr/>
        </p:nvPicPr>
        <p:blipFill>
          <a:blip r:embed="rId1"/>
          <a:stretch/>
        </p:blipFill>
        <p:spPr>
          <a:xfrm>
            <a:off x="358920" y="1665360"/>
            <a:ext cx="4383000" cy="3635280"/>
          </a:xfrm>
          <a:prstGeom prst="rect">
            <a:avLst/>
          </a:prstGeom>
          <a:ln w="0">
            <a:noFill/>
          </a:ln>
        </p:spPr>
      </p:pic>
      <p:sp>
        <p:nvSpPr>
          <p:cNvPr id="65" name="Title 1"/>
          <p:cNvSpPr/>
          <p:nvPr/>
        </p:nvSpPr>
        <p:spPr>
          <a:xfrm>
            <a:off x="4932360" y="1808280"/>
            <a:ext cx="392436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Ambiente controlado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Control de contaminació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Prevención de colisione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Protección del medio ambiente, control de afluente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246240" y="5295960"/>
            <a:ext cx="23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Domain: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unos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istemas de Procesamiento Basados ​​en Vací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1280" y="209700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Sistemas de De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575d1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Deposición Física en Fase Vapor (DF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575d1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Deposición Química en Fase Vapor (DQ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bado en se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encia de Pat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74680" y="980640"/>
            <a:ext cx="856944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écnic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V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forman materiales básicos (llamados blancos para pulverización catódica) a una fase de vapor utilizando calor (evaporador) o bombardeo iónico físico (pulverización catódica). Los materiales en la fase de vapor son transportados a un sustrato y se condensan en la superficie del sustrato para formar una película delg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rmalmente requiere de una presión base de vacío baja para un camino libre medio largo de un material básico (por ejemplo, ~ 100m a 5x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torr). Un camino libre medio largo proporciona películas de alta pur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unos ejemplos incluy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po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ver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lación L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79280" y="0"/>
            <a:ext cx="867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posición Física en Fase Vapor (DFV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79280" y="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Fuentes de Calor del Evaporad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i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de electro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449520" y="3344760"/>
            <a:ext cx="2743200" cy="252252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54"/>
          <p:cNvGrpSpPr/>
          <p:nvPr/>
        </p:nvGrpSpPr>
        <p:grpSpPr>
          <a:xfrm>
            <a:off x="773280" y="4354560"/>
            <a:ext cx="1927080" cy="1270080"/>
            <a:chOff x="773280" y="4354560"/>
            <a:chExt cx="1927080" cy="1270080"/>
          </a:xfrm>
        </p:grpSpPr>
        <p:sp>
          <p:nvSpPr>
            <p:cNvPr id="75" name="Rectangle 3"/>
            <p:cNvSpPr/>
            <p:nvPr/>
          </p:nvSpPr>
          <p:spPr>
            <a:xfrm>
              <a:off x="773280" y="4482000"/>
              <a:ext cx="228600" cy="1142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6"/>
            <p:cNvSpPr/>
            <p:nvPr/>
          </p:nvSpPr>
          <p:spPr>
            <a:xfrm>
              <a:off x="2471760" y="4482000"/>
              <a:ext cx="228600" cy="1142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52"/>
            <p:cNvGrpSpPr/>
            <p:nvPr/>
          </p:nvGrpSpPr>
          <p:grpSpPr>
            <a:xfrm>
              <a:off x="893880" y="4469400"/>
              <a:ext cx="1692360" cy="347400"/>
              <a:chOff x="893880" y="4469400"/>
              <a:chExt cx="1692360" cy="347400"/>
            </a:xfrm>
          </p:grpSpPr>
          <p:sp>
            <p:nvSpPr>
              <p:cNvPr id="78" name="Straight Connector 5"/>
              <p:cNvSpPr/>
              <p:nvPr/>
            </p:nvSpPr>
            <p:spPr>
              <a:xfrm>
                <a:off x="893880" y="4473000"/>
                <a:ext cx="87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Straight Connector 10"/>
              <p:cNvSpPr/>
              <p:nvPr/>
            </p:nvSpPr>
            <p:spPr>
              <a:xfrm flipV="1">
                <a:off x="1325880" y="4474440"/>
                <a:ext cx="427680" cy="3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Straight Connector 12"/>
              <p:cNvSpPr/>
              <p:nvPr/>
            </p:nvSpPr>
            <p:spPr>
              <a:xfrm>
                <a:off x="1325880" y="4510080"/>
                <a:ext cx="396000" cy="3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Straight Connector 16"/>
              <p:cNvSpPr/>
              <p:nvPr/>
            </p:nvSpPr>
            <p:spPr>
              <a:xfrm flipV="1">
                <a:off x="1372680" y="4545360"/>
                <a:ext cx="349200" cy="3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Straight Connector 21"/>
              <p:cNvSpPr/>
              <p:nvPr/>
            </p:nvSpPr>
            <p:spPr>
              <a:xfrm>
                <a:off x="1376280" y="4581000"/>
                <a:ext cx="3096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Straight Connector 24"/>
              <p:cNvSpPr/>
              <p:nvPr/>
            </p:nvSpPr>
            <p:spPr>
              <a:xfrm flipV="1">
                <a:off x="1433880" y="4609440"/>
                <a:ext cx="249480" cy="3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Straight Connector 33"/>
              <p:cNvSpPr/>
              <p:nvPr/>
            </p:nvSpPr>
            <p:spPr>
              <a:xfrm>
                <a:off x="1433880" y="4642560"/>
                <a:ext cx="2160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Straight Connector 35"/>
              <p:cNvSpPr/>
              <p:nvPr/>
            </p:nvSpPr>
            <p:spPr>
              <a:xfrm flipV="1">
                <a:off x="1469880" y="4672080"/>
                <a:ext cx="178560" cy="3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Straight Connector 37"/>
              <p:cNvSpPr/>
              <p:nvPr/>
            </p:nvSpPr>
            <p:spPr>
              <a:xfrm>
                <a:off x="1469880" y="4703760"/>
                <a:ext cx="8928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Straight Connector 38"/>
              <p:cNvSpPr/>
              <p:nvPr/>
            </p:nvSpPr>
            <p:spPr>
              <a:xfrm>
                <a:off x="1553760" y="4733640"/>
                <a:ext cx="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Straight Connector 45"/>
              <p:cNvSpPr/>
              <p:nvPr/>
            </p:nvSpPr>
            <p:spPr>
              <a:xfrm>
                <a:off x="1553760" y="4816800"/>
                <a:ext cx="31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Straight Connector 48"/>
              <p:cNvSpPr/>
              <p:nvPr/>
            </p:nvSpPr>
            <p:spPr>
              <a:xfrm>
                <a:off x="1862280" y="4474440"/>
                <a:ext cx="0" cy="34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Straight Connector 49"/>
              <p:cNvSpPr/>
              <p:nvPr/>
            </p:nvSpPr>
            <p:spPr>
              <a:xfrm>
                <a:off x="1856520" y="4469400"/>
                <a:ext cx="729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53"/>
            <p:cNvSpPr/>
            <p:nvPr/>
          </p:nvSpPr>
          <p:spPr>
            <a:xfrm>
              <a:off x="816120" y="4354560"/>
              <a:ext cx="149040" cy="11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56"/>
            <p:cNvSpPr/>
            <p:nvPr/>
          </p:nvSpPr>
          <p:spPr>
            <a:xfrm>
              <a:off x="2514960" y="4354560"/>
              <a:ext cx="149040" cy="11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59"/>
          <p:cNvGrpSpPr/>
          <p:nvPr/>
        </p:nvGrpSpPr>
        <p:grpSpPr>
          <a:xfrm>
            <a:off x="6912000" y="4455720"/>
            <a:ext cx="1387440" cy="1133640"/>
            <a:chOff x="6912000" y="4455720"/>
            <a:chExt cx="1387440" cy="1133640"/>
          </a:xfrm>
        </p:grpSpPr>
        <p:sp>
          <p:nvSpPr>
            <p:cNvPr id="94" name="Trapezoid 55"/>
            <p:cNvSpPr/>
            <p:nvPr/>
          </p:nvSpPr>
          <p:spPr>
            <a:xfrm flipV="1">
              <a:off x="7029360" y="4455360"/>
              <a:ext cx="1139760" cy="1133640"/>
            </a:xfrm>
            <a:custGeom>
              <a:avLst/>
              <a:gdLst/>
              <a:ahLst/>
              <a:rect l="l" t="t" r="r" b="b"/>
              <a:pathLst>
                <a:path w="1139915" h="1132853">
                  <a:moveTo>
                    <a:pt x="0" y="1132853"/>
                  </a:moveTo>
                  <a:lnTo>
                    <a:pt x="283213" y="0"/>
                  </a:lnTo>
                  <a:lnTo>
                    <a:pt x="856702" y="0"/>
                  </a:lnTo>
                  <a:lnTo>
                    <a:pt x="1139915" y="1132853"/>
                  </a:lnTo>
                  <a:lnTo>
                    <a:pt x="0" y="1132853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8"/>
            <p:cNvGrpSpPr/>
            <p:nvPr/>
          </p:nvGrpSpPr>
          <p:grpSpPr>
            <a:xfrm>
              <a:off x="6912000" y="4564080"/>
              <a:ext cx="307440" cy="864720"/>
              <a:chOff x="6912000" y="4564080"/>
              <a:chExt cx="307440" cy="864720"/>
            </a:xfrm>
          </p:grpSpPr>
          <p:sp>
            <p:nvSpPr>
              <p:cNvPr id="96" name="Oval 57"/>
              <p:cNvSpPr/>
              <p:nvPr/>
            </p:nvSpPr>
            <p:spPr>
              <a:xfrm>
                <a:off x="6912000" y="4564080"/>
                <a:ext cx="91440" cy="9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60"/>
              <p:cNvSpPr/>
              <p:nvPr/>
            </p:nvSpPr>
            <p:spPr>
              <a:xfrm>
                <a:off x="6984000" y="4832640"/>
                <a:ext cx="91440" cy="9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61"/>
              <p:cNvSpPr/>
              <p:nvPr/>
            </p:nvSpPr>
            <p:spPr>
              <a:xfrm>
                <a:off x="7056000" y="5085000"/>
                <a:ext cx="91440" cy="9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62"/>
              <p:cNvSpPr/>
              <p:nvPr/>
            </p:nvSpPr>
            <p:spPr>
              <a:xfrm>
                <a:off x="7128000" y="5337360"/>
                <a:ext cx="91440" cy="9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65"/>
            <p:cNvGrpSpPr/>
            <p:nvPr/>
          </p:nvGrpSpPr>
          <p:grpSpPr>
            <a:xfrm>
              <a:off x="7992000" y="4564080"/>
              <a:ext cx="307440" cy="864720"/>
              <a:chOff x="7992000" y="4564080"/>
              <a:chExt cx="307440" cy="864720"/>
            </a:xfrm>
          </p:grpSpPr>
          <p:sp>
            <p:nvSpPr>
              <p:cNvPr id="101" name="Oval 66"/>
              <p:cNvSpPr/>
              <p:nvPr/>
            </p:nvSpPr>
            <p:spPr>
              <a:xfrm flipH="1">
                <a:off x="8208000" y="4564080"/>
                <a:ext cx="91440" cy="9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67"/>
              <p:cNvSpPr/>
              <p:nvPr/>
            </p:nvSpPr>
            <p:spPr>
              <a:xfrm flipH="1">
                <a:off x="8136000" y="4832640"/>
                <a:ext cx="91440" cy="9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68"/>
              <p:cNvSpPr/>
              <p:nvPr/>
            </p:nvSpPr>
            <p:spPr>
              <a:xfrm flipH="1">
                <a:off x="8064000" y="5085000"/>
                <a:ext cx="91440" cy="9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69"/>
              <p:cNvSpPr/>
              <p:nvPr/>
            </p:nvSpPr>
            <p:spPr>
              <a:xfrm flipH="1">
                <a:off x="7992000" y="5337360"/>
                <a:ext cx="91440" cy="9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TextBox 70"/>
          <p:cNvSpPr/>
          <p:nvPr/>
        </p:nvSpPr>
        <p:spPr>
          <a:xfrm>
            <a:off x="1118520" y="58323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sti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3"/>
          <p:cNvSpPr/>
          <p:nvPr/>
        </p:nvSpPr>
        <p:spPr>
          <a:xfrm>
            <a:off x="3835440" y="586728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z de electr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7108200" y="58374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cti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rapezoid 72"/>
          <p:cNvSpPr/>
          <p:nvPr/>
        </p:nvSpPr>
        <p:spPr>
          <a:xfrm flipV="1">
            <a:off x="7164360" y="4581360"/>
            <a:ext cx="882720" cy="827280"/>
          </a:xfrm>
          <a:custGeom>
            <a:avLst/>
            <a:gdLst/>
            <a:ahLst/>
            <a:rect l="l" t="t" r="r" b="b"/>
            <a:pathLst>
              <a:path w="882650" h="827088">
                <a:moveTo>
                  <a:pt x="0" y="827088"/>
                </a:moveTo>
                <a:lnTo>
                  <a:pt x="206772" y="0"/>
                </a:lnTo>
                <a:lnTo>
                  <a:pt x="675878" y="0"/>
                </a:lnTo>
                <a:lnTo>
                  <a:pt x="882650" y="827088"/>
                </a:lnTo>
                <a:lnTo>
                  <a:pt x="0" y="8270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18:11:26Z</dcterms:created>
  <dc:creator>jgm145</dc:creator>
  <dc:description/>
  <dc:language>en-US</dc:language>
  <cp:lastModifiedBy>Janet Pinhorn</cp:lastModifiedBy>
  <dcterms:modified xsi:type="dcterms:W3CDTF">2014-10-21T21:31:58Z</dcterms:modified>
  <cp:revision>492</cp:revision>
  <dc:subject/>
  <dc:title>Nanofabrication Manufacturing Technology Program</dc:title>
</cp:coreProperties>
</file>