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0F15-403F-4F0C-9227-CFC440BD1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AA12-117F-417A-80D5-96F16C92C0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815-5712-479E-9C0F-57639EB4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CD89-4A80-4E56-9865-89B89E8E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947-AE7A-4A20-866F-E3D1C290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851-8F5D-494F-ACFD-56D9A438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301A-5D97-4A25-B9EF-E35948022E2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16B-9F66-4113-B06F-2E4C13CDF89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7D4-E1FB-417E-8032-2EBB174D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D7D-2E87-41FC-A2F2-7E5893CFF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2A4-B0B8-4957-AAFF-00862A2D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D6E-5503-4D0C-8DB5-2A9232081C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840-44AA-4AE0-9462-26FD4E4BD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7EC-9F3C-4760-86B7-50989D20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64E-55FF-4BB4-864E-0ED9C1BF182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4673-89F0-437D-84AA-B9616230A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3DF-B423-44BA-9AA4-452BCEFF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D13-8F87-4735-B61C-A0EA23DE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188B-0F01-4331-9627-BA2980A1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046-037C-463D-A014-79BDA383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6FF-9EF8-4193-9B4A-B67798EC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47F-15A9-4D42-B354-BCA952928D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C2EC-685B-486A-8BD9-B1152B00A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64F-A8B3-425A-B0FF-79B2DC0C5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840-32A7-410F-9A9A-A374BA1C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D3E-CED6-4E1E-81C7-937E388A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45B-771F-4F5A-A876-A53DF0244FD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C26-9009-4607-8438-45DCEC90C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784F0-41B3-4F59-8ABE-3DED982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E7A34-E1F8-44CD-9184-70A2C34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1080C-B5EC-4C31-B443-CB0B08DD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620AF-B059-4EA0-8DC7-E653FF60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1FE461-78A5-43A3-931E-994DAA3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F5A37-EB78-4AE8-9AB9-0FA0C22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D9FE9-30C0-4885-B591-CDCA5A6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78794-FC24-4812-84BC-C39FE3D4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4D30B5-35B7-4140-A943-A6D37458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9876B-FF87-478B-93FC-3CCE8975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379E9-8DB2-41F3-BD75-F76E9FA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E896B-1EF7-4313-B6B9-C1FD0FF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8B0B0C-B33B-4A7E-9F47-A960AADA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C32D8-8C7D-4205-99EB-61015CAA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3303F-2CD2-4B77-82DF-039D088D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F8558F-97CE-404F-BB57-9BF619F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E95C54-E740-4747-B2CB-BD090E7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C2548-6AC5-4627-999B-903C184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68DC6-2627-4D89-BB67-13FC286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4D4B0-CFF1-47AE-A44C-228B5685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FED0D-9600-4305-B7D0-5D8A4A97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79F1A-3B5B-4184-9978-4F89927D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9A7E8-6F02-49CA-87B0-A456CD8B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6FE3B-70ED-4078-87C9-C08C68B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CEA50-341A-4975-88D4-5B59F8C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CA54FA-1507-4E68-9D00-A1BEF5C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D322C-E009-42F4-AB7D-C0E66A39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F5034E-B1C6-4341-BA0F-F083A16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EE941-ACCF-4B75-B0C3-85599B2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011A77-638A-4CBF-BE28-128EA75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14F-88C7-4D1A-A758-9172C430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111690-3317-4A94-920E-A90F9598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527BEA-CCE5-4796-8641-19D874E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7C14E6-8538-46B8-A8A1-4D880AC1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C5932-A780-42A1-B24C-17A08D8E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453F6E-9E76-465E-A819-98E3C03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3221D7-7A52-4B0C-BA07-798EB7E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B616CD-A258-48CF-A7CD-17CE63F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747BE5-04B4-4B9E-B276-7ACC613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61F4D5-AFC8-46BD-8DB1-D3DBC58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238CEB-F924-4066-AA07-3858ABC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429-9D4E-4458-9E32-F3B0A3D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72A83D-FA7A-46FB-A473-4F041EB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D462C3-C6CA-484C-AE6F-8717498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5BFAF-251C-428B-8DBC-838F74C6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896153-9FF6-4BEC-9988-482832FD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472FA7-4C39-4A6B-86DC-6DCFA888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16E9DF-9B04-40C0-B394-5703F03B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B5E24A-ED61-4C57-A641-C5336F5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8D9671-EA62-45D4-9E48-CC86A23B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38B7CC-C626-4F54-956C-BE10081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FB87E5-0FDB-4C51-B296-46A2E74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8DD-2879-4B25-872C-CA7F6F6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BE5DE3-B3DF-488E-BEFD-89A5AD86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C9FBC-1067-4BA7-8BFD-A6C8D8F4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0DEA80-36C7-4431-A77F-FD44C4A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7CCD02-E337-4944-8F1F-D1E5B91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5E486F-0711-49DF-BFFE-5E21AA9D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09C848-A849-45D7-B77A-A7CC236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F20BBA-BC36-487B-AE54-CFD36DDF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364455-F37D-4459-9ADC-492D8CC5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06CAF-393E-4AA9-B673-E7984541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B5709-4B55-456D-9576-D7F6BD0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7AC-82DA-4B63-8C41-3120469B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3D5D7D-5A21-40E6-8D0E-E684663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34149-9857-4490-8522-A82D02E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3348A6-036F-422D-9BAA-BCE1537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B0428B-75B5-4FD8-BA96-C0031E2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52C38D-9CFF-4F52-86D0-3CE3340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8CA4A-AEAC-4713-BF01-4F493CB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801587-899F-4B12-9AF7-9129C773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79487F-AD2C-40E6-AEED-CCACEB60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71E71-FAC1-4A2C-8F8E-1B742C78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598-40A2-4C13-B917-74AD123D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E13-207F-4064-A1BE-711B633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BE2-9011-4A80-BF5A-7F25E457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7DD-1DDA-4800-B373-8291935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803-5904-45B8-80FE-00970E7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D37-423E-4A0E-892F-F6547E2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5A7-288B-4283-8780-FDAA8836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787-6A53-4F71-AB1E-F23B3D27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98948-1CE1-41FA-96B7-F04E5853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27718-5FBB-45E5-81D2-3B62503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A14BC-C5B8-4344-A67F-6287B4CB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CE2D9-6717-403A-96E0-1D55DE55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F1A59-EA34-4A3F-88EF-2D3AEB68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40CE7-C523-42AE-8137-E601EEA9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C612A-B597-493E-B0B3-7B97A89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D21A8-01B9-41A1-B233-B852F525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C4F1F-C836-440F-83AE-C065790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B1017-F8F2-4553-A411-AEF07EA9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1F0AF-B0B9-44BA-A57C-99B2BFF4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F9218-F5C2-4F2C-B09B-B23DB3D7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73B21-78AB-4407-A57A-A074B763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D7984-792F-4121-8DE2-D298AA5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BD3D5-BBE6-4BB0-8BD0-84D9276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B933C-DA65-45B7-B20D-9B7D055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46013-DB3A-4F42-943D-EBD6CBA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6325C-094A-445D-A8F8-593BFF01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63940-40F2-487F-8263-8723A40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6B771-4FA4-477C-B9E4-98C086B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196AA-34B8-4923-B09F-0390420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CF58F-6E97-4CCA-92CC-3DCFF5C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2467A-A292-40FD-95AC-73919BC8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2B1DD-1E20-45D6-8046-6675ABBA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482E6-DB18-4B13-A17D-79FAFFF9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656FA-078C-431A-B485-F9801AC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5D91B-4A19-4126-AD13-CA021E4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6E37D-413F-4FDB-B4D3-8D3D067C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0A5C3-9575-4C52-B893-5CAE37F7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1735B-DB55-4B5A-BF3F-43DAF82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52B6D-8BAD-49F0-83BC-A054E63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14939-D912-4107-AB0D-7C43109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3CB80-6868-4AA7-8F51-050452B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B650F-A368-4B75-9E7B-0C5D74F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628F5-620D-4022-B493-E6EFFD35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631EB-BB5E-4025-8102-21DD4737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1B22E-7CE3-4E2E-99F7-A753AE0D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6C0FA-52E5-481A-8A24-8947FA4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425BB-6B24-4428-AB0E-D612111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BD8D9-50A4-46C2-A760-0527AD2C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FF768-24AA-4DB5-88D6-4B2F3BF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8B750-5EC0-455F-92AA-8D2D6C8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83B6B-C847-49E2-B874-618E9EC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CA9EE-518D-41E3-93A6-FA00D2D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80D14-5F94-4D59-A3E3-52B7CA0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BD852-025C-4EF2-9A7B-4485407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9D73E-D10A-4ED5-80D7-46B891B3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AF01C-F427-45F5-A706-DF57AA13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F9DCC-8CD3-4288-A881-D0DBD4E8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1B55C-8AB3-4833-97BE-FEC4B724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77776-1FE7-4E37-ADC7-7AE61F3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15A29-2F6E-425A-93A0-F1F3DA3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AA95C-3CB8-4098-BDD1-19E7CB06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50BF8-5152-4DC6-B127-2C1E754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B491F-6896-44E0-B2CC-A7BB12F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788AF-D95C-4662-A373-9D402EF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D4AF3-9FDA-4088-869B-B2FE785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A3D25-8898-474D-953A-778FBCA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950A1-FBAC-473F-9B1B-761B0E03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ED2F3-2EDE-4CF1-9FAB-C97662F2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4C9B5-3196-4D70-92AC-5862E0D0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04A02-0086-4C43-AFA2-8B07A56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3EE47-3BC9-45CC-8462-A8719E7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655020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6A46-FB39-43DD-9E2B-AD9F59E3C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4F1-5C6E-4F60-A122-3BE836054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A35-EF3A-4DF0-A2CF-77AA81E07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034-02A5-4791-90DB-8CFE7F3C3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A1D-DB05-4B5E-87CB-4812435C4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F5E-E0C1-4FCB-A903-24C79665D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655020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C347-43A3-4E2B-AB20-986A2B8F0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175-9B1A-49FC-BE6D-3A21FE7D5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EE1-4F49-4843-9238-CC23DBA95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D2F-E120-4FE9-888E-E16F813AD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DBB1-38B6-432D-AF40-A2D31C5FB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4F9-0051-451C-97FD-BCA7A1841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Semiconductor" TargetMode="External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solator-metal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8"/>
          <p:cNvSpPr/>
          <p:nvPr/>
        </p:nvSpPr>
        <p:spPr>
          <a:xfrm>
            <a:off x="0" y="62928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-23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minología (continuación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520" y="10954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Medida de cuán fácil es para que un campo eléctrico genere una corriente.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(Medida normalmente en mhos/centímetro o Siemens/cm; S/cm)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Generalmente se debe a los electrones y huecos e/o iones. La conductividad es un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parámetro característico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como la densidad. ¡Para un superconductor la conductividad es infi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Resis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 el recíproco de la conductividad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  (normalmente medida en ohm-centímetros; Ω-cm)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Es un parámetro característico del material como la den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Resistencia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Depende de la resistividad del material y sus dimensiones. Es una medida de cuánto el material se opone al fluxo de la corriente eléctrica. Es definida como R = V/I dónde R es la resistencia, V es el voltaje impuesta a la muestra y I es la corriente resultante.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No es un parámetro característico del material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Eléctrica de los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materiales con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electrones libres, huecos o 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undantes de modo que permiten el movimiento de cargas a distancias macroscópicas (corriente) con relativa fac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etales como la plata, el cobre, el oro y el aluminio son buenos conductores eléctricos. Tienen resistividades en el orden d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Clasificación Eléctrica de los Materia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723960" y="1278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Aislantes (dieléctr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sin conducción iónica y cuyos electrones no están disponibles para realizar el flujo eléctrico. Los electrones y huecos no están libres de modo que n y p son prácticamente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con capa de valencia llena, vídreo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cerámicas y plásticos son buenos ais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lectrones en esos materiales solamente se mueven a distancias sub-nanométricas cuando sujetados a un campo eléctrico; o sea, no conducen, solamente se polarizan (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sólo tienen comportamiento dieléctr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Clasificación Eléctrica de los Material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76080" y="1220760"/>
            <a:ext cx="8003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Semi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que tienen una conductividad entre un aislante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/cm) y un buen conductor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/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emiconductores elementales, como el silicio y el germanio, tienen cuatro electrones en la capa de valencia (elementos del grupo IV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emiconductores también pueden ser compuestos como GaAs y polímeros orgánicos como el poli(3-hexiltiofeno), abreviado como P3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odo distinto a los metales, la conductividad de los semiconductores puede ser variada significativamenete mediante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dop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8585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istencia y Resis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9"/>
          <p:cNvGrpSpPr/>
          <p:nvPr/>
        </p:nvGrpSpPr>
        <p:grpSpPr>
          <a:xfrm>
            <a:off x="2011320" y="5495760"/>
            <a:ext cx="3210840" cy="825480"/>
            <a:chOff x="2011320" y="5495760"/>
            <a:chExt cx="3210840" cy="825480"/>
          </a:xfrm>
        </p:grpSpPr>
        <p:sp>
          <p:nvSpPr>
            <p:cNvPr id="622" name="TextBox 37"/>
            <p:cNvSpPr/>
            <p:nvPr/>
          </p:nvSpPr>
          <p:spPr>
            <a:xfrm>
              <a:off x="2011320" y="55544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rreglando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=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Box 38"/>
            <p:cNvSpPr/>
            <p:nvPr/>
          </p:nvSpPr>
          <p:spPr>
            <a:xfrm>
              <a:off x="4838760" y="5495760"/>
              <a:ext cx="38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5"/>
          <p:cNvGrpSpPr/>
          <p:nvPr/>
        </p:nvGrpSpPr>
        <p:grpSpPr>
          <a:xfrm>
            <a:off x="577800" y="1978200"/>
            <a:ext cx="4093560" cy="3237120"/>
            <a:chOff x="577800" y="1978200"/>
            <a:chExt cx="4093560" cy="3237120"/>
          </a:xfrm>
        </p:grpSpPr>
        <p:grpSp>
          <p:nvGrpSpPr>
            <p:cNvPr id="625" name="Group 36"/>
            <p:cNvGrpSpPr/>
            <p:nvPr/>
          </p:nvGrpSpPr>
          <p:grpSpPr>
            <a:xfrm>
              <a:off x="577800" y="1978200"/>
              <a:ext cx="3913560" cy="2738160"/>
              <a:chOff x="577800" y="1978200"/>
              <a:chExt cx="3913560" cy="2738160"/>
            </a:xfrm>
          </p:grpSpPr>
          <p:sp>
            <p:nvSpPr>
              <p:cNvPr id="626" name="Rectangle 20"/>
              <p:cNvSpPr/>
              <p:nvPr/>
            </p:nvSpPr>
            <p:spPr>
              <a:xfrm>
                <a:off x="2822760" y="3311640"/>
                <a:ext cx="1057320" cy="1057320"/>
              </a:xfrm>
              <a:prstGeom prst="rect">
                <a:avLst/>
              </a:prstGeom>
              <a:solidFill>
                <a:srgbClr val="cccccc">
                  <a:alpha val="6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4"/>
              <p:cNvSpPr/>
              <p:nvPr/>
            </p:nvSpPr>
            <p:spPr>
              <a:xfrm>
                <a:off x="838080" y="1978200"/>
                <a:ext cx="990720" cy="14781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1511280" y="2304000"/>
                <a:ext cx="2589480" cy="1476720"/>
              </a:xfrm>
              <a:custGeom>
                <a:avLst/>
                <a:gdLst>
                  <a:gd name="textAreaLeft" fmla="*/ 0 w 2589480"/>
                  <a:gd name="textAreaRight" fmla="*/ 2589840 w 2589480"/>
                  <a:gd name="textAreaTop" fmla="*/ 0 h 1476720"/>
                  <a:gd name="textAreaBottom" fmla="*/ 1477080 h 1476720"/>
                </a:gdLst>
                <a:ahLst/>
                <a:rect l="textAreaLeft" t="textAreaTop" r="textAreaRight" b="textAreaBottom"/>
                <a:pathLst>
                  <a:path w="2588712" h="1475983">
                    <a:moveTo>
                      <a:pt x="2334016" y="851770"/>
                    </a:moveTo>
                    <a:cubicBezTo>
                      <a:pt x="2461364" y="632564"/>
                      <a:pt x="2588712" y="413358"/>
                      <a:pt x="2484328" y="275572"/>
                    </a:cubicBezTo>
                    <a:cubicBezTo>
                      <a:pt x="2379944" y="137786"/>
                      <a:pt x="1943621" y="0"/>
                      <a:pt x="1707714" y="25052"/>
                    </a:cubicBezTo>
                    <a:cubicBezTo>
                      <a:pt x="1471807" y="50104"/>
                      <a:pt x="1240076" y="225469"/>
                      <a:pt x="1068887" y="425885"/>
                    </a:cubicBezTo>
                    <a:cubicBezTo>
                      <a:pt x="897698" y="626301"/>
                      <a:pt x="841331" y="1058449"/>
                      <a:pt x="680580" y="1227550"/>
                    </a:cubicBezTo>
                    <a:cubicBezTo>
                      <a:pt x="519829" y="1396651"/>
                      <a:pt x="208767" y="1475983"/>
                      <a:pt x="104383" y="1440493"/>
                    </a:cubicBezTo>
                    <a:cubicBezTo>
                      <a:pt x="0" y="1405003"/>
                      <a:pt x="27139" y="1209805"/>
                      <a:pt x="54279" y="10146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17"/>
              <p:cNvGrpSpPr/>
              <p:nvPr/>
            </p:nvGrpSpPr>
            <p:grpSpPr>
              <a:xfrm>
                <a:off x="2464200" y="2701800"/>
                <a:ext cx="2027160" cy="2014560"/>
                <a:chOff x="2464200" y="2701800"/>
                <a:chExt cx="2027160" cy="2014560"/>
              </a:xfrm>
            </p:grpSpPr>
            <p:sp>
              <p:nvSpPr>
                <p:cNvPr id="630" name="Rectangle 14"/>
                <p:cNvSpPr/>
                <p:nvPr/>
              </p:nvSpPr>
              <p:spPr>
                <a:xfrm>
                  <a:off x="3447000" y="2701800"/>
                  <a:ext cx="1044360" cy="1044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Straight Connector 16"/>
                <p:cNvSpPr/>
                <p:nvPr/>
              </p:nvSpPr>
              <p:spPr>
                <a:xfrm flipV="1">
                  <a:off x="2464200" y="3746160"/>
                  <a:ext cx="982800" cy="97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Rectangle 5"/>
              <p:cNvSpPr/>
              <p:nvPr/>
            </p:nvSpPr>
            <p:spPr>
              <a:xfrm>
                <a:off x="927360" y="2055240"/>
                <a:ext cx="812160" cy="52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6"/>
              <p:cNvSpPr/>
              <p:nvPr/>
            </p:nvSpPr>
            <p:spPr>
              <a:xfrm>
                <a:off x="1014120" y="2654280"/>
                <a:ext cx="611280" cy="61272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Straight Connector 8"/>
              <p:cNvSpPr/>
              <p:nvPr/>
            </p:nvSpPr>
            <p:spPr>
              <a:xfrm flipV="1">
                <a:off x="1103760" y="2744640"/>
                <a:ext cx="432720" cy="43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10"/>
              <p:cNvSpPr/>
              <p:nvPr/>
            </p:nvSpPr>
            <p:spPr>
              <a:xfrm>
                <a:off x="577800" y="3331440"/>
                <a:ext cx="2365920" cy="1180080"/>
              </a:xfrm>
              <a:custGeom>
                <a:avLst/>
                <a:gdLst>
                  <a:gd name="textAreaLeft" fmla="*/ 0 w 2365920"/>
                  <a:gd name="textAreaRight" fmla="*/ 2366280 w 2365920"/>
                  <a:gd name="textAreaTop" fmla="*/ 0 h 1180080"/>
                  <a:gd name="textAreaBottom" fmla="*/ 1180440 h 1180080"/>
                </a:gdLst>
                <a:ahLst/>
                <a:rect l="textAreaLeft" t="textAreaTop" r="textAreaRight" b="textAreaBottom"/>
                <a:pathLst>
                  <a:path w="2365332" h="1179534">
                    <a:moveTo>
                      <a:pt x="2365332" y="864296"/>
                    </a:moveTo>
                    <a:cubicBezTo>
                      <a:pt x="2114811" y="994775"/>
                      <a:pt x="1864291" y="1125254"/>
                      <a:pt x="1538614" y="1152394"/>
                    </a:cubicBezTo>
                    <a:cubicBezTo>
                      <a:pt x="1212937" y="1179534"/>
                      <a:pt x="663879" y="1133605"/>
                      <a:pt x="411271" y="1027134"/>
                    </a:cubicBezTo>
                    <a:cubicBezTo>
                      <a:pt x="158663" y="920663"/>
                      <a:pt x="0" y="630477"/>
                      <a:pt x="22964" y="513567"/>
                    </a:cubicBezTo>
                    <a:cubicBezTo>
                      <a:pt x="45929" y="396658"/>
                      <a:pt x="471814" y="411271"/>
                      <a:pt x="549058" y="325677"/>
                    </a:cubicBezTo>
                    <a:cubicBezTo>
                      <a:pt x="626302" y="240083"/>
                      <a:pt x="556364" y="120041"/>
                      <a:pt x="4864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TextBox 21"/>
            <p:cNvSpPr/>
            <p:nvPr/>
          </p:nvSpPr>
          <p:spPr>
            <a:xfrm>
              <a:off x="1680120" y="4847040"/>
              <a:ext cx="22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área transver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Straight Connector 23"/>
            <p:cNvSpPr/>
            <p:nvPr/>
          </p:nvSpPr>
          <p:spPr>
            <a:xfrm flipV="1">
              <a:off x="3744360" y="3757320"/>
              <a:ext cx="927000" cy="9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24"/>
            <p:cNvSpPr/>
            <p:nvPr/>
          </p:nvSpPr>
          <p:spPr>
            <a:xfrm>
              <a:off x="4261680" y="412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TextBox 26"/>
          <p:cNvSpPr/>
          <p:nvPr/>
        </p:nvSpPr>
        <p:spPr>
          <a:xfrm>
            <a:off x="5886720" y="3168720"/>
            <a:ext cx="259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mplos de 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Ohms-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: O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: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: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38"/>
          <p:cNvGrpSpPr/>
          <p:nvPr/>
        </p:nvGrpSpPr>
        <p:grpSpPr>
          <a:xfrm>
            <a:off x="4826160" y="1327320"/>
            <a:ext cx="2674800" cy="1486080"/>
            <a:chOff x="4826160" y="1327320"/>
            <a:chExt cx="2674800" cy="1486080"/>
          </a:xfrm>
        </p:grpSpPr>
        <p:grpSp>
          <p:nvGrpSpPr>
            <p:cNvPr id="641" name="Group 39"/>
            <p:cNvGrpSpPr/>
            <p:nvPr/>
          </p:nvGrpSpPr>
          <p:grpSpPr>
            <a:xfrm>
              <a:off x="5992560" y="1527840"/>
              <a:ext cx="1508400" cy="825480"/>
              <a:chOff x="5992560" y="1527840"/>
              <a:chExt cx="1508400" cy="825480"/>
            </a:xfrm>
          </p:grpSpPr>
          <p:sp>
            <p:nvSpPr>
              <p:cNvPr id="642" name="TextBox 37"/>
              <p:cNvSpPr/>
              <p:nvPr/>
            </p:nvSpPr>
            <p:spPr>
              <a:xfrm>
                <a:off x="5992560" y="166536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ρ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R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Box 38"/>
              <p:cNvSpPr/>
              <p:nvPr/>
            </p:nvSpPr>
            <p:spPr>
              <a:xfrm>
                <a:off x="7117560" y="1527840"/>
                <a:ext cx="383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TextBox 28"/>
            <p:cNvSpPr/>
            <p:nvPr/>
          </p:nvSpPr>
          <p:spPr>
            <a:xfrm>
              <a:off x="4826160" y="13273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iv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Box 29"/>
            <p:cNvSpPr/>
            <p:nvPr/>
          </p:nvSpPr>
          <p:spPr>
            <a:xfrm>
              <a:off x="6118200" y="244512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Straight Arrow Connector 33"/>
            <p:cNvCxnSpPr>
              <a:stCxn id="644" idx="2"/>
              <a:endCxn id="642" idx="1"/>
            </p:cNvCxnSpPr>
            <p:nvPr/>
          </p:nvCxnSpPr>
          <p:spPr>
            <a:xfrm>
              <a:off x="5434560" y="1697040"/>
              <a:ext cx="554040" cy="20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47" name="Straight Arrow Connector 34"/>
            <p:cNvCxnSpPr>
              <a:stCxn id="645" idx="0"/>
            </p:cNvCxnSpPr>
            <p:nvPr/>
          </p:nvCxnSpPr>
          <p:spPr>
            <a:xfrm flipH="1" flipV="1">
              <a:off x="6701760" y="2041560"/>
              <a:ext cx="7668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48" name="Straight Connector 3"/>
          <p:cNvSpPr/>
          <p:nvPr/>
        </p:nvSpPr>
        <p:spPr>
          <a:xfrm flipV="1">
            <a:off x="2822400" y="2701800"/>
            <a:ext cx="624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traight Connector 8"/>
          <p:cNvSpPr/>
          <p:nvPr/>
        </p:nvSpPr>
        <p:spPr>
          <a:xfrm flipV="1">
            <a:off x="3879720" y="2716200"/>
            <a:ext cx="61128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879720" y="3746160"/>
            <a:ext cx="61128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720" y="2590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blemos primeramente de corrientes eléctricas debido a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electrones y hue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 esto, debemos recordar el hecho que solamente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ciertos niveles de energía están permitidos para los electrones en los materia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301920" y="4075200"/>
          <a:ext cx="2684520" cy="2047680"/>
        </p:xfrm>
        <a:graphic>
          <a:graphicData uri="http://schemas.openxmlformats.org/drawingml/2006/table">
            <a:tbl>
              <a:tblPr/>
              <a:tblGrid>
                <a:gridCol w="1290600"/>
                <a:gridCol w="1393920"/>
              </a:tblGrid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ivel de energ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erg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3.6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.4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51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.85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.54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406440" y="409680"/>
            <a:ext cx="8147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lamente hay ciertos niveles de energía permitidos para los electrones en los materiales. Ejemplo: niveles en el átomo de hidróge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4"/>
          <p:cNvSpPr/>
          <p:nvPr/>
        </p:nvSpPr>
        <p:spPr>
          <a:xfrm>
            <a:off x="2590920" y="1676520"/>
            <a:ext cx="4952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0"/>
          <p:cNvSpPr/>
          <p:nvPr/>
        </p:nvSpPr>
        <p:spPr>
          <a:xfrm>
            <a:off x="2666880" y="2220840"/>
            <a:ext cx="51818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21"/>
          <p:cNvSpPr/>
          <p:nvPr/>
        </p:nvSpPr>
        <p:spPr>
          <a:xfrm>
            <a:off x="2666880" y="1828800"/>
            <a:ext cx="5334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22"/>
          <p:cNvGrpSpPr/>
          <p:nvPr/>
        </p:nvGrpSpPr>
        <p:grpSpPr>
          <a:xfrm>
            <a:off x="2666880" y="1623960"/>
            <a:ext cx="4572000" cy="738360"/>
            <a:chOff x="2666880" y="1623960"/>
            <a:chExt cx="4572000" cy="738360"/>
          </a:xfrm>
        </p:grpSpPr>
        <p:sp>
          <p:nvSpPr>
            <p:cNvPr id="659" name="TextBox 6"/>
            <p:cNvSpPr/>
            <p:nvPr/>
          </p:nvSpPr>
          <p:spPr>
            <a:xfrm>
              <a:off x="2666880" y="1994040"/>
              <a:ext cx="4572000" cy="3682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7"/>
            <p:cNvSpPr/>
            <p:nvPr/>
          </p:nvSpPr>
          <p:spPr>
            <a:xfrm>
              <a:off x="2666880" y="1623960"/>
              <a:ext cx="4572000" cy="369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23"/>
          <p:cNvSpPr/>
          <p:nvPr/>
        </p:nvSpPr>
        <p:spPr>
          <a:xfrm>
            <a:off x="5495400" y="571032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en.wikipedia.org/wiki/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2666880" y="1987560"/>
            <a:ext cx="4572000" cy="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Straight Arrow Connector 5"/>
          <p:cNvCxnSpPr/>
          <p:nvPr/>
        </p:nvCxnSpPr>
        <p:spPr>
          <a:xfrm>
            <a:off x="2590560" y="990360"/>
            <a:ext cx="610200" cy="8182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64" name="Straight Arrow Connector 9"/>
          <p:cNvCxnSpPr/>
          <p:nvPr/>
        </p:nvCxnSpPr>
        <p:spPr>
          <a:xfrm flipH="1">
            <a:off x="4800240" y="1098360"/>
            <a:ext cx="651600" cy="889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65" name="Oval 10"/>
          <p:cNvSpPr/>
          <p:nvPr/>
        </p:nvSpPr>
        <p:spPr>
          <a:xfrm>
            <a:off x="4724280" y="1905120"/>
            <a:ext cx="228600" cy="190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235240" y="53341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Straight Arrow Connector 13"/>
          <p:cNvCxnSpPr/>
          <p:nvPr/>
        </p:nvCxnSpPr>
        <p:spPr>
          <a:xfrm flipH="1">
            <a:off x="6019200" y="1399680"/>
            <a:ext cx="533880" cy="77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68" name="Oval 14"/>
          <p:cNvSpPr/>
          <p:nvPr/>
        </p:nvSpPr>
        <p:spPr>
          <a:xfrm>
            <a:off x="2235240" y="3352680"/>
            <a:ext cx="2184480" cy="2133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Straight Arrow Connector 18"/>
          <p:cNvCxnSpPr/>
          <p:nvPr/>
        </p:nvCxnSpPr>
        <p:spPr>
          <a:xfrm flipH="1" flipV="1">
            <a:off x="4037760" y="5333760"/>
            <a:ext cx="381960" cy="7624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0" name="Rectangle 19"/>
          <p:cNvSpPr/>
          <p:nvPr/>
        </p:nvSpPr>
        <p:spPr>
          <a:xfrm>
            <a:off x="2425680" y="2286000"/>
            <a:ext cx="24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itle 1"/>
          <p:cNvSpPr/>
          <p:nvPr/>
        </p:nvSpPr>
        <p:spPr>
          <a:xfrm>
            <a:off x="477720" y="3352680"/>
            <a:ext cx="124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ergí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4248000" y="5867280"/>
            <a:ext cx="118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veles de los Electrone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itle 1"/>
          <p:cNvSpPr/>
          <p:nvPr/>
        </p:nvSpPr>
        <p:spPr>
          <a:xfrm>
            <a:off x="1461960" y="67464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Niveles de la Banda de Condu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itle 1"/>
          <p:cNvSpPr/>
          <p:nvPr/>
        </p:nvSpPr>
        <p:spPr>
          <a:xfrm>
            <a:off x="4476600" y="70164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ap de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itle 1"/>
          <p:cNvSpPr/>
          <p:nvPr/>
        </p:nvSpPr>
        <p:spPr>
          <a:xfrm>
            <a:off x="5853240" y="822240"/>
            <a:ext cx="118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Niveles de la Banda de Vale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-95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iveles de Energía en Sól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8"/>
          <p:cNvSpPr/>
          <p:nvPr/>
        </p:nvSpPr>
        <p:spPr>
          <a:xfrm>
            <a:off x="6553080" y="1523880"/>
            <a:ext cx="1105200" cy="1067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Straight Arrow Connector 15"/>
          <p:cNvCxnSpPr/>
          <p:nvPr/>
        </p:nvCxnSpPr>
        <p:spPr>
          <a:xfrm flipH="1">
            <a:off x="7238160" y="1098360"/>
            <a:ext cx="212040" cy="425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9" name="Title 1"/>
          <p:cNvSpPr/>
          <p:nvPr/>
        </p:nvSpPr>
        <p:spPr>
          <a:xfrm>
            <a:off x="7353360" y="68580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veles de los Electrones de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"/>
          <p:cNvSpPr/>
          <p:nvPr/>
        </p:nvSpPr>
        <p:spPr>
          <a:xfrm>
            <a:off x="4338720" y="1519200"/>
            <a:ext cx="480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Cada nivel de energía de un átomo está cuantizado y ocupado por dos electrones de espines contrarios.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Cuando se aproximan los átomos, los niveles de energía se desdoblan en estados muy cercanos y forman bandas energéticas debido a las interacciones mutuas entre los electr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196920" y="5675400"/>
            <a:ext cx="535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optique-ingenieur.org/en/courses/OPI_ang_M05_C02/co/Contenu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2"/>
          <p:cNvGrpSpPr/>
          <p:nvPr/>
        </p:nvGrpSpPr>
        <p:grpSpPr>
          <a:xfrm>
            <a:off x="212760" y="1506600"/>
            <a:ext cx="4359240" cy="3240000"/>
            <a:chOff x="212760" y="1506600"/>
            <a:chExt cx="4359240" cy="3240000"/>
          </a:xfrm>
        </p:grpSpPr>
        <p:pic>
          <p:nvPicPr>
            <p:cNvPr id="684" name="Picture 18" descr="&#13;&#10;   &#13;&#10;    Figure 1 : Formation of energy bands for electrons in a silicon crystal with a diamond-type lattice structure &#13;&#10;   &#13;&#10;  "/>
            <p:cNvPicPr/>
            <p:nvPr/>
          </p:nvPicPr>
          <p:blipFill>
            <a:blip r:embed="rId1"/>
            <a:srcRect l="31896" t="0" r="0" b="0"/>
            <a:stretch/>
          </p:blipFill>
          <p:spPr>
            <a:xfrm>
              <a:off x="212760" y="1506600"/>
              <a:ext cx="43592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"/>
            <p:cNvSpPr/>
            <p:nvPr/>
          </p:nvSpPr>
          <p:spPr>
            <a:xfrm>
              <a:off x="227520" y="3163680"/>
              <a:ext cx="1296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9"/>
          <p:cNvSpPr/>
          <p:nvPr/>
        </p:nvSpPr>
        <p:spPr>
          <a:xfrm>
            <a:off x="826920" y="1494000"/>
            <a:ext cx="197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on (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2778120" y="1995480"/>
            <a:ext cx="17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s permi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2411280" y="4456080"/>
            <a:ext cx="197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Distancia interatómica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1"/>
          <p:cNvSpPr/>
          <p:nvPr/>
        </p:nvSpPr>
        <p:spPr>
          <a:xfrm>
            <a:off x="0" y="4995720"/>
            <a:ext cx="89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estructura de la banda energética se logra para la distancia interatómica en el equilib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2"/>
          <p:cNvSpPr/>
          <p:nvPr/>
        </p:nvSpPr>
        <p:spPr>
          <a:xfrm>
            <a:off x="317520" y="5950080"/>
            <a:ext cx="535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optique-ingenieur.org/en/courses/OPI_ang_M05_C02/co/Contenu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2"/>
          <p:cNvGrpSpPr/>
          <p:nvPr/>
        </p:nvGrpSpPr>
        <p:grpSpPr>
          <a:xfrm>
            <a:off x="1368360" y="1233360"/>
            <a:ext cx="6400800" cy="3240360"/>
            <a:chOff x="1368360" y="1233360"/>
            <a:chExt cx="6400800" cy="3240360"/>
          </a:xfrm>
        </p:grpSpPr>
        <p:pic>
          <p:nvPicPr>
            <p:cNvPr id="692" name="Picture 18" descr="&#13;&#10;   &#13;&#10;    Figure 1 : Formation of energy bands for electrons in a silicon crystal with a diamond-type lattice structure &#13;&#10;   &#13;&#10;  "/>
            <p:cNvPicPr/>
            <p:nvPr/>
          </p:nvPicPr>
          <p:blipFill>
            <a:blip r:embed="rId1"/>
            <a:stretch/>
          </p:blipFill>
          <p:spPr>
            <a:xfrm>
              <a:off x="1368360" y="1233360"/>
              <a:ext cx="640080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1"/>
            <p:cNvSpPr/>
            <p:nvPr/>
          </p:nvSpPr>
          <p:spPr>
            <a:xfrm>
              <a:off x="2339640" y="2889000"/>
              <a:ext cx="1296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Rectangle 2"/>
          <p:cNvSpPr/>
          <p:nvPr/>
        </p:nvSpPr>
        <p:spPr>
          <a:xfrm>
            <a:off x="0" y="79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(continu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1368360" y="2235240"/>
            <a:ext cx="284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1200240" y="2160720"/>
            <a:ext cx="517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314280" y="1593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cío  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4013280" y="1236600"/>
            <a:ext cx="1974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on (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3"/>
          <p:cNvSpPr/>
          <p:nvPr/>
        </p:nvSpPr>
        <p:spPr>
          <a:xfrm>
            <a:off x="5964120" y="1738440"/>
            <a:ext cx="17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s permi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4"/>
          <p:cNvSpPr/>
          <p:nvPr/>
        </p:nvSpPr>
        <p:spPr>
          <a:xfrm>
            <a:off x="5597640" y="4199040"/>
            <a:ext cx="1974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Distancia interatómica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848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itle 1"/>
          <p:cNvSpPr/>
          <p:nvPr/>
        </p:nvSpPr>
        <p:spPr>
          <a:xfrm>
            <a:off x="533520" y="371808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ferencia 7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asificando los Materiales según sus Propiedades Físicas: Propiedades Eléctricas, Parte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http://upload.wikimedia.org/wikipedia/commons/thumb/c/c7/Isolator-metal.svg/360px-Isolator-met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7000" y="1862280"/>
            <a:ext cx="4716720" cy="3076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3"/>
          <p:cNvSpPr/>
          <p:nvPr/>
        </p:nvSpPr>
        <p:spPr>
          <a:xfrm>
            <a:off x="2160720" y="5235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en.wikipedia.org/wiki/Electronic_band_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0" y="79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"/>
          <p:cNvSpPr/>
          <p:nvPr/>
        </p:nvSpPr>
        <p:spPr>
          <a:xfrm>
            <a:off x="4861080" y="2994120"/>
            <a:ext cx="9903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"/>
          <p:cNvSpPr/>
          <p:nvPr/>
        </p:nvSpPr>
        <p:spPr>
          <a:xfrm>
            <a:off x="4792680" y="2994120"/>
            <a:ext cx="684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2962440" y="1944720"/>
            <a:ext cx="139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sol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4862520" y="2468520"/>
            <a:ext cx="971640" cy="45900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Banda de con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4854600" y="3840120"/>
            <a:ext cx="97164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Banda de val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1"/>
          <p:cNvSpPr/>
          <p:nvPr/>
        </p:nvSpPr>
        <p:spPr>
          <a:xfrm rot="16200000">
            <a:off x="1339200" y="3175560"/>
            <a:ext cx="1843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4911840" y="4595760"/>
            <a:ext cx="97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  <a:ea typeface="Arial"/>
              </a:rPr>
              <a:t>Aisl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3"/>
          <p:cNvSpPr/>
          <p:nvPr/>
        </p:nvSpPr>
        <p:spPr>
          <a:xfrm>
            <a:off x="4686480" y="3362400"/>
            <a:ext cx="1218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-6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\includegraphics[width=0.8\textwidth]{band-all.eps}"/>
          <p:cNvPicPr/>
          <p:nvPr/>
        </p:nvPicPr>
        <p:blipFill>
          <a:blip r:embed="rId1"/>
          <a:srcRect l="0" t="0" r="0" b="4851"/>
          <a:stretch/>
        </p:blipFill>
        <p:spPr>
          <a:xfrm>
            <a:off x="2814480" y="1139760"/>
            <a:ext cx="3135600" cy="199224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2"/>
          <p:cNvSpPr/>
          <p:nvPr/>
        </p:nvSpPr>
        <p:spPr>
          <a:xfrm>
            <a:off x="2814480" y="2706840"/>
            <a:ext cx="457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psi.phys.wits.ac.za/teaching/Connell/phys284/2005/lecture-07/lecture_07/node5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Box 1"/>
          <p:cNvSpPr/>
          <p:nvPr/>
        </p:nvSpPr>
        <p:spPr>
          <a:xfrm>
            <a:off x="390600" y="3390840"/>
            <a:ext cx="855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”, el número de electrones libres por volumen,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constante para un met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”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función de la temperatura para un semiconductor intrínse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p”, el número de huecos libres por volumen,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función de la temperatura para un semiconductor intrínse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 = p en un semiconductor </a:t>
            </a:r>
            <a:r>
              <a:rPr b="1" lang="es-PR" sz="24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intrínseco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2844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Cuántos electrones y huecos libres hay en la Banda de Energí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18"/>
          <p:cNvGrpSpPr/>
          <p:nvPr/>
        </p:nvGrpSpPr>
        <p:grpSpPr>
          <a:xfrm>
            <a:off x="969840" y="1889280"/>
            <a:ext cx="4746600" cy="3078000"/>
            <a:chOff x="969840" y="1889280"/>
            <a:chExt cx="4746600" cy="3078000"/>
          </a:xfrm>
        </p:grpSpPr>
        <p:pic>
          <p:nvPicPr>
            <p:cNvPr id="718" name="Picture 2" descr=""/>
            <p:cNvPicPr/>
            <p:nvPr/>
          </p:nvPicPr>
          <p:blipFill>
            <a:blip r:embed="rId1"/>
            <a:stretch/>
          </p:blipFill>
          <p:spPr>
            <a:xfrm>
              <a:off x="998640" y="1889280"/>
              <a:ext cx="471780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ectangle 1"/>
            <p:cNvSpPr/>
            <p:nvPr/>
          </p:nvSpPr>
          <p:spPr>
            <a:xfrm>
              <a:off x="969840" y="1960560"/>
              <a:ext cx="1444680" cy="28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2"/>
            <p:cNvSpPr/>
            <p:nvPr/>
          </p:nvSpPr>
          <p:spPr>
            <a:xfrm>
              <a:off x="2222640" y="1960560"/>
              <a:ext cx="46188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"/>
            <p:cNvSpPr/>
            <p:nvPr/>
          </p:nvSpPr>
          <p:spPr>
            <a:xfrm>
              <a:off x="3646440" y="2220840"/>
              <a:ext cx="130968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4"/>
            <p:cNvSpPr/>
            <p:nvPr/>
          </p:nvSpPr>
          <p:spPr>
            <a:xfrm>
              <a:off x="4551480" y="2990880"/>
              <a:ext cx="113652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3646440" y="3635280"/>
              <a:ext cx="1087560" cy="13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1509840" y="4656240"/>
              <a:ext cx="61596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2"/>
            <p:cNvSpPr/>
            <p:nvPr/>
          </p:nvSpPr>
          <p:spPr>
            <a:xfrm>
              <a:off x="1114560" y="2044800"/>
              <a:ext cx="703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6" name="Straight Arrow Connector 10"/>
            <p:cNvCxnSpPr/>
            <p:nvPr/>
          </p:nvCxnSpPr>
          <p:spPr>
            <a:xfrm>
              <a:off x="1509840" y="2452680"/>
              <a:ext cx="954720" cy="807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7" name="Rectangle 2"/>
            <p:cNvSpPr/>
            <p:nvPr/>
          </p:nvSpPr>
          <p:spPr>
            <a:xfrm>
              <a:off x="1114560" y="3822840"/>
              <a:ext cx="703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8" name="Straight Arrow Connector 13"/>
            <p:cNvCxnSpPr/>
            <p:nvPr/>
          </p:nvCxnSpPr>
          <p:spPr>
            <a:xfrm flipV="1">
              <a:off x="1509840" y="3426840"/>
              <a:ext cx="954720" cy="572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9" name="Straight Arrow Connector 15"/>
            <p:cNvCxnSpPr/>
            <p:nvPr/>
          </p:nvCxnSpPr>
          <p:spPr>
            <a:xfrm flipH="1">
              <a:off x="4190760" y="2552760"/>
              <a:ext cx="543600" cy="808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30" name="Rectangle 2"/>
          <p:cNvSpPr/>
          <p:nvPr/>
        </p:nvSpPr>
        <p:spPr>
          <a:xfrm>
            <a:off x="4878360" y="3009960"/>
            <a:ext cx="40417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El nivel de Fermi está en el medio del band gap cuando n =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El nivel de Fermi no tiene que estar siempre en el 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Cuando “n” no es igual a “p”, el material es llamado </a:t>
            </a:r>
            <a:r>
              <a:rPr b="1" lang="en-US" sz="2800" spc="-1" strike="noStrike">
                <a:solidFill>
                  <a:srgbClr val="8585e0"/>
                </a:solidFill>
                <a:latin typeface="Arial"/>
                <a:ea typeface="Arial"/>
              </a:rPr>
              <a:t>extrínse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613320" y="3400560"/>
            <a:ext cx="12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2212920" y="1889280"/>
            <a:ext cx="4718160" cy="307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"/>
          <p:cNvSpPr/>
          <p:nvPr/>
        </p:nvSpPr>
        <p:spPr>
          <a:xfrm>
            <a:off x="2212920" y="1963800"/>
            <a:ext cx="1444680" cy="28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"/>
          <p:cNvSpPr/>
          <p:nvPr/>
        </p:nvSpPr>
        <p:spPr>
          <a:xfrm>
            <a:off x="3465360" y="1963800"/>
            <a:ext cx="4622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4889520" y="2224080"/>
            <a:ext cx="130968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5794200" y="2994120"/>
            <a:ext cx="1136880" cy="16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4889520" y="3638520"/>
            <a:ext cx="1087560" cy="13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52560" y="4659480"/>
            <a:ext cx="61596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142920" y="507960"/>
            <a:ext cx="8805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Cuál es la conexión entre la representación de la Banda de Energía y aspectos físicos de los electrones de Valenc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4842000" y="3371760"/>
            <a:ext cx="12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Conexión entre la Banda de Energía y aspect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3"/>
          <p:cNvSpPr/>
          <p:nvPr/>
        </p:nvSpPr>
        <p:spPr>
          <a:xfrm>
            <a:off x="4200480" y="342900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4"/>
          <p:cNvSpPr/>
          <p:nvPr/>
        </p:nvSpPr>
        <p:spPr>
          <a:xfrm>
            <a:off x="4200480" y="4419720"/>
            <a:ext cx="106668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5"/>
          <p:cNvSpPr/>
          <p:nvPr/>
        </p:nvSpPr>
        <p:spPr>
          <a:xfrm>
            <a:off x="3133800" y="342900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6"/>
          <p:cNvSpPr/>
          <p:nvPr/>
        </p:nvSpPr>
        <p:spPr>
          <a:xfrm>
            <a:off x="5267160" y="3429000"/>
            <a:ext cx="106704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7"/>
          <p:cNvSpPr/>
          <p:nvPr/>
        </p:nvSpPr>
        <p:spPr>
          <a:xfrm>
            <a:off x="4200480" y="243828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8"/>
          <p:cNvSpPr/>
          <p:nvPr/>
        </p:nvSpPr>
        <p:spPr>
          <a:xfrm>
            <a:off x="4581360" y="33526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4657680" y="2362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0"/>
          <p:cNvSpPr/>
          <p:nvPr/>
        </p:nvSpPr>
        <p:spPr>
          <a:xfrm>
            <a:off x="4124160" y="2819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1"/>
          <p:cNvSpPr/>
          <p:nvPr/>
        </p:nvSpPr>
        <p:spPr>
          <a:xfrm>
            <a:off x="5191200" y="2819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2"/>
          <p:cNvSpPr/>
          <p:nvPr/>
        </p:nvSpPr>
        <p:spPr>
          <a:xfrm>
            <a:off x="4734000" y="33526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13"/>
          <p:cNvSpPr/>
          <p:nvPr/>
        </p:nvSpPr>
        <p:spPr>
          <a:xfrm>
            <a:off x="4581360" y="43434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14"/>
          <p:cNvSpPr/>
          <p:nvPr/>
        </p:nvSpPr>
        <p:spPr>
          <a:xfrm>
            <a:off x="4734000" y="4343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15"/>
          <p:cNvSpPr/>
          <p:nvPr/>
        </p:nvSpPr>
        <p:spPr>
          <a:xfrm>
            <a:off x="4124160" y="48769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16"/>
          <p:cNvSpPr/>
          <p:nvPr/>
        </p:nvSpPr>
        <p:spPr>
          <a:xfrm>
            <a:off x="5191200" y="4876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17"/>
          <p:cNvSpPr/>
          <p:nvPr/>
        </p:nvSpPr>
        <p:spPr>
          <a:xfrm>
            <a:off x="4657680" y="53341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18"/>
          <p:cNvSpPr/>
          <p:nvPr/>
        </p:nvSpPr>
        <p:spPr>
          <a:xfrm>
            <a:off x="5191200" y="3962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9"/>
          <p:cNvSpPr/>
          <p:nvPr/>
        </p:nvSpPr>
        <p:spPr>
          <a:xfrm>
            <a:off x="5724360" y="33526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6257880" y="38098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5191200" y="38098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4124160" y="38098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23"/>
          <p:cNvSpPr/>
          <p:nvPr/>
        </p:nvSpPr>
        <p:spPr>
          <a:xfrm>
            <a:off x="3591000" y="4343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24"/>
          <p:cNvSpPr/>
          <p:nvPr/>
        </p:nvSpPr>
        <p:spPr>
          <a:xfrm>
            <a:off x="3591000" y="33526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25"/>
          <p:cNvSpPr/>
          <p:nvPr/>
        </p:nvSpPr>
        <p:spPr>
          <a:xfrm>
            <a:off x="3057480" y="38862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26"/>
          <p:cNvSpPr/>
          <p:nvPr/>
        </p:nvSpPr>
        <p:spPr>
          <a:xfrm>
            <a:off x="4124160" y="3962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27"/>
          <p:cNvSpPr/>
          <p:nvPr/>
        </p:nvSpPr>
        <p:spPr>
          <a:xfrm>
            <a:off x="5343480" y="3200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3209760" y="2362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3"/>
          <p:cNvSpPr/>
          <p:nvPr/>
        </p:nvSpPr>
        <p:spPr>
          <a:xfrm flipH="1">
            <a:off x="5495400" y="243828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1256400" y="213372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ón enla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6106320" y="2209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lectrón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(contribuye a “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36"/>
          <p:cNvSpPr/>
          <p:nvPr/>
        </p:nvSpPr>
        <p:spPr>
          <a:xfrm>
            <a:off x="5724360" y="43434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34"/>
          <p:cNvSpPr/>
          <p:nvPr/>
        </p:nvSpPr>
        <p:spPr>
          <a:xfrm>
            <a:off x="3529080" y="3003480"/>
            <a:ext cx="1960560" cy="258444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1960704" h="2584744">
                <a:moveTo>
                  <a:pt x="1814286" y="378573"/>
                </a:moveTo>
                <a:cubicBezTo>
                  <a:pt x="1785257" y="388249"/>
                  <a:pt x="1753148" y="391384"/>
                  <a:pt x="1727200" y="407601"/>
                </a:cubicBezTo>
                <a:cubicBezTo>
                  <a:pt x="1682009" y="435845"/>
                  <a:pt x="1688097" y="540616"/>
                  <a:pt x="1683657" y="567258"/>
                </a:cubicBezTo>
                <a:cubicBezTo>
                  <a:pt x="1680378" y="586934"/>
                  <a:pt x="1673981" y="605963"/>
                  <a:pt x="1669143" y="625315"/>
                </a:cubicBezTo>
                <a:cubicBezTo>
                  <a:pt x="1678819" y="843029"/>
                  <a:pt x="1680074" y="1061282"/>
                  <a:pt x="1698172" y="1278458"/>
                </a:cubicBezTo>
                <a:cubicBezTo>
                  <a:pt x="1699621" y="1295842"/>
                  <a:pt x="1724479" y="1304771"/>
                  <a:pt x="1727200" y="1322001"/>
                </a:cubicBezTo>
                <a:cubicBezTo>
                  <a:pt x="1769707" y="1591209"/>
                  <a:pt x="1718091" y="1474245"/>
                  <a:pt x="1756229" y="1626801"/>
                </a:cubicBezTo>
                <a:cubicBezTo>
                  <a:pt x="1759940" y="1641644"/>
                  <a:pt x="1763901" y="1656660"/>
                  <a:pt x="1770743" y="1670344"/>
                </a:cubicBezTo>
                <a:cubicBezTo>
                  <a:pt x="1778544" y="1685946"/>
                  <a:pt x="1790096" y="1699373"/>
                  <a:pt x="1799772" y="1713887"/>
                </a:cubicBezTo>
                <a:cubicBezTo>
                  <a:pt x="1804610" y="1738077"/>
                  <a:pt x="1806485" y="1763055"/>
                  <a:pt x="1814286" y="1786458"/>
                </a:cubicBezTo>
                <a:cubicBezTo>
                  <a:pt x="1821128" y="1806984"/>
                  <a:pt x="1837740" y="1823609"/>
                  <a:pt x="1843315" y="1844515"/>
                </a:cubicBezTo>
                <a:cubicBezTo>
                  <a:pt x="1857252" y="1896780"/>
                  <a:pt x="1860609" y="1951369"/>
                  <a:pt x="1872343" y="2004173"/>
                </a:cubicBezTo>
                <a:cubicBezTo>
                  <a:pt x="1884819" y="2060317"/>
                  <a:pt x="1911917" y="2137407"/>
                  <a:pt x="1930400" y="2192858"/>
                </a:cubicBezTo>
                <a:cubicBezTo>
                  <a:pt x="1935652" y="2245372"/>
                  <a:pt x="1960704" y="2378992"/>
                  <a:pt x="1930400" y="2439601"/>
                </a:cubicBezTo>
                <a:cubicBezTo>
                  <a:pt x="1915101" y="2470200"/>
                  <a:pt x="1887532" y="2495200"/>
                  <a:pt x="1857829" y="2512173"/>
                </a:cubicBezTo>
                <a:cubicBezTo>
                  <a:pt x="1814155" y="2537129"/>
                  <a:pt x="1663245" y="2571704"/>
                  <a:pt x="1611086" y="2584744"/>
                </a:cubicBezTo>
                <a:cubicBezTo>
                  <a:pt x="1446591" y="2579906"/>
                  <a:pt x="1281682" y="2582852"/>
                  <a:pt x="1117600" y="2570230"/>
                </a:cubicBezTo>
                <a:cubicBezTo>
                  <a:pt x="1091623" y="2568232"/>
                  <a:pt x="1067969" y="2553553"/>
                  <a:pt x="1045029" y="2541201"/>
                </a:cubicBezTo>
                <a:cubicBezTo>
                  <a:pt x="1004842" y="2519562"/>
                  <a:pt x="961189" y="2500904"/>
                  <a:pt x="928915" y="2468630"/>
                </a:cubicBezTo>
                <a:cubicBezTo>
                  <a:pt x="874554" y="2414269"/>
                  <a:pt x="904845" y="2431578"/>
                  <a:pt x="841829" y="2410573"/>
                </a:cubicBezTo>
                <a:cubicBezTo>
                  <a:pt x="816322" y="2334051"/>
                  <a:pt x="844173" y="2395968"/>
                  <a:pt x="783772" y="2323487"/>
                </a:cubicBezTo>
                <a:cubicBezTo>
                  <a:pt x="679710" y="2198613"/>
                  <a:pt x="850653" y="2378772"/>
                  <a:pt x="711200" y="2221887"/>
                </a:cubicBezTo>
                <a:cubicBezTo>
                  <a:pt x="597331" y="2093784"/>
                  <a:pt x="673836" y="2207993"/>
                  <a:pt x="595086" y="2076744"/>
                </a:cubicBezTo>
                <a:cubicBezTo>
                  <a:pt x="590248" y="2052554"/>
                  <a:pt x="584985" y="2028444"/>
                  <a:pt x="580572" y="2004173"/>
                </a:cubicBezTo>
                <a:cubicBezTo>
                  <a:pt x="575307" y="1975219"/>
                  <a:pt x="572441" y="1945815"/>
                  <a:pt x="566057" y="1917087"/>
                </a:cubicBezTo>
                <a:cubicBezTo>
                  <a:pt x="562738" y="1902152"/>
                  <a:pt x="556381" y="1888058"/>
                  <a:pt x="551543" y="1873544"/>
                </a:cubicBezTo>
                <a:cubicBezTo>
                  <a:pt x="556381" y="1791296"/>
                  <a:pt x="554925" y="1708435"/>
                  <a:pt x="566057" y="1626801"/>
                </a:cubicBezTo>
                <a:cubicBezTo>
                  <a:pt x="577259" y="1544650"/>
                  <a:pt x="621856" y="1545360"/>
                  <a:pt x="653143" y="1467144"/>
                </a:cubicBezTo>
                <a:cubicBezTo>
                  <a:pt x="687854" y="1380368"/>
                  <a:pt x="673933" y="1419290"/>
                  <a:pt x="696686" y="1351030"/>
                </a:cubicBezTo>
                <a:cubicBezTo>
                  <a:pt x="704418" y="1242786"/>
                  <a:pt x="725715" y="962458"/>
                  <a:pt x="725715" y="872058"/>
                </a:cubicBezTo>
                <a:cubicBezTo>
                  <a:pt x="725715" y="569521"/>
                  <a:pt x="781550" y="503953"/>
                  <a:pt x="653143" y="320515"/>
                </a:cubicBezTo>
                <a:cubicBezTo>
                  <a:pt x="641372" y="303699"/>
                  <a:pt x="624114" y="291487"/>
                  <a:pt x="609600" y="276973"/>
                </a:cubicBezTo>
                <a:cubicBezTo>
                  <a:pt x="604762" y="262459"/>
                  <a:pt x="605161" y="244944"/>
                  <a:pt x="595086" y="233430"/>
                </a:cubicBezTo>
                <a:cubicBezTo>
                  <a:pt x="532610" y="162029"/>
                  <a:pt x="512316" y="162584"/>
                  <a:pt x="435429" y="131830"/>
                </a:cubicBezTo>
                <a:cubicBezTo>
                  <a:pt x="420915" y="112478"/>
                  <a:pt x="410253" y="89516"/>
                  <a:pt x="391886" y="73773"/>
                </a:cubicBezTo>
                <a:cubicBezTo>
                  <a:pt x="375458" y="59692"/>
                  <a:pt x="351435" y="57320"/>
                  <a:pt x="333829" y="44744"/>
                </a:cubicBezTo>
                <a:cubicBezTo>
                  <a:pt x="317126" y="32813"/>
                  <a:pt x="304800" y="15715"/>
                  <a:pt x="290286" y="1201"/>
                </a:cubicBezTo>
                <a:cubicBezTo>
                  <a:pt x="237067" y="6039"/>
                  <a:pt x="181704" y="0"/>
                  <a:pt x="130629" y="15715"/>
                </a:cubicBezTo>
                <a:cubicBezTo>
                  <a:pt x="113956" y="20845"/>
                  <a:pt x="112767" y="45857"/>
                  <a:pt x="101600" y="59258"/>
                </a:cubicBezTo>
                <a:cubicBezTo>
                  <a:pt x="88459" y="75027"/>
                  <a:pt x="76924" y="94715"/>
                  <a:pt x="58057" y="102801"/>
                </a:cubicBezTo>
                <a:cubicBezTo>
                  <a:pt x="40269" y="110424"/>
                  <a:pt x="19352" y="102801"/>
                  <a:pt x="0" y="1028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38"/>
          <p:cNvCxnSpPr>
            <a:stCxn id="772" idx="40"/>
          </p:cNvCxnSpPr>
          <p:nvPr/>
        </p:nvCxnSpPr>
        <p:spPr>
          <a:xfrm flipH="1">
            <a:off x="3293640" y="3104640"/>
            <a:ext cx="254880" cy="94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4" name="TextBox 18"/>
          <p:cNvSpPr/>
          <p:nvPr/>
        </p:nvSpPr>
        <p:spPr>
          <a:xfrm>
            <a:off x="406440" y="549900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1"/>
          <p:cNvSpPr/>
          <p:nvPr/>
        </p:nvSpPr>
        <p:spPr>
          <a:xfrm>
            <a:off x="4851360" y="4319640"/>
            <a:ext cx="177840" cy="19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37"/>
          <p:cNvSpPr/>
          <p:nvPr/>
        </p:nvSpPr>
        <p:spPr>
          <a:xfrm>
            <a:off x="5486400" y="3179880"/>
            <a:ext cx="177840" cy="193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6020640" y="484344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Hueco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(contribuye a “p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3"/>
          <p:cNvCxnSpPr/>
          <p:nvPr/>
        </p:nvCxnSpPr>
        <p:spPr>
          <a:xfrm flipH="1" flipV="1">
            <a:off x="5110920" y="4494960"/>
            <a:ext cx="909000" cy="420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1360" y="6624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resiones Matemáticas para la </a:t>
            </a:r>
            <a:r>
              <a:rPr b="1" lang="en-US" sz="4000" spc="-1" strike="noStrike">
                <a:solidFill>
                  <a:srgbClr val="8585e0"/>
                </a:solidFill>
                <a:latin typeface="Arial"/>
              </a:rPr>
              <a:t>Densidad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3"/>
              <p:cNvSpPr txBox="1"/>
              <p:nvPr/>
            </p:nvSpPr>
            <p:spPr>
              <a:xfrm>
                <a:off x="2654280" y="2182680"/>
                <a:ext cx="3487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81" name="Straight Arrow Connector 5"/>
          <p:cNvCxnSpPr/>
          <p:nvPr/>
        </p:nvCxnSpPr>
        <p:spPr>
          <a:xfrm>
            <a:off x="2252520" y="1674360"/>
            <a:ext cx="5486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2" name="Straight Arrow Connector 7"/>
          <p:cNvCxnSpPr/>
          <p:nvPr/>
        </p:nvCxnSpPr>
        <p:spPr>
          <a:xfrm flipH="1">
            <a:off x="3801600" y="1549080"/>
            <a:ext cx="3470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3" name="Straight Arrow Connector 11"/>
          <p:cNvCxnSpPr/>
          <p:nvPr/>
        </p:nvCxnSpPr>
        <p:spPr>
          <a:xfrm flipH="1">
            <a:off x="5687640" y="1549080"/>
            <a:ext cx="5212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4" name="Straight Arrow Connector 13"/>
          <p:cNvCxnSpPr/>
          <p:nvPr/>
        </p:nvCxnSpPr>
        <p:spPr>
          <a:xfrm flipV="1">
            <a:off x="3192120" y="2611080"/>
            <a:ext cx="639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5" name="Straight Arrow Connector 15"/>
          <p:cNvCxnSpPr/>
          <p:nvPr/>
        </p:nvCxnSpPr>
        <p:spPr>
          <a:xfrm flipH="1" flipV="1">
            <a:off x="44748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7"/>
          <p:cNvCxnSpPr/>
          <p:nvPr/>
        </p:nvCxnSpPr>
        <p:spPr>
          <a:xfrm flipV="1">
            <a:off x="5169960" y="2836440"/>
            <a:ext cx="76140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7" name="Content Placeholder 2"/>
          <p:cNvSpPr/>
          <p:nvPr/>
        </p:nvSpPr>
        <p:spPr>
          <a:xfrm>
            <a:off x="685800" y="375588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La densidad de corriente 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 más útil que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corrient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rque no depende del tamañ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y p dependen de la temperatura para un semiconductor intrínse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y p dependen del dopaje para un semiconductor extrínse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son l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parámetros de mo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unidades se u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hace con que parezcan met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24"/>
          <p:cNvCxnSpPr/>
          <p:nvPr/>
        </p:nvCxnSpPr>
        <p:spPr>
          <a:xfrm>
            <a:off x="4730760" y="2065320"/>
            <a:ext cx="45792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Rectangle 25"/>
          <p:cNvSpPr/>
          <p:nvPr/>
        </p:nvSpPr>
        <p:spPr>
          <a:xfrm>
            <a:off x="4497480" y="347328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2773440" y="1230480"/>
            <a:ext cx="148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electrones libres por unidad de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4437000" y="1224000"/>
            <a:ext cx="148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huecos libres por unidad de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2035080" y="30592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elec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Por qué los Semiconductores son tan especiales? Por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Content Placeholder 2"/>
          <p:cNvSpPr/>
          <p:nvPr/>
        </p:nvSpPr>
        <p:spPr>
          <a:xfrm>
            <a:off x="496800" y="1547640"/>
            <a:ext cx="82663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n cambiar dramáticamente su conductividad si están dopados (semiconductores extrínsec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n crear regiones de tipo n y p por dopaje diferencial en zonas distintas del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puede usar estas regiones para hacer uniones (“junctions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campo eléctrico significati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 existir dentro del semiconductor. Esto no ocurre en un metal una vez que se aleja de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su superfi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puede aplicar campos externos para modular n y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No se puede modular n y p en un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2441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unos Ejemplos de Semicondu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es In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o (C), Silicio (Si), Germanio (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4"/>
          <p:cNvGraphicFramePr/>
          <p:nvPr/>
        </p:nvGraphicFramePr>
        <p:xfrm>
          <a:off x="4114800" y="3276720"/>
          <a:ext cx="66024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276720"/>
                    <a:ext cx="6602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Object 4"/>
          <p:cNvGraphicFramePr/>
          <p:nvPr/>
        </p:nvGraphicFramePr>
        <p:xfrm>
          <a:off x="1890720" y="2462040"/>
          <a:ext cx="1400040" cy="26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2462040"/>
                    <a:ext cx="1400040" cy="26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Materiales del grupo III/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La mayoría de los compuestos semiconductores están formados de elementos de los grupos III/V de la tabla perió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Arseniuro de Galio (Ga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 el material del grupo III/V más comú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estos Inorgánicos Semiconductore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3"/>
          <p:cNvGraphicFramePr/>
          <p:nvPr/>
        </p:nvGraphicFramePr>
        <p:xfrm>
          <a:off x="3124080" y="2209680"/>
          <a:ext cx="541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541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48320" y="1794960"/>
            <a:ext cx="4114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de los grupos II/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compuestos hechos de los grupos IIB/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comunes de los grupos II/VI son Telururo de cadmio (CdTe) y seleniuro de cinc (Zn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Object 5"/>
          <p:cNvGraphicFramePr/>
          <p:nvPr/>
        </p:nvGraphicFramePr>
        <p:xfrm>
          <a:off x="2133720" y="2209680"/>
          <a:ext cx="60948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09680"/>
                    <a:ext cx="609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86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más de los materiales de los grupos III/V y II/VI, se pueden combinar los semiconductores intrínsecos para lograr materiales con las características eléctricas dese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uro de silicio (SiGe) y carburo de silicio (SiC) son algunos ejemplos de tales co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4"/>
          <p:cNvGraphicFramePr/>
          <p:nvPr/>
        </p:nvGraphicFramePr>
        <p:xfrm>
          <a:off x="2362320" y="2313000"/>
          <a:ext cx="66024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13000"/>
                    <a:ext cx="6602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2560" y="75960"/>
            <a:ext cx="90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gunos Semi-Conductor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ánic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10"/>
          <p:cNvGrpSpPr/>
          <p:nvPr/>
        </p:nvGrpSpPr>
        <p:grpSpPr>
          <a:xfrm>
            <a:off x="1371600" y="1797120"/>
            <a:ext cx="6030720" cy="4238280"/>
            <a:chOff x="1371600" y="1797120"/>
            <a:chExt cx="6030720" cy="4238280"/>
          </a:xfrm>
        </p:grpSpPr>
        <p:pic>
          <p:nvPicPr>
            <p:cNvPr id="818" name="Picture 5" descr="OrgSemiCond.tif"/>
            <p:cNvPicPr/>
            <p:nvPr/>
          </p:nvPicPr>
          <p:blipFill>
            <a:blip r:embed="rId1"/>
            <a:stretch/>
          </p:blipFill>
          <p:spPr>
            <a:xfrm>
              <a:off x="1371600" y="1797120"/>
              <a:ext cx="5874840" cy="37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6"/>
            <p:cNvSpPr/>
            <p:nvPr/>
          </p:nvSpPr>
          <p:spPr>
            <a:xfrm>
              <a:off x="2058480" y="257004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tace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Box 7"/>
            <p:cNvSpPr/>
            <p:nvPr/>
          </p:nvSpPr>
          <p:spPr>
            <a:xfrm>
              <a:off x="1567440" y="5454720"/>
              <a:ext cx="212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alocianina de co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Box 8"/>
            <p:cNvSpPr/>
            <p:nvPr/>
          </p:nvSpPr>
          <p:spPr>
            <a:xfrm>
              <a:off x="5534280" y="480852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(fenil vinilen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Box 9"/>
            <p:cNvSpPr/>
            <p:nvPr/>
          </p:nvSpPr>
          <p:spPr>
            <a:xfrm>
              <a:off x="5538960" y="2751120"/>
              <a:ext cx="186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(3-hexiltiofen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3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TextBox 11"/>
          <p:cNvSpPr/>
          <p:nvPr/>
        </p:nvSpPr>
        <p:spPr>
          <a:xfrm>
            <a:off x="534600" y="12952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Moléculas Orgánicas (pequeñ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Box 12"/>
          <p:cNvSpPr/>
          <p:nvPr/>
        </p:nvSpPr>
        <p:spPr>
          <a:xfrm>
            <a:off x="5281200" y="129528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Polímer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10"/>
          <p:cNvSpPr/>
          <p:nvPr/>
        </p:nvSpPr>
        <p:spPr>
          <a:xfrm>
            <a:off x="334800" y="60372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Public Domain: Image Generated by CNEU Staff for free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0" y="2433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Y qué es Dopa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85e0"/>
                </a:solidFill>
                <a:latin typeface="Arial"/>
              </a:rPr>
              <a:t>Dopaj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Cambio de las concentraciones de Huecos y Electrones en los Semicondu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7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p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introducir una impureza (dopante) en u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miconductor inorgán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cambiar sus propiedades electrónicas.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 emplean concentraciones bajas---no se trata de hacer una al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r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una oxidación parcial o añadir i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miconductor orgáni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cambiar sus propiedades electrón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grado de cambio de las propiedades eléctricas depende de la concentración relativa del dopante en 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paje proporciona una oportunidad úni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r la resis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conducción por electrones o hue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cionar el nivel de Fe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 uniones (“junct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urezas vs. Contamin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55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de una perspectiva de un semiconductor, es una sustancia foránea, tal como un dopante, puesta intencionalmente para lograr cierto resultado dese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am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ustancia foránea que se encuentra en el material de modo no intencional, normalmente en detrimento de su funcionamento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s de tip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dopantes de tipo P generan huecos porque el dopante usado tiene un electrón de valencia menos que el sil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caso del Si, el hueco proviene de que el silicio no puede completar el octeto de electrones de val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 “P” se refiere a que el hueco tiene carga posi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pantes de tipo P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miembros del grupo IIIA de la tabla peri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n 3 electrones de valencia, en vez de los 4 del sil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lemento básico es el boro 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pantes de tipo P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750960" y="16146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 átomos se enlazan covalentemente (comparten sus electrones de valencia).  El boro sólo tiene 3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a compartir y no hará uno de los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27"/>
          <p:cNvGrpSpPr/>
          <p:nvPr/>
        </p:nvGrpSpPr>
        <p:grpSpPr>
          <a:xfrm>
            <a:off x="1442880" y="3408480"/>
            <a:ext cx="4670640" cy="1885680"/>
            <a:chOff x="1442880" y="3408480"/>
            <a:chExt cx="4670640" cy="1885680"/>
          </a:xfrm>
        </p:grpSpPr>
        <p:sp>
          <p:nvSpPr>
            <p:cNvPr id="838" name="Oval 3"/>
            <p:cNvSpPr/>
            <p:nvPr/>
          </p:nvSpPr>
          <p:spPr>
            <a:xfrm>
              <a:off x="4191120" y="4281480"/>
              <a:ext cx="914400" cy="9144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"/>
            <p:cNvSpPr/>
            <p:nvPr/>
          </p:nvSpPr>
          <p:spPr>
            <a:xfrm>
              <a:off x="4572000" y="511956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11"/>
            <p:cNvSpPr/>
            <p:nvPr/>
          </p:nvSpPr>
          <p:spPr>
            <a:xfrm>
              <a:off x="4572000" y="420516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12"/>
            <p:cNvSpPr/>
            <p:nvPr/>
          </p:nvSpPr>
          <p:spPr>
            <a:xfrm>
              <a:off x="3271680" y="4305240"/>
              <a:ext cx="91440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7"/>
            <p:cNvGrpSpPr/>
            <p:nvPr/>
          </p:nvGrpSpPr>
          <p:grpSpPr>
            <a:xfrm>
              <a:off x="5123160" y="4172040"/>
              <a:ext cx="990360" cy="1066320"/>
              <a:chOff x="5123160" y="4172040"/>
              <a:chExt cx="990360" cy="1066320"/>
            </a:xfrm>
          </p:grpSpPr>
          <p:sp>
            <p:nvSpPr>
              <p:cNvPr id="843" name="Oval 4"/>
              <p:cNvSpPr/>
              <p:nvPr/>
            </p:nvSpPr>
            <p:spPr>
              <a:xfrm>
                <a:off x="5123160" y="4248000"/>
                <a:ext cx="914400" cy="914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6"/>
              <p:cNvSpPr/>
              <p:nvPr/>
            </p:nvSpPr>
            <p:spPr>
              <a:xfrm>
                <a:off x="5504040" y="508608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Oval 7"/>
              <p:cNvSpPr/>
              <p:nvPr/>
            </p:nvSpPr>
            <p:spPr>
              <a:xfrm>
                <a:off x="5961240" y="462888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Oval 8"/>
              <p:cNvSpPr/>
              <p:nvPr/>
            </p:nvSpPr>
            <p:spPr>
              <a:xfrm>
                <a:off x="5504040" y="417204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9"/>
              <p:cNvSpPr/>
              <p:nvPr/>
            </p:nvSpPr>
            <p:spPr>
              <a:xfrm>
                <a:off x="5330520" y="446400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Text Box 21"/>
            <p:cNvSpPr/>
            <p:nvPr/>
          </p:nvSpPr>
          <p:spPr>
            <a:xfrm>
              <a:off x="4470120" y="44971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Group 26"/>
            <p:cNvGrpSpPr/>
            <p:nvPr/>
          </p:nvGrpSpPr>
          <p:grpSpPr>
            <a:xfrm>
              <a:off x="2269800" y="4150800"/>
              <a:ext cx="1648080" cy="1143360"/>
              <a:chOff x="2269800" y="4150800"/>
              <a:chExt cx="1648080" cy="1143360"/>
            </a:xfrm>
          </p:grpSpPr>
          <p:sp>
            <p:nvSpPr>
              <p:cNvPr id="850" name="Oval 14"/>
              <p:cNvSpPr/>
              <p:nvPr/>
            </p:nvSpPr>
            <p:spPr>
              <a:xfrm>
                <a:off x="3641400" y="51415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15"/>
              <p:cNvSpPr/>
              <p:nvPr/>
            </p:nvSpPr>
            <p:spPr>
              <a:xfrm>
                <a:off x="3184200" y="46843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16"/>
              <p:cNvSpPr/>
              <p:nvPr/>
            </p:nvSpPr>
            <p:spPr>
              <a:xfrm>
                <a:off x="3641400" y="42271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467520" y="451944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22"/>
              <p:cNvSpPr/>
              <p:nvPr/>
            </p:nvSpPr>
            <p:spPr>
              <a:xfrm flipH="1" flipV="1">
                <a:off x="2269800" y="415080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Text Box 23"/>
            <p:cNvSpPr/>
            <p:nvPr/>
          </p:nvSpPr>
          <p:spPr>
            <a:xfrm>
              <a:off x="1442880" y="386712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24"/>
            <p:cNvSpPr/>
            <p:nvPr/>
          </p:nvSpPr>
          <p:spPr>
            <a:xfrm flipV="1">
              <a:off x="4249800" y="3757680"/>
              <a:ext cx="66204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4855680" y="34084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17"/>
            <p:cNvSpPr/>
            <p:nvPr/>
          </p:nvSpPr>
          <p:spPr>
            <a:xfrm>
              <a:off x="4102200" y="47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4113360" y="45356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9"/>
            <p:cNvSpPr/>
            <p:nvPr/>
          </p:nvSpPr>
          <p:spPr>
            <a:xfrm>
              <a:off x="5032440" y="47592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10"/>
            <p:cNvSpPr/>
            <p:nvPr/>
          </p:nvSpPr>
          <p:spPr>
            <a:xfrm>
              <a:off x="5032440" y="452268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Rectangle 44"/>
          <p:cNvSpPr/>
          <p:nvPr/>
        </p:nvSpPr>
        <p:spPr>
          <a:xfrm>
            <a:off x="425520" y="5637240"/>
            <a:ext cx="367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 de tipo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4"/>
          <p:cNvSpPr/>
          <p:nvPr/>
        </p:nvSpPr>
        <p:spPr>
          <a:xfrm>
            <a:off x="372960" y="18273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 átomos enlazarán covalentemente. El fósforo tiene 5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 valencia lo que resulta en un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enlazado, sobr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27"/>
          <p:cNvGrpSpPr/>
          <p:nvPr/>
        </p:nvGrpSpPr>
        <p:grpSpPr>
          <a:xfrm>
            <a:off x="3029040" y="2852640"/>
            <a:ext cx="5005800" cy="2247840"/>
            <a:chOff x="3029040" y="2852640"/>
            <a:chExt cx="5005800" cy="2247840"/>
          </a:xfrm>
        </p:grpSpPr>
        <p:sp>
          <p:nvSpPr>
            <p:cNvPr id="866" name="Oval 4"/>
            <p:cNvSpPr/>
            <p:nvPr/>
          </p:nvSpPr>
          <p:spPr>
            <a:xfrm>
              <a:off x="4024080" y="4086000"/>
              <a:ext cx="914040" cy="9144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5014800" y="362880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4405320" y="492444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7"/>
            <p:cNvSpPr/>
            <p:nvPr/>
          </p:nvSpPr>
          <p:spPr>
            <a:xfrm>
              <a:off x="4405320" y="401004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Group 26"/>
            <p:cNvGrpSpPr/>
            <p:nvPr/>
          </p:nvGrpSpPr>
          <p:grpSpPr>
            <a:xfrm>
              <a:off x="4956120" y="4033800"/>
              <a:ext cx="990000" cy="1066680"/>
              <a:chOff x="4956120" y="4033800"/>
              <a:chExt cx="990000" cy="1066680"/>
            </a:xfrm>
          </p:grpSpPr>
          <p:sp>
            <p:nvSpPr>
              <p:cNvPr id="871" name="Oval 5"/>
              <p:cNvSpPr/>
              <p:nvPr/>
            </p:nvSpPr>
            <p:spPr>
              <a:xfrm>
                <a:off x="4956120" y="4110120"/>
                <a:ext cx="914040" cy="914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14"/>
              <p:cNvSpPr/>
              <p:nvPr/>
            </p:nvSpPr>
            <p:spPr>
              <a:xfrm>
                <a:off x="5337000" y="49482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15"/>
              <p:cNvSpPr/>
              <p:nvPr/>
            </p:nvSpPr>
            <p:spPr>
              <a:xfrm>
                <a:off x="5337000" y="40338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16"/>
              <p:cNvSpPr/>
              <p:nvPr/>
            </p:nvSpPr>
            <p:spPr>
              <a:xfrm>
                <a:off x="5794200" y="44910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Text Box 19"/>
              <p:cNvSpPr/>
              <p:nvPr/>
            </p:nvSpPr>
            <p:spPr>
              <a:xfrm>
                <a:off x="5177160" y="431640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5"/>
            <p:cNvGrpSpPr/>
            <p:nvPr/>
          </p:nvGrpSpPr>
          <p:grpSpPr>
            <a:xfrm>
              <a:off x="3029040" y="3987720"/>
              <a:ext cx="990360" cy="1066680"/>
              <a:chOff x="3029040" y="3987720"/>
              <a:chExt cx="990360" cy="1066680"/>
            </a:xfrm>
          </p:grpSpPr>
          <p:sp>
            <p:nvSpPr>
              <p:cNvPr id="877" name="Oval 3"/>
              <p:cNvSpPr/>
              <p:nvPr/>
            </p:nvSpPr>
            <p:spPr>
              <a:xfrm>
                <a:off x="3105000" y="4074840"/>
                <a:ext cx="914400" cy="914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6"/>
              <p:cNvSpPr/>
              <p:nvPr/>
            </p:nvSpPr>
            <p:spPr>
              <a:xfrm>
                <a:off x="3486240" y="39877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3486240" y="49021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18"/>
              <p:cNvSpPr/>
              <p:nvPr/>
            </p:nvSpPr>
            <p:spPr>
              <a:xfrm>
                <a:off x="3029040" y="44449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Text Box 20"/>
              <p:cNvSpPr/>
              <p:nvPr/>
            </p:nvSpPr>
            <p:spPr>
              <a:xfrm>
                <a:off x="3337920" y="429228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Text Box 21"/>
            <p:cNvSpPr/>
            <p:nvPr/>
          </p:nvSpPr>
          <p:spPr>
            <a:xfrm>
              <a:off x="4332240" y="43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22"/>
            <p:cNvSpPr/>
            <p:nvPr/>
          </p:nvSpPr>
          <p:spPr>
            <a:xfrm>
              <a:off x="6601320" y="285264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ón ex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 flipV="1">
              <a:off x="5167080" y="31716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3922560" y="431460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3933720" y="456228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3"/>
            <p:cNvSpPr/>
            <p:nvPr/>
          </p:nvSpPr>
          <p:spPr>
            <a:xfrm>
              <a:off x="4875120" y="438156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4875120" y="462888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44"/>
          <p:cNvSpPr/>
          <p:nvPr/>
        </p:nvSpPr>
        <p:spPr>
          <a:xfrm>
            <a:off x="231840" y="5362560"/>
            <a:ext cx="356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090080"/>
            <a:ext cx="8481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Propiedades eléctrica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nducción de Corriente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olarización (Propi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léctr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onducción de electrones y de hue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61720" y="-36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men de los Dopantes para el Sil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372960" y="2131920"/>
          <a:ext cx="8410680" cy="2346480"/>
        </p:xfrm>
        <a:graphic>
          <a:graphicData uri="http://schemas.openxmlformats.org/drawingml/2006/table">
            <a:tbl>
              <a:tblPr/>
              <a:tblGrid>
                <a:gridCol w="3724200"/>
                <a:gridCol w="2343240"/>
                <a:gridCol w="2343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r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, As, S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inología del Dop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pt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s para el Sil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480960" y="1432080"/>
          <a:ext cx="8204400" cy="5003640"/>
        </p:xfrm>
        <a:graphic>
          <a:graphicData uri="http://schemas.openxmlformats.org/drawingml/2006/table">
            <a:tbl>
              <a:tblPr/>
              <a:tblGrid>
                <a:gridCol w="2733840"/>
                <a:gridCol w="2736720"/>
                <a:gridCol w="27338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op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Fu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ombre quím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rsé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sH</a:t>
                      </a:r>
                      <a:r>
                        <a:rPr b="0" lang="en-US" sz="2000" spc="-1" strike="noStrike" baseline="-25000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rs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PH</a:t>
                      </a:r>
                      <a:r>
                        <a:rPr b="0" lang="en-US" sz="2000" spc="-1" strike="noStrike" baseline="-25000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osf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POCl</a:t>
                      </a:r>
                      <a:r>
                        <a:rPr b="0" lang="en-US" sz="2000" spc="-1" strike="noStrike" baseline="-25000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xicloruro de 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bor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F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rifluoruro de 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Br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ribromuro de 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Ant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SbCl</a:t>
                      </a:r>
                      <a:r>
                        <a:rPr b="0" lang="en-US" sz="2000" spc="-1" strike="noStrike" baseline="-25000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Pentacloruro de Ant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simiento Termal Rápido - 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08080" y="1429920"/>
            <a:ext cx="4363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e tratamiento se usa para reparar la estructura cristalina y ativar el dopante posibilitándole localizarse e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ＭＳ Ｐゴシック"/>
              </a:rPr>
              <a:t>sitios de substitu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unos sistemas pueden dejar fluir un gas durante 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ípicamente se hace un calentamiento rápido de la muestra hasta 1200 °C (a      200 °C/sec).  Por limitaciones de diseño, el proceso dura “minut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hornos son adecuados para tiempos de proceso más demo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342-70DE-4586-9622-51E9AE671B7E}" type="slidenum"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icture 5" descr="IMG_0598.JPG"/>
          <p:cNvPicPr/>
          <p:nvPr/>
        </p:nvPicPr>
        <p:blipFill>
          <a:blip r:embed="rId1"/>
          <a:stretch/>
        </p:blipFill>
        <p:spPr>
          <a:xfrm>
            <a:off x="4495680" y="1417680"/>
            <a:ext cx="4191120" cy="5191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4"/>
          <p:cNvSpPr/>
          <p:nvPr/>
        </p:nvSpPr>
        <p:spPr>
          <a:xfrm>
            <a:off x="244440" y="6315120"/>
            <a:ext cx="355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2" descr=""/>
          <p:cNvPicPr/>
          <p:nvPr/>
        </p:nvPicPr>
        <p:blipFill>
          <a:blip r:embed="rId1"/>
          <a:stretch/>
        </p:blipFill>
        <p:spPr>
          <a:xfrm>
            <a:off x="1623960" y="1471680"/>
            <a:ext cx="5896080" cy="4724280"/>
          </a:xfrm>
          <a:prstGeom prst="rect">
            <a:avLst/>
          </a:prstGeom>
          <a:ln w="0">
            <a:noFill/>
          </a:ln>
        </p:spPr>
      </p:pic>
      <p:sp>
        <p:nvSpPr>
          <p:cNvPr id="900" name="TextBox 3"/>
          <p:cNvSpPr/>
          <p:nvPr/>
        </p:nvSpPr>
        <p:spPr>
          <a:xfrm>
            <a:off x="265320" y="6213600"/>
            <a:ext cx="693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hysics of Semiconductor Devices”, S.M. Sze and Kwok K. Ng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edition, John Wiley, Hoboken, NJ, 200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1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Resistividad es Dependiente de la Concentración del Dopante en el Sil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03040" y="2830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aje de Orgánicos: es la oxidación parcial o añadir iones a un semiconductor orgánico para modificar sus propiedades electrónicas.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2"/>
          <p:cNvSpPr/>
          <p:nvPr/>
        </p:nvSpPr>
        <p:spPr>
          <a:xfrm>
            <a:off x="0" y="5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ductividad vs. Concentración de Dopante para un sistema </a:t>
            </a:r>
            <a:r>
              <a:rPr b="1" lang="en-US" sz="3600" spc="-1" strike="noStrike">
                <a:solidFill>
                  <a:srgbClr val="8585e0"/>
                </a:solidFill>
                <a:latin typeface="Arial"/>
                <a:ea typeface="Arial"/>
              </a:rPr>
              <a:t>orgánic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3"/>
          <p:cNvSpPr/>
          <p:nvPr/>
        </p:nvSpPr>
        <p:spPr>
          <a:xfrm>
            <a:off x="365760" y="61815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ppl. Phys. Lett.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004,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84(10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 170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Group 6"/>
          <p:cNvGrpSpPr/>
          <p:nvPr/>
        </p:nvGrpSpPr>
        <p:grpSpPr>
          <a:xfrm>
            <a:off x="1343160" y="1808280"/>
            <a:ext cx="6833880" cy="4717800"/>
            <a:chOff x="1343160" y="1808280"/>
            <a:chExt cx="6833880" cy="471780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1343160" y="1808280"/>
              <a:ext cx="683388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Freeform 5"/>
            <p:cNvSpPr/>
            <p:nvPr/>
          </p:nvSpPr>
          <p:spPr>
            <a:xfrm>
              <a:off x="2635560" y="2123640"/>
              <a:ext cx="3772440" cy="2201760"/>
            </a:xfrm>
            <a:custGeom>
              <a:avLst/>
              <a:gdLst>
                <a:gd name="textAreaLeft" fmla="*/ 0 w 3772440"/>
                <a:gd name="textAreaRight" fmla="*/ 3772800 w 3772440"/>
                <a:gd name="textAreaTop" fmla="*/ 0 h 2201760"/>
                <a:gd name="textAreaBottom" fmla="*/ 2202120 h 2201760"/>
              </a:gdLst>
              <a:ahLst/>
              <a:rect l="textAreaLeft" t="textAreaTop" r="textAreaRight" b="textAreaBottom"/>
              <a:pathLst>
                <a:path w="3979572" h="2432511">
                  <a:moveTo>
                    <a:pt x="3825025" y="114314"/>
                  </a:moveTo>
                  <a:cubicBezTo>
                    <a:pt x="3691943" y="110021"/>
                    <a:pt x="3558416" y="113138"/>
                    <a:pt x="3425780" y="101435"/>
                  </a:cubicBezTo>
                  <a:cubicBezTo>
                    <a:pt x="3410362" y="100075"/>
                    <a:pt x="3402433" y="78091"/>
                    <a:pt x="3387144" y="75677"/>
                  </a:cubicBezTo>
                  <a:cubicBezTo>
                    <a:pt x="3319165" y="64943"/>
                    <a:pt x="3249769" y="67091"/>
                    <a:pt x="3181082" y="62798"/>
                  </a:cubicBezTo>
                  <a:cubicBezTo>
                    <a:pt x="2992687" y="0"/>
                    <a:pt x="3144479" y="45707"/>
                    <a:pt x="2665927" y="62798"/>
                  </a:cubicBezTo>
                  <a:cubicBezTo>
                    <a:pt x="2584300" y="65713"/>
                    <a:pt x="2502794" y="71384"/>
                    <a:pt x="2421228" y="75677"/>
                  </a:cubicBezTo>
                  <a:cubicBezTo>
                    <a:pt x="2346169" y="125717"/>
                    <a:pt x="2423522" y="87302"/>
                    <a:pt x="2318197" y="88556"/>
                  </a:cubicBezTo>
                  <a:lnTo>
                    <a:pt x="218941" y="127192"/>
                  </a:lnTo>
                  <a:cubicBezTo>
                    <a:pt x="134091" y="134906"/>
                    <a:pt x="79996" y="102760"/>
                    <a:pt x="51516" y="178708"/>
                  </a:cubicBezTo>
                  <a:cubicBezTo>
                    <a:pt x="43830" y="199204"/>
                    <a:pt x="44397" y="221984"/>
                    <a:pt x="38637" y="243102"/>
                  </a:cubicBezTo>
                  <a:cubicBezTo>
                    <a:pt x="31493" y="269296"/>
                    <a:pt x="21465" y="294617"/>
                    <a:pt x="12879" y="320375"/>
                  </a:cubicBezTo>
                  <a:lnTo>
                    <a:pt x="0" y="359012"/>
                  </a:lnTo>
                  <a:cubicBezTo>
                    <a:pt x="4293" y="500680"/>
                    <a:pt x="7432" y="642387"/>
                    <a:pt x="12879" y="784015"/>
                  </a:cubicBezTo>
                  <a:cubicBezTo>
                    <a:pt x="22294" y="1028815"/>
                    <a:pt x="6900" y="953282"/>
                    <a:pt x="38637" y="1080229"/>
                  </a:cubicBezTo>
                  <a:cubicBezTo>
                    <a:pt x="42930" y="1324928"/>
                    <a:pt x="43751" y="1569712"/>
                    <a:pt x="51516" y="1814325"/>
                  </a:cubicBezTo>
                  <a:cubicBezTo>
                    <a:pt x="52345" y="1840425"/>
                    <a:pt x="56136" y="1866825"/>
                    <a:pt x="64394" y="1891598"/>
                  </a:cubicBezTo>
                  <a:cubicBezTo>
                    <a:pt x="75900" y="1926116"/>
                    <a:pt x="107865" y="1941969"/>
                    <a:pt x="128789" y="1968871"/>
                  </a:cubicBezTo>
                  <a:cubicBezTo>
                    <a:pt x="147795" y="1993307"/>
                    <a:pt x="166460" y="2018455"/>
                    <a:pt x="180304" y="2046144"/>
                  </a:cubicBezTo>
                  <a:cubicBezTo>
                    <a:pt x="265739" y="2217014"/>
                    <a:pt x="162086" y="2003637"/>
                    <a:pt x="218941" y="2136297"/>
                  </a:cubicBezTo>
                  <a:cubicBezTo>
                    <a:pt x="226504" y="2153943"/>
                    <a:pt x="237136" y="2170166"/>
                    <a:pt x="244699" y="2187812"/>
                  </a:cubicBezTo>
                  <a:cubicBezTo>
                    <a:pt x="260411" y="2224473"/>
                    <a:pt x="252398" y="2234148"/>
                    <a:pt x="283335" y="2265085"/>
                  </a:cubicBezTo>
                  <a:cubicBezTo>
                    <a:pt x="311525" y="2293275"/>
                    <a:pt x="365239" y="2308099"/>
                    <a:pt x="399245" y="2316601"/>
                  </a:cubicBezTo>
                  <a:cubicBezTo>
                    <a:pt x="422417" y="2322394"/>
                    <a:pt x="494719" y="2341337"/>
                    <a:pt x="515155" y="2342359"/>
                  </a:cubicBezTo>
                  <a:cubicBezTo>
                    <a:pt x="665282" y="2349865"/>
                    <a:pt x="815662" y="2350944"/>
                    <a:pt x="965916" y="2355237"/>
                  </a:cubicBezTo>
                  <a:cubicBezTo>
                    <a:pt x="1000260" y="2359530"/>
                    <a:pt x="1034894" y="2361925"/>
                    <a:pt x="1068947" y="2368116"/>
                  </a:cubicBezTo>
                  <a:cubicBezTo>
                    <a:pt x="1082303" y="2370544"/>
                    <a:pt x="1094025" y="2380300"/>
                    <a:pt x="1107583" y="2380995"/>
                  </a:cubicBezTo>
                  <a:cubicBezTo>
                    <a:pt x="1261986" y="2388913"/>
                    <a:pt x="1416676" y="2389581"/>
                    <a:pt x="1571223" y="2393874"/>
                  </a:cubicBezTo>
                  <a:cubicBezTo>
                    <a:pt x="1592688" y="2398167"/>
                    <a:pt x="1613803" y="2404935"/>
                    <a:pt x="1635617" y="2406753"/>
                  </a:cubicBezTo>
                  <a:lnTo>
                    <a:pt x="1918952" y="2432511"/>
                  </a:lnTo>
                  <a:cubicBezTo>
                    <a:pt x="2009104" y="2428218"/>
                    <a:pt x="2099442" y="2426829"/>
                    <a:pt x="2189409" y="2419632"/>
                  </a:cubicBezTo>
                  <a:cubicBezTo>
                    <a:pt x="2257041" y="2414221"/>
                    <a:pt x="2239814" y="2390793"/>
                    <a:pt x="2318197" y="2380995"/>
                  </a:cubicBezTo>
                  <a:lnTo>
                    <a:pt x="2421228" y="2368116"/>
                  </a:lnTo>
                  <a:lnTo>
                    <a:pt x="2498501" y="2342359"/>
                  </a:lnTo>
                  <a:lnTo>
                    <a:pt x="2537138" y="2329480"/>
                  </a:lnTo>
                  <a:cubicBezTo>
                    <a:pt x="2550017" y="2316601"/>
                    <a:pt x="2565672" y="2305998"/>
                    <a:pt x="2575775" y="2290843"/>
                  </a:cubicBezTo>
                  <a:cubicBezTo>
                    <a:pt x="2583305" y="2279547"/>
                    <a:pt x="2588654" y="2265782"/>
                    <a:pt x="2588654" y="2252206"/>
                  </a:cubicBezTo>
                  <a:cubicBezTo>
                    <a:pt x="2588654" y="2204789"/>
                    <a:pt x="2589155" y="2156029"/>
                    <a:pt x="2575775" y="2110539"/>
                  </a:cubicBezTo>
                  <a:cubicBezTo>
                    <a:pt x="2567040" y="2080840"/>
                    <a:pt x="2541431" y="2059024"/>
                    <a:pt x="2524259" y="2033266"/>
                  </a:cubicBezTo>
                  <a:lnTo>
                    <a:pt x="2472744" y="1955992"/>
                  </a:lnTo>
                  <a:lnTo>
                    <a:pt x="2459865" y="1917356"/>
                  </a:lnTo>
                  <a:cubicBezTo>
                    <a:pt x="2464158" y="1805739"/>
                    <a:pt x="2465059" y="1693940"/>
                    <a:pt x="2472744" y="1582505"/>
                  </a:cubicBezTo>
                  <a:cubicBezTo>
                    <a:pt x="2473678" y="1568962"/>
                    <a:pt x="2479552" y="1556010"/>
                    <a:pt x="2485623" y="1543868"/>
                  </a:cubicBezTo>
                  <a:cubicBezTo>
                    <a:pt x="2492545" y="1530024"/>
                    <a:pt x="2504458" y="1519076"/>
                    <a:pt x="2511380" y="1505232"/>
                  </a:cubicBezTo>
                  <a:cubicBezTo>
                    <a:pt x="2548656" y="1430680"/>
                    <a:pt x="2489655" y="1501198"/>
                    <a:pt x="2562896" y="1427959"/>
                  </a:cubicBezTo>
                  <a:cubicBezTo>
                    <a:pt x="2578402" y="1396947"/>
                    <a:pt x="2616858" y="1314711"/>
                    <a:pt x="2640169" y="1299170"/>
                  </a:cubicBezTo>
                  <a:cubicBezTo>
                    <a:pt x="2735302" y="1235747"/>
                    <a:pt x="2692676" y="1266228"/>
                    <a:pt x="2768958" y="1209018"/>
                  </a:cubicBezTo>
                  <a:cubicBezTo>
                    <a:pt x="2777544" y="1196139"/>
                    <a:pt x="2782629" y="1180051"/>
                    <a:pt x="2794716" y="1170381"/>
                  </a:cubicBezTo>
                  <a:cubicBezTo>
                    <a:pt x="2805316" y="1161900"/>
                    <a:pt x="2821485" y="1164095"/>
                    <a:pt x="2833352" y="1157502"/>
                  </a:cubicBezTo>
                  <a:cubicBezTo>
                    <a:pt x="2860413" y="1142468"/>
                    <a:pt x="2884867" y="1123159"/>
                    <a:pt x="2910625" y="1105987"/>
                  </a:cubicBezTo>
                  <a:lnTo>
                    <a:pt x="2949262" y="1080229"/>
                  </a:lnTo>
                  <a:cubicBezTo>
                    <a:pt x="2962141" y="1071643"/>
                    <a:pt x="2973215" y="1059366"/>
                    <a:pt x="2987899" y="1054471"/>
                  </a:cubicBezTo>
                  <a:cubicBezTo>
                    <a:pt x="3000778" y="1050178"/>
                    <a:pt x="3013365" y="1044884"/>
                    <a:pt x="3026535" y="1041592"/>
                  </a:cubicBezTo>
                  <a:cubicBezTo>
                    <a:pt x="3166320" y="1006647"/>
                    <a:pt x="3302877" y="1021144"/>
                    <a:pt x="3451538" y="1015835"/>
                  </a:cubicBezTo>
                  <a:lnTo>
                    <a:pt x="3528811" y="964319"/>
                  </a:lnTo>
                  <a:cubicBezTo>
                    <a:pt x="3541690" y="955733"/>
                    <a:pt x="3556503" y="949506"/>
                    <a:pt x="3567448" y="938561"/>
                  </a:cubicBezTo>
                  <a:cubicBezTo>
                    <a:pt x="3628562" y="877447"/>
                    <a:pt x="3595925" y="894725"/>
                    <a:pt x="3657600" y="874167"/>
                  </a:cubicBezTo>
                  <a:cubicBezTo>
                    <a:pt x="3670479" y="861288"/>
                    <a:pt x="3681860" y="846712"/>
                    <a:pt x="3696237" y="835530"/>
                  </a:cubicBezTo>
                  <a:cubicBezTo>
                    <a:pt x="3720673" y="816524"/>
                    <a:pt x="3751620" y="805905"/>
                    <a:pt x="3773510" y="784015"/>
                  </a:cubicBezTo>
                  <a:lnTo>
                    <a:pt x="3812147" y="745378"/>
                  </a:lnTo>
                  <a:cubicBezTo>
                    <a:pt x="3844515" y="648270"/>
                    <a:pt x="3800853" y="767964"/>
                    <a:pt x="3850783" y="668105"/>
                  </a:cubicBezTo>
                  <a:cubicBezTo>
                    <a:pt x="3861076" y="647520"/>
                    <a:pt x="3871039" y="597209"/>
                    <a:pt x="3876541" y="577953"/>
                  </a:cubicBezTo>
                  <a:cubicBezTo>
                    <a:pt x="3911061" y="457135"/>
                    <a:pt x="3863025" y="651655"/>
                    <a:pt x="3902299" y="474922"/>
                  </a:cubicBezTo>
                  <a:cubicBezTo>
                    <a:pt x="3906139" y="457643"/>
                    <a:pt x="3907262" y="439238"/>
                    <a:pt x="3915178" y="423406"/>
                  </a:cubicBezTo>
                  <a:cubicBezTo>
                    <a:pt x="3929022" y="395717"/>
                    <a:pt x="3966693" y="346133"/>
                    <a:pt x="3966693" y="346133"/>
                  </a:cubicBezTo>
                  <a:cubicBezTo>
                    <a:pt x="3970986" y="320375"/>
                    <a:pt x="3979572" y="294973"/>
                    <a:pt x="3979572" y="268860"/>
                  </a:cubicBezTo>
                  <a:cubicBezTo>
                    <a:pt x="3979572" y="238504"/>
                    <a:pt x="3977967" y="206893"/>
                    <a:pt x="3966693" y="178708"/>
                  </a:cubicBezTo>
                  <a:cubicBezTo>
                    <a:pt x="3959929" y="161797"/>
                    <a:pt x="3942877" y="150657"/>
                    <a:pt x="3928056" y="140071"/>
                  </a:cubicBezTo>
                  <a:cubicBezTo>
                    <a:pt x="3900207" y="120179"/>
                    <a:pt x="3869433" y="111945"/>
                    <a:pt x="3837904" y="101435"/>
                  </a:cubicBezTo>
                  <a:lnTo>
                    <a:pt x="3773510" y="114314"/>
                  </a:lnTo>
                  <a:lnTo>
                    <a:pt x="3657600" y="1014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dad de Corriente en Sól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2654280" y="2182680"/>
                <a:ext cx="3487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10" name="Straight Arrow Connector 5"/>
          <p:cNvCxnSpPr/>
          <p:nvPr/>
        </p:nvCxnSpPr>
        <p:spPr>
          <a:xfrm>
            <a:off x="2252520" y="1674360"/>
            <a:ext cx="5486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1" name="Straight Arrow Connector 7"/>
          <p:cNvCxnSpPr/>
          <p:nvPr/>
        </p:nvCxnSpPr>
        <p:spPr>
          <a:xfrm flipH="1">
            <a:off x="3801600" y="1549080"/>
            <a:ext cx="3470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2" name="Straight Arrow Connector 11"/>
          <p:cNvCxnSpPr/>
          <p:nvPr/>
        </p:nvCxnSpPr>
        <p:spPr>
          <a:xfrm flipH="1">
            <a:off x="5687640" y="1549080"/>
            <a:ext cx="5212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3" name="Straight Arrow Connector 13"/>
          <p:cNvCxnSpPr/>
          <p:nvPr/>
        </p:nvCxnSpPr>
        <p:spPr>
          <a:xfrm flipV="1">
            <a:off x="2800440" y="2769480"/>
            <a:ext cx="103104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4" name="Straight Arrow Connector 15"/>
          <p:cNvCxnSpPr/>
          <p:nvPr/>
        </p:nvCxnSpPr>
        <p:spPr>
          <a:xfrm flipH="1" flipV="1">
            <a:off x="44748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5" name="Straight Arrow Connector 17"/>
          <p:cNvCxnSpPr/>
          <p:nvPr/>
        </p:nvCxnSpPr>
        <p:spPr>
          <a:xfrm flipV="1">
            <a:off x="5169960" y="2836440"/>
            <a:ext cx="76140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6" name="Content Placeholder 2"/>
          <p:cNvSpPr/>
          <p:nvPr/>
        </p:nvSpPr>
        <p:spPr>
          <a:xfrm>
            <a:off x="482760" y="3927600"/>
            <a:ext cx="8661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semiconductores inorgánicos y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aislantes, excepto cuando n y p son prácticamente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metales modificados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24"/>
          <p:cNvCxnSpPr/>
          <p:nvPr/>
        </p:nvCxnSpPr>
        <p:spPr>
          <a:xfrm>
            <a:off x="4730760" y="2065320"/>
            <a:ext cx="45792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8" name="Rectangle 25"/>
          <p:cNvSpPr/>
          <p:nvPr/>
        </p:nvSpPr>
        <p:spPr>
          <a:xfrm>
            <a:off x="4497480" y="358776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2987640" y="134460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electrones libres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4394160" y="138096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huecos libres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31"/>
          <p:cNvSpPr/>
          <p:nvPr/>
        </p:nvSpPr>
        <p:spPr>
          <a:xfrm>
            <a:off x="1935000" y="35164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217440" y="1027080"/>
            <a:ext cx="848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 propiedades físicas son las que se pueden observar sin que la sustancia cambie quím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 propiedad física es cualquier propiedad del material que describa una interacción que no sea química con otros materiales o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 propiedad del material puede ser constante o una función de variables tales como temperatura, presión o frecuencia de exci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1760" y="26125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Conducción de Corriente Eléctrica </a:t>
            </a:r>
            <a:br>
              <a:rPr sz="4000"/>
            </a:b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Polarización (Propiedades </a:t>
            </a:r>
            <a:br>
              <a:rPr sz="4000"/>
            </a:b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    Dieléctric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"/>
          <p:cNvSpPr/>
          <p:nvPr/>
        </p:nvSpPr>
        <p:spPr>
          <a:xfrm>
            <a:off x="480960" y="810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Hay dos tipos de Propiedades Físicas Eléctric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5800" y="204768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de Corriente Eléct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52280" y="209988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Corrientes Eléctricas pueden ocurrir en los Materiales por los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Electr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Huec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Pares de Coop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solamente en los superconductores), e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720" y="14400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minología para la Conducción Eléct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8840" y="1201680"/>
            <a:ext cx="8034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ovimiento de carg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a distancias macroscópic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un material por la influencia de un campo eléctrico se llama corriente eléctrica o simplemente cor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electrónica o mediante Hue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óli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lectrones libres, huecos, o ambos se pueden mover 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distancias macroscópic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bido a un campo eléctrico con relativa fac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I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plasm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algunos sólidos y algunos líqui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os transportadores de cargas pueden ser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i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n estos materiales, cationes o aniones se mueven macroscópicamente a través del sustrato transportando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por Par de Co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los sólidos están en su estado superconductor, los transportadores de carga so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electrones pareados (espín hacia arriba + espín hacia abaj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dcterms:modified xsi:type="dcterms:W3CDTF">2014-10-21T22:10:44Z</dcterms:modified>
  <cp:revision>489</cp:revision>
  <dc:subject/>
  <dc:title>Nanofabrication Manufacturing Technology Program</dc:title>
</cp:coreProperties>
</file>