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7D41-D08C-4EED-ACEA-B87DD0A4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631-0F14-40A5-AFF8-E6108087721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BCFB-FCD9-4977-B477-4D11874A6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7A9A-0E90-48ED-B06B-E159A79C9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3A7-2AE2-42E3-87F1-6C522756D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AA1D-1022-48D3-8C94-0B91903BC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D4C-DBE9-4C14-936C-8A03FF31C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76EC-91ED-497E-9D96-F54F9D401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42B-047B-4D8B-BFB9-11DAA3D20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A6AF-A892-4A05-AFAF-1E0D5620E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29E-BA08-474F-89BE-DDD66602D48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AE0-19F3-4BF0-86EB-A613CAAEC8D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150-A5AD-4DC6-A619-6FA146B570B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9164-CE9E-4B9A-BF94-27499C097FF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CEAC-B2CE-4B28-A721-57135C3F577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133-2538-46F1-8768-AA1927842D8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1F9-09D6-48E6-A0C4-D4C14B109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0" y="63612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le:H2O 2D labelled.svg"/>
          <p:cNvPicPr/>
          <p:nvPr/>
        </p:nvPicPr>
        <p:blipFill>
          <a:blip r:embed="rId1"/>
          <a:stretch/>
        </p:blipFill>
        <p:spPr>
          <a:xfrm>
            <a:off x="2422440" y="3056040"/>
            <a:ext cx="4297320" cy="1825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léculas Polar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/>
          <p:cNvSpPr/>
          <p:nvPr/>
        </p:nvSpPr>
        <p:spPr>
          <a:xfrm>
            <a:off x="1733400" y="5864400"/>
            <a:ext cx="56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léculas Polar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ShockwaveFlash1"/>
          <p:cNvGraphicFramePr/>
          <p:nvPr/>
        </p:nvGraphicFramePr>
        <p:xfrm>
          <a:off x="1209600" y="2259000"/>
          <a:ext cx="62136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2259000"/>
                    <a:ext cx="621360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45"/>
          <p:cNvSpPr/>
          <p:nvPr/>
        </p:nvSpPr>
        <p:spPr>
          <a:xfrm>
            <a:off x="860400" y="44388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6"/>
          <p:cNvSpPr/>
          <p:nvPr/>
        </p:nvSpPr>
        <p:spPr>
          <a:xfrm>
            <a:off x="3089160" y="4438800"/>
            <a:ext cx="54792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7"/>
          <p:cNvSpPr/>
          <p:nvPr/>
        </p:nvSpPr>
        <p:spPr>
          <a:xfrm>
            <a:off x="3089160" y="5272200"/>
            <a:ext cx="54792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48"/>
          <p:cNvSpPr/>
          <p:nvPr/>
        </p:nvSpPr>
        <p:spPr>
          <a:xfrm>
            <a:off x="1979640" y="52722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49"/>
          <p:cNvSpPr/>
          <p:nvPr/>
        </p:nvSpPr>
        <p:spPr>
          <a:xfrm>
            <a:off x="860400" y="52722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50"/>
          <p:cNvSpPr/>
          <p:nvPr/>
        </p:nvSpPr>
        <p:spPr>
          <a:xfrm>
            <a:off x="1979640" y="44388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1"/>
          <p:cNvSpPr/>
          <p:nvPr/>
        </p:nvSpPr>
        <p:spPr>
          <a:xfrm>
            <a:off x="3089160" y="359712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2"/>
          <p:cNvSpPr/>
          <p:nvPr/>
        </p:nvSpPr>
        <p:spPr>
          <a:xfrm>
            <a:off x="1971720" y="359712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4"/>
          <p:cNvSpPr/>
          <p:nvPr/>
        </p:nvSpPr>
        <p:spPr>
          <a:xfrm>
            <a:off x="579600" y="3165480"/>
            <a:ext cx="32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587520" y="6251400"/>
            <a:ext cx="33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853920" y="359712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7"/>
          <p:cNvSpPr/>
          <p:nvPr/>
        </p:nvSpPr>
        <p:spPr>
          <a:xfrm>
            <a:off x="579600" y="47149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38"/>
          <p:cNvSpPr/>
          <p:nvPr/>
        </p:nvSpPr>
        <p:spPr>
          <a:xfrm>
            <a:off x="1409760" y="38718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39"/>
          <p:cNvSpPr/>
          <p:nvPr/>
        </p:nvSpPr>
        <p:spPr>
          <a:xfrm>
            <a:off x="1144440" y="58309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53"/>
          <p:cNvSpPr/>
          <p:nvPr/>
        </p:nvSpPr>
        <p:spPr>
          <a:xfrm>
            <a:off x="2521080" y="38718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54"/>
          <p:cNvSpPr/>
          <p:nvPr/>
        </p:nvSpPr>
        <p:spPr>
          <a:xfrm>
            <a:off x="563400" y="387180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55"/>
          <p:cNvSpPr/>
          <p:nvPr/>
        </p:nvSpPr>
        <p:spPr>
          <a:xfrm>
            <a:off x="1411200" y="47228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56"/>
          <p:cNvSpPr/>
          <p:nvPr/>
        </p:nvSpPr>
        <p:spPr>
          <a:xfrm>
            <a:off x="2540160" y="47131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57"/>
          <p:cNvSpPr/>
          <p:nvPr/>
        </p:nvSpPr>
        <p:spPr>
          <a:xfrm>
            <a:off x="1128600" y="33228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58"/>
          <p:cNvSpPr/>
          <p:nvPr/>
        </p:nvSpPr>
        <p:spPr>
          <a:xfrm>
            <a:off x="2254320" y="5824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59"/>
          <p:cNvSpPr/>
          <p:nvPr/>
        </p:nvSpPr>
        <p:spPr>
          <a:xfrm>
            <a:off x="2238480" y="3317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60"/>
          <p:cNvSpPr/>
          <p:nvPr/>
        </p:nvSpPr>
        <p:spPr>
          <a:xfrm>
            <a:off x="3362400" y="58309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61"/>
          <p:cNvSpPr/>
          <p:nvPr/>
        </p:nvSpPr>
        <p:spPr>
          <a:xfrm>
            <a:off x="3346560" y="33228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62"/>
          <p:cNvSpPr/>
          <p:nvPr/>
        </p:nvSpPr>
        <p:spPr>
          <a:xfrm>
            <a:off x="577800" y="55468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63"/>
          <p:cNvSpPr/>
          <p:nvPr/>
        </p:nvSpPr>
        <p:spPr>
          <a:xfrm>
            <a:off x="3646440" y="55468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64"/>
          <p:cNvSpPr/>
          <p:nvPr/>
        </p:nvSpPr>
        <p:spPr>
          <a:xfrm>
            <a:off x="3637080" y="47228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65"/>
          <p:cNvSpPr/>
          <p:nvPr/>
        </p:nvSpPr>
        <p:spPr>
          <a:xfrm>
            <a:off x="3637080" y="38718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66"/>
          <p:cNvSpPr/>
          <p:nvPr/>
        </p:nvSpPr>
        <p:spPr>
          <a:xfrm>
            <a:off x="1400040" y="55562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67"/>
          <p:cNvSpPr/>
          <p:nvPr/>
        </p:nvSpPr>
        <p:spPr>
          <a:xfrm>
            <a:off x="2529000" y="5546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8"/>
          <p:cNvSpPr/>
          <p:nvPr/>
        </p:nvSpPr>
        <p:spPr>
          <a:xfrm>
            <a:off x="1135080" y="4146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9"/>
          <p:cNvSpPr/>
          <p:nvPr/>
        </p:nvSpPr>
        <p:spPr>
          <a:xfrm>
            <a:off x="1128600" y="49878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70"/>
          <p:cNvSpPr/>
          <p:nvPr/>
        </p:nvSpPr>
        <p:spPr>
          <a:xfrm>
            <a:off x="225432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71"/>
          <p:cNvSpPr/>
          <p:nvPr/>
        </p:nvSpPr>
        <p:spPr>
          <a:xfrm>
            <a:off x="2238480" y="41655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3376440" y="4156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73"/>
          <p:cNvSpPr/>
          <p:nvPr/>
        </p:nvSpPr>
        <p:spPr>
          <a:xfrm>
            <a:off x="336240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958680" y="364176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5"/>
          <p:cNvSpPr/>
          <p:nvPr/>
        </p:nvSpPr>
        <p:spPr>
          <a:xfrm>
            <a:off x="3192480" y="3641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6"/>
          <p:cNvSpPr/>
          <p:nvPr/>
        </p:nvSpPr>
        <p:spPr>
          <a:xfrm>
            <a:off x="950760" y="53150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77"/>
          <p:cNvSpPr/>
          <p:nvPr/>
        </p:nvSpPr>
        <p:spPr>
          <a:xfrm>
            <a:off x="3182760" y="531504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9"/>
          <p:cNvSpPr/>
          <p:nvPr/>
        </p:nvSpPr>
        <p:spPr>
          <a:xfrm>
            <a:off x="3201840" y="4491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80"/>
          <p:cNvSpPr/>
          <p:nvPr/>
        </p:nvSpPr>
        <p:spPr>
          <a:xfrm>
            <a:off x="2070000" y="5326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81"/>
          <p:cNvSpPr/>
          <p:nvPr/>
        </p:nvSpPr>
        <p:spPr>
          <a:xfrm>
            <a:off x="2093760" y="3641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82"/>
          <p:cNvSpPr/>
          <p:nvPr/>
        </p:nvSpPr>
        <p:spPr>
          <a:xfrm>
            <a:off x="974880" y="4483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83"/>
          <p:cNvSpPr/>
          <p:nvPr/>
        </p:nvSpPr>
        <p:spPr>
          <a:xfrm>
            <a:off x="2089080" y="4471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92"/>
          <p:cNvSpPr/>
          <p:nvPr/>
        </p:nvSpPr>
        <p:spPr>
          <a:xfrm>
            <a:off x="4978440" y="316548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93"/>
          <p:cNvSpPr/>
          <p:nvPr/>
        </p:nvSpPr>
        <p:spPr>
          <a:xfrm>
            <a:off x="4986360" y="6251400"/>
            <a:ext cx="33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95"/>
          <p:cNvSpPr/>
          <p:nvPr/>
        </p:nvSpPr>
        <p:spPr>
          <a:xfrm flipV="1">
            <a:off x="4976640" y="4614840"/>
            <a:ext cx="2826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96"/>
          <p:cNvSpPr/>
          <p:nvPr/>
        </p:nvSpPr>
        <p:spPr>
          <a:xfrm flipV="1">
            <a:off x="5800680" y="3773520"/>
            <a:ext cx="5698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97"/>
          <p:cNvSpPr/>
          <p:nvPr/>
        </p:nvSpPr>
        <p:spPr>
          <a:xfrm>
            <a:off x="5543640" y="58104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98"/>
          <p:cNvSpPr/>
          <p:nvPr/>
        </p:nvSpPr>
        <p:spPr>
          <a:xfrm>
            <a:off x="6919920" y="3773520"/>
            <a:ext cx="566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99"/>
          <p:cNvSpPr/>
          <p:nvPr/>
        </p:nvSpPr>
        <p:spPr>
          <a:xfrm>
            <a:off x="4960800" y="3871800"/>
            <a:ext cx="29232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100"/>
          <p:cNvSpPr/>
          <p:nvPr/>
        </p:nvSpPr>
        <p:spPr>
          <a:xfrm>
            <a:off x="5807160" y="46148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101"/>
          <p:cNvSpPr/>
          <p:nvPr/>
        </p:nvSpPr>
        <p:spPr>
          <a:xfrm flipV="1">
            <a:off x="6927840" y="4614840"/>
            <a:ext cx="55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102"/>
          <p:cNvSpPr/>
          <p:nvPr/>
        </p:nvSpPr>
        <p:spPr>
          <a:xfrm>
            <a:off x="5526000" y="35402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103"/>
          <p:cNvSpPr/>
          <p:nvPr/>
        </p:nvSpPr>
        <p:spPr>
          <a:xfrm>
            <a:off x="6653160" y="5618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104"/>
          <p:cNvSpPr/>
          <p:nvPr/>
        </p:nvSpPr>
        <p:spPr>
          <a:xfrm>
            <a:off x="6635880" y="3317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05"/>
          <p:cNvSpPr/>
          <p:nvPr/>
        </p:nvSpPr>
        <p:spPr>
          <a:xfrm>
            <a:off x="7761240" y="58104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106"/>
          <p:cNvSpPr/>
          <p:nvPr/>
        </p:nvSpPr>
        <p:spPr>
          <a:xfrm>
            <a:off x="7743960" y="355932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107"/>
          <p:cNvSpPr/>
          <p:nvPr/>
        </p:nvSpPr>
        <p:spPr>
          <a:xfrm>
            <a:off x="4976640" y="5546880"/>
            <a:ext cx="2826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08"/>
          <p:cNvSpPr/>
          <p:nvPr/>
        </p:nvSpPr>
        <p:spPr>
          <a:xfrm flipV="1">
            <a:off x="8035920" y="5546880"/>
            <a:ext cx="28404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109"/>
          <p:cNvSpPr/>
          <p:nvPr/>
        </p:nvSpPr>
        <p:spPr>
          <a:xfrm>
            <a:off x="8035920" y="4614840"/>
            <a:ext cx="2746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110"/>
          <p:cNvSpPr/>
          <p:nvPr/>
        </p:nvSpPr>
        <p:spPr>
          <a:xfrm flipV="1">
            <a:off x="8035920" y="3871440"/>
            <a:ext cx="27468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111"/>
          <p:cNvSpPr/>
          <p:nvPr/>
        </p:nvSpPr>
        <p:spPr>
          <a:xfrm flipV="1">
            <a:off x="5807160" y="54482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12"/>
          <p:cNvSpPr/>
          <p:nvPr/>
        </p:nvSpPr>
        <p:spPr>
          <a:xfrm>
            <a:off x="6927840" y="5448240"/>
            <a:ext cx="55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113"/>
          <p:cNvSpPr/>
          <p:nvPr/>
        </p:nvSpPr>
        <p:spPr>
          <a:xfrm>
            <a:off x="5533920" y="4146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114"/>
          <p:cNvSpPr/>
          <p:nvPr/>
        </p:nvSpPr>
        <p:spPr>
          <a:xfrm>
            <a:off x="5533920" y="4889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115"/>
          <p:cNvSpPr/>
          <p:nvPr/>
        </p:nvSpPr>
        <p:spPr>
          <a:xfrm>
            <a:off x="665316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116"/>
          <p:cNvSpPr/>
          <p:nvPr/>
        </p:nvSpPr>
        <p:spPr>
          <a:xfrm>
            <a:off x="6645240" y="4048200"/>
            <a:ext cx="792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117"/>
          <p:cNvSpPr/>
          <p:nvPr/>
        </p:nvSpPr>
        <p:spPr>
          <a:xfrm>
            <a:off x="7773840" y="4156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18"/>
          <p:cNvSpPr/>
          <p:nvPr/>
        </p:nvSpPr>
        <p:spPr>
          <a:xfrm>
            <a:off x="7761240" y="4889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6383"/>
          <p:cNvSpPr/>
          <p:nvPr/>
        </p:nvSpPr>
        <p:spPr>
          <a:xfrm>
            <a:off x="1185840" y="2309760"/>
            <a:ext cx="23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usencia de un campo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29"/>
          <p:cNvSpPr/>
          <p:nvPr/>
        </p:nvSpPr>
        <p:spPr>
          <a:xfrm>
            <a:off x="5969160" y="23097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o externo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0"/>
          <p:cNvSpPr/>
          <p:nvPr/>
        </p:nvSpPr>
        <p:spPr>
          <a:xfrm>
            <a:off x="4986360" y="2836800"/>
            <a:ext cx="33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  +     +     +     +     + 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1"/>
          <p:cNvSpPr/>
          <p:nvPr/>
        </p:nvSpPr>
        <p:spPr>
          <a:xfrm>
            <a:off x="4978440" y="6173640"/>
            <a:ext cx="33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    −     −     −     −     −     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4"/>
          <p:cNvSpPr/>
          <p:nvPr/>
        </p:nvSpPr>
        <p:spPr>
          <a:xfrm>
            <a:off x="5259240" y="434016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5"/>
          <p:cNvSpPr/>
          <p:nvPr/>
        </p:nvSpPr>
        <p:spPr>
          <a:xfrm>
            <a:off x="7486560" y="43401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86"/>
          <p:cNvSpPr/>
          <p:nvPr/>
        </p:nvSpPr>
        <p:spPr>
          <a:xfrm>
            <a:off x="7486560" y="53895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7"/>
          <p:cNvSpPr/>
          <p:nvPr/>
        </p:nvSpPr>
        <p:spPr>
          <a:xfrm>
            <a:off x="6378480" y="51735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8"/>
          <p:cNvSpPr/>
          <p:nvPr/>
        </p:nvSpPr>
        <p:spPr>
          <a:xfrm>
            <a:off x="5259240" y="538956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89"/>
          <p:cNvSpPr/>
          <p:nvPr/>
        </p:nvSpPr>
        <p:spPr>
          <a:xfrm>
            <a:off x="6378480" y="4557600"/>
            <a:ext cx="5493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90"/>
          <p:cNvSpPr/>
          <p:nvPr/>
        </p:nvSpPr>
        <p:spPr>
          <a:xfrm>
            <a:off x="7486560" y="3716280"/>
            <a:ext cx="5493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1"/>
          <p:cNvSpPr/>
          <p:nvPr/>
        </p:nvSpPr>
        <p:spPr>
          <a:xfrm>
            <a:off x="6370560" y="349884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94"/>
          <p:cNvSpPr/>
          <p:nvPr/>
        </p:nvSpPr>
        <p:spPr>
          <a:xfrm>
            <a:off x="5253120" y="3716280"/>
            <a:ext cx="5475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19"/>
          <p:cNvSpPr/>
          <p:nvPr/>
        </p:nvSpPr>
        <p:spPr>
          <a:xfrm>
            <a:off x="5357880" y="3759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20"/>
          <p:cNvSpPr/>
          <p:nvPr/>
        </p:nvSpPr>
        <p:spPr>
          <a:xfrm>
            <a:off x="7589880" y="3759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21"/>
          <p:cNvSpPr/>
          <p:nvPr/>
        </p:nvSpPr>
        <p:spPr>
          <a:xfrm>
            <a:off x="5349960" y="5433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2"/>
          <p:cNvSpPr/>
          <p:nvPr/>
        </p:nvSpPr>
        <p:spPr>
          <a:xfrm>
            <a:off x="7581960" y="5433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3"/>
          <p:cNvSpPr/>
          <p:nvPr/>
        </p:nvSpPr>
        <p:spPr>
          <a:xfrm>
            <a:off x="7599240" y="43941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24"/>
          <p:cNvSpPr/>
          <p:nvPr/>
        </p:nvSpPr>
        <p:spPr>
          <a:xfrm>
            <a:off x="6469200" y="5227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25"/>
          <p:cNvSpPr/>
          <p:nvPr/>
        </p:nvSpPr>
        <p:spPr>
          <a:xfrm>
            <a:off x="6492960" y="3543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26"/>
          <p:cNvSpPr/>
          <p:nvPr/>
        </p:nvSpPr>
        <p:spPr>
          <a:xfrm>
            <a:off x="5372280" y="4384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7"/>
          <p:cNvSpPr/>
          <p:nvPr/>
        </p:nvSpPr>
        <p:spPr>
          <a:xfrm>
            <a:off x="6488280" y="4589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55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los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on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760400" y="6240600"/>
            <a:ext cx="56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555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los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on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ShockwaveFlash1"/>
          <p:cNvGraphicFramePr/>
          <p:nvPr/>
        </p:nvGraphicFramePr>
        <p:xfrm>
          <a:off x="1330200" y="1963800"/>
          <a:ext cx="592956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963800"/>
                    <a:ext cx="59295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739800" y="2251080"/>
            <a:ext cx="7853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electrones en los átomos quedan desplazados en relación al núcle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Iónic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ationes y aniones en un cristal iónico quedan desplazados unos en relación a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Orientada (Dipo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polos permanentes (como el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 se alin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33660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miendo, hay 3 modos de un material polarizar en presencia de un campo eléctr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680" y="1122480"/>
            <a:ext cx="8810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es altamente aislantes con electrones de valencia fuertemente enlazados y sin iones móvi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muy poco conductores de electricidad, pero polarizan bajo un campo eléct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Polarización—y no conducción–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respuesta de un material dieléctrico (aislante) a campos 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materiales que distorcionan su distribución de carga (de electrones, dipolos, y iones)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intentando reducir un campo eléctrico aplicado---por lo tanto son nombrados di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es dieléctricos son usados como aislantes eléctricos. También son usados mecánica y químicamente (en micro -y nano- procedimientos) como capas protect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1360" y="5040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ización de las Propiedades Di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2080" y="1494000"/>
            <a:ext cx="861984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os materiales dieléctricos son caracterizados mediante l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Permitividad </a:t>
            </a:r>
            <a:r>
              <a:rPr b="0" i="1" lang="el-GR" sz="2800" spc="-1" strike="noStrike">
                <a:solidFill>
                  <a:srgbClr val="8585e0"/>
                </a:solidFill>
                <a:latin typeface="Arial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stante dielétrica </a:t>
            </a:r>
            <a:r>
              <a:rPr b="0" i="1" lang="es-PR" sz="2400" spc="-1" strike="noStrike">
                <a:solidFill>
                  <a:srgbClr val="8585e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a constante dieléctrica k es simplemente l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PR" sz="2400" spc="-1" strike="noStrike">
                <a:solidFill>
                  <a:srgbClr val="8585e0"/>
                </a:solidFill>
                <a:latin typeface="Times New Roman"/>
              </a:rPr>
              <a:t>ε</a:t>
            </a:r>
            <a:r>
              <a:rPr b="0" i="1" lang="es-PR" sz="2400" spc="-1" strike="noStrike" baseline="-25000">
                <a:solidFill>
                  <a:srgbClr val="8585e0"/>
                </a:solidFill>
                <a:latin typeface="Times New Roman"/>
              </a:rPr>
              <a:t>0</a:t>
            </a:r>
            <a:r>
              <a:rPr b="0" lang="es-P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s la permitividad del vacío, o sea, la permitividad de una región sin ningún tipo de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4027320" y="4086360"/>
                <a:ext cx="10893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http://photonicswiki.org/images/thumb/5/5a/Organic_modulation_speed.png/400px-Organic_modulation_speed.png"/>
          <p:cNvPicPr/>
          <p:nvPr/>
        </p:nvPicPr>
        <p:blipFill>
          <a:blip r:embed="rId1"/>
          <a:stretch/>
        </p:blipFill>
        <p:spPr>
          <a:xfrm>
            <a:off x="2184480" y="1590840"/>
            <a:ext cx="4251240" cy="3232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165240" y="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 de Frecuencia en la Polar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050920" y="2411280"/>
            <a:ext cx="590760" cy="15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097080" y="3521160"/>
            <a:ext cx="2427480" cy="760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952720" y="3521160"/>
            <a:ext cx="2571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uesta de frecuencia de los principales mecanismos de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654200" y="4822920"/>
            <a:ext cx="817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File:Capacitor schematic with dielectric.svg"/>
          <p:cNvPicPr/>
          <p:nvPr/>
        </p:nvPicPr>
        <p:blipFill>
          <a:blip r:embed="rId1"/>
          <a:stretch/>
        </p:blipFill>
        <p:spPr>
          <a:xfrm>
            <a:off x="3203640" y="3373560"/>
            <a:ext cx="282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3005280" y="643716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Di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7840" y="1076400"/>
            <a:ext cx="84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os valores de la constante dieléctrica </a:t>
            </a:r>
            <a:r>
              <a:rPr b="1" lang="es-PR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o de la permitividad </a:t>
            </a:r>
            <a:r>
              <a:rPr b="1" lang="es-PR" sz="2400" spc="-1" strike="noStrike">
                <a:solidFill>
                  <a:srgbClr val="0000ff"/>
                </a:solidFill>
                <a:latin typeface="Times New Roman"/>
              </a:rPr>
              <a:t>ε</a:t>
            </a:r>
            <a:r>
              <a:rPr b="1" lang="es-P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representan la capacidad de un aislante en oponerse al campo eléctrico impuesto. Debido a esta propiedad polarizante, cuando se aplica una diferencia de voltaje a través de un capacitor, este acumulará más carga cuanto mayor sea su </a:t>
            </a:r>
            <a:r>
              <a:rPr b="1" lang="es-PR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(o su equivalente permitividad </a:t>
            </a:r>
            <a:r>
              <a:rPr b="1" lang="es-PR" sz="2400" spc="-1" strike="noStrike">
                <a:solidFill>
                  <a:srgbClr val="0000ff"/>
                </a:solidFill>
                <a:latin typeface="Times New Roman"/>
              </a:rPr>
              <a:t>ε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228840" y="3384720"/>
            <a:ext cx="86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74880" y="5091120"/>
            <a:ext cx="132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ff"/>
                </a:solidFill>
                <a:latin typeface="Arial"/>
              </a:rPr>
              <a:t>Campo eléctrico </a:t>
            </a:r>
            <a:r>
              <a:rPr b="0" i="1" lang="es-PR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138640" y="5103720"/>
            <a:ext cx="866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Placa área </a:t>
            </a:r>
            <a:r>
              <a:rPr b="0" i="1" lang="es-P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126040" y="4213080"/>
            <a:ext cx="1603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f9933"/>
                </a:solidFill>
                <a:latin typeface="Arial"/>
              </a:rPr>
              <a:t>di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286080" y="6168960"/>
            <a:ext cx="2968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Separación entre placas</a:t>
            </a:r>
            <a:r>
              <a:rPr b="0" i="1" lang="es-PR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p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campo aplicado es suficientemente grande, las especies con cargas eléctricas (electrones, huecos, iones) podrán recombinarse y empezar a conducir corriente. Este fenómeno se conoce como ruptura dieléctrica. En otras palabras, cuando la ruptura dielétrica ocurre, empieza el movimiento de electrones, huecos e iones a causa del campo eléctrico impuesto y no solamente la pola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43280" y="907560"/>
            <a:ext cx="951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533520" y="36180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erencia 9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ificando los Materiales según sus Propiedades Físicas: Propiedades Eléctricas, Parte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066680"/>
            <a:ext cx="8305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las sustancias con constante dieléctrica pequeña está el alto vacío, el aire seco, y la mayoría de los gases puros y secos como el argón y el nitró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s sustancias no polarizan mucho y no alcanzan el punto de ruptura fáci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tante dieléctrica del aire es: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los materiales con constante dieléctrica moderada está el agua destilada, papel, mica, polietileno y vidrio. Los óxidos metálicos, en general, tienen constantes dieléctricas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96800" y="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371600"/>
            <a:ext cx="777240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ncias con k grandes, como es el caso del óxido de háfnio, permiten la manufatura de capacitores muy dieléctricos y de pequeño volume, haciendo posible puertas (“gates”) muy finas en los MOSF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ncias con k pequeñas, como la sílica nanoporosa, permiten hacer inter-conecciones complicadas en un micro-c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78000" y="28440"/>
            <a:ext cx="84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es Diéctricos con k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47560" y="2204640"/>
            <a:ext cx="414972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2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0-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es Diéctricos con k peque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8120" y="1701360"/>
            <a:ext cx="82677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G, (vidrio de silicato fluorad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 3.4-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Q, (Silsesquioxano de Hidróg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lica nanopor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-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imida fluorin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-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FE,Tefl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litetrafluoroetil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S-BCB, (Benzociclobut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rocarburo aromát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9800" y="22791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eléctricos Especiales:</a:t>
            </a:r>
            <a:br>
              <a:rPr sz="48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teriales Ferroeléctrico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teriales Piezoeléctr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5160" y="26175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término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erroeléctric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 tiene nada que ver con el hierro (Fe) pero fue acuñado por analogía a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erromagnéti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que veremos en la clase 1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Ferro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08000" y="3740040"/>
            <a:ext cx="90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Ferroeléctricos son los que se pued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rizar espontáne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al polarización puede ser revertida aplicando un campo eléctrico externo. En el ejemplo arriba, la polarización proviene de los desplazamientos relativos de los iones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sus respectivas posicione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0" y="6362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irellilabs.com/web/material_innovation/materials_device_for_telecommunication/dielectric_ferroelectric_materials/default.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841320" y="1233360"/>
            <a:ext cx="7649280" cy="2457720"/>
            <a:chOff x="841320" y="1233360"/>
            <a:chExt cx="7649280" cy="2457720"/>
          </a:xfrm>
        </p:grpSpPr>
        <p:pic>
          <p:nvPicPr>
            <p:cNvPr id="251" name="Picture 5" descr="http://www.pirellilabs.com/en_IT/browser/attachments/images/Material_Innovation/Materials_Device_for_Telecommunication/Dielectric_Ferroelectric_Materials/Figure3.jpg"/>
            <p:cNvPicPr/>
            <p:nvPr/>
          </p:nvPicPr>
          <p:blipFill>
            <a:blip r:embed="rId1"/>
            <a:stretch/>
          </p:blipFill>
          <p:spPr>
            <a:xfrm>
              <a:off x="841320" y="1233360"/>
              <a:ext cx="6792120" cy="24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3"/>
            <p:cNvGrpSpPr/>
            <p:nvPr/>
          </p:nvGrpSpPr>
          <p:grpSpPr>
            <a:xfrm>
              <a:off x="7974000" y="2164680"/>
              <a:ext cx="516600" cy="1208880"/>
              <a:chOff x="7974000" y="2164680"/>
              <a:chExt cx="516600" cy="1208880"/>
            </a:xfrm>
          </p:grpSpPr>
          <p:sp>
            <p:nvSpPr>
              <p:cNvPr id="253" name="TextBox 2"/>
              <p:cNvSpPr/>
              <p:nvPr/>
            </p:nvSpPr>
            <p:spPr>
              <a:xfrm>
                <a:off x="7983720" y="2164680"/>
                <a:ext cx="50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Box 7"/>
              <p:cNvSpPr/>
              <p:nvPr/>
            </p:nvSpPr>
            <p:spPr>
              <a:xfrm>
                <a:off x="7983720" y="2615400"/>
                <a:ext cx="4064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Box 8"/>
              <p:cNvSpPr/>
              <p:nvPr/>
            </p:nvSpPr>
            <p:spPr>
              <a:xfrm>
                <a:off x="7974000" y="2974680"/>
                <a:ext cx="3787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va de Histéresis de un Ferroeléc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4"/>
          <p:cNvSpPr/>
          <p:nvPr/>
        </p:nvSpPr>
        <p:spPr>
          <a:xfrm>
            <a:off x="6607080" y="6611760"/>
            <a:ext cx="25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electrons.wikidot.com/ferroelec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7" descr="flickr:3459735913"/>
          <p:cNvPicPr/>
          <p:nvPr/>
        </p:nvPicPr>
        <p:blipFill>
          <a:blip r:embed="rId1"/>
          <a:stretch/>
        </p:blipFill>
        <p:spPr>
          <a:xfrm>
            <a:off x="108000" y="1628640"/>
            <a:ext cx="5303880" cy="33940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4859280" y="1557360"/>
            <a:ext cx="414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 campo externo es aplicado a un ferroeléctrico, este se polari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larización se satura (D) cuando lo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min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el material están alin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larización es reversible si se aplica un campo externo 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Piezo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433440" y="52801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a fuerza externa (p.ej., compresión, tensión) es aplicada a un material piezoeléctrico, se genera un campo eléctrico debido a la polarización del mater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File:Perovskite.svg"/>
          <p:cNvPicPr/>
          <p:nvPr/>
        </p:nvPicPr>
        <p:blipFill>
          <a:blip r:embed="rId1"/>
          <a:stretch/>
        </p:blipFill>
        <p:spPr>
          <a:xfrm>
            <a:off x="1222200" y="919080"/>
            <a:ext cx="6712200" cy="36655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1315080" y="446256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da unitaria tetragonal del titanato de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3030480" y="4772160"/>
            <a:ext cx="777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Piezoelectr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upload.wikimedia.org/wikipedia/commons/c/c4/SchemaPiezo.gif"/>
          <p:cNvPicPr/>
          <p:nvPr/>
        </p:nvPicPr>
        <p:blipFill>
          <a:blip r:embed="rId1"/>
          <a:stretch/>
        </p:blipFill>
        <p:spPr>
          <a:xfrm>
            <a:off x="2768760" y="1936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165240" y="52056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Piezoeléctrico---¡es reversible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295200" y="4491000"/>
            <a:ext cx="8499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co piezoeléctrico engendra un voltage cuando deforma (el cambio en la forma está muy exagerado en la figur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Piezoelectr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461880" y="4135320"/>
            <a:ext cx="83743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 de microscopía electrónica de barrido (SEM) de una hilera de nanoalambres de óxido de cinc crecidos lateralmente. Dispositivos que generan hasta 1.2 V pueden ser fabricados usando cerca de 20.000 nanoalambres de óxido de cinc en cada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http://www.sciencedaily.com/releases/2010/03/100328170247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4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a fuente de alimentación basada en el efecto piezoelétrico hecha de nanoalambres de Z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809800" y="2060640"/>
            <a:ext cx="3025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90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: Propiedades eléctrica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iedade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ización (Propiedades Dieléctr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léctricos espec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17440" y="1027080"/>
            <a:ext cx="848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opiedades físicas son las que se pueden observar sin que la sustancia cambie quím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física es cualquier propiedad del material que describa una interacción con otros materiales o el ambiente que no sea quí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del material puede ser constante o una función de variables tales como temperatura, presión o frecuencia de ex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6720" y="142920"/>
            <a:ext cx="8629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ibles reacciones de un material al ser sometido a un campo eléc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 campo eléctrico es aplicado a un material, él pu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duc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los electrones, huecos y/o iones se mueven a través de largas distancias debido al campo eléctri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lariza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s electrones, huecos, dipolos y/o iones se mueven a cortas distancias – fracciones de un nanómetro – debido al campo eléctri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ducir y polarizarse al mismo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que responden a un campo eléctrico solamente polarizándose se llaman dieléctricos. Son también llamados ais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204840" y="245592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dieléctricas (Polarización) y Materiales Dieléct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es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iagramas de Band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\includegraphics[width=0.8\textwidth]{band-all.eps}"/>
          <p:cNvPicPr/>
          <p:nvPr/>
        </p:nvPicPr>
        <p:blipFill>
          <a:blip r:embed="rId1"/>
          <a:stretch/>
        </p:blipFill>
        <p:spPr>
          <a:xfrm>
            <a:off x="2886120" y="2857680"/>
            <a:ext cx="31352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5183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://psi.phys.wits.ac.za/teaching/Connell/phys284/2005/lecture-07/lecture_07/node5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6246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youtube.com/watch?feature=player_detailpage&amp;v=p_ubxdTOV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ecture 9_Slide10_Dielectric_Trimmed.wmv" descr=""/>
          <p:cNvPicPr/>
          <p:nvPr/>
        </p:nvPicPr>
        <p:blipFill>
          <a:blip r:embed="rId1"/>
          <a:stretch/>
        </p:blipFill>
        <p:spPr>
          <a:xfrm>
            <a:off x="1666800" y="1984320"/>
            <a:ext cx="5532480" cy="4098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es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iagramas de Band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dcterms:modified xsi:type="dcterms:W3CDTF">2014-10-21T22:12:12Z</dcterms:modified>
  <cp:revision>477</cp:revision>
  <dc:subject/>
  <dc:title>Nanofabrication Manufacturing Technology Program</dc:title>
</cp:coreProperties>
</file>