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1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2600" y="696600"/>
            <a:ext cx="4633920" cy="347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1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6063976-EE18-471C-BD7A-4B532E24B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00725E7-73FB-4177-B69F-EBE76A6B0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lossary that comes along with this set of modules. Each term in blue print in every module is defined in this glossa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ED91918-BC34-4377-84D3-63CA3E86B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or may want to break this module into two lectures. There`s a lot of material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C127FC1-1AE5-4BDD-8762-5EAC176FD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or may want to break this module into two lectures. There`s a lot of material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4597834-5FD9-4D12-8EED-63AAD12B6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AE5ACA8-B98F-4539-B499-882000D03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or may want to break this module into two lectures. There`s a lot of material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88ECE2A-9305-421A-8B59-1017F2CEE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C02298C-8F0C-4BD0-92A0-FA4B0625E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or may want to break this module into two lectures. There`s a lot of material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22194A9-92E1-406E-ADD2-97FE41848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or may want to break this module into two lectures. There`s a lot of material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C13FC4B-F939-4574-A717-4CFFCC402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or may want to break this module into two lectures. There`s a lot of material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404EC89-D2ED-4E5D-8A76-B661BDFB7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this sculpting analogy, the modification step could be coloring the eyes b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E56B8E5-3EC3-4737-8D51-02596E10A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or may want to break this module into two lectures. There`s a lot of material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04C3-9B41-4F2B-BD28-97B96AE7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FB70-5839-4A06-BF7C-62207973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8E9B-AAD8-4A04-99AB-77B2E5FA9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1736-46CE-4440-9C47-C5FAB3C8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2658-639B-4CE6-A662-C177016F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A772-293C-4392-B8F1-D6636DE1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906E-E93B-4922-829C-D12BEBD2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7A65-BE24-46AC-8FD5-3A7293C1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AC0F-3F72-4F11-9BBA-4CBD22FB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4F70-A058-4E5A-9202-B7EEDD3D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EE4D-C918-4FAA-AFC8-9219D2A7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B7DE-7482-432A-8568-31C6C16C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81080" y="6534000"/>
            <a:ext cx="5181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0EA4-6B7A-443E-BB0F-F93EFEFA2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http://www.pattonbros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matecnetworks.org/nano4me/glossary/glossary.html" TargetMode="External"/><Relationship Id="rId2" Type="http://schemas.openxmlformats.org/officeDocument/2006/relationships/hyperlink" Target="http://www.matecnetworks.org/nano4me/glossary/glossary.html" TargetMode="External"/><Relationship Id="rId3" Type="http://schemas.openxmlformats.org/officeDocument/2006/relationships/hyperlink" Target="http://www.matecnetworks.org/nano4me/glossary/glossary.html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dx.doi.org/10.1039/DOI" TargetMode="External"/><Relationship Id="rId3" Type="http://schemas.openxmlformats.org/officeDocument/2006/relationships/hyperlink" Target="http://dx.doi.org/10.1039/DOI" TargetMode="Externa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atecnetworks.org/nano4me/glossary/glossary.html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1666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ntroducción a la Nanotecnolog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ódulo #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3"/>
          <p:cNvGraphicFramePr/>
          <p:nvPr/>
        </p:nvGraphicFramePr>
        <p:xfrm>
          <a:off x="3352680" y="2895480"/>
          <a:ext cx="2206800" cy="23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895480"/>
                    <a:ext cx="2206800" cy="23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4"/>
          <p:cNvSpPr/>
          <p:nvPr/>
        </p:nvSpPr>
        <p:spPr>
          <a:xfrm>
            <a:off x="0" y="121932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ómo construimos cosas tan pequeñas: Nanofabricación de Abajo Hacia Arri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762120" y="5867640"/>
            <a:ext cx="744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nanotecnología está impactando todas las cos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2209680" y="52578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patton brothers illustration (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pattonbros.co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ooter Placeholder 7"/>
          <p:cNvSpPr/>
          <p:nvPr/>
        </p:nvSpPr>
        <p:spPr>
          <a:xfrm>
            <a:off x="1905120" y="6534000"/>
            <a:ext cx="51814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ooter Placeholder 8"/>
          <p:cNvSpPr/>
          <p:nvPr/>
        </p:nvSpPr>
        <p:spPr>
          <a:xfrm>
            <a:off x="1752480" y="6153120"/>
            <a:ext cx="5334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Traducción: Prof. Carlos Luis Vicente Prado – University of Puerto Rico at Rio Pied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Oval 2"/>
          <p:cNvSpPr/>
          <p:nvPr/>
        </p:nvSpPr>
        <p:spPr>
          <a:xfrm>
            <a:off x="1447920" y="685800"/>
            <a:ext cx="6553080" cy="5029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3581280" y="380880"/>
            <a:ext cx="18288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rica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ques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505320" y="5105520"/>
            <a:ext cx="19810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ambl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 rot="4563600">
            <a:off x="5486040" y="5410080"/>
            <a:ext cx="381240" cy="3808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 rot="10078800">
            <a:off x="1294920" y="3504960"/>
            <a:ext cx="381240" cy="3808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 rot="14991000">
            <a:off x="3200400" y="685800"/>
            <a:ext cx="380880" cy="3808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"/>
          <p:cNvSpPr/>
          <p:nvPr/>
        </p:nvSpPr>
        <p:spPr>
          <a:xfrm rot="19674600">
            <a:off x="7619760" y="2209320"/>
            <a:ext cx="380880" cy="38736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3276720" y="2809800"/>
            <a:ext cx="257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a Metodología de Fabricación de Abajo Hacia Arri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4267080" y="62485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urtesy of CN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000" spc="-1" strike="noStrike">
                <a:solidFill>
                  <a:srgbClr val="000000"/>
                </a:solidFill>
                <a:latin typeface="Arial"/>
              </a:rPr>
              <a:t>Así es que la nanofabricación de abajo hacia arriba se hace usualm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bloques de construcción (moléculas, partículas, capas) se fabri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os bloques de construcción se auto ensamblan   formando una nanoestructura con alguna aplicación nanotecn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Arial"/>
              </a:rPr>
              <a:t>La nanofabricación y el ensamblaje pueden ocurrir en un solo pa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 secuencia se puede repetir muchas v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nanoestructuras resultantes pueden residir en una solución, en una superficie o en un obj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hay uso de litografía o pasos de grabado que dirijan donde va cada cosa; por eso se usa el termino “auto-ensamblaj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hora examinaremos algunos ejemplos de </a:t>
            </a:r>
            <a:r>
              <a:rPr b="0" lang="es-ES_tradnl" sz="4000" spc="-1" strike="noStrike" u="sng">
                <a:solidFill>
                  <a:srgbClr val="0000cc"/>
                </a:solidFill>
                <a:uFillTx/>
                <a:latin typeface="Arial"/>
              </a:rPr>
              <a:t>fabricación de bloques de construcción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s-ES_tradnl" sz="4000" spc="-1" strike="noStrike" u="sng">
                <a:solidFill>
                  <a:srgbClr val="0000cc"/>
                </a:solidFill>
                <a:uFillTx/>
                <a:latin typeface="Arial"/>
              </a:rPr>
              <a:t>ensamblaj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acercamiento básico a la nanofabricación de Abajo Hacia Arri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pasos bá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ercamientos de Fabricación en Bloques de Constr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-ensambl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s c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066680" y="150840"/>
            <a:ext cx="70866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Fabricación de Bloques de Constr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gunos de los posibles métodos de fabricación de bloques de construcción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cc"/>
                </a:solidFill>
                <a:uFillTx/>
                <a:latin typeface="Arial"/>
                <a:ea typeface="ＭＳ Ｐゴシック"/>
              </a:rPr>
              <a:t>Síntesis Mole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cc"/>
                </a:solidFill>
                <a:uFillTx/>
                <a:latin typeface="Arial"/>
                <a:ea typeface="ＭＳ Ｐゴシック"/>
              </a:rPr>
              <a:t>Química de Colo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cc"/>
                </a:solidFill>
                <a:uFillTx/>
                <a:latin typeface="Arial"/>
                <a:ea typeface="ＭＳ Ｐゴシック"/>
              </a:rPr>
              <a:t>Procesos de Fabricación Fí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cc"/>
                </a:solidFill>
                <a:uFillTx/>
                <a:latin typeface="Arial"/>
                <a:ea typeface="ＭＳ Ｐゴシック"/>
              </a:rPr>
              <a:t>Deposición Química en Fase Vap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Síntesis Molecul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2"/>
          <p:cNvSpPr/>
          <p:nvPr/>
        </p:nvSpPr>
        <p:spPr>
          <a:xfrm>
            <a:off x="1981080" y="6534000"/>
            <a:ext cx="51818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392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Moléculas Sintetizadas para Enlaza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965160" y="2649600"/>
          <a:ext cx="2032200" cy="26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2649600"/>
                    <a:ext cx="20322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4"/>
          <p:cNvSpPr/>
          <p:nvPr/>
        </p:nvSpPr>
        <p:spPr>
          <a:xfrm>
            <a:off x="304920" y="5486400"/>
            <a:ext cx="335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rupo Rabo – seleccionado para unirse a materiales, partículas o moléculas específicas.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581280" y="2895480"/>
            <a:ext cx="2175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erpo de la molécu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eglo atómico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esta moléc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52520" y="1144440"/>
            <a:ext cx="84582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oléculas hechas con un grupo en la cola (bola verde) para darle funcionalidad; i.e., usado para determinar a que se unirá. El grupo cabeza (no se muestra) puede dictar a que se enlaza la molécula  por el otro extrem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8"/>
          <p:cNvGrpSpPr/>
          <p:nvPr/>
        </p:nvGrpSpPr>
        <p:grpSpPr>
          <a:xfrm>
            <a:off x="6486480" y="2014560"/>
            <a:ext cx="1410840" cy="3889080"/>
            <a:chOff x="6486480" y="2014560"/>
            <a:chExt cx="1410840" cy="3889080"/>
          </a:xfrm>
        </p:grpSpPr>
        <p:grpSp>
          <p:nvGrpSpPr>
            <p:cNvPr id="112" name="Group 9"/>
            <p:cNvGrpSpPr/>
            <p:nvPr/>
          </p:nvGrpSpPr>
          <p:grpSpPr>
            <a:xfrm>
              <a:off x="6486480" y="2014560"/>
              <a:ext cx="1410840" cy="3889080"/>
              <a:chOff x="6486480" y="2014560"/>
              <a:chExt cx="1410840" cy="3889080"/>
            </a:xfrm>
          </p:grpSpPr>
          <p:sp>
            <p:nvSpPr>
              <p:cNvPr id="113" name="Text Box 10"/>
              <p:cNvSpPr/>
              <p:nvPr/>
            </p:nvSpPr>
            <p:spPr>
              <a:xfrm>
                <a:off x="7164360" y="5443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Text Box 11"/>
              <p:cNvSpPr/>
              <p:nvPr/>
            </p:nvSpPr>
            <p:spPr>
              <a:xfrm>
                <a:off x="6514920" y="5158080"/>
                <a:ext cx="726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2"/>
              <p:cNvSpPr/>
              <p:nvPr/>
            </p:nvSpPr>
            <p:spPr>
              <a:xfrm>
                <a:off x="6494040" y="4443480"/>
                <a:ext cx="726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3"/>
              <p:cNvSpPr/>
              <p:nvPr/>
            </p:nvSpPr>
            <p:spPr>
              <a:xfrm>
                <a:off x="7086240" y="4800960"/>
                <a:ext cx="726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H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14"/>
              <p:cNvSpPr/>
              <p:nvPr/>
            </p:nvSpPr>
            <p:spPr>
              <a:xfrm>
                <a:off x="6486480" y="3871800"/>
                <a:ext cx="74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 Box 15"/>
              <p:cNvSpPr/>
              <p:nvPr/>
            </p:nvSpPr>
            <p:spPr>
              <a:xfrm>
                <a:off x="7170840" y="4158000"/>
                <a:ext cx="726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H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16"/>
              <p:cNvSpPr/>
              <p:nvPr/>
            </p:nvSpPr>
            <p:spPr>
              <a:xfrm>
                <a:off x="7170840" y="3585960"/>
                <a:ext cx="726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H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 Box 17"/>
              <p:cNvSpPr/>
              <p:nvPr/>
            </p:nvSpPr>
            <p:spPr>
              <a:xfrm>
                <a:off x="7170840" y="3014640"/>
                <a:ext cx="726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H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18"/>
              <p:cNvSpPr/>
              <p:nvPr/>
            </p:nvSpPr>
            <p:spPr>
              <a:xfrm>
                <a:off x="6494040" y="3371760"/>
                <a:ext cx="726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19"/>
              <p:cNvSpPr/>
              <p:nvPr/>
            </p:nvSpPr>
            <p:spPr>
              <a:xfrm>
                <a:off x="7170840" y="2514240"/>
                <a:ext cx="726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H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Text Box 20"/>
              <p:cNvSpPr/>
              <p:nvPr/>
            </p:nvSpPr>
            <p:spPr>
              <a:xfrm>
                <a:off x="6494040" y="2800080"/>
                <a:ext cx="726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 Box 21"/>
              <p:cNvSpPr/>
              <p:nvPr/>
            </p:nvSpPr>
            <p:spPr>
              <a:xfrm>
                <a:off x="7086240" y="2014560"/>
                <a:ext cx="726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H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22"/>
              <p:cNvSpPr/>
              <p:nvPr/>
            </p:nvSpPr>
            <p:spPr>
              <a:xfrm>
                <a:off x="6494040" y="2300040"/>
                <a:ext cx="726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Line 23"/>
            <p:cNvSpPr/>
            <p:nvPr/>
          </p:nvSpPr>
          <p:spPr>
            <a:xfrm>
              <a:off x="7163280" y="5515200"/>
              <a:ext cx="8460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4"/>
            <p:cNvSpPr/>
            <p:nvPr/>
          </p:nvSpPr>
          <p:spPr>
            <a:xfrm>
              <a:off x="7163280" y="4229280"/>
              <a:ext cx="8460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5"/>
            <p:cNvSpPr/>
            <p:nvPr/>
          </p:nvSpPr>
          <p:spPr>
            <a:xfrm flipH="1">
              <a:off x="7162920" y="4443480"/>
              <a:ext cx="8460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6"/>
            <p:cNvSpPr/>
            <p:nvPr/>
          </p:nvSpPr>
          <p:spPr>
            <a:xfrm>
              <a:off x="7163280" y="2657520"/>
              <a:ext cx="8460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7"/>
            <p:cNvSpPr/>
            <p:nvPr/>
          </p:nvSpPr>
          <p:spPr>
            <a:xfrm>
              <a:off x="7163280" y="3157560"/>
              <a:ext cx="8460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8"/>
            <p:cNvSpPr/>
            <p:nvPr/>
          </p:nvSpPr>
          <p:spPr>
            <a:xfrm>
              <a:off x="7163280" y="3728880"/>
              <a:ext cx="8460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9"/>
            <p:cNvSpPr/>
            <p:nvPr/>
          </p:nvSpPr>
          <p:spPr>
            <a:xfrm>
              <a:off x="7163280" y="4800600"/>
              <a:ext cx="8460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0"/>
            <p:cNvSpPr/>
            <p:nvPr/>
          </p:nvSpPr>
          <p:spPr>
            <a:xfrm flipH="1">
              <a:off x="7247880" y="3943440"/>
              <a:ext cx="8424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1"/>
            <p:cNvSpPr/>
            <p:nvPr/>
          </p:nvSpPr>
          <p:spPr>
            <a:xfrm flipH="1">
              <a:off x="7162920" y="3371760"/>
              <a:ext cx="8460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2"/>
            <p:cNvSpPr/>
            <p:nvPr/>
          </p:nvSpPr>
          <p:spPr>
            <a:xfrm flipH="1">
              <a:off x="7247880" y="2871720"/>
              <a:ext cx="8424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3"/>
            <p:cNvSpPr/>
            <p:nvPr/>
          </p:nvSpPr>
          <p:spPr>
            <a:xfrm flipH="1">
              <a:off x="7162920" y="5158080"/>
              <a:ext cx="84600" cy="70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34"/>
            <p:cNvSpPr/>
            <p:nvPr/>
          </p:nvSpPr>
          <p:spPr>
            <a:xfrm flipH="1">
              <a:off x="7077960" y="2300400"/>
              <a:ext cx="8460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35"/>
          <p:cNvSpPr/>
          <p:nvPr/>
        </p:nvSpPr>
        <p:spPr>
          <a:xfrm>
            <a:off x="5105520" y="60199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jemplo: el grupo sulfuro en la cola de la molécula de alkanethiol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6"/>
          <p:cNvSpPr/>
          <p:nvPr/>
        </p:nvSpPr>
        <p:spPr>
          <a:xfrm flipH="1">
            <a:off x="2590920" y="34290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7"/>
          <p:cNvSpPr/>
          <p:nvPr/>
        </p:nvSpPr>
        <p:spPr>
          <a:xfrm flipV="1">
            <a:off x="5257800" y="373356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2"/>
          <p:cNvGraphicFramePr/>
          <p:nvPr/>
        </p:nvGraphicFramePr>
        <p:xfrm>
          <a:off x="990720" y="2009880"/>
          <a:ext cx="6941880" cy="48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09880"/>
                    <a:ext cx="6941880" cy="48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5"/>
          <p:cNvSpPr/>
          <p:nvPr/>
        </p:nvSpPr>
        <p:spPr>
          <a:xfrm>
            <a:off x="30492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íntesis de Macromoléculas</a:t>
            </a:r>
            <a:br>
              <a:rPr sz="2000"/>
            </a:b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ejemplo, un </a:t>
            </a:r>
            <a:r>
              <a:rPr b="0" lang="es-ES_tradnl" sz="2000" spc="-1" strike="noStrike" u="sng">
                <a:solidFill>
                  <a:srgbClr val="0000cc"/>
                </a:solidFill>
                <a:uFillTx/>
                <a:latin typeface="Arial"/>
              </a:rPr>
              <a:t>dendrímer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 una </a:t>
            </a:r>
            <a:r>
              <a:rPr b="0" lang="es-ES_tradnl" sz="2000" spc="-1" strike="noStrike" u="sng">
                <a:solidFill>
                  <a:srgbClr val="0000cc"/>
                </a:solidFill>
                <a:uFillTx/>
                <a:latin typeface="Arial"/>
              </a:rPr>
              <a:t>macromolécul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que se sintetiza por medio de una serie de reacciones que crean capas  (Ver G1, G2, etc. abajo). Los dendrímeros pueden ser funcionalizados (en las Z) para formar enlaces y/o pega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990720" y="5029200"/>
            <a:ext cx="70866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1295280" y="5621400"/>
            <a:ext cx="6705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ercializing Nanotechnology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ATURE BIOTECHNOLOGY Volume 21, Number 10, October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990720" y="5638680"/>
            <a:ext cx="6858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295280" y="5697360"/>
            <a:ext cx="6705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ercializing Nanotechnology”, NATURE BIOTECHNOLOGY Volume 21, Number 10, October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Química Coloidal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(química de soluciones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33520" y="895320"/>
            <a:ext cx="8610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parando reacciones en solución, controladas cuidadosamente, es posible ensamblar átomos y moléculas usando química coloidal para formar nanopartícu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a es una gran manera de crear </a:t>
            </a:r>
            <a:r>
              <a:rPr b="0" lang="es-ES_tradnl" sz="2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nanopartículas</a:t>
            </a:r>
            <a:r>
              <a:rPr b="0" lang="es-ES_tradnl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o</a:t>
            </a:r>
            <a:r>
              <a:rPr b="0" lang="es-ES_tradnl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nanopartículas metálicas</a:t>
            </a:r>
            <a:r>
              <a:rPr b="0" lang="es-ES_tradnl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untos cuántic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métodos de la química coloidal son los más comúnmente utilizados para producir nanopartículas, nano-aglomerados y puntos cuánticos en 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grandes cantidades y a bajo cost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-304920" y="351000"/>
            <a:ext cx="91440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Este módulo es parte de una serie diseñada para ser utilizada por profesores de instituciones de educación superior en talleres y cursos  para introducir la nanotecnología y sus aplicaciones. No hay ningún significado particular para el sistema de número de módu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Esa serie fue auspiciada en parte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The National Science Foun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Grant # DUE 0532646 and DUE 08024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The Pennsylvania Department of Community and</a:t>
            </a: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Economic Develop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Grant # C000029471 and C0000366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Cualquier comentario, resultados y conclusiones o recomendaciones expresadas en este material son los del autor y no reflejan necesariamente las opiniones de la National Science Foundation o de “Pennsylvania Department of Community and Economic Developmen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dced-global2"/>
          <p:cNvPicPr/>
          <p:nvPr/>
        </p:nvPicPr>
        <p:blipFill>
          <a:blip r:embed="rId1"/>
          <a:stretch/>
        </p:blipFill>
        <p:spPr>
          <a:xfrm>
            <a:off x="380880" y="5486400"/>
            <a:ext cx="2514600" cy="1087560"/>
          </a:xfrm>
          <a:prstGeom prst="rect">
            <a:avLst/>
          </a:prstGeom>
          <a:ln w="0">
            <a:noFill/>
          </a:ln>
        </p:spPr>
      </p:pic>
      <p:sp>
        <p:nvSpPr>
          <p:cNvPr id="58" name="Footer Placeholder 4"/>
          <p:cNvSpPr/>
          <p:nvPr/>
        </p:nvSpPr>
        <p:spPr>
          <a:xfrm>
            <a:off x="2666880" y="6620040"/>
            <a:ext cx="42674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NSF image.JPG"/>
          <p:cNvPicPr/>
          <p:nvPr/>
        </p:nvPicPr>
        <p:blipFill>
          <a:blip r:embed="rId2"/>
          <a:stretch/>
        </p:blipFill>
        <p:spPr>
          <a:xfrm>
            <a:off x="7315200" y="5029200"/>
            <a:ext cx="15811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914400" y="1219320"/>
            <a:ext cx="7010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procedimiento general envuelve reacciones químicas en soluciones acuosas o no acuosas que contienen sales disueltas o suspendidas, que son uno de los precursores. Una vez la solución se vuelve supersaturada con el producto de la reacción química que involucra los precursores, el precipitado (nanopartículas) comienza a formarse por nucleación y crecimi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600200" y="5105520"/>
            <a:ext cx="2286000" cy="914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4"/>
          <p:cNvSpPr/>
          <p:nvPr/>
        </p:nvSpPr>
        <p:spPr>
          <a:xfrm>
            <a:off x="1600200" y="4724280"/>
            <a:ext cx="2286000" cy="129564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1440" h="816">
                <a:moveTo>
                  <a:pt x="0" y="0"/>
                </a:moveTo>
                <a:lnTo>
                  <a:pt x="0" y="816"/>
                </a:lnTo>
                <a:lnTo>
                  <a:pt x="1440" y="816"/>
                </a:lnTo>
                <a:lnTo>
                  <a:pt x="144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5257800" y="5181480"/>
            <a:ext cx="2286000" cy="914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6"/>
          <p:cNvSpPr/>
          <p:nvPr/>
        </p:nvSpPr>
        <p:spPr>
          <a:xfrm>
            <a:off x="5257800" y="4800600"/>
            <a:ext cx="2286000" cy="12952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1295280"/>
              <a:gd name="textAreaBottom" fmla="*/ 1295280 h 1295280"/>
            </a:gdLst>
            <a:ahLst/>
            <a:rect l="textAreaLeft" t="textAreaTop" r="textAreaRight" b="textAreaBottom"/>
            <a:pathLst>
              <a:path w="1440" h="816">
                <a:moveTo>
                  <a:pt x="0" y="0"/>
                </a:moveTo>
                <a:lnTo>
                  <a:pt x="0" y="816"/>
                </a:lnTo>
                <a:lnTo>
                  <a:pt x="1440" y="816"/>
                </a:lnTo>
                <a:lnTo>
                  <a:pt x="144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680760" y="411480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precur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195360" y="41133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ahoma"/>
              </a:rPr>
              <a:t>precur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9"/>
          <p:cNvSpPr/>
          <p:nvPr/>
        </p:nvSpPr>
        <p:spPr>
          <a:xfrm>
            <a:off x="1828800" y="5334120"/>
            <a:ext cx="1752480" cy="60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3c3c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385200" y="588024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lv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1"/>
          <p:cNvSpPr/>
          <p:nvPr/>
        </p:nvSpPr>
        <p:spPr>
          <a:xfrm>
            <a:off x="1981080" y="4343400"/>
            <a:ext cx="609840" cy="1295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295280"/>
              <a:gd name="textAreaBottom" fmla="*/ 1295280 h 1295280"/>
            </a:gdLst>
            <a:ahLst/>
            <a:rect l="textAreaLeft" t="textAreaTop" r="textAreaRight" b="textAreaBottom"/>
            <a:pathLst>
              <a:path w="384" h="816">
                <a:moveTo>
                  <a:pt x="0" y="0"/>
                </a:moveTo>
                <a:cubicBezTo>
                  <a:pt x="112" y="52"/>
                  <a:pt x="224" y="104"/>
                  <a:pt x="288" y="240"/>
                </a:cubicBezTo>
                <a:cubicBezTo>
                  <a:pt x="352" y="376"/>
                  <a:pt x="368" y="596"/>
                  <a:pt x="384" y="816"/>
                </a:cubicBezTo>
              </a:path>
            </a:pathLst>
          </a:custGeom>
          <a:noFill/>
          <a:ln w="507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2"/>
          <p:cNvSpPr/>
          <p:nvPr/>
        </p:nvSpPr>
        <p:spPr>
          <a:xfrm>
            <a:off x="2819520" y="4343400"/>
            <a:ext cx="380880" cy="1219320"/>
          </a:xfrm>
          <a:custGeom>
            <a:avLst/>
            <a:gdLst>
              <a:gd name="textAreaLeft" fmla="*/ 0 w 380880"/>
              <a:gd name="textAreaRight" fmla="*/ 381240 w 38088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40" h="768">
                <a:moveTo>
                  <a:pt x="240" y="0"/>
                </a:moveTo>
                <a:cubicBezTo>
                  <a:pt x="164" y="128"/>
                  <a:pt x="88" y="256"/>
                  <a:pt x="48" y="384"/>
                </a:cubicBezTo>
                <a:cubicBezTo>
                  <a:pt x="8" y="512"/>
                  <a:pt x="4" y="640"/>
                  <a:pt x="0" y="768"/>
                </a:cubicBezTo>
              </a:path>
            </a:pathLst>
          </a:custGeom>
          <a:noFill/>
          <a:ln w="507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2213640" y="56386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4"/>
          <p:cNvSpPr/>
          <p:nvPr/>
        </p:nvSpPr>
        <p:spPr>
          <a:xfrm flipV="1">
            <a:off x="1371600" y="57146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5"/>
          <p:cNvSpPr/>
          <p:nvPr/>
        </p:nvSpPr>
        <p:spPr>
          <a:xfrm>
            <a:off x="4343400" y="556272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6"/>
          <p:cNvSpPr/>
          <p:nvPr/>
        </p:nvSpPr>
        <p:spPr>
          <a:xfrm>
            <a:off x="6248520" y="5638680"/>
            <a:ext cx="75960" cy="76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7"/>
          <p:cNvSpPr/>
          <p:nvPr/>
        </p:nvSpPr>
        <p:spPr>
          <a:xfrm>
            <a:off x="6400800" y="5791320"/>
            <a:ext cx="76320" cy="75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8"/>
          <p:cNvSpPr/>
          <p:nvPr/>
        </p:nvSpPr>
        <p:spPr>
          <a:xfrm>
            <a:off x="6858000" y="5638680"/>
            <a:ext cx="76320" cy="76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9"/>
          <p:cNvSpPr/>
          <p:nvPr/>
        </p:nvSpPr>
        <p:spPr>
          <a:xfrm>
            <a:off x="5715000" y="5791320"/>
            <a:ext cx="76320" cy="75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0"/>
          <p:cNvSpPr/>
          <p:nvPr/>
        </p:nvSpPr>
        <p:spPr>
          <a:xfrm>
            <a:off x="5715000" y="5486400"/>
            <a:ext cx="76320" cy="76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1"/>
          <p:cNvSpPr/>
          <p:nvPr/>
        </p:nvSpPr>
        <p:spPr>
          <a:xfrm>
            <a:off x="7162920" y="5867280"/>
            <a:ext cx="75960" cy="76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2"/>
          <p:cNvSpPr/>
          <p:nvPr/>
        </p:nvSpPr>
        <p:spPr>
          <a:xfrm>
            <a:off x="7086600" y="5410080"/>
            <a:ext cx="76320" cy="76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3"/>
          <p:cNvSpPr/>
          <p:nvPr/>
        </p:nvSpPr>
        <p:spPr>
          <a:xfrm>
            <a:off x="6553080" y="5486400"/>
            <a:ext cx="76320" cy="76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4724280" y="38862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saturación de la solución y producción de nanopartí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ímica Coloida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6"/>
          <p:cNvSpPr/>
          <p:nvPr/>
        </p:nvSpPr>
        <p:spPr>
          <a:xfrm flipH="1">
            <a:off x="5790960" y="449568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6553080" y="61722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rtesía de CN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Oval 2"/>
          <p:cNvSpPr/>
          <p:nvPr/>
        </p:nvSpPr>
        <p:spPr>
          <a:xfrm>
            <a:off x="6202440" y="3009960"/>
            <a:ext cx="1904760" cy="190512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257800" y="5486400"/>
            <a:ext cx="3591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thiophenolate hace que se forme una capa encapsulante que detiene el crecimiento y limita el tamaño de la nanopartícu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7017120" y="37720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592560" y="2857680"/>
            <a:ext cx="408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mplo: puntos cuanticos C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6"/>
          <p:cNvSpPr/>
          <p:nvPr/>
        </p:nvSpPr>
        <p:spPr>
          <a:xfrm>
            <a:off x="6126120" y="4921200"/>
            <a:ext cx="457200" cy="609480"/>
          </a:xfrm>
          <a:custGeom>
            <a:avLst/>
            <a:gdLst>
              <a:gd name="textAreaLeft" fmla="*/ 0 w 457200"/>
              <a:gd name="textAreaRight" fmla="*/ 457560 w 4572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88" h="384">
                <a:moveTo>
                  <a:pt x="0" y="384"/>
                </a:moveTo>
                <a:cubicBezTo>
                  <a:pt x="32" y="304"/>
                  <a:pt x="64" y="224"/>
                  <a:pt x="96" y="192"/>
                </a:cubicBezTo>
                <a:cubicBezTo>
                  <a:pt x="128" y="160"/>
                  <a:pt x="160" y="224"/>
                  <a:pt x="192" y="192"/>
                </a:cubicBezTo>
                <a:cubicBezTo>
                  <a:pt x="224" y="160"/>
                  <a:pt x="256" y="80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5333760" y="459432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3808440" y="3505320"/>
            <a:ext cx="1295280" cy="1295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9"/>
          <p:cNvSpPr/>
          <p:nvPr/>
        </p:nvSpPr>
        <p:spPr>
          <a:xfrm>
            <a:off x="3351240" y="3733920"/>
            <a:ext cx="1066680" cy="2286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672" h="144">
                <a:moveTo>
                  <a:pt x="0" y="0"/>
                </a:moveTo>
                <a:cubicBezTo>
                  <a:pt x="112" y="12"/>
                  <a:pt x="224" y="24"/>
                  <a:pt x="336" y="48"/>
                </a:cubicBezTo>
                <a:cubicBezTo>
                  <a:pt x="448" y="72"/>
                  <a:pt x="560" y="108"/>
                  <a:pt x="672" y="144"/>
                </a:cubicBezTo>
              </a:path>
            </a:pathLst>
          </a:custGeom>
          <a:noFill/>
          <a:ln w="507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2819160" y="355932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1"/>
          <p:cNvSpPr/>
          <p:nvPr/>
        </p:nvSpPr>
        <p:spPr>
          <a:xfrm>
            <a:off x="3351240" y="4419720"/>
            <a:ext cx="838080" cy="457200"/>
          </a:xfrm>
          <a:custGeom>
            <a:avLst/>
            <a:gdLst>
              <a:gd name="textAreaLeft" fmla="*/ 0 w 838080"/>
              <a:gd name="textAreaRight" fmla="*/ 838440 w 8380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528" h="288">
                <a:moveTo>
                  <a:pt x="0" y="288"/>
                </a:moveTo>
                <a:cubicBezTo>
                  <a:pt x="124" y="288"/>
                  <a:pt x="248" y="288"/>
                  <a:pt x="336" y="240"/>
                </a:cubicBezTo>
                <a:cubicBezTo>
                  <a:pt x="424" y="192"/>
                  <a:pt x="476" y="96"/>
                  <a:pt x="528" y="0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2972160" y="4702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4191120" y="40924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4"/>
          <p:cNvSpPr/>
          <p:nvPr/>
        </p:nvSpPr>
        <p:spPr>
          <a:xfrm>
            <a:off x="5473800" y="4070520"/>
            <a:ext cx="660240" cy="533160"/>
          </a:xfrm>
          <a:custGeom>
            <a:avLst/>
            <a:gdLst>
              <a:gd name="textAreaLeft" fmla="*/ 0 w 660240"/>
              <a:gd name="textAreaRight" fmla="*/ 660600 w 660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416" h="336">
                <a:moveTo>
                  <a:pt x="144" y="336"/>
                </a:moveTo>
                <a:cubicBezTo>
                  <a:pt x="148" y="328"/>
                  <a:pt x="152" y="320"/>
                  <a:pt x="192" y="288"/>
                </a:cubicBezTo>
                <a:cubicBezTo>
                  <a:pt x="232" y="256"/>
                  <a:pt x="416" y="192"/>
                  <a:pt x="384" y="144"/>
                </a:cubicBezTo>
                <a:cubicBezTo>
                  <a:pt x="352" y="96"/>
                  <a:pt x="176" y="48"/>
                  <a:pt x="0" y="0"/>
                </a:cubicBezTo>
              </a:path>
            </a:pathLst>
          </a:custGeom>
          <a:noFill/>
          <a:ln w="507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5"/>
          <p:cNvSpPr/>
          <p:nvPr/>
        </p:nvSpPr>
        <p:spPr>
          <a:xfrm>
            <a:off x="7848720" y="4419720"/>
            <a:ext cx="998280" cy="1009440"/>
          </a:xfrm>
          <a:custGeom>
            <a:avLst/>
            <a:gdLst>
              <a:gd name="textAreaLeft" fmla="*/ 0 w 998280"/>
              <a:gd name="textAreaRight" fmla="*/ 998640 w 99828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272" h="432">
                <a:moveTo>
                  <a:pt x="80" y="432"/>
                </a:moveTo>
                <a:cubicBezTo>
                  <a:pt x="40" y="264"/>
                  <a:pt x="0" y="96"/>
                  <a:pt x="32" y="48"/>
                </a:cubicBezTo>
                <a:cubicBezTo>
                  <a:pt x="64" y="0"/>
                  <a:pt x="168" y="72"/>
                  <a:pt x="272" y="144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8002800" y="5006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838080" y="3581280"/>
            <a:ext cx="1752840" cy="2284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600" spc="-1" strike="noStrike">
                <a:solidFill>
                  <a:srgbClr val="000000"/>
                </a:solidFill>
                <a:latin typeface="Arial"/>
              </a:rPr>
              <a:t>El tamaño promedio de los racimos se puede controlar ajustando la razón de sulfito al thiophenolate añadido en sol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457200" y="2895480"/>
            <a:ext cx="838188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20"/>
          <p:cNvSpPr/>
          <p:nvPr/>
        </p:nvSpPr>
        <p:spPr>
          <a:xfrm>
            <a:off x="4159080" y="340344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21"/>
          <p:cNvSpPr/>
          <p:nvPr/>
        </p:nvSpPr>
        <p:spPr>
          <a:xfrm>
            <a:off x="4324320" y="336564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2"/>
          <p:cNvSpPr/>
          <p:nvPr/>
        </p:nvSpPr>
        <p:spPr>
          <a:xfrm>
            <a:off x="4000680" y="346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3"/>
          <p:cNvSpPr/>
          <p:nvPr/>
        </p:nvSpPr>
        <p:spPr>
          <a:xfrm>
            <a:off x="3657600" y="4083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4"/>
          <p:cNvSpPr/>
          <p:nvPr/>
        </p:nvSpPr>
        <p:spPr>
          <a:xfrm>
            <a:off x="3683160" y="424800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5"/>
          <p:cNvSpPr/>
          <p:nvPr/>
        </p:nvSpPr>
        <p:spPr>
          <a:xfrm>
            <a:off x="4178160" y="476244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6"/>
          <p:cNvSpPr/>
          <p:nvPr/>
        </p:nvSpPr>
        <p:spPr>
          <a:xfrm>
            <a:off x="4349880" y="4788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7"/>
          <p:cNvSpPr/>
          <p:nvPr/>
        </p:nvSpPr>
        <p:spPr>
          <a:xfrm>
            <a:off x="4527720" y="4756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8"/>
          <p:cNvSpPr/>
          <p:nvPr/>
        </p:nvSpPr>
        <p:spPr>
          <a:xfrm>
            <a:off x="7816680" y="457848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9"/>
          <p:cNvSpPr/>
          <p:nvPr/>
        </p:nvSpPr>
        <p:spPr>
          <a:xfrm>
            <a:off x="4800600" y="3505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30"/>
          <p:cNvSpPr/>
          <p:nvPr/>
        </p:nvSpPr>
        <p:spPr>
          <a:xfrm>
            <a:off x="4927680" y="361944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31"/>
          <p:cNvSpPr/>
          <p:nvPr/>
        </p:nvSpPr>
        <p:spPr>
          <a:xfrm>
            <a:off x="5086440" y="396864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32"/>
          <p:cNvSpPr/>
          <p:nvPr/>
        </p:nvSpPr>
        <p:spPr>
          <a:xfrm>
            <a:off x="8026560" y="3537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33"/>
          <p:cNvSpPr/>
          <p:nvPr/>
        </p:nvSpPr>
        <p:spPr>
          <a:xfrm>
            <a:off x="4952880" y="4495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34"/>
          <p:cNvSpPr/>
          <p:nvPr/>
        </p:nvSpPr>
        <p:spPr>
          <a:xfrm>
            <a:off x="8070840" y="4083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35"/>
          <p:cNvSpPr/>
          <p:nvPr/>
        </p:nvSpPr>
        <p:spPr>
          <a:xfrm>
            <a:off x="6191280" y="3384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36"/>
          <p:cNvSpPr/>
          <p:nvPr/>
        </p:nvSpPr>
        <p:spPr>
          <a:xfrm>
            <a:off x="6419880" y="30988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37"/>
          <p:cNvSpPr/>
          <p:nvPr/>
        </p:nvSpPr>
        <p:spPr>
          <a:xfrm>
            <a:off x="7232760" y="287640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38"/>
          <p:cNvSpPr/>
          <p:nvPr/>
        </p:nvSpPr>
        <p:spPr>
          <a:xfrm>
            <a:off x="6114960" y="3537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39"/>
          <p:cNvSpPr/>
          <p:nvPr/>
        </p:nvSpPr>
        <p:spPr>
          <a:xfrm>
            <a:off x="6089760" y="371484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40"/>
          <p:cNvSpPr/>
          <p:nvPr/>
        </p:nvSpPr>
        <p:spPr>
          <a:xfrm>
            <a:off x="7048440" y="49021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41"/>
          <p:cNvSpPr/>
          <p:nvPr/>
        </p:nvSpPr>
        <p:spPr>
          <a:xfrm>
            <a:off x="6877080" y="287640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42"/>
          <p:cNvSpPr/>
          <p:nvPr/>
        </p:nvSpPr>
        <p:spPr>
          <a:xfrm>
            <a:off x="7956720" y="336564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43"/>
          <p:cNvSpPr/>
          <p:nvPr/>
        </p:nvSpPr>
        <p:spPr>
          <a:xfrm>
            <a:off x="7404120" y="291456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44"/>
          <p:cNvSpPr/>
          <p:nvPr/>
        </p:nvSpPr>
        <p:spPr>
          <a:xfrm>
            <a:off x="6718320" y="2927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45"/>
          <p:cNvSpPr/>
          <p:nvPr/>
        </p:nvSpPr>
        <p:spPr>
          <a:xfrm>
            <a:off x="7709040" y="307332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46"/>
          <p:cNvSpPr/>
          <p:nvPr/>
        </p:nvSpPr>
        <p:spPr>
          <a:xfrm>
            <a:off x="6426360" y="4660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47"/>
          <p:cNvSpPr/>
          <p:nvPr/>
        </p:nvSpPr>
        <p:spPr>
          <a:xfrm>
            <a:off x="6064200" y="3886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48"/>
          <p:cNvSpPr/>
          <p:nvPr/>
        </p:nvSpPr>
        <p:spPr>
          <a:xfrm>
            <a:off x="7689960" y="4692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49"/>
          <p:cNvSpPr/>
          <p:nvPr/>
        </p:nvSpPr>
        <p:spPr>
          <a:xfrm>
            <a:off x="6292800" y="453384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50"/>
          <p:cNvSpPr/>
          <p:nvPr/>
        </p:nvSpPr>
        <p:spPr>
          <a:xfrm>
            <a:off x="6870600" y="48895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1"/>
          <p:cNvSpPr/>
          <p:nvPr/>
        </p:nvSpPr>
        <p:spPr>
          <a:xfrm>
            <a:off x="6191280" y="4387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52"/>
          <p:cNvSpPr/>
          <p:nvPr/>
        </p:nvSpPr>
        <p:spPr>
          <a:xfrm>
            <a:off x="6559560" y="4768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53"/>
          <p:cNvSpPr/>
          <p:nvPr/>
        </p:nvSpPr>
        <p:spPr>
          <a:xfrm>
            <a:off x="7842240" y="3200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54"/>
          <p:cNvSpPr/>
          <p:nvPr/>
        </p:nvSpPr>
        <p:spPr>
          <a:xfrm>
            <a:off x="6121440" y="42292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5"/>
          <p:cNvSpPr/>
          <p:nvPr/>
        </p:nvSpPr>
        <p:spPr>
          <a:xfrm>
            <a:off x="6711840" y="483876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56"/>
          <p:cNvSpPr/>
          <p:nvPr/>
        </p:nvSpPr>
        <p:spPr>
          <a:xfrm>
            <a:off x="6559560" y="29973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57"/>
          <p:cNvSpPr/>
          <p:nvPr/>
        </p:nvSpPr>
        <p:spPr>
          <a:xfrm>
            <a:off x="7397640" y="485136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58"/>
          <p:cNvSpPr/>
          <p:nvPr/>
        </p:nvSpPr>
        <p:spPr>
          <a:xfrm>
            <a:off x="6070680" y="406404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59"/>
          <p:cNvSpPr/>
          <p:nvPr/>
        </p:nvSpPr>
        <p:spPr>
          <a:xfrm>
            <a:off x="6292800" y="3232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60"/>
          <p:cNvSpPr/>
          <p:nvPr/>
        </p:nvSpPr>
        <p:spPr>
          <a:xfrm>
            <a:off x="7048440" y="2863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61"/>
          <p:cNvSpPr/>
          <p:nvPr/>
        </p:nvSpPr>
        <p:spPr>
          <a:xfrm>
            <a:off x="7562880" y="29782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62"/>
          <p:cNvSpPr/>
          <p:nvPr/>
        </p:nvSpPr>
        <p:spPr>
          <a:xfrm>
            <a:off x="7226280" y="4896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63"/>
          <p:cNvSpPr/>
          <p:nvPr/>
        </p:nvSpPr>
        <p:spPr>
          <a:xfrm>
            <a:off x="7556400" y="4788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64"/>
          <p:cNvSpPr/>
          <p:nvPr/>
        </p:nvSpPr>
        <p:spPr>
          <a:xfrm>
            <a:off x="801360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65"/>
          <p:cNvSpPr/>
          <p:nvPr/>
        </p:nvSpPr>
        <p:spPr>
          <a:xfrm>
            <a:off x="7924680" y="442584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66"/>
          <p:cNvSpPr/>
          <p:nvPr/>
        </p:nvSpPr>
        <p:spPr>
          <a:xfrm>
            <a:off x="8096400" y="39052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67"/>
          <p:cNvSpPr/>
          <p:nvPr/>
        </p:nvSpPr>
        <p:spPr>
          <a:xfrm>
            <a:off x="8083440" y="3733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8"/>
          <p:cNvSpPr/>
          <p:nvPr/>
        </p:nvSpPr>
        <p:spPr>
          <a:xfrm>
            <a:off x="23760" y="-152280"/>
            <a:ext cx="9023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ol de crecimiento/tamaño de partíc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7"/>
          <p:cNvSpPr/>
          <p:nvPr/>
        </p:nvSpPr>
        <p:spPr>
          <a:xfrm>
            <a:off x="380880" y="380880"/>
            <a:ext cx="8382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producir puntos cuánticos de CdS mediante química de coloides,  una solución de cloruro de cadmio se reduce con sulfito de sod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uede introducir en la solución moléculas que se adhieren a la superficie. Este tipo de moléculas encapsulantes se utilizan para controlar el tamaño de las nanopartícu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ndo la nanopartícula alcanza un tamaño específico, estas moléculas encapsulantes forman una capa estable que detiene el crecimiento adi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69"/>
          <p:cNvSpPr/>
          <p:nvPr/>
        </p:nvSpPr>
        <p:spPr>
          <a:xfrm>
            <a:off x="471600" y="6213600"/>
            <a:ext cx="209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 Mater. Sci. 1997, 32, 24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étodos Físico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2362320" y="661032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85480" y="7596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étodos Físico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304920" y="607320"/>
            <a:ext cx="8839080" cy="63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s técnicas usadas para la producción de nanopartículas de metal o de óxido de metal usando métodos físicos incluyen: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ES_tradnl" sz="2000" spc="-1" strike="noStrike" u="sng">
                <a:solidFill>
                  <a:srgbClr val="0000cc"/>
                </a:solidFill>
                <a:uFillTx/>
                <a:latin typeface="Arial"/>
              </a:rPr>
              <a:t>condensación de vapor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s-ES_tradnl" sz="2000" spc="-1" strike="noStrike" u="sng">
                <a:solidFill>
                  <a:srgbClr val="0000cc"/>
                </a:solidFill>
                <a:uFillTx/>
                <a:latin typeface="Arial"/>
              </a:rPr>
              <a:t>procesos mecánic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o moler o limar (grinding o milling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000" spc="-1" strike="noStrike">
                <a:solidFill>
                  <a:srgbClr val="000000"/>
                </a:solidFill>
                <a:latin typeface="Arial"/>
              </a:rPr>
              <a:t>Condensación de va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Utilizando una atmósfera inerte para nanopartículas mecánicas o una atmósfera rica en oxígeno para nanopartículas de óxidos metálicos, es posible producir nanopartículas sólidas cuando el vapor metálico se condensa rápidamente.  La tasa de producción y el tamaño de las nanopartículas se puede controlar variando la temperatura, flujo de gas y tasa de producción de vap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oler o Limar (Grinding or Milling):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roducen nanopartículas reduciendo el tamaño por métodos mecánicos.  Las propiedades de las Nanopartículas que resultan dependen del material inicial, el tiempo de molido/limaje y el ambiente en que se lleva a cabo el proceso.  Este método ofrece un control limitado del tamaño de las nanopartículas resultantes al igual que tiene limitaciones en el control de contamin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posición Química en Fase Vapo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2"/>
          <p:cNvSpPr/>
          <p:nvPr/>
        </p:nvSpPr>
        <p:spPr>
          <a:xfrm>
            <a:off x="1981080" y="6534000"/>
            <a:ext cx="51818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3"/>
          <p:cNvSpPr/>
          <p:nvPr/>
        </p:nvSpPr>
        <p:spPr>
          <a:xfrm>
            <a:off x="0" y="7621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600" spc="-1" strike="noStrike">
                <a:solidFill>
                  <a:srgbClr val="000000"/>
                </a:solidFill>
                <a:latin typeface="Arial"/>
              </a:rPr>
              <a:t>Un Ejemplo: Nanotubos de Carbón(NTC) creados por la descomposición de gas metano en catalista de nanopartículas de hierro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106960" cy="3905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6"/>
          <p:cNvSpPr/>
          <p:nvPr/>
        </p:nvSpPr>
        <p:spPr>
          <a:xfrm>
            <a:off x="1600200" y="6021360"/>
            <a:ext cx="594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rbon nanotube films obtained by thermal chemical vapour depositio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Journal of Materials Chemistry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leg A. Nerushev , Martin Sveningsson , Lena K. L. Falk and Frank Rohmund. March 2001. </a:t>
            </a:r>
            <a:r>
              <a:rPr b="0" lang="en-GB" sz="1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dx.doi.org/10.1039/</a:t>
            </a:r>
            <a:r>
              <a:rPr b="0" lang="en-GB" sz="1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DOI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 Reproduced by permission of The Royal Society of Chemis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ro Ejemplo: nanohilos de silicón producidos por deposición química en fase vapor usando el mecanismo Vapor-Liquido-Sólido (VL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457200" y="5715000"/>
            <a:ext cx="426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La nanopartícula de oro se vuelve supersaturada con Si que a su vez se precipita en un nanohilo sólido (verde en la figu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990720" y="2895480"/>
            <a:ext cx="335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Las nanopartículas de Oro (Au) se colocan en el sustr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4419720" y="2819520"/>
            <a:ext cx="472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s nanopartículas actúan como un catalista liberando el  silicón (Si) de su precursor (fuente). El Si entonces se disuelve en el o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5029200" y="5715000"/>
            <a:ext cx="335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diámetro del nanohilo de Si (SiNW) es determinado por el tamaño de la nanopartícula de A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2"/>
          <p:cNvSpPr/>
          <p:nvPr/>
        </p:nvSpPr>
        <p:spPr>
          <a:xfrm>
            <a:off x="7315200" y="64008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urtesy of CN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15"/>
          <p:cNvGrpSpPr/>
          <p:nvPr/>
        </p:nvGrpSpPr>
        <p:grpSpPr>
          <a:xfrm>
            <a:off x="992160" y="1216080"/>
            <a:ext cx="2741760" cy="1679400"/>
            <a:chOff x="992160" y="1216080"/>
            <a:chExt cx="2741760" cy="1679400"/>
          </a:xfrm>
        </p:grpSpPr>
        <p:sp>
          <p:nvSpPr>
            <p:cNvPr id="269" name="AutoShape 14"/>
            <p:cNvSpPr/>
            <p:nvPr/>
          </p:nvSpPr>
          <p:spPr>
            <a:xfrm>
              <a:off x="992160" y="1216080"/>
              <a:ext cx="2741760" cy="16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" name="Group 18"/>
            <p:cNvGrpSpPr/>
            <p:nvPr/>
          </p:nvGrpSpPr>
          <p:grpSpPr>
            <a:xfrm>
              <a:off x="2093760" y="2122560"/>
              <a:ext cx="449280" cy="376200"/>
              <a:chOff x="2093760" y="2122560"/>
              <a:chExt cx="449280" cy="376200"/>
            </a:xfrm>
          </p:grpSpPr>
          <p:sp>
            <p:nvSpPr>
              <p:cNvPr id="271" name="Oval 16"/>
              <p:cNvSpPr/>
              <p:nvPr/>
            </p:nvSpPr>
            <p:spPr>
              <a:xfrm>
                <a:off x="2093760" y="2122560"/>
                <a:ext cx="449280" cy="376200"/>
              </a:xfrm>
              <a:prstGeom prst="ellips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7"/>
              <p:cNvSpPr/>
              <p:nvPr/>
            </p:nvSpPr>
            <p:spPr>
              <a:xfrm>
                <a:off x="2093760" y="2122560"/>
                <a:ext cx="449280" cy="376200"/>
              </a:xfrm>
              <a:custGeom>
                <a:avLst/>
                <a:gdLst/>
                <a:ahLst/>
                <a:rect l="l" t="t" r="r" b="b"/>
                <a:pathLst>
                  <a:path w="283" h="237">
                    <a:moveTo>
                      <a:pt x="141" y="0"/>
                    </a:moveTo>
                    <a:cubicBezTo>
                      <a:pt x="63" y="0"/>
                      <a:pt x="0" y="54"/>
                      <a:pt x="0" y="118"/>
                    </a:cubicBezTo>
                    <a:cubicBezTo>
                      <a:pt x="0" y="184"/>
                      <a:pt x="63" y="237"/>
                      <a:pt x="141" y="237"/>
                    </a:cubicBezTo>
                    <a:cubicBezTo>
                      <a:pt x="220" y="237"/>
                      <a:pt x="283" y="184"/>
                      <a:pt x="283" y="118"/>
                    </a:cubicBezTo>
                    <a:cubicBezTo>
                      <a:pt x="283" y="54"/>
                      <a:pt x="220" y="0"/>
                      <a:pt x="141" y="0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21"/>
            <p:cNvGrpSpPr/>
            <p:nvPr/>
          </p:nvGrpSpPr>
          <p:grpSpPr>
            <a:xfrm>
              <a:off x="1030320" y="2333520"/>
              <a:ext cx="2560680" cy="540000"/>
              <a:chOff x="1030320" y="2333520"/>
              <a:chExt cx="2560680" cy="540000"/>
            </a:xfrm>
          </p:grpSpPr>
          <p:sp>
            <p:nvSpPr>
              <p:cNvPr id="274" name="Rectangle 19"/>
              <p:cNvSpPr/>
              <p:nvPr/>
            </p:nvSpPr>
            <p:spPr>
              <a:xfrm>
                <a:off x="1030320" y="2333520"/>
                <a:ext cx="2560680" cy="5400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20"/>
              <p:cNvSpPr/>
              <p:nvPr/>
            </p:nvSpPr>
            <p:spPr>
              <a:xfrm>
                <a:off x="1030320" y="2333520"/>
                <a:ext cx="2560680" cy="54000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Rectangle 22"/>
            <p:cNvSpPr/>
            <p:nvPr/>
          </p:nvSpPr>
          <p:spPr>
            <a:xfrm>
              <a:off x="2325600" y="2355840"/>
              <a:ext cx="10476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3"/>
            <p:cNvSpPr/>
            <p:nvPr/>
          </p:nvSpPr>
          <p:spPr>
            <a:xfrm>
              <a:off x="2325600" y="2355840"/>
              <a:ext cx="10476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4"/>
            <p:cNvSpPr/>
            <p:nvPr/>
          </p:nvSpPr>
          <p:spPr>
            <a:xfrm>
              <a:off x="1908000" y="2590920"/>
              <a:ext cx="775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ustrat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Group 31"/>
            <p:cNvGrpSpPr/>
            <p:nvPr/>
          </p:nvGrpSpPr>
          <p:grpSpPr>
            <a:xfrm>
              <a:off x="1179360" y="1523880"/>
              <a:ext cx="868680" cy="209520"/>
              <a:chOff x="1179360" y="1523880"/>
              <a:chExt cx="868680" cy="209520"/>
            </a:xfrm>
          </p:grpSpPr>
          <p:sp>
            <p:nvSpPr>
              <p:cNvPr id="280" name="Freeform 25"/>
              <p:cNvSpPr/>
              <p:nvPr/>
            </p:nvSpPr>
            <p:spPr>
              <a:xfrm>
                <a:off x="1314360" y="1523880"/>
                <a:ext cx="733680" cy="209520"/>
              </a:xfrm>
              <a:custGeom>
                <a:avLst/>
                <a:gdLst/>
                <a:ahLst/>
                <a:rect l="l" t="t" r="r" b="b"/>
                <a:pathLst>
                  <a:path w="462" h="132">
                    <a:moveTo>
                      <a:pt x="325" y="0"/>
                    </a:moveTo>
                    <a:lnTo>
                      <a:pt x="325" y="33"/>
                    </a:lnTo>
                    <a:lnTo>
                      <a:pt x="0" y="33"/>
                    </a:lnTo>
                    <a:lnTo>
                      <a:pt x="0" y="99"/>
                    </a:lnTo>
                    <a:lnTo>
                      <a:pt x="325" y="99"/>
                    </a:lnTo>
                    <a:lnTo>
                      <a:pt x="325" y="132"/>
                    </a:lnTo>
                    <a:lnTo>
                      <a:pt x="462" y="66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26"/>
              <p:cNvSpPr/>
              <p:nvPr/>
            </p:nvSpPr>
            <p:spPr>
              <a:xfrm>
                <a:off x="1233360" y="1576440"/>
                <a:ext cx="54000" cy="104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27"/>
              <p:cNvSpPr/>
              <p:nvPr/>
            </p:nvSpPr>
            <p:spPr>
              <a:xfrm>
                <a:off x="1179360" y="1576440"/>
                <a:ext cx="27000" cy="104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8"/>
              <p:cNvSpPr/>
              <p:nvPr/>
            </p:nvSpPr>
            <p:spPr>
              <a:xfrm>
                <a:off x="1314360" y="1523880"/>
                <a:ext cx="733680" cy="209520"/>
              </a:xfrm>
              <a:custGeom>
                <a:avLst/>
                <a:gdLst/>
                <a:ahLst/>
                <a:rect l="l" t="t" r="r" b="b"/>
                <a:pathLst>
                  <a:path w="462" h="132">
                    <a:moveTo>
                      <a:pt x="325" y="0"/>
                    </a:moveTo>
                    <a:lnTo>
                      <a:pt x="325" y="33"/>
                    </a:lnTo>
                    <a:lnTo>
                      <a:pt x="0" y="33"/>
                    </a:lnTo>
                    <a:lnTo>
                      <a:pt x="0" y="99"/>
                    </a:lnTo>
                    <a:lnTo>
                      <a:pt x="325" y="99"/>
                    </a:lnTo>
                    <a:lnTo>
                      <a:pt x="325" y="132"/>
                    </a:lnTo>
                    <a:lnTo>
                      <a:pt x="462" y="66"/>
                    </a:lnTo>
                    <a:lnTo>
                      <a:pt x="325" y="0"/>
                    </a:lnTo>
                    <a:close/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29"/>
              <p:cNvSpPr/>
              <p:nvPr/>
            </p:nvSpPr>
            <p:spPr>
              <a:xfrm>
                <a:off x="1233360" y="1576440"/>
                <a:ext cx="54000" cy="10476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30"/>
              <p:cNvSpPr/>
              <p:nvPr/>
            </p:nvSpPr>
            <p:spPr>
              <a:xfrm>
                <a:off x="1179360" y="1576440"/>
                <a:ext cx="27000" cy="10476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Freeform 32"/>
            <p:cNvSpPr/>
            <p:nvPr/>
          </p:nvSpPr>
          <p:spPr>
            <a:xfrm>
              <a:off x="2347920" y="1935000"/>
              <a:ext cx="384120" cy="293760"/>
            </a:xfrm>
            <a:custGeom>
              <a:avLst/>
              <a:gdLst/>
              <a:ahLst/>
              <a:rect l="l" t="t" r="r" b="b"/>
              <a:pathLst>
                <a:path w="410" h="313">
                  <a:moveTo>
                    <a:pt x="405" y="16"/>
                  </a:moveTo>
                  <a:lnTo>
                    <a:pt x="48" y="288"/>
                  </a:lnTo>
                  <a:cubicBezTo>
                    <a:pt x="44" y="290"/>
                    <a:pt x="39" y="290"/>
                    <a:pt x="37" y="286"/>
                  </a:cubicBezTo>
                  <a:cubicBezTo>
                    <a:pt x="34" y="283"/>
                    <a:pt x="35" y="278"/>
                    <a:pt x="38" y="275"/>
                  </a:cubicBezTo>
                  <a:lnTo>
                    <a:pt x="396" y="3"/>
                  </a:lnTo>
                  <a:cubicBezTo>
                    <a:pt x="399" y="0"/>
                    <a:pt x="404" y="1"/>
                    <a:pt x="407" y="5"/>
                  </a:cubicBezTo>
                  <a:cubicBezTo>
                    <a:pt x="410" y="8"/>
                    <a:pt x="409" y="13"/>
                    <a:pt x="405" y="16"/>
                  </a:cubicBezTo>
                  <a:close/>
                  <a:moveTo>
                    <a:pt x="141" y="287"/>
                  </a:moveTo>
                  <a:lnTo>
                    <a:pt x="0" y="313"/>
                  </a:lnTo>
                  <a:lnTo>
                    <a:pt x="64" y="185"/>
                  </a:lnTo>
                  <a:lnTo>
                    <a:pt x="141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3"/>
            <p:cNvSpPr/>
            <p:nvPr/>
          </p:nvSpPr>
          <p:spPr>
            <a:xfrm>
              <a:off x="2628720" y="1695600"/>
              <a:ext cx="1075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u catalist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4"/>
            <p:cNvSpPr/>
            <p:nvPr/>
          </p:nvSpPr>
          <p:spPr>
            <a:xfrm>
              <a:off x="1041480" y="1230480"/>
              <a:ext cx="17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Flujo de gas con S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37"/>
          <p:cNvGrpSpPr/>
          <p:nvPr/>
        </p:nvGrpSpPr>
        <p:grpSpPr>
          <a:xfrm>
            <a:off x="5105520" y="1295280"/>
            <a:ext cx="2741400" cy="1552680"/>
            <a:chOff x="5105520" y="1295280"/>
            <a:chExt cx="2741400" cy="1552680"/>
          </a:xfrm>
        </p:grpSpPr>
        <p:sp>
          <p:nvSpPr>
            <p:cNvPr id="290" name="AutoShape 36"/>
            <p:cNvSpPr/>
            <p:nvPr/>
          </p:nvSpPr>
          <p:spPr>
            <a:xfrm>
              <a:off x="5105520" y="1295280"/>
              <a:ext cx="274140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40"/>
            <p:cNvGrpSpPr/>
            <p:nvPr/>
          </p:nvGrpSpPr>
          <p:grpSpPr>
            <a:xfrm>
              <a:off x="6238800" y="2031840"/>
              <a:ext cx="474840" cy="397080"/>
              <a:chOff x="6238800" y="2031840"/>
              <a:chExt cx="474840" cy="397080"/>
            </a:xfrm>
          </p:grpSpPr>
          <p:sp>
            <p:nvSpPr>
              <p:cNvPr id="292" name="Oval 38"/>
              <p:cNvSpPr/>
              <p:nvPr/>
            </p:nvSpPr>
            <p:spPr>
              <a:xfrm>
                <a:off x="6238800" y="2031840"/>
                <a:ext cx="474840" cy="397080"/>
              </a:xfrm>
              <a:prstGeom prst="ellipse">
                <a:avLst/>
              </a:prstGeom>
              <a:solidFill>
                <a:srgbClr val="ff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39"/>
              <p:cNvSpPr/>
              <p:nvPr/>
            </p:nvSpPr>
            <p:spPr>
              <a:xfrm>
                <a:off x="6238800" y="2031840"/>
                <a:ext cx="474840" cy="39708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43"/>
            <p:cNvGrpSpPr/>
            <p:nvPr/>
          </p:nvGrpSpPr>
          <p:grpSpPr>
            <a:xfrm>
              <a:off x="5113440" y="2254320"/>
              <a:ext cx="2709720" cy="569880"/>
              <a:chOff x="5113440" y="2254320"/>
              <a:chExt cx="2709720" cy="569880"/>
            </a:xfrm>
          </p:grpSpPr>
          <p:sp>
            <p:nvSpPr>
              <p:cNvPr id="295" name="Rectangle 41"/>
              <p:cNvSpPr/>
              <p:nvPr/>
            </p:nvSpPr>
            <p:spPr>
              <a:xfrm>
                <a:off x="5113440" y="2254320"/>
                <a:ext cx="2709720" cy="569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42"/>
              <p:cNvSpPr/>
              <p:nvPr/>
            </p:nvSpPr>
            <p:spPr>
              <a:xfrm>
                <a:off x="5113440" y="2254320"/>
                <a:ext cx="2709720" cy="56988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Rectangle 44"/>
            <p:cNvSpPr/>
            <p:nvPr/>
          </p:nvSpPr>
          <p:spPr>
            <a:xfrm>
              <a:off x="6483240" y="2278080"/>
              <a:ext cx="111240" cy="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45"/>
            <p:cNvSpPr/>
            <p:nvPr/>
          </p:nvSpPr>
          <p:spPr>
            <a:xfrm>
              <a:off x="6483240" y="2278080"/>
              <a:ext cx="111240" cy="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6"/>
            <p:cNvSpPr/>
            <p:nvPr/>
          </p:nvSpPr>
          <p:spPr>
            <a:xfrm>
              <a:off x="6048360" y="2514600"/>
              <a:ext cx="82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ustra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49"/>
            <p:cNvGrpSpPr/>
            <p:nvPr/>
          </p:nvGrpSpPr>
          <p:grpSpPr>
            <a:xfrm>
              <a:off x="6000840" y="1604880"/>
              <a:ext cx="63360" cy="61920"/>
              <a:chOff x="6000840" y="1604880"/>
              <a:chExt cx="63360" cy="61920"/>
            </a:xfrm>
          </p:grpSpPr>
          <p:sp>
            <p:nvSpPr>
              <p:cNvPr id="301" name="Oval 47"/>
              <p:cNvSpPr/>
              <p:nvPr/>
            </p:nvSpPr>
            <p:spPr>
              <a:xfrm>
                <a:off x="6000840" y="1604880"/>
                <a:ext cx="63360" cy="6192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48"/>
              <p:cNvSpPr/>
              <p:nvPr/>
            </p:nvSpPr>
            <p:spPr>
              <a:xfrm>
                <a:off x="6000840" y="1604880"/>
                <a:ext cx="63360" cy="61920"/>
              </a:xfrm>
              <a:custGeom>
                <a:avLst/>
                <a:gdLst/>
                <a:ahLst/>
                <a:rect l="l" t="t" r="r" b="b"/>
                <a:pathLst>
                  <a:path w="40" h="39">
                    <a:moveTo>
                      <a:pt x="20" y="0"/>
                    </a:moveTo>
                    <a:cubicBezTo>
                      <a:pt x="9" y="0"/>
                      <a:pt x="0" y="9"/>
                      <a:pt x="0" y="19"/>
                    </a:cubicBezTo>
                    <a:cubicBezTo>
                      <a:pt x="0" y="31"/>
                      <a:pt x="9" y="39"/>
                      <a:pt x="20" y="39"/>
                    </a:cubicBezTo>
                    <a:cubicBezTo>
                      <a:pt x="31" y="39"/>
                      <a:pt x="40" y="31"/>
                      <a:pt x="40" y="19"/>
                    </a:cubicBezTo>
                    <a:cubicBezTo>
                      <a:pt x="40" y="9"/>
                      <a:pt x="31" y="0"/>
                      <a:pt x="20" y="0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6200" bIns="162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52"/>
            <p:cNvGrpSpPr/>
            <p:nvPr/>
          </p:nvGrpSpPr>
          <p:grpSpPr>
            <a:xfrm>
              <a:off x="6381720" y="1303200"/>
              <a:ext cx="63360" cy="63720"/>
              <a:chOff x="6381720" y="1303200"/>
              <a:chExt cx="63360" cy="63720"/>
            </a:xfrm>
          </p:grpSpPr>
          <p:sp>
            <p:nvSpPr>
              <p:cNvPr id="304" name="Oval 50"/>
              <p:cNvSpPr/>
              <p:nvPr/>
            </p:nvSpPr>
            <p:spPr>
              <a:xfrm>
                <a:off x="6381720" y="1303200"/>
                <a:ext cx="63360" cy="6372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51"/>
              <p:cNvSpPr/>
              <p:nvPr/>
            </p:nvSpPr>
            <p:spPr>
              <a:xfrm>
                <a:off x="6381720" y="1303200"/>
                <a:ext cx="61920" cy="6372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55"/>
            <p:cNvGrpSpPr/>
            <p:nvPr/>
          </p:nvGrpSpPr>
          <p:grpSpPr>
            <a:xfrm>
              <a:off x="6397560" y="1635120"/>
              <a:ext cx="61920" cy="63360"/>
              <a:chOff x="6397560" y="1635120"/>
              <a:chExt cx="61920" cy="63360"/>
            </a:xfrm>
          </p:grpSpPr>
          <p:sp>
            <p:nvSpPr>
              <p:cNvPr id="307" name="Oval 53"/>
              <p:cNvSpPr/>
              <p:nvPr/>
            </p:nvSpPr>
            <p:spPr>
              <a:xfrm>
                <a:off x="6397560" y="1635120"/>
                <a:ext cx="61920" cy="6336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54"/>
              <p:cNvSpPr/>
              <p:nvPr/>
            </p:nvSpPr>
            <p:spPr>
              <a:xfrm>
                <a:off x="6397560" y="1635120"/>
                <a:ext cx="61920" cy="6336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19" y="0"/>
                    </a:moveTo>
                    <a:cubicBezTo>
                      <a:pt x="9" y="0"/>
                      <a:pt x="0" y="10"/>
                      <a:pt x="0" y="20"/>
                    </a:cubicBezTo>
                    <a:cubicBezTo>
                      <a:pt x="0" y="32"/>
                      <a:pt x="9" y="40"/>
                      <a:pt x="19" y="40"/>
                    </a:cubicBezTo>
                    <a:cubicBezTo>
                      <a:pt x="31" y="40"/>
                      <a:pt x="39" y="32"/>
                      <a:pt x="39" y="20"/>
                    </a:cubicBezTo>
                    <a:cubicBezTo>
                      <a:pt x="39" y="10"/>
                      <a:pt x="31" y="0"/>
                      <a:pt x="19" y="0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7640" bIns="1764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Group 58"/>
            <p:cNvGrpSpPr/>
            <p:nvPr/>
          </p:nvGrpSpPr>
          <p:grpSpPr>
            <a:xfrm>
              <a:off x="5889600" y="1841400"/>
              <a:ext cx="63360" cy="63720"/>
              <a:chOff x="5889600" y="1841400"/>
              <a:chExt cx="63360" cy="63720"/>
            </a:xfrm>
          </p:grpSpPr>
          <p:sp>
            <p:nvSpPr>
              <p:cNvPr id="310" name="Oval 56"/>
              <p:cNvSpPr/>
              <p:nvPr/>
            </p:nvSpPr>
            <p:spPr>
              <a:xfrm>
                <a:off x="5889600" y="1841400"/>
                <a:ext cx="63360" cy="6372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Oval 57"/>
              <p:cNvSpPr/>
              <p:nvPr/>
            </p:nvSpPr>
            <p:spPr>
              <a:xfrm>
                <a:off x="5889600" y="1841400"/>
                <a:ext cx="63360" cy="6372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64"/>
            <p:cNvGrpSpPr/>
            <p:nvPr/>
          </p:nvGrpSpPr>
          <p:grpSpPr>
            <a:xfrm>
              <a:off x="6967440" y="1809720"/>
              <a:ext cx="63720" cy="63360"/>
              <a:chOff x="6967440" y="1809720"/>
              <a:chExt cx="63720" cy="63360"/>
            </a:xfrm>
          </p:grpSpPr>
          <p:sp>
            <p:nvSpPr>
              <p:cNvPr id="313" name="Oval 62"/>
              <p:cNvSpPr/>
              <p:nvPr/>
            </p:nvSpPr>
            <p:spPr>
              <a:xfrm>
                <a:off x="6967440" y="1809720"/>
                <a:ext cx="63720" cy="6336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Oval 63"/>
              <p:cNvSpPr/>
              <p:nvPr/>
            </p:nvSpPr>
            <p:spPr>
              <a:xfrm>
                <a:off x="6967440" y="1809720"/>
                <a:ext cx="63720" cy="6336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67"/>
            <p:cNvGrpSpPr/>
            <p:nvPr/>
          </p:nvGrpSpPr>
          <p:grpSpPr>
            <a:xfrm>
              <a:off x="6681960" y="1557360"/>
              <a:ext cx="63360" cy="63360"/>
              <a:chOff x="6681960" y="1557360"/>
              <a:chExt cx="63360" cy="63360"/>
            </a:xfrm>
          </p:grpSpPr>
          <p:sp>
            <p:nvSpPr>
              <p:cNvPr id="316" name="Oval 65"/>
              <p:cNvSpPr/>
              <p:nvPr/>
            </p:nvSpPr>
            <p:spPr>
              <a:xfrm>
                <a:off x="6681960" y="1557360"/>
                <a:ext cx="63360" cy="6336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Oval 66"/>
              <p:cNvSpPr/>
              <p:nvPr/>
            </p:nvSpPr>
            <p:spPr>
              <a:xfrm>
                <a:off x="6681960" y="1557360"/>
                <a:ext cx="63360" cy="6192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68"/>
            <p:cNvSpPr/>
            <p:nvPr/>
          </p:nvSpPr>
          <p:spPr>
            <a:xfrm>
              <a:off x="6365880" y="1738440"/>
              <a:ext cx="125280" cy="245880"/>
            </a:xfrm>
            <a:custGeom>
              <a:avLst/>
              <a:gdLst/>
              <a:ahLst/>
              <a:rect l="l" t="t" r="r" b="b"/>
              <a:pathLst>
                <a:path w="128" h="248">
                  <a:moveTo>
                    <a:pt x="72" y="8"/>
                  </a:moveTo>
                  <a:lnTo>
                    <a:pt x="72" y="195"/>
                  </a:lnTo>
                  <a:cubicBezTo>
                    <a:pt x="72" y="200"/>
                    <a:pt x="69" y="203"/>
                    <a:pt x="64" y="203"/>
                  </a:cubicBezTo>
                  <a:cubicBezTo>
                    <a:pt x="60" y="203"/>
                    <a:pt x="56" y="200"/>
                    <a:pt x="56" y="195"/>
                  </a:cubicBezTo>
                  <a:lnTo>
                    <a:pt x="56" y="8"/>
                  </a:lnTo>
                  <a:cubicBezTo>
                    <a:pt x="56" y="4"/>
                    <a:pt x="60" y="0"/>
                    <a:pt x="64" y="0"/>
                  </a:cubicBezTo>
                  <a:cubicBezTo>
                    <a:pt x="69" y="0"/>
                    <a:pt x="72" y="4"/>
                    <a:pt x="72" y="8"/>
                  </a:cubicBezTo>
                  <a:close/>
                  <a:moveTo>
                    <a:pt x="128" y="120"/>
                  </a:moveTo>
                  <a:lnTo>
                    <a:pt x="64" y="248"/>
                  </a:lnTo>
                  <a:lnTo>
                    <a:pt x="0" y="120"/>
                  </a:lnTo>
                  <a:lnTo>
                    <a:pt x="128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69"/>
            <p:cNvSpPr/>
            <p:nvPr/>
          </p:nvSpPr>
          <p:spPr>
            <a:xfrm>
              <a:off x="5991120" y="1913040"/>
              <a:ext cx="263520" cy="166680"/>
            </a:xfrm>
            <a:custGeom>
              <a:avLst/>
              <a:gdLst/>
              <a:ahLst/>
              <a:rect l="l" t="t" r="r" b="b"/>
              <a:pathLst>
                <a:path w="265" h="169">
                  <a:moveTo>
                    <a:pt x="14" y="3"/>
                  </a:moveTo>
                  <a:lnTo>
                    <a:pt x="224" y="134"/>
                  </a:lnTo>
                  <a:cubicBezTo>
                    <a:pt x="228" y="137"/>
                    <a:pt x="229" y="142"/>
                    <a:pt x="227" y="145"/>
                  </a:cubicBezTo>
                  <a:cubicBezTo>
                    <a:pt x="225" y="149"/>
                    <a:pt x="220" y="150"/>
                    <a:pt x="216" y="148"/>
                  </a:cubicBezTo>
                  <a:lnTo>
                    <a:pt x="5" y="16"/>
                  </a:lnTo>
                  <a:cubicBezTo>
                    <a:pt x="1" y="14"/>
                    <a:pt x="0" y="9"/>
                    <a:pt x="3" y="5"/>
                  </a:cubicBezTo>
                  <a:cubicBezTo>
                    <a:pt x="5" y="1"/>
                    <a:pt x="10" y="0"/>
                    <a:pt x="14" y="3"/>
                  </a:cubicBezTo>
                  <a:close/>
                  <a:moveTo>
                    <a:pt x="191" y="47"/>
                  </a:moveTo>
                  <a:lnTo>
                    <a:pt x="265" y="169"/>
                  </a:lnTo>
                  <a:lnTo>
                    <a:pt x="123" y="156"/>
                  </a:lnTo>
                  <a:lnTo>
                    <a:pt x="19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70"/>
            <p:cNvSpPr/>
            <p:nvPr/>
          </p:nvSpPr>
          <p:spPr>
            <a:xfrm>
              <a:off x="6665760" y="1881360"/>
              <a:ext cx="247680" cy="198360"/>
            </a:xfrm>
            <a:custGeom>
              <a:avLst/>
              <a:gdLst/>
              <a:ahLst/>
              <a:rect l="l" t="t" r="r" b="b"/>
              <a:pathLst>
                <a:path w="249" h="201">
                  <a:moveTo>
                    <a:pt x="245" y="16"/>
                  </a:moveTo>
                  <a:lnTo>
                    <a:pt x="47" y="174"/>
                  </a:lnTo>
                  <a:cubicBezTo>
                    <a:pt x="44" y="177"/>
                    <a:pt x="39" y="177"/>
                    <a:pt x="36" y="173"/>
                  </a:cubicBezTo>
                  <a:cubicBezTo>
                    <a:pt x="33" y="170"/>
                    <a:pt x="34" y="165"/>
                    <a:pt x="37" y="162"/>
                  </a:cubicBezTo>
                  <a:lnTo>
                    <a:pt x="235" y="3"/>
                  </a:lnTo>
                  <a:cubicBezTo>
                    <a:pt x="239" y="0"/>
                    <a:pt x="244" y="1"/>
                    <a:pt x="247" y="4"/>
                  </a:cubicBezTo>
                  <a:cubicBezTo>
                    <a:pt x="249" y="8"/>
                    <a:pt x="249" y="13"/>
                    <a:pt x="245" y="16"/>
                  </a:cubicBezTo>
                  <a:close/>
                  <a:moveTo>
                    <a:pt x="140" y="171"/>
                  </a:moveTo>
                  <a:lnTo>
                    <a:pt x="0" y="201"/>
                  </a:lnTo>
                  <a:lnTo>
                    <a:pt x="60" y="72"/>
                  </a:lnTo>
                  <a:lnTo>
                    <a:pt x="140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73"/>
            <p:cNvGrpSpPr/>
            <p:nvPr/>
          </p:nvGrpSpPr>
          <p:grpSpPr>
            <a:xfrm>
              <a:off x="6983280" y="1525680"/>
              <a:ext cx="63720" cy="63360"/>
              <a:chOff x="6983280" y="1525680"/>
              <a:chExt cx="63720" cy="63360"/>
            </a:xfrm>
          </p:grpSpPr>
          <p:sp>
            <p:nvSpPr>
              <p:cNvPr id="322" name="Oval 71"/>
              <p:cNvSpPr/>
              <p:nvPr/>
            </p:nvSpPr>
            <p:spPr>
              <a:xfrm>
                <a:off x="6983280" y="1525680"/>
                <a:ext cx="63720" cy="6336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72"/>
              <p:cNvSpPr/>
              <p:nvPr/>
            </p:nvSpPr>
            <p:spPr>
              <a:xfrm>
                <a:off x="6983280" y="1525680"/>
                <a:ext cx="63720" cy="6336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Rectangle 74"/>
            <p:cNvSpPr/>
            <p:nvPr/>
          </p:nvSpPr>
          <p:spPr>
            <a:xfrm>
              <a:off x="5689800" y="14860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77"/>
          <p:cNvGrpSpPr/>
          <p:nvPr/>
        </p:nvGrpSpPr>
        <p:grpSpPr>
          <a:xfrm>
            <a:off x="1143000" y="3657600"/>
            <a:ext cx="2741760" cy="2071800"/>
            <a:chOff x="1143000" y="3657600"/>
            <a:chExt cx="2741760" cy="2071800"/>
          </a:xfrm>
        </p:grpSpPr>
        <p:sp>
          <p:nvSpPr>
            <p:cNvPr id="326" name="AutoShape 76"/>
            <p:cNvSpPr/>
            <p:nvPr/>
          </p:nvSpPr>
          <p:spPr>
            <a:xfrm>
              <a:off x="1143000" y="3657600"/>
              <a:ext cx="2741760" cy="20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Group 80"/>
            <p:cNvGrpSpPr/>
            <p:nvPr/>
          </p:nvGrpSpPr>
          <p:grpSpPr>
            <a:xfrm>
              <a:off x="2260440" y="4376880"/>
              <a:ext cx="474840" cy="395280"/>
              <a:chOff x="2260440" y="4376880"/>
              <a:chExt cx="474840" cy="395280"/>
            </a:xfrm>
          </p:grpSpPr>
          <p:sp>
            <p:nvSpPr>
              <p:cNvPr id="328" name="Oval 78"/>
              <p:cNvSpPr/>
              <p:nvPr/>
            </p:nvSpPr>
            <p:spPr>
              <a:xfrm>
                <a:off x="2260440" y="4376880"/>
                <a:ext cx="474840" cy="395280"/>
              </a:xfrm>
              <a:prstGeom prst="ellipse">
                <a:avLst/>
              </a:prstGeom>
              <a:solidFill>
                <a:srgbClr val="ff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Oval 79"/>
              <p:cNvSpPr/>
              <p:nvPr/>
            </p:nvSpPr>
            <p:spPr>
              <a:xfrm>
                <a:off x="2260440" y="4376880"/>
                <a:ext cx="474840" cy="39528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83"/>
            <p:cNvGrpSpPr/>
            <p:nvPr/>
          </p:nvGrpSpPr>
          <p:grpSpPr>
            <a:xfrm>
              <a:off x="1150920" y="5135400"/>
              <a:ext cx="2709720" cy="570240"/>
              <a:chOff x="1150920" y="5135400"/>
              <a:chExt cx="2709720" cy="570240"/>
            </a:xfrm>
          </p:grpSpPr>
          <p:sp>
            <p:nvSpPr>
              <p:cNvPr id="331" name="Rectangle 81"/>
              <p:cNvSpPr/>
              <p:nvPr/>
            </p:nvSpPr>
            <p:spPr>
              <a:xfrm>
                <a:off x="1150920" y="5135400"/>
                <a:ext cx="2709720" cy="570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82"/>
              <p:cNvSpPr/>
              <p:nvPr/>
            </p:nvSpPr>
            <p:spPr>
              <a:xfrm>
                <a:off x="1150920" y="5135400"/>
                <a:ext cx="2709720" cy="57024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Rectangle 84"/>
            <p:cNvSpPr/>
            <p:nvPr/>
          </p:nvSpPr>
          <p:spPr>
            <a:xfrm>
              <a:off x="2522520" y="5159520"/>
              <a:ext cx="111240" cy="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85"/>
            <p:cNvSpPr/>
            <p:nvPr/>
          </p:nvSpPr>
          <p:spPr>
            <a:xfrm>
              <a:off x="2522520" y="5159520"/>
              <a:ext cx="111240" cy="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86"/>
            <p:cNvSpPr/>
            <p:nvPr/>
          </p:nvSpPr>
          <p:spPr>
            <a:xfrm>
              <a:off x="2050920" y="5429160"/>
              <a:ext cx="82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ustra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Group 89"/>
            <p:cNvGrpSpPr/>
            <p:nvPr/>
          </p:nvGrpSpPr>
          <p:grpSpPr>
            <a:xfrm>
              <a:off x="2038320" y="3965400"/>
              <a:ext cx="63360" cy="63720"/>
              <a:chOff x="2038320" y="3965400"/>
              <a:chExt cx="63360" cy="63720"/>
            </a:xfrm>
          </p:grpSpPr>
          <p:sp>
            <p:nvSpPr>
              <p:cNvPr id="337" name="Oval 87"/>
              <p:cNvSpPr/>
              <p:nvPr/>
            </p:nvSpPr>
            <p:spPr>
              <a:xfrm>
                <a:off x="2038320" y="3965400"/>
                <a:ext cx="63360" cy="6372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Oval 88"/>
              <p:cNvSpPr/>
              <p:nvPr/>
            </p:nvSpPr>
            <p:spPr>
              <a:xfrm>
                <a:off x="2038320" y="3965400"/>
                <a:ext cx="63360" cy="6372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92"/>
            <p:cNvGrpSpPr/>
            <p:nvPr/>
          </p:nvGrpSpPr>
          <p:grpSpPr>
            <a:xfrm>
              <a:off x="2419200" y="3665520"/>
              <a:ext cx="63720" cy="63360"/>
              <a:chOff x="2419200" y="3665520"/>
              <a:chExt cx="63720" cy="63360"/>
            </a:xfrm>
          </p:grpSpPr>
          <p:sp>
            <p:nvSpPr>
              <p:cNvPr id="340" name="Oval 90"/>
              <p:cNvSpPr/>
              <p:nvPr/>
            </p:nvSpPr>
            <p:spPr>
              <a:xfrm>
                <a:off x="2419200" y="3665520"/>
                <a:ext cx="63720" cy="6336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Oval 91"/>
              <p:cNvSpPr/>
              <p:nvPr/>
            </p:nvSpPr>
            <p:spPr>
              <a:xfrm>
                <a:off x="2419200" y="3665520"/>
                <a:ext cx="63720" cy="6336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95"/>
            <p:cNvGrpSpPr/>
            <p:nvPr/>
          </p:nvGrpSpPr>
          <p:grpSpPr>
            <a:xfrm>
              <a:off x="2435400" y="3997440"/>
              <a:ext cx="63360" cy="63360"/>
              <a:chOff x="2435400" y="3997440"/>
              <a:chExt cx="63360" cy="63360"/>
            </a:xfrm>
          </p:grpSpPr>
          <p:sp>
            <p:nvSpPr>
              <p:cNvPr id="343" name="Oval 93"/>
              <p:cNvSpPr/>
              <p:nvPr/>
            </p:nvSpPr>
            <p:spPr>
              <a:xfrm>
                <a:off x="2435400" y="3997440"/>
                <a:ext cx="63360" cy="6336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Oval 94"/>
              <p:cNvSpPr/>
              <p:nvPr/>
            </p:nvSpPr>
            <p:spPr>
              <a:xfrm>
                <a:off x="2435400" y="3997440"/>
                <a:ext cx="63360" cy="6336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98"/>
            <p:cNvGrpSpPr/>
            <p:nvPr/>
          </p:nvGrpSpPr>
          <p:grpSpPr>
            <a:xfrm>
              <a:off x="1927080" y="4203720"/>
              <a:ext cx="63720" cy="63360"/>
              <a:chOff x="1927080" y="4203720"/>
              <a:chExt cx="63720" cy="63360"/>
            </a:xfrm>
          </p:grpSpPr>
          <p:sp>
            <p:nvSpPr>
              <p:cNvPr id="346" name="Oval 96"/>
              <p:cNvSpPr/>
              <p:nvPr/>
            </p:nvSpPr>
            <p:spPr>
              <a:xfrm>
                <a:off x="1927080" y="4203720"/>
                <a:ext cx="63720" cy="6336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Oval 97"/>
              <p:cNvSpPr/>
              <p:nvPr/>
            </p:nvSpPr>
            <p:spPr>
              <a:xfrm>
                <a:off x="1927080" y="4203720"/>
                <a:ext cx="63720" cy="6192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104"/>
            <p:cNvGrpSpPr/>
            <p:nvPr/>
          </p:nvGrpSpPr>
          <p:grpSpPr>
            <a:xfrm>
              <a:off x="3005280" y="4172040"/>
              <a:ext cx="63360" cy="63360"/>
              <a:chOff x="3005280" y="4172040"/>
              <a:chExt cx="63360" cy="63360"/>
            </a:xfrm>
          </p:grpSpPr>
          <p:sp>
            <p:nvSpPr>
              <p:cNvPr id="349" name="Oval 102"/>
              <p:cNvSpPr/>
              <p:nvPr/>
            </p:nvSpPr>
            <p:spPr>
              <a:xfrm>
                <a:off x="3005280" y="4172040"/>
                <a:ext cx="63360" cy="6336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Oval 103"/>
              <p:cNvSpPr/>
              <p:nvPr/>
            </p:nvSpPr>
            <p:spPr>
              <a:xfrm>
                <a:off x="3005280" y="4172040"/>
                <a:ext cx="63360" cy="6336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107"/>
            <p:cNvGrpSpPr/>
            <p:nvPr/>
          </p:nvGrpSpPr>
          <p:grpSpPr>
            <a:xfrm>
              <a:off x="2719440" y="3917880"/>
              <a:ext cx="63360" cy="63720"/>
              <a:chOff x="2719440" y="3917880"/>
              <a:chExt cx="63360" cy="63720"/>
            </a:xfrm>
          </p:grpSpPr>
          <p:sp>
            <p:nvSpPr>
              <p:cNvPr id="352" name="Oval 105"/>
              <p:cNvSpPr/>
              <p:nvPr/>
            </p:nvSpPr>
            <p:spPr>
              <a:xfrm>
                <a:off x="2719440" y="3917880"/>
                <a:ext cx="63360" cy="6372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06"/>
              <p:cNvSpPr/>
              <p:nvPr/>
            </p:nvSpPr>
            <p:spPr>
              <a:xfrm>
                <a:off x="2719440" y="3917880"/>
                <a:ext cx="63360" cy="63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20" y="0"/>
                    </a:moveTo>
                    <a:cubicBezTo>
                      <a:pt x="10" y="0"/>
                      <a:pt x="0" y="10"/>
                      <a:pt x="0" y="20"/>
                    </a:cubicBezTo>
                    <a:cubicBezTo>
                      <a:pt x="0" y="31"/>
                      <a:pt x="10" y="40"/>
                      <a:pt x="20" y="40"/>
                    </a:cubicBezTo>
                    <a:cubicBezTo>
                      <a:pt x="32" y="40"/>
                      <a:pt x="40" y="31"/>
                      <a:pt x="40" y="20"/>
                    </a:cubicBezTo>
                    <a:cubicBezTo>
                      <a:pt x="40" y="10"/>
                      <a:pt x="32" y="0"/>
                      <a:pt x="20" y="0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Freeform 108"/>
            <p:cNvSpPr/>
            <p:nvPr/>
          </p:nvSpPr>
          <p:spPr>
            <a:xfrm>
              <a:off x="2403360" y="4100400"/>
              <a:ext cx="127080" cy="244440"/>
            </a:xfrm>
            <a:custGeom>
              <a:avLst/>
              <a:gdLst/>
              <a:ahLst/>
              <a:rect l="l" t="t" r="r" b="b"/>
              <a:pathLst>
                <a:path w="128" h="248">
                  <a:moveTo>
                    <a:pt x="72" y="8"/>
                  </a:moveTo>
                  <a:lnTo>
                    <a:pt x="72" y="195"/>
                  </a:lnTo>
                  <a:cubicBezTo>
                    <a:pt x="72" y="200"/>
                    <a:pt x="69" y="203"/>
                    <a:pt x="64" y="203"/>
                  </a:cubicBezTo>
                  <a:cubicBezTo>
                    <a:pt x="60" y="203"/>
                    <a:pt x="56" y="200"/>
                    <a:pt x="56" y="195"/>
                  </a:cubicBezTo>
                  <a:lnTo>
                    <a:pt x="56" y="8"/>
                  </a:lnTo>
                  <a:cubicBezTo>
                    <a:pt x="56" y="4"/>
                    <a:pt x="60" y="0"/>
                    <a:pt x="64" y="0"/>
                  </a:cubicBezTo>
                  <a:cubicBezTo>
                    <a:pt x="69" y="0"/>
                    <a:pt x="72" y="4"/>
                    <a:pt x="72" y="8"/>
                  </a:cubicBezTo>
                  <a:close/>
                  <a:moveTo>
                    <a:pt x="128" y="120"/>
                  </a:moveTo>
                  <a:lnTo>
                    <a:pt x="64" y="248"/>
                  </a:lnTo>
                  <a:lnTo>
                    <a:pt x="0" y="120"/>
                  </a:lnTo>
                  <a:lnTo>
                    <a:pt x="128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09"/>
            <p:cNvSpPr/>
            <p:nvPr/>
          </p:nvSpPr>
          <p:spPr>
            <a:xfrm>
              <a:off x="2028960" y="4273560"/>
              <a:ext cx="263520" cy="166680"/>
            </a:xfrm>
            <a:custGeom>
              <a:avLst/>
              <a:gdLst/>
              <a:ahLst/>
              <a:rect l="l" t="t" r="r" b="b"/>
              <a:pathLst>
                <a:path w="265" h="169">
                  <a:moveTo>
                    <a:pt x="14" y="3"/>
                  </a:moveTo>
                  <a:lnTo>
                    <a:pt x="224" y="134"/>
                  </a:lnTo>
                  <a:cubicBezTo>
                    <a:pt x="228" y="137"/>
                    <a:pt x="229" y="142"/>
                    <a:pt x="227" y="145"/>
                  </a:cubicBezTo>
                  <a:cubicBezTo>
                    <a:pt x="225" y="149"/>
                    <a:pt x="220" y="150"/>
                    <a:pt x="216" y="148"/>
                  </a:cubicBezTo>
                  <a:lnTo>
                    <a:pt x="5" y="16"/>
                  </a:lnTo>
                  <a:cubicBezTo>
                    <a:pt x="1" y="14"/>
                    <a:pt x="0" y="9"/>
                    <a:pt x="3" y="5"/>
                  </a:cubicBezTo>
                  <a:cubicBezTo>
                    <a:pt x="5" y="1"/>
                    <a:pt x="10" y="0"/>
                    <a:pt x="14" y="3"/>
                  </a:cubicBezTo>
                  <a:close/>
                  <a:moveTo>
                    <a:pt x="191" y="47"/>
                  </a:moveTo>
                  <a:lnTo>
                    <a:pt x="265" y="169"/>
                  </a:lnTo>
                  <a:lnTo>
                    <a:pt x="123" y="156"/>
                  </a:lnTo>
                  <a:lnTo>
                    <a:pt x="19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10"/>
            <p:cNvSpPr/>
            <p:nvPr/>
          </p:nvSpPr>
          <p:spPr>
            <a:xfrm>
              <a:off x="2703600" y="4241880"/>
              <a:ext cx="247680" cy="198360"/>
            </a:xfrm>
            <a:custGeom>
              <a:avLst/>
              <a:gdLst/>
              <a:ahLst/>
              <a:rect l="l" t="t" r="r" b="b"/>
              <a:pathLst>
                <a:path w="249" h="201">
                  <a:moveTo>
                    <a:pt x="245" y="16"/>
                  </a:moveTo>
                  <a:lnTo>
                    <a:pt x="47" y="174"/>
                  </a:lnTo>
                  <a:cubicBezTo>
                    <a:pt x="44" y="177"/>
                    <a:pt x="39" y="177"/>
                    <a:pt x="36" y="173"/>
                  </a:cubicBezTo>
                  <a:cubicBezTo>
                    <a:pt x="33" y="170"/>
                    <a:pt x="34" y="165"/>
                    <a:pt x="37" y="162"/>
                  </a:cubicBezTo>
                  <a:lnTo>
                    <a:pt x="235" y="3"/>
                  </a:lnTo>
                  <a:cubicBezTo>
                    <a:pt x="239" y="0"/>
                    <a:pt x="244" y="1"/>
                    <a:pt x="247" y="4"/>
                  </a:cubicBezTo>
                  <a:cubicBezTo>
                    <a:pt x="249" y="8"/>
                    <a:pt x="249" y="13"/>
                    <a:pt x="245" y="16"/>
                  </a:cubicBezTo>
                  <a:close/>
                  <a:moveTo>
                    <a:pt x="140" y="171"/>
                  </a:moveTo>
                  <a:lnTo>
                    <a:pt x="0" y="201"/>
                  </a:lnTo>
                  <a:lnTo>
                    <a:pt x="60" y="72"/>
                  </a:lnTo>
                  <a:lnTo>
                    <a:pt x="140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Group 113"/>
            <p:cNvGrpSpPr/>
            <p:nvPr/>
          </p:nvGrpSpPr>
          <p:grpSpPr>
            <a:xfrm>
              <a:off x="3021120" y="3886200"/>
              <a:ext cx="63360" cy="63360"/>
              <a:chOff x="3021120" y="3886200"/>
              <a:chExt cx="63360" cy="63360"/>
            </a:xfrm>
          </p:grpSpPr>
          <p:sp>
            <p:nvSpPr>
              <p:cNvPr id="358" name="Oval 111"/>
              <p:cNvSpPr/>
              <p:nvPr/>
            </p:nvSpPr>
            <p:spPr>
              <a:xfrm>
                <a:off x="3021120" y="3886200"/>
                <a:ext cx="63360" cy="6336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12"/>
              <p:cNvSpPr/>
              <p:nvPr/>
            </p:nvSpPr>
            <p:spPr>
              <a:xfrm>
                <a:off x="3021120" y="388620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20" y="0"/>
                    </a:moveTo>
                    <a:cubicBezTo>
                      <a:pt x="9" y="0"/>
                      <a:pt x="0" y="10"/>
                      <a:pt x="0" y="20"/>
                    </a:cubicBezTo>
                    <a:cubicBezTo>
                      <a:pt x="0" y="32"/>
                      <a:pt x="9" y="40"/>
                      <a:pt x="20" y="40"/>
                    </a:cubicBezTo>
                    <a:cubicBezTo>
                      <a:pt x="31" y="40"/>
                      <a:pt x="40" y="32"/>
                      <a:pt x="40" y="20"/>
                    </a:cubicBezTo>
                    <a:cubicBezTo>
                      <a:pt x="40" y="10"/>
                      <a:pt x="31" y="0"/>
                      <a:pt x="20" y="0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7640" bIns="1764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Rectangle 114"/>
            <p:cNvSpPr/>
            <p:nvPr/>
          </p:nvSpPr>
          <p:spPr>
            <a:xfrm>
              <a:off x="1711800" y="38480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Group 117"/>
            <p:cNvGrpSpPr/>
            <p:nvPr/>
          </p:nvGrpSpPr>
          <p:grpSpPr>
            <a:xfrm>
              <a:off x="2260440" y="4583160"/>
              <a:ext cx="474840" cy="552240"/>
              <a:chOff x="2260440" y="4583160"/>
              <a:chExt cx="474840" cy="552240"/>
            </a:xfrm>
          </p:grpSpPr>
          <p:sp>
            <p:nvSpPr>
              <p:cNvPr id="362" name="Rectangle 115"/>
              <p:cNvSpPr/>
              <p:nvPr/>
            </p:nvSpPr>
            <p:spPr>
              <a:xfrm>
                <a:off x="2260440" y="4583160"/>
                <a:ext cx="474840" cy="552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116"/>
              <p:cNvSpPr/>
              <p:nvPr/>
            </p:nvSpPr>
            <p:spPr>
              <a:xfrm>
                <a:off x="2260440" y="4583160"/>
                <a:ext cx="474840" cy="55224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Group 120"/>
            <p:cNvGrpSpPr/>
            <p:nvPr/>
          </p:nvGrpSpPr>
          <p:grpSpPr>
            <a:xfrm>
              <a:off x="2371680" y="4440240"/>
              <a:ext cx="63720" cy="63360"/>
              <a:chOff x="2371680" y="4440240"/>
              <a:chExt cx="63720" cy="63360"/>
            </a:xfrm>
          </p:grpSpPr>
          <p:sp>
            <p:nvSpPr>
              <p:cNvPr id="365" name="Oval 118"/>
              <p:cNvSpPr/>
              <p:nvPr/>
            </p:nvSpPr>
            <p:spPr>
              <a:xfrm>
                <a:off x="2371680" y="4440240"/>
                <a:ext cx="63720" cy="6336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Oval 119"/>
              <p:cNvSpPr/>
              <p:nvPr/>
            </p:nvSpPr>
            <p:spPr>
              <a:xfrm>
                <a:off x="2371680" y="4440240"/>
                <a:ext cx="63720" cy="6336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123"/>
            <p:cNvGrpSpPr/>
            <p:nvPr/>
          </p:nvGrpSpPr>
          <p:grpSpPr>
            <a:xfrm>
              <a:off x="2546280" y="4440240"/>
              <a:ext cx="61920" cy="63360"/>
              <a:chOff x="2546280" y="4440240"/>
              <a:chExt cx="61920" cy="63360"/>
            </a:xfrm>
          </p:grpSpPr>
          <p:sp>
            <p:nvSpPr>
              <p:cNvPr id="368" name="Oval 121"/>
              <p:cNvSpPr/>
              <p:nvPr/>
            </p:nvSpPr>
            <p:spPr>
              <a:xfrm>
                <a:off x="2546280" y="4440240"/>
                <a:ext cx="61920" cy="6336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22"/>
              <p:cNvSpPr/>
              <p:nvPr/>
            </p:nvSpPr>
            <p:spPr>
              <a:xfrm>
                <a:off x="2546280" y="4440240"/>
                <a:ext cx="61920" cy="6336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19" y="0"/>
                    </a:moveTo>
                    <a:cubicBezTo>
                      <a:pt x="9" y="0"/>
                      <a:pt x="0" y="9"/>
                      <a:pt x="0" y="20"/>
                    </a:cubicBezTo>
                    <a:cubicBezTo>
                      <a:pt x="0" y="31"/>
                      <a:pt x="9" y="40"/>
                      <a:pt x="19" y="40"/>
                    </a:cubicBezTo>
                    <a:cubicBezTo>
                      <a:pt x="31" y="40"/>
                      <a:pt x="39" y="31"/>
                      <a:pt x="39" y="20"/>
                    </a:cubicBezTo>
                    <a:cubicBezTo>
                      <a:pt x="39" y="9"/>
                      <a:pt x="31" y="0"/>
                      <a:pt x="19" y="0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7640" bIns="1764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Freeform 124"/>
            <p:cNvSpPr/>
            <p:nvPr/>
          </p:nvSpPr>
          <p:spPr>
            <a:xfrm>
              <a:off x="2340000" y="4495680"/>
              <a:ext cx="127080" cy="244440"/>
            </a:xfrm>
            <a:custGeom>
              <a:avLst/>
              <a:gdLst/>
              <a:ahLst/>
              <a:rect l="l" t="t" r="r" b="b"/>
              <a:pathLst>
                <a:path w="128" h="248">
                  <a:moveTo>
                    <a:pt x="72" y="8"/>
                  </a:moveTo>
                  <a:lnTo>
                    <a:pt x="72" y="195"/>
                  </a:lnTo>
                  <a:cubicBezTo>
                    <a:pt x="72" y="200"/>
                    <a:pt x="69" y="203"/>
                    <a:pt x="64" y="203"/>
                  </a:cubicBezTo>
                  <a:cubicBezTo>
                    <a:pt x="60" y="203"/>
                    <a:pt x="56" y="200"/>
                    <a:pt x="56" y="195"/>
                  </a:cubicBezTo>
                  <a:lnTo>
                    <a:pt x="56" y="8"/>
                  </a:lnTo>
                  <a:cubicBezTo>
                    <a:pt x="56" y="4"/>
                    <a:pt x="60" y="0"/>
                    <a:pt x="64" y="0"/>
                  </a:cubicBezTo>
                  <a:cubicBezTo>
                    <a:pt x="69" y="0"/>
                    <a:pt x="72" y="4"/>
                    <a:pt x="72" y="8"/>
                  </a:cubicBezTo>
                  <a:close/>
                  <a:moveTo>
                    <a:pt x="128" y="120"/>
                  </a:moveTo>
                  <a:lnTo>
                    <a:pt x="64" y="248"/>
                  </a:lnTo>
                  <a:lnTo>
                    <a:pt x="0" y="120"/>
                  </a:lnTo>
                  <a:lnTo>
                    <a:pt x="128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5"/>
            <p:cNvSpPr/>
            <p:nvPr/>
          </p:nvSpPr>
          <p:spPr>
            <a:xfrm>
              <a:off x="2514600" y="4495680"/>
              <a:ext cx="125280" cy="244440"/>
            </a:xfrm>
            <a:custGeom>
              <a:avLst/>
              <a:gdLst/>
              <a:ahLst/>
              <a:rect l="l" t="t" r="r" b="b"/>
              <a:pathLst>
                <a:path w="128" h="248">
                  <a:moveTo>
                    <a:pt x="72" y="8"/>
                  </a:moveTo>
                  <a:lnTo>
                    <a:pt x="72" y="195"/>
                  </a:lnTo>
                  <a:cubicBezTo>
                    <a:pt x="72" y="200"/>
                    <a:pt x="69" y="203"/>
                    <a:pt x="64" y="203"/>
                  </a:cubicBezTo>
                  <a:cubicBezTo>
                    <a:pt x="60" y="203"/>
                    <a:pt x="56" y="200"/>
                    <a:pt x="56" y="195"/>
                  </a:cubicBezTo>
                  <a:lnTo>
                    <a:pt x="56" y="8"/>
                  </a:lnTo>
                  <a:cubicBezTo>
                    <a:pt x="56" y="4"/>
                    <a:pt x="60" y="0"/>
                    <a:pt x="64" y="0"/>
                  </a:cubicBezTo>
                  <a:cubicBezTo>
                    <a:pt x="69" y="0"/>
                    <a:pt x="72" y="4"/>
                    <a:pt x="72" y="8"/>
                  </a:cubicBezTo>
                  <a:close/>
                  <a:moveTo>
                    <a:pt x="128" y="120"/>
                  </a:moveTo>
                  <a:lnTo>
                    <a:pt x="64" y="248"/>
                  </a:lnTo>
                  <a:lnTo>
                    <a:pt x="0" y="120"/>
                  </a:lnTo>
                  <a:lnTo>
                    <a:pt x="128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28"/>
          <p:cNvGrpSpPr/>
          <p:nvPr/>
        </p:nvGrpSpPr>
        <p:grpSpPr>
          <a:xfrm>
            <a:off x="5105520" y="3576600"/>
            <a:ext cx="2741400" cy="2214720"/>
            <a:chOff x="5105520" y="3576600"/>
            <a:chExt cx="2741400" cy="2214720"/>
          </a:xfrm>
        </p:grpSpPr>
        <p:sp>
          <p:nvSpPr>
            <p:cNvPr id="373" name="AutoShape 127"/>
            <p:cNvSpPr/>
            <p:nvPr/>
          </p:nvSpPr>
          <p:spPr>
            <a:xfrm>
              <a:off x="5105520" y="3576600"/>
              <a:ext cx="2741400" cy="221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Group 131"/>
            <p:cNvGrpSpPr/>
            <p:nvPr/>
          </p:nvGrpSpPr>
          <p:grpSpPr>
            <a:xfrm>
              <a:off x="6222960" y="3727440"/>
              <a:ext cx="474840" cy="395280"/>
              <a:chOff x="6222960" y="3727440"/>
              <a:chExt cx="474840" cy="395280"/>
            </a:xfrm>
          </p:grpSpPr>
          <p:sp>
            <p:nvSpPr>
              <p:cNvPr id="375" name="Oval 129"/>
              <p:cNvSpPr/>
              <p:nvPr/>
            </p:nvSpPr>
            <p:spPr>
              <a:xfrm>
                <a:off x="6222960" y="3727440"/>
                <a:ext cx="474840" cy="395280"/>
              </a:xfrm>
              <a:prstGeom prst="ellipse">
                <a:avLst/>
              </a:prstGeom>
              <a:solidFill>
                <a:srgbClr val="ff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30"/>
              <p:cNvSpPr/>
              <p:nvPr/>
            </p:nvSpPr>
            <p:spPr>
              <a:xfrm>
                <a:off x="6222960" y="3727440"/>
                <a:ext cx="474840" cy="39528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134"/>
            <p:cNvGrpSpPr/>
            <p:nvPr/>
          </p:nvGrpSpPr>
          <p:grpSpPr>
            <a:xfrm>
              <a:off x="5113440" y="5197320"/>
              <a:ext cx="2709720" cy="570240"/>
              <a:chOff x="5113440" y="5197320"/>
              <a:chExt cx="2709720" cy="570240"/>
            </a:xfrm>
          </p:grpSpPr>
          <p:sp>
            <p:nvSpPr>
              <p:cNvPr id="378" name="Rectangle 132"/>
              <p:cNvSpPr/>
              <p:nvPr/>
            </p:nvSpPr>
            <p:spPr>
              <a:xfrm>
                <a:off x="5113440" y="5197320"/>
                <a:ext cx="2709720" cy="570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133"/>
              <p:cNvSpPr/>
              <p:nvPr/>
            </p:nvSpPr>
            <p:spPr>
              <a:xfrm>
                <a:off x="5113440" y="5197320"/>
                <a:ext cx="2709720" cy="57024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Rectangle 135"/>
            <p:cNvSpPr/>
            <p:nvPr/>
          </p:nvSpPr>
          <p:spPr>
            <a:xfrm>
              <a:off x="6483240" y="5221440"/>
              <a:ext cx="111240" cy="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36"/>
            <p:cNvSpPr/>
            <p:nvPr/>
          </p:nvSpPr>
          <p:spPr>
            <a:xfrm>
              <a:off x="6483240" y="5221440"/>
              <a:ext cx="111240" cy="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37"/>
            <p:cNvSpPr/>
            <p:nvPr/>
          </p:nvSpPr>
          <p:spPr>
            <a:xfrm>
              <a:off x="6013440" y="5491080"/>
              <a:ext cx="82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ustra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Group 143"/>
            <p:cNvGrpSpPr/>
            <p:nvPr/>
          </p:nvGrpSpPr>
          <p:grpSpPr>
            <a:xfrm>
              <a:off x="6222960" y="3932280"/>
              <a:ext cx="474840" cy="1265040"/>
              <a:chOff x="6222960" y="3932280"/>
              <a:chExt cx="474840" cy="1265040"/>
            </a:xfrm>
          </p:grpSpPr>
          <p:sp>
            <p:nvSpPr>
              <p:cNvPr id="384" name="Rectangle 141"/>
              <p:cNvSpPr/>
              <p:nvPr/>
            </p:nvSpPr>
            <p:spPr>
              <a:xfrm>
                <a:off x="6222960" y="3932280"/>
                <a:ext cx="474840" cy="12650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Rectangle 142"/>
              <p:cNvSpPr/>
              <p:nvPr/>
            </p:nvSpPr>
            <p:spPr>
              <a:xfrm>
                <a:off x="6222960" y="3932280"/>
                <a:ext cx="474840" cy="126504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Freeform 144"/>
            <p:cNvSpPr/>
            <p:nvPr/>
          </p:nvSpPr>
          <p:spPr>
            <a:xfrm>
              <a:off x="6491160" y="3735360"/>
              <a:ext cx="500040" cy="152280"/>
            </a:xfrm>
            <a:custGeom>
              <a:avLst/>
              <a:gdLst/>
              <a:ahLst/>
              <a:rect l="l" t="t" r="r" b="b"/>
              <a:pathLst>
                <a:path w="505" h="155">
                  <a:moveTo>
                    <a:pt x="498" y="16"/>
                  </a:moveTo>
                  <a:lnTo>
                    <a:pt x="54" y="117"/>
                  </a:lnTo>
                  <a:cubicBezTo>
                    <a:pt x="50" y="117"/>
                    <a:pt x="46" y="115"/>
                    <a:pt x="45" y="110"/>
                  </a:cubicBezTo>
                  <a:cubicBezTo>
                    <a:pt x="44" y="106"/>
                    <a:pt x="46" y="102"/>
                    <a:pt x="51" y="101"/>
                  </a:cubicBezTo>
                  <a:lnTo>
                    <a:pt x="495" y="1"/>
                  </a:lnTo>
                  <a:cubicBezTo>
                    <a:pt x="499" y="0"/>
                    <a:pt x="503" y="2"/>
                    <a:pt x="504" y="7"/>
                  </a:cubicBezTo>
                  <a:cubicBezTo>
                    <a:pt x="505" y="11"/>
                    <a:pt x="503" y="15"/>
                    <a:pt x="498" y="16"/>
                  </a:cubicBezTo>
                  <a:close/>
                  <a:moveTo>
                    <a:pt x="139" y="155"/>
                  </a:moveTo>
                  <a:lnTo>
                    <a:pt x="0" y="120"/>
                  </a:lnTo>
                  <a:lnTo>
                    <a:pt x="111" y="30"/>
                  </a:lnTo>
                  <a:lnTo>
                    <a:pt x="139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45"/>
            <p:cNvSpPr/>
            <p:nvPr/>
          </p:nvSpPr>
          <p:spPr>
            <a:xfrm>
              <a:off x="7041600" y="3592440"/>
              <a:ext cx="74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talis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46"/>
            <p:cNvSpPr/>
            <p:nvPr/>
          </p:nvSpPr>
          <p:spPr>
            <a:xfrm>
              <a:off x="6888240" y="3948120"/>
              <a:ext cx="158760" cy="1217520"/>
            </a:xfrm>
            <a:custGeom>
              <a:avLst/>
              <a:gdLst/>
              <a:ahLst/>
              <a:rect l="l" t="t" r="r" b="b"/>
              <a:pathLst>
                <a:path w="160" h="1232">
                  <a:moveTo>
                    <a:pt x="0" y="0"/>
                  </a:moveTo>
                  <a:cubicBezTo>
                    <a:pt x="45" y="0"/>
                    <a:pt x="80" y="46"/>
                    <a:pt x="80" y="103"/>
                  </a:cubicBezTo>
                  <a:lnTo>
                    <a:pt x="80" y="522"/>
                  </a:lnTo>
                  <a:cubicBezTo>
                    <a:pt x="80" y="578"/>
                    <a:pt x="116" y="624"/>
                    <a:pt x="160" y="624"/>
                  </a:cubicBezTo>
                  <a:cubicBezTo>
                    <a:pt x="116" y="624"/>
                    <a:pt x="80" y="670"/>
                    <a:pt x="80" y="727"/>
                  </a:cubicBezTo>
                  <a:lnTo>
                    <a:pt x="80" y="1130"/>
                  </a:lnTo>
                  <a:cubicBezTo>
                    <a:pt x="80" y="1186"/>
                    <a:pt x="45" y="1232"/>
                    <a:pt x="0" y="1232"/>
                  </a:cubicBezTo>
                </a:path>
              </a:pathLst>
            </a:custGeom>
            <a:noFill/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47"/>
            <p:cNvSpPr/>
            <p:nvPr/>
          </p:nvSpPr>
          <p:spPr>
            <a:xfrm>
              <a:off x="7238160" y="4414680"/>
              <a:ext cx="52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iN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ro Ejemplo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anohilos de Silicón/Germanio producidos por depósito químico en fase vapor mediante el mecanismo Vapor-Liquido-Solido (VLS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2995560" cy="38448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anohilos de ale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licio/germanio (Si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4343400" y="5791320"/>
            <a:ext cx="4495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Kok-Keong Lew, Ling Pan, Elizabeth C. Dickey, Joan M .Redwing:. Vapor-Liquid-Solid Growth of Silicon- Germanium Nanowires. Advanced Materials. 2003. Vol.15(24), pages 2073-2074.  Copyright Wiley-VCH Verlag GmbH &amp; Co. KGaA. Reproduced with permiss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ooter Placeholder 5"/>
          <p:cNvSpPr/>
          <p:nvPr/>
        </p:nvSpPr>
        <p:spPr>
          <a:xfrm>
            <a:off x="1981080" y="6610320"/>
            <a:ext cx="51818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acercamiento básico a la nanofabricación de Abajo Hacia Arri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pasos bá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rcamientos de Fabricación en Bloques de Constr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uto-ensambl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s c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914400" y="152280"/>
            <a:ext cx="7086600" cy="55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Auto Ensambl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Auto-ensamblaje envuelve uno de los siguientes proces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cc"/>
                </a:solidFill>
                <a:uFillTx/>
                <a:latin typeface="Arial"/>
                <a:ea typeface="ＭＳ Ｐゴシック"/>
              </a:rPr>
              <a:t>Ensamblaje Quí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cc"/>
                </a:solidFill>
                <a:uFillTx/>
                <a:latin typeface="Arial"/>
                <a:ea typeface="ＭＳ Ｐゴシック"/>
              </a:rPr>
              <a:t>Ensamblaje Fí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cc"/>
                </a:solidFill>
                <a:uFillTx/>
                <a:latin typeface="Arial"/>
                <a:ea typeface="ＭＳ Ｐゴシック"/>
              </a:rPr>
              <a:t>Ensamblaje Bio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los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A lo largo de estos módulos encontrarás palabras y términos impresos en color </a:t>
            </a:r>
            <a:r>
              <a:rPr b="0" lang="es-PR" sz="3200" spc="-1" strike="noStrike">
                <a:solidFill>
                  <a:srgbClr val="0000ff"/>
                </a:solidFill>
                <a:latin typeface="Arial"/>
              </a:rPr>
              <a:t>azul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.  Estas palabras y términos se definen en el Glosario, que se puede abrir haciendo </a:t>
            </a:r>
            <a:r>
              <a:rPr b="0" lang="es-PR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clic aquí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2286000" y="6620040"/>
            <a:ext cx="46483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uto-Ensamblaje Quím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457200" y="669960"/>
            <a:ext cx="82231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72880" indent="-272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este ejemplo, moléculas de alkanetiol forman una mono capa auto ensamblada (SAM) sobre una superficie de o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gunos alkanethiols pueden tener grupos funcionales útiles en su extremo li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 ende, los  </a:t>
            </a:r>
            <a:r>
              <a:rPr b="0" lang="es-ES_tradnl" sz="2000" spc="-1" strike="noStrike">
                <a:solidFill>
                  <a:srgbClr val="92d050"/>
                </a:solidFill>
                <a:latin typeface="Arial"/>
                <a:ea typeface="ＭＳ Ｐゴシック"/>
              </a:rPr>
              <a:t>thiol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eden modificar químicamente una superficie y hasta permitir que esta sirva para reconocer moléculas especificas (senso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287"/>
          <p:cNvGrpSpPr/>
          <p:nvPr/>
        </p:nvGrpSpPr>
        <p:grpSpPr>
          <a:xfrm>
            <a:off x="196200" y="3289320"/>
            <a:ext cx="8621640" cy="3363840"/>
            <a:chOff x="196200" y="3289320"/>
            <a:chExt cx="8621640" cy="3363840"/>
          </a:xfrm>
        </p:grpSpPr>
        <p:grpSp>
          <p:nvGrpSpPr>
            <p:cNvPr id="404" name="Group 286"/>
            <p:cNvGrpSpPr/>
            <p:nvPr/>
          </p:nvGrpSpPr>
          <p:grpSpPr>
            <a:xfrm>
              <a:off x="5239800" y="3551400"/>
              <a:ext cx="3578040" cy="2310840"/>
              <a:chOff x="5239800" y="3551400"/>
              <a:chExt cx="3578040" cy="2310840"/>
            </a:xfrm>
          </p:grpSpPr>
          <p:grpSp>
            <p:nvGrpSpPr>
              <p:cNvPr id="405" name="Group 97"/>
              <p:cNvGrpSpPr/>
              <p:nvPr/>
            </p:nvGrpSpPr>
            <p:grpSpPr>
              <a:xfrm>
                <a:off x="5239800" y="4335120"/>
                <a:ext cx="3578040" cy="1527120"/>
                <a:chOff x="5239800" y="4335120"/>
                <a:chExt cx="3578040" cy="1527120"/>
              </a:xfrm>
            </p:grpSpPr>
            <p:grpSp>
              <p:nvGrpSpPr>
                <p:cNvPr id="406" name="Group 59"/>
                <p:cNvGrpSpPr/>
                <p:nvPr/>
              </p:nvGrpSpPr>
              <p:grpSpPr>
                <a:xfrm>
                  <a:off x="5239800" y="4461840"/>
                  <a:ext cx="3578040" cy="1400400"/>
                  <a:chOff x="5239800" y="4461840"/>
                  <a:chExt cx="3578040" cy="1400400"/>
                </a:xfrm>
              </p:grpSpPr>
              <p:sp>
                <p:nvSpPr>
                  <p:cNvPr id="407" name="Rectangle 9"/>
                  <p:cNvSpPr/>
                  <p:nvPr/>
                </p:nvSpPr>
                <p:spPr>
                  <a:xfrm>
                    <a:off x="5464080" y="5268600"/>
                    <a:ext cx="3111840" cy="59364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Superficie en or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08" name="Group 7"/>
                  <p:cNvGrpSpPr/>
                  <p:nvPr/>
                </p:nvGrpSpPr>
                <p:grpSpPr>
                  <a:xfrm>
                    <a:off x="5402160" y="4465080"/>
                    <a:ext cx="649440" cy="817200"/>
                    <a:chOff x="5402160" y="4465080"/>
                    <a:chExt cx="649440" cy="817200"/>
                  </a:xfrm>
                </p:grpSpPr>
                <p:sp>
                  <p:nvSpPr>
                    <p:cNvPr id="409" name="Freeform 8"/>
                    <p:cNvSpPr/>
                    <p:nvPr/>
                  </p:nvSpPr>
                  <p:spPr>
                    <a:xfrm rot="18135600">
                      <a:off x="5420160" y="4635000"/>
                      <a:ext cx="612720" cy="38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Oval 9"/>
                    <p:cNvSpPr/>
                    <p:nvPr/>
                  </p:nvSpPr>
                  <p:spPr>
                    <a:xfrm rot="18135600">
                      <a:off x="5677920" y="5131080"/>
                      <a:ext cx="123840" cy="1285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280" bIns="44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1" name="Group 10"/>
                  <p:cNvGrpSpPr/>
                  <p:nvPr/>
                </p:nvGrpSpPr>
                <p:grpSpPr>
                  <a:xfrm>
                    <a:off x="5239800" y="4469040"/>
                    <a:ext cx="603720" cy="829800"/>
                    <a:chOff x="5239800" y="4469040"/>
                    <a:chExt cx="603720" cy="829800"/>
                  </a:xfrm>
                </p:grpSpPr>
                <p:sp>
                  <p:nvSpPr>
                    <p:cNvPr id="412" name="Freeform 11"/>
                    <p:cNvSpPr/>
                    <p:nvPr/>
                  </p:nvSpPr>
                  <p:spPr>
                    <a:xfrm rot="18135600">
                      <a:off x="5249880" y="4634640"/>
                      <a:ext cx="58284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Oval 12"/>
                    <p:cNvSpPr/>
                    <p:nvPr/>
                  </p:nvSpPr>
                  <p:spPr>
                    <a:xfrm rot="18135600">
                      <a:off x="5504760" y="5159160"/>
                      <a:ext cx="119160" cy="116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4" name="Group 13"/>
                  <p:cNvGrpSpPr/>
                  <p:nvPr/>
                </p:nvGrpSpPr>
                <p:grpSpPr>
                  <a:xfrm>
                    <a:off x="5606640" y="4475880"/>
                    <a:ext cx="640440" cy="819360"/>
                    <a:chOff x="5606640" y="4475880"/>
                    <a:chExt cx="640440" cy="819360"/>
                  </a:xfrm>
                </p:grpSpPr>
                <p:sp>
                  <p:nvSpPr>
                    <p:cNvPr id="415" name="Freeform 14"/>
                    <p:cNvSpPr/>
                    <p:nvPr/>
                  </p:nvSpPr>
                  <p:spPr>
                    <a:xfrm rot="18135600">
                      <a:off x="5634000" y="4632840"/>
                      <a:ext cx="585360" cy="38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Oval 15"/>
                    <p:cNvSpPr/>
                    <p:nvPr/>
                  </p:nvSpPr>
                  <p:spPr>
                    <a:xfrm rot="18135600">
                      <a:off x="5864760" y="5149080"/>
                      <a:ext cx="123840" cy="1220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7" name="Group 16"/>
                  <p:cNvGrpSpPr/>
                  <p:nvPr/>
                </p:nvGrpSpPr>
                <p:grpSpPr>
                  <a:xfrm>
                    <a:off x="5791320" y="4471920"/>
                    <a:ext cx="608760" cy="820080"/>
                    <a:chOff x="5791320" y="4471920"/>
                    <a:chExt cx="608760" cy="820080"/>
                  </a:xfrm>
                </p:grpSpPr>
                <p:sp>
                  <p:nvSpPr>
                    <p:cNvPr id="418" name="Freeform 17"/>
                    <p:cNvSpPr/>
                    <p:nvPr/>
                  </p:nvSpPr>
                  <p:spPr>
                    <a:xfrm rot="18135600">
                      <a:off x="5804280" y="4635720"/>
                      <a:ext cx="582480" cy="35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Oval 18"/>
                    <p:cNvSpPr/>
                    <p:nvPr/>
                  </p:nvSpPr>
                  <p:spPr>
                    <a:xfrm rot="18135600">
                      <a:off x="6056640" y="5157000"/>
                      <a:ext cx="119520" cy="1101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0" name="Group 19"/>
                  <p:cNvGrpSpPr/>
                  <p:nvPr/>
                </p:nvGrpSpPr>
                <p:grpSpPr>
                  <a:xfrm>
                    <a:off x="5973480" y="4471920"/>
                    <a:ext cx="635040" cy="819000"/>
                    <a:chOff x="5973480" y="4471920"/>
                    <a:chExt cx="635040" cy="819000"/>
                  </a:xfrm>
                </p:grpSpPr>
                <p:sp>
                  <p:nvSpPr>
                    <p:cNvPr id="421" name="Freeform 20"/>
                    <p:cNvSpPr/>
                    <p:nvPr/>
                  </p:nvSpPr>
                  <p:spPr>
                    <a:xfrm rot="18135600">
                      <a:off x="5994360" y="4634640"/>
                      <a:ext cx="592920" cy="37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Oval 53"/>
                    <p:cNvSpPr/>
                    <p:nvPr/>
                  </p:nvSpPr>
                  <p:spPr>
                    <a:xfrm rot="18135600">
                      <a:off x="6239160" y="5147280"/>
                      <a:ext cx="123120" cy="1191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800" bIns="37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3" name="Group 22"/>
                  <p:cNvGrpSpPr/>
                  <p:nvPr/>
                </p:nvGrpSpPr>
                <p:grpSpPr>
                  <a:xfrm>
                    <a:off x="7275600" y="4473000"/>
                    <a:ext cx="614160" cy="824040"/>
                    <a:chOff x="7275600" y="4473000"/>
                    <a:chExt cx="614160" cy="824040"/>
                  </a:xfrm>
                </p:grpSpPr>
                <p:sp>
                  <p:nvSpPr>
                    <p:cNvPr id="424" name="Freeform 50"/>
                    <p:cNvSpPr/>
                    <p:nvPr/>
                  </p:nvSpPr>
                  <p:spPr>
                    <a:xfrm rot="18135600">
                      <a:off x="7293960" y="4632480"/>
                      <a:ext cx="577080" cy="36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Oval 51"/>
                    <p:cNvSpPr/>
                    <p:nvPr/>
                  </p:nvSpPr>
                  <p:spPr>
                    <a:xfrm rot="18135600">
                      <a:off x="7531200" y="5155200"/>
                      <a:ext cx="119880" cy="1184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6" name="Group 25"/>
                  <p:cNvGrpSpPr/>
                  <p:nvPr/>
                </p:nvGrpSpPr>
                <p:grpSpPr>
                  <a:xfrm>
                    <a:off x="6341040" y="4469040"/>
                    <a:ext cx="627120" cy="811800"/>
                    <a:chOff x="6341040" y="4469040"/>
                    <a:chExt cx="627120" cy="811800"/>
                  </a:xfrm>
                </p:grpSpPr>
                <p:sp>
                  <p:nvSpPr>
                    <p:cNvPr id="427" name="Freeform 48"/>
                    <p:cNvSpPr/>
                    <p:nvPr/>
                  </p:nvSpPr>
                  <p:spPr>
                    <a:xfrm rot="18135600">
                      <a:off x="6356520" y="4635720"/>
                      <a:ext cx="595800" cy="36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Oval 49"/>
                    <p:cNvSpPr/>
                    <p:nvPr/>
                  </p:nvSpPr>
                  <p:spPr>
                    <a:xfrm rot="18135600">
                      <a:off x="6608880" y="5144400"/>
                      <a:ext cx="124200" cy="109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600" bIns="30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9" name="Group 28"/>
                  <p:cNvGrpSpPr/>
                  <p:nvPr/>
                </p:nvGrpSpPr>
                <p:grpSpPr>
                  <a:xfrm>
                    <a:off x="6535440" y="4468320"/>
                    <a:ext cx="613800" cy="813240"/>
                    <a:chOff x="6535440" y="4468320"/>
                    <a:chExt cx="613800" cy="813240"/>
                  </a:xfrm>
                </p:grpSpPr>
                <p:sp>
                  <p:nvSpPr>
                    <p:cNvPr id="430" name="Freeform 46"/>
                    <p:cNvSpPr/>
                    <p:nvPr/>
                  </p:nvSpPr>
                  <p:spPr>
                    <a:xfrm rot="18135600">
                      <a:off x="6558120" y="4622760"/>
                      <a:ext cx="568440" cy="36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Oval 47"/>
                    <p:cNvSpPr/>
                    <p:nvPr/>
                  </p:nvSpPr>
                  <p:spPr>
                    <a:xfrm rot="18135600">
                      <a:off x="6794280" y="5141520"/>
                      <a:ext cx="117000" cy="1177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360" bIns="36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2" name="Group 31"/>
                  <p:cNvGrpSpPr/>
                  <p:nvPr/>
                </p:nvGrpSpPr>
                <p:grpSpPr>
                  <a:xfrm>
                    <a:off x="6702840" y="4461840"/>
                    <a:ext cx="616320" cy="824760"/>
                    <a:chOff x="6702840" y="4461840"/>
                    <a:chExt cx="616320" cy="824760"/>
                  </a:xfrm>
                </p:grpSpPr>
                <p:sp>
                  <p:nvSpPr>
                    <p:cNvPr id="433" name="Freeform 44"/>
                    <p:cNvSpPr/>
                    <p:nvPr/>
                  </p:nvSpPr>
                  <p:spPr>
                    <a:xfrm rot="18135600">
                      <a:off x="6710040" y="4634280"/>
                      <a:ext cx="601200" cy="34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Oval 45"/>
                    <p:cNvSpPr/>
                    <p:nvPr/>
                  </p:nvSpPr>
                  <p:spPr>
                    <a:xfrm rot="18135600">
                      <a:off x="6974640" y="5142960"/>
                      <a:ext cx="123840" cy="1184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5" name="Group 34"/>
                  <p:cNvGrpSpPr/>
                  <p:nvPr/>
                </p:nvGrpSpPr>
                <p:grpSpPr>
                  <a:xfrm>
                    <a:off x="6900840" y="4475880"/>
                    <a:ext cx="640440" cy="819360"/>
                    <a:chOff x="6900840" y="4475880"/>
                    <a:chExt cx="640440" cy="819360"/>
                  </a:xfrm>
                </p:grpSpPr>
                <p:sp>
                  <p:nvSpPr>
                    <p:cNvPr id="436" name="Freeform 42"/>
                    <p:cNvSpPr/>
                    <p:nvPr/>
                  </p:nvSpPr>
                  <p:spPr>
                    <a:xfrm rot="18135600">
                      <a:off x="6928200" y="4632840"/>
                      <a:ext cx="585360" cy="38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Oval 43"/>
                    <p:cNvSpPr/>
                    <p:nvPr/>
                  </p:nvSpPr>
                  <p:spPr>
                    <a:xfrm rot="18135600">
                      <a:off x="7158960" y="5149080"/>
                      <a:ext cx="123840" cy="1220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8" name="Group 37"/>
                  <p:cNvGrpSpPr/>
                  <p:nvPr/>
                </p:nvGrpSpPr>
                <p:grpSpPr>
                  <a:xfrm>
                    <a:off x="7088040" y="4465800"/>
                    <a:ext cx="611280" cy="826200"/>
                    <a:chOff x="7088040" y="4465800"/>
                    <a:chExt cx="611280" cy="826200"/>
                  </a:xfrm>
                </p:grpSpPr>
                <p:sp>
                  <p:nvSpPr>
                    <p:cNvPr id="439" name="Freeform 40"/>
                    <p:cNvSpPr/>
                    <p:nvPr/>
                  </p:nvSpPr>
                  <p:spPr>
                    <a:xfrm rot="18135600">
                      <a:off x="7107120" y="4623480"/>
                      <a:ext cx="572400" cy="36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Oval 41"/>
                    <p:cNvSpPr/>
                    <p:nvPr/>
                  </p:nvSpPr>
                  <p:spPr>
                    <a:xfrm rot="18135600">
                      <a:off x="7350480" y="5153040"/>
                      <a:ext cx="117360" cy="116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1" name="Group 40"/>
                  <p:cNvGrpSpPr/>
                  <p:nvPr/>
                </p:nvGrpSpPr>
                <p:grpSpPr>
                  <a:xfrm>
                    <a:off x="7817760" y="4464720"/>
                    <a:ext cx="626400" cy="833760"/>
                    <a:chOff x="7817760" y="4464720"/>
                    <a:chExt cx="626400" cy="833760"/>
                  </a:xfrm>
                </p:grpSpPr>
                <p:sp>
                  <p:nvSpPr>
                    <p:cNvPr id="442" name="Freeform 38"/>
                    <p:cNvSpPr/>
                    <p:nvPr/>
                  </p:nvSpPr>
                  <p:spPr>
                    <a:xfrm rot="18135600">
                      <a:off x="7835400" y="4628520"/>
                      <a:ext cx="590760" cy="36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Oval 39"/>
                    <p:cNvSpPr/>
                    <p:nvPr/>
                  </p:nvSpPr>
                  <p:spPr>
                    <a:xfrm rot="18135600">
                      <a:off x="8086680" y="5156640"/>
                      <a:ext cx="126000" cy="1155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4" name="Group 43"/>
                  <p:cNvGrpSpPr/>
                  <p:nvPr/>
                </p:nvGrpSpPr>
                <p:grpSpPr>
                  <a:xfrm>
                    <a:off x="7656120" y="4470120"/>
                    <a:ext cx="627840" cy="816840"/>
                    <a:chOff x="7656120" y="4470120"/>
                    <a:chExt cx="627840" cy="816840"/>
                  </a:xfrm>
                </p:grpSpPr>
                <p:sp>
                  <p:nvSpPr>
                    <p:cNvPr id="445" name="Freeform 36"/>
                    <p:cNvSpPr/>
                    <p:nvPr/>
                  </p:nvSpPr>
                  <p:spPr>
                    <a:xfrm rot="18135600">
                      <a:off x="7689600" y="4616280"/>
                      <a:ext cx="560160" cy="38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Oval 37"/>
                    <p:cNvSpPr/>
                    <p:nvPr/>
                  </p:nvSpPr>
                  <p:spPr>
                    <a:xfrm rot="18135600">
                      <a:off x="7902000" y="5144040"/>
                      <a:ext cx="119520" cy="1202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160" bIns="38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7" name="Group 46"/>
                  <p:cNvGrpSpPr/>
                  <p:nvPr/>
                </p:nvGrpSpPr>
                <p:grpSpPr>
                  <a:xfrm>
                    <a:off x="6159240" y="4470480"/>
                    <a:ext cx="628200" cy="822960"/>
                    <a:chOff x="6159240" y="4470480"/>
                    <a:chExt cx="628200" cy="822960"/>
                  </a:xfrm>
                </p:grpSpPr>
                <p:sp>
                  <p:nvSpPr>
                    <p:cNvPr id="448" name="Freeform 34"/>
                    <p:cNvSpPr/>
                    <p:nvPr/>
                  </p:nvSpPr>
                  <p:spPr>
                    <a:xfrm rot="18135600">
                      <a:off x="6180840" y="4629960"/>
                      <a:ext cx="584280" cy="37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9" name="Oval 35"/>
                    <p:cNvSpPr/>
                    <p:nvPr/>
                  </p:nvSpPr>
                  <p:spPr>
                    <a:xfrm rot="18135600">
                      <a:off x="6421680" y="5149080"/>
                      <a:ext cx="121680" cy="1206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0" name="Group 49"/>
                  <p:cNvGrpSpPr/>
                  <p:nvPr/>
                </p:nvGrpSpPr>
                <p:grpSpPr>
                  <a:xfrm>
                    <a:off x="7450920" y="4472280"/>
                    <a:ext cx="628200" cy="826200"/>
                    <a:chOff x="7450920" y="4472280"/>
                    <a:chExt cx="628200" cy="826200"/>
                  </a:xfrm>
                </p:grpSpPr>
                <p:sp>
                  <p:nvSpPr>
                    <p:cNvPr id="451" name="Freeform 32"/>
                    <p:cNvSpPr/>
                    <p:nvPr/>
                  </p:nvSpPr>
                  <p:spPr>
                    <a:xfrm rot="18135600">
                      <a:off x="7470360" y="4634280"/>
                      <a:ext cx="588960" cy="37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" name="Oval 33"/>
                    <p:cNvSpPr/>
                    <p:nvPr/>
                  </p:nvSpPr>
                  <p:spPr>
                    <a:xfrm rot="18135600">
                      <a:off x="7714800" y="5152680"/>
                      <a:ext cx="126360" cy="1198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3" name="Group 52"/>
                  <p:cNvGrpSpPr/>
                  <p:nvPr/>
                </p:nvGrpSpPr>
                <p:grpSpPr>
                  <a:xfrm>
                    <a:off x="7999560" y="4463640"/>
                    <a:ext cx="626760" cy="822240"/>
                    <a:chOff x="7999560" y="4463640"/>
                    <a:chExt cx="626760" cy="822240"/>
                  </a:xfrm>
                </p:grpSpPr>
                <p:sp>
                  <p:nvSpPr>
                    <p:cNvPr id="454" name="Freeform 30"/>
                    <p:cNvSpPr/>
                    <p:nvPr/>
                  </p:nvSpPr>
                  <p:spPr>
                    <a:xfrm rot="18135600">
                      <a:off x="8014680" y="4630320"/>
                      <a:ext cx="596160" cy="36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Oval 31"/>
                    <p:cNvSpPr/>
                    <p:nvPr/>
                  </p:nvSpPr>
                  <p:spPr>
                    <a:xfrm rot="18135600">
                      <a:off x="8265600" y="5142240"/>
                      <a:ext cx="121680" cy="1198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6" name="Group 55"/>
                  <p:cNvGrpSpPr/>
                  <p:nvPr/>
                </p:nvGrpSpPr>
                <p:grpSpPr>
                  <a:xfrm>
                    <a:off x="8191800" y="4468680"/>
                    <a:ext cx="626040" cy="827640"/>
                    <a:chOff x="8191800" y="4468680"/>
                    <a:chExt cx="626040" cy="827640"/>
                  </a:xfrm>
                </p:grpSpPr>
                <p:sp>
                  <p:nvSpPr>
                    <p:cNvPr id="457" name="Freeform 497"/>
                    <p:cNvSpPr/>
                    <p:nvPr/>
                  </p:nvSpPr>
                  <p:spPr>
                    <a:xfrm rot="18135600">
                      <a:off x="8204760" y="4637880"/>
                      <a:ext cx="599760" cy="36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Oval 29"/>
                    <p:cNvSpPr/>
                    <p:nvPr/>
                  </p:nvSpPr>
                  <p:spPr>
                    <a:xfrm rot="18135600">
                      <a:off x="8462520" y="5153760"/>
                      <a:ext cx="123480" cy="1173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59" name="Group 72"/>
                <p:cNvGrpSpPr/>
                <p:nvPr/>
              </p:nvGrpSpPr>
              <p:grpSpPr>
                <a:xfrm>
                  <a:off x="6201000" y="4343040"/>
                  <a:ext cx="235800" cy="139680"/>
                  <a:chOff x="6201000" y="4343040"/>
                  <a:chExt cx="235800" cy="139680"/>
                </a:xfrm>
              </p:grpSpPr>
              <p:sp>
                <p:nvSpPr>
                  <p:cNvPr id="460" name="Straight Connector 477"/>
                  <p:cNvSpPr/>
                  <p:nvPr/>
                </p:nvSpPr>
                <p:spPr>
                  <a:xfrm flipH="1" flipV="1">
                    <a:off x="6201000" y="4343040"/>
                    <a:ext cx="109440" cy="13968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Straight Connector 478"/>
                  <p:cNvSpPr/>
                  <p:nvPr/>
                </p:nvSpPr>
                <p:spPr>
                  <a:xfrm flipV="1">
                    <a:off x="6309720" y="4343040"/>
                    <a:ext cx="127080" cy="13968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2" name="Group 73"/>
                <p:cNvGrpSpPr/>
                <p:nvPr/>
              </p:nvGrpSpPr>
              <p:grpSpPr>
                <a:xfrm>
                  <a:off x="6936120" y="4335120"/>
                  <a:ext cx="235800" cy="139680"/>
                  <a:chOff x="6936120" y="4335120"/>
                  <a:chExt cx="235800" cy="139680"/>
                </a:xfrm>
              </p:grpSpPr>
              <p:sp>
                <p:nvSpPr>
                  <p:cNvPr id="463" name="Straight Connector 475"/>
                  <p:cNvSpPr/>
                  <p:nvPr/>
                </p:nvSpPr>
                <p:spPr>
                  <a:xfrm flipH="1" flipV="1">
                    <a:off x="6936120" y="4335120"/>
                    <a:ext cx="109440" cy="13968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Straight Connector 476"/>
                  <p:cNvSpPr/>
                  <p:nvPr/>
                </p:nvSpPr>
                <p:spPr>
                  <a:xfrm flipV="1">
                    <a:off x="7044840" y="4335120"/>
                    <a:ext cx="127080" cy="13968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" name="Group 76"/>
                <p:cNvGrpSpPr/>
                <p:nvPr/>
              </p:nvGrpSpPr>
              <p:grpSpPr>
                <a:xfrm>
                  <a:off x="7301520" y="4343040"/>
                  <a:ext cx="235800" cy="139680"/>
                  <a:chOff x="7301520" y="4343040"/>
                  <a:chExt cx="235800" cy="139680"/>
                </a:xfrm>
              </p:grpSpPr>
              <p:sp>
                <p:nvSpPr>
                  <p:cNvPr id="466" name="Straight Connector 473"/>
                  <p:cNvSpPr/>
                  <p:nvPr/>
                </p:nvSpPr>
                <p:spPr>
                  <a:xfrm flipH="1" flipV="1">
                    <a:off x="7301520" y="4343040"/>
                    <a:ext cx="109440" cy="13968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Straight Connector 474"/>
                  <p:cNvSpPr/>
                  <p:nvPr/>
                </p:nvSpPr>
                <p:spPr>
                  <a:xfrm flipV="1">
                    <a:off x="7410240" y="4343040"/>
                    <a:ext cx="127080" cy="13968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" name="Group 79"/>
                <p:cNvGrpSpPr/>
                <p:nvPr/>
              </p:nvGrpSpPr>
              <p:grpSpPr>
                <a:xfrm>
                  <a:off x="8225280" y="4335120"/>
                  <a:ext cx="234720" cy="139680"/>
                  <a:chOff x="8225280" y="4335120"/>
                  <a:chExt cx="234720" cy="139680"/>
                </a:xfrm>
              </p:grpSpPr>
              <p:sp>
                <p:nvSpPr>
                  <p:cNvPr id="469" name="Straight Connector 471"/>
                  <p:cNvSpPr/>
                  <p:nvPr/>
                </p:nvSpPr>
                <p:spPr>
                  <a:xfrm flipH="1" flipV="1">
                    <a:off x="8225280" y="4335120"/>
                    <a:ext cx="108000" cy="13968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Straight Connector 472"/>
                  <p:cNvSpPr/>
                  <p:nvPr/>
                </p:nvSpPr>
                <p:spPr>
                  <a:xfrm flipV="1">
                    <a:off x="8333280" y="4335120"/>
                    <a:ext cx="126720" cy="13968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1" name="Isosceles Triangle 463"/>
              <p:cNvSpPr/>
              <p:nvPr/>
            </p:nvSpPr>
            <p:spPr>
              <a:xfrm rot="8103000">
                <a:off x="5886000" y="3617640"/>
                <a:ext cx="258480" cy="171360"/>
              </a:xfrm>
              <a:prstGeom prst="triangle">
                <a:avLst>
                  <a:gd name="adj" fmla="val 51394"/>
                </a:avLst>
              </a:prstGeom>
              <a:solidFill>
                <a:srgbClr val="0000cc"/>
              </a:solidFill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Arc 464"/>
              <p:cNvSpPr/>
              <p:nvPr/>
            </p:nvSpPr>
            <p:spPr>
              <a:xfrm>
                <a:off x="5338440" y="3685680"/>
                <a:ext cx="968400" cy="1211040"/>
              </a:xfrm>
              <a:custGeom>
                <a:avLst/>
                <a:gdLst/>
                <a:ahLst/>
                <a:rect l="l" t="t" r="r" b="b"/>
                <a:pathLst>
                  <a:path stroke="0" w="968301" h="1211500">
                    <a:moveTo>
                      <a:pt x="797725" y="144222"/>
                    </a:moveTo>
                    <a:cubicBezTo>
                      <a:pt x="905938" y="259314"/>
                      <a:pt x="968301" y="428051"/>
                      <a:pt x="968301" y="605750"/>
                    </a:cubicBezTo>
                    <a:lnTo>
                      <a:pt x="484151" y="605750"/>
                    </a:lnTo>
                    <a:lnTo>
                      <a:pt x="797725" y="144222"/>
                    </a:lnTo>
                    <a:close/>
                  </a:path>
                  <a:path fill="none" w="968301" h="1211500">
                    <a:moveTo>
                      <a:pt x="797725" y="144222"/>
                    </a:moveTo>
                    <a:cubicBezTo>
                      <a:pt x="905938" y="259314"/>
                      <a:pt x="968301" y="428051"/>
                      <a:pt x="968301" y="605750"/>
                    </a:cubicBezTo>
                  </a:path>
                </a:pathLst>
              </a:custGeom>
              <a:noFill/>
              <a:ln w="12600">
                <a:solidFill>
                  <a:srgbClr val="0000cc"/>
                </a:solidFill>
                <a:prstDash val="sysDash"/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TextBox 278"/>
              <p:cNvSpPr/>
              <p:nvPr/>
            </p:nvSpPr>
            <p:spPr>
              <a:xfrm>
                <a:off x="6657480" y="3967920"/>
                <a:ext cx="128700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Receptores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Group 282"/>
            <p:cNvGrpSpPr/>
            <p:nvPr/>
          </p:nvGrpSpPr>
          <p:grpSpPr>
            <a:xfrm>
              <a:off x="196200" y="3289320"/>
              <a:ext cx="4053240" cy="3363840"/>
              <a:chOff x="196200" y="3289320"/>
              <a:chExt cx="4053240" cy="3363840"/>
            </a:xfrm>
          </p:grpSpPr>
          <p:grpSp>
            <p:nvGrpSpPr>
              <p:cNvPr id="475" name="Group 143"/>
              <p:cNvGrpSpPr/>
              <p:nvPr/>
            </p:nvGrpSpPr>
            <p:grpSpPr>
              <a:xfrm>
                <a:off x="1450080" y="3289320"/>
                <a:ext cx="2799360" cy="903240"/>
                <a:chOff x="1450080" y="3289320"/>
                <a:chExt cx="2799360" cy="903240"/>
              </a:xfrm>
            </p:grpSpPr>
            <p:grpSp>
              <p:nvGrpSpPr>
                <p:cNvPr id="476" name="Group 71"/>
                <p:cNvGrpSpPr/>
                <p:nvPr/>
              </p:nvGrpSpPr>
              <p:grpSpPr>
                <a:xfrm>
                  <a:off x="2710800" y="3355200"/>
                  <a:ext cx="422280" cy="485280"/>
                  <a:chOff x="2710800" y="3355200"/>
                  <a:chExt cx="422280" cy="485280"/>
                </a:xfrm>
              </p:grpSpPr>
              <p:sp>
                <p:nvSpPr>
                  <p:cNvPr id="477" name="Freeform 14"/>
                  <p:cNvSpPr/>
                  <p:nvPr/>
                </p:nvSpPr>
                <p:spPr>
                  <a:xfrm rot="20095800">
                    <a:off x="2739600" y="3469680"/>
                    <a:ext cx="34740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Oval 15"/>
                  <p:cNvSpPr/>
                  <p:nvPr/>
                </p:nvSpPr>
                <p:spPr>
                  <a:xfrm rot="20095800">
                    <a:off x="2778480" y="3761280"/>
                    <a:ext cx="6696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Straight Connector 460"/>
                  <p:cNvSpPr/>
                  <p:nvPr/>
                </p:nvSpPr>
                <p:spPr>
                  <a:xfrm flipH="1" flipV="1">
                    <a:off x="3018600" y="3355200"/>
                    <a:ext cx="10800" cy="10080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Straight Connector 461"/>
                  <p:cNvSpPr/>
                  <p:nvPr/>
                </p:nvSpPr>
                <p:spPr>
                  <a:xfrm flipV="1">
                    <a:off x="3027960" y="3409920"/>
                    <a:ext cx="105120" cy="2844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" name="Group 82"/>
                <p:cNvGrpSpPr/>
                <p:nvPr/>
              </p:nvGrpSpPr>
              <p:grpSpPr>
                <a:xfrm>
                  <a:off x="2031840" y="3343680"/>
                  <a:ext cx="433080" cy="469440"/>
                  <a:chOff x="2031840" y="3343680"/>
                  <a:chExt cx="433080" cy="469440"/>
                </a:xfrm>
              </p:grpSpPr>
              <p:sp>
                <p:nvSpPr>
                  <p:cNvPr id="482" name="Freeform 14"/>
                  <p:cNvSpPr/>
                  <p:nvPr/>
                </p:nvSpPr>
                <p:spPr>
                  <a:xfrm rot="9598200">
                    <a:off x="2096640" y="3470760"/>
                    <a:ext cx="34164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Oval 15"/>
                  <p:cNvSpPr/>
                  <p:nvPr/>
                </p:nvSpPr>
                <p:spPr>
                  <a:xfrm rot="9598200">
                    <a:off x="2363760" y="3353760"/>
                    <a:ext cx="7020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Straight Connector 456"/>
                  <p:cNvSpPr/>
                  <p:nvPr/>
                </p:nvSpPr>
                <p:spPr>
                  <a:xfrm>
                    <a:off x="2140200" y="3709800"/>
                    <a:ext cx="360" cy="10332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Straight Connector 86"/>
                  <p:cNvSpPr/>
                  <p:nvPr/>
                </p:nvSpPr>
                <p:spPr>
                  <a:xfrm flipH="1">
                    <a:off x="2031840" y="3712320"/>
                    <a:ext cx="107640" cy="1980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Group 87"/>
                <p:cNvGrpSpPr/>
                <p:nvPr/>
              </p:nvGrpSpPr>
              <p:grpSpPr>
                <a:xfrm>
                  <a:off x="3578040" y="3333960"/>
                  <a:ext cx="495360" cy="414360"/>
                  <a:chOff x="3578040" y="3333960"/>
                  <a:chExt cx="495360" cy="414360"/>
                </a:xfrm>
              </p:grpSpPr>
              <p:sp>
                <p:nvSpPr>
                  <p:cNvPr id="487" name="Freeform 14"/>
                  <p:cNvSpPr/>
                  <p:nvPr/>
                </p:nvSpPr>
                <p:spPr>
                  <a:xfrm rot="14721600">
                    <a:off x="3675240" y="3447720"/>
                    <a:ext cx="32976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Oval 15"/>
                  <p:cNvSpPr/>
                  <p:nvPr/>
                </p:nvSpPr>
                <p:spPr>
                  <a:xfrm rot="14721600">
                    <a:off x="3994560" y="3633480"/>
                    <a:ext cx="66600" cy="698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Straight Connector 90"/>
                  <p:cNvSpPr/>
                  <p:nvPr/>
                </p:nvSpPr>
                <p:spPr>
                  <a:xfrm flipH="1">
                    <a:off x="3578040" y="3436560"/>
                    <a:ext cx="101520" cy="972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Straight Connector 91"/>
                  <p:cNvSpPr/>
                  <p:nvPr/>
                </p:nvSpPr>
                <p:spPr>
                  <a:xfrm flipH="1" flipV="1">
                    <a:off x="3664800" y="3333960"/>
                    <a:ext cx="25920" cy="10404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" name="Group 92"/>
                <p:cNvGrpSpPr/>
                <p:nvPr/>
              </p:nvGrpSpPr>
              <p:grpSpPr>
                <a:xfrm>
                  <a:off x="2206440" y="3852720"/>
                  <a:ext cx="546840" cy="337680"/>
                  <a:chOff x="2206440" y="3852720"/>
                  <a:chExt cx="546840" cy="337680"/>
                </a:xfrm>
              </p:grpSpPr>
              <p:sp>
                <p:nvSpPr>
                  <p:cNvPr id="492" name="Freeform 14"/>
                  <p:cNvSpPr/>
                  <p:nvPr/>
                </p:nvSpPr>
                <p:spPr>
                  <a:xfrm rot="12364200">
                    <a:off x="2307960" y="3916440"/>
                    <a:ext cx="34020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Oval 15"/>
                  <p:cNvSpPr/>
                  <p:nvPr/>
                </p:nvSpPr>
                <p:spPr>
                  <a:xfrm rot="12364200">
                    <a:off x="2670840" y="3954600"/>
                    <a:ext cx="70560" cy="698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Straight Connector 95"/>
                  <p:cNvSpPr/>
                  <p:nvPr/>
                </p:nvSpPr>
                <p:spPr>
                  <a:xfrm flipH="1">
                    <a:off x="2216160" y="3999600"/>
                    <a:ext cx="75240" cy="7020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Straight Connector 96"/>
                  <p:cNvSpPr/>
                  <p:nvPr/>
                </p:nvSpPr>
                <p:spPr>
                  <a:xfrm flipH="1" flipV="1">
                    <a:off x="2206440" y="3951720"/>
                    <a:ext cx="87840" cy="6408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Group 99"/>
                <p:cNvGrpSpPr/>
                <p:nvPr/>
              </p:nvGrpSpPr>
              <p:grpSpPr>
                <a:xfrm>
                  <a:off x="2939760" y="3698640"/>
                  <a:ext cx="357840" cy="337320"/>
                  <a:chOff x="2939760" y="3698640"/>
                  <a:chExt cx="357840" cy="337320"/>
                </a:xfrm>
              </p:grpSpPr>
              <p:sp>
                <p:nvSpPr>
                  <p:cNvPr id="497" name="Freeform 14"/>
                  <p:cNvSpPr/>
                  <p:nvPr/>
                </p:nvSpPr>
                <p:spPr>
                  <a:xfrm rot="10651200">
                    <a:off x="2943720" y="3819600"/>
                    <a:ext cx="335880" cy="20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Oval 15"/>
                  <p:cNvSpPr/>
                  <p:nvPr/>
                </p:nvSpPr>
                <p:spPr>
                  <a:xfrm rot="10651200">
                    <a:off x="3227400" y="3700080"/>
                    <a:ext cx="6876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Group 104"/>
                <p:cNvGrpSpPr/>
                <p:nvPr/>
              </p:nvGrpSpPr>
              <p:grpSpPr>
                <a:xfrm>
                  <a:off x="2349360" y="3402720"/>
                  <a:ext cx="360000" cy="475560"/>
                  <a:chOff x="2349360" y="3402720"/>
                  <a:chExt cx="360000" cy="475560"/>
                </a:xfrm>
              </p:grpSpPr>
              <p:sp>
                <p:nvSpPr>
                  <p:cNvPr id="500" name="Freeform 14"/>
                  <p:cNvSpPr/>
                  <p:nvPr/>
                </p:nvSpPr>
                <p:spPr>
                  <a:xfrm rot="18135600">
                    <a:off x="2360160" y="3495960"/>
                    <a:ext cx="338040" cy="21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Oval 15"/>
                  <p:cNvSpPr/>
                  <p:nvPr/>
                </p:nvSpPr>
                <p:spPr>
                  <a:xfrm rot="18135600">
                    <a:off x="2499840" y="3796200"/>
                    <a:ext cx="6984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Group 107"/>
                <p:cNvGrpSpPr/>
                <p:nvPr/>
              </p:nvGrpSpPr>
              <p:grpSpPr>
                <a:xfrm>
                  <a:off x="1730880" y="3574440"/>
                  <a:ext cx="361800" cy="478440"/>
                  <a:chOff x="1730880" y="3574440"/>
                  <a:chExt cx="361800" cy="478440"/>
                </a:xfrm>
              </p:grpSpPr>
              <p:sp>
                <p:nvSpPr>
                  <p:cNvPr id="503" name="Freeform 14"/>
                  <p:cNvSpPr/>
                  <p:nvPr/>
                </p:nvSpPr>
                <p:spPr>
                  <a:xfrm rot="18135600">
                    <a:off x="1740960" y="3669120"/>
                    <a:ext cx="341280" cy="21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Oval 15"/>
                  <p:cNvSpPr/>
                  <p:nvPr/>
                </p:nvSpPr>
                <p:spPr>
                  <a:xfrm rot="18135600">
                    <a:off x="1882080" y="3970800"/>
                    <a:ext cx="6984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Group 110"/>
                <p:cNvGrpSpPr/>
                <p:nvPr/>
              </p:nvGrpSpPr>
              <p:grpSpPr>
                <a:xfrm>
                  <a:off x="3185640" y="3353760"/>
                  <a:ext cx="317520" cy="383040"/>
                  <a:chOff x="3185640" y="3353760"/>
                  <a:chExt cx="317520" cy="383040"/>
                </a:xfrm>
              </p:grpSpPr>
              <p:sp>
                <p:nvSpPr>
                  <p:cNvPr id="506" name="Freeform 14"/>
                  <p:cNvSpPr/>
                  <p:nvPr/>
                </p:nvSpPr>
                <p:spPr>
                  <a:xfrm rot="5125200">
                    <a:off x="3222360" y="3460680"/>
                    <a:ext cx="323640" cy="21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Oval 15"/>
                  <p:cNvSpPr/>
                  <p:nvPr/>
                </p:nvSpPr>
                <p:spPr>
                  <a:xfrm rot="5125200">
                    <a:off x="3188880" y="3355200"/>
                    <a:ext cx="6588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Group 113"/>
                <p:cNvGrpSpPr/>
                <p:nvPr/>
              </p:nvGrpSpPr>
              <p:grpSpPr>
                <a:xfrm>
                  <a:off x="3471840" y="3566160"/>
                  <a:ext cx="360000" cy="475560"/>
                  <a:chOff x="3471840" y="3566160"/>
                  <a:chExt cx="360000" cy="475560"/>
                </a:xfrm>
              </p:grpSpPr>
              <p:sp>
                <p:nvSpPr>
                  <p:cNvPr id="509" name="Freeform 14"/>
                  <p:cNvSpPr/>
                  <p:nvPr/>
                </p:nvSpPr>
                <p:spPr>
                  <a:xfrm rot="18135600">
                    <a:off x="3482640" y="3659400"/>
                    <a:ext cx="338040" cy="21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Oval 15"/>
                  <p:cNvSpPr/>
                  <p:nvPr/>
                </p:nvSpPr>
                <p:spPr>
                  <a:xfrm rot="18135600">
                    <a:off x="3622320" y="3959640"/>
                    <a:ext cx="6984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Group 116"/>
                <p:cNvGrpSpPr/>
                <p:nvPr/>
              </p:nvGrpSpPr>
              <p:grpSpPr>
                <a:xfrm>
                  <a:off x="1762560" y="3311280"/>
                  <a:ext cx="397080" cy="310320"/>
                  <a:chOff x="1762560" y="3311280"/>
                  <a:chExt cx="397080" cy="310320"/>
                </a:xfrm>
              </p:grpSpPr>
              <p:sp>
                <p:nvSpPr>
                  <p:cNvPr id="512" name="Freeform 14"/>
                  <p:cNvSpPr/>
                  <p:nvPr/>
                </p:nvSpPr>
                <p:spPr>
                  <a:xfrm rot="21379800">
                    <a:off x="1768680" y="3323160"/>
                    <a:ext cx="38412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Oval 15"/>
                  <p:cNvSpPr/>
                  <p:nvPr/>
                </p:nvSpPr>
                <p:spPr>
                  <a:xfrm rot="21379800">
                    <a:off x="1789560" y="3550680"/>
                    <a:ext cx="7992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Group 133"/>
                <p:cNvGrpSpPr/>
                <p:nvPr/>
              </p:nvGrpSpPr>
              <p:grpSpPr>
                <a:xfrm>
                  <a:off x="1450080" y="3289320"/>
                  <a:ext cx="2784240" cy="903240"/>
                  <a:chOff x="1450080" y="3289320"/>
                  <a:chExt cx="2784240" cy="903240"/>
                </a:xfrm>
              </p:grpSpPr>
              <p:sp>
                <p:nvSpPr>
                  <p:cNvPr id="515" name="Straight Connector 429"/>
                  <p:cNvSpPr/>
                  <p:nvPr/>
                </p:nvSpPr>
                <p:spPr>
                  <a:xfrm>
                    <a:off x="1450080" y="3289320"/>
                    <a:ext cx="0" cy="4935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Arc 430"/>
                  <p:cNvSpPr/>
                  <p:nvPr/>
                </p:nvSpPr>
                <p:spPr>
                  <a:xfrm>
                    <a:off x="1450080" y="3368520"/>
                    <a:ext cx="823680" cy="82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915387" h="913874">
                        <a:moveTo>
                          <a:pt x="458213" y="913874"/>
                        </a:moveTo>
                        <a:cubicBezTo>
                          <a:pt x="336368" y="914012"/>
                          <a:pt x="219497" y="865641"/>
                          <a:pt x="133490" y="779475"/>
                        </a:cubicBezTo>
                        <a:cubicBezTo>
                          <a:pt x="47296" y="693123"/>
                          <a:pt x="-760" y="575964"/>
                          <a:pt x="9" y="454059"/>
                        </a:cubicBezTo>
                        <a:lnTo>
                          <a:pt x="457694" y="456937"/>
                        </a:lnTo>
                        <a:lnTo>
                          <a:pt x="458213" y="913874"/>
                        </a:lnTo>
                        <a:close/>
                      </a:path>
                      <a:path fill="none" w="915387" h="913874">
                        <a:moveTo>
                          <a:pt x="458213" y="913874"/>
                        </a:moveTo>
                        <a:cubicBezTo>
                          <a:pt x="336368" y="914012"/>
                          <a:pt x="219497" y="865641"/>
                          <a:pt x="133490" y="779475"/>
                        </a:cubicBezTo>
                        <a:cubicBezTo>
                          <a:pt x="47296" y="693123"/>
                          <a:pt x="-760" y="575964"/>
                          <a:pt x="9" y="454059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Straight Connector 431"/>
                  <p:cNvSpPr/>
                  <p:nvPr/>
                </p:nvSpPr>
                <p:spPr>
                  <a:xfrm>
                    <a:off x="4234320" y="3289320"/>
                    <a:ext cx="0" cy="4935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Straight Connector 432"/>
                  <p:cNvSpPr/>
                  <p:nvPr/>
                </p:nvSpPr>
                <p:spPr>
                  <a:xfrm>
                    <a:off x="1857960" y="4191120"/>
                    <a:ext cx="19764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Arc 433"/>
                  <p:cNvSpPr/>
                  <p:nvPr/>
                </p:nvSpPr>
                <p:spPr>
                  <a:xfrm>
                    <a:off x="3410640" y="3368520"/>
                    <a:ext cx="823680" cy="82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915388" h="915639">
                        <a:moveTo>
                          <a:pt x="915381" y="455250"/>
                        </a:moveTo>
                        <a:cubicBezTo>
                          <a:pt x="916065" y="577091"/>
                          <a:pt x="868165" y="694179"/>
                          <a:pt x="782287" y="780589"/>
                        </a:cubicBezTo>
                        <a:cubicBezTo>
                          <a:pt x="696378" y="867030"/>
                          <a:pt x="579556" y="915637"/>
                          <a:pt x="457703" y="915639"/>
                        </a:cubicBezTo>
                        <a:cubicBezTo>
                          <a:pt x="457700" y="763033"/>
                          <a:pt x="457697" y="610426"/>
                          <a:pt x="457694" y="457820"/>
                        </a:cubicBezTo>
                        <a:lnTo>
                          <a:pt x="915381" y="455250"/>
                        </a:lnTo>
                        <a:close/>
                      </a:path>
                      <a:path fill="none" w="915388" h="915639">
                        <a:moveTo>
                          <a:pt x="915381" y="455250"/>
                        </a:moveTo>
                        <a:cubicBezTo>
                          <a:pt x="916065" y="577091"/>
                          <a:pt x="868165" y="694179"/>
                          <a:pt x="782287" y="780589"/>
                        </a:cubicBezTo>
                        <a:cubicBezTo>
                          <a:pt x="696378" y="867030"/>
                          <a:pt x="579556" y="915637"/>
                          <a:pt x="457703" y="915639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Group 134"/>
                <p:cNvGrpSpPr/>
                <p:nvPr/>
              </p:nvGrpSpPr>
              <p:grpSpPr>
                <a:xfrm>
                  <a:off x="1499760" y="3384000"/>
                  <a:ext cx="277920" cy="439200"/>
                  <a:chOff x="1499760" y="3384000"/>
                  <a:chExt cx="277920" cy="439200"/>
                </a:xfrm>
              </p:grpSpPr>
              <p:sp>
                <p:nvSpPr>
                  <p:cNvPr id="521" name="Freeform 14"/>
                  <p:cNvSpPr/>
                  <p:nvPr/>
                </p:nvSpPr>
                <p:spPr>
                  <a:xfrm rot="6076200">
                    <a:off x="1456920" y="3518640"/>
                    <a:ext cx="36324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Oval 15"/>
                  <p:cNvSpPr/>
                  <p:nvPr/>
                </p:nvSpPr>
                <p:spPr>
                  <a:xfrm rot="6076200">
                    <a:off x="1515960" y="3393000"/>
                    <a:ext cx="7416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3" name="Group 137"/>
                <p:cNvGrpSpPr/>
                <p:nvPr/>
              </p:nvGrpSpPr>
              <p:grpSpPr>
                <a:xfrm>
                  <a:off x="3746880" y="3870360"/>
                  <a:ext cx="397080" cy="310320"/>
                  <a:chOff x="3746880" y="3870360"/>
                  <a:chExt cx="397080" cy="310320"/>
                </a:xfrm>
              </p:grpSpPr>
              <p:sp>
                <p:nvSpPr>
                  <p:cNvPr id="524" name="Freeform 14"/>
                  <p:cNvSpPr/>
                  <p:nvPr/>
                </p:nvSpPr>
                <p:spPr>
                  <a:xfrm rot="21379800">
                    <a:off x="3753000" y="3882240"/>
                    <a:ext cx="38412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Oval 15"/>
                  <p:cNvSpPr/>
                  <p:nvPr/>
                </p:nvSpPr>
                <p:spPr>
                  <a:xfrm rot="21379800">
                    <a:off x="3773880" y="4109760"/>
                    <a:ext cx="7992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" name="Group 140"/>
                <p:cNvGrpSpPr/>
                <p:nvPr/>
              </p:nvGrpSpPr>
              <p:grpSpPr>
                <a:xfrm>
                  <a:off x="3965760" y="3317400"/>
                  <a:ext cx="283680" cy="448920"/>
                  <a:chOff x="3965760" y="3317400"/>
                  <a:chExt cx="283680" cy="448920"/>
                </a:xfrm>
              </p:grpSpPr>
              <p:sp>
                <p:nvSpPr>
                  <p:cNvPr id="527" name="Freeform 14"/>
                  <p:cNvSpPr/>
                  <p:nvPr/>
                </p:nvSpPr>
                <p:spPr>
                  <a:xfrm rot="6076200">
                    <a:off x="3919320" y="3453480"/>
                    <a:ext cx="37620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Oval 15"/>
                  <p:cNvSpPr/>
                  <p:nvPr/>
                </p:nvSpPr>
                <p:spPr>
                  <a:xfrm rot="6076200">
                    <a:off x="4004640" y="3328200"/>
                    <a:ext cx="7848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9" name="Group 204"/>
              <p:cNvGrpSpPr/>
              <p:nvPr/>
            </p:nvGrpSpPr>
            <p:grpSpPr>
              <a:xfrm>
                <a:off x="1450080" y="4540320"/>
                <a:ext cx="2784240" cy="903240"/>
                <a:chOff x="1450080" y="4540320"/>
                <a:chExt cx="2784240" cy="903240"/>
              </a:xfrm>
            </p:grpSpPr>
            <p:sp>
              <p:nvSpPr>
                <p:cNvPr id="530" name="Rectangle 355"/>
                <p:cNvSpPr/>
                <p:nvPr/>
              </p:nvSpPr>
              <p:spPr>
                <a:xfrm>
                  <a:off x="1936800" y="5297760"/>
                  <a:ext cx="1811160" cy="82440"/>
                </a:xfrm>
                <a:prstGeom prst="rect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1" name="Group 71"/>
                <p:cNvGrpSpPr/>
                <p:nvPr/>
              </p:nvGrpSpPr>
              <p:grpSpPr>
                <a:xfrm>
                  <a:off x="2341440" y="4712040"/>
                  <a:ext cx="435600" cy="492840"/>
                  <a:chOff x="2341440" y="4712040"/>
                  <a:chExt cx="435600" cy="492840"/>
                </a:xfrm>
              </p:grpSpPr>
              <p:sp>
                <p:nvSpPr>
                  <p:cNvPr id="532" name="Freeform 14"/>
                  <p:cNvSpPr/>
                  <p:nvPr/>
                </p:nvSpPr>
                <p:spPr>
                  <a:xfrm rot="20095800">
                    <a:off x="2369880" y="4843080"/>
                    <a:ext cx="35856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Oval 15"/>
                  <p:cNvSpPr/>
                  <p:nvPr/>
                </p:nvSpPr>
                <p:spPr>
                  <a:xfrm rot="20095800">
                    <a:off x="2407680" y="5124960"/>
                    <a:ext cx="7056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Straight Connector 407"/>
                  <p:cNvSpPr/>
                  <p:nvPr/>
                </p:nvSpPr>
                <p:spPr>
                  <a:xfrm flipH="1" flipV="1">
                    <a:off x="2663280" y="4712040"/>
                    <a:ext cx="8280" cy="10440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Straight Connector 408"/>
                  <p:cNvSpPr/>
                  <p:nvPr/>
                </p:nvSpPr>
                <p:spPr>
                  <a:xfrm flipV="1">
                    <a:off x="2671560" y="4783320"/>
                    <a:ext cx="105480" cy="2916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6" name="Group 82"/>
                <p:cNvGrpSpPr/>
                <p:nvPr/>
              </p:nvGrpSpPr>
              <p:grpSpPr>
                <a:xfrm>
                  <a:off x="3141000" y="4568040"/>
                  <a:ext cx="432000" cy="470880"/>
                  <a:chOff x="3141000" y="4568040"/>
                  <a:chExt cx="432000" cy="470880"/>
                </a:xfrm>
              </p:grpSpPr>
              <p:sp>
                <p:nvSpPr>
                  <p:cNvPr id="537" name="Freeform 14"/>
                  <p:cNvSpPr/>
                  <p:nvPr/>
                </p:nvSpPr>
                <p:spPr>
                  <a:xfrm rot="9598200">
                    <a:off x="3243240" y="4760280"/>
                    <a:ext cx="31212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Oval 15"/>
                  <p:cNvSpPr/>
                  <p:nvPr/>
                </p:nvSpPr>
                <p:spPr>
                  <a:xfrm rot="9598200">
                    <a:off x="3469320" y="4577400"/>
                    <a:ext cx="64440" cy="50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Straight Connector 403"/>
                  <p:cNvSpPr/>
                  <p:nvPr/>
                </p:nvSpPr>
                <p:spPr>
                  <a:xfrm flipH="1">
                    <a:off x="3247200" y="4951440"/>
                    <a:ext cx="8640" cy="8748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Straight Connector 404"/>
                  <p:cNvSpPr/>
                  <p:nvPr/>
                </p:nvSpPr>
                <p:spPr>
                  <a:xfrm flipH="1">
                    <a:off x="3141000" y="4926600"/>
                    <a:ext cx="92880" cy="2952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1" name="Group 87"/>
                <p:cNvGrpSpPr/>
                <p:nvPr/>
              </p:nvGrpSpPr>
              <p:grpSpPr>
                <a:xfrm>
                  <a:off x="3682800" y="4687920"/>
                  <a:ext cx="406800" cy="476640"/>
                  <a:chOff x="3682800" y="4687920"/>
                  <a:chExt cx="406800" cy="476640"/>
                </a:xfrm>
              </p:grpSpPr>
              <p:sp>
                <p:nvSpPr>
                  <p:cNvPr id="542" name="Freeform 14"/>
                  <p:cNvSpPr/>
                  <p:nvPr/>
                </p:nvSpPr>
                <p:spPr>
                  <a:xfrm rot="15652200">
                    <a:off x="3727080" y="4860360"/>
                    <a:ext cx="366480" cy="21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Oval 15"/>
                  <p:cNvSpPr/>
                  <p:nvPr/>
                </p:nvSpPr>
                <p:spPr>
                  <a:xfrm rot="15652200">
                    <a:off x="4011840" y="5075640"/>
                    <a:ext cx="7560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Straight Connector 399"/>
                  <p:cNvSpPr/>
                  <p:nvPr/>
                </p:nvSpPr>
                <p:spPr>
                  <a:xfrm flipH="1" flipV="1">
                    <a:off x="3682800" y="4778280"/>
                    <a:ext cx="105480" cy="2376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Straight Connector 400"/>
                  <p:cNvSpPr/>
                  <p:nvPr/>
                </p:nvSpPr>
                <p:spPr>
                  <a:xfrm flipH="1" flipV="1">
                    <a:off x="3786120" y="4687920"/>
                    <a:ext cx="4320" cy="11520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6" name="Group 92"/>
                <p:cNvGrpSpPr/>
                <p:nvPr/>
              </p:nvGrpSpPr>
              <p:grpSpPr>
                <a:xfrm>
                  <a:off x="2135160" y="4762800"/>
                  <a:ext cx="366120" cy="540000"/>
                  <a:chOff x="2135160" y="4762800"/>
                  <a:chExt cx="366120" cy="540000"/>
                </a:xfrm>
              </p:grpSpPr>
              <p:sp>
                <p:nvSpPr>
                  <p:cNvPr id="547" name="Freeform 14"/>
                  <p:cNvSpPr/>
                  <p:nvPr/>
                </p:nvSpPr>
                <p:spPr>
                  <a:xfrm rot="18382200">
                    <a:off x="2139480" y="4917240"/>
                    <a:ext cx="357120" cy="19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Oval 15"/>
                  <p:cNvSpPr/>
                  <p:nvPr/>
                </p:nvSpPr>
                <p:spPr>
                  <a:xfrm rot="18382200">
                    <a:off x="2270520" y="5223960"/>
                    <a:ext cx="74160" cy="615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Straight Connector 395"/>
                  <p:cNvSpPr/>
                  <p:nvPr/>
                </p:nvSpPr>
                <p:spPr>
                  <a:xfrm flipH="1" flipV="1">
                    <a:off x="2329560" y="4762800"/>
                    <a:ext cx="50760" cy="9000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Straight Connector 396"/>
                  <p:cNvSpPr/>
                  <p:nvPr/>
                </p:nvSpPr>
                <p:spPr>
                  <a:xfrm flipV="1">
                    <a:off x="2379960" y="4771800"/>
                    <a:ext cx="72000" cy="7956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1" name="Group 99"/>
                <p:cNvGrpSpPr/>
                <p:nvPr/>
              </p:nvGrpSpPr>
              <p:grpSpPr>
                <a:xfrm>
                  <a:off x="2577240" y="4923000"/>
                  <a:ext cx="369000" cy="384120"/>
                  <a:chOff x="2577240" y="4923000"/>
                  <a:chExt cx="369000" cy="384120"/>
                </a:xfrm>
              </p:grpSpPr>
              <p:sp>
                <p:nvSpPr>
                  <p:cNvPr id="552" name="Freeform 14"/>
                  <p:cNvSpPr/>
                  <p:nvPr/>
                </p:nvSpPr>
                <p:spPr>
                  <a:xfrm rot="15164400">
                    <a:off x="2558880" y="5010120"/>
                    <a:ext cx="33696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Oval 15"/>
                  <p:cNvSpPr/>
                  <p:nvPr/>
                </p:nvSpPr>
                <p:spPr>
                  <a:xfrm rot="15164400">
                    <a:off x="2868840" y="5228640"/>
                    <a:ext cx="67680" cy="698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4" name="Group 104"/>
                <p:cNvGrpSpPr/>
                <p:nvPr/>
              </p:nvGrpSpPr>
              <p:grpSpPr>
                <a:xfrm>
                  <a:off x="2474280" y="4924080"/>
                  <a:ext cx="388440" cy="376200"/>
                  <a:chOff x="2474280" y="4924080"/>
                  <a:chExt cx="388440" cy="376200"/>
                </a:xfrm>
              </p:grpSpPr>
              <p:sp>
                <p:nvSpPr>
                  <p:cNvPr id="555" name="Freeform 14"/>
                  <p:cNvSpPr/>
                  <p:nvPr/>
                </p:nvSpPr>
                <p:spPr>
                  <a:xfrm rot="20487600">
                    <a:off x="2499480" y="4971960"/>
                    <a:ext cx="33768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Oval 15"/>
                  <p:cNvSpPr/>
                  <p:nvPr/>
                </p:nvSpPr>
                <p:spPr>
                  <a:xfrm rot="20487600">
                    <a:off x="2496600" y="5223240"/>
                    <a:ext cx="6624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7" name="Group 107"/>
                <p:cNvGrpSpPr/>
                <p:nvPr/>
              </p:nvGrpSpPr>
              <p:grpSpPr>
                <a:xfrm>
                  <a:off x="1939680" y="4908240"/>
                  <a:ext cx="419760" cy="393480"/>
                  <a:chOff x="1939680" y="4908240"/>
                  <a:chExt cx="419760" cy="393480"/>
                </a:xfrm>
              </p:grpSpPr>
              <p:sp>
                <p:nvSpPr>
                  <p:cNvPr id="558" name="Freeform 14"/>
                  <p:cNvSpPr/>
                  <p:nvPr/>
                </p:nvSpPr>
                <p:spPr>
                  <a:xfrm rot="20308200">
                    <a:off x="1965960" y="4968000"/>
                    <a:ext cx="36684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Oval 15"/>
                  <p:cNvSpPr/>
                  <p:nvPr/>
                </p:nvSpPr>
                <p:spPr>
                  <a:xfrm rot="20308200">
                    <a:off x="1997640" y="5222160"/>
                    <a:ext cx="7452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0" name="Group 110"/>
                <p:cNvGrpSpPr/>
                <p:nvPr/>
              </p:nvGrpSpPr>
              <p:grpSpPr>
                <a:xfrm>
                  <a:off x="2849040" y="4629960"/>
                  <a:ext cx="456480" cy="315000"/>
                  <a:chOff x="2849040" y="4629960"/>
                  <a:chExt cx="456480" cy="315000"/>
                </a:xfrm>
              </p:grpSpPr>
              <p:sp>
                <p:nvSpPr>
                  <p:cNvPr id="561" name="Freeform 14"/>
                  <p:cNvSpPr/>
                  <p:nvPr/>
                </p:nvSpPr>
                <p:spPr>
                  <a:xfrm rot="1147800">
                    <a:off x="2936520" y="4680000"/>
                    <a:ext cx="34344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Oval 15"/>
                  <p:cNvSpPr/>
                  <p:nvPr/>
                </p:nvSpPr>
                <p:spPr>
                  <a:xfrm rot="1147800">
                    <a:off x="2858040" y="4808160"/>
                    <a:ext cx="7272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Group 113"/>
                <p:cNvGrpSpPr/>
                <p:nvPr/>
              </p:nvGrpSpPr>
              <p:grpSpPr>
                <a:xfrm>
                  <a:off x="2922840" y="4916520"/>
                  <a:ext cx="318960" cy="387360"/>
                  <a:chOff x="2922840" y="4916520"/>
                  <a:chExt cx="318960" cy="387360"/>
                </a:xfrm>
              </p:grpSpPr>
              <p:sp>
                <p:nvSpPr>
                  <p:cNvPr id="564" name="Freeform 14"/>
                  <p:cNvSpPr/>
                  <p:nvPr/>
                </p:nvSpPr>
                <p:spPr>
                  <a:xfrm rot="15785400">
                    <a:off x="2881440" y="4988520"/>
                    <a:ext cx="333720" cy="21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Oval 15"/>
                  <p:cNvSpPr/>
                  <p:nvPr/>
                </p:nvSpPr>
                <p:spPr>
                  <a:xfrm rot="15785400">
                    <a:off x="3168000" y="5230440"/>
                    <a:ext cx="69120" cy="698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6" name="Group 116"/>
                <p:cNvGrpSpPr/>
                <p:nvPr/>
              </p:nvGrpSpPr>
              <p:grpSpPr>
                <a:xfrm>
                  <a:off x="1805400" y="4696200"/>
                  <a:ext cx="403920" cy="281880"/>
                  <a:chOff x="1805400" y="4696200"/>
                  <a:chExt cx="403920" cy="281880"/>
                </a:xfrm>
              </p:grpSpPr>
              <p:sp>
                <p:nvSpPr>
                  <p:cNvPr id="567" name="Freeform 14"/>
                  <p:cNvSpPr/>
                  <p:nvPr/>
                </p:nvSpPr>
                <p:spPr>
                  <a:xfrm rot="21379800">
                    <a:off x="1868760" y="4706280"/>
                    <a:ext cx="33372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Oval 15"/>
                  <p:cNvSpPr/>
                  <p:nvPr/>
                </p:nvSpPr>
                <p:spPr>
                  <a:xfrm rot="21379800">
                    <a:off x="1807200" y="4907520"/>
                    <a:ext cx="6588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Group 133"/>
                <p:cNvGrpSpPr/>
                <p:nvPr/>
              </p:nvGrpSpPr>
              <p:grpSpPr>
                <a:xfrm>
                  <a:off x="1450080" y="4540320"/>
                  <a:ext cx="2784240" cy="903240"/>
                  <a:chOff x="1450080" y="4540320"/>
                  <a:chExt cx="2784240" cy="903240"/>
                </a:xfrm>
              </p:grpSpPr>
              <p:sp>
                <p:nvSpPr>
                  <p:cNvPr id="570" name="Straight Connector 376"/>
                  <p:cNvSpPr/>
                  <p:nvPr/>
                </p:nvSpPr>
                <p:spPr>
                  <a:xfrm>
                    <a:off x="1450080" y="4540320"/>
                    <a:ext cx="0" cy="4935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Arc 377"/>
                  <p:cNvSpPr/>
                  <p:nvPr/>
                </p:nvSpPr>
                <p:spPr>
                  <a:xfrm>
                    <a:off x="1450080" y="4619520"/>
                    <a:ext cx="823680" cy="82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915388" h="913872">
                        <a:moveTo>
                          <a:pt x="458213" y="913872"/>
                        </a:moveTo>
                        <a:cubicBezTo>
                          <a:pt x="336368" y="914010"/>
                          <a:pt x="219497" y="865639"/>
                          <a:pt x="133490" y="779474"/>
                        </a:cubicBezTo>
                        <a:cubicBezTo>
                          <a:pt x="47296" y="693122"/>
                          <a:pt x="-761" y="575964"/>
                          <a:pt x="9" y="454058"/>
                        </a:cubicBezTo>
                        <a:lnTo>
                          <a:pt x="457694" y="456936"/>
                        </a:lnTo>
                        <a:lnTo>
                          <a:pt x="458213" y="913872"/>
                        </a:lnTo>
                        <a:close/>
                      </a:path>
                      <a:path fill="none" w="915388" h="913872">
                        <a:moveTo>
                          <a:pt x="458213" y="913872"/>
                        </a:moveTo>
                        <a:cubicBezTo>
                          <a:pt x="336368" y="914010"/>
                          <a:pt x="219497" y="865639"/>
                          <a:pt x="133490" y="779474"/>
                        </a:cubicBezTo>
                        <a:cubicBezTo>
                          <a:pt x="47296" y="693122"/>
                          <a:pt x="-761" y="575964"/>
                          <a:pt x="9" y="45405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Straight Connector 378"/>
                  <p:cNvSpPr/>
                  <p:nvPr/>
                </p:nvSpPr>
                <p:spPr>
                  <a:xfrm>
                    <a:off x="4234320" y="4540320"/>
                    <a:ext cx="0" cy="4935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Straight Connector 379"/>
                  <p:cNvSpPr/>
                  <p:nvPr/>
                </p:nvSpPr>
                <p:spPr>
                  <a:xfrm>
                    <a:off x="1857960" y="5442120"/>
                    <a:ext cx="19764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Arc 380"/>
                  <p:cNvSpPr/>
                  <p:nvPr/>
                </p:nvSpPr>
                <p:spPr>
                  <a:xfrm>
                    <a:off x="3410640" y="4619520"/>
                    <a:ext cx="823680" cy="82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915389" h="915637">
                        <a:moveTo>
                          <a:pt x="915382" y="455249"/>
                        </a:moveTo>
                        <a:cubicBezTo>
                          <a:pt x="916066" y="577090"/>
                          <a:pt x="868166" y="694178"/>
                          <a:pt x="782287" y="780588"/>
                        </a:cubicBezTo>
                        <a:cubicBezTo>
                          <a:pt x="696378" y="867029"/>
                          <a:pt x="579556" y="915635"/>
                          <a:pt x="457703" y="915637"/>
                        </a:cubicBezTo>
                        <a:cubicBezTo>
                          <a:pt x="457700" y="763031"/>
                          <a:pt x="457698" y="610425"/>
                          <a:pt x="457695" y="457819"/>
                        </a:cubicBezTo>
                        <a:lnTo>
                          <a:pt x="915382" y="455249"/>
                        </a:lnTo>
                        <a:close/>
                      </a:path>
                      <a:path fill="none" w="915389" h="915637">
                        <a:moveTo>
                          <a:pt x="915382" y="455249"/>
                        </a:moveTo>
                        <a:cubicBezTo>
                          <a:pt x="916066" y="577090"/>
                          <a:pt x="868166" y="694178"/>
                          <a:pt x="782287" y="780588"/>
                        </a:cubicBezTo>
                        <a:cubicBezTo>
                          <a:pt x="696378" y="867029"/>
                          <a:pt x="579556" y="915635"/>
                          <a:pt x="457703" y="915637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5" name="Group 134"/>
                <p:cNvGrpSpPr/>
                <p:nvPr/>
              </p:nvGrpSpPr>
              <p:grpSpPr>
                <a:xfrm>
                  <a:off x="1460520" y="4795200"/>
                  <a:ext cx="315360" cy="422640"/>
                  <a:chOff x="1460520" y="4795200"/>
                  <a:chExt cx="315360" cy="422640"/>
                </a:xfrm>
              </p:grpSpPr>
              <p:sp>
                <p:nvSpPr>
                  <p:cNvPr id="576" name="Freeform 14"/>
                  <p:cNvSpPr/>
                  <p:nvPr/>
                </p:nvSpPr>
                <p:spPr>
                  <a:xfrm rot="6076200">
                    <a:off x="1477440" y="4931280"/>
                    <a:ext cx="324720" cy="21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Oval 15"/>
                  <p:cNvSpPr/>
                  <p:nvPr/>
                </p:nvSpPr>
                <p:spPr>
                  <a:xfrm rot="6076200">
                    <a:off x="1464840" y="4802760"/>
                    <a:ext cx="7164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8" name="Group 137"/>
                <p:cNvGrpSpPr/>
                <p:nvPr/>
              </p:nvGrpSpPr>
              <p:grpSpPr>
                <a:xfrm>
                  <a:off x="3404880" y="5016240"/>
                  <a:ext cx="394200" cy="286560"/>
                  <a:chOff x="3404880" y="5016240"/>
                  <a:chExt cx="394200" cy="286560"/>
                </a:xfrm>
              </p:grpSpPr>
              <p:sp>
                <p:nvSpPr>
                  <p:cNvPr id="579" name="Freeform 14"/>
                  <p:cNvSpPr/>
                  <p:nvPr/>
                </p:nvSpPr>
                <p:spPr>
                  <a:xfrm rot="21379800">
                    <a:off x="3444120" y="5027040"/>
                    <a:ext cx="3481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Oval 15"/>
                  <p:cNvSpPr/>
                  <p:nvPr/>
                </p:nvSpPr>
                <p:spPr>
                  <a:xfrm rot="21379800">
                    <a:off x="3407040" y="5230440"/>
                    <a:ext cx="71280" cy="698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" name="Group 140"/>
                <p:cNvGrpSpPr/>
                <p:nvPr/>
              </p:nvGrpSpPr>
              <p:grpSpPr>
                <a:xfrm>
                  <a:off x="3762360" y="4597560"/>
                  <a:ext cx="375120" cy="349200"/>
                  <a:chOff x="3762360" y="4597560"/>
                  <a:chExt cx="375120" cy="349200"/>
                </a:xfrm>
              </p:grpSpPr>
              <p:sp>
                <p:nvSpPr>
                  <p:cNvPr id="582" name="Freeform 14"/>
                  <p:cNvSpPr/>
                  <p:nvPr/>
                </p:nvSpPr>
                <p:spPr>
                  <a:xfrm rot="4843800">
                    <a:off x="3847680" y="4665960"/>
                    <a:ext cx="318240" cy="21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Oval 15"/>
                  <p:cNvSpPr/>
                  <p:nvPr/>
                </p:nvSpPr>
                <p:spPr>
                  <a:xfrm rot="4843800">
                    <a:off x="3768120" y="4601520"/>
                    <a:ext cx="6624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4" name="Group 274"/>
              <p:cNvGrpSpPr/>
              <p:nvPr/>
            </p:nvGrpSpPr>
            <p:grpSpPr>
              <a:xfrm>
                <a:off x="1450080" y="5749920"/>
                <a:ext cx="2784240" cy="903240"/>
                <a:chOff x="1450080" y="5749920"/>
                <a:chExt cx="2784240" cy="903240"/>
              </a:xfrm>
            </p:grpSpPr>
            <p:grpSp>
              <p:nvGrpSpPr>
                <p:cNvPr id="585" name="Group 133"/>
                <p:cNvGrpSpPr/>
                <p:nvPr/>
              </p:nvGrpSpPr>
              <p:grpSpPr>
                <a:xfrm>
                  <a:off x="1450080" y="5749920"/>
                  <a:ext cx="2784240" cy="903240"/>
                  <a:chOff x="1450080" y="5749920"/>
                  <a:chExt cx="2784240" cy="903240"/>
                </a:xfrm>
              </p:grpSpPr>
              <p:sp>
                <p:nvSpPr>
                  <p:cNvPr id="586" name="Straight Connector 350"/>
                  <p:cNvSpPr/>
                  <p:nvPr/>
                </p:nvSpPr>
                <p:spPr>
                  <a:xfrm>
                    <a:off x="1450080" y="5749920"/>
                    <a:ext cx="0" cy="4935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Arc 351"/>
                  <p:cNvSpPr/>
                  <p:nvPr/>
                </p:nvSpPr>
                <p:spPr>
                  <a:xfrm>
                    <a:off x="1450080" y="5829120"/>
                    <a:ext cx="823680" cy="82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915388" h="913872">
                        <a:moveTo>
                          <a:pt x="458213" y="913872"/>
                        </a:moveTo>
                        <a:cubicBezTo>
                          <a:pt x="336368" y="914010"/>
                          <a:pt x="219497" y="865639"/>
                          <a:pt x="133490" y="779474"/>
                        </a:cubicBezTo>
                        <a:cubicBezTo>
                          <a:pt x="47296" y="693122"/>
                          <a:pt x="-761" y="575964"/>
                          <a:pt x="9" y="454058"/>
                        </a:cubicBezTo>
                        <a:lnTo>
                          <a:pt x="457694" y="456936"/>
                        </a:lnTo>
                        <a:lnTo>
                          <a:pt x="458213" y="913872"/>
                        </a:lnTo>
                        <a:close/>
                      </a:path>
                      <a:path fill="none" w="915388" h="913872">
                        <a:moveTo>
                          <a:pt x="458213" y="913872"/>
                        </a:moveTo>
                        <a:cubicBezTo>
                          <a:pt x="336368" y="914010"/>
                          <a:pt x="219497" y="865639"/>
                          <a:pt x="133490" y="779474"/>
                        </a:cubicBezTo>
                        <a:cubicBezTo>
                          <a:pt x="47296" y="693122"/>
                          <a:pt x="-761" y="575964"/>
                          <a:pt x="9" y="45405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Straight Connector 352"/>
                  <p:cNvSpPr/>
                  <p:nvPr/>
                </p:nvSpPr>
                <p:spPr>
                  <a:xfrm>
                    <a:off x="4234320" y="5749920"/>
                    <a:ext cx="0" cy="4935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Straight Connector 353"/>
                  <p:cNvSpPr/>
                  <p:nvPr/>
                </p:nvSpPr>
                <p:spPr>
                  <a:xfrm>
                    <a:off x="1857960" y="6651720"/>
                    <a:ext cx="19764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Arc 354"/>
                  <p:cNvSpPr/>
                  <p:nvPr/>
                </p:nvSpPr>
                <p:spPr>
                  <a:xfrm>
                    <a:off x="3410640" y="5829120"/>
                    <a:ext cx="823680" cy="82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915389" h="915637">
                        <a:moveTo>
                          <a:pt x="915382" y="455249"/>
                        </a:moveTo>
                        <a:cubicBezTo>
                          <a:pt x="916066" y="577090"/>
                          <a:pt x="868166" y="694178"/>
                          <a:pt x="782287" y="780588"/>
                        </a:cubicBezTo>
                        <a:cubicBezTo>
                          <a:pt x="696378" y="867029"/>
                          <a:pt x="579556" y="915635"/>
                          <a:pt x="457703" y="915637"/>
                        </a:cubicBezTo>
                        <a:cubicBezTo>
                          <a:pt x="457700" y="763031"/>
                          <a:pt x="457698" y="610425"/>
                          <a:pt x="457695" y="457819"/>
                        </a:cubicBezTo>
                        <a:lnTo>
                          <a:pt x="915382" y="455249"/>
                        </a:lnTo>
                        <a:close/>
                      </a:path>
                      <a:path fill="none" w="915389" h="915637">
                        <a:moveTo>
                          <a:pt x="915382" y="455249"/>
                        </a:moveTo>
                        <a:cubicBezTo>
                          <a:pt x="916066" y="577090"/>
                          <a:pt x="868166" y="694178"/>
                          <a:pt x="782287" y="780588"/>
                        </a:cubicBezTo>
                        <a:cubicBezTo>
                          <a:pt x="696378" y="867029"/>
                          <a:pt x="579556" y="915635"/>
                          <a:pt x="457703" y="915637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Group 205"/>
                <p:cNvGrpSpPr/>
                <p:nvPr/>
              </p:nvGrpSpPr>
              <p:grpSpPr>
                <a:xfrm>
                  <a:off x="1766160" y="5943240"/>
                  <a:ext cx="2153520" cy="636840"/>
                  <a:chOff x="1766160" y="5943240"/>
                  <a:chExt cx="2153520" cy="636840"/>
                </a:xfrm>
              </p:grpSpPr>
              <p:grpSp>
                <p:nvGrpSpPr>
                  <p:cNvPr id="592" name="Group 59"/>
                  <p:cNvGrpSpPr/>
                  <p:nvPr/>
                </p:nvGrpSpPr>
                <p:grpSpPr>
                  <a:xfrm>
                    <a:off x="1766160" y="6016320"/>
                    <a:ext cx="2153520" cy="563760"/>
                    <a:chOff x="1766160" y="6016320"/>
                    <a:chExt cx="2153520" cy="563760"/>
                  </a:xfrm>
                </p:grpSpPr>
                <p:sp>
                  <p:nvSpPr>
                    <p:cNvPr id="593" name="Rectangle 298"/>
                    <p:cNvSpPr/>
                    <p:nvPr/>
                  </p:nvSpPr>
                  <p:spPr>
                    <a:xfrm>
                      <a:off x="1923840" y="6497640"/>
                      <a:ext cx="1811520" cy="82440"/>
                    </a:xfrm>
                    <a:prstGeom prst="rect">
                      <a:avLst/>
                    </a:prstGeom>
                    <a:solidFill>
                      <a:srgbClr val="ffc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94" name="Group 7"/>
                    <p:cNvGrpSpPr/>
                    <p:nvPr/>
                  </p:nvGrpSpPr>
                  <p:grpSpPr>
                    <a:xfrm>
                      <a:off x="1871280" y="6023160"/>
                      <a:ext cx="366480" cy="484560"/>
                      <a:chOff x="1871280" y="6023160"/>
                      <a:chExt cx="366480" cy="484560"/>
                    </a:xfrm>
                  </p:grpSpPr>
                  <p:sp>
                    <p:nvSpPr>
                      <p:cNvPr id="595" name="Freeform 8"/>
                      <p:cNvSpPr/>
                      <p:nvPr/>
                    </p:nvSpPr>
                    <p:spPr>
                      <a:xfrm rot="18135600">
                        <a:off x="1881720" y="6118560"/>
                        <a:ext cx="345240" cy="21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6" name="Oval 9"/>
                      <p:cNvSpPr/>
                      <p:nvPr/>
                    </p:nvSpPr>
                    <p:spPr>
                      <a:xfrm rot="18135600">
                        <a:off x="2028600" y="6422040"/>
                        <a:ext cx="72720" cy="7164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" bIns="3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7" name="Group 10"/>
                    <p:cNvGrpSpPr/>
                    <p:nvPr/>
                  </p:nvGrpSpPr>
                  <p:grpSpPr>
                    <a:xfrm>
                      <a:off x="1766160" y="6023160"/>
                      <a:ext cx="372600" cy="486720"/>
                      <a:chOff x="1766160" y="6023160"/>
                      <a:chExt cx="372600" cy="486720"/>
                    </a:xfrm>
                  </p:grpSpPr>
                  <p:sp>
                    <p:nvSpPr>
                      <p:cNvPr id="598" name="Freeform 11"/>
                      <p:cNvSpPr/>
                      <p:nvPr/>
                    </p:nvSpPr>
                    <p:spPr>
                      <a:xfrm rot="18135600">
                        <a:off x="1778760" y="6118200"/>
                        <a:ext cx="347040" cy="22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9" name="Oval 12"/>
                      <p:cNvSpPr/>
                      <p:nvPr/>
                    </p:nvSpPr>
                    <p:spPr>
                      <a:xfrm rot="18135600">
                        <a:off x="1926000" y="6422040"/>
                        <a:ext cx="72720" cy="7416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760" bIns="57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0" name="Group 13"/>
                    <p:cNvGrpSpPr/>
                    <p:nvPr/>
                  </p:nvGrpSpPr>
                  <p:grpSpPr>
                    <a:xfrm>
                      <a:off x="1980360" y="6024960"/>
                      <a:ext cx="408240" cy="484560"/>
                      <a:chOff x="1980360" y="6024960"/>
                      <a:chExt cx="408240" cy="484560"/>
                    </a:xfrm>
                  </p:grpSpPr>
                  <p:sp>
                    <p:nvSpPr>
                      <p:cNvPr id="601" name="Freeform 14"/>
                      <p:cNvSpPr/>
                      <p:nvPr/>
                    </p:nvSpPr>
                    <p:spPr>
                      <a:xfrm rot="18135600">
                        <a:off x="2004840" y="6116400"/>
                        <a:ext cx="358560" cy="25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2" name="Oval 15"/>
                      <p:cNvSpPr/>
                      <p:nvPr/>
                    </p:nvSpPr>
                    <p:spPr>
                      <a:xfrm rot="18135600">
                        <a:off x="2134080" y="6416280"/>
                        <a:ext cx="74520" cy="8028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3" name="Group 16"/>
                    <p:cNvGrpSpPr/>
                    <p:nvPr/>
                  </p:nvGrpSpPr>
                  <p:grpSpPr>
                    <a:xfrm>
                      <a:off x="2100240" y="6024960"/>
                      <a:ext cx="358560" cy="487440"/>
                      <a:chOff x="2100240" y="6024960"/>
                      <a:chExt cx="358560" cy="487440"/>
                    </a:xfrm>
                  </p:grpSpPr>
                  <p:sp>
                    <p:nvSpPr>
                      <p:cNvPr id="604" name="Freeform 17"/>
                      <p:cNvSpPr/>
                      <p:nvPr/>
                    </p:nvSpPr>
                    <p:spPr>
                      <a:xfrm rot="18135600">
                        <a:off x="2112120" y="6116760"/>
                        <a:ext cx="334800" cy="212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5" name="Oval 18"/>
                      <p:cNvSpPr/>
                      <p:nvPr/>
                    </p:nvSpPr>
                    <p:spPr>
                      <a:xfrm rot="18135600">
                        <a:off x="2250720" y="6431760"/>
                        <a:ext cx="68040" cy="6732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80" bIns="10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6" name="Group 19"/>
                    <p:cNvGrpSpPr/>
                    <p:nvPr/>
                  </p:nvGrpSpPr>
                  <p:grpSpPr>
                    <a:xfrm>
                      <a:off x="2208960" y="6026040"/>
                      <a:ext cx="371160" cy="481680"/>
                      <a:chOff x="2208960" y="6026040"/>
                      <a:chExt cx="371160" cy="481680"/>
                    </a:xfrm>
                  </p:grpSpPr>
                  <p:sp>
                    <p:nvSpPr>
                      <p:cNvPr id="607" name="Freeform 20"/>
                      <p:cNvSpPr/>
                      <p:nvPr/>
                    </p:nvSpPr>
                    <p:spPr>
                      <a:xfrm rot="18135600">
                        <a:off x="2226960" y="6114600"/>
                        <a:ext cx="335160" cy="227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8" name="Oval 341"/>
                      <p:cNvSpPr/>
                      <p:nvPr/>
                    </p:nvSpPr>
                    <p:spPr>
                      <a:xfrm rot="18135600">
                        <a:off x="2360520" y="6419520"/>
                        <a:ext cx="70920" cy="7560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9" name="Group 22"/>
                    <p:cNvGrpSpPr/>
                    <p:nvPr/>
                  </p:nvGrpSpPr>
                  <p:grpSpPr>
                    <a:xfrm>
                      <a:off x="2970360" y="6022800"/>
                      <a:ext cx="375120" cy="488160"/>
                      <a:chOff x="2970360" y="6022800"/>
                      <a:chExt cx="375120" cy="488160"/>
                    </a:xfrm>
                  </p:grpSpPr>
                  <p:sp>
                    <p:nvSpPr>
                      <p:cNvPr id="610" name="Freeform 338"/>
                      <p:cNvSpPr/>
                      <p:nvPr/>
                    </p:nvSpPr>
                    <p:spPr>
                      <a:xfrm rot="18135600">
                        <a:off x="2982240" y="6118920"/>
                        <a:ext cx="351000" cy="222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1" name="Oval 339"/>
                      <p:cNvSpPr/>
                      <p:nvPr/>
                    </p:nvSpPr>
                    <p:spPr>
                      <a:xfrm rot="18135600">
                        <a:off x="3125160" y="6419880"/>
                        <a:ext cx="73800" cy="7776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2" name="Group 25"/>
                    <p:cNvGrpSpPr/>
                    <p:nvPr/>
                  </p:nvGrpSpPr>
                  <p:grpSpPr>
                    <a:xfrm>
                      <a:off x="2418120" y="6022440"/>
                      <a:ext cx="374040" cy="481320"/>
                      <a:chOff x="2418120" y="6022440"/>
                      <a:chExt cx="374040" cy="481320"/>
                    </a:xfrm>
                  </p:grpSpPr>
                  <p:sp>
                    <p:nvSpPr>
                      <p:cNvPr id="613" name="Freeform 336"/>
                      <p:cNvSpPr/>
                      <p:nvPr/>
                    </p:nvSpPr>
                    <p:spPr>
                      <a:xfrm rot="18135600">
                        <a:off x="2426400" y="6122520"/>
                        <a:ext cx="357120" cy="217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4" name="Oval 337"/>
                      <p:cNvSpPr/>
                      <p:nvPr/>
                    </p:nvSpPr>
                    <p:spPr>
                      <a:xfrm rot="18135600">
                        <a:off x="2576520" y="6418800"/>
                        <a:ext cx="69840" cy="7236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" bIns="46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5" name="Group 28"/>
                    <p:cNvGrpSpPr/>
                    <p:nvPr/>
                  </p:nvGrpSpPr>
                  <p:grpSpPr>
                    <a:xfrm>
                      <a:off x="2534400" y="6020640"/>
                      <a:ext cx="379800" cy="482760"/>
                      <a:chOff x="2534400" y="6020640"/>
                      <a:chExt cx="379800" cy="482760"/>
                    </a:xfrm>
                  </p:grpSpPr>
                  <p:sp>
                    <p:nvSpPr>
                      <p:cNvPr id="616" name="Freeform 334"/>
                      <p:cNvSpPr/>
                      <p:nvPr/>
                    </p:nvSpPr>
                    <p:spPr>
                      <a:xfrm rot="18135600">
                        <a:off x="2551680" y="6112080"/>
                        <a:ext cx="344520" cy="23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7" name="Oval 335"/>
                      <p:cNvSpPr/>
                      <p:nvPr/>
                    </p:nvSpPr>
                    <p:spPr>
                      <a:xfrm rot="18135600">
                        <a:off x="2687760" y="6418080"/>
                        <a:ext cx="78120" cy="6804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8" name="Group 31"/>
                    <p:cNvGrpSpPr/>
                    <p:nvPr/>
                  </p:nvGrpSpPr>
                  <p:grpSpPr>
                    <a:xfrm>
                      <a:off x="2647800" y="6021360"/>
                      <a:ext cx="378000" cy="486720"/>
                      <a:chOff x="2647800" y="6021360"/>
                      <a:chExt cx="378000" cy="486720"/>
                    </a:xfrm>
                  </p:grpSpPr>
                  <p:sp>
                    <p:nvSpPr>
                      <p:cNvPr id="619" name="Freeform 332"/>
                      <p:cNvSpPr/>
                      <p:nvPr/>
                    </p:nvSpPr>
                    <p:spPr>
                      <a:xfrm rot="18135600">
                        <a:off x="2668320" y="6108840"/>
                        <a:ext cx="336600" cy="234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0" name="Oval 333"/>
                      <p:cNvSpPr/>
                      <p:nvPr/>
                    </p:nvSpPr>
                    <p:spPr>
                      <a:xfrm rot="18135600">
                        <a:off x="2793960" y="6416640"/>
                        <a:ext cx="69120" cy="8064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800" bIns="10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1" name="Group 34"/>
                    <p:cNvGrpSpPr/>
                    <p:nvPr/>
                  </p:nvGrpSpPr>
                  <p:grpSpPr>
                    <a:xfrm>
                      <a:off x="2748960" y="6024960"/>
                      <a:ext cx="408240" cy="484560"/>
                      <a:chOff x="2748960" y="6024960"/>
                      <a:chExt cx="408240" cy="484560"/>
                    </a:xfrm>
                  </p:grpSpPr>
                  <p:sp>
                    <p:nvSpPr>
                      <p:cNvPr id="622" name="Freeform 330"/>
                      <p:cNvSpPr/>
                      <p:nvPr/>
                    </p:nvSpPr>
                    <p:spPr>
                      <a:xfrm rot="18135600">
                        <a:off x="2773440" y="6116400"/>
                        <a:ext cx="358560" cy="25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3" name="Oval 331"/>
                      <p:cNvSpPr/>
                      <p:nvPr/>
                    </p:nvSpPr>
                    <p:spPr>
                      <a:xfrm rot="18135600">
                        <a:off x="2902680" y="6416280"/>
                        <a:ext cx="74520" cy="8028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4" name="Group 37"/>
                    <p:cNvGrpSpPr/>
                    <p:nvPr/>
                  </p:nvGrpSpPr>
                  <p:grpSpPr>
                    <a:xfrm>
                      <a:off x="2864520" y="6018120"/>
                      <a:ext cx="361440" cy="494280"/>
                      <a:chOff x="2864520" y="6018120"/>
                      <a:chExt cx="361440" cy="494280"/>
                    </a:xfrm>
                  </p:grpSpPr>
                  <p:sp>
                    <p:nvSpPr>
                      <p:cNvPr id="625" name="Freeform 328"/>
                      <p:cNvSpPr/>
                      <p:nvPr/>
                    </p:nvSpPr>
                    <p:spPr>
                      <a:xfrm rot="18135600">
                        <a:off x="2873160" y="6114600"/>
                        <a:ext cx="343800" cy="21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6" name="Oval 329"/>
                      <p:cNvSpPr/>
                      <p:nvPr/>
                    </p:nvSpPr>
                    <p:spPr>
                      <a:xfrm rot="18135600">
                        <a:off x="3021480" y="6430320"/>
                        <a:ext cx="70920" cy="6768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" bIns="14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7" name="Group 310"/>
                    <p:cNvGrpSpPr/>
                    <p:nvPr/>
                  </p:nvGrpSpPr>
                  <p:grpSpPr>
                    <a:xfrm>
                      <a:off x="3298320" y="6020640"/>
                      <a:ext cx="367920" cy="492120"/>
                      <a:chOff x="3298320" y="6020640"/>
                      <a:chExt cx="367920" cy="492120"/>
                    </a:xfrm>
                  </p:grpSpPr>
                  <p:sp>
                    <p:nvSpPr>
                      <p:cNvPr id="628" name="Freeform 326"/>
                      <p:cNvSpPr/>
                      <p:nvPr/>
                    </p:nvSpPr>
                    <p:spPr>
                      <a:xfrm rot="18135600">
                        <a:off x="3304800" y="6121080"/>
                        <a:ext cx="354240" cy="211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9" name="Oval 327"/>
                      <p:cNvSpPr/>
                      <p:nvPr/>
                    </p:nvSpPr>
                    <p:spPr>
                      <a:xfrm rot="18135600">
                        <a:off x="3461040" y="6430680"/>
                        <a:ext cx="71640" cy="6768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" bIns="14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30" name="Group 43"/>
                    <p:cNvGrpSpPr/>
                    <p:nvPr/>
                  </p:nvGrpSpPr>
                  <p:grpSpPr>
                    <a:xfrm>
                      <a:off x="3192480" y="6024600"/>
                      <a:ext cx="380520" cy="479520"/>
                      <a:chOff x="3192480" y="6024600"/>
                      <a:chExt cx="380520" cy="479520"/>
                    </a:xfrm>
                  </p:grpSpPr>
                  <p:sp>
                    <p:nvSpPr>
                      <p:cNvPr id="631" name="Freeform 324"/>
                      <p:cNvSpPr/>
                      <p:nvPr/>
                    </p:nvSpPr>
                    <p:spPr>
                      <a:xfrm rot="18135600">
                        <a:off x="3210120" y="6116400"/>
                        <a:ext cx="345240" cy="23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2" name="Oval 325"/>
                      <p:cNvSpPr/>
                      <p:nvPr/>
                    </p:nvSpPr>
                    <p:spPr>
                      <a:xfrm rot="18135600">
                        <a:off x="3346200" y="6414840"/>
                        <a:ext cx="74520" cy="7488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480" bIns="64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33" name="Group 46"/>
                    <p:cNvGrpSpPr/>
                    <p:nvPr/>
                  </p:nvGrpSpPr>
                  <p:grpSpPr>
                    <a:xfrm>
                      <a:off x="2297160" y="6023160"/>
                      <a:ext cx="397440" cy="491040"/>
                      <a:chOff x="2297160" y="6023160"/>
                      <a:chExt cx="397440" cy="491040"/>
                    </a:xfrm>
                  </p:grpSpPr>
                  <p:sp>
                    <p:nvSpPr>
                      <p:cNvPr id="634" name="Freeform 322"/>
                      <p:cNvSpPr/>
                      <p:nvPr/>
                    </p:nvSpPr>
                    <p:spPr>
                      <a:xfrm rot="18135600">
                        <a:off x="2309760" y="6125400"/>
                        <a:ext cx="372240" cy="23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5" name="Oval 323"/>
                      <p:cNvSpPr/>
                      <p:nvPr/>
                    </p:nvSpPr>
                    <p:spPr>
                      <a:xfrm rot="18135600">
                        <a:off x="2465280" y="6419880"/>
                        <a:ext cx="78480" cy="7992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080" bIns="100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36" name="Group 49"/>
                    <p:cNvGrpSpPr/>
                    <p:nvPr/>
                  </p:nvGrpSpPr>
                  <p:grpSpPr>
                    <a:xfrm>
                      <a:off x="3085920" y="6016320"/>
                      <a:ext cx="370800" cy="494280"/>
                      <a:chOff x="3085920" y="6016320"/>
                      <a:chExt cx="370800" cy="494280"/>
                    </a:xfrm>
                  </p:grpSpPr>
                  <p:sp>
                    <p:nvSpPr>
                      <p:cNvPr id="637" name="Freeform 32"/>
                      <p:cNvSpPr/>
                      <p:nvPr/>
                    </p:nvSpPr>
                    <p:spPr>
                      <a:xfrm rot="18135600">
                        <a:off x="3099240" y="6109920"/>
                        <a:ext cx="343800" cy="22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8" name="Oval 321"/>
                      <p:cNvSpPr/>
                      <p:nvPr/>
                    </p:nvSpPr>
                    <p:spPr>
                      <a:xfrm rot="18135600">
                        <a:off x="3238200" y="6423120"/>
                        <a:ext cx="72720" cy="7380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39" name="Group 52"/>
                    <p:cNvGrpSpPr/>
                    <p:nvPr/>
                  </p:nvGrpSpPr>
                  <p:grpSpPr>
                    <a:xfrm>
                      <a:off x="3422520" y="6020280"/>
                      <a:ext cx="348840" cy="487080"/>
                      <a:chOff x="3422520" y="6020280"/>
                      <a:chExt cx="348840" cy="487080"/>
                    </a:xfrm>
                  </p:grpSpPr>
                  <p:sp>
                    <p:nvSpPr>
                      <p:cNvPr id="640" name="Freeform 30"/>
                      <p:cNvSpPr/>
                      <p:nvPr/>
                    </p:nvSpPr>
                    <p:spPr>
                      <a:xfrm rot="18135600">
                        <a:off x="3434040" y="6109200"/>
                        <a:ext cx="325440" cy="20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1" name="Oval 31"/>
                      <p:cNvSpPr/>
                      <p:nvPr/>
                    </p:nvSpPr>
                    <p:spPr>
                      <a:xfrm rot="18135600">
                        <a:off x="3567600" y="6428160"/>
                        <a:ext cx="69840" cy="6480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42" name="Group 55"/>
                    <p:cNvGrpSpPr/>
                    <p:nvPr/>
                  </p:nvGrpSpPr>
                  <p:grpSpPr>
                    <a:xfrm>
                      <a:off x="3503520" y="6019920"/>
                      <a:ext cx="416160" cy="491760"/>
                      <a:chOff x="3503520" y="6019920"/>
                      <a:chExt cx="416160" cy="491760"/>
                    </a:xfrm>
                  </p:grpSpPr>
                  <p:sp>
                    <p:nvSpPr>
                      <p:cNvPr id="643" name="Freeform 28"/>
                      <p:cNvSpPr/>
                      <p:nvPr/>
                    </p:nvSpPr>
                    <p:spPr>
                      <a:xfrm rot="18135600">
                        <a:off x="3519720" y="6123600"/>
                        <a:ext cx="383040" cy="250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4" name="Oval 29"/>
                      <p:cNvSpPr/>
                      <p:nvPr/>
                    </p:nvSpPr>
                    <p:spPr>
                      <a:xfrm rot="18135600">
                        <a:off x="3677760" y="6419520"/>
                        <a:ext cx="70920" cy="8064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800" bIns="10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45" name="Group 72"/>
                  <p:cNvGrpSpPr/>
                  <p:nvPr/>
                </p:nvGrpSpPr>
                <p:grpSpPr>
                  <a:xfrm>
                    <a:off x="2338560" y="5947920"/>
                    <a:ext cx="139320" cy="82440"/>
                    <a:chOff x="2338560" y="5947920"/>
                    <a:chExt cx="139320" cy="82440"/>
                  </a:xfrm>
                </p:grpSpPr>
                <p:sp>
                  <p:nvSpPr>
                    <p:cNvPr id="646" name="Straight Connector 296"/>
                    <p:cNvSpPr/>
                    <p:nvPr/>
                  </p:nvSpPr>
                  <p:spPr>
                    <a:xfrm flipH="1" flipV="1">
                      <a:off x="2338560" y="5947920"/>
                      <a:ext cx="65160" cy="82440"/>
                    </a:xfrm>
                    <a:prstGeom prst="line">
                      <a:avLst/>
                    </a:prstGeom>
                    <a:ln cap="sq" w="25560">
                      <a:solidFill>
                        <a:srgbClr val="0000cc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Straight Connector 297"/>
                    <p:cNvSpPr/>
                    <p:nvPr/>
                  </p:nvSpPr>
                  <p:spPr>
                    <a:xfrm flipV="1">
                      <a:off x="2403360" y="5947920"/>
                      <a:ext cx="74520" cy="82440"/>
                    </a:xfrm>
                    <a:prstGeom prst="line">
                      <a:avLst/>
                    </a:prstGeom>
                    <a:ln cap="sq" w="25560">
                      <a:solidFill>
                        <a:srgbClr val="0000cc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8" name="Group 73"/>
                  <p:cNvGrpSpPr/>
                  <p:nvPr/>
                </p:nvGrpSpPr>
                <p:grpSpPr>
                  <a:xfrm>
                    <a:off x="2774880" y="5943240"/>
                    <a:ext cx="139320" cy="82440"/>
                    <a:chOff x="2774880" y="5943240"/>
                    <a:chExt cx="139320" cy="82440"/>
                  </a:xfrm>
                </p:grpSpPr>
                <p:sp>
                  <p:nvSpPr>
                    <p:cNvPr id="649" name="Straight Connector 294"/>
                    <p:cNvSpPr/>
                    <p:nvPr/>
                  </p:nvSpPr>
                  <p:spPr>
                    <a:xfrm flipH="1" flipV="1">
                      <a:off x="2774880" y="5943240"/>
                      <a:ext cx="65160" cy="82440"/>
                    </a:xfrm>
                    <a:prstGeom prst="line">
                      <a:avLst/>
                    </a:prstGeom>
                    <a:ln cap="sq" w="25560">
                      <a:solidFill>
                        <a:srgbClr val="0000cc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Straight Connector 295"/>
                    <p:cNvSpPr/>
                    <p:nvPr/>
                  </p:nvSpPr>
                  <p:spPr>
                    <a:xfrm flipV="1">
                      <a:off x="2839680" y="5943240"/>
                      <a:ext cx="74520" cy="82440"/>
                    </a:xfrm>
                    <a:prstGeom prst="line">
                      <a:avLst/>
                    </a:prstGeom>
                    <a:ln cap="sq" w="25560">
                      <a:solidFill>
                        <a:srgbClr val="0000cc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1" name="Group 76"/>
                  <p:cNvGrpSpPr/>
                  <p:nvPr/>
                </p:nvGrpSpPr>
                <p:grpSpPr>
                  <a:xfrm>
                    <a:off x="2994480" y="5947920"/>
                    <a:ext cx="137160" cy="82440"/>
                    <a:chOff x="2994480" y="5947920"/>
                    <a:chExt cx="137160" cy="82440"/>
                  </a:xfrm>
                </p:grpSpPr>
                <p:sp>
                  <p:nvSpPr>
                    <p:cNvPr id="652" name="Straight Connector 292"/>
                    <p:cNvSpPr/>
                    <p:nvPr/>
                  </p:nvSpPr>
                  <p:spPr>
                    <a:xfrm flipH="1" flipV="1">
                      <a:off x="2994480" y="5947920"/>
                      <a:ext cx="63360" cy="82440"/>
                    </a:xfrm>
                    <a:prstGeom prst="line">
                      <a:avLst/>
                    </a:prstGeom>
                    <a:ln cap="sq" w="25560">
                      <a:solidFill>
                        <a:srgbClr val="0000cc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3" name="Straight Connector 293"/>
                    <p:cNvSpPr/>
                    <p:nvPr/>
                  </p:nvSpPr>
                  <p:spPr>
                    <a:xfrm flipV="1">
                      <a:off x="3057120" y="5947920"/>
                      <a:ext cx="74520" cy="82440"/>
                    </a:xfrm>
                    <a:prstGeom prst="line">
                      <a:avLst/>
                    </a:prstGeom>
                    <a:ln cap="sq" w="25560">
                      <a:solidFill>
                        <a:srgbClr val="0000cc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4" name="Group 79"/>
                  <p:cNvGrpSpPr/>
                  <p:nvPr/>
                </p:nvGrpSpPr>
                <p:grpSpPr>
                  <a:xfrm>
                    <a:off x="3540240" y="5943240"/>
                    <a:ext cx="139320" cy="82440"/>
                    <a:chOff x="3540240" y="5943240"/>
                    <a:chExt cx="139320" cy="82440"/>
                  </a:xfrm>
                </p:grpSpPr>
                <p:sp>
                  <p:nvSpPr>
                    <p:cNvPr id="655" name="Straight Connector 290"/>
                    <p:cNvSpPr/>
                    <p:nvPr/>
                  </p:nvSpPr>
                  <p:spPr>
                    <a:xfrm flipH="1" flipV="1">
                      <a:off x="3540240" y="5943240"/>
                      <a:ext cx="65160" cy="82440"/>
                    </a:xfrm>
                    <a:prstGeom prst="line">
                      <a:avLst/>
                    </a:prstGeom>
                    <a:ln cap="sq" w="25560">
                      <a:solidFill>
                        <a:srgbClr val="0000cc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Straight Connector 291"/>
                    <p:cNvSpPr/>
                    <p:nvPr/>
                  </p:nvSpPr>
                  <p:spPr>
                    <a:xfrm flipV="1">
                      <a:off x="3605040" y="5943240"/>
                      <a:ext cx="74520" cy="82440"/>
                    </a:xfrm>
                    <a:prstGeom prst="line">
                      <a:avLst/>
                    </a:prstGeom>
                    <a:ln cap="sq" w="25560">
                      <a:solidFill>
                        <a:srgbClr val="0000cc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cxnSp>
            <p:nvCxnSpPr>
              <p:cNvPr id="657" name="Straight Arrow Connector 278"/>
              <p:cNvCxnSpPr/>
              <p:nvPr/>
            </p:nvCxnSpPr>
            <p:spPr>
              <a:xfrm flipH="1">
                <a:off x="2841480" y="4281120"/>
                <a:ext cx="2160" cy="284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658" name="Straight Arrow Connector 279"/>
              <p:cNvCxnSpPr/>
              <p:nvPr/>
            </p:nvCxnSpPr>
            <p:spPr>
              <a:xfrm flipH="1">
                <a:off x="2841480" y="5532480"/>
                <a:ext cx="2160" cy="282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659" name="TextBox 279"/>
              <p:cNvSpPr/>
              <p:nvPr/>
            </p:nvSpPr>
            <p:spPr>
              <a:xfrm>
                <a:off x="268560" y="3432600"/>
                <a:ext cx="111960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Tioles en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solución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TextBox 280"/>
              <p:cNvSpPr/>
              <p:nvPr/>
            </p:nvSpPr>
            <p:spPr>
              <a:xfrm>
                <a:off x="196200" y="4803480"/>
                <a:ext cx="12643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Adsorpción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TextBox 281"/>
              <p:cNvSpPr/>
              <p:nvPr/>
            </p:nvSpPr>
            <p:spPr>
              <a:xfrm>
                <a:off x="502920" y="6024960"/>
                <a:ext cx="6501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SAM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62" name="Curved Connector 274"/>
            <p:cNvCxnSpPr/>
            <p:nvPr/>
          </p:nvCxnSpPr>
          <p:spPr>
            <a:xfrm flipV="1">
              <a:off x="3830760" y="4960080"/>
              <a:ext cx="1458000" cy="1259640"/>
            </a:xfrm>
            <a:prstGeom prst="curvedConnector5">
              <a:avLst>
                <a:gd name="adj1" fmla="val 49987"/>
                <a:gd name="adj2" fmla="val 50000"/>
                <a:gd name="adj3" fmla="val 49987"/>
              </a:avLst>
            </a:prstGeom>
            <a:ln w="12600">
              <a:solidFill>
                <a:srgbClr val="000000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663" name="TextBox 12"/>
          <p:cNvSpPr/>
          <p:nvPr/>
        </p:nvSpPr>
        <p:spPr>
          <a:xfrm>
            <a:off x="7238880" y="60199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urtesy of CN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7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257800" cy="420840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3"/>
          <p:cNvSpPr/>
          <p:nvPr/>
        </p:nvSpPr>
        <p:spPr>
          <a:xfrm>
            <a:off x="-533520" y="-76320"/>
            <a:ext cx="929664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uto-Ensamblaje Fís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este ejemplo, un campo eléctrico aplicado hace que los nanotubos de carbono, que son conductores, se levanten de la melcocha (slurry) que los contie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4"/>
          <p:cNvSpPr/>
          <p:nvPr/>
        </p:nvSpPr>
        <p:spPr>
          <a:xfrm>
            <a:off x="152280" y="27432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anotubos de carbón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rdenados en posición vertical por el campo eléctric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5"/>
          <p:cNvSpPr/>
          <p:nvPr/>
        </p:nvSpPr>
        <p:spPr>
          <a:xfrm>
            <a:off x="1828800" y="2743200"/>
            <a:ext cx="1905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7"/>
          <p:cNvSpPr/>
          <p:nvPr/>
        </p:nvSpPr>
        <p:spPr>
          <a:xfrm>
            <a:off x="1219320" y="609588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tical alignment of printed carbon nanotubes by multiple field emission cycles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ng C. Kim, K. H. Sohn, Y. M. Cho, and Eun H. Yoo. Volume 84, issue 26. page 5351. ©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004 American Institute of Phys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Auto Ensamblaje Biológico</a:t>
            </a:r>
            <a:br>
              <a:rPr sz="40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ste ejemplo, el ADN se usa para enlazar nanopartículas de o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4"/>
          <p:cNvSpPr/>
          <p:nvPr/>
        </p:nvSpPr>
        <p:spPr>
          <a:xfrm>
            <a:off x="3519000" y="6324480"/>
            <a:ext cx="231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d Mirkin (Northwestern Univers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ooter Placeholder 4"/>
          <p:cNvSpPr/>
          <p:nvPr/>
        </p:nvSpPr>
        <p:spPr>
          <a:xfrm>
            <a:off x="2209680" y="6610320"/>
            <a:ext cx="51818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6" descr=""/>
          <p:cNvPicPr/>
          <p:nvPr/>
        </p:nvPicPr>
        <p:blipFill>
          <a:blip r:embed="rId1"/>
          <a:stretch/>
        </p:blipFill>
        <p:spPr>
          <a:xfrm>
            <a:off x="1390680" y="1447920"/>
            <a:ext cx="636264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acercamiento básico a la nanofabricación de Abajo Hacia Arri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pasos bá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rcamientos de Fabricación en Bloques de Constr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-ensambl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s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s c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emos terminado la discusión de dos procesos utilizados en la nanofabricación de abajo hacia arriba: </a:t>
            </a:r>
            <a:r>
              <a:rPr b="0" lang="es-ES_tradnl" sz="2800" spc="-1" strike="noStrike" u="sng">
                <a:solidFill>
                  <a:srgbClr val="0000cc"/>
                </a:solidFill>
                <a:uFillTx/>
                <a:latin typeface="Arial"/>
              </a:rPr>
              <a:t>fabricación de bloques de construcción</a:t>
            </a:r>
            <a:r>
              <a:rPr b="0" lang="es-ES_tradnl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_tradnl" sz="2800" spc="-1" strike="noStrike" u="sng">
                <a:solidFill>
                  <a:srgbClr val="0000cc"/>
                </a:solidFill>
                <a:uFillTx/>
                <a:latin typeface="Arial"/>
              </a:rPr>
              <a:t>auto-ensamblaj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amos ahora un ejemplo de una secuencia donde estos pasos se utilizan para crear una nanoestructu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contestación a la pregunta, para que se podrán utilizar estas estructuras está en la mente y en la imaginación de la persona que diseña la secuencia de nanofabricación de abajo hacia arrib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2"/>
          <p:cNvSpPr/>
          <p:nvPr/>
        </p:nvSpPr>
        <p:spPr>
          <a:xfrm>
            <a:off x="-152280" y="152280"/>
            <a:ext cx="944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000000"/>
                </a:solidFill>
                <a:latin typeface="Arial"/>
              </a:rPr>
              <a:t>Un Ejemplo de una secuencia de nanofabricación de abajo hacia arrib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3"/>
          <p:cNvSpPr/>
          <p:nvPr/>
        </p:nvSpPr>
        <p:spPr>
          <a:xfrm>
            <a:off x="4495680" y="4419720"/>
            <a:ext cx="304920" cy="30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Group 4"/>
          <p:cNvGrpSpPr/>
          <p:nvPr/>
        </p:nvGrpSpPr>
        <p:grpSpPr>
          <a:xfrm>
            <a:off x="3886200" y="3962520"/>
            <a:ext cx="990720" cy="1523880"/>
            <a:chOff x="3886200" y="3962520"/>
            <a:chExt cx="990720" cy="1523880"/>
          </a:xfrm>
        </p:grpSpPr>
        <p:sp>
          <p:nvSpPr>
            <p:cNvPr id="682" name="Line 5"/>
            <p:cNvSpPr/>
            <p:nvPr/>
          </p:nvSpPr>
          <p:spPr>
            <a:xfrm>
              <a:off x="3962520" y="396252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6"/>
            <p:cNvSpPr/>
            <p:nvPr/>
          </p:nvSpPr>
          <p:spPr>
            <a:xfrm flipH="1">
              <a:off x="4647960" y="396252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7"/>
            <p:cNvSpPr/>
            <p:nvPr/>
          </p:nvSpPr>
          <p:spPr>
            <a:xfrm>
              <a:off x="4648320" y="510552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8"/>
            <p:cNvSpPr/>
            <p:nvPr/>
          </p:nvSpPr>
          <p:spPr>
            <a:xfrm flipV="1">
              <a:off x="3886200" y="5105520"/>
              <a:ext cx="304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Group 9"/>
          <p:cNvGrpSpPr/>
          <p:nvPr/>
        </p:nvGrpSpPr>
        <p:grpSpPr>
          <a:xfrm>
            <a:off x="3505320" y="3580920"/>
            <a:ext cx="1752480" cy="2362680"/>
            <a:chOff x="3505320" y="3580920"/>
            <a:chExt cx="1752480" cy="2362680"/>
          </a:xfrm>
        </p:grpSpPr>
        <p:sp>
          <p:nvSpPr>
            <p:cNvPr id="687" name="Line 10"/>
            <p:cNvSpPr/>
            <p:nvPr/>
          </p:nvSpPr>
          <p:spPr>
            <a:xfrm flipV="1">
              <a:off x="3962520" y="3580920"/>
              <a:ext cx="759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11"/>
            <p:cNvSpPr/>
            <p:nvPr/>
          </p:nvSpPr>
          <p:spPr>
            <a:xfrm>
              <a:off x="3581280" y="3809880"/>
              <a:ext cx="3812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12"/>
            <p:cNvSpPr/>
            <p:nvPr/>
          </p:nvSpPr>
          <p:spPr>
            <a:xfrm flipV="1">
              <a:off x="4876920" y="35809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3"/>
            <p:cNvSpPr/>
            <p:nvPr/>
          </p:nvSpPr>
          <p:spPr>
            <a:xfrm flipV="1">
              <a:off x="4876920" y="373356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14"/>
            <p:cNvSpPr/>
            <p:nvPr/>
          </p:nvSpPr>
          <p:spPr>
            <a:xfrm>
              <a:off x="4876920" y="548640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15"/>
            <p:cNvSpPr/>
            <p:nvPr/>
          </p:nvSpPr>
          <p:spPr>
            <a:xfrm flipV="1">
              <a:off x="48769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16"/>
            <p:cNvSpPr/>
            <p:nvPr/>
          </p:nvSpPr>
          <p:spPr>
            <a:xfrm flipV="1">
              <a:off x="3505320" y="548604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17"/>
            <p:cNvSpPr/>
            <p:nvPr/>
          </p:nvSpPr>
          <p:spPr>
            <a:xfrm flipV="1">
              <a:off x="3886200" y="548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Text Box 18"/>
          <p:cNvSpPr/>
          <p:nvPr/>
        </p:nvSpPr>
        <p:spPr>
          <a:xfrm>
            <a:off x="2237040" y="1600200"/>
            <a:ext cx="529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ionalización de  Nanopartíc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19"/>
          <p:cNvSpPr/>
          <p:nvPr/>
        </p:nvSpPr>
        <p:spPr>
          <a:xfrm>
            <a:off x="3116520" y="190512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lace con Anticuer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0"/>
          <p:cNvSpPr/>
          <p:nvPr/>
        </p:nvSpPr>
        <p:spPr>
          <a:xfrm>
            <a:off x="3373920" y="2209680"/>
            <a:ext cx="32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ón con Antíge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21"/>
          <p:cNvSpPr/>
          <p:nvPr/>
        </p:nvSpPr>
        <p:spPr>
          <a:xfrm>
            <a:off x="2930400" y="129528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íntesis de Nanopartíc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22"/>
          <p:cNvSpPr/>
          <p:nvPr/>
        </p:nvSpPr>
        <p:spPr>
          <a:xfrm>
            <a:off x="4038480" y="4419720"/>
            <a:ext cx="304920" cy="30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23"/>
          <p:cNvSpPr/>
          <p:nvPr/>
        </p:nvSpPr>
        <p:spPr>
          <a:xfrm>
            <a:off x="4114800" y="472428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24"/>
          <p:cNvSpPr/>
          <p:nvPr/>
        </p:nvSpPr>
        <p:spPr>
          <a:xfrm>
            <a:off x="4267080" y="426708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25"/>
          <p:cNvSpPr/>
          <p:nvPr/>
        </p:nvSpPr>
        <p:spPr>
          <a:xfrm>
            <a:off x="4419720" y="472428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AutoShape 26"/>
          <p:cNvSpPr/>
          <p:nvPr/>
        </p:nvSpPr>
        <p:spPr>
          <a:xfrm rot="2111400">
            <a:off x="2895120" y="5562720"/>
            <a:ext cx="1143000" cy="990360"/>
          </a:xfrm>
          <a:custGeom>
            <a:avLst/>
            <a:gdLst>
              <a:gd name="textAreaLeft" fmla="*/ 372600 w 1143000"/>
              <a:gd name="textAreaRight" fmla="*/ 770400 w 1143000"/>
              <a:gd name="textAreaTop" fmla="*/ 322920 h 990360"/>
              <a:gd name="textAreaBottom" fmla="*/ 66744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046" y="7046"/>
                </a:lnTo>
                <a:lnTo>
                  <a:pt x="10800" y="0"/>
                </a:lnTo>
                <a:lnTo>
                  <a:pt x="14554" y="7046"/>
                </a:lnTo>
                <a:lnTo>
                  <a:pt x="21600" y="10800"/>
                </a:lnTo>
                <a:lnTo>
                  <a:pt x="14554" y="14554"/>
                </a:lnTo>
                <a:lnTo>
                  <a:pt x="10800" y="21600"/>
                </a:lnTo>
                <a:lnTo>
                  <a:pt x="7046" y="1455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27"/>
          <p:cNvSpPr/>
          <p:nvPr/>
        </p:nvSpPr>
        <p:spPr>
          <a:xfrm rot="8747400">
            <a:off x="3047760" y="2895480"/>
            <a:ext cx="1143000" cy="990720"/>
          </a:xfrm>
          <a:custGeom>
            <a:avLst/>
            <a:gdLst>
              <a:gd name="textAreaLeft" fmla="*/ 372600 w 1143000"/>
              <a:gd name="textAreaRight" fmla="*/ 770400 w 1143000"/>
              <a:gd name="textAreaTop" fmla="*/ 323280 h 990720"/>
              <a:gd name="textAreaBottom" fmla="*/ 6674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046" y="7046"/>
                </a:lnTo>
                <a:lnTo>
                  <a:pt x="10800" y="0"/>
                </a:lnTo>
                <a:lnTo>
                  <a:pt x="14554" y="7046"/>
                </a:lnTo>
                <a:lnTo>
                  <a:pt x="21600" y="10800"/>
                </a:lnTo>
                <a:lnTo>
                  <a:pt x="14554" y="14554"/>
                </a:lnTo>
                <a:lnTo>
                  <a:pt x="10800" y="21600"/>
                </a:lnTo>
                <a:lnTo>
                  <a:pt x="7046" y="1455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28"/>
          <p:cNvSpPr/>
          <p:nvPr/>
        </p:nvSpPr>
        <p:spPr>
          <a:xfrm rot="12888600">
            <a:off x="4723920" y="2818800"/>
            <a:ext cx="1143000" cy="990360"/>
          </a:xfrm>
          <a:custGeom>
            <a:avLst/>
            <a:gdLst>
              <a:gd name="textAreaLeft" fmla="*/ 372600 w 1143000"/>
              <a:gd name="textAreaRight" fmla="*/ 770400 w 1143000"/>
              <a:gd name="textAreaTop" fmla="*/ 322920 h 990360"/>
              <a:gd name="textAreaBottom" fmla="*/ 66744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046" y="7046"/>
                </a:lnTo>
                <a:lnTo>
                  <a:pt x="10800" y="0"/>
                </a:lnTo>
                <a:lnTo>
                  <a:pt x="14554" y="7046"/>
                </a:lnTo>
                <a:lnTo>
                  <a:pt x="21600" y="10800"/>
                </a:lnTo>
                <a:lnTo>
                  <a:pt x="14554" y="14554"/>
                </a:lnTo>
                <a:lnTo>
                  <a:pt x="10800" y="21600"/>
                </a:lnTo>
                <a:lnTo>
                  <a:pt x="7046" y="1455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29"/>
          <p:cNvSpPr/>
          <p:nvPr/>
        </p:nvSpPr>
        <p:spPr>
          <a:xfrm rot="19536600">
            <a:off x="4723920" y="5638320"/>
            <a:ext cx="1143000" cy="990720"/>
          </a:xfrm>
          <a:custGeom>
            <a:avLst/>
            <a:gdLst>
              <a:gd name="textAreaLeft" fmla="*/ 372600 w 1143000"/>
              <a:gd name="textAreaRight" fmla="*/ 770400 w 1143000"/>
              <a:gd name="textAreaTop" fmla="*/ 323280 h 990720"/>
              <a:gd name="textAreaBottom" fmla="*/ 6674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046" y="7046"/>
                </a:lnTo>
                <a:lnTo>
                  <a:pt x="10800" y="0"/>
                </a:lnTo>
                <a:lnTo>
                  <a:pt x="14554" y="7046"/>
                </a:lnTo>
                <a:lnTo>
                  <a:pt x="21600" y="10800"/>
                </a:lnTo>
                <a:lnTo>
                  <a:pt x="14554" y="14554"/>
                </a:lnTo>
                <a:lnTo>
                  <a:pt x="10800" y="21600"/>
                </a:lnTo>
                <a:lnTo>
                  <a:pt x="7046" y="1455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30"/>
          <p:cNvSpPr/>
          <p:nvPr/>
        </p:nvSpPr>
        <p:spPr>
          <a:xfrm>
            <a:off x="4267080" y="449568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31"/>
          <p:cNvSpPr/>
          <p:nvPr/>
        </p:nvSpPr>
        <p:spPr>
          <a:xfrm>
            <a:off x="3657600" y="63244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of CN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acercamiento básico a la nanofabricación de Abajo Hacia Arri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pasos bá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rcamientos de Fabricación en Bloques de Constr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-ensambl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deas c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/>
          </p:nvPr>
        </p:nvSpPr>
        <p:spPr>
          <a:xfrm>
            <a:off x="609120" y="-360"/>
            <a:ext cx="8001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cla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y dos procesos en la nanofabricación de abajo hacia arriba: fabricación de bloques de construcción y auto-ensambl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bloques de construcción que se usan pueden ser: moléculas, partículas (cuentas, cables, tubos), y cap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métodos de fabricación de bloques de construcción incluyen síntesis molecular, química de coloides, métodos físicos, y deposición química en fase vap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/>
          </p:nvPr>
        </p:nvSpPr>
        <p:spPr>
          <a:xfrm>
            <a:off x="380880" y="759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clave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inu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procesos de auto-ensamblaje pueden ser de tipo químico, físico y biológ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litografía y el grabado no forman parte del proceso de nanofabricación de abajo hacia arrib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nanofabricación de abajo hacia arriba imita la manera en que la naturaleza hace las cosas - comienza pequeño y añ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2"/>
          <p:cNvSpPr/>
          <p:nvPr/>
        </p:nvSpPr>
        <p:spPr>
          <a:xfrm>
            <a:off x="0" y="736560"/>
            <a:ext cx="914400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Este módulo, producido por el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nter for Nanotechnology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ducation and Utilization 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Pennsylvania State University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es uno de una serie desarrollada para introducir la nanotecnología y sus aplicaciones a una amplia audienci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Cada módulo, sus fichas de componentes visuales y el Glosario de acompañante son derechos autorales (Copyright 2009)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Pennsylvania State University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dos los derechos están reserv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ooter Placeholder 3"/>
          <p:cNvSpPr/>
          <p:nvPr/>
        </p:nvSpPr>
        <p:spPr>
          <a:xfrm>
            <a:off x="2743200" y="6620040"/>
            <a:ext cx="41148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acercamiento básico a la nanofabricación de Abajo Hacia Arri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pasos bá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ercamientos de Fabricación en Bloques de Constr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to-ensambl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as c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El acercamiento básico a la nanofabricación de Abajo Hacia Arri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pasos bá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ercamientos de Fabricación en Bloques de Constr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to-ensambl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as c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nofabricación d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ajo Hacia Arrib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ienza con componentes pequeños, por ejemplo,  moléculas individuales y  nanopartículas que después son ensambladas para formar la estructura deseada.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 Nanofabricación de abajo hacia arriba es como combinar blo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0" y="19051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bloques de construcción pueden juntarse en algún patrón inherente dictado según la forma o se pueden juntar al a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5334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bloques de construcción pueden ser átomo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léculas, o nanopartículas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Load-bearing walls should be anchored with metal tie bars. "/>
          <p:cNvPicPr/>
          <p:nvPr/>
        </p:nvPicPr>
        <p:blipFill>
          <a:blip r:embed="rId1"/>
          <a:stretch/>
        </p:blipFill>
        <p:spPr>
          <a:xfrm>
            <a:off x="3276720" y="3657600"/>
            <a:ext cx="2361960" cy="1771560"/>
          </a:xfrm>
          <a:prstGeom prst="rect">
            <a:avLst/>
          </a:prstGeom>
          <a:ln w="0">
            <a:noFill/>
          </a:ln>
        </p:spPr>
      </p:pic>
      <p:sp>
        <p:nvSpPr>
          <p:cNvPr id="76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acercamiento básico a la nanofabricación de Abajo Hacia Arri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Los pasos bá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ercamientos de Fabricación en Bloques de Constr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to-ensambl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as c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 nanofabricación se puede dividir en dos pasos básico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cc"/>
                </a:solidFill>
                <a:uFillTx/>
                <a:latin typeface="Arial"/>
              </a:rPr>
              <a:t>Fabricación de Bloques de Construcción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(se hacen las moléculas, partículas, o capas, los bloques de construcción de la nanofabricación de abajo hacia arrib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cc"/>
                </a:solidFill>
                <a:uFillTx/>
                <a:latin typeface="Arial"/>
              </a:rPr>
              <a:t>Ensamblaje</a:t>
            </a:r>
            <a:r>
              <a:rPr b="0" lang="es-ES_tradnl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 los bloques de construcción en nanoestructuras funcionales.  Este paso se conoce usualmente como </a:t>
            </a:r>
            <a:r>
              <a:rPr b="0" lang="es-ES_tradnl" sz="3200" spc="-1" strike="noStrike" u="sng">
                <a:solidFill>
                  <a:srgbClr val="0000ff"/>
                </a:solidFill>
                <a:uFillTx/>
                <a:latin typeface="Arial"/>
              </a:rPr>
              <a:t>auto-ensamblaj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22:12:44Z</dcterms:created>
  <dc:creator>Rehrmann</dc:creator>
  <dc:description/>
  <dc:language>en-US</dc:language>
  <cp:lastModifiedBy>Director</cp:lastModifiedBy>
  <dcterms:modified xsi:type="dcterms:W3CDTF">2013-03-13T16:03:07Z</dcterms:modified>
  <cp:revision>294</cp:revision>
  <dc:subject/>
  <dc:title>Slide 1</dc:title>
</cp:coreProperties>
</file>