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9621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82600" y="696600"/>
            <a:ext cx="4633920" cy="347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9621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F553D5F-FE89-4CD3-9B0F-80F2F2E75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05680C9-64B3-4BC2-AA3E-53566653EB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lossary that comes along with this set of modules. Each term in blue print in every module is defined in this glossa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174C098-D8F0-48D7-B405-89DEB897F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this sculpting analogy, the modification step could be coloring the eyes b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BC735E5-2678-49EE-92BD-EB4020D8D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this sculpting analogy, the modification step could be coloring the eyes b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26A40D0-EE97-4567-8B8E-F74467015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5ECF40F-A256-4DA5-AFC1-A7E8B1821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7969-6487-425E-965A-4A04E6F78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1F81-E06C-4083-A1A3-6D33B7CD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6DDE3-ACDF-4638-9BA6-59C8DED5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74E6E-D4DB-4F06-8E52-5E801CE7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16915-798F-403F-A8CB-E14DEE29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3D61F-67A5-4FB2-90E8-10AFB956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B52AF-DF71-4072-A9B9-A85FF160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F7FB7-15FA-48C0-8055-A761471A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045E3-4F45-4633-8CC8-DA797A83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04334-6D83-411F-8814-502B89D57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C68D1-CE2D-48A4-9527-54D2F1D19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C3A32-B249-4E3A-9A4E-13152612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90D8-A635-4641-AFC5-95F68E2D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5551E1-3484-4D5F-A1A5-2AA56E55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30C35-7A34-49A2-9F14-9D745356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AC8C7-00F8-46B0-840D-A59D7820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E1BA0-359A-4EBA-B3C2-465089D1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7F181-768E-4C4E-BE6B-A8FCD04C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18D0D-5353-4FC7-BAF2-BC5B077B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50FC7-86B7-459D-A2E3-55F8FF95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3390B3-1509-4774-983B-ED15DDD1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B528D1-9B3E-42F6-8A58-0817589A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0D595-5AB1-4FD3-BD53-5B17BA34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B4B5-5760-41A6-B701-058C70F67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5F5E6-80C8-4DB1-A757-EAA9C1F5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7FA87-DABE-4286-91BD-994D666C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90315-9954-4A10-B46D-E3E4BDA5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0ED21-E7EB-4270-A16A-9F75C722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9D39C-9B15-41C9-8F8A-CA984C35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AA194-66B1-41D9-BF78-87046D05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FB8DC-6D34-47F9-B14C-C0E91482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55C3F-DDB4-4CB5-8706-3BC53184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27680-A9C6-4C91-86B9-A22832B1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F2906-B984-478D-83F5-42B8FBD0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6FFA-C807-4053-ABF7-8E9BE8398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23CE0-C3D0-44C1-91F6-3BC48815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B6D55-DE12-4C22-BC3E-B093C1D51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5A732-C4DA-4119-A030-FEF47486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59EE9-2D91-4875-9F5F-AD5761D1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FA4A7-A7E9-4559-B1CE-7617B008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9106D8-8F03-4A2B-93F4-3668ABFF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BF0C8-4B94-4C8C-B765-36B3E655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2AA27-A1BB-4101-AAD3-F3F90C7E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379B2-13EF-44F3-98DF-908A38DA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CE4602-D5BD-4D1F-A1E2-79FE9B3C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A7B1-087F-4010-8F3B-56470D58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13C07-EB37-4700-B510-756AF62E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FBAFDB-BCBE-4424-81F5-C77D8762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184D7-0BED-48A8-97CC-C548895E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5F39E-80F5-49AB-B12E-03BDD0ECB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82444-65B1-4ED7-B5F3-7C5E14C6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56E6-E8F5-4614-AA15-1997BA82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197F-1069-49AA-8E2C-4697B261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2AF6-8375-434D-8715-F1BD32E7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63AD-A289-4F5C-BE3C-8C20C3AC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3A47-7F0B-45D9-9803-CC7ADD65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D770-E1D4-44C2-B832-C0B7CCAE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AC87-F65E-4475-BA6E-53E716D8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A4BF-E7EF-453E-9C67-5F89C80E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376D-73AA-4FEE-B22C-EF491F83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05B5-6B33-4E7B-A06B-01C27043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1908-8293-45FB-8848-193296DDD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6EE91-D6DF-4108-BA90-FC9458878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F0380-96C2-4962-8F2C-B85645D6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982FE-DA01-4BC5-93AD-4B66A079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774AB-DCB9-4460-8414-399DB6A9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76EE2-62E7-49C5-86E5-0939750A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F807-D141-4D81-850E-484403FB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DA532-DB1E-48CB-92BB-305FEFA0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1686F-CE60-4AB7-8C17-66B18AD7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E43AA-FA04-4470-816C-B82E9982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2C470-DFCF-4F8C-AEB9-6BA9DB8E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0F5C7-531B-4790-B543-796E0920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30FBC-F9D3-494B-B440-00DEA5E3C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432B8-2BE3-48C0-88C8-56372E73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F7FD0-A8B4-4FD5-8A65-89A97249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9F0E9-6EF1-4BFF-B78F-48EDF996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757A3-A9C7-4D05-810D-3ECCDC9E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5E6B-8E76-4E0A-AB7F-91D69F29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CE742-FB12-49A5-9454-CB382340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14487-B121-4652-8927-A75FC85B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437C8-4317-4F50-9DAE-69F1A961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73C75-8BF9-4A62-806B-035557A3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C1AD7-CC63-4A2B-B469-01264386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2ED5C-F372-4B5F-A7D0-1FDD2645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9BCE8-E7EA-4034-8F7B-FFC2A33C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D3567-255C-42D6-85C6-16AFA870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A0798-A0A3-491A-B2B6-A7BDE7C4C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5911D-64E8-4876-891B-FB78BE6B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2815-BEFC-4EC8-B485-3596CDCF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3A96D-6076-472F-9189-FA6AB9EC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60E0B-4120-4761-8798-18E11D97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7F5FA-545E-45C6-A60B-32E2E6BE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AA306-A951-46A9-B406-ABE57F63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43BED-2534-4F0A-BB7E-D9B3E403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1DF49-6B80-4415-879F-37FB1CA7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93864-7673-43F0-B587-06E9FB22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EE97A-6EF5-4B0A-B0DA-C7649EC3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5CDC6-8DFE-48F4-A788-35489665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0CC87-A357-4165-AAE0-44AD235A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38E8-0AB9-40C5-ACC7-1FF6779C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BC76F-7D21-4AE9-9841-D66CF5847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C9AF2-1D3F-4445-A3FF-11B3AE8A6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5928C-6E65-487B-94E1-F6F19D01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32652-AD00-4D2C-93A8-A20DC44C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36CF7-275F-41F5-B0C8-862F699A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A1917-CC1E-4892-BED8-B95C2A25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FB72B-9A25-4565-841D-6AA1A070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36412-CB89-45E3-80B1-0BAF74D2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7EC92-DFB0-4406-8EAC-F5C30AC6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8026C-568B-401A-9E0B-B4C81270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1382-10CA-42C5-BAAF-817B982F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32EB9-DC1D-430E-B3A9-690018B2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292BD-AD5F-4EE3-8429-655F675D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058BE-8DE2-4C94-9AE8-02974F0D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D6F68-9C72-46F6-ACEC-CD44AACE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FFA3A-4586-4686-A1A5-7B774ACF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7368C-979C-4280-A6EE-9EBDF882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4C753-B9A3-4274-B623-03C27CAF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1AD2A-6F25-4A10-82FC-F92B8437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13C6C-7336-4BC6-ABFF-CCD404A3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C7FB0-ADAA-41ED-BA4A-13CE6D14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17BB-A24F-48D2-AC07-B4B5BE41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35266-8A1E-410A-A7AE-5A005B23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9723D-0DA4-4487-BA28-FFD1ABC5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E4C8A-F7E0-4A69-B44C-1FE89A29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890B8-D8B8-488F-A0F8-9CD00A6E3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C3C7D-68BF-4C31-80D0-A1E96509D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71F28-49E1-4BF0-AEA4-E926B9AF7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5210B-48E6-4E69-A780-3A7402C1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8BCF5-30A9-43C5-9FFA-63D8E047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E02A5-23D2-47C9-898A-AFD07DE7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F4F51-D00D-4DF6-ACA8-DCAF80FA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FA5F-723D-4F4E-B708-AD58DC16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B81B8-8F40-4BFA-9D7F-F8CDCA2C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20816-754A-4F01-A26F-C682EDDB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677B9-183E-4A28-AB82-96C8C793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7D46A-B59E-435B-AB79-EE5E6E44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788EF-757D-43D7-8FC1-5E317744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9CA5B-BEE9-4A3C-B388-C393DA5D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02C22-CC6B-4E64-AB9A-B5A46691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4DBB2-99B8-4702-A1B1-27C4F7F6B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D6911-2EA9-4751-BA28-E9828472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42C38-512D-4566-8032-F6E516EA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5640" y="6381360"/>
            <a:ext cx="4800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7091-C1EC-418A-964A-A0AE17FD3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2285640" y="6381360"/>
            <a:ext cx="4800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7578-766F-4E1B-89B9-DFD1DBFF6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2285640" y="6381360"/>
            <a:ext cx="4800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A6C0-25B4-4C51-AF92-7586C4045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2285640" y="6381360"/>
            <a:ext cx="4800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690D-7305-45A3-A723-1F82B2D49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85640" y="6381360"/>
            <a:ext cx="4800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7F58-A614-4D3F-AFE2-E964ED930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285640" y="6381360"/>
            <a:ext cx="4800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375B-1D56-4C73-BEB0-BB7410391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285640" y="6381360"/>
            <a:ext cx="4800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2108-9244-4A32-AE08-43FE3BC69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285640" y="6381360"/>
            <a:ext cx="4800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105A-EB67-4039-A59A-6E32BCC20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285640" y="6381360"/>
            <a:ext cx="4800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C35B-FACF-4988-BBBB-7F01BAE88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2285640" y="6381360"/>
            <a:ext cx="4800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AEFD-1207-4AEB-B514-1570417CC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2285640" y="6381360"/>
            <a:ext cx="4800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6572-8072-4D4E-956A-1C4999C1D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2285640" y="6381360"/>
            <a:ext cx="4800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8551-18A2-49A9-AD89-219D18606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http://www.pattonbros.com/" TargetMode="External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Nano%20Modules%20Glossary%20(3).docx" TargetMode="External"/><Relationship Id="rId2" Type="http://schemas.openxmlformats.org/officeDocument/2006/relationships/hyperlink" Target="file:///Nano%20Modules%20Glossary%20(3).docx" TargetMode="External"/><Relationship Id="rId3" Type="http://schemas.openxmlformats.org/officeDocument/2006/relationships/hyperlink" Target="http://www.matecnetworks.org/nano4me/glossary/glossary.html" TargetMode="External"/><Relationship Id="rId4" Type="http://schemas.openxmlformats.org/officeDocument/2006/relationships/hyperlink" Target="file:///Nano%20Modules%20Glossary%20(3).docx" TargetMode="External"/><Relationship Id="rId5" Type="http://schemas.openxmlformats.org/officeDocument/2006/relationships/hyperlink" Target="http://www.matecnetworks.org/nano4me/glossary/glossary.html" TargetMode="External"/><Relationship Id="rId6" Type="http://schemas.openxmlformats.org/officeDocument/2006/relationships/hyperlink" Target="file:///Nano%20Modules%20Glossary%20(3).docx" TargetMode="External"/><Relationship Id="rId7" Type="http://schemas.openxmlformats.org/officeDocument/2006/relationships/hyperlink" Target="http://www.matecnetworks.org/nano4me/glossary/glossary.html" TargetMode="External"/><Relationship Id="rId8" Type="http://schemas.openxmlformats.org/officeDocument/2006/relationships/hyperlink" Target="http://www.matecnetworks.org/nano4me/glossary/glossary.html" TargetMode="External"/><Relationship Id="rId9" Type="http://schemas.openxmlformats.org/officeDocument/2006/relationships/hyperlink" Target="http://www.matecnetworks.org/nano4me/glossary/glossary.html" TargetMode="External"/><Relationship Id="rId10" Type="http://schemas.openxmlformats.org/officeDocument/2006/relationships/hyperlink" Target="file:///Nano%20Modules%20Glossary%20(3).docx" TargetMode="External"/><Relationship Id="rId1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Nano%20Modules%20Glossary%20(3).docx" TargetMode="External"/><Relationship Id="rId2" Type="http://schemas.openxmlformats.org/officeDocument/2006/relationships/hyperlink" Target="file:///Nano%20Modules%20Glossary%20(3).docx" TargetMode="External"/><Relationship Id="rId3" Type="http://schemas.openxmlformats.org/officeDocument/2006/relationships/hyperlink" Target="file:///Nano%20Modules%20Glossary%20(3).docx" TargetMode="External"/><Relationship Id="rId4" Type="http://schemas.openxmlformats.org/officeDocument/2006/relationships/hyperlink" Target="file:///Nano%20Modules%20Glossary%20(3).docx" TargetMode="External"/><Relationship Id="rId5" Type="http://schemas.openxmlformats.org/officeDocument/2006/relationships/hyperlink" Target="file:///Nano%20Modules%20Glossary%20(3).docx" TargetMode="External"/><Relationship Id="rId6" Type="http://schemas.openxmlformats.org/officeDocument/2006/relationships/hyperlink" Target="file:///Nano%20Modules%20Glossary%20(3).docx" TargetMode="External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Nano%20Modules%20Glossary%20(3).docx" TargetMode="External"/><Relationship Id="rId2" Type="http://schemas.openxmlformats.org/officeDocument/2006/relationships/hyperlink" Target="file:///Nano%20Modules%20Glossary%20(3).docx" TargetMode="External"/><Relationship Id="rId3" Type="http://schemas.openxmlformats.org/officeDocument/2006/relationships/hyperlink" Target="http://www.matecnetworks.org/nano4me/glossary/glossary.html" TargetMode="External"/><Relationship Id="rId4" Type="http://schemas.openxmlformats.org/officeDocument/2006/relationships/hyperlink" Target="http://www.matecnetworks.org/nano4me/glossary/glossary.html" TargetMode="Externa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atecnetworks.org/nano4me/glossary/glossary.html" TargetMode="External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atecnetworks.org/nano4me/glossary/glossary.html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Nano%20Modules%20Glossary%20(3).docx" TargetMode="External"/><Relationship Id="rId2" Type="http://schemas.openxmlformats.org/officeDocument/2006/relationships/hyperlink" Target="file:///Nano%20Modules%20Glossary%20(3).docx" TargetMode="External"/><Relationship Id="rId3" Type="http://schemas.openxmlformats.org/officeDocument/2006/relationships/hyperlink" Target="file:///Nano%20Modules%20Glossary%20(3).docx" TargetMode="External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Nano%20Modules%20Glossary%20(3).docx" TargetMode="External"/><Relationship Id="rId2" Type="http://schemas.openxmlformats.org/officeDocument/2006/relationships/hyperlink" Target="http://www.matecnetworks.org/nano4me/glossary/glossary.html" TargetMode="External"/><Relationship Id="rId3" Type="http://schemas.openxmlformats.org/officeDocument/2006/relationships/hyperlink" Target="http://www.matecnetworks.org/nano4me/glossary/glossary.html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2"/>
          <p:cNvSpPr/>
          <p:nvPr/>
        </p:nvSpPr>
        <p:spPr>
          <a:xfrm>
            <a:off x="0" y="1666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ntroducción a la Nanotecnolog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Módulo #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0" y="1371600"/>
            <a:ext cx="9144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¿Cómo se hacen cosas tan pequeñ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ntroducción a la Nanofabr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Group 9"/>
          <p:cNvGrpSpPr/>
          <p:nvPr/>
        </p:nvGrpSpPr>
        <p:grpSpPr>
          <a:xfrm>
            <a:off x="1905120" y="3132000"/>
            <a:ext cx="5486400" cy="3575160"/>
            <a:chOff x="1905120" y="3132000"/>
            <a:chExt cx="5486400" cy="3575160"/>
          </a:xfrm>
        </p:grpSpPr>
        <p:graphicFrame>
          <p:nvGraphicFramePr>
            <p:cNvPr id="502" name="Object 2"/>
            <p:cNvGraphicFramePr/>
            <p:nvPr/>
          </p:nvGraphicFramePr>
          <p:xfrm>
            <a:off x="3360600" y="3132000"/>
            <a:ext cx="2132280" cy="2286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3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60600" y="3132000"/>
                      <a:ext cx="2132280" cy="228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4" name="Text Box 6"/>
            <p:cNvSpPr/>
            <p:nvPr/>
          </p:nvSpPr>
          <p:spPr>
            <a:xfrm>
              <a:off x="2625480" y="6430680"/>
              <a:ext cx="381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PR" sz="12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Copyright 2009 The Pennsylvania State Univers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7"/>
            <p:cNvSpPr/>
            <p:nvPr/>
          </p:nvSpPr>
          <p:spPr>
            <a:xfrm>
              <a:off x="1905120" y="5290560"/>
              <a:ext cx="54864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</a:t>
              </a:r>
              <a:r>
                <a:rPr b="0" lang="es-PR" sz="1600" spc="-1" strike="noStrike">
                  <a:solidFill>
                    <a:srgbClr val="92d050"/>
                  </a:solidFill>
                  <a:latin typeface="Arial"/>
                  <a:ea typeface="ＭＳ Ｐゴシック"/>
                </a:rPr>
                <a:t> </a:t>
              </a:r>
              <a:r>
                <a:rPr b="0" lang="es-PR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anotecnología está impactando todas las cos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Rectangle 7"/>
          <p:cNvSpPr/>
          <p:nvPr/>
        </p:nvSpPr>
        <p:spPr>
          <a:xfrm>
            <a:off x="2286000" y="5392800"/>
            <a:ext cx="430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R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patton brothers illustration (</a:t>
            </a:r>
            <a:r>
              <a:rPr b="0" lang="es-PR" sz="1000" spc="-1" strike="noStrike" u="sng">
                <a:solidFill>
                  <a:srgbClr val="0000ff"/>
                </a:solidFill>
                <a:uFillTx/>
                <a:latin typeface="Arial"/>
                <a:ea typeface="ＭＳ Ｐゴシック"/>
                <a:hlinkClick r:id="rId3"/>
              </a:rPr>
              <a:t>www.pattonbros.com</a:t>
            </a:r>
            <a:r>
              <a:rPr b="0" i="1" lang="es-PR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8"/>
          <p:cNvSpPr/>
          <p:nvPr/>
        </p:nvSpPr>
        <p:spPr>
          <a:xfrm>
            <a:off x="1295280" y="6076800"/>
            <a:ext cx="670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ducción: Prof. Esteban Rosim Fachini – Universidad de Puerto Rico – Recinto de Río Pied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-228600" y="147600"/>
            <a:ext cx="8763120" cy="65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ómo se hacen esas cos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Nanofabricación del tipo arriba hacia abajo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ce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nanoestructur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r repetición de pasos de deposición/remoción (de algunas partes) de películas sobre un sustr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Nanofabricación del tipo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abajo hacia arrib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y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nanoestructuras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rtir d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átomo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molécul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partícul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 combinaciones de e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Nanofabricación híbri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bina elementos de la Nanofabricación de tipo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arriba hacia abaj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abajo hacia arri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 que es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y qué se hace por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ómo se orienta la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a visión general de la nanofabricación de arriba hacia abajo y de abajo hacia arrib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nofabricación de arriba hacia 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nofabricación de abajo hacia arri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s cla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380880" y="129528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380880" y="1687680"/>
            <a:ext cx="6477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unas veces no se necesita orien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fabricación; o sea, no se requi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cionar el objeto en cierto lugar (p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mplo, nanopartículas en u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pens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unas veces se necesita orienta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sea, se requieren patrones de posicionamiento (por ejemplo, transistores en un sustra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 patrón de control ext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íb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0" y="136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ómo se orienta la Nanofabricación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5" descr=""/>
          <p:cNvPicPr/>
          <p:nvPr/>
        </p:nvPicPr>
        <p:blipFill>
          <a:blip r:embed="rId1"/>
          <a:stretch/>
        </p:blipFill>
        <p:spPr>
          <a:xfrm>
            <a:off x="6858000" y="1828800"/>
            <a:ext cx="2000160" cy="15238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6" descr=""/>
          <p:cNvPicPr/>
          <p:nvPr/>
        </p:nvPicPr>
        <p:blipFill>
          <a:blip r:embed="rId2"/>
          <a:stretch/>
        </p:blipFill>
        <p:spPr>
          <a:xfrm>
            <a:off x="6916680" y="3962520"/>
            <a:ext cx="2075040" cy="1587240"/>
          </a:xfrm>
          <a:prstGeom prst="rect">
            <a:avLst/>
          </a:prstGeom>
          <a:ln w="0">
            <a:noFill/>
          </a:ln>
        </p:spPr>
      </p:pic>
      <p:sp>
        <p:nvSpPr>
          <p:cNvPr id="545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7392600" y="3336840"/>
            <a:ext cx="111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videntte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7086600" y="5546880"/>
            <a:ext cx="17524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daptado de Linda Geppert, </a:t>
            </a:r>
            <a:r>
              <a:rPr b="0" i="1" lang="es-PR" sz="1000" spc="-1" strike="noStrike">
                <a:solidFill>
                  <a:srgbClr val="000000"/>
                </a:solidFill>
                <a:latin typeface="Arial"/>
              </a:rPr>
              <a:t>El increible acto de desvanecimiento de un transistor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EEE Spectrum, Octubre de  2002, Vol. 39, Número 10, pg. 28-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3"/>
          <p:cNvSpPr/>
          <p:nvPr/>
        </p:nvSpPr>
        <p:spPr>
          <a:xfrm>
            <a:off x="838080" y="2036880"/>
            <a:ext cx="800100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atrón Impuesto Externamente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al enfoque se llama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litografí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atrón inhere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usa el ta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ño, formato o enlace químico para imponer cierto patr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íbri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ezcla de amb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control de un patrón ext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íbr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0" y="1364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 el proceso de Fabricación Controlada por Patrón se puede utiliza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380880" y="129528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838080" y="1360440"/>
            <a:ext cx="80010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R" sz="3600" spc="-1" strike="noStrike">
                <a:solidFill>
                  <a:srgbClr val="000000"/>
                </a:solidFill>
                <a:latin typeface="Arial"/>
              </a:rPr>
              <a:t>Usar litografía para ubicar, crecer o modificar materiales según patrones sobre una estructura o sustrato, exactamente dónde uno qui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ar litografía para remover materiales de una estructura o sustrato de dónde no se des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339840" y="152280"/>
            <a:ext cx="861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o de un Patrón Externo signif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jemplo de un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atrón Impuesto Externamente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(Litografía)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atrón es transferido de una “máscara” usando luz (fotolitografía) en este 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4" descr="UVlith new"/>
          <p:cNvPicPr/>
          <p:nvPr/>
        </p:nvPicPr>
        <p:blipFill>
          <a:blip r:embed="rId5"/>
          <a:stretch/>
        </p:blipFill>
        <p:spPr>
          <a:xfrm>
            <a:off x="2286000" y="2666880"/>
            <a:ext cx="3857760" cy="3811680"/>
          </a:xfrm>
          <a:prstGeom prst="rect">
            <a:avLst/>
          </a:prstGeom>
          <a:ln w="0">
            <a:noFill/>
          </a:ln>
        </p:spPr>
      </p:pic>
      <p:sp>
        <p:nvSpPr>
          <p:cNvPr id="558" name="Line 5"/>
          <p:cNvSpPr/>
          <p:nvPr/>
        </p:nvSpPr>
        <p:spPr>
          <a:xfrm>
            <a:off x="2133720" y="3733920"/>
            <a:ext cx="14475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7"/>
          <p:cNvSpPr/>
          <p:nvPr/>
        </p:nvSpPr>
        <p:spPr>
          <a:xfrm flipH="1">
            <a:off x="5638320" y="47242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380880" y="312408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atrón es externo a la estructura. Originalmente está estampado aqui (en la “máscar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9"/>
          <p:cNvSpPr/>
          <p:nvPr/>
        </p:nvSpPr>
        <p:spPr>
          <a:xfrm>
            <a:off x="6248520" y="3657600"/>
            <a:ext cx="1904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atrón es transferido en este local (en este caso usando un material fotosensi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0"/>
          <p:cNvSpPr/>
          <p:nvPr/>
        </p:nvSpPr>
        <p:spPr>
          <a:xfrm>
            <a:off x="533520" y="5105520"/>
            <a:ext cx="1904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odificación se hace dónde se ha transferido el patr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1"/>
          <p:cNvSpPr/>
          <p:nvPr/>
        </p:nvSpPr>
        <p:spPr>
          <a:xfrm>
            <a:off x="2133720" y="54864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2"/>
          <p:cNvSpPr/>
          <p:nvPr/>
        </p:nvSpPr>
        <p:spPr>
          <a:xfrm>
            <a:off x="2133720" y="5486400"/>
            <a:ext cx="2286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2"/>
          <p:cNvSpPr/>
          <p:nvPr/>
        </p:nvSpPr>
        <p:spPr>
          <a:xfrm>
            <a:off x="5257800" y="62485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rtesía de CN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380880" y="129528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609480" y="1701720"/>
            <a:ext cx="80010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ar el tam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ño, la forma, un enlace químico específico o combinaciones de estos para lograr el patrón en la nanofabric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 se usa un patrón exter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íbri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685800" y="1522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000" spc="-1" strike="noStrike">
                <a:solidFill>
                  <a:srgbClr val="000000"/>
                </a:solidFill>
                <a:latin typeface="Arial"/>
              </a:rPr>
              <a:t>Utilización de patrón inherente signific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 de un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atrón Inher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ste ejemplo el patrón está establecido por la forma y enlace quí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4"/>
          <p:cNvSpPr/>
          <p:nvPr/>
        </p:nvSpPr>
        <p:spPr>
          <a:xfrm rot="8747400">
            <a:off x="3047760" y="2895480"/>
            <a:ext cx="1143000" cy="990720"/>
          </a:xfrm>
          <a:custGeom>
            <a:avLst/>
            <a:gdLst>
              <a:gd name="textAreaLeft" fmla="*/ 372600 w 1143000"/>
              <a:gd name="textAreaRight" fmla="*/ 770400 w 1143000"/>
              <a:gd name="textAreaTop" fmla="*/ 323280 h 990720"/>
              <a:gd name="textAreaBottom" fmla="*/ 6674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046" y="7046"/>
                </a:lnTo>
                <a:lnTo>
                  <a:pt x="10800" y="0"/>
                </a:lnTo>
                <a:lnTo>
                  <a:pt x="14554" y="7046"/>
                </a:lnTo>
                <a:lnTo>
                  <a:pt x="21600" y="10800"/>
                </a:lnTo>
                <a:lnTo>
                  <a:pt x="14554" y="14554"/>
                </a:lnTo>
                <a:lnTo>
                  <a:pt x="10800" y="21600"/>
                </a:lnTo>
                <a:lnTo>
                  <a:pt x="7046" y="1455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14"/>
          <p:cNvSpPr/>
          <p:nvPr/>
        </p:nvSpPr>
        <p:spPr>
          <a:xfrm>
            <a:off x="3962520" y="39625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5"/>
          <p:cNvSpPr/>
          <p:nvPr/>
        </p:nvSpPr>
        <p:spPr>
          <a:xfrm>
            <a:off x="457200" y="365760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antígeno “encaja” en el anticuerpo por causa de su forma, ta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ño y enlace químico específico, 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 auto ensamb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6"/>
          <p:cNvSpPr/>
          <p:nvPr/>
        </p:nvSpPr>
        <p:spPr>
          <a:xfrm flipV="1">
            <a:off x="3962520" y="3505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7"/>
          <p:cNvSpPr/>
          <p:nvPr/>
        </p:nvSpPr>
        <p:spPr>
          <a:xfrm flipH="1" flipV="1">
            <a:off x="3505320" y="373356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8"/>
          <p:cNvSpPr/>
          <p:nvPr/>
        </p:nvSpPr>
        <p:spPr>
          <a:xfrm>
            <a:off x="4648320" y="3048120"/>
            <a:ext cx="1904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ígeno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icue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9"/>
          <p:cNvSpPr/>
          <p:nvPr/>
        </p:nvSpPr>
        <p:spPr>
          <a:xfrm flipH="1" flipV="1">
            <a:off x="4038480" y="3200400"/>
            <a:ext cx="10670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20"/>
          <p:cNvSpPr/>
          <p:nvPr/>
        </p:nvSpPr>
        <p:spPr>
          <a:xfrm flipH="1">
            <a:off x="4191120" y="388620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12"/>
          <p:cNvSpPr/>
          <p:nvPr/>
        </p:nvSpPr>
        <p:spPr>
          <a:xfrm>
            <a:off x="2590920" y="3886200"/>
            <a:ext cx="144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rtesía de CN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 que es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y qué se hace por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se orienta la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Una visión general de la nanofabricación de arriba hacia abajo y de abajo hacia arrib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nofabricación de arriba hacia 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nofabricación de abajo hacia arri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s cla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nofabricación del tipo “Arriba Hacia Abajo” se parece a Esculp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3" descr="sculp06"/>
          <p:cNvPicPr/>
          <p:nvPr/>
        </p:nvPicPr>
        <p:blipFill>
          <a:blip r:embed="rId1"/>
          <a:stretch/>
        </p:blipFill>
        <p:spPr>
          <a:xfrm>
            <a:off x="571680" y="1981080"/>
            <a:ext cx="952200" cy="142884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4" descr="sculp07"/>
          <p:cNvPicPr/>
          <p:nvPr/>
        </p:nvPicPr>
        <p:blipFill>
          <a:blip r:embed="rId2"/>
          <a:stretch/>
        </p:blipFill>
        <p:spPr>
          <a:xfrm>
            <a:off x="7772400" y="3809880"/>
            <a:ext cx="952560" cy="142884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6"/>
          <p:cNvSpPr/>
          <p:nvPr/>
        </p:nvSpPr>
        <p:spPr>
          <a:xfrm>
            <a:off x="1523880" y="213372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 empieza con un material sobre un suporte (sustrat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7"/>
          <p:cNvSpPr/>
          <p:nvPr/>
        </p:nvSpPr>
        <p:spPr>
          <a:xfrm>
            <a:off x="762120" y="40672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 añade un poco de material según cierto modelo (patrón) (litografí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7"/>
          <p:cNvSpPr/>
          <p:nvPr/>
        </p:nvSpPr>
        <p:spPr>
          <a:xfrm>
            <a:off x="2286000" y="6381720"/>
            <a:ext cx="4800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7531560" y="5318280"/>
            <a:ext cx="145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 imagen es cortesí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 Bruce H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381240" y="3429000"/>
            <a:ext cx="145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 imagen es cortesí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 Bruce H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-304920" y="351000"/>
            <a:ext cx="91440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333399"/>
                </a:solidFill>
                <a:latin typeface="Arial"/>
              </a:rPr>
              <a:t>Este módulo es parte de una serie diseñada para ser utilizada por profesores de instituciones de educación superior en talleres y cursos  para introducir la nanotecnología y sus aplicaciones. No hay ningún significado particular para el sistema de número de módu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sa serie fue auspiciada en parte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he National Science Foun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600" spc="-1" strike="noStrike">
                <a:solidFill>
                  <a:srgbClr val="333399"/>
                </a:solidFill>
                <a:latin typeface="Arial"/>
              </a:rPr>
              <a:t>Grant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# DUE 0532646 and DUE 08024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he Pennsylvania Department of Community and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conomic Develop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Grant # C000029471 and C0000366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400" spc="-1" strike="noStrike">
                <a:solidFill>
                  <a:srgbClr val="333399"/>
                </a:solidFill>
                <a:latin typeface="Arial"/>
              </a:rPr>
              <a:t>Cualquier comentario, resultados y conclusiones o recomendaciones expresadas en este material son los del autor y no reflejan necesariamente las opiniones de la National Science Foundation o de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“Pennsylvania Department of Community and Economic Developmen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4" descr="dced-global2"/>
          <p:cNvPicPr/>
          <p:nvPr/>
        </p:nvPicPr>
        <p:blipFill>
          <a:blip r:embed="rId1"/>
          <a:stretch/>
        </p:blipFill>
        <p:spPr>
          <a:xfrm>
            <a:off x="380880" y="5486400"/>
            <a:ext cx="2514600" cy="1087560"/>
          </a:xfrm>
          <a:prstGeom prst="rect">
            <a:avLst/>
          </a:prstGeom>
          <a:ln w="0">
            <a:noFill/>
          </a:ln>
        </p:spPr>
      </p:pic>
      <p:sp>
        <p:nvSpPr>
          <p:cNvPr id="510" name="Footer Placeholder 4"/>
          <p:cNvSpPr/>
          <p:nvPr/>
        </p:nvSpPr>
        <p:spPr>
          <a:xfrm>
            <a:off x="2666880" y="6620040"/>
            <a:ext cx="42674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5" descr="NSF image.JPG"/>
          <p:cNvPicPr/>
          <p:nvPr/>
        </p:nvPicPr>
        <p:blipFill>
          <a:blip r:embed="rId2"/>
          <a:stretch/>
        </p:blipFill>
        <p:spPr>
          <a:xfrm>
            <a:off x="7315200" y="5029200"/>
            <a:ext cx="15811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000" spc="-1" strike="noStrike">
                <a:solidFill>
                  <a:srgbClr val="000000"/>
                </a:solidFill>
                <a:latin typeface="Arial"/>
              </a:rPr>
              <a:t>Nanofabricación del tipo 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riba Hacia Abajo</a:t>
            </a:r>
            <a:r>
              <a:rPr b="1" lang="es-PR" sz="4000" spc="-1" strike="noStrike">
                <a:solidFill>
                  <a:srgbClr val="000000"/>
                </a:solidFill>
                <a:latin typeface="Arial"/>
              </a:rPr>
              <a:t>” se parece a Esculp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3" descr=""/>
          <p:cNvPicPr/>
          <p:nvPr/>
        </p:nvPicPr>
        <p:blipFill>
          <a:blip r:embed="rId1"/>
          <a:stretch/>
        </p:blipFill>
        <p:spPr>
          <a:xfrm>
            <a:off x="7696080" y="3886200"/>
            <a:ext cx="990720" cy="13716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4" descr="The image “http://www.hirstarts.com/sculpt/sculp10.jpg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533520" y="1981080"/>
            <a:ext cx="952560" cy="142884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6"/>
          <p:cNvSpPr/>
          <p:nvPr/>
        </p:nvSpPr>
        <p:spPr>
          <a:xfrm>
            <a:off x="1676520" y="175248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 saca parte del material según un modelo (patrón) (no importa la orden con que se pone y quita el materi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-76320" y="421956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 repite la operación de poner y quitar material hasta que se logra copiar el modelo o patr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ooter Placeholder 7"/>
          <p:cNvSpPr/>
          <p:nvPr/>
        </p:nvSpPr>
        <p:spPr>
          <a:xfrm>
            <a:off x="2286000" y="6381720"/>
            <a:ext cx="4800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305280" y="3429000"/>
            <a:ext cx="145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 imagen es cortesí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 Bruce H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5"/>
          <p:cNvSpPr/>
          <p:nvPr/>
        </p:nvSpPr>
        <p:spPr>
          <a:xfrm>
            <a:off x="7531560" y="5318280"/>
            <a:ext cx="145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 imagen es cortesí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 Bruce H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nofabricación de tipo “Abajo Hacia Arriba” es como jugar con legos o construir con blo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4"/>
          <p:cNvSpPr/>
          <p:nvPr/>
        </p:nvSpPr>
        <p:spPr>
          <a:xfrm>
            <a:off x="1676520" y="2057400"/>
            <a:ext cx="693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 pueden juntar los bloques según un patrón inherente determinado por la forma o se les puede juntar aleatoriam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922320" y="4724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s “legos” o bloques pueden ser átomos, moléculas o nanopartícula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6" descr="Load-bearing walls should be anchored with metal tie bars. "/>
          <p:cNvPicPr/>
          <p:nvPr/>
        </p:nvPicPr>
        <p:blipFill>
          <a:blip r:embed="rId1"/>
          <a:stretch/>
        </p:blipFill>
        <p:spPr>
          <a:xfrm>
            <a:off x="228600" y="205740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606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nofabricación tipo “Arriba Hacia Abajo” Vs. “Abajo Hacia Arrib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000" spc="-1" strike="noStrike">
                <a:solidFill>
                  <a:srgbClr val="000000"/>
                </a:solidFill>
                <a:latin typeface="Arial"/>
              </a:rPr>
              <a:t>Nanofabricación del tipo “Arriba Hacia Abaj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En la nanofabricación del tipo “Arriba Hacia Abajo”, se crece o se deposita capas de materiales, combinando métodos físicos y químicos y se construye la nanoestructura deseada, como se hace una estatua a partir de un bloque de mármol. Nanotecnología de tipo “Arriba Hacia Abajo” se basa en métodos que se usan para hacer los circuitos microelectrónicos; o sea, estructuras cuidadosamente controladas, dónde pequeñas dimensiones  son logradas mediante deposición de capas de material y remoción del mismo en ciertas zonas dónde no se desea que esté. Estos pasos son guiados por la litograf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000" spc="-1" strike="noStrike">
                <a:solidFill>
                  <a:srgbClr val="000000"/>
                </a:solidFill>
                <a:latin typeface="Arial"/>
              </a:rPr>
              <a:t>Nanofabricación del tipo “Abajo Hacia Arrib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En el enfoque del tipo “Abajo Hacia Arriba”, se inicia con peque</a:t>
            </a:r>
            <a:r>
              <a:rPr b="0" lang="es-PR" sz="2000" spc="-1" strike="noStrike">
                <a:solidFill>
                  <a:srgbClr val="000000"/>
                </a:solidFill>
                <a:latin typeface="Arial"/>
                <a:ea typeface="Arial"/>
              </a:rPr>
              <a:t>ños componentes, por ejemplo, moléculas y nanopartículas individuales y las ensambla para lograr la estructura deseada. Frecuentemente el ensamblado es auto-guiado, o sea, los materiales se autoensamblan</a:t>
            </a: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teriales básic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en la nanofabricación del tipo “arriba hacia abajo” son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ap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 sea, películas) de materi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teriales básic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 la nanofabricación del tipo “abajo hacia arriba” son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átomos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, moléculas, partícul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Arial"/>
              </a:rPr>
              <a:t>cap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 que es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y qué se hace por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se orienta la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a visión general de la nanofabricación de arriba hacia abajo y de abajo hacia arrib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Nanofabricación de arriba hacia 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nofabricación de abajo hacia arri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s cla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2"/>
          <p:cNvSpPr/>
          <p:nvPr/>
        </p:nvSpPr>
        <p:spPr>
          <a:xfrm>
            <a:off x="380880" y="129528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3"/>
          <p:cNvSpPr/>
          <p:nvPr/>
        </p:nvSpPr>
        <p:spPr>
          <a:xfrm>
            <a:off x="457200" y="2286000"/>
            <a:ext cx="85345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itografía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ransferencia de un patr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recimiento/Deposición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roceso Aditi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Grabad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roceso Sustracti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Modif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hay un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ntrol por patrón ext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íbr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457200" y="11916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nofabricación del tipo “Arriba Hacia Abajo”siempre usa una combinación d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 procedimiento de la nanofabricación del tipo             “Arriba Hacia Abajo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951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establece cierta secuencia para los cuatro pasos (litografía, adición y sustracción, modificació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uede brincar algunos pasos; se puede empezar en cualquier de los pa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mente se empieza con un crecimiento o deposición de un mate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litografía es el paso que comanda todos los demás. Ella controla dónde se quedan los materiales y dónde ellos son remov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Oval 2"/>
          <p:cNvSpPr/>
          <p:nvPr/>
        </p:nvSpPr>
        <p:spPr>
          <a:xfrm>
            <a:off x="1371600" y="762120"/>
            <a:ext cx="6553080" cy="5029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533520" y="2514600"/>
            <a:ext cx="190476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b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3505320" y="457200"/>
            <a:ext cx="18288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5"/>
          <p:cNvSpPr/>
          <p:nvPr/>
        </p:nvSpPr>
        <p:spPr>
          <a:xfrm>
            <a:off x="6781680" y="2665440"/>
            <a:ext cx="18288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o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ci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6"/>
          <p:cNvSpPr/>
          <p:nvPr/>
        </p:nvSpPr>
        <p:spPr>
          <a:xfrm>
            <a:off x="3429000" y="5181480"/>
            <a:ext cx="19810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c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7"/>
          <p:cNvSpPr/>
          <p:nvPr/>
        </p:nvSpPr>
        <p:spPr>
          <a:xfrm rot="4563600">
            <a:off x="5409720" y="5486040"/>
            <a:ext cx="380880" cy="3812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8"/>
          <p:cNvSpPr/>
          <p:nvPr/>
        </p:nvSpPr>
        <p:spPr>
          <a:xfrm rot="10078800">
            <a:off x="1219320" y="3580560"/>
            <a:ext cx="380880" cy="3812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9"/>
          <p:cNvSpPr/>
          <p:nvPr/>
        </p:nvSpPr>
        <p:spPr>
          <a:xfrm rot="14991000">
            <a:off x="3124080" y="761760"/>
            <a:ext cx="380880" cy="3812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10"/>
          <p:cNvSpPr/>
          <p:nvPr/>
        </p:nvSpPr>
        <p:spPr>
          <a:xfrm rot="19674600">
            <a:off x="7543440" y="2285640"/>
            <a:ext cx="380880" cy="38736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1"/>
          <p:cNvSpPr/>
          <p:nvPr/>
        </p:nvSpPr>
        <p:spPr>
          <a:xfrm>
            <a:off x="3295800" y="2665440"/>
            <a:ext cx="257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a Metodología de la Fabricación del tipo “Arriba Hacia Abaj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12"/>
          <p:cNvSpPr/>
          <p:nvPr/>
        </p:nvSpPr>
        <p:spPr>
          <a:xfrm>
            <a:off x="3886200" y="632448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rtesía de CN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amos un ejemplo de cómo se usa la nanofabricación de tipo “arriba hacia abajo” para hacer estructuras a nanoescal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ooter Placeholder 4"/>
          <p:cNvSpPr/>
          <p:nvPr/>
        </p:nvSpPr>
        <p:spPr>
          <a:xfrm>
            <a:off x="1523880" y="6400800"/>
            <a:ext cx="6019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"/>
          <p:cNvSpPr/>
          <p:nvPr/>
        </p:nvSpPr>
        <p:spPr>
          <a:xfrm>
            <a:off x="160200" y="1614600"/>
            <a:ext cx="89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cimiento de la Película por Reacción Química del Sustrato con Especies Pres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3"/>
          <p:cNvSpPr/>
          <p:nvPr/>
        </p:nvSpPr>
        <p:spPr>
          <a:xfrm rot="10800000">
            <a:off x="1828800" y="-609480"/>
            <a:ext cx="5410080" cy="41148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2286000" y="5410080"/>
            <a:ext cx="449568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l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jemplo de una Secuencia de Nanofabricación del tipo “Arriba Hacia Abaj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6"/>
          <p:cNvSpPr/>
          <p:nvPr/>
        </p:nvSpPr>
        <p:spPr>
          <a:xfrm>
            <a:off x="2286000" y="5638680"/>
            <a:ext cx="449568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2286000" y="5181480"/>
            <a:ext cx="449568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tore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Group 8"/>
          <p:cNvGrpSpPr/>
          <p:nvPr/>
        </p:nvGrpSpPr>
        <p:grpSpPr>
          <a:xfrm>
            <a:off x="914400" y="3809880"/>
            <a:ext cx="7315200" cy="381240"/>
            <a:chOff x="914400" y="3809880"/>
            <a:chExt cx="7315200" cy="381240"/>
          </a:xfrm>
        </p:grpSpPr>
        <p:sp>
          <p:nvSpPr>
            <p:cNvPr id="644" name="Rectangle 9"/>
            <p:cNvSpPr/>
            <p:nvPr/>
          </p:nvSpPr>
          <p:spPr>
            <a:xfrm>
              <a:off x="914400" y="3809880"/>
              <a:ext cx="7315200" cy="2286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tr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0"/>
            <p:cNvSpPr/>
            <p:nvPr/>
          </p:nvSpPr>
          <p:spPr>
            <a:xfrm>
              <a:off x="914400" y="4038480"/>
              <a:ext cx="236232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11"/>
            <p:cNvSpPr/>
            <p:nvPr/>
          </p:nvSpPr>
          <p:spPr>
            <a:xfrm>
              <a:off x="3581280" y="4038480"/>
              <a:ext cx="19814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12"/>
            <p:cNvSpPr/>
            <p:nvPr/>
          </p:nvSpPr>
          <p:spPr>
            <a:xfrm>
              <a:off x="5867280" y="4038480"/>
              <a:ext cx="236232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13"/>
          <p:cNvGrpSpPr/>
          <p:nvPr/>
        </p:nvGrpSpPr>
        <p:grpSpPr>
          <a:xfrm>
            <a:off x="2057400" y="1905120"/>
            <a:ext cx="5257800" cy="1828800"/>
            <a:chOff x="2057400" y="1905120"/>
            <a:chExt cx="5257800" cy="1828800"/>
          </a:xfrm>
        </p:grpSpPr>
        <p:sp>
          <p:nvSpPr>
            <p:cNvPr id="649" name="Line 14"/>
            <p:cNvSpPr/>
            <p:nvPr/>
          </p:nvSpPr>
          <p:spPr>
            <a:xfrm>
              <a:off x="20574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15"/>
            <p:cNvSpPr/>
            <p:nvPr/>
          </p:nvSpPr>
          <p:spPr>
            <a:xfrm>
              <a:off x="22860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16"/>
            <p:cNvSpPr/>
            <p:nvPr/>
          </p:nvSpPr>
          <p:spPr>
            <a:xfrm>
              <a:off x="25146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17"/>
            <p:cNvSpPr/>
            <p:nvPr/>
          </p:nvSpPr>
          <p:spPr>
            <a:xfrm>
              <a:off x="27432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18"/>
            <p:cNvSpPr/>
            <p:nvPr/>
          </p:nvSpPr>
          <p:spPr>
            <a:xfrm>
              <a:off x="29718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19"/>
            <p:cNvSpPr/>
            <p:nvPr/>
          </p:nvSpPr>
          <p:spPr>
            <a:xfrm>
              <a:off x="32004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20"/>
            <p:cNvSpPr/>
            <p:nvPr/>
          </p:nvSpPr>
          <p:spPr>
            <a:xfrm>
              <a:off x="34290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21"/>
            <p:cNvSpPr/>
            <p:nvPr/>
          </p:nvSpPr>
          <p:spPr>
            <a:xfrm>
              <a:off x="36576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22"/>
            <p:cNvSpPr/>
            <p:nvPr/>
          </p:nvSpPr>
          <p:spPr>
            <a:xfrm>
              <a:off x="38862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23"/>
            <p:cNvSpPr/>
            <p:nvPr/>
          </p:nvSpPr>
          <p:spPr>
            <a:xfrm>
              <a:off x="41148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4"/>
            <p:cNvSpPr/>
            <p:nvPr/>
          </p:nvSpPr>
          <p:spPr>
            <a:xfrm>
              <a:off x="43434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25"/>
            <p:cNvSpPr/>
            <p:nvPr/>
          </p:nvSpPr>
          <p:spPr>
            <a:xfrm>
              <a:off x="45720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26"/>
            <p:cNvSpPr/>
            <p:nvPr/>
          </p:nvSpPr>
          <p:spPr>
            <a:xfrm>
              <a:off x="48006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27"/>
            <p:cNvSpPr/>
            <p:nvPr/>
          </p:nvSpPr>
          <p:spPr>
            <a:xfrm>
              <a:off x="50292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28"/>
            <p:cNvSpPr/>
            <p:nvPr/>
          </p:nvSpPr>
          <p:spPr>
            <a:xfrm>
              <a:off x="52578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29"/>
            <p:cNvSpPr/>
            <p:nvPr/>
          </p:nvSpPr>
          <p:spPr>
            <a:xfrm>
              <a:off x="54864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30"/>
            <p:cNvSpPr/>
            <p:nvPr/>
          </p:nvSpPr>
          <p:spPr>
            <a:xfrm>
              <a:off x="57150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31"/>
            <p:cNvSpPr/>
            <p:nvPr/>
          </p:nvSpPr>
          <p:spPr>
            <a:xfrm>
              <a:off x="59436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32"/>
            <p:cNvSpPr/>
            <p:nvPr/>
          </p:nvSpPr>
          <p:spPr>
            <a:xfrm>
              <a:off x="61722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33"/>
            <p:cNvSpPr/>
            <p:nvPr/>
          </p:nvSpPr>
          <p:spPr>
            <a:xfrm>
              <a:off x="64008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34"/>
            <p:cNvSpPr/>
            <p:nvPr/>
          </p:nvSpPr>
          <p:spPr>
            <a:xfrm>
              <a:off x="66294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35"/>
            <p:cNvSpPr/>
            <p:nvPr/>
          </p:nvSpPr>
          <p:spPr>
            <a:xfrm>
              <a:off x="68580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36"/>
            <p:cNvSpPr/>
            <p:nvPr/>
          </p:nvSpPr>
          <p:spPr>
            <a:xfrm>
              <a:off x="70866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37"/>
            <p:cNvSpPr/>
            <p:nvPr/>
          </p:nvSpPr>
          <p:spPr>
            <a:xfrm>
              <a:off x="73152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Rectangle 38"/>
          <p:cNvSpPr/>
          <p:nvPr/>
        </p:nvSpPr>
        <p:spPr>
          <a:xfrm>
            <a:off x="3276720" y="5181480"/>
            <a:ext cx="304560" cy="228600"/>
          </a:xfrm>
          <a:prstGeom prst="rect">
            <a:avLst/>
          </a:prstGeom>
          <a:solidFill>
            <a:srgbClr val="a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39"/>
          <p:cNvSpPr/>
          <p:nvPr/>
        </p:nvSpPr>
        <p:spPr>
          <a:xfrm>
            <a:off x="5562720" y="5181480"/>
            <a:ext cx="304560" cy="228600"/>
          </a:xfrm>
          <a:prstGeom prst="rect">
            <a:avLst/>
          </a:prstGeom>
          <a:solidFill>
            <a:srgbClr val="a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40"/>
          <p:cNvSpPr/>
          <p:nvPr/>
        </p:nvSpPr>
        <p:spPr>
          <a:xfrm>
            <a:off x="3429000" y="3505320"/>
            <a:ext cx="0" cy="182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41"/>
          <p:cNvSpPr/>
          <p:nvPr/>
        </p:nvSpPr>
        <p:spPr>
          <a:xfrm>
            <a:off x="5715000" y="3505320"/>
            <a:ext cx="0" cy="182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2"/>
          <p:cNvSpPr/>
          <p:nvPr/>
        </p:nvSpPr>
        <p:spPr>
          <a:xfrm>
            <a:off x="3276720" y="5105520"/>
            <a:ext cx="304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3"/>
          <p:cNvSpPr/>
          <p:nvPr/>
        </p:nvSpPr>
        <p:spPr>
          <a:xfrm>
            <a:off x="5562720" y="5105520"/>
            <a:ext cx="304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44"/>
          <p:cNvSpPr/>
          <p:nvPr/>
        </p:nvSpPr>
        <p:spPr>
          <a:xfrm>
            <a:off x="-3240" y="4343400"/>
            <a:ext cx="9144000" cy="2971800"/>
          </a:xfrm>
          <a:custGeom>
            <a:avLst/>
            <a:gdLst>
              <a:gd name="textAreaLeft" fmla="*/ 0 w 9144000"/>
              <a:gd name="textAreaRight" fmla="*/ 9144360 w 9144000"/>
              <a:gd name="textAreaTop" fmla="*/ 471240 h 2971800"/>
              <a:gd name="textAreaBottom" fmla="*/ 2500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713"/>
                </a:moveTo>
                <a:cubicBezTo>
                  <a:pt x="7200" y="-4355"/>
                  <a:pt x="14400" y="7781"/>
                  <a:pt x="21600" y="1713"/>
                </a:cubicBezTo>
                <a:lnTo>
                  <a:pt x="21600" y="19887"/>
                </a:lnTo>
                <a:cubicBezTo>
                  <a:pt x="14400" y="25955"/>
                  <a:pt x="7200" y="13819"/>
                  <a:pt x="0" y="19887"/>
                </a:cubicBezTo>
                <a:close/>
              </a:path>
            </a:pathLst>
          </a:custGeom>
          <a:solidFill>
            <a:srgbClr val="0000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5"/>
          <p:cNvSpPr/>
          <p:nvPr/>
        </p:nvSpPr>
        <p:spPr>
          <a:xfrm>
            <a:off x="3276720" y="5334120"/>
            <a:ext cx="304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6"/>
          <p:cNvSpPr/>
          <p:nvPr/>
        </p:nvSpPr>
        <p:spPr>
          <a:xfrm>
            <a:off x="5562720" y="5334120"/>
            <a:ext cx="304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47"/>
          <p:cNvSpPr/>
          <p:nvPr/>
        </p:nvSpPr>
        <p:spPr>
          <a:xfrm>
            <a:off x="2156040" y="4572000"/>
            <a:ext cx="511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BADO POR PLAS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48"/>
          <p:cNvSpPr/>
          <p:nvPr/>
        </p:nvSpPr>
        <p:spPr>
          <a:xfrm>
            <a:off x="-15840" y="4343400"/>
            <a:ext cx="9144000" cy="2971800"/>
          </a:xfrm>
          <a:custGeom>
            <a:avLst/>
            <a:gdLst>
              <a:gd name="textAreaLeft" fmla="*/ 0 w 9144000"/>
              <a:gd name="textAreaRight" fmla="*/ 9144360 w 9144000"/>
              <a:gd name="textAreaTop" fmla="*/ 471240 h 2971800"/>
              <a:gd name="textAreaBottom" fmla="*/ 2500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713"/>
                </a:moveTo>
                <a:cubicBezTo>
                  <a:pt x="7200" y="-4355"/>
                  <a:pt x="14400" y="7781"/>
                  <a:pt x="21600" y="1713"/>
                </a:cubicBezTo>
                <a:lnTo>
                  <a:pt x="21600" y="19887"/>
                </a:lnTo>
                <a:cubicBezTo>
                  <a:pt x="14400" y="25955"/>
                  <a:pt x="7200" y="13819"/>
                  <a:pt x="0" y="19887"/>
                </a:cubicBezTo>
                <a:close/>
              </a:path>
            </a:pathLst>
          </a:custGeom>
          <a:solidFill>
            <a:srgbClr val="0000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49"/>
          <p:cNvGrpSpPr/>
          <p:nvPr/>
        </p:nvGrpSpPr>
        <p:grpSpPr>
          <a:xfrm>
            <a:off x="3276720" y="5410080"/>
            <a:ext cx="2590560" cy="228600"/>
            <a:chOff x="3276720" y="5410080"/>
            <a:chExt cx="2590560" cy="228600"/>
          </a:xfrm>
        </p:grpSpPr>
        <p:sp>
          <p:nvSpPr>
            <p:cNvPr id="685" name="Line 50"/>
            <p:cNvSpPr/>
            <p:nvPr/>
          </p:nvSpPr>
          <p:spPr>
            <a:xfrm>
              <a:off x="3276720" y="5410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51"/>
            <p:cNvSpPr/>
            <p:nvPr/>
          </p:nvSpPr>
          <p:spPr>
            <a:xfrm>
              <a:off x="3581280" y="5410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52"/>
            <p:cNvSpPr/>
            <p:nvPr/>
          </p:nvSpPr>
          <p:spPr>
            <a:xfrm>
              <a:off x="5562720" y="5410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53"/>
            <p:cNvSpPr/>
            <p:nvPr/>
          </p:nvSpPr>
          <p:spPr>
            <a:xfrm>
              <a:off x="5867280" y="5410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AutoShape 54"/>
          <p:cNvSpPr/>
          <p:nvPr/>
        </p:nvSpPr>
        <p:spPr>
          <a:xfrm>
            <a:off x="1447920" y="3048120"/>
            <a:ext cx="761760" cy="8380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55"/>
          <p:cNvSpPr/>
          <p:nvPr/>
        </p:nvSpPr>
        <p:spPr>
          <a:xfrm>
            <a:off x="4343400" y="2133720"/>
            <a:ext cx="838080" cy="7617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56"/>
          <p:cNvSpPr/>
          <p:nvPr/>
        </p:nvSpPr>
        <p:spPr>
          <a:xfrm>
            <a:off x="5867280" y="3886200"/>
            <a:ext cx="838440" cy="6858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57"/>
          <p:cNvSpPr/>
          <p:nvPr/>
        </p:nvSpPr>
        <p:spPr>
          <a:xfrm>
            <a:off x="3506040" y="118260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58"/>
          <p:cNvSpPr/>
          <p:nvPr/>
        </p:nvSpPr>
        <p:spPr>
          <a:xfrm>
            <a:off x="3645000" y="118116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B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59"/>
          <p:cNvSpPr/>
          <p:nvPr/>
        </p:nvSpPr>
        <p:spPr>
          <a:xfrm>
            <a:off x="2286000" y="2057400"/>
            <a:ext cx="10666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í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val 60"/>
          <p:cNvSpPr/>
          <p:nvPr/>
        </p:nvSpPr>
        <p:spPr>
          <a:xfrm>
            <a:off x="3657600" y="3200400"/>
            <a:ext cx="10666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í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61"/>
          <p:cNvSpPr/>
          <p:nvPr/>
        </p:nvSpPr>
        <p:spPr>
          <a:xfrm>
            <a:off x="6248520" y="2133720"/>
            <a:ext cx="10666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í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62"/>
          <p:cNvSpPr/>
          <p:nvPr/>
        </p:nvSpPr>
        <p:spPr>
          <a:xfrm>
            <a:off x="2044440" y="1611360"/>
            <a:ext cx="53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osición de la Fotoresina en el Sistema Gira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63"/>
          <p:cNvSpPr/>
          <p:nvPr/>
        </p:nvSpPr>
        <p:spPr>
          <a:xfrm>
            <a:off x="3357000" y="1590840"/>
            <a:ext cx="23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neación del Patr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64"/>
          <p:cNvSpPr/>
          <p:nvPr/>
        </p:nvSpPr>
        <p:spPr>
          <a:xfrm>
            <a:off x="3432600" y="161460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osición a la Lu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65"/>
          <p:cNvSpPr/>
          <p:nvPr/>
        </p:nvSpPr>
        <p:spPr>
          <a:xfrm>
            <a:off x="1335960" y="1614600"/>
            <a:ext cx="66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Enlaces Químicos son Modificados en las Áreas Expue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66"/>
          <p:cNvSpPr/>
          <p:nvPr/>
        </p:nvSpPr>
        <p:spPr>
          <a:xfrm>
            <a:off x="1851840" y="1611360"/>
            <a:ext cx="528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olución de la Fotoresina Expuesta al Reve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67"/>
          <p:cNvSpPr/>
          <p:nvPr/>
        </p:nvSpPr>
        <p:spPr>
          <a:xfrm>
            <a:off x="1513440" y="1611360"/>
            <a:ext cx="63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ción de la Fotoresina (Grabado/Implantación de Io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68"/>
          <p:cNvSpPr/>
          <p:nvPr/>
        </p:nvSpPr>
        <p:spPr>
          <a:xfrm>
            <a:off x="3124080" y="6110280"/>
            <a:ext cx="2895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otencial Negat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69"/>
          <p:cNvSpPr/>
          <p:nvPr/>
        </p:nvSpPr>
        <p:spPr>
          <a:xfrm>
            <a:off x="1225800" y="1224000"/>
            <a:ext cx="652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encia de Patrón y Modificación del Sustrato Fin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WordArt 70"/>
          <p:cNvSpPr txBox="1"/>
          <p:nvPr/>
        </p:nvSpPr>
        <p:spPr>
          <a:xfrm>
            <a:off x="3672000" y="3809880"/>
            <a:ext cx="158580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LOR</a:t>
            </a:r>
            <a:endParaRPr b="0" lang="en-US" sz="17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6" name="Rectangle 71"/>
          <p:cNvSpPr/>
          <p:nvPr/>
        </p:nvSpPr>
        <p:spPr>
          <a:xfrm>
            <a:off x="2286000" y="5638680"/>
            <a:ext cx="449568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72"/>
          <p:cNvSpPr/>
          <p:nvPr/>
        </p:nvSpPr>
        <p:spPr>
          <a:xfrm>
            <a:off x="844920" y="1195560"/>
            <a:ext cx="72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CIMIENTO O DEPOSICIÓN DE LA PELÍC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Oval 73"/>
          <p:cNvSpPr/>
          <p:nvPr/>
        </p:nvSpPr>
        <p:spPr>
          <a:xfrm>
            <a:off x="-1828800" y="3200400"/>
            <a:ext cx="1752480" cy="3808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í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74"/>
          <p:cNvGrpSpPr/>
          <p:nvPr/>
        </p:nvGrpSpPr>
        <p:grpSpPr>
          <a:xfrm>
            <a:off x="0" y="1905120"/>
            <a:ext cx="8763120" cy="4419360"/>
            <a:chOff x="0" y="1905120"/>
            <a:chExt cx="8763120" cy="4419360"/>
          </a:xfrm>
        </p:grpSpPr>
        <p:sp>
          <p:nvSpPr>
            <p:cNvPr id="710" name="Line 75"/>
            <p:cNvSpPr/>
            <p:nvPr/>
          </p:nvSpPr>
          <p:spPr>
            <a:xfrm>
              <a:off x="380880" y="19051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76"/>
            <p:cNvSpPr/>
            <p:nvPr/>
          </p:nvSpPr>
          <p:spPr>
            <a:xfrm>
              <a:off x="380880" y="1905120"/>
              <a:ext cx="838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77"/>
            <p:cNvSpPr/>
            <p:nvPr/>
          </p:nvSpPr>
          <p:spPr>
            <a:xfrm>
              <a:off x="380880" y="3657600"/>
              <a:ext cx="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78"/>
            <p:cNvSpPr/>
            <p:nvPr/>
          </p:nvSpPr>
          <p:spPr>
            <a:xfrm>
              <a:off x="380880" y="6324480"/>
              <a:ext cx="838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79"/>
            <p:cNvSpPr/>
            <p:nvPr/>
          </p:nvSpPr>
          <p:spPr>
            <a:xfrm>
              <a:off x="8763120" y="1905120"/>
              <a:ext cx="0" cy="441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80"/>
            <p:cNvSpPr/>
            <p:nvPr/>
          </p:nvSpPr>
          <p:spPr>
            <a:xfrm flipH="1">
              <a:off x="0" y="3124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81"/>
            <p:cNvSpPr/>
            <p:nvPr/>
          </p:nvSpPr>
          <p:spPr>
            <a:xfrm flipH="1">
              <a:off x="0" y="3657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Text Box 82"/>
          <p:cNvSpPr/>
          <p:nvPr/>
        </p:nvSpPr>
        <p:spPr>
          <a:xfrm>
            <a:off x="1865880" y="1181160"/>
            <a:ext cx="53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IFICACIÓN DE LA SUPERFI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83"/>
          <p:cNvSpPr/>
          <p:nvPr/>
        </p:nvSpPr>
        <p:spPr>
          <a:xfrm>
            <a:off x="3276720" y="5638680"/>
            <a:ext cx="30456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84"/>
          <p:cNvSpPr/>
          <p:nvPr/>
        </p:nvSpPr>
        <p:spPr>
          <a:xfrm>
            <a:off x="3733920" y="4952880"/>
            <a:ext cx="30456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85"/>
          <p:cNvSpPr/>
          <p:nvPr/>
        </p:nvSpPr>
        <p:spPr>
          <a:xfrm>
            <a:off x="4343400" y="4952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86"/>
          <p:cNvSpPr/>
          <p:nvPr/>
        </p:nvSpPr>
        <p:spPr>
          <a:xfrm>
            <a:off x="5029200" y="4952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87"/>
          <p:cNvSpPr/>
          <p:nvPr/>
        </p:nvSpPr>
        <p:spPr>
          <a:xfrm>
            <a:off x="5562720" y="5638680"/>
            <a:ext cx="30456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88"/>
          <p:cNvSpPr/>
          <p:nvPr/>
        </p:nvSpPr>
        <p:spPr>
          <a:xfrm>
            <a:off x="6172200" y="4952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89"/>
          <p:cNvSpPr/>
          <p:nvPr/>
        </p:nvSpPr>
        <p:spPr>
          <a:xfrm>
            <a:off x="2666880" y="4952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90"/>
          <p:cNvSpPr/>
          <p:nvPr/>
        </p:nvSpPr>
        <p:spPr>
          <a:xfrm>
            <a:off x="3312360" y="159084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antación de 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91"/>
          <p:cNvSpPr/>
          <p:nvPr/>
        </p:nvSpPr>
        <p:spPr>
          <a:xfrm>
            <a:off x="3543480" y="160020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cido Te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WordArt 92"/>
          <p:cNvSpPr txBox="1"/>
          <p:nvPr/>
        </p:nvSpPr>
        <p:spPr>
          <a:xfrm>
            <a:off x="3733920" y="3809880"/>
            <a:ext cx="158580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LOR</a:t>
            </a:r>
            <a:endParaRPr b="0" lang="en-US" sz="17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8" name="Oval 93"/>
          <p:cNvSpPr/>
          <p:nvPr/>
        </p:nvSpPr>
        <p:spPr>
          <a:xfrm>
            <a:off x="3276720" y="5638680"/>
            <a:ext cx="30456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94"/>
          <p:cNvSpPr/>
          <p:nvPr/>
        </p:nvSpPr>
        <p:spPr>
          <a:xfrm>
            <a:off x="5562720" y="5638680"/>
            <a:ext cx="30456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95"/>
          <p:cNvSpPr/>
          <p:nvPr/>
        </p:nvSpPr>
        <p:spPr>
          <a:xfrm>
            <a:off x="5562720" y="56386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96"/>
          <p:cNvSpPr/>
          <p:nvPr/>
        </p:nvSpPr>
        <p:spPr>
          <a:xfrm>
            <a:off x="3276720" y="56386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26 2.22222E-006 C 0.08976 0.00162 0.1415 0.00555 0.20226 0.00833 C 0.2592 0.00741 0.31615 0.00833 0.37309 0.00555 C 0.3783 0.00532 0.38247 -0.00162 0.38768 -0.00278 C 0.41268 -0.00834 0.4375 -0.0125 0.46268 -0.01667 C 0.47587 -0.01574 0.48907 -0.01597 0.50226 -0.01389 C 0.5066 -0.0132 0.51042 -0.00949 0.51476 -0.00834 C 0.53125 -0.00394 0.54497 0.00694 0.56059 0.01389 C 0.58542 0.00278 0.58733 0.03842 0.60018 0.05555 C 0.60539 0.07639 0.59827 0.05069 0.60643 0.07222 C 0.60938 0.08009 0.60973 0.08935 0.61268 0.09722 C 0.61528 0.1044 0.6198 0.10995 0.62309 0.11666 C 0.62934 0.14953 0.6198 0.09745 0.62726 0.14722 C 0.62882 0.15717 0.63056 0.15625 0.63351 0.16666 C 0.63455 0.17014 0.63403 0.17453 0.63559 0.17778 C 0.64271 0.19143 0.65348 0.20046 0.66268 0.21111 C 0.66927 0.21875 0.67535 0.22847 0.68351 0.23333 C 0.69514 0.24028 0.69948 0.23958 0.71268 0.24166 C 0.75087 0.23611 0.77639 0.23657 0.80018 0.19444 C 0.80851 0.16111 0.8125 0.12662 0.79809 0.09444 C 0.79514 0.0787 0.78855 0.07384 0.78143 0.06111 C 0.77743 0.04514 0.78264 0.05926 0.77101 0.04722 C 0.76094 0.0368 0.75434 0.025 0.74184 0.01944 C 0.73021 0.00764 0.7165 0.00185 0.70226 -0.00278 C 0.6698 0.00116 0.63438 0.00486 0.60434 0.025 C 0.59236 0.0331 0.58125 0.04352 0.56893 0.05 C 0.56684 0.0537 0.56493 0.05764 0.56268 0.06111 C 0.55868 0.0669 0.55018 0.07778 0.55018 0.07801 C 0.54705 0.09004 0.54202 0.09143 0.53559 0.1 C 0.52778 0.11041 0.53073 0.11041 0.52518 0.12222 C 0.52032 0.13264 0.51355 0.14004 0.50851 0.15 C 0.50782 0.1537 0.50834 0.15833 0.50643 0.16111 C 0.50313 0.1662 0.49393 0.17222 0.49393 0.17245 C 0.49115 0.18356 0.48785 0.18796 0.47934 0.19166 C 0.47101 0.20995 0.46823 0.21528 0.45226 0.21944 C 0.44427 0.22662 0.43611 0.22662 0.42726 0.23055 C 0.41198 0.2287 0.39653 0.22893 0.38143 0.225 C 0.37535 0.22338 0.36476 0.21389 0.36476 0.21412 C 0.36042 0.19629 0.3625 0.20926 0.36684 0.17778 C 0.36754 0.17222 0.36754 0.16643 0.36893 0.16111 C 0.37396 0.14282 0.37344 0.15116 0.38143 0.14166 C 0.39236 0.1287 0.40226 0.11389 0.41268 0.1 C 0.41493 0.09699 0.41841 0.09653 0.42101 0.09444 C 0.43351 0.08449 0.43143 0.08611 0.43976 0.075 C 0.46545 0.07685 0.49115 0.07801 0.51684 0.08055 C 0.52605 0.08148 0.53056 0.0919 0.53559 0.1 C 0.55348 0.1287 0.58212 0.15116 0.60209 0.17778 C 0.61407 0.19375 0.5882 0.19352 0.60209 0.20833 C 0.63264 0.24097 0.57934 0.20301 0.60834 0.23055 C 0.61042 0.23241 0.60417 0.25532 0.60417 0.25555 E">
                                      <p:cBhvr>
                                        <p:cTn id="29" dur="3000" fill="hold"/>
                                        <p:tgtEl>
                                          <p:spTgt spid="7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20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C -0.00972 0.00208 -0.01944 0.00324 -0.02916 0.00555 C -0.03472 0.00694 -0.04583 0.01111 -0.04583 0.01111 C -0.05191 0.02176 -0.05625 0.02847 -0.05833 0.04166 C -0.05989 0.05092 -0.0625 0.06944 -0.0625 0.06944 C -0.0618 0.09352 -0.06215 0.11759 -0.06041 0.14143 C -0.05937 0.15532 -0.04948 0.16736 -0.04166 0.175 C -0.02378 0.1919 -0.00364 0.19815 0.01667 0.20833 C 0.03473 0.20555 0.05295 0.2044 0.07084 0.2 C 0.07813 0.19815 0.08438 0.1912 0.09167 0.18889 C 0.10556 0.175 0.11545 0.15532 0.125 0.13611 C 0.12986 0.08449 0.14202 0.02847 0.11667 -0.01667 C 0.11598 -0.02037 0.11615 -0.02454 0.11459 -0.02778 C 0.11164 -0.0338 0.10556 -0.03611 0.10209 -0.04167 C 0.08212 -0.07361 0.13264 -0.00371000000000001 0.08334 -0.06945 C 0.08108 -0.07246 0.07743 -0.07246 0.075 -0.075 C 0.05851 -0.09213 0.06719 -0.09722 0.03959 -0.10834 C 0.02066 -0.11597 0.00209 -0.12477 -0.01666 -0.13334 C -0.03472 -0.14167 -0.05746 -0.15486 -0.07708 -0.16111 C -0.11198 -0.17222 -0.14982 -0.17593 -0.18541 -0.18056 C -0.2118 -0.17963 -0.23819 -0.18009 -0.26458 -0.17778 C -0.26892 -0.17732 -0.27291 -0.17431 -0.27708 -0.17222 C -0.29201 -0.16482 -0.30121 -0.15996 -0.31458 -0.15278 C -0.33645 -0.14097 -0.34618 -0.10695 -0.35416 -0.08056 C -0.35625 -0.0632 -0.36215 -0.05047 -0.36458 -0.03334 C -0.36718 -0.01574 -0.37083 0.01944 -0.37083 0.01944 C -0.36875 0.05602 -0.37222 0.0912 -0.35833 0.12222 C -0.35034 0.15972 -0.35955 0.12338 -0.34375 0.16389 C -0.34027 0.17268 -0.32847 0.21366 -0.31875 0.22778 C -0.3033 0.25023 -0.28333 0.26666 -0.26458 0.28333 C -0.26163 0.28588 -0.2592 0.28935 -0.25625 0.29166 C -0.25225 0.29491 -0.24774 0.29676 -0.24375 0.3 C -0.23993 0.30324 -0.2375 0.30879 -0.23333 0.31088 C -0.22882 0.31366 -0.22361 0.3125 -0.21875 0.31389 C -0.20625 0.31713 -0.19392 0.32315 -0.18125 0.32477 C -0.175 0.32592 -0.16875 0.32639 -0.1625 0.32778 C -0.14652 0.33102 -0.11458 0.33866 -0.11458 0.33866 C -0.07291 0.33541 -0.03073 0.33727 0.01042 0.32778 C 0.03542 0.32199 0.05625 0.30717 0.08125 0.3 C 0.12084 0.26389 0.10209 0.27616 0.13542 0.25833 C 0.1816 0.18634 0.1099 0.29352 0.16667 0.225 C 0.18056 0.20833 0.19202 0.18842 0.20417 0.16921 C 0.21216 0.15671 0.21945 0.14352 0.22709 0.13055 C 0.22986 0.12592 0.23542 0.11666 0.23542 0.11666 C 0.23976 0.09375 0.24098 0.07291 0.25 0.05278 C 0.25365 0.01828 0.25643 -0.01343 0.24792 -0.04722 C 0.24705 -0.05047 0.24341 -0.05047 0.24167 -0.05278 C 0.23299 -0.06435 0.23212 -0.06736 0.22084 -0.075 C 0.20591 -0.08496 0.18889 -0.08681 0.17292 -0.09445 C 0.15521 -0.10301 0.17535 -0.1007 0.14584 -0.10556 C 0.13542 -0.10718 0.125 -0.10741 0.11459 -0.10834 C 0.08056 -0.10741 0.04653 -0.10718 0.0125 -0.10556 C -0.00972 -0.10463 -0.03194 -0.09722 -0.05416 -0.09445 C -0.08628 -0.08148 -0.12257 -0.07523 -0.15208 -0.05278 C -0.17864 -0.03241 -0.14774 -0.05116 -0.17083 -0.03056 C -0.17604 -0.02593 -0.18194 -0.02315 -0.1875 -0.01945 C -0.21267 0.02523 -0.22899 0.05995 -0.2375 0.11666 C -0.2368 0.13333 -0.23784 0.15 -0.23541 0.16666 C -0.23489 0.16991 -0.23073 0.16967 -0.22916 0.17222 C -0.22795 0.1743 -0.22534 0.19051 -0.225 0.19166 C -0.22413 0.19444 -0.2151 0.21041 -0.21458 0.21111 C -0.20364 0.22569 -0.20955 0.21389 -0.19791 0.225 C -0.19045 0.23217 -0.19375 0.23426 -0.18541 0.23889 C -0.15764 0.25486 -0.19305 0.23102 -0.17083 0.24444 C -0.14392 0.26065 -0.13333 0.26296 -0.10208 0.26666 C -0.0875 0.26574 -0.07291 0.26551 -0.05833 0.26389 C -0.04843 0.26273 -0.04427 0.25116 -0.0375 0.24722 C -0.03368 0.24491 -0.02916 0.24537 -0.025 0.24444 C -0.01024 0.22477 -0.00833 0.22639 0.01042 0.21389 C 0.01181 0.21018 0.01233 0.20555 0.01459 0.20278 C 0.03143 0.18287 0.02535 0.20069 0.03542 0.18333 C 0.04236 0.17153 0.05851 0.14467 0.0625 0.13055 C 0.06459 0.12291 0.06632 0.11551 0.06875 0.10833 C 0.07431 0.0919 0.08334 0.0743 0.08334 0.05555 E">
                                      <p:cBhvr>
                                        <p:cTn id="234" dur="3000" fill="hold"/>
                                        <p:tgtEl>
                                          <p:spTgt spid="6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C -0.00243 0.02291 -0.00278 0.02153 -0.0125 0.03889 C -0.01736 0.05833 -0.0125 0.0537 -0.02292 0.05833 C -0.03056 0.07176 -0.03976 0.08472 -0.05209 0.08889 C -0.08507 0.12176 -0.06059 0.10116 -0.15417 0.09166 C -0.17136 0.08981 -0.18299 0.07592 -0.19792 0.06666 C -0.23698 0.04259 -0.27969 0.0044 -0.30417 -0.04445 C -0.30486 -0.05 -0.30504 -0.05579 -0.30625 -0.06111 C -0.30712 -0.06505 -0.30973 -0.06829 -0.31042 -0.07222 C -0.31181 -0.08033 -0.31181 -0.08889 -0.3125 -0.09722 C -0.31111 -0.1507 -0.31511 -0.20185 -0.2875 -0.24445 C -0.28004 -0.25602 -0.26389 -0.2794 -0.25209 -0.28889 C -0.24896 -0.29144 -0.24514 -0.29283 -0.24167 -0.29445 C -0.2375 -0.29653 -0.22917 -0.3 -0.22917 -0.3 C -0.19636 -0.29584 -0.15018 -0.30648 -0.1375 -0.25556 C -0.13941 -0.22593 -0.13681 -0.17986 -0.15209 -0.15278 C -0.15625 -0.13125 -0.15955 -0.11343 -0.17292 -0.1 C -0.18768 -0.06574 -0.20591 -0.04329 -0.22709 -0.01667 C -0.23629 -0.00509 -0.24514 0.00741 -0.25417 0.01944 C -0.25729 0.02361 -0.25903 0.02963 -0.2625 0.03333 C -0.28698 0.05879 -0.32969 0.09305 -0.36042 0.1 C -0.38125 0.09815 -0.40209 0.0956 -0.42292 0.09444 C -0.4257 0.09421 -0.41667 0.1 -0.41459 0.09722 C -0.4125 0.09444 -0.41598 0.08981 -0.41667 0.08611 C -0.41459 0.08333 -0.41042 0.08171 -0.41042 0.07778 C -0.41042 0.07315 -0.41511 0.07083 -0.41667 0.06666 C -0.41997 0.05856 -0.4224 0.05023 -0.425 0.04166 C -0.43247 0.01713 -0.43594 -0.0088 -0.44375 -0.03334 C -0.44723 -0.09028 -0.44792 -0.08426 -0.44375 -0.16667 C -0.44271 -0.1882 -0.4349 -0.2081 -0.42917 -0.22778 C -0.42188 -0.25301 -0.41736 -0.28172 -0.40834 -0.30556 C -0.40174 -0.32315 -0.39045 -0.34283 -0.38125 -0.35834 C -0.37848 -0.37315 -0.37361 -0.37662 -0.36667 -0.38889 C -0.36216 -0.40672 -0.35052 -0.41505 -0.3375 -0.41945 C -0.32622 -0.4294 -0.33438 -0.42408 -0.31459 -0.42778 C -0.3007 -0.43033 -0.27292 -0.43611 -0.27292 -0.43611 C -0.2132 -0.4294 -0.23664 -0.43334 -0.19584 -0.41667 C -0.18681 -0.41297 -0.18056 -0.40718 -0.17292 -0.4 C -0.16875 -0.39607 -0.16042 -0.38889 -0.16042 -0.38889 C -0.15677 -0.36898 -0.1507 -0.37523 -0.14375 -0.35834 C -0.13351 -0.3331 -0.14393 -0.34306 -0.12917 -0.33334 C -0.12622 -0.31713 -0.11754 -0.30023 -0.11042 -0.28611 C -0.10504 -0.25741 -0.10938 -0.27014 -0.09792 -0.24722 C -0.08177 -0.16158 -0.08611 -0.27408 -0.09375 -0.06389 C -0.09445 -0.04283 -0.09827 -0.02338 -0.10625 -0.00556 C -0.10816 0.00509 -0.1099 0.01759 -0.1125 0.02778 C -0.11598 0.04143 -0.12327 0.05023 -0.12917 0.06111 C -0.13091 0.06458 -0.13125 0.06898 -0.13334 0.07222 C -0.1408 0.08379 -0.15313 0.08773 -0.1625 0.09444 C -0.16563 0.09676 -0.16789 0.10046 -0.17084 0.10278 C -0.17726 0.10764 -0.18264 0.10879 -0.18959 0.11111 C -0.21528 0.10995 -0.24184 0.11458 -0.26667 0.10555 C -0.27604 0.10208 -0.28229 0.09491 -0.29167 0.09166 C -0.29532 0.08866 -0.31059 0.07731 -0.3125 0.07222 C -0.31372 0.06875 -0.31111 0.06481 -0.31042 0.06111 C -0.33108 -0.00323999999999999 -0.32049 -0.0757 -0.29792 -0.13611 C -0.29601 -0.14144 -0.29618 -0.14815 -0.29375 -0.15278 C -0.29115 -0.15834 -0.28646 -0.16158 -0.28334 -0.16667 C -0.27396 -0.18195 -0.27604 -0.18611 -0.26459 -0.2 C -0.26164 -0.20371 -0.25729 -0.20486 -0.25417 -0.20834 C -0.23021 -0.23449 -0.21962 -0.25672 -0.18959 -0.26667 C -0.16858 -0.28357 -0.19045 -0.26736 -0.16667 -0.28056 C -0.16007 -0.28426 -0.15452 -0.29097 -0.14792 -0.29445 C -0.13473 -0.30139 -0.12709 -0.30093 -0.1125 -0.30278 C -0.06111 -0.32153 -0.08525 -0.31574 0.00833 -0.30834 C 0.01076 -0.3081 0.01232 -0.30417 0.01458 -0.30278 C 0.01892 -0.3 0.02725 -0.29838 0.03125 -0.29722 C 0.03854 -0.28241 0.04323 -0.26783 0.05 -0.25278 C 0.05173 -0.24329 0.05607 -0.23472 0.05625 -0.225 C 0.05677 -0.2 0.05607 -0.175 0.05416 -0.15 C 0.05399 -0.14699 0.05104 -0.14468 0.05 -0.14167 C 0.04218 -0.11644 0.03941 -0.09977 0.02708 -0.07778 C 0.02621 -0.07222 0.02586 -0.05556 0.01875 -0.05556 E">
                                      <p:cBhvr>
                                        <p:cTn id="236" dur="5000" fill="hold"/>
                                        <p:tgtEl>
                                          <p:spTgt spid="6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98 -0.02129 0.01753 -0.0449 0.03541 -0.05277 C 0.05486 -0.0787 0.07118 -0.09004 0.09791 -0.09444 C 0.1158 -0.10648 0.11597 -0.10254 0.14166 -0.1 C 0.15173 -0.09004 0.16267 -0.08194 0.17291 -0.07222 C 0.17569 -0.06944 0.17847 -0.06643 0.18125 -0.06389 C 0.18541 -0.05995 0.19375 -0.05277 0.19375 -0.05277 C 0.19774 -0.03703 0.20642 -0.02453 0.21041 -0.00833 C 0.2118 0.01366 0.21666 0.03889 0.2125 0.06111 C 0.21198 0.06436 0.20937 0.06644 0.20833 0.06945 C 0.19948 0.09283 0.19496 0.09861 0.17916 0.11389 C 0.1717 0.12107 0.16892 0.12963 0.16041 0.13334 C 0.14687 0.14699 0.12899 0.15 0.1125 0.15278 C 0.10208 0.15186 0.09149 0.15232 0.08125 0.15 C 0.07239 0.14792 0.06441 0.12477 0.05833 0.11667 C 0.0533 0.09653 0.05659 0.10486 0.05 0.09167 C 0.04531 0.05394 0.05139 0.03287 0.05625 0 C 0.05711 -0.00555 0.05659 -0.01157 0.05833 -0.01666 C 0.05955 -0.02037 0.06284 -0.02176 0.06458 -0.025 C 0.06632 -0.02847 0.06753 -0.03217 0.06875 -0.03611 C 0.07621 -0.06111 0.06857 -0.0449 0.07916 -0.06389 C 0.08055 -0.06944 0.0809 -0.07569 0.08333 -0.08055 C 0.09444 -0.10277 0.0934 -0.0912 0.10416 -0.10555 C 0.10659 -0.10879 0.10781 -0.11365 0.11041 -0.11666 C 0.11961 -0.12754 0.13177 -0.13449 0.14166 -0.14444 C 0.14444 -0.14722 0.14687 -0.15069 0.15 -0.15277 C 0.1526 -0.15439 0.15555 -0.15463 0.15833 -0.15555 C 0.17222 -0.17407 0.15729 -0.15671 0.17083 -0.16666 C 0.19514 -0.18472 0.17152 -0.17245 0.19583 -0.18333 C 0.19791 -0.18426 0.20989 -0.19699 0.21041 -0.19722 C 0.21302 -0.19884 0.21614 -0.19861 0.21875 -0.2 C 0.2217 -0.20139 0.22413 -0.20393 0.22708 -0.20555 C 0.23107 -0.20764 0.23958 -0.21111 0.23958 -0.21111 C 0.26458 -0.20926 0.28975 -0.20926 0.31458 -0.20555 C 0.325 -0.20393 0.34461 -0.19421 0.35625 -0.19166 C 0.36232 -0.18634 0.36961 -0.18426 0.375 -0.17777 C 0.38437 -0.16666 0.39323 -0.15347 0.40208 -0.14166 C 0.4085 -0.1331 0.41128 -0.12338 0.41875 -0.11666 C 0.4217 -0.10509 0.42604 -0.10139 0.43125 -0.09166 C 0.43993 -0.07546 0.44166 -0.0625 0.45416 -0.05 C 0.45937 -0.02939 0.46111 -0.03125 0.47083 -0.01389 C 0.47274 -0.0037 0.47517 0.00648 0.47708 0.01667 C 0.47604 0.0588 0.48055 0.10278 0.4625 0.13889 C 0.45885 0.15834 0.46302 0.14213 0.45416 0.16111 C 0.44461 0.18172 0.45573 0.1625 0.44583 0.18611 C 0.44149 0.19653 0.43489 0.20486 0.42916 0.21389 C 0.4276 0.21644 0.42708 0.22037 0.425 0.22223 C 0.42257 0.22431 0.41944 0.22408 0.41666 0.225 C 0.40902 0.24005 0.40034 0.24098 0.38958 0.25 C 0.35833 0.27616 0.32569 0.29028 0.28958 0.3 C 0.28107 0.30232 0.27291 0.30926 0.26458 0.31111 C 0.25642 0.31297 0.24791 0.31297 0.23958 0.31389 C 0.22777 0.31297 0.2158 0.31343 0.20416 0.31111 C 0.19392 0.30903 0.18159 0.3007 0.17083 0.29699 C 0.16007 0.28773 0.14757 0.28033 0.13541 0.27477 C 0.12899 0.26644 0.12309 0.26297 0.11458 0.25834 C 0.11059 0.25625 0.10208 0.25278 0.10208 0.25278 C 0.08593 0.23125 0.06892 0.22523 0.05208 0.20834 C 0.03489 0.19121 0.01927 0.17292 0.00416 0.15278 C 0.00173 0.13936 -0.00469 0.13218 -0.00834 0.11945 C -0.01146 0.10787 -0.01354 0.09908 -0.01875 0.08889 C -0.01945 0.08519 -0.01979 0.08125 -0.02084 0.07778 C -0.02188 0.07454 -0.02414 0.07246 -0.025 0.06945 C -0.03455 0.03449 -0.02396 0.05764 -0.03334 0.03889 C -0.03455 0.03172 -0.03768 0.01713 -0.0375 0.01111 C -0.03646 -0.03379 -0.03733 -0.125 0.00625 -0.14444 C 0.01319 -0.14352 0.02048 -0.14444 0.02708 -0.14166 C 0.02986 -0.14051 0.03107 -0.13588 0.03333 -0.13333 C 0.04479 -0.12014 0.05607 -0.10324 0.06458 -0.08611 C 0.06527 -0.0824 0.0658 -0.0787 0.06666 -0.075 C 0.06788 -0.06944 0.07083 -0.05833 0.07083 -0.05833 C 0.06979 -0.02592 0.07864 0.01343 0.05625 0.03334 C 0.05347 0.04468 0.04809 0.04838 0.03958 0.05255 C 0.03698 0.05394 0.03125 0.05556 0.03125 0.05556 E">
                                      <p:cBhvr>
                                        <p:cTn id="238" dur="5000" fill="hold"/>
                                        <p:tgtEl>
                                          <p:spTgt spid="6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03 0.00741 0.02101 0.01065 0.02709 0.02222 C 0.02969 0.02708 0.01459 0.02778 0.01459 0.02778 C 0.00556 0.06389 0.01077 0.03866 0.00625 0.10556 C 0.00695 0.11852 0.00556 0.13194 0.00834 0.14444 C 0.01007 0.15255 0.02587 0.1588 0.03125 0.16111 C 0.03334 0.16389 0.03507 0.16736 0.0375 0.16944 C 0.03941 0.17106 0.04393 0.16921 0.04375 0.17222 C 0.04236 0.19861 0.0382 0.20347 0.02917 0.21944 C 0.0316 0.26227 0.02622 0.2456 0.03959 0.27222 C 0.04098 0.275 0.04236 0.27778 0.04375 0.28056 C 0.04514 0.28333 0.04792 0.28889 0.04792 0.28889 C 0.04723 0.29722 0.0474 0.30579 0.04584 0.31389 C 0.04462 0.31991 0.04098 0.32477 0.03959 0.33056 C 0.04323 0.36389 0.03698 0.34097 0.04792 0.35556 C 0.04966 0.35787 0.05035 0.36157 0.05209 0.36389 C 0.05695 0.37037 0.07084 0.375 0.07084 0.375 C 0.07657 0.35231 0.06806 0.38819 0.075 0.34167 C 0.07587 0.33588 0.07917 0.325 0.07917 0.325 C 0.07622 0.29954 0.06875 0.28796 0.08334 0.275 C 0.09236 0.25694 0.08143 0.275 0.09584 0.26389 C 0.11771 0.24722 0.08889 0.26134 0.10834 0.25278 C 0.11823 0.23287 0.11545 0.24259 0.11875 0.225 C 0.11719 0.21296 0.11164 0.19398 0.11667 0.18056 C 0.12032 0.1706 0.13125 0.1662 0.13125 0.15278 E">
                                      <p:cBhvr>
                                        <p:cTn id="240" dur="5000" fill="hold"/>
                                        <p:tgtEl>
                                          <p:spTgt spid="6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625 0.00556 0.0125 0.00834 0.01875 0.01389 C 0.01667 0.02037 0.0158 0.02778 0.0125 0.03334 C 0.00938 0.03843 0.00417 0.04075 0 0.04445 C -0.00208 0.0463 -0.00625 0.05 -0.00625 0.05 C -0.0099 0.06436 -0.01181 0.07315 -0.00833 0.08889 C -0.00694 0.09491 -0.00347 0.09977 -0.00208 0.10556 C -0.00139 0.11575 -0.00226 0.12639 0 0.13612 C 0.00156 0.14283 0.02153 0.14537 0.02708 0.14723 C 0.03021 0.15973 0.03472 0.1713 0.04167 0.18056 C 0.04514 0.19954 0.04896 0.19422 0.06458 0.19723 C 0.06528 0.2 0.06528 0.20325 0.06667 0.20556 C 0.07031 0.21181 0.07917 0.22223 0.07917 0.22223 C 0.08611 0.2213 0.0934 0.22223 0.1 0.21945 C 0.10486 0.21737 0.10833 0.21204 0.1125 0.20834 C 0.11632 0.20487 0.12118 0.20348 0.125 0.2 C 0.12587 0.20325 0.1283 0.21528 0.13125 0.21667 C 0.13403 0.21783 0.13681 0.21482 0.13958 0.21389 C 0.15156 0.19005 0.13559 0.21806 0.15 0.20278 C 0.15191 0.2007 0.15243 0.19676 0.15417 0.19445 C 0.1559 0.19213 0.15833 0.19075 0.16042 0.18889 C 0.16997 0.19098 0.1783 0.19422 0.1875 0.19723 C 0.19462 0.20348 0.2 0.20556 0.20833 0.20834 C 0.21528 0.20741 0.22309 0.21019 0.22917 0.20556 C 0.23299 0.20255 0.2309 0.19375 0.23333 0.18889 C 0.23872 0.17801 0.23507 0.18172 0.24375 0.17778 C 0.25139 0.17871 0.25938 0.17778 0.26667 0.18056 C 0.26944 0.18172 0.27066 0.18635 0.27292 0.18889 C 0.2809 0.19815 0.27934 0.1963 0.2875 0.2 C 0.29028 0.19815 0.29288 0.19607 0.29583 0.19445 C 0.29983 0.19237 0.30833 0.18889 0.30833 0.18889 C 0.31146 0.16389 0.31806 0.14815 0.33125 0.13056 C 0.33264 0.125 0.33507 0.11968 0.33542 0.11389 C 0.33628 0.09908 0.33507 0.07014 0.34375 0.05556 C 0.35191 0.0419 0.35399 0.04098 0.3625 0.03334 C 0.36389 0.03056 0.36667 0.02825 0.36667 0.025 C 0.36667 0.01968 0.36267 -0.00625 0.36042 -0.01666 C 0.3599 -0.01944 0.35972 -0.02268 0.35833 -0.025 C 0.35677 -0.02754 0.35417 -0.0287 0.35208 -0.03055 C 0.34983 -0.03981 0.35226 -0.03888 0.34792 -0.03888 E">
                                      <p:cBhvr>
                                        <p:cTn id="242" dur="5000" fill="hold"/>
                                        <p:tgtEl>
                                          <p:spTgt spid="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5 0.00417 0.00973 0.00741 0.01875 0.01944 C 0.01806 0.02407 0.01893 0.02963 0.01667 0.03333 C 0.01355 0.03866 0.00764 0.03981 0.00417 0.04444 C -0.00764 0.06019 -0.02118 0.05903 -0.0375 0.06111 C -0.03941 0.06181 -0.04965 0.06481 -0.05208 0.06667 C -0.05642 0.06991 -0.06458 0.07778 -0.06458 0.07778 C -0.06718 0.08796 -0.07135 0.09606 -0.075 0.10556 C -0.07656 0.12546 -0.07222 0.16157 -0.0875 0.175 C -0.09687 0.19375 -0.08576 0.17546 -0.09791 0.18611 C -0.11441 0.20069 -0.08923 0.1919 -0.12083 0.19722 C -0.1368 0.20579 -0.12864 0.19931 -0.14375 0.21944 C -0.14583 0.22222 -0.15 0.22778 -0.15 0.22778 C -0.15121 0.23426 -0.15416 0.24051 -0.15416 0.24722 C -0.15416 0.29005 -0.14184 0.29907 -0.11875 0.32222 C -0.1118 0.32917 -0.10937 0.33796 -0.10208 0.34444 C -0.09635 0.36736 -0.09722 0.35532 -0.1 0.38056 C -0.09791 0.39815 -0.09826 0.41667 -0.09375 0.43333 C -0.08958 0.44861 -0.07725 0.45093 -0.06875 0.45833 C -0.05555 0.45741 -0.04236 0.45764 -0.02916 0.45556 C -0.01111 0.45278 -0.00121 0.43218 0.01042 0.41667 C 0.01389 0.40301 0.01407 0.38889 0.01667 0.375 C 0.01823 0.35648 0.01702 0.33727 0.02084 0.31944 C 0.0217 0.31505 0.03073 0.30787 0.03334 0.30556 C 0.03664 0.29213 0.03907 0.29676 0.04792 0.28889 C 0.05157 0.27454 0.06042 0.27477 0.06459 0.25833 C 0.06927 0.23935 0.06632 0.25278 0.07084 0.21667 C 0.07188 0.1963 0.06927 0.16157 0.08542 0.14722 C 0.10417 0.13056 0.0783 0.16065 0.09792 0.13889 C 0.10677 0.12917 0.10886 0.11991 0.1125 0.10556 C 0.1132 0.10278 0.11459 0.09722 0.11459 0.09722 C 0.11528 0.08611 0.11702 0.075 0.11667 0.06389 C 0.11632 0.05069 0.1125 0.025 0.1125 0.025 E">
                                      <p:cBhvr>
                                        <p:cTn id="244" dur="5000" fill="hold"/>
                                        <p:tgtEl>
                                          <p:spTgt spid="6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5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3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0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3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8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7" dur="200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3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3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9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6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los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A lo largo de estos módulos encontrarás palabras y términos impresos en color </a:t>
            </a:r>
            <a:r>
              <a:rPr b="0" lang="es-PR" sz="3200" spc="-1" strike="noStrike">
                <a:solidFill>
                  <a:srgbClr val="0000ff"/>
                </a:solidFill>
                <a:latin typeface="Arial"/>
              </a:rPr>
              <a:t>azul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.  Estas palabras y términos se definen en el Glosario, que se puede abrir haciendo </a:t>
            </a:r>
            <a:r>
              <a:rPr b="0" lang="es-PR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clic aquí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2286000" y="6620040"/>
            <a:ext cx="46483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 esquema precedente mostró los cuatro pasos básicos de la nanofabricación del tipo                   “arriba hacia abajo”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rescimiento o deposició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di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itografía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ransferencia de patr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Grabado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ustr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odificación de mater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ara cambiar las propiedades eléctricas, ópticas, mecánicas o químicas en alguna región de la ca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 que es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y qué se hace por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se orienta la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a visión general de la nanofabricación de arriba hacia abajo y de abajo hacia arrib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nofabricación de arriba hacia 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Nanofabricación de abajo hacia arri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s cla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2"/>
          <p:cNvSpPr/>
          <p:nvPr/>
        </p:nvSpPr>
        <p:spPr>
          <a:xfrm>
            <a:off x="0" y="45720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nofabricación del ti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riba Hacia Abajo” siempre combin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3"/>
          <p:cNvSpPr/>
          <p:nvPr/>
        </p:nvSpPr>
        <p:spPr>
          <a:xfrm>
            <a:off x="838080" y="198108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Fabricación de los Elementos de construcción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 (moléculas, partículas,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 capa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Auto Ensambl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000" spc="-1" strike="noStrike">
                <a:solidFill>
                  <a:srgbClr val="000000"/>
                </a:solidFill>
                <a:latin typeface="Arial"/>
              </a:rPr>
              <a:t>El procedimiento de la nanofabricación del tipo “Abajo Hacia Arrib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uede usar cualquier secuencia de los dos pasos (fabricación de los elementos de construcción y auto ensamblaj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uede brincar uno de los pa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ecuencia comienza con la fabricación de los elementos de constru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de emplear un proceso inherente de transferencia de patrón (debido al ta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ño, a la forma o un enlace químic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Oval 2"/>
          <p:cNvSpPr/>
          <p:nvPr/>
        </p:nvSpPr>
        <p:spPr>
          <a:xfrm>
            <a:off x="1295280" y="838080"/>
            <a:ext cx="6553440" cy="5029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4"/>
          <p:cNvSpPr/>
          <p:nvPr/>
        </p:nvSpPr>
        <p:spPr>
          <a:xfrm>
            <a:off x="3429000" y="533520"/>
            <a:ext cx="182880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bricac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s mate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6"/>
          <p:cNvSpPr/>
          <p:nvPr/>
        </p:nvSpPr>
        <p:spPr>
          <a:xfrm>
            <a:off x="3352680" y="5105520"/>
            <a:ext cx="19814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sambl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utoShape 7"/>
          <p:cNvSpPr/>
          <p:nvPr/>
        </p:nvSpPr>
        <p:spPr>
          <a:xfrm rot="4563600">
            <a:off x="5334120" y="5562360"/>
            <a:ext cx="380880" cy="3808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AutoShape 8"/>
          <p:cNvSpPr/>
          <p:nvPr/>
        </p:nvSpPr>
        <p:spPr>
          <a:xfrm rot="10078800">
            <a:off x="1143000" y="3657240"/>
            <a:ext cx="380880" cy="3808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9"/>
          <p:cNvSpPr/>
          <p:nvPr/>
        </p:nvSpPr>
        <p:spPr>
          <a:xfrm rot="14991000">
            <a:off x="3048120" y="914400"/>
            <a:ext cx="380880" cy="3808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AutoShape 10"/>
          <p:cNvSpPr/>
          <p:nvPr/>
        </p:nvSpPr>
        <p:spPr>
          <a:xfrm rot="19674600">
            <a:off x="7391160" y="2209320"/>
            <a:ext cx="380880" cy="38736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1"/>
          <p:cNvSpPr/>
          <p:nvPr/>
        </p:nvSpPr>
        <p:spPr>
          <a:xfrm>
            <a:off x="3124080" y="259092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a Metodología de Fabricación del tipo “Abajo Hacia Arrib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12"/>
          <p:cNvSpPr/>
          <p:nvPr/>
        </p:nvSpPr>
        <p:spPr>
          <a:xfrm>
            <a:off x="3657600" y="62485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rtesía de CN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/>
          </p:nvPr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amos un ejemplo de com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 usa la nanofabricación de tipo “abajo hacia arriba” para hac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ructuras a nanoesca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2"/>
          <p:cNvSpPr/>
          <p:nvPr/>
        </p:nvSpPr>
        <p:spPr>
          <a:xfrm>
            <a:off x="-685800" y="76320"/>
            <a:ext cx="1043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jemplo de una Secuencia d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 Fabricación del tipo “Abajo Hacia Arrib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8"/>
          <p:cNvSpPr/>
          <p:nvPr/>
        </p:nvSpPr>
        <p:spPr>
          <a:xfrm>
            <a:off x="2133000" y="160020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Funcionaliza la Nanopartíc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19"/>
          <p:cNvSpPr/>
          <p:nvPr/>
        </p:nvSpPr>
        <p:spPr>
          <a:xfrm>
            <a:off x="2501640" y="1905120"/>
            <a:ext cx="40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Enlaza con Anticuer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20"/>
          <p:cNvSpPr/>
          <p:nvPr/>
        </p:nvSpPr>
        <p:spPr>
          <a:xfrm>
            <a:off x="2565360" y="2209680"/>
            <a:ext cx="39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Enlaza con el Antí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21"/>
          <p:cNvSpPr/>
          <p:nvPr/>
        </p:nvSpPr>
        <p:spPr>
          <a:xfrm>
            <a:off x="2374560" y="1295280"/>
            <a:ext cx="434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Sintetiza la Nanopartíc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Group 34"/>
          <p:cNvGrpSpPr/>
          <p:nvPr/>
        </p:nvGrpSpPr>
        <p:grpSpPr>
          <a:xfrm>
            <a:off x="2799720" y="2829960"/>
            <a:ext cx="3086280" cy="4015080"/>
            <a:chOff x="2799720" y="2829960"/>
            <a:chExt cx="3086280" cy="4015080"/>
          </a:xfrm>
        </p:grpSpPr>
        <p:sp>
          <p:nvSpPr>
            <p:cNvPr id="763" name="Oval 3"/>
            <p:cNvSpPr/>
            <p:nvPr/>
          </p:nvSpPr>
          <p:spPr>
            <a:xfrm>
              <a:off x="4448880" y="4551840"/>
              <a:ext cx="281160" cy="286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Group 4"/>
            <p:cNvGrpSpPr/>
            <p:nvPr/>
          </p:nvGrpSpPr>
          <p:grpSpPr>
            <a:xfrm>
              <a:off x="3886200" y="4122360"/>
              <a:ext cx="914040" cy="1431720"/>
              <a:chOff x="3886200" y="4122360"/>
              <a:chExt cx="914040" cy="1431720"/>
            </a:xfrm>
          </p:grpSpPr>
          <p:sp>
            <p:nvSpPr>
              <p:cNvPr id="765" name="Line 5"/>
              <p:cNvSpPr/>
              <p:nvPr/>
            </p:nvSpPr>
            <p:spPr>
              <a:xfrm>
                <a:off x="3956400" y="4122360"/>
                <a:ext cx="210960" cy="35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Line 6"/>
              <p:cNvSpPr/>
              <p:nvPr/>
            </p:nvSpPr>
            <p:spPr>
              <a:xfrm flipH="1">
                <a:off x="4589280" y="4122360"/>
                <a:ext cx="210960" cy="35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Line 7"/>
              <p:cNvSpPr/>
              <p:nvPr/>
            </p:nvSpPr>
            <p:spPr>
              <a:xfrm>
                <a:off x="4589280" y="5196240"/>
                <a:ext cx="210960" cy="35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Line 8"/>
              <p:cNvSpPr/>
              <p:nvPr/>
            </p:nvSpPr>
            <p:spPr>
              <a:xfrm flipV="1">
                <a:off x="3886200" y="5196240"/>
                <a:ext cx="281160" cy="35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9"/>
            <p:cNvGrpSpPr/>
            <p:nvPr/>
          </p:nvGrpSpPr>
          <p:grpSpPr>
            <a:xfrm>
              <a:off x="3534480" y="3763440"/>
              <a:ext cx="1617120" cy="2219760"/>
              <a:chOff x="3534480" y="3763440"/>
              <a:chExt cx="1617120" cy="2219760"/>
            </a:xfrm>
          </p:grpSpPr>
          <p:sp>
            <p:nvSpPr>
              <p:cNvPr id="770" name="Line 10"/>
              <p:cNvSpPr/>
              <p:nvPr/>
            </p:nvSpPr>
            <p:spPr>
              <a:xfrm flipV="1">
                <a:off x="3956400" y="3763440"/>
                <a:ext cx="69840" cy="35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Line 11"/>
              <p:cNvSpPr/>
              <p:nvPr/>
            </p:nvSpPr>
            <p:spPr>
              <a:xfrm>
                <a:off x="3604320" y="3978360"/>
                <a:ext cx="351720" cy="14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12"/>
              <p:cNvSpPr/>
              <p:nvPr/>
            </p:nvSpPr>
            <p:spPr>
              <a:xfrm flipV="1">
                <a:off x="4800240" y="3763440"/>
                <a:ext cx="0" cy="35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Line 13"/>
              <p:cNvSpPr/>
              <p:nvPr/>
            </p:nvSpPr>
            <p:spPr>
              <a:xfrm flipV="1">
                <a:off x="4800240" y="3907080"/>
                <a:ext cx="351360" cy="21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Line 14"/>
              <p:cNvSpPr/>
              <p:nvPr/>
            </p:nvSpPr>
            <p:spPr>
              <a:xfrm>
                <a:off x="4800240" y="5554080"/>
                <a:ext cx="351360" cy="21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15"/>
              <p:cNvSpPr/>
              <p:nvPr/>
            </p:nvSpPr>
            <p:spPr>
              <a:xfrm flipV="1">
                <a:off x="4800240" y="5553720"/>
                <a:ext cx="0" cy="42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Line 16"/>
              <p:cNvSpPr/>
              <p:nvPr/>
            </p:nvSpPr>
            <p:spPr>
              <a:xfrm flipV="1">
                <a:off x="3534480" y="5553720"/>
                <a:ext cx="35136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17"/>
              <p:cNvSpPr/>
              <p:nvPr/>
            </p:nvSpPr>
            <p:spPr>
              <a:xfrm flipV="1">
                <a:off x="3885840" y="5554080"/>
                <a:ext cx="0" cy="35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8" name="Oval 22"/>
            <p:cNvSpPr/>
            <p:nvPr/>
          </p:nvSpPr>
          <p:spPr>
            <a:xfrm>
              <a:off x="4026600" y="4551840"/>
              <a:ext cx="281160" cy="286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23"/>
            <p:cNvSpPr/>
            <p:nvPr/>
          </p:nvSpPr>
          <p:spPr>
            <a:xfrm>
              <a:off x="4097160" y="4838040"/>
              <a:ext cx="281160" cy="286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24"/>
            <p:cNvSpPr/>
            <p:nvPr/>
          </p:nvSpPr>
          <p:spPr>
            <a:xfrm>
              <a:off x="4237560" y="4408560"/>
              <a:ext cx="281160" cy="286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25"/>
            <p:cNvSpPr/>
            <p:nvPr/>
          </p:nvSpPr>
          <p:spPr>
            <a:xfrm>
              <a:off x="4378680" y="4838040"/>
              <a:ext cx="280800" cy="286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AutoShape 26"/>
            <p:cNvSpPr/>
            <p:nvPr/>
          </p:nvSpPr>
          <p:spPr>
            <a:xfrm rot="2111400">
              <a:off x="2971440" y="5626080"/>
              <a:ext cx="1054800" cy="930600"/>
            </a:xfrm>
            <a:custGeom>
              <a:avLst/>
              <a:gdLst>
                <a:gd name="textAreaLeft" fmla="*/ 344160 w 1054800"/>
                <a:gd name="textAreaRight" fmla="*/ 710640 w 1054800"/>
                <a:gd name="textAreaTop" fmla="*/ 303480 h 930600"/>
                <a:gd name="textAreaBottom" fmla="*/ 627120 h 93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7046" y="7046"/>
                  </a:lnTo>
                  <a:lnTo>
                    <a:pt x="10800" y="0"/>
                  </a:lnTo>
                  <a:lnTo>
                    <a:pt x="14554" y="7046"/>
                  </a:lnTo>
                  <a:lnTo>
                    <a:pt x="21600" y="10800"/>
                  </a:lnTo>
                  <a:lnTo>
                    <a:pt x="14554" y="14554"/>
                  </a:lnTo>
                  <a:lnTo>
                    <a:pt x="10800" y="21600"/>
                  </a:lnTo>
                  <a:lnTo>
                    <a:pt x="7046" y="145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AutoShape 27"/>
            <p:cNvSpPr/>
            <p:nvPr/>
          </p:nvSpPr>
          <p:spPr>
            <a:xfrm rot="8747400">
              <a:off x="3112200" y="3119400"/>
              <a:ext cx="1054800" cy="930960"/>
            </a:xfrm>
            <a:custGeom>
              <a:avLst/>
              <a:gdLst>
                <a:gd name="textAreaLeft" fmla="*/ 344160 w 1054800"/>
                <a:gd name="textAreaRight" fmla="*/ 710640 w 1054800"/>
                <a:gd name="textAreaTop" fmla="*/ 303480 h 930960"/>
                <a:gd name="textAreaBottom" fmla="*/ 627480 h 93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7046" y="7046"/>
                  </a:lnTo>
                  <a:lnTo>
                    <a:pt x="10800" y="0"/>
                  </a:lnTo>
                  <a:lnTo>
                    <a:pt x="14554" y="7046"/>
                  </a:lnTo>
                  <a:lnTo>
                    <a:pt x="21600" y="10800"/>
                  </a:lnTo>
                  <a:lnTo>
                    <a:pt x="14554" y="14554"/>
                  </a:lnTo>
                  <a:lnTo>
                    <a:pt x="10800" y="21600"/>
                  </a:lnTo>
                  <a:lnTo>
                    <a:pt x="7046" y="145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AutoShape 28"/>
            <p:cNvSpPr/>
            <p:nvPr/>
          </p:nvSpPr>
          <p:spPr>
            <a:xfrm rot="12888600">
              <a:off x="4659480" y="3047400"/>
              <a:ext cx="1054800" cy="930600"/>
            </a:xfrm>
            <a:custGeom>
              <a:avLst/>
              <a:gdLst>
                <a:gd name="textAreaLeft" fmla="*/ 344160 w 1054800"/>
                <a:gd name="textAreaRight" fmla="*/ 710640 w 1054800"/>
                <a:gd name="textAreaTop" fmla="*/ 303480 h 930600"/>
                <a:gd name="textAreaBottom" fmla="*/ 627120 h 93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7046" y="7046"/>
                  </a:lnTo>
                  <a:lnTo>
                    <a:pt x="10800" y="0"/>
                  </a:lnTo>
                  <a:lnTo>
                    <a:pt x="14554" y="7046"/>
                  </a:lnTo>
                  <a:lnTo>
                    <a:pt x="21600" y="10800"/>
                  </a:lnTo>
                  <a:lnTo>
                    <a:pt x="14554" y="14554"/>
                  </a:lnTo>
                  <a:lnTo>
                    <a:pt x="10800" y="21600"/>
                  </a:lnTo>
                  <a:lnTo>
                    <a:pt x="7046" y="145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AutoShape 29"/>
            <p:cNvSpPr/>
            <p:nvPr/>
          </p:nvSpPr>
          <p:spPr>
            <a:xfrm rot="19536600">
              <a:off x="4659840" y="5697360"/>
              <a:ext cx="1054800" cy="930960"/>
            </a:xfrm>
            <a:custGeom>
              <a:avLst/>
              <a:gdLst>
                <a:gd name="textAreaLeft" fmla="*/ 344160 w 1054800"/>
                <a:gd name="textAreaRight" fmla="*/ 710640 w 1054800"/>
                <a:gd name="textAreaTop" fmla="*/ 303480 h 930960"/>
                <a:gd name="textAreaBottom" fmla="*/ 627480 h 93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7046" y="7046"/>
                  </a:lnTo>
                  <a:lnTo>
                    <a:pt x="10800" y="0"/>
                  </a:lnTo>
                  <a:lnTo>
                    <a:pt x="14554" y="7046"/>
                  </a:lnTo>
                  <a:lnTo>
                    <a:pt x="21600" y="10800"/>
                  </a:lnTo>
                  <a:lnTo>
                    <a:pt x="14554" y="14554"/>
                  </a:lnTo>
                  <a:lnTo>
                    <a:pt x="10800" y="21600"/>
                  </a:lnTo>
                  <a:lnTo>
                    <a:pt x="7046" y="145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30"/>
            <p:cNvSpPr/>
            <p:nvPr/>
          </p:nvSpPr>
          <p:spPr>
            <a:xfrm>
              <a:off x="4237560" y="4623480"/>
              <a:ext cx="281160" cy="286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TextBox 31"/>
            <p:cNvSpPr/>
            <p:nvPr/>
          </p:nvSpPr>
          <p:spPr>
            <a:xfrm>
              <a:off x="3815640" y="6413760"/>
              <a:ext cx="147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rtesía de CNEU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3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800" spc="-1" strike="noStrike">
                <a:solidFill>
                  <a:srgbClr val="000000"/>
                </a:solidFill>
                <a:latin typeface="Arial"/>
              </a:rPr>
              <a:t>El esquema precedente mostró los dos pasos básicos de la nanofabricación del tipo             “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bajo hacia arriba”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abricación de los Bloques de Construcción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léculas, partículas, o capas - los elementos básicos de la nanofabricación del tipo “abajo hacia arrib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nsamblaje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los bloques de construcción en nanoestructuras funcionales. Este paso usualmente se llama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uto ensambl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el ejemplo, un patrón inherente fue logrado medianate los enlaces químicos posi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 que es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y qué se hace por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se orienta la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a visión general de la nanofabricación de arriba hacia abajo y de abajo hacia arrib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nofabricación de arriba hacia 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nofabricación de abajo hacia arri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deas clave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deas cl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4678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nstrucción de Nanoestructuras se llama Nanofabr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y dos tipos de Nanofabricació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 Nanofabricación de “Arriba Hacia Abajo”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 “Abajo Hacia Arrib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 La combinación de las dos se llama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nofabricación Híb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 que es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y qué se hace por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se orienta la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a visión general de la nanofabricación de arriba hacia abajo y de abajo hacia arrib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nofabricación de arriba hacia 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nofabricación de abajo hacia arri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s cla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deas clave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continuació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 Nanofabricación de “Arriba Hacia Abajo” hace estructuras a partir de capas y usa procesos de deposición/remoción guiados por un patrón definido mediante litografía. También puede incluir pasos de modificación de mate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 Nanofabricación de “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bajo Hacia Arriba” se basa en los métodos empleados para hacer circuitos microelectrónicos; o sea, estructuras cuidadosamente controladas, dónde pe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ñas dimensiones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son logradas mediante deposición de capas de material y remoción del mismo en ciertas partes dónde no se desea que esté. Estos pasos son guiados por la litograf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deas clave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continuació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Nanofabricación de “Abajo Hacia Arriba” ensambla materiales pre construidos. Puede ser aleatoria o puede seguir un patrón inherente impuesto por los enlaces, el ta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ño o forma de los mate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Nanofabricación de “Abajo Hacia Arriba” usa átomos, moléculas y nanopartículas, auto ensamblando estos componentes para lograr la estructura dese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Text Box 2"/>
          <p:cNvSpPr/>
          <p:nvPr/>
        </p:nvSpPr>
        <p:spPr>
          <a:xfrm>
            <a:off x="0" y="736560"/>
            <a:ext cx="914400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Este módulo, producido por el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Center for Nanotechnology “Education and Utilization 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The Pennsylvania State University”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es uno de una serie desarrollada para introducir la nanotecnología y sus aplicaciones a una amplia audienci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Cada módulo, sus fichas de componentes visuales y el Glosario de acompañante son derechos autorales (Copyright 2009)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The Pennsylvania State University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Todos los derechos están reserv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Footer Placeholder 3"/>
          <p:cNvSpPr/>
          <p:nvPr/>
        </p:nvSpPr>
        <p:spPr>
          <a:xfrm>
            <a:off x="2743200" y="6620040"/>
            <a:ext cx="41148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Lo que es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y qué se hace por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se orienta la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a visión general de la nanofabricación de arriba hacia abajo y de abajo hacia arrib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nofabricación de arriba hacia 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nofabricación de abajo hacia arri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s cla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cer “cosas” a nanoescala se llama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Nanofabr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2"/>
          <p:cNvSpPr/>
          <p:nvPr/>
        </p:nvSpPr>
        <p:spPr>
          <a:xfrm>
            <a:off x="228600" y="152280"/>
            <a:ext cx="8763120" cy="47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y tres</a:t>
            </a:r>
            <a:r>
              <a:rPr b="1" lang="es-PR" sz="4000" spc="-1" strike="noStrike">
                <a:solidFill>
                  <a:srgbClr val="000000"/>
                </a:solidFill>
                <a:latin typeface="Arial"/>
              </a:rPr>
              <a:t> enfoques diferentes para la nanofabricació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Nanofabricación del tipo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arriba hacia 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Nanofabricación del tipo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abajo hacia arri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Nanofabricación híbr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 que es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ómo y qué se hace por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se orienta la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a visión general de la nanofabricación de arriba hacia abajo y de abajo hacia arrib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nofabricación de arriba hacia 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nofabricación de abajo hacia arri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s cla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2"/>
          <p:cNvSpPr/>
          <p:nvPr/>
        </p:nvSpPr>
        <p:spPr>
          <a:xfrm>
            <a:off x="-1295280" y="1219320"/>
            <a:ext cx="104392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Nanopartícul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or ejemplo, macro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éculas, cuent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bos, alamb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Estructuras plana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or ejemplo, estruc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mina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Estructuras Híbrid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mezclas de partículas y estructuras plana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"/>
          <p:cNvSpPr/>
          <p:nvPr/>
        </p:nvSpPr>
        <p:spPr>
          <a:xfrm>
            <a:off x="0" y="1522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 nanotecnología usa la nanofabricación para hacer una amplia variedad de nanoestructu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"/>
          <p:cNvPicPr/>
          <p:nvPr/>
        </p:nvPicPr>
        <p:blipFill>
          <a:blip r:embed="rId4"/>
          <a:stretch/>
        </p:blipFill>
        <p:spPr>
          <a:xfrm>
            <a:off x="5486400" y="2076480"/>
            <a:ext cx="1905120" cy="14526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5" descr=""/>
          <p:cNvPicPr/>
          <p:nvPr/>
        </p:nvPicPr>
        <p:blipFill>
          <a:blip r:embed="rId5"/>
          <a:stretch/>
        </p:blipFill>
        <p:spPr>
          <a:xfrm>
            <a:off x="5375160" y="3727440"/>
            <a:ext cx="2127240" cy="1627200"/>
          </a:xfrm>
          <a:prstGeom prst="rect">
            <a:avLst/>
          </a:prstGeom>
          <a:ln w="0">
            <a:noFill/>
          </a:ln>
        </p:spPr>
      </p:pic>
      <p:sp>
        <p:nvSpPr>
          <p:cNvPr id="532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6343560" y="3519360"/>
            <a:ext cx="111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videntte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7391520" y="3962520"/>
            <a:ext cx="17524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daptado de Linda Geppert, </a:t>
            </a:r>
            <a:r>
              <a:rPr b="0" i="1" lang="es-PR" sz="1000" spc="-1" strike="noStrike">
                <a:solidFill>
                  <a:srgbClr val="000000"/>
                </a:solidFill>
                <a:latin typeface="Arial"/>
              </a:rPr>
              <a:t>El increible acto de desvanecimiento de un transistor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EEE Spectrum, Octubre de  2002, Vol. 39, Número 10, pg. 28-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22:12:44Z</dcterms:created>
  <dc:creator>Rehrmann</dc:creator>
  <dc:description/>
  <dc:language>en-US</dc:language>
  <cp:lastModifiedBy>Director</cp:lastModifiedBy>
  <dcterms:modified xsi:type="dcterms:W3CDTF">2013-03-13T16:51:25Z</dcterms:modified>
  <cp:revision>416</cp:revision>
  <dc:subject/>
  <dc:title>Slide 1</dc:title>
</cp:coreProperties>
</file>