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EBAD-0C55-4ABB-BF24-1021A96B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F595-7CB6-40C5-9655-8ABF92460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Efficiency Valuation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&amp;V Planning </a:t>
            </a:r>
            <a:fld id="{7E838448-98C5-4770-8DF5-FEC4E4BA1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energy user may have pre-decided to measure total facility performance (using Option C or D) or just to measure the retrofit (using Option A, B or D). This is the first part of the M&amp;V desig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ection 2, Basic Steps of M&amp;V, Step 1b), stressed the inability to go backwards in time to get some baseline data after retrofit. So you need to get baseline data while it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re will always be a perception of bias in any baseline chosen </a:t>
            </a:r>
            <a:r>
              <a:rPr b="0" i="1" lang="en-CA" sz="12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savings have actually happe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eter design can proceed in parallel with the retrofit design – to ensure optimum placement of meters and selection that suits the bu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Efficiency Valuation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&amp;V Planning </a:t>
            </a:r>
            <a:fld id="{336109A0-795F-485A-8B54-38D6F3E2C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ee IPMVP Chapter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Efficiency Valuation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&amp;V Planning </a:t>
            </a:r>
            <a:fld id="{6EC69486-A805-4D4C-B607-7C463125B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Efficiency Valuation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&amp;V Planning </a:t>
            </a:r>
            <a:fld id="{C87B073C-C3BD-4049-9DB8-2EEBF29C2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F8E-EAB4-4B46-914C-12FD5CA5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714-6243-4F4E-86AF-90B181EA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65879-ED6C-4940-9800-74D37DF2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34B2E-7B63-4C89-8CB1-0A5299D3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4232F-6DBD-4628-9AE5-B222900B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8FC19-F510-47E7-9C48-E3B1B7C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66C6A-6081-4B4C-BA70-369A0760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079AC-B2EF-4983-8686-48E743BD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42162-0179-4745-80E8-F3C84FF2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00832-2677-4C16-A634-BD1E7D0D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0DB58-145B-455C-9428-15B6C6D7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4E1A0-9DA1-4916-856F-80CEED62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90C-6F21-401D-B43C-21F471CD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B10B1-AE42-43AB-AF9C-34DFECBB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6A22D-BDA5-4F7F-86CA-23D4F30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F4407-CFCC-4117-881F-8E3348F4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57A10-8512-4B51-8E51-38EB4D93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DEA89-60A7-40A2-9F15-25A267CA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FC1CA-F47A-4C02-94E6-75FE3B8F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3FCEC-28A7-4F28-B394-D7CF1BB3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AD01C-18DD-4B44-9EC0-0613BF9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A4F5A-FAFB-420B-801F-252D2BDC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4BA0E-8353-4B30-8551-75798A82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DDB-541C-4B8A-9443-FB48433D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8D351-ACA8-4E44-B1F1-C162091C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20A0C-F616-4DF7-8040-17357DC3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83904-7A20-4FA8-9764-F09C7E44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F3E1E-417A-4CD9-9925-FEAAD95C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E8986-B5B5-4673-B413-D761F5BA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43FE1-5B40-4789-9C95-162DF49C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81B5A-7787-496C-A931-B915F95C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EBE6D-726C-47EC-B9A0-017B403D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57A96-3916-44EC-BEAF-5288C74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B3997-D836-4F81-8B23-DCC145B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6468-DE7A-4D6E-9417-02205669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0C434-8F06-4065-95D6-A470FE9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32CF8-829E-4CED-82EB-351E1532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5E417-47E9-448A-A4EB-61347614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84AA-BD47-43B8-ADA9-AFBD8575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1A57-FD81-48DA-9CAA-BBE6A597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9802-BE0B-4A73-9B39-585FD2D3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545C-806B-44C1-B2B3-2B3440F9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5C9C-D702-496A-A884-0FD55DEE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E1FE-7B12-4699-B6F8-C1C6FC2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225-97B7-45F1-8030-3B40262A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8186-3945-46B8-AA1A-9E1C0A8D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EF92-C166-4923-9E24-A4385C1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3261-BFE0-406E-A686-9EEA4795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F984-A27E-41EA-A7EA-350B1F53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B877-26E2-4FF0-942C-1F29DB76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B35C-A893-4498-AD7B-90DC7E33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FDA9-4B1C-4A9D-8A59-0662FCE6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C129-303E-4CA2-A124-2F8620F0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369F-D059-4811-B056-B146693C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EF5C-5144-459B-BDDD-D778918B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622-AB07-40BA-9DAC-4F390B6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BA2E-16AA-4539-B1D1-C80BB2F0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8538-C030-4357-BF40-DA3B295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DC08-E5DC-43F2-B761-5AB6FFE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1EDE-BB93-4723-8249-D85C2038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0D12-9FF7-46B1-BDDC-8A5E23B8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1D87-3F93-4B03-8EE9-E59F70EB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1C574-4162-4585-9AB8-5892C5A0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8DB67-3058-44A5-8D42-23A44552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ED54-28A2-4AB3-8BFD-9092D79F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3E79-734A-4BCB-94BD-2893F8B5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120-1113-4DC5-A49A-EAF04D33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AF3F-9159-4131-8144-B24FAD7F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F8370-07B2-4FFC-AF90-EB62DAC5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AE75-0F64-420A-8E16-7EBBE54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C206-355A-4608-BE97-9E3198B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5F880-D7FE-49D9-A865-C030961B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C89B-18DD-4812-9EB3-8FC388E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053B1-E0AE-44BA-9BE1-598F7207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24CD7-4756-47AA-A948-54EE4779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AFA54-526B-4CD9-99B3-8ADB944E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165E2-9B3F-4192-B96E-661AD9A1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79A-6EC8-4523-8121-F819BED1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582D-C0CE-4D51-B7DA-F4C8E133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12D51-5DCE-4188-95AB-EC635020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6E09-F05D-4720-8D1A-B26A7E6E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47AA9-88E9-4E1E-8339-B657039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8C4F-8E76-435D-B9A7-C769C7E3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05FB6-62DE-49D0-9549-CFCAA24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DC96A-19A6-468A-A0DB-638907A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AC22C-98B9-4A0B-AF53-C2E285B5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31F57-2BC8-4F3F-AC6A-37EA353D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E362E-C794-40E8-A729-CF11BC32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66B-D6AE-41EA-A083-BB58EAC0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CA05-8E09-45E4-8C27-450B3BD7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29141-867B-4FB2-9437-FC4FB2DB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9625-8B81-4CD9-885C-7B07B942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B751-2157-41AB-9CA4-EF172C8F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687B7-A104-401D-87C6-509630AB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AC51D-79A6-455D-88A1-5A588C80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DEAC7-F8C0-41F2-A812-DBA377AB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1ACA7-E072-4F10-925E-6CAB0007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FCDCA-F939-471A-8EFD-9A46B52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25FA-6925-43D0-9BF0-D2BF7A46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6DE-04D8-4AC8-A9FF-7E30D4B8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D0361-DEA0-499E-91A4-BB2CCB11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3069C-53C9-41E7-A510-851F243C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83CC-739A-4D19-B42F-0168B220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344E9-98B7-4E01-B2C8-59A9822F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B1E67-9257-449F-A7CF-A56BC1BA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EF235-1E91-4473-A931-2DA63D8D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18059-08E5-4EE6-9479-DA135F48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9DE1B-6330-4D4F-BD5B-DEE45B3C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E6E6-48AF-41F3-A129-0DCBFBE4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9B5EE-47CB-42F1-99A6-F502FF31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7C5-E48D-49AF-A78C-DBE9D3F7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21FBE-F9CD-4A9C-B286-3847724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C6CE-E4F5-4A9E-BBC0-3CB1F81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04695-747B-4D05-9C42-A3476A78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D1901-3E6F-4CBC-8A90-8C7EA9CF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7D3DD-42F2-40C6-BF3A-FA499FE4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23ECC-DEC0-44F4-9A95-FF465C4F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ECEE4-9DB1-46B7-9DC5-AF21F0C8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F0EDB-3E7D-439C-A2FD-BC669578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475C1-2F14-444B-9D49-CEEE66B1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3A57E-ACD5-41A2-837D-689B882C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B91-133D-4D31-ACDF-3F0B1835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89570-1CE4-4298-8169-3D5330EF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C3A75-81D6-4B1B-8FD7-349D2A6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98D68-C6C1-4700-9C2F-BC34167D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5A3EA-2354-4C42-B68B-753CA6AF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ED419-018F-49FB-ADBF-DC5CAD27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8A88-019C-4B25-8833-413EAD61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87185-9F51-4429-8022-DCAF4FE9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587F9-3F6E-4BBD-A872-8619FAA3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C9B1F-087F-4A0B-A6DC-D28E7DB6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FE8B2-D1CC-419E-B3F3-9953854A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6DB9-EB4D-4044-BF66-BF45CDF67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9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0A73-2C41-4595-B872-70A967170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traight Connector 8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traight Connector 9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C9F9-64F8-424B-9D77-AC06033BA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urse No. ENRG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6"/>
          <p:cNvSpPr/>
          <p:nvPr/>
        </p:nvSpPr>
        <p:spPr>
          <a:xfrm>
            <a:off x="533520" y="45720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3520" y="1634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657A-807E-41B8-92CF-DC1F42D0F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FFC7-8E4B-4DA6-BE6D-A59DAA356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EF28-B7BC-4DC9-BFC9-341002E1A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11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12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7802-60C3-4BF0-A1D3-E83EA38F4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raight Connector 7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8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C7B6-2E7A-45AC-BBC9-D77BF25DE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0"/>
          <p:cNvSpPr/>
          <p:nvPr/>
        </p:nvSpPr>
        <p:spPr>
          <a:xfrm>
            <a:off x="457200" y="6324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0568-2B49-4AD1-B0C2-DE9E3ACF7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7"/>
          <p:cNvSpPr/>
          <p:nvPr/>
        </p:nvSpPr>
        <p:spPr>
          <a:xfrm>
            <a:off x="609480" y="38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Introduction to Energy and Building Science Funda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6714000" y="62485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No. ENRG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9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0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/6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AFT -- Do Not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EAFA-6720-40FE-8383-27B42913C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Measurement Tools &amp; Verification of Savings Calculations</a:t>
            </a:r>
            <a:br>
              <a:rPr sz="36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. Developing the M&amp;V Plan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traight Connector 6"/>
          <p:cNvSpPr/>
          <p:nvPr/>
        </p:nvSpPr>
        <p:spPr>
          <a:xfrm>
            <a:off x="533520" y="76212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traight Connector 7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H. Develop M&amp;V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hen to develop and M&amp;V Pl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M&amp;V Plan 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&amp;V Planning </a:t>
            </a:r>
            <a:fld id="{BC611F7C-6952-4509-94CD-C1D56B214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en to do an M&amp;V Pl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M&amp;V Plan should be developed </a:t>
            </a:r>
            <a:r>
              <a:rPr b="0" i="1" lang="en-US" sz="2800" spc="-1" strike="noStrike">
                <a:solidFill>
                  <a:srgbClr val="0070c0"/>
                </a:solidFill>
                <a:latin typeface="Calibri"/>
              </a:rPr>
              <a:t>while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the EEMs are being designed in order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nclude the cost of M&amp;V when deciding project economics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record baseline data and methodology for savings calculations while baseline conditions are still measurable before any savings happ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design of the data collection plan and procurement of any new metering equipment is done concurrently with the audit or while the EEM designs are being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&amp;V Planning </a:t>
            </a:r>
            <a:fld id="{439A2C1D-99AC-4034-B1DB-5B97566A0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M&amp;V Plan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Docu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purpose of each EEM and its impact on operating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measurement boundaries for each EEM (note there can be one or multiple measurement boundaries in a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nteractive effects, if any, beyond the boun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Baseline energy/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dentification of independent variables and their values during the bas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Conditions within the boundary during the baselin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Used as a basis for determining non-routine adjus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Reporting responsibilities in the reporting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&amp;V Planning </a:t>
            </a:r>
            <a:fld id="{78145C7A-7DC9-47A6-A1B1-675BBDDE6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M&amp;V Plan Content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36452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ocu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The reporting perio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The adjustments to baseline and how they will be m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Identify which Options will be used and describe the analysis meth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Define the energy price or rates to be us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Identify the measurement and metering points and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Define the quality assurance procedures (i.e. how will bad data be addressed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Estimate the expected costs and accur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Define the report formats and frequ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&amp;V Planning </a:t>
            </a:r>
            <a:fld id="{86BAA796-4A50-4259-8FC6-A83016548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M&amp;V Plan Contents, 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pecifically for Option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ocument the justification of the non-key parameter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efine the periodic inspections that will be made after installation of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For Option 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ocument the name and software version used for 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Provide the input data files and describe the method of measuring any parameters used to support input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Provide the output from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escribe how the simulation was calibrated (reference calibration criter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5:56:05Z</dcterms:created>
  <dc:creator>irinak</dc:creator>
  <dc:description/>
  <dc:language>en-US</dc:language>
  <cp:lastModifiedBy>CCSF</cp:lastModifiedBy>
  <dcterms:modified xsi:type="dcterms:W3CDTF">2013-10-16T23:25:31Z</dcterms:modified>
  <cp:revision>485</cp:revision>
  <dc:subject/>
  <dc:title>Energy and Building Science</dc:title>
</cp:coreProperties>
</file>