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C798-E39E-4194-B0F7-748EC5549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CO means energy services company. Such companies offer pay for performance services directly to customers under energy performance contracts. The general process 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CO performs a detailed audit of customers facilities. Report identifies savings and costs for ESCO to manage and install the E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CO guarantees the savings if customer hires ESCO to install and commission EEMs. If customer does not hire ESCO, customer pays for audit. There are different types of guarante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red savings (requires detailed M&amp;V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aranteed minimum savings (preferred by ESCO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&amp;V is used to determine actual savings after EEMs are install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10F5-629D-408C-9F2E-3141AB4F91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EA85-3265-4540-B3F4-897DA2C644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ink line shows the measured energy use in a building over many ye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the baseline period (entire period not shown) an audit was conducted, EEMs were recommended and approved, and implemented in the time between the baseline and post-installation periods. Note that the energy use starts going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thematical model is developed using baseline period data, and projected into the post-installation period – represented by the blue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vings is represented by the difference between the lines in the post-installation peri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71B5-1C14-4480-82AB-6683EDBDC0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ide-by-side process comparison shows important steps in both the audit and the M&amp;V proc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that the audit process stops when the report is delivered. An owner must then ‘take over’ and select EEMs for installation, and manage that proc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plementation process may be simple or complicated, such as hiring contractors and overseeing their work. To make sure the EEMs are installed correctly, owner’s may require a commissioning process be completed. This does not always take place howe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things can go wrong, and there is no way to know whether the EEMs actually saving energy until the M&amp;V process is complete. Note the only post-installation phase activities are in the M&amp;V proc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ECF6-E9F9-4676-8B63-997DFF7A72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inguish between ex-ante and ex-po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-ante: activity prior to an ev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-post: activity after an ev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vent is installation of energy efficiency measures (EEMs), which cause a change in energy perform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9ABD-ECCF-427F-BBD0-FC24B8D58B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B400-DFE7-4DAA-9043-C36B95029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E2EB-5860-45BA-B406-9B94956B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AD7FCB-E813-45E6-B980-AAE6CAEC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BB3757-8DBA-4F45-B7F9-05CB4D91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5488F9-8330-46DD-9AAB-2C1AA096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3AC110-6822-4ACD-995C-A3390302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36B489-D2F9-4A63-80EC-F8A46B88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1DD9C4-CC7D-46AB-A43A-AAC2D19C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7DA5CF-B24F-440A-835A-7E99B11F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F1A222-6175-40EA-AF2E-AE1258F4E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781B76-479A-4D29-BD38-C551211E4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AC2297-DF4B-46B3-A974-F1945E161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470D-1309-4E29-89A1-91FEA58E1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D7E0FC-7A3C-4F8B-9AAC-9620B6CD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715656-62BD-48B4-9C48-78DE4389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6B372A-A777-4D8B-B9B6-0280FB8F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26B778-0AF8-452A-9207-C30BC228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72FBE8-DF19-4972-A0DF-BB1F3974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4B8CD8-B04D-4FB9-BBBE-D8DB9387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2456D2-98BA-45BA-A0F2-0CFFC4C6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AD5847-8E63-471B-8D73-58279657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5AB8F2-14D7-4E58-BB37-FF8DDD97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6EB483-4B94-4DBC-BFA0-9F70B4BF7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375F-133C-4C41-A58F-1588571E8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00324E-B173-4EA8-A67A-49D350761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92077D-87CF-4053-851A-5A52B8C84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476AA-A786-4C61-B52F-02A9FD03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80F7C-7260-4334-93D4-0024FF2B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314BE-0480-4E05-A080-60D40462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9AAF2-C2AC-4499-ABE7-45AE5AB4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4856F3-8D29-4AF0-8579-5B9A1FFF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66749-FECE-4A25-AF40-AB6AC17C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11FBB0-7F71-478C-A4D8-5B87BE42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3C410-6EF0-4C0F-B8A9-7976D3F9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F97D5-216B-4C17-B0F8-9C1A5E227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CD17E-29D3-40C8-A3C0-6A4BF6A9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D0722-DA1E-4B64-A816-1CEDA72AF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39C93-AC1A-4E1F-A784-EE6484230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1AD8F-E10A-4590-A8D1-153C66D3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C22F-01D1-498F-AAD6-EF7F4A8E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B3B44-3ADB-4690-B864-9DD708F8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BF3A-5D48-4A74-85BC-76E3713C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F60F-176A-4EEB-B9C5-DC1FF812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90CA-D363-40C2-BC80-8FE71F23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CC92-6FF2-45CF-893C-3B4D86F2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7EA6-5F4A-4C04-9592-7A076621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404A-413C-44EB-A32C-64FBD533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CD3C-EF6F-44DC-B3A0-14E8FD26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B74D-85C7-40A6-9C95-057215E8E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A356-5095-4D2C-A0F3-BBEB7F519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2E8D0-3FC0-46D9-9B30-835446851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4BE65-6428-4FDD-B327-8B33BB7E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D09BD-D927-4EED-BF27-E48D51ED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A78F9-6ACF-4BE8-AC31-899CEC2D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C4C19-D3A6-4BC2-B275-35AABE82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AA3D-2B5F-4B92-B68F-23037B33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0FB7F-A980-4275-A80E-17C4AE8D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88B98-6DB8-41E2-90B6-CD57E322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F7C87-9337-4AA1-AD62-3EF061F7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5EA3C-FE96-47E9-9D36-BF7991D5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5826B-1AA6-4184-A4B1-A33E1E17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D45D2-54EA-4D42-A417-08417A477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95C79-F630-41D5-856B-6D43007A3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E5996-BC33-4177-BEA5-34D025BCE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88932-3783-476E-9819-8D0C35C6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5D101-9E85-4710-929C-9603CDB3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9DAD-7A14-4671-8F99-F7988835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29E63-C1F7-4D4F-BE58-7D1D9FD6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0F615-0A42-4BD5-9426-9273C74B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D507A-8F79-465B-9552-969475EB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65D32-52FC-4855-B2BC-BAE8E1AD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084DA-C99F-4E3B-98FD-92D917B0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ED6DC-F63C-4066-8B0C-CC816E91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FDCC9-5368-4541-B4E6-B740A46B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C94AB-C0C2-42D7-A8D8-F2620950F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68E54-3701-4777-B849-3D197CFEA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93D3F-C725-4195-8678-75D96909F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34D8-E58F-41B9-8245-BE80B008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07AB8-8762-4E66-ACAA-559B5CBD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D268C-5591-4DFA-A7F6-D4344287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E5B2E-6414-458E-BEC5-EB3CA96E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A6735-3074-47D6-9F8D-7A37A85B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B3FA9-C713-433D-A79D-7185CB8C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0472D-2EED-4559-ADFA-CC5316F0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9E284-75CB-44C1-9559-63257819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88CF1-F597-4900-9427-86800D5F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33D71-E630-4B06-A505-1FBDC49A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75665-ACEB-4F09-A912-C7944F007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D661-C9A2-4805-8FDA-A7ABD62C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1A2D1-8FA7-4A2A-ABB5-067DE9393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9214A-B9F7-4064-B709-C736BBC2E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35FEF-5A39-43F2-BAA1-13727C6A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E3FDC-DBB9-4567-981C-435B59B4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15886-639D-421D-9612-81693A09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80C1A-9DEC-48A0-B463-77842FD2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4F2E5-65CA-4450-96DA-C643C428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11223-5E76-412A-BA2D-C4FBB80A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1C22F-A0EA-41FA-AF37-B113D0FF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EFDE9-95FD-4A99-AA01-6E54EDDC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6FCF-0552-4EBC-9A4F-90FF5AE9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39AD6-1107-4434-B45E-C0AEBB73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215DF-C667-4DE5-BE1B-19E4374FB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A0BDC-6A97-40B1-A3A9-555D66A0A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F2DA6-A892-47F4-B9AC-7F597C49F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46A96-835E-4834-9D29-97AF0CD2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8A2DA-B09E-4671-9436-89AC1B18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3A84D-95DC-4224-B60B-25D4E313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79DFB-A215-4A18-854F-43AA1AEB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D8745-BB31-4209-9F1F-E200E96E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FD922-19A8-4093-A522-1140C0B7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7387-7CC6-46E6-9D3E-C4BBA265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8B37B-D25F-4A04-AE56-48922E56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CE011-557E-4A17-B0CF-D3A2CA16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77FA3-01D0-4C1F-BD5A-1F435E1B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CFA95-1EA5-4D89-9F68-BDBB727C5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078F5-8CE9-4EEC-9B76-65F830A21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B79AA-EDD0-4A12-B7F5-392EA18F9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0B443-49D9-488F-A9E8-9FC04F52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4FD58-7028-4499-9841-822F38FE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0020C-93E5-43D4-9754-39FA9E38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52612-E5B7-4E11-B298-2EF62002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6978-B5EC-44D8-97BC-EE46FCA0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171ED-E650-41A3-BE18-311B47AE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F0932-9BE2-46F7-9FAD-B5724CED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D8D03-C129-4BF9-8689-B7DAABB9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4F216-4C0D-4789-8C05-633B7917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D921E-F723-4918-9AA1-1695ECA7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E7CAA-A76E-4A04-9674-0143405FE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4C970-9CEE-4430-BBE7-E61488A79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4F568E-0AF5-400E-B14B-28FABF290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B80475-149C-438D-BA05-6A52D5CB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694545-15CE-4888-B714-252BEDB3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B630-4193-4BB0-9AD1-49A8ABD817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Box 7"/>
          <p:cNvSpPr/>
          <p:nvPr/>
        </p:nvSpPr>
        <p:spPr>
          <a:xfrm>
            <a:off x="609480" y="380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Introduction to Energy and Building Science Fundamen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5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traight Connector 8"/>
          <p:cNvSpPr/>
          <p:nvPr/>
        </p:nvSpPr>
        <p:spPr>
          <a:xfrm>
            <a:off x="533520" y="76212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traight Connector 9"/>
          <p:cNvSpPr/>
          <p:nvPr/>
        </p:nvSpPr>
        <p:spPr>
          <a:xfrm>
            <a:off x="457200" y="632448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A7B2-EDE0-41D9-A673-630F39AABB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Box 7"/>
          <p:cNvSpPr/>
          <p:nvPr/>
        </p:nvSpPr>
        <p:spPr>
          <a:xfrm>
            <a:off x="609480" y="380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Introduction to Energy and Building Science Fundamen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5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traight Connector 8"/>
          <p:cNvSpPr/>
          <p:nvPr/>
        </p:nvSpPr>
        <p:spPr>
          <a:xfrm>
            <a:off x="533520" y="76212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traight Connector 9"/>
          <p:cNvSpPr/>
          <p:nvPr/>
        </p:nvSpPr>
        <p:spPr>
          <a:xfrm>
            <a:off x="609480" y="624852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4340-B5E7-4545-85E2-C961F7258A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533520" y="76212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609480" y="380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Introduction to Energy and Building Science Fundament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6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urse No. ENRG 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traight Connector 6"/>
          <p:cNvSpPr/>
          <p:nvPr/>
        </p:nvSpPr>
        <p:spPr>
          <a:xfrm>
            <a:off x="533520" y="45720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traight Connector 7"/>
          <p:cNvSpPr/>
          <p:nvPr/>
        </p:nvSpPr>
        <p:spPr>
          <a:xfrm>
            <a:off x="457200" y="632448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533520" y="16344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Introduction to Energy and Building Science Fundament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6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8323-7487-400C-BA4A-574D9C6F1E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5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4058-1026-4F8D-B67A-3DAB5BCE61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7"/>
          <p:cNvSpPr/>
          <p:nvPr/>
        </p:nvSpPr>
        <p:spPr>
          <a:xfrm>
            <a:off x="609480" y="380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Introduction to Energy and Building Science Fundamen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5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traight Connector 9"/>
          <p:cNvSpPr/>
          <p:nvPr/>
        </p:nvSpPr>
        <p:spPr>
          <a:xfrm>
            <a:off x="533520" y="76212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traight Connector 10"/>
          <p:cNvSpPr/>
          <p:nvPr/>
        </p:nvSpPr>
        <p:spPr>
          <a:xfrm>
            <a:off x="457200" y="632448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B703-AA00-43FD-89F3-E86E0D9101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7"/>
          <p:cNvSpPr/>
          <p:nvPr/>
        </p:nvSpPr>
        <p:spPr>
          <a:xfrm>
            <a:off x="609480" y="380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Introduction to Energy and Building Science Fundamen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5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traight Connector 11"/>
          <p:cNvSpPr/>
          <p:nvPr/>
        </p:nvSpPr>
        <p:spPr>
          <a:xfrm>
            <a:off x="533520" y="76212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traight Connector 12"/>
          <p:cNvSpPr/>
          <p:nvPr/>
        </p:nvSpPr>
        <p:spPr>
          <a:xfrm>
            <a:off x="457200" y="632448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7DFE-A487-4528-8454-C440C1F866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Box 7"/>
          <p:cNvSpPr/>
          <p:nvPr/>
        </p:nvSpPr>
        <p:spPr>
          <a:xfrm>
            <a:off x="609480" y="380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Introduction to Energy and Building Science Fundamen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5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traight Connector 7"/>
          <p:cNvSpPr/>
          <p:nvPr/>
        </p:nvSpPr>
        <p:spPr>
          <a:xfrm>
            <a:off x="533520" y="76212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traight Connector 8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2CED-47AE-4A25-BAD3-23850E8CAC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7"/>
          <p:cNvSpPr/>
          <p:nvPr/>
        </p:nvSpPr>
        <p:spPr>
          <a:xfrm>
            <a:off x="609480" y="380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Introduction to Energy and Building Science Fundamen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5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traight Connector 9"/>
          <p:cNvSpPr/>
          <p:nvPr/>
        </p:nvSpPr>
        <p:spPr>
          <a:xfrm>
            <a:off x="533520" y="76212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traight Connector 10"/>
          <p:cNvSpPr/>
          <p:nvPr/>
        </p:nvSpPr>
        <p:spPr>
          <a:xfrm>
            <a:off x="457200" y="632448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66F2-E691-4C43-BC93-317E3027E1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Box 7"/>
          <p:cNvSpPr/>
          <p:nvPr/>
        </p:nvSpPr>
        <p:spPr>
          <a:xfrm>
            <a:off x="609480" y="380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Introduction to Energy and Building Science Fundamen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5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traight Connector 9"/>
          <p:cNvSpPr/>
          <p:nvPr/>
        </p:nvSpPr>
        <p:spPr>
          <a:xfrm>
            <a:off x="533520" y="76212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traight Connector 10"/>
          <p:cNvSpPr/>
          <p:nvPr/>
        </p:nvSpPr>
        <p:spPr>
          <a:xfrm>
            <a:off x="457200" y="624852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45B9-3BFB-4BAC-833D-32FB71D6CC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Straight Connector 4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traight Connector 5"/>
          <p:cNvSpPr/>
          <p:nvPr/>
        </p:nvSpPr>
        <p:spPr>
          <a:xfrm>
            <a:off x="533520" y="76212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7" name="TextBox 8" descr=""/>
          <p:cNvPicPr/>
          <p:nvPr/>
        </p:nvPicPr>
        <p:blipFill>
          <a:blip r:embed="rId1"/>
          <a:stretch/>
        </p:blipFill>
        <p:spPr>
          <a:xfrm>
            <a:off x="682560" y="804960"/>
            <a:ext cx="7785000" cy="5827680"/>
          </a:xfrm>
          <a:prstGeom prst="rect">
            <a:avLst/>
          </a:prstGeom>
          <a:ln w="0">
            <a:noFill/>
          </a:ln>
        </p:spPr>
      </p:pic>
      <p:sp>
        <p:nvSpPr>
          <p:cNvPr id="498" name="TextBox 7"/>
          <p:cNvSpPr/>
          <p:nvPr/>
        </p:nvSpPr>
        <p:spPr>
          <a:xfrm>
            <a:off x="609480" y="38088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Introduction to Energy and Building Science Fundament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Why M&amp;V Importan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Provides rigorous 2</a:t>
            </a:r>
            <a:r>
              <a:rPr b="0" lang="en-US" sz="3200" spc="-1" strike="noStrike" baseline="30000">
                <a:solidFill>
                  <a:srgbClr val="0070c0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 check on sav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To assure savings actually achie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To assure utility costs have gone 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To assure a return on inves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As a basis of payments to an ES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Uses of M&amp;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As a Quality Assurance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Like ‘savings insurance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Rigorous – not a ‘2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alibri"/>
              </a:rPr>
              <a:t>nd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 opinion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Relies on measu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Able to estimate savings uncertain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Payment basis for ESCO pro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ESCO guarantees savings, gets paid from owner’s operations budg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Other Benefits of M&amp;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Persistence of Sav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Provides periodic or continuous update on facility/equipment/EEM energy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Facilitates ‘Energy Awareness’ for Owner &amp; Occup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Energy dashbo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Basis for continuous energy improvement progr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Measurement Tools &amp; Verification of Savings Calculations</a:t>
            </a:r>
            <a:br>
              <a:rPr sz="4000"/>
            </a:br>
            <a:br>
              <a:rPr sz="5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. Role of Measurement &amp; Verification in energy efficiency, renewable energy, or demand response proces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traight Connector 6"/>
          <p:cNvSpPr/>
          <p:nvPr/>
        </p:nvSpPr>
        <p:spPr>
          <a:xfrm>
            <a:off x="533520" y="76212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traight Connector 7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A. Role of Measurement &amp; Ver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What is M&amp;V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M&amp;V within an energy efficiency, renewable, or demand response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Why M&amp;V is 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Uses of M&amp;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Other benef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What is Measurement &amp; Verificatio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Formal definition is found in Chapter 2 of the International Performance Measurement &amp; Verification Protocol, Volume I: www.evo-world.co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Measurement &amp; Verification (M&amp;V) is the process of using measurements to reliably determine actual savings created within an individual facility by an energy management program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Measurement &amp; Ver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alibri"/>
              </a:rPr>
              <a:t>Energy savings cannot be measured, because it represents the </a:t>
            </a:r>
            <a:r>
              <a:rPr b="0" i="1" lang="en-US" sz="3000" spc="-1" strike="noStrike" u="sng">
                <a:solidFill>
                  <a:srgbClr val="0070c0"/>
                </a:solidFill>
                <a:uFillTx/>
                <a:latin typeface="Calibri"/>
              </a:rPr>
              <a:t>absence</a:t>
            </a:r>
            <a:r>
              <a:rPr b="0" i="1" lang="en-US" sz="3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70c0"/>
                </a:solidFill>
                <a:latin typeface="Calibri"/>
              </a:rPr>
              <a:t>of energy us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alibri"/>
              </a:rPr>
              <a:t>Savings are determined by making a </a:t>
            </a:r>
            <a:r>
              <a:rPr b="0" lang="en-US" sz="3000" spc="-1" strike="noStrike" u="sng">
                <a:solidFill>
                  <a:srgbClr val="0070c0"/>
                </a:solidFill>
                <a:uFillTx/>
                <a:latin typeface="Calibri"/>
              </a:rPr>
              <a:t>fair</a:t>
            </a:r>
            <a:r>
              <a:rPr b="0" lang="en-US" sz="3000" spc="-1" strike="noStrike">
                <a:solidFill>
                  <a:srgbClr val="0070c0"/>
                </a:solidFill>
                <a:latin typeface="Calibri"/>
              </a:rPr>
              <a:t> comparison of energy use before and after a project is implemente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alibri"/>
              </a:rPr>
              <a:t>The comparison is fair if the baseline and post-installation energy use is made under the same set of conditions (i.e. weather, occupancy, etc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Conceptually ‘Measuring Savings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9" name="Picture 7" descr=""/>
          <p:cNvPicPr/>
          <p:nvPr/>
        </p:nvPicPr>
        <p:blipFill>
          <a:blip r:embed="rId1"/>
          <a:srcRect l="2758" t="24131" r="-211" b="503"/>
          <a:stretch/>
        </p:blipFill>
        <p:spPr>
          <a:xfrm>
            <a:off x="144360" y="1649520"/>
            <a:ext cx="869472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M&amp;V Within a Project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alibri"/>
              </a:rPr>
              <a:t>Based on an energy audit, a building owner decides to invest in an energy efficiency project because it will lower utility bills and has a high return on invest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alibri"/>
              </a:rPr>
              <a:t>The owner is relying on the accuracy of the audit’s savings calculations, and that the project will be installed correctly, and will generate saving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alibri"/>
              </a:rPr>
              <a:t>The M&amp;V process verifies whether or not the project yields the expected saving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Audit and M&amp;V Process Comparis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7200" y="1600200"/>
            <a:ext cx="2209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Project Ph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Aud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Verif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Content Placeholder 4"/>
          <p:cNvSpPr/>
          <p:nvPr/>
        </p:nvSpPr>
        <p:spPr>
          <a:xfrm>
            <a:off x="2819520" y="1600200"/>
            <a:ext cx="2666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Audit Activ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- </a:t>
            </a: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Prepare, conduct site visi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- Collect data and inform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- Identify EEMs, quantify savings and cos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- Evaluate cost-effectiven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- Deliver audit repo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- Owner installs EE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- EEMS commissio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Content Placeholder 4"/>
          <p:cNvSpPr/>
          <p:nvPr/>
        </p:nvSpPr>
        <p:spPr>
          <a:xfrm>
            <a:off x="5943600" y="1600200"/>
            <a:ext cx="2666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M&amp;V Activ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- Assess EEM impac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- Define measurement bounda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- Collect baseline 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- Develop M&amp;V Pl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- Collect post-install 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- Verify saving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- Repe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traight Connector 8"/>
          <p:cNvSpPr/>
          <p:nvPr/>
        </p:nvSpPr>
        <p:spPr>
          <a:xfrm>
            <a:off x="533520" y="3733920"/>
            <a:ext cx="7924680" cy="0"/>
          </a:xfrm>
          <a:prstGeom prst="line">
            <a:avLst/>
          </a:prstGeom>
          <a:ln w="1908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traight Connector 9"/>
          <p:cNvSpPr/>
          <p:nvPr/>
        </p:nvSpPr>
        <p:spPr>
          <a:xfrm>
            <a:off x="533520" y="4876920"/>
            <a:ext cx="7924680" cy="0"/>
          </a:xfrm>
          <a:prstGeom prst="line">
            <a:avLst/>
          </a:prstGeom>
          <a:ln w="1908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Why is M&amp;V Importan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Savings estimates from audits are of unknown quality – may be good or b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EEMs may not be correctly installed and result in no sav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EEMs may be installed correctly but staff insufficiently trained on proper operation – savings quickly deg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3T15:56:05Z</dcterms:created>
  <dc:creator>irinak</dc:creator>
  <dc:description/>
  <dc:language>en-US</dc:language>
  <cp:lastModifiedBy>CCSF</cp:lastModifiedBy>
  <dcterms:modified xsi:type="dcterms:W3CDTF">2013-10-16T20:11:29Z</dcterms:modified>
  <cp:revision>486</cp:revision>
  <dc:subject/>
  <dc:title>Energy and Building Science</dc:title>
</cp:coreProperties>
</file>