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27F9-BA39-439F-8460-574051405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057-3159-439B-8958-53C5FC387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E3A-F017-43C9-8F06-F4D1EDB5B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MVP = International Performance Measurement and Verification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MVP defines four options, which are essentially different combinations of measurement boundaries and savings estimation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retrofit isolation methods, and two whole building (facility)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4FB0-1BE3-42C0-A87B-88387192E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fit isolation options are used when the savings of individual EEMs need to be verified (or a number of EEMs within a building sub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F11-A529-4CA7-A7E0-3F0BCFB04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uilding methods are used when the collective savings of all EEMs within the building must be verified. This includes interactiv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nd response and renewable energy savings are quantified using Option C metho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23C-E2A9-4F42-9A99-C93AB73A6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A77-0E9D-4924-8301-F0409A977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E2F-42A9-463B-9336-2F8AB647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746-6DF5-4888-8B9A-F2D92536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7E3A4-B90A-4A51-B6D2-206B59B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1B4B-5001-4E04-A47D-5436862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4ABA-B8AA-4063-B46D-2EA34CD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3EBF7-53FA-48E6-85DB-0E2EAA3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4490C-ACD1-492E-8469-E9DAB81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79F27-9E9D-4041-A153-73235B65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C66BA-FB25-4FFA-ADA9-CE6E03B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DD6E-B0DC-4DC0-8138-CB17B853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1C54A-888D-40E7-97F8-256F16C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BCF5D-0B2C-43AB-88B1-7096BE6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150-5629-48B6-90E8-CAD9AA31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DC98-2BE8-4FFC-B0E6-8CA1981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1BC7-71CC-4A16-B0B1-6485A61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5A06A-7EA9-4E18-8378-21F8C4F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7A359-76B2-437C-B77D-A3A5450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5175C-B214-40EB-97F1-E3C9E7C6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9370C-EA75-453C-93CE-17313AE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88D03-31FA-4D0E-844D-BCDBAB7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D7E13-3414-4E41-9566-74A3514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BA0F-6DA7-4DCF-A53F-FEF53AE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4A21-2A20-46FD-B240-DE7EF08A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683-9407-4EE8-BAA6-C0AB34ED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26870-5B0E-419D-82CA-DABD3D65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60E0-C03C-47A2-861F-6CEDD7CC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04CD4-17AB-439A-B957-63A72F99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F95D-EE39-461A-BB33-FE789A7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8642-B90B-42FC-940D-A60E090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413E7-3602-4071-9636-F359D79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453B4-6770-4DC9-950B-0F92822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1C49F-B19A-46E1-B16A-496DF81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37A9-E1DE-4FA6-96E1-D76ED56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0D475-8D2F-445F-885E-793DF00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AB6-82AF-42BB-8134-E14CF6C2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912E-2DEF-4E62-ABE1-9D2C2F5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1D3D6-A289-4758-944D-C5D6B899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6BEDC-2DE2-4762-A506-862E4C38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FCC-751C-48EB-BE18-D65F718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7602-2B8F-48EA-B0B8-45471BD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A3B-0582-4617-95E3-E63CB3C3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724D-DF66-474E-8F9D-387FAF5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B812-DE78-4555-938E-4308FF83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9A4D-5602-437E-B1C4-0FAD9BD8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78A-8A7F-45EA-8692-C8913941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D43F-53E7-426B-957B-E102026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7FE-A257-4096-A59B-AD88118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C00D-E567-42CE-AD10-769D82E6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2E6F-B09E-4D4B-A53F-0BFC183A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3489-1855-40C6-91D2-E583A8DF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4D1E-2C6A-4C8C-B937-DCA33E3E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1BA9-8103-4D69-BCA0-CE9ACD2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CE00-1734-432E-A116-D4E1379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F746-8DE7-47F3-81C2-66B6079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A522-3F2C-4AB1-B4B1-31DD3BBD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7F6-5F5F-4DDC-81E6-13E3F80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E5DC-BD16-4105-9B26-F1FA4B4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0815-B1BD-479E-A4D4-3B354BD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103C-7959-40A4-8255-4067D50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392D-25C6-4724-9397-C5BC2D0D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1ABA-3ABC-4FE9-83D8-45B85DD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D7F3-BB22-4CCD-AEE6-691DF2B6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E2BD-1A25-4E91-B794-E32796A4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F5B3-A7F3-426F-8388-FBAA2B86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C29E-DBBE-4CF3-9F77-5B3DA9A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D8F9-8EC2-4C2E-AB5F-7FB4E700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7E-FE19-4AE6-AE4C-F5D6D72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F349-7FA3-49E7-A65D-2A9F12B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06CC-19ED-4E8E-B4B2-28C2D43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7A2B-75CB-4898-851F-CDC2B3E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BD1F-8479-45B2-9C9A-AC7F629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6A01-1568-40EA-8DF7-CA5C552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2CD2-A594-4E98-84B8-BA9D2574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CE9E-1680-479F-BB0B-348BD7E9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6A10-1412-49A3-AD15-986B9883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B497-DBFA-44EB-B643-6D50A71A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C071-002C-4D72-85E2-43AAF44C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99B-CDBA-4D4C-B5EE-C976545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E63F-8777-465F-B1C6-71EBB0B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051B-9B4C-4471-8D87-D4C9407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8F77A-0A41-424E-8F4D-B252B1F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00CC-D911-489A-A0F5-ABA87FF2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99EF-C430-4C37-A2E5-FBC1AC74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6BB9-BE23-43CB-8261-4E5EAFA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D1CD-E413-4F92-A28D-4DD3B9D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7242-FF92-48FE-B66F-1F60DBE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BD9A-206B-4D0F-B9F2-A12BC2D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C7F6-031B-44D6-B6AF-90618B33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3D6-D5D5-4A11-9A46-B8F8753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B57B-BEA7-4464-8D56-BFEC2B0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5331-CD5E-4213-BCA2-82E03A16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686CD-B39D-4068-ABF0-BECD1C87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0730-91F6-4264-8018-7033A8A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2E7B-0A56-4818-B751-DE5C6865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632A-15AF-455B-98E7-63BE655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01E4-CB70-4E82-B6EA-5BF8FAB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9C2F-F2ED-4D29-9BFB-88DAAF8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D00E-A670-4B76-B426-0748B93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2EE7-2440-44AD-A329-AD7B9EA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1D3-53A1-4020-ACAC-0E8EE48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C234-7477-475C-BD83-412443D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2548-FFDC-4C3D-8B94-0E04FFF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0672D-7A0D-4BE7-94F0-3770B77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6A38-DB9E-440E-BB58-48750138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64780-1197-4FD2-AF9F-6C55800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D78A-AE8D-4267-929F-C2F7B4D6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AA614-30D8-4F60-BE72-C0C22C57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D90F-E61D-4494-93C3-DE725B7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634E-144D-41D8-9060-04B0884B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8FA64-3048-4012-BD8B-62E255F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6F3-BB16-47FE-9868-349F1B3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3240C-C64C-425C-982C-F0FF9B8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BAD6-D467-40D9-BE97-F5C58E9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2F5A-A74E-49F6-AFAE-0DFEDFD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F241-A54F-4876-9964-0E5C7A14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7AB9-6DF8-4DD2-A615-616C4CF0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DF17-E139-4455-854B-33D50899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981A4-6F8D-4BE1-9F04-8FF15B5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33F3-03F5-414E-82C5-93B218F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5DAA-CA1B-45BD-BE86-D211438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2CAB-27E4-415F-B1BE-E210622C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E5B-2E58-4D9E-BAEF-6112BDC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99A3-D5B7-49D5-ADC8-D40AFBD6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0818B-5E3E-4E2B-A534-C4AF07E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09A2-4215-450A-9626-F60B281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8BE2-96C5-4B44-B441-22EC4264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E20C-C8BB-4552-BD07-8BD882F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EA36A-420E-4FA8-8CC6-1A918744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624E-2583-46C8-B255-EB761FF0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22BD-4F6C-48AA-9CAB-F5673AC9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E1D32-664B-4FEA-B601-62FAEB2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B33A-7C50-4CE2-9933-66449CE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529-FB9B-4C85-B024-48ABB5C7C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4E9D-F775-4270-940F-48F70AE6B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BF5-EDFD-43A8-A1CB-F138E0F34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E9F-A60A-43C0-B529-F806E22A5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998E-D769-4D3B-BE4D-ECB371041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687E-7687-47BA-BD60-FC721F660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93F1-3D53-4454-9672-DC1BBCEA8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D84-06FB-4280-9FD8-6EE31DAF1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88B-0903-4131-AF89-662F50278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00F-1010-4E8B-B9C7-9EE4A0FE7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40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. Application in IPMVP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F. Application in IPM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at are the four IPMVP Options for M&amp;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How do measurement boundaries and savings calculation methods map to IPMVP op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troduction </a:t>
            </a:r>
            <a:fld id="{B1AE8411-BE91-4748-8EFD-4C39D0F5F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PMVP -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524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esents a framework and defines terms used in determining ‘savings’ after implementation of a projec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524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pecifies the topics to be addressed in an M&amp;V Plan for a specific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524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llows flexibility in creating M&amp;V Plans, while adhering to the principles of: accuracy, completeness, consistency and transpar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938-3A21-41A7-94DB-5F8B982FE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351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PMVP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ption A. Retrofit Isolation, Key Parameter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avings are determined by field measurement of the key performance parameters which define energy use of affected systems. Parameters not selected for field measurements are estim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ption B. Retrofit Isolation: All Parameter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avings are determined by field measurement of the energy use of the affected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ption C. Whole Fac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avings are determined by measuring energy use at the whole facility or sub-facility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ption D. Calibrated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avings are determined through simulation of the energy use of the whole facility or sub-facility. Simulation routines are demonstrated to adequately model actual energy performance measured in the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811-0764-4218-A20D-A8985CC1B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ummary of IPMVP Options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417680"/>
            <a:ext cx="7696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trofit Isolation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ption A: Key Parameter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ful with contracts where installation party is responsible for equipment performance but owner responsible for operation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ption B: All Parameter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ful when savings due to EEMs must be known (e.g. EE Progra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3025-B0FA-418F-BFA0-C760EAA5D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Summary of IPMVP Options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hole Build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ption C: Whole Building – Utility Me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onthly Data: Useful when savings a large % of annual use (rule of thumb – 1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nterval Data: Can verify smaller savings at whole building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Option D: Calibrated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ful when savings large and detailed building model des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rojects and investment must be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apping Options to Boundaries and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3352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1904760"/>
                <a:gridCol w="289584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MVP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urement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and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Sim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and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Sim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le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le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Sim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2:34:22Z</dcterms:modified>
  <cp:revision>485</cp:revision>
  <dc:subject/>
  <dc:title>Energy and Building Science</dc:title>
</cp:coreProperties>
</file>