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E1B-13C2-426D-8A83-C5744622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955-DCB1-49F0-BB4B-B4409C812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411-13F3-4859-B495-F82EB5AA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CC9-1377-46D8-8491-ADBB4249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8A12-CA60-467B-8F02-16E7D20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98701-0D1A-4D51-9344-803A757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D2EF8-EA23-4B40-B002-C322F7D2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5B49-ECE1-491C-A1EF-BFB2BBB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EEE11-72FA-4B9A-867D-BEF5FAF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44756-EB1C-4A47-B3E9-8F5935AB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BB979-F065-4C81-A19A-773840F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44C1D-0AC4-46A5-8B07-639182FC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F5F0-0A13-4B32-9995-5729F38B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9ECD4-9493-4631-9B3B-8EB4BA6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DA9-CF1A-4FC1-881C-1A1C26FE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03B0-8F20-40B6-A359-B89E3727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D035A-2816-4EC0-BC53-1FB9F0B8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7B92-60AA-442B-8C06-218DD6A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1E93E-3CB7-48C4-9C3A-7F007726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AB903-CC18-4FEA-AE5D-0161630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EE84D-AA3F-4AB2-A5C7-1FDCBB2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B66B-F499-433E-A0B1-DC6D0E6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45A8E-F61F-429F-B6E4-6D14C7C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FF061-5B49-46BB-B0CD-30EEB66A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FC950-E78E-4A04-A9E6-40E97469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5E9-637D-4925-9268-E891EC5D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8158C-02FD-49E6-A64E-517D7418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C539-5CEC-4FE9-B458-B44DE79E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4FD8-F2C9-4C44-867D-B9B851CE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047F-5394-4494-99D6-5081D62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182F-8732-4FE8-9DC6-62229F55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98C23-D3E3-4DAD-B5C3-0CAA810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184D-AFA8-4A88-AF84-E895C41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7F6F0-1353-4C9A-A7FD-82D1A42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2E86D-545D-48D2-B85B-6FC1FD8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0057-DFA0-4D52-9686-6E3BD58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3D20-09F2-42A0-8F06-7EF7287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61AB-8E24-4BFC-8CEE-CA471A6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1062C-0840-487B-AF4A-163F6787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00489-E509-45F8-B907-B3874640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8435-B31B-487E-BD59-D27FA6EA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75C6-F09A-4E2B-9FD9-D4AEBB8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D710-94CA-4C7A-A650-AE12BD8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25B8-E592-46F2-AE05-65C5E37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39AE-7867-4E56-8BFC-F61B9965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1B3-9F4E-42B0-9512-E6FDF0BD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345-D643-41C6-908A-3DBA474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3C60-8C77-467E-8CAD-F84F51E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9F62-BB73-4E2F-9ECE-09AE11E9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08F-EA19-4D1E-AEEB-BE32943F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D2C-C063-4AB4-B77B-007536D6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6987-DFEB-4C89-8CB4-62FC1EE4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5EB0-52A1-4C8D-9189-4443678D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A265-F6CF-44CF-8169-FE30F3C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58D8-3175-4065-96D7-4FCD177B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D94E-310E-4D59-982A-F3F95E54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06D8-475F-42B7-9A95-2E5806D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D34-2174-46A6-B422-226979B2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169A-6690-4B5E-828E-F442573E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A01F-6AA7-48F3-B357-100F12B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AC0E-D204-4975-BC5E-7C424A63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165B-4837-43D1-B0FF-61A0EEF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421A-2A8A-4467-B67C-4445873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C4D2-B29E-4147-8986-3039BAAA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185A-E131-47FE-964B-DFEFB655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8D66D-A0F0-44B3-919D-5B3A87D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1F72-90E0-41AB-B026-969885A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A1B8-F82A-4A25-9A55-779D8AE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028-6784-458A-8FDE-05326EC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3A8E-3413-43BC-9923-02BCAB80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68C9-A272-4DFE-BCDD-716F4200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FC2B-5EC4-4386-8BAC-3ED17D9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8C7C-348E-4864-95F8-C825F28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8623-EAFC-407F-91AA-1ACE97E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9787-2A90-440A-BB3F-1B4BC83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56093-83EC-4AE7-93E4-EAEBAEA6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050B-61A0-4EE3-A597-670BF65F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1881-2C88-4A03-A90E-7980B12C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37F32-B6C6-491F-8DCE-7DEF2D8F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5EF-94BA-4CA8-A76E-9CB4CD1B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953E-2D51-4BF1-B25B-D2CB1EDE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9014-D2E9-44FC-8624-5C69F054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F141-6D18-4A72-AD02-D0F4D54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F9EA-F4F8-4054-AFCB-AADCCE0A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3C79-0D30-4FDD-854A-BE73277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52A4-16EB-42DE-A4EB-8F8248F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7EEC-C1A4-4277-B93C-E7FD50A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6BDE-5BE1-40AF-9BBE-FA838F7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9308-A3A0-446A-8ACC-B2C3AAE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83CE0-8E20-47E5-BEAC-074BB2A8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4F9-CE98-47CA-88F8-41A36387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C38B-D9B5-4B9F-9CF0-CA9C01CA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6CEB9-0446-46C4-A7AD-8CF97D4F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DDC2-F89C-4646-9ED5-B00E1BE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ADEA-510E-4D3F-9F70-F9A1050D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3041-6FB9-420E-8892-C804D684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743A-3E5B-4BBE-9054-4732C87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4B8D-AD10-4484-8EAA-52965AD7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BEA6-0E95-4A07-9213-C5F5A34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B56B-67D6-4C93-B9C4-CADB897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E8EB6-9304-4A86-8E91-073A32C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F95-D27A-440E-99D1-698FD8F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D15B-D00E-4225-9239-1DDE31A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9D111-D60D-4BAB-B907-479A57F4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DA99-82F4-4369-84C9-DF2D1FC5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E286-07C5-49BB-84D8-733155BC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8FD9-772D-472A-9E42-670D602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8BF2-D02A-4E6A-9501-DC7084B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8F5A6-B0C6-46CD-AC7A-ACB20EC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20C5-34CF-49E4-82A6-88B29A30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EF72E-AE37-4A5F-9F22-392CC46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D47D1-665F-41BA-A923-9ABDBC6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852-7E08-47F0-AC9C-4CF575F6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4708-1DCE-4B20-AC66-8E43EF4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0549D-28FA-464E-B7FC-32D7565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0F34-2B9B-4F6E-8E38-104D19E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6B0C-3A68-44B9-B948-EFA6AF52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B7A6-1BE6-4029-BB0E-8E7184BE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D73CC-4A70-4E9F-87A7-27F589EF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912C-8A2C-4A4E-8F3B-5992B47D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81D77-D61B-4F07-864B-AF64D67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EC5C-F47C-46D0-99A0-B4BCCC4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EB45-8091-417C-BEFB-CE8BE15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96E-16DE-48A6-9B9B-A50908B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1A22-A22D-4F2F-BC57-9A0EA84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2191-FEDF-4C3D-88B3-882E7D8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88067-DB7B-42A8-8995-10455FC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6213-89B4-447C-9D88-0F9996A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7A66-0BCA-4412-A1FD-58E5AB9B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85C80-96C8-4C11-B945-A66CBA6C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991BC-7029-40ED-8EE2-C96028D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EF455-37D3-4A90-9DC4-FA41ACE6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9AE0-D94C-4503-8B26-02052C5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189FD-F306-4960-8BDA-3B003C6F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785-7233-4DC2-BD63-7AD7E22FD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788-34F3-434C-95FE-65251B1DC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944-E48F-4C8B-9249-652DC0108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C14-8743-462A-8B24-4F807C492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4AA-FF07-4DA5-B2B5-C88F8CA0A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A211-4F31-4961-A5E4-5B49A2A70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9CA-EEF8-4367-BAFB-C2F53028F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14E-E6EA-4C56-98CD-0C3BD3770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E638-C460-4EB8-8AF8-B32F0A4D9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97C-93AC-4226-BFFA-C6F975EBB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Savings Calculation Fundamentals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. Savings Calculation Fundament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undamental concept of savings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n-rou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Quantifying Sav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PMVP Chapter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nergy Savings = Baseline Energy Use – Post-Retrofit Energy Use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± Adju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djustment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Non-Rou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outine Adjus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Normal and expected variations in energy use due to operating conditions, weather, normal production rat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quation beco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nergy Savings =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Adjusted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Baselin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    –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ost-Installation Period Ener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± Non-Routine Adju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nergy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Energy models describe how baseline energy use is affected by routine parameters of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Energy models can b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Mathematical equations: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kW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alibri"/>
              </a:rPr>
              <a:t>save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= kW (HR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alibri"/>
              </a:rPr>
              <a:t>base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– HR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alibri"/>
              </a:rPr>
              <a:t>post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Statistical relationships: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kWh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alibri"/>
              </a:rPr>
              <a:t>save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= f (T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alibri"/>
              </a:rPr>
              <a:t>outside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time-of-we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Complex computer simulations of buildings: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DOE-2, EnergyPlus, </a:t>
            </a:r>
            <a:r>
              <a:rPr b="0" i="1" lang="en-US" sz="1800" spc="-1" strike="noStrike">
                <a:solidFill>
                  <a:srgbClr val="0070c0"/>
                </a:solidFill>
                <a:latin typeface="Calibri"/>
              </a:rPr>
              <a:t>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model enables one to determine what baseline use would have been under post-installation or any other condi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av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Measured post-install use is subtracted from adjusted baseline to calculate </a:t>
            </a:r>
            <a:r>
              <a:rPr b="0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voided Energy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"/>
          <p:cNvPicPr/>
          <p:nvPr/>
        </p:nvPicPr>
        <p:blipFill>
          <a:blip r:embed="rId1"/>
          <a:srcRect l="2758" t="24131" r="-211" b="503"/>
          <a:stretch/>
        </p:blipFill>
        <p:spPr>
          <a:xfrm>
            <a:off x="3902040" y="1474920"/>
            <a:ext cx="4848120" cy="2563560"/>
          </a:xfrm>
          <a:prstGeom prst="rect">
            <a:avLst/>
          </a:prstGeom>
          <a:ln w="0">
            <a:noFill/>
          </a:ln>
        </p:spPr>
      </p:pic>
      <p:sp>
        <p:nvSpPr>
          <p:cNvPr id="509" name="Content Placeholder 2"/>
          <p:cNvSpPr/>
          <p:nvPr/>
        </p:nvSpPr>
        <p:spPr>
          <a:xfrm>
            <a:off x="609480" y="4114800"/>
            <a:ext cx="784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Normalized Savings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 are calculated from baseline and post-install energy use under different condi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.g. typical meteorological year (TM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quires post-install model as w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6477120" y="762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oided Energy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1" name="Straight Arrow Connector 7"/>
          <p:cNvCxnSpPr/>
          <p:nvPr/>
        </p:nvCxnSpPr>
        <p:spPr>
          <a:xfrm flipH="1">
            <a:off x="6247800" y="1066320"/>
            <a:ext cx="533880" cy="839160"/>
          </a:xfrm>
          <a:prstGeom prst="straightConnector1">
            <a:avLst/>
          </a:prstGeom>
          <a:ln cap="rnd" w="19080">
            <a:solidFill>
              <a:srgbClr val="4a7ebb"/>
            </a:solidFill>
            <a:miter/>
            <a:tailEnd len="lg" type="stealth" w="med"/>
          </a:ln>
        </p:spPr>
      </p:cxnSp>
      <p:cxnSp>
        <p:nvCxnSpPr>
          <p:cNvPr id="512" name="Straight Arrow Connector 12"/>
          <p:cNvCxnSpPr/>
          <p:nvPr/>
        </p:nvCxnSpPr>
        <p:spPr>
          <a:xfrm flipH="1">
            <a:off x="7009920" y="1066320"/>
            <a:ext cx="153360" cy="839160"/>
          </a:xfrm>
          <a:prstGeom prst="straightConnector1">
            <a:avLst/>
          </a:prstGeom>
          <a:ln cap="rnd" w="19080">
            <a:solidFill>
              <a:srgbClr val="4a7ebb"/>
            </a:solidFill>
            <a:miter/>
            <a:tailEnd len="lg" type="stealth" w="med"/>
          </a:ln>
        </p:spPr>
      </p:cxnSp>
      <p:cxnSp>
        <p:nvCxnSpPr>
          <p:cNvPr id="513" name="Straight Arrow Connector 17"/>
          <p:cNvCxnSpPr/>
          <p:nvPr/>
        </p:nvCxnSpPr>
        <p:spPr>
          <a:xfrm>
            <a:off x="7467480" y="1131840"/>
            <a:ext cx="191520" cy="774000"/>
          </a:xfrm>
          <a:prstGeom prst="straightConnector1">
            <a:avLst/>
          </a:prstGeom>
          <a:ln cap="rnd" w="19080">
            <a:solidFill>
              <a:srgbClr val="4a7ebb"/>
            </a:solidFill>
            <a:miter/>
            <a:tailEnd len="lg" type="stealth" w="med"/>
          </a:ln>
        </p:spPr>
      </p:cxnSp>
      <p:cxnSp>
        <p:nvCxnSpPr>
          <p:cNvPr id="514" name="Straight Arrow Connector 19"/>
          <p:cNvCxnSpPr/>
          <p:nvPr/>
        </p:nvCxnSpPr>
        <p:spPr>
          <a:xfrm>
            <a:off x="7772040" y="1142640"/>
            <a:ext cx="610200" cy="762840"/>
          </a:xfrm>
          <a:prstGeom prst="straightConnector1">
            <a:avLst/>
          </a:prstGeom>
          <a:ln cap="rnd" w="19080">
            <a:solidFill>
              <a:srgbClr val="4a7ebb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Routine Adjus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Unexpected changes in energy use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enants moving in or ou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hiller failure and replac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New building loads (office eqp., servers, et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jor renov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Accounting for impac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easure or estimate non-routine energy imp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Quantity and du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move from adjusted base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79E-E45B-44DE-B8D2-31C36F4DF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Routine Adjus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566640" y="1093680"/>
            <a:ext cx="74725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03FB-EB44-4C09-A3C4-D94F59BFC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Routine Adjus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457200" y="1117440"/>
            <a:ext cx="7696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0:20:30Z</dcterms:modified>
  <cp:revision>485</cp:revision>
  <dc:subject/>
  <dc:title>Energy and Building Science</dc:title>
</cp:coreProperties>
</file>