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27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E266-08E7-4EAE-88DF-078E17FB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52C7-323D-4491-9C26-CB706E8FC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Efficiency Valuation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&amp;V Planning </a:t>
            </a:r>
            <a:fld id="{DCD84E41-E202-4E6E-A78B-BFFDC2F2D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As a default measure true RMS watts unless you are sure there are no harmonics and no phase shift on the circuit (not just the device being measur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Efficiency Valuation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&amp;V Planning </a:t>
            </a:r>
            <a:fld id="{A98AEB9D-F343-4828-974C-A13683C3C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o metering is impossible, just more cos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0B6-AE9B-456A-9BDE-9FE39E34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6C7-D8B4-4BAB-9703-4BE3F07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AADF2-EA87-42CF-82B2-3303076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1F8F6-5C8F-40F4-BD71-93E08CDD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0B298-E199-48B1-BDA4-B9678C7A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8B3E9-34CE-4640-9AB2-AEC8EFB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332A9-B138-42CD-81C7-99ADED28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A7CBA-5498-4DFA-B29D-E4EA9A1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A4E5E-8DDB-48F4-817D-A12AB76B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BA2ED-F604-4040-9BB8-9C86B80A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524A7-DDC6-4EEA-995D-C6403CB5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1D990-2BFE-4342-9C20-F91544AD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43B-2FA8-40F5-9DAA-ED0D1619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01193-F7C2-4D6E-BEE3-D5BDAC0C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A3D20-F348-435F-AFA4-782615D3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24697-D5CC-4F0E-805B-2C3D7BBB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760AC-1858-4F7F-A838-3AEE5757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7C47A-CB92-4350-B34F-C239529E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53CBB-E813-44D7-B068-2C96460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A153D-0132-410D-A619-20005823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6D24A-71B0-4509-A6FB-BA9230E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AD1BF-7754-4BE8-8C22-1C5BDF23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98589-E33D-49E5-ACBD-42785EE8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9BB-BFAB-41FA-87C5-C46B2781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BE7F0-A9E5-4E5A-9FEF-C83BBD6F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6E5D7-E554-4521-BBDA-367E3AC8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0BE3D-CE4A-41F2-945D-B5D16BB0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DDB8B-A129-4BFC-B973-5E6D3DD7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A55AA-B6A4-4C4E-99EC-97A1F040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45995-D5C8-4AAF-AB7C-D00208FE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24426-364A-4074-8E32-36C46CB3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7F4CC-0FF0-423D-9126-0623F4DF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F8BF4-1F05-4186-A5C4-232078C7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E554-F973-44DD-BAF7-2530D74B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FF1A-426C-4D6C-9C95-5BBD29C5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D5CF5-F3D1-4B18-A931-A1734A1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973FB-C459-43C5-92E2-781FED16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B4310-3E90-4849-8B72-4145ED19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E6C81-3E32-4B92-A825-FB600E22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7A443-04B0-4563-BA66-DD898341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8F2A7-F9CF-4B4C-8EDC-31CCD54E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A0D4B-2373-4969-95C9-E5A01DED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53F7D-F992-489B-9600-9B439CE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4870A-CA95-49B7-95E2-6B4E36FC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3491F-0ECA-4380-A2F0-0C1F718E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EA34-97E8-4AB9-9A7B-4DEA61BA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6E142-81A3-4686-AA41-E3BE387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6BA22-0D4D-4937-8A95-152F53A3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F77FB-071B-4EBE-9FD5-816D8108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00BD6-2C73-4920-BF87-3FBBE10F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C398C-E23D-469E-A734-F3047881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2CD0-E44E-43DA-904F-BB3F3E50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36C-5A31-40EC-8B6C-AD9214AF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17D8-E822-4205-8D3E-2C8A46E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704B-DE66-4F6F-B409-E9292BCD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98E2-4CF4-4DD3-BC23-74234868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236-BB4A-4FE7-B079-0D8B8E8C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445-258C-43F8-A345-151E93C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AD89-8764-4DA8-BAA1-A6AF442F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0123-4B00-48FA-A3F6-1475791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73B3-65BE-47B6-8450-92EB85A2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30A9-9E0F-473F-8A04-FB65B2D9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2F2C-8FB7-4645-AD48-D9489759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F8C9-F8BA-4D6F-B555-17B9BE1F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AF130-EA52-4B1A-848C-0E47AE33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F6DD-9ADE-4858-B6DB-A292D268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E6CE-CC5B-4FC5-9469-1DC58525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1C3-A3F0-416F-8B2D-E13687AC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1A33-D978-48B2-947E-FFC62D7D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20B3-D572-4D38-8F58-A806249F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34F2-8615-4A5B-B709-DBB413FB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4DC7-3E99-44D9-8DB2-D6E6A4EA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EC9D-82C9-4E9A-A5AE-7CEC1480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B53DC-FC9C-4C8E-9BE1-3E5630DE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2027-74DE-48AF-BED3-2EB032F7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7F51E-A5F9-4F33-8D03-9EA6E071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C0F8-4AE2-4A57-B621-A798BE0F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14B1-DF9A-486D-BDDC-861B3689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AA4-0D34-4981-8E5D-CF0A94F8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278E-527F-4D24-A2AE-59302EAE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DA950-CA2E-4C13-97A3-B3B2794C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35C4-C202-447A-BF86-351FF263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DE32-0F78-4DD5-9ABF-3DA890D8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5BB0-ACEA-4219-9AD3-173B6197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0039A-DEB4-4B66-B535-D2F81C63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AD0A-DC7E-4905-A6D6-2E6A5521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A1D8-D56F-4BB8-887E-FBA2B48F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BA2F-E773-4768-B97E-2FD7059A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3EB37-8BF7-4E32-B040-A04DFE37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B8A-6EA7-45AF-94A2-FDE7E700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72552-66A6-4CF2-BE06-BE1E323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0B9D0-8BCB-4E20-8EF3-FC6B50AA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20F9-BBA5-455A-870C-64666318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E307-D907-4F5A-8139-11E7A7E7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35F3-7FE9-4185-8CAA-E9B22E1C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86CEE-8379-4984-892E-44F379A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25342-94FD-4AC7-8642-9DB6D3E8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87056-391A-4564-8ED2-E238FB53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53F27-42BF-4637-9A5E-59E9FC3C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EDF9-2111-4EFB-BA9B-DB55F62F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235-6F94-432C-AEA8-C4F84C59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1ACC-B846-43E1-AE4C-C6F60E87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CB7F9-890A-48ED-BAFB-83FB3ECF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1067F-3FB9-4ED8-B44E-5A4284E0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A74DA-4306-4A92-A0FE-B8BCE8CD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1D4B-13DA-40E5-AED5-952ED94C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6EA2-9D14-4FF3-9249-722CEB4D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5890-E2AC-4EB3-8AB3-ECB20E46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16BB7-20A2-44BA-8E5F-5472048F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1FAD9-E99B-453F-9049-3DE39AA6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2C4C1-0248-4D63-8C10-0E0A272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AAC-789B-449A-9966-E42529E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10142-0A18-456A-9C80-11BA0ABB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C8562-F265-4559-8F3B-9B73A782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A9AF-BB04-4BDD-8CFA-1FC98533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14BF-00C4-4993-A83C-A12EB37E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8A0E2-E014-4654-AEAF-3B50F7A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38826-9E5A-49DC-811D-A287B7EF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109A7-6E5E-4C53-8766-E2CA76BA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0C55C-3BA9-4472-A78A-67FE452D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E6974-A444-4ACC-A635-71CC9882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F994C-0D34-4395-9CB8-C238ADFD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E33-F061-4A36-A3F1-769BC5A8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3DD89-9719-4C83-9188-02654A5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27C08-B2A0-40D3-A431-B4C4BF2D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73B3B-C5A9-4B56-B0CC-52BA764A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C2178-C49E-4713-B98D-1A84F26A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E3D97-36AA-4010-87E4-56C98720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576CB-65FA-482E-9468-8FCE1D1A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9AAEE-E90A-4492-9952-AC5A3CEA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886E1-01C5-4457-806F-604FF6F9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6B5B0-9FE7-4335-90AE-4BD80826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D598B-86EE-4D0A-A7C6-DBDAED64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AC3-9957-47F2-98D7-D4A22B2B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2C328-03E2-4BF3-BA41-B21E9E8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6BE56-AA4B-4C38-B5D2-53682FE4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BADBF-ABF5-4C36-BE3B-43DD2E49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EDC9D-7565-4C0C-A770-E1C1A82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AA0EA-FD3D-4B69-9E7C-6E87DF8F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D5A2B-F404-41D3-9A9F-8E893AF2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C944B-8C6A-44C8-9C19-2CCBF34D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3BB91-C00D-403F-B377-C1F50927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EDA1D-5888-4995-8C89-B250F6FA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AA185-9893-430F-A3BB-BC0C0251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56E6-4CD1-4E82-85AC-39001D6AB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10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5342-720E-4A0F-90C2-5E76022ED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traight Connector 9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F1A-E4F1-413B-AE1F-9B3D8B2B8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traight Connector 9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471E-9869-4E8C-8037-05D553C82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urse No. ENRG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6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3520" y="1634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675B-15F4-481E-9E99-EA004FB01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1F0A-184C-4CFB-8203-21E578607F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608D-ED31-48A7-97D2-72AD5497B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11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12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6C43-3BA7-464C-A91D-30D205FC39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raight Connector 7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8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0FB0-43BF-4050-907D-6EC478FCC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A38F-70FA-4377-B4EF-0AF041E84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10BA-904E-4BD4-8907-2ABA66606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Measurement Tools &amp; Verification of Savings Calculations</a:t>
            </a:r>
            <a:br>
              <a:rPr sz="40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G. Sources of Data and Measurement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Measurement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4" descr="https://encrypted-tbn2.gstatic.com/images?q=tbn:ANd9GcT2SxHzj8ordoG6-s3tNpkA1H1mCLBTls46uCobrDk1Ty_4i46hrQ"/>
          <p:cNvPicPr/>
          <p:nvPr/>
        </p:nvPicPr>
        <p:blipFill>
          <a:blip r:embed="rId1"/>
          <a:stretch/>
        </p:blipFill>
        <p:spPr>
          <a:xfrm>
            <a:off x="4495680" y="1905120"/>
            <a:ext cx="4253040" cy="3116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https://encrypted-tbn1.gstatic.com/images?q=tbn:ANd9GcTSrT3k-urbMi61Ht-DRZuRIYqznSL94M-AYkHwTadt56zj18k6"/>
          <p:cNvPicPr/>
          <p:nvPr/>
        </p:nvPicPr>
        <p:blipFill>
          <a:blip r:embed="rId2"/>
          <a:stretch/>
        </p:blipFill>
        <p:spPr>
          <a:xfrm>
            <a:off x="457200" y="228600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&amp;V Planning </a:t>
            </a:r>
            <a:fld id="{23F6EE97-5AC4-4DAF-B4EE-BA4FE335C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lectrical Met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Watts = Amps  x  Volts  x  Power F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Power factor is important. For restrictive loads (e.g. incandescent lighting), PF = 1.0 and amps and volts are all that must be measured. For inductive loads, PF must be measured or estim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armonic distortion may also influence rea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lways measure the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rue RMS Watts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, not simply amps and volts, to include all possible power factor and harmonic influe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&amp;V Planning </a:t>
            </a:r>
            <a:fld id="{96136F3B-2E64-4A02-9738-E86036F64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Thermal Energy 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rmal energy meters measure energy rate provided by hot and cold water, often from a central plant to a buil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Require 2 tempera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nsors and a flow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emperature and fl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nsors may be intrus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or surface-mou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ources of error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ree measurement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xpensiv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419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Measurement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0520" y="1295280"/>
            <a:ext cx="2133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Data logg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HOB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Pace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D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Et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2" descr="http://www.pge.com/mybusiness/edusafety/training/pec/toolbox/tll/images/vaisala_rhtemp_w_shield.jpg"/>
          <p:cNvPicPr/>
          <p:nvPr/>
        </p:nvPicPr>
        <p:blipFill>
          <a:blip r:embed="rId1"/>
          <a:stretch/>
        </p:blipFill>
        <p:spPr>
          <a:xfrm>
            <a:off x="2590920" y="1295280"/>
            <a:ext cx="1143000" cy="1714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elitepro"/>
          <p:cNvPicPr/>
          <p:nvPr/>
        </p:nvPicPr>
        <p:blipFill>
          <a:blip r:embed="rId2"/>
          <a:stretch/>
        </p:blipFill>
        <p:spPr>
          <a:xfrm>
            <a:off x="2286000" y="3429000"/>
            <a:ext cx="1905120" cy="1380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http://wpc.306e.edgecastcdn.net/80306E/onsetcomp_com/d-image/large/HOBO-UX100-Temperature-Data-Logger_UX100-001.jpg"/>
          <p:cNvPicPr/>
          <p:nvPr/>
        </p:nvPicPr>
        <p:blipFill>
          <a:blip r:embed="rId3"/>
          <a:stretch/>
        </p:blipFill>
        <p:spPr>
          <a:xfrm>
            <a:off x="5943600" y="1143000"/>
            <a:ext cx="2146320" cy="1523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ttp://wpc.306e.edgecastcdn.net/80306E/onsetcomp_com/d-image/large/HOBO-U12-4-Channel-External-Data-Logger_U12-006.jpg"/>
          <p:cNvPicPr/>
          <p:nvPr/>
        </p:nvPicPr>
        <p:blipFill>
          <a:blip r:embed="rId4"/>
          <a:stretch/>
        </p:blipFill>
        <p:spPr>
          <a:xfrm>
            <a:off x="457200" y="3505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96" name="TextBox 8"/>
          <p:cNvSpPr/>
          <p:nvPr/>
        </p:nvSpPr>
        <p:spPr>
          <a:xfrm>
            <a:off x="1905120" y="29718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utdoor Air Temperature Sens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9"/>
          <p:cNvSpPr/>
          <p:nvPr/>
        </p:nvSpPr>
        <p:spPr>
          <a:xfrm>
            <a:off x="0" y="48769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-Channel Data Log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0"/>
          <p:cNvSpPr/>
          <p:nvPr/>
        </p:nvSpPr>
        <p:spPr>
          <a:xfrm>
            <a:off x="1828800" y="48769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lectrical Power Log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2" descr="http://www.onsetcomp.com/onset-content/public_site/nodes/8517/splash-hoboware-pro.png"/>
          <p:cNvPicPr/>
          <p:nvPr/>
        </p:nvPicPr>
        <p:blipFill>
          <a:blip r:embed="rId5"/>
          <a:stretch/>
        </p:blipFill>
        <p:spPr>
          <a:xfrm>
            <a:off x="5410080" y="3124080"/>
            <a:ext cx="3129120" cy="263844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2"/>
          <p:cNvSpPr/>
          <p:nvPr/>
        </p:nvSpPr>
        <p:spPr>
          <a:xfrm>
            <a:off x="5562720" y="563868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BOware Pro Data Logger Softwa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5715000" y="25909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door Temperature Log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ment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04920" y="1600200"/>
            <a:ext cx="487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Spot measurement instr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1. Powers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2. Fluke 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3. Raytek Laser Thermome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4. Source: PG&amp;E Tool Lending Libr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http://www.pge.com/pec/tll/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4" descr="ps3000"/>
          <p:cNvPicPr/>
          <p:nvPr/>
        </p:nvPicPr>
        <p:blipFill>
          <a:blip r:embed="rId1"/>
          <a:stretch/>
        </p:blipFill>
        <p:spPr>
          <a:xfrm>
            <a:off x="5562720" y="1219320"/>
            <a:ext cx="1676160" cy="2346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http://bimg1.mlstatic.com/termometro-ir-industrial-raytek-raynger-st-32-535c-vmj-fluk_MLM-F-3977035685_032013.jpg"/>
          <p:cNvPicPr/>
          <p:nvPr/>
        </p:nvPicPr>
        <p:blipFill>
          <a:blip r:embed="rId2"/>
          <a:stretch/>
        </p:blipFill>
        <p:spPr>
          <a:xfrm>
            <a:off x="5334120" y="4038480"/>
            <a:ext cx="2514600" cy="1892520"/>
          </a:xfrm>
          <a:prstGeom prst="rect">
            <a:avLst/>
          </a:prstGeom>
          <a:ln w="0">
            <a:noFill/>
          </a:ln>
        </p:spPr>
      </p:pic>
      <p:sp>
        <p:nvSpPr>
          <p:cNvPr id="606" name="TextBox 5"/>
          <p:cNvSpPr/>
          <p:nvPr/>
        </p:nvSpPr>
        <p:spPr>
          <a:xfrm>
            <a:off x="5029200" y="35812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werSight Power Analyz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6"/>
          <p:cNvSpPr/>
          <p:nvPr/>
        </p:nvSpPr>
        <p:spPr>
          <a:xfrm>
            <a:off x="5257800" y="60199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aytek Laser Thermome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7394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. Sources of Data and Measurement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http://www.egenergy.com/wp-content/uploads/2011/07/trends-and-graphs-no-logo.jpg"/>
          <p:cNvPicPr/>
          <p:nvPr/>
        </p:nvPicPr>
        <p:blipFill>
          <a:blip r:embed="rId1"/>
          <a:stretch/>
        </p:blipFill>
        <p:spPr>
          <a:xfrm>
            <a:off x="1219320" y="2438280"/>
            <a:ext cx="3166920" cy="22100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http://www.buildinggreen.com/cgi-bin/scale.cgi?width=200&amp;src=/productimages/3565_data_logger.jpg"/>
          <p:cNvPicPr/>
          <p:nvPr/>
        </p:nvPicPr>
        <p:blipFill>
          <a:blip r:embed="rId2"/>
          <a:stretch/>
        </p:blipFill>
        <p:spPr>
          <a:xfrm>
            <a:off x="5638680" y="2590920"/>
            <a:ext cx="1905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Whole Buil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143000"/>
            <a:ext cx="4191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Electric/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1. Monthly b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2. Time of use meters (large facili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3. Smart meters (everyone el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http://i.i.cbsi.com/cnwk.1d/i/tim/2010/09/02/smartmeter-v01-pho_270x228.jpg"/>
          <p:cNvPicPr/>
          <p:nvPr/>
        </p:nvPicPr>
        <p:blipFill>
          <a:blip r:embed="rId1"/>
          <a:stretch/>
        </p:blipFill>
        <p:spPr>
          <a:xfrm>
            <a:off x="304920" y="4495680"/>
            <a:ext cx="2038320" cy="1720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https://mcecleanenergy.com/images/bill/bill-icon.jpg"/>
          <p:cNvPicPr/>
          <p:nvPr/>
        </p:nvPicPr>
        <p:blipFill>
          <a:blip r:embed="rId2"/>
          <a:stretch/>
        </p:blipFill>
        <p:spPr>
          <a:xfrm>
            <a:off x="6400800" y="750960"/>
            <a:ext cx="2333520" cy="1441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http://cdn8.triplepundit.com/wp-content/uploads/2010/06/pile_of_money_2-199x300.jpg"/>
          <p:cNvPicPr/>
          <p:nvPr/>
        </p:nvPicPr>
        <p:blipFill>
          <a:blip r:embed="rId3"/>
          <a:stretch/>
        </p:blipFill>
        <p:spPr>
          <a:xfrm>
            <a:off x="7010280" y="2209680"/>
            <a:ext cx="1468440" cy="1119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http://wattsupwiththat.files.wordpress.com/2013/03/pge_rate_july22-23-2012.png?w=678&amp;h=773"/>
          <p:cNvPicPr/>
          <p:nvPr/>
        </p:nvPicPr>
        <p:blipFill>
          <a:blip r:embed="rId4"/>
          <a:stretch/>
        </p:blipFill>
        <p:spPr>
          <a:xfrm>
            <a:off x="5830920" y="3429000"/>
            <a:ext cx="2814480" cy="2666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http://rense.com/general95/metere.jpg"/>
          <p:cNvPicPr/>
          <p:nvPr/>
        </p:nvPicPr>
        <p:blipFill>
          <a:blip r:embed="rId5"/>
          <a:stretch/>
        </p:blipFill>
        <p:spPr>
          <a:xfrm>
            <a:off x="2895480" y="4552920"/>
            <a:ext cx="2232000" cy="16765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2"/>
          <p:cNvSpPr/>
          <p:nvPr/>
        </p:nvSpPr>
        <p:spPr>
          <a:xfrm>
            <a:off x="762120" y="63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rt Meters for Electricity &amp; Natural G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Whole Buil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129492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4. Advanced metering or Energy Information systems (EI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. customer owned, non-revenue g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b. System of meters, communication nodes, data sto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. User Display Scr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8954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http://www.automatedbuildings.com/news/feb05/reviews/eis.ht1.jpg"/>
          <p:cNvPicPr/>
          <p:nvPr/>
        </p:nvPicPr>
        <p:blipFill>
          <a:blip r:embed="rId1"/>
          <a:srcRect l="0" t="2392" r="0" b="13835"/>
          <a:stretch/>
        </p:blipFill>
        <p:spPr>
          <a:xfrm>
            <a:off x="762120" y="914400"/>
            <a:ext cx="7467480" cy="53341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4"/>
          <p:cNvSpPr/>
          <p:nvPr/>
        </p:nvSpPr>
        <p:spPr>
          <a:xfrm>
            <a:off x="2666880" y="8380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Architecture of an Energy Information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Building Sub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520" y="137124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uilding automation system (B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sys (Johnson Contro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Alerton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iemens Building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ra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ee www.ddc-online.or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nergy Management and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owerLogic ION Enterprise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Obvi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2" descr="http://rollc.net/wp-content/uploads/2012/05/BMS.jpg"/>
          <p:cNvPicPr/>
          <p:nvPr/>
        </p:nvPicPr>
        <p:blipFill>
          <a:blip r:embed="rId1"/>
          <a:srcRect l="0" t="0" r="3698" b="0"/>
          <a:stretch/>
        </p:blipFill>
        <p:spPr>
          <a:xfrm>
            <a:off x="3809880" y="1434960"/>
            <a:ext cx="51818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Building Sub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52280" y="1295280"/>
            <a:ext cx="320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ypical data avail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1.  Sub-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a. electr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. BTU meters from central pl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tatus/feedback signals (from B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a.  Variable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- VFD speed sig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- inlet guide van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.  Constant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- equipment on/o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8" descr="http://www.facilitiesnet.com/graphics/products/-bom11/bo1011BadgerMeter.jpg"/>
          <p:cNvPicPr/>
          <p:nvPr/>
        </p:nvPicPr>
        <p:blipFill>
          <a:blip r:embed="rId1"/>
          <a:stretch/>
        </p:blipFill>
        <p:spPr>
          <a:xfrm>
            <a:off x="6781680" y="685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0"/>
          <p:cNvSpPr/>
          <p:nvPr/>
        </p:nvSpPr>
        <p:spPr>
          <a:xfrm>
            <a:off x="6095880" y="23623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ub-Meter by Badger Meter I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2"/>
          <a:stretch/>
        </p:blipFill>
        <p:spPr>
          <a:xfrm>
            <a:off x="3328920" y="2878200"/>
            <a:ext cx="5738760" cy="3827520"/>
          </a:xfrm>
          <a:prstGeom prst="rect">
            <a:avLst/>
          </a:prstGeom>
          <a:ln w="0">
            <a:noFill/>
          </a:ln>
        </p:spPr>
      </p:pic>
      <p:cxnSp>
        <p:nvCxnSpPr>
          <p:cNvPr id="568" name="Straight Arrow Connector 9"/>
          <p:cNvCxnSpPr/>
          <p:nvPr/>
        </p:nvCxnSpPr>
        <p:spPr>
          <a:xfrm flipV="1">
            <a:off x="3047760" y="5485680"/>
            <a:ext cx="6865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9" name="Straight Arrow Connector 13"/>
          <p:cNvCxnSpPr/>
          <p:nvPr/>
        </p:nvCxnSpPr>
        <p:spPr>
          <a:xfrm flipV="1">
            <a:off x="2819520" y="4114440"/>
            <a:ext cx="91512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Building Sub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129492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ensor da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. Ambient temperature (loc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b. Indoor temper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. Supply and Return temperatures (water or ai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d. Make sure to check sensor calibration and for gaps or missing values in sensor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6" descr="http://ww1.prweb.com/prfiles/2010/08/24/4425394/0_AHU.jpg"/>
          <p:cNvPicPr/>
          <p:nvPr/>
        </p:nvPicPr>
        <p:blipFill>
          <a:blip r:embed="rId1"/>
          <a:stretch/>
        </p:blipFill>
        <p:spPr>
          <a:xfrm>
            <a:off x="3079800" y="1295280"/>
            <a:ext cx="5716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http://icons-ak.wxug.com/i/wpbg/ALL/640-mostlycloudy.jpg"/>
          <p:cNvPicPr/>
          <p:nvPr/>
        </p:nvPicPr>
        <p:blipFill>
          <a:blip r:embed="rId1"/>
          <a:stretch/>
        </p:blipFill>
        <p:spPr>
          <a:xfrm>
            <a:off x="457200" y="457200"/>
            <a:ext cx="8261280" cy="60199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bsites – NOAA, weather under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MY data (from NR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ather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6" descr=""/>
          <p:cNvPicPr/>
          <p:nvPr/>
        </p:nvPicPr>
        <p:blipFill>
          <a:blip r:embed="rId2"/>
          <a:srcRect l="23702" t="12431" r="24896" b="9583"/>
          <a:stretch/>
        </p:blipFill>
        <p:spPr>
          <a:xfrm>
            <a:off x="609480" y="3200400"/>
            <a:ext cx="3403800" cy="2828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Weather Underground"/>
          <p:cNvPicPr/>
          <p:nvPr/>
        </p:nvPicPr>
        <p:blipFill>
          <a:blip r:embed="rId3"/>
          <a:stretch/>
        </p:blipFill>
        <p:spPr>
          <a:xfrm>
            <a:off x="7086600" y="2057400"/>
            <a:ext cx="1397160" cy="838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"/>
          <p:cNvPicPr/>
          <p:nvPr/>
        </p:nvPicPr>
        <p:blipFill>
          <a:blip r:embed="rId4"/>
          <a:stretch/>
        </p:blipFill>
        <p:spPr>
          <a:xfrm>
            <a:off x="4172040" y="3276720"/>
            <a:ext cx="4451400" cy="24382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NOAA logo - Click to go to the NOAA homepage"/>
          <p:cNvPicPr/>
          <p:nvPr/>
        </p:nvPicPr>
        <p:blipFill>
          <a:blip r:embed="rId5"/>
          <a:stretch/>
        </p:blipFill>
        <p:spPr>
          <a:xfrm>
            <a:off x="5943600" y="2133720"/>
            <a:ext cx="8096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5:56:05Z</dcterms:created>
  <dc:creator>irinak</dc:creator>
  <dc:description/>
  <dc:language>en-US</dc:language>
  <cp:lastModifiedBy>CCSF</cp:lastModifiedBy>
  <dcterms:modified xsi:type="dcterms:W3CDTF">2013-10-16T21:21:58Z</dcterms:modified>
  <cp:revision>485</cp:revision>
  <dc:subject/>
  <dc:title>Energy and Building Science</dc:title>
</cp:coreProperties>
</file>