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5FBB-81DF-47CA-92A4-6855E8197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5AFD-7823-40F7-B3A6-71DD4BEA0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C56C-5213-4544-903B-203D01D4F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C9B-AE70-4215-8F89-6B62B349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8E9-6848-4668-9EA5-176705A1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CAA8C-22F9-4E4F-9F8D-E862A22E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2EFAB-8051-44EC-BD7C-B7DA6E12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30BD0-1E8D-4ED4-92CB-E6355FEA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BA9B4-81B3-4E22-A6CC-1FF82D43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E0393-7A77-4A0D-B5F5-2678F864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E8D77-0D70-4DD6-B338-FF7F64AB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8193B-E84E-4B52-ADF2-4EA16820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315FA-E5B4-4C1D-8215-3D2D2426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6828C-0CBF-4B82-B39D-801EF9C3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6B55C-FB93-4B5A-9B95-A504F67F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813-2D84-41FA-87E4-E63924DB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389B8-C21D-4257-8AB9-E1EED418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242A9-FE41-478A-B896-120C35F6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04E7E-DB3B-417A-AC0A-63564AA7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8F27D-BDA6-4D71-A94E-98424AB7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D4E1D-0380-4504-B96D-47951196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0DAE7-D3D0-45B4-9AD4-CB1BE140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C05AA-8686-4BE2-9DC6-686F632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AFBB5-A53D-4368-BE77-B98E49C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B2022-2F3C-4B07-B187-F0F1131D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4FCCD-E1AA-485D-B31D-214C1068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576-7FE6-43C3-AE92-56AF8D2E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35B56-B3CA-4402-9CCA-0C0A1A6E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5A7E3-6664-4ACB-895C-65CE1A1A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F456B-CA53-4C46-8C7A-12575811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B0E20-10FD-4B00-BEAB-C43B1EB9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776D1-1A05-4BDB-B59E-A7B5ECA8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A5EB7-937D-4F82-A257-E10DA643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3731D-1EFA-4D10-BCC9-D5234FC1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611B5-CF5E-4889-AE5A-EFB8D6C1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2A76B-CDAF-4B3A-AE18-57365AE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DC3D5-717F-4A66-AB10-B426D529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1451-312E-4E4C-B1A9-88592EA6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0E951-5994-4C2E-BE31-DA2E5D28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EF3D6-72A6-48B1-80AE-C9C7A3F3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D610E-978A-49BE-A121-21772952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1BC1-7CFB-43DC-8469-6A6226DF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3EE2-8C32-40C5-A2FA-20A68A70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4FBF-668D-4F0D-8774-EF7F882C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A41F-E1BF-4E68-BE2A-02771506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8455-2EEA-4DEF-B051-A16F9FC4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80B7-4280-4DCF-92CD-406C6F5A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5A5-05A7-41BB-A2D4-1EF66B2F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084E-698A-479D-A77E-BC8A2A8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C093-C677-41D1-9D83-A671597E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B530-E23E-45AC-9297-21F08667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BEBA-861F-4A08-9271-E62FEFB3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A182-2B8D-4A11-BB9A-F76B9B51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1296-6096-434B-A369-720BDE52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E77C-9998-4DA6-BC28-4621CC52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E1D1-DF91-49FB-B91B-FD6A2A9A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D5EFB-0DB3-43FE-A82B-762B8D6D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C299-20CB-45F2-BB17-32EDD31D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6D4-5B52-4B21-A231-F6EFBC66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C357-5F61-4618-B131-8A000F0C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3283-5E93-4265-9885-89907319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BBE4-21D8-4CD0-BA5C-33384B80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F4DD-72B8-48CC-ACE8-3AE8C5CD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723F-AEA1-4C0F-907E-B120824B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F5B7-4DE2-4597-9AC9-9E2BE129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9B94-5147-446D-A3BF-B91CAC3A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830B6-B4A5-4C07-AF99-204CE127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669DB-7837-4CB4-9D65-168B5C3A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8BD57-F3F8-4415-84DE-EDCAFE30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E22-A1E5-4875-AA14-B636530B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4C39-8A8D-41B5-8A70-E94D1BFB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4F450-1479-4864-835D-3DCB0023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9DAA9-2658-46C8-A711-8A083FF9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70D4E-1126-4148-978B-D68743B4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4AF2-8D96-4856-A744-9813FA52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57806-6E80-40C6-A3F0-CE2F3705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97E12-27B9-4420-9749-08E9C241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C4BC-09AB-4CC5-A31C-281A00BC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3C4C-8F7A-4630-90C5-29EED61B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6EFC0-9216-41B6-BAD0-5707289B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676-5741-4165-A425-10BEE3EF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2DB1C-FB8C-4E69-AFF2-00C6EC34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AD201-DE09-4377-A4BC-8D133249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10305-7427-49DD-88E3-0D0E10C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78CC-9EBE-4EDC-BC81-7C0DA15D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76B17-0B6F-4B8F-981F-8768A5B3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9910A-7754-4210-BAF6-99E62C31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F288D-E590-4DFA-A64B-581E03E4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F13FB-3FBE-4B9B-91F7-50DA08EE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219B7-C101-4B81-BBB4-30CF08C6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2657C-9B48-4418-92DC-D8304FC3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CCF-8BB4-45B9-A739-5A6FFCCA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73C0A-C41E-4D47-A504-DE3DECE3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0344E-E540-4335-933B-CB9F1618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C1C81-FE81-4F17-8A29-DC21558E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BF3B7-767A-4FD9-AF17-7B489E0C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6F06D-19A1-4B8D-B915-7E15E84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CF45-0D36-48CE-B966-422A65F8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FCD38-AC08-407E-9451-DB0BD27B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87650-8338-4B16-94C9-7DC5392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E70C5-6B95-4610-A972-9897347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59ADF-C84D-4E4E-A233-5323C4CD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6D1-6AC2-4887-B968-4935E3C1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ABA8-EC32-4633-A0EE-8208FD52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836CC-9AA1-4694-A7DF-9BA50C6E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A4FB9-B244-4688-86A0-8F1F588C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96D55-3C86-4BC9-BF7C-835B944F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8B1A-A5CB-4324-BD4B-EFB775E9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A733A-F8E2-4DA5-B0A5-03E66C09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83059-8EEE-46AB-81E2-9287BC24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6D9C5-D36D-46A4-B7F5-38745509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07825-C1C6-4FFE-BC4E-A1B6B5FE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A4737-073B-4ABC-BBC8-537A740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9A2-E06B-494D-AFA6-0C3FDA4A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9EF3F-EE51-4E71-8CFE-D35E8085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57191-09AA-4D62-9789-F1FD5476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67292-C547-4E97-8D08-4FA3EEE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E87A-0646-4565-805B-EF36C01D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6E3FD-0CB2-49F1-9C47-8F60C0DB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124DD-2D77-4EF3-8A56-66DF49A0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31AD8-8215-4714-829F-1B29741D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DCFD4-A21D-45A7-BF65-7ECFCB33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CEE48-CD7C-4FC9-8EA9-70CFB6D3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9E894-96DC-4C97-97F9-553B8586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7A1-E601-4FCD-B0CD-C9F19C30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52B35-2E71-428D-80CB-1001582C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35713-2AB8-44D9-B0FE-3DDCECDE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3EAC2-E19D-470A-902D-785F8E1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F460A-B80C-4C43-9A22-DCE511FB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3FE22-B9AB-40DB-8D12-69220611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67DE0-4DD0-4EC6-909F-57D55757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0C2C3-2972-42D7-861E-84D7E033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C6C5B-16D6-4AB7-8F27-C1BE7BDC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D4E1C-8601-4AB5-9F97-36514983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F63C4-EEC5-4B3A-8AB5-CD345716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8758-9374-4E61-92C8-959FC901A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9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08D7-D368-4FEF-8745-23449F678B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traight Connector 9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FE2C-6C93-4A46-9AFD-8312AA31D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urse No. ENRG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6"/>
          <p:cNvSpPr/>
          <p:nvPr/>
        </p:nvSpPr>
        <p:spPr>
          <a:xfrm>
            <a:off x="533520" y="45720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3520" y="1634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7592-1A57-455C-A7CC-4732BC3556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5C29-6B03-4FD5-A443-DD9585C93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C0D2-C8DB-4E0D-BD9E-9AD5BE3F6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11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12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32C0-2995-4F8B-AFB6-89B2E59005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traight Connector 7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raight Connector 8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986E-5825-4A96-B931-22102591F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82A0-F1B0-4E30-8FBE-D3C420300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0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3884-024A-41B7-9C77-E8C2D6C142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Measurement Tools &amp; Verification of Savings Calculations</a:t>
            </a:r>
            <a:br>
              <a:rPr sz="36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. Measurement Boundary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D. Measurement Bound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Imaginary boundary around a building, a system, or a piece of equi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EEM affects energy consumption within measurement bounda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ust account for all energy across the bounda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Measurement boundaries are selected based 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Number of E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Number of systems affected by the E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mount of sav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vailability of data / potential to obtain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Goals of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easurement Bound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28600" y="182844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Whole Build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ncludes al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f497d"/>
                </a:solidFill>
                <a:latin typeface="Calibri"/>
              </a:rPr>
              <a:t>Good when multiple systems affec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elatively few data sourc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f497d"/>
                </a:solidFill>
                <a:latin typeface="Calibri"/>
              </a:rPr>
              <a:t>Main utility meters (gas and electric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f497d"/>
                </a:solidFill>
                <a:latin typeface="Calibri"/>
              </a:rPr>
              <a:t>Local weather dat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Savings must be large (&gt; 1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nclud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f497d"/>
                </a:solidFill>
                <a:latin typeface="Calibri"/>
              </a:rPr>
              <a:t>Interactive effec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f497d"/>
                </a:solidFill>
                <a:latin typeface="Calibri"/>
              </a:rPr>
              <a:t>All other effec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75438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BB1D-D8CB-49EA-AA15-E74BF8FAE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4572000" y="76320"/>
            <a:ext cx="4452840" cy="67053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4"/>
          <p:cNvSpPr/>
          <p:nvPr/>
        </p:nvSpPr>
        <p:spPr>
          <a:xfrm>
            <a:off x="4572000" y="152280"/>
            <a:ext cx="4343400" cy="6705720"/>
          </a:xfrm>
          <a:prstGeom prst="rect">
            <a:avLst/>
          </a:prstGeom>
          <a:noFill/>
          <a:ln w="2844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Measurement Bound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72388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2B12-A8CA-4309-8D1A-AC737941C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16173" t="1625" r="2503" b="54510"/>
          <a:stretch/>
        </p:blipFill>
        <p:spPr>
          <a:xfrm>
            <a:off x="4038480" y="609480"/>
            <a:ext cx="4953240" cy="411480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0"/>
          <p:cNvSpPr/>
          <p:nvPr/>
        </p:nvSpPr>
        <p:spPr>
          <a:xfrm>
            <a:off x="4495680" y="609480"/>
            <a:ext cx="4419720" cy="3886200"/>
          </a:xfrm>
          <a:prstGeom prst="rect">
            <a:avLst/>
          </a:prstGeom>
          <a:noFill/>
          <a:ln w="3168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182844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Building subsystem (HVA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hiller, CHWP, CT, CWP, HWP, Supply &amp; Return f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ultiple data points need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kW or status on each compone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Sources: EMS trend logs, data loggers, submet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avings must be large only in relation to annual system energy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nly accounts for savings withi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Measurement Bound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684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qui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.g. Chiller only, pump only, lighting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Few data poi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Supply, return water temps, fl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iller kW, O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Savings for equipment on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12" descr=""/>
          <p:cNvPicPr/>
          <p:nvPr/>
        </p:nvPicPr>
        <p:blipFill>
          <a:blip r:embed="rId1"/>
          <a:srcRect l="0" t="0" r="32076" b="-717"/>
          <a:stretch/>
        </p:blipFill>
        <p:spPr>
          <a:xfrm>
            <a:off x="4952880" y="21337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3"/>
          <p:cNvSpPr/>
          <p:nvPr/>
        </p:nvSpPr>
        <p:spPr>
          <a:xfrm>
            <a:off x="5257800" y="3352680"/>
            <a:ext cx="1676520" cy="1067040"/>
          </a:xfrm>
          <a:prstGeom prst="rect">
            <a:avLst/>
          </a:prstGeom>
          <a:noFill/>
          <a:ln w="31680">
            <a:solidFill>
              <a:srgbClr val="8064a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7162920" y="4267080"/>
            <a:ext cx="990360" cy="457200"/>
          </a:xfrm>
          <a:prstGeom prst="rect">
            <a:avLst/>
          </a:prstGeom>
          <a:noFill/>
          <a:ln w="31680">
            <a:solidFill>
              <a:srgbClr val="8064a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Convenient Boundary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By California End-Use Survey End-Use Catego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Reference: http://www.energy.ca.gov/ce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1409760" y="2590920"/>
            <a:ext cx="247644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V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ce He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ce Coo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ti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191120" y="2590920"/>
            <a:ext cx="380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on-HV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rig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 Compr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estic Water He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ide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door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ice Equi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cellaneous Equi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System Boundary by ‘Service Provided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Calibri"/>
              </a:rPr>
              <a:t>Chilled water system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hiller, CHW pumps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Calibri"/>
              </a:rPr>
              <a:t>Air handling system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upply fan, return fan, exhaust f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Calibri"/>
              </a:rPr>
              <a:t>Hot water system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Boiler, HW pum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Picture 6" descr=""/>
          <p:cNvPicPr/>
          <p:nvPr/>
        </p:nvPicPr>
        <p:blipFill>
          <a:blip r:embed="rId1"/>
          <a:stretch/>
        </p:blipFill>
        <p:spPr>
          <a:xfrm>
            <a:off x="5029200" y="3705120"/>
            <a:ext cx="3314880" cy="14763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"/>
          <p:cNvPicPr/>
          <p:nvPr/>
        </p:nvPicPr>
        <p:blipFill>
          <a:blip r:embed="rId2"/>
          <a:stretch/>
        </p:blipFill>
        <p:spPr>
          <a:xfrm>
            <a:off x="3657600" y="5310360"/>
            <a:ext cx="3124080" cy="1114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2" descr=""/>
          <p:cNvPicPr/>
          <p:nvPr/>
        </p:nvPicPr>
        <p:blipFill>
          <a:blip r:embed="rId3"/>
          <a:stretch/>
        </p:blipFill>
        <p:spPr>
          <a:xfrm>
            <a:off x="5219640" y="1143000"/>
            <a:ext cx="3314880" cy="22352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13"/>
          <p:cNvSpPr/>
          <p:nvPr/>
        </p:nvSpPr>
        <p:spPr>
          <a:xfrm>
            <a:off x="5029200" y="1066680"/>
            <a:ext cx="1981080" cy="2438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6039000" y="3602160"/>
            <a:ext cx="1617480" cy="1666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3857760" y="5181480"/>
            <a:ext cx="1344600" cy="927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5:56:05Z</dcterms:created>
  <dc:creator>irinak</dc:creator>
  <dc:description/>
  <dc:language>en-US</dc:language>
  <cp:lastModifiedBy>CCSF</cp:lastModifiedBy>
  <dcterms:modified xsi:type="dcterms:W3CDTF">2013-10-16T20:54:11Z</dcterms:modified>
  <cp:revision>485</cp:revision>
  <dc:subject/>
  <dc:title>Energy and Building Science</dc:title>
</cp:coreProperties>
</file>