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9B5-F89F-4279-8991-D27BE007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322-9213-47A1-9958-CC203B4B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7AA-D7D5-4709-AE2A-D9C5B03FF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EF5-F0C0-4CF4-9B2E-F0E725A1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C74D-19C0-4FE7-AB69-B3724099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1BEA-B4A1-4B60-8E9F-98245FC4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F768-785B-4D2C-9D37-E4D1490D3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BBB7-7659-419C-845C-2ECC1517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A036-C149-4F7E-8835-09BAFFA6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6D26-3F6B-4D1A-9154-B7149BDF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C14F-A62C-43C7-93B7-F83A461D3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A30-D704-4E7D-8F05-A220CE2A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1EC-1881-4BE5-9AEB-5D06F3471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AEEF-DDB8-483D-887C-4336D89C7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AB25-52B0-4C35-B2A1-8CA3385C2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47840" y="1447920"/>
            <a:ext cx="4810320" cy="215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47840" y="4211640"/>
            <a:ext cx="4829400" cy="2036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568960" y="61419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3 Example of the XPY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928520" y="3602160"/>
            <a:ext cx="546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2 Example of the Square root (SQ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nd dimension of side C for the right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73320" y="3505320"/>
            <a:ext cx="3225960" cy="2111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2362320" y="572940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4 Solving the hypotenuse of a right triangle using the Pythagorean the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21120" y="1298520"/>
            <a:ext cx="3108240" cy="49388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78040" y="6237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a Combining math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2666880" y="52578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5b Using the CPT instruction to solve the hypotenuse of a right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521000" y="2743200"/>
            <a:ext cx="61149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, subtract, multiply, and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and format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functions can be combined with data manipulation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four standard math functions available with most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math functions and give examples of how they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the square root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h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math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with constants or store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Math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510516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11040" y="60022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 Divide (DIV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295280" y="2411280"/>
            <a:ext cx="6915240" cy="2371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333800" y="4800600"/>
            <a:ext cx="687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2 Data compare instruction LES to control amount of chemical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 functions may be used with timer or count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5002200" cy="2379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1486800" y="5954760"/>
            <a:ext cx="68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3 Divide (DIV) instruction used to enter a preset value in a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29440" cy="24973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83680" y="502128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5 Arithmetic status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(CPT) outpu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defined operations and writes result to destin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786320" y="5791320"/>
            <a:ext cx="56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0 Programmed PLC-5 Compute (CPT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209680" y="4146480"/>
            <a:ext cx="45529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instruction (CL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s the value in a word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197800" y="5776920"/>
            <a:ext cx="48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4-11 Example of the Clear (CLR)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195640" y="3733920"/>
            <a:ext cx="457200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16:42Z</dcterms:modified>
  <cp:revision>77</cp:revision>
  <dc:subject/>
  <dc:title>Chapter Fou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