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DA5B-2FC1-49B4-B462-7C875B97B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A923-9474-4E91-8A0A-FA6103307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79E6-2C59-4613-A3E5-79FFCBA33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7B38-9F31-475F-86DB-255508FFF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499F-ECDB-4691-90F3-49A98804E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0B2B-5B8C-4612-90FC-4C3F53B88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1BF1-4A34-4958-9504-ED7746CF3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C76E-FF44-4C2C-9A95-1C7A812E4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2501-3CA8-4F88-B97B-E6904CABF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CFAB-A7E3-4C34-AB80-894367768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B897-1056-4391-8AE0-EEC6DC20F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7F14-2859-423F-BB92-B0895F194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CD2D-B586-4102-844B-74E7FEF70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4369-4C2C-4563-AD54-1C5AC580D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1C97-DEC0-47FE-B337-E093A2C3A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92A4-C247-4304-9C4E-1C7BFD462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Twel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Cou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2"/>
          <p:cNvSpPr/>
          <p:nvPr/>
        </p:nvSpPr>
        <p:spPr>
          <a:xfrm>
            <a:off x="3071160" y="6026040"/>
            <a:ext cx="365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-5 Programmed CTD cou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219320" y="1655640"/>
            <a:ext cx="703080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2"/>
          <p:cNvSpPr/>
          <p:nvPr/>
        </p:nvSpPr>
        <p:spPr>
          <a:xfrm>
            <a:off x="3112200" y="6032520"/>
            <a:ext cx="30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-6 CTD counting ch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1893960" y="1523880"/>
            <a:ext cx="545760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ining Timers and Cou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cou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 and down counters can be programmed together to count products as they enter and leave a convey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Figures 12-8a and 12-8b in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timers and cou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extend time of timer beyond normal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2459520" y="6172200"/>
            <a:ext cx="378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-8b Up and down counter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990720" y="1190520"/>
            <a:ext cx="698652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 Logix5000 Cou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590920"/>
            <a:ext cx="822960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er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U or CT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UD: up and down in one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 structure used to address cou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have preset or accumulated values up to 2,147,483,6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d counters give added flexibility and control to process equipment or machin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ers store values in binary format for the preset and accumulated cou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program using up and down cou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term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crem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c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, PLC-5,SLC 500, and MicroLogix Cou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590920"/>
            <a:ext cx="822960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cou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 counters (C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 counters (CT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ers are retentive until reset by res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371600" y="2075040"/>
            <a:ext cx="6753240" cy="3267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2509560" y="5621400"/>
            <a:ext cx="447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-1 Allen-Bradley PLC-5 counter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er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 counter block 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er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mulated count value from 0 to 32,7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60440" y="2590920"/>
            <a:ext cx="8205840" cy="217008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2692080" y="4867200"/>
            <a:ext cx="374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-2 Storage format for coun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er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bits for up and down cou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Up Enable (C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Down Enable (C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Done (D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Up Overflow (O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Down Underflow (U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219320" y="1459080"/>
            <a:ext cx="6953040" cy="45702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2965680" y="6049800"/>
            <a:ext cx="346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-3 Programmed up cou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3066120" y="6026040"/>
            <a:ext cx="30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2-4 CTU counting ch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1225440" y="1631880"/>
            <a:ext cx="694080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1:07Z</dcterms:modified>
  <cp:revision>75</cp:revision>
  <dc:subject/>
  <dc:title>Chapter Twel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