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2DA1-2931-4BC3-93C4-3CB41F96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866A-E962-48FF-8FD8-92E91F58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E1EB-88C2-4965-A83E-51A9101DD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3F8B-8212-495F-A4A2-E4E8E2E7C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6A23-B66F-40F4-9C35-DDCA1D172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824C-38D2-4AD4-B0F6-3F0A22BD2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B46F-9025-4B28-BFA5-F92A44DD2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E99D-1266-4F86-9193-1B081CFA2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010D-B66E-452D-9E6B-ACEDAB1E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3DAE-E0BF-4437-8A11-75BAAA6F9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591C-E977-434D-A821-5D8F4F2B9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FEED-0B7B-4420-801E-25EC239A7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2AC4-F5E5-4795-941F-C3AE4F592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5DBD-1BE6-4B8F-A7E6-FAD37B64E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AC5B-2765-436E-84D8-348627514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A2B7-2774-48A1-BACF-103C4FB9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36F7-7449-412F-8557-BF6A545D4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 Violet Programmable Read Only Memory (UV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Erasable Programmable Read Only Memory (EPR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 permanent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security needed to prevent unauthoriz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ly Erasable Programmable Read Only Memory (EE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p can be programmed and er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d by sending proper signal to erase 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rimarily as nonvolatile backup for user program 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in K values (example: 16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system used in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s are 1s and 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may use 8-bit or 16-bit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memory size depends on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to enter, modify, and troubleshoot the PLC program, or to check the condition of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-held: see Figures 3-9 and 3-11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: see Figure 3-10 in the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splay, documentation, and storag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arding Against Electrostatic Discharge (ES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of static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cause of failure of memory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nstatic floor cove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hips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the work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 a wrist 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general class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PLC memory structu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ndividual manufacturer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status of the 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steps in the user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ondition of the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 stored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types: volatile and nonvola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unction of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a typical program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two distinct types of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unction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tchdog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various memory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microprocessor, chips,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and communication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separate from microprocessor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1646280"/>
            <a:ext cx="7781760" cy="4228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2988360" y="5992920"/>
            <a:ext cx="332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-1 Basic PLC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processor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tatus of in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s logic of us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state of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with other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emory and updates timers, counters,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952360" y="565632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-3 Typical processor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38280" y="1752480"/>
            <a:ext cx="78674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dog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time limit for each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s processor into fault condition if timer ex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user program containing relay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status, accumulated val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or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atil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es information when power i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volatil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ins stored information when power i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Access Memory (R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type of volatil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alled read/writ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Only Memory (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information cannot be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ble Read Only Memory (PR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to once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5:27Z</dcterms:modified>
  <cp:revision>60</cp:revision>
  <dc:subject/>
  <dc:title>Chapter Thre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