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2D638-8CD3-477E-BE0E-DCF41D792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313C1-A70D-4778-96D0-399FE7C1D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EFF17-5D7B-43BB-B4F3-7EAA6A214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83845-F96B-4941-A02D-3C7E2EA87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D3947-95E9-44E4-AD9C-1DB229F29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0AA63-041B-4B1B-870A-CCC39F7E8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BA7C1-DAFC-4AAC-9369-4907516D0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9EAAB-C7CA-45D1-B2A2-E03C98A75C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0685A-542F-42A6-B428-69FA9DA262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CE272-4F09-413F-B66C-C5A1F2547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C77A4-4EBA-499B-A97A-85BDFA6F2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87CF4-06B9-4F8D-94C2-B85F73E09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E8967-C153-448B-A1CB-EB457F0C49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25A34-E382-4C98-870F-5108C1712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DA5F4-3942-4D51-918A-6264BF42F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9BC80-E9D3-4DAE-98A8-F903B4663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063ED-3C9D-4740-B0CA-8FC8236236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7ED61-722E-4961-8C3D-2EDA7082AE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07D24-9F05-4D77-B697-2A7A2A142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A68BF-DB93-41C0-BF65-835EE9FD36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1DA0A-A62B-410F-B34B-0394F53A0A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B9315-DDB4-4040-BF4E-00FB0665BB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D6AD7-9366-47C9-90FE-86B152C51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33BB3-D9B0-41AE-AF4F-79A4F9F10D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210D4-6402-4AE1-BF76-568DAA5B02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16543-21F0-4578-9884-CBF89D2C23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E0E68-3192-4122-B98D-1835E1976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92124-45A4-4066-86B5-AB3933A25C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621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744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90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177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762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390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177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44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Tw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ing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/Output (I/O)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rete I/O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accept digital or ON/OFF sig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rete input mo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es status of real-world input device to the proces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in a wide range of vol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s multiple input termi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rete I/O Module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 discrete input mo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"/>
          <p:cNvSpPr/>
          <p:nvPr/>
        </p:nvSpPr>
        <p:spPr>
          <a:xfrm>
            <a:off x="1652040" y="5819760"/>
            <a:ext cx="586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-7 Simplified AC input module circuit with indicator l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762120" y="3124080"/>
            <a:ext cx="786744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rete I/O Module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80880" y="22730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C discrete input mo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"/>
          <p:cNvSpPr/>
          <p:nvPr/>
        </p:nvSpPr>
        <p:spPr>
          <a:xfrm>
            <a:off x="1653480" y="5978520"/>
            <a:ext cx="627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-13 Simplified circuit for DC input module with indicator l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1428840" y="2990880"/>
            <a:ext cx="6724440" cy="28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rete I/O Module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-responding DC input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with high-speed or high volume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 encoders, proximity switches to count product from high-speed 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ay in filtering circuit less than 1 millisec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rete I/O Module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rete output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current flow to real-world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als are dig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ified as AC or D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d by number of devices that can be conn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rete I/O Module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 output mo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685800" y="2971800"/>
            <a:ext cx="7962840" cy="2814480"/>
          </a:xfrm>
          <a:prstGeom prst="rect">
            <a:avLst/>
          </a:prstGeom>
          <a:ln w="0">
            <a:noFill/>
          </a:ln>
        </p:spPr>
      </p:pic>
      <p:sp>
        <p:nvSpPr>
          <p:cNvPr id="79" name="TextBox 1"/>
          <p:cNvSpPr/>
          <p:nvPr/>
        </p:nvSpPr>
        <p:spPr>
          <a:xfrm>
            <a:off x="2446560" y="5819760"/>
            <a:ext cx="418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-15 Typical AC output module circu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rete I/O Module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 f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protection for overcurrent, shorts, or ground fa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s l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ate that output point has been turned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rete I/O Module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e ke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ches prevent wrong type of module from being instal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C output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operation as AC output mo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power transistor to control output 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rete I/O Module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ing and s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device provides current, it is sour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device receives current, it is s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output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mechanical relay used to open or close a set of cont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rete I/O Module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posing re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o control loads larger than the current rating of an individual output circ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ed relay output mo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when dry reed relays desir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istor-transistor logic I/O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tible with other solid-state contr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the I/O section of a programmable control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DIP swit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how basic AC and DC input and output modules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ptical isola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describe why it i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og I/O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og input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o convert analog signals to bin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use by the PLC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og output mo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s binary into analog sig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of use: controlling variable speed controll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2057400" y="1530360"/>
            <a:ext cx="5264280" cy="4465800"/>
          </a:xfrm>
          <a:prstGeom prst="rect">
            <a:avLst/>
          </a:prstGeom>
          <a:ln w="0">
            <a:noFill/>
          </a:ln>
        </p:spPr>
      </p:pic>
      <p:sp>
        <p:nvSpPr>
          <p:cNvPr id="91" name="TextBox 1"/>
          <p:cNvSpPr/>
          <p:nvPr/>
        </p:nvSpPr>
        <p:spPr>
          <a:xfrm>
            <a:off x="3126600" y="6178680"/>
            <a:ext cx="312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-29 Analog input mo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fety Circu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wired emergency s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s power to the output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pendent of the PLC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d by NEMA standard when operator is exposed to machin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ergency stop relay (ESR) cont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for safe system rest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ck Instal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s to consi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id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ring di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ibility for troublesho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ical Noise (Surge Suppressio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2577600"/>
            <a:ext cx="8229600" cy="42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ical no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ed when inductive loads are operated by hard cont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transient voltages when inductive device switched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ods to reduce or eliminate no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l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u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s eliminate effects of electromagnetic in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ipment grounding condu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ached to metal frame of P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Shiel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elded cable reduces effect of electrical no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eld should only be grounded at one 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eld should be terminated at the I/O r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/O rack houses input and output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ules connect to real-world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/O categ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 or mod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gital or ana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environmental conditions when installing PLC equi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the proper wiring connections for input and output devices and their corresponding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why a hard-wired emergency-stop function is desir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the ter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o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what I/O shielding d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environmental concerns when installing PL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S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 voltage or current signal into a logic-level sign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tible with the proces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 modules provide ON/OFF status of buttons, switches to th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al sent to output device based on program log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xed I/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unit containing processor, I/O section, and power supp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expansion units with various I/O configur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provide more capability or different vol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1704960" y="5711760"/>
            <a:ext cx="642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2-2 SLC 500 fixed I/O chassis with optional two-slot expa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990720" y="1809720"/>
            <a:ext cx="7200720" cy="36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I/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flexible than fixed I/O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ous types of input and output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used in a rack or chas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l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modules mounted with the proces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te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is mounted remotely from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I/O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mpers or switches used to configure r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P switches commonly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ice connections must have a distinct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o communicate with the proces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5:43:49Z</dcterms:created>
  <dc:creator>Jeffery Woodson</dc:creator>
  <dc:description/>
  <dc:language>en-US</dc:language>
  <cp:lastModifiedBy>Stephanie Page</cp:lastModifiedBy>
  <dcterms:modified xsi:type="dcterms:W3CDTF">2018-10-23T19:25:52Z</dcterms:modified>
  <cp:revision>64</cp:revision>
  <dc:subject/>
  <dc:title>Chapter Tw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D0F2CFCBA445774D86797879970B2337</vt:lpwstr>
  </property>
</Properties>
</file>