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D35F-EC33-441D-AE25-15C25F2A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3E9-BB05-4448-93AA-7EF65FF0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BEE-D951-4019-91D2-2D1561DE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D540-2A4F-4135-8E41-445E9A22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A80-2137-48A6-9E14-1EAD732B9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337A-E81A-4F72-B2A9-7B8B9832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CCA8-9143-4BAD-816B-D8F0E5FB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2449-1693-4CF7-8BB8-A2D73E35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4A57-0D81-4379-BDB6-6101013C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980-FC33-4F07-87FF-67B3A49B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25C3-F246-4B3E-AA71-7C7588B3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3B3-9D2C-48B2-86F1-2035CB9D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5FD-674A-4E9D-9CB6-7EFE51A1E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D94-8E65-4ABB-9421-8CC9D779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7291-C7A2-4F7C-9C40-6C749530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D48-3E20-4503-A9D8-2FF601D11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2B2A-2C04-46AB-AF72-F503518B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5E7A-4B37-4F1D-807C-77AE3E7FE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10CB-8AFC-4B28-B09C-884DF4EF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51F1-D827-496C-8707-F2D63BF7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92C-030B-4FB7-BEDC-326A369F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2E50-341D-42AF-9302-50A767C4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46F4-1866-4D3B-B06E-80A7482A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675E-105B-4219-B208-6D61715C5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C950-F796-4AFB-8771-75B01A7F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42E-C389-4BA7-9210-599D0E90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CE73-F590-431D-AD9A-D8B18598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281760" y="6151680"/>
            <a:ext cx="27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7 Controller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66760" y="1371600"/>
            <a:ext cx="69357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memory used and memor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I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ppropriate configuration from pull-dow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046320" y="6081840"/>
            <a:ext cx="33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9 IO Configuration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274760" y="1447920"/>
            <a:ext cx="6846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orrect power supply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lick on the Power Supply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 Loading window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minimum recommended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folder displays fil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ing poin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261600" y="609768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4 Data Fil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198440" y="1407960"/>
            <a:ext cx="694548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tatus of first three words of in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tells what the devi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B 1 (pushbutto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explains what the input devic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980800" y="6111720"/>
            <a:ext cx="40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9 Program area with rung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123920" y="1265400"/>
            <a:ext cx="72676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2071800" y="5400720"/>
            <a:ext cx="54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0 Simple STOP/START circuit without over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155600" y="2106720"/>
            <a:ext cx="7282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OP button by clicking Normally Open contac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OP butt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RT button by clicking BRANCH START symbol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dark vertical line to upper lef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basic programm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, and the hazards that could be associated with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N.O. symbol to add the nex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question mark to enter th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ymbol and description for address I:1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holding contact for the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e output device: motor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528640" y="59594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4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523880" y="1274760"/>
            <a:ext cx="65026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finished program for correct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Verify Projec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result shown in lower left corner of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has completed; no error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rror will be identified by ru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the Logix5000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SLogix 5000 to program a ControlLogix 1756-L62 processor mounted in a 4-slot chassis: see Figure 8-37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the same simple STOP/START circuit that was used in pri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545200" y="6230880"/>
            <a:ext cx="454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9 Input Module 1756-IA16 Data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512800" y="60800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63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523880" y="1265400"/>
            <a:ext cx="6282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is programmed using specific PL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codes and address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usually developed and tested in Off-Lin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or coils can be forced ON or OFF while circuit is 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program while the processor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developed while not connected to the process o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LCs have overrid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On and Forc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well RSLogi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programming examples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RSLogix software by double-clicking the RSLogix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9320" y="1801800"/>
            <a:ext cx="6943680" cy="4118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109960" y="5919840"/>
            <a:ext cx="54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 SLC 5/03 processor mounted in a 4-slot cha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2066760"/>
            <a:ext cx="7296120" cy="3181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927520" y="5627520"/>
            <a:ext cx="35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912760" y="598500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 RSLogix opening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00200" y="1339920"/>
            <a:ext cx="6527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File,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cessor Type window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to find processor you ar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 name, and 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side of screen: projec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ide of screen: programm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663640" y="61102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 Select Processor Type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474920" y="1371600"/>
            <a:ext cx="679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Rita</dc:creator>
  <dc:description/>
  <dc:language>en-US</dc:language>
  <cp:lastModifiedBy>Stephanie Page</cp:lastModifiedBy>
  <dcterms:modified xsi:type="dcterms:W3CDTF">2018-10-23T19:23:16Z</dcterms:modified>
  <cp:revision>80</cp:revision>
  <dc:subject/>
  <dc:title>Chapter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