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695-B7B9-4384-BCE8-433A2654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E78D-ADB7-4895-AE0C-E91B2AC1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and Using Ladder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648320" y="1941480"/>
            <a:ext cx="3984480" cy="321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69880" y="1938240"/>
            <a:ext cx="3743280" cy="3213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203760" y="5351400"/>
            <a:ext cx="44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3 Two-input 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607280" y="5351400"/>
            <a:ext cx="435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5 Two-input 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447920" y="1913040"/>
            <a:ext cx="6670440" cy="31287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232000" y="5181480"/>
            <a:ext cx="56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4 Two input devices wired in series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85920" y="1752480"/>
            <a:ext cx="6657840" cy="3905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743840" y="5824440"/>
            <a:ext cx="574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6 Two input devices wired in parallel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305160" cy="3772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702360" y="56815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7 NOT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711680" y="1851120"/>
            <a:ext cx="3984480" cy="3727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4865400" y="567072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9 NAND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85800" y="1863720"/>
            <a:ext cx="3581280" cy="34639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891720" y="547056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1 N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57280" y="5467320"/>
            <a:ext cx="353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23 XOR gate with truth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029200" y="1789200"/>
            <a:ext cx="34732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electrical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agrams show physical location and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 diagrams show electric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ides of the diagram calle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lines called r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s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AN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devices wired in parall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n O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gates represent motor control device logic in a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ogic gates: AND, OR, NOT, NOR, NAND, X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s combine to create complex control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parts of a wir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a wiring diagram to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rules that govern a ladde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circuit wiring and associate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lative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210120" cy="269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08880" y="6203880"/>
            <a:ext cx="252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Wiring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057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electrical relationship of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sc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092240" y="3505320"/>
            <a:ext cx="6568920" cy="2452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97080" y="60325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 Ladder di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lik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to right, top to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 power lines represent voltage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s shown in order of 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devices shown in their norm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dder Diagram R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have same number or letter designation as controll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change position when the device is ener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 function devices normally wired in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function devices normally wired in 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STOP/START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143000" y="2693880"/>
            <a:ext cx="7005600" cy="1924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984320" y="477684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9 Ladder diagram for basic STOP/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d Motor Sta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483320" cy="3376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2908440" y="5692680"/>
            <a:ext cx="34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6-11 Three-motor start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Logic 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alternative to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puts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nput must be true before output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s the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06Z</dcterms:modified>
  <cp:revision>70</cp:revision>
  <dc:subject/>
  <dc:title>Chapter S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