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7C2DB-9456-4973-866E-F00B9F2056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7186E-DB3B-434D-B3D4-3C85CD93F5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B3A4C-42BB-49B2-8A9B-D28AC09F91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C8F04-1479-472B-ACA4-95675D4A96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E2B8E-74B0-4941-9ACC-55C3C1F946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59633-8EF0-4E9F-9EB5-414551DED0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D8ACA-5310-405C-BE1E-F146004AF9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D372B-0E7C-4967-A287-3713830B3F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022C0-78D2-45B5-84FE-4C13920FB3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6AA7F-FEBB-448D-B4E0-3ABB5B88BA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FD1B2-1A0D-4BE1-9E8C-5C92DDF999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3B592-EC83-4BBF-8C43-65E05A3E7A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B83E4-65E8-43E2-BF4B-E18E75F44A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22EB7-F770-4810-ABE7-3D31DC581C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E6276-25EC-4D8A-89E2-35FFE747FE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C7FE0-916D-4AEE-A9CA-23F5D6DEE8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A57C7-1F20-48F9-B339-6BC5CB1BC3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24140-401E-45C4-84DD-344C489F33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D516E-1918-43C4-990A-F46AC9887A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04756-7DEF-42EA-8D43-B4C00C4238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A01FF-5C95-4EE0-875C-AFA3B483BD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F2B4E-03F9-4967-B833-EB3B227626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0221F-4854-499B-8073-F292D0CAD7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3893A-FE46-415D-9BB3-98DFBD483B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FA88E-B547-447F-A7B3-4CE859B4DB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63DCE-30AB-4559-B203-070C07C853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76212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4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74480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3901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177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7621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3901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177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74480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4480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76212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44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74480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4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76212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pter Sev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y Type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Box 1"/>
          <p:cNvSpPr/>
          <p:nvPr/>
        </p:nvSpPr>
        <p:spPr>
          <a:xfrm>
            <a:off x="2581920" y="3705120"/>
            <a:ext cx="397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ble 7-7a Standard STOP/START lad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1754280" y="1870200"/>
            <a:ext cx="5634000" cy="1834920"/>
          </a:xfrm>
          <a:prstGeom prst="rect">
            <a:avLst/>
          </a:prstGeom>
          <a:ln w="0">
            <a:noFill/>
          </a:ln>
        </p:spPr>
      </p:pic>
      <p:sp>
        <p:nvSpPr>
          <p:cNvPr id="68" name="TextBox 3"/>
          <p:cNvSpPr/>
          <p:nvPr/>
        </p:nvSpPr>
        <p:spPr>
          <a:xfrm>
            <a:off x="1510560" y="6089760"/>
            <a:ext cx="631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ble 7-7b Equivalent STOP/START circuit programmed with a PL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3" descr=""/>
          <p:cNvPicPr/>
          <p:nvPr/>
        </p:nvPicPr>
        <p:blipFill>
          <a:blip r:embed="rId2"/>
          <a:stretch/>
        </p:blipFill>
        <p:spPr>
          <a:xfrm>
            <a:off x="2222640" y="4151160"/>
            <a:ext cx="4844880" cy="194976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OP/START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Box 3"/>
          <p:cNvSpPr/>
          <p:nvPr/>
        </p:nvSpPr>
        <p:spPr>
          <a:xfrm>
            <a:off x="3825360" y="5943600"/>
            <a:ext cx="511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ble 7-7c Input devices connected to an input modu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TOP/START Example (cont’d.)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2285640"/>
            <a:ext cx="406872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OP button and O.L. contact wired in normally close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programmed as normally open conta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2109960"/>
            <a:ext cx="4178520" cy="37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Box 3"/>
          <p:cNvSpPr/>
          <p:nvPr/>
        </p:nvSpPr>
        <p:spPr>
          <a:xfrm>
            <a:off x="2057400" y="5562720"/>
            <a:ext cx="541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ble 7-8a Bit status for input image word 010 and output image word 012 with the processor in RUN m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OP/START Example (cont’d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2" descr=""/>
          <p:cNvPicPr/>
          <p:nvPr/>
        </p:nvPicPr>
        <p:blipFill>
          <a:blip r:embed="rId1"/>
          <a:stretch/>
        </p:blipFill>
        <p:spPr>
          <a:xfrm>
            <a:off x="685800" y="2514600"/>
            <a:ext cx="7891560" cy="27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OP/START Example (cont’d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22860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START button is depresse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t 01 set to 1 (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2" descr=""/>
          <p:cNvPicPr/>
          <p:nvPr/>
        </p:nvPicPr>
        <p:blipFill>
          <a:blip r:embed="rId1"/>
          <a:stretch/>
        </p:blipFill>
        <p:spPr>
          <a:xfrm>
            <a:off x="1219320" y="3429000"/>
            <a:ext cx="6864120" cy="2421000"/>
          </a:xfrm>
          <a:prstGeom prst="rect">
            <a:avLst/>
          </a:prstGeom>
          <a:ln w="0">
            <a:noFill/>
          </a:ln>
        </p:spPr>
      </p:pic>
      <p:sp>
        <p:nvSpPr>
          <p:cNvPr id="81" name="TextBox 3"/>
          <p:cNvSpPr/>
          <p:nvPr/>
        </p:nvSpPr>
        <p:spPr>
          <a:xfrm>
            <a:off x="1905120" y="6019920"/>
            <a:ext cx="5790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7-8b Bit status for input image word 010 and output image word 012 while START button is being depres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OP/START Example (cont’d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2285640"/>
            <a:ext cx="8229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or is then energiz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or held energized by holding contacts O:012/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lding contacts do not actually exist as hard-wired conta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to maintain logic path for the circu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OP/START Example (cont’d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685800" y="2494080"/>
            <a:ext cx="7858080" cy="2830320"/>
          </a:xfrm>
          <a:prstGeom prst="rect">
            <a:avLst/>
          </a:prstGeom>
          <a:ln w="0">
            <a:noFill/>
          </a:ln>
        </p:spPr>
      </p:pic>
      <p:sp>
        <p:nvSpPr>
          <p:cNvPr id="86" name="TextBox 3"/>
          <p:cNvSpPr/>
          <p:nvPr/>
        </p:nvSpPr>
        <p:spPr>
          <a:xfrm>
            <a:off x="1447920" y="5638680"/>
            <a:ext cx="6824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7-8c Bit status for input image word 010 and output image word 012 after output O:010/01 is energized and the START button is relea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OP/START Example (cont’d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3"/>
          <p:cNvSpPr/>
          <p:nvPr/>
        </p:nvSpPr>
        <p:spPr>
          <a:xfrm>
            <a:off x="1905120" y="5638680"/>
            <a:ext cx="5638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7-8d Bit status for input image word 010 and output image word 012 with the STOP button depres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2" descr=""/>
          <p:cNvPicPr/>
          <p:nvPr/>
        </p:nvPicPr>
        <p:blipFill>
          <a:blip r:embed="rId1"/>
          <a:stretch/>
        </p:blipFill>
        <p:spPr>
          <a:xfrm>
            <a:off x="609480" y="2514600"/>
            <a:ext cx="8010720" cy="286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OP/START Example (cont’d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3"/>
          <p:cNvSpPr/>
          <p:nvPr/>
        </p:nvSpPr>
        <p:spPr>
          <a:xfrm>
            <a:off x="1981080" y="5638680"/>
            <a:ext cx="5486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7-8e Bit status for input image word 010 and output image word 012 with the STOP button relea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814320" y="2500200"/>
            <a:ext cx="7819920" cy="28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lay Ana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2285640"/>
            <a:ext cx="8229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ternative way to look at N.O. and N.C. symbols used for programm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 pages 140-142 in the 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arifying Examine ON and Examine OF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3"/>
          <p:cNvSpPr/>
          <p:nvPr/>
        </p:nvSpPr>
        <p:spPr>
          <a:xfrm>
            <a:off x="2514600" y="6026040"/>
            <a:ext cx="434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7-15 Double-Circuit Pressure Sw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690876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2285640"/>
            <a:ext cx="8229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 th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XAMINE O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 th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XAMINE OFF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and understand the logic for a standar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TOP/STAR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or circu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arifying Examine ON and Examine OFF (cont’d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2514600"/>
            <a:ext cx="822960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power applied to circu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or 1 will star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rough N.C. contacts of PS-1 in rung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or 2 cannot st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e to N.O. contacts of PS-1 in rung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e circuit can be programmed on a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ing single-circuit pressure swit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1452600" y="1828800"/>
            <a:ext cx="6238800" cy="4000680"/>
          </a:xfrm>
          <a:prstGeom prst="rect">
            <a:avLst/>
          </a:prstGeom>
          <a:ln w="0">
            <a:noFill/>
          </a:ln>
        </p:spPr>
      </p:pic>
      <p:sp>
        <p:nvSpPr>
          <p:cNvPr id="101" name="TextBox 3"/>
          <p:cNvSpPr/>
          <p:nvPr/>
        </p:nvSpPr>
        <p:spPr>
          <a:xfrm>
            <a:off x="2514600" y="5830920"/>
            <a:ext cx="4343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7-16a Double-circuit pressure switch circuit programmed for a typical PL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Box 3"/>
          <p:cNvSpPr/>
          <p:nvPr/>
        </p:nvSpPr>
        <p:spPr>
          <a:xfrm>
            <a:off x="2057400" y="5848200"/>
            <a:ext cx="556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7-16b Actual wiring of a single-pole pressure sw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2" descr=""/>
          <p:cNvPicPr/>
          <p:nvPr/>
        </p:nvPicPr>
        <p:blipFill>
          <a:blip r:embed="rId1"/>
          <a:stretch/>
        </p:blipFill>
        <p:spPr>
          <a:xfrm>
            <a:off x="2057400" y="1816200"/>
            <a:ext cx="5214960" cy="40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arifying Examine ON and Examine OFF (cont’d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2514600"/>
            <a:ext cx="822960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processor placed in RUN m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N.O. contacts examined for ON cond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ts 01, 02, 03 of input word 010 set to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processor EXAMINES OFF the N.C. contact I:010/0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s that bit 01 is set to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arifying Examine ON and Examine OFF (cont’d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2514600"/>
            <a:ext cx="822960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or 1 is ON and motor 2 is OF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pressure switch actuate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.C. contacts are open, N.O. contacts become false, turning motor 1 off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.C. contacts become true, turning motor 2 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2285640"/>
            <a:ext cx="8229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INE ON instruction is logically true when ON condition exi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INE OFF instruction is logically true when OFF condition exi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y analogy appro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ternative method of understanding programming log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gramming Conta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2285640"/>
            <a:ext cx="8229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C programmed using ladder logic 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.O. contact symb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 telling processor to look for ON condition at symbol’s corresponding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ON condition exists, instruction is TR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1905120" y="1673280"/>
            <a:ext cx="5322600" cy="1728720"/>
          </a:xfrm>
          <a:prstGeom prst="rect">
            <a:avLst/>
          </a:prstGeom>
          <a:ln w="0">
            <a:noFill/>
          </a:ln>
        </p:spPr>
      </p:pic>
      <p:sp>
        <p:nvSpPr>
          <p:cNvPr id="51" name="TextBox 1"/>
          <p:cNvSpPr/>
          <p:nvPr/>
        </p:nvSpPr>
        <p:spPr>
          <a:xfrm>
            <a:off x="3352320" y="3481560"/>
            <a:ext cx="237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7-2 Simple circu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3"/>
          <p:cNvSpPr/>
          <p:nvPr/>
        </p:nvSpPr>
        <p:spPr>
          <a:xfrm>
            <a:off x="2244600" y="5910120"/>
            <a:ext cx="494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7-3 Equivalent circuit programmed with a PL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3" descr=""/>
          <p:cNvPicPr/>
          <p:nvPr/>
        </p:nvPicPr>
        <p:blipFill>
          <a:blip r:embed="rId2"/>
          <a:stretch/>
        </p:blipFill>
        <p:spPr>
          <a:xfrm>
            <a:off x="1905120" y="4267080"/>
            <a:ext cx="5414760" cy="14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1143000" y="1828800"/>
            <a:ext cx="6829560" cy="3651120"/>
          </a:xfrm>
          <a:prstGeom prst="rect">
            <a:avLst/>
          </a:prstGeom>
          <a:ln w="0">
            <a:noFill/>
          </a:ln>
        </p:spPr>
      </p:pic>
      <p:sp>
        <p:nvSpPr>
          <p:cNvPr id="55" name="TextBox 1"/>
          <p:cNvSpPr/>
          <p:nvPr/>
        </p:nvSpPr>
        <p:spPr>
          <a:xfrm>
            <a:off x="2165760" y="5479920"/>
            <a:ext cx="529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7-4 Input and output devices wired to I/O modu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1143000" y="1600200"/>
            <a:ext cx="7027920" cy="19414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" descr=""/>
          <p:cNvPicPr/>
          <p:nvPr/>
        </p:nvPicPr>
        <p:blipFill>
          <a:blip r:embed="rId2"/>
          <a:stretch/>
        </p:blipFill>
        <p:spPr>
          <a:xfrm>
            <a:off x="1143000" y="4038480"/>
            <a:ext cx="7027920" cy="1919520"/>
          </a:xfrm>
          <a:prstGeom prst="rect">
            <a:avLst/>
          </a:prstGeom>
          <a:ln w="0">
            <a:noFill/>
          </a:ln>
        </p:spPr>
      </p:pic>
      <p:sp>
        <p:nvSpPr>
          <p:cNvPr id="58" name="TextBox 1"/>
          <p:cNvSpPr/>
          <p:nvPr/>
        </p:nvSpPr>
        <p:spPr>
          <a:xfrm>
            <a:off x="1972440" y="3559320"/>
            <a:ext cx="4940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7-5a Bit status for I/O word 1 with switch op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1"/>
          <p:cNvSpPr/>
          <p:nvPr/>
        </p:nvSpPr>
        <p:spPr>
          <a:xfrm>
            <a:off x="1974960" y="6081840"/>
            <a:ext cx="5325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7-5b Bit status for I/O word 1 after switch is clo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ine 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2285640"/>
            <a:ext cx="8229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ine ON instruction looking for an ON cond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ON: bit set to 1, or tr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OFF: bit set to 0, or fal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ine OF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2285640"/>
            <a:ext cx="8229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ine OFF instruction looking for an OFF cond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OFF: bit set to 1, or tr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ON: bit set to 0, or fal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Box 1"/>
          <p:cNvSpPr/>
          <p:nvPr/>
        </p:nvSpPr>
        <p:spPr>
          <a:xfrm>
            <a:off x="1790280" y="5135400"/>
            <a:ext cx="575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ble 7-1 Examine if Closed (XIC) and Examine if Open (EI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3" descr=""/>
          <p:cNvPicPr/>
          <p:nvPr/>
        </p:nvPicPr>
        <p:blipFill>
          <a:blip r:embed="rId1"/>
          <a:stretch/>
        </p:blipFill>
        <p:spPr>
          <a:xfrm>
            <a:off x="685800" y="2219400"/>
            <a:ext cx="7959600" cy="27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8T15:43:49Z</dcterms:created>
  <dc:creator>Jeffery Woodson</dc:creator>
  <dc:description/>
  <dc:language>en-US</dc:language>
  <cp:lastModifiedBy>Stephanie Page</cp:lastModifiedBy>
  <dcterms:modified xsi:type="dcterms:W3CDTF">2018-10-23T19:23:40Z</dcterms:modified>
  <cp:revision>76</cp:revision>
  <dc:subject/>
  <dc:title>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D0F2CFCBA445774D86797879970B2337</vt:lpwstr>
  </property>
</Properties>
</file>