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C845-DCAB-446D-BB64-D481F0D0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CA12-435E-400E-A592-D98EDACC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6DD-E4E1-468E-9D0F-6A2FCA9B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00E-67A3-4ABF-8C41-8EC9B076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D293-764D-4F5C-9027-CFDD45151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F457-F664-45F3-9939-F980A1326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F60-A8DB-434D-955C-C0C4C007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B9DF-E70F-47F2-AEEF-8454F316A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5B0E-96A8-49D6-BB04-87766C681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7277-1A00-474F-B7EC-CECB8E5A5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00EE-D8D8-489A-AE86-0885ABAFB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528C-B813-41EC-8D6E-FB390803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917-16C2-4975-99E8-B759BFE3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DBD0-C4D4-4125-A54A-6542A9E0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1EA3-F9F9-41CC-8BC3-D17FDA26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n-Bradley PLC-5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d with a PC and PLC-5 specif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s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0: out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1: input imag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n-Bradley PLC-5 File Structure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2: statu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3: bit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4: tim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5: count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6: contro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7: integer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who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790640" y="1447920"/>
            <a:ext cx="5391360" cy="44798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980800" y="60498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6 PLC-5 fi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Fi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files (us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controller information, programs, and 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iles (stor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various types of data for use with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LC data is stored in binary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apid scanning and executing the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ord and bit associated with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hardwar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section names vary by PLC manufacturer, but work simil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broad categories of memory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ypes of information stored in each category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acrony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lding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ignals have only two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r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or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: binary di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words can be 32, 16, or 8 bits in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71560" y="2890800"/>
            <a:ext cx="7400880" cy="10764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490200" y="4343400"/>
            <a:ext cx="216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1 16-bi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Words and Word Location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46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te: group of 8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: memory storag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scheme also identifies hardwar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k, module, terminal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588320" y="6072120"/>
            <a:ext cx="603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2 Relationship of bit address to input and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49360" y="1465200"/>
            <a:ext cx="6315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681640" y="480060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4 Limit switch address I:013/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14280" y="2409840"/>
            <a:ext cx="67154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C 500 and MicroLogix Address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66652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I used for in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ter O used for output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4948200" cy="244656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1397880" y="6256440"/>
            <a:ext cx="64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4-7 Allen-Bradley SLC 500 and MicroLogix addressing sc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storage memory called data table or registe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stored in a variety of number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registers store temporary data needed by the proc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4:57Z</dcterms:modified>
  <cp:revision>60</cp:revision>
  <dc:subject/>
  <dc:title>Chapter F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