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916E-E2B6-4BF0-9B09-F5C33BD28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B866-A145-417E-A421-0A053D27B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B148-8656-454B-9593-A625B6BE6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990E-735B-41BF-A8FA-AA8E0EE17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E05F-B30F-4A6A-9983-40085EEA5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68EA-9415-4ED5-BFBB-4826746CB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6785-5716-4BB9-AEE3-0EC3212F8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955D-E895-4579-B189-BBAD8AC08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B0D2-F0D5-41FC-B850-1E78BC8DF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4514-CF62-4283-A595-6244460C7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664A-E125-4BF0-ACEF-08C3E7DA6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C7F7-2E11-4B96-82CB-E87477FE5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EA99-0F31-4E84-AE2E-A491C9F8F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DF33-3006-4863-8360-1785F73AD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AA2E-5243-481A-9C5D-FDF2816F6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6FB6-BD3A-49BA-B839-27DAD775C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29B8-77C3-4631-9AE9-22BD9AF36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2EC4-0FFE-4CAA-9BEB-60481F6D9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1E9B-DCA3-4030-B751-9CC126E64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8290-5AD9-4AE2-90A5-E76C0008A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A598-158F-4693-BFD1-7B2C4918D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EC7B-14E2-434C-9F10-956A7533B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2D4E-5725-44E5-8027-ABED45C95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Contro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ching Relay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hard-wired latching re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hen contacts must remain open or cl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coil is energized only a shor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coils used: latch and u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cal linkage holds relay in closed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7705800" cy="3276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2760480" y="5683320"/>
            <a:ext cx="35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4 Mechanical latching r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ching Relay Instru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can replace mechanical latching re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logic of an actual latching r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d instructions are retentive during a power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of latch instruction retained 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2465280" y="5029200"/>
            <a:ext cx="46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5 Programmed latch and unlatch ru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243080" y="2128680"/>
            <a:ext cx="665784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fety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619520" cy="401184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3376080" y="6097680"/>
            <a:ext cx="24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6 Safety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mp and Label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for skipping over portions of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sca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s processor to jump over a portion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instruction tells where to jum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1638720" y="6084720"/>
            <a:ext cx="656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7 Programming the Jump (JMP) and Label (LBL) 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362320" y="1549440"/>
            <a:ext cx="48718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mp to Subroutine, Subroutine, and Return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66652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organiz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of programming logic that can be re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 differ widely among PLC 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orary End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s processor to stop scanning at a certai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5376600" cy="443520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1609560" y="6084720"/>
            <a:ext cx="61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9 Allen-Bradley PLC – Temporary End Instruction (T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using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tching r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ten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using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ster control r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importance of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fety circ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ways False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hen 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g will always be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2644200" y="5730840"/>
            <a:ext cx="40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10 Always False Instruction (AF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967040" y="3897360"/>
            <a:ext cx="5438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-Shot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rung true for just one program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013560" y="5529240"/>
            <a:ext cx="324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11 One-Shot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593720" y="3657600"/>
            <a:ext cx="623916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ching and master control instructions can be programmed to act like real-world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circuit should be added when personnel are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PLC instructions can be used to perform different program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using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ump and labe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 reason for using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mporary end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ter Control Relay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438280"/>
            <a:ext cx="82296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used to control pow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tire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to selected ru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 (or selected rungs) can be deenergized by turning off master control r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828800" y="1636560"/>
            <a:ext cx="5691240" cy="432288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2622600" y="60260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1 Hard-wired master control r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ter Control Relay Instru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Rs often used with circuits with off-delay ti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 can be shut down without waiting for timers to time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 Control Re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e name for Master Control Re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 output to zero or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 SLC 500 and MicroLogix MCR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590920"/>
            <a:ext cx="82296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 to Figure 10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MCR instruction is tr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s in rungs that follow are controlled by logic programmed for each 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MCR instruction is fal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gs below the MCR are false and cannot energ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: latching relay instruction will remain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2612880" y="6026040"/>
            <a:ext cx="39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2 Allen-Bradley MCR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317680" y="1981080"/>
            <a:ext cx="458460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1693080" y="5877000"/>
            <a:ext cx="593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3 Two MCR instructions used to create a control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74812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1:57Z</dcterms:modified>
  <cp:revision>77</cp:revision>
  <dc:subject/>
  <dc:title>Chapter T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