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19DC-22AF-44C8-A955-A2AB0D768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5E0D-1608-4E02-98D6-ACAF286DC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D131-A8C8-4F10-9600-BB19EB94C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32F9-C117-4EA6-99BE-EAFFAA7CF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30B0-175A-4861-8A24-6433B8FE2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6216-56CC-4844-9ECD-12F50E98B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5E62-452D-4ADE-84EF-8C5EA4103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AAEF-D555-4ADE-89C4-2169E07BC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DFE1-056F-4DEB-B193-FA91E8DFE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4AFF-2904-4C14-AADD-F795D7C5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12A8-A4CB-4754-AAF8-7133E8FB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4BF8-0AB1-4CB3-8A7D-BB842FDE4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3941-37BD-4676-9337-97B584140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C126-C43C-4D50-98D2-9A242D010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4D23-6C8C-4D93-8032-89D858611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9223-90CA-444C-956A-DCF24040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1AAC-A7ED-4B92-BD46-6055A56C5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E1C1-8EE6-4A43-853C-FFA25C6D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2DC5-F135-4C2D-AB04-43435F30E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8E88-D51D-42FB-90D7-54158C2BE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62A2-1513-4C49-8F90-65F4E88B8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D9CA-5FF8-4D64-888A-A7C560762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1D63-08B3-4789-A566-FB66CE8A5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244600" y="5896080"/>
            <a:ext cx="49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9 Equivalent circuit without vertical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654200" y="2692440"/>
            <a:ext cx="60944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of power is from left to righ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vertically up or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5224320" cy="243828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3217320" y="6095880"/>
            <a:ext cx="285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0 Hard-wired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978200" y="1414440"/>
            <a:ext cx="4578120" cy="2097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1843200" y="3890880"/>
            <a:ext cx="4846680" cy="2367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2340000" y="6237360"/>
            <a:ext cx="395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1b Circuit properly program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2124720" y="355140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1a Circuit improperly program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Cs do not allow nesting of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3210480" y="6265800"/>
            <a:ext cx="28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2a Nested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384200" y="3711600"/>
            <a:ext cx="68961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2015640" y="5942160"/>
            <a:ext cx="51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2b Programmed to eliminate nested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717560" y="2933640"/>
            <a:ext cx="5461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S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scan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to right,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955800" y="3598920"/>
            <a:ext cx="3341520" cy="2395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1144440" y="6056280"/>
            <a:ext cx="321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6 One scan turns on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5334120" y="3592440"/>
            <a:ext cx="329220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5389560" y="605628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7 Three scans required to turn on L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STOP But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ing STOP buttons in N.O.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during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haz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TOP buttons must be wi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switch failure or broken wire will break continuity and turn circuit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Holding Instr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programming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address used to address holding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need to wiring holding contacts on motor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Holding Instruc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5909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output address used for holding contacts (logic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 maintained logically because output point tur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arantee actual motor starter has been energ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Holding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e holding contacts of motor starter to input modul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at address when programming holding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know starter is actually energ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mmy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horizontal and vertical contact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ly wire and program STO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oad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wire overload contacts to input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 in series with starter c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overload that opens the overload conta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opens starter coil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447920" y="1795320"/>
            <a:ext cx="6748200" cy="4133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1620720" y="59356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19 Overload contacts wired in series with the starter co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LC has maximum network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number of horizontal and vertical contacts per 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ize limits the number of r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reads logic from left to righ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vertically either up or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Cs do not allow nested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 between logical and discrete holding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of connected logic elements that perform a specif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LCs have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logic symbols included on the horizont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parallel lines in 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outputs per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24680" cy="3994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3354120" y="589752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2 Network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imita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f 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s number of networks or r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ircuit requires more contacts than network a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s split into two r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ung programmed to dummy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of dummy relay is address of first N.O. contact on second 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239200" y="6066000"/>
            <a:ext cx="53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4 Parallel contacts split into two rungs (networ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43200" y="1541520"/>
            <a:ext cx="4029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534600" y="2611440"/>
            <a:ext cx="308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5 Parallel outpu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774960" y="1655640"/>
            <a:ext cx="4359240" cy="221004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813600" y="4884840"/>
            <a:ext cx="25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6 Multiple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809880" y="4087800"/>
            <a:ext cx="4275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Restri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does not allow programming vertical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006640" y="3581280"/>
            <a:ext cx="5454720" cy="2133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3407400" y="589608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-7 Vertical cont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2:47Z</dcterms:modified>
  <cp:revision>78</cp:revision>
  <dc:subject/>
  <dc:title>Chapter N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