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4071-9999-4967-AE19-8AAFD1C1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D3FD-2DC5-4B7F-95C0-3DF92585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A10-DCB8-4566-A31E-3B4477AB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19C-A844-4935-84A8-FC1BB2CA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414C-EA86-4918-A1BB-42FFEFFB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3B5-E4DC-42DB-9865-EDE2A29DA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62A-14A6-45DA-8AA8-A59AA2A2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474-F5BB-4015-AFCF-96C0F72E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C9BF-EE30-4AE3-8B66-76530350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4548-4A73-4D33-A0B5-B8CD74F7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4CC7-CD7A-4011-BE4C-C8FD3334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55C-31E3-4578-BB46-595F5EE1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998-EF57-4E49-8436-FBBDB715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59F7-E26A-4A36-AD6A-F6030A68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581D-C4AF-4994-A218-A3FDBD22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F54-CD82-4BE2-9E88-A0BC075D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71F8-71F2-4A92-9188-78DC4DE7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 Violet Programmable Read Only Memory (UV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rasable Programmable Read Only Memory (EPR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 perman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security needed to prevent unauthoriz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Erasable Programmable Read Only Memory (EE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can be programmed and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d by sending proper signal to eras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as nonvolatile backup for user program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in K values (example: 16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ystem used in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are 1s and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may use 8-bit or 16-b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ory size depends o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nter, modify, and troubleshoot the PLC program, or to check the condi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held: see Figures 3-9 and 3-11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: see Figure 3-10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splay, documentation, and storag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ing Against Electrostatic Discharge (E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f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ause of failure of memory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static floor cov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hip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he work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 wrist 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en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LC memory structu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dividual manufacturer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status of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steps in the user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ndition of th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 stored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ypes: volatile and nonvola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ypical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distinct types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memor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icroprocessor, chips,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communicatio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eparate from microprocesso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1646280"/>
            <a:ext cx="7781760" cy="4228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988360" y="599292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1 Basic PLC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atus of 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ogic of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state of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with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emory and updates timers, counters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52360" y="56563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3 Typical processor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8280" y="1752480"/>
            <a:ext cx="7867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ime limit for each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processor into fault condition if timer ex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gram containing rela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status, accumulated val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s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s stored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type of volatil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lled read/writ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Only Memory (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formation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Read Only Memory (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to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27Z</dcterms:modified>
  <cp:revision>60</cp:revision>
  <dc:subject/>
  <dc:title>Chapter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