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66CC-2256-43E1-AA3C-52985DAA9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B155-58A6-48EE-A0D7-7A5F195B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53B3-4A5A-48F5-88DC-2A3AEE91F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8A0-FBDC-4DB5-83B5-874AD1156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7148-084D-44F2-96F3-288B7D320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AFCA-178F-449A-901D-44C74C3C5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3E8E-E7A0-4893-BDAA-5D89C310D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8D24-A33D-4E52-992F-FB7C17DD1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A605-25E2-479C-8F3C-725B7ABE7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904E-BE26-4BCB-A368-C80640921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20EC-7B58-49EC-B479-3D0783B93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0241-8077-4EE4-B68F-7494C1FD3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671D-547D-4A3B-B478-70EBF317F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5D5D-E2C5-4A23-9101-FB9411486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7B61-B147-4AA8-B7F4-D04B2E5A8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5985-F2AC-4B59-AA49-35F2A348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we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071160" y="602604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5 Programmed CTD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9320" y="1655640"/>
            <a:ext cx="70308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3112200" y="603252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6 CTD countin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893960" y="1523880"/>
            <a:ext cx="54576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ing Timers and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and down counters can be programmed together to count products as they enter and leave a conve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Figures 12-8a and 12-8b in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timers and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xtend time of timer beyond normal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2459520" y="6172200"/>
            <a:ext cx="37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8b Up and down counter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90720" y="1190520"/>
            <a:ext cx="69865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Logix5000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U or C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UD: up and down in on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structure used to address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preset or accumulated values up to 2,147,483,6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d counters give added flexibility and control to process equipment or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s store values in binary format for the preset and accumulated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up and dow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PLC-5,SLC 500, and MicroLogix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counters (C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 counters (C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s are retentive until reset by res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371600" y="2075040"/>
            <a:ext cx="6753240" cy="3267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509560" y="5621400"/>
            <a:ext cx="44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1 Allen-Bradley PLC-5 count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counter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ed count value from 0 to 32,7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0440" y="2590920"/>
            <a:ext cx="8205840" cy="2170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692080" y="4867200"/>
            <a:ext cx="37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2 Storage format for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bits for up and dow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Up Enable (C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wn Enable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ne (D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Up Overflow (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wn Underflow (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219320" y="1459080"/>
            <a:ext cx="6953040" cy="4570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965680" y="6049800"/>
            <a:ext cx="34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3 Programmed up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066120" y="602604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4 CTU countin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225440" y="1631880"/>
            <a:ext cx="69408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07Z</dcterms:modified>
  <cp:revision>75</cp:revision>
  <dc:subject/>
  <dc:title>Chapter Twel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