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2D87-8A59-4927-9B56-CB7E1E87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864-5AFE-41EC-B087-E1A7C104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6A1-975B-499D-A6B3-2AD9B790A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ABC1-21F4-4AAD-B9F7-E7BF1CC4F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CB7B-971E-4436-B494-5CFDAEAC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9014-BDC4-4EB7-8961-E08D520E5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FAAB-276F-44CF-9846-8AB11C4B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8471-346B-4F33-A6FB-D019F50FB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C378-12A7-43FF-BF61-232F0A362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F103-FD12-4BA3-B691-047DEF43B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B3AB-963D-408C-9ED0-26F348DFF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5145-78EE-41B1-A5EF-1DDC7F216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0EB9-7CDE-441E-BE02-ADFC98845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6E2E-FBF4-494A-AED0-BBA9CEB7F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54C9-DEB3-449E-B038-2F6DA1DF2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1888-01BD-45A2-97C9-405FF1F56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C47F-901D-44D9-95CD-026CB6092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026F-B93F-49CD-8A9E-652EA377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880C-7301-4627-B01A-7EDC6F992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A35-4BAE-4DC0-B6FB-7B824BF6A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84C6-3A2B-4024-B036-0C82069A2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105C-CD2D-4B43-A130-12D549C81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635E-EA0B-40E9-9CFF-E812C2E3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8C6-09B8-45E0-857E-4B92FD7A2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6E33-D914-4B93-A0D5-82F98BDA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54F9-EAB9-4451-BFB8-22434733E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BCA7-18CE-4F99-A87C-7D3457303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a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3281760" y="6151680"/>
            <a:ext cx="27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7 Controller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166760" y="1371600"/>
            <a:ext cx="69357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Controller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Controll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memory used and memory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Controller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-click IO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ppropriate configuration from pull-dow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046320" y="6081840"/>
            <a:ext cx="330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9 IO Configuration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274760" y="1447920"/>
            <a:ext cx="6846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orrect power supply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click on the Power Supply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 Loading window o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s minimum recommended pow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s folder displays fil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ating poin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2"/>
          <p:cNvSpPr/>
          <p:nvPr/>
        </p:nvSpPr>
        <p:spPr>
          <a:xfrm>
            <a:off x="3261600" y="6097680"/>
            <a:ext cx="28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4 Data File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198440" y="1407960"/>
            <a:ext cx="694548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status of first three words of in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tells what the devic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B 1 (pushbutton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explains what the input devic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2980800" y="6111720"/>
            <a:ext cx="40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9 Program area with rung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123920" y="1265400"/>
            <a:ext cx="72676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2071800" y="5400720"/>
            <a:ext cx="54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20 Simple STOP/START circuit without over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155600" y="2106720"/>
            <a:ext cx="72820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program circuit in Figure 8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OP button by clicking Normally Open contact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TOP butt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TART button by clicking BRANCH START symbol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dark vertical line to upper left co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basic programm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ce Of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, and the hazards that could be associated with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program circuit in Figure 8-20 (cont’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N.O. symbol to add the next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question mark to enter the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symbol and description for address I:1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holding contact for the motor st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the output device: motor star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2"/>
          <p:cNvSpPr/>
          <p:nvPr/>
        </p:nvSpPr>
        <p:spPr>
          <a:xfrm>
            <a:off x="2528640" y="595944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34 Completed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523880" y="1274760"/>
            <a:ext cx="65026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1424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eck finished program for correctn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Verify Projec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result shown in lower left corner of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has completed; no errors f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error will be identified by ru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the Logix5000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SLogix 5000 to program a ControlLogix 1756-L62 processor mounted in a 4-slot chassis: see Figure 8-37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the same simple STOP/START circuit that was used in pri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545200" y="6230880"/>
            <a:ext cx="454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49 Input Module 1756-IA16 Data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990720" y="132552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2512800" y="6080040"/>
            <a:ext cx="417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63 Completed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523880" y="1265400"/>
            <a:ext cx="62820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is programmed using specific PL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 codes and address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s usually developed and tested in Off-Lin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or coils can be forced ON or OFF while circuit is ope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program while the processor is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-line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is developed while not connected to the process or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LCs have override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On and Forc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well RSLogix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programming examples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RSLogix software by double-clicking the RSLogix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19320" y="1801800"/>
            <a:ext cx="6943680" cy="41180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109960" y="5919840"/>
            <a:ext cx="54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1 SLC 5/03 processor mounted in a 4-slot cha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66680" y="2066760"/>
            <a:ext cx="7296120" cy="3181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927520" y="5627520"/>
            <a:ext cx="35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2 Basic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912760" y="5985000"/>
            <a:ext cx="33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3 RSLogix opening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600200" y="1339920"/>
            <a:ext cx="65278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with a Compute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File,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rocessor Type window 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ll to find processor you are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a name, and click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side of screen: project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side of screen: programming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2663640" y="6110280"/>
            <a:ext cx="38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8-4 Select Processor Type sc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1474920" y="1371600"/>
            <a:ext cx="6791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Rita</dc:creator>
  <dc:description/>
  <dc:language>en-US</dc:language>
  <cp:lastModifiedBy>Stephanie Page</cp:lastModifiedBy>
  <dcterms:modified xsi:type="dcterms:W3CDTF">2018-10-23T19:23:16Z</dcterms:modified>
  <cp:revision>80</cp:revision>
  <dc:subject/>
  <dc:title>Chapter Eigh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