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6448-835E-423E-897A-F0424EC43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56D6-DA41-43AA-970A-4034DEA58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6261-C002-4B09-AEDE-604256052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83A8-91DB-49DE-AB7D-1BA724D86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EC2B-AA71-4700-889E-413E648EB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FD15-FBEA-4826-8912-CD93C301E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1DE0-4921-490A-AA0D-168F9AB03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168B-CCC6-40F0-AEE6-C6C346B20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0365-95E3-4076-AF91-8CB3201BD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BF15-B509-45AE-915C-B74B11AE2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2419-3426-4406-B99E-66C453C61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27E0-0FEC-4BD8-9ED9-288601F28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80F5-464F-45DD-A2E7-81BAD7D66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14A9-477E-49F3-AFD8-8B073CE96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C653-B1D1-453A-8176-DCD1FA0BE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F958-3CDD-44F1-A37F-0BF48E37A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D98A-164F-47D4-B8AB-F0AAC70E7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0B86-F10A-450E-9E19-B2C8945F7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B1CF-61DF-4918-B1A5-057561118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2FDA-D8F0-4134-BA58-3DD3AAA74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B3A2-F181-47B0-A844-7D317BF51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221C-80BB-43F1-B005-350538E44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65BE-5001-4196-BCA5-590056BDD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A7D4-BDDD-4642-B488-A67852551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4537-DC08-4C83-B228-E603D9598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B3EB-2695-40F4-AF9B-112DFBB76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AE3E-CAF2-4F0E-B0F0-FD41656EC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E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a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2"/>
          <p:cNvSpPr/>
          <p:nvPr/>
        </p:nvSpPr>
        <p:spPr>
          <a:xfrm>
            <a:off x="3281760" y="6151680"/>
            <a:ext cx="27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7 Controller sc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1166760" y="1371600"/>
            <a:ext cx="693576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66652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-click Controller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-click Controller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memory used and memory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 Controller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-click IO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ppropriate configuration from pull-dow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3046320" y="6081840"/>
            <a:ext cx="330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9 IO Configuration sc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1274760" y="1447920"/>
            <a:ext cx="6846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66652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correct power supply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-click on the Power Supply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Supply Loading window o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s minimum recommended power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51424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iles folder displays file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ary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e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e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ating poin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3261600" y="6097680"/>
            <a:ext cx="28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14 Data File 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198440" y="1407960"/>
            <a:ext cx="694548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51424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il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status of first three words of inpu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 tells what the devic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B 1 (pushbutton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explains what the input device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2"/>
          <p:cNvSpPr/>
          <p:nvPr/>
        </p:nvSpPr>
        <p:spPr>
          <a:xfrm>
            <a:off x="2980800" y="6111720"/>
            <a:ext cx="40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19 Program area with rung ad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123920" y="1265400"/>
            <a:ext cx="726768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2"/>
          <p:cNvSpPr/>
          <p:nvPr/>
        </p:nvSpPr>
        <p:spPr>
          <a:xfrm>
            <a:off x="2071800" y="5400720"/>
            <a:ext cx="544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20 Simple STOP/START circuit without over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155600" y="2106720"/>
            <a:ext cx="72820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51424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to program circuit in Figure 8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TOP button by clicking Normally Open contact 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STOP button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TART button by clicking BRANCH START symbol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dark vertical line to upper left co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-line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basic programming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ce 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ce Of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, and the hazards that could be associated with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51424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to program circuit in Figure 8-20 (cont’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N.O. symbol to add the next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question mark to enter the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symbol and description for address I:1/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holding contact for the motor st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the output device: motor star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2"/>
          <p:cNvSpPr/>
          <p:nvPr/>
        </p:nvSpPr>
        <p:spPr>
          <a:xfrm>
            <a:off x="2528640" y="5959440"/>
            <a:ext cx="417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34 Completed STOP/START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1523880" y="1274760"/>
            <a:ext cx="650268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51424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eck finished program for correctn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Verify Project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 result shown in lower left corner of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has completed; no errors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error will be identified by rung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the Logix5000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514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RSLogix 5000 to program a ControlLogix 1756-L62 processor mounted in a 4-slot chassis: see Figure 8-37 in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be the same simple STOP/START circuit that was used in prio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2545200" y="6230880"/>
            <a:ext cx="454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49 Input Module 1756-IA16 Data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990720" y="1325520"/>
            <a:ext cx="72388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2"/>
          <p:cNvSpPr/>
          <p:nvPr/>
        </p:nvSpPr>
        <p:spPr>
          <a:xfrm>
            <a:off x="2512800" y="6080040"/>
            <a:ext cx="417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63 Completed STOP/START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1523880" y="1265400"/>
            <a:ext cx="62820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 is programmed using specific PL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al codes and addresse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s usually developed and tested in Off-Line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or coils can be forced ON or OFF while circuit is oper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program while the processor is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-line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is developed while not connected to the process or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LCs have override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On and Forc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well RSLogix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programming examples in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frien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RSLogix software by double-clicking the RSLogix 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219320" y="1801800"/>
            <a:ext cx="6943680" cy="41180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2109960" y="5919840"/>
            <a:ext cx="54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1 SLC 5/03 processor mounted in a 4-slot chas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066680" y="2066760"/>
            <a:ext cx="7296120" cy="318168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2927520" y="5627520"/>
            <a:ext cx="35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2 Basic STOP/START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2912760" y="5985000"/>
            <a:ext cx="33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3 RSLogix opening sc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600200" y="1339920"/>
            <a:ext cx="65278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66652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File,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Processor Type window 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oll to find processor you are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a name, and click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side of screen: project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side of screen: programming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2663640" y="6110280"/>
            <a:ext cx="38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4 Select Processor Type sc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1474920" y="1371600"/>
            <a:ext cx="6791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Rita</dc:creator>
  <dc:description/>
  <dc:language>en-US</dc:language>
  <cp:lastModifiedBy>Stephanie Page</cp:lastModifiedBy>
  <dcterms:modified xsi:type="dcterms:W3CDTF">2018-10-23T19:23:16Z</dcterms:modified>
  <cp:revision>80</cp:revision>
  <dc:subject/>
  <dc:title>Chapter Eigh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