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D967-6E37-4E42-A5E0-95CAB07A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26C-7E66-4C9F-A556-6389F3F9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FEC-1CF7-4B96-8EB3-8752BF2F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D97-DD67-45F5-83AF-9C77269A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773E-D514-439D-84C2-2669381E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59E0-DCA5-4BEF-B4B8-5ABF8E90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722B-6D70-4D62-83F6-35CAADAC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FDB-72D9-4129-8EB4-E14DC4B8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AEF-90F6-4FD5-BB18-B372587E8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634-1996-4391-BCA7-9958FFDF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DDC-C90F-4837-90F8-0BD85170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09E-FF7A-41D2-8482-C3595DE2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6E28-A882-4BD0-B557-73755455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93D-5C46-4F64-9114-9FBE58E7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3145-9F70-4095-9ADA-6547DF76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533-372A-4266-BF2F-437768571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DF53-DDEE-4BF6-8A2E-87A040A0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C049-D0E2-4426-9488-4FFD0F30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3C0-2F64-447B-AEF5-8FA3399E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836A-45D1-46F5-AF47-6701D9B1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4463-1A11-4063-A8FE-1FDC0FD1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9993-A9BA-411E-9CFF-6E24DA0E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560-30D9-43BC-AC5E-380637F9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ontro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hard-wired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contacts must remain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coil is energized only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ils used: latch and u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linkage holds relay in close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70580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2760480" y="56833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4 Mechanical latching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an replace mechanical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logic of an actual latching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instructions are retentive during a power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latch instruction retained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465280" y="5029200"/>
            <a:ext cx="46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5 Programmed latch and unlatch ru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243080" y="2128680"/>
            <a:ext cx="665784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619520" cy="401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376080" y="6097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6 Safety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or skipping over portions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sca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processor to jump over a por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instruction tells where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638720" y="6084720"/>
            <a:ext cx="65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7 Programming the Jump (JMP) and Label (LBL)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362320" y="1549440"/>
            <a:ext cx="4871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to Subroutine, Subroutine, and Return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organiz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programming logic that can be re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differ widely among PLC 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processor to stop scanning at a cert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376600" cy="4435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609560" y="608472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9 Allen-Bradley PLC – Temporary End Instruction (T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tch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ter control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importance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Fals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g will always be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644200" y="5730840"/>
            <a:ext cx="40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0 Always False Instruction (AF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967040" y="3897360"/>
            <a:ext cx="543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hot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rung true for just one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013560" y="5529240"/>
            <a:ext cx="32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1 One-Sho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93720" y="3657600"/>
            <a:ext cx="62391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ching and master control instructions can be programmed to act like real-world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ircuit should be added when personnel a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LC instructions can be used to perform different program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reason for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43828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control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ir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o select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(or selected rungs) can be deenergized by turning off master control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28800" y="1636560"/>
            <a:ext cx="5691240" cy="4322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622600" y="60260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 Hard-wired master control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Rs often used with circuits with off-delay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can be shut down without waiting for timers to ti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 R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name for Master Control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output to zero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SLC 500 and MicroLogix MCR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Figure 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in rungs that follow are controlled by logic programmed for each 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fa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gs below the MCR are false and cannot energ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tching relay instruction will remai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12880" y="602604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2 Allen-Bradley MCR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317680" y="1981080"/>
            <a:ext cx="45846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693080" y="5877000"/>
            <a:ext cx="59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3 Two MCR instructions used to create a control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7481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57Z</dcterms:modified>
  <cp:revision>77</cp:revision>
  <dc:subject/>
  <dc:title>Chapter 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