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2069-D2D5-46F3-B638-9A0FF546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A2EC-B181-4B03-923D-19D64342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and Using Ladder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648320" y="1941480"/>
            <a:ext cx="3984480" cy="321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69880" y="1938240"/>
            <a:ext cx="3743280" cy="3213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03760" y="5351400"/>
            <a:ext cx="44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3 Two-input 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607280" y="535140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5 Two-input 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447920" y="1913040"/>
            <a:ext cx="6670440" cy="3128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232000" y="5181480"/>
            <a:ext cx="56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4 Two input devices wired in series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66578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743840" y="582444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6 Two input devices wired in parallel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05160" cy="3772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702360" y="56815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7 NOT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1680" y="1851120"/>
            <a:ext cx="3984480" cy="3727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65400" y="567072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9 N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5800" y="1863720"/>
            <a:ext cx="3581280" cy="34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891720" y="547056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1 N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57280" y="546732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3 X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29200" y="1789200"/>
            <a:ext cx="3473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lectrica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agrams show physical location and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 diagrams show electric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ides of the diagram calle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lines call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AN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parall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O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gates represent motor control device logic in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ogic gates: AND, OR, NOT, NOR, NAND,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 combine to create complex control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arts of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a wiring diagram to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rules that govern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circuit wiring and associate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lative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210120" cy="269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08880" y="6203880"/>
            <a:ext cx="25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Wiring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lectrical relationship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sc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92240" y="3505320"/>
            <a:ext cx="656892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97080" y="60325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Ladder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ik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ower lines represent voltag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shown in order of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devices shown in their norm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have same number or letter designation as control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change position when the device is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function devices normally wired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unction devices normally wired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OP/START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3000" y="2693880"/>
            <a:ext cx="700560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4320" y="477684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9 Ladder diagram for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d Motor Sta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83320" cy="3376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908440" y="569268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1 Three-motor 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ogic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lternative to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puts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nput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s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06Z</dcterms:modified>
  <cp:revision>70</cp:revision>
  <dc:subject/>
  <dc:title>Chapter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