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E768-60D4-4E20-BD6C-27BA8A12A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8A31-D079-4085-954D-4C4286086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2D00-DBEC-4B4E-8C24-C95F6EA9A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6758-85CC-449A-8F18-F3BDA2D6F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ED29-BBEF-46BA-8A2B-4C3D3CD17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71CB-ED4F-4528-97BC-9854F2C27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B263-A3DC-4BDD-B0E4-C663B7E57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F240-C67A-484A-8E9F-666BB0958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A150-3D4B-4035-8851-EB58B3A10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8F34-19C7-4419-8E64-ED257FB6B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2032-CAAF-4BDA-8BB0-CCC7BD9E5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D5D3-A673-4FC2-BBAF-B4FE12A3C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CDA3-A1EC-4278-87C9-520901BCD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B7AC-D77A-4F5D-8B04-5EECA4218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53DF-8464-4A70-9ED3-8A041A083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D1D9-8E15-409A-8D4F-0BFFD95BD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8B52-0006-42E2-98B1-2E28465C5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62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390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177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Th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or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Typ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tra Violet Programmable Read Only Memory (UVPR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called Erasable Programmable Read Only Memory (EPR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i permanent 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when security needed to prevent unauthorized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Typ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ically Erasable Programmable Read Only Memory (EEPR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p can be programmed and er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ased by sending proper signal to erase 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primarily as nonvolatile backup for user program 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S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essed in K values (example: 16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ary system used in PL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s are 1s and 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Cs may use 8-bit or 16-bit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d memory size depends on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De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to enter, modify, and troubleshoot the PLC program, or to check the condition of th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-held: see Figures 3-9 and 3-11 in the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: see Figure 3-10 in the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display, documentation, and storage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arding Against Electrostatic Discharge (ES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harge of static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cause of failure of memory c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a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nstatic floor cove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hips cor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nd the work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r a wrist str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general class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age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PLC memory structur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individual manufacturer lit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or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status of the in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steps in the user progr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condition of the out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 stored in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types: volatile and nonvola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function of th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a typical program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two distinct types of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function of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atchdog ti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various memory de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cess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s of microprocessor, chips, circu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and communication circu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separate from microprocessor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762120" y="1646280"/>
            <a:ext cx="7781760" cy="422892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2988360" y="5992920"/>
            <a:ext cx="332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-1 Basic PLC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cessor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processor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s status of in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s logic of user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s state of 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es with other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s memory and updates timers, counters,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2952360" y="5656320"/>
            <a:ext cx="323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-3 Typical processor sc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638280" y="1752480"/>
            <a:ext cx="786744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cessor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dog ti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s time limit for each s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s processor into fault condition if timer exc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s user program containing relay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age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s status, accumulated valu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cessor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atile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es information when power is rem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volatile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ains stored information when power is rem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Access Memory (R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type of volatile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called read/write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Only Memory (R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information cannot be 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able Read Only Memory (PR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written to once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5:43:49Z</dcterms:created>
  <dc:creator>Jeffery Woodson</dc:creator>
  <dc:description/>
  <dc:language>en-US</dc:language>
  <cp:lastModifiedBy>Stephanie Page</cp:lastModifiedBy>
  <dcterms:modified xsi:type="dcterms:W3CDTF">2018-10-23T19:25:27Z</dcterms:modified>
  <cp:revision>60</cp:revision>
  <dc:subject/>
  <dc:title>Chapter Thre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0F2CFCBA445774D86797879970B2337</vt:lpwstr>
  </property>
</Properties>
</file>