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BF8C-9B2B-404C-9370-565E80F2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585-ACA3-4B2F-AB02-FF80A04E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FF3-D77C-40E2-95D8-F519A42E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B23-9F55-468F-8D4A-656B5EEB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123-8B56-4CD9-8519-5D02109C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680D-A78C-44F1-B089-1D592940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2EF-C690-4BE3-8618-779C3047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B0F-1163-464A-B548-256C9C39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B9F-B5E0-4FC4-BBE3-62C24ABE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BEA-B622-484A-8921-DCF754D3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4D8-55DA-4D8F-982D-EA5C6A38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EA4F-47C2-4D04-B194-1A7A26E3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5D7-6378-4293-B2CE-EEF4BA78F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CD2C-836A-42D4-8E90-330A0812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C5D-0398-4DEB-A439-3F1D4BF7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-Bradley PLC-5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with a PC and PLC-5 spec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0: out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1: in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2: statu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3: bi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tim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5: count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6: contro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7: integ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447920"/>
            <a:ext cx="5391360" cy="44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980800" y="60498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6 PLC-5 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files (u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ntroller information, programs, and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(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various types of data for use with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C data is stored in binary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apid scanning and executing the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ord and bit associated with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hardwar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names vary by PLC manufacturer, but work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broad categories of memory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ypes of information stored in each category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acrony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ignals have only two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or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: binary 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words can be 32, 16, or 8 bit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71560" y="2890800"/>
            <a:ext cx="7400880" cy="107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90200" y="434340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 16-bi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: group of 8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: memory storag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scheme also identifies hardwar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k, module,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88320" y="6072120"/>
            <a:ext cx="603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2 Relationship of bit address to input and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9360" y="1465200"/>
            <a:ext cx="6315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81640" y="48006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4 Limit switch address I:0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4280" y="2409840"/>
            <a:ext cx="6715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Address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I used for in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 used for out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4948200" cy="244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1397880" y="6256440"/>
            <a:ext cx="64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7 Allen-Bradley SLC 500 and MicroLogix addressing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storage memory called data table or regis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stored in a variety of numb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 store temporary data needed by the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57Z</dcterms:modified>
  <cp:revision>60</cp:revision>
  <dc:subject/>
  <dc:title>Chapter F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