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13E-481E-49AD-8670-341D3E2D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4C2-65C4-45BB-8F03-0461F475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00440" cy="429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886760" y="5985000"/>
            <a:ext cx="59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3 MOV instruction used to change timer prese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63600" y="472428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5 Masked move (MVM)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1320" y="2314440"/>
            <a:ext cx="4581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92200" y="56386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6 Mask bits used to block transfer of data from source address into destinatio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7734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data stored in two or mor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Compare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3505320"/>
            <a:ext cx="52102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984320" y="5680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7 Allen-Bradley PLC-5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0360" cy="16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400480" y="4114800"/>
            <a:ext cx="4448160" cy="16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097000" y="5837400"/>
            <a:ext cx="55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9 Allen-Bradley PLC-5 Greater than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23880" y="33624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8 Allen-Bradley PLC-5 Greater than or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low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09880" y="4267080"/>
            <a:ext cx="334332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278080" y="59896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1 PLC-5 Limit test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ntaining value to be exa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it is inside or outside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upp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55920" y="4038480"/>
            <a:ext cx="3933720" cy="2028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514600" y="615960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2 PLC-5 Limit tes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data from one word loca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 in one word with another word or a const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and instruction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data transf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ung of logic that transfers data from one word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andard data comp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logic that compares data to control an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numeric information from one memory word loca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in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b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regist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ver data replac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20" y="2263680"/>
            <a:ext cx="8521560" cy="2500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760400" y="495288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a Numeric data stored in words 0 an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329840" y="4800600"/>
            <a:ext cx="67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b Data transferred from word 0 of file N7 into wor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2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Transfer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27636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struction (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oving data from one wor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g that holds MOV instruction must be true for move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2262240"/>
            <a:ext cx="6191280" cy="233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073320" y="480060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 PLC-5 MO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gure 1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produces product A and produc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A requires time delay of 1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B requires 20 seco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ked move instruction (M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s of the data can be blocked from being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0:43Z</dcterms:modified>
  <cp:revision>73</cp:revision>
  <dc:subject/>
  <dc:title>Chapter Thi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