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AC7E-5C01-41EB-838D-07DBFBD63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23B7-4FE8-426F-8837-E01045785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irt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500440" cy="429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886760" y="5985000"/>
            <a:ext cx="593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3 MOV instruction used to change timer preset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163600" y="472428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5 Masked move (MVM)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1320" y="2314440"/>
            <a:ext cx="458136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392200" y="56386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6 Mask bits used to block transfer of data from source address into destination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62120" y="1822320"/>
            <a:ext cx="77342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data stored in two or more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 or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qual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Compare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84320" y="3505320"/>
            <a:ext cx="5210280" cy="2133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984320" y="568008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7 Allen-Bradley PLC-5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410360" cy="1685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400480" y="4114800"/>
            <a:ext cx="4448160" cy="16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097000" y="5837400"/>
            <a:ext cx="55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9 Allen-Bradley PLC-5 Greater than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1523880" y="3362400"/>
            <a:ext cx="670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8 Allen-Bradley PLC-5 Greater than or equal to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low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909880" y="4267080"/>
            <a:ext cx="3343320" cy="1552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278080" y="59896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1 PLC-5 Limit test instruction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containing value to be exa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ether it is inside or outside the specified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or a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upper limit of the test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an be integer or floa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55920" y="4038480"/>
            <a:ext cx="3933720" cy="2028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2514600" y="6159600"/>
            <a:ext cx="38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2 PLC-5 Limit tes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data from one word loca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 in one word with another word or a consta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 and instructions vary with PLC manufact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at data transf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ing 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rung of logic that transfers data from one word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tandard data compa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logic that compares data to control an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ng numeric information from one memory word loca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in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able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register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over data replac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20" y="2263680"/>
            <a:ext cx="8521560" cy="2500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1760400" y="4952880"/>
            <a:ext cx="561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a Numeric data stored in words 0 an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329840" y="4800600"/>
            <a:ext cx="67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1b Data transferred from word 0 of file N7 into word 1 of file N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792504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, SLC 500, and MicroLogix Data Transfer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3276360"/>
            <a:ext cx="8229600" cy="35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instruction (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moving data from one word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g that holds MOV instruction must be true for move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76360" y="2262240"/>
            <a:ext cx="6191280" cy="2333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3073320" y="4800600"/>
            <a:ext cx="29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3-2 PLC-5 MOV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fer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igure 13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 produces product A and product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A requires time delay of 1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B requires 20 seco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ked move instruction (MV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s of the data can be blocked from being 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0:43Z</dcterms:modified>
  <cp:revision>73</cp:revision>
  <dc:subject/>
  <dc:title>Chapter Thirte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