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7F10-EAFC-47CA-8E22-6D5645875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AD93-B423-4108-91A3-84C30B819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CA67-9B6D-4A61-94C0-161D02EFA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ED86-EA9D-4DA5-82DD-9B908666A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0FE7-077D-4DF1-8501-898C0D732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90FC-77AB-4938-BBA3-B93CA2115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75EE-0898-4EDD-A20E-5418E1AF3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DAD5-56B9-4106-85AA-5BF200825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222A-78C0-4D24-BAEA-CBC0350E3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F8D5-E950-4979-9698-68EE21D32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CBD7-E241-47C3-A36D-1387F4D06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4BC7-D24A-439D-8450-60FBD368D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131F-036A-4DF9-86E8-CA4020DEF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C6F4-4010-4891-A98E-2A96A095C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BE04-2A4C-48E4-AF8C-BECC91DD0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62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390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177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F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en-Bradley PLC-5 Fil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51460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n-Bradley PLC-5 process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d with a PC and PLC-5 specific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as of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section 0: output imag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1: input imag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en-Bradley PLC-5 File Structure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51460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2: status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3: bit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4: timer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5: counter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6: control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7: integer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s whol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790640" y="1447920"/>
            <a:ext cx="5391360" cy="4479840"/>
          </a:xfrm>
          <a:prstGeom prst="rect">
            <a:avLst/>
          </a:prstGeom>
          <a:ln w="0">
            <a:noFill/>
          </a:ln>
        </p:spPr>
      </p:pic>
      <p:sp>
        <p:nvSpPr>
          <p:cNvPr id="69" name="TextBox 1"/>
          <p:cNvSpPr/>
          <p:nvPr/>
        </p:nvSpPr>
        <p:spPr>
          <a:xfrm>
            <a:off x="2980800" y="6049800"/>
            <a:ext cx="301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-16 PLC-5 fil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C 500 and MicroLogix Fil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266652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files (us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 controller information, programs, and subrout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files (stora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 various types of data for use with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PLC data is stored in binary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rapid scanning and executing the user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/O add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word and bit associated with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e the hardware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section names vary by PLC manufacturer, but work simil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two broad categories of memory and describe the function of 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types of information stored in each category of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the ter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the acrony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lding regi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Words and Word Lo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51460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ary signals have only two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or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or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or 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t: binary dig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ary words can be 32, 16, or 8 bits in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871560" y="2890800"/>
            <a:ext cx="7400880" cy="107640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3490200" y="4343400"/>
            <a:ext cx="21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-1 16-bit 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Words and Word Location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51460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te: group of 8 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: memory storage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ing scheme also identifies hardware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ck, module, terminal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1588320" y="6072120"/>
            <a:ext cx="603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-2 Relationship of bit address to input and output de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449360" y="1465200"/>
            <a:ext cx="631512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2681640" y="4800600"/>
            <a:ext cx="37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-4 Limit switch address I:013/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214280" y="2409840"/>
            <a:ext cx="671544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C 500 and MicroLogix Addressing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66652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ter I used for input add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ter O used for output add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981080" y="3809880"/>
            <a:ext cx="4948200" cy="244656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1397880" y="6256440"/>
            <a:ext cx="646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-7 Allen-Bradley SLC 500 and MicroLogix addressing sch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age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ire storage memory called data table or register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can be stored in a variety of numberi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ding registers store temporary data needed by the process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5:43:49Z</dcterms:created>
  <dc:creator>Jeffery Woodson</dc:creator>
  <dc:description/>
  <dc:language>en-US</dc:language>
  <cp:lastModifiedBy>Stephanie Page</cp:lastModifiedBy>
  <dcterms:modified xsi:type="dcterms:W3CDTF">2018-10-23T19:24:57Z</dcterms:modified>
  <cp:revision>60</cp:revision>
  <dc:subject/>
  <dc:title>Chapter Fou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0F2CFCBA445774D86797879970B2337</vt:lpwstr>
  </property>
</Properties>
</file>