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4FFE-3D36-4C22-9E97-9EEE607FD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93FE-6055-4FC4-9B8C-0D6CA8D22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7A5B-A78A-4E54-846A-FC7B68962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BF38-D52F-4F50-B3A8-AD5E4FCE7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806A-D55F-48D2-8B17-1A1DD7ECB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C8F1-37CF-4D17-B9C1-1CBDBE449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D6AC-5400-4C19-B077-2AFE928C5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5A9F-7EBB-4DD7-88CD-D3EC1BCEE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D9A4-6A3D-4F62-A8FB-C9E44D365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4871-6E7B-4490-92E2-E0736D555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C19C-96C4-47DE-AF04-A72490937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1895-1BFF-419F-A712-538239D6D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9735-0112-454A-AD5D-57FD89659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81EB-8DDA-4FB9-8689-E8AA33196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4075-603C-4CF1-A22F-22EB1E4EC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051B-8E65-46E7-8B68-24C213793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C512-EB83-49E1-B466-872DFAF86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754E-B8F0-431C-A445-6681F578F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E3FE-B7E3-4FF0-9152-A53043250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4276-EC94-473D-97D6-4144B65B1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775E-ED95-4B89-BC47-DB4082797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A57D-54EE-403A-83C8-236051F7D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26B0-3CBA-4622-98A8-D4637C76E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Contro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ching Relay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hard-wired latching r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contacts must remain open or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coil is energized only a shor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oils used: latch and u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 linkage holds relay in closed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705800" cy="3276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2760480" y="5683320"/>
            <a:ext cx="35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4 Mechanical latching r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ching Relay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can replace mechanical latching r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logic of an actual latching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d instructions are retentive during a power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latch instruction retained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2465280" y="5029200"/>
            <a:ext cx="46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5 Programmed latch and unlatch ru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243080" y="2128680"/>
            <a:ext cx="665784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ty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619520" cy="4011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3376080" y="6097680"/>
            <a:ext cx="24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6 Safety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mp and Label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for skipping over portions of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sca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s processor to jump over a portion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instruction tells where to jum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638720" y="6084720"/>
            <a:ext cx="656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7 Programming the Jump (JMP) and Label (LBL)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362320" y="1549440"/>
            <a:ext cx="48718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mp to Subroutine, Subroutine, and Return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organiz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programming logic that can be re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 differ widely among PLC 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orary End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s processor to stop scanning at a certai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5376600" cy="443520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1609560" y="6084720"/>
            <a:ext cx="61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9 Allen-Bradley PLC – Temporary End Instruction (T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tching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ten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ster control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importance of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fety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ways False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g will always be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2644200" y="5730840"/>
            <a:ext cx="40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10 Always False Instruction (AF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967040" y="3897360"/>
            <a:ext cx="5438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Shot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rung true for just one program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013560" y="5529240"/>
            <a:ext cx="324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11 One-Shot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593720" y="3657600"/>
            <a:ext cx="62391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ching and master control instructions can be programmed to act like real-world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circuit should be added when personnel are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PLC instructions can be used to perform different program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program using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ump and labe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 reason for using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mporary en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er Control Relay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43828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used to control 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tire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o selected r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(or selected rungs) can be deenergized by turning off master control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828800" y="1636560"/>
            <a:ext cx="5691240" cy="4322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2622600" y="602604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1 Hard-wired master control r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er Control Relay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Rs often used with circuits with off-delay ti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can be shut down without waiting for timers to time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Control Re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e name for Master Control R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output to zero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SLC 500 and MicroLogix MCR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Figure 10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CR instruction is tr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 in rungs that follow are controlled by logic programmed for each 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CR instruction is fal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gs below the MCR are false and cannot energ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: latching relay instruction will remai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612880" y="6026040"/>
            <a:ext cx="399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2 Allen-Bradley MCR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317680" y="1981080"/>
            <a:ext cx="458460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1693080" y="5877000"/>
            <a:ext cx="593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-3 Two MCR instructions used to create a control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74812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1:57Z</dcterms:modified>
  <cp:revision>77</cp:revision>
  <dc:subject/>
  <dc:title>Chapter T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