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2F47-82C1-4920-A66F-4A6245D35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5215-1AB9-439F-AFA0-38684CCBE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7DC8-E167-4CAE-A123-DEB6EFF2C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350C-593A-4B48-A099-D55A0F5F7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4249-EFD8-4049-B929-FBB9D7278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9EB9-99FF-4948-9BA9-0DB55A6C8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CF85-2819-4B3A-BFF0-C6B9E666F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00B2-0BA7-4749-97AC-C214051DE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8418-7898-49D2-A748-FBD8A222C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08E6-A3BE-4AAB-BF19-07FB492E0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401A-C417-4A48-8339-226E3CECA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DDDD-61CB-4B02-A523-FEB4937D2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7CCC-5F33-4B2C-A343-C34B4AE22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77EC-CD5D-45C2-9074-07059002B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9697-AD4E-418D-B44E-C96DA6D4A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Four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247840" y="1447920"/>
            <a:ext cx="4810320" cy="2154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247840" y="4211640"/>
            <a:ext cx="4829400" cy="2036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2568960" y="6141960"/>
            <a:ext cx="418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3 Example of the XPY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1928520" y="3602160"/>
            <a:ext cx="546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2 Example of the Square root (SQR)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ing Math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Find dimension of side C for the right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073320" y="3505320"/>
            <a:ext cx="3225960" cy="211140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2362320" y="5729400"/>
            <a:ext cx="51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4 Solving the hypotenuse of a right triangle using the Pythagorean the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021120" y="1298520"/>
            <a:ext cx="3108240" cy="493884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678040" y="623736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5a Combining math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2666880" y="525780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5b Using the CPT instruction to solve the hypotenuse of a right tri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521000" y="2743200"/>
            <a:ext cx="6114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function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, subtract, multiply, and di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functions and formats vary with PLC manufactu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functions can be combined with data manipulation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four standard math functions available with most P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math functions and give examples of how they ar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the square root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th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basic math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with constants or store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PLC-5, SLC 500, and MicroLogix Math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510516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3011040" y="6002280"/>
            <a:ext cx="33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 Divide (DIV)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295280" y="2411280"/>
            <a:ext cx="6915240" cy="2371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333800" y="4800600"/>
            <a:ext cx="687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2 Data compare instruction LES to control amount of chemical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functions may be used with timer or count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057400" y="3581280"/>
            <a:ext cx="5002200" cy="2379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1486800" y="5954760"/>
            <a:ext cx="68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3 Divide (DIV) instruction used to enter a preset value in a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8029440" cy="24973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983680" y="5021280"/>
            <a:ext cx="31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5 Arithmetic status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(CPT) outpu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defined operations and writes result to destination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786320" y="5791320"/>
            <a:ext cx="564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0 Programmed PLC-5 Compute (CPT)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209680" y="4146480"/>
            <a:ext cx="45529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instruction (CL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s the value in a word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2197800" y="5776920"/>
            <a:ext cx="48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1 Example of the Clear (CLR)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195640" y="3733920"/>
            <a:ext cx="45720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16:42Z</dcterms:modified>
  <cp:revision>77</cp:revision>
  <dc:subject/>
  <dc:title>Chapter Fourte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