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8445-AECF-4965-9D03-A17D9FE09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3761-587A-412F-8053-80C4EDA5F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DF35-C175-40A7-9ADF-51F0B3BB1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09FE-2D79-4559-8B35-C688230E9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EA39-D6FD-4C6B-9D23-896E3D420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819B-0529-44CB-B6BF-AAB417BDA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31EB-C312-46F7-8F30-26245810A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612B-B0DA-44A5-809A-EA38A9290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B87A-0000-4BDD-9A64-CDC013F6A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44D1-3CB2-47E4-85E7-2ED4CDA2A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AC3A-D86D-47A9-B87E-39C05F363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B3E3-75C2-4B39-B7BB-31D51EBE2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Programmable Logic Controller (PLC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I/O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ON or OFF, open or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limit switches and push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range of possibl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temperature and pressure 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s are used to control process machi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able for fast, easy changes in RELAY LAD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Cs are designed to be used by techn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several advantages of a programmable logic controller (PLC) over hard-wired rela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four major components of a typical programmable logic controller and describe the function of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different types of programming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able Logic Contro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-state system for control and operation of manufacturing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s relays, switches, cou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hard wiring allows frequent changes to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RELAY LAD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level, graphic programm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C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be operated by plant engineers and maintenance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operate in an industri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s in temperature, vibration, hum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usually affected by electrical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351760" cy="48992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2088720" y="6194520"/>
            <a:ext cx="534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-1 Comparison of a Computer System and a P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C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r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processor “bra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s 120 or 240 AC volts to low voltage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 separat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819000" y="1828800"/>
            <a:ext cx="770760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935360" y="5486400"/>
            <a:ext cx="47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-5 Block diagram of a typical power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C Components (cont’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5640"/>
            <a:ext cx="8229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/Output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devic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s, switches, 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devic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or coils, solenoid valves,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ing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enter desired program into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is most common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43:49Z</dcterms:created>
  <dc:creator>Jeffery Woodson</dc:creator>
  <dc:description/>
  <dc:language>en-US</dc:language>
  <cp:lastModifiedBy>Stephanie Page</cp:lastModifiedBy>
  <dcterms:modified xsi:type="dcterms:W3CDTF">2018-10-23T19:26:16Z</dcterms:modified>
  <cp:revision>44</cp:revision>
  <dc:subject/>
  <dc:title>Chapter O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0F2CFCBA445774D86797879970B2337</vt:lpwstr>
  </property>
</Properties>
</file>