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AA2F-37A5-4E40-B611-61E09A8E1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F8F2-B7A4-4BAC-A822-BE403FFB8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2B4D-4510-4237-AF95-CE5E46CAF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6039-C1A7-4B8C-A71B-26CABA152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A38A-9F9F-4A11-A272-E91CC7A91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C975-4598-4C1E-B16F-873CA5D0A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840F-9138-4383-B108-8E65E31E7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6D66-2DF1-4B16-9296-FB9CD5617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0C64-438B-4229-927F-04DFB67E2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13B1-1D8F-4C23-A216-44546E1E6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0E29-46A7-4029-8049-76A81BB80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284B-42BC-4C15-A55E-32EF66108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Programmable Logic Controller (PLC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I/O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ON or OFF, open or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limit switches and push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range of possibl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temperature and pressure 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s are used to control process machin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able for fast, easy changes in RELAY LAD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s are designed to be used by techn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several advantages of a programmable logic controller (PLC) over hard-wired rela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four major components of a typical programmable logic controller and describe the function of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different types of programming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able Logic Contro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-state system for control and operation of manufacturing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s relays, switches, cou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hard wiring allows frequent changes to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RELAY LAD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level, graphic programm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C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be operated by plant engineers and maintenance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operate in an industri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s in temperature, vibration, hum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usually affected by electrical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351760" cy="48992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2088720" y="6194520"/>
            <a:ext cx="534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-1 Comparison of a Computer System and a P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C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r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processor “bra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s 120 or 240 AC volts to low voltage 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 separat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19000" y="1828800"/>
            <a:ext cx="770760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935360" y="5486400"/>
            <a:ext cx="47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-5 Block diagram of a typical power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C Component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/Output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device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s, switches, se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evice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or coils, solenoid valves, 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enter desired program into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is most common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6:16Z</dcterms:modified>
  <cp:revision>44</cp:revision>
  <dc:subject/>
  <dc:title>Chapter O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