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B36C-58DC-4973-8DC8-C599A46FA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A101-6D53-4254-BB43-41BD48771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0B0F-4CFA-4F14-A98C-7165DA64B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4635-1BF0-4222-9465-F4CEFCCDF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337A-E345-4AC4-AED9-BE1D17242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5D0B-4780-4467-A22A-05BF3EBC6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066C-AE6F-4673-BFB0-94A859979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E72A-EEE7-415C-BE82-DFB6141B5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8AC1-53B5-42BD-9B97-8C87440B4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3467-3FC1-4031-9B50-873C06025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D46E-EBA1-4EAB-B32C-17DEB6227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AF72-50B3-4CE6-AA78-D8D8FDDD6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7056-6CE7-48C3-ACAC-31B74E595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402B-339D-4FDA-A484-CC5E353AC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3502-A22D-43CD-9386-B1BB94115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CE35-3440-4157-88EB-E26156640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A6F2-D047-4D5D-AD7A-D01F9CC40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1D74-7714-4058-BAE0-EADB0A925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8480-EFC6-4CE9-9E18-BCEC348D3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514A-9DB5-4129-95AE-0706ECEA0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1D4F-82A0-421A-93D0-E0ECCAE67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BAB6-1AEA-47C8-9F3F-8FFF474F1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A8EC-D87A-4E67-B979-3657B3F6B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N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Restri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2244600" y="5896080"/>
            <a:ext cx="49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9 Equivalent circuit without vertical cont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654200" y="2692440"/>
            <a:ext cx="60944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Restri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of power is from left to right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vertically up or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057400" y="3657600"/>
            <a:ext cx="5224320" cy="243828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3217320" y="6095880"/>
            <a:ext cx="285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10 Hard-wired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978200" y="1414440"/>
            <a:ext cx="4578120" cy="2097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1843200" y="3890880"/>
            <a:ext cx="4846680" cy="2367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1"/>
          <p:cNvSpPr/>
          <p:nvPr/>
        </p:nvSpPr>
        <p:spPr>
          <a:xfrm>
            <a:off x="2340000" y="6237360"/>
            <a:ext cx="395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11b Circuit properly program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2124720" y="3551400"/>
            <a:ext cx="417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11a Circuit improperly program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Restri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LCs do not allow nesting of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3210480" y="6265800"/>
            <a:ext cx="28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12a Nested cont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384200" y="3711600"/>
            <a:ext cx="68961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Restri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2015640" y="5942160"/>
            <a:ext cx="51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12b Programmed to eliminate nested cont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717560" y="2933640"/>
            <a:ext cx="5461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 Sc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C scan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to right, top to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955800" y="3598920"/>
            <a:ext cx="3341520" cy="239544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1144440" y="6056280"/>
            <a:ext cx="321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16 One scan turns on L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5334120" y="3592440"/>
            <a:ext cx="3292200" cy="2428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5389560" y="605628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17 Three scans required to turn on L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STOP But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ing STOP buttons in N.O.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during the 19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 haz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TOP buttons must be wi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switch failure or broken wire will break continuity and turn circuit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l Holding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 programming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address used to address holding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s need to wiring holding contacts on motor st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l Holding Instru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590920"/>
            <a:ext cx="82296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output address used for holding contacts (logic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 maintained logically because output point turn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guarantee actual motor starter has been energ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Holding Cont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e holding contacts of motor starter to input modul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at address when programming holding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know starter is actually energ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ummy r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horizontal and vertical contact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ly wire and program STO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load Cont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wire overload contacts to input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 in series with starter c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overload that opens the overload conta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opens starter coil 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447920" y="1795320"/>
            <a:ext cx="6748200" cy="4133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1620720" y="5935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19 Overload contacts wired in series with the starter co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LC has maximum network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s number of horizontal and vertical contacts per 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size limits the number of r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reads logic from left to right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vertically either up or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LCs do not allow nested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difference between logical and discrete holding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of connected logic elements that perform a specific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LCs have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logic symbols included on the horizont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parallel lines in a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outputs per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224680" cy="39942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3354120" y="5897520"/>
            <a:ext cx="24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2 Network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Limita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of user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s number of networks or r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ircuit requires more contacts than network a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s split into two r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rung programmed to dummy r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of dummy relay is address of first N.O. contact on second 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239200" y="6066000"/>
            <a:ext cx="539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4 Parallel contacts split into two rungs (networ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743200" y="1541520"/>
            <a:ext cx="4029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534600" y="2611440"/>
            <a:ext cx="308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5 Parallel outpu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774960" y="1655640"/>
            <a:ext cx="4359240" cy="221004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813600" y="4884840"/>
            <a:ext cx="25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6 Multiple out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3809880" y="4087800"/>
            <a:ext cx="427536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Restri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C does not allow programming vertical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006640" y="3581280"/>
            <a:ext cx="5454720" cy="2133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3407400" y="5896080"/>
            <a:ext cx="26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7 Vertical cont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2:47Z</dcterms:modified>
  <cp:revision>78</cp:revision>
  <dc:subject/>
  <dc:title>Chapter N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