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2AD1-35A5-4AE8-AA55-F222CDC7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6A1-91C9-4B30-A8AC-6FC87CFA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995-66F5-48D7-B66F-4D4C02EFD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7419-CB58-4500-ADC4-62E6EC2F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B38F-2E6D-47A0-8CDB-8E9DAAB7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43E7-3E29-4941-832D-9215D19F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DFD-BAC1-4B60-971E-504B038A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9FC-C402-427C-B801-A282ED8D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D01-00E0-4D53-B960-C378318C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78CC-DE09-4C42-B27D-AB5DC66F7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16AB-3B39-45FD-9CB4-63D8C802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6A7-488B-4753-AAB9-5844D788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4C9-25A5-45B7-BCA9-C540B3DB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FA5-A1FC-413F-BEB1-810573DC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9BA1-0755-40C5-AB8E-1BD6822D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08E8-2F18-4BAF-9843-0EDD342B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071160" y="602604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5 Programmed CTD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9320" y="1655640"/>
            <a:ext cx="70308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112200" y="60325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6 CTD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893960" y="1523880"/>
            <a:ext cx="54576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nd down counters can be programmed together to count products as they enter and leave a conve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s 12-8a and 12-8b 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ime of timer beyond normal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2459520" y="6172200"/>
            <a:ext cx="37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8b Up and down counter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90720" y="1190520"/>
            <a:ext cx="69865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 or C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D: up and down in on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structure used to address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preset or accumulated values up to 2,147,483,6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counters give added flexibility and control to process equipment or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store values in binary format for the preset and accumulated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PLC-5,SLC 500, and MicroLogix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counters (C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counters (C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are retentive until reset by res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2075040"/>
            <a:ext cx="6753240" cy="3267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509560" y="5621400"/>
            <a:ext cx="44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1 Allen-Bradley PLC-5 count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counter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d count value from 0 to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0440" y="2590920"/>
            <a:ext cx="820584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692080" y="486720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2 Storage format for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bits for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Enable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Enable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ne (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Overflow (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Underflow (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953040" cy="4570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965680" y="6049800"/>
            <a:ext cx="34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3 Programmed up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066120" y="60260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4 CTU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25440" y="1631880"/>
            <a:ext cx="6940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07Z</dcterms:modified>
  <cp:revision>75</cp:revision>
  <dc:subject/>
  <dc:title>Chapter Twel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