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B116-6D59-4CE9-AE82-FD0AFC931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2407-327C-4B15-9762-FC92D4C18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A955-E500-4007-875C-A4AA0A91C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F913-9EE5-4797-B174-27D8BC933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CF09-7279-4881-A3C0-C3C5309D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4AFC-A6A0-40A9-85F7-64AB5995E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98A8-528E-4975-AA96-7A6B705F4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0D2B-A518-4CD4-A33A-B48C50912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CEB5-684E-4737-9030-A89911272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1226-8596-4CD5-B4B1-D90DB58B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E621-0715-4035-B339-CA0530A13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DBE1-6D4C-4E58-AA12-97E4900F8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D09A-DC68-4D2D-A750-4189E2408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4ED9-94C0-4F1B-B533-0EDA05E1D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78B8-C382-4947-B818-4C79DA4D7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8903-FD9D-4C31-8A71-5CF50C721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21FA-FC2C-4D83-9499-D8393A382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684B-B2FB-42EA-9D19-349FC8C5B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B81B-2047-47C7-A1E9-3DC85175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1BE2-56D3-4428-B4E7-B860AF2C0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CCEF-B9D5-4C6D-AB07-4E948AE68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BC32-FC80-4294-AEA4-878496313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3C8D-F275-47FC-B39D-A4807DAF4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8335-4586-4C50-9E01-E0F7CDFE5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3C10-8943-41C2-BB1D-EEB83384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4B6F-A149-40EE-8B99-A4867E405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y Typ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581920" y="3705120"/>
            <a:ext cx="397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7a Standard STOP/START lad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54280" y="1870200"/>
            <a:ext cx="5634000" cy="1834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1510560" y="6089760"/>
            <a:ext cx="63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7b Equivalent STOP/START circuit programmed with a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2222640" y="4151160"/>
            <a:ext cx="4844880" cy="1949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3825360" y="5943600"/>
            <a:ext cx="51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7c Input devices connected to an input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406872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button and O.L. contact wired in normally clo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programmed as normally open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2109960"/>
            <a:ext cx="41785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2057400" y="556272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8a Bit status for input image word 010 and output image word 012 with the processor in RUN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91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6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TART button is depres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01 set to 1 (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219320" y="3429000"/>
            <a:ext cx="6864120" cy="2421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1905120" y="6019920"/>
            <a:ext cx="579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b Bit status for input image word 010 and output image word 012 while START button is being de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is then ener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held energized by holding contacts O:012/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ing contacts do not actually exist as hard-wired 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aintain logic path for the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85800" y="2494080"/>
            <a:ext cx="7858080" cy="2830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1447920" y="5638680"/>
            <a:ext cx="682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c Bit status for input image word 010 and output image word 012 after output O:010/01 is energized and the START button is rel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905120" y="5638680"/>
            <a:ext cx="56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d Bit status for input image word 010 and output image word 012 with the STOP button dep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01072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/START Exampl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981080" y="5638680"/>
            <a:ext cx="54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8e Bit status for input image word 010 and output image word 012 with the STOP button rele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814320" y="2500200"/>
            <a:ext cx="7819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y Ana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way to look at N.O. and N.C. symbols used for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ages 140-142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14600" y="602604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15 Double-Circuit Pressure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908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INE 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INE OF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d understand the logic for a standar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P/STA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ower applied to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1 will sta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N.C. contacts of PS-1 in ru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 2 cannot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N.O. contacts of PS-1 in ru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circuit can be programmed on a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ingle-circuit pressure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452600" y="1828800"/>
            <a:ext cx="6238800" cy="4000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2514600" y="58309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16a Double-circuit pressure switch circuit programmed for a typical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2057400" y="58482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16b Actual wiring of a single-pole pressure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057400" y="1816200"/>
            <a:ext cx="52149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cessor placed in RUN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N.O. contacts examined for ON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s 01, 02, 03 of input word 010 set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ocessor EXAMINES OFF the N.C. contact I:010/0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 that bit 01 is set 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ying Examine ON and Examine OFF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or 1 is ON and motor 2 is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ressure switch actu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C. contacts are open, N.O. contacts become false, turning motor 1 o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.C. contacts become true, turning motor 2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N instruction is logically true when ON condition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FF instruction is logically true when OFF condition ex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y analogy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method of understanding programming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Cont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 programmed using ladder logic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O. contact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telling processor to look for ON condition at symbol’s correspondin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N condition exists, instruction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05120" y="1673280"/>
            <a:ext cx="5322600" cy="17287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352320" y="348156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2 Simple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2244600" y="591012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3 Equivalent circuit programmed with a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905120" y="4267080"/>
            <a:ext cx="54147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29560" cy="36511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165760" y="5479920"/>
            <a:ext cx="52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4 Input and output devices wired to I/O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27920" cy="194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143000" y="4038480"/>
            <a:ext cx="7027920" cy="19195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972440" y="3559320"/>
            <a:ext cx="49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5a Bit status for I/O word 1 with switch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974960" y="6081840"/>
            <a:ext cx="532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7-5b Bit status for I/O word 1 after switch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e 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N instruction looking for an ON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: bit set to 1, or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FF: bit set to 0,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ine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OFF instruction looking for an OFF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FF: bit set to 1, or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N: bit set to 0,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790280" y="5135400"/>
            <a:ext cx="575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 7-1 Examine if Closed (XIC) and Examine if Open (E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685800" y="2219400"/>
            <a:ext cx="795960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3:40Z</dcterms:modified>
  <cp:revision>7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