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7A17-E3C1-42DE-81EB-AF8EE0654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F435-A800-4386-B64D-991408584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B678-3766-4FA6-A859-ED09E7593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E195-03BB-4A47-9BAC-3459C0EBC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BFF4-4D5C-4E41-903F-0039DBA08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91C6-41CB-4B86-9FC5-72DB0F731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EBA1-4394-4789-894C-639459135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18A8-4920-4392-A2AE-FC7850531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4B5A-6C25-4710-9698-63F6AB230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05E7-CAC1-42A8-8CB3-F177E638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A200-B234-4728-8970-4165CDA0B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042A-DBD2-40B1-8F34-490BD6B5E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EE36-F1B2-4BC3-86A7-AAB3563B2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3711-5989-4FFB-BE8C-074C7DB11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7F86-DC02-46CB-99D6-5B1EAB55A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Four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247840" y="1447920"/>
            <a:ext cx="4810320" cy="2154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47840" y="4211640"/>
            <a:ext cx="4829400" cy="2036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2568960" y="6141960"/>
            <a:ext cx="41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3 Example of the XPY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1928520" y="3602160"/>
            <a:ext cx="546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2 Example of the Square root (SQR)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ing Ma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Find dimension of side C for the right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73320" y="3505320"/>
            <a:ext cx="3225960" cy="2111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2362320" y="5729400"/>
            <a:ext cx="51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4 Solving the hypotenuse of a right triangle using the Pythagorean the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021120" y="1298520"/>
            <a:ext cx="3108240" cy="4938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678040" y="623736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5a Combining math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2666880" y="525780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5b Using the CPT instruction to solve the hypotenuse of a right tri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521000" y="2743200"/>
            <a:ext cx="6114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function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, subtract, multiply, and di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functions and formats vary with PLC manufact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functions can be combined with data manipulation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four standard math functions available with most P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math functions and give examples of how they ar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the square roo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basic math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with constants or store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, SLC 500, and MicroLogix Math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510516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3011040" y="600228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 Divide (DIV)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295280" y="2411280"/>
            <a:ext cx="6915240" cy="2371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333800" y="4800600"/>
            <a:ext cx="687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2 Data compare instruction LES to control amount of chemical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functions may be used with timer or count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057400" y="3581280"/>
            <a:ext cx="5002200" cy="2379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1486800" y="5954760"/>
            <a:ext cx="68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3 Divide (DIV) instruction used to enter a preset value in a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8029440" cy="24973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983680" y="5021280"/>
            <a:ext cx="31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5 Arithmetic status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(CPT) outpu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defined operations and writes result to destination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786320" y="5791320"/>
            <a:ext cx="56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0 Programmed PLC-5 Compute (CPT)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209680" y="4146480"/>
            <a:ext cx="45529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instruction (CL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s the value in a word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2197800" y="5776920"/>
            <a:ext cx="48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1 Example of the Clear (CLR)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195640" y="3733920"/>
            <a:ext cx="45720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16:42Z</dcterms:modified>
  <cp:revision>77</cp:revision>
  <dc:subject/>
  <dc:title>Chapter Fourte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