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E699-6F32-469D-A04B-A499A150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ACC-7EDD-4EE4-8FA1-1272E316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8CE6-E6D8-420F-A1B4-70CD5A60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EE1-BCBE-4349-AA80-669ABD69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8F7-B22A-45F2-8C59-2CDCB117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FD0C-1762-4086-81A1-AD02EB76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986B-6F07-4B2E-BAA4-6B88B7C6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643-6BF2-4262-B05C-DEB3BA370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804F-B449-47A4-A882-24AC9BEA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0F7-6EBC-491A-919B-AF1D1942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B679-30F0-435A-A6EB-43715F05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5C45-FF3A-4749-A747-4FC7CA01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4FA3-83CB-49B8-A5D1-FE99D06E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81D-8CE7-4849-B899-68A9B63A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63F2-7804-436A-AC6E-A1A632A3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D24E-C9CF-4744-AAAD-474700B6A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BD5D-548D-49E4-A6CC-F91FA7F2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E08F-DE8E-4F00-BACB-4E35241F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3E71-C7E2-4B4C-95BD-0689B800F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DA5-4528-4EB5-A432-38F47194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940-3B70-4F2B-B6D8-11573BB3C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6C19-A993-4419-B83A-C274E2AE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905-7481-4F2A-97ED-9C72FD26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949-81BA-4158-A1D3-86A02037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2346-0068-4F0A-80F0-2262D761A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0F3-8558-4883-AAAB-FFA18490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Typ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81920" y="370512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a Standard STOP/START lad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54280" y="1870200"/>
            <a:ext cx="5634000" cy="1834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510560" y="6089760"/>
            <a:ext cx="63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b Equivalent STOP/STAR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222640" y="4151160"/>
            <a:ext cx="4844880" cy="194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3825360" y="5943600"/>
            <a:ext cx="51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c Input devices connected to an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406872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button and O.L. contact wired in normally clo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rogrammed as normally ope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2109960"/>
            <a:ext cx="41785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057400" y="55627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8a Bit status for input image word 010 and output image word 012 with the processor in RU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91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6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ART button is dep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01 set to 1 (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864120" cy="242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905120" y="6019920"/>
            <a:ext cx="57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b Bit status for input image word 010 and output image word 012 while START button is being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is then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held energized by holding contacts O:012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ing contacts do not actually exist as hard-wir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intain logic path for the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5800" y="2494080"/>
            <a:ext cx="7858080" cy="2830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447920" y="5638680"/>
            <a:ext cx="682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c Bit status for input image word 010 and output image word 012 after output O:010/01 is energized and the START button is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05120" y="563868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d Bit status for input image word 010 and output image word 012 with the STOP button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107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81080" y="563868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e Bit status for input image word 010 and output image word 012 with the STOP button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14320" y="2500200"/>
            <a:ext cx="7819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y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way to look at N.O. and N.C. symbols used fo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140-142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14600" y="602604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5 Double-Circuit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908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d understand the logic for a standa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P/ST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ower applied to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1 will st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N.C. contacts of PS-1 in ru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2 canno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.O. contacts of PS-1 in ru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ircuit can be programmed on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ngle-circuit pressur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52600" y="1828800"/>
            <a:ext cx="6238800" cy="4000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14600" y="58309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a Double-circuit pressure switch circuit programmed for a typical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2057400" y="5848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b Actual wiring of a single-pole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7400" y="1816200"/>
            <a:ext cx="5214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placed in RU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.O. contacts examined for ON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01, 02, 03 of input word 010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EXAMINES OFF the N.C. contact I:010/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 that bit 01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1 is ON and motor 2 is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essure switch actu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are open, N.O. contacts become false, turning motor 1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become true, turning motor 2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is logically true when ON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is logically true when OFF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analog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thod of understanding programmin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programmed using ladder logic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O. contact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telling processor to look for ON condition at symbol’s correspond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 condition exists, instruction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5120" y="1673280"/>
            <a:ext cx="5322600" cy="172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352320" y="348156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2 Simp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244600" y="591012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3 Equivalen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4147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29560" cy="3651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165760" y="5479920"/>
            <a:ext cx="52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4 Input and output devices wired to I/O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27920" cy="194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7027920" cy="1919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972440" y="3559320"/>
            <a:ext cx="49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a Bit status for I/O word 1 with switch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974960" y="6081840"/>
            <a:ext cx="53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b Bit status for I/O word 1 after switch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looking for an ON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looking for an OFF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90280" y="513540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1 Examine if Closed (XIC) and Examine if Open (E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85800" y="2219400"/>
            <a:ext cx="7959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3:40Z</dcterms:modified>
  <cp:revision>7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