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8DB3-03C4-4EE3-AE3E-91AD01BD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EA4A-E4EA-4338-BEF1-5603B236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658C-6D07-4DD2-8096-868DCCA2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157C-29AE-4385-89C1-5D8C8479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A69-4493-4747-87F1-644B7EF1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01C1-E722-475D-B804-C6865406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01F6-9646-4024-BB5D-A81BEE2F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690C-5CAD-4D1F-84ED-479BBC36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BB5-276A-4129-96C8-558632F8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20D3-C9CE-4630-AF27-E2596DA3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ADA-9A7A-40ED-95C8-D30A52EB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000-CBF8-4BC8-B2D0-FCBF456B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15C-0B74-4D44-A0A4-FBE5B810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46BE-22A4-40EB-B189-65706F66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55D-3906-4980-8BB6-D16A4BEB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8E9-B7DB-4016-A987-EC908544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CFFC-6C92-4CED-B1DB-EFD75F47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C54A-1362-457B-A3AB-710503E1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0B1C-ECC3-4862-8CB9-F220634F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6312-DEF3-4A1C-8893-80CA2E4E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A4D-ECB6-4315-88D2-7632D90D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BFE6-FD1F-4988-9496-6FE7FC3C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l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32,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62888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581560" y="5257800"/>
            <a:ext cx="37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5 Allen-Bradley tim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bit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ever there is a logic path to the timer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bit (D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 timing i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default data table file for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C-5, SLC 500, and MicroLogix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2819520"/>
            <a:ext cx="7848360" cy="185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017160" y="4916520"/>
            <a:ext cx="32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6 Timer stora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ve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the timer START and STOP without resetting the accumulated value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67640" cy="380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141920" y="5713560"/>
            <a:ext cx="70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in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51000" y="1600200"/>
            <a:ext cx="6578640" cy="4307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404000" y="6040440"/>
            <a:ext cx="68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’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: always one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2,147,483,647 (D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dditional timer instructions with reset function: TONR, TOFR and R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/>
          <p:cNvSpPr/>
          <p:nvPr/>
        </p:nvSpPr>
        <p:spPr>
          <a:xfrm>
            <a:off x="2897640" y="61768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6 Finished TON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325520" y="1235160"/>
            <a:ext cx="6523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cading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wo or more time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he timing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eumatic time delay rel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F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ti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xtend the time range of timer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sc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/>
          <p:cNvSpPr/>
          <p:nvPr/>
        </p:nvSpPr>
        <p:spPr>
          <a:xfrm>
            <a:off x="3203280" y="620568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7 Cascading Ti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9868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and accumulated times stored and compared on each 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ccumulated value equals preset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can be turn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 can be programmed for ON delay or OFF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s retentive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Gene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neumatic tim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s 11-1, 11-2, and 11-3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timer coil is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turned OFF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1501920"/>
            <a:ext cx="4752720" cy="178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857240" y="4068720"/>
            <a:ext cx="5305680" cy="1581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48840" y="329076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5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04120" y="5867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6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power is removed from relay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is turned ON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049560" y="329076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8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008160" y="589284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9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98800" y="1477800"/>
            <a:ext cx="4635360" cy="180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843200" y="4419720"/>
            <a:ext cx="535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aneou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when coil is energized or deenergized independent of tim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295280" y="4537080"/>
            <a:ext cx="686592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453400" y="5867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2 Instantaneous contact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309060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3154320" cy="150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551560" y="1440000"/>
            <a:ext cx="318276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546880" y="3365640"/>
            <a:ext cx="3192480" cy="15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2971800" y="4919760"/>
            <a:ext cx="2895480" cy="142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74400" y="2971800"/>
            <a:ext cx="34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a ON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33808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38200" y="4911840"/>
            <a:ext cx="257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c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6037200" y="4919760"/>
            <a:ext cx="26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d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674440" y="6323040"/>
            <a:ext cx="36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e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201600" y="297180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a OFF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1900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38040" y="491004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c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111720" y="4832280"/>
            <a:ext cx="269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d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660040" y="625788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e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8040" y="1425600"/>
            <a:ext cx="3159360" cy="15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21200" y="1371600"/>
            <a:ext cx="29448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38040" y="3382920"/>
            <a:ext cx="3159360" cy="14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5800680" y="3382920"/>
            <a:ext cx="3008520" cy="139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3265560" y="4919760"/>
            <a:ext cx="262872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29Z</dcterms:modified>
  <cp:revision>79</cp:revision>
  <dc:subject/>
  <dc:title>Chapter El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