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5108-9FBB-412D-95B2-EF2FCC36A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6B08-5D22-4352-AEA7-13D73E549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E5E9-3CC3-421B-A1E1-FBF49722B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9B24-FBB2-49A7-BC40-74959B81E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85DA-EFE8-4DF5-B096-903DF841B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7E44-2E92-40E0-ADD6-994764B71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F93B-E6B0-4280-8EB6-39E8EB3C2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6BE6-B466-46EB-91F4-9159BB13A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A0FC-EF4A-4922-97FC-B73F96333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78E4-9CAA-4617-B289-5487F3686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A223-62C5-4E80-9AA7-941A949EF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B060-49C5-40C8-A42C-6FF30F343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BB01-9317-44E0-AD0D-0B3CF21FC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A6A1-4039-4EFF-ADFB-AF8DD8AA7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C29E-59DA-434F-B56B-57A135A46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69BB-6541-4FDB-B6ED-4D4C1A8DA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8516-92C4-45DF-A4A0-CA572ED5E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5385-3626-4DD1-BEF0-2EAEF4756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E8E7-0056-48FA-BC24-EBE345759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49CC-B7CC-49FF-B974-732DD1DB3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A52A-FE75-4C38-BD06-B7E79A8BA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27DF-5470-43BB-94FF-C2A0A2C7A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7D47-37FA-4A35-95F1-94638AAC4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D7C2-EB61-449A-8F40-AD81A884F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56E4-368D-4997-9620-E489B7295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5A5D-F88C-46D4-927C-77CF386C6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1E92-526E-46F8-89C8-F012531E1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1837-AA8A-4F1C-8FE6-B61610312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/Output (I/O)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ccept digital or ON/OFF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 in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s status of real-world input device to the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in a wide range of vol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multiple input 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 discrete in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1652040" y="5819760"/>
            <a:ext cx="58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-7 Simplified AC input module circuit with indicator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8674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22730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 discrete in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653480" y="5978520"/>
            <a:ext cx="62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-13 Simplified circuit for DC input module with indicator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428840" y="2990880"/>
            <a:ext cx="672444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-responding DC in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ith high-speed or high volum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encoders, proximity switches to count product from high-speed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in filtering circuit less than 1 milli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 out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current flow to real-wor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are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ed as AC or 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d by number of devices that can be conn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 out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7962840" cy="2814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2446560" y="5819760"/>
            <a:ext cx="418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-15 Typical AC output module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f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rotection for overcurrent, shorts, or ground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 that output point has been turn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 ke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ches prevent wrong type of module from being inst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 out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peration as AC output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power transistor to control output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ing and s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device provides current, it is 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device receives current, it is s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out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mechanical relay used to open or close a set of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osing 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control loads larger than the current rating of an individual output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d relay out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dry reed relays desi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stor-transistor logic I/O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with other solid-state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I/O section of a programmable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DIP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basic AC and DC input and output module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tical isol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escribe why it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og I/O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in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convert analog signals to b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use by the PLC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out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binary into analog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use: controlling variable speed control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057400" y="1530360"/>
            <a:ext cx="5264280" cy="4465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3126600" y="6178680"/>
            <a:ext cx="312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-29 Analog input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ty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ired emergency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power to the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of the PLC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by NEMA standard when operator is exposed to machin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stop relay (ESR)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safe system re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ck 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ing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ibility for 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al Noise (Surge Suppress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577600"/>
            <a:ext cx="822960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al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d when inductive loads are operated by hard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transient voltages when inductive device switched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to reduce or eliminate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eliminate effects of electromagnetic i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pment grounding con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ed to metal frame of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Shie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elded cable reduces effect of electrical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eld should only be grounded at on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eld should be terminated at the I/O 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/O rack houses input and out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s connect to real-wor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/O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or mod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al or an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environmental conditions when installing PLC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proper wiring connections for input and output devices and their corresponding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y a hard-wired emergency-stop function is desi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what I/O shielding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environmental concerns when installing P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voltage or current signal into a logic-level sig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with the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modules provide ON/OFF status of buttons, switches to th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l sent to output device based on program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xed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unit containing processor, I/O section, and power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expansion units with various I/O configur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vide more capability or different vol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704960" y="5711760"/>
            <a:ext cx="642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-2 SLC 500 fixed I/O chassis with optional two-slot expa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990720" y="1809720"/>
            <a:ext cx="72007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lexible than fixed I/O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input and out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d in a rack or cha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modules mounted with the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te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is mounted remotely from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I/O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ers or switches used to configure r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 switches commonly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connections must have a distinct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communicate with the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5:52Z</dcterms:modified>
  <cp:revision>64</cp:revision>
  <dc:subject/>
  <dc:title>Chapter Tw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