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184E-BDB0-43EA-BFA1-316A6D6E8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100B-3340-4A2B-A559-A32F2C4DA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DD4D-479E-4DB4-80D0-73FE30EBC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970D-6663-4D43-9CEC-8F9B08BD2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298D-BF5D-41A0-B740-8C63F9F7B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48FC-451F-4BDE-B5A5-7E59EDC56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B00D-68FC-4E79-AC24-79D747AD1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8C7E-016A-4465-8CE3-7B6EB66B8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7738-FC29-48C7-9A8C-4AC706FA7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8F85-8C69-4941-AB9C-289BC1F79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F7DE-FBC7-4E6E-AAB7-BECE0F349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36DB-A55A-4721-A922-1BD837D31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B10F-BE06-4CC7-9135-A9C3A3CCC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7C26-EC9F-44AC-AFA4-750773B30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2C02-3ED7-4881-9FE0-67E7F566B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3F6B-0A01-4935-AEE9-EA8078111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4922-5058-47DD-8F10-B23A83DEA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E40C-04B0-4986-A9A8-A6167B761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6C16-B4BA-4B91-8166-70497581F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AA35-8797-48FE-B2E0-D003133DC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6550-5A8A-4BEB-961C-F2F8DB6B3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E80B-0EA3-4173-BAA8-0F0054F03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CD25-A064-4E40-9F31-D51ADF7E1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N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Restri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2244600" y="5896080"/>
            <a:ext cx="49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9 Equivalent circuit without vertical cont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654200" y="2692440"/>
            <a:ext cx="60944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Restri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of power is from left to right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vertically up or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057400" y="3657600"/>
            <a:ext cx="5224320" cy="243828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3217320" y="6095880"/>
            <a:ext cx="285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0 Hard-wired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978200" y="1414440"/>
            <a:ext cx="4578120" cy="209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1843200" y="3890880"/>
            <a:ext cx="4846680" cy="2367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2340000" y="6237360"/>
            <a:ext cx="395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1b Circuit properly program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2124720" y="3551400"/>
            <a:ext cx="417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1a Circuit improperly program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Restri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LCs do not allow nesting of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3210480" y="6265800"/>
            <a:ext cx="28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2a Nested cont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384200" y="3711600"/>
            <a:ext cx="68961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Restri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2015640" y="5942160"/>
            <a:ext cx="51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2b Programmed to eliminate nested cont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717560" y="2933640"/>
            <a:ext cx="5461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 Sc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 scan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to right, top to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955800" y="3598920"/>
            <a:ext cx="3341520" cy="239544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1144440" y="6056280"/>
            <a:ext cx="321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6 One scan turns on 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5334120" y="3592440"/>
            <a:ext cx="3292200" cy="24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5389560" y="605628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7 Three scans required to turn on 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STOP But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ing STOP buttons in N.O.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during the 19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 haz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TOP buttons must be wi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switch failure or broken wire will break continuity and turn circuit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l Holding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programming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address used to address holding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s need to wiring holding contacts on motor st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l Holding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output address used for holding contacts (logic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 maintained logically because output point turn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uarantee actual motor starter has been energ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Holding Cont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e holding contacts of motor starter to input modul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at address when programming holding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know starter is actually energ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ummy 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horizontal and vertical contact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ly wire and program STO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load Cont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wire overload contacts to input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 in series with starter c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overload that opens the overload conta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opens starter coil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447920" y="1795320"/>
            <a:ext cx="6748200" cy="4133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1620720" y="5935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9 Overload contacts wired in series with the starter co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LC has maximum network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s number of horizontal and vertical contacts per 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size limits the number of r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reads logic from left to right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vertically either up or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LCs do not allow nested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difference between logical and discrete holding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of connected logic elements that perform a specific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LCs have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logic symbols included on the horizont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parallel lines in a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outputs per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224680" cy="3994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3354120" y="589752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2 Network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Limita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of user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s number of networks or r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ircuit requires more contacts than network a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s split into two r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ung programmed to dummy 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of dummy relay is address of first N.O. contact on second 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239200" y="6066000"/>
            <a:ext cx="539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4 Parallel contacts split into two rungs (networ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743200" y="1541520"/>
            <a:ext cx="4029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534600" y="2611440"/>
            <a:ext cx="308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5 Parallel outpu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774960" y="1655640"/>
            <a:ext cx="4359240" cy="221004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813600" y="488484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6 Multiple 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3809880" y="4087800"/>
            <a:ext cx="427536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Restri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 does not allow programming vertical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006640" y="3581280"/>
            <a:ext cx="5454720" cy="2133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3407400" y="5896080"/>
            <a:ext cx="26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7 Vertical cont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2:47Z</dcterms:modified>
  <cp:revision>78</cp:revision>
  <dc:subject/>
  <dc:title>Chapter N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