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A6D-16AF-4BCC-871F-4EF91F72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FFD-DCC1-4520-81A8-FE680B20E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61FB-CFD0-4465-8071-20267739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F9B-F059-4DDF-8F42-E8028889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D1E-04F2-4778-A1B7-8517C0D3F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DB5-8351-4A79-A128-DDD2DBAF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F5B2-1F51-4C86-B2D2-02DBD437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6EE3-CADC-444E-85B4-F79D4267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6EAC-2CFA-490A-A7CA-1A32B395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C35-2339-4CB7-B694-11D4B98A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ADF-4494-4541-AC63-A9F2D023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FD9-DEAB-410D-91AF-96A2261C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grammable Logic Controller (PL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 or OFF,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imit switches and push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range of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temperature and 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used to control process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for fast, easy changes in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designed to be used by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everal advantages of a programmable logic controller (PLC) over hard-wired rela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our major components of a typical programmable logic controller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fferent types of programm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ble Logic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-state system for control and operation of manufactur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relays, switches,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hard wiring allows frequent changes t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, graphi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operated by plant enginee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operate in an industri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temperature, vibration, 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ually affected by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351760" cy="489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088720" y="6194520"/>
            <a:ext cx="53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1 Comparison of a Computer System and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rocessor “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120 or 240 AC volts to low voltage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separat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19000" y="1828800"/>
            <a:ext cx="77076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935360" y="5486400"/>
            <a:ext cx="47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5 Block diagram of a typical 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, switches,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coils, solenoid valves,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ter desired program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is most comm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6:16Z</dcterms:modified>
  <cp:revision>44</cp:revision>
  <dc:subject/>
  <dc:title>Chapter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