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DD0B-8793-4E21-B3FA-6E6BDCE5F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463C-7859-4442-9352-90E297758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91FE-A4A4-41D4-9557-A75EC3AF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93EE-917C-43FD-B1CB-1CF3BCD45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AC2A-E5A8-4D63-92B0-9B918125F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A0BC-2A4A-45B6-BE5F-B103A6E5C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4E41-6427-4195-BDC3-221A460DC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66BF-3352-41B5-9824-F68633B92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9CF4-A75C-4DAC-9620-3C7333BA3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104C-927F-4F9A-B50E-FC95D62CF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EB8B-E690-4247-A978-DDF6D3128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C282-18F0-4590-B9C8-DC80F46D1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70EC-EA07-4ED0-8698-DBCB4865D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D677-70F2-4274-A94B-D61A8F3CA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F9BB-6A12-4A5A-BEB7-98088A12D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04C7-B177-497F-A086-892D1BBA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9EBC-39CD-4E59-AD2E-5A0F3DFBB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C20A-5420-429A-B1CB-A4C5F89CD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8B85-CCF6-4E2C-AE35-6D4DD71CF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C411-C192-41EA-A5A5-E00E3D5DF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D944-1EB7-4BF7-8156-146BD1BC5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4C59-5B46-4B3C-8F72-76CA67BF9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El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SLC 500, and MicroLogix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block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and accumulate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t time can be programmed with any value from 0 to 32,7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62888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581560" y="5257800"/>
            <a:ext cx="37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5 Allen-Bradley tim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SLC 500, and MicroLogix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bit (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whenever there is a logic path to the timer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bit (D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when timing is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4: default data table file for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C-5, SLC 500, and MicroLogix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27200" y="2819520"/>
            <a:ext cx="7848360" cy="1854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3017160" y="4916520"/>
            <a:ext cx="32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6 Timer storage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, SLC 500, and MicroLogix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ntive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the timer START and STOP without resetting the accumulated value 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767640" cy="3803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1141920" y="5713560"/>
            <a:ext cx="70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2 Programmed retentive timer (RTO) and timing chart (contin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51000" y="1600200"/>
            <a:ext cx="6578640" cy="4307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/>
          <p:cNvSpPr/>
          <p:nvPr/>
        </p:nvSpPr>
        <p:spPr>
          <a:xfrm>
            <a:off x="1404000" y="6040440"/>
            <a:ext cx="68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2 Programmed retentive timer (RTO) and timing chart (cont’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Logix5000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block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ase: always one milli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t and accumulate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t time can be programmed with any value from 0 to 2,147,483,647 (D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additional timer instructions with reset function: TONR, TOFR and R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5"/>
          <p:cNvSpPr/>
          <p:nvPr/>
        </p:nvSpPr>
        <p:spPr>
          <a:xfrm>
            <a:off x="2897640" y="6176880"/>
            <a:ext cx="321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6 Finished TON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325520" y="1235160"/>
            <a:ext cx="65232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cading Ti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two or more timer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xtend the timing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neumatic time delay relay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del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FF del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ce between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 delay ti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entive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o extend the time range of timers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sc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5"/>
          <p:cNvSpPr/>
          <p:nvPr/>
        </p:nvSpPr>
        <p:spPr>
          <a:xfrm>
            <a:off x="3203280" y="620568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27 Cascading Ti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9868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t and accumulated times stored and compared on each processor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ccumulated value equals preset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s can be turned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s can be programmed for ON delay or OFF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s retentive t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c Timers (Gener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pneumatic timing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igures 11-1, 11-2, and 11-3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delay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in contact operation begins after timer coil is tur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imer turned OFF, contacts go back to normal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33720" y="1501920"/>
            <a:ext cx="4752720" cy="1788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857240" y="4068720"/>
            <a:ext cx="5305680" cy="15811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"/>
          <p:cNvSpPr/>
          <p:nvPr/>
        </p:nvSpPr>
        <p:spPr>
          <a:xfrm>
            <a:off x="3048840" y="329076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5 ON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904120" y="586728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6 ON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c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 delay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in contact operation begins after power is removed from relay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imer is turned ON, contacts go back to normal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3049560" y="329076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8 OFF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008160" y="589284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9 OFF delay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98800" y="1477800"/>
            <a:ext cx="4635360" cy="180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1843200" y="4419720"/>
            <a:ext cx="53528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atic Timer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taneous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when coil is energized or deenergized independent of timing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295280" y="4537080"/>
            <a:ext cx="6865920" cy="1295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453400" y="586728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2 Instantaneous contact symb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49360" y="1440000"/>
            <a:ext cx="3090600" cy="152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603360" y="3352680"/>
            <a:ext cx="3154320" cy="1503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tretch/>
        </p:blipFill>
        <p:spPr>
          <a:xfrm>
            <a:off x="5551560" y="1440000"/>
            <a:ext cx="318276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4"/>
          <a:stretch/>
        </p:blipFill>
        <p:spPr>
          <a:xfrm>
            <a:off x="5546880" y="3365640"/>
            <a:ext cx="3192480" cy="1538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5"/>
          <a:stretch/>
        </p:blipFill>
        <p:spPr>
          <a:xfrm>
            <a:off x="2971800" y="4919760"/>
            <a:ext cx="2895480" cy="1425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374400" y="2971800"/>
            <a:ext cx="344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a ON delay timer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5338080" y="297180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b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38200" y="4911840"/>
            <a:ext cx="257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c Thre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6037200" y="4919760"/>
            <a:ext cx="269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d Fiv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2674440" y="6323040"/>
            <a:ext cx="369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3e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6"/>
          <p:cNvSpPr/>
          <p:nvPr/>
        </p:nvSpPr>
        <p:spPr>
          <a:xfrm>
            <a:off x="201600" y="2971800"/>
            <a:ext cx="35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a OFF delay timer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5319000" y="2971800"/>
            <a:ext cx="36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b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38040" y="4910040"/>
            <a:ext cx="278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c The instant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6111720" y="4832280"/>
            <a:ext cx="269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d Thre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2660040" y="6257880"/>
            <a:ext cx="435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1-14e Five seconds after S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pe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38040" y="1425600"/>
            <a:ext cx="3159360" cy="154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21200" y="1371600"/>
            <a:ext cx="294480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338040" y="3382920"/>
            <a:ext cx="3159360" cy="14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5800680" y="3382920"/>
            <a:ext cx="3008520" cy="1390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3265560" y="4919760"/>
            <a:ext cx="262872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1:29Z</dcterms:modified>
  <cp:revision>79</cp:revision>
  <dc:subject/>
  <dc:title>Chapter Elev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