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BBBD-298C-4A27-8D20-00A04485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997-0B90-4D70-8AD2-807F177C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CCF-C04A-425D-B3E8-87EC3EF41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832-B902-49CA-B642-65B2A6F9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BBD-BD45-4B65-A95E-FCA15E5A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5962-8B9D-42DA-8BCB-1ED883A4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303-312E-4AC2-8D60-BBFF4940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9C10-8412-461A-BFC8-15A1EF81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AB2-401E-470E-9E1B-54AE7214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A140-67BE-47B6-8A9D-EC3EEC29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3A6C-1CFD-479C-8C69-B908FF82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35F7-1A3C-4539-9857-5284F190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86C-B581-48D6-9D31-A098F0D1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449-DFE1-4E4A-BE21-4D239D78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34F-4CC9-487E-8DB8-A0E575A4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440-4696-48D4-B3CB-A4CF9AD9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3028-BC51-455D-A039-074271DB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C74-0258-4CB5-925F-09B65AF3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8C5-020F-4037-93F8-81AF28A5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A0F-4663-4B5A-A442-FDE6681E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51C-B401-4F3A-912E-52C943F9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1B8C-9B1F-4E5B-8F7A-2B22BF24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AC4-454B-4541-81A0-72736868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7D26-4FB2-4638-A106-5652D386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1E7A-3658-49AE-9845-E01CAB8F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18C-ED9D-427F-9791-9D228882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972-BCFD-4442-8DB6-4A84587F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1C26-42DB-44F9-88DF-354AD7B8A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(I/O)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ccept digital or ON/OF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status of real-world input device to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a wide range of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multiple input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652040" y="5819760"/>
            <a:ext cx="58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7 Simplified AC input module circuit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6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273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653480" y="5978520"/>
            <a:ext cx="62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3 Simplified circuit for DC input module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28840" y="2990880"/>
            <a:ext cx="6724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-responding DC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high-speed or high volu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coders, proximity switches to count product from high-spe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filtering circuit less than 1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urrent flow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AC or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d by number of devices that can b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62840" cy="281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2446560" y="58197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5 Typical AC output modu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rotection for overcurrent, shorts, or ground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at output point has been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ches prevent wrong type of module from being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AC output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ower transistor to control output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provides current, it is 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receives current, it is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echanical relay used to open or close a set of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s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trol loads larger than the current rating of an individual output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 relay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dry reed relays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ransistor logic I/O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other solid-stat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/O section of a programmabl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P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basic AC and DC input and output module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cal iso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scribe why i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vert analog signals 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by the PL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binary into analo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use: controlling variable speed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57400" y="1530360"/>
            <a:ext cx="5264280" cy="4465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126600" y="617868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9 Analog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emergency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power to the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the PLC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by NEMA standard when operator is exposed to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top relay (ESR)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afe system re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k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for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Noise (Surge Suppr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7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when inductive loads are operated by har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ransient voltages when inductive device switch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to reduce or eliminat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liminate effects of electromagnetic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grounding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metal frame of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hi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ed cable reduces effect of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only be grounded at on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be terminated at the I/O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rack houses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connect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or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or 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nvironmental conditions when installing PL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roper wiring connections for input and output devices and their correspond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a hard-wired emergency-stop function is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I/O shielding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vironmental concerns when installing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voltage or current signal into a logic-level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modules provide ON/OFF status of buttons, switches to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sent to output device based on progra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nit containing processor, I/O section, and 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expansion units with various I/O configu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more capability or different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704960" y="571176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 SLC 500 fixed I/O chassis with optional two-slot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2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than fixed I/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d in a rack or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modules mounted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s mounted remotely from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ers or switches used to configure 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 switches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nnections must have a distinc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mmunicat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52Z</dcterms:modified>
  <cp:revision>64</cp:revision>
  <dc:subject/>
  <dc:title>Chapte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