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F93-8C4D-47DD-919C-80DB37D43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C16-D4D8-4345-94DF-82D43EBF3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44D-3A93-47F8-B7B2-379BC7631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blocks getting smaller? Customer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35E-1F4F-4B24-A55C-4A248D15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49E-8479-4D1D-9390-AEB9560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809-A1B3-4E23-B736-18CE0986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D95-4966-4564-ABD8-3E5032D9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103-AEF2-40F0-AB3D-B7AB80F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A8-8541-4851-A6D7-FD53744F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327-4019-4104-8AD5-6CF0C02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EE5-CAFE-4132-92E7-552ED71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55D-8E3C-40FA-921E-F3A126D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A65-10BE-4797-9F48-449C7BB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F4A-7B69-4EE9-A69F-B39D58C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EF0-3404-4C56-AAA5-E30A768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7"/>
          <p:cNvSpPr/>
          <p:nvPr/>
        </p:nvSpPr>
        <p:spPr>
          <a:xfrm>
            <a:off x="457200" y="76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Demand Response for Energy Aud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64854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FDB-D9B5-4BAE-8E4B-DAA159DB9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Meant by “Smart Grid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rt Grid is a system that uses various technologies to enhance power delivery and use throug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lligent two-way communic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wer generators, suppliers and end-us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all part of the equation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creased communication and information, Smart Grid can monitor activities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al 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exchange data abou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pply and dem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adjust power use to changing load requi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owers customers to choose to control their energy u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rt me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/building/industrial energy management/control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information interfaces and support too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smart_grid_network_image"/>
          <p:cNvPicPr/>
          <p:nvPr/>
        </p:nvPicPr>
        <p:blipFill>
          <a:blip r:embed="rId1"/>
          <a:stretch/>
        </p:blipFill>
        <p:spPr>
          <a:xfrm>
            <a:off x="4495680" y="2527200"/>
            <a:ext cx="457200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alibri"/>
              </a:rPr>
              <a:t>The End-user is the center piece of the Smart 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ext Placeholder 2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281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Response and Smart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 is the primary demand side resource of the Smart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rt Grid provides the capability to better utilize D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rt Grid allows utilities to harness other benefits (ancillary services, etc) of D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rt Grid gives operators increased confidence in DR as a resource due to greater vi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502920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nd Response and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y efficiency provides ongoing energy savings (usually enabled by technology); DR provides event-driven demand load sha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y savings that occur during hours of peak demand can contribute to demand sav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analysis needed to substantiate if DR provides efficiency sav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who participate in EE are generally more likely to participate in DR and vice-ver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practices for program marketing, especially towards residential customers, addresses EE and DR simultaneous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 of Demand Response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Power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#20"/>
          <p:cNvPicPr/>
          <p:nvPr/>
        </p:nvPicPr>
        <p:blipFill>
          <a:blip r:embed="rId1"/>
          <a:stretch/>
        </p:blipFill>
        <p:spPr>
          <a:xfrm>
            <a:off x="685800" y="1905120"/>
            <a:ext cx="6858000" cy="4002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85800" y="579132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Demand Response Research Center, “Demand Response Best Practices, Design Guidelines and Standards, Work Papers”, presentation to California Public Utilities Commission, December 2008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22:23:50Z</dcterms:created>
  <dc:creator>irinak</dc:creator>
  <dc:description/>
  <dc:language>en-US</dc:language>
  <cp:lastModifiedBy>CCSF</cp:lastModifiedBy>
  <dcterms:modified xsi:type="dcterms:W3CDTF">2013-11-22T00:17:00Z</dcterms:modified>
  <cp:revision>34</cp:revision>
  <dc:subject/>
  <dc:title>Engineering 58: Demand Response for Energy Auditors</dc:title>
</cp:coreProperties>
</file>