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F4F2-B965-486F-8556-D2C8E4104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BN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4C7A-B965-4784-B110-81DFE3A84A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CS – Energy Management and Control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B146-CB84-4983-BABE-DEB3744D63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0393-8FC5-40D0-B1BB-D235EFCE7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8F56-0EA7-46D9-9A9A-BF5FF842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FD18-030F-419C-A6F1-36CF9A35F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11EA-136B-43E7-8294-15AEE9CD2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ACFA-EDA5-4251-8024-6A222A8DD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58B0-D70C-424A-89EF-FC24907C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E63F-B441-4A95-A990-F4E17C66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835B-B3C4-49F8-9F25-A76F8AB7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45373-167C-4502-88AE-BCB71280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A1A2-2071-4B9A-873B-61B6C818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FB87-BA4B-4025-A9D6-AA5FA1FD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EA7D-A5E9-4D60-8687-6B5D027F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A315-4E1C-41F1-8B5E-F887C22F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BD20-9C02-4BEF-AB34-500EE931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04BD-4339-4C36-8845-39EC86C3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002B1-43D1-4E4C-98FA-D29758039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42D1-6902-4A35-BA5A-3A968DE3F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7A4A-6088-48C3-A58C-C2EF6A3B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CBF0-EB4F-40EB-A2FD-5A43D851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B974-53D0-455E-9A69-DBE479EC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B77A-0374-474D-9782-84AE5539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2D6D-FC9F-4AB4-823F-0488DE65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2388-054D-4DFC-BA32-2F2C7DE1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CABC-9717-4002-879C-5CB59EC7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BC3D-E28C-4747-ACA0-B515511A9E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7"/>
          <p:cNvSpPr/>
          <p:nvPr/>
        </p:nvSpPr>
        <p:spPr>
          <a:xfrm>
            <a:off x="457200" y="76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Demand Response for Energy Audi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533520" y="45720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traight Connector 8"/>
          <p:cNvSpPr/>
          <p:nvPr/>
        </p:nvSpPr>
        <p:spPr>
          <a:xfrm>
            <a:off x="457200" y="632448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64854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5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5004-525E-4FCB-8EAE-C9354D5213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lementation T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Content Placeholder 11" descr="DR table of strategies.jpg"/>
          <p:cNvPicPr/>
          <p:nvPr/>
        </p:nvPicPr>
        <p:blipFill>
          <a:blip r:embed="rId1"/>
          <a:stretch/>
        </p:blipFill>
        <p:spPr>
          <a:xfrm>
            <a:off x="1981080" y="1295280"/>
            <a:ext cx="482292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rn Off Lights in Specific Z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Content Placeholder 9" descr="DR 050.jpg"/>
          <p:cNvPicPr/>
          <p:nvPr/>
        </p:nvPicPr>
        <p:blipFill>
          <a:blip r:embed="rId1"/>
          <a:stretch/>
        </p:blipFill>
        <p:spPr>
          <a:xfrm>
            <a:off x="457200" y="2874960"/>
            <a:ext cx="4038480" cy="1976400"/>
          </a:xfrm>
          <a:prstGeom prst="rect">
            <a:avLst/>
          </a:prstGeom>
          <a:ln w="0">
            <a:noFill/>
          </a:ln>
        </p:spPr>
      </p:pic>
      <p:pic>
        <p:nvPicPr>
          <p:cNvPr id="114" name="Content Placeholder 10" descr="DR 051.jpg"/>
          <p:cNvPicPr/>
          <p:nvPr/>
        </p:nvPicPr>
        <p:blipFill>
          <a:blip r:embed="rId2"/>
          <a:stretch/>
        </p:blipFill>
        <p:spPr>
          <a:xfrm>
            <a:off x="4648320" y="2862360"/>
            <a:ext cx="4038480" cy="20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mmable Balla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Content Placeholder 9" descr="DR 055.jpg"/>
          <p:cNvPicPr/>
          <p:nvPr/>
        </p:nvPicPr>
        <p:blipFill>
          <a:blip r:embed="rId1"/>
          <a:srcRect l="0" t="2171" r="0" b="0"/>
          <a:stretch/>
        </p:blipFill>
        <p:spPr>
          <a:xfrm>
            <a:off x="685800" y="1828800"/>
            <a:ext cx="717228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epped or Bi-Level Lighting Contro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ontent Placeholder 6" descr="DR 054.jpg"/>
          <p:cNvPicPr/>
          <p:nvPr/>
        </p:nvPicPr>
        <p:blipFill>
          <a:blip r:embed="rId1"/>
          <a:srcRect l="0" t="2019" r="0" b="0"/>
          <a:stretch/>
        </p:blipFill>
        <p:spPr>
          <a:xfrm>
            <a:off x="915840" y="1676520"/>
            <a:ext cx="716148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ddressing Miscellaneous Equip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ntain pum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ti-sweat hea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ctric vehicle charg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ustrial process lo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d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vator cyc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rrigation water pum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and Limit Strate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ny advanced EMCS have the capability to minimize the whole building peak demand from exceeding a pre‐specified peak demand limit.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emand limit strateg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s a supervisory control algorithm that manages a combination of single or multiple DR control strategie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the whole building demand exceeds a warning level, the EMCS deploys strategy #1. If the whole building demand still exceeds the warning level, strategy #2 is deployed, and so on. Thus, whenever the demand hits the warning level, the whole building demand is suppressed by a combination of sequential strategi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ategies that have a lower impact on occupants’ comfort should come first, and strategies that have more impact should come late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f the EMCS has a function to develop dynamic demand limit set-points based on the baseline, the demand limit target can be set as shown below, so that the desired demand savings can always be achieved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[Demand limit target] = [Baseline] – [Desired demand savings]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lobal Temperature Adjust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Content Placeholder 6" descr="DR_033.jpg"/>
          <p:cNvPicPr/>
          <p:nvPr/>
        </p:nvPicPr>
        <p:blipFill>
          <a:blip r:embed="rId1"/>
          <a:srcRect l="0" t="1171" r="0" b="0"/>
          <a:stretch/>
        </p:blipFill>
        <p:spPr>
          <a:xfrm>
            <a:off x="1905120" y="1219320"/>
            <a:ext cx="548640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pply Air Temperature Incre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Content Placeholder 6" descr="DR _041.jpg"/>
          <p:cNvPicPr/>
          <p:nvPr/>
        </p:nvPicPr>
        <p:blipFill>
          <a:blip r:embed="rId1"/>
          <a:srcRect l="0" t="1428" r="0" b="0"/>
          <a:stretch/>
        </p:blipFill>
        <p:spPr>
          <a:xfrm>
            <a:off x="1523880" y="1676520"/>
            <a:ext cx="6359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illed Water Temperature Incre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Content Placeholder 6" descr="DR _044.jpg"/>
          <p:cNvPicPr/>
          <p:nvPr/>
        </p:nvPicPr>
        <p:blipFill>
          <a:blip r:embed="rId1"/>
          <a:srcRect l="0" t="2017" r="0" b="0"/>
          <a:stretch/>
        </p:blipFill>
        <p:spPr>
          <a:xfrm>
            <a:off x="1638360" y="2438280"/>
            <a:ext cx="6286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oling Valve Lim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Content Placeholder 6" descr="DR 043.jpg"/>
          <p:cNvPicPr/>
          <p:nvPr/>
        </p:nvPicPr>
        <p:blipFill>
          <a:blip r:embed="rId1"/>
          <a:srcRect l="0" t="1272" r="0" b="0"/>
          <a:stretch/>
        </p:blipFill>
        <p:spPr>
          <a:xfrm>
            <a:off x="1716120" y="1905120"/>
            <a:ext cx="571176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uct Static Pressure Decre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Content Placeholder 6" descr="DR _039.jpg"/>
          <p:cNvPicPr/>
          <p:nvPr/>
        </p:nvPicPr>
        <p:blipFill>
          <a:blip r:embed="rId1"/>
          <a:srcRect l="0" t="1160" r="0" b="0"/>
          <a:stretch/>
        </p:blipFill>
        <p:spPr>
          <a:xfrm>
            <a:off x="1730520" y="2514600"/>
            <a:ext cx="568296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iller Demand Lim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Content Placeholder 10" descr="DR _047.jpg"/>
          <p:cNvPicPr/>
          <p:nvPr/>
        </p:nvPicPr>
        <p:blipFill>
          <a:blip r:embed="rId1"/>
          <a:stretch/>
        </p:blipFill>
        <p:spPr>
          <a:xfrm>
            <a:off x="4473720" y="1905120"/>
            <a:ext cx="4593960" cy="3581280"/>
          </a:xfrm>
          <a:prstGeom prst="rect">
            <a:avLst/>
          </a:prstGeom>
          <a:ln w="0">
            <a:noFill/>
          </a:ln>
        </p:spPr>
      </p:pic>
      <p:pic>
        <p:nvPicPr>
          <p:cNvPr id="107" name="Content Placeholder 12" descr="DR_045.jpg"/>
          <p:cNvPicPr/>
          <p:nvPr/>
        </p:nvPicPr>
        <p:blipFill>
          <a:blip r:embed="rId2"/>
          <a:stretch/>
        </p:blipFill>
        <p:spPr>
          <a:xfrm>
            <a:off x="76320" y="1903320"/>
            <a:ext cx="4343400" cy="36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n VFD Lim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Content Placeholder 9" descr="DR _040.jpg"/>
          <p:cNvPicPr/>
          <p:nvPr/>
        </p:nvPicPr>
        <p:blipFill>
          <a:blip r:embed="rId1"/>
          <a:srcRect l="0" t="1598" r="0" b="0"/>
          <a:stretch/>
        </p:blipFill>
        <p:spPr>
          <a:xfrm>
            <a:off x="1371600" y="1219320"/>
            <a:ext cx="6675480" cy="46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n Quantity 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Content Placeholder 6" descr="DR  042.jpg"/>
          <p:cNvPicPr/>
          <p:nvPr/>
        </p:nvPicPr>
        <p:blipFill>
          <a:blip r:embed="rId1"/>
          <a:srcRect l="0" t="436" r="0" b="0"/>
          <a:stretch/>
        </p:blipFill>
        <p:spPr>
          <a:xfrm>
            <a:off x="1295280" y="1752480"/>
            <a:ext cx="6637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6T22:23:50Z</dcterms:created>
  <dc:creator>irinak</dc:creator>
  <dc:description/>
  <dc:language>en-US</dc:language>
  <cp:lastModifiedBy>CCSF</cp:lastModifiedBy>
  <dcterms:modified xsi:type="dcterms:W3CDTF">2013-11-22T00:21:55Z</dcterms:modified>
  <cp:revision>34</cp:revision>
  <dc:subject/>
  <dc:title>Engineering 58: Demand Response for Energy Auditors</dc:title>
</cp:coreProperties>
</file>