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D5312-DB56-4C83-856C-224FCD1E8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BNL</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F2410-BD33-4F0C-977A-E467B16371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ess of commissioning should be applied to each phase of DR control strategy application, including planning, installation, and implementation. This will ensure the goal of DR control, to maximize demand savings while minimizing impact to occupants, is achieved. This process should be supervised by a “coordinator.” A “coordinator” can be a controls contractor, a building facility management team, or a third‐party agent. The following steps should be taken to achieve successful DR strategy operation.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76AB-4225-4C75-B964-3EE1947DCC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BCE10-59C4-4BDE-B767-B7EE18BA6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15DE9-7BDA-4B3A-944F-528E520DE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6D243-6B08-4945-AF3A-18B673645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37CC0-6213-4EE9-B7FB-3A48146D9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43BE97-5A11-46E9-B410-6233B29280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D4D49-F289-4626-AC4A-7CCF5EFFC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20F4C-49BF-4E92-B6FF-C021F0BFB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1EE99-BD49-45D9-813A-529A8EC37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7568E-B848-4DAD-A26A-79F12733C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2BAB8-E17E-469E-B86C-99FA2FBCF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95ABF-FDDE-4B02-AADF-AB4B4553F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2B999-C3CA-435E-B48D-4E5F58396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CBD89-5EEC-4AB5-9CEF-1DF85EFC8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69B2E-EF84-487B-9D82-E9019302D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91895-DA0B-4DD1-A885-94FFCA352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6E34F-80F9-498B-90DE-D234621838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DEB1C9-B645-4A6B-B8EF-A17275CB9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E9F7A-3D92-4CF6-A441-7392281E5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BB60C-F781-46FA-819B-5455FA198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D3DAE-2BB2-42AD-88EA-67AAC3E19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33808-7388-459E-B4E5-1A36A1A80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00FB1-38F4-4351-988C-0C5308B6A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5A878-2100-4410-94DA-29A69C258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E9424-8F15-4DCE-85EA-2A07A1AAE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71DA-8634-4D22-BE50-4BFDB0A39F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7"/>
          <p:cNvSpPr/>
          <p:nvPr/>
        </p:nvSpPr>
        <p:spPr>
          <a:xfrm>
            <a:off x="457200" y="76320"/>
            <a:ext cx="4495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Demand Response for Energy Auditors</a:t>
            </a:r>
            <a:endParaRPr b="0" lang="en-US" sz="1800" spc="-1" strike="noStrike">
              <a:solidFill>
                <a:srgbClr val="000000"/>
              </a:solidFill>
              <a:latin typeface="Calibri"/>
            </a:endParaRPr>
          </a:p>
        </p:txBody>
      </p:sp>
      <p:sp>
        <p:nvSpPr>
          <p:cNvPr id="42" name="Straight Connector 7"/>
          <p:cNvSpPr/>
          <p:nvPr/>
        </p:nvSpPr>
        <p:spPr>
          <a:xfrm>
            <a:off x="533520" y="45720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 name="Straight Connector 8"/>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6"/>
          <p:cNvSpPr/>
          <p:nvPr/>
        </p:nvSpPr>
        <p:spPr>
          <a:xfrm>
            <a:off x="64854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8</a:t>
            </a:r>
            <a:endParaRPr b="0" lang="en-US" sz="1800" spc="-1" strike="noStrike">
              <a:solidFill>
                <a:srgbClr val="000000"/>
              </a:solidFill>
              <a:latin typeface="Calibri"/>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7AC6-4B94-48EA-A4CA-CD252EFB9C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o you know if you’re a good candidate?</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 an audi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ine energy loa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ermine whether your facility’s peak demand coincides with the utility’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your business flexi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ep 8: Post Installation Tes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the DR strategy installation is completed, the facility manager tests the strategies to </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 confirm that the strategies work correctly as specified in the sequence of operation, and </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2) verify the demand savings potential as estimated in the calculation and pre‐installation test. </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firmation of correct operation is more critical, and may be done on a cool day with a shorter duration than actual DR eve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MCS trend data should be collected during the tes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the test, the coordinator should check the EMCS data, especially for the modified parameters, to see if the controls change occurred as planne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did not occur, the EMCS programming should be revisited.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ep 9: M&amp;V for DR Event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surement and verification efforts should be continued by the coordinator during the actual curtailment as well.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post‐installation test was conducted before the hot summer season, the reduction in service can be larger and the demand savings can be widely different during the real curtailment than in the tes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R operation should be carefully reviewed especially until the first or second curtailment is completed.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acility manager should calibrate the strategies to maximize demand savings while minimizing impact to occupant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DR a good option?</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ample question set to determine if you are a good candidat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your electrical peak demand within the range specified by Util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you have large loads that can be curtaile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you have non-essential loads (fountains, lights in unoccupied areas,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 you change lighting levels or temperature settings without disrupting busines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you have a building automation system (BAS) that controls significant portions of lighting, HVAC, or process equipment?</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f you answer yes to some of the questions, DR may be a good revenue generating opportunity</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Implementation Issues</a:t>
            </a:r>
            <a:endParaRPr b="0" lang="en-US" sz="4400" spc="-1" strike="noStrike">
              <a:solidFill>
                <a:srgbClr val="000000"/>
              </a:solidFill>
              <a:latin typeface="Calibri"/>
            </a:endParaRPr>
          </a:p>
        </p:txBody>
      </p:sp>
      <p:sp>
        <p:nvSpPr>
          <p:cNvPr id="9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R HVAC Decision Tree</a:t>
            </a:r>
            <a:r>
              <a:rPr b="1" lang="en-US" sz="2200" spc="-1" strike="noStrike">
                <a:solidFill>
                  <a:srgbClr val="000000"/>
                </a:solidFill>
                <a:latin typeface="Calibri"/>
              </a:rPr>
              <a:t>	</a:t>
            </a:r>
            <a:r>
              <a:rPr b="1"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99" name="Content Placeholder 12" descr="DR HVAC Dec tree.jpg"/>
          <p:cNvPicPr/>
          <p:nvPr/>
        </p:nvPicPr>
        <p:blipFill>
          <a:blip r:embed="rId1"/>
          <a:stretch/>
        </p:blipFill>
        <p:spPr>
          <a:xfrm>
            <a:off x="282600" y="2209680"/>
            <a:ext cx="3614760" cy="3195720"/>
          </a:xfrm>
          <a:prstGeom prst="rect">
            <a:avLst/>
          </a:prstGeom>
          <a:ln w="0">
            <a:noFill/>
          </a:ln>
        </p:spPr>
      </p:pic>
      <p:sp>
        <p:nvSpPr>
          <p:cNvPr id="10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R Lighting Decision Tree</a:t>
            </a:r>
            <a:endParaRPr b="0" lang="en-US" sz="2400" spc="-1" strike="noStrike">
              <a:solidFill>
                <a:srgbClr val="000000"/>
              </a:solidFill>
              <a:latin typeface="Calibri"/>
            </a:endParaRPr>
          </a:p>
        </p:txBody>
      </p:sp>
      <p:pic>
        <p:nvPicPr>
          <p:cNvPr id="101" name="Content Placeholder 13" descr="DR lighitng tree.jpg"/>
          <p:cNvPicPr/>
          <p:nvPr/>
        </p:nvPicPr>
        <p:blipFill>
          <a:blip r:embed="rId2"/>
          <a:stretch/>
        </p:blipFill>
        <p:spPr>
          <a:xfrm>
            <a:off x="4775040" y="2209680"/>
            <a:ext cx="3781440" cy="306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R Strategy Development and Commissioning</a:t>
            </a:r>
            <a:endParaRPr b="0" lang="en-US" sz="40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1: Initial site inspec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e beginning of the DR strategy planning, the coordinator collects all the necessary information on the site process to minimize redundancy. The necessary data include building type, building floor area, HVAC and lighting system profiles, EMCS profiles, and historical electricity demand data.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2: DR strategy sequence of operatio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coordination with the coordinator, facility managers, controls contactors, and other key personnel, DR strategies are planned with respect to system applicability, impact to occupants, desired demand savings, and other relevant factor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ch planned DR strategy needs to be written as a detailed control sequence of operation so that controls contractors can understand exactly what they need to do with EMCS programming and additional hardware installation if necessary.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3: Demand Savings potential estimati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ordinator makes a preliminary estimate of demand saving potential to estimate the benefits of participating in the DR program and to justify the project cost. While estimation of demand savings from lighting DR strategies can be relatively simple, demand savings from HVAC DR strategies are complicated by various factors. Development of a simplified simulation tool for demand savings estimation from different DR strategies is desired.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ep 4: Performance monitoring plan</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ong with the DR strategy sequence of operation, EMCS data collection should be also planned in advance by the facility management team. EMCS trend data are helpful to evaluate the success of DR strategies. Adjacent table lists EMCS data points that are recommended for collection for DR strategy diagnosi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07" name="Content Placeholder 8" descr="DR 062.jpg"/>
          <p:cNvPicPr/>
          <p:nvPr/>
        </p:nvPicPr>
        <p:blipFill>
          <a:blip r:embed="rId1"/>
          <a:stretch/>
        </p:blipFill>
        <p:spPr>
          <a:xfrm>
            <a:off x="4495680" y="1523880"/>
            <a:ext cx="4419720" cy="451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 5:  Proof‐of‐concept manual test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is recommended that facility management team perform a manual DR strategy demonstration test as a proof‐of‐concept.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oordinator should supervise the test and analyze the trend data after the test. If the demand savings by the DR strategies are weather dependent, such a test should preferably be conducted on a warm day that can represent a DR event day (at least 85°F or higher).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operational problems or complaints occur even though the sequence of operation is successful, the strategies should be reconsidered.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est results should be compared with the preliminary demand savings potential estimation.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re is difficulty conducting both a demand savings estimation and a manual test, at least one of them should be performed (manual test is preferred).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stacles to a manual test include seasonal weather conditions, concerns about distracting occupants without a real DR situation, and lack of sophisticated controls to perform a manual test (e.g. hundreds of zone set-points cannot be changed simultaneously without automation). </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6:DR Strategy Proposal</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ed on the DR strategy sequence of operation developed in the previous step, the controls contractor develops a project proposal for the client.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7: DR Strategy Installati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project proposal is accepted by the facility manager, the controls contractor starts the EMCS programming and hardware installation as specified in the proposal.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6T22:23:50Z</dcterms:created>
  <dc:creator>irinak</dc:creator>
  <dc:description/>
  <dc:language>en-US</dc:language>
  <cp:lastModifiedBy>CCSF</cp:lastModifiedBy>
  <dcterms:modified xsi:type="dcterms:W3CDTF">2013-11-22T00:20:08Z</dcterms:modified>
  <cp:revision>34</cp:revision>
  <dc:subject/>
  <dc:title>Engineering 58: Demand Response for Energy Auditors</dc:title>
</cp:coreProperties>
</file>