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B3637-BDA2-4E00-8256-B726362CE78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7B5C3-97C9-4DFA-9CB6-FABDB38BE0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5BE6B-4FD3-4993-ADC1-F9E847943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1CF29-0A50-4DDA-8BB9-19F699BF5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8301C1-F622-45CB-8C79-CB01E04CC9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EE0CEB-8599-47D8-ACFA-84525A1B2A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59EF2E-8E5D-493F-9758-2A5B38C018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DF0259-8BAA-44C5-B616-E85FA44DA1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55807C-B079-4530-82E8-7D404BB2B1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359578-4610-4F34-98D7-89B1099F90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F430D9-D728-4ED1-A116-43B59E05B8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F7438B-C239-44EB-8061-379C23B25A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50C29A-38FA-453B-A2AB-86B6797E96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3A465D-C6D7-4D55-A6A2-8B4EA706BA3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D5AC7-7378-430B-ADE3-C016BF769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14D3A8-2F56-4C13-A627-811F17D3FB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E24771-794F-4B4B-A04C-90549DEBC5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8B7D85-F3D8-4825-A617-74EEC134F4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60B4FC-5052-46E6-A9D7-E7458A03BE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0529B9-9267-4AED-AF34-24303F0B63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F2B8A1-8DBF-4CAA-89C3-39DC14696A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6E4C25-42B7-47FF-9A2F-4B7B528396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6D28CF-7A1E-4CAD-B90A-7D3C7AD2C4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3EA18E-4FA2-4AD6-BD85-FAE9EA4432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07C4CA-5AE6-484D-954A-873C5A26BF6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6FC01-5B9E-44F9-964A-B0E2FFA0E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EA1682B-0157-4705-9343-6BFB7531BA5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8F1FDA-EADC-4651-A8FD-BE85B4966A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0B6C9-DB4D-4137-BE14-FE41FE902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D2229-AA20-45BB-B114-BB992E99A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7F19E-F5D4-4D5A-BDCA-87B03C14F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C41C2-492D-4F22-9167-080799765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2E824-2CD4-415D-8B25-83AAE3BA2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6ACF8-166D-4F54-8CD0-8DC9867BA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55127-2CC9-4F93-93E2-DE66F73A1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0A5AD-7411-4A30-A346-A51DD4841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1222A-4033-42EE-BE66-F2A65862B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1C670-397B-49BC-874D-69A5AA3B4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B7505B-37C9-4F06-9014-DD91432CD1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37C68-76DD-41B1-8FFA-578171D3D4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FB4F67-A9D2-4BCE-B76D-AA094B3BA2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E6E77B-AA1B-4BCE-8C46-68905A334D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BCEA9F-E0BB-4849-991F-F1BBCEAAF2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9E968C-5335-4BC0-860E-39D48E7842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641F2-F8D6-4D02-A44E-B2D63B6BD1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B5D10-AE6D-4E28-A848-E4539D9DD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DBD5F5-5393-44FF-BD37-358063235A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4A1E12-758F-4916-A94A-B04806C60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D9602-F670-4BB0-A919-4712952EA7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CCBA2C-566B-479F-A5E3-1798448F74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1DFFB6-4414-4D07-8741-FD71DF2349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2ED31F-DD2E-451D-B418-5B398D01C3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1BF4FF-72CB-444F-B781-6AB803E4C5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5EDEC2-0B65-43AB-893A-5C8F642A31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02B8A5-13D6-4B1F-95CC-EE7D1506AA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92BE18-54FF-459F-876C-E4D9E75245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A8BE7-43EC-4905-8F52-4C5618F3C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8AF970-37BB-4499-A7A3-CCA036C353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9917D5-7AD7-44E8-A490-E9E9001A07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9FEB8E-00CE-4E8E-84AE-F643255323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C0358E-9A01-4437-8E38-545473C9DC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F0EF11-F805-4AF9-B521-2A85BC5177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8EFBB4-800C-4711-BA8D-6EC9BBB624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57E5D8-4537-42B9-8389-41BD4E9036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FA960F-4B88-44CC-98F8-68B6D156C4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637A7F-C0E8-4D45-AFEC-E06965ACE6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E8E674-828F-4470-8F70-768EA401F9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A108B-7642-4985-B411-552135018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F85197-89B4-45AC-BCC9-48E69ADDED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8916E0-A425-4A45-A91B-D0B2B19923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865D0F-9D85-4B9A-9358-0E0E7A5EF6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BFB881-3D94-4D11-9DDF-4713698A79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77A4E8-EA12-47F6-A445-3AB8B75294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6C13A4-B477-43F8-8F29-0A2F31FF90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4DCAEA-0B89-4CDF-8FFE-9522473215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64797C-96EF-494F-B5B4-DC8F102EA9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FEA66F-C15E-4BA6-B989-8A185CE36D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B57C51-D049-4AD8-9DDB-284E8FE7A2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A36B0-3B7F-480A-8E51-958187EC5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D7C535-EE09-4FC6-ABDD-4B56A697BA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C5ECBC-5C8B-4027-AFB4-8C80787508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EF9516-247D-4516-ABF3-337B175523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E25929-876E-4F0E-86DF-04A2317850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1B52F5-AF4A-4281-90EC-27EE0DF1AC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9E74EA-0A87-4E78-B598-8A0843797C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317497-C972-4E63-984D-3F12E8AA6C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1D0DE8-2684-4CE9-AF51-BF14447661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B7A572-218B-4B01-BC82-9B910BCD3A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AFD2DB-0A86-4D77-B2A4-769563C39D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F4F9F-2593-4977-B7AF-E055FAD11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7B24C0-29B9-4B02-9293-2A214EC8FB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986814-5DC7-4207-98C3-50EC7254EA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FE865B-4DEC-4E6B-8000-5BA5896E62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059245-0723-4390-804E-C073193CA1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EBC5D3-8AFF-47F5-8769-DCF28C0BF5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3DD17C-8E57-42D2-8872-2920401B76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C53877-B8F8-4E81-9EBF-F21B4253D1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1D94DC-93EA-4365-9AAB-AE93E477E3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F47A9F-9BBA-475F-8F37-951D2BA50A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EB04B2-A749-4B65-A36D-F4BB8D0A50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8F783-78F0-44FA-8CD2-FE51A5F1C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71C721-54CE-4A0B-887C-579330B6FB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C20D6D-0948-4B8F-A76A-DCEA338924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220366-AADE-471C-845A-5D0BADD81F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5DAE95-6E99-4939-9156-1F357BF0A9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880BD6-36D7-4641-989D-FEFF60F4A0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BE77C0-772E-4C2C-8250-00681C399C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BB6173-B96A-4BC6-B494-66FF4021E6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5332BC-7EFA-4581-B91F-CC16700164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EBA491-9876-4115-9144-C4055BE43F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036181-EED5-41D7-827C-7E9F3F87FF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B5E77-E99A-4CD7-997F-C6B3E66DC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4748F8-7410-4DD1-92C4-9AA9A47F71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6C8DF5-602C-4D6D-BFF0-C238101C31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10C984-0FEB-486B-80EE-6AD1A4913E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DA4F11-AFC0-43A4-BD1E-BB13727CAC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48EB00-8A1D-4778-AB50-9CDDDA26D6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252CD9-755C-477B-B2A5-737ACC64CF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3C33A3-12D1-422E-ADA5-AD13DDD5AB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BDA234-03BE-4101-9F75-3615445A12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483EED-AA25-406A-BA95-2602653E6C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110342-9187-4B97-B262-9114879539A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759B-E4E3-4BED-8B96-DAAD6D9ED2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Arial"/>
            </a:endParaRPr>
          </a:p>
        </p:txBody>
      </p:sp>
      <p:sp>
        <p:nvSpPr>
          <p:cNvPr id="399"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2</a:t>
            </a:r>
            <a:endParaRPr b="0" lang="en-US" sz="1800" spc="-1" strike="noStrike">
              <a:solidFill>
                <a:srgbClr val="000000"/>
              </a:solidFill>
              <a:latin typeface="Arial"/>
            </a:endParaRPr>
          </a:p>
        </p:txBody>
      </p:sp>
      <p:sp>
        <p:nvSpPr>
          <p:cNvPr id="400" name="Straight Connector 8"/>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Straight Connector 9"/>
          <p:cNvSpPr/>
          <p:nvPr/>
        </p:nvSpPr>
        <p:spPr>
          <a:xfrm>
            <a:off x="609480" y="624852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405"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406"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1C2F-6AD0-405D-9D38-02ABCF1CA18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533520" y="45720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Straight Connector 7"/>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3</a:t>
            </a:r>
            <a:endParaRPr b="0" lang="en-US" sz="1800" spc="-1" strike="noStrike">
              <a:solidFill>
                <a:srgbClr val="000000"/>
              </a:solidFill>
              <a:latin typeface="Arial"/>
            </a:endParaRPr>
          </a:p>
        </p:txBody>
      </p:sp>
      <p:sp>
        <p:nvSpPr>
          <p:cNvPr id="44" name="TextBox 7"/>
          <p:cNvSpPr/>
          <p:nvPr/>
        </p:nvSpPr>
        <p:spPr>
          <a:xfrm>
            <a:off x="457200" y="16344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Utility Rates, Benchmarking and Financial</a:t>
            </a: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5B46-52CF-4A99-BB57-EFFB92537B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4</a:t>
            </a:r>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2DEB-6ED6-4A11-B07A-AE7F74E203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3</a:t>
            </a:r>
            <a:endParaRPr b="0" lang="en-US" sz="1800" spc="-1" strike="noStrike">
              <a:solidFill>
                <a:srgbClr val="000000"/>
              </a:solidFill>
              <a:latin typeface="Arial"/>
            </a:endParaRPr>
          </a:p>
        </p:txBody>
      </p:sp>
      <p:sp>
        <p:nvSpPr>
          <p:cNvPr id="129" name="Straight Connector 11"/>
          <p:cNvSpPr/>
          <p:nvPr/>
        </p:nvSpPr>
        <p:spPr>
          <a:xfrm>
            <a:off x="533520" y="45720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Straight Connector 12"/>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Box 7"/>
          <p:cNvSpPr/>
          <p:nvPr/>
        </p:nvSpPr>
        <p:spPr>
          <a:xfrm>
            <a:off x="457200" y="1522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Utility Rates, Benchmarking and Financial</a:t>
            </a: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059E-8BBD-4140-A54C-D38FD272010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3</a:t>
            </a:r>
            <a:endParaRPr b="0" lang="en-US" sz="1800" spc="-1" strike="noStrike">
              <a:solidFill>
                <a:srgbClr val="000000"/>
              </a:solidFill>
              <a:latin typeface="Arial"/>
            </a:endParaRPr>
          </a:p>
        </p:txBody>
      </p:sp>
      <p:sp>
        <p:nvSpPr>
          <p:cNvPr id="174" name="Straight Connector 7"/>
          <p:cNvSpPr/>
          <p:nvPr/>
        </p:nvSpPr>
        <p:spPr>
          <a:xfrm>
            <a:off x="533520" y="5335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Straight Connector 8"/>
          <p:cNvSpPr/>
          <p:nvPr/>
        </p:nvSpPr>
        <p:spPr>
          <a:xfrm>
            <a:off x="533520" y="632448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Box 7"/>
          <p:cNvSpPr/>
          <p:nvPr/>
        </p:nvSpPr>
        <p:spPr>
          <a:xfrm>
            <a:off x="457200" y="2286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Utility Rates, Benchmarking and Financial</a:t>
            </a: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18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1F9E-D937-4B2E-9ED8-DFAEDC52A1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3</a:t>
            </a:r>
            <a:endParaRPr b="0" lang="en-US" sz="1800" spc="-1" strike="noStrike">
              <a:solidFill>
                <a:srgbClr val="000000"/>
              </a:solidFill>
              <a:latin typeface="Arial"/>
            </a:endParaRPr>
          </a:p>
        </p:txBody>
      </p:sp>
      <p:sp>
        <p:nvSpPr>
          <p:cNvPr id="219" name="Straight Connector 6"/>
          <p:cNvSpPr/>
          <p:nvPr/>
        </p:nvSpPr>
        <p:spPr>
          <a:xfrm>
            <a:off x="533520" y="60948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Straight Connector 7"/>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Box 7"/>
          <p:cNvSpPr/>
          <p:nvPr/>
        </p:nvSpPr>
        <p:spPr>
          <a:xfrm>
            <a:off x="457200" y="2286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Utility Rates, Benchmarking and Financial</a:t>
            </a: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225"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226"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056C-B99A-448D-A39B-1DE9A0FF03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TextBox 7"/>
          <p:cNvSpPr/>
          <p:nvPr/>
        </p:nvSpPr>
        <p:spPr>
          <a:xfrm>
            <a:off x="533520" y="2286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Arial"/>
            </a:endParaRPr>
          </a:p>
        </p:txBody>
      </p:sp>
      <p:sp>
        <p:nvSpPr>
          <p:cNvPr id="264"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3</a:t>
            </a:r>
            <a:endParaRPr b="0" lang="en-US" sz="1800" spc="-1" strike="noStrike">
              <a:solidFill>
                <a:srgbClr val="000000"/>
              </a:solidFill>
              <a:latin typeface="Arial"/>
            </a:endParaRPr>
          </a:p>
        </p:txBody>
      </p:sp>
      <p:sp>
        <p:nvSpPr>
          <p:cNvPr id="265" name="Straight Connector 9"/>
          <p:cNvSpPr/>
          <p:nvPr/>
        </p:nvSpPr>
        <p:spPr>
          <a:xfrm>
            <a:off x="533520" y="60948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Straight Connector 10"/>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27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27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FC89-1876-43DC-A18B-DD68B7B47F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3</a:t>
            </a:r>
            <a:endParaRPr b="0" lang="en-US" sz="1800" spc="-1" strike="noStrike">
              <a:solidFill>
                <a:srgbClr val="000000"/>
              </a:solidFill>
              <a:latin typeface="Arial"/>
            </a:endParaRPr>
          </a:p>
        </p:txBody>
      </p:sp>
      <p:sp>
        <p:nvSpPr>
          <p:cNvPr id="309" name="Straight Connector 9"/>
          <p:cNvSpPr/>
          <p:nvPr/>
        </p:nvSpPr>
        <p:spPr>
          <a:xfrm>
            <a:off x="533520" y="5335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Straight Connector 10"/>
          <p:cNvSpPr/>
          <p:nvPr/>
        </p:nvSpPr>
        <p:spPr>
          <a:xfrm>
            <a:off x="457200" y="624852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Box 7"/>
          <p:cNvSpPr/>
          <p:nvPr/>
        </p:nvSpPr>
        <p:spPr>
          <a:xfrm>
            <a:off x="457200" y="1522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Utility Rates, Benchmarking and Financial</a:t>
            </a:r>
            <a:endParaRPr b="0" lang="en-US" sz="1800" spc="-1" strike="noStrike">
              <a:solidFill>
                <a:srgbClr val="000000"/>
              </a:solidFill>
              <a:latin typeface="Arial"/>
            </a:endParaRPr>
          </a:p>
        </p:txBody>
      </p:sp>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31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31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7EF4-E4B3-4663-89AA-19BA5A3907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Arial"/>
            </a:endParaRPr>
          </a:p>
        </p:txBody>
      </p:sp>
      <p:sp>
        <p:nvSpPr>
          <p:cNvPr id="354"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2</a:t>
            </a:r>
            <a:endParaRPr b="0" lang="en-US" sz="1800" spc="-1" strike="noStrike">
              <a:solidFill>
                <a:srgbClr val="000000"/>
              </a:solidFill>
              <a:latin typeface="Arial"/>
            </a:endParaRPr>
          </a:p>
        </p:txBody>
      </p:sp>
      <p:sp>
        <p:nvSpPr>
          <p:cNvPr id="355" name="Straight Connector 8"/>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Straight Connector 9"/>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6/2013</a:t>
            </a:r>
            <a:endParaRPr b="0" lang="en-US" sz="1200" spc="-1" strike="noStrike">
              <a:solidFill>
                <a:srgbClr val="000000"/>
              </a:solidFill>
              <a:latin typeface="Times New Roman"/>
            </a:endParaRPr>
          </a:p>
        </p:txBody>
      </p:sp>
      <p:sp>
        <p:nvSpPr>
          <p:cNvPr id="36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AFT -- DO NOT QUOTE OR CIRCULATE</a:t>
            </a:r>
            <a:endParaRPr b="0" lang="en-US" sz="1200" spc="-1" strike="noStrike">
              <a:solidFill>
                <a:srgbClr val="000000"/>
              </a:solidFill>
              <a:latin typeface="Times New Roman"/>
            </a:endParaRPr>
          </a:p>
        </p:txBody>
      </p:sp>
      <p:sp>
        <p:nvSpPr>
          <p:cNvPr id="36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384D-E1E5-4489-8B35-67EC723815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txBox="1"/>
          <p:nvPr/>
        </p:nvSpPr>
        <p:spPr>
          <a:xfrm>
            <a:off x="457200" y="837720"/>
            <a:ext cx="8229600" cy="5288040"/>
          </a:xfrm>
          <a:prstGeom prst="rect">
            <a:avLst/>
          </a:prstGeom>
          <a:noFill/>
          <a:ln w="0">
            <a:noFill/>
          </a:ln>
        </p:spPr>
        <p:txBody>
          <a:bodyPr anchor="t">
            <a:normAutofit/>
          </a:bodyPr>
          <a:p>
            <a:pPr marL="514440" indent="-514440">
              <a:spcBef>
                <a:spcPts val="799"/>
              </a:spcBef>
              <a:buClr>
                <a:srgbClr val="002060"/>
              </a:buClr>
              <a:buFont typeface="Calibri"/>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Benchmarking</a:t>
            </a:r>
            <a:endParaRPr b="0" lang="en-US" sz="32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Calibri"/>
              </a:rPr>
              <a:t>The goal of benchmarking</a:t>
            </a:r>
            <a:endParaRPr b="0" lang="en-US" sz="28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Calibri"/>
              </a:rPr>
              <a:t>Energy Star Portfolio Manager</a:t>
            </a:r>
            <a:endParaRPr b="0" lang="en-US" sz="28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Calibri"/>
              </a:rPr>
              <a:t>Other benchmarking tools</a:t>
            </a:r>
            <a:endParaRPr b="0" lang="en-US" sz="2800" spc="-1" strike="noStrike">
              <a:solidFill>
                <a:srgbClr val="000000"/>
              </a:solidFill>
              <a:latin typeface="Calibri"/>
            </a:endParaRPr>
          </a:p>
          <a:p>
            <a:pPr lvl="1" marL="971640" indent="-514440">
              <a:spcBef>
                <a:spcPts val="700"/>
              </a:spcBef>
              <a:buClr>
                <a:srgbClr val="95b3d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Calibri"/>
              </a:rPr>
              <a:t>Benchmarking proj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Performance Scores</a:t>
            </a:r>
            <a:endParaRPr b="0" lang="en-US" sz="4400" spc="-1" strike="noStrike">
              <a:solidFill>
                <a:srgbClr val="000000"/>
              </a:solidFill>
              <a:latin typeface="Calibri"/>
            </a:endParaRPr>
          </a:p>
        </p:txBody>
      </p:sp>
      <p:sp>
        <p:nvSpPr>
          <p:cNvPr id="468" name=""/>
          <p:cNvSpPr txBox="1"/>
          <p:nvPr/>
        </p:nvSpPr>
        <p:spPr>
          <a:xfrm>
            <a:off x="380880" y="1219320"/>
            <a:ext cx="830592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A’s energy performance score is available for the following building types: </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0" lang="en-US" sz="1800" spc="-1" strike="noStrike">
                <a:solidFill>
                  <a:srgbClr val="000000"/>
                </a:solidFill>
                <a:latin typeface="Calibri"/>
              </a:rPr>
              <a:t>Bank/Financial Institution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urthouse </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Hospital (acute care and children’s) </a:t>
            </a:r>
            <a:r>
              <a:rPr b="0" lang="en-US" sz="1800" spc="-1" strike="noStrike">
                <a:solidFill>
                  <a:srgbClr val="000000"/>
                </a:solidFill>
                <a:latin typeface="Calibri"/>
              </a:rPr>
              <a:t>	</a:t>
            </a:r>
            <a:r>
              <a:rPr b="0" lang="en-US" sz="1800" spc="-1" strike="noStrike">
                <a:solidFill>
                  <a:srgbClr val="000000"/>
                </a:solidFill>
                <a:latin typeface="Calibri"/>
              </a:rPr>
              <a:t>Hotel </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House of Worship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K–12 School </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Medical Office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Wastewater Treatment Plant </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Office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Residence Hall/Dormitory </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Retail Store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enior Care Facility </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upermarke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Warehous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Performance Scores</a:t>
            </a: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xed use buildings cannot receive a score but can still be benchmarked</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chmarks for mixed use facilities reflect overall EUI and require percentage of square footage dedicated to each use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s that are not eligible to receive a score also benefit by benchmarking. Performance improvements for all buildings can be tracked over time by comparing current performance to the baseline established in Portfolio Manager</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Benchmarking?</a:t>
            </a:r>
            <a:endParaRPr b="0" lang="en-US" sz="44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nchmarking is a starting poi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benchmarking is to help building owners and operators to make more informed decisions about their facility with regards to energy use and efficiency: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ss operational effectivene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st in the planning proce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t investment prior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under performing facil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PA’S Energy Star Portfolio Manager</a:t>
            </a:r>
            <a:endParaRPr b="0" lang="en-US" sz="4000" spc="-1" strike="noStrike">
              <a:solidFill>
                <a:srgbClr val="000000"/>
              </a:solidFill>
              <a:latin typeface="Calibri"/>
            </a:endParaRPr>
          </a:p>
        </p:txBody>
      </p:sp>
      <p:sp>
        <p:nvSpPr>
          <p:cNvPr id="45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Portfolio Manager can be used by all organizations to: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ablish a baseline energy performance for each property using Portfolio Manager.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 goals for energy performanc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oritize investments.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duct ongoing measurement and verification of improvements - both financial and environmental.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rn recognition from EPA, BOMA, ASHE, and others for environmental and operational excellence. </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rtain building types can receive an EPA energy performance score, comparing facility performance to similar buildings across the country. </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Star Portfolio Manager</a:t>
            </a:r>
            <a:endParaRPr b="0" lang="en-US" sz="4400" spc="-1" strike="noStrike">
              <a:solidFill>
                <a:srgbClr val="000000"/>
              </a:solidFill>
              <a:latin typeface="Calibri"/>
            </a:endParaRPr>
          </a:p>
        </p:txBody>
      </p:sp>
      <p:sp>
        <p:nvSpPr>
          <p:cNvPr id="4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ortfolio Manager is an interactive energy management tool that allows building owners to track and assess energy and water consumption across their entire portfolio of buildings in a secure online environ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available on-line at no-cost to all users.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nefits of Portfolio Manager</a:t>
            </a:r>
            <a:endParaRPr b="0" lang="en-US" sz="4400" spc="-1" strike="noStrike">
              <a:solidFill>
                <a:srgbClr val="000000"/>
              </a:solidFill>
              <a:latin typeface="Calibri"/>
            </a:endParaRPr>
          </a:p>
        </p:txBody>
      </p:sp>
      <p:sp>
        <p:nvSpPr>
          <p:cNvPr id="4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Use Portfolio Manager to generate a Statement of Energy Performance (SEP) for each building, summarizing building characteristics, energy consumption, CO2 emissions, and energy performance ratings where applicable. </a:t>
            </a:r>
            <a:br>
              <a:rPr sz="2700"/>
            </a:br>
            <a:br>
              <a:rPr sz="2700"/>
            </a:b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nefits of Portfolio Manager</a:t>
            </a:r>
            <a:endParaRPr b="0" lang="en-US" sz="4400" spc="-1" strike="noStrike">
              <a:solidFill>
                <a:srgbClr val="000000"/>
              </a:solidFill>
              <a:latin typeface="Calibri"/>
            </a:endParaRPr>
          </a:p>
        </p:txBody>
      </p:sp>
      <p:sp>
        <p:nvSpPr>
          <p:cNvPr id="460" name="PlaceHolder 2"/>
          <p:cNvSpPr>
            <a:spLocks noGrp="1"/>
          </p:cNvSpPr>
          <p:nvPr>
            <p:ph/>
          </p:nvPr>
        </p:nvSpPr>
        <p:spPr>
          <a:xfrm>
            <a:off x="380520" y="1600200"/>
            <a:ext cx="8458200" cy="4525920"/>
          </a:xfrm>
          <a:prstGeom prst="rect">
            <a:avLst/>
          </a:prstGeom>
          <a:noFill/>
          <a:ln w="0">
            <a:noFill/>
          </a:ln>
        </p:spPr>
        <p:txBody>
          <a:bodyPr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Statement of Energy Performance can help you to:</a:t>
            </a:r>
            <a:r>
              <a:rPr b="0"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 for the ENERGY STAR label.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y LEED for Existing Buildings: Operations and Maintenance (LEED-EBOM) requirem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 mortgage, sale, and/or lease transactions (AB 1103 complianc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cument performance in energy service contra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e energy performance with tenants/owner/custome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Benchmark a Building</a:t>
            </a:r>
            <a:endParaRPr b="0" lang="en-US" sz="4400" spc="-1" strike="noStrike">
              <a:solidFill>
                <a:srgbClr val="000000"/>
              </a:solidFill>
              <a:latin typeface="Calibri"/>
            </a:endParaRPr>
          </a:p>
        </p:txBody>
      </p:sp>
      <p:sp>
        <p:nvSpPr>
          <p:cNvPr id="4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en-US" sz="3200" spc="-1" strike="noStrike" baseline="30000">
                <a:solidFill>
                  <a:srgbClr val="000000"/>
                </a:solidFill>
                <a:latin typeface="Calibri"/>
              </a:rPr>
              <a:t>st</a:t>
            </a:r>
            <a:r>
              <a:rPr b="0" lang="en-US" sz="3200" spc="-1" strike="noStrike">
                <a:solidFill>
                  <a:srgbClr val="000000"/>
                </a:solidFill>
                <a:latin typeface="Calibri"/>
              </a:rPr>
              <a:t> Step:  Create a Portfolio Manager accou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building street address, year built, and contact inform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ect and input the building gross floor area and key operating characteristics for each major space type in your build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Gather at least 11 consecutive months of utility bills for all fuel types used in the building</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PA’s Rating System</a:t>
            </a:r>
            <a:endParaRPr b="0" lang="en-US" sz="4400" spc="-1" strike="noStrike">
              <a:solidFill>
                <a:srgbClr val="000000"/>
              </a:solidFill>
              <a:latin typeface="Calibri"/>
            </a:endParaRPr>
          </a:p>
        </p:txBody>
      </p:sp>
      <p:sp>
        <p:nvSpPr>
          <p:cNvPr id="464" name=""/>
          <p:cNvSpPr txBox="1"/>
          <p:nvPr/>
        </p:nvSpPr>
        <p:spPr>
          <a:xfrm>
            <a:off x="457200" y="1447920"/>
            <a:ext cx="8229600" cy="4419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flects the building’s energy use intensity (EUI).</a:t>
            </a:r>
            <a:br>
              <a:rPr sz="3000"/>
            </a:b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icates how efficiently buildings use energy on a 1-100 scale </a:t>
            </a:r>
            <a:br>
              <a:rPr sz="3000"/>
            </a:b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core of 50 indicates average energy performance while a score of 75 or better indicates top performance. </a:t>
            </a:r>
            <a:br>
              <a:rPr sz="3000"/>
            </a:b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Factors affecting energy performance scores</a:t>
            </a:r>
            <a:endParaRPr b="0" lang="en-US" sz="3500" spc="-1" strike="noStrike">
              <a:solidFill>
                <a:srgbClr val="000000"/>
              </a:solidFill>
              <a:latin typeface="Calibri"/>
            </a:endParaRPr>
          </a:p>
        </p:txBody>
      </p:sp>
      <p:sp>
        <p:nvSpPr>
          <p:cNvPr id="466" name="PlaceHolder 2"/>
          <p:cNvSpPr>
            <a:spLocks noGrp="1"/>
          </p:cNvSpPr>
          <p:nvPr>
            <p:ph/>
          </p:nvPr>
        </p:nvSpPr>
        <p:spPr>
          <a:xfrm>
            <a:off x="457200" y="1523520"/>
            <a:ext cx="8229600" cy="4419720"/>
          </a:xfrm>
          <a:prstGeom prst="rect">
            <a:avLst/>
          </a:prstGeom>
          <a:noFill/>
          <a:ln w="0">
            <a:noFill/>
          </a:ln>
        </p:spPr>
        <p:txBody>
          <a:bodyPr anchor="t">
            <a:normAutofit/>
          </a:bodyPr>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PA’s energy performance scale accounts for the impact of weather variations as well as changes in key physical and operating characteristics of each building.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the information you enter about your building (such as its size, location, number of occupants and number of personal computers), the energy performance score compares your building’s energy use to the actual energy use of similar buildings around the country.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PA developed the energy performance scale as a screening tool to help organizations assess performance and identify those buildings that offer the best opportunities for improvement and recognition. The tool’s 1–100 scale is easily understood, and can facilitate communication between facility managers and senior executives regarding building performance. </a:t>
            </a:r>
            <a:endParaRPr b="0" lang="en-US" sz="2000" spc="-1" strike="noStrike">
              <a:solidFill>
                <a:srgbClr val="000000"/>
              </a:solidFill>
              <a:latin typeface="Calibri"/>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3T15:56:05Z</dcterms:created>
  <dc:creator>irinak</dc:creator>
  <dc:description/>
  <dc:language>en-US</dc:language>
  <cp:lastModifiedBy>CCSF</cp:lastModifiedBy>
  <cp:lastPrinted>2013-11-08T19:02:21Z</cp:lastPrinted>
  <dcterms:modified xsi:type="dcterms:W3CDTF">2013-11-12T23:50:10Z</dcterms:modified>
  <cp:revision>354</cp:revision>
  <dc:subject/>
  <dc:title>Energy and Building Science</dc:title>
</cp:coreProperties>
</file>