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EC57-1F85-42BA-ACF4-F46FD1C13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youtu.be/hx2laabqje8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BE6D-A016-458F-A648-C589268D3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usines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9D5E-7833-49CB-8608-1F01F882F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handout or – provide link to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pge.com/tariffs/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00A1-A155-44A7-B6FA-115EB32F4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p shot of variations of rat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more – this is just a screen shot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4EEA-DA39-434A-85F7-87BBDC279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-1 is a commercial r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1 is a residential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iffs for each can be handed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6F37-EC71-4E53-B211-8459D9FF3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handout of rule book… gas and electr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list of terminology could be used to 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72D7-379D-414F-BFEA-C80BA5762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youtu.be/hx2laabqje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7278-741A-4DBE-93E8-7A2D19896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59E-5B01-47A4-AB57-F6F7F788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B77-1AA5-4CDD-BDA3-44DC63A3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ABC61-EB87-4730-B666-E44091E9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5E540-EFB3-4F9A-A573-E3FE481A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C7058-A48F-49B0-82B5-82E27299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8D71C-4BFF-4D41-B832-DC296990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60044-0617-4DD2-9393-E3754376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FC099-8666-48CA-975E-88C39FCF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93ACE-81EE-4A34-A0F2-ECBDA1F0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F7DED-3F6A-484B-A47C-C272C7C5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9FFB0-42B8-4259-A9BA-F0DD2A8F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C08C5-4087-4C6F-8BA9-F103C890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DE0-14E2-40C2-9F90-947737FE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6210C-FE79-4D5C-9350-52CCA060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B1B57-7C41-46E2-BFE9-434B0029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6153D-2096-40FF-8182-64FEDBF0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F7BF1-8A88-4EED-8F11-5682E07D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2D356-0A6B-45D1-92E4-71BE0FC2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20D97-6DBC-476C-B99F-B2AB94CD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9B3AC-275D-4BDD-9A76-32E62B84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32343-064B-4915-A8DE-3E61955C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84063-8920-49BF-96A6-004F464F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A115F-6219-40ED-9AB7-899786DE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4A4-B0E0-428E-972B-A04E9D2D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A4514-A331-4AAC-9EE0-D632E3F1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C5D6D-FC02-44E8-ADBE-728D5927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4A310-D321-47DF-B9C8-C4F7D9E2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64B9E-88C9-44E8-BB01-DD8438AD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40B4C-CB0A-4072-BBE3-BE2BB948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EB9AE-83F7-416B-81F3-0A86D3F9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79E78-0244-4B97-9CA9-6BBC9E70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08AA8-A964-4EB5-8101-EF8C848B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B4FCE-D6D7-448B-BEAB-A714C814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25247-F6EB-4A8F-9403-342A3439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D681-8BDE-4AD2-A4EA-79A2ED16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1988B-7632-4071-B803-2B0346E6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B4032-7702-481A-BCB5-6C9D9CE5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49B48-F1B5-49AD-9450-3AF0E76E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59EFB-75E4-442E-A030-C30CD694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82089-A671-459D-924B-E4C390A5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E0D22-BD9F-4B66-BCC1-5789CF88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27E3F-8D47-49BF-9B4F-1D993BAA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D00FC-10F3-497A-BC0E-D8606038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9127D-DCD8-4243-B80E-B54542F6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70AA9-AF17-4061-BC90-DD51C3FA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2700-4235-4306-8C5C-C5B8729F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9CA1C-1F19-4E8E-ABAD-9002DDD6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8D949-D93C-4810-8DB8-12F24F16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55010-2CFE-4830-B063-4A53AFF4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9C703-3083-480F-8A5F-ECD213AC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9D4BF-734B-4308-BB24-9BEDA2DE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F39B-B909-4C60-BBE4-AC20F0B5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854C-8BB1-4C8D-B67D-8112A949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F0D2-8EEE-40D2-BEA4-DD42CD84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64D1-3EA0-4965-83CC-3F40D56F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716F-0352-429D-9E81-67928AC3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E37-7131-47CA-81C1-DEDDF3E0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61E8-4F73-4F6A-B381-D5E22C15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B5B5-7AFF-4001-8C84-5C6A8649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BAFA-AAFA-440F-80B9-A68A15D3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1E65-5F0F-41CE-ACCC-F7D6E4D5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E9B2-04FB-4D7F-8E5C-EEB56EBA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C2690-2458-4C6D-916E-4348CE93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B9C6D-8291-49EB-8A8E-A389B484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059E5-E24D-4575-9C19-3E96D825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A6CFA-C40C-4E56-8C20-2D8EE856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34522-58C4-43A6-9ADE-70AE087D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1EF-829E-45B0-B427-8B5E66A9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777D6-3F5A-4240-8530-8AAAD267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7E0C3-6791-4346-B095-7F4D982D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C3591-7CCB-4571-BED7-B6DF28DD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A47A-26BE-48EB-9EE8-BE5C3A71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D860-D90C-4B03-9366-76BEDC55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9CC35-2734-48C1-B09E-ADD2246F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AD402-2CB2-406C-AFEA-F40750AF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052D1-1802-46D3-ADE3-487C7299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3C58D-ACD2-48C4-B40F-3B9F9020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196D3-8C42-4503-A0BA-78E9451C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1C3-FC52-42AE-BB3D-0484998C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82F46-62E8-4466-9622-54D36422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6B67B-6246-4B21-9BD1-EF406250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6E1B2-FC6C-4E54-A411-F6A99F93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15176-EAED-4530-8FDA-05A4C43D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39925-51A6-4F1C-8687-C88D1E62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86CA1-785F-43D8-931F-CD52D3EB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BFC5-A17A-47E0-831F-E452C978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CE023-AE97-4243-B29E-2F22270C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98FD9-1BDC-4032-BD15-B814D9F7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8CE1D-1AC2-4592-B227-36AF9EFB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7D1-8541-47A0-923E-CA18566F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2E2C1-A452-4FE4-B599-0369A89D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36E4D-310D-437C-AB80-49791FBA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62933-1B1F-448B-9B5C-67A7C312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BED98-B924-4F7A-AA36-AB05E189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7702D-F876-4907-9A4A-46C99475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0A218-FA9C-4025-8613-ABADCCDF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1ED1E-4A04-4B81-9C88-3D3B440E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3AAE0-0A13-4AD4-8B38-A7AD9FDC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DC19C-7CC9-4199-A76E-08881E1E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1BF8B-0CC7-4B20-9CD9-FBBAD646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44F-EC80-458F-8AA0-D713006E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B2640-D1B0-414F-AE00-3F5B07D3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EF565-4B6A-43A1-9B0E-0AF5C7EB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DEACE-0401-49F1-B352-98175F3A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3993C-A5E7-432C-B68E-7B88D232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DCE2C-B22C-4B1F-9C62-FCC531F6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EA573-0011-4BB0-96FA-6779123E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DE81E-A0FB-4DA4-965E-0C43E7B0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0EE74-D136-4DAF-A766-E943ADF1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352AC-655E-4E33-A15D-8673AFDC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DB550-0298-4133-BFCC-E3DA5208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6B8-E4D4-425E-A58E-A35D36DC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9F44F-9048-4484-A001-26826002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79DB7-938C-48C6-9FB1-1BF4924E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E5C61-E405-493D-A644-F11B576D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14748-61C5-45CC-A326-35B73623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AFF24-43C1-4AE3-92D5-B334AFBD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F2955-C153-43F0-9AF2-CE741A50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DFE2E-A8AE-4781-93D1-2AF91628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2DA2F-22DC-450A-8C8A-0D1E0584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13B67-B4C0-41A1-B159-921F407E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38079-AC44-4169-AEB3-9D930F08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80B-12F9-4418-ADE0-1E3139D9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049FF-C7B4-43D7-80DB-0B3BD0D2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1A35B-9526-42B6-B0DE-A9C873FC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7247F-5A17-412E-AFB4-2D8ADCEF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11CD9-A998-4D81-8D86-68C26D6B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980BD-D46C-419B-ACDD-574CF1F6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9BB7B-1E63-4111-8474-A2EFB17E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4ED81-D528-4887-B56A-84A5573E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48B89-6F36-4830-993B-66729142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1C85E-F355-4F7D-AFF6-9A0B6499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5AC3D-FEF4-4733-B473-38F5F4FD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776-7996-423B-8723-1A94793A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5BA30-DA39-4BE4-8671-97C71F72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244FB-DBC7-41B8-B198-1623F7F0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0E0A5-A9E4-40DD-A376-BD281C3E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747A2-147B-4804-9C13-CF529E12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089D7-D2FD-4EF6-9D8F-36192427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F6580-37C2-49DB-9F17-953B63B0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21480-FA81-4A25-80DF-A68942C3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2A074-C484-4B76-8F33-511E98B0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B9421-06FC-4D28-A92F-A10396DA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02B65-83F3-485B-9473-4AE9A2B0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-- DO NOT QUOTE OR CIR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8F84-2DC6-49AB-9AAD-41EDF9708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9"/>
          <p:cNvSpPr/>
          <p:nvPr/>
        </p:nvSpPr>
        <p:spPr>
          <a:xfrm>
            <a:off x="533520" y="5335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10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7"/>
          <p:cNvSpPr/>
          <p:nvPr/>
        </p:nvSpPr>
        <p:spPr>
          <a:xfrm>
            <a:off x="457200" y="152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tility Rates, Benchmarking and Fina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-- DO NOT QUOTE OR CIR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37E9-C87D-4A4F-A983-F312AAB96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8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9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-- DO NOT QUOTE OR CIR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8BF0-57DF-478E-887A-B89E5B910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traight Connector 8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9"/>
          <p:cNvSpPr/>
          <p:nvPr/>
        </p:nvSpPr>
        <p:spPr>
          <a:xfrm>
            <a:off x="609480" y="6248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-- DO NOT QUOTE OR CIR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2D2F-B5F9-4E7C-A1B7-156CF6A61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tility Rates, Benchmarking and Fina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-- DO NOT QUOTE OR CIR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urse No. ENRG 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traight Connector 6"/>
          <p:cNvSpPr/>
          <p:nvPr/>
        </p:nvSpPr>
        <p:spPr>
          <a:xfrm>
            <a:off x="533520" y="45720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457200" y="1634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tility Rates, Benchmarking and Fina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-- DO NOT QUOTE OR CIR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5128-3DF8-4E78-8D46-B78CB6E02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-- DO NOT QUOTE OR CIR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C39F-F75E-445A-B59F-1235CE733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457200" y="533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457200" y="228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tility Rates, Benchmarking and Fina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-- DO NOT QUOTE OR CIR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64DF-DCD9-4473-9F38-7FE2D36EE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1"/>
          <p:cNvSpPr/>
          <p:nvPr/>
        </p:nvSpPr>
        <p:spPr>
          <a:xfrm>
            <a:off x="533520" y="45720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12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457200" y="152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tility Rates, Benchmarking and Fina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-- DO NOT QUOTE OR CIR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A5C0-2673-4565-970F-E933F4373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7"/>
          <p:cNvSpPr/>
          <p:nvPr/>
        </p:nvSpPr>
        <p:spPr>
          <a:xfrm>
            <a:off x="533520" y="5335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8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457200" y="228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tility Rates, Benchmarking and Fina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-- DO NOT QUOTE OR CIR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68C0-2F82-4A84-B8B5-9733645B8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6"/>
          <p:cNvSpPr/>
          <p:nvPr/>
        </p:nvSpPr>
        <p:spPr>
          <a:xfrm>
            <a:off x="533520" y="609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7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7"/>
          <p:cNvSpPr/>
          <p:nvPr/>
        </p:nvSpPr>
        <p:spPr>
          <a:xfrm>
            <a:off x="457200" y="228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tility Rates, Benchmarking and Fina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-- DO NOT QUOTE OR CIR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3F1A-BE32-4388-9C16-E2805425D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7"/>
          <p:cNvSpPr/>
          <p:nvPr/>
        </p:nvSpPr>
        <p:spPr>
          <a:xfrm>
            <a:off x="533520" y="228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9"/>
          <p:cNvSpPr/>
          <p:nvPr/>
        </p:nvSpPr>
        <p:spPr>
          <a:xfrm>
            <a:off x="533520" y="609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10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-- DO NOT QUOTE OR CIR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AF02-0759-4A6C-B89E-E7562B099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ge.com/tariffs/ERS.SHTML" TargetMode="External"/><Relationship Id="rId4" Type="http://schemas.openxmlformats.org/officeDocument/2006/relationships/hyperlink" Target="http://www.pge.com/tariffs/GRS.SHTML" TargetMode="External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Utility Rates, Benchmarking</a:t>
            </a:r>
            <a:br>
              <a:rPr sz="3600"/>
            </a:b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and Financial Analysis</a:t>
            </a:r>
            <a:br>
              <a:rPr sz="4000"/>
            </a:b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rse No. ENRG 53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traight Connector 6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7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mmendations for TV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ways to conserve electricity during peak period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n off all non-essential equipment, including l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-cool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mize equipment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 schedules for employees, equipment and building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ak Day Pricing Event D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ak Day Pricing (PDP) is a rate option or pricing program for customer with loads over 200 k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pside: Peak Day Pricing participants will enjoy lower power costs most of the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wnside: much higher charges apply if customer uses power during critical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eak demand ev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lifornia utilities anticipate 9 to 15 event days over the course of a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ak Day Pri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ergy planners use weather and power usage data to forecast California's power need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ak Days are declared when the demand for electricity threatens to outpace supply and PG&amp;E responds to a call to reduce power usage from the California Independent System Operator Corporation (ISO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ypically occur between 11 am and 7 pm for 1 to 4 hours in dur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ften during hot summer afternoons when the need for power rises dramatically in heavily populated areas and affects PG&amp;E's entire service are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times due to electric grid emergencies or maintenance outag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of PDP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customers with service points at or above 200 kW, PG&amp;E will apply a surcharge on electricity used during critical Peak Demand periods. The charge will be an extra $1.00 per kilowatt hour (kWh) on top of the standard power rates according to your rate schedu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result will be at least a 10X increase over your lowest r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, the average charge for a 200kW service point running for one hour could jump from $24 per hour to $224 per hou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Understanding utility bills / cha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95b3d7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b3d7"/>
                </a:solidFill>
                <a:latin typeface="Calibri"/>
              </a:rPr>
              <a:t>Rates and tariffs for energy ut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95b3d7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b3d7"/>
                </a:solidFill>
                <a:latin typeface="Calibri"/>
              </a:rPr>
              <a:t>Time-Varying Pri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G&amp;E electric and natural gas sched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95b3d7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b3d7"/>
                </a:solidFill>
                <a:latin typeface="Calibri"/>
              </a:rPr>
              <a:t>Other utilities in Californ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tility Rates, Benchmarking and Fina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s for Electricity and G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as and Electric Rates are divided into many Tariffs each with their own rules, applicability, and ter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utility is required to make Tariff details publicly accessi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ules” or definition of language and terms used in the tariffs (handou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Content Placeholder 7" descr="ele rates.jpg"/>
          <p:cNvPicPr/>
          <p:nvPr/>
        </p:nvPicPr>
        <p:blipFill>
          <a:blip r:embed="rId1"/>
          <a:stretch/>
        </p:blipFill>
        <p:spPr>
          <a:xfrm>
            <a:off x="762120" y="909720"/>
            <a:ext cx="3124080" cy="5011560"/>
          </a:xfrm>
          <a:prstGeom prst="rect">
            <a:avLst/>
          </a:prstGeom>
          <a:ln w="0">
            <a:noFill/>
          </a:ln>
        </p:spPr>
      </p:pic>
      <p:pic>
        <p:nvPicPr>
          <p:cNvPr id="576" name="Content Placeholder 8" descr="gas rate list.jpg"/>
          <p:cNvPicPr/>
          <p:nvPr/>
        </p:nvPicPr>
        <p:blipFill>
          <a:blip r:embed="rId2"/>
          <a:stretch/>
        </p:blipFill>
        <p:spPr>
          <a:xfrm>
            <a:off x="4648320" y="930240"/>
            <a:ext cx="3265200" cy="5013360"/>
          </a:xfrm>
          <a:prstGeom prst="rect">
            <a:avLst/>
          </a:prstGeom>
          <a:ln w="0">
            <a:noFill/>
          </a:ln>
        </p:spPr>
      </p:pic>
      <p:sp>
        <p:nvSpPr>
          <p:cNvPr id="577" name="TextBox 11"/>
          <p:cNvSpPr/>
          <p:nvPr/>
        </p:nvSpPr>
        <p:spPr>
          <a:xfrm>
            <a:off x="685800" y="5943600"/>
            <a:ext cx="73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pge.com/tariffs/ERS.SHTML#ER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pge.com/tariffs/GRS.SHTML#GR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Electric Rate Schedules (see hand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Content Placeholder 4" descr="ELEC_SCHEDS_A-1_Page_03.jpg"/>
          <p:cNvPicPr/>
          <p:nvPr/>
        </p:nvPicPr>
        <p:blipFill>
          <a:blip r:embed="rId1"/>
          <a:stretch/>
        </p:blipFill>
        <p:spPr>
          <a:xfrm>
            <a:off x="762120" y="1523880"/>
            <a:ext cx="3651120" cy="47246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" descr="res ELEC_SCHEDS_E-1_Page_1.jpg"/>
          <p:cNvPicPr/>
          <p:nvPr/>
        </p:nvPicPr>
        <p:blipFill>
          <a:blip r:embed="rId2"/>
          <a:stretch/>
        </p:blipFill>
        <p:spPr>
          <a:xfrm>
            <a:off x="4800600" y="1447920"/>
            <a:ext cx="3710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Content Placeholder 4" descr="rules toc.jpg"/>
          <p:cNvPicPr/>
          <p:nvPr/>
        </p:nvPicPr>
        <p:blipFill>
          <a:blip r:embed="rId1"/>
          <a:stretch/>
        </p:blipFill>
        <p:spPr>
          <a:xfrm>
            <a:off x="914400" y="963720"/>
            <a:ext cx="3048120" cy="4979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ELEC_RULES_1_Page_06.jpg"/>
          <p:cNvPicPr/>
          <p:nvPr/>
        </p:nvPicPr>
        <p:blipFill>
          <a:blip r:embed="rId2"/>
          <a:stretch/>
        </p:blipFill>
        <p:spPr>
          <a:xfrm>
            <a:off x="4038480" y="609480"/>
            <a:ext cx="4062600" cy="52578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8" descr="ELEC_RULES_1_Page_01.jpg"/>
          <p:cNvPicPr/>
          <p:nvPr/>
        </p:nvPicPr>
        <p:blipFill>
          <a:blip r:embed="rId3"/>
          <a:srcRect l="11838" t="11092" r="0" b="0"/>
          <a:stretch/>
        </p:blipFill>
        <p:spPr>
          <a:xfrm>
            <a:off x="5925960" y="2057400"/>
            <a:ext cx="3218040" cy="42004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9" descr="ELEC_RULES_1_Page_26.jpg"/>
          <p:cNvPicPr/>
          <p:nvPr/>
        </p:nvPicPr>
        <p:blipFill>
          <a:blip r:embed="rId4"/>
          <a:srcRect l="12363" t="2814" r="3823" b="40846"/>
          <a:stretch/>
        </p:blipFill>
        <p:spPr>
          <a:xfrm>
            <a:off x="4267080" y="3124080"/>
            <a:ext cx="3505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ample Utility Bill &amp; Data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95b3d7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b3d7"/>
                </a:solidFill>
                <a:latin typeface="Calibri"/>
              </a:rPr>
              <a:t>Read through utility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95b3d7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b3d7"/>
                </a:solidFill>
                <a:latin typeface="Calibri"/>
              </a:rPr>
              <a:t>Calculate and plot utility data properly by Exc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95b3d7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b3d7"/>
                </a:solidFill>
                <a:latin typeface="Calibri"/>
              </a:rPr>
              <a:t>Compare difference and savings by using different utility sched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95b3d7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b3d7"/>
                </a:solidFill>
                <a:latin typeface="Calibri"/>
              </a:rPr>
              <a:t>Analyze current energy usage data to find potential EEM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Understanding utility bills / cha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Rates and tariffs for energy ut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ime-Varying Pri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PG&amp;E electric and natural gas sched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Other utilities in Californ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tility Rates, Benchmarking and Fina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Understanding utility bills / cha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ates and tariffs for energy ut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95b3d7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b3d7"/>
                </a:solidFill>
                <a:latin typeface="Calibri"/>
              </a:rPr>
              <a:t>Time-Varying Pri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95b3d7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b3d7"/>
                </a:solidFill>
                <a:latin typeface="Calibri"/>
              </a:rPr>
              <a:t>PG&amp;E electric and natural gas sched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95b3d7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b3d7"/>
                </a:solidFill>
                <a:latin typeface="Calibri"/>
              </a:rPr>
              <a:t>Other utilities in Californ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tility Rates, Benchmarking and Fina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standing utility bills / char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alifornia Public Utilities Commission sets ra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es are set after lengthy reviews of utility costs, testimony, and public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es include costs to provide: electricity generation, transmission, distribution, and a fair rate of retur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e structures are divided into tiers with baselines as basic allo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standing utility bills/char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lines and T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” is your energy allowance for basic needs and is billed at the lowest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d by the average amount of energy consumed (by climate zone, by seas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ered rate structure up to and over baseline, for PG&amp;E, is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-100%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101-13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101-200           over 200% of base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B021-E714-4066-83AF-EC25C62D4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1066680" y="4933800"/>
            <a:ext cx="7607520" cy="1009800"/>
          </a:xfrm>
          <a:prstGeom prst="rect">
            <a:avLst/>
          </a:prstGeom>
          <a:ln w="0">
            <a:noFill/>
          </a:ln>
        </p:spPr>
      </p:pic>
      <p:sp>
        <p:nvSpPr>
          <p:cNvPr id="55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-- DO NOT QUOTE OR CIRC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Understanding utility bills/cha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es and tariffs for energy ut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ime-Varying Pri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95b3d7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b3d7"/>
                </a:solidFill>
                <a:latin typeface="Calibri"/>
              </a:rPr>
              <a:t>PG&amp;E electric and natural gas sched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95b3d7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b3d7"/>
                </a:solidFill>
                <a:latin typeface="Calibri"/>
              </a:rPr>
              <a:t>Other utilities in Californ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tility Rates, Benchmarking and Fina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Varying Pri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me Varying Pricing is part of a California energy plan to encourage customers to manage their use of electricity more efficient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st for electricity increases at “peak” periods when demands for electricity are at their highest – hot summer afterno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er costs of energy will motivate customers to change their behaviors or improve facilities with more energy efficient equipmen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Varying Pri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Use Pricing (TVP) means that electricity will beco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xpensive during “peak” weekdays hours (noon to 6P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expensive during “part-peak” weekday hours (mornings and evening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st expensive during “off-peak” hours (nights, weekends, and holiday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Varying Pri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to TVP, customers paid a flat rate for energy consumption, regardless of time of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 TVP customers will pay higher utility prices for energy consumed at “peak” peri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o longer abou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ow mu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nergy is used, bu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energy is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5:56:05Z</dcterms:created>
  <dc:creator>irinak</dc:creator>
  <dc:description/>
  <dc:language>en-US</dc:language>
  <cp:lastModifiedBy>CCSF</cp:lastModifiedBy>
  <cp:lastPrinted>2013-11-08T19:02:21Z</cp:lastPrinted>
  <dcterms:modified xsi:type="dcterms:W3CDTF">2013-11-12T23:34:26Z</dcterms:modified>
  <cp:revision>353</cp:revision>
  <dc:subject/>
  <dc:title>Energy and Building Science</dc:title>
</cp:coreProperties>
</file>