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17C8-0133-4D43-93C2-966967E771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5879-4AED-4BA9-848A-3FA0E22D9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CFDA-93D0-438D-BA49-4052FE1BE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FA7D-090A-4983-A317-CC214E34E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1BFA-F57B-4BC2-95F5-99EEED6A3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0CECA-0219-4128-BF65-6C08D047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F094-97CD-44AA-BD28-3359EBF7E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14A2FC-643C-4058-A937-9BC699AB8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69927E-994C-4AE7-964B-0B16853A6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21A621-32B3-4BB2-BD3A-30E2D35148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1A875-DC18-468A-8255-AF6962CCE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24CDC-83B2-4B51-A16E-C66E208AC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A6C74-E83C-477C-8188-544AACB69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C3F48-E4FA-43AC-BE00-DC9D883926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FB1B59-6F2F-4300-80F1-8C7782C53E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5D797-EB2D-4988-8A46-711749790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974363-ECA5-407F-ACFB-5BE71AD7E3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E7E23-BE36-4A7C-8661-1581A96D0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30C874-4561-4CC2-92CB-8EADF066B4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EDC4EB-0714-46B8-92D9-4DF00FAD56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D4BA31-5F1F-4F18-B188-98EF2AB09F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DA52D2-1029-41DA-851B-C9C8CB1FFB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0A80CF-74DC-47BD-B376-6A1EB5C051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2529CF-A8C8-4712-8A61-2136BC7D22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8F5ACD-75F7-412F-88A6-24023AEDB6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8BF062-E965-40DD-9406-351E78F111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69B1AA-D78D-4D5D-B1A5-C13CC8DD6C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D5B3E1-01B1-48B9-8D92-56C5960F8B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F0BD4-3721-48BD-9A3C-82E3B3B0C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F2AF80-C7FD-4D82-952C-CB6040F8BF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A52D7-8805-4E50-AC19-480A64E6B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EE691-0DFA-47F8-B406-D07F48C47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3A2C4-359F-4379-8E6B-0436B1B05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6211E-85C6-4CD6-A961-629F4E833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CF838-81CA-4042-B182-DD16464B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53380-C9DC-424F-B8C8-9914CCB8C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E7DF8-0E16-4331-82B3-0BF0EE37D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3EC8-938F-485C-8BD6-236165C7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3C92-EB9D-429C-9312-2A4845C6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94CE3-C8E7-4AD6-8B06-2129816FB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B853-A597-4A95-8BCA-E02931E52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CFC75-0D38-44CC-AD89-C5D2596DC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53780-781F-417E-B8A3-1515D2A04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099B0-9E99-43D0-B5C6-9E5CFE2D44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82997-0EBC-4F91-8493-63DEA830C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1E503-9B79-454F-8B1C-A28883E21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339CC-B0EB-4B16-8276-A577DC4E1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73504-6A87-46AA-BC17-16AF59A18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3BEF-0DC2-4FDC-BF27-EACBDBDC9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043E5-C7CF-4335-9512-F3852E9F1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D6CDD-8439-4DFD-B799-2D8A9831D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A691F-5A2F-45E2-B82C-66A476C90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F74FA-6041-4815-B26D-08737455F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4C617-E486-46B2-9716-3CE997BDC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FABF3-0E5C-4DDB-B1DC-20AC09311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2832A-A456-4406-8E56-0B22F1D339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4939A9-2325-4E0C-873D-BCAFAAB1C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EDA05-2392-4218-A56C-33887CAF3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D2CD1-BD52-4D0E-BBE4-90DF56CC0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32467-9BF3-40D4-9134-183528A2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BE377-03A6-46BE-8990-3C29D799D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5D74A-B9D0-4C90-BC32-98D2AA086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AF148-4EC2-4FD2-8B91-0D9F35069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421CC-1CED-4948-A5B3-91D53CF57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254DE-3310-4F21-AA65-D3BB73CCC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07425-65DB-4A62-AF9D-227A1D037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8E452-2823-42B4-8C61-C47669F42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1F092-A8A8-492B-93E9-0FDA30E53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6A52FA-DA6D-4C5C-9480-B4E569FB6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F5F829-FC61-4991-9857-A4C3A37EDE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19293-AC68-4524-BC87-9A2A3530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BD988-1EF4-4332-B68F-0E2AC6017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A3A20-13CE-4F10-971F-881BF6204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49F61-AA67-4118-BF58-4755DA42F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701A45-2E85-41E8-B30D-C8F245ABA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5EE80-369D-49A7-9BB2-6052CF8A6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FD75F-33D9-4CF2-AA4D-D32A6AF23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FD792-3574-42DD-B5ED-D099C3A89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71BF2-92AD-4640-8020-8852BEC5B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A697E-0E8E-4AA3-9533-E43C743CE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39A3B-9B14-433C-9FEC-7FA6484625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D89B-28C0-4FEE-97C7-EA7DF227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4968C-AF30-488E-B27E-FA4B203D76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663D94-5731-4AF7-AF17-64532AFA7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997A3-6FF2-4C5B-B0D7-4D0EDDBE3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429DA-D805-4375-BCDF-DDB1B096F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703D5-732D-4ACF-AB12-888D8EC4F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4D406-E6BF-44C6-A842-B0E8821C1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AD7B3-065E-4AD4-83BE-8AB8818D4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1B1D6-5105-4650-9ACD-D9D56F301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2B28B-E02E-484D-9617-308BBBA5B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A7576-279C-486D-882E-7B5B74585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1829-B11D-4FB9-9DCC-DB674950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C8CE17-2BBF-4FDD-B4BE-46D69A820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7B0D26-0383-438C-B2E6-26F9F8BC9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684C6-3C88-4FB8-B0EA-6E4F66CDC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ABB9BE-BDCD-4902-A4AD-20AAAAF85A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B9B513-B607-4EDC-8CE5-B9AE9FD834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86ABA1-BADB-4BAB-AD3B-A5402C3DE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83DA5-D917-4850-A01A-5E3B1117E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3E7F7D-FC1E-4588-B683-C8F9391E2E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6EC79-7F49-46A7-B575-61C003B30B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0C248-93CD-4564-B27B-89C7807DE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0DC9-0978-43F3-A3A4-DA9E1B53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796A0-4228-42DC-9E2E-52FA39CC9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958EB-156A-4B4E-AFCA-1DA72010B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4DD08-7649-436F-95B0-60A26DE35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6D2EF4-A9D9-41E8-B0E1-60235C5DEF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3F64B1-3309-4CAB-8D98-2449D7D12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BB3ADA-99B5-478D-B1D0-8B7DBF16C8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C2FA7-DFED-4B44-9067-34E6858975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276C9-189A-4FD9-8AD5-F2B1BFED43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0491D7-7EBC-446A-8249-154950579C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F4A18-156E-4487-8ED4-BE3406803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C599E-D535-4C51-AC93-F9547EAA5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A5B44A-F6C6-4AD2-B516-B66E430C8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D7565-632A-41DB-8EA1-6A1DA5C03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096A2-2898-4A17-9325-A40D1017F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7ECDD-7622-4221-A804-FC289A028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06C7E2-4C48-4580-B977-FAAF2EB93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C9F5F7-5831-4ADA-8A47-C71CD14D72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AE3618-92C7-43E2-B3DF-88C80FB3D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6569BB-AD4D-4A46-B653-4DB8D3BD97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3E25F-CA88-4E65-A3F4-6D6B2E4741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BA94E-9809-476C-A27C-088AD91B13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9862-38A6-492D-9F80-B182F097D8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39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Arial"/>
            </a:endParaRPr>
          </a:p>
        </p:txBody>
      </p:sp>
      <p:sp>
        <p:nvSpPr>
          <p:cNvPr id="400"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
          <p:cNvSpPr/>
          <p:nvPr/>
        </p:nvSpPr>
        <p:spPr>
          <a:xfrm>
            <a:off x="60948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40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0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1D6D-0073-43F9-BA48-8B4FF962CA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44" name="TextBox 7"/>
          <p:cNvSpPr/>
          <p:nvPr/>
        </p:nvSpPr>
        <p:spPr>
          <a:xfrm>
            <a:off x="457200" y="16344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98AA-ADDD-4E3C-B43E-38128EACC6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4</a:t>
            </a: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81E6-AA07-449F-9DBC-8CEAE799A5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129" name="Straight Connector 11"/>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2"/>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Box 7"/>
          <p:cNvSpPr/>
          <p:nvPr/>
        </p:nvSpPr>
        <p:spPr>
          <a:xfrm>
            <a:off x="457200" y="1522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28AA-4F45-4551-AA21-91D1F4B7C8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174" name="Straight Connector 7"/>
          <p:cNvSpPr/>
          <p:nvPr/>
        </p:nvSpPr>
        <p:spPr>
          <a:xfrm>
            <a:off x="533520" y="5335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8"/>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Box 7"/>
          <p:cNvSpPr/>
          <p:nvPr/>
        </p:nvSpPr>
        <p:spPr>
          <a:xfrm>
            <a:off x="45720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8392-4996-49E6-AB55-9336275439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219" name="Straight Connector 6"/>
          <p:cNvSpPr/>
          <p:nvPr/>
        </p:nvSpPr>
        <p:spPr>
          <a:xfrm>
            <a:off x="533520" y="609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Box 7"/>
          <p:cNvSpPr/>
          <p:nvPr/>
        </p:nvSpPr>
        <p:spPr>
          <a:xfrm>
            <a:off x="45720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1EA3-CBDF-4390-B949-18C00CDAEE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TextBox 7"/>
          <p:cNvSpPr/>
          <p:nvPr/>
        </p:nvSpPr>
        <p:spPr>
          <a:xfrm>
            <a:off x="53352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26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265" name="Straight Connector 9"/>
          <p:cNvSpPr/>
          <p:nvPr/>
        </p:nvSpPr>
        <p:spPr>
          <a:xfrm>
            <a:off x="533520" y="609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27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6BFA-849E-4EC8-B49D-3D8CC60AB3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309" name="Straight Connector 9"/>
          <p:cNvSpPr/>
          <p:nvPr/>
        </p:nvSpPr>
        <p:spPr>
          <a:xfrm>
            <a:off x="533520" y="5335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10"/>
          <p:cNvSpPr/>
          <p:nvPr/>
        </p:nvSpPr>
        <p:spPr>
          <a:xfrm>
            <a:off x="45720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Box 7"/>
          <p:cNvSpPr/>
          <p:nvPr/>
        </p:nvSpPr>
        <p:spPr>
          <a:xfrm>
            <a:off x="457200" y="1522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1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31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90B5-C067-4E47-A370-9D97083C34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35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Arial"/>
            </a:endParaRPr>
          </a:p>
        </p:txBody>
      </p:sp>
      <p:sp>
        <p:nvSpPr>
          <p:cNvPr id="355"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Straight Connector 9"/>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3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D67B-91EB-448E-BBD6-F9D14A0A64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457200" y="837720"/>
            <a:ext cx="8229600" cy="5288040"/>
          </a:xfrm>
          <a:prstGeom prst="rect">
            <a:avLst/>
          </a:prstGeom>
          <a:noFill/>
          <a:ln w="0">
            <a:noFill/>
          </a:ln>
        </p:spPr>
        <p:txBody>
          <a:bodyPr anchor="t">
            <a:normAutofit/>
          </a:bodyPr>
          <a:p>
            <a:pPr marL="514440" indent="-514440">
              <a:spcBef>
                <a:spcPts val="799"/>
              </a:spcBef>
              <a:buClr>
                <a:srgbClr val="002060"/>
              </a:buClr>
              <a:buFont typeface="Calibri"/>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Introduction to </a:t>
            </a:r>
            <a:r>
              <a:rPr b="0" lang="en-US" sz="3200" spc="-1" strike="noStrike">
                <a:solidFill>
                  <a:srgbClr val="000000"/>
                </a:solidFill>
                <a:latin typeface="Calibri"/>
              </a:rPr>
              <a:t>economics and cost</a:t>
            </a:r>
            <a:endParaRPr b="0" lang="en-US" sz="32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Introduction to engineering economic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Cost concepts and design economic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Cost-estimation techniqu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837720"/>
            <a:ext cx="8229600" cy="5288040"/>
          </a:xfrm>
          <a:prstGeom prst="rect">
            <a:avLst/>
          </a:prstGeom>
          <a:noFill/>
          <a:ln w="0">
            <a:noFill/>
          </a:ln>
        </p:spPr>
        <p:txBody>
          <a:bodyPr anchor="t">
            <a:normAutofit/>
          </a:bodyPr>
          <a:p>
            <a:pPr marL="514440" indent="-514440">
              <a:spcBef>
                <a:spcPts val="799"/>
              </a:spcBef>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oject evaluation</a:t>
            </a:r>
            <a:endParaRPr b="0" lang="en-US" sz="32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The time value of money</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Evaluating a single project</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Comparison and selection among alternative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Evaluating project with the benefit-cost ratio method</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Value of Money</a:t>
            </a:r>
            <a:endParaRPr b="0" lang="en-US" sz="4400" spc="-1" strike="noStrike">
              <a:solidFill>
                <a:srgbClr val="000000"/>
              </a:solidFill>
              <a:latin typeface="Calibri"/>
            </a:endParaRPr>
          </a:p>
        </p:txBody>
      </p:sp>
      <p:sp>
        <p:nvSpPr>
          <p:cNvPr id="469" name=""/>
          <p:cNvSpPr txBox="1"/>
          <p:nvPr/>
        </p:nvSpPr>
        <p:spPr>
          <a:xfrm>
            <a:off x="457200" y="1295280"/>
            <a:ext cx="8229600" cy="46483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value and the time value of money are acknowledgements that $100 today is worth more than $100 in the future.  Further, the longer it takes to acquire $100, the less that money is worth</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y can be invested today and earn a return in the future, or over tim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s may rise in the future and $100 will buy fewer goods, therefore reducing the “value” of that money</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money limits your spending in the present,  requiring pat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unt and Interest Rates</a:t>
            </a:r>
            <a:endParaRPr b="0" lang="en-US" sz="4400" spc="-1" strike="noStrike">
              <a:solidFill>
                <a:srgbClr val="000000"/>
              </a:solidFill>
              <a:latin typeface="Calibri"/>
            </a:endParaRPr>
          </a:p>
        </p:txBody>
      </p:sp>
      <p:sp>
        <p:nvSpPr>
          <p:cNvPr id="471"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ea typeface="Arial"/>
              </a:rPr>
              <a:t>Discount rate</a:t>
            </a:r>
            <a:r>
              <a:rPr b="0" lang="en-US" sz="2300" spc="-1" strike="noStrike">
                <a:solidFill>
                  <a:srgbClr val="000000"/>
                </a:solidFill>
                <a:latin typeface="Arial"/>
                <a:ea typeface="Arial"/>
              </a:rPr>
              <a:t> – the percentage by which future amounts are discounted they can be compared with present amounts</a:t>
            </a:r>
            <a:endParaRPr b="0" lang="en-US" sz="23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ea typeface="Arial"/>
              </a:rPr>
              <a:t>Present Value</a:t>
            </a:r>
            <a:r>
              <a:rPr b="0" lang="en-US" sz="2300" spc="-1" strike="noStrike">
                <a:solidFill>
                  <a:srgbClr val="000000"/>
                </a:solidFill>
                <a:latin typeface="Arial"/>
                <a:ea typeface="Arial"/>
              </a:rPr>
              <a:t> – the value today of a future amounts that have been discounted</a:t>
            </a:r>
            <a:endParaRPr b="0" lang="en-US" sz="23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ea typeface="Arial"/>
              </a:rPr>
              <a:t>Net Present Value</a:t>
            </a:r>
            <a:r>
              <a:rPr b="0" lang="en-US" sz="2300" spc="-1" strike="noStrike">
                <a:solidFill>
                  <a:srgbClr val="000000"/>
                </a:solidFill>
                <a:latin typeface="Arial"/>
                <a:ea typeface="Arial"/>
              </a:rPr>
              <a:t> – the </a:t>
            </a:r>
            <a:r>
              <a:rPr b="0" i="1" lang="en-US" sz="2300" spc="-1" strike="noStrike">
                <a:solidFill>
                  <a:srgbClr val="000000"/>
                </a:solidFill>
                <a:latin typeface="Arial"/>
                <a:ea typeface="Arial"/>
              </a:rPr>
              <a:t>Present Value </a:t>
            </a:r>
            <a:r>
              <a:rPr b="0" lang="en-US" sz="2300" spc="-1" strike="noStrike">
                <a:solidFill>
                  <a:srgbClr val="000000"/>
                </a:solidFill>
                <a:latin typeface="Arial"/>
                <a:ea typeface="Arial"/>
              </a:rPr>
              <a:t>of a project less the project cost</a:t>
            </a:r>
            <a:br>
              <a:rPr sz="2300"/>
            </a:br>
            <a:endParaRPr b="0" lang="en-US" sz="2300" spc="-1" strike="noStrike">
              <a:solidFill>
                <a:srgbClr val="000000"/>
              </a:solidFill>
              <a:latin typeface="Calibri"/>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ea typeface="Arial"/>
              </a:rPr>
              <a:t>Interest rate</a:t>
            </a:r>
            <a:r>
              <a:rPr b="0" lang="en-US" sz="2300" spc="-1" strike="noStrike">
                <a:solidFill>
                  <a:srgbClr val="000000"/>
                </a:solidFill>
                <a:latin typeface="Arial"/>
                <a:ea typeface="Arial"/>
              </a:rPr>
              <a:t> – the percentage of money charged for its use. If the interest rate is 10% then the borrower must pay $0.10 per every dollar borrowe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unt and Interest Rates</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cognizing that money today is more valuable than money in the future, when we look at possible projects we need means to compare them to each other </a:t>
            </a:r>
            <a:br>
              <a:rPr sz="2300"/>
            </a:br>
            <a:r>
              <a:rPr b="0" lang="en-US" sz="2300" spc="-1" strike="noStrike">
                <a:solidFill>
                  <a:srgbClr val="000000"/>
                </a:solidFill>
                <a:latin typeface="Arial"/>
              </a:rPr>
              <a: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pplying a </a:t>
            </a:r>
            <a:r>
              <a:rPr b="1" i="1" lang="en-US" sz="2300" spc="-1" strike="noStrike">
                <a:solidFill>
                  <a:srgbClr val="000000"/>
                </a:solidFill>
                <a:latin typeface="Arial"/>
                <a:ea typeface="Arial"/>
              </a:rPr>
              <a:t>discount rate </a:t>
            </a:r>
            <a:r>
              <a:rPr b="0" lang="en-US" sz="2300" spc="-1" strike="noStrike">
                <a:solidFill>
                  <a:srgbClr val="000000"/>
                </a:solidFill>
                <a:latin typeface="Arial"/>
                <a:ea typeface="Arial"/>
              </a:rPr>
              <a:t>allows comparison of two future amounts</a:t>
            </a:r>
            <a:br>
              <a:rPr sz="2300"/>
            </a:br>
            <a:r>
              <a:rPr b="0" lang="en-US" sz="2300" spc="-1" strike="noStrike">
                <a:solidFill>
                  <a:srgbClr val="000000"/>
                </a:solidFill>
                <a:latin typeface="Arial"/>
              </a:rPr>
              <a:t> </a:t>
            </a:r>
            <a:endParaRPr b="0" lang="en-US" sz="23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In other words:  </a:t>
            </a:r>
            <a:r>
              <a:rPr b="0" lang="en-US" sz="2100" spc="-1" strike="noStrike">
                <a:solidFill>
                  <a:srgbClr val="000000"/>
                </a:solidFill>
                <a:latin typeface="Arial"/>
                <a:ea typeface="Arial"/>
              </a:rPr>
              <a:t>Do you want $60 today or $70 in one year?  It will depend on the return on investment, and how much you  discount future benefits or moni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unt and Interest Rates</a:t>
            </a:r>
            <a:endParaRPr b="0" lang="en-US" sz="4400" spc="-1" strike="noStrike">
              <a:solidFill>
                <a:srgbClr val="000000"/>
              </a:solidFill>
              <a:latin typeface="Calibri"/>
            </a:endParaRPr>
          </a:p>
        </p:txBody>
      </p:sp>
      <p:sp>
        <p:nvSpPr>
          <p:cNvPr id="47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scount rates are based on a complex financial calculatio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st spreadsheet software will perform discount rate calculations.  </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xample:</a:t>
            </a:r>
            <a:r>
              <a:rPr b="0" lang="en-US" sz="2200" spc="-1" strike="noStrike">
                <a:solidFill>
                  <a:srgbClr val="000000"/>
                </a:solidFill>
                <a:latin typeface="Arial"/>
                <a:ea typeface="Arial"/>
              </a:rPr>
              <a:t> the NPV function in Excel will calculate the net present value of a project by considering the project costs and the subsequent savings over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r example consider a project costs $25,000 to install, yields $9,000 annually and has a 10% discount r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Excel NPV function is </a:t>
            </a:r>
            <a:r>
              <a:rPr b="0" i="1" lang="en-US" sz="2200" spc="-1" strike="noStrike">
                <a:solidFill>
                  <a:srgbClr val="000000"/>
                </a:solidFill>
                <a:latin typeface="Arial"/>
                <a:ea typeface="Arial"/>
              </a:rPr>
              <a:t>= NPV (rate, value1, value2, value3,…) </a:t>
            </a:r>
            <a:r>
              <a:rPr b="0" lang="en-US" sz="2200" spc="-1" strike="noStrike">
                <a:solidFill>
                  <a:srgbClr val="000000"/>
                </a:solidFill>
                <a:latin typeface="Arial"/>
                <a:ea typeface="Arial"/>
              </a:rPr>
              <a:t>where the </a:t>
            </a:r>
            <a:r>
              <a:rPr b="0" i="1" lang="en-US" sz="2200" spc="-1" strike="noStrike">
                <a:solidFill>
                  <a:srgbClr val="000000"/>
                </a:solidFill>
                <a:latin typeface="Arial"/>
                <a:ea typeface="Arial"/>
              </a:rPr>
              <a:t>values </a:t>
            </a:r>
            <a:r>
              <a:rPr b="0" lang="en-US" sz="2200" spc="-1" strike="noStrike">
                <a:solidFill>
                  <a:srgbClr val="000000"/>
                </a:solidFill>
                <a:latin typeface="Arial"/>
                <a:ea typeface="Arial"/>
              </a:rPr>
              <a:t>are the costs and all savings associated with the projec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PV(10%, -$25,000,$9,000,$9,000,$9,000,$9,000,$9,000…)</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swer – NPV = $27,546</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efit Cost Ratio</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efit cost ratio is a measure of the proportion of benefits to cos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C = Project benefits/Project co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back – the number years it takes for project savings to equal project cos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back = Total Project Cost/Annual Saving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urn on Investment – Measures financial benefits of an investment, usually compared to other potential invest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enefit Cost Ratio Calculations</a:t>
            </a:r>
            <a:endParaRPr b="0" lang="en-US" sz="4000" spc="-1" strike="noStrike">
              <a:solidFill>
                <a:srgbClr val="000000"/>
              </a:solidFill>
              <a:latin typeface="Calibri"/>
            </a:endParaRPr>
          </a:p>
        </p:txBody>
      </p:sp>
      <p:sp>
        <p:nvSpPr>
          <p:cNvPr id="479"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mple project – high efficiency boiler replacement that is expected to last 10 year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s $20,000 - Savings $5,000 over a standard boil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 $20,000/$5,000 = 4 yea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 the project will payoff the original investment and begin yielding savings in 4 yea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I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I – by investing the high efficiency boiler will yield a 150% over the original investment </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0" name="" descr=""/>
          <p:cNvPicPr/>
          <p:nvPr/>
        </p:nvPicPr>
        <p:blipFill>
          <a:blip r:embed="rId1"/>
          <a:stretch/>
        </p:blipFill>
        <p:spPr>
          <a:xfrm>
            <a:off x="1719360" y="3886200"/>
            <a:ext cx="5989680" cy="150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enefit Cost Ratio Calculations</a:t>
            </a:r>
            <a:endParaRPr b="0" lang="en-US" sz="4000" spc="-1" strike="noStrike">
              <a:solidFill>
                <a:srgbClr val="000000"/>
              </a:solidFill>
              <a:latin typeface="Calibri"/>
            </a:endParaRPr>
          </a:p>
        </p:txBody>
      </p:sp>
      <p:sp>
        <p:nvSpPr>
          <p:cNvPr id="482" name=""/>
          <p:cNvSpPr txBox="1"/>
          <p:nvPr/>
        </p:nvSpPr>
        <p:spPr>
          <a:xfrm>
            <a:off x="457200" y="1295280"/>
            <a:ext cx="8229600" cy="5181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te the in the previous example the savings were $5,000 per year for 10 yea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ognizing that the savings will come in the future over 10 years, we need to adjust the savings by a discount r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 discount rate will be used to adjust the future savings into present value terms.  Using the previous example, savings in each future year will worth less today as it will be received further in the fu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value of savings in Year 1 is worth less than Year 2, which is worth less than Year 3, etc.  For example $5,000 discounted at 10% yields the following discounted value (i.e. present value)</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5,000 received in 1 Year is worth $4,545 toda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5,000 received in 2 Years is worth $4,132 toda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5,000 received in 3 Years is worth $3,756 toda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5,000 received in 10 Years is worth $1,928 today</a:t>
            </a:r>
            <a:endParaRPr b="0" lang="en-US" sz="19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457200" y="837720"/>
            <a:ext cx="8229600" cy="5288040"/>
          </a:xfrm>
          <a:prstGeom prst="rect">
            <a:avLst/>
          </a:prstGeom>
          <a:noFill/>
          <a:ln w="0">
            <a:noFill/>
          </a:ln>
        </p:spPr>
        <p:txBody>
          <a:bodyPr anchor="t">
            <a:normAutofit/>
          </a:bodyPr>
          <a:p>
            <a:pPr marL="514440" indent="-514440">
              <a:spcBef>
                <a:spcPts val="799"/>
              </a:spcBef>
              <a:buClr>
                <a:srgbClr val="000000"/>
              </a:buClr>
              <a:buFont typeface="Calibri"/>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elements of project and asset evaluation</a:t>
            </a:r>
            <a:endParaRPr b="0" lang="en-US" sz="32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Depreciation and income taxe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Price change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Replacement analysi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reciation and Income Taxes</a:t>
            </a:r>
            <a:endParaRPr b="0" lang="en-US" sz="4400" spc="-1" strike="noStrike">
              <a:solidFill>
                <a:srgbClr val="000000"/>
              </a:solidFill>
              <a:latin typeface="Calibri"/>
            </a:endParaRPr>
          </a:p>
        </p:txBody>
      </p:sp>
      <p:sp>
        <p:nvSpPr>
          <p:cNvPr id="485" name=""/>
          <p:cNvSpPr txBox="1"/>
          <p:nvPr/>
        </p:nvSpPr>
        <p:spPr>
          <a:xfrm>
            <a:off x="456840" y="1371240"/>
            <a:ext cx="8458200" cy="4754520"/>
          </a:xfrm>
          <a:prstGeom prst="rect">
            <a:avLst/>
          </a:prstGeom>
          <a:noFill/>
          <a:ln w="0">
            <a:noFill/>
          </a:ln>
        </p:spPr>
        <p:txBody>
          <a:bodyPr anchor="t">
            <a:normAutofit/>
          </a:bodyPr>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What is Depreciation?</a:t>
            </a:r>
            <a:endParaRPr b="0" lang="en-US" sz="35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Long-lived assets</a:t>
            </a:r>
            <a:r>
              <a:rPr b="0" lang="en-US" sz="2500" spc="-1" strike="noStrike">
                <a:solidFill>
                  <a:srgbClr val="000000"/>
                </a:solidFill>
                <a:latin typeface="Calibri"/>
              </a:rPr>
              <a:t> such as real property, equipment, vehicles are purchased with the intention of owning them and using them for many years to make money for your busines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n you purchase a </a:t>
            </a:r>
            <a:r>
              <a:rPr b="1" lang="en-US" sz="2500" spc="-1" strike="noStrike">
                <a:solidFill>
                  <a:srgbClr val="000000"/>
                </a:solidFill>
                <a:latin typeface="Calibri"/>
              </a:rPr>
              <a:t>long lived asset</a:t>
            </a:r>
            <a:r>
              <a:rPr b="0" lang="en-US" sz="2500" spc="-1" strike="noStrike">
                <a:solidFill>
                  <a:srgbClr val="000000"/>
                </a:solidFill>
                <a:latin typeface="Calibri"/>
              </a:rPr>
              <a:t>, you may convert the cost of the asset to an expense over its useful life.  This treatment is referred to as Depreciation.</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 to Engineering Economics</a:t>
            </a:r>
            <a:endParaRPr b="0" lang="en-US" sz="4400" spc="-1" strike="noStrike">
              <a:solidFill>
                <a:srgbClr val="000000"/>
              </a:solidFill>
              <a:latin typeface="Calibri"/>
            </a:endParaRPr>
          </a:p>
        </p:txBody>
      </p:sp>
      <p:sp>
        <p:nvSpPr>
          <p:cNvPr id="45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tion – Systematic evaluation of the economic merits of proposed solutions to engineering problems.  Or restated – All problems have multiple solutions and we need a set of tools to pick the “right” solution</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For example</a:t>
            </a:r>
            <a:r>
              <a:rPr b="0" lang="en-US" sz="2400" spc="-1" strike="noStrike">
                <a:solidFill>
                  <a:srgbClr val="000000"/>
                </a:solidFill>
                <a:latin typeface="Calibri"/>
              </a:rPr>
              <a:t>: a motel’s water heater breaks and needs to be replac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ution 1 – new standard efficiency boil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ution 2 – new high efficiency boil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ution 3 – solar thermal boi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reciation and Income Taxes</a:t>
            </a:r>
            <a:endParaRPr b="0" lang="en-US" sz="4400" spc="-1" strike="noStrike">
              <a:solidFill>
                <a:srgbClr val="000000"/>
              </a:solidFill>
              <a:latin typeface="Calibri"/>
            </a:endParaRPr>
          </a:p>
        </p:txBody>
      </p:sp>
      <p:sp>
        <p:nvSpPr>
          <p:cNvPr id="487"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Example</a:t>
            </a:r>
            <a:r>
              <a:rPr b="0" lang="en-US" sz="2100" spc="-1" strike="noStrike">
                <a:solidFill>
                  <a:srgbClr val="000000"/>
                </a:solidFill>
                <a:latin typeface="Calibri"/>
              </a:rPr>
              <a:t>: assume a business purchases a high efficiency boiler with a useful life of 30 years for $20,000.  Rather than recording the total expense of the equipment in the initial year of purchase, straight line depreciation would allow you to recognize expense of $20,000/30 years or $667 per year for 30 years (the assets useful life).  </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appropriate depreciation methodology is determined using Generally Accepted Accounting Principles or GAAP.  While the following options may be the most common treatment there are many other methodologies.  </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ption 1 - $20,000 expense in Year 1 and $0 for Year 2 to Year 30</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ption 2 - $667 expense in Year 1 and in each subsequent year through Year 30</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net effect of Option 1 is  a reduction to taxable income of $20,000 in year one only while the net effect option 2 is a reduction to taxable income of $667 per year for 30 years.</a:t>
            </a: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lacement Analysis</a:t>
            </a:r>
            <a:endParaRPr b="0" lang="en-US" sz="4400" spc="-1" strike="noStrike">
              <a:solidFill>
                <a:srgbClr val="000000"/>
              </a:solidFill>
              <a:latin typeface="Calibri"/>
            </a:endParaRPr>
          </a:p>
        </p:txBody>
      </p:sp>
      <p:sp>
        <p:nvSpPr>
          <p:cNvPr id="489"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shown in the boiler example above, the replacement of equipment can vary from standard efficiency to high efficiency, to a hybrid of renewables and higher efficiency.</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n comparing replacement opportunities it is important to consider first costs (initial equipment costs) as well as operating costs.  For example, standard efficiency equipment is likely to lower initial/first costs but higher operating costs relative to more efficient equipment.</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n comparing replacement alternatives it is also critical to keep the specifications and cost inputs consistent.  For example when replacing a boiler one should ensure that all options have the same capacity and the energy prices (used to calculate savings) are the same across all option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txBox="1"/>
          <p:nvPr/>
        </p:nvSpPr>
        <p:spPr>
          <a:xfrm>
            <a:off x="457200" y="837720"/>
            <a:ext cx="8229600" cy="5288040"/>
          </a:xfrm>
          <a:prstGeom prst="rect">
            <a:avLst/>
          </a:prstGeom>
          <a:noFill/>
          <a:ln w="0">
            <a:noFill/>
          </a:ln>
        </p:spPr>
        <p:txBody>
          <a:bodyPr anchor="t">
            <a:normAutofit/>
          </a:bodyPr>
          <a:p>
            <a:pPr marL="514440" indent="-514440">
              <a:spcBef>
                <a:spcPts val="799"/>
              </a:spcBef>
              <a:buClr>
                <a:srgbClr val="000000"/>
              </a:buClr>
              <a:buFont typeface="Calibri"/>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capital and decision making with other factors</a:t>
            </a:r>
            <a:endParaRPr b="0" lang="en-US" sz="32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Breakeven and sensitivity analysi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Probabilistic risk analysi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The capital budgeting proces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Decision making considering multi-attribute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even Analysis</a:t>
            </a:r>
            <a:endParaRPr b="0" lang="en-US" sz="4400" spc="-1" strike="noStrike">
              <a:solidFill>
                <a:srgbClr val="000000"/>
              </a:solidFill>
              <a:latin typeface="Calibri"/>
            </a:endParaRPr>
          </a:p>
        </p:txBody>
      </p:sp>
      <p:sp>
        <p:nvSpPr>
          <p:cNvPr id="492" name=""/>
          <p:cNvSpPr txBox="1"/>
          <p:nvPr/>
        </p:nvSpPr>
        <p:spPr>
          <a:xfrm>
            <a:off x="456840" y="1371240"/>
            <a:ext cx="8381880" cy="4754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eakeven analysis refers to the point where </a:t>
            </a:r>
            <a:r>
              <a:rPr b="1" lang="en-US" sz="2500" spc="-1" strike="noStrike">
                <a:solidFill>
                  <a:srgbClr val="000000"/>
                </a:solidFill>
                <a:latin typeface="Calibri"/>
              </a:rPr>
              <a:t>total revenue </a:t>
            </a:r>
            <a:r>
              <a:rPr b="0" lang="en-US" sz="2500" spc="-1" strike="noStrike">
                <a:solidFill>
                  <a:srgbClr val="000000"/>
                </a:solidFill>
                <a:latin typeface="Calibri"/>
              </a:rPr>
              <a:t>equals </a:t>
            </a:r>
            <a:r>
              <a:rPr b="1" lang="en-US" sz="2500" spc="-1" strike="noStrike">
                <a:solidFill>
                  <a:srgbClr val="000000"/>
                </a:solidFill>
                <a:latin typeface="Calibri"/>
              </a:rPr>
              <a:t>total costs</a:t>
            </a:r>
            <a:r>
              <a:rPr b="0" lang="en-US" sz="2500" spc="-1" strike="noStrike">
                <a:solidFill>
                  <a:srgbClr val="000000"/>
                </a:solidFill>
                <a:latin typeface="Calibri"/>
              </a:rPr>
              <a:t>.  This concept is widely used in production and tries to answer the question, at what level of production does </a:t>
            </a:r>
            <a:r>
              <a:rPr b="1" lang="en-US" sz="2500" spc="-1" strike="noStrike">
                <a:solidFill>
                  <a:srgbClr val="000000"/>
                </a:solidFill>
                <a:latin typeface="Calibri"/>
              </a:rPr>
              <a:t>total cost </a:t>
            </a:r>
            <a:r>
              <a:rPr b="0" lang="en-US" sz="2500" spc="-1" strike="noStrike">
                <a:solidFill>
                  <a:srgbClr val="000000"/>
                </a:solidFill>
                <a:latin typeface="Calibri"/>
              </a:rPr>
              <a:t>equal </a:t>
            </a:r>
            <a:r>
              <a:rPr b="1" lang="en-US" sz="2500" spc="-1" strike="noStrike">
                <a:solidFill>
                  <a:srgbClr val="000000"/>
                </a:solidFill>
                <a:latin typeface="Calibri"/>
              </a:rPr>
              <a:t>total revenue</a:t>
            </a:r>
            <a:r>
              <a:rPr b="0" lang="en-US" sz="2500" spc="-1" strike="noStrike">
                <a:solidFill>
                  <a:srgbClr val="000000"/>
                </a:solidFill>
                <a:latin typeface="Calibri"/>
              </a:rPr>
              <a:t>?</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om an energy efficiency perspective, we look at point where </a:t>
            </a:r>
            <a:r>
              <a:rPr b="1" lang="en-US" sz="2500" spc="-1" strike="noStrike">
                <a:solidFill>
                  <a:srgbClr val="000000"/>
                </a:solidFill>
                <a:latin typeface="Calibri"/>
              </a:rPr>
              <a:t>total project cost </a:t>
            </a:r>
            <a:r>
              <a:rPr b="0" lang="en-US" sz="2500" spc="-1" strike="noStrike">
                <a:solidFill>
                  <a:srgbClr val="000000"/>
                </a:solidFill>
                <a:latin typeface="Calibri"/>
              </a:rPr>
              <a:t>equals </a:t>
            </a:r>
            <a:r>
              <a:rPr b="1" lang="en-US" sz="2500" spc="-1" strike="noStrike">
                <a:solidFill>
                  <a:srgbClr val="000000"/>
                </a:solidFill>
                <a:latin typeface="Calibri"/>
              </a:rPr>
              <a:t>total project savings</a:t>
            </a: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even Analysis</a:t>
            </a:r>
            <a:endParaRPr b="0" lang="en-US" sz="4400" spc="-1" strike="noStrike">
              <a:solidFill>
                <a:srgbClr val="000000"/>
              </a:solidFill>
              <a:latin typeface="Calibri"/>
            </a:endParaRPr>
          </a:p>
        </p:txBody>
      </p:sp>
      <p:sp>
        <p:nvSpPr>
          <p:cNvPr id="49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shown earlier the breakeven point is measured in time, the time it takes for accumulated savings to equal total project costs. This is the same concept as payback.</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ing an example from above, if a project costs $20,000 and saves $5,000 each year, at what point do the savings equal the cost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0/$5,000 = 4 years to breakeve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sitivity Analysis</a:t>
            </a:r>
            <a:endParaRPr b="0" lang="en-US" sz="44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ing the previous example, we can question regarding the sensitivity of the breakeven analysis. For example what would happen to the breakeven analysis if:</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 costs were 25% or 50% higher?</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 savings were 50% of projections?</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ergy prices went up 15%?</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of these changes will impact the breakeven poi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sitivity Analysis</a:t>
            </a:r>
            <a:endParaRPr b="0" lang="en-US" sz="4400" spc="-1" strike="noStrike">
              <a:solidFill>
                <a:srgbClr val="000000"/>
              </a:solidFill>
              <a:latin typeface="Calibri"/>
            </a:endParaRPr>
          </a:p>
        </p:txBody>
      </p:sp>
      <p:sp>
        <p:nvSpPr>
          <p:cNvPr id="498" name="PlaceHolder 2"/>
          <p:cNvSpPr>
            <a:spLocks noGrp="1"/>
          </p:cNvSpPr>
          <p:nvPr>
            <p:ph/>
          </p:nvPr>
        </p:nvSpPr>
        <p:spPr>
          <a:xfrm>
            <a:off x="457200" y="1295280"/>
            <a:ext cx="8229600" cy="50292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conduct sensitivity analysis one should re-run the breakeven analysis, adjusting, for example energy prices (which impact savings), project costs, and project savings</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Using the above examples, the breakeven analysis can be recalculated</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itial analysis: $20,000 project costs/$5,000 project savings annually = 4 years</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ject costs were 25% higher: $25,000/$5,000 = 5 years </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ject savings were 50% of projections: $20,000/$2,500 = 8 years</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ergy prices went up 15%: $20,000/$5,750 = 3.5 years.  Note that increases in energy costs have a positive impact on the breakeven analysis since there will be more savings as prices rise. </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abilistic Risk Analysis</a:t>
            </a:r>
            <a:endParaRPr b="0" lang="en-US" sz="4400" spc="-1" strike="noStrike">
              <a:solidFill>
                <a:srgbClr val="000000"/>
              </a:solidFill>
              <a:latin typeface="Calibri"/>
            </a:endParaRPr>
          </a:p>
        </p:txBody>
      </p:sp>
      <p:sp>
        <p:nvSpPr>
          <p:cNvPr id="500"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babilistic risk assessment (PRA)</a:t>
            </a:r>
            <a:r>
              <a:rPr b="0" lang="en-US" sz="2500" spc="-1" strike="noStrike">
                <a:solidFill>
                  <a:srgbClr val="000000"/>
                </a:solidFill>
                <a:latin typeface="Calibri"/>
              </a:rPr>
              <a:t> is a systematic and comprehensive methodology to evaluate risks associated with a complex engineered / technological entities.</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sk in a PRA is defined as a feasible detrimental outcome of an activity or action characterized by two quantities:</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agnitude (severity) of the possible adverse consequence(s), and</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likelihood (probability) of occurrence of each consequ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abilistic Risk Analysis</a:t>
            </a:r>
            <a:endParaRPr b="0" lang="en-US" sz="4400" spc="-1" strike="noStrike">
              <a:solidFill>
                <a:srgbClr val="000000"/>
              </a:solidFill>
              <a:latin typeface="Calibri"/>
            </a:endParaRPr>
          </a:p>
        </p:txBody>
      </p:sp>
      <p:sp>
        <p:nvSpPr>
          <p:cNvPr id="502" name="PlaceHolder 2"/>
          <p:cNvSpPr>
            <a:spLocks noGrp="1"/>
          </p:cNvSpPr>
          <p:nvPr>
            <p:ph/>
          </p:nvPr>
        </p:nvSpPr>
        <p:spPr>
          <a:xfrm>
            <a:off x="457200" y="1447560"/>
            <a:ext cx="8229600" cy="47545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sequences are expressed numerically (e.g., the number of people potentially hurt or killed) and their likelihoods of occurrence are expressed as probabilities or frequencies (i.e., the number of occurrences or the probability of occurrence per unit time). </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total risk is the expected loss: the sum of the products of the consequences multiplied by their probabilities.</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spectrum of risks across classes of events are also of concern, and are usually controlled in licensing processes – it would be of concern if rare but high consequence events were found to dominate the overall risk, particularly as these risk assessments are very sensitive to assumptions (how rare is a high consequence event?)</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abilistic Risk Assessment</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babilistic Risk Assessment usually answers three basic questions:</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an go wrong with the studied technological entity, or what are the initiators or initiating events (undesirable starting events) that lead to adverse consequenc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nd how severe are the potential detriments, or the adverse consequences that the technological entity may be eventually subjected to as a result of the occurrence of the initiato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likely to occur are these undesirable consequences, or what are their probabilities or frequenc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ineering Economics</a:t>
            </a:r>
            <a:endParaRPr b="0" lang="en-US" sz="44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nciples in engineering economics are:</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lvl="1" marL="914400" indent="-457200">
              <a:lnSpc>
                <a:spcPct val="80000"/>
              </a:lnSpc>
              <a:spcBef>
                <a:spcPts val="62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ternative solutions to the same problem e.g. a motel that needs to replace a boiler</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lvl="1" marL="914400" indent="-457200">
              <a:lnSpc>
                <a:spcPct val="80000"/>
              </a:lnSpc>
              <a:spcBef>
                <a:spcPts val="62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sistency in assessment – “everything must be measured in the same way”</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a:p>
            <a:pPr lvl="1" marL="914400" indent="-457200">
              <a:lnSpc>
                <a:spcPct val="80000"/>
              </a:lnSpc>
              <a:spcBef>
                <a:spcPts val="62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stand that uncertainty is always present i.e. energy prices could rise or fall or savings from efficient equipment could be higher or low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 Budgeting Process</a:t>
            </a:r>
            <a:endParaRPr b="0" lang="en-US" sz="44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pital budgeting</a:t>
            </a:r>
            <a:r>
              <a:rPr b="0" lang="en-US" sz="2200" spc="-1" strike="noStrike">
                <a:solidFill>
                  <a:srgbClr val="000000"/>
                </a:solidFill>
                <a:latin typeface="Calibri"/>
              </a:rPr>
              <a:t> is the planning process used to assess a company’s choice to invest in various </a:t>
            </a:r>
            <a:r>
              <a:rPr b="1" lang="en-US" sz="2200" spc="-1" strike="noStrike">
                <a:solidFill>
                  <a:srgbClr val="000000"/>
                </a:solidFill>
                <a:latin typeface="Calibri"/>
              </a:rPr>
              <a:t>long lived assets</a:t>
            </a:r>
            <a:r>
              <a:rPr b="0" lang="en-US" sz="2200" spc="-1" strike="noStrike">
                <a:solidFill>
                  <a:srgbClr val="000000"/>
                </a:solidFill>
                <a:latin typeface="Calibri"/>
              </a:rPr>
              <a:t>.  The process can be viewed as a budget for major capital, or investment expenditures.</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employed in the decision analysis to purchase capital use incremental cash flows for each potential investment.  Methods used  range from Simple Payback calculations to more sophisticated Net Present Value (NPV) and Return on Investment (ROI)</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PV and ROI are considered a more reliable method as they take into account the time value of money</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xample used in the previous “Benefit Cost Ratio Calculation” yields a non discounted ROI of 150%.  When the time value of money is applied to the incremental cash flow the discounted ROI in today’s dollars is 43%.  Still a fairly robust retur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 Project Selection Example</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has allocated $350,000 for energy related capital proj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te staff have identified the following project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budget which projects are selected?</a:t>
            </a:r>
            <a:endParaRPr b="0" lang="en-US" sz="2800" spc="-1" strike="noStrike">
              <a:solidFill>
                <a:srgbClr val="000000"/>
              </a:solidFill>
              <a:latin typeface="Calibri"/>
            </a:endParaRPr>
          </a:p>
        </p:txBody>
      </p:sp>
      <p:pic>
        <p:nvPicPr>
          <p:cNvPr id="509" name="" descr=""/>
          <p:cNvPicPr/>
          <p:nvPr/>
        </p:nvPicPr>
        <p:blipFill>
          <a:blip r:embed="rId1"/>
          <a:stretch/>
        </p:blipFill>
        <p:spPr>
          <a:xfrm>
            <a:off x="380880" y="3124080"/>
            <a:ext cx="8382240" cy="190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 Project Selection Example</a:t>
            </a:r>
            <a:endParaRPr b="0" lang="en-US" sz="4400" spc="-1" strike="noStrike">
              <a:solidFill>
                <a:srgbClr val="000000"/>
              </a:solidFill>
              <a:latin typeface="Calibri"/>
            </a:endParaRPr>
          </a:p>
        </p:txBody>
      </p:sp>
      <p:sp>
        <p:nvSpPr>
          <p:cNvPr id="511"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the projects is as follows:</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upon payback the projects are ranked as follows-5,4,3,1,2</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upon ROI (and discounting for future savings) the projects are ranked as follows-5,4,1,3,2</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by accounting for the time value of money we shift the order of the projects.  With $350,000 to spend the firm would undertake projects 5, 4, and 1</a:t>
            </a:r>
            <a:endParaRPr b="0" lang="en-US" sz="24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12" name="" descr=""/>
          <p:cNvPicPr/>
          <p:nvPr/>
        </p:nvPicPr>
        <p:blipFill>
          <a:blip r:embed="rId1"/>
          <a:stretch/>
        </p:blipFill>
        <p:spPr>
          <a:xfrm>
            <a:off x="609480" y="1905120"/>
            <a:ext cx="7899480" cy="190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 Project Selection Example</a:t>
            </a:r>
            <a:endParaRPr b="0" lang="en-US" sz="4400" spc="-1" strike="noStrike">
              <a:solidFill>
                <a:srgbClr val="000000"/>
              </a:solidFill>
              <a:latin typeface="Calibri"/>
            </a:endParaRPr>
          </a:p>
        </p:txBody>
      </p:sp>
      <p:sp>
        <p:nvSpPr>
          <p:cNvPr id="514"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le the financial analysis of projects uses the best available information, sometimes inputs may change, or perhaps not be known with certainty.  Sensitivity analysis will help inform the decisions.</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would the analysis be impacted by:</a:t>
            </a:r>
            <a:endParaRPr b="0" lang="en-US" sz="27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10% increase in energy prices?</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ise in labor rates?</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utility program offering $250,000 in no interest loans?</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kelihood that the cooling tower will fail soon and require emergency backup of $175,000 while it is being repaired?</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swers</a:t>
            </a:r>
            <a:endParaRPr b="0" lang="en-US" sz="4400" spc="-1" strike="noStrike">
              <a:solidFill>
                <a:srgbClr val="000000"/>
              </a:solidFill>
              <a:latin typeface="Calibri"/>
            </a:endParaRPr>
          </a:p>
        </p:txBody>
      </p:sp>
      <p:sp>
        <p:nvSpPr>
          <p:cNvPr id="51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would the analysis be impacted by:</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10% increase in energy prices?  Paybacks and returns would improve since the savings would be higher</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ise in labor rates?  Paybacks and returns would be worse since project costs would be higher</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utility program offering $250,000 in no interest loans?  Would allow the firm to do more projects, effectively increasing the capital pool to $600,000</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kelihood that the cooling tower will fail soon and require emergency backup of $175,000 while it is being repaired?  Consider moving up the cooling tower project up</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ineering Economics</a:t>
            </a:r>
            <a:endParaRPr b="0" lang="en-US" sz="4400" spc="-1" strike="noStrike">
              <a:solidFill>
                <a:srgbClr val="000000"/>
              </a:solidFill>
              <a:latin typeface="Calibri"/>
            </a:endParaRPr>
          </a:p>
        </p:txBody>
      </p:sp>
      <p:sp>
        <p:nvSpPr>
          <p:cNvPr id="45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pplying the principles to the motel boiler replacement example:</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ach boiler option would provide the same amount of hot water to the motel, i.e. we need to compare “apples to apples”</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l boiler options would include equipment and installation labor.  All options should use the same energy prices and assume the same base case usage</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ognize that prices may rise and savings may be higher or lower than projected.  If using price escalators (increases) make sure they are the same across the options.  If accounting for variation in savings by sure to apply the changes (e.g. 20% less savings, 15% more savings) uniformly</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Cost Concepts</a:t>
            </a:r>
            <a:endParaRPr b="0" lang="en-US" sz="4400" spc="-1" strike="noStrike">
              <a:solidFill>
                <a:srgbClr val="000000"/>
              </a:solidFill>
              <a:latin typeface="Calibri"/>
            </a:endParaRPr>
          </a:p>
        </p:txBody>
      </p:sp>
      <p:sp>
        <p:nvSpPr>
          <p:cNvPr id="458"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sts need to be accounted for order to compare alternative solutions.  Costs can be grouped into 3 major categorie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cost: the costs associated with installing a project, e.g. the costs to install a high efficiency boiler</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 and maintenance cost: the costs required to operate equipment and to keep it in good working order, e.g. cleaning burners for boiler or cleaning thermal panels to ensure good solar conductiv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 cycle cost: Total costs over the life of a project/installation, e.g. life cycle costs for a high efficiency boiler would include the first cost plus operations and maintenance cos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Economics</a:t>
            </a:r>
            <a:endParaRPr b="0" lang="en-US" sz="44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ation of cost over the whole life of a project and not just the capital cost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ation of capital/first cost against operations and maintenance (O&amp;M) cost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Economics</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er replacement example:  High efficiency boilers have a higher first cost compared to standard efficiency boiler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tandard efficiency boiler: </a:t>
            </a:r>
            <a:endParaRPr b="0" lang="en-US" sz="21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stallation cost-$15,000, O&amp;M costs – $228,800</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igh efficiency boiler:</a:t>
            </a:r>
            <a:endParaRPr b="0" lang="en-US" sz="21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stallation cost-$20,000, O&amp;M costs – $214,175</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parison Standard vs. High Efficiency:</a:t>
            </a:r>
            <a:endParaRPr b="0" lang="en-US" sz="21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stallation - $5,000 higher for high efficiency </a:t>
            </a:r>
            <a:endParaRPr b="0" lang="en-US" sz="21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amp;M costs - $14,625lower for high efficiency</a:t>
            </a:r>
            <a:endParaRPr b="0" lang="en-US" sz="2100" spc="-1" strike="noStrike">
              <a:solidFill>
                <a:srgbClr val="000000"/>
              </a:solidFill>
              <a:latin typeface="Calibri"/>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o you tradeoff $5,000 in first cost for $14,625 in O&amp;M savings over the life of the equipment?</a:t>
            </a: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Estimation Techniqu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st estimation approach depends upon the stage in the construction/implementation process and the project economic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 estimation varies from detailed contractor bids through tools such as RS Means (www.rsmeans.com)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more accurate bids are required when the project economics more restrictive or the project is complex – basically when the “cost” of missing the budget is hig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Estimation Technique</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Example of need for accurate estimation due to high cost of missing the budget</a:t>
            </a:r>
            <a:r>
              <a:rPr b="0" lang="en-US" sz="2300" spc="-1" strike="noStrike">
                <a:solidFill>
                  <a:srgbClr val="000000"/>
                </a:solidFill>
                <a:latin typeface="Calibri"/>
              </a:rPr>
              <a:t>:  HVAC retrofits in hospitals or data centers where it is critical that facilities are operating.  That is, these facilities will have to operate no matter what cost.  Project cost over runs have huge effects on operations. </a:t>
            </a:r>
            <a:br>
              <a:rPr sz="2300"/>
            </a:br>
            <a:r>
              <a:rPr b="0" lang="en-US"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Example of less sensitive estimates and budgets:  </a:t>
            </a:r>
            <a:r>
              <a:rPr b="0" lang="en-US" sz="2300" spc="-1" strike="noStrike">
                <a:solidFill>
                  <a:srgbClr val="000000"/>
                </a:solidFill>
                <a:latin typeface="Calibri"/>
              </a:rPr>
              <a:t>In the case of a lighting, lamp and ballast, retrofit for an office building is relatively simple.  In this simpler case if the project is costs are off, the cost of missing the budget is relatively low.</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05Z</dcterms:created>
  <dc:creator>irinak</dc:creator>
  <dc:description/>
  <dc:language>en-US</dc:language>
  <cp:lastModifiedBy>CCSF</cp:lastModifiedBy>
  <cp:lastPrinted>2013-11-08T19:02:21Z</cp:lastPrinted>
  <dcterms:modified xsi:type="dcterms:W3CDTF">2013-11-12T23:49:21Z</dcterms:modified>
  <cp:revision>354</cp:revision>
  <dc:subject/>
  <dc:title>Energy and Building Science</dc:title>
</cp:coreProperties>
</file>