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1520-910F-476F-9C91-5237B58EE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edit other slides, use Arial (Headings) 36 flush left for titles and Arial (Body) 24 for body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9CC1-B66B-43D8-98F2-7C9AD46DF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B7ED-E46B-47A8-98B0-1FB820ECE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ECA-8EE3-4907-91D1-094A3528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EE8-8564-4192-886E-B47DA72A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189-1CE1-4946-83A0-80C2E673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46B-FE2A-463C-95E2-64359E72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3045-56A0-4ACF-B855-3D67E6BB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406A-F7CF-493F-B01A-9B23539B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57FC-1460-49AB-97DA-609C236D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9FFD-1643-4D02-B82D-BA119C33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FFC5-B469-4FC2-96A1-F6CBD10B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C70A-31D2-4D69-BB50-5A6FDCC9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821D-489E-444D-BB8E-24FE57DA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93F-7935-47A8-866D-70AC6496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3E52-CBC2-4A2B-A757-CCB6F538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7ADD-BA84-4C4B-A93E-5C208A4D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1701-BE95-495D-8909-BBBBE63C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CC81-DE14-4B48-B9AF-EAE18E65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6BAA-F719-4E4A-97F5-21AEDDA7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10B-2C11-4D24-8174-7E49A06E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079-813C-4482-B198-BF9C0AC3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58D-B93C-4636-85AF-563C7D6B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076-B8B7-4627-B563-9455A6B4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BFA-361A-4C82-B640-A423AE18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E8F-D63B-4FA5-B5CD-A6F66BED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EF0-04D3-4BD6-9F6D-2AD77440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15F3-F4BE-4A7B-AD90-DBA22A548E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9EC0-D6B7-4E26-9439-9614B47F85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52280" y="10288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terrestrial internal radiation, uranium, thorium, radium, curie, becquerel, roentgen, dose, RAD, REM, x-rays, gamma, beta, alpha, fission fragments,  mrad,  tissue, organ,  affect on cells, blood,  whole body exposure,  acute, chronic,  genetic,  body burden, time distance shielding, g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s module examines the affects of short and long term exposure to all types of radi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1600200"/>
          <a:ext cx="8107560" cy="1515960"/>
        </p:xfrm>
        <a:graphic>
          <a:graphicData uri="http://schemas.openxmlformats.org/drawingml/2006/table">
            <a:tbl>
              <a:tblPr/>
              <a:tblGrid>
                <a:gridCol w="1351080"/>
                <a:gridCol w="1351080"/>
                <a:gridCol w="1350720"/>
                <a:gridCol w="1352520"/>
                <a:gridCol w="1351080"/>
                <a:gridCol w="1351080"/>
              </a:tblGrid>
              <a:tr h="40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4052-F0E1-442E-B9DE-5A3350250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inous watches (trit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tern mantles (thor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 (polonium-21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hthalmic glass used in eyegla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r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C4A7-7225-443E-95C4-C559FB952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ly Exposed Individuals (Work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radiography (X-ray imag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dicine depar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logy (medical imaging, X-rays,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oncology (cancer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power pl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fuel cycle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and university research labora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Qua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e :: the amount of radioactive material decaying at 2.22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minute or 3.7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.7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ays per second (d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querel :: the amount of radioactive material decaying at 1 decay per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Bq = 1 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DE3D-4FB2-4EE9-A56E-324CC065B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9C36-AB31-40A2-B402-C017422D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lly described by decay rate of radioactive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actors must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entgen (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2189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gamma or x-ray interactions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energy deposition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ty of x-ray or gamma radiation producing 1 esu of charge (positive or negative) in 1 cc 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dr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u = electrostatic unit of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ionizing event = addition or removal of 1 electron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2.0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on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88 erg/gram energy deposition in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 = unit of work or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oesn’t relate to biological da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B9CF-3256-4D86-8380-B04EA0B58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Absorbed Dose (RA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= Total amount of energy delivered to a specific area or organ by rad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 = dose units per unit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is an amount of any type of ionizing radiation that deposits 100 ergs/gram i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= 100 ergs/gram energy deposition (t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ifferent types of ionizing radiation might have the same energy, but have totally different effects 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209C-C16C-4E02-B58F-9FE9E78D6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1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entgen Equivalent M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(REM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ionizing radiation required to produce the same biological effect as one rad of high-penetration x-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dose in rem is referred to as the dose equivalent (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(rem) = Dose (rad)  x 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Factor (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s for differences in biological effect for different type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B259-C589-4E33-B87B-A17BC7FA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Fa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3808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amma, X-Rays, and High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 rad =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pha, Proton, Neutron, and Low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a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em = 1 rad *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1830-7445-481A-AD56-2B0D1068B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91000"/>
          <a:ext cx="6232320" cy="3051000"/>
        </p:xfrm>
        <a:graphic>
          <a:graphicData uri="http://schemas.openxmlformats.org/drawingml/2006/table">
            <a:tbl>
              <a:tblPr/>
              <a:tblGrid>
                <a:gridCol w="3116160"/>
                <a:gridCol w="3116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6"/>
          <p:cNvSpPr/>
          <p:nvPr/>
        </p:nvSpPr>
        <p:spPr>
          <a:xfrm>
            <a:off x="0" y="24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219320" y="3895560"/>
            <a:ext cx="621972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219320" y="4838760"/>
            <a:ext cx="6221160" cy="179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Radiation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8760" y="823680"/>
            <a:ext cx="87631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effect of any radiation is related to rate at which radiation transfers energy to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of the interaction density along radiation travel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valent to ionization potential or stopping power of body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ely proportional to radiation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 range particles like alphas have a high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damaging types of radiation to a biological system are those with a high 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T radiation deposits all of its energy in a short distance of tra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35C2-EEA4-4E1F-B0D8-B1A86A589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increase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mass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charge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energy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of decreasing 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sion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ass number nucl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424E-80F4-4B6D-8F99-9C7E0A66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Different Radiat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34DA-08E8-4824-BE2B-C3FA246AF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ources of Radiation Exposure in the 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1031760" y="993600"/>
          <a:ext cx="667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93600"/>
                    <a:ext cx="667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ship between LET and Q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A290-BAFE-48E7-8A90-F36331B60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990720"/>
          <a:ext cx="8382240" cy="51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21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 ENERGY TRANSF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E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eV/micron in water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QF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or l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– 7.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 – 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–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- 5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– 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– 1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2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dose of alpha particles to an individual is three rad.  Calculate the dose equivalent in rem using the appropriate Quality Factor (QF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3C80-EA6C-4DBF-9761-158787415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"/>
              <p:cNvSpPr txBox="1"/>
              <p:nvPr/>
            </p:nvSpPr>
            <p:spPr>
              <a:xfrm>
                <a:off x="162000" y="3570120"/>
                <a:ext cx="3638520" cy="31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4179960" y="3589200"/>
          <a:ext cx="4767120" cy="3051360"/>
        </p:xfrm>
        <a:graphic>
          <a:graphicData uri="http://schemas.openxmlformats.org/drawingml/2006/table">
            <a:tbl>
              <a:tblPr/>
              <a:tblGrid>
                <a:gridCol w="2790720"/>
                <a:gridCol w="197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8143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measured by instruments, an individual was exposed to radiation field consisting of 5 mrad gamma, 2 mrad beta, and 5 mrad fast neutrons. Calculate the dose equivalent in r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2B77-7B7F-45D7-A0B1-74CAB85C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419040" y="2255760"/>
                <a:ext cx="4135320" cy="401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5742000" y="3521160"/>
          <a:ext cx="3273480" cy="3051000"/>
        </p:xfrm>
        <a:graphic>
          <a:graphicData uri="http://schemas.openxmlformats.org/drawingml/2006/table">
            <a:tbl>
              <a:tblPr/>
              <a:tblGrid>
                <a:gridCol w="2790720"/>
                <a:gridCol w="482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– basic unit of the human 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ssue - cells with similar structure performing sam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– cells with different structure (different tissues) performing similar overall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– group of organs performing comm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536D-4750-4F9F-A45B-E95475D4B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54DA-0AC9-4F65-A527-3E1DA8607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cell from external influences, such as 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kee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convert nutrients int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iochemical reactions for bodil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rcRect l="0" t="15406" r="29839" b="16427"/>
          <a:stretch/>
        </p:blipFill>
        <p:spPr>
          <a:xfrm>
            <a:off x="4491000" y="3860640"/>
            <a:ext cx="4653000" cy="2826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529240" y="766800"/>
            <a:ext cx="36147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ugh endoplasmic reticulum (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ioles within centr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036880" y="6176880"/>
            <a:ext cx="3165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 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3DCF-CC08-45AF-9F15-C966640BE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structions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within chromos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ds of amino acids (deoxyribonucleic acids –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bodily function if damaged or mal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rcRect l="2859" t="20147" r="43381" b="12370"/>
          <a:stretch/>
        </p:blipFill>
        <p:spPr>
          <a:xfrm>
            <a:off x="4419720" y="1236600"/>
            <a:ext cx="4724280" cy="3705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6878520" y="4890960"/>
            <a:ext cx="2265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ECAC-CEA0-49A1-9BBB-4DB1CEE1C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" y="74520"/>
            <a:ext cx="82296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Segment of DNA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520" t="21499" r="48358" b="10002"/>
          <a:stretch/>
        </p:blipFill>
        <p:spPr>
          <a:xfrm>
            <a:off x="660240" y="939960"/>
            <a:ext cx="6634440" cy="5556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7532640" y="55148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06F6-A092-40AC-9A8F-C6B3B0E82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76040" y="1382400"/>
            <a:ext cx="8791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om (either neutral or charged) with unpaired electrons that wants to join with another atom to stabiliz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s that have not yet bonded with other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reactive atoms or chemical compounds that can alter existing state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cellular chemistry are the root causes of all the harmful effects of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C29A-118E-4AB9-A304-04739EF64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46240" y="1580760"/>
            <a:ext cx="86817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onization and excitation of intracellular water molecules produces free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sequent interference of free radicals with cells not direct affected by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44A2-D26B-4A92-A36C-4C8446275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background radiation comes from three 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D2CC-47A5-42ED-93F2-F62DA8F6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2B0A-963E-4CFD-A50F-74D116F50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425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: production of free radicals i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 by Ionization: Hydrogen Radical (H</a:t>
            </a:r>
            <a:r>
              <a:rPr b="0" lang="en-US" sz="3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absorb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drogen radical and hydroxyl ion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rad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1160640" y="4595760"/>
                <a:ext cx="6845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8006-CF77-4D11-9F8B-7984E616C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81440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ysis by Ioniz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xyl Radical (OH</a:t>
            </a:r>
            <a:r>
              <a:rPr b="0" lang="en-US" sz="2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on removed from water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ionized water removes hydrogen from neutral water to form hydroxyl ra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1374840" y="4827600"/>
                <a:ext cx="601344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AEE5-88BB-4211-BE8F-4DF2133B7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42520"/>
            <a:ext cx="9020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ysis by Exc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and Hydroxyl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electron excites water molecule, but is not absor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ited water molecule splits into hydrogen and hydroxyl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633680" y="4665600"/>
                <a:ext cx="544176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120080" y="627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12EF-2DA1-4BFD-9139-471ABC477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1420560"/>
            <a:ext cx="88470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radicals immediately react with each other to produce harmless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y might react with other molecules in the cell, causing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1382760" y="2577960"/>
                <a:ext cx="455436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958000" y="2654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but new cells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producing ab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air itself and function norm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62F5-A4B8-4678-AD9B-1A39DE1FF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376D-F584-4679-9278-33D228B0A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35280" y="41068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rcRect l="0" t="51499" r="0" b="2798"/>
          <a:stretch/>
        </p:blipFill>
        <p:spPr>
          <a:xfrm>
            <a:off x="2725560" y="2157480"/>
            <a:ext cx="3079800" cy="416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CF45-86F0-4CF9-B417-6CE275453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enzymes, DNA etc. and interference with biological path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cell membranes, nucleus, chromosome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Inhibition of cell division, cell death, transformation to a malignant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4D8F-259E-49BB-A5B9-6C364098A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ssue, Org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ruption to central nervous system, bone marrow, 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on of canc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le Anim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fe shorte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he genetic characteristics of individual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sensi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ells within the body have different structures an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in thei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o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ceptibility to radiation-induced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42F2-B997-47CA-B16A-088BC6A79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6560" y="107964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ivis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ly dividing cells are more sensitivity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metabolism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with high metabolism rat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division stag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/ nourishment to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undernourished cells reproduce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er reproduction = more mu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9004-9DF4-4E1F-A7CD-97A8430EB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7200" y="11268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4 Factors Affecting Radio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 and stars send constant stream of cosmic radiation to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steady drizzle of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in certain variables can change the amount (or dose) of cosmic radiation that we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mospheric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's magnetic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2E57-9C80-4E0A-A5A2-D53B8E4EE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/ tissue radiosensitivity influenced by 2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sensitivity of the tissue/organ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to overall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radiosensitive organs and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 (t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-forming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nads (reproductive org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ns of the e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st radiosensitive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rain (cells do not reprodu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9EBF-C9EC-4617-AFFB-CCAF4C00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ost radiosensitive tissues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blood cells have an already short lifespan and high metabolic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in toxin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s (reproductive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s occurring in egg or sperm cells could result in a mutation in the 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rads: temporary depletion of sperm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 to 400 rad: function of ovaries impa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4D51-3173-4F9A-B14A-172301082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5248-4836-4D4C-8685-92B83DFBE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460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25360" y="700200"/>
          <a:ext cx="8575920" cy="5945040"/>
        </p:xfrm>
        <a:graphic>
          <a:graphicData uri="http://schemas.openxmlformats.org/drawingml/2006/table">
            <a:tbl>
              <a:tblPr/>
              <a:tblGrid>
                <a:gridCol w="1602000"/>
                <a:gridCol w="1611000"/>
                <a:gridCol w="1638360"/>
                <a:gridCol w="1478160"/>
                <a:gridCol w="2246400"/>
              </a:tblGrid>
              <a:tr h="100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ELL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TIME OF CE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 OF SINGLE RADIATION EXPOSURE OF &gt; 100 R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(Erythrocyt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oxygen and nutrients to bod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 decrease in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ocyte (type of white blood ce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 nodes and sple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within 2 days after exposure; large decrease in number can result in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hrophils (type of white blood cell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proportional to dose; depletion results in infection and fe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tele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lo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– 1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in number can result in hemorrh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0720" y="772920"/>
            <a:ext cx="89629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tissue to exhibit noticeable radiation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diosensitivity due to the high rate of cell division and degree of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 to 500 rad: Erythema (redde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dose: blistering and ulceration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term complications: scarring and skin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CFA7-9DC8-484B-852C-A29968234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58680"/>
            <a:ext cx="9144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2801880" y="3276720"/>
            <a:ext cx="3178080" cy="3267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5246-A8E8-40BC-A52A-05CAE554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00200"/>
            <a:ext cx="87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taract formation (cloudi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dose of 200-500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mulative (spread over several months) dose of 1000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6560" y="182520"/>
            <a:ext cx="8267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</a:t>
            </a:r>
            <a:br>
              <a:rPr sz="4000"/>
            </a:b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ens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rcRect l="16669" t="20483" r="24977" b="12186"/>
          <a:stretch/>
        </p:blipFill>
        <p:spPr>
          <a:xfrm>
            <a:off x="3960720" y="3413160"/>
            <a:ext cx="4419720" cy="3186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397240" y="560088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Effects on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a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0ED0-CE2C-4E70-9900-574563CD9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39680" y="1599840"/>
            <a:ext cx="90043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diation of same type, range in tissue increases with increas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of penetration is function of type of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particles and neutrons will not penetrate as far as electromagnetic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depends on charge, mass, an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LET = higher QF = more biological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0514-EC2E-4D6A-91ED-82D1781BF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57200" y="27468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diatio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diation of all cells, organs, and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s depends on which organ is sensitive at the given dos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limited to tissues and organs within exposed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localized doses of radiation are used to treat certain cancers without significant damage to the rest of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2273-26CA-40E4-9777-A102DA3EE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57200" y="227160"/>
            <a:ext cx="83376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Portion of Body Ex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99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damage decreases with decreasing dose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ut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 exposur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hronic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w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ng exposure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radiation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ure from natural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4C6F-22A4-4E00-8C81-766EE8A5C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57200" y="93600"/>
            <a:ext cx="84056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te of Exp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893304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0600" y="159984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clinical Range (0 to 1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ckness occurs which requires medical at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hanges occur in the blood for doses near 1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apeutic Range (100 to 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, vomiting, loss of appetite, and fati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od damag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ness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hal Range (&gt;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 and vomiting becom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hemorrhaging may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r loss at 3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- 600 rem: small percentage of people will die within 30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 - 1000 rem: higher chance of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1000 rem: Certain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1A64-6F97-4E4F-9AA0-2EE29D317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itself is a source of terrestrial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active materials exist naturally in soil and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contains small amounts of dissolved uranium and th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rganic matter (both plant and animal) contains radioactive carbon and potassi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21F1-FA15-4D2C-ACB5-9907859DE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4CD4-EE10-4EEE-A489-D34B3C8A7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074600"/>
          <a:ext cx="8229600" cy="5346720"/>
        </p:xfrm>
        <a:graphic>
          <a:graphicData uri="http://schemas.openxmlformats.org/drawingml/2006/table">
            <a:tbl>
              <a:tblPr/>
              <a:tblGrid>
                <a:gridCol w="2359080"/>
                <a:gridCol w="58705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se (Rads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rst sign of physical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drop in white blood cell cou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reshold for vom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in a few hours of exposu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0 - 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5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minimal supportive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0 -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50 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supportive medical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10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Rectangle 28"/>
          <p:cNvSpPr/>
          <p:nvPr/>
        </p:nvSpPr>
        <p:spPr>
          <a:xfrm>
            <a:off x="0" y="7128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Acute Radiation Effects: Whole Body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6E64-BF65-4608-93ED-2F604E449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0"/>
          <a:ext cx="9144000" cy="6561000"/>
        </p:xfrm>
        <a:graphic>
          <a:graphicData uri="http://schemas.openxmlformats.org/drawingml/2006/table">
            <a:tbl>
              <a:tblPr/>
              <a:tblGrid>
                <a:gridCol w="1488960"/>
                <a:gridCol w="1263600"/>
                <a:gridCol w="1378080"/>
                <a:gridCol w="1252440"/>
                <a:gridCol w="1257480"/>
                <a:gridCol w="1254240"/>
                <a:gridCol w="212400"/>
                <a:gridCol w="1036800"/>
              </a:tblGrid>
              <a:tr h="4305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CLINIC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EUTIC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H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2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TO 6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 TO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EFF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ROMI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ALLI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vomi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rems: 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rems: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rems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ing or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atopoietic t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rointestinal 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ervous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sig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 Leukop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 leucopenia; purpose; hemorrhage; infection.  Hair loss above 300 rem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hea; fever, disturb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ulsions; tremor; ataxia; lethar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period post 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to 6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to 14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48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; hematolog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transfusion; antibio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 bone marrow transpla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n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r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el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alescent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al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1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to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occurs with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hage; in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latory collap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iratory fail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ized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5BCA-1479-4A23-B880-51B7A5E32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Content Placeholder 4" descr="capture4.jpg"/>
          <p:cNvPicPr/>
          <p:nvPr/>
        </p:nvPicPr>
        <p:blipFill>
          <a:blip r:embed="rId1"/>
          <a:srcRect l="22911" t="0" r="21263" b="13409"/>
          <a:stretch/>
        </p:blipFill>
        <p:spPr>
          <a:xfrm>
            <a:off x="0" y="2152800"/>
            <a:ext cx="2490840" cy="390348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3" descr="capture12.jpg"/>
          <p:cNvPicPr/>
          <p:nvPr/>
        </p:nvPicPr>
        <p:blipFill>
          <a:blip r:embed="rId2"/>
          <a:srcRect l="31803" t="0" r="0" b="0"/>
          <a:stretch/>
        </p:blipFill>
        <p:spPr>
          <a:xfrm>
            <a:off x="2778120" y="2317680"/>
            <a:ext cx="2968560" cy="335916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3" descr="capture6.jpg"/>
          <p:cNvPicPr/>
          <p:nvPr/>
        </p:nvPicPr>
        <p:blipFill>
          <a:blip r:embed="rId3"/>
          <a:srcRect l="15212" t="0" r="12209" b="0"/>
          <a:stretch/>
        </p:blipFill>
        <p:spPr>
          <a:xfrm>
            <a:off x="5959440" y="2522520"/>
            <a:ext cx="30322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C348-85CE-48D6-AF44-3F60C9486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3" descr="capture8.jpg"/>
          <p:cNvPicPr/>
          <p:nvPr/>
        </p:nvPicPr>
        <p:blipFill>
          <a:blip r:embed="rId1"/>
          <a:stretch/>
        </p:blipFill>
        <p:spPr>
          <a:xfrm>
            <a:off x="0" y="2298600"/>
            <a:ext cx="5429160" cy="3660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3" descr="capture10.jpg"/>
          <p:cNvPicPr/>
          <p:nvPr/>
        </p:nvPicPr>
        <p:blipFill>
          <a:blip r:embed="rId2"/>
          <a:stretch/>
        </p:blipFill>
        <p:spPr>
          <a:xfrm>
            <a:off x="5624640" y="1373040"/>
            <a:ext cx="3352680" cy="52707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B0F2-CDA6-44FF-A88B-C1ED7B97B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Content Placeholder 3" descr="capture15.jpg"/>
          <p:cNvPicPr/>
          <p:nvPr/>
        </p:nvPicPr>
        <p:blipFill>
          <a:blip r:embed="rId1"/>
          <a:stretch/>
        </p:blipFill>
        <p:spPr>
          <a:xfrm>
            <a:off x="0" y="1405080"/>
            <a:ext cx="3618000" cy="5219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599840"/>
            <a:ext cx="850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angiect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lation (expansion) of the blood vessels in the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receive excessive blood flow, diverting blood away from other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lls that LOSE blood flow suffer from oxygen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4E7B-C99B-410E-B054-56BCD6305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CE50-583E-4B83-8444-722715820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1000" y="1600200"/>
            <a:ext cx="879156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ly loss of outer skin cells (pe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mal A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nning of the skin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lation (hair l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tinization (hardening)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ist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loss due to inability of damaged skin cells to re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damage due to dehydration and infection resulting from severe moist desqu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122D-00B4-4E42-8109-FA05D3851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FDA2-9D56-4FC3-B722-B58E7DC5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/tissue death due to insufficient blood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Epi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tissu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dose, low-energy beta ir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nic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95280"/>
            <a:ext cx="82598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tolerates small doses of radiation exposure better over a long period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s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radiation-induced by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As long as the repair or elimination rate is larger than the produc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00 rem acute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vere radiation sick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00 rem delivered at 10 rem per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ittle noticeable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2E28-68D1-44B5-B84F-3AF2C8DA1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nimals (including people) have intern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s from radioactive potassium-40 and carbon-14 inside thei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from 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minor sources of exposure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4257-9AF8-4388-BEFA-25133F5F8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8640" y="2027160"/>
            <a:ext cx="77961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manent biological damage occurs unless total dose exceeds some value (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long term chronic exposures to less than threshold values to protect against permanen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8476-9DDF-4483-87E1-28449BAA5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496800" y="32544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hreshol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0" y="14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continuously attempts to repair damage as it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amage too sev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mechanisms become str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ng effects are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d exposure shortens average life s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mutation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ukemia: Inability to produce white blood cells n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7D02-32EE-43A6-86C6-D2173A5F2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447840" y="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issue Damage and Rep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Effects of Rad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38120" y="103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een in offspring of expose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to genetic information in reproductive cells due to damaged DNA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spontaneous changes due to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EB75-9A4E-48AB-BB18-832B472DA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770D-F879-4579-A2E8-38A21C84A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the exposed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n reddening (eryt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%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omatic Effects of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nal Radiation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ways radionuclides can enter the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Cu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F075-8AED-476F-838D-0CE3DB1AC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or Target Organ Con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llowing and Inhalation of Radio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59984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wallowed, radionuclides pass through normal digestion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haled, radionuclides enter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luble, transmitted through blood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lood stream, it travels through out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s have an affinity to specific elements – radioactive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82B0-ADD5-4938-B901-FB2D93BF8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-360" y="727200"/>
            <a:ext cx="898668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 painters contract bone cancer after years of “pointing” the radium dipped brush with their tong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m falls in same periodic table grouping as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s Calcium in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arget organ for Radium is b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8525-794C-4ACD-B1D7-68B80818E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1"/>
          <a:srcRect l="24505" t="19688" r="28569" b="19066"/>
          <a:stretch/>
        </p:blipFill>
        <p:spPr>
          <a:xfrm>
            <a:off x="0" y="4203720"/>
            <a:ext cx="2459160" cy="24066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2527200" y="57326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2"/>
          <a:stretch/>
        </p:blipFill>
        <p:spPr>
          <a:xfrm>
            <a:off x="6626160" y="4137120"/>
            <a:ext cx="2517840" cy="25178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5176800" y="576900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0DBC-71F0-48EF-AF2A-626CB8226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t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t – whol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sium –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 -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Bu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 of internally-deposited radioactivity causing maximum permissible dose to any or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E810-43CF-4B86-947A-8F474EA93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120" y="71280"/>
            <a:ext cx="8902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on from External Radio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– minimize time ex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– Increase distance from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ing – Increase shie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846F-3FEE-493E-9B6B-1CA35F69E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ving things are exposed to natural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man-made radiation sources differs by gro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ly Exposed Individuals (Work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C0AE-787D-42C5-971B-4B48BBCAB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C3D6-78EA-4DE8-861B-44ABC3449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ly controlled: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ating / drinking in contaminated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pen w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14480" y="71280"/>
            <a:ext cx="8902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rotection from Internal Radio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121D-D777-437C-8949-292E0B70B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Sources (by far, the most significant man-made sour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x-ra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medicine procedures (iodine-131, cesium-137, and othe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1F5B-B98A-4A36-8936-442D2B72A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nd road construction materi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ustible fuels, including gas and c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security sy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vi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escent lamp star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e detectors (americ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garet Hines</dc:creator>
  <dc:description/>
  <dc:language>en-US</dc:language>
  <cp:lastModifiedBy>Peggy Hines IRSC</cp:lastModifiedBy>
  <dcterms:modified xsi:type="dcterms:W3CDTF">2013-02-07T19:55:15Z</dcterms:modified>
  <cp:revision>1166</cp:revision>
  <dc:subject/>
  <dc:title>Biological Effects of Radiation</dc:title>
</cp:coreProperties>
</file>