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516B-410C-4EDE-B99D-B56307E857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edit other slides, use Arial (Headings) 36 flush left for titles and Arial (Body) 24 for body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5CE9-EE0D-4D98-B148-C3F950CB5A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336F-17C9-46C8-973D-0D2F3D983C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63C1-59CE-4B25-BAA1-4B6B11774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8509-2510-480C-86BE-5AFB7AD3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4D43-464F-4EDF-BAEA-A561BE83D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3B32-08B5-4E00-9C22-C6D75933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B4B6-8FD2-4F52-81AF-15919E1F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815E-84B9-4F62-8118-51217DD8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4DB7-E4F3-4B9B-9A17-F995E54F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D367-EDBF-415C-B9E3-0FF53E1B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FEC3-72DD-41FE-8A87-29D31518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E5E0-14AA-48D2-B3AD-84799C99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12A9-3FB8-408C-8A03-9F7E22B2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D993-D498-42B2-8CF6-9208E776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2BF4-1EAC-43A7-8374-6430FA55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860D-513F-4B88-8FCD-F9C9098C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154B-781F-4D06-80C9-88767F38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0A3E-B366-45ED-A12D-23D6E88FB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B8DC-6BA6-48E3-80CB-D290BD4B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2D6C-3CB5-4779-98E3-317B6F9F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F4B5-96B6-4021-B670-7AFFEEAD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8AEB-59FC-461A-820F-22109D22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86BE-F0AF-47FF-8B3F-FC753919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5800-607C-45D7-A239-20B06D8B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8DEF-6F42-4438-85CA-49F573CE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2357-2898-4914-BD59-5B7CFB8F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14A3-E839-40CB-9DED-AD9C869410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2327-EE0D-4061-B834-4ABB986002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152280" y="1028880"/>
            <a:ext cx="883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yw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smic terrestrial internal radiation, uranium, thorium, radium, curie, becquerel, roentgen, dose, RAD, REM, x-rays, gamma, beta, alpha, fission fragments,  mrad,  tissue, organ,  affect on cells, blood,  whole body exposure,  acute, chronic,  genetic,  body burden, time distance shielding, gon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crip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is module examines the affects of short and long term exposure to all types of radia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52280" y="1600200"/>
          <a:ext cx="8107560" cy="1515960"/>
        </p:xfrm>
        <a:graphic>
          <a:graphicData uri="http://schemas.openxmlformats.org/drawingml/2006/table">
            <a:tbl>
              <a:tblPr/>
              <a:tblGrid>
                <a:gridCol w="1351080"/>
                <a:gridCol w="1351080"/>
                <a:gridCol w="1350720"/>
                <a:gridCol w="1352520"/>
                <a:gridCol w="1351080"/>
                <a:gridCol w="1351080"/>
              </a:tblGrid>
              <a:tr h="401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36C2-9F60-4836-AEE2-136DFB244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mer Produ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minous watches (tritium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ntern mantles (thorium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bacco (polonium-210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hthalmic glass used in eyegla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ceramic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C38A-9158-42B2-9E92-41C151749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-360" y="15998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pationally Exposed Individuals (Work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ial radiography (X-ray imag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ar medicine departm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ology (medical imaging, X-rays, et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oncology (cancer treat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ar power pl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ar fuel cycle fac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pos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and university research laborator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ation Measurement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active Material Quant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ie :: the amount of radioactive material decaying at 2.22 X 1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oms per minute or 3.7 X 1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oms per sec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ci = 3.7 X1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cays per second (dp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querel :: the amount of radioactive material decaying at 1 decay per seco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ci = 3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q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Bq = 1 d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BA0B-B97E-437E-BFB1-CACA3B39F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84CA-BA95-4F20-B8C8-608F9F23A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logical Eff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fully described by decay rate of radioactive mater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tional factors must consid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ener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Measurement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adiation Measurement Units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oentgen (R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2189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es to gamma or x-ray interactions in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es to energy deposition in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ty of x-ray or gamma radiation producing 1 esu of charge (positive or negative) in 1 cc (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of dry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u = electrostatic unit of cha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ionizing event = addition or removal of 1 electron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8 X1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-1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s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R = 2.08 X1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on pai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R = 88 erg/gram energy deposition in ai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g = unit of work or ener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lem: Doesn’t relate to biological dam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8AE7-0658-49B0-9D9C-37EE464AC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57200" y="5032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adiation Measurement Units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adiation Absorbed Dose (RAD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= Total amount of energy delivered to a specific area or organ by radi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rate = dose units per unit of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RAD is an amount of any type of ionizing radiation that deposits 100 ergs/gram in tiss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RAD = 100 ergs/gram energy deposition (tiss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lem: Different types of ionizing radiation might have the same energy, but have totally different effects on tiss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06A4-6B1D-49AA-AE17-5E300A185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Radiation Measurement Units:</a:t>
            </a:r>
            <a:br>
              <a:rPr sz="31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oentgen Equivalent Man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(REM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mount of ionizing radiation required to produce the same biological effect as one rad of high-penetration x-ray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dose in rem is referred to as the dose equivalent (D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 (rem) = Dose (rad)  x  Q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y Factor (Q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s for differences in biological effect for different types of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F878-0CCA-447B-A9F5-5629243EE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ality Fa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83808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Gamma, X-Rays, and High-Energy Be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 rad = 1 r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lpha, Proton, Neutron, and Low-Energy Be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1 rad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1 r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1 rem = 1 rad * Q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9806-96BD-4745-9A70-ABF3E01BE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219320" y="3591000"/>
          <a:ext cx="6232320" cy="3051000"/>
        </p:xfrm>
        <a:graphic>
          <a:graphicData uri="http://schemas.openxmlformats.org/drawingml/2006/table">
            <a:tbl>
              <a:tblPr/>
              <a:tblGrid>
                <a:gridCol w="3116160"/>
                <a:gridCol w="3116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Y F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M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&gt;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 &lt; 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MAL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T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VY 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Rectangle 136"/>
          <p:cNvSpPr/>
          <p:nvPr/>
        </p:nvSpPr>
        <p:spPr>
          <a:xfrm>
            <a:off x="0" y="24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1219320" y="3895560"/>
            <a:ext cx="6219720" cy="914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1219320" y="4838760"/>
            <a:ext cx="6221160" cy="1792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fferent Radiation Typ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8760" y="823680"/>
            <a:ext cx="8763120" cy="57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logical effect of any radiation is related to rate at which radiation transfers energy to tiss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ear Energy Transfer (L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e of the interaction density along radiation travel pa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quivalent to ionization potential or stopping power of body tiss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rsely proportional to radiation r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 range particles like alphas have a high L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damaging types of radiation to a biological system are those with a high L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LET radiation deposits all of its energy in a short distance of trav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EB64-C3A7-479D-9D3D-13566F667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52280" y="8377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 increases wi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mass of incident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charge of incident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ing energy of incident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rder of decreasing LE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ssion frag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mass number nucle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pha parti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utr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energy Beta, x-ray and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energy beta, x-ray and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6EA6-4D19-44DE-90E5-CDD5C88C8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Different Radiation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6457-3092-45EA-A10C-C5E014A0A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914400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ources of Radiation Exposure in the U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Object 8"/>
          <p:cNvGraphicFramePr/>
          <p:nvPr/>
        </p:nvGraphicFramePr>
        <p:xfrm>
          <a:off x="1031760" y="993600"/>
          <a:ext cx="6672240" cy="541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1760" y="993600"/>
                    <a:ext cx="6672240" cy="54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lationship between LET and Q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497F-C35F-4041-BF46-A0DD2ABE0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80880" y="990720"/>
          <a:ext cx="8382240" cy="518148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217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EAR ENERGY TRANSFE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LET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KeV/micron in water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Y FACT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QF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 or les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 – 7.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– 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0 – 2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– 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 - 5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– 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 – 17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- 2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82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02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2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otal dose of alpha particles to an individual is three rad.  Calculate the dose equivalent in rem using the appropriate Quality Factor (QF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18AF-E518-4E05-B3A1-949D66477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"/>
              <p:cNvSpPr txBox="1"/>
              <p:nvPr/>
            </p:nvSpPr>
            <p:spPr>
              <a:xfrm>
                <a:off x="162000" y="3570120"/>
                <a:ext cx="3638520" cy="316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ose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ose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04" name=""/>
          <p:cNvGraphicFramePr/>
          <p:nvPr/>
        </p:nvGraphicFramePr>
        <p:xfrm>
          <a:off x="4179960" y="3589200"/>
          <a:ext cx="4767120" cy="3051360"/>
        </p:xfrm>
        <a:graphic>
          <a:graphicData uri="http://schemas.openxmlformats.org/drawingml/2006/table">
            <a:tbl>
              <a:tblPr/>
              <a:tblGrid>
                <a:gridCol w="2790720"/>
                <a:gridCol w="1976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Y F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M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&gt;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 &lt; 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MAL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T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VY 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3840" y="814320"/>
            <a:ext cx="9020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measured by instruments, an individual was exposed to radiation field consisting of 5 mrad gamma, 2 mrad beta, and 5 mrad fast neutrons. Calculate the dose equivalent in r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E956-A68A-430B-A592-E1F0E9CA3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1"/>
              <p:cNvSpPr txBox="1"/>
              <p:nvPr/>
            </p:nvSpPr>
            <p:spPr>
              <a:xfrm>
                <a:off x="419040" y="2255760"/>
                <a:ext cx="4135320" cy="401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ose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ad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γ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N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re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12" name=""/>
          <p:cNvGraphicFramePr/>
          <p:nvPr/>
        </p:nvGraphicFramePr>
        <p:xfrm>
          <a:off x="5742000" y="3521160"/>
          <a:ext cx="3273480" cy="3051000"/>
        </p:xfrm>
        <a:graphic>
          <a:graphicData uri="http://schemas.openxmlformats.org/drawingml/2006/table">
            <a:tbl>
              <a:tblPr/>
              <a:tblGrid>
                <a:gridCol w="2790720"/>
                <a:gridCol w="4827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M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&gt;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 &lt; 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MAL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T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VY 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logical 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– basic unit of the human bod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ssue - cells with similar structure performing sam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 – cells with different structure (different tissues) performing similar overall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stem – group of organs performing common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3259-D4F8-4B0B-98F1-836463833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92FB-E3EC-427D-B43D-17D77261B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457200" y="7452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Biological Organization: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ontent Placeholder 3"/>
          <p:cNvSpPr/>
          <p:nvPr/>
        </p:nvSpPr>
        <p:spPr>
          <a:xfrm>
            <a:off x="0" y="873000"/>
            <a:ext cx="507348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s cell from external influences, such as tox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ekeep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pla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%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convert nutrients into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 of biochemical reactions for bodily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0" descr=""/>
          <p:cNvPicPr/>
          <p:nvPr/>
        </p:nvPicPr>
        <p:blipFill>
          <a:blip r:embed="rId1"/>
          <a:srcRect l="0" t="15406" r="29839" b="16427"/>
          <a:stretch/>
        </p:blipFill>
        <p:spPr>
          <a:xfrm>
            <a:off x="4491000" y="3860640"/>
            <a:ext cx="4653000" cy="28260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1"/>
          <p:cNvSpPr/>
          <p:nvPr/>
        </p:nvSpPr>
        <p:spPr>
          <a:xfrm>
            <a:off x="5529240" y="766800"/>
            <a:ext cx="361476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ucleol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boso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esic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ough endoplasmic reticulum (ER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olgi apparat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ytoskelet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mooth endoplasmic reticul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entrioles within centroso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2036880" y="6176880"/>
            <a:ext cx="3165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 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9C5B-5D7D-4869-9FAD-8BF697FF8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457200" y="7452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Biological Organization: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ontent Placeholder 3"/>
          <p:cNvSpPr/>
          <p:nvPr/>
        </p:nvSpPr>
        <p:spPr>
          <a:xfrm>
            <a:off x="0" y="873000"/>
            <a:ext cx="507348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instructions fo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504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ed within chromoso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nds of amino acids (deoxyribonucleic acids – D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normal bodily function if damaged or mal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0" descr=""/>
          <p:cNvPicPr/>
          <p:nvPr/>
        </p:nvPicPr>
        <p:blipFill>
          <a:blip r:embed="rId1"/>
          <a:srcRect l="2859" t="20147" r="43381" b="12370"/>
          <a:stretch/>
        </p:blipFill>
        <p:spPr>
          <a:xfrm>
            <a:off x="4419720" y="1236600"/>
            <a:ext cx="4724280" cy="37051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1"/>
          <p:cNvSpPr/>
          <p:nvPr/>
        </p:nvSpPr>
        <p:spPr>
          <a:xfrm>
            <a:off x="6878520" y="4890960"/>
            <a:ext cx="22654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79A7-B08E-497F-964C-198C88B43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457200" y="74520"/>
            <a:ext cx="822960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Segment of DNA Str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8" descr=""/>
          <p:cNvPicPr/>
          <p:nvPr/>
        </p:nvPicPr>
        <p:blipFill>
          <a:blip r:embed="rId1"/>
          <a:srcRect l="520" t="21499" r="48358" b="10002"/>
          <a:stretch/>
        </p:blipFill>
        <p:spPr>
          <a:xfrm>
            <a:off x="660240" y="939960"/>
            <a:ext cx="6634440" cy="55562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9"/>
          <p:cNvSpPr/>
          <p:nvPr/>
        </p:nvSpPr>
        <p:spPr>
          <a:xfrm>
            <a:off x="7532640" y="551484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9324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ular Effects of 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e radical form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 radiation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C6AF-7397-428B-B456-0F6233BA2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76040" y="1382400"/>
            <a:ext cx="879192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tom (either neutral or charged) with unpaired electrons that wants to join with another atom to stabilize it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e radic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cals that have not yet bonded with other 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reactive atoms or chemical compounds that can alter existing state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 in cellular chemistry are the root causes of all the harmful effects of radi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D30C-0702-4AB6-8F0F-3EA25B0BA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246240" y="1580760"/>
            <a:ext cx="868176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Direct Effect of Radiation on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Ionization and excitation of intracellular water molecules produces free radic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ndirect Effect of Radiation on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ubsequent interference of free radicals with cells not direct affected by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5E14-B363-4311-A51D-65293B1B4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 background radiation comes from three sourc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mic Radi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restrial Radi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 Radi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6762-0608-4950-9E5C-18AA65473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EFFF-79F8-4E56-A967-D3A168498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4252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diolysis: production of free radicals in 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diolysis by Ionization: Hydrogen Radical (H</a:t>
            </a:r>
            <a:r>
              <a:rPr b="0" lang="en-US" sz="3300" spc="-1" strike="noStrike" baseline="75000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ectron absorb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ydrogen radical and hydroxyl ion form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56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= radic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0" y="39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3"/>
              <p:cNvSpPr txBox="1"/>
              <p:nvPr/>
            </p:nvSpPr>
            <p:spPr>
              <a:xfrm>
                <a:off x="1160640" y="4595760"/>
                <a:ext cx="684504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H</m:t>
                        </m:r>
                      </m:e>
                      <m:sup/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1" name="Rectangle 10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1681-938A-4746-9527-CE812FCEC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1814400"/>
            <a:ext cx="914400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diolysis by Ioniza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ydroxyl Radical (OH</a:t>
            </a:r>
            <a:r>
              <a:rPr b="0" lang="en-US" sz="2300" spc="-1" strike="noStrike" baseline="75000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ectron removed from water molec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itively ionized water removes hydrogen from neutral water to form hydroxyl radic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0" y="39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1"/>
              <p:cNvSpPr txBox="1"/>
              <p:nvPr/>
            </p:nvSpPr>
            <p:spPr>
              <a:xfrm>
                <a:off x="1374840" y="4827600"/>
                <a:ext cx="6013440" cy="15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Rectangle 6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BC6D-BCD9-4951-B254-372D32374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1442520"/>
            <a:ext cx="9020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lysis by Excit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and Hydroxyl Radic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ident electron excites water molecule, but is not absorb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ited water molecule splits into hydrogen and hydroxyl radic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0" y="39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1633680" y="4665600"/>
                <a:ext cx="5441760" cy="18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5" name="Rectangle 6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7120080" y="627228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= exc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3D2A-10D1-4C29-AD9F-A9CF4A92D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1420560"/>
            <a:ext cx="88470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se radicals immediately react with each other to produce harmless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, they might react with other molecules in the cell, causing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3"/>
              <p:cNvSpPr txBox="1"/>
              <p:nvPr/>
            </p:nvSpPr>
            <p:spPr>
              <a:xfrm>
                <a:off x="1382760" y="2577960"/>
                <a:ext cx="4554360" cy="257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Rectangle 10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5958000" y="2654280"/>
            <a:ext cx="304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drogen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drogen Per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d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reproduce but new cells may d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reproduce producing abnormal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repair itself and function norm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649A-7C05-43A7-ADEB-C65ECAA68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457200" y="93600"/>
            <a:ext cx="8229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ellular Effect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55A9-816F-44D9-ADBB-43870F407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979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radiation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1835280" y="4106880"/>
            <a:ext cx="1143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457200" y="93600"/>
            <a:ext cx="8229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ellular Effect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0" descr=""/>
          <p:cNvPicPr/>
          <p:nvPr/>
        </p:nvPicPr>
        <p:blipFill>
          <a:blip r:embed="rId1"/>
          <a:srcRect l="0" t="51499" r="0" b="2798"/>
          <a:stretch/>
        </p:blipFill>
        <p:spPr>
          <a:xfrm>
            <a:off x="2725560" y="2157480"/>
            <a:ext cx="3079800" cy="416700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11"/>
          <p:cNvSpPr/>
          <p:nvPr/>
        </p:nvSpPr>
        <p:spPr>
          <a:xfrm>
            <a:off x="6865920" y="548496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052D-F7A0-4EBD-8942-5C389AFA0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lecul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mage to enzymes, DNA etc. and interference with biological path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cell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mage to cell membranes, nucleus, chromosomes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ular Inhibition of cell division, cell death, transformation to a malignant 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457200" y="93600"/>
            <a:ext cx="82882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Effects of Radiation by Biological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FE77-D420-4B30-BB36-57D7BDDA5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issue, Org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ruption to central nervous system, bone marrow, intestinal tr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duction of canc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le Anim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at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fe shorte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pul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anges in the genetic characteristics of individual memb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457200" y="93600"/>
            <a:ext cx="82882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Effects of Radiation by Biological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232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sensi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 cells within the body have different structures and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y in their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radiosensi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sceptibility to radiation-induced da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CC82-68F3-42F4-AE95-66733FA96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66560" y="107964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ular division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pidly dividing cells are more sensitivity to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ular metabolism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lls with high metabolism rate are more susceptible to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mental s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lls in division stage are more susceptible to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 / nourishment to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rmally undernourished cells reproduce l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ster reproduction = more mu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2047-ACE5-4E77-BA32-6F2D9A760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457200" y="112680"/>
            <a:ext cx="8229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4 Factors Affecting Radiosensi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mic Radi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n and stars send constant stream of cosmic radiation to Ear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ke steady drizzle of r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ces in certain variables can change the amount (or dose) of cosmic radiation that we rece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mospheric cond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rth's magnetic fie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5345-3346-4F85-A2E4-033EF5F61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rgan / Tissue Radiation Effe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1147680"/>
            <a:ext cx="914400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/ tissue radiosensitivity influenced by 2 fa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osensitivity of the tissue/organ cel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ortance to overall organ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st radiosensitive organs and t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lood (tissu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lood-forming org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Gonads (reproductive orga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ens of the e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k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east radiosensitive org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Brain (cells do not reprodu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C851-36B6-4E7B-9691-8AFA0B872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rgan / Tissue Radiation Effe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0" y="1147680"/>
            <a:ext cx="914400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of the most radiosensitive tissues in the human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mal blood cells have an already short lifespan and high metabolic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 in toxins quick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nads (reproductive orga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tations occurring in egg or sperm cells could result in a mutation in the offsp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0 rads: temporary depletion of sperm 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00 to 400 rad: function of ovaries impa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ECD1-1263-4E59-B8B4-C81BB9AF0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F83C-266F-468C-82D8-AE29AE9F9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0" y="460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Organ / Tissue Radiation Effects: Bl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225360" y="700200"/>
          <a:ext cx="8575920" cy="5945040"/>
        </p:xfrm>
        <a:graphic>
          <a:graphicData uri="http://schemas.openxmlformats.org/drawingml/2006/table">
            <a:tbl>
              <a:tblPr/>
              <a:tblGrid>
                <a:gridCol w="1602000"/>
                <a:gridCol w="1611000"/>
                <a:gridCol w="1638360"/>
                <a:gridCol w="1478160"/>
                <a:gridCol w="2246400"/>
              </a:tblGrid>
              <a:tr h="1006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OOD CELL TYP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N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ION SI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FETIME OF CEL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FECT OF SINGLE RADIATION EXPOSURE OF &gt; 100 RAD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777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d (Erythrocyte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ry oxygen and nutrients to bod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ne marr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day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ight decrease in numb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ymphocyte (type of white blood cell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ght infe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ymph nodes and splee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d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ly radiosensitive; decrease in number increases with dose; decrease within 2 days after exposure; large decrease in number can result in infe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throphils (type of white blood cell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ght infe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ne marr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day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ly radiosensitive; decrease in number proportional to dose; depletion results in infection and fev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tele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ood clot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ne marr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– 10 day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ly radiosensitive; decrease in number increases with dose; decrease in number can result in hemorrhag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80720" y="772920"/>
            <a:ext cx="8962920" cy="25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 tissue to exhibit noticeable radiation inj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radiosensitivity due to the high rate of cell division and degree of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00 to 500 rad: Erythema (redden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er dose: blistering and ulceration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 term complications: scarring and skin ca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37F8-FC25-447F-9FAC-82ECA1C8A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0" y="58680"/>
            <a:ext cx="91440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Organ / Tissue Radiation Effects: Sk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9" descr=""/>
          <p:cNvPicPr/>
          <p:nvPr/>
        </p:nvPicPr>
        <p:blipFill>
          <a:blip r:embed="rId1"/>
          <a:stretch/>
        </p:blipFill>
        <p:spPr>
          <a:xfrm>
            <a:off x="2801880" y="3276720"/>
            <a:ext cx="3178080" cy="326700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10"/>
          <p:cNvSpPr/>
          <p:nvPr/>
        </p:nvSpPr>
        <p:spPr>
          <a:xfrm>
            <a:off x="6865920" y="548496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1C46-75B2-491E-9DDC-7F870A63C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1600200"/>
            <a:ext cx="879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result in cataract formation (cloudin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gle dose of 200-500 r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mulative (spread over several months) dose of 1000 ra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466560" y="182520"/>
            <a:ext cx="82677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Organ / Tissue Radiation Effects:</a:t>
            </a:r>
            <a:br>
              <a:rPr sz="4000"/>
            </a:b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Lens of the 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9" descr=""/>
          <p:cNvPicPr/>
          <p:nvPr/>
        </p:nvPicPr>
        <p:blipFill>
          <a:blip r:embed="rId1"/>
          <a:srcRect l="16669" t="20483" r="24977" b="12186"/>
          <a:stretch/>
        </p:blipFill>
        <p:spPr>
          <a:xfrm>
            <a:off x="3960720" y="3413160"/>
            <a:ext cx="4419720" cy="31860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0"/>
          <p:cNvSpPr/>
          <p:nvPr/>
        </p:nvSpPr>
        <p:spPr>
          <a:xfrm>
            <a:off x="2397240" y="560088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9324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ation Effects on Hum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 fac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a exp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2187-A964-4FF7-8862-B6BC0230A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139680" y="1599840"/>
            <a:ext cx="900432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radiation of same type, range in tissue increases with increasing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th of penetration is function of type of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ged particles and neutrons will not penetrate as far as electromagnetic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ear Energy Transfer (LE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depends on charge, mass, and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igher LET = higher QF = more biological da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9297-A75C-4BF4-8FAE-0A39503CD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457200" y="274680"/>
            <a:ext cx="8229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Effects on Humans: Radiation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le Body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rradiation of all cells, organs, and t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ptoms depends on which organ is sensitive at the given dos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al Body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mage limited to tissues and organs within exposed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high localized doses of radiation are used to treat certain cancers without significant damage to the rest of the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D79C-0DE9-42B3-9991-F538652C2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457200" y="227160"/>
            <a:ext cx="833760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Effects on Humans: Portion of Body Expo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5998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logical damage decreases with decreasing dose r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cute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igh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hort exposur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Chronic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ow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ong exposure ti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cupational radiation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osure from natural background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8C57-81EC-4609-B73F-371242D28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457200" y="93600"/>
            <a:ext cx="840564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Effects on Humans: Rate of Expo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8933040" cy="128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le Body Expos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10600" y="1599840"/>
            <a:ext cx="8750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clinical Range (0 to 100 r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sickness occurs which requires medical atten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changes occur in the blood for doses near 100 r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apeutic Range (100 to 200 r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usea, vomiting, loss of appetite, and fatig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ood damage more sev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dness of the sk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thal Range (&gt;200 r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usea and vomiting become more sev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al hemorrhaging may occ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ir loss at 300 r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 - 600 rem: small percentage of people will die within 30 d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00 - 1000 rem: higher chance of de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gt;1000 rem: Certain de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B40B-7473-4341-A608-F3FD506B5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restrial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arth itself is a source of terrestrial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oactive materials exist naturally in soil and r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ran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o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d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contains small amounts of dissolved uranium and thor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organic matter (both plant and animal) contains radioactive carbon and potassiu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1179-4F51-477D-B4EE-6D0D0D9C1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6CC6-941F-4B07-A531-35BF8A09A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442800" y="1074600"/>
          <a:ext cx="8229600" cy="5346720"/>
        </p:xfrm>
        <a:graphic>
          <a:graphicData uri="http://schemas.openxmlformats.org/drawingml/2006/table">
            <a:tbl>
              <a:tblPr/>
              <a:tblGrid>
                <a:gridCol w="2359080"/>
                <a:gridCol w="58705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ose (Rads*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ff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5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irst sign of physical eff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drop in white blood cell coun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hreshold for vomi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within a few hours of exposur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20 - 3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~ 50% die within 30 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with minimal supportive car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80 - 5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~50 % die within 30 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with supportive medical car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~ 100% die within 30 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Rectangle 28"/>
          <p:cNvSpPr/>
          <p:nvPr/>
        </p:nvSpPr>
        <p:spPr>
          <a:xfrm>
            <a:off x="0" y="71280"/>
            <a:ext cx="9144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Acute Radiation Effects: Whole Body 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5D1A-0C01-4C92-A37D-EC6FD9F78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0" y="0"/>
          <a:ext cx="9144000" cy="6561000"/>
        </p:xfrm>
        <a:graphic>
          <a:graphicData uri="http://schemas.openxmlformats.org/drawingml/2006/table">
            <a:tbl>
              <a:tblPr/>
              <a:tblGrid>
                <a:gridCol w="1488960"/>
                <a:gridCol w="1263600"/>
                <a:gridCol w="1378080"/>
                <a:gridCol w="1252440"/>
                <a:gridCol w="1257480"/>
                <a:gridCol w="1254240"/>
                <a:gridCol w="212400"/>
                <a:gridCol w="1036800"/>
              </a:tblGrid>
              <a:tr h="43056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TO 1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CLINICAL 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TO 1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EUTIC 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 1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THAL 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TO 2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 TO 6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 TO 1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0 TO 5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 5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59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NICAL SURVEIL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 EFFE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 PROMIS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 PALLIA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idence of vomi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rems: 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 rems: 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 rems =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lay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ho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</a:tr>
              <a:tr h="599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ading org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matopoietic tiss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strointestinal tr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al nervous 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acteristic sig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rate Leukope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vere leucopenia; purpose; hemorrhage; infection.  Hair loss above 300 rem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rrhea; fever, disturbance of electrolyte ba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vulsions; tremor; ataxia; letharg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</a:tr>
              <a:tr h="430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ical period post expos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to 6 wee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to 14 day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to 48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ssur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ssurance; hematological surveil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ood transfusion; antibiot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ider bone marrow transplan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ntenance of electrolyte ba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dativ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nos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ll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ll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uard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pele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</a:tr>
              <a:tr h="259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valescent 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veral wee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to 12 mon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 to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idence of dea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to 100% (variab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to 100% (variab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ath occurs with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mon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wee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day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7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use of dea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morrhage; inf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rculatory collap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iratory fail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cute Radiation Effect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ocalized Expos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2825-6431-49BE-94EA-F5ABAEA12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Content Placeholder 4" descr="capture4.jpg"/>
          <p:cNvPicPr/>
          <p:nvPr/>
        </p:nvPicPr>
        <p:blipFill>
          <a:blip r:embed="rId1"/>
          <a:srcRect l="22911" t="0" r="21263" b="13409"/>
          <a:stretch/>
        </p:blipFill>
        <p:spPr>
          <a:xfrm>
            <a:off x="0" y="2152800"/>
            <a:ext cx="2490840" cy="3903480"/>
          </a:xfrm>
          <a:prstGeom prst="rect">
            <a:avLst/>
          </a:prstGeom>
          <a:ln w="0">
            <a:noFill/>
          </a:ln>
        </p:spPr>
      </p:pic>
      <p:pic>
        <p:nvPicPr>
          <p:cNvPr id="403" name="Content Placeholder 3" descr="capture12.jpg"/>
          <p:cNvPicPr/>
          <p:nvPr/>
        </p:nvPicPr>
        <p:blipFill>
          <a:blip r:embed="rId2"/>
          <a:srcRect l="31803" t="0" r="0" b="0"/>
          <a:stretch/>
        </p:blipFill>
        <p:spPr>
          <a:xfrm>
            <a:off x="2778120" y="2317680"/>
            <a:ext cx="2968560" cy="3359160"/>
          </a:xfrm>
          <a:prstGeom prst="rect">
            <a:avLst/>
          </a:prstGeom>
          <a:ln w="0">
            <a:noFill/>
          </a:ln>
        </p:spPr>
      </p:pic>
      <p:pic>
        <p:nvPicPr>
          <p:cNvPr id="404" name="Content Placeholder 3" descr="capture6.jpg"/>
          <p:cNvPicPr/>
          <p:nvPr/>
        </p:nvPicPr>
        <p:blipFill>
          <a:blip r:embed="rId3"/>
          <a:srcRect l="15212" t="0" r="12209" b="0"/>
          <a:stretch/>
        </p:blipFill>
        <p:spPr>
          <a:xfrm>
            <a:off x="5959440" y="2522520"/>
            <a:ext cx="303228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7CA1-751B-4CF4-8390-BA49E9E4D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Content Placeholder 3" descr="capture8.jpg"/>
          <p:cNvPicPr/>
          <p:nvPr/>
        </p:nvPicPr>
        <p:blipFill>
          <a:blip r:embed="rId1"/>
          <a:stretch/>
        </p:blipFill>
        <p:spPr>
          <a:xfrm>
            <a:off x="0" y="2298600"/>
            <a:ext cx="5429160" cy="3660840"/>
          </a:xfrm>
          <a:prstGeom prst="rect">
            <a:avLst/>
          </a:prstGeom>
          <a:ln w="0">
            <a:noFill/>
          </a:ln>
        </p:spPr>
      </p:pic>
      <p:pic>
        <p:nvPicPr>
          <p:cNvPr id="409" name="Content Placeholder 3" descr="capture10.jpg"/>
          <p:cNvPicPr/>
          <p:nvPr/>
        </p:nvPicPr>
        <p:blipFill>
          <a:blip r:embed="rId2"/>
          <a:stretch/>
        </p:blipFill>
        <p:spPr>
          <a:xfrm>
            <a:off x="5624640" y="1373040"/>
            <a:ext cx="3352680" cy="527076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6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2E1C-4FC2-4F9A-8642-FA4AAF764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Content Placeholder 3" descr="capture15.jpg"/>
          <p:cNvPicPr/>
          <p:nvPr/>
        </p:nvPicPr>
        <p:blipFill>
          <a:blip r:embed="rId1"/>
          <a:stretch/>
        </p:blipFill>
        <p:spPr>
          <a:xfrm>
            <a:off x="0" y="1405080"/>
            <a:ext cx="3618000" cy="52196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6840" y="1599840"/>
            <a:ext cx="8504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langiecta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lation (expansion) of the blood vessels in the sk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areas receive excessive blood flow, diverting blood away from other a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ells that LOSE blood flow suffer from oxygen depri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ythe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rly Transient: Slight inflammation of skin due to inflamed blood vess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n: more severe inflam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te: Severe inflammation of skin due to damaged blood vess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00B2-45DF-4F7B-80E1-3D77D2D10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60020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ythe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Transient: Slight inflammation of skin due to inflamed blood vess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: more severe inflam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te: Severe inflammation of skin due to damaged blood vess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3E47-E5FB-43E2-9758-1A54B1E97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71000" y="1600200"/>
            <a:ext cx="879156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ute Ulc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rly loss of outer skin cells (peel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rmal Atrop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nning of the skin t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pilation (hair lo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y Desqua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ratinization (hardening) of the sk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ist Desqua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kin loss due to inability of damaged skin cells to reprodu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ary Ulc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kin damage due to dehydration and infection resulting from severe moist desqua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A2EF-31C8-419D-8306-5229ED219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8C23-ECCF-40DE-8B1D-EC0F4BE8E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rmal Necr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/tissue death due to insufficient blood 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ute Epidermal Necr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e tissue lo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-dose, low-energy beta ir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47840" y="-36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ronic Radiation Effect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ole Body Expos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95280"/>
            <a:ext cx="82598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body tolerates small doses of radiation exposure better over a long period of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body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airs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iminates radiation-induced byprodu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As long as the repair or elimination rate is larger than the production r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500 rem acute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evere radiation sick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500 rem delivered at 10 rem per we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Little noticeable eff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C492-9F04-4541-A369-F5F7DE74D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animals (including people) have internal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es from radioactive potassium-40 and carbon-14 inside their bo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ent from bi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minor sources of exposure to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F241-1315-4DE7-9D30-4008FB459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728640" y="2027160"/>
            <a:ext cx="77961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permanent biological damage occurs unless total dose exceeds some value (threshol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mit long term chronic exposures to less than threshold values to protect against permanent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8EAA-E608-4343-AC8A-643656F42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496800" y="325440"/>
            <a:ext cx="82296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hronic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Threshold Eff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0" y="149508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dy continuously attempts to repair damage as it occ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damage too sev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air mechanisms become str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ing effects are increa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ed exposure shortens average life sp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result in canc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tic mutation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ukemia: Inability to produce white blood cells norm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654D-CCEE-4F21-B22D-BC07EA1F0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2"/>
          <p:cNvSpPr/>
          <p:nvPr/>
        </p:nvSpPr>
        <p:spPr>
          <a:xfrm>
            <a:off x="447840" y="0"/>
            <a:ext cx="82296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hronic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Tissue Damage and Rep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9360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netic Effects of Rad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38120" y="1030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seen in offspring of exposed wor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 to genetic information in reproductive cells due to damaged DNA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be spontaneous changes due to background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74EC-46E3-40AB-A0EF-5A1E59638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AB7B-37F7-4069-A286-60B785B64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r in the exposed p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in reddening (erythem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s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 Exp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dy % Exp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457200" y="93600"/>
            <a:ext cx="82296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Somatic Effects of Rad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ernal Radiation Expos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ways radionuclides can enter the bo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ha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allow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sor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ugh Cu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7F4C-F74B-4148-A030-DDD18B5F6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15732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tical or Target Organ Concep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allowing and Inhalation of Radionucl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599840"/>
            <a:ext cx="822960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swallowed, radionuclides pass through normal digestion proce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nhaled, radionuclides enter the lu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soluble, transmitted through blood str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blood stream, it travels through out the b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organs have an affinity to specific elements – radioactive or no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7EFD-CC92-479C-AE1B-B316D63F8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-360" y="727200"/>
            <a:ext cx="8986680" cy="35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l painters contract bone cancer after years of “pointing” the radium dipped brush with their tongu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um falls in same periodic table grouping as Calc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laces Calcium in b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arget organ for Radium is b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FB68-9407-4E6B-8235-150C56008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497d"/>
                </a:solidFill>
                <a:latin typeface="Arial"/>
              </a:rPr>
              <a:t>Critical or Target Organ Concep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9" descr=""/>
          <p:cNvPicPr/>
          <p:nvPr/>
        </p:nvPicPr>
        <p:blipFill>
          <a:blip r:embed="rId1"/>
          <a:srcRect l="24505" t="19688" r="28569" b="19066"/>
          <a:stretch/>
        </p:blipFill>
        <p:spPr>
          <a:xfrm>
            <a:off x="0" y="4203720"/>
            <a:ext cx="2459160" cy="240660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10"/>
          <p:cNvSpPr/>
          <p:nvPr/>
        </p:nvSpPr>
        <p:spPr>
          <a:xfrm>
            <a:off x="2527200" y="573264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11" descr=""/>
          <p:cNvPicPr/>
          <p:nvPr/>
        </p:nvPicPr>
        <p:blipFill>
          <a:blip r:embed="rId2"/>
          <a:stretch/>
        </p:blipFill>
        <p:spPr>
          <a:xfrm>
            <a:off x="6626160" y="4137120"/>
            <a:ext cx="2517840" cy="251784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12"/>
          <p:cNvSpPr/>
          <p:nvPr/>
        </p:nvSpPr>
        <p:spPr>
          <a:xfrm>
            <a:off x="5176800" y="576900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F428-3A9C-4096-B320-D18A1F7BE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um – B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tium – B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balt – whol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sium – large intes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dine - Thyro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157320"/>
            <a:ext cx="914400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497d"/>
                </a:solidFill>
                <a:latin typeface="Arial"/>
              </a:rPr>
              <a:t>Critical or Target Organ Concep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dy Bu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ount  of internally-deposited radioactivity causing maximum permissible dose to any org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F910-12A1-459D-A60F-ED89ED41C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4120" y="71280"/>
            <a:ext cx="890244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tection from External Radioac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– minimize time expo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ance – Increase distance from 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elding – Increase shiel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B954-ED6A-4C3D-BC1C-2A0B10669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living things are exposed to natural background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osure to man-made radiation sources differs by group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s of the Publi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cupationally Exposed Individuals (Worker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27F4-C6C2-439E-8187-5B05CBC50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6057-6D26-4C7B-BADD-F998C2083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ministratively controlled: PREV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i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eating / drinking in contaminated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open w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114480" y="71280"/>
            <a:ext cx="890244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Protection from Internal Radio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3F49-F522-4919-9AA9-192E81888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mbers of the Publi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cal Sources (by far, the most significant man-made source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agnostic x-ray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clear medicine procedures (iodine-131, cesium-137, and other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D1EC-688F-41E4-8C68-FA8476330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mer Produ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ing and road construction materi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bustible fuels, including gas and co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-ray security syste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levis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uorescent lamp start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oke detectors (americium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argaret Hines</dc:creator>
  <dc:description/>
  <dc:language>en-US</dc:language>
  <cp:lastModifiedBy>Peggy Hines IRSC</cp:lastModifiedBy>
  <dcterms:modified xsi:type="dcterms:W3CDTF">2013-02-07T19:55:15Z</dcterms:modified>
  <cp:revision>1166</cp:revision>
  <dc:subject/>
  <dc:title>Biological Effects of Radiation</dc:title>
</cp:coreProperties>
</file>