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  <p:sldId id="331" r:id="rId95"/>
    <p:sldId id="332" r:id="rId96"/>
    <p:sldId id="333" r:id="rId97"/>
    <p:sldId id="334" r:id="rId98"/>
    <p:sldId id="335" r:id="rId99"/>
    <p:sldId id="336" r:id="rId100"/>
    <p:sldId id="337" r:id="rId101"/>
    <p:sldId id="338" r:id="rId102"/>
    <p:sldId id="339" r:id="rId103"/>
    <p:sldId id="340" r:id="rId104"/>
    <p:sldId id="341" r:id="rId105"/>
    <p:sldId id="342" r:id="rId106"/>
    <p:sldId id="343" r:id="rId107"/>
    <p:sldId id="344" r:id="rId108"/>
    <p:sldId id="345" r:id="rId109"/>
    <p:sldId id="346" r:id="rId110"/>
    <p:sldId id="347" r:id="rId111"/>
    <p:sldId id="348" r:id="rId112"/>
    <p:sldId id="349" r:id="rId113"/>
    <p:sldId id="350" r:id="rId114"/>
    <p:sldId id="351" r:id="rId115"/>
    <p:sldId id="352" r:id="rId116"/>
    <p:sldId id="353" r:id="rId117"/>
    <p:sldId id="354" r:id="rId118"/>
    <p:sldId id="355" r:id="rId119"/>
    <p:sldId id="356" r:id="rId120"/>
    <p:sldId id="357" r:id="rId121"/>
    <p:sldId id="358" r:id="rId122"/>
    <p:sldId id="359" r:id="rId123"/>
    <p:sldId id="360" r:id="rId124"/>
    <p:sldId id="361" r:id="rId125"/>
    <p:sldId id="362" r:id="rId126"/>
    <p:sldId id="363" r:id="rId127"/>
    <p:sldId id="364" r:id="rId128"/>
    <p:sldId id="365" r:id="rId129"/>
    <p:sldId id="366" r:id="rId130"/>
    <p:sldId id="367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slide" Target="slides/slide76.xml"/><Relationship Id="rId96" Type="http://schemas.openxmlformats.org/officeDocument/2006/relationships/slide" Target="slides/slide77.xml"/><Relationship Id="rId97" Type="http://schemas.openxmlformats.org/officeDocument/2006/relationships/slide" Target="slides/slide78.xml"/><Relationship Id="rId98" Type="http://schemas.openxmlformats.org/officeDocument/2006/relationships/slide" Target="slides/slide79.xml"/><Relationship Id="rId99" Type="http://schemas.openxmlformats.org/officeDocument/2006/relationships/slide" Target="slides/slide80.xml"/><Relationship Id="rId100" Type="http://schemas.openxmlformats.org/officeDocument/2006/relationships/slide" Target="slides/slide81.xml"/><Relationship Id="rId101" Type="http://schemas.openxmlformats.org/officeDocument/2006/relationships/slide" Target="slides/slide82.xml"/><Relationship Id="rId102" Type="http://schemas.openxmlformats.org/officeDocument/2006/relationships/slide" Target="slides/slide83.xml"/><Relationship Id="rId103" Type="http://schemas.openxmlformats.org/officeDocument/2006/relationships/slide" Target="slides/slide84.xml"/><Relationship Id="rId104" Type="http://schemas.openxmlformats.org/officeDocument/2006/relationships/slide" Target="slides/slide85.xml"/><Relationship Id="rId105" Type="http://schemas.openxmlformats.org/officeDocument/2006/relationships/slide" Target="slides/slide86.xml"/><Relationship Id="rId106" Type="http://schemas.openxmlformats.org/officeDocument/2006/relationships/slide" Target="slides/slide87.xml"/><Relationship Id="rId107" Type="http://schemas.openxmlformats.org/officeDocument/2006/relationships/slide" Target="slides/slide88.xml"/><Relationship Id="rId108" Type="http://schemas.openxmlformats.org/officeDocument/2006/relationships/slide" Target="slides/slide89.xml"/><Relationship Id="rId109" Type="http://schemas.openxmlformats.org/officeDocument/2006/relationships/slide" Target="slides/slide90.xml"/><Relationship Id="rId110" Type="http://schemas.openxmlformats.org/officeDocument/2006/relationships/slide" Target="slides/slide91.xml"/><Relationship Id="rId111" Type="http://schemas.openxmlformats.org/officeDocument/2006/relationships/slide" Target="slides/slide92.xml"/><Relationship Id="rId112" Type="http://schemas.openxmlformats.org/officeDocument/2006/relationships/slide" Target="slides/slide93.xml"/><Relationship Id="rId113" Type="http://schemas.openxmlformats.org/officeDocument/2006/relationships/slide" Target="slides/slide94.xml"/><Relationship Id="rId114" Type="http://schemas.openxmlformats.org/officeDocument/2006/relationships/slide" Target="slides/slide95.xml"/><Relationship Id="rId115" Type="http://schemas.openxmlformats.org/officeDocument/2006/relationships/slide" Target="slides/slide96.xml"/><Relationship Id="rId116" Type="http://schemas.openxmlformats.org/officeDocument/2006/relationships/slide" Target="slides/slide97.xml"/><Relationship Id="rId117" Type="http://schemas.openxmlformats.org/officeDocument/2006/relationships/slide" Target="slides/slide98.xml"/><Relationship Id="rId118" Type="http://schemas.openxmlformats.org/officeDocument/2006/relationships/slide" Target="slides/slide99.xml"/><Relationship Id="rId119" Type="http://schemas.openxmlformats.org/officeDocument/2006/relationships/slide" Target="slides/slide100.xml"/><Relationship Id="rId120" Type="http://schemas.openxmlformats.org/officeDocument/2006/relationships/slide" Target="slides/slide101.xml"/><Relationship Id="rId121" Type="http://schemas.openxmlformats.org/officeDocument/2006/relationships/slide" Target="slides/slide102.xml"/><Relationship Id="rId122" Type="http://schemas.openxmlformats.org/officeDocument/2006/relationships/slide" Target="slides/slide103.xml"/><Relationship Id="rId123" Type="http://schemas.openxmlformats.org/officeDocument/2006/relationships/slide" Target="slides/slide104.xml"/><Relationship Id="rId124" Type="http://schemas.openxmlformats.org/officeDocument/2006/relationships/slide" Target="slides/slide105.xml"/><Relationship Id="rId125" Type="http://schemas.openxmlformats.org/officeDocument/2006/relationships/slide" Target="slides/slide106.xml"/><Relationship Id="rId126" Type="http://schemas.openxmlformats.org/officeDocument/2006/relationships/slide" Target="slides/slide107.xml"/><Relationship Id="rId127" Type="http://schemas.openxmlformats.org/officeDocument/2006/relationships/slide" Target="slides/slide108.xml"/><Relationship Id="rId128" Type="http://schemas.openxmlformats.org/officeDocument/2006/relationships/slide" Target="slides/slide109.xml"/><Relationship Id="rId129" Type="http://schemas.openxmlformats.org/officeDocument/2006/relationships/slide" Target="slides/slide110.xml"/><Relationship Id="rId130" Type="http://schemas.openxmlformats.org/officeDocument/2006/relationships/slide" Target="slides/slide111.xml"/><Relationship Id="rId131" Type="http://schemas.openxmlformats.org/officeDocument/2006/relationships/slide" Target="slides/slide112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391A-711B-49C0-A180-598853C16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50F2-2F14-483F-959B-F61570A66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D90E-7D6F-464E-8B82-7FB5E819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56B-DFC1-4D1C-B50A-12D5B450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CDE-81BE-4F2D-A0F5-2AF2455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3F010-847F-442C-9227-D93051E1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C24CC-ECCE-4CC3-B4A0-0506D384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ED5AA-2E86-490A-904B-70234BDB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1430E-F280-410C-8069-49D6EEAC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816D8-DA82-4F76-B8C5-236CE0A8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62743-6E94-4031-86B9-69CC64BF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6514F-C7C9-4D47-9514-1DA29066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1E237-A0C6-4071-9AE7-EACB7A76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3F9F3-F828-470A-89E5-84FB885D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17791-5683-4207-9E9B-73BD1D49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CB1-B5AE-41D2-967C-49CB92FE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EFF64-72E5-496A-ADBE-330918FA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707B6-2387-438C-AF84-D368AFB9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82F55-DD4B-4821-9EA8-002E3B2A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F1696-DE91-40F8-94C0-CB39EBF5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480E8-F6CF-4B2B-8C47-44A28361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0FD5C-0DAD-4989-976C-44E9CC83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A22AA-44FA-460C-B678-97812511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3FCA4-9354-43BC-87BD-A4617B63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4FCA4-AAFF-4E2E-AA85-4790A72C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4AB28-9492-4E8E-BFBB-8655D7D2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C4F-76E9-440A-A439-7F82DD32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FC65B-AA3A-4FE7-A25A-146938AD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977A3-7ABB-4946-8B60-CBD90C91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4E070-904F-4731-B53E-17B84BE4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C8107-7D3C-443B-90BC-3B0CC272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FDEC7-96DA-4D6E-871F-D988C855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4FB04-1CFF-433B-A6FB-074E6AE0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978E7-CB20-4878-BE97-DEE46C84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93D99-B2E8-458F-B568-D62A5414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BD864-A2D5-4F16-BCB8-5AB54221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9AE3B-E7B9-4668-8BB1-B9743E72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7648-451A-4CAE-B911-0D18CB98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36FFA-0BB8-4FA7-A073-67733529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242F5-FAC7-49A2-BCAC-DEA0FB27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DA3F2-05D9-473A-8ABF-9487D920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448F8-F8D2-4DE8-8E2E-ECE1E1B8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21C83-5501-4422-AB55-5088FB8E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60784-60B5-4897-93B0-B1EF8FB3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72BD3-B4DC-4F89-9338-29948DC9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CD8DF-AF0C-48A9-ABBF-A88F09D8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A2A4C-265C-4D66-80AE-0AEB813E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BA542-C329-400C-9BC1-AC4B1685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F544-CA58-4D50-8E0F-A10CA7E3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63F24-EC93-4863-BA60-D97EC7C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046E0-462F-443C-BE6B-F71F2B5C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1AF60-4182-4F38-8AA1-2F1D962B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2FC79-18DB-438F-B065-ECFED89D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FDE49-FCEE-446E-B0F4-D90A762A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75F4B-47F5-4EBC-A8B0-7D8A3755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96A8C-983F-4770-9F1C-8EEB972E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A625D-B393-44A5-A07C-BD1D6D0D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0FBB6-9784-462D-9D15-CA0B7B29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0ED7F-1062-4CB3-8D9D-56D081B0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383A-C600-449D-B1C2-5F0ED2FA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7A881-2F40-46B8-99C0-0F9A7119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B953F-688A-4E4B-BBF6-0BD0D5C2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3A71D-5159-4BC0-8E52-1024DC0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6614F-B7EC-4C5C-BD76-D9D9B76D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DB2B1-FB7F-4019-A4D0-23AD3EB2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1CAC3-DE26-416F-8413-052210A9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3319A-9C1B-485C-96C4-94701B94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FDFFA-3B4D-4531-A23F-ABA31296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4A4E7-194D-43E3-A453-852019CD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61ACE-75F9-4C37-B0C5-9253C15F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0AD6-D880-49B1-83EB-FE959BE3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7B0B4-9B22-4D79-AE62-3C0A5ECD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B58E4-CB3A-4F88-AB3A-DD6AD5F8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451DA-FB0D-4B37-A136-3C9979C1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3779F-B5F9-40C3-B25B-991E3ACB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6A60A-5A94-4300-A497-DF0B68A3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C0980-EE6C-4E9E-9297-7C8A6C5F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1CE54-1E4B-4967-9A75-90A17DED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ACB2B-3705-4FDA-8AF5-A6796258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04656-237D-438C-85A7-3CBE0B34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F4FD8-5EA0-4976-B7A8-AD3B3C6A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38C1-7445-4CD7-A5EF-6738A019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222B3-AC8F-429D-91C8-108AD736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B7022-EDE1-4761-A8A0-51216645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E7926-B522-4EF9-B8E5-A5213970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9270D-5222-476F-B867-5135BBE5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C4BDD-B34B-4BAE-A406-9B768643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C0DF9-0706-4694-A02A-6ABCCF54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CDE66-E363-460F-AE9F-07A690B0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5CCC7-127D-4FFF-A513-0FDBFE5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82FD7-752B-441C-B866-6DC02EA0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4C880-1F25-4D7E-A9B9-7897524E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7D8A-AE15-442A-8860-33EF77E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1270E-7A0D-47EF-B440-96FB9098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27983-DD6B-4669-8117-37CC7F6A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18C1D-09F1-4AAE-ADE5-9F589753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80A10-90EA-4EA0-A2B8-2C61EA41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8B90A4-F04F-44FE-8E72-7392B0C7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6B762-A3A9-4061-8522-A86445A8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BA868-1F25-42ED-914E-DC72E305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E3C1D-FEF7-43C0-9F66-61265BBE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12901-9445-4F84-A21E-6B2391FE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79103-D5B6-4641-942C-85E38C1D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1724-88FB-49BE-A4A7-398A8152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12EA65-F3DB-4776-AD9D-C0F5432F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673B1-AC6D-4EEF-9E08-593A7AC8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4AF15-870D-4D8A-BEE8-E233AEE4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58FDB-84E3-4F61-83E1-4E89AA66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7B256-EA6F-4D8F-BF7E-7C4BBC84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35B24-F821-476E-93E7-BB7DF10E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CA308-03EE-4AA7-A100-B31C0F24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4CED4-DBC0-46D3-A48C-B8A7644B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C5BA8C-E76E-4B0B-BE52-D2D5280D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9809B-46D1-4D0E-A101-06188F72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1AC-698A-40EE-A92D-39CE6279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0AF0-6388-4773-913C-9A316B73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E641B-D7E7-4BF8-8117-29C051CB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C5B68-D3C7-4D26-8DD6-92F75DB6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71BB2F-B5D8-466A-A195-97673005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1E73D-C2A8-47CA-BD2E-E9AB645F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99BF2-126D-4516-A805-4D89EFE0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AEF8-6106-44DE-B96C-C1B665AE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2B1C-CA45-46D0-BCA7-8F49E9B8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D333-AD1C-4E85-AC5D-682AC227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B45F-4B48-4C67-AC08-A8617393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BD73-2E33-49B8-B24C-EC8DE8C2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4CF24-2422-4B09-82D9-5C044997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FADA-630D-470E-8113-7F66FE16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EAB78-7BD6-41FF-8E9B-EE7F74C7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90DE-F37D-48B9-A29E-3CE8A81F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C25-07C2-4ABD-A068-3C268591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561F-85FC-4E96-97DB-18ADCC73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5204-32C0-4079-990B-D7387973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48AF-825E-4CB3-ACAE-89CBA7CC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6CDCB-A4AB-4101-9786-E702532B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561E-5B5A-4569-A7F7-6854AA26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AC80-3965-4D38-A808-F1E5DE29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9608-FFE8-4109-B470-520B2774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AC59-CBF7-44E9-B3EC-3EF22615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8697D-56B2-429E-B289-EEFF9567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3AD7C-EC54-404D-B333-8B1536B8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DB1-9943-4262-B871-3AA94F50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DAABC-DEE4-48D4-B13F-2CFEC258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9111-34DC-43DE-B9AB-59611B64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8103-CBE5-4B4F-A6BF-BCF25D7A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60D06-67DF-4E73-9150-D252E8BF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0B7C-F276-4EA4-B6D0-A9235245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9C842-8332-4A2B-A7DB-99614E33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4D407-BB35-492C-B074-AF4C5771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D488C-4329-42AA-BA24-50C9E8A5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9DF4-2E38-4818-835B-138D2E98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FA67C-38AB-4209-98E9-D657A7EE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6E3-9AB9-46E4-91FE-CC3569B5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A325-C8C7-4E56-B739-1F26E30E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23AE0-210E-432C-8FF1-CD9AA567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81AE8-BF8E-48CE-B214-B99F97B8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E7E22-4C68-4DA4-85B5-10815677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09655-BBF5-42DA-BBC6-F1919629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3B203-2D1A-4D55-88F9-557AD54E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09736-7659-4031-8360-26E3F44D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D43B2-C800-401E-B6EB-ADCEEACB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948A-F997-4787-9A4C-45845E3D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93CA9-4536-45F2-9EE2-2BC44D7F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F0A-CEBD-423B-8EC3-CF199DC0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DE3FD-CD47-41E3-92BC-2E3CB6C2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87A9E-E313-4CAE-82DC-9881B784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C9BC2-684A-466A-8C94-38916D68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C8937-CD8D-437F-8FA9-5EEE3D33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33F2-4651-41F0-B3E6-C6BC0E7D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6A680-C537-41DA-B237-9D20BCAD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C36F-B70C-41BF-B359-5764A1B8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6C11C-B9A1-444E-A509-303FDDCE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87EAB-2189-45D3-AFF9-C3E0F60D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36C2-659A-4D9B-ABE8-C2E074C0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090-BCAD-4F8A-9B6A-3D21101F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CB0D0-5F1D-43C6-938E-00D82F9F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C09EE-AD68-4DF7-A60A-930704CD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64E50-C9BB-4946-B718-1DD76D99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BCD23-4388-4B9E-90C7-91F0BCB6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7A25E-746B-41E4-BA79-4A089A41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C0B8E-9991-4124-82D1-A506DFC2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E07AF-5DFF-4DAB-BBCA-1158D489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D4C5C-48BE-47C7-BCDA-02576C79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04419-447E-4F77-84AE-2AAC53F6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99837-5C2F-41EF-BC29-F65200DF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D42-A910-426E-B4C8-4D2D5670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A0A3-4F4F-4037-88E7-551B3946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87AAB-D8D7-4CBC-8DB0-EFCD2DA5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3C6FB-07D3-4B01-B8FF-8FA32C51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392E5-D01F-4DA9-9590-2E726DA4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80CEE-1007-4D6A-A549-BA1CB946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38739-7075-4D01-986D-3F4E1813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4E9A2-2E6B-48D8-9871-7DF839EB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9875D-0BFA-49B5-834B-A5171FD7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05A6A-95C2-4C40-898B-C03722E1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D95DB-8F5F-4780-8694-2B43C004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AC7-A1CF-4B16-9380-05BBEB8C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9EFBA-F64C-4D39-B23D-EDF2FC25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7BF17-6CF0-4D5C-BEBC-6AC9C00F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90188-92B7-464C-AB9C-79631CA0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9009C-1470-4093-8531-C63EFAFB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65854-E70D-4D19-B8F2-667C1A84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B680F-0DA2-455A-8C58-0BFA768C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71AAB-394B-4DF8-A722-A5104D66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D5315-5C4D-48E9-919F-94937800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AF591-6FEF-4DB8-BD31-09196920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E6295-77E2-4394-9B96-1212CE72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A0BA-E49A-481C-8CC4-8B7A336B1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8022-769D-4D88-BBD9-D45630B9C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30EB-5214-42E6-8A1D-04F9EA163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D45C-BBFC-4535-872A-A35842967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60F1-2955-4A17-8D5C-01DA98AD5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6CD1-FDA6-476E-97CB-D217B6F60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8752-3E4F-4DD2-B05A-A32190240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FFD4-0011-47DC-875F-90F0D524D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BA8E-3BF2-4A37-A52C-D772913AB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2481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A5DB-33F6-449E-9E30-546052319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E2C3E06B-9E83-4A33-87D2-E4F0D1420E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E818-7AC9-471E-84C7-4A2969D13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9B58DDCC-8D56-4666-81DB-6D13E11D27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90560" y="6244920"/>
            <a:ext cx="3886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887B9995-7A24-4F69-A2C7-F1965EFA0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68E2-6C63-4D3D-AA9D-39BC1C4F3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2026-B5EC-4124-A119-EC8EF211A4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0E51-E19E-48D1-BB36-48ECDBA8B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152280" y="7952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146240"/>
                <a:gridCol w="102060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4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po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 Comply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 &amp; Extent of Radi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activ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Radiological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8AB0CC3-C0A7-4747-B2A3-6E080BCDD0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Fetal Age at time of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ransfer Coefficien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milated Radioactivity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ory Guide 8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= mrem/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B62CBF2-2E54-4756-A21C-86813EC6EE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Cont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(Skin) Dose Equivalent (SDE) = Dose to a depth of 0.007 cm (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p Dose Equivalent (DDE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1 cm (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s of Eye Dose Equivalent (LDE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0.3 cm (3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173289F-9ED6-4FC3-8A6A-DDF515993D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mination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ions Required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 (54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 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/= 10 mrem (170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0B1A249-59F1-4D50-9A7E-795F228D0C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tivity-Hour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2.22 E 6)(Eff.)(Are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Activity-h Concentration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Counts per Minute-hour Total, cpm-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22 E 6 = Conversion:  2.22E6 dpm/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ff = Detector Counting Efficienc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pm/dpm (0.10 for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rea = Surface Area (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SD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DDE or L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73A8701-2A53-413F-91CB-FB381C21B7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llow (Skin)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S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Surface (Skin)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rad) for Beta 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=S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3,7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Beta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8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A9EB95F-71F0-4F2C-ADF2-3FB0054883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ep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D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Deep Dose Equivalent (mra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f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 =D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A9E795B-D643-4638-82C3-0DC0014686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Hot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Usua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0 mic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ivity Usually At Least 0.1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y Discrete Particle &gt;/= 20,000 c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se Calculation Same as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AD424C5-93FB-4CE0-A12D-862609FBAA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Organ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T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DDE &amp;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E = DDE +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6EA1776-B703-43B8-8375-AE972C7FC5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 (TE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Internal (CEDE) and External (DDE) Expo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= CEDE +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/&gt; Workers Age (Years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ker Limited to 1,0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7DAFF9E-4389-4DBF-B557-9DC54A7F95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Track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Repor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% of Limit – Dos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 % of Limit – Dose Extension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Restricted Access to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tion of Prior Dose –NRC Form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Exposure Report – NRC For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62FB971-2CD8-4106-BDE2-41A4FA185F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External Monito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10% of 10CFR20.1201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gt; 0.15 rem (1.5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Dose &gt; 0.5 rem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ntering High or Very High Radi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BAA5963-FB64-43DD-8E4A-10FFCFDC81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– It’s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 Exposure – A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Low for Low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Limits – 10CFR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6C9A626-49A7-4E08-B915-373C5FBCB6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In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a 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48DA84A-7E4D-4CD4-87AB-07416094D6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and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Dose - rad, 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Equivalent - rem, S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&amp; D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/Tissue Dose –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E9AD3A8-A17B-4B78-BAC2-48C9DB5A26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Monitoring for Internal Expos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than 10% of Applicable 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 0.1 rem (1 mSv) Dur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1F9FC4E-2F79-442C-91A0-EC1AD044AA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Limits &amp;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5 rems (0.05 Sv)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+ CDE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lt;/= 15 rem (0.1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 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VA Administrative Limi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DE &lt;/= 1 rem (0.01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353191A-5115-427D-B4C0-1E6614A600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ned Special Exposures (P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horized in Wri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sure Oc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Do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structed in Meas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Keep Doses ALA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BB3ED36-E7F8-443F-BDA1-BA9917F0A2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ergency Dose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ary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formed of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Rem TEDE to Prev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Damage to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Hazard to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Rem TEDE to Save a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F8A7D1F-F992-4163-9B96-3CBE8F8A90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to Pregnant W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y of Regulatory Guide 8.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 Airborne or Contaminat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 Whole Body Count 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BA64C92-136B-4A09-8F05-A888A3FFEC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s of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31742B3-446A-4B18-B473-4B806206D4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Partial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31A8C67-C4A4-4C94-9CCD-FC43E00C14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moluminesc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 – H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minescent -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F48CF1F-6F0E-43B1-A3C6-147AB87F39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HTP001.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835E8CB-F717-452C-BB17-B25310F359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n 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TCD01"/>
          <p:cNvPicPr/>
          <p:nvPr/>
        </p:nvPicPr>
        <p:blipFill>
          <a:blip r:embed="rId1"/>
          <a:stretch/>
        </p:blipFill>
        <p:spPr>
          <a:xfrm>
            <a:off x="1905120" y="2228760"/>
            <a:ext cx="5333760" cy="3268800"/>
          </a:xfrm>
          <a:prstGeom prst="rect">
            <a:avLst/>
          </a:prstGeom>
          <a:ln w="0">
            <a:noFill/>
          </a:ln>
        </p:spPr>
      </p:pic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92F5B6E-938E-4BB3-9E13-5F717AC429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555DBD7-3955-47F9-A959-14552BA64B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Cu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Range (10 mR to 100,000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Retention (Low F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X-Rays, and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usable and Econo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t Susceptible to Radio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8C00B60-9CED-4ECC-8AFC-C4B0ABC212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Bo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 rot="16200000">
            <a:off x="-1334520" y="3143880"/>
            <a:ext cx="38289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adiation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C8F9FD4-02F3-4483-A3CE-363B98D850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1428840" y="186696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5"/>
          <p:cNvSpPr/>
          <p:nvPr/>
        </p:nvSpPr>
        <p:spPr>
          <a:xfrm>
            <a:off x="1542960" y="3600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8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9"/>
          <p:cNvSpPr/>
          <p:nvPr/>
        </p:nvSpPr>
        <p:spPr>
          <a:xfrm>
            <a:off x="1428840" y="281952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1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972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8"/>
          <p:cNvSpPr/>
          <p:nvPr/>
        </p:nvSpPr>
        <p:spPr>
          <a:xfrm flipV="1">
            <a:off x="1657440" y="2876040"/>
            <a:ext cx="1047600" cy="9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238560" y="2781360"/>
            <a:ext cx="1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1"/>
          <p:cNvSpPr/>
          <p:nvPr/>
        </p:nvSpPr>
        <p:spPr>
          <a:xfrm flipV="1">
            <a:off x="2647800" y="2743200"/>
            <a:ext cx="66708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2"/>
          <p:cNvSpPr/>
          <p:nvPr/>
        </p:nvSpPr>
        <p:spPr>
          <a:xfrm flipV="1">
            <a:off x="3295800" y="2705040"/>
            <a:ext cx="1028520" cy="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3"/>
          <p:cNvSpPr/>
          <p:nvPr/>
        </p:nvSpPr>
        <p:spPr>
          <a:xfrm flipV="1">
            <a:off x="1695600" y="4991040"/>
            <a:ext cx="1085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4"/>
          <p:cNvSpPr/>
          <p:nvPr/>
        </p:nvSpPr>
        <p:spPr>
          <a:xfrm flipV="1">
            <a:off x="2800440" y="4914720"/>
            <a:ext cx="571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5"/>
          <p:cNvSpPr/>
          <p:nvPr/>
        </p:nvSpPr>
        <p:spPr>
          <a:xfrm>
            <a:off x="3352680" y="48960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6"/>
          <p:cNvSpPr/>
          <p:nvPr/>
        </p:nvSpPr>
        <p:spPr>
          <a:xfrm>
            <a:off x="103392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3392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8"/>
          <p:cNvSpPr/>
          <p:nvPr/>
        </p:nvSpPr>
        <p:spPr>
          <a:xfrm>
            <a:off x="1014840" y="17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1071720" y="563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0"/>
          <p:cNvSpPr/>
          <p:nvPr/>
        </p:nvSpPr>
        <p:spPr>
          <a:xfrm>
            <a:off x="1090800" y="478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1109880" y="405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2"/>
          <p:cNvSpPr/>
          <p:nvPr/>
        </p:nvSpPr>
        <p:spPr>
          <a:xfrm>
            <a:off x="4938480" y="26114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4957560" y="4745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5"/>
          <p:cNvSpPr/>
          <p:nvPr/>
        </p:nvSpPr>
        <p:spPr>
          <a:xfrm>
            <a:off x="1357920" y="5694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2386080" y="569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367880" y="5713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Tm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1 mR to 1,0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up to about 2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and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ver responds to Low Energy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Useful for Environmental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D15B33A-8A17-4872-AD22-E8B2BA5C40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ium Sulf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 rot="16200000">
            <a:off x="-1524960" y="2839320"/>
            <a:ext cx="41720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diation Respon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78C17BE-3FD4-4930-BB45-68D315E8D5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1467000" y="184788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16192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9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173340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109080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105300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957960" y="220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5"/>
          <p:cNvSpPr/>
          <p:nvPr/>
        </p:nvSpPr>
        <p:spPr>
          <a:xfrm>
            <a:off x="10908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1071720" y="481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7"/>
          <p:cNvSpPr/>
          <p:nvPr/>
        </p:nvSpPr>
        <p:spPr>
          <a:xfrm>
            <a:off x="1071720" y="403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8"/>
          <p:cNvSpPr/>
          <p:nvPr/>
        </p:nvSpPr>
        <p:spPr>
          <a:xfrm>
            <a:off x="1486080" y="302904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32"/>
          <p:cNvSpPr/>
          <p:nvPr/>
        </p:nvSpPr>
        <p:spPr>
          <a:xfrm>
            <a:off x="148608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6"/>
          <p:cNvSpPr/>
          <p:nvPr/>
        </p:nvSpPr>
        <p:spPr>
          <a:xfrm>
            <a:off x="1847880" y="2209680"/>
            <a:ext cx="2514600" cy="1409760"/>
          </a:xfrm>
          <a:custGeom>
            <a:avLst/>
            <a:gdLst/>
            <a:ahLst/>
            <a:rect l="l" t="t" r="r" b="b"/>
            <a:pathLst>
              <a:path w="1584" h="888">
                <a:moveTo>
                  <a:pt x="0" y="0"/>
                </a:moveTo>
                <a:cubicBezTo>
                  <a:pt x="36" y="24"/>
                  <a:pt x="72" y="36"/>
                  <a:pt x="108" y="60"/>
                </a:cubicBezTo>
                <a:cubicBezTo>
                  <a:pt x="133" y="135"/>
                  <a:pt x="161" y="219"/>
                  <a:pt x="228" y="264"/>
                </a:cubicBezTo>
                <a:cubicBezTo>
                  <a:pt x="241" y="303"/>
                  <a:pt x="275" y="333"/>
                  <a:pt x="288" y="372"/>
                </a:cubicBezTo>
                <a:cubicBezTo>
                  <a:pt x="315" y="454"/>
                  <a:pt x="324" y="480"/>
                  <a:pt x="372" y="552"/>
                </a:cubicBezTo>
                <a:cubicBezTo>
                  <a:pt x="388" y="575"/>
                  <a:pt x="472" y="754"/>
                  <a:pt x="492" y="768"/>
                </a:cubicBezTo>
                <a:cubicBezTo>
                  <a:pt x="516" y="784"/>
                  <a:pt x="540" y="800"/>
                  <a:pt x="564" y="816"/>
                </a:cubicBezTo>
                <a:cubicBezTo>
                  <a:pt x="585" y="830"/>
                  <a:pt x="612" y="832"/>
                  <a:pt x="636" y="840"/>
                </a:cubicBezTo>
                <a:cubicBezTo>
                  <a:pt x="781" y="888"/>
                  <a:pt x="875" y="881"/>
                  <a:pt x="1044" y="888"/>
                </a:cubicBezTo>
                <a:cubicBezTo>
                  <a:pt x="1130" y="877"/>
                  <a:pt x="1203" y="855"/>
                  <a:pt x="1284" y="828"/>
                </a:cubicBezTo>
                <a:cubicBezTo>
                  <a:pt x="1326" y="814"/>
                  <a:pt x="1372" y="820"/>
                  <a:pt x="1416" y="816"/>
                </a:cubicBezTo>
                <a:cubicBezTo>
                  <a:pt x="1570" y="765"/>
                  <a:pt x="1412" y="814"/>
                  <a:pt x="1548" y="780"/>
                </a:cubicBezTo>
                <a:cubicBezTo>
                  <a:pt x="1560" y="777"/>
                  <a:pt x="1584" y="768"/>
                  <a:pt x="1584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7"/>
          <p:cNvSpPr/>
          <p:nvPr/>
        </p:nvSpPr>
        <p:spPr>
          <a:xfrm>
            <a:off x="1847880" y="4743360"/>
            <a:ext cx="743040" cy="381240"/>
          </a:xfrm>
          <a:custGeom>
            <a:avLst/>
            <a:gdLst/>
            <a:ahLst/>
            <a:rect l="l" t="t" r="r" b="b"/>
            <a:pathLst>
              <a:path w="468" h="240">
                <a:moveTo>
                  <a:pt x="0" y="240"/>
                </a:moveTo>
                <a:cubicBezTo>
                  <a:pt x="21" y="177"/>
                  <a:pt x="64" y="163"/>
                  <a:pt x="120" y="144"/>
                </a:cubicBezTo>
                <a:cubicBezTo>
                  <a:pt x="128" y="132"/>
                  <a:pt x="133" y="117"/>
                  <a:pt x="144" y="108"/>
                </a:cubicBezTo>
                <a:cubicBezTo>
                  <a:pt x="166" y="89"/>
                  <a:pt x="216" y="60"/>
                  <a:pt x="216" y="60"/>
                </a:cubicBezTo>
                <a:cubicBezTo>
                  <a:pt x="251" y="7"/>
                  <a:pt x="263" y="15"/>
                  <a:pt x="324" y="0"/>
                </a:cubicBezTo>
                <a:cubicBezTo>
                  <a:pt x="348" y="8"/>
                  <a:pt x="388" y="0"/>
                  <a:pt x="396" y="24"/>
                </a:cubicBezTo>
                <a:cubicBezTo>
                  <a:pt x="400" y="36"/>
                  <a:pt x="400" y="50"/>
                  <a:pt x="408" y="60"/>
                </a:cubicBezTo>
                <a:cubicBezTo>
                  <a:pt x="424" y="80"/>
                  <a:pt x="450" y="90"/>
                  <a:pt x="468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 flipV="1">
            <a:off x="2590920" y="4933440"/>
            <a:ext cx="1218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7"/>
          <p:cNvSpPr/>
          <p:nvPr/>
        </p:nvSpPr>
        <p:spPr>
          <a:xfrm>
            <a:off x="3695760" y="4759200"/>
            <a:ext cx="762120" cy="174600"/>
          </a:xfrm>
          <a:custGeom>
            <a:avLst/>
            <a:gdLst/>
            <a:ahLst/>
            <a:rect l="l" t="t" r="r" b="b"/>
            <a:pathLst>
              <a:path w="480" h="110">
                <a:moveTo>
                  <a:pt x="0" y="110"/>
                </a:moveTo>
                <a:cubicBezTo>
                  <a:pt x="67" y="104"/>
                  <a:pt x="138" y="104"/>
                  <a:pt x="204" y="86"/>
                </a:cubicBezTo>
                <a:cubicBezTo>
                  <a:pt x="280" y="65"/>
                  <a:pt x="354" y="42"/>
                  <a:pt x="432" y="26"/>
                </a:cubicBezTo>
                <a:cubicBezTo>
                  <a:pt x="471" y="0"/>
                  <a:pt x="454" y="2"/>
                  <a:pt x="48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8"/>
          <p:cNvSpPr/>
          <p:nvPr/>
        </p:nvSpPr>
        <p:spPr>
          <a:xfrm>
            <a:off x="1319760" y="5675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9"/>
          <p:cNvSpPr/>
          <p:nvPr/>
        </p:nvSpPr>
        <p:spPr>
          <a:xfrm>
            <a:off x="2348280" y="567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1"/>
          <p:cNvSpPr/>
          <p:nvPr/>
        </p:nvSpPr>
        <p:spPr>
          <a:xfrm>
            <a:off x="4329720" y="569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2"/>
          <p:cNvSpPr/>
          <p:nvPr/>
        </p:nvSpPr>
        <p:spPr>
          <a:xfrm>
            <a:off x="4843440" y="2459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4957560" y="4687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mitations of Both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Heat, Moisture, and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hield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to Improper Wear b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use Results in Incorrec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s from Logistical/Record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43FF447-003E-4FCD-B6B4-804EC4AA2D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E93F798-42DE-4DC0-ADCB-64C6E32AF8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Picture 4" descr="MVC-030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6FEF2A2-CE89-41AB-837B-97DD781D07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762120" y="285840"/>
            <a:ext cx="65912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Thermoluminescent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1" name="Picture 7" descr="MVC-023F"/>
          <p:cNvPicPr/>
          <p:nvPr/>
        </p:nvPicPr>
        <p:blipFill>
          <a:blip r:embed="rId1"/>
          <a:stretch/>
        </p:blipFill>
        <p:spPr>
          <a:xfrm>
            <a:off x="0" y="0"/>
            <a:ext cx="7683480" cy="612612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C748995-6379-4FE7-9A9F-E46C10DA08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781520" y="6667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4686480" y="228600"/>
            <a:ext cx="2781000" cy="13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&amp;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, Exposure Limits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&amp; Dose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C07F5AD-3512-4E82-8015-561E6B5CCF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Picture 4" descr="MVC-03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48BCFD8-96DB-4F49-AC0F-06A5F744A5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0" y="2286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2476440" y="361800"/>
            <a:ext cx="2266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AD10400-7889-4C3A-928C-FFF75EA505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asuring Neutrons with T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Rather Tha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Neutrons not Directly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s Moderat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Recoil Neutron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bedo Effec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8A24341-11B7-4BAA-B46F-B115A797A9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55D6986-6327-4F4D-B1F5-4A3489BF44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ding 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1057320" y="2592360"/>
            <a:ext cx="7029360" cy="254160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8CEDDC3-88C9-4C63-9EDB-AB29BBDF38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Calib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Cal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QC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QC TLDs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BEC9876-0423-45B4-B2C2-3C720A00EA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QC/Q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S Accredited by NIST and NVL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&amp; Verification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stical Revi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d by Exter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Manag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Internal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EAD41F4-B2D4-44D2-80C5-7DDAECFC69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dge Issue &amp;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&amp; Collected by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gns a TL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for a 3-Month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d by T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LDs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AF7AFC0-CE12-4A94-B5D1-0D786663B1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al Pu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Dose Limits Exc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D Off Scale or Displays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/Relocation of 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Badge or Neutr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657C32E-9E6D-45F1-BA73-4D6290ABFC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the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 of Body, Neck to Wa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May Requir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Coveralls in Contamin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 or Pamper With the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0DC7C5D-655B-46D5-946D-B74AFE116E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Dos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Regulations &amp;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ar with Radiation Monitoring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Operation of Various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imetry Administrative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Multiple &amp; Extremity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ry for Various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C790675-2A69-45D2-B14B-F3D4C0FDF9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8" descr="MVC-041F"/>
          <p:cNvPicPr/>
          <p:nvPr/>
        </p:nvPicPr>
        <p:blipFill>
          <a:blip r:embed="rId1"/>
          <a:stretch/>
        </p:blipFill>
        <p:spPr>
          <a:xfrm>
            <a:off x="-422280" y="0"/>
            <a:ext cx="5192640" cy="603252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a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sim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3C4C38D-0DB3-4E23-96D2-6E35F20659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ple Bad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/h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est Dose Location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adiation Levels Unknow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Non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4E4FBC3-A49C-4939-8745-F92FDC9681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-Badge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(Not Wo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D71AE4F-A208-4681-A39C-B94262688D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Ba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500 mrem to Extre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Unshielded Beta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ole Body (Except Hands) Shiel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Small Non-Shielde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contamination of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love Box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I-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1BBA149-B2C9-482B-A5DB-A65F674AA8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Dosi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5" descr="MVC-036F"/>
          <p:cNvPicPr/>
          <p:nvPr/>
        </p:nvPicPr>
        <p:blipFill>
          <a:blip r:embed="rId1"/>
          <a:stretch/>
        </p:blipFill>
        <p:spPr>
          <a:xfrm>
            <a:off x="952560" y="1630440"/>
            <a:ext cx="7124760" cy="427824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0C2296D-7599-4C3D-A762-AAC5D389A3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Extremity Ba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7" descr="MVC-038F"/>
          <p:cNvPicPr/>
          <p:nvPr/>
        </p:nvPicPr>
        <p:blipFill>
          <a:blip r:embed="rId1"/>
          <a:stretch/>
        </p:blipFill>
        <p:spPr>
          <a:xfrm>
            <a:off x="1500120" y="1717560"/>
            <a:ext cx="6446880" cy="422280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A85CC70-E148-4B9B-9E47-C2FE801477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ondary Dosi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y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eriodically During Job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on Front of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in Contamin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8004A81-FADE-4634-B863-6CBA4B948C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4" descr="MVC-019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9F8F476-5C19-4E7D-9162-A6F60A08A3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1542960" y="0"/>
            <a:ext cx="4419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4" descr="MVC-022F"/>
          <p:cNvPicPr/>
          <p:nvPr/>
        </p:nvPicPr>
        <p:blipFill>
          <a:blip r:embed="rId1"/>
          <a:stretch/>
        </p:blipFill>
        <p:spPr>
          <a:xfrm>
            <a:off x="0" y="266760"/>
            <a:ext cx="7588080" cy="58593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41E7543-D5D3-4435-A157-0D74AA3402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838080" y="4991040"/>
            <a:ext cx="6248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Picture 4" descr="MVC-02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382DE64-20F8-46C9-BAAF-A9A88D082C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4400640" y="533520"/>
            <a:ext cx="251460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ctions for Abnorma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Concepts of Internal Dosime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Radionuclides of Conc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Biological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e Calculatio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Radioactivity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an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5FEE7A6-3749-40A6-AFE8-806A51D609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20" descr="MVC-018F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9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E867102-EF3B-4452-AF49-54B47C387A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ed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A – TLD &amp; DAD/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oses to Extremitie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379BEEF-8636-4C02-9B5E-C033F878AA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 Areas –Process TLD for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Radiation Area – Secondary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High Radiation Area – Second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ed Special Exposure –Per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ors – Same as Esc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5013537-A701-4934-AD96-7276DC1900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meter Discrepa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er Investigative Report (DIR)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 or Damaged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/Damaged/Malfunctioning D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spect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condary Dosime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100 mrem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&lt;/= 25% Difference i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ustomer Complaints &amp;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07D387C-C48A-43E6-8351-F659CF802C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Pat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W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5262564-98AF-45B5-86E9-AC4E80455F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ducing Internal Expo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ting, Drinking, Smoking, Chew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Dipping in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Protective Clothing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ll W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ors in 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ork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D605903-F306-44F4-A7BA-B5D6E6C6CE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imination of Internal Radio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ogical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57B8C90-386A-44D5-B1BA-7C501ECB46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tential Health Effects and Ris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EB6FC7D-9127-4546-ACDA-26BDCF93D7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9960" y="9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ally Occurring Radioactive 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14440" y="25714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-4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8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 1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-2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2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8A27B79-B73B-4C29-8EED-4C8E76C7EB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tential 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,000 mrem (100 m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nver, CO, Background 1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No Adverse Biological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ncer Associated with &gt; 50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Leukemia, Lung, Colon &amp;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ng Lat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distinguishable from Cancers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Radiation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D84956A-EBCC-43AC-A6F7-36627242C6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sorbed D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y – The SI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y = 1 Joule/Kilogra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gray = 100 r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 – The Special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rad = 100 ergs/gram or 0.01 Joule/k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ad = 0.01 gr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4310443-BF9C-4B67-BD2F-84DD874E94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&amp; Physical Hazards Contribute to the Sam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65DCA42-7D1E-4007-B8A1-93461BBB28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3812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38120" y="17330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– Activity/Volume of Ai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x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c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– Curies of Radioactive Mater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n into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– (10CFR20, Appendix B, Table 1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of Radioactive Material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lmonary Region of the Lu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=Days, W=Weeks, Y=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68BC2EB-335B-43E3-8B29-00D25E2344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Limit on Intake (ALI) –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Taken into the Body in 1 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00 h) Resulting in a CEDE (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Dose) of 5 rem (0.05 Sv) or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(Organ Dose) of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raction (fALI) – Fraction of ALI from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ntak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I = Intak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AL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D76ACD6-42E9-4583-B738-54DB3C8CD4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ALI(s) for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or Class W =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 for Class Y =    30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838C7EF-FBC7-463E-8135-FF8BD97FF1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8120" y="63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8860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 Air Concentration (DAC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of Air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reathed for 2000 h at 1.2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,000 ml/min) Results in an Int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1 AL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,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6AA5BB6-6DF4-4F62-9B3C-7B17EBC6C8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812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Betwee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21718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= AL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(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Breathing Rate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000 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20,000 ml/min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.4 E 9 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FB6CF9C-017F-4E9F-8791-995E0A13A2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Fraction (fDAC) – Fraction of DA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ing from Exposure to a Specif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of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AC = Conc.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/DA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our – The fDAC Multiplied by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Exposure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fDAC)(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B38B2BC-D9A5-4591-8ADB-6536A22796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 Fraction (fDAC) for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1 E -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 of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Oxide Fo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for Co-60 (Oxide Form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E -8 µCi/ml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AC = (1 E -9 µCi/ml)/(1 E -8 µCi/ml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, fDAC = 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9034730-188E-46E0-9E8D-0E3BBB39BA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-h for Sample Problem # 3 Where the Exposure Time is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0.1)(3 h), 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0.3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524CF19-6EF8-44AB-A5DC-BD0B3EFD71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-h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ALI is Based on an Exposur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rem (5,000 mrem) in 2,000 hours/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,000 mrem/2000 h = 2.5 mrem/DAC-h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DAC-h = 2.5 mrem 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7812A64-7A68-438E-A2D5-4F1A5A4875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 – The Special Unit of Any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= Absorbed Dose times 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em = 0.01 siev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vert (Sv) – The SI Unit of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Sv = 100 r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3BDA18D-97BF-4D64-B0EA-706D333E2E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Concept of ALI and DA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if a Worker Should W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spirator for a Specific Task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F9322C4-1574-4A8C-BDD4-C673082360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= 24 mrem/h, Plus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Tim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espirator = 2 h, 20 min, or 2.33 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DAC-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D0DE38B-B406-4011-871F-5EC12E5E77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ose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.33 h) = 56 mrem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Direct Radia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xposure from Airbor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(Respir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1BF66A1-559C-4FE3-80C0-B5787011C1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Not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 h) = 48 mrem, Dir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 DAC-h)(2.5 mrem/DAC-h) = 5 m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irborne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= 48 mrem + 5 mrem = 53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0DD99F7-31EC-44E2-92FF-86A1B6364D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aring a Respirator,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Will Rece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Dose Equivalent, Therefo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espirator Should be Worn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D792CEE-527F-4073-8301-692800EBB7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ing Inter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dioactivity (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CFR20.1204 Requires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Take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s of Radioactive Materi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ir in Work Areas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in the Bo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Excre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Body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s of thes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0E4265C-B1FD-4B98-9705-DB60CF641B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Means Used at TVA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Compli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Sampling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ing DAC-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69D71D5-290E-494C-A8FF-2185689835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Dos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 Monitoring Require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0.1 ALI or 20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Ad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/= 100 mrem or 4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Pregnant Wo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07D373E-E6E3-448B-904E-0F4693CC13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assa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Initial Entry to Contamination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n Face Indicates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al Contamination De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or Suspected I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f Open W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(Evaluate Contro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4D7B1A7-D780-4BF4-8FA7-5E6D818868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In-Vivo 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Bioassay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use Bed, Chair, Booth, or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etectors Placed Near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umulated by Multichannel Analy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nalyzed by Comput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ed if Expos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20 DAC-h/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394E038-B4EF-43D1-ACB9-718CEC24DE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ality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6292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of 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pha, Fis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ragments, et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trons (Unknown Ener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-Energy Prot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BF6DDDB-AB29-4B68-89DD-E115CFE756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4" descr="MVC-001F"/>
          <p:cNvPicPr/>
          <p:nvPr/>
        </p:nvPicPr>
        <p:blipFill>
          <a:blip r:embed="rId1"/>
          <a:stretch/>
        </p:blipFill>
        <p:spPr>
          <a:xfrm>
            <a:off x="0" y="0"/>
            <a:ext cx="7943760" cy="595944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9589E98-7A67-409E-AA20-EAE818F59E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0" y="1455840"/>
            <a:ext cx="246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I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9"/>
          <p:cNvSpPr/>
          <p:nvPr/>
        </p:nvSpPr>
        <p:spPr>
          <a:xfrm>
            <a:off x="1676520" y="2000160"/>
            <a:ext cx="118116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285840" y="723960"/>
            <a:ext cx="30290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yroid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5886360" y="1657440"/>
            <a:ext cx="2171880" cy="116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rm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9"/>
          <p:cNvSpPr/>
          <p:nvPr/>
        </p:nvSpPr>
        <p:spPr>
          <a:xfrm flipH="1">
            <a:off x="5238720" y="2781360"/>
            <a:ext cx="95256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0"/>
          <p:cNvSpPr/>
          <p:nvPr/>
        </p:nvSpPr>
        <p:spPr>
          <a:xfrm>
            <a:off x="2990880" y="1257480"/>
            <a:ext cx="76212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1"/>
          <p:cNvSpPr/>
          <p:nvPr/>
        </p:nvSpPr>
        <p:spPr>
          <a:xfrm>
            <a:off x="2133720" y="1943280"/>
            <a:ext cx="150480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12" descr="MVC-002F"/>
          <p:cNvPicPr/>
          <p:nvPr/>
        </p:nvPicPr>
        <p:blipFill>
          <a:blip r:embed="rId1"/>
          <a:stretch/>
        </p:blipFill>
        <p:spPr>
          <a:xfrm>
            <a:off x="30240" y="0"/>
            <a:ext cx="4587840" cy="61340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781520" y="2400480"/>
            <a:ext cx="40384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oth Wh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dy Cou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84B643F-EECB-43B4-B9D3-86A2FF1D48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14" descr="MVC-006F"/>
          <p:cNvPicPr/>
          <p:nvPr/>
        </p:nvPicPr>
        <p:blipFill>
          <a:blip r:embed="rId1"/>
          <a:stretch/>
        </p:blipFill>
        <p:spPr>
          <a:xfrm>
            <a:off x="0" y="0"/>
            <a:ext cx="4583160" cy="61340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hannel Analyzer System Used for Whole Body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D2A7A17-C15A-4B84-BCF8-91BC51538A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BC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Performance Ver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QA)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Traceable to 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Expected 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MQA Inter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nd Phan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Results with Know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08FEACB-0A56-4421-A3A3-B1063AA478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ntaminate and Follow-up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Unt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tivity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ore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tic Count if Radioactivity Conti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2583AC6-D062-43E2-8E1B-F765CD865C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 (WBC)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Sampl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BCAAE8B-65DA-4B5D-92FF-36E5F601B1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and Feca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s Taken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FB240B8-49E5-4E6E-9410-821ACF97AA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d by ERM&amp;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Individual’s Exposur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C3B5ECE-BD19-4CB8-9335-9C41C48B2D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red A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ul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&gt;/= 0.01 ALI or 20 DAC-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Internal &amp;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Intake &amp; C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on NRC Form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3CD56E2-60F4-4516-B3E1-D87C352560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erms &amp;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d Effective Dose Equivalent-(CE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a Func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ALI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&amp; DAC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Dose 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15E78EB-2416-4F79-81FC-F2092E82BD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nel Monitoring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quired by 10CFR20.15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A283D26-F6A6-44E7-96CC-F501BC1459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DE From C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CDE), 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Weighting Factor (rem) for ea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Organ or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73BFBE7-CE05-4CC4-9DFE-EAEAD27607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uclide 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f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ALI for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07877FD-263B-4A1E-B937-8DF489F660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t)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5 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 Airborne Concentration (µCi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Time of Exposure (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AC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7BF731B-ECCC-4D30-8287-A46934F33B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Nuclide Int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amp; 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Used by HIS-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,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&amp;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PA Report No. 11), 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0D077FB-30A6-44D9-AE67-710C0FE59B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itted Dose Equiva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gan or Tissue Specific Committed Dose Equivalent (CDE) Must be Calculated When the 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.0 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 an Overdose has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971F03A-6FCF-4B97-AB13-15ED356EEF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ederal Guidance Report No.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uidance Report No. 11 (EPA Report No. 11) Provides Conversion Factors for CDE per Unit Intake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alation (Table 2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(Table 2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/Bq * 3.7 E 6 = re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v/Bq * 3.7 E 9 = m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0C1D03D-4B4A-4D9D-BB55-BC61187F66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0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Intake for Nuclide i (µCi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ALI for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F491AE9-E524-4C5B-A28A-C14E538CA2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0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50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]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=Committed Dose Equivalent (m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Airborne Concentration of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Duration of Exposure (hou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DAC for Nuclide i 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4BFB858-F8D0-4113-AD3E-809E64B2DD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Intake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i *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ommitted Dose Equivalent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or Tissue 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ake for Nuclide 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and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/µCi) from Federal Guid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port No.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D75A9DA-00F4-4615-9AC8-E97558063D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1,000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E = Dose Equivalent (mrem) to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take (µCi)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Fetal Dose Conver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(rem/µCi) for Moth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similation of Radionuclide i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etal Age t (Regulatory Guide 8.3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33C83BF-8C70-4786-B880-3396AD424D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6:16:16Z</dcterms:created>
  <dc:creator>Ralph G. Wallace`</dc:creator>
  <dc:description/>
  <dc:language>en-US</dc:language>
  <cp:lastModifiedBy>Peggy Hines IRSC</cp:lastModifiedBy>
  <dcterms:modified xsi:type="dcterms:W3CDTF">2013-02-18T19:25:41Z</dcterms:modified>
  <cp:revision>28</cp:revision>
  <dc:subject/>
  <dc:title>Personnel Monitoring</dc:title>
</cp:coreProperties>
</file>