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1609-58E7-4BB5-9F23-A7BB54850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E978-B0C1-471F-9677-E259F86ADA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455E-5548-4DF1-966A-5A7B3E088F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15D0-20B5-4481-9ED4-4821EA18CC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990A-0CCF-441A-B231-36C66A92FC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D946-0E87-4B85-BE71-2F2F0C0E5F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B16E-821B-4806-BC23-AABC523FD8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B542-D8C0-4ACC-B2D6-782C22AE5E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3DF1-355E-481D-BAD3-20D113F334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AFFC-D53B-4A69-B365-9D94C37678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857A-039F-469D-9C41-50F59D41B4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4F0B-7082-4777-9858-6A773AC6C4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1066-EFAE-4BE7-8385-F4A53B0C97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7D12-607D-4DC0-A657-AEEA804536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8E9E-6601-4D77-B45E-104CC90971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2F82-9841-4175-8C30-CF611D781C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6BC7-C498-4C51-9CA8-F44D5BBAE7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83AE-0614-460D-AD80-6BBB3CF6FE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CE9C-787D-4009-A64B-82049D87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AF5-3FCC-4867-A244-3EBE11EC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1FABD-CE77-432C-84E0-C79DBA75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F62DA-B708-48CE-9A32-DAD8BA04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80252-2E57-4DE3-BFF9-5DD7244D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3BD53-6907-4EF1-98A1-E6B7305A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F13F1-8B5A-42E5-BB5A-403A901A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872DC-E840-4160-95A4-CA87425F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2EB22-5209-4549-B4BB-72781807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672DF-16F6-489A-9BFC-5300DB1B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06897-26D6-44F9-BFF6-8635C4B5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E02B5-DC3B-4981-8E0A-D15665FE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1AB-E352-48BF-8AE3-432E588E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F93B1-B228-4673-8E69-DB212D89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76B98-5E55-4F53-9F7C-122EFE66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D4DA7-82F3-417E-9450-610128D7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FD0CB-7309-4A14-B492-B6849EF1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81C81-D77F-479F-A81E-920BE1AB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B59F7-79B7-41FE-BCBF-88D2CAD5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F13AE-DD01-4DD8-BD83-4C7DE28A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ECD9D-0F66-4FFA-B7C7-2CC477E6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BECBB-E0F6-4189-9EEA-38CC4C47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15D8E-F172-4CF4-9E11-B386BF25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8C85-4B84-40DD-9AA0-93182182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2EE62-4DD0-4E89-956A-6D75802C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DCF55-F1FC-46E6-B3AB-A76946F1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B8A79-62E2-4B9B-B98B-AED13CBF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1F26D-2D7E-4D3F-88BE-E450D22F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08A07-DF17-4CDE-BFF0-AA8D4803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23125-17A8-4B54-AA0B-7C4F1085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B02A6-12D7-4D24-A4D5-EC28069A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1CB12-F6C6-491C-9BD1-91C7D819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BBB0F-F86A-43D5-89B1-4B868BE9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98EDA-87D9-4CB7-97E4-9C0C3B9C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5276-C16A-4E7B-BE41-08FD526E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C48AD-8AAF-46D1-9FAE-F5E7DCFE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636F8-BDCF-4064-B24D-1251C65A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FB4C9-84C6-45A0-85C2-4ED6409F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7E1FA-AD10-426B-A970-0845B7BE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5DEBC-E350-4D55-B1A4-AB870646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1526D-ACCB-4ECB-B5A8-585536CE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BEDEC-816E-478B-A5BE-4B528E3F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84BD9-A5EF-46AA-90CE-66124157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72D71-DA0F-4340-82EC-998F8A35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A16AA-E1F0-42D0-8297-024F6475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C133-E8E1-4475-8EA2-5583A6A2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BD944-BC34-454B-BD79-53EA37CD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BA1B8-D951-403B-A631-CD05DEAA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C4939-F212-4CF8-8ED9-C0278799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23EF5-D77E-415B-95FF-709EAF7C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B0ACA-A167-42B7-8FBA-3B01591E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C6EF6-AFC6-4533-AAAB-1F7E6266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4BE14-2452-4954-8BC2-AE676224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20D34-4953-4338-966E-88DAF96F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49BE9-6895-4BEE-9B81-8EC73DB7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0038A-1403-42D0-8EA3-A77DDE2D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4987-02A3-4F28-B9C4-5FE6DBD2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B0BC5C-5C1D-4055-8C53-F0EE9739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7FCAC-F49C-43F8-BBC6-B850FFBE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0AAC81-3596-4B41-A850-640DF39E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D4F95-5BC2-4329-B169-B55516A5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7CE34-CFB5-4812-987F-C36F2EEA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4ED30-6467-4D13-A0C4-89F94FF0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BCDFD-F02D-4F40-8A1B-26562450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25B28B-480E-4DE5-B695-77CE5589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000EC-CA8C-4347-BAF5-FF7545E7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BEBF2-B82A-4D90-A185-804AD51E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05AA-9872-4A4B-AF60-9151C7C6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C3CA5A-9D50-4871-9B68-43415862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768772-2D50-4CDF-909E-2E75113A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F8E077-D962-467C-8A08-25B80B59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A1A60-9FC7-46EA-8DEC-4133CDA7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F28455-2C60-44C2-B081-63068478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2049B3-1AC8-4DEF-82BA-AEFF3E19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91DAF-00FD-44D0-BF48-DC182F8E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42E245-791E-417A-9DBF-231D075C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EFE58-EE14-4683-B37E-F4E53736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F18C-6698-485B-A5DC-7DF52B05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B680-1D13-4E4E-B121-35727390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83D3-AC04-40B6-B1DA-5E074C0D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EA9-DCFF-4467-82FE-F7BB70F9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D7D2-FAAF-4354-8004-60D11783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B3FE-4B46-4F31-9D3E-68D5D2E2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A1B5-7642-48A9-A7B2-84570E9F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2676-1F78-42C2-ADBE-DBA0C21C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BA52-6F15-415D-BB89-89014AB4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5BC91-E9A1-4B67-9BF0-C1CF6EF1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18D15-E93D-40E7-B736-DB336380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84C8D-65B0-4350-8A78-25C693C4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BFB78-1EC6-46CD-9DB3-C02048E4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2C345-849F-4244-859F-019E62AC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575-80ED-4F4C-8FC5-3EB3620A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DD875-1946-4AD0-941E-DC12126A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072C8-98E3-4925-905C-F98B2DF2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D601E-2833-48E7-970E-411C1F56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81E7D-F18C-47A4-BF1C-D009BFF4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B42A7-E25B-48F0-8F79-6B38F706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0E154-07A3-4F7F-9B2F-3CE6080A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CC207-085A-4940-BA8C-20A9CEDD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20068-4DFB-4F06-ABD2-74176A57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8FAB0-C805-4D3D-B154-885DB175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E0320-70CA-40E4-AF5A-37F1A37F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366-1133-485E-82F1-E167613D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6D451-0E5B-484D-A947-2362A4A0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A76A1-F8B8-4C4F-9534-ACBC6483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E9D83-1675-468F-A700-C78066EC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6825F-1F8D-4C52-822C-EFCE731C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19EFE-0C37-41CA-88D8-F3D484CE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9A972-599B-446A-A8D4-C54B5F1E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B6546-64B3-4471-B008-7BD00EC4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EF22E-C03F-4C8C-8041-0CC6C39A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1B2E7-C0B6-4646-9938-0C3C99D4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54F4D-583A-4C46-8E46-5DCB007E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EF7-BBBC-4EA2-AA67-AC621CF5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4DD28-A956-4902-AE4A-5CCA24D1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B0682-08EB-4F21-91E6-DA478EFC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AE1D3-98BD-4FAE-9E80-CA048EB6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E2116-D3AB-46D8-84F3-D8257603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F0B10-38C0-4D5B-8CEE-92722FC6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7844D-BFD8-477F-9B0B-98CA48BB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0BBFD-E34E-43C3-80AD-345820AA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22096-6AB1-42C9-8FDF-73628524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EEB23-8F0D-4105-A0ED-C69E06F6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C519A-385C-4C40-A8F4-A2BEA007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5B9-9223-403A-989B-EC8AE546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6D144-0C81-4190-8777-DEA0AAE8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9ADA6-1797-413C-8076-1F4E7B75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5636E-4A6F-406B-9B8E-A49E2E48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EC36C-560D-4A86-AF12-5D322190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08236-A09B-490B-B719-9D436131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588AC-57CC-44C6-9ABF-E44C72C9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A0DB9-F305-42B4-AD9E-F88DC91D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E1CEC-E784-456B-ACA9-B427DCD8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CD5D1-6520-46BB-93A2-9EE54286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97BCC-E82A-4E48-BC78-A45A6F06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A02-B550-4E6C-9DDD-F0847C0D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C1923-8B4F-46BA-AAC3-67B60AF6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D46D9-CBAD-4C2F-9323-0D93DF4E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B71DC-AC79-467D-A0D1-5CE8A171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50F0F-7477-46F4-BB96-5ED3C899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E2329-22AA-452C-A9CC-0641FA2C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CFF3F-0DCE-4600-B141-D9EC8070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92BBB-6422-445B-8C49-69A6284B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096D5-1CE7-4EE8-B4F5-FAED5662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32CDB-3567-4133-B77E-608A09A7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86F0D-A9C5-4DCD-892E-E9320010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522-F496-4264-9021-34CE15AF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8A0BC-4609-4F59-92A9-A5634D63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A379C-B7BF-423C-8F05-8928F2C2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92160-BB10-4A0D-B82E-AD83BA50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2C6B4-C2DE-41D6-8D65-61A24913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F2083-8A4A-4C93-A241-1364A08A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36A93-8A07-4D78-80A0-B45235A1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B6D32-2550-4694-93CF-119C19FC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66DE6-86BE-409D-89F8-DCDD70CF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1AFAC-C2A4-44A8-B5A9-480DACCB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071FB-032C-4C26-A9D3-09C33A2F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E83-DD50-4C61-BC50-CACCB89C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F1EA6-BFE9-4709-A910-68AE0157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452EC-B4E1-4BB0-9B1C-A87F0854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7FE9A-5F7F-4E6A-9CF7-C4C4CCE7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242E2-0C10-42D3-83DE-F9D4A7A7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C8558-EC7B-422E-8002-23D35BEB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216BE-4427-4263-9500-D6470F47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111BC-E042-414E-AD2A-A4FB04D6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BA962-B915-4AFE-AA31-353912F9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D5EF0-E03A-440D-9472-86CBBBF6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29218-875C-43AC-8297-BB5BC894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AEAA-929B-4EFD-9966-D18844D84D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C06D-F287-4833-80E3-95FFD2AD65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B509-883F-4AD3-B45F-BC3D1BA751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A199-8E0C-4AFB-B6F9-CDB64709A5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84B4-FED4-4693-A23E-3B0308B082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E225-8E7A-4ED7-9B46-A0B4B853D2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07B2-F647-48D1-B231-B5795EF12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7E84-0B53-4A53-B21F-9CD43DCBAD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2862-42B8-4B6B-94EB-0F069708C5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9854-D9E1-4677-AE54-7E18234F5C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2F77-87A6-4312-A302-5AA4DD7A94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7923-A8E0-44FE-B18D-9DFA9BAEF7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EC4C-D9BD-4226-A9DA-5A043B8BD8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761A-7A0A-444E-B478-1F22307561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R policy, CFR violation, CFR enfor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8196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73844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084320"/>
                <a:gridCol w="1082520"/>
                <a:gridCol w="1084320"/>
                <a:gridCol w="1082520"/>
                <a:gridCol w="1084320"/>
                <a:gridCol w="108288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8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roceeding to modify, suspend, or revoke a lic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cates alleged violations or potentially hazardous conditions and specifies proposed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written response to the order under oath or affi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s licensee of right to demand a hearing on all or part of the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es the issues for the hea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the effective date of the order – may be immediately effective if public health or safety of conc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Llicensee must admit or deny each alle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and for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ssued by Commission to determine if an order should be iss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Licensee must reply in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066320" y="198108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1911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, Appendix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, Appendix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 - Rules Of Practice For Domestic Licensing Proceedings And Issuance Of Ord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ls with proceeding relating to all aspects of licensing issues, and the enforcement of licensing agre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19 - Notices, Instructions And Reports To Workers: Inspection And Investig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0 - Standards For Protection Against Radi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ols the receipt, possession, use, transfer, and disposal of licensed mate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1 - Reporting Of Defects And Noncompli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responsible officer of a nuclear faciity to immediately notify the Commission of an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ilure to comply with laws relating to substantial safety haz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ects which could create a substantial safety haz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6 - Fitness For Duty Progra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 - Domestic Licensing Of Production And Utilization Facil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ments for obtaining an operating license or construction per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, Appendix A - General Design Criteria For Nuclear Powe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es necessary design, fabrication, construction, testing, and performance requirements for structures, systems, and components important to saf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, Appendix B - Quality Assurance Criteria For Nuclear Power Plants And Fuel Reprocessing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/A requirements for the design, construction, and operation of all structures, systems, and components included in a production or utilization fac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e details: student reports on criterion I - XVI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1 - Environmental Protection Regulations For Domestic Licensing And Related Regulatory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5 - Operators' Licen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ls with the issuance and renewal of licenses for operators and senior operators at nuclear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73 - Physical Protection Of Plants And Materi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ther words,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100 - Reactor Site Criter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d on population zones, seismic activity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Existing U.S. Nuclear Reactors (10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Content Placeholder 3" descr="reactors-map.gif"/>
          <p:cNvPicPr/>
          <p:nvPr/>
        </p:nvPicPr>
        <p:blipFill>
          <a:blip r:embed="rId1"/>
          <a:stretch/>
        </p:blipFill>
        <p:spPr>
          <a:xfrm>
            <a:off x="1295280" y="1905120"/>
            <a:ext cx="68677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roposed New U.S. Nuclear Reactors (2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Content Placeholder 5" descr="new-plants.jpg"/>
          <p:cNvPicPr/>
          <p:nvPr/>
        </p:nvPicPr>
        <p:blipFill>
          <a:blip r:embed="rId1"/>
          <a:stretch/>
        </p:blipFill>
        <p:spPr>
          <a:xfrm>
            <a:off x="1295280" y="1828800"/>
            <a:ext cx="66294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Quality Assurance for Nuclear Re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assurance (QA) comprises all planned and systematic actions that are necessary to provide adequate confidence that a structure, system, or component will perform satisfactorily in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ributes of a QA program include procedures, recordkeeping, inspections, corrective actions, and au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le 1"/>
          <p:cNvSpPr/>
          <p:nvPr/>
        </p:nvSpPr>
        <p:spPr>
          <a:xfrm>
            <a:off x="1066680" y="1905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NE 127 – Codes, Standards, and Regul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ubtitle 2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Key Parts of 10CFR (for the Nuclear Industry)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NSTRUCTOR: Chattanooga State C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Review of QA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RC reviews and inspects QA programs and their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RC's objective is to determine whether licensees and their contractors are meeting the agency's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articular, the NRC reviews the QA programs for commercial nuclear powe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ddition, for operating nuclear power plants, the NRC reviews any changes that reduce previous commitments to the plant’s QA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Regulatory Gu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ail acceptable methods of design, fabrication, construction, operation, and quality assur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ions are manda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y Guides and NUREGs mandatory only as committed to by the applicant (as stipulated in the construction permit or operating licen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y Guides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 forth requirements for submitting environmental reports, safety analysis report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AR – Preliminary Safety Analysis Report (for construction permi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SAR – Final Safety Analysis Report  (for operating licens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ulatory Guide 1.70 describes the type of information to be submitted by the applicant for PSARs and FS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URE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 NURE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ical reports relative to the regulation of nuclear ener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REG-800 - Standard Review Plan For The Review Of Safety Analysis Reports For Nuclear Power Plants: LWR Edi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s what the NRC expects to see in the SAR, including the applicable acceptance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auditors for identification of specific regulations and guideline documents that address each topic of a S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REG-1946 - Inservice Testing of Pumps and Valves, and Inservice Examination and Testing of Dynamic Restraints (Snubbers) at Nuclear Pow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es the ASME c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Institute of Nuclear Power Operations (INP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in 1979 following the Three Mile Island incid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ts mission is to “promote the highest levels of safety and reliability – to promote excellence – in the operation of commercial nuclear power plants” by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ing performance objectives, criteria and guidelines for the nuclear power indu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ing regular detailed evaluations of nuclear power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ing assistance to help nuclear power plants continually improve their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INPO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O provi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evalu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ining and accreditation (ACAD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ents analysis and information ex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to be confused wit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I (Nuclear Energy Institute) – lobbyist group for nuclear energy indu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CP (National Uniform Curriculum Program) – program sponsored by NEI to provide a national certificate of accreditation for QA/QC pr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Technical Training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d in Chattanooga (off Marlin Road near the air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RC TTC Administration Offices are located on the second floor of a 6-story all glass exterior office buil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ors are located on the first, second, third, and fourth flo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Next Tim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SME Boiler and Pressure Vessel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RC Enforcement Pol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pecified in 10CFR2: Rules of Practice for Domestic Licensing Procedures and Issuance of Or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sures compliance with NRC regulations and licensee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s prompt correction of licensee weakn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s a deterrent to future non-compli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courages improvement of licensee performance – leads to enhanced degree of public health and safe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ce of Vio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ssessed based on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safety con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h as actual release of radiation, damage to core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tential safety con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ed on risk fac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act on the regulatory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ilure to report or keep accurate and timely reco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fu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cates deliberate intent to violate or falsif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rity Level of Vio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Normally categorized in terms of four levels of severity to show their relative importance or signific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verity Level I – most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s I and II involve actual or high potential consequences on public health and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verity Level IV – least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forcement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The NRC Commission may issue 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n-Cited Vio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ice of Vio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ivil Penal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ated Administrative Action (such as a Demand for Informa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n-Cited Vi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issues of very low safety signific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ed as violations in inspection reports to establish public records of the vio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cited in Notices of Violation which normally require written responses from licens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tice of Vi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rved by the Commi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May require licensee submit a written statement to address all alleged violations includ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sons for violation, or, if contested, basis for disputing the vio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rective steps taken by licensee and results achie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rective steps whic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e for full compli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vailable for viewing on www.nrc.g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vil Penal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ivil penalties may be imposed for up to $140,000 per day for each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Actual fee based on severity level of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f a violation is on-going, each day of the violation constitutes a separate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dcterms:modified xsi:type="dcterms:W3CDTF">2013-02-14T14:49:00Z</dcterms:modified>
  <cp:revision>248</cp:revision>
  <dc:subject/>
  <dc:title>Statics and Strength of Materials</dc:title>
</cp:coreProperties>
</file>