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3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315200" cy="9601200"/>
</p:presentation>
</file>

<file path=ppt/commentAuthors.xml><?xml version="1.0" encoding="utf-8"?>
<p:cmAuthorLst xmlns:p="http://schemas.openxmlformats.org/presentationml/2006/main">
  <p:cmAuthor id="0" name="Kelly, Nelson" initials="KN"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Relationship Id="rId35" Type="http://schemas.openxmlformats.org/officeDocument/2006/relationships/commentAuthors" Target="commentAuthors.xml"/>
</Relationships>
</file>

<file path=ppt/comments/comment30.xml><?xml version="1.0" encoding="utf-8"?>
<p:cmLst xmlns:p="http://schemas.openxmlformats.org/presentationml/2006/main">
  <p:cm authorId="0" dt="2019-07-30T13:22:10.390000000" idx="1">
    <p:pos x="10" y="10"/>
    <p:text>ref SAE J3061, ISO 21434</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5"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1931-6CA8-4065-BD62-9EB8BA97FF4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E37B-2C5A-4541-8E4B-A5D1B10E3B9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1572-499C-4436-A5AD-D1C05B5A5AC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2698F-B70A-4DD9-B57A-84ED94F0D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BE166-DEAF-4E37-AE22-030860F68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E8FA3-ED03-48F4-9309-62A6F8CC2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249A7-5D72-424F-9AA7-A9718CFC2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70F1C-8AAC-4B7F-9BD1-6EC7ACCDB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615FB-6660-420D-A039-F74B84305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DD6C9-6BAD-4A5F-92B4-CA32F0E1F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1F6A5-D619-420A-A2E8-10D999C5E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5715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8D783-C218-469F-8013-C1E78F9D6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E799E-A7BE-4216-B5AC-9C4BF3B83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78BE7-D54B-4C9C-B492-1B39EA6AD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7B00C-3D67-45C7-909C-E79D4D4A2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kettering.edu/"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6B03-3952-4B65-8CAE-50913475B94B}"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en-US" sz="1200" spc="-1" strike="noStrike">
                <a:solidFill>
                  <a:srgbClr val="898989"/>
                </a:solidFill>
                <a:latin typeface="Calibri"/>
              </a:rPr>
              <a:t>Introductio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4021-84D7-4FDA-BDDA-C4509ED9D0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Kettering University">
            <a:hlinkClick r:id="rId2"/>
          </p:cNvPr>
          <p:cNvPicPr/>
          <p:nvPr/>
        </p:nvPicPr>
        <p:blipFill>
          <a:blip r:embed="rId3"/>
          <a:stretch/>
        </p:blipFill>
        <p:spPr>
          <a:xfrm>
            <a:off x="7399440" y="84240"/>
            <a:ext cx="1431720" cy="143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0.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8BC1-DE15-49B2-B312-FD42AB63D9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0" name="Picture 4" descr=""/>
          <p:cNvPicPr/>
          <p:nvPr/>
        </p:nvPicPr>
        <p:blipFill>
          <a:blip r:embed="rId1"/>
          <a:stretch/>
        </p:blipFill>
        <p:spPr>
          <a:xfrm>
            <a:off x="76320" y="101520"/>
            <a:ext cx="2930400" cy="1143000"/>
          </a:xfrm>
          <a:prstGeom prst="rect">
            <a:avLst/>
          </a:prstGeom>
          <a:ln w="0">
            <a:noFill/>
          </a:ln>
        </p:spPr>
      </p:pic>
      <p:sp>
        <p:nvSpPr>
          <p:cNvPr id="51"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52"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5.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Defining Frameworks for Cybersecurity in Vehicles: J3061</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 Safety vs System Cybersecurity (3)</a:t>
            </a:r>
            <a:endParaRPr b="0" lang="en-US" sz="40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EC32-F3E0-4D55-AB7F-303C533E49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 cybersecurity considers potential threats posed by a malicious attacker whose goal is to cause harm, wreak havoc, gain financial benefits, or simply to gain notoriety</a:t>
            </a:r>
            <a:endParaRPr b="0" lang="en-US" sz="2800" spc="-1" strike="noStrike">
              <a:solidFill>
                <a:srgbClr val="000000"/>
              </a:solidFill>
              <a:latin typeface="Calibri"/>
            </a:endParaRPr>
          </a:p>
          <a:p>
            <a:pPr lvl="1" marL="683280" indent="-262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yber Security threats are more difficult to address than potential safety hazards</a:t>
            </a:r>
            <a:endParaRPr b="0" lang="en-US" sz="2000" spc="-1" strike="noStrike">
              <a:solidFill>
                <a:srgbClr val="000000"/>
              </a:solidFill>
              <a:latin typeface="Calibri"/>
            </a:endParaRPr>
          </a:p>
          <a:p>
            <a:pPr lvl="1" marL="683280" indent="-262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difficult to try to anticipate the exact moves an attacker may take in order to add appropriate Security Controls to protect against attacker’s options.</a:t>
            </a:r>
            <a:endParaRPr b="0" lang="en-US" sz="2000" spc="-1" strike="noStrike">
              <a:solidFill>
                <a:srgbClr val="000000"/>
              </a:solidFill>
              <a:latin typeface="Calibri"/>
            </a:endParaRPr>
          </a:p>
          <a:p>
            <a:pPr lvl="1" marL="683280" indent="-262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uses maybe unknown</a:t>
            </a:r>
            <a:endParaRPr b="0" lang="en-US" sz="2000" spc="-1" strike="noStrike">
              <a:solidFill>
                <a:srgbClr val="000000"/>
              </a:solidFill>
              <a:latin typeface="Calibri"/>
            </a:endParaRPr>
          </a:p>
          <a:p>
            <a:pPr lvl="1" marL="683280" indent="-262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factors in risk assessment: attacker’s experience level, attacker’s access, attacker’s need for special equipment</a:t>
            </a:r>
            <a:endParaRPr b="0" lang="en-US" sz="2000" spc="-1" strike="noStrike">
              <a:solidFill>
                <a:srgbClr val="000000"/>
              </a:solidFill>
              <a:latin typeface="Calibri"/>
            </a:endParaRPr>
          </a:p>
          <a:p>
            <a:pPr lvl="1" marL="683280" indent="-262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 on sub-systems AND electrical architecture (i.e. possible access to safety-critical areas through non-safety-critical area, i.e. CD player)</a:t>
            </a:r>
            <a:endParaRPr b="0" lang="en-US" sz="20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 Safety vs System Cybersecurity (4)</a:t>
            </a:r>
            <a:endParaRPr b="0" lang="en-US" sz="40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60AE-AF0A-47AE-B2C1-1B1E63B237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ybersecurity is not concerned with random hardware failures, but it is concerned with systematic hardware vulnerabilities</a:t>
            </a:r>
            <a:endParaRPr b="0" lang="en-US" sz="2800" spc="-1" strike="noStrike">
              <a:solidFill>
                <a:srgbClr val="000000"/>
              </a:solidFill>
              <a:latin typeface="Calibri"/>
            </a:endParaRPr>
          </a:p>
          <a:p>
            <a:pPr marL="325800" indent="-3258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s are the same –analysis methods may be different:</a:t>
            </a:r>
            <a:endParaRPr b="0" lang="en-US" sz="28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 Safety may utilize detailed hazard analysis technique Fault Tree Analysis (FTA)</a:t>
            </a:r>
            <a:endParaRPr b="0" lang="en-US" sz="2000" spc="-1" strike="noStrike">
              <a:solidFill>
                <a:srgbClr val="000000"/>
              </a:solidFill>
              <a:latin typeface="Calibri"/>
            </a:endParaRPr>
          </a:p>
          <a:p>
            <a:pPr lvl="2" marL="1085760" indent="-21708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ult Tree Analysis identifies potential causes of the top hazard event and looks for single-point and multi-point random hardware failures.</a:t>
            </a:r>
            <a:endParaRPr b="0" lang="en-US" sz="16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 cybersecurity may utilize detailed threat analysis technique Attack Tree Analysis (ATA).</a:t>
            </a:r>
            <a:endParaRPr b="0" lang="en-US" sz="2000" spc="-1" strike="noStrike">
              <a:solidFill>
                <a:srgbClr val="000000"/>
              </a:solidFill>
              <a:latin typeface="Calibri"/>
            </a:endParaRPr>
          </a:p>
          <a:p>
            <a:pPr lvl="2" marL="1085760" indent="-21708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tack Tree Analysis we are not concerned with single-point and multi-point random hardware failures, but rather with determining potential paths that an attacker could take through the system to lead to the top level threat.</a:t>
            </a:r>
            <a:endParaRPr b="0" lang="en-US" sz="16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ybersecurity Process Overview</a:t>
            </a:r>
            <a:endParaRPr b="0" lang="en-US" sz="40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A32A-A42A-414C-ABD8-C586125066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verall management of cybersecurity Part of the overall management of cybersecurity includes:</a:t>
            </a:r>
            <a:endParaRPr b="0" lang="en-US" sz="2400" spc="-1" strike="noStrike">
              <a:solidFill>
                <a:srgbClr val="000000"/>
              </a:solidFill>
              <a:latin typeface="Calibri"/>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ating, fostering, and sustaining a cybersecurity culture within the organization,</a:t>
            </a:r>
            <a:endParaRPr b="0" lang="en-US" sz="1600" spc="-1" strike="noStrike">
              <a:solidFill>
                <a:srgbClr val="000000"/>
              </a:solidFill>
              <a:latin typeface="Calibri"/>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stablishing methods to help ensure compliance to an adopted cybersecurity engineering process,</a:t>
            </a:r>
            <a:endParaRPr b="0" lang="en-US" sz="1600" spc="-1" strike="noStrike">
              <a:solidFill>
                <a:srgbClr val="000000"/>
              </a:solidFill>
              <a:latin typeface="Calibri"/>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ing and establishing needed communication channels with respect to cybersecurity, both internally and externally,</a:t>
            </a:r>
            <a:endParaRPr b="0" lang="en-US" sz="1600" spc="-1" strike="noStrike">
              <a:solidFill>
                <a:srgbClr val="000000"/>
              </a:solidFill>
              <a:latin typeface="Calibri"/>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and implementation of training and mentoring</a:t>
            </a:r>
            <a:endParaRPr b="0" lang="en-US" sz="1600" spc="-1" strike="noStrike">
              <a:solidFill>
                <a:srgbClr val="000000"/>
              </a:solidFill>
              <a:latin typeface="Calibri"/>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corporating an expanded field monitoring process that includes monitoring hacker chatter(including online and at conferences where potential attacks/vulnerability conversations may occur), reporting unsuccessful attacks, etc., and</a:t>
            </a:r>
            <a:endParaRPr b="0" lang="en-US" sz="1600" spc="-1" strike="noStrike">
              <a:solidFill>
                <a:srgbClr val="000000"/>
              </a:solidFill>
              <a:latin typeface="Calibri"/>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corporating an incident response process is important and should include an attack incident reporting procedure, and attack incident investigation, resolution, and action procedures.</a:t>
            </a:r>
            <a:endParaRPr b="0" lang="en-US" sz="16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ement of cybersecurity activities within specific stages of the development life cycle.</a:t>
            </a:r>
            <a:endParaRPr b="0" lang="en-US" sz="24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verall Management of Cybersecurity </a:t>
            </a:r>
            <a:endParaRPr b="0" lang="en-US" sz="40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6E88-224F-40E2-A335-A45FBE4F23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3061™ provides detailed recommendation on each of the concepts below:</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fostering, and sustaining a cybersecurity culture that supports and encourages effective achievement of cybersecurity within the organization,</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ing methods to help ensure compliance to an adopted cybersecurity engineering process,</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ing and establishing needed communication channels with respect to cybersecurity, both internally and externally,</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and implementation of training and mentoring to achieve a competence in cybersecurity for cyber-physical vehicle systems,</a:t>
            </a:r>
            <a:endParaRPr b="0" lang="en-US" sz="24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verall Management of Cybersecurity (2)</a:t>
            </a:r>
            <a:endParaRPr b="0" lang="en-US" sz="40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DF56-1399-4DEE-8C63-BD120B6898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rporating a field monitoring process that includes monitoring hacker chatter (including online and at conferences where potential attacks/vulnerability conversations may occur), media articles, reporting unsuccessful attacks, etc.,</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rporating an incident response process that includes an attack incident reporting procedure, and attack incident investigation, resolution, and action procedures.</a:t>
            </a:r>
            <a:endParaRPr b="0" lang="en-US" sz="28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ss Implementation</a:t>
            </a:r>
            <a:endParaRPr b="0" lang="en-US" sz="40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5685-F7E6-45BE-BEF0-4619DD57E9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98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types of implementation:</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ing a Cybersecurity Process Separately with Integrated Communication Points to a Safety Process</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advantages to this approach are that though the two domains (cybersecurity and safety) have analogous activities from a process perspective, the activities are different and can impact different domains (e.g., cybersecurity often impacts infotainment, which is typically a domain not impacted by safety), and require different types of expertise</a:t>
            </a:r>
            <a:endParaRPr b="0" lang="en-US" sz="24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ss Implementation (2)</a:t>
            </a:r>
            <a:endParaRPr b="0" lang="en-US" sz="40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66AE-60BD-48CF-B69B-E8ACF962BA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ing a Cybersecurity Process in Conjunction with a Safety Process Tailored after ISO 26262</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the cybersecurity process described in this recommended practice is based on the ISO 26262 process framework, tightly integrating the two processes would simply mean to include the cybersecurity activities described in this document for each product lifecycle phase, with the corresponding activities for each product lifecycle phase described in the safety process.</a:t>
            </a:r>
            <a:endParaRPr b="0" lang="en-US" sz="24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ss Implementation (3)</a:t>
            </a:r>
            <a:endParaRPr b="0" lang="en-US" sz="40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EB18-5E75-441F-97AB-2966FFEA3D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me cybersecurity processes and steps are shared with safety and some that are unique to cybersecurity onl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up to the organization to make decision on which is most suitabl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3061™ explains in detail each approach focusing on concept, product development, production operation and service in software and hardware design</a:t>
            </a:r>
            <a:endParaRPr b="0" lang="en-US" sz="2400" spc="-1" strike="noStrike">
              <a:solidFill>
                <a:srgbClr val="000000"/>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CC09-170D-4248-AE4C-97B78742E3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2" name="Picture 4" descr=""/>
          <p:cNvPicPr/>
          <p:nvPr/>
        </p:nvPicPr>
        <p:blipFill>
          <a:blip r:embed="rId1"/>
          <a:stretch/>
        </p:blipFill>
        <p:spPr>
          <a:xfrm>
            <a:off x="76320" y="101520"/>
            <a:ext cx="2930400" cy="1143000"/>
          </a:xfrm>
          <a:prstGeom prst="rect">
            <a:avLst/>
          </a:prstGeom>
          <a:ln w="0">
            <a:noFill/>
          </a:ln>
        </p:spPr>
      </p:pic>
      <p:sp>
        <p:nvSpPr>
          <p:cNvPr id="103"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104"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5.2</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Defining Frameworks for Cybersecurity in Vehicles: ISO 21434</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ISO-21434?</a:t>
            </a:r>
            <a:endParaRPr b="0" lang="en-US" sz="40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D45C-FB22-427F-9996-286159B27C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 / SAE 21434 "Road Vehicles - Cybersecurity engineering" is developing a new standard for cyber security / information security.</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atus of Committee Draft (CD) was reached in September 2018; H. some of the details described below may change. The publication of the final standard is scheduled for November 2020.</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signation indicates that the standard should be jointly developed by an ISO and SAE working group and then released by both organizations.</a:t>
            </a:r>
            <a:endParaRPr b="0" lang="en-US" sz="28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SAE J3061? (1)</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ing information on some common tools and methods used when designing and validating cyber-physical automotive system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ing basic Guiding Principles on Cybersecurity for Automotive System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ing the foundation for further standards development activities in vehicle cybersecurity.</a:t>
            </a:r>
            <a:endParaRPr b="0" lang="en-US" sz="3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861A-1A8B-475C-A207-44D898CD58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SO-21434 goals</a:t>
            </a:r>
            <a:endParaRPr b="0" lang="en-US" sz="40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D3F9-E973-455A-8B70-4629F50A84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e to the increasing risks of cyber-attacks on vehicles and because the infrastructure to online updates of vehicles ( OTA ), fleet management, communication between vehicles (Car2X) and other requirements, the vehicles new attack surfaces, the standard should propose measures for developmen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 21434 is intended to create a technical standard for automotive development in order to at least partially demonstrate compliance with the expected regulations</a:t>
            </a:r>
            <a:endParaRPr b="0" lang="en-US" sz="2800" spc="-1" strike="noStrike">
              <a:solidFill>
                <a:srgbClr val="000000"/>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 of ISO-21434</a:t>
            </a:r>
            <a:endParaRPr b="0" lang="en-US" sz="40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39D8-44A0-4E11-BF21-A36E5CDB1E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cus of the standard is on defining common terminology and the key aspects of cybersecurity. </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pplication of the standard aims to help companies demonstrate responsible and careful handling of vehicle development and cyber-threat prevention.</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tivities in the product development according to standard are controlled on the basis of a risk assessment, for this purpose measures for the organizational anchoring are demanded.</a:t>
            </a:r>
            <a:endParaRPr b="0" lang="en-US" sz="28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y is Standard needed for Automotive Cybersecurity?</a:t>
            </a:r>
            <a:endParaRPr b="0" lang="en-US" sz="36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32917-E43C-4E73-A026-2E32457437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isting cybersecurity standards do not address Automotive:</a:t>
            </a:r>
            <a:endParaRPr b="0" lang="en-US" sz="36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embedded controllers</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ng lifecycle of vehicles</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ty</a:t>
            </a:r>
            <a:endParaRPr b="0" lang="en-US" sz="32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nefit of ISO-21434</a:t>
            </a:r>
            <a:endParaRPr b="0" lang="en-US" sz="36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CF3A-04BA-41B1-9B12-0A0256F9AB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s common terminology for use throughout supply chai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ves industry consensus on key cybersecurity issu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s minimum criteria for vehicle cybersecurity engineering.</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an be referenced by regulators, etc.</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evidence that industry is taking cybersecurity seriously</a:t>
            </a:r>
            <a:endParaRPr b="0" lang="en-US" sz="2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id This Begin?</a:t>
            </a:r>
            <a:endParaRPr b="0" lang="en-US" sz="3600" spc="-1" strike="noStrike">
              <a:solidFill>
                <a:srgbClr val="000000"/>
              </a:solidFill>
              <a:latin typeface="Calibri"/>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02B6-09AB-4759-ACCC-A152C57948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E issued Best Practice document</a:t>
            </a:r>
            <a:endParaRPr b="0" lang="en-US" sz="20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3061 “Cybersecurity Guidebook for Cyber-Physical Vehicle Systems”</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sued January 14, 2016.</a:t>
            </a:r>
            <a:endParaRPr b="0" lang="en-US" sz="1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pt. 2016: Partnership Standards Development Organization (PSDO)</a:t>
            </a:r>
            <a:endParaRPr b="0" lang="en-US" sz="20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s cooperation agreement between ISO and SAE in two areas:</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ad Vehicles</a:t>
            </a:r>
            <a:endParaRPr b="0" lang="en-US" sz="1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lligent Transportation Syste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E &amp; ISO to work together to develop cybersecurity Standard.</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SAE 21434 = first Standard to be created under new agreement.</a:t>
            </a:r>
            <a:endParaRPr b="0" lang="en-US" sz="2400" spc="-1" strike="noStrike">
              <a:solidFill>
                <a:srgbClr val="000000"/>
              </a:solidFill>
              <a:latin typeface="Calibri"/>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ill be jointly released by both SAE and ISO</a:t>
            </a:r>
            <a:endParaRPr b="0" lang="en-US" sz="18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icipation – 82 companies</a:t>
            </a:r>
            <a:endParaRPr b="0" lang="en-US" sz="3600" spc="-1" strike="noStrike">
              <a:solidFill>
                <a:srgbClr val="000000"/>
              </a:solidFill>
              <a:latin typeface="Calibri"/>
            </a:endParaRPr>
          </a:p>
        </p:txBody>
      </p:sp>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E40D-58CF-47D0-BD70-D3B6DD79AA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5" name="Content Placeholder 2" descr=""/>
          <p:cNvPicPr/>
          <p:nvPr/>
        </p:nvPicPr>
        <p:blipFill>
          <a:blip r:embed="rId1"/>
          <a:stretch/>
        </p:blipFill>
        <p:spPr>
          <a:xfrm>
            <a:off x="457200" y="2106720"/>
            <a:ext cx="8229600" cy="351468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ey Principles</a:t>
            </a:r>
            <a:endParaRPr b="0" lang="en-US" sz="36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9FE1-A7DA-402C-A9D0-70189DF54E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icable to Road-vehicl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 of reasonably secure vehicles and system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omakers and Suppliers can use to show “due diligenc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automotive cybersecurity engineering.</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d on current state-of-the-art for Cybersecurity Engineering</a:t>
            </a:r>
            <a:endParaRPr b="0" lang="en-US" sz="3200" spc="-1" strike="noStrike">
              <a:solidFill>
                <a:srgbClr val="000000"/>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ey Principles (2)</a:t>
            </a:r>
            <a:endParaRPr b="0" lang="en-US" sz="36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878C-A21B-4CB5-A7B7-7B7C3FA07C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sk-oriented approach</a:t>
            </a:r>
            <a:endParaRPr b="0" lang="en-US" sz="24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is used for prioritization of action.</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alyses of risk factors for methodical elicitation of cybersecurity requirements.</a:t>
            </a:r>
            <a:endParaRPr b="0" lang="en-US" sz="20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ement activities for Cybersecurity</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ybersecurity activities/processes for all phases of vehicle lifecycle:</a:t>
            </a:r>
            <a:endParaRPr b="0" lang="en-US" sz="24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 and Engineering,</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by Customer,</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tenance and Service,</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ommissioning.</a:t>
            </a:r>
            <a:endParaRPr b="0" lang="en-US" sz="2000" spc="-1" strike="noStrike">
              <a:solidFill>
                <a:srgbClr val="000000"/>
              </a:solidFill>
              <a:latin typeface="Calibri"/>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will it be applicable to?</a:t>
            </a:r>
            <a:endParaRPr b="0" lang="en-US" sz="36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CF39-CD63-4648-BB11-4B9EB4E86C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pplicable to:</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oad vehicl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s system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s component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softwar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s connection from vehicle to any external device/network.</a:t>
            </a:r>
            <a:endParaRPr b="0" lang="en-US" sz="3200" spc="-1" strike="noStrike">
              <a:solidFill>
                <a:srgbClr val="000000"/>
              </a:solidFill>
              <a:latin typeface="Calibri"/>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view of Structure</a:t>
            </a:r>
            <a:endParaRPr b="0" lang="en-US" sz="3600" spc="-1" strike="noStrike">
              <a:solidFill>
                <a:srgbClr val="000000"/>
              </a:solidFill>
              <a:latin typeface="Calibri"/>
            </a:endParaRPr>
          </a:p>
        </p:txBody>
      </p:sp>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68AE-B9AC-4933-992E-2532F91D83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7" name="Content Placeholder 2" descr=""/>
          <p:cNvPicPr/>
          <p:nvPr/>
        </p:nvPicPr>
        <p:blipFill>
          <a:blip r:embed="rId1"/>
          <a:stretch/>
        </p:blipFill>
        <p:spPr>
          <a:xfrm>
            <a:off x="457200" y="1871640"/>
            <a:ext cx="8229600" cy="39830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J3061? (2)</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recommended practice establishes a set of high-level guiding principles for cybersecurity as it relates to automotive cyber-physical systems to be utilized in series production. This includ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ng a framework for a lifecycle process to incorporate cybersecurity into automotive cyber-physical systems.</a:t>
            </a:r>
            <a:endParaRPr b="0" lang="en-US" sz="32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F89D-89DA-4323-943C-47A3CA1F03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B846-0410-4D30-9E74-69DCE57508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9" name="Rectangle 2"/>
          <p:cNvSpPr/>
          <p:nvPr/>
        </p:nvSpPr>
        <p:spPr>
          <a:xfrm>
            <a:off x="2286000" y="1719360"/>
            <a:ext cx="4572000" cy="352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Georgia"/>
                <a:ea typeface="Arial"/>
              </a:rPr>
              <a:t>Thank You</a:t>
            </a:r>
            <a:endParaRPr b="0" lang="en-US" sz="6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Reference:</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Dietmar P.F. Möller, Roland E. Haas, Guide to Automotive Connectivity and Cybersecurity: Trends, Technologies, Innovations and Applications, 2019. </a:t>
            </a:r>
            <a:endParaRPr b="0" lang="en-US" sz="1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tivation of using J3061 (1)</a:t>
            </a:r>
            <a:endParaRPr b="0" lang="en-US" sz="40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D494-50FC-40CE-8D0C-39A6C327A5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1" name="Picture 2" descr=""/>
          <p:cNvPicPr/>
          <p:nvPr/>
        </p:nvPicPr>
        <p:blipFill>
          <a:blip r:embed="rId1"/>
          <a:stretch/>
        </p:blipFill>
        <p:spPr>
          <a:xfrm>
            <a:off x="457200" y="1631880"/>
            <a:ext cx="8229600" cy="4462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tivation of using J3061 (2)</a:t>
            </a:r>
            <a:endParaRPr b="0" lang="en-US" sz="40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D0EA-40C3-4B0D-807E-6C3A9659F7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ybersecurity is relatively new to automotive, and most existing information does not address unique aspects of embedded controller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ybersecurity principles, process and terminology are needed that can be commonly understood between OEMs, Tier 1 suppliers &amp; key stakeholder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efined and structured process helps ensure that cybersecurity is built in to the design throughout product developmen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ISO 26262 Functional Safety process framework</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ystem can be guaranteed 100% secure</a:t>
            </a:r>
            <a:endParaRPr b="0" lang="en-US" sz="2000" spc="-1" strike="noStrike">
              <a:solidFill>
                <a:srgbClr val="000000"/>
              </a:solidFill>
              <a:latin typeface="Calibri"/>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llowing a structured process helps reduce the likelihood of a successful attack, thus reducing the likelihood of losses</a:t>
            </a:r>
            <a:endParaRPr b="0" lang="en-US" sz="2000" spc="-1" strike="noStrike">
              <a:solidFill>
                <a:srgbClr val="000000"/>
              </a:solidFill>
              <a:latin typeface="Calibri"/>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tructured process also provides a clear means to react to a continually changing threat landscap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to apply J3061 (1)</a:t>
            </a:r>
            <a:endParaRPr b="0" lang="en-US" sz="40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0C61-2F8F-40E0-A86B-633CFFE973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3061™ recommends that a cybersecurity process be applied for all automotive systems that are responsible for functions that are ASIL (Automotive Safety Integrity Level) rated per ISO 26262, or that are responsible for functions associated with:</a:t>
            </a:r>
            <a:endParaRPr b="0" lang="en-US" sz="28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ulsion</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aking</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ering</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urity</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fety</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to apply J3061 (2)</a:t>
            </a:r>
            <a:endParaRPr b="0" lang="en-US" sz="40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4DE8-08FA-4A8F-81F9-CA95AA3018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3061™ also recommends that a cybersecurity process be applied for automotive systems that handle Personally Identifiable Information (PII).</a:t>
            </a:r>
            <a:endParaRPr b="0" lang="en-US" sz="2800" spc="-1" strike="noStrike">
              <a:solidFill>
                <a:srgbClr val="000000"/>
              </a:solidFill>
              <a:latin typeface="Calibri"/>
            </a:endParaRPr>
          </a:p>
          <a:p>
            <a:pPr marL="339480" indent="-33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other systems that may also be considered cybersecurity-critical cyber-physical automotive systems, an initial short assessment of threats and an initial estimate of risks can be made to determine if the system being considered should follow a cybersecurity process.</a:t>
            </a:r>
            <a:endParaRPr b="0" lang="en-US" sz="2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 Safety vs System Cybersecurity</a:t>
            </a:r>
            <a:endParaRPr b="0" lang="en-US" sz="40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A1D9-C982-4CD9-8CA3-61FE81EBC3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 safety is the state of a system that does not cause harm to life, property, or the environment.</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afety-critical system is a system that may cause harm to life, property, or the environment if the system does not behave as intended or desired</a:t>
            </a:r>
            <a:endParaRPr b="0" lang="en-US" sz="18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 cybersecurity is the state of a system that does not allow exploitation of vulnerabilities to lead to losses, such as financial, operational, privacy, or safety losse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ecurity-critical system is a system that may lead to financial, operational, privacy, or safety losses if the system is compromised through a vulnerability that may exist in the system</a:t>
            </a:r>
            <a:endParaRPr b="0" lang="en-US" sz="18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 Safety vs System Cybersecurity (2)</a:t>
            </a:r>
            <a:endParaRPr b="0" lang="en-US" sz="40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CC15-50DC-4771-91A1-6E1EBDFFD4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Safety considers potential hazards to identify safety mechanisms that can be integrated into the design to address the causes of the potential hazards</a:t>
            </a:r>
            <a:endParaRPr b="0" lang="en-US" sz="32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tential hazards and causes are more readily identified</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ropriate action to mitigate the potential consequences, or to eliminate the potential hazards all togethercan be taken</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uses of hazards based knowledge of system, components, and interactions</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us on sub-systems</a:t>
            </a:r>
            <a:endParaRPr b="0" lang="en-US" sz="24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HRDAD ZADEH</dc:creator>
  <dc:description/>
  <dc:language>en-US</dc:language>
  <cp:lastModifiedBy>Kelly, Nelson</cp:lastModifiedBy>
  <dcterms:modified xsi:type="dcterms:W3CDTF">2019-08-07T17:40:30Z</dcterms:modified>
  <cp:revision>1067</cp:revision>
  <dc:subject/>
  <dc:title>Computer Networks</dc:title>
</cp:coreProperties>
</file>