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9.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25.png" ContentType="image/png"/>
  <Override PartName="/ppt/media/image2.png" ContentType="image/pn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B244-E025-4904-AA22-D86F3D8E9E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7B93-046C-4FDF-8A9D-D54B42DFBED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59D-31CE-4C02-8429-B3D4100145D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7757C-74CA-4E13-B24C-C954D10ED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C673-81EB-48E1-B431-3B153E72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DCB2A-0088-4FD4-8A89-676EC68B9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0E43F-F23A-4627-9846-786C2AB21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71A1D-69D2-405E-B99F-DE6736B1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3314-CDF5-437C-BF4B-6F570AB5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EC08-F8F0-456A-90A3-0CC86FF55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D9EB-903D-4E6C-A03B-5846592D2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6397D-6FFF-47BA-9E38-DA2EEB87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B026-6B2D-49C1-A268-A2F7182D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D110-CA06-4E8C-A011-5262F577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9067-F4C3-4B24-94CE-A41D9A524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8CDC-5C86-4C7D-A218-2CE4F659BAA6}"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3126-0B47-40A5-9971-BAC0F6940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alldata.com/" TargetMode="External"/><Relationship Id="rId2" Type="http://schemas.openxmlformats.org/officeDocument/2006/relationships/hyperlink" Target="http://mitchell1.com/main"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innovatemotorsports.com/resources/ecu_pinout.php"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F85F-91E4-402D-8AA2-44954C6B0F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3.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utomotive electronics and ECUs: Introduction to ECUs, software, and firmwar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ammability (2)</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ccommodate for engine modifications, a programmable ECU can be used in place of the factory-shipped ECU.</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modifications that may require an ECU upgrade can include turbocharging, supercharging, or both, a naturally aspirated engine; fuel injection or spark plug upgrades, exhaust system modifications or upgrades, transmission upgrades, and so on.</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4A07-CDF6-4758-87BD-EFF9690C0C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ammability (3)</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ming an ECU typically requires interfacing the unit with a desktop or laptop computer; this interfacing is required so the programming computer can send complete engine tunings to the engine control unit as well as monitor the conditions of the engine in realtime. Connection typically used in this interface are either USB or serial.</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C8A5-E407-462C-98CA-4A073044F8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8849-716B-4EC6-9F4C-92A49149DE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4" name="Picture 4" descr=""/>
          <p:cNvPicPr/>
          <p:nvPr/>
        </p:nvPicPr>
        <p:blipFill>
          <a:blip r:embed="rId1"/>
          <a:stretch/>
        </p:blipFill>
        <p:spPr>
          <a:xfrm>
            <a:off x="76320" y="101520"/>
            <a:ext cx="2930400" cy="1143000"/>
          </a:xfrm>
          <a:prstGeom prst="rect">
            <a:avLst/>
          </a:prstGeom>
          <a:ln w="0">
            <a:noFill/>
          </a:ln>
        </p:spPr>
      </p:pic>
      <p:sp>
        <p:nvSpPr>
          <p:cNvPr id="85"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86"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3.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tacking vehicles: ECU Hack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Attacking ECU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U is a common target of reverse engineering, sometimes referred to as chip tuning.</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popular ECU hack is modifying the fuel map to alter the balance of fuel efficiency and performance in order to give you a higher-performance vehicle.</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9EA-B85E-4971-AF43-216848318B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U HAC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control uni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hicle typically has as many as a dozen or more electronic controllers, many of which are networked to communicate with each o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attempt to look inside</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5964-B2F8-43E4-9ED3-DD4B5677E3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ining Entrance </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nt Door Attack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andeering the access mechanism of the original equipment manufacturer (OEM)</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 Door Attack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ing more traditional hardware-hacking approaches</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it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ing more traditional hardware-hacking approache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worth remembering that while the goal for ECU and other control module hacking is often the same to gain access in order to reprogram and change behavior it’s unlikely there’ll be a “master key” for all controllers.</a:t>
            </a:r>
            <a:endParaRPr b="0" lang="en-US" sz="24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01F0-AFB7-4161-81D2-52557F7AEB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rsing Automotive Firmware </a:t>
            </a:r>
            <a:endParaRPr b="0" lang="en-US" sz="4400" spc="-1" strike="noStrike">
              <a:solidFill>
                <a:srgbClr val="000000"/>
              </a:solidFill>
              <a:latin typeface="Calibri"/>
            </a:endParaRPr>
          </a:p>
        </p:txBody>
      </p:sp>
      <p:sp>
        <p:nvSpPr>
          <p:cNvPr id="97" name=""/>
          <p:cNvSpPr txBox="1"/>
          <p:nvPr/>
        </p:nvSpPr>
        <p:spPr>
          <a:xfrm>
            <a:off x="456840" y="1600200"/>
            <a:ext cx="8458200" cy="5121360"/>
          </a:xfrm>
          <a:prstGeom prst="rect">
            <a:avLst/>
          </a:prstGeom>
          <a:noFill/>
          <a:ln w="0">
            <a:noFill/>
          </a:ln>
        </p:spPr>
        <p:txBody>
          <a:bodyPr anchor="t">
            <a:normAutofit/>
          </a:bodyPr>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point, you probably have anywhere from 4KB to 4MB of raw machine-ready code, with a mixture of various parameters and actual code that forms the program the processor will run.</a:t>
            </a:r>
            <a:endParaRPr b="0" lang="en-US" sz="2800" spc="-1" strike="noStrike">
              <a:solidFill>
                <a:srgbClr val="000000"/>
              </a:solidFill>
              <a:latin typeface="Calibri"/>
            </a:endParaRPr>
          </a:p>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you must know which chip this binary is for. There are several free decompilers for different chips out on the Internet.</a:t>
            </a:r>
            <a:endParaRPr b="0" lang="en-US" sz="2800" spc="-1" strike="noStrike">
              <a:solidFill>
                <a:srgbClr val="000000"/>
              </a:solidFill>
              <a:latin typeface="Calibri"/>
            </a:endParaRPr>
          </a:p>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wise you can drop some cash and buy IDA Pro, which supports a large variety of chips.</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90E5-14CC-4C92-9A71-58EBC9C4B5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rsing Automotive Firmware (2)</a:t>
            </a:r>
            <a:endParaRPr b="0" lang="en-US" sz="4400" spc="-1" strike="noStrike">
              <a:solidFill>
                <a:srgbClr val="000000"/>
              </a:solidFill>
              <a:latin typeface="Calibri"/>
            </a:endParaRPr>
          </a:p>
        </p:txBody>
      </p:sp>
      <p:sp>
        <p:nvSpPr>
          <p:cNvPr id="100" name=""/>
          <p:cNvSpPr txBox="1"/>
          <p:nvPr/>
        </p:nvSpPr>
        <p:spPr>
          <a:xfrm>
            <a:off x="456840" y="1600200"/>
            <a:ext cx="8458200" cy="5121360"/>
          </a:xfrm>
          <a:prstGeom prst="rect">
            <a:avLst/>
          </a:prstGeom>
          <a:noFill/>
          <a:ln w="0">
            <a:noFill/>
          </a:ln>
        </p:spPr>
        <p:txBody>
          <a:bodyPr anchor="t">
            <a:normAutofit fontScale="96000"/>
          </a:bodyPr>
          <a:p>
            <a:pPr marL="493560" indent="-438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stage is to figure out what exactly you are looking at. When you’re starting to analyze raw data, a high-level understanding of the function of the devices you’re reverse engineering will be key to knowing what to look for.</a:t>
            </a:r>
            <a:endParaRPr b="0" lang="en-US" sz="2800" spc="-1" strike="noStrike">
              <a:solidFill>
                <a:srgbClr val="000000"/>
              </a:solidFill>
              <a:latin typeface="Calibri"/>
            </a:endParaRPr>
          </a:p>
          <a:p>
            <a:pPr marL="493560" indent="-438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re starting to analyze raw data, a high-level understanding of the function of the devices you’re reverse engineering will be key to knowing what to look for. You can follow a number of breadcrumbs, or clues, for starters; these breadcrumbs are almost guaranteed to lead you to interesting and useful material.</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EF63-6D9A-495C-A6E2-FF219BD75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motive controller functions</a:t>
            </a:r>
            <a:endParaRPr b="0" lang="en-US" sz="4400" spc="-1" strike="noStrike">
              <a:solidFill>
                <a:srgbClr val="000000"/>
              </a:solidFill>
              <a:latin typeface="Calibri"/>
            </a:endParaRPr>
          </a:p>
        </p:txBody>
      </p:sp>
      <p:sp>
        <p:nvSpPr>
          <p:cNvPr id="103" name=""/>
          <p:cNvSpPr txBox="1"/>
          <p:nvPr/>
        </p:nvSpPr>
        <p:spPr>
          <a:xfrm>
            <a:off x="456840" y="1600200"/>
            <a:ext cx="8458200" cy="5121360"/>
          </a:xfrm>
          <a:prstGeom prst="rect">
            <a:avLst/>
          </a:prstGeom>
          <a:noFill/>
          <a:ln w="0">
            <a:noFill/>
          </a:ln>
        </p:spPr>
        <p:txBody>
          <a:bodyPr anchor="t">
            <a:normAutofit/>
          </a:bodyPr>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engine controller has some type of self-diagnostic system that typically monitors most critical engine functions, and analyzing this is an excellent route to understanding firmware. </a:t>
            </a:r>
            <a:endParaRPr b="0" lang="en-US" sz="2800" spc="-1" strike="noStrike">
              <a:solidFill>
                <a:srgbClr val="000000"/>
              </a:solidFill>
              <a:latin typeface="Calibri"/>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Diagnostic System</a:t>
            </a:r>
            <a:endParaRPr b="0" lang="en-US" sz="2800" spc="-1" strike="noStrike">
              <a:solidFill>
                <a:srgbClr val="000000"/>
              </a:solidFill>
              <a:latin typeface="Calibri"/>
            </a:endParaRPr>
          </a:p>
          <a:p>
            <a:pPr marL="57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Procedures</a:t>
            </a:r>
            <a:endParaRPr b="0" lang="en-US" sz="2800" spc="-1" strike="noStrike">
              <a:solidFill>
                <a:srgbClr val="000000"/>
              </a:solidFill>
              <a:latin typeface="Calibri"/>
            </a:endParaRPr>
          </a:p>
          <a:p>
            <a:pPr marL="572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ing Known Tables</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D78A-3F8A-4B5C-9EA4-E2756C7150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Diagnostic System</a:t>
            </a:r>
            <a:endParaRPr b="0" lang="en-US" sz="4400" spc="-1" strike="noStrike">
              <a:solidFill>
                <a:srgbClr val="000000"/>
              </a:solidFill>
              <a:latin typeface="Calibri"/>
            </a:endParaRPr>
          </a:p>
        </p:txBody>
      </p:sp>
      <p:sp>
        <p:nvSpPr>
          <p:cNvPr id="106" name=""/>
          <p:cNvSpPr txBox="1"/>
          <p:nvPr/>
        </p:nvSpPr>
        <p:spPr>
          <a:xfrm>
            <a:off x="456840" y="1600200"/>
            <a:ext cx="8458200" cy="5121360"/>
          </a:xfrm>
          <a:prstGeom prst="rect">
            <a:avLst/>
          </a:prstGeom>
          <a:noFill/>
          <a:ln w="0">
            <a:noFill/>
          </a:ln>
        </p:spPr>
        <p:txBody>
          <a:bodyPr anchor="t">
            <a:normAutofit/>
          </a:bodyPr>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engine controller has some type of self-diagnostic system that typically monitors most critical engine functions, and analyzing this is an excellent route to understanding firmware</a:t>
            </a:r>
            <a:endParaRPr b="0" lang="en-US" sz="2800" spc="-1" strike="noStrike">
              <a:solidFill>
                <a:srgbClr val="000000"/>
              </a:solidFill>
              <a:latin typeface="Calibri"/>
            </a:endParaRPr>
          </a:p>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step in investigative disassembly is to identify the location of these procedures.</a:t>
            </a:r>
            <a:endParaRPr b="0" lang="en-US" sz="2800" spc="-1" strike="noStrike">
              <a:solidFill>
                <a:srgbClr val="000000"/>
              </a:solidFill>
              <a:latin typeface="Calibri"/>
            </a:endParaRPr>
          </a:p>
          <a:p>
            <a:pPr marL="514440" indent="-457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knowing that code 10 refers to a failed intake air temperature sensor means you can find the piece of code that sets error code 10 to help you identify the internal variables associated with the air temperature sensor.</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3327-021A-41F4-9D7F-6E2E60B468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 to ECU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nowledge about ECUs and their software and firmware are very important for learning about potential attacks on vehicles.</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Us are covered in the following CAAT course. In this topic, a summary of important topics about ECUs are provided. For more details, the following course can be used:</a:t>
            </a:r>
            <a:endParaRPr b="0" lang="en-US" sz="3200" spc="-1" strike="noStrike">
              <a:solidFill>
                <a:srgbClr val="000000"/>
              </a:solidFill>
              <a:latin typeface="Calibri"/>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utomated, Connected, and Intelligent Vehicles </a:t>
            </a: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F03B-7B94-4D64-9766-3871736B07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rary Procedures</a:t>
            </a:r>
            <a:endParaRPr b="0" lang="en-US" sz="4400" spc="-1" strike="noStrike">
              <a:solidFill>
                <a:srgbClr val="000000"/>
              </a:solidFill>
              <a:latin typeface="Calibri"/>
            </a:endParaRPr>
          </a:p>
        </p:txBody>
      </p:sp>
      <p:sp>
        <p:nvSpPr>
          <p:cNvPr id="109" name=""/>
          <p:cNvSpPr txBox="1"/>
          <p:nvPr/>
        </p:nvSpPr>
        <p:spPr>
          <a:xfrm>
            <a:off x="456840" y="1600200"/>
            <a:ext cx="8458200" cy="5121360"/>
          </a:xfrm>
          <a:prstGeom prst="rect">
            <a:avLst/>
          </a:prstGeom>
          <a:noFill/>
          <a:ln w="0">
            <a:noFill/>
          </a:ln>
        </p:spPr>
        <p:txBody>
          <a:bodyPr anchor="t">
            <a:normAutofit/>
          </a:bodyPr>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change the behavior of a control unit is often one of the primary goals of reverse engineering ECU firmware, and identifying data used by a controller is an important step in the process.</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CUs have a set of library functions used for routine tasks throughout the code.</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rary functions used for table lookups are worth identifying early on in the reverse engineering process, as these can lead straight to the parameters you’re interested in</a:t>
            </a: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F6D1-98E9-4378-85D8-A5296A503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rary Procedures </a:t>
            </a:r>
            <a:r>
              <a:rPr b="0" lang="en-US" sz="3600" spc="-1" strike="noStrike">
                <a:solidFill>
                  <a:srgbClr val="000000"/>
                </a:solidFill>
                <a:latin typeface="Calibri"/>
              </a:rPr>
              <a:t>(2)</a:t>
            </a:r>
            <a:endParaRPr b="0" lang="en-US" sz="3600" spc="-1" strike="noStrike">
              <a:solidFill>
                <a:srgbClr val="000000"/>
              </a:solidFill>
              <a:latin typeface="Calibri"/>
            </a:endParaRPr>
          </a:p>
        </p:txBody>
      </p:sp>
      <p:sp>
        <p:nvSpPr>
          <p:cNvPr id="112" name=""/>
          <p:cNvSpPr txBox="1"/>
          <p:nvPr/>
        </p:nvSpPr>
        <p:spPr>
          <a:xfrm>
            <a:off x="456840" y="1600200"/>
            <a:ext cx="8458200" cy="5121360"/>
          </a:xfrm>
          <a:prstGeom prst="rect">
            <a:avLst/>
          </a:prstGeom>
          <a:noFill/>
          <a:ln w="0">
            <a:noFill/>
          </a:ln>
        </p:spPr>
        <p:txBody>
          <a:bodyPr anchor="t">
            <a:normAutofit/>
          </a:bodyPr>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ually each type of data stored within the ECU—one-dimensional array of bytes; two-dimensional array of words; three-dimensional array of unsigned, signed, and float shorts; and so on.</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table lookup routines can be reused to pass information about the structure of the table, such as how many rows and columns are present.</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econdary characteristic of these lookup routines is that they tend to have lots of interpolation math. </a:t>
            </a:r>
            <a:endParaRPr b="0" lang="en-US" sz="24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736B-EC98-4C40-8A1C-7E1170C3B4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Known Tables</a:t>
            </a:r>
            <a:endParaRPr b="0" lang="en-US" sz="4000" spc="-1" strike="noStrike">
              <a:solidFill>
                <a:srgbClr val="000000"/>
              </a:solidFill>
              <a:latin typeface="Calibri"/>
            </a:endParaRPr>
          </a:p>
        </p:txBody>
      </p:sp>
      <p:sp>
        <p:nvSpPr>
          <p:cNvPr id="115" name=""/>
          <p:cNvSpPr txBox="1"/>
          <p:nvPr/>
        </p:nvSpPr>
        <p:spPr>
          <a:xfrm>
            <a:off x="456840" y="1600200"/>
            <a:ext cx="8458200" cy="5121360"/>
          </a:xfrm>
          <a:prstGeom prst="rect">
            <a:avLst/>
          </a:prstGeom>
          <a:noFill/>
          <a:ln w="0">
            <a:noFill/>
          </a:ln>
        </p:spPr>
        <p:txBody>
          <a:bodyPr anchor="t">
            <a:normAutofit/>
          </a:bodyPr>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way to identify tables is to leverage the specific physical and electrical characteristics of vehicle sensors, which will display identifiable characteristics within ECU firmware.</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n ECU with a MAF sensor will have a table that translates raw readings of voltage or frequency from the MAF into airflow into the engine, providing an internal representation.</a:t>
            </a:r>
            <a:endParaRPr b="0" lang="en-US" sz="2400" spc="-1" strike="noStrike">
              <a:solidFill>
                <a:srgbClr val="000000"/>
              </a:solidFill>
              <a:latin typeface="Calibri"/>
            </a:endParaRPr>
          </a:p>
          <a:p>
            <a:pPr marL="51444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al output from an MAF is determined by physics—that is, King’s Law—so the curve will always have a characteristic shape, though it’ll be slightly different for each sensor. </a:t>
            </a:r>
            <a:endParaRPr b="0" lang="en-US" sz="24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F3D9-B616-477C-9C0E-B2B5A49A50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Known Tables (2)</a:t>
            </a:r>
            <a:endParaRPr b="0" lang="en-US" sz="4000" spc="-1" strike="noStrike">
              <a:solidFill>
                <a:srgbClr val="000000"/>
              </a:solidFill>
              <a:latin typeface="Calibri"/>
            </a:endParaRPr>
          </a:p>
        </p:txBody>
      </p:sp>
      <p:sp>
        <p:nvSpPr>
          <p:cNvPr id="118" name=""/>
          <p:cNvSpPr txBox="1"/>
          <p:nvPr/>
        </p:nvSpPr>
        <p:spPr>
          <a:xfrm>
            <a:off x="193320" y="1236600"/>
            <a:ext cx="8458200" cy="5121360"/>
          </a:xfrm>
          <a:prstGeom prst="rect">
            <a:avLst/>
          </a:prstGeom>
          <a:noFill/>
          <a:ln w="0">
            <a:noFill/>
          </a:ln>
        </p:spPr>
        <p:txBody>
          <a:bodyPr anchor="t">
            <a:normAutofit/>
          </a:bodyPr>
          <a:p>
            <a:pPr marL="57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 similarly shaped Ford and Nissan sensor curves; the similarity they illustrate extends to multiple manufacturers.</a:t>
            </a: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0901-0979-44CB-9C0E-261EF5CD6E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0" name="Picture 2" descr="image"/>
          <p:cNvPicPr/>
          <p:nvPr/>
        </p:nvPicPr>
        <p:blipFill>
          <a:blip r:embed="rId1"/>
          <a:stretch/>
        </p:blipFill>
        <p:spPr>
          <a:xfrm>
            <a:off x="433440" y="3124080"/>
            <a:ext cx="3867120" cy="3218040"/>
          </a:xfrm>
          <a:prstGeom prst="rect">
            <a:avLst/>
          </a:prstGeom>
          <a:ln w="0">
            <a:noFill/>
          </a:ln>
        </p:spPr>
      </p:pic>
      <p:pic>
        <p:nvPicPr>
          <p:cNvPr id="121" name="Picture 1" descr=""/>
          <p:cNvPicPr/>
          <p:nvPr/>
        </p:nvPicPr>
        <p:blipFill>
          <a:blip r:embed="rId2"/>
          <a:stretch/>
        </p:blipFill>
        <p:spPr>
          <a:xfrm>
            <a:off x="4430880" y="3322800"/>
            <a:ext cx="4410000" cy="2678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Known Tables (3)</a:t>
            </a:r>
            <a:endParaRPr b="0" lang="en-US" sz="4000" spc="-1" strike="noStrike">
              <a:solidFill>
                <a:srgbClr val="000000"/>
              </a:solidFill>
              <a:latin typeface="Calibri"/>
            </a:endParaRPr>
          </a:p>
        </p:txBody>
      </p:sp>
      <p:sp>
        <p:nvSpPr>
          <p:cNvPr id="123" name=""/>
          <p:cNvSpPr txBox="1"/>
          <p:nvPr/>
        </p:nvSpPr>
        <p:spPr>
          <a:xfrm>
            <a:off x="193320" y="1236600"/>
            <a:ext cx="8458200" cy="5121360"/>
          </a:xfrm>
          <a:prstGeom prst="rect">
            <a:avLst/>
          </a:prstGeom>
          <a:noFill/>
          <a:ln w="0">
            <a:noFill/>
          </a:ln>
        </p:spPr>
        <p:txBody>
          <a:bodyPr anchor="t">
            <a:normAutofit/>
          </a:bodyPr>
          <a:p>
            <a:pPr marL="57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ve different views of the same data.</a:t>
            </a:r>
            <a:endParaRPr b="0" lang="en-US" sz="20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7FB0-7B7C-4114-87FA-581CB37B4E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5" name="Picture 2" descr="image"/>
          <p:cNvPicPr/>
          <p:nvPr/>
        </p:nvPicPr>
        <p:blipFill>
          <a:blip r:embed="rId1"/>
          <a:stretch/>
        </p:blipFill>
        <p:spPr>
          <a:xfrm>
            <a:off x="11160" y="4572000"/>
            <a:ext cx="4960800" cy="2149560"/>
          </a:xfrm>
          <a:prstGeom prst="rect">
            <a:avLst/>
          </a:prstGeom>
          <a:ln w="0">
            <a:noFill/>
          </a:ln>
        </p:spPr>
      </p:pic>
      <p:pic>
        <p:nvPicPr>
          <p:cNvPr id="126" name="Picture 4" descr="image"/>
          <p:cNvPicPr/>
          <p:nvPr/>
        </p:nvPicPr>
        <p:blipFill>
          <a:blip r:embed="rId2"/>
          <a:stretch/>
        </p:blipFill>
        <p:spPr>
          <a:xfrm>
            <a:off x="11160" y="2712960"/>
            <a:ext cx="5398920" cy="1859040"/>
          </a:xfrm>
          <a:prstGeom prst="rect">
            <a:avLst/>
          </a:prstGeom>
          <a:ln w="0">
            <a:noFill/>
          </a:ln>
        </p:spPr>
      </p:pic>
      <p:pic>
        <p:nvPicPr>
          <p:cNvPr id="127" name="Picture 6" descr="image"/>
          <p:cNvPicPr/>
          <p:nvPr/>
        </p:nvPicPr>
        <p:blipFill>
          <a:blip r:embed="rId3"/>
          <a:stretch/>
        </p:blipFill>
        <p:spPr>
          <a:xfrm>
            <a:off x="5626080" y="4491000"/>
            <a:ext cx="3349800" cy="2262240"/>
          </a:xfrm>
          <a:prstGeom prst="rect">
            <a:avLst/>
          </a:prstGeom>
          <a:ln w="0">
            <a:noFill/>
          </a:ln>
        </p:spPr>
      </p:pic>
      <p:pic>
        <p:nvPicPr>
          <p:cNvPr id="128" name="Picture 8" descr="image"/>
          <p:cNvPicPr/>
          <p:nvPr/>
        </p:nvPicPr>
        <p:blipFill>
          <a:blip r:embed="rId4"/>
          <a:stretch/>
        </p:blipFill>
        <p:spPr>
          <a:xfrm>
            <a:off x="2209680" y="1606680"/>
            <a:ext cx="5784840" cy="11062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meter identification</a:t>
            </a:r>
            <a:endParaRPr b="0" lang="en-US" sz="4000" spc="-1" strike="noStrike">
              <a:solidFill>
                <a:srgbClr val="000000"/>
              </a:solidFill>
              <a:latin typeface="Calibri"/>
            </a:endParaRPr>
          </a:p>
        </p:txBody>
      </p:sp>
      <p:sp>
        <p:nvSpPr>
          <p:cNvPr id="130" name=""/>
          <p:cNvSpPr txBox="1"/>
          <p:nvPr/>
        </p:nvSpPr>
        <p:spPr>
          <a:xfrm>
            <a:off x="193320" y="1600200"/>
            <a:ext cx="8458200" cy="5121360"/>
          </a:xfrm>
          <a:prstGeom prst="rect">
            <a:avLst/>
          </a:prstGeom>
          <a:noFill/>
          <a:ln w="0">
            <a:noFill/>
          </a:ln>
        </p:spPr>
        <p:txBody>
          <a:bodyPr anchor="t">
            <a:normAutofit/>
          </a:bodyPr>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data representation formats are dictated by the hardware present. Knowing the size of registers on the MCU running the show can be a big help for identifying parameters.</a:t>
            </a: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ing Bytes to Identify Parameters</a:t>
            </a: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ROM Data with WinOLS</a:t>
            </a:r>
            <a:endParaRPr b="0" lang="en-US" sz="24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1AD0-8EC9-4049-861E-FC0392C9C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ng Bytes to Identify Parameters </a:t>
            </a:r>
            <a:endParaRPr b="0" lang="en-US" sz="4000" spc="-1" strike="noStrike">
              <a:solidFill>
                <a:srgbClr val="000000"/>
              </a:solidFill>
              <a:latin typeface="Calibri"/>
            </a:endParaRPr>
          </a:p>
        </p:txBody>
      </p:sp>
      <p:sp>
        <p:nvSpPr>
          <p:cNvPr id="133" name=""/>
          <p:cNvSpPr txBox="1"/>
          <p:nvPr/>
        </p:nvSpPr>
        <p:spPr>
          <a:xfrm>
            <a:off x="193320" y="1600200"/>
            <a:ext cx="8458200" cy="5121360"/>
          </a:xfrm>
          <a:prstGeom prst="rect">
            <a:avLst/>
          </a:prstGeom>
          <a:noFill/>
          <a:ln w="0">
            <a:noFill/>
          </a:ln>
        </p:spPr>
        <p:txBody>
          <a:bodyPr anchor="t">
            <a:normAutofit/>
          </a:bodyPr>
          <a:p>
            <a:pPr marL="399960" indent="-342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often possible to get multiple bins that’ll run on the same physical ECU. The more the better! Doing a simple compare in a hex editor will show which bytes differ between the files.</a:t>
            </a:r>
            <a:endParaRPr b="0" lang="en-US" sz="2800" spc="-1" strike="noStrike">
              <a:solidFill>
                <a:srgbClr val="000000"/>
              </a:solidFill>
              <a:latin typeface="Calibri"/>
            </a:endParaRPr>
          </a:p>
          <a:p>
            <a:pPr marL="399960" indent="-342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ess than 5 percent of the files differ, it’s generally safe to assume that the differences are parameters. If you know what’s been changed functionally between the two bins and you know which bytes have changed, you have further clues to help correlate changes in the ROM with changes in parameters.</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CA32-87B0-4F94-AC92-44AE48E47F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ng Bytes to Identify Parameters (2)</a:t>
            </a:r>
            <a:endParaRPr b="0" lang="en-US" sz="4000" spc="-1" strike="noStrike">
              <a:solidFill>
                <a:srgbClr val="000000"/>
              </a:solidFill>
              <a:latin typeface="Calibri"/>
            </a:endParaRPr>
          </a:p>
        </p:txBody>
      </p:sp>
      <p:sp>
        <p:nvSpPr>
          <p:cNvPr id="136" name=""/>
          <p:cNvSpPr txBox="1"/>
          <p:nvPr/>
        </p:nvSpPr>
        <p:spPr>
          <a:xfrm>
            <a:off x="193320" y="1600200"/>
            <a:ext cx="8458200" cy="5121360"/>
          </a:xfrm>
          <a:prstGeom prst="rect">
            <a:avLst/>
          </a:prstGeom>
          <a:noFill/>
          <a:ln w="0">
            <a:noFill/>
          </a:ln>
        </p:spPr>
        <p:txBody>
          <a:bodyPr anchor="t">
            <a:normAutofit/>
          </a:bodyPr>
          <a:p>
            <a:pPr marL="57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a 1996 V8 Mustang and a 1997 V6 Thunderbird, showing 6,667 differences out of 114,688 bytes.</a:t>
            </a:r>
            <a:endParaRPr b="0" lang="en-US" sz="2000" spc="-1" strike="noStrike">
              <a:solidFill>
                <a:srgbClr val="000000"/>
              </a:solidFill>
              <a:latin typeface="Calibri"/>
            </a:endParaRPr>
          </a:p>
          <a:p>
            <a:pPr marL="57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9DFF-A905-4D2B-99C2-E57912DB1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1" descr=""/>
          <p:cNvPicPr/>
          <p:nvPr/>
        </p:nvPicPr>
        <p:blipFill>
          <a:blip r:embed="rId1"/>
          <a:stretch/>
        </p:blipFill>
        <p:spPr>
          <a:xfrm>
            <a:off x="158760" y="3124080"/>
            <a:ext cx="4808520" cy="3408480"/>
          </a:xfrm>
          <a:prstGeom prst="rect">
            <a:avLst/>
          </a:prstGeom>
          <a:ln w="0">
            <a:noFill/>
          </a:ln>
        </p:spPr>
      </p:pic>
      <p:pic>
        <p:nvPicPr>
          <p:cNvPr id="139" name="Picture 2" descr="image"/>
          <p:cNvPicPr/>
          <p:nvPr/>
        </p:nvPicPr>
        <p:blipFill>
          <a:blip r:embed="rId2"/>
          <a:stretch/>
        </p:blipFill>
        <p:spPr>
          <a:xfrm>
            <a:off x="5022720" y="2514600"/>
            <a:ext cx="3772080" cy="434340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ROM Data with WinOLS</a:t>
            </a:r>
            <a:endParaRPr b="0" lang="en-US" sz="4000" spc="-1" strike="noStrike">
              <a:solidFill>
                <a:srgbClr val="000000"/>
              </a:solidFill>
              <a:latin typeface="Calibri"/>
            </a:endParaRPr>
          </a:p>
        </p:txBody>
      </p:sp>
      <p:sp>
        <p:nvSpPr>
          <p:cNvPr id="141" name=""/>
          <p:cNvSpPr txBox="1"/>
          <p:nvPr/>
        </p:nvSpPr>
        <p:spPr>
          <a:xfrm>
            <a:off x="193320" y="1600200"/>
            <a:ext cx="8458200" cy="5121360"/>
          </a:xfrm>
          <a:prstGeom prst="rect">
            <a:avLst/>
          </a:prstGeom>
          <a:noFill/>
          <a:ln w="0">
            <a:noFill/>
          </a:ln>
        </p:spPr>
        <p:txBody>
          <a:bodyPr anchor="t">
            <a:normAutofit/>
          </a:bodyPr>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ROM type is known, it has many templates that automatically identify configuration parameters.</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the known built-in ROM types are geared toward Bosch Motronic ECUs. Templates and configurations can be saved, shared, and sold to enable users to make modifications to specific files with greater ease. WinOLS is arguably the most common software used for identifying interesting data within a ROM that doesn’t involve code analysis. It’s designed to facilitate rapid tuning changes to a controller.</a:t>
            </a:r>
            <a:endParaRPr b="0" lang="en-US" sz="2400" spc="-1" strike="noStrike">
              <a:solidFill>
                <a:srgbClr val="000000"/>
              </a:solidFill>
              <a:latin typeface="Calibri"/>
            </a:endParaRPr>
          </a:p>
          <a:p>
            <a:pPr marL="399960" indent="-342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C93A-9460-4D14-9A75-8A2E9D39B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e Analysis</a:t>
            </a:r>
            <a:endParaRPr b="0" lang="en-US" sz="4000" spc="-1" strike="noStrike">
              <a:solidFill>
                <a:srgbClr val="000000"/>
              </a:solidFill>
              <a:latin typeface="Calibri"/>
            </a:endParaRPr>
          </a:p>
        </p:txBody>
      </p:sp>
      <p:sp>
        <p:nvSpPr>
          <p:cNvPr id="144" name=""/>
          <p:cNvSpPr txBox="1"/>
          <p:nvPr/>
        </p:nvSpPr>
        <p:spPr>
          <a:xfrm>
            <a:off x="193320" y="1600200"/>
            <a:ext cx="8458200" cy="5121360"/>
          </a:xfrm>
          <a:prstGeom prst="rect">
            <a:avLst/>
          </a:prstGeom>
          <a:noFill/>
          <a:ln w="0">
            <a:noFill/>
          </a:ln>
        </p:spPr>
        <p:txBody>
          <a:bodyPr anchor="t">
            <a:normAutofit/>
          </a:bodyPr>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analysis can be a long, complicated task.</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nalyzing a new target, first identify the architecture you’re working with. Knowing what processor executed the blob of binary will help you choose an appropriate software tool to further assist. If you can’t identify a processor based on the markings on the chip itself, search online for data sheets to identify it.</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nalyze code, you might need to find a disassembler. A quick Google search reveals that there are lots of them out there.</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t out the disassembly tools and start trying to make sense of the mess, but this might take hundreds of hours.</a:t>
            </a:r>
            <a:endParaRPr b="0" lang="en-US" sz="24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FCF2-5B7C-4D85-9497-A54F9773C0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CU?</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hicle typically has as many as a dozen or more electronic controllers, many of which are networked to communicate with each other.</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se computerized devices go by many different names, including electronic control unit or engine control unit (ECU), transmission control unit (TCU), or transmission control module (TCM).</a:t>
            </a: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1D2F-E5D6-42F2-9E97-C1F7D7E434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e Analysis (2)</a:t>
            </a:r>
            <a:endParaRPr b="0" lang="en-US" sz="4000" spc="-1" strike="noStrike">
              <a:solidFill>
                <a:srgbClr val="000000"/>
              </a:solidFill>
              <a:latin typeface="Calibri"/>
            </a:endParaRPr>
          </a:p>
        </p:txBody>
      </p:sp>
      <p:sp>
        <p:nvSpPr>
          <p:cNvPr id="147" name=""/>
          <p:cNvSpPr txBox="1"/>
          <p:nvPr/>
        </p:nvSpPr>
        <p:spPr>
          <a:xfrm>
            <a:off x="193320" y="1600200"/>
            <a:ext cx="8458200" cy="5121360"/>
          </a:xfrm>
          <a:prstGeom prst="rect">
            <a:avLst/>
          </a:prstGeom>
          <a:noFill/>
          <a:ln w="0">
            <a:noFill/>
          </a:ln>
        </p:spPr>
        <p:txBody>
          <a:bodyPr anchor="t">
            <a:normAutofit/>
          </a:bodyPr>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EMs love to patent stuff. If you can find the patents relevant to your system, you may end up with a guided tour of the code being disassembled.</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at any available software for manipulating the ECU at hand for insight into the structure and purpose of code segments.</a:t>
            </a:r>
            <a:endParaRPr b="0" lang="en-US" sz="2400" spc="-1" strike="noStrike">
              <a:solidFill>
                <a:srgbClr val="000000"/>
              </a:solidFill>
              <a:latin typeface="Calibri"/>
            </a:endParaRPr>
          </a:p>
          <a:p>
            <a:pPr marL="399960" indent="-3427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start with a wiring diagram for the vehicle, and trace connections back through ECU circuitry to particular pins on the MCU. </a:t>
            </a:r>
            <a:endParaRPr b="0" lang="en-US" sz="24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EC24-34AF-4310-BCB8-2B36616128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lain Disassembler at Work</a:t>
            </a:r>
            <a:endParaRPr b="0" lang="en-US" sz="4000" spc="-1" strike="noStrike">
              <a:solidFill>
                <a:srgbClr val="000000"/>
              </a:solidFill>
              <a:latin typeface="Calibri"/>
            </a:endParaRPr>
          </a:p>
        </p:txBody>
      </p:sp>
      <p:sp>
        <p:nvSpPr>
          <p:cNvPr id="150" name=""/>
          <p:cNvSpPr txBox="1"/>
          <p:nvPr/>
        </p:nvSpPr>
        <p:spPr>
          <a:xfrm>
            <a:off x="193320" y="1600200"/>
            <a:ext cx="8458200" cy="5121360"/>
          </a:xfrm>
          <a:prstGeom prst="rect">
            <a:avLst/>
          </a:prstGeom>
          <a:noFill/>
          <a:ln w="0">
            <a:noFill/>
          </a:ln>
        </p:spPr>
        <p:txBody>
          <a:bodyPr anchor="t">
            <a:normAutofit/>
          </a:bodyPr>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in disassembly of a 1990 Nissan 300ZX Twin Turbo ROM.)</a:t>
            </a: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ECU has a 28-pin external 27C256 EPROM, so it’s relatively easy to obtain its contents. This particular platform uses a HD6303 MCU, a derivative of the Motorola 6800 8-bit MCU that appears to be supported by the free disassembler DASMx (see http://www.16paws.com/ECU/DASMxx/DASMx.htm).</a:t>
            </a:r>
            <a:endParaRPr b="0" lang="en-US" sz="2400" spc="-1" strike="noStrike">
              <a:solidFill>
                <a:srgbClr val="000000"/>
              </a:solidFill>
              <a:latin typeface="Calibri"/>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79B0-A77C-447A-B141-268EE01C4D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lain Disassembler at Work (2)</a:t>
            </a:r>
            <a:endParaRPr b="0" lang="en-US" sz="4000" spc="-1" strike="noStrike">
              <a:solidFill>
                <a:srgbClr val="000000"/>
              </a:solidFill>
              <a:latin typeface="Calibri"/>
            </a:endParaRPr>
          </a:p>
        </p:txBody>
      </p:sp>
      <p:sp>
        <p:nvSpPr>
          <p:cNvPr id="153" name=""/>
          <p:cNvSpPr txBox="1"/>
          <p:nvPr/>
        </p:nvSpPr>
        <p:spPr>
          <a:xfrm>
            <a:off x="193320" y="1600200"/>
            <a:ext cx="8458200" cy="5121360"/>
          </a:xfrm>
          <a:prstGeom prst="rect">
            <a:avLst/>
          </a:prstGeom>
          <a:noFill/>
          <a:ln w="0">
            <a:noFill/>
          </a:ln>
        </p:spPr>
        <p:txBody>
          <a:bodyPr anchor="t">
            <a:normAutofit/>
          </a:bodyPr>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in disassembly of a 1990 Nissan 300ZX Twin Turbo ROM.)</a:t>
            </a: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E4C7-47F7-435C-9B81-3881673771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5" name="Picture 2" descr="image"/>
          <p:cNvPicPr/>
          <p:nvPr/>
        </p:nvPicPr>
        <p:blipFill>
          <a:blip r:embed="rId1"/>
          <a:stretch/>
        </p:blipFill>
        <p:spPr>
          <a:xfrm>
            <a:off x="158760" y="2514600"/>
            <a:ext cx="4400640" cy="4167360"/>
          </a:xfrm>
          <a:prstGeom prst="rect">
            <a:avLst/>
          </a:prstGeom>
          <a:ln w="0">
            <a:noFill/>
          </a:ln>
        </p:spPr>
      </p:pic>
      <p:pic>
        <p:nvPicPr>
          <p:cNvPr id="156" name="Picture 4" descr="image"/>
          <p:cNvPicPr/>
          <p:nvPr/>
        </p:nvPicPr>
        <p:blipFill>
          <a:blip r:embed="rId2"/>
          <a:stretch/>
        </p:blipFill>
        <p:spPr>
          <a:xfrm>
            <a:off x="4954680" y="2631960"/>
            <a:ext cx="2832120" cy="1913040"/>
          </a:xfrm>
          <a:prstGeom prst="rect">
            <a:avLst/>
          </a:prstGeom>
          <a:ln w="0">
            <a:noFill/>
          </a:ln>
        </p:spPr>
      </p:pic>
      <p:pic>
        <p:nvPicPr>
          <p:cNvPr id="157" name="Picture 6" descr="image"/>
          <p:cNvPicPr/>
          <p:nvPr/>
        </p:nvPicPr>
        <p:blipFill>
          <a:blip r:embed="rId3"/>
          <a:stretch/>
        </p:blipFill>
        <p:spPr>
          <a:xfrm>
            <a:off x="4954680" y="4794120"/>
            <a:ext cx="2862000" cy="1774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active Disassemblers</a:t>
            </a:r>
            <a:endParaRPr b="0" lang="en-US" sz="4000" spc="-1" strike="noStrike">
              <a:solidFill>
                <a:srgbClr val="000000"/>
              </a:solidFill>
              <a:latin typeface="Calibri"/>
            </a:endParaRPr>
          </a:p>
        </p:txBody>
      </p:sp>
      <p:sp>
        <p:nvSpPr>
          <p:cNvPr id="159" name=""/>
          <p:cNvSpPr txBox="1"/>
          <p:nvPr/>
        </p:nvSpPr>
        <p:spPr>
          <a:xfrm>
            <a:off x="193320" y="1600200"/>
            <a:ext cx="8458200" cy="5121360"/>
          </a:xfrm>
          <a:prstGeom prst="rect">
            <a:avLst/>
          </a:prstGeom>
          <a:noFill/>
          <a:ln w="0">
            <a:noFill/>
          </a:ln>
        </p:spPr>
        <p:txBody>
          <a:bodyPr anchor="t">
            <a:normAutofit/>
          </a:bodyPr>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this writing, IDA Pro is the most popular interactive disassembler available. </a:t>
            </a: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advantages of IDA Pro is that it’s programmable to allow additional opcodes for customizing automotive processors and plugins for further processing disassembled code</a:t>
            </a: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A Pro supports more embedded platforms out of the box than just about any other disassembler currently available.</a:t>
            </a:r>
            <a:endParaRPr b="0" lang="en-US" sz="24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necessarily need these functions to successfully analyze code, but they make things substantially easier.</a:t>
            </a: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F396-5184-4E08-9736-9883197B5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active Disassemblers (2)</a:t>
            </a:r>
            <a:endParaRPr b="0" lang="en-US" sz="4000" spc="-1" strike="noStrike">
              <a:solidFill>
                <a:srgbClr val="000000"/>
              </a:solidFill>
              <a:latin typeface="Calibri"/>
            </a:endParaRPr>
          </a:p>
        </p:txBody>
      </p:sp>
      <p:sp>
        <p:nvSpPr>
          <p:cNvPr id="162" name=""/>
          <p:cNvSpPr txBox="1"/>
          <p:nvPr/>
        </p:nvSpPr>
        <p:spPr>
          <a:xfrm>
            <a:off x="193320" y="1600200"/>
            <a:ext cx="8458200" cy="5121360"/>
          </a:xfrm>
          <a:prstGeom prst="rect">
            <a:avLst/>
          </a:prstGeom>
          <a:noFill/>
          <a:ln w="0">
            <a:noFill/>
          </a:ln>
        </p:spPr>
        <p:txBody>
          <a:bodyPr anchor="t">
            <a:normAutofit/>
          </a:bodyPr>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creenshots from real code analysis with IDA Pro)</a:t>
            </a:r>
            <a:endParaRPr b="0" lang="en-US" sz="2400" spc="-1" strike="noStrike">
              <a:solidFill>
                <a:srgbClr val="000000"/>
              </a:solidFill>
              <a:latin typeface="Calibri"/>
            </a:endParaRPr>
          </a:p>
          <a:p>
            <a:pPr marL="57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E4B7-3528-4BDB-901A-01331501FF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64" name="Picture 1" descr=""/>
          <p:cNvPicPr/>
          <p:nvPr/>
        </p:nvPicPr>
        <p:blipFill>
          <a:blip r:embed="rId1"/>
          <a:stretch/>
        </p:blipFill>
        <p:spPr>
          <a:xfrm>
            <a:off x="1450800" y="3095640"/>
            <a:ext cx="5943600" cy="362592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U test bench</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CU test bench, like the one shown in Figure 7-1, consists of:</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CU</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wer suppl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ptional power switch</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BD-II connector</a:t>
            </a:r>
            <a:endParaRPr b="0" lang="en-US" sz="28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D40B-3DF3-4123-961F-1A9D2B0D61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U test bench (2)</a:t>
            </a:r>
            <a:endParaRPr b="0" lang="en-US" sz="4400" spc="-1" strike="noStrike">
              <a:solidFill>
                <a:srgbClr val="000000"/>
              </a:solidFill>
              <a:latin typeface="Calibri"/>
            </a:endParaRPr>
          </a:p>
        </p:txBody>
      </p:sp>
      <p:pic>
        <p:nvPicPr>
          <p:cNvPr id="169" name="Content Placeholder 1" descr=""/>
          <p:cNvPicPr/>
          <p:nvPr/>
        </p:nvPicPr>
        <p:blipFill>
          <a:blip r:embed="rId1"/>
          <a:stretch/>
        </p:blipFill>
        <p:spPr>
          <a:xfrm>
            <a:off x="1714680" y="1719360"/>
            <a:ext cx="5715000" cy="4286160"/>
          </a:xfrm>
          <a:prstGeom prst="rect">
            <a:avLst/>
          </a:prstGeom>
          <a:ln w="0">
            <a:noFill/>
          </a:ln>
        </p:spPr>
      </p:pic>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AD40-5A00-40EA-8B2E-E4BBE3658C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U test bench (3)</a:t>
            </a:r>
            <a:endParaRPr b="0" lang="en-US" sz="4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4606-0466-43DF-B7E7-8D06B7C63D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also add an IC or other CAN-related systems for testing, but just building a basic ECU test bench is a great way to learn the CAN bus and how to create custom tools.</a:t>
            </a:r>
            <a:endParaRPr b="0" lang="en-US" sz="3200" spc="-1" strike="noStrike">
              <a:solidFill>
                <a:srgbClr val="000000"/>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sic ECU Test Bench</a:t>
            </a:r>
            <a:endParaRPr b="0" lang="en-US" sz="44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157D-374E-4171-AD7C-F91ED46CDD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it easier to turn the device on and off, you can add a switch to the power suppl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OBD port allows for specialized mechanics tools to communicate with the vehicle’s network.</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for that OBD port to fully function, we need to expose the vehicle’s network wires from the ECU to the OBD port.</a:t>
            </a:r>
            <a:endParaRPr b="0" lang="en-US" sz="32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 ECU</a:t>
            </a:r>
            <a:endParaRPr b="0" lang="en-US" sz="44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9FDB-5C75-4B47-B869-6FD4F8E696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place to find an ECU is, of course, at the junkyar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typically find the ECU behind a car’s radio in the center console or behind the glove box.</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e having trouble finding it, try using the massive wiring harness to trace back to the ECU.</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CU?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ke Control Module (BCM or EBCM), Central Control Module (CCM), Central Timing Module (CTM), General Electronic Module (GEM), Body Control Module (BCM), Suspension Control Module (SCM), control unit, or control module.</a:t>
            </a:r>
            <a:endParaRPr b="0" lang="en-US" sz="32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89EB-6C7F-4A9B-912E-AC68194C98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 ECU (2)</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F3BA-5689-431E-B8D6-B1812CDA52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a reference website such as http://www.auterraweb.com/aboutcan.html to help you identify a target vehicl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make sure you leave at least a pigtail’s worth of wiring when you remove the ECU; this will make it easier to wire up later.</a:t>
            </a:r>
            <a:endParaRPr b="0" lang="en-US" sz="3200" spc="-1" strike="noStrike">
              <a:solidFill>
                <a:srgbClr val="000000"/>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 ECU (3)</a:t>
            </a:r>
            <a:endParaRPr b="0" lang="en-US" sz="4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6065-2652-4E88-A571-C92897EF4E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ead of harvesting or buying a used ECU, you could also use a prebuilt simulator, like the ECUsim 2000 by ScanTool  (Next page)</a:t>
            </a:r>
            <a:endParaRPr b="0" lang="en-US" sz="32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 ECU (4)</a:t>
            </a:r>
            <a:endParaRPr b="0" lang="en-US" sz="44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81DD-56E8-437C-B683-F35061BB55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1" descr=""/>
          <p:cNvPicPr/>
          <p:nvPr/>
        </p:nvPicPr>
        <p:blipFill>
          <a:blip r:embed="rId1"/>
          <a:stretch/>
        </p:blipFill>
        <p:spPr>
          <a:xfrm>
            <a:off x="1714680" y="2260440"/>
            <a:ext cx="5715000" cy="425772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ecting the ECU Wiring</a:t>
            </a:r>
            <a:endParaRPr b="0" lang="en-US" sz="44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9DD0-9DE2-41D4-BD22-E19E9F4211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you have all of the parts, you’ll need to find the ECU’s wiring diagram to determine which wires you need to connect in order to get it to work.</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a website such as ALLDATA (</a:t>
            </a:r>
            <a:r>
              <a:rPr b="0" lang="en-US" sz="3200" spc="-1" strike="noStrike" u="sng">
                <a:solidFill>
                  <a:srgbClr val="0000ff"/>
                </a:solidFill>
                <a:uFillTx/>
                <a:latin typeface="Calibri"/>
                <a:hlinkClick r:id="rId1"/>
              </a:rPr>
              <a:t>http://www.alldata.com</a:t>
            </a:r>
            <a:r>
              <a:rPr b="0" lang="en-US" sz="3200" spc="-1" strike="noStrike">
                <a:solidFill>
                  <a:srgbClr val="000000"/>
                </a:solidFill>
                <a:latin typeface="Calibri"/>
              </a:rPr>
              <a:t>/) or Mitchell 1 (</a:t>
            </a:r>
            <a:r>
              <a:rPr b="0" lang="en-US" sz="3200" spc="-1" strike="noStrike" u="sng">
                <a:solidFill>
                  <a:srgbClr val="0000ff"/>
                </a:solidFill>
                <a:uFillTx/>
                <a:latin typeface="Calibri"/>
                <a:hlinkClick r:id="rId2"/>
              </a:rPr>
              <a:t>http://mitchell1.com/main</a:t>
            </a:r>
            <a:r>
              <a:rPr b="0" lang="en-US" sz="3200" spc="-1" strike="noStrike">
                <a:solidFill>
                  <a:srgbClr val="000000"/>
                </a:solidFill>
                <a:latin typeface="Calibri"/>
              </a:rPr>
              <a:t>/) to get a complete wiring diagram.</a:t>
            </a:r>
            <a:endParaRPr b="0" lang="en-US" sz="32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ecting the ECU Wiring (2)</a:t>
            </a:r>
            <a:endParaRPr b="0" lang="en-US" sz="4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4C17-24F4-4BFD-B1A6-A5DCDB1907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ring diagrams aren’t always easy to read, mainly because some combine numerous small compone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y to mentally break down each component to get a better idea of which wires to focus on.</a:t>
            </a:r>
            <a:endParaRPr b="0" lang="en-US" sz="32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ecting the ECU Wiring (3)</a:t>
            </a:r>
            <a:endParaRPr b="0" lang="en-US" sz="44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CE2C-6D05-48DA-ACEC-6CB5DEA255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2" descr="image"/>
          <p:cNvPicPr/>
          <p:nvPr/>
        </p:nvPicPr>
        <p:blipFill>
          <a:blip r:embed="rId1"/>
          <a:stretch/>
        </p:blipFill>
        <p:spPr>
          <a:xfrm>
            <a:off x="1714680" y="1695600"/>
            <a:ext cx="5715000" cy="433368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nouts</a:t>
            </a:r>
            <a:endParaRPr b="0" lang="en-US" sz="44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C4E9-13BF-42C9-BFB4-8F0B6E2612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get pinouts for the ECUs on several different vehicles from </a:t>
            </a:r>
            <a:r>
              <a:rPr b="0" lang="en-US" sz="3200" spc="-1" strike="noStrike" u="sng">
                <a:solidFill>
                  <a:srgbClr val="0000ff"/>
                </a:solidFill>
                <a:uFillTx/>
                <a:latin typeface="Calibri"/>
                <a:hlinkClick r:id="rId1"/>
              </a:rPr>
              <a:t>http://www.innovatemotorsports.com/resources/ecu_pinout.php </a:t>
            </a:r>
            <a:r>
              <a:rPr b="0" lang="en-US" sz="3200" spc="-1" strike="noStrike">
                <a:solidFill>
                  <a:srgbClr val="000000"/>
                </a:solidFill>
                <a:latin typeface="Calibri"/>
              </a:rPr>
              <a:t>and from commercial resources like ALLDATA and Mitchell 1. Books like the Chilton auto repair manuals include block diagrams, but you’ll find that they typically cover only the most common repair components, not the entire ECU.</a:t>
            </a:r>
            <a:endParaRPr b="0" lang="en-US" sz="3200" spc="-1" strike="noStrike">
              <a:solidFill>
                <a:srgbClr val="000000"/>
              </a:solidFill>
              <a:latin typeface="Calibri"/>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Diagrams</a:t>
            </a:r>
            <a:endParaRPr b="0" lang="en-US" sz="44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7BFB-7FC3-459A-A63E-B992E7796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ck diagrams are often easier to read than wiring diagrams that show all components on the same she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w the wiring for only one component and offer a higher-level overview of the main components, whereas schematics show all the circuitry details.</a:t>
            </a:r>
            <a:endParaRPr b="0" lang="en-US" sz="3200" spc="-1" strike="noStrike">
              <a:solidFill>
                <a:srgbClr val="000000"/>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Diagrams (2)</a:t>
            </a:r>
            <a:endParaRPr b="0" lang="en-US" sz="4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52CA-69DB-49BA-AD73-BD29BA270B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block diagrams also include a legend showing which connector block the diagram refers to and the connectors on that module; you’ll typically find these in the corner of the block diagram</a:t>
            </a:r>
            <a:endParaRPr b="0" lang="en-US" sz="2800" spc="-1" strike="noStrike">
              <a:solidFill>
                <a:srgbClr val="000000"/>
              </a:solidFill>
              <a:latin typeface="Calibri"/>
            </a:endParaRPr>
          </a:p>
        </p:txBody>
      </p:sp>
      <p:pic>
        <p:nvPicPr>
          <p:cNvPr id="209" name="Picture 1" descr=""/>
          <p:cNvPicPr/>
          <p:nvPr/>
        </p:nvPicPr>
        <p:blipFill>
          <a:blip r:embed="rId1"/>
          <a:stretch/>
        </p:blipFill>
        <p:spPr>
          <a:xfrm>
            <a:off x="2738520" y="3733920"/>
            <a:ext cx="3666960" cy="220500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Diagrams (3)</a:t>
            </a:r>
            <a:endParaRPr b="0" lang="en-US" sz="44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4D53-195B-4651-B243-8ED44BF59C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gend should give the connector number, its number pin count, and the color.</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 the line C1 = 68 WH in Table 7-1 means that the C1 connector has 68 pins and is white. L-GY probably means light gray, and so on.</a:t>
            </a: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Engine control modul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 type of electronic control unit that controls a series of actuators on an internal combustion engine to ensure optimal engine performance.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this by reading values from a multitude of sensors within the engine bay, interpreting the data using multidimensional performance maps (called lookup tables), and adjusting the engine actuators.</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FBA0-A4F2-4EB6-96DA-75C26622A6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ing Things Up</a:t>
            </a:r>
            <a:endParaRPr b="0" lang="en-US" sz="4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AF29-97F4-4878-95F6-2566297CA2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re the CAN to the proper ports on the connec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provide power—a power supply from an old PC should suffice—and add a CAN sniffer, you should see packe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use just a simple OBD-II scan tool that you can pick up at any automotive st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have everything wired correctly, the scan tool should be able to identify the vehicle, assuming that your test bench includes the main ECU.</a:t>
            </a:r>
            <a:endParaRPr b="0" lang="en-US" sz="2800" spc="-1" strike="noStrike">
              <a:solidFill>
                <a:srgbClr val="000000"/>
              </a:solidFill>
              <a:latin typeface="Calibri"/>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ing Things Up (2)</a:t>
            </a:r>
            <a:endParaRPr b="0" lang="en-US" sz="44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8FCC-E19D-4915-9A34-1633F4B04C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ve wired everything but you still don’t see packets on your CAN bus, you may be missing termina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ddress this problem, start by adding a 120-ohm resistor, as a CAN bus has 120-ohm resistors at each end of the bus. If that doesn’t work, add a second resisto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ximum missing resistance should be 240 ohm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bus still isn’t working, then recheck your wires and try again.</a:t>
            </a:r>
            <a:endParaRPr b="0" lang="en-US" sz="2800" spc="-1" strike="noStrike">
              <a:solidFill>
                <a:srgbClr val="000000"/>
              </a:solidFill>
              <a:latin typeface="Calibri"/>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a More Advanced Test Bench</a:t>
            </a:r>
            <a:endParaRPr b="0" lang="en-US" sz="4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8CC6-439F-4C81-B73B-7A76A0B08A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t combines an ECU with a BCM because it also has the original keys to start the vehi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ce that the optional IC has two 1 kilohm potentiometers, or variable resistors, on the lower left side, both of which are tied to the engine temperature and fuel li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articular test bench also includes a small MCU that allows you to simulate sending crankshaft and camshaft signals to the ECU.</a:t>
            </a:r>
            <a:endParaRPr b="0" lang="en-US" sz="2800" spc="-1" strike="noStrike">
              <a:solidFill>
                <a:srgbClr val="000000"/>
              </a:solidFill>
              <a:latin typeface="Calibri"/>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ilding a More Advanced Test Bench (2)</a:t>
            </a:r>
            <a:endParaRPr b="0" lang="en-US" sz="40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B5D2-9BF1-4129-8CC3-B1A34EBB19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24" name="Content Placeholder 1" descr=""/>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ulating Sensor Signals </a:t>
            </a:r>
            <a:endParaRPr b="0" lang="en-US" sz="40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EE25-34D2-4A64-9DF0-DB0E3DEC37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use the potentiometers in this setup to simulate various vehicle sensors, including the follow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lant temperature sens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el sens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ensors, which detect post-combustion oxygen in the exhau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ttle position, which is probably already a potentiometer in the actual vehic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ure sensors</a:t>
            </a:r>
            <a:endParaRPr b="0" lang="en-US" sz="2400" spc="-1" strike="noStrike">
              <a:solidFill>
                <a:srgbClr val="000000"/>
              </a:solidFill>
              <a:latin typeface="Calibri"/>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a:t>
            </a:r>
            <a:endParaRPr b="0" lang="en-US" sz="40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9C56-14BC-48BB-87AE-55C820EF0D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l effect sensors are often used to sense engine speed and crankshaft position (CKP) and to generate digital signal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ollowing Image Hall effect sensor uses a shutter wheel, or a wheel with gaps in it, to measure the rotation speed.</a:t>
            </a:r>
            <a:endParaRPr b="0" lang="en-US" sz="2800" spc="-1" strike="noStrike">
              <a:solidFill>
                <a:srgbClr val="000000"/>
              </a:solidFill>
              <a:latin typeface="Calibri"/>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1)</a:t>
            </a:r>
            <a:endParaRPr b="0" lang="en-US" sz="40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D43D-8433-41B8-8FBE-C6A012E7B2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4" name="Picture 2" descr="image"/>
          <p:cNvPicPr/>
          <p:nvPr/>
        </p:nvPicPr>
        <p:blipFill>
          <a:blip r:embed="rId1"/>
          <a:stretch/>
        </p:blipFill>
        <p:spPr>
          <a:xfrm>
            <a:off x="2057400" y="1643040"/>
            <a:ext cx="4762440" cy="2914560"/>
          </a:xfrm>
          <a:prstGeom prst="rect">
            <a:avLst/>
          </a:prstGeom>
          <a:ln w="0">
            <a:noFill/>
          </a:ln>
        </p:spPr>
      </p:pic>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2)</a:t>
            </a:r>
            <a:endParaRPr b="0" lang="en-US" sz="40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B687-53E2-4D97-9967-29A526B13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8" name="Picture 2" descr="image"/>
          <p:cNvPicPr/>
          <p:nvPr/>
        </p:nvPicPr>
        <p:blipFill>
          <a:blip r:embed="rId1"/>
          <a:stretch/>
        </p:blipFill>
        <p:spPr>
          <a:xfrm>
            <a:off x="2190600" y="2971800"/>
            <a:ext cx="4762800" cy="2914560"/>
          </a:xfrm>
          <a:prstGeom prst="rect">
            <a:avLst/>
          </a:prstGeom>
          <a:ln w="0">
            <a:noFill/>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3)</a:t>
            </a:r>
            <a:endParaRPr b="0" lang="en-US" sz="40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23D2-D0AF-482E-B3FC-2F9FC5F57D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can also use the camshaft timing sprocket to measure speed. When you look at the camshaft timing sprocket, the magnet is on the side of the wheel.</a:t>
            </a:r>
            <a:endParaRPr b="0" lang="en-US" sz="3600" spc="-1" strike="noStrike">
              <a:solidFill>
                <a:srgbClr val="000000"/>
              </a:solidFill>
              <a:latin typeface="Calibri"/>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a:t>
            </a:r>
            <a:br>
              <a:rPr sz="4000"/>
            </a:br>
            <a:r>
              <a:rPr b="0" lang="en-US" sz="4000" spc="-1" strike="noStrike">
                <a:solidFill>
                  <a:srgbClr val="000000"/>
                </a:solidFill>
                <a:latin typeface="Calibri"/>
              </a:rPr>
              <a:t>(4)</a:t>
            </a:r>
            <a:endParaRPr b="0" lang="en-US" sz="4000" spc="-1" strike="noStrike">
              <a:solidFill>
                <a:srgbClr val="000000"/>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B5D-2BB9-43C5-97B8-D190A8738F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5" name="Picture 2" descr="image"/>
          <p:cNvPicPr/>
          <p:nvPr/>
        </p:nvPicPr>
        <p:blipFill>
          <a:blip r:embed="rId1"/>
          <a:stretch/>
        </p:blipFill>
        <p:spPr>
          <a:xfrm>
            <a:off x="2362320" y="2436840"/>
            <a:ext cx="5632200" cy="39304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Electronic engine management system</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CU has control over the fuel lines, then it is referred to as an electronic engine management system (EE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el injection system has the major role to control the engine's fuel supply. The whole mechanism of the EEMS is controlled by a stack of sensors and actuators.</a:t>
            </a:r>
            <a:endParaRPr b="0" lang="en-US" sz="32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C477-018E-4AAD-8B77-43DB0FCF39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5)</a:t>
            </a:r>
            <a:endParaRPr b="0" lang="en-US" sz="40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0445-6731-497D-BC87-8C6CF397BD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a scope on the signal wire shows that the Hall effect sensor produces a square wave.</a:t>
            </a: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ically, there are three wires on the camshaft sensor:</a:t>
            </a:r>
            <a:endParaRPr b="0" lang="en-US" sz="36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nd,</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or.</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6)</a:t>
            </a:r>
            <a:endParaRPr b="0" lang="en-US" sz="40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CC26-2816-46AF-BFF9-92C4FAF553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is usually 12V, but the signal wire typically operates at 5V back to the ECM.</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shaft sensors also come as optical sensors, which work in a similar fashion except an LED is on one side and a photocell is on the other.</a:t>
            </a:r>
            <a:endParaRPr b="0" lang="en-US" sz="3200" spc="-1" strike="noStrike">
              <a:solidFill>
                <a:srgbClr val="000000"/>
              </a:solidFill>
              <a:latin typeface="Calibri"/>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7)</a:t>
            </a:r>
            <a:endParaRPr b="0" lang="en-US" sz="40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5C7C-7C9B-4847-A37E-F91CEF91D5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gauge full rotation timing with a missing tooth called a trigger wheel or with a timing mark.</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important to know when the camshaft has made a full rotation. An inductive camshaft sensor produces a sine wave and will often have a missing tooth to detect full rotation.</a:t>
            </a:r>
            <a:endParaRPr b="0" lang="en-US" sz="3200" spc="-1" strike="noStrike">
              <a:solidFill>
                <a:srgbClr val="000000"/>
              </a:solidFill>
              <a:latin typeface="Calibri"/>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8)</a:t>
            </a:r>
            <a:endParaRPr b="0" lang="en-US" sz="40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6872-E9CD-4BF7-B1D8-2D0D9493D0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gauge full rotation timing with a missing tooth called a trigger wheel or with a timing mark.</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important to know when the camshaft has made a full rotation. An inductive camshaft sensor produces a sine wave and will often have a missing tooth to detect full rotation.</a:t>
            </a:r>
            <a:endParaRPr b="0" lang="en-US" sz="3200" spc="-1" strike="noStrike">
              <a:solidFill>
                <a:srgbClr val="000000"/>
              </a:solidFill>
              <a:latin typeface="Calibri"/>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9)</a:t>
            </a:r>
            <a:endParaRPr b="0" lang="en-US" sz="4000" spc="-1" strike="noStrike">
              <a:solidFill>
                <a:srgbClr val="000000"/>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9E1-D113-4432-8C1F-CD0406BFE2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the camshaft sensor repeating approximately every 2 milliseconds:</a:t>
            </a:r>
            <a:endParaRPr b="0" lang="en-US" sz="2800" spc="-1" strike="noStrike">
              <a:solidFill>
                <a:srgbClr val="000000"/>
              </a:solidFill>
              <a:latin typeface="Calibri"/>
            </a:endParaRPr>
          </a:p>
        </p:txBody>
      </p:sp>
      <p:pic>
        <p:nvPicPr>
          <p:cNvPr id="261" name="Picture 2" descr="image"/>
          <p:cNvPicPr/>
          <p:nvPr/>
        </p:nvPicPr>
        <p:blipFill>
          <a:blip r:embed="rId1"/>
          <a:stretch/>
        </p:blipFill>
        <p:spPr>
          <a:xfrm>
            <a:off x="2093760" y="3097080"/>
            <a:ext cx="4956480" cy="376092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10)</a:t>
            </a:r>
            <a:endParaRPr b="0" lang="en-US" sz="40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3BE2-8A8F-4C00-BD8B-A6C92B1A13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ump or a gap you see in the wave at around the 40-millisecond mark occurs when the missing tooth is reached. </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cation of that gap marks the point at which the camshaft has completed a full rotation.</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ke these camshaft signals into the ECU test bench, you’d need to write a small sketch for your microcontroller. </a:t>
            </a:r>
            <a:endParaRPr b="0" lang="en-US" sz="32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ll Effect Sensors (11)</a:t>
            </a:r>
            <a:endParaRPr b="0" lang="en-US" sz="40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AC9F-AA4F-4809-91EC-3A21FEDDCF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writing microcontroller code to mimic these sensors, it’s important to know what type of sensor your vehicle uses so that you’ll know whether to use a digital or analog output when faking the teeth.</a:t>
            </a:r>
            <a:endParaRPr b="0" lang="en-US" sz="3600" spc="-1" strike="noStrike">
              <a:solidFill>
                <a:srgbClr val="000000"/>
              </a:solidFill>
              <a:latin typeface="Calibri"/>
            </a:endParaRPr>
          </a:p>
          <a:p>
            <a:pPr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a:t>
            </a:r>
            <a:endParaRPr b="0" lang="en-US" sz="36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5C43-4315-4BEC-A8E7-5D8105E0B0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ll use this test bench together with the IC shown in Figure 7-4 in “The Car Hacker’s Handbook” to pull a vehicle’s VIN via the OBD-II connector. </a:t>
            </a:r>
            <a:endParaRPr b="0" lang="en-US" sz="3600" spc="-1" strike="noStrike">
              <a:solidFill>
                <a:srgbClr val="000000"/>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2)</a:t>
            </a:r>
            <a:endParaRPr b="0" lang="en-US" sz="36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81C8-D46F-4085-860E-AAA114C15B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ill give us the exact year, make, model, and engine type of the vehicle. (We looked at how to do this manually in “Unified Diagnostic Services”</a:t>
            </a:r>
            <a:endParaRPr b="0" lang="en-US" sz="2800" spc="-1" strike="noStrike">
              <a:solidFill>
                <a:srgbClr val="000000"/>
              </a:solidFill>
              <a:latin typeface="Calibri"/>
            </a:endParaRPr>
          </a:p>
        </p:txBody>
      </p:sp>
      <p:pic>
        <p:nvPicPr>
          <p:cNvPr id="274" name="Picture 1" descr=""/>
          <p:cNvPicPr/>
          <p:nvPr/>
        </p:nvPicPr>
        <p:blipFill>
          <a:blip r:embed="rId1"/>
          <a:stretch/>
        </p:blipFill>
        <p:spPr>
          <a:xfrm>
            <a:off x="611280" y="3848040"/>
            <a:ext cx="7921440" cy="1409760"/>
          </a:xfrm>
          <a:prstGeom prst="rect">
            <a:avLst/>
          </a:prstGeom>
          <a:ln w="0">
            <a:noFill/>
          </a:ln>
        </p:spPr>
      </p:pic>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3)</a:t>
            </a:r>
            <a:endParaRPr b="0" lang="en-US" sz="36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0B5D-B9BF-4B98-B8C3-1662E5ECFB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we know a vehicle’s year of manufacture and engine type, we can fetch the wiring diagram to determine which of the ECU wires control the engine spe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we can send simulated speed data to the ECU in order to measure eff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wiring diagrams to simulate real engine behavior can make it easy to identify target signals on the CAN bus.</a:t>
            </a:r>
            <a:endParaRPr b="0" lang="en-US" sz="28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U software</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U software can be roughly subdivided into two sections:</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lication contains the desired functionality</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frastructure software handles basic functions.</a:t>
            </a:r>
            <a:endParaRPr b="0" lang="en-US" sz="32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2C7C-E9DA-4924-B47A-736AED266B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4)</a:t>
            </a:r>
            <a:endParaRPr b="0" lang="en-US" sz="36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8269-95E6-41FA-A2BF-74026AFC85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81" name="Picture 2" descr="image"/>
          <p:cNvPicPr/>
          <p:nvPr/>
        </p:nvPicPr>
        <p:blipFill>
          <a:blip r:embed="rId1"/>
          <a:stretch/>
        </p:blipFill>
        <p:spPr>
          <a:xfrm>
            <a:off x="1654200" y="1308240"/>
            <a:ext cx="5715000" cy="5565600"/>
          </a:xfrm>
          <a:prstGeom prst="rect">
            <a:avLst/>
          </a:prstGeom>
          <a:ln w="0">
            <a:noFill/>
          </a:ln>
        </p:spPr>
      </p:pic>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5)</a:t>
            </a:r>
            <a:endParaRPr b="0" lang="en-US" sz="36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0AD8-65CE-4898-8283-1F94A6D685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shows how you can trace the wire from the CKP sensor so that connector C2, pin 27 receives the engine speed from the crankshaft sens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identified this pin in the wiring diagram, we locate the corresponding wire on the ECU. We can connect this wire to any digital IO pin on an Arduino. In this example, we’ll use pin 2 and then add a potentiometer to A0 to control the speed of the CKP sensor’s “teeth” going to the ECM. Pin 2 will send output to C2, pin 27.</a:t>
            </a:r>
            <a:endParaRPr b="0" lang="en-US" sz="2800" spc="-1" strike="noStrike">
              <a:solidFill>
                <a:srgbClr val="000000"/>
              </a:solidFill>
              <a:latin typeface="Calibri"/>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6)</a:t>
            </a:r>
            <a:endParaRPr b="0" lang="en-US" sz="3600" spc="-1" strike="noStrike">
              <a:solidFill>
                <a:srgbClr val="000000"/>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AF93-0010-407D-9D0E-0765B6DD22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simulate engine speed sent from the CKP sensor, we code up an Arduino sketch to send high and low pulses with a delay interval mapped to the potentiometer position(Next Page)</a:t>
            </a:r>
            <a:endParaRPr b="0" lang="en-US" sz="2800" spc="-1" strike="noStrike">
              <a:solidFill>
                <a:srgbClr val="000000"/>
              </a:solidFill>
              <a:latin typeface="Calibri"/>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7)</a:t>
            </a:r>
            <a:endParaRPr b="0" lang="en-US" sz="36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5681-0681-4EEB-B0CF-9FC640921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90" name="Content Placeholder 1" descr=""/>
          <p:cNvPicPr/>
          <p:nvPr/>
        </p:nvPicPr>
        <p:blipFill>
          <a:blip r:embed="rId1"/>
          <a:stretch/>
        </p:blipFill>
        <p:spPr>
          <a:xfrm>
            <a:off x="1658880" y="1370160"/>
            <a:ext cx="5826240" cy="4986360"/>
          </a:xfrm>
          <a:prstGeom prst="rect">
            <a:avLst/>
          </a:prstGeom>
          <a:ln w="0">
            <a:noFill/>
          </a:ln>
        </p:spPr>
      </p:pic>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8)</a:t>
            </a:r>
            <a:endParaRPr b="0" lang="en-US" sz="36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8486-6BD0-4CA5-AF1A-1050DBB78B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we upload this sketch to the Arduino, power up the test bench, and when we turn the knob on the potentiometer, the RPM dial moves on the IC.</a:t>
            </a:r>
            <a:endParaRPr b="0" lang="en-US" sz="3200" spc="-1" strike="noStrike">
              <a:solidFill>
                <a:srgbClr val="000000"/>
              </a:solidFill>
              <a:latin typeface="Calibri"/>
            </a:endParaRPr>
          </a:p>
        </p:txBody>
      </p:sp>
      <p:pic>
        <p:nvPicPr>
          <p:cNvPr id="294" name="Picture 2" descr="image"/>
          <p:cNvPicPr/>
          <p:nvPr/>
        </p:nvPicPr>
        <p:blipFill>
          <a:blip r:embed="rId1"/>
          <a:stretch/>
        </p:blipFill>
        <p:spPr>
          <a:xfrm>
            <a:off x="609480" y="3768840"/>
            <a:ext cx="8229600" cy="2168280"/>
          </a:xfrm>
          <a:prstGeom prst="rect">
            <a:avLst/>
          </a:prstGeom>
          <a:ln w="0">
            <a:noFill/>
          </a:ln>
        </p:spPr>
      </p:pic>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9)</a:t>
            </a:r>
            <a:endParaRPr b="0" lang="en-US" sz="36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817E-A079-42E4-A59C-9D78468F88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igure on the previous slide, the second line of the cansniffer traffic shows bytes 2 and 3—0x0B and 0x89—changing as we rotate the potentiometer knob for Arbitration ID 0x110 (the column labeled ID).</a:t>
            </a:r>
            <a:endParaRPr b="0" lang="en-US" sz="3200" spc="-1" strike="noStrike">
              <a:solidFill>
                <a:srgbClr val="000000"/>
              </a:solidFill>
              <a:latin typeface="Calibri"/>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0)</a:t>
            </a:r>
            <a:endParaRPr b="0" lang="en-US" sz="36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4E05-20DA-4EAB-8C08-75AF9D759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is screenshot was taken, the needle was idling a bit below the 1 on the RPM gauge, so that’s probably the same algorith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verify that arbitration ID 0x110 with bytes 2 and 3 controls the RPM, we’ll send our own custom packet. By flooding the bus with a loop that sends the following, we’ll peg the needle at max RPMs.</a:t>
            </a:r>
            <a:endParaRPr b="0" lang="en-US" sz="2800" spc="-1" strike="noStrike">
              <a:solidFill>
                <a:srgbClr val="000000"/>
              </a:solidFill>
              <a:latin typeface="Calibri"/>
            </a:endParaRPr>
          </a:p>
        </p:txBody>
      </p:sp>
      <p:pic>
        <p:nvPicPr>
          <p:cNvPr id="301" name="Picture 1" descr=""/>
          <p:cNvPicPr/>
          <p:nvPr/>
        </p:nvPicPr>
        <p:blipFill>
          <a:blip r:embed="rId1"/>
          <a:stretch/>
        </p:blipFill>
        <p:spPr>
          <a:xfrm>
            <a:off x="1900080" y="4848120"/>
            <a:ext cx="5343840" cy="819360"/>
          </a:xfrm>
          <a:prstGeom prst="rect">
            <a:avLst/>
          </a:prstGeom>
          <a:ln w="0">
            <a:noFill/>
          </a:ln>
        </p:spPr>
      </p:pic>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1)</a:t>
            </a:r>
            <a:endParaRPr b="0" lang="en-US" sz="3600" spc="-1" strike="noStrike">
              <a:solidFill>
                <a:srgbClr val="000000"/>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5D2D-7D85-4121-B3CE-78CDB9406D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this method works and, once connected, takes only a few seconds to identify the CAN packet responsible for RPMs, there are still some visible issu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very so often a CAN signal shows up that resets the values to 00 00 and stops the speedometer from moving. So while the ECM is fairly certain the crankshaft is spinning, it’s detecting a problem and attempting to reset.</a:t>
            </a:r>
            <a:endParaRPr b="0" lang="en-US" sz="2400" spc="-1" strike="noStrike">
              <a:solidFill>
                <a:srgbClr val="000000"/>
              </a:solidFill>
              <a:latin typeface="Calibri"/>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2)</a:t>
            </a:r>
            <a:endParaRPr b="0" lang="en-US" sz="3600" spc="-1" strike="noStrike">
              <a:solidFill>
                <a:srgbClr val="000000"/>
              </a:solidFill>
              <a:latin typeface="Calibri"/>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6E18-C667-4CE9-907C-7F871925B6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wo different terminals, we can check whether there was a diagnostic co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8" name="Picture 1" descr=""/>
          <p:cNvPicPr/>
          <p:nvPr/>
        </p:nvPicPr>
        <p:blipFill>
          <a:blip r:embed="rId1"/>
          <a:stretch/>
        </p:blipFill>
        <p:spPr>
          <a:xfrm>
            <a:off x="1081080" y="2895480"/>
            <a:ext cx="6981840" cy="1067040"/>
          </a:xfrm>
          <a:prstGeom prst="rect">
            <a:avLst/>
          </a:prstGeom>
          <a:ln w="0">
            <a:noFill/>
          </a:ln>
        </p:spPr>
      </p:pic>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3)</a:t>
            </a:r>
            <a:endParaRPr b="0" lang="en-US" sz="36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DE53-9D20-4815-ACF4-94DC50E0DC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should see this output in the first terminal:</a:t>
            </a:r>
            <a:endParaRPr b="0" lang="en-US" sz="2800" spc="-1" strike="noStrike">
              <a:solidFill>
                <a:srgbClr val="000000"/>
              </a:solidFill>
              <a:latin typeface="Calibri"/>
            </a:endParaRPr>
          </a:p>
        </p:txBody>
      </p:sp>
      <p:pic>
        <p:nvPicPr>
          <p:cNvPr id="312" name="Picture 4" descr=""/>
          <p:cNvPicPr/>
          <p:nvPr/>
        </p:nvPicPr>
        <p:blipFill>
          <a:blip r:embed="rId1"/>
          <a:stretch/>
        </p:blipFill>
        <p:spPr>
          <a:xfrm>
            <a:off x="1333440" y="2895480"/>
            <a:ext cx="6477120" cy="10670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rastructure softwar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the infrastructure software includes the operating system and software components for communication and underlying I/O and memory services.</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2AB2-A318-40AA-92C1-3C5DE4C18A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4)</a:t>
            </a:r>
            <a:endParaRPr b="0" lang="en-US" sz="36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1310-0DD3-4BD4-88C8-E0A301B6E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s like we have a DTC set. Querying PID 0x03 returned a 4-byte DTC (0x0068C107).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first two bytes make up the standard DTC (0x00 0x68).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nverts to P0068, which the Chilton manual refers to as “throttle body airflow performance.”</a:t>
            </a:r>
            <a:endParaRPr b="0" lang="en-US" sz="2800" spc="-1" strike="noStrike">
              <a:solidFill>
                <a:srgbClr val="000000"/>
              </a:solidFill>
              <a:latin typeface="Calibri"/>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ulating Vehicle Speed (15)</a:t>
            </a:r>
            <a:endParaRPr b="0" lang="en-US" sz="36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931D-7121-47B8-91CB-DB6ED1A626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we wanted to spoof that data as well, we’d need to spoof three additional sensor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F sens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ottle posi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nifold air pressure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other ways to trick the signals you want out of the PCM without having to be immune to triggering DTC faults.</a:t>
            </a:r>
            <a:endParaRPr b="0" lang="en-US" sz="2800" spc="-1" strike="noStrike">
              <a:solidFill>
                <a:srgbClr val="000000"/>
              </a:solidFill>
              <a:latin typeface="Calibri"/>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A4C4-394B-4ACE-A4BC-94E5E522B3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0" name="Rectangle 2"/>
          <p:cNvSpPr/>
          <p:nvPr/>
        </p:nvSpPr>
        <p:spPr>
          <a:xfrm>
            <a:off x="2286000" y="1719360"/>
            <a:ext cx="4572000" cy="50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Referenc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ECU Hacking,"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Vehicle Communication with SocketCAN," in THE CAR HACKER’S HANDBOOK A Guide for the Penetration Tester, William Pollock, 2016. </a:t>
            </a:r>
            <a:endParaRPr b="0" lang="en-US" sz="1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ammability</a:t>
            </a:r>
            <a:endParaRPr b="0" lang="en-US" sz="40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pecial category of ECUs are those which are programmable; these units can be reprogrammed by the us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modifying an engine to include aftermarket or upgrade components, stock ECUs may or may not be able to provide the correct type of control for the application(s) in which the engine may be used</a:t>
            </a: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2CFF-6648-4824-B98E-90479A7D8D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7T17:39:28Z</dcterms:modified>
  <cp:revision>1097</cp:revision>
  <dc:subject/>
  <dc:title>Computer Networks</dc:title>
</cp:coreProperties>
</file>