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5.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33.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836D-8A75-4F6E-9C9F-239728CACC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474F-CD00-45AF-B4A9-E5D70F451CE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AB7C-22D0-4BE0-B112-F025236DA2E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5301-A6AA-4574-9AF9-BED85B50001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06B5-ABC6-4FB6-9E9A-9513EFE3955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8B8D-EAB6-4FD0-BF7F-FE1FEA5F3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16B8-6AC5-4E30-BADB-2D05E830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827C5-9006-4E52-9EE4-B9A9C88B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F3B40-6341-48F1-8F4A-B3DF5491F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158B0-1E8A-48F9-A89C-E12D54CF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AE969-3268-4C56-BD70-B678E5F5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016E-1571-41C1-BF88-60356511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FFB87-A473-44B1-B009-CE3A5656D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C9EB-BC28-4B7F-9973-3A321496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482F-2F7B-487C-BB19-BD3FE872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F96C-2A06-49A3-B799-11326FA5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30E8-0486-4C88-B1E5-F29291F5C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9505-44D0-4A52-8974-EEF50A4EE1D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865A-B12C-460C-A51F-F66AB71A4D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youtube.com/watch?v=stQPjNI7_DA"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2dZCsFQ7NLI"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s://github.com/jboone/gr-tpms/"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youtube.com/watch?v=UNgvShN4USU"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youtube.com/watch?v=odG2GX4_cUQ"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youtube.com/watch?v=bXfp8F4J2eI"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C24F-39A5-4B16-9591-C28744AA0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575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6.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tacking Connected/automated vehicles: V2V and V2I communication</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ular Networks with V2V Communication (2)</a:t>
            </a:r>
            <a:endParaRPr b="0" lang="en-US" sz="40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A150-8F8A-4141-AE5F-50F2713FDE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0" name="Google Shape;133;p20" descr=""/>
          <p:cNvPicPr/>
          <p:nvPr/>
        </p:nvPicPr>
        <p:blipFill>
          <a:blip r:embed="rId1"/>
          <a:stretch/>
        </p:blipFill>
        <p:spPr>
          <a:xfrm>
            <a:off x="1295280" y="1820880"/>
            <a:ext cx="6096240" cy="4083120"/>
          </a:xfrm>
          <a:prstGeom prst="rect">
            <a:avLst/>
          </a:prstGeom>
          <a:ln w="0">
            <a:noFill/>
          </a:ln>
        </p:spPr>
      </p:pic>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twiring</a:t>
            </a:r>
            <a:endParaRPr b="0" lang="en-US" sz="36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F179-677C-497A-B9B6-E24995F1C3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has been obsolete since the mid-1990s, but it’s still seen in movies today.]</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o hotwire a susceptible car, you would remove the steering wheel to expose the ignition cylinder and typically three bundles of wires.</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sing the car’s manual or simply by tracing wires, you’d locate the ignition-battery bundle and starter wire.</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ext, you’d strip the battery and ignition wires and twist them together.</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n, you’d “spark” the bundle with the starter wire and start the car. Once the car starts, you’d remove the starter wire.</a:t>
            </a:r>
            <a:endParaRPr b="0" lang="en-US" sz="2000" spc="-1" strike="noStrike">
              <a:solidFill>
                <a:srgbClr val="000000"/>
              </a:solidFill>
              <a:latin typeface="Arial"/>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twiring (2)</a:t>
            </a:r>
            <a:endParaRPr b="0" lang="en-US" sz="3600" spc="-1" strike="noStrike">
              <a:solidFill>
                <a:srgbClr val="000000"/>
              </a:solidFill>
              <a:latin typeface="Calibri"/>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2FB1-CE3C-44C7-8A4C-D0891FD55C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Google Shape;612;p65" descr=""/>
          <p:cNvPicPr/>
          <p:nvPr/>
        </p:nvPicPr>
        <p:blipFill>
          <a:blip r:embed="rId1"/>
          <a:stretch/>
        </p:blipFill>
        <p:spPr>
          <a:xfrm>
            <a:off x="1087560" y="2819520"/>
            <a:ext cx="6968880" cy="2819160"/>
          </a:xfrm>
          <a:prstGeom prst="rect">
            <a:avLst/>
          </a:prstGeom>
          <a:ln w="0">
            <a:noFill/>
          </a:ln>
        </p:spPr>
      </p:pic>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ity Concerns with V2V Communication</a:t>
            </a:r>
            <a:endParaRPr b="0" lang="en-US" sz="4000" spc="-1" strike="noStrike">
              <a:solidFill>
                <a:srgbClr val="000000"/>
              </a:solidFill>
              <a:latin typeface="Calibri"/>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A51E-20F4-4CD7-9F79-27F1680EE6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ide from DSRC, there are other attack potentials in the implementation of V2V</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were investigated by Crash Avoidance Metrics Partnership (CAMP), which is a group of several auto manufacturers working to conduct different safety-related studie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took place in December 2010</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MP performed an attack analysis on V2V systems through its Vehicle Safety Consortium (VSC3).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nalysis focused primarily on the core DSRC/WAVE protocol and attempted to simulate an attacker’s objectives with potential attack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228600"/>
            <a:ext cx="7315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ults of Crash Avoidance Metrics Partnership (CAMP) Tests</a:t>
            </a:r>
            <a:endParaRPr b="0" lang="en-US" sz="40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8331-B097-4B27-9386-22721E551E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8"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some goals a malicious actor may have when attacking V2V systems, and perhaps some of the attacks they would launch</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p columns define an attacker’s possible objectives and areas they may focus on</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ults of CAMP Tests</a:t>
            </a:r>
            <a:endParaRPr b="0" lang="en-US" sz="4000" spc="-1" strike="noStrike">
              <a:solidFill>
                <a:srgbClr val="000000"/>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E572-2338-47F7-8038-3EF0858DB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1"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92" name="Google Shape;312;p46" descr=""/>
          <p:cNvPicPr/>
          <p:nvPr/>
        </p:nvPicPr>
        <p:blipFill>
          <a:blip r:embed="rId1"/>
          <a:stretch/>
        </p:blipFill>
        <p:spPr>
          <a:xfrm>
            <a:off x="1917720" y="2181240"/>
            <a:ext cx="4267080" cy="4660920"/>
          </a:xfrm>
          <a:prstGeom prst="rect">
            <a:avLst/>
          </a:prstGeom>
          <a:ln w="0">
            <a:noFill/>
          </a:ln>
        </p:spPr>
      </p:pic>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2922-FF4E-4A40-AE72-53312299FA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94" name="Picture 4" descr=""/>
          <p:cNvPicPr/>
          <p:nvPr/>
        </p:nvPicPr>
        <p:blipFill>
          <a:blip r:embed="rId1"/>
          <a:stretch/>
        </p:blipFill>
        <p:spPr>
          <a:xfrm>
            <a:off x="76320" y="101520"/>
            <a:ext cx="2930400" cy="1143000"/>
          </a:xfrm>
          <a:prstGeom prst="rect">
            <a:avLst/>
          </a:prstGeom>
          <a:ln w="0">
            <a:noFill/>
          </a:ln>
        </p:spPr>
      </p:pic>
      <p:sp>
        <p:nvSpPr>
          <p:cNvPr id="395"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396"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6.4</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tacking Connected/automated vehicles: Potential attacks on automated vehicle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mated Vehicles</a:t>
            </a:r>
            <a:endParaRPr b="0" lang="en-US" sz="4000" spc="-1" strike="noStrike">
              <a:solidFill>
                <a:srgbClr val="000000"/>
              </a:solidFill>
              <a:latin typeface="Calibri"/>
            </a:endParaRPr>
          </a:p>
        </p:txBody>
      </p:sp>
      <p:sp>
        <p:nvSpPr>
          <p:cNvPr id="3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E983-7CA4-4F75-90DA-9EDE9FD6D9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9"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vehicles help to improve the safety of passengers and increase the efficiency of transportation by interacting with the external world through V2X and V2V communications.</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sharing data like speed, position, and heading angle help to predict the succeeding location of the vehicle. </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Sensor technologies, maneuvering of roads and terrains becoming easier and with the help of predetermined knowledge</a:t>
            </a:r>
            <a:endParaRPr b="0" lang="en-US" sz="2800" spc="-1" strike="noStrike">
              <a:solidFill>
                <a:srgbClr val="000000"/>
              </a:solidFill>
              <a:latin typeface="Calibri"/>
            </a:endParaRPr>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autonomous vehicles more vulnerable to</a:t>
            </a:r>
            <a:br>
              <a:rPr sz="3200"/>
            </a:br>
            <a:r>
              <a:rPr b="0" lang="en-US" sz="3200" spc="-1" strike="noStrike">
                <a:solidFill>
                  <a:srgbClr val="000000"/>
                </a:solidFill>
                <a:latin typeface="Calibri"/>
              </a:rPr>
              <a:t>attacks?</a:t>
            </a:r>
            <a:endParaRPr b="0" lang="en-US" sz="32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7CCD-1913-4086-AA90-1DDBA2F1F1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2" name=""/>
          <p:cNvSpPr txBox="1"/>
          <p:nvPr/>
        </p:nvSpPr>
        <p:spPr>
          <a:xfrm>
            <a:off x="457200" y="1600200"/>
            <a:ext cx="8229600" cy="4525920"/>
          </a:xfrm>
          <a:prstGeom prst="rect">
            <a:avLst/>
          </a:prstGeom>
          <a:noFill/>
          <a:ln w="0">
            <a:noFill/>
          </a:ln>
        </p:spPr>
        <p:txBody>
          <a:bodyPr anchor="t">
            <a:normAutofit fontScale="93000"/>
          </a:bodyPr>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d to conventional vehicle autonomous vehicle has to communicate with other vehicles and infrastructure which are external networks and may become a channel for attack and an opportunity for hackers.</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utonomous vehicles, vast information has to be processed particularly deep learning algorithms are used in processing image related data which are prone to adversarial attacks and the probability of false positives increases with increase in the amount of data to be processed.</a:t>
            </a:r>
            <a:endParaRPr b="0" lang="en-US" sz="2800" spc="-1" strike="noStrike">
              <a:solidFill>
                <a:srgbClr val="000000"/>
              </a:solidFill>
              <a:latin typeface="Calibri"/>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autonomous vehicles more vulnerable to</a:t>
            </a:r>
            <a:br>
              <a:rPr sz="3200"/>
            </a:br>
            <a:r>
              <a:rPr b="0" lang="en-US" sz="3200" spc="-1" strike="noStrike">
                <a:solidFill>
                  <a:srgbClr val="000000"/>
                </a:solidFill>
                <a:latin typeface="Calibri"/>
              </a:rPr>
              <a:t>attacks? (2)</a:t>
            </a:r>
            <a:endParaRPr b="0" lang="en-US" sz="3200" spc="-1" strike="noStrike">
              <a:solidFill>
                <a:srgbClr val="000000"/>
              </a:solidFill>
              <a:latin typeface="Calibri"/>
            </a:endParaRPr>
          </a:p>
        </p:txBody>
      </p:sp>
      <p:sp>
        <p:nvSpPr>
          <p:cNvPr id="4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1F9C-41D2-4469-9747-4014479AB4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technology is in the nascent stage in both hardware and software and not yet rigorously tested because of which it is difficult to make it reliable in all conditions and also autonomous vehicles are prone to bugs and vulnerabilities also which can be exploited by the attackers.</a:t>
            </a:r>
            <a:endParaRPr b="0" lang="en-US" sz="2800" spc="-1" strike="noStrike">
              <a:solidFill>
                <a:srgbClr val="000000"/>
              </a:solidFill>
              <a:latin typeface="Calibri"/>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s exploiting the vulnerabilities in various</a:t>
            </a:r>
            <a:br>
              <a:rPr sz="3200"/>
            </a:br>
            <a:r>
              <a:rPr b="0" lang="en-US" sz="3200" spc="-1" strike="noStrike">
                <a:solidFill>
                  <a:srgbClr val="000000"/>
                </a:solidFill>
                <a:latin typeface="Calibri"/>
              </a:rPr>
              <a:t>sensors of vehicle</a:t>
            </a:r>
            <a:endParaRPr b="0" lang="en-US" sz="32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3A39-44DE-434F-8FA9-7170CD4C6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Positioning System (GP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ertial Measurement Unit (IMU)</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ght Detection and Ranging (Lid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scopic and Stereoscopic Cameras</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101B-A0C5-414D-90CE-2F317A0CA4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2" name="Picture 4" descr=""/>
          <p:cNvPicPr/>
          <p:nvPr/>
        </p:nvPicPr>
        <p:blipFill>
          <a:blip r:embed="rId1"/>
          <a:stretch/>
        </p:blipFill>
        <p:spPr>
          <a:xfrm>
            <a:off x="76320" y="101520"/>
            <a:ext cx="2930400" cy="1143000"/>
          </a:xfrm>
          <a:prstGeom prst="rect">
            <a:avLst/>
          </a:prstGeom>
          <a:ln w="0">
            <a:noFill/>
          </a:ln>
        </p:spPr>
      </p:pic>
      <p:sp>
        <p:nvSpPr>
          <p:cNvPr id="83"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84"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6.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tacking Connected/automated vehicles: IEEE 1609 &amp; Wireless Access in Vehicular Environments (WAV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Positioning System (GPS)</a:t>
            </a:r>
            <a:endParaRPr b="0" lang="en-US" sz="3200" spc="-1" strike="noStrike">
              <a:solidFill>
                <a:srgbClr val="000000"/>
              </a:solidFill>
              <a:latin typeface="Calibri"/>
            </a:endParaRPr>
          </a:p>
        </p:txBody>
      </p:sp>
      <p:sp>
        <p:nvSpPr>
          <p:cNvPr id="4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0F22-B826-4E59-9220-CEC64E3546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1"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 of free access to the data with transparent architecture helping the hackers to mislead or manipulate the data to provide the wrong directions or to control the routing of the vehicl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ead to the security and safety issues of the passenger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leading of the GPS signals is known as GPS spoofing and jamming where hackers transmit the unrealistic signal/data.</a:t>
            </a:r>
            <a:endParaRPr b="0" lang="en-US" sz="2800" spc="-1" strike="noStrike">
              <a:solidFill>
                <a:srgbClr val="000000"/>
              </a:solidFill>
              <a:latin typeface="Calibri"/>
            </a:endParaRPr>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rtial Measurement Unit (IMU)</a:t>
            </a:r>
            <a:endParaRPr b="0" lang="en-US" sz="32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5CB4-1048-46E1-BF4F-0F456FC707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U is the combination of the Gyroscope and Accelerometers which provides the data of velocity, acceleration, and orientation of the vehicle. They also monitor the change in the environmental dynamics like the gradien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ata provided by the sensors can be modified or not to recognize the gradient of the road. It causes the vehicle to moves slow on the gradient roads which intern slow down the following vehicles.</a:t>
            </a:r>
            <a:endParaRPr b="0" lang="en-US" sz="2800" spc="-1" strike="noStrike">
              <a:solidFill>
                <a:srgbClr val="000000"/>
              </a:solidFill>
              <a:latin typeface="Calibri"/>
            </a:endParaRPr>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ght Detection and Ranging (Lidar)</a:t>
            </a:r>
            <a:endParaRPr b="0" lang="en-US" sz="3200" spc="-1" strike="noStrike">
              <a:solidFill>
                <a:srgbClr val="000000"/>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798B-2595-4FAC-9B78-A4A3179829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ght Detection and Ranging (LiDAR) is used to localize the environment, obstacle detection, and avoidance. It based on the technology, time taken by the light to travel to and fro to the vehicle determine’s the distance at which the object is locat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hacker sends a signal of the same frequency to the scanner and to assume the object is detected. It makes the Autonomous vehicle to move slowly or stop.</a:t>
            </a:r>
            <a:endParaRPr b="0" lang="en-US" sz="2800" spc="-1" strike="noStrike">
              <a:solidFill>
                <a:srgbClr val="000000"/>
              </a:solidFill>
              <a:latin typeface="Calibri"/>
            </a:endParaRPr>
          </a:p>
        </p:txBody>
      </p:sp>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oscopic and Stereoscopic Cameras</a:t>
            </a:r>
            <a:endParaRPr b="0" lang="en-US" sz="3200" spc="-1" strike="noStrike">
              <a:solidFill>
                <a:srgbClr val="000000"/>
              </a:solidFill>
              <a:latin typeface="Calibri"/>
            </a:endParaRPr>
          </a:p>
        </p:txBody>
      </p:sp>
      <p:sp>
        <p:nvSpPr>
          <p:cNvPr id="4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868A-4509-4972-B48D-CD40129A2B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eras are used to detect lane detection, traffic sign recognition, headlight detection, obstacle detection, etc.</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ing of cameras can be partially disabled by using high beam torches or headlights of the opposite vehicles. It may introduce the safety concerns like false detection or not detection of the objects.</a:t>
            </a:r>
            <a:endParaRPr b="0" lang="en-US" sz="2800" spc="-1" strike="noStrike">
              <a:solidFill>
                <a:srgbClr val="000000"/>
              </a:solidFill>
              <a:latin typeface="Calibri"/>
            </a:endParaRPr>
          </a:p>
        </p:txBody>
      </p:sp>
    </p:spTree>
  </p:cSld>
  <p:transition>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ular Adhoc Network (VANET) attacks</a:t>
            </a:r>
            <a:endParaRPr b="0" lang="en-US" sz="3200" spc="-1" strike="noStrike">
              <a:solidFill>
                <a:srgbClr val="000000"/>
              </a:solidFill>
              <a:latin typeface="Calibri"/>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4EA4-89A7-406B-BC81-075CDDD50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s on Internal Network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code and Key attacks: passcode and keys are one of the safety features of the connected cars. Multiple attempts may crack the password or keys which works on the IR based technologies can be easily hacked.</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s on External Network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2X Network Attacks: It can connect to a smartphone,cloud and other devices and communicate which is described as the V2X communication. Connecting to a smartphone is always a risk for a vehicle as it is interacting with an external unfamiliar device.</a:t>
            </a:r>
            <a:endParaRPr b="0" lang="en-US" sz="2400" spc="-1" strike="noStrike">
              <a:solidFill>
                <a:srgbClr val="000000"/>
              </a:solidFill>
              <a:latin typeface="Calibri"/>
            </a:endParaRPr>
          </a:p>
        </p:txBody>
      </p:sp>
    </p:spTree>
  </p:cSld>
  <p:transition>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ular Adhoc Network (VANET) attacks (2)</a:t>
            </a:r>
            <a:endParaRPr b="0" lang="en-US" sz="3200" spc="-1" strike="noStrike">
              <a:solidFill>
                <a:srgbClr val="000000"/>
              </a:solidFill>
              <a:latin typeface="Calibri"/>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8B32-EDD0-477E-A624-EB6B384F03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ed Denial Of Services (DDOS)</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ial of service is one of the most vulnerable threats that connected cars may experience. Service of the system denied by the several attacking mechanisms which results in disruption of the traffic flow and damages to the infrastructure. It may cause the collision of the vehicles, a life threat for the passengers.</a:t>
            </a:r>
            <a:endParaRPr b="0" lang="en-US" sz="2000" spc="-1" strike="noStrike">
              <a:solidFill>
                <a:srgbClr val="000000"/>
              </a:solidFill>
              <a:latin typeface="Calibri"/>
            </a:endParaRPr>
          </a:p>
        </p:txBody>
      </p:sp>
    </p:spTree>
  </p:cSld>
  <p:transition>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rdware attacks and exploits</a:t>
            </a:r>
            <a:endParaRPr b="0" lang="en-US" sz="3600" spc="-1" strike="noStrike">
              <a:solidFill>
                <a:srgbClr val="000000"/>
              </a:solidFill>
              <a:latin typeface="Calibri"/>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8AA6-6D8E-4FC8-A0B1-410B8A3F9C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D port based attack:</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D stands for onboard diagnostics and OBD port is present in almost all the vehicles manufactured from 2008. OBD port is used for collecting the diagnostics data of the vehicle. It gives the data about the vehicle faults and performance. once connected PC can send and receive the data to and from the vehicle ECU’s and with a possible exploitation can also manipulate the data packets and inject malicious packets into the vehicle network.</a:t>
            </a:r>
            <a:endParaRPr b="0" lang="en-US" sz="2400" spc="-1" strike="noStrike">
              <a:solidFill>
                <a:srgbClr val="000000"/>
              </a:solidFill>
              <a:latin typeface="Calibri"/>
            </a:endParaRPr>
          </a:p>
        </p:txBody>
      </p:sp>
    </p:spTree>
  </p:cSld>
  <p:transition>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rdware attacks and exploits (2)</a:t>
            </a:r>
            <a:endParaRPr b="0" lang="en-US" sz="3600" spc="-1" strike="noStrike">
              <a:solidFill>
                <a:srgbClr val="000000"/>
              </a:solidFill>
              <a:latin typeface="Calibri"/>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79FD-55C5-4046-B5C0-1EB7A919C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U Firmware tampering attack:</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U code is propitiatory making it safe and secure but attackers started targeting recent attacks by re flashing the ECU with custom firmware altering its state and inducing malicious and unintended actions.</a:t>
            </a:r>
            <a:endParaRPr b="0" lang="en-US" sz="2400" spc="-1" strike="noStrike">
              <a:solidFill>
                <a:srgbClr val="000000"/>
              </a:solidFill>
              <a:latin typeface="Calibri"/>
            </a:endParaRPr>
          </a:p>
        </p:txBody>
      </p:sp>
    </p:spTree>
  </p:cSld>
  <p:transition>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rdware attacks and exploits (3)</a:t>
            </a:r>
            <a:endParaRPr b="0" lang="en-US" sz="3600" spc="-1" strike="noStrike">
              <a:solidFill>
                <a:srgbClr val="000000"/>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29C6-8DFB-4E6C-B028-E756F96943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gue updates:</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mware updates in the connected cars are one of the sources for the Rogue updates. These updates are not from the manufacturer and lack of proper updates with safety and security. they are prone to the severe cyber attacks which leak private data of the vehicle. It allows hackers to provide enough security weakness to introduce malware and control the firmware of the connected cars.</a:t>
            </a:r>
            <a:endParaRPr b="0" lang="en-US" sz="2400" spc="-1" strike="noStrike">
              <a:solidFill>
                <a:srgbClr val="000000"/>
              </a:solidFill>
              <a:latin typeface="Calibri"/>
            </a:endParaRPr>
          </a:p>
        </p:txBody>
      </p:sp>
    </p:spTree>
  </p:cSld>
  <p:transition>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ersarial Attacks on Autonomous vehicles</a:t>
            </a:r>
            <a:endParaRPr b="0" lang="en-US" sz="3600" spc="-1" strike="noStrike">
              <a:solidFill>
                <a:srgbClr val="000000"/>
              </a:solidFill>
              <a:latin typeface="Calibri"/>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C77B-DD50-4C3A-844A-AFABFC0689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Learning is based on the probabilistic estimation for the classification tasks predicting the data belonging to a particular class with a certain level of probability and when the probability is higher then we say that class has higher confidence. </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with V2V Communication</a:t>
            </a:r>
            <a:endParaRPr b="0" lang="en-US" sz="40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6434-48F0-4EBC-863A-3EB4F7A74C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dicated Short-Range Communication (DSRC)</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installation of specialized equipment in modern vehicles and new roadside equipmen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ed specifically for V2V communication so security measures can be implemented prior to the widespread adop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reliable than cellular communication with  lower latenc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ersarial Attacks on Autonomous vehicles (2)</a:t>
            </a:r>
            <a:endParaRPr b="0" lang="en-US" sz="3600" spc="-1" strike="noStrike">
              <a:solidFill>
                <a:srgbClr val="000000"/>
              </a:solidFill>
              <a:latin typeface="Calibri"/>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A12D-5E0D-4968-AB5D-32BA41BDDF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learning algorithms like Deep Neural Networks (DNN’s) are start of the art techniques that are used in the autonomous vehicles for perception and sensing.</a:t>
            </a:r>
            <a:endParaRPr b="0" lang="en-US" sz="3200" spc="-1" strike="noStrike">
              <a:solidFill>
                <a:srgbClr val="000000"/>
              </a:solidFill>
              <a:latin typeface="Calibri"/>
            </a:endParaRPr>
          </a:p>
        </p:txBody>
      </p:sp>
    </p:spTree>
  </p:cSld>
  <p:transition>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ersarial Attacks on Autonomous vehicles (2)</a:t>
            </a:r>
            <a:endParaRPr b="0" lang="en-US" sz="3600" spc="-1" strike="noStrike">
              <a:solidFill>
                <a:srgbClr val="000000"/>
              </a:solidFill>
              <a:latin typeface="Calibri"/>
            </a:endParaRPr>
          </a:p>
        </p:txBody>
      </p:sp>
      <p:sp>
        <p:nvSpPr>
          <p:cNvPr id="4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5C96-F81C-46CD-AA68-3942BD465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learning algorithms like Deep Neural Networks (DNN’s) are start of the art techniques that are used in the autonomous vehicles for perception and sensing.</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ersarial Attacks on Autonomous vehicles (3)</a:t>
            </a:r>
            <a:endParaRPr b="0" lang="en-US" sz="36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05A2-A9B5-4257-A365-D4155B4D32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DNN’s are prone to certain adversarial attacks making the autonomous vehicles vulnerable to such attacks.Adversarial attack is a form of attack in which the small noise or perturbations are added to the original data misleading and deceiving the DNN’s decision making which may create dangerous consequences.</a:t>
            </a:r>
            <a:endParaRPr b="0" lang="en-US" sz="3200" spc="-1" strike="noStrike">
              <a:solidFill>
                <a:srgbClr val="000000"/>
              </a:solidFill>
              <a:latin typeface="Calibri"/>
            </a:endParaRPr>
          </a:p>
        </p:txBody>
      </p:sp>
    </p:spTree>
  </p:cSld>
  <p:transition>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scellaneous Attacks</a:t>
            </a:r>
            <a:endParaRPr b="0" lang="en-US" sz="36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C09D-C8E7-4A94-AB85-AC576A2FC7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erous attacks were getting implemented by many researchers and hackers. Gaining access to key less entry system by spoofing, Malware attacks and applications that installed in the infotainment and navigation syste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types of attacks like attacking the electric vehicle by exploiting the electric charger which is connecting and logging the data.</a:t>
            </a:r>
            <a:endParaRPr b="0" lang="en-US" sz="2800" spc="-1" strike="noStrike">
              <a:solidFill>
                <a:srgbClr val="000000"/>
              </a:solidFill>
              <a:latin typeface="Calibri"/>
            </a:endParaRPr>
          </a:p>
        </p:txBody>
      </p:sp>
    </p:spTree>
  </p:cSld>
  <p:transition>
    <p:fad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567F-D1C4-429A-9D98-1371EBD707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2" name="Rectangle 2"/>
          <p:cNvSpPr/>
          <p:nvPr/>
        </p:nvSpPr>
        <p:spPr>
          <a:xfrm>
            <a:off x="2286000" y="438120"/>
            <a:ext cx="4572000" cy="635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Refere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In-Vehicle Infotainment Systems,"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Vehicle-to-Vehicle Communication,"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 D. Kumar, K. N. R. Chebrolu, R. Vinayakumar, and S. K. P, “A brief survey on autonomous vehicle possible attacks, exploits and vulnerabilities,” CoRR, vol. abs/1810.04144, 2018. [Online]. Available: http://arxiv.org/abs/1810.0414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re on DSRC</a:t>
            </a:r>
            <a:endParaRPr b="0" lang="en-US" sz="40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7E03-AE1B-40DF-9AE9-CB67A5A761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a one- or two-way short-range wireless communication system that is specifically build for vehicle communications between vehicles and roadside devices, or vehicle to vehicle</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ically operates in the 5.85 to 5.925 GHz band that is specially reserved for V2V and V2I</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nsmit power used by DSRC device dictates the rang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adside equipment can transmit at higher-power ranges, often up to a 1,000 meter specificatio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hicles can broadcast only at a power level providing up to 300 meter range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1" name="Google Shape;160;p24" descr=""/>
          <p:cNvPicPr/>
          <p:nvPr/>
        </p:nvPicPr>
        <p:blipFill>
          <a:blip r:embed="rId1"/>
          <a:stretch/>
        </p:blipFill>
        <p:spPr>
          <a:xfrm>
            <a:off x="906480" y="5062680"/>
            <a:ext cx="7331040" cy="152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Wireless Protocols</a:t>
            </a:r>
            <a:endParaRPr b="0" lang="en-US" sz="40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ECBA-4EF8-46E2-AB40-29D4A6A4A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SRC is based on wireless 802.11p and 1609.x protocol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DSRC and Wi-Fi based protocols, such as Wireless Access for Vehicle Environments (WAVE), use IEEE 1609.3 specification, other the WAVE short-message protocol (WSMP)</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messages are single packets, with no more than 1500 bytes and typically are less than 500 by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easily decode WAVE packets with network sniffers such as Wireshark, meaning you can easily sniff network traffi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VE Packet Architecture</a:t>
            </a:r>
            <a:endParaRPr b="0" lang="en-US" sz="40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025D-8F20-481B-A51D-2AC757CE3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7" name="Google Shape;173;p26" descr=""/>
          <p:cNvPicPr/>
          <p:nvPr/>
        </p:nvPicPr>
        <p:blipFill>
          <a:blip r:embed="rId1"/>
          <a:stretch/>
        </p:blipFill>
        <p:spPr>
          <a:xfrm>
            <a:off x="1676520" y="2219400"/>
            <a:ext cx="5145120" cy="41925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Data Rates</a:t>
            </a:r>
            <a:endParaRPr b="0" lang="en-US" sz="4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57F-BF0E-4991-BCF1-4CBCB21411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rates with DSRC are totally dependent on the number of users concurrently accessing the local system</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ngle user would typically see data rates of 6-612 Mbps, whereas users who are in a high-traffic area (such as a busy interstate during rush hour) would see 100-500 Kbp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ypical DSRC system can handle almost 100 users in high-traffic conditions, but if the vehicles are traveling only 60 km/h (~ 37 mph), the DSRC system could only support around 32 user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Band Channels</a:t>
            </a:r>
            <a:endParaRPr b="0" lang="en-US" sz="40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CECB-2E98-46EB-93CF-3F76818A0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know DSRC uses the 5.9 GHZ band exclusively; however, how many channels does it hav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swer: it varies between countrie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system is designed to support 7 channels, with one channel dedicated as a control channel reserved for sending short, high-priority management packe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Band Channels (2)</a:t>
            </a:r>
            <a:endParaRPr b="0" lang="en-US" sz="40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EF46-CED1-4E83-922B-4740F64D06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uropean design supports 3 channels with no control channel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ing behind this disparity is the fact that each country has different drivers for the technolog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rope is more market driven, whereas the US is more security/safety-driven</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tocols are interoperable, but the types of messages supported and sent will differ greatl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SRC Channels in the US</a:t>
            </a:r>
            <a:endParaRPr b="0" lang="en-US" sz="40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8AFD-2F7D-4988-93F5-9CC266AFA5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110" name="Google Shape;192;p29" descr=""/>
          <p:cNvPicPr/>
          <p:nvPr/>
        </p:nvPicPr>
        <p:blipFill>
          <a:blip r:embed="rId1"/>
          <a:stretch/>
        </p:blipFill>
        <p:spPr>
          <a:xfrm>
            <a:off x="457200" y="3035160"/>
            <a:ext cx="8096400" cy="22575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Vehicle-to-Vehicle (V2V) communication?</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2V communication is primarily designed for communication of safety and traffic warnings (e.g. accidents, roadside haz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thod of communicating with roadside devices is Vehicle-to-Infrastructure (V2I) commun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D2FB-83DF-466D-86B4-0621EC8D16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atures and Uses of DSRC</a:t>
            </a:r>
            <a:endParaRPr b="0" lang="en-US" sz="4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FCE1-51BE-4A04-84F3-65E59B1357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uropean DSRC systems use DSRC f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 shar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nections to points of interes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tics and maintena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ving profiles for insurance purpos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toll notific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et managemen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king inform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adside DSRC Systems</a:t>
            </a:r>
            <a:endParaRPr b="0" lang="en-US" sz="40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3030-1138-4902-AC4B-74D44FC3D1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systems used to pass standardized messages and updates to vehicles with information such as traffic data and hazard info, or road works warning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uropean Telecommunications STandards Institute (ETSI) has designed two formats for continuous traffic data, both utilizing 802.11p:</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perative Awareness Message (CA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entralized Environmental Notification Message (DENM)</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M for DSRC</a:t>
            </a:r>
            <a:endParaRPr b="0" lang="en-US" sz="40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1964-B59C-4576-B5D0-ADDAF4DCF6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s are typically broadcast periodically through the Vehicle-to-Everything (V2X) network</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TSI defines the packet size of a CAM message as 800 bytes, and its reporting rate is 2 Hz</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s are still in preliminary stages, but should we encounter them in the future, they may be slightly different. What is reported here is what we could expec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ion Characteristics in a CAM Packet</a:t>
            </a:r>
            <a:endParaRPr b="0" lang="en-US" sz="40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365B-6F0D-42F0-8EDE-487E56A4C0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ion characteristics in the CAM packet may consist of any of the followi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bile ITS sta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relevant ITS sta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ITS sta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file paramete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posi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ion Characteristics in a CAM Packet</a:t>
            </a:r>
            <a:endParaRPr b="0" lang="en-US" sz="40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82EB-BAE9-4873-92FD-4FD8CA5356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5" name="Google Shape;230;p34" descr=""/>
          <p:cNvPicPr/>
          <p:nvPr/>
        </p:nvPicPr>
        <p:blipFill>
          <a:blip r:embed="rId1"/>
          <a:stretch/>
        </p:blipFill>
        <p:spPr>
          <a:xfrm>
            <a:off x="1989000" y="2398680"/>
            <a:ext cx="5166000" cy="413244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ommon Parameters in CAM Packet</a:t>
            </a:r>
            <a:endParaRPr b="0" lang="en-US" sz="4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61BC-EF2E-4F1B-88F5-7DD6B7A86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leration</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leration confidenc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leration controllability</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ce ellips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ash status (optiona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vatur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vature change (optiona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ous goods (optiona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to-stop line (optiona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or open (optiona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rior light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ding confidenc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ommon Parameters in CAM Packet (2)</a:t>
            </a:r>
            <a:endParaRPr b="0" lang="en-US" sz="40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7E4A-EF49-4CC9-AF56-736498344E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ancy (option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on leng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on-length confidence (option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on wid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on-width confidence (option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n advice (option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 spe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speed confid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 typ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w ra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w rate confidenc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NMs for DSRC</a:t>
            </a:r>
            <a:endParaRPr b="0" lang="en-US" sz="40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94A3-369D-474F-828D-55B3B332F2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Ms are event-driven messages, whereas CAMS are periodically sent so that they’re regularly update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Ms are triggered by safety and road hazard warning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NMs for DSRC (2)</a:t>
            </a:r>
            <a:endParaRPr b="0" lang="en-US" sz="40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BE3B-F28D-4B89-84B7-99C6641EC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Google Shape;246;p36" descr=""/>
          <p:cNvPicPr/>
          <p:nvPr/>
        </p:nvPicPr>
        <p:blipFill>
          <a:blip r:embed="rId1"/>
          <a:stretch/>
        </p:blipFill>
        <p:spPr>
          <a:xfrm>
            <a:off x="1994040" y="2971800"/>
            <a:ext cx="5155920" cy="2514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NM Packet Architecture</a:t>
            </a:r>
            <a:endParaRPr b="0" lang="en-US" sz="40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BD04-09C7-46EF-8AA2-F63AC05E6C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Google Shape;262;p38" descr=""/>
          <p:cNvPicPr/>
          <p:nvPr/>
        </p:nvPicPr>
        <p:blipFill>
          <a:blip r:embed="rId1"/>
          <a:stretch/>
        </p:blipFill>
        <p:spPr>
          <a:xfrm>
            <a:off x="2244600" y="2341440"/>
            <a:ext cx="4654800" cy="3986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to-Vehicle (V2V) </a:t>
            </a:r>
            <a:endParaRPr b="0" lang="en-US" sz="40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19C7-1E55-4E26-9633-BB26D99891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8" name="Google Shape;99;p15" descr=""/>
          <p:cNvPicPr/>
          <p:nvPr/>
        </p:nvPicPr>
        <p:blipFill>
          <a:blip r:embed="rId1"/>
          <a:stretch/>
        </p:blipFill>
        <p:spPr>
          <a:xfrm>
            <a:off x="1095480" y="2666880"/>
            <a:ext cx="6953040" cy="34290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NMs for DSRC</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1446-6572-4555-B147-9C7855DC99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Ms may be sent for the following case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ision risks (determined by roadside device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ing hazardous location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 brakin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wind level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visibility</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ipitation</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ad adhesion</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ad work</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nal violation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ffic jam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s involved in an accident</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ong-way drivin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VE Short-Messaging Protocol (WSMP)</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D8C7-3DF5-46D6-817F-9C0B1333CB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SMP is used in both service and control chann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uses IPv6 for service channels only</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v6 is configured by WAVE management entity (WME) and also handles channel assignments and monitors service announc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ME is unique to WAVE, and handles the overhead and maintenance of protocol</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channels are used for service announcements and short messages from safety applica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VE Short-Messaging Protocol (WSMP)</a:t>
            </a:r>
            <a:endParaRPr b="0" lang="en-US" sz="40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3BE7-752C-4099-9387-3B1A3F0E6E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SMP is used in both service and control chann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uses IPv6 for service channels only</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v6 is configured by WAVE management entity (WME) and also handles channel assignments and monitors service announc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ME is unique to WAVE, and handles the overhead and maintenance of protocol</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channels are used for service announcements and short messages from safety applica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SRC Message Architecture</a:t>
            </a:r>
            <a:endParaRPr b="0" lang="en-US" sz="40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7753-E26F-4D99-A330-7C9A744EFB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5" name="Google Shape;280;p41" descr=""/>
          <p:cNvPicPr/>
          <p:nvPr/>
        </p:nvPicPr>
        <p:blipFill>
          <a:blip r:embed="rId1"/>
          <a:stretch/>
        </p:blipFill>
        <p:spPr>
          <a:xfrm>
            <a:off x="1839960" y="2216160"/>
            <a:ext cx="5464080" cy="40831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VE Service Announcement (WSA)</a:t>
            </a:r>
            <a:endParaRPr b="0" lang="en-US" sz="40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5A1E-3935-4698-B51D-7AE892F83F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ual announcement of a service comes from a WSA pac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ype of application provided by a roadside device, or hosted by a vehicle, is defined by the provider service identifier (PSI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VE Service Announcement (WSA)</a:t>
            </a:r>
            <a:endParaRPr b="0" lang="en-US" sz="40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E60C-F0FB-47A9-9BEF-89B21CD3FA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2" name="Google Shape;288;p42" descr=""/>
          <p:cNvPicPr/>
          <p:nvPr/>
        </p:nvPicPr>
        <p:blipFill>
          <a:blip r:embed="rId1"/>
          <a:stretch/>
        </p:blipFill>
        <p:spPr>
          <a:xfrm>
            <a:off x="1676520" y="2789280"/>
            <a:ext cx="5510160" cy="277344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cking Vehicles with DSRC</a:t>
            </a:r>
            <a:endParaRPr b="0" lang="en-US" sz="40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E777-32B7-44B5-A6D4-063E874900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actually attack other vehicles utilizing DSRC communication via vehicle tracking</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s can create their own DSRC receiver by buying a DSRC-capable device or using a software-defined radio (SDR), they could receive information about vehicles within the receiver’s range and use the information to track a vehicle. Some pertinent information that may be useful to an attacker is:</a:t>
            </a:r>
            <a:endParaRPr b="0" lang="en-US" sz="2000" spc="-1" strike="noStrike">
              <a:solidFill>
                <a:srgbClr val="000000"/>
              </a:solidFill>
              <a:latin typeface="Calibri"/>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ngth</a:t>
            </a:r>
            <a:endParaRPr b="0" lang="en-US" sz="1600" spc="-1" strike="noStrike">
              <a:solidFill>
                <a:srgbClr val="000000"/>
              </a:solidFill>
              <a:latin typeface="Calibri"/>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dy width</a:t>
            </a:r>
            <a:endParaRPr b="0" lang="en-US" sz="1600" spc="-1" strike="noStrike">
              <a:solidFill>
                <a:srgbClr val="000000"/>
              </a:solidFill>
              <a:latin typeface="Calibri"/>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dy height</a:t>
            </a:r>
            <a:endParaRPr b="0" lang="en-US" sz="1600" spc="-1" strike="noStrike">
              <a:solidFill>
                <a:srgbClr val="000000"/>
              </a:solidFill>
              <a:latin typeface="Calibri"/>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mper height</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at info should be relatively accurate down to a fraction of an inch since it is set by the manufacturer</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78BA-B89B-4F2C-83EE-FB25CC924D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67" name="Picture 4" descr=""/>
          <p:cNvPicPr/>
          <p:nvPr/>
        </p:nvPicPr>
        <p:blipFill>
          <a:blip r:embed="rId1"/>
          <a:stretch/>
        </p:blipFill>
        <p:spPr>
          <a:xfrm>
            <a:off x="76320" y="101520"/>
            <a:ext cx="2930400" cy="1143000"/>
          </a:xfrm>
          <a:prstGeom prst="rect">
            <a:avLst/>
          </a:prstGeom>
          <a:ln w="0">
            <a:noFill/>
          </a:ln>
        </p:spPr>
      </p:pic>
      <p:sp>
        <p:nvSpPr>
          <p:cNvPr id="168"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169"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6.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tacking Connected/automated vehicles:  Attacking Wireless System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ing Wireless Systems with SDR</a:t>
            </a:r>
            <a:endParaRPr b="0" lang="en-US" sz="32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2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an SDR?</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SDR is a Software-Defined Radio, which usually has an RF front-end with an FPGA or programmable System-on-Chip (SoC) to perform digital functio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range in cost anywhere from $20 -$2000</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influencing factor on cost is the sample rate, which is the number of samples of audio carried per secon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r the sample rate, the more bandwidth that can be simultaneously watched - but also, the greater the cost</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C051-1A7D-4C79-B19A-2A46E0484E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n SDR?</a:t>
            </a:r>
            <a:endParaRPr b="0" lang="en-US" sz="40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A99F-A843-4132-A90B-0F5640E484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Google Shape;290;p15" descr=""/>
          <p:cNvPicPr/>
          <p:nvPr/>
        </p:nvPicPr>
        <p:blipFill>
          <a:blip r:embed="rId1"/>
          <a:stretch/>
        </p:blipFill>
        <p:spPr>
          <a:xfrm>
            <a:off x="3057480" y="2319480"/>
            <a:ext cx="3029040" cy="40370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V2V work?</a:t>
            </a:r>
            <a:endParaRPr b="0" lang="en-US" sz="40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B00D-6FD2-49B9-9D21-DF6430246A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igent Transportation System (ITS) - a dynamic mesh network between vehicles and roadside devices is the driving force behind the function of V2V</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esh connects various nodes, whether they be vehicles or roadside devices, in a network and relays information between them</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can be used for traffic management, systems,  traveler information systems, vehicle control systems, public transportation systems,  rural transportation systems, and commercial vehicle operations systems</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signal modulation?</a:t>
            </a:r>
            <a:endParaRPr b="0" lang="en-US" sz="36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al modulation is the way you represent binary data using a wireless signa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mes into play when you need to be able to tell the difference between a digital 1 and a digital 0.</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common types of digital signal modulation: amplitude-shift keying (ASK) and frequency-shift keying (FS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5458-5F55-43A0-B36B-3CE1B2D13F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plitude-Shift Keying (ASK)</a:t>
            </a:r>
            <a:endParaRPr b="0" lang="en-US" sz="36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SK modulation is used, the bits are designated by the amplitude of the signal.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ransmitted in carrier waves, which is the amplitude of the carrie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re is no wave, the carrier wave is the signal’s resting stat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arrier line is high for a specific duration, registering as a wave, it is a binary 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1E59-E35F-4F91-875A-15F9AAE3D2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plitude-Shift Keying (ASK) (2)</a:t>
            </a:r>
            <a:endParaRPr b="0" lang="en-US" sz="36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arrier line is at a resting state for a shorter duration, it is a binary 0.</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 modulation is also known as On-Off Keying (OOK), and typically uses a start-and-stop-bi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and-stop bits are common ways to separate when a message starts and where it sto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8741-2043-41B3-9088-EDA642F13E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quency-Shift Keying (FSK)</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K always has a carrier signal, but that signal is instead measured by how quickly it changes - its frequenc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SK, a high-frequency signal is a 0, and a low-frequency signal is a 1.</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carrier waves are close, that’s a 1; when they’re spaced far apart, that’s a 0.</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FF57-D087-4E94-928A-6B82F6BA67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quency-Shift Keying (FSK) Graph</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42F2-3928-45AA-A7A5-86617A4252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2" name="Google Shape;321;p20" descr=""/>
          <p:cNvPicPr/>
          <p:nvPr/>
        </p:nvPicPr>
        <p:blipFill>
          <a:blip r:embed="rId1"/>
          <a:stretch/>
        </p:blipFill>
        <p:spPr>
          <a:xfrm>
            <a:off x="1162080" y="2971800"/>
            <a:ext cx="6819840" cy="2514600"/>
          </a:xfrm>
          <a:prstGeom prst="rect">
            <a:avLst/>
          </a:prstGeom>
          <a:ln w="0">
            <a:noFill/>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PMS Hacking (Video)</a:t>
            </a:r>
            <a:endParaRPr b="0" lang="en-US" sz="40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4DC8-4A51-48D2-949B-0629035253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Google Shape;332;p22" descr="Modern cars measure tire pressure and display it on the dashboard. How does this technology work? Can we use it for our projects? And what happens if we try to attack it? Let’s hack TPMS!&#10;&#10;We all know these pressure sensors from our weather stations. They are very accurate, but only good for 1100 hPa, which is 1.1 bar. What if we want to measure higher pressures? Then we need this kind of sensors. And if we're going to use it in a battery-operated device? Maybe wirelessly coupled to our Raspberry? Then we come to something like that: A ready-made tire pressure sensor. It contains all we need: A sensor, a microprocessor, a transmitter, and a battery. And it costs around 10 dollars. We even get a cheap solar powered display. Cool. But how does it work? And how can we hack it? And finally: What does this all have to do with beer?&#10;&#10;Links:&#10;External TPMS: http://s.click.aliexpress.com/e/b4J8UZaC&#10;TPMS sensors: http://s.click.aliexpress.com/e/b8zhfGv2&#10;Activator: http://s.click.aliexpress.com/e/shGcCwy&#10;Activator Amazon: https://amzn.to/2YbGdRz &#10;Activator Europe: https://ebay.to/2UIPGxz&#10;SDR Dongle: http://s.click.aliexpress.com/e/cYWtmrj2&#10;Dongle better version: https://amzn.to/2TooUZH&#10;Original HackRF: https://amzn.to/2CvSN4V&#10;Original HackRF: (Amazon.de): https://amzn.to/2Oi4TmS&#10;&#10;URH: https://github.com/jopohl/urh&#10;https://github.com/merbanan/rtl_433&#10;Frank's SDR Setup Guide: https://sdr-setup-notes.readthedocs.io/en/latest/&#10;&#10;Hopfenerd: https://www.youtube.com/channel/UCO8ML4E3ycp7qO1ydc2UIDw&#10;&#10;Supporting Material and Blog Page: http://www.sensorsiot.org&#10;Github: https://www.github.com/sensorsiot&#10;&#10;My Patreon Page: https://www.patreon.com/AndreasSpiess&#10;Alternative: https://flattr.com/@andreasspiess&#10;My Bitcoin address: 19FSmqbBzb5zsYB1d8Bq4KbxVmezToDNTV&#10;If you want to support the channel, please use the links below to start your shopping. No additional charges for you, but I get a commission (of your purchases the next 24 hours) to buy new stuff for the channel&#10;My Amazon.com shop: https://www.amazon.com/shop/andreasspiess&#10;For Banggood https://bit.ly/2jAQEf4&#10;For AliExpress: http://bit.ly/2B0yTLL&#10;For Amazon.de: http://amzn.to/2r0ZCYI&#10;For Amazon UK: http://amzn.to/2mxBaJf&#10;For ebay.com: http://ebay.to/2DuYXBp&#10;&#10;https://www.facebook.com/profile.php?id=100013947273409&#10;https://twitter.com/spiessa&#10;https://www.instructables.com/member/Andreas%20Spiess/&#10;Please do not try to Email me or invite me on LinkedIn. These communication channels are reserved for my primary job">
            <a:hlinkClick r:id="rId1"/>
          </p:cNvPr>
          <p:cNvPicPr/>
          <p:nvPr/>
        </p:nvPicPr>
        <p:blipFill>
          <a:blip r:embed="rId2"/>
          <a:stretch/>
        </p:blipFill>
        <p:spPr>
          <a:xfrm>
            <a:off x="2232000" y="2666880"/>
            <a:ext cx="4321080" cy="3240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TPMS?</a:t>
            </a: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PMS is a device which sits inside the tire of a car and sends data on tire-pressure readings, wheel rotation, temperature, and also warnings about certain conditions, such as low sensors batteries, to the ECU.</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ta is displayed via gauges, digital displays, or warning ligh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ll of 2000, the US enacted the Transportation Recall Enhancement, Accountability and Documentation (TREAD) Act, which required all new vehicles to have a TPMS system instal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C1F8-4AE4-4616-B8CC-F83A6DC458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TPMS?</a:t>
            </a: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1136-D3E4-4DE7-9BCB-0C0F1510F3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Google Shape;339;p23" descr=""/>
          <p:cNvPicPr/>
          <p:nvPr/>
        </p:nvPicPr>
        <p:blipFill>
          <a:blip r:embed="rId1"/>
          <a:stretch/>
        </p:blipFill>
        <p:spPr>
          <a:xfrm>
            <a:off x="2408400" y="2562120"/>
            <a:ext cx="4327200" cy="3976920"/>
          </a:xfrm>
          <a:prstGeom prst="rect">
            <a:avLst/>
          </a:prstGeom>
          <a:ln w="0">
            <a:noFill/>
          </a:ln>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PMS Signals</a:t>
            </a:r>
            <a:endParaRPr b="0" lang="en-US" sz="40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PMS device sits inside the wheel and transmits wirelessly into the wheel well, which allows its signals to be partially shielded by the body of the vehicle to prevent too much leakage.</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TPMS systems use a radio to communicate with the ECU.</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gnal frequency varies between devices, but it typically runs at 315 MHz or 433 MHz UFF, and uses either ASK or FSK modulatio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TPMS systems use Bluetooth, which has its own pros and con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uetooth has a greater default ran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uetooth protocol can also enable secure communicati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6E82-B5F6-4882-B860-C4B6262F94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PMS Signals</a:t>
            </a:r>
            <a:endParaRPr b="0" lang="en-US" sz="40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18CD-EA0B-4F0B-93AB-65E5A7D43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0" name="Google Shape;346;p24" descr=""/>
          <p:cNvPicPr/>
          <p:nvPr/>
        </p:nvPicPr>
        <p:blipFill>
          <a:blip r:embed="rId1"/>
          <a:stretch/>
        </p:blipFill>
        <p:spPr>
          <a:xfrm>
            <a:off x="2209680" y="2874960"/>
            <a:ext cx="5026320" cy="32274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in Developing Countries (Video)</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91B9-4373-4034-A70B-8ACD32A0B5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S in Developing Countries (Video)</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Google Shape;112;p17" descr="In an exclusive with Geospatial World, Niraj Prakash of Oracle talks about the intelligent public transportation system in developing countries.">
            <a:hlinkClick r:id="rId1"/>
          </p:cNvPr>
          <p:cNvPicPr/>
          <p:nvPr/>
        </p:nvPicPr>
        <p:blipFill>
          <a:blip r:embed="rId2"/>
          <a:stretch/>
        </p:blipFill>
        <p:spPr>
          <a:xfrm>
            <a:off x="2011320" y="2398680"/>
            <a:ext cx="5121360" cy="384336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vesdropping with a Radio Receiver</a:t>
            </a: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MS systems have very weak signals, and as such, don’t leak data too far from the vehicle. To overcome this, you will need to add a low-noise amplifier (LNA) to your radio receiver to increase sniffing rang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will allow you to capture a TPMS signal from the side of the road or from a vehicle traveling alongside the target.</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MS sensors transmit only every 60-90 seconds, and sensors usually aren’t required to send data until the vehicle is traveling at 25 mph or higher. However, many sensors transmit even when the car is idle, and some transmit even when the car is off.</a:t>
            </a:r>
            <a:endParaRPr b="0" lang="en-US" sz="24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4FFE-D52C-4450-80E0-B06A7AE0E3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vesdropping with a Radio Receiver (2)</a:t>
            </a:r>
            <a:endParaRPr b="0" lang="en-US" sz="36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way to know how your target TPMS sensor works is to listen for packets with the vehicle completely off.</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will need to decode the signal - there is a free tool made by Jared Boone, and can be found at (</a:t>
            </a:r>
            <a:r>
              <a:rPr b="0" lang="en-US" sz="2800" spc="-1" strike="noStrike" u="sng">
                <a:solidFill>
                  <a:srgbClr val="0000ff"/>
                </a:solidFill>
                <a:uFillTx/>
                <a:latin typeface="Calibri"/>
                <a:hlinkClick r:id="rId1"/>
              </a:rPr>
              <a:t>https://github.com/jboone/gr-tpms/)</a:t>
            </a:r>
            <a:endParaRPr b="0" lang="en-US" sz="28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09DA-DE0D-4BB4-A2A9-662E763629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PMS Packets</a:t>
            </a:r>
            <a:endParaRPr b="0" lang="en-US" sz="36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DE73-8A10-43E2-94B8-E10EEF461A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20" name="Google Shape;359;p26" descr=""/>
          <p:cNvPicPr/>
          <p:nvPr/>
        </p:nvPicPr>
        <p:blipFill>
          <a:blip r:embed="rId1"/>
          <a:stretch/>
        </p:blipFill>
        <p:spPr>
          <a:xfrm>
            <a:off x="722160" y="3429000"/>
            <a:ext cx="7699680" cy="120960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PMS Packets</a:t>
            </a:r>
            <a:endParaRPr b="0" lang="en-US" sz="36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nsorID is a 28- or 32-bit number unique to each sensor and registered with the ECU.</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r goal is to only fingerprint a target for tracking or triggering an event, then the SensorID field is probably the only part of the packet you’ll want.</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sure and Temperature fields contain readings from the TPMS device.</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lags field can contain extra metadata, such as warnings about a low batter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determining packet encoding, check whether Manchester encoding was used. Manchester encoding is commonly used in near-field devices, like TPMS system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D497-42E2-42C1-A3D5-7306ADB8A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ating a Signal</a:t>
            </a:r>
            <a:endParaRPr b="0" lang="en-US" sz="36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MS sensors typically transmit around once per minute; rather than wait 60 seconds for a packet, an attacker can send a 125 kHz activation signal to the TPMS device with an SDR.</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ception of the response needs to be timed carefully since there is a delay between when the activation signal is sent and when the response is transmitt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ation signal is designed primarily for TPMS test equipment, so getting it working for a moving vehicle might be difficult. This will be easier if the target vehicle sends packets when it’s stationary or off.</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MS sensors don’t use input validation, so the ECU will check to make sure it recognizes only the SignalID.</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D46E-B96C-4B90-A536-49C6B41A61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nt Triggering</a:t>
            </a:r>
            <a:endParaRPr b="0" lang="en-US" sz="36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ides simply tracking a vehicle, TPMS can also be used to trigger an event, such as opening a garage door or something malicious such as dealing with explosive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you have four (4) tires, the attacker would have reasonable assurance that they have the correct vehicle if they receive a signal for each tir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ll four tires would allow you to create a basic, but accurate sensor fingerprint for a target vehicl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1537-BD34-472C-AF4C-9E025DAEFD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nding Forged Packets</a:t>
            </a:r>
            <a:endParaRPr b="0" lang="en-US" sz="36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you have access to the TPMS signal, you can actually send your own forged packets by setting up the GNU Radio as a transmitter instead of a receiver.</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forging packets, you can spoof dangerous PSI and temperature readings and also cause other engine lights to trigger.</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D4C4-6B09-433D-9942-C24D39B6B7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nding Forged Packets</a:t>
            </a:r>
            <a:endParaRPr b="0" lang="en-US" sz="36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possible to drain a vehicle’s battery by flooding the sensor with activation requests as wel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Shutting down the ECU while a vehicle is traveling at a high speed could be extremely dangerous, so be sure to take necessary precaution when playing with TPM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0358-7847-4889-A60B-05030728F7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Fob Basics</a:t>
            </a:r>
            <a:endParaRPr b="0" lang="en-US" sz="36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82, radio-frequency identification (RFID) was first introduced into remote keyless entry systems via the Renault Fuego. Earlier systems used infrared light source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s systems use a key fob to send an RFID signal to a vehicle to remotely unlock doors or even start a vehicl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ey fob uses a transponder operating at 125 kHz to communicate with an immobilizer in the vehicle, preventing the vehicle from starting unless it receives the correct code or token.</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F189-4477-46B7-94B0-0D638C2A78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Fob Basics (2)</a:t>
            </a:r>
            <a:endParaRPr b="0" lang="en-US" sz="36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1E3D-6CC7-42F2-A537-5BD187410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42" name="Google Shape;398;p32" descr=""/>
          <p:cNvPicPr/>
          <p:nvPr/>
        </p:nvPicPr>
        <p:blipFill>
          <a:blip r:embed="rId1"/>
          <a:stretch/>
        </p:blipFill>
        <p:spPr>
          <a:xfrm>
            <a:off x="2057400" y="2513160"/>
            <a:ext cx="5334120" cy="3819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mise of V2V</a:t>
            </a:r>
            <a:endParaRPr b="0" lang="en-US" sz="40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3584-35E4-47D9-B0E7-F020665AD7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February 2014, the US Department of Transportation announced a desire to implement a mandate which would require V2V-based communication be implemented in all new light vehicles</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2V is the first automotive protocol that considers cybersecurity threats at the design stage as opposed to after the fa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2V implementation details and interoperation between countries is still in development; therefore, many processes and security measured are still undecided and undetermined, but who knows what the future will hol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Fob Hacks</a:t>
            </a:r>
            <a:endParaRPr b="0" lang="en-US" sz="36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ultiple ways to hack key fob systems, includ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mming the key fob sign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lling response codes from mem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ute-forcing a key cod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ward-Prediction Attac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ctionary Attac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mping the Transponder Mem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ersing the CAN Bu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Programmers and Transponder Duplication Machine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129-5DFB-4E3F-A180-0DC25DEB7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mming the Key Fob Signal</a:t>
            </a:r>
            <a:endParaRPr b="0" lang="en-US" sz="36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jam the key fob signal by passing garbage data within the RFID receiver’s passband, which is the area the receiver is listening to for a valid signa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idth of the passband window includes some extra space where you can add noise to prevent the receiver from changing the rolling code, while still allowing the attacker to view the correct key seque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DBF0-C528-460B-8BF5-3A798A218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mming the Key Fob Signal</a:t>
            </a:r>
            <a:endParaRPr b="0" lang="en-US" sz="36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5715-5C83-4AC9-9818-35B40DFB59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52" name="Google Shape;412;p34" descr=""/>
          <p:cNvPicPr/>
          <p:nvPr/>
        </p:nvPicPr>
        <p:blipFill>
          <a:blip r:embed="rId1"/>
          <a:stretch/>
        </p:blipFill>
        <p:spPr>
          <a:xfrm>
            <a:off x="2192400" y="2133720"/>
            <a:ext cx="4759200" cy="375588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mming the Key Fob Signal (2)</a:t>
            </a:r>
            <a:endParaRPr b="0" lang="en-US" sz="36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olding onto the valid unlock request in memory, the attacker waits for another request to be sent, and records that request too.</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tacker can replay the first valid packet to the vehicle, which causes the car to unlock or lock (depending on signal sent by key fob).</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ar owner leaves the vehicle, the attacker has the last valid key stored and can replay it to either open the vehicle doors, or even start the vehic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A1B8-8003-4610-83A1-1062E4D2A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Jamming Key Fob Signal: Samy Kamkar at DEFCON 23 Demonstration (Video)</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CB2B-49A5-42F4-BC01-B156384F2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59" name="Google Shape;424;p36" descr="Gary Numan said it best. Cars. They’re everywhere. You can hardly drive down a busy freeway without seeing one. But what about their security?&#10;&#10;In this talk I’ll reveal new research and real attacks in the area of wirelessly controlled gates, garages, and cars. Many cars are now controlled from mobile devices over GSM, while even more can be unlocked and ignitions started from wireless keyfobs over RF. All of these are subject to attack with low-cost tools (such as RTL-SDR, GNU Radio, HackRF, Arduino, and even a Mattel toy).&#10;&#10;We will investigate how these features work, and of course, how they can be exploited. I will be releasing new tools and vulnerabilities in this area, such as key-space reduction attacks on fixed-codes, advanced &quot;code grabbers&quot; using RF attacks on encrypted and rolling codes, and how to protect yourself against such issues.&#10;&#10;By the end of this talk you’ll understand not only how vehicles and the wirelessly-controlled physical access protecting them can be exploited, but also learn about various tools for car and RF research, as well as how to use and build your own inexpensive devices for such investigation.&#10;&#10;Ladies and gentlemen, start your engines. And other people’s engines.&#10;&#10;Samy Kamkar is a security researcher, best known for creating The MySpace Worm, one of the fastest spreading viruses of all time. He (attempts to) illustrate terrifying vulnerabilities with playfulness, and his exploits have been branded:&#10;&#10;“Controversial”, -The Wall Street Journal&#10;“Horrific”, -The New York Times&#10;“Now I want to fill my USB ports up with cement”, -Gizmodo&#10;&#10;He’s demonstrated usurping typical hardware for surreptitious means such as with KeySweeper, turning a standard USB wall charger into a covert, wireless keyboard sniffer, and SkyJack, a custom drone which takes over any other nearby drones allowing them to be controlled as a massive zombie swarm. He’s exposed issues around privacy, such as by developing the Evercookie which appeared in a top-secret NSA document revealed by Edward Snowden, exemplifying techniques used by governments and corporations for clandestine web tracking, and has discovered and released research around the illicit GPS and location tracking performed by Apple, Google and Microsoft mobile devices. He continues to produce new research and tools for the public as open source and open hardware.&#10;&#10;Twitter: @samykamkar">
            <a:hlinkClick r:id="rId1"/>
          </p:cNvPr>
          <p:cNvPicPr/>
          <p:nvPr/>
        </p:nvPicPr>
        <p:blipFill>
          <a:blip r:embed="rId2"/>
          <a:stretch/>
        </p:blipFill>
        <p:spPr>
          <a:xfrm>
            <a:off x="2411280" y="3000240"/>
            <a:ext cx="4321440" cy="324036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ling Response Codes from Memory</a:t>
            </a:r>
            <a:endParaRPr b="0" lang="en-US" sz="36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possible to find the response code still in immobilizer’s memory, even a few minutes after the key fob has stopped sending signal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vides a window of opportunity to start the car, not by capturing signals live from a key fob, but rather by pulling the signal from the immobilizer’s memor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rea of memory can be identified to contain this info, then the attacker needs to either quickly get access to the vehicle, or have a device on the vehicle that can respond to record this inf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E8A2-30E3-4F74-BF03-35411C463C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ling Response Codes from Memory (2)</a:t>
            </a:r>
            <a:endParaRPr b="0" lang="en-US" sz="36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DC73-E90A-4318-9CF7-115D7AB8B5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66" name="Google Shape;431;p37" descr=""/>
          <p:cNvPicPr/>
          <p:nvPr/>
        </p:nvPicPr>
        <p:blipFill>
          <a:blip r:embed="rId1"/>
          <a:stretch/>
        </p:blipFill>
        <p:spPr>
          <a:xfrm>
            <a:off x="2400480" y="2666880"/>
            <a:ext cx="4343400" cy="3257640"/>
          </a:xfrm>
          <a:prstGeom prst="rect">
            <a:avLst/>
          </a:prstGeom>
          <a:ln w="0">
            <a:noFill/>
          </a:ln>
        </p:spPr>
      </p:pic>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rute-Forcing a Key Code </a:t>
            </a:r>
            <a:endParaRPr b="0" lang="en-US" sz="36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sponse codes can be accessed by brute force, though the feasibility of a brute-force attack depends on key code length and algorithm.</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for a brute-force attack to succeed, the attacker needs to build custom software to brute-force the key using an SDR, a custom hardware component, or a combination of the tw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EBB1-9CDA-46C1-B7E3-9BC4E40544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ute-Forcing a Key Code - Samy Kamkar Demonstration (Video)</a:t>
            </a:r>
            <a:endParaRPr b="0" lang="en-US" sz="28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AFF2-87DC-4E4A-A6C3-71CA7B02A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3" name="Picture 1" descr=""/>
          <p:cNvPicPr/>
          <p:nvPr/>
        </p:nvPicPr>
        <p:blipFill>
          <a:blip r:embed="rId1"/>
          <a:stretch/>
        </p:blipFill>
        <p:spPr>
          <a:xfrm>
            <a:off x="2413080" y="2362320"/>
            <a:ext cx="4316400" cy="3243240"/>
          </a:xfrm>
          <a:prstGeom prst="rect">
            <a:avLst/>
          </a:prstGeom>
          <a:ln w="0">
            <a:noFill/>
          </a:ln>
        </p:spPr>
      </p:pic>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ward-Prediction Attacks</a:t>
            </a:r>
            <a:endParaRPr b="0" lang="en-US" sz="36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ttacker is able to observe challenge-response exchanges occurring when the key fob sends a signal to the vehicle, and the vehicles transponder responds, the attacker can perform a forward-prediction attack.</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attack, the attacker observes multiple challenges, and from these, predicts what the next challenge request will b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transponder’s psuedo-random number generator (PRNG) is weak, the attack may succ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0360-42C6-4B9B-8753-2C53721AC6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 of V2V Communication</a:t>
            </a:r>
            <a:endParaRPr b="0" lang="en-US" sz="40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FEA6-D52E-4847-A1BD-15824AAFB2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V2V communication, vehicles and devices interact in one of three way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ular Network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icated Short-Range Communication (DSRC)</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brid Method (combination of Cellular &amp; DSRC)</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ctionary Attacks</a:t>
            </a:r>
            <a:endParaRPr b="0" lang="en-US" sz="36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ttacker can record numerous valid challenge-response exchanges between the key fob and transponder, they can store them in a dictionary and then use the collected key pairs to repeatedly request challenges from the transponder until one challenge matches a response in the dictionar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ttack is possible only when the keyless entry system doesn’ts use sender verification to make sure responses are vali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tack would also need to be able to continuously request authentication from transponder.</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E846-410C-4918-BF4E-FB9613C51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ctionary Attacks (2)</a:t>
            </a:r>
            <a:endParaRPr b="0" lang="en-US" sz="36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erform the dictionary attack, the attacker would need to build a system to trigger the key fob request and record the exchange with an SDR.</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duino wired to the button press of the researcher’s valid key fob could also suffic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uming the authentication takes place over CAN, it is also possible to grab the key fob ID over ultra-high frequency and attempt to gather the key stream by replaying and recording the communication over the CAN b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8BBA-5487-4FF5-8891-1ECF09A6E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Fob Attack: Getting into a Tesla Model S (Video)</a:t>
            </a:r>
            <a:endParaRPr b="0" lang="en-US" sz="28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6DA9-DAF1-441D-93AD-79BA572416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86" name="Google Shape;468;p43" descr="This Model S was stolen in Epping, Essex. The key was at the back of the house, but PIN to drive was off and passive entry was enabled.&#10;&#10;EDIT: According to Tesla, even if the thieves disabled Remote Access, Tesla could still turn it back on and/or track the vehicle. The fact that they are unable to means either the thieves removed the physical SIM (apparently easy to get to) or they used a battery powered device to block Internet access in the vehicle.">
            <a:hlinkClick r:id="rId1"/>
          </p:cNvPr>
          <p:cNvPicPr/>
          <p:nvPr/>
        </p:nvPicPr>
        <p:blipFill>
          <a:blip r:embed="rId2"/>
          <a:stretch/>
        </p:blipFill>
        <p:spPr>
          <a:xfrm>
            <a:off x="2411280" y="2241720"/>
            <a:ext cx="4321440" cy="3241440"/>
          </a:xfrm>
          <a:prstGeom prst="rect">
            <a:avLst/>
          </a:prstGeom>
          <a:ln w="0">
            <a:noFill/>
          </a:ln>
        </p:spPr>
      </p:pic>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acking a PKES System</a:t>
            </a:r>
            <a:endParaRPr b="0" lang="en-US" sz="36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ve Keyless Entry and Start (PKES) systems are very similar to traditional transponder immobilizer systems, except that the key fob can remain in the owner’s pocket and no button needs to be press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KES system is implemented, antennae in the vehicle read RFID signals from the key fob when it’s in rang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KES key fobs use a low-frequency (LF) RFID chip and an ultra-high-frequency (UHF) signal to unlock or start the vehicl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0480-A931-414F-8325-04492B0E7E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acking a PKES System</a:t>
            </a:r>
            <a:endParaRPr b="0" lang="en-US" sz="36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EE0D-F082-46A8-909B-7F27957A97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93" name="Google Shape;475;p44" descr=""/>
          <p:cNvPicPr/>
          <p:nvPr/>
        </p:nvPicPr>
        <p:blipFill>
          <a:blip r:embed="rId1"/>
          <a:stretch/>
        </p:blipFill>
        <p:spPr>
          <a:xfrm>
            <a:off x="1836720" y="2428920"/>
            <a:ext cx="5470560" cy="3811680"/>
          </a:xfrm>
          <a:prstGeom prst="rect">
            <a:avLst/>
          </a:prstGeom>
          <a:ln w="0">
            <a:noFill/>
          </a:ln>
        </p:spPr>
      </p:pic>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KES Systems</a:t>
            </a:r>
            <a:endParaRPr b="0" lang="en-US" sz="36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ehicle ignores UHF signals from the key fob if the LF RFID isn’t seen (meaning the key isn’t nearb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FID on the key fob receives a crypto challenge from the vehicle, and the microcontroller on the key fob solves this challenge and responds over the UHF signal.</a:t>
            </a:r>
            <a:endParaRPr b="0" lang="en-US" sz="28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6A97-C00D-417F-B1B5-F20ECE74A7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KES Systems (2)</a:t>
            </a:r>
            <a:endParaRPr b="0" lang="en-US" sz="36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vehicles use RFID sensors inside the vehicle to triangulate the location of the key fob to ensure the key fob is inside the vehicl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battery dies in a PKES key fob, there’s typically a hidden physical key in the fob that will unlock the door, though the immobilizer will still use the RFID to verify the key is present before starting the vehicle.</a:t>
            </a:r>
            <a:endParaRPr b="0" lang="en-US" sz="28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8AD5-C295-4BF2-B1AD-B3855602FD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KES Attack (Video)</a:t>
            </a:r>
            <a:endParaRPr b="0" lang="en-US" sz="36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E853-596F-4BC4-8E7A-554BAB6D9F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03" name="Google Shape;494;p47" descr="This video demonstrates widely used Passive Keyless Entry System is vulnerable to relay attack !">
            <a:hlinkClick r:id="rId1"/>
          </p:cNvPr>
          <p:cNvPicPr/>
          <p:nvPr/>
        </p:nvPicPr>
        <p:blipFill>
          <a:blip r:embed="rId2"/>
          <a:stretch/>
        </p:blipFill>
        <p:spPr>
          <a:xfrm>
            <a:off x="2017800" y="1947960"/>
            <a:ext cx="5108400" cy="3830400"/>
          </a:xfrm>
          <a:prstGeom prst="rect">
            <a:avLst/>
          </a:prstGeom>
          <a:ln w="0">
            <a:noFill/>
          </a:ln>
        </p:spPr>
      </p:pic>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ay Attacks in PKES Systems</a:t>
            </a:r>
            <a:endParaRPr b="0" lang="en-US" sz="36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3185-AAFD-4321-840D-1733BC659B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6" name="Content Placeholder 2"/>
          <p:cNvSpPr/>
          <p:nvPr/>
        </p:nvSpPr>
        <p:spPr>
          <a:xfrm>
            <a:off x="457200" y="213372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a relay attack, an attacker places a device next to the car and another next to the owner or holder of the key fob (target).</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device relays the signals between the target’s key fob and the vehicle, enabling the attacker to start the car.</a:t>
            </a:r>
            <a:br>
              <a:rPr sz="2400"/>
            </a:b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ay Attacks in PKES Systems</a:t>
            </a:r>
            <a:endParaRPr b="0" lang="en-US" sz="3600" spc="-1" strike="noStrike">
              <a:solidFill>
                <a:srgbClr val="000000"/>
              </a:solidFill>
              <a:latin typeface="Calibri"/>
            </a:endParaRPr>
          </a:p>
        </p:txBody>
      </p:sp>
      <p:sp>
        <p:nvSpPr>
          <p:cNvPr id="3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F0C7-1525-44F7-808C-AAA9FBACC7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9" name="Content Placeholder 2"/>
          <p:cNvSpPr/>
          <p:nvPr/>
        </p:nvSpPr>
        <p:spPr>
          <a:xfrm>
            <a:off x="457200" y="21337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relay tunnel can be set up to communicate over any channel that’s fast and has a larger range than the normal key fob.</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ckets would go from the target’s key fob into the device to be transmitted over cellular and replayed by the laptop.</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 of V2V Communication (2)</a:t>
            </a:r>
            <a:endParaRPr b="0" lang="en-US" sz="40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A3D9-6236-47FF-8D31-9B8E5894E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4" name="Google Shape;125;p19" descr=""/>
          <p:cNvPicPr/>
          <p:nvPr/>
        </p:nvPicPr>
        <p:blipFill>
          <a:blip r:embed="rId1"/>
          <a:stretch/>
        </p:blipFill>
        <p:spPr>
          <a:xfrm>
            <a:off x="1459080" y="2682720"/>
            <a:ext cx="6225840" cy="3443400"/>
          </a:xfrm>
          <a:prstGeom prst="rect">
            <a:avLst/>
          </a:prstGeom>
          <a:ln w="0">
            <a:noFill/>
          </a:ln>
        </p:spPr>
      </p:pic>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plified Relay Attacks in PKES Systems</a:t>
            </a:r>
            <a:endParaRPr b="0" lang="en-US" sz="36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1B06-662B-4F01-898E-44C913FF7C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2" name="Content Placeholder 2"/>
          <p:cNvSpPr/>
          <p:nvPr/>
        </p:nvSpPr>
        <p:spPr>
          <a:xfrm>
            <a:off x="457200" y="21337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 amplified relay attack uses the same basic principles as a relay attack but with only a single amplifier.</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ttacker stands by the target vehicle and amplifies the signal, and if the target is nearby with the key fob, the vehicle will unlock.</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an unsophisticated attack that simply increases the range of vehicle’s sensors.</a:t>
            </a:r>
            <a:endParaRPr b="0" lang="en-US" sz="2400" spc="-1" strike="noStrike">
              <a:solidFill>
                <a:srgbClr val="000000"/>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mobilizer Cryptography</a:t>
            </a:r>
            <a:endParaRPr b="0" lang="en-US" sz="36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032C-34A9-47EF-9B43-6522195ED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mmobilizer systems are usually created using a combination of cheap components; as such, manufacturers need to be creative with things like cryptography. Cryptography introduces numerous weaknesses into the system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ome immobilizer vendors make the common mistake of creating their own crypto and hiding it behind some trade secret clause that’s designed to protect it instead of validating it with public structin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is known as security through obscurity</a:t>
            </a:r>
            <a:endParaRPr b="0" lang="en-US" sz="2400" spc="-1" strike="noStrike">
              <a:solidFill>
                <a:srgbClr val="000000"/>
              </a:solidFill>
              <a:latin typeface="Arial"/>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mobilizer Cryptography (2)</a:t>
            </a:r>
            <a:endParaRPr b="0" lang="en-US" sz="36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EE04-7672-49F3-B62D-4586BC1337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immobilizer-key exchange uses a challenge-response system and PRNGs. The PRNG is equally important as the crypto algorithm, as a poor PRNG can lead to predictable results regardless of how good your crypto algorithm i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mobilizer Cryptography (3)</a:t>
            </a:r>
            <a:endParaRPr b="0" lang="en-US" sz="3600" spc="-1" strike="noStrike">
              <a:solidFill>
                <a:srgbClr val="000000"/>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B46A-932C-4EF7-9D34-2C58D3074E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typical key exchange implementation follows this general sequenc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immobilizer sends a challenge to the key using a PR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key encrypts the challenge using a PRNG and returns it to the immobiliz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immobilizer sends a second random number challen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key encrypts both challenges and returns them to the immobilizer.</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3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fferent Cryptographic Systems</a:t>
            </a:r>
            <a:endParaRPr b="0" lang="en-US" sz="3600" spc="-1" strike="noStrike">
              <a:solidFill>
                <a:srgbClr val="000000"/>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5764-656D-4CE1-98D1-A87378F718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M Micro Megam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M423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tag 1</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tag 2</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tag A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ST-40</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ST-80</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eloq</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n Source Immobilizer Protocol Stack</a:t>
            </a:r>
            <a:endParaRPr b="0" lang="en-US" sz="2400" spc="-1" strike="noStrike">
              <a:solidFill>
                <a:srgbClr val="000000"/>
              </a:solidFill>
              <a:latin typeface="Arial"/>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 Micro Megamos</a:t>
            </a:r>
            <a:endParaRPr b="0" lang="en-US" sz="36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A8C6-72A0-4071-A5B9-09DE6CB99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199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Volkswagen/Tha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96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Porsche, Audi, Bentley, Lamborghini</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Broken, but attack methods have been censored by lawsuit</a:t>
            </a:r>
            <a:endParaRPr b="0" lang="en-US" sz="2400" spc="-1" strike="noStrike">
              <a:solidFill>
                <a:srgbClr val="000000"/>
              </a:solidFill>
              <a:latin typeface="Arial"/>
            </a:endParaRPr>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 Micro Megamos</a:t>
            </a:r>
            <a:endParaRPr b="0" lang="en-US" sz="3600" spc="-1" strike="noStrike">
              <a:solidFill>
                <a:srgbClr val="000000"/>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FA22-BD12-4D44-8546-72D6F049A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Google Shape;533;p53" descr=""/>
          <p:cNvPicPr/>
          <p:nvPr/>
        </p:nvPicPr>
        <p:blipFill>
          <a:blip r:embed="rId1"/>
          <a:stretch/>
        </p:blipFill>
        <p:spPr>
          <a:xfrm>
            <a:off x="1557360" y="3086280"/>
            <a:ext cx="6029280" cy="2133360"/>
          </a:xfrm>
          <a:prstGeom prst="rect">
            <a:avLst/>
          </a:prstGeom>
          <a:ln w="0">
            <a:noFill/>
          </a:ln>
        </p:spPr>
      </p:pic>
      <p:pic>
        <p:nvPicPr>
          <p:cNvPr id="333" name="" descr=""/>
          <p:cNvPicPr/>
          <p:nvPr/>
        </p:nvPicPr>
        <p:blipFill>
          <a:blip r:embed="rId2"/>
          <a:stretch/>
        </p:blipFill>
        <p:spPr>
          <a:xfrm>
            <a:off x="457200" y="1600200"/>
            <a:ext cx="8229600" cy="452592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4237</a:t>
            </a:r>
            <a:endParaRPr b="0" lang="en-US" sz="3600" spc="-1" strike="noStrike">
              <a:solidFill>
                <a:srgbClr val="000000"/>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BEA8-CDD6-4B0B-8345-24EF580D01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6"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2006</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EM Microelectron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128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No known published cracks</a:t>
            </a:r>
            <a:endParaRPr b="0" lang="en-US" sz="2400" spc="-1" strike="noStrike">
              <a:solidFill>
                <a:srgbClr val="000000"/>
              </a:solidFill>
              <a:latin typeface="Arial"/>
            </a:endParaRPr>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tag 1</a:t>
            </a:r>
            <a:endParaRPr b="0" lang="en-US" sz="3600" spc="-1" strike="noStrike">
              <a:solidFill>
                <a:srgbClr val="000000"/>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A781-BE46-4485-A9C3-AECBA01912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Philips/NXP</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32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Broken</a:t>
            </a:r>
            <a:endParaRPr b="0" lang="en-US" sz="2400" spc="-1" strike="noStrike">
              <a:solidFill>
                <a:srgbClr val="000000"/>
              </a:solidFill>
              <a:latin typeface="Arial"/>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tag 2</a:t>
            </a:r>
            <a:endParaRPr b="0" lang="en-US" sz="3600" spc="-1" strike="noStrike">
              <a:solidFill>
                <a:srgbClr val="000000"/>
              </a:solidFill>
              <a:latin typeface="Calibri"/>
            </a:endParaRPr>
          </a:p>
        </p:txBody>
      </p:sp>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377F-F730-4138-B379-D67C2CBC9C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199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Philips/NXP</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48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Audi, Bentley, BMW, Chrysler, Land Rover, Mercedes, Porsche, Saab, Volkswagen, and m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Broken</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ular Networks with V2V Communication</a:t>
            </a:r>
            <a:endParaRPr b="0" lang="en-US" sz="40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BA42-F532-486A-9C2D-12D047914C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not require roadside scanner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cellular networks already have a security system in place; therefore, V2V communication can rely on the existing security methods already in place</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ecurity is at the wireless level (GSM), not the protocol leve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vice is using IP traffic, then standard IP security, such as encryption still needs to be appli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tag AES</a:t>
            </a:r>
            <a:endParaRPr b="0" lang="en-US" sz="36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0611-A86A-4227-9AE2-4B0CA03A2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200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Philips/NXP</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128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A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Audi, Bentley, BMW, Porsch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No known published cracks</a:t>
            </a:r>
            <a:endParaRPr b="0" lang="en-US" sz="2400" spc="-1" strike="noStrike">
              <a:solidFill>
                <a:srgbClr val="000000"/>
              </a:solidFill>
              <a:latin typeface="Arial"/>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ST-40</a:t>
            </a:r>
            <a:endParaRPr b="0" lang="en-US" sz="3600" spc="-1" strike="noStrike">
              <a:solidFill>
                <a:srgbClr val="000000"/>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578F-AD52-4D39-BAC5-80178F41B0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2000</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Texas Instrum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40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 (unbalanced Feistel ciph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Ford, Lincoln, Mercury, Nissan, Toyo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Broken</a:t>
            </a:r>
            <a:endParaRPr b="0" lang="en-US" sz="2400" spc="-1" strike="noStrike">
              <a:solidFill>
                <a:srgbClr val="000000"/>
              </a:solidFill>
              <a:latin typeface="Arial"/>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ST-80</a:t>
            </a:r>
            <a:endParaRPr b="0" lang="en-US" sz="36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3A7D-F490-4E2E-ADCB-7660FD3D30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2008</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Texas Instrum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80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 (unbalanced Feistel ciph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No known published cracks</a:t>
            </a:r>
            <a:endParaRPr b="0" lang="en-US" sz="2400" spc="-1" strike="noStrike">
              <a:solidFill>
                <a:srgbClr val="000000"/>
              </a:solidFill>
              <a:latin typeface="Arial"/>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eloq</a:t>
            </a:r>
            <a:endParaRPr b="0" lang="en-US" sz="3600" spc="-1" strike="noStrike">
              <a:solidFill>
                <a:srgbClr val="000000"/>
              </a:solidFill>
              <a:latin typeface="Calibri"/>
            </a:endParaRPr>
          </a:p>
        </p:txBody>
      </p:sp>
      <p:sp>
        <p:nvSpPr>
          <p:cNvPr id="3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6E1C-FF31-49F7-8933-3C990B723E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4"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Mid-1980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Nanoteq</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64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Proprietary (NLFS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ehicles: Chrysler, Daewoo, Fiat, General Motors, Honda, Jaguar, Toyota, Volkswagen, Volv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Broken</a:t>
            </a:r>
            <a:endParaRPr b="0" lang="en-US" sz="2400" spc="-1" strike="noStrike">
              <a:solidFill>
                <a:srgbClr val="000000"/>
              </a:solidFill>
              <a:latin typeface="Arial"/>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eloq (2)</a:t>
            </a:r>
            <a:endParaRPr b="0" lang="en-US" sz="36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4479-AB3B-4952-8143-A6B016D43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7"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Google Shape;577;p60" descr=""/>
          <p:cNvPicPr/>
          <p:nvPr/>
        </p:nvPicPr>
        <p:blipFill>
          <a:blip r:embed="rId1"/>
          <a:stretch/>
        </p:blipFill>
        <p:spPr>
          <a:xfrm>
            <a:off x="307800" y="2225520"/>
            <a:ext cx="8379000" cy="4329360"/>
          </a:xfrm>
          <a:prstGeom prst="rect">
            <a:avLst/>
          </a:prstGeom>
          <a:ln w="0">
            <a:noFill/>
          </a:ln>
        </p:spPr>
      </p:pic>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Source Immobilizer Protocol Stack</a:t>
            </a:r>
            <a:endParaRPr b="0" lang="en-US" sz="3600" spc="-1" strike="noStrike">
              <a:solidFill>
                <a:srgbClr val="000000"/>
              </a:solidFill>
              <a:latin typeface="Calibri"/>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5285-4A8C-456E-ADB7-3E5BD72EA4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ed: 2011</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ufacturer: Atme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y Length: 128 b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orithm: A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ack Status: No known published cracks</a:t>
            </a:r>
            <a:endParaRPr b="0" lang="en-US" sz="2400" spc="-1" strike="noStrike">
              <a:solidFill>
                <a:srgbClr val="000000"/>
              </a:solidFill>
              <a:latin typeface="Arial"/>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sical Attacks on Immobilizer System</a:t>
            </a:r>
            <a:endParaRPr b="0" lang="en-US" sz="3600" spc="-1" strike="noStrike">
              <a:solidFill>
                <a:srgbClr val="000000"/>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74B-CF37-48CC-9276-47F08F84A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4"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three different classifications of physical attacks on the immobilizer system:</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tacking Immobilizer Chi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rute-Forcing Keypad Entr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twiring</a:t>
            </a:r>
            <a:endParaRPr b="0" lang="en-US" sz="2000" spc="-1" strike="noStrike">
              <a:solidFill>
                <a:srgbClr val="000000"/>
              </a:solidFill>
              <a:latin typeface="Arial"/>
            </a:endParaRPr>
          </a:p>
        </p:txBody>
      </p:sp>
      <p:pic>
        <p:nvPicPr>
          <p:cNvPr id="365" name="Google Shape;590;p62" descr=""/>
          <p:cNvPicPr/>
          <p:nvPr/>
        </p:nvPicPr>
        <p:blipFill>
          <a:blip r:embed="rId1"/>
          <a:stretch/>
        </p:blipFill>
        <p:spPr>
          <a:xfrm>
            <a:off x="5153040" y="4302000"/>
            <a:ext cx="2800440" cy="1629000"/>
          </a:xfrm>
          <a:prstGeom prst="rect">
            <a:avLst/>
          </a:prstGeom>
          <a:ln w="0">
            <a:noFill/>
          </a:ln>
        </p:spPr>
      </p:pic>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acking Immobilizer Chips</a:t>
            </a:r>
            <a:endParaRPr b="0" lang="en-US" sz="36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D06F-CA8A-46DF-BD12-5D569A4F7F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s actually possible to completely remove the immobilizer chip (typically from the vehicle’s ECU) and still operate a vehicle.</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order to physically remove immobilizer-based security, you can purchase or build an immobilizer bypass chip and then solder it where the original immobilizer chip was to keep the rest of the ECU happy.</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se chips, referred to immo emulators, typically cost $20-$30.</a:t>
            </a:r>
            <a:endParaRPr b="0" lang="en-US" sz="2000" spc="-1" strike="noStrike">
              <a:solidFill>
                <a:srgbClr val="000000"/>
              </a:solidFill>
              <a:latin typeface="Arial"/>
            </a:endParaRPr>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acking Immobilizer Chips</a:t>
            </a:r>
            <a:endParaRPr b="0" lang="en-US" sz="36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3A17-D75D-437C-8E23-1E44F48E09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Google Shape;598;p63" descr=""/>
          <p:cNvPicPr/>
          <p:nvPr/>
        </p:nvPicPr>
        <p:blipFill>
          <a:blip r:embed="rId1"/>
          <a:stretch/>
        </p:blipFill>
        <p:spPr>
          <a:xfrm>
            <a:off x="2927520" y="2743200"/>
            <a:ext cx="3241440" cy="3240000"/>
          </a:xfrm>
          <a:prstGeom prst="rect">
            <a:avLst/>
          </a:prstGeom>
          <a:ln w="0">
            <a:noFill/>
          </a:ln>
        </p:spPr>
      </p:pic>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rute-Forcing Keypad Entry</a:t>
            </a:r>
            <a:endParaRPr b="0" lang="en-US" sz="36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9BD7-B2E5-4EFA-B3D1-73B5B79C70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method for brute-forcing a keypad lock on a vehicle was discovered by Peter Boothe, available at (http://www.nostarch.com/carhacking/)</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the vehicle has keypad under the door handle with buttons labeled “1/2, 3/4, 5/6, 7/8, 9/0”, you can enter a long key sequence in about 20 minutes. (Found on pp. 228-230 of textbook).</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works because the key codes roll into one another; the vehicle doesn’t know where one code ends and the other starts.</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5T18:56:04Z</dcterms:modified>
  <cp:revision>1130</cp:revision>
  <dc:subject/>
  <dc:title>Computer Networks</dc:title>
</cp:coreProperties>
</file>