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17.jpeg" ContentType="image/jpeg"/>
  <Override PartName="/ppt/media/image23.wmf" ContentType="image/x-wmf"/>
  <Override PartName="/ppt/media/image6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dt" idx="55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Img"/>
          </p:nvPr>
        </p:nvSpPr>
        <p:spPr>
          <a:xfrm>
            <a:off x="1136520" y="696600"/>
            <a:ext cx="4584960" cy="343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ftr" idx="56"/>
          </p:nvPr>
        </p:nvSpPr>
        <p:spPr>
          <a:xfrm>
            <a:off x="-36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 type="sldNum" idx="57"/>
          </p:nvPr>
        </p:nvSpPr>
        <p:spPr>
          <a:xfrm>
            <a:off x="388584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88E4-F722-4517-BBFF-8B5F86105E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lide Number Placeholder 3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55E46-F057-4877-80E7-68C997FD29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EF5E-3801-42E6-9AB7-C406AD6795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2453-AC06-49C8-A082-839BAF38F5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5586-66D6-496B-A468-D7A6154485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92BC-EFBD-40B8-BABE-2E2F936FFBD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06A3-578F-4899-9A05-48E5FF628B4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9F38-685C-46A4-A86D-AAABFFEB26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0CE3D-0323-4F75-9C49-C6FDA2FB1A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938D-B31E-48CB-BC11-A67803FD646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A36B-482A-43BE-9B09-D7C031FBB9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BF04-E3F2-4698-97B3-1D586EC82F4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the chamber is filled with gas (sometimes air) with a central electrode well insulated from the chamber wa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- center electrode (posi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- chamber wall (negative char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tential difference is applied between the wall and the central electrode to produce an electric field in the cha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15B7-6029-4756-A33C-563B88D247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ABA1-FF2A-456F-90F0-78C90E7769F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BB14-0644-40C6-B41F-31E91A1718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ionization is the process by which a neutral atom or molecule acq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res a negative or positive ch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ation causes ion pairs to be produced in the gas within the chamber (this is shown on the sl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 field between the cathode and anode draws the ions toward the electr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A78D-52A2-41F7-9D1B-E9868AA84B8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ions are drawn to the cath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gative ions are drawn to the an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at which the ions move toward the electrodes is a function of the field strength and the nature of the g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arge collects on the anode causing a voltage change in the circuit (pulse).  This pulse causes a current to flow in the internal meter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imple radiation det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DBAE9-368F-4347-A8D1-741C2C06DB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ring in the build which actually shows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y the draft game where there are four teams and each team has to draft players to make up the perfect tea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the teams are made up, ask the class recall the names of the six regions of the gas amplification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points in the lesson plan will be covered by the various laminated page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game is played bring in the build (which shows the regions) and give them each a handout on which to capture the main points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each team to review their pages and allow participants to fill in their handout for each of the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CABD-D27E-4F9D-B9B1-26D2ED0D1C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5EA2-5797-4224-AD51-2CD104D070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8AEB-0EF1-4473-B898-12D22E6E849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7"/>
          <p:cNvSpPr/>
          <p:nvPr/>
        </p:nvSpPr>
        <p:spPr>
          <a:xfrm>
            <a:off x="3886200" y="8739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6999-5C82-4687-9B21-F56DF4C1A4C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1360" cy="343548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52A-E10A-4111-9877-B3B909C2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49C-2681-4A37-BB05-295A2DC4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61805-F8DB-4B23-B88D-510EEEDB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7BF752-ACE2-498D-9209-E3E6DEBE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ECDAF-DB12-4FFD-9C6A-E2EC28AE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B2AA2-8A33-44B7-9FFE-5E2D0D1C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6A99C-8C5A-4EB8-B137-CCB45B99F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F66D5-E308-4D33-8E1F-24A31184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FC384-BA66-4289-9C80-F52FC06D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140D9-D313-4B2F-80A0-795A0225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E2AB8A-AF05-4E71-9DA8-4AE9F2AE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BBAA6-5DC4-46E7-8907-D48D49EF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BF7C-1149-4744-AAE5-3425B72A9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65778-F63D-4D51-8B39-4838418A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DE8F74-3B0B-4D71-8D07-FADB9C98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4CD69-0CC7-403D-87A5-6E41F386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96AA6-AD07-420A-877D-54A6CEF8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545540-D943-45AC-8E5A-56F395DE8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CB23A4-F281-49CD-A588-B1EAC9FD4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12BC5-D168-4601-A9E4-FEC2EE4E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A2B824-FB0A-47DD-8E33-602BBA75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7D839-5877-479F-9CBE-2CBA5EC20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CB11A2-8436-4647-A74B-3EF0CDEA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4E8-DE78-4F8C-B977-E05296EE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F7B38-1126-4CFC-822E-966F09AB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D0647-C703-4DAD-9CB8-7D644057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BAE754-A090-450B-B111-6924D47A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9DE350-2D8F-42B9-BA5A-BE71B732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E8070-3D30-4CB4-A13E-B23655C0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18539-D425-4529-A889-D01334D9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D258E-4E0F-4BB0-B9AE-F2E979B1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AC3AA3-4854-4668-B1D8-CA21E26B7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F7862-1157-4931-8851-2CE8825F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2BBAE1-2523-441B-825C-CA8A5C01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7D6A9-E473-43F5-BA46-932D6F99F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401F4D-5F70-4965-A050-6FFC6CBC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15AA7-390A-4D34-9932-26AEAEE7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388E52-5C8C-4FEC-9333-35632DDC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6B8EFA-A9E4-4263-842B-CD3D2864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04B89-96CC-41B2-AEA4-8079B63A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0B9C0-9CD2-4CAB-836E-ACB6904F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7DE601-FEAC-4ED7-8A8D-66381FD1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73CB0-9F81-46F6-BD1F-1CEB2C6A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FD5FA-D923-423F-8CDE-4A470C1B7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416A4-1524-4605-8764-BB67C02A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9332-2377-4714-952B-42C71B81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231CC-2F76-4163-9986-62014077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DBCA2A-30B0-401F-9752-DE3A263F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9CB415-D998-4C59-A717-703185BB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8E09BA-8662-4E64-AAD3-C791BEC0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6A4CA-D05F-499D-93C3-8D54F5E31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D4B58-C96F-47A8-A704-EE99F1492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F3A1BD-47CF-4F69-AA29-AF003795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9DBB0D-EE5A-43A4-9B16-123D7964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E591A-C8A5-4603-8B0E-CE8FB112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2C5D7-8166-4891-8574-9C71D7D6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FEAD-3645-4AF4-B740-3E6C9296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CF2D6-F821-4E56-B629-D8B85D0F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33848-2F1A-4B21-9E5E-EE56480F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DB8AF-3A3C-45B2-8ABC-BD62ADA4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15303-D63D-415C-ADCD-2F68AF16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D06870-04C5-460D-8BF7-F800D6AC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71E63-2382-471D-A3B6-1CA6F9B2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72BAE-C3CC-4E65-A065-FBB2FF0A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5F090C-B27F-40C7-BBBD-B92A6336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926FB-B770-45D6-A60C-264A7008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CAFFAB-E345-46D9-A5D7-25929C5E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E65A-99F0-4734-901B-902E71F0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D86DD7-B2ED-4B4A-80A2-0B04ED63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5C2ECE-35A1-4590-8DDB-63ACD6DFC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CB8DAB-5534-4969-BFAB-E58B10DE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752752-0973-4819-AB21-66EA131B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0F508-90CF-4F73-9A80-D0125CA5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23FA31-925A-4E8B-A0CC-209D5248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1EF25F-7E34-4AB5-A46C-453F403F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BC9027-1312-43A0-B559-78F72459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DE6DC-0C08-4026-B540-23E6B4061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CC3F2C-F794-4FBE-87CB-38F6FEE8A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EAC9-C202-40A6-A4CF-7E776F7D7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475B2E-0E00-4BB1-BD60-41D40AB2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D58EA2-0083-45B5-841C-A6FAE014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494BD8-0CDB-4935-9E94-B2DEBB665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79D765-EBFC-45B5-AE89-5E4360F6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E65A9F-A8CB-44A1-A084-8408A913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547C0-6C92-4132-A604-12F89643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A7CDC-2869-454A-A4CA-94B4BA24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70839-F7FE-4AAD-8139-D6CACB11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6880D7-8A92-4C03-B9EE-F3CC7F2E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EBDF99-6220-40B7-BE54-5C89E16B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9807-C9D4-436B-9C18-22FDF226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0285DB-2F8F-434B-BA93-6B2EA177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BA9386-D31B-40FC-B935-A38D9443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F2A487-F6A3-4848-A9E9-6A069E5A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85B4F-E725-413F-A91D-1E786E86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D680B5-E312-42DF-97AA-F287EF9F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3A7B4-6B99-4BF6-952D-0BE3304D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F5073C-B431-49A2-B213-D0B2907D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D7068F-34D7-43C8-8E85-3891E0580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14B810-4B26-4497-B9ED-27227631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E2F0E8-58A7-44DD-B685-9FF712E2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25AE-1BB9-483A-8EE5-2E277CA7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ADF669-BDC0-4CEE-9166-834A0910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242EE6-9F6F-4774-929C-6A324E284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CC1A63-07B7-44DF-95F6-D81E6BC9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1B9F2-7F6A-47FE-B707-615018EE8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0FF018-C3AC-426D-8AD5-3B8B58EB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E9F0C1-B4AD-4003-A3FA-105BDBB9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D9341-4897-4AF9-B4EA-4CAB31691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228FE6-9113-4E1E-A86D-D4E8B602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51EC0-7806-43E6-B6AF-758C9F01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D872CE-8878-4764-AB76-10372C37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BCE9-4B4D-473E-9AAD-9686E1599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D50B-9F04-443E-8EAC-8DF4BD60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211FD2-6503-4D42-A9E0-8ECC6CED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0B00B-ED8F-4D17-BD51-4918A7FE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E898C9-1831-4A08-9F93-C64021A6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CD5F0C-DFC9-436A-A666-9A22388C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9A6FCF-5D16-4069-A837-A3BD523B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426355-17F7-46BF-BF1F-1D9CD943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6DFD46-052A-426B-B4CC-0CE65F04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192CA-0513-4C1E-A60B-809C22E0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F04DC-484B-4017-BE82-D3FA5F46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404F03-B20F-446E-9C23-E4DC6893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4A80-C626-40B8-82AE-6A993C76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050E37-D29E-4C1C-B21B-26EB4E2A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E9A830-59D8-498B-AA96-3ABECE5E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73D21B-4FAA-4B3C-BE29-0CE9A7E7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B9EA7-128A-4383-BF77-1F61A909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804E4F-6AB5-4447-93E5-57F94ECF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C54E5C-BC16-461F-8C9C-1A13ED92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564114-0BEB-4FD3-B0DF-799B58970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4100-E03D-4EBB-83F7-B232B4C0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E9CE-3131-41BE-A2FD-122914A5F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3831E-830C-4EE7-8A0D-0EB324D9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3D56-6F45-437D-8CB8-E6713CB4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8F33A-51A3-4E31-8DE5-2FE0DEAE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456D8-0DD5-43A9-9476-3C1DE3CE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495B-6A55-4A99-BE03-504BF430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0D46D-4CB0-49DF-949E-9992904A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1527-FA8B-4515-9CCA-74D0D0F0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448DD-A4D0-42FC-B18E-1EFF5DDA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94FB7-71CF-43AB-9302-521449732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F8190-8836-4BA2-8B38-3D334DB8F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4EFB-BA4C-4C77-AAFB-499F695A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B7DD4-EED4-471A-B562-19D8C9005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532AC-1D49-47BD-82C5-729066DF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AC9EB-990D-4B4F-BDD0-A992EA51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14AB3-914E-48BF-B29F-911BEE03E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CE3E3-469E-4F03-BE2C-E5AD232B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0DFC0-307E-45DE-AAB0-75E80F77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DB84-2DEF-4EFC-95EB-D83492CB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57F8D-4A99-457A-8731-107D3D00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8684D-1207-46C9-96B9-51C09DE1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2CDF4-09D4-4FD9-A579-A05463F0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BD360-8851-4779-8270-FE481C49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64085-F495-45F3-8FFF-44A2C265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BC195-7B20-4AB5-86C5-192C56F3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6FF59-3625-474A-B716-1EBAC7729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836DF-1344-4680-995D-9F06FD417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7AC41-2279-417A-BE93-727D9FC4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440FC-D6A6-4835-8A92-CDF1533A6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F301-7F13-40B1-8B97-C6D49826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65410-BFEE-4B83-B6DA-7C891E3B9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BF898-6776-4F88-AAAB-2B2E77CE2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13AC5-E675-451E-ABA4-9FC1F750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60A9A-3082-46C8-9042-FD6F605C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90C4F-5795-4387-B340-14C81001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1642E-8AAF-409C-BA96-904977F7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0EA4F-BD18-4DB6-9DD2-DC2668F2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D529D-30D4-45CE-843A-D4DF61E1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B43BA-4364-4164-9539-1D108181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90978-1688-4FB2-A437-50539B55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070-3C0A-4345-A0AC-88C973DA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9DDF6-34DD-440B-90EC-F510B0A40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BCFB3-99B1-46F4-AEF5-C4165CA57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4EDDA-4FCA-4903-BA56-2FC08E24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04595-400E-42A1-BDDA-6433F6A3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D676C-C896-4922-AF33-69D0C293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AB389-F72B-4996-AEF3-8684066F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6D85E-973E-423B-AEF3-01576E16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17F8-4C96-4872-A1A0-C341780A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D7FDE-8A33-42DA-850D-45EB5FAF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82907-0361-44CC-AB95-C226C604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5623-809C-4DB8-A76F-C85C9263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5DBC7-B64B-490E-A432-E606D492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ADC08-B797-420B-A3CE-5BC5807BE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D1C29-CAAF-4F65-9B35-FEB03AA4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6EAAA-D39A-479F-A7E7-EF171E615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61E72-6753-4C7D-8846-0AC5D50B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39C2B-20C7-4E41-B24C-795B956B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1D7340-63A0-45A2-8236-AB91B5B7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9C7DD-486B-4FE4-9C9B-AD6F7103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62AA4-800B-455F-8CC1-9B790516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542C6-866B-46FC-AC30-7B1B396A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D9A1-8D28-40DA-BF5B-A8CEEC8E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D675F-F4A4-454E-B381-5826C09F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6EDE27-720C-4382-91B3-8F24C553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6C198-133A-4251-A0A5-D165B6CD8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3C5791-4015-4F3F-B5CE-EEC6FE2D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1F78A-7C10-4E90-ABF4-9C22B4BCF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395E7-3AA3-410F-936E-3A9FD1FA9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E2B8D-B055-4638-A99B-A90BFEBC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0A859-A38B-4DA0-9152-083DFDFD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6D508-6ABD-4562-86A2-612028D6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78BF6-DE30-4351-9888-5D4D12B1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F51B-26A4-42A7-ACAE-9DBB968F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E6E5C-0533-4B57-A742-9BC5AFE6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2598B-016E-4494-A30A-E609981F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D75D0-850D-4362-A0AF-BC8B12F6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7B755-2BF1-4242-9921-8BA3E164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BB027-D738-4C26-A9B2-5EC2CB8C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841C4D-01FA-4945-BA2C-85853013A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728BC-C3F7-4C5E-AEBF-11503008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418EF4-CAEF-4AF6-8D0F-2E54AAADD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F28CE-4A9E-485C-B78B-68BA60F3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2A0BF3-40A1-45EA-956F-D84048D3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8F14-5F4D-4157-B12E-945E779FA4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9F9C9-2998-4213-B3AE-94DCC2140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3C2F-D6F5-4514-8BA3-1CBDF86853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5ADB-6F88-4399-BE22-6651BC110A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7A5F-16F0-49A5-BF00-023DD1E681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C7AE5-2C9F-4B06-A765-401FDB74BD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4A1E-7603-4A8C-9CD4-D92C0EF418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0247-21ED-458D-A228-B295DAD3BC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E384-A68B-4E2F-A643-49C6F17C81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0E55-4BD6-4FC6-83E0-C9BF7BD9A0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30D0-0B87-4593-8828-31CCF55D69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RCNET.jpg"/>
          <p:cNvPicPr/>
          <p:nvPr/>
        </p:nvPicPr>
        <p:blipFill>
          <a:blip r:embed="rId7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IRSC_NSFPoster.jpg"/>
          <p:cNvPicPr/>
          <p:nvPr/>
        </p:nvPicPr>
        <p:blipFill>
          <a:blip r:embed="rId8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F3C1-7B0A-45DF-8BDF-F66BC09BC1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274E-A934-479B-B92E-A99A4BF320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175E-5615-4E07-9B64-95DBFA982F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986E-6304-4938-B5A2-DC1E4CDFE7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8" descr="RCNET.jpg"/>
          <p:cNvPicPr/>
          <p:nvPr/>
        </p:nvPicPr>
        <p:blipFill>
          <a:blip r:embed="rId5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9" descr="IRSC_NSFPoster.jpg"/>
          <p:cNvPicPr/>
          <p:nvPr/>
        </p:nvPicPr>
        <p:blipFill>
          <a:blip r:embed="rId6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816E-07A5-46FE-BCFB-91B3A0A524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1CCD-9883-4317-9A22-0D444B7FEAE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8949-A5BC-4CAE-B55A-6B8B43D74E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%20Measurements%20Instrument%20Instructor%20Notes.docx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TextBox 1"/>
          <p:cNvSpPr/>
          <p:nvPr/>
        </p:nvSpPr>
        <p:spPr>
          <a:xfrm>
            <a:off x="152280" y="1219320"/>
            <a:ext cx="8839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as-filled detector, ionization chamber, proportional detector, Geiger-Mueller detector scintillation detector, semiconductor, thermoluminescent detector, characteristics, operating principles, advantages, disadvantages.</a:t>
            </a:r>
            <a:endParaRPr b="0" lang="en-US" sz="16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Rad Measurements Instrument Instructor Notes</a:t>
            </a: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772" name="Title 1" descr=""/>
          <p:cNvPicPr/>
          <p:nvPr/>
        </p:nvPicPr>
        <p:blipFill>
          <a:blip r:embed="rId2"/>
          <a:stretch/>
        </p:blipFill>
        <p:spPr>
          <a:xfrm>
            <a:off x="-195120" y="-66600"/>
            <a:ext cx="9339120" cy="155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3" name=""/>
          <p:cNvGraphicFramePr/>
          <p:nvPr/>
        </p:nvGraphicFramePr>
        <p:xfrm>
          <a:off x="154080" y="2133720"/>
          <a:ext cx="8448480" cy="1249200"/>
        </p:xfrm>
        <a:graphic>
          <a:graphicData uri="http://schemas.openxmlformats.org/drawingml/2006/table">
            <a:tbl>
              <a:tblPr/>
              <a:tblGrid>
                <a:gridCol w="1133280"/>
                <a:gridCol w="1135080"/>
                <a:gridCol w="1455840"/>
                <a:gridCol w="1219320"/>
                <a:gridCol w="1143000"/>
                <a:gridCol w="1295280"/>
                <a:gridCol w="1066680"/>
              </a:tblGrid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4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4.5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.8.1.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1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2.33.2.3.2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7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2.3.18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3.3.1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4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3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5.6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a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b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c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d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.4.1.5e</a:t>
                      </a:r>
                      <a:endParaRPr b="0" lang="en-US" sz="1600" spc="-1" strike="noStrike">
                        <a:solidFill>
                          <a:srgbClr val="4f81b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2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4" name="Rectangle 3"/>
          <p:cNvSpPr/>
          <p:nvPr/>
        </p:nvSpPr>
        <p:spPr>
          <a:xfrm>
            <a:off x="380880" y="5869080"/>
            <a:ext cx="85345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5" name="Picture 4" descr=""/>
          <p:cNvPicPr/>
          <p:nvPr/>
        </p:nvPicPr>
        <p:blipFill>
          <a:blip r:embed="rId1"/>
          <a:stretch/>
        </p:blipFill>
        <p:spPr>
          <a:xfrm>
            <a:off x="3352680" y="1219320"/>
            <a:ext cx="261468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NR-4 &amp; Ludlum 12-4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1523880" y="586908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8" name="Picture 4" descr=""/>
          <p:cNvPicPr/>
          <p:nvPr/>
        </p:nvPicPr>
        <p:blipFill>
          <a:blip r:embed="rId1"/>
          <a:stretch/>
        </p:blipFill>
        <p:spPr>
          <a:xfrm>
            <a:off x="2498760" y="1295280"/>
            <a:ext cx="406728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2"/>
          <p:cNvSpPr/>
          <p:nvPr/>
        </p:nvSpPr>
        <p:spPr>
          <a:xfrm>
            <a:off x="990720" y="304920"/>
            <a:ext cx="693396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4C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0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1" name="Picture 4" descr=""/>
          <p:cNvPicPr/>
          <p:nvPr/>
        </p:nvPicPr>
        <p:blipFill>
          <a:blip r:embed="rId1"/>
          <a:stretch/>
        </p:blipFill>
        <p:spPr>
          <a:xfrm>
            <a:off x="2840040" y="1219320"/>
            <a:ext cx="371484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2"/>
          <p:cNvSpPr/>
          <p:nvPr/>
        </p:nvSpPr>
        <p:spPr>
          <a:xfrm>
            <a:off x="1447920" y="304920"/>
            <a:ext cx="7467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177 with pancake probe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3" name="Rectangle 3"/>
          <p:cNvSpPr/>
          <p:nvPr/>
        </p:nvSpPr>
        <p:spPr>
          <a:xfrm>
            <a:off x="1523880" y="5942160"/>
            <a:ext cx="58676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4" name="Picture 4" descr=""/>
          <p:cNvPicPr/>
          <p:nvPr/>
        </p:nvPicPr>
        <p:blipFill>
          <a:blip r:embed="rId1"/>
          <a:stretch/>
        </p:blipFill>
        <p:spPr>
          <a:xfrm>
            <a:off x="3276720" y="2071800"/>
            <a:ext cx="2746080" cy="1041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5" descr=""/>
          <p:cNvPicPr/>
          <p:nvPr/>
        </p:nvPicPr>
        <p:blipFill>
          <a:blip r:embed="rId2"/>
          <a:stretch/>
        </p:blipFill>
        <p:spPr>
          <a:xfrm>
            <a:off x="2819520" y="2994120"/>
            <a:ext cx="42796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Ludlum 375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228600" y="5869080"/>
            <a:ext cx="87631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48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28" name="Picture 4" descr=""/>
          <p:cNvPicPr/>
          <p:nvPr/>
        </p:nvPicPr>
        <p:blipFill>
          <a:blip r:embed="rId1"/>
          <a:stretch/>
        </p:blipFill>
        <p:spPr>
          <a:xfrm>
            <a:off x="1839960" y="1371600"/>
            <a:ext cx="5792760" cy="43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-5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1" name="Picture 4" descr=""/>
          <p:cNvPicPr/>
          <p:nvPr/>
        </p:nvPicPr>
        <p:blipFill>
          <a:blip r:embed="rId1"/>
          <a:stretch/>
        </p:blipFill>
        <p:spPr>
          <a:xfrm>
            <a:off x="2362320" y="1430280"/>
            <a:ext cx="5003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7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4f81bd"/>
                </a:solidFill>
                <a:latin typeface="Calibri"/>
              </a:rPr>
              <a:t>Teletector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Picture 4" descr="http://www.volk-gmbh.de/IMAGES/949110-949114.jpg"/>
          <p:cNvPicPr/>
          <p:nvPr/>
        </p:nvPicPr>
        <p:blipFill>
          <a:blip r:embed="rId1"/>
          <a:stretch/>
        </p:blipFill>
        <p:spPr>
          <a:xfrm rot="17541600">
            <a:off x="2493720" y="247320"/>
            <a:ext cx="4500360" cy="6561000"/>
          </a:xfrm>
          <a:prstGeom prst="rect">
            <a:avLst/>
          </a:prstGeom>
          <a:ln w="0">
            <a:noFill/>
          </a:ln>
        </p:spPr>
      </p:pic>
      <p:sp>
        <p:nvSpPr>
          <p:cNvPr id="934" name="Text Box 7"/>
          <p:cNvSpPr/>
          <p:nvPr/>
        </p:nvSpPr>
        <p:spPr>
          <a:xfrm>
            <a:off x="0" y="5943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M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urveyor M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37" name="Picture 4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6027480" cy="44863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5" descr=""/>
          <p:cNvPicPr/>
          <p:nvPr/>
        </p:nvPicPr>
        <p:blipFill>
          <a:blip r:embed="rId2"/>
          <a:stretch/>
        </p:blipFill>
        <p:spPr>
          <a:xfrm>
            <a:off x="6400800" y="685800"/>
            <a:ext cx="249408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Microanalyst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0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1" name="Picture 4" descr=""/>
          <p:cNvPicPr/>
          <p:nvPr/>
        </p:nvPicPr>
        <p:blipFill>
          <a:blip r:embed="rId1"/>
          <a:stretch/>
        </p:blipFill>
        <p:spPr>
          <a:xfrm>
            <a:off x="2725560" y="1676520"/>
            <a:ext cx="406908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M-7 (Portal Monitor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3" name="Rectangle 3"/>
          <p:cNvSpPr/>
          <p:nvPr/>
        </p:nvSpPr>
        <p:spPr>
          <a:xfrm>
            <a:off x="2133720" y="586908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4" name="Picture 4" descr=""/>
          <p:cNvPicPr/>
          <p:nvPr/>
        </p:nvPicPr>
        <p:blipFill>
          <a:blip r:embed="rId1"/>
          <a:stretch/>
        </p:blipFill>
        <p:spPr>
          <a:xfrm>
            <a:off x="3279600" y="1143000"/>
            <a:ext cx="28148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2"/>
          <p:cNvSpPr/>
          <p:nvPr/>
        </p:nvSpPr>
        <p:spPr>
          <a:xfrm>
            <a:off x="1523880" y="32400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1f497d"/>
                </a:solidFill>
                <a:latin typeface="Times New Roman"/>
              </a:rPr>
              <a:t>Simple Gas Filled Detector</a:t>
            </a:r>
            <a:endParaRPr b="0" lang="en-US" sz="4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775" name="Group 21"/>
          <p:cNvGrpSpPr/>
          <p:nvPr/>
        </p:nvGrpSpPr>
        <p:grpSpPr>
          <a:xfrm>
            <a:off x="1454040" y="2206800"/>
            <a:ext cx="6851880" cy="3889080"/>
            <a:chOff x="1454040" y="2206800"/>
            <a:chExt cx="6851880" cy="3889080"/>
          </a:xfrm>
        </p:grpSpPr>
        <p:grpSp>
          <p:nvGrpSpPr>
            <p:cNvPr id="776" name="Group 6"/>
            <p:cNvGrpSpPr/>
            <p:nvPr/>
          </p:nvGrpSpPr>
          <p:grpSpPr>
            <a:xfrm>
              <a:off x="2247840" y="2965320"/>
              <a:ext cx="4989600" cy="3130560"/>
              <a:chOff x="2247840" y="2965320"/>
              <a:chExt cx="4989600" cy="3130560"/>
            </a:xfrm>
          </p:grpSpPr>
          <p:sp>
            <p:nvSpPr>
              <p:cNvPr id="777" name="Line 3"/>
              <p:cNvSpPr/>
              <p:nvPr/>
            </p:nvSpPr>
            <p:spPr>
              <a:xfrm>
                <a:off x="2247840" y="3828960"/>
                <a:ext cx="0" cy="129564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8" name="Line 4"/>
              <p:cNvSpPr/>
              <p:nvPr/>
            </p:nvSpPr>
            <p:spPr>
              <a:xfrm>
                <a:off x="2247840" y="6095880"/>
                <a:ext cx="498960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79" name="Line 5"/>
              <p:cNvSpPr/>
              <p:nvPr/>
            </p:nvSpPr>
            <p:spPr>
              <a:xfrm flipV="1">
                <a:off x="7237440" y="2965320"/>
                <a:ext cx="0" cy="18352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780" name="Line 7"/>
            <p:cNvSpPr/>
            <p:nvPr/>
          </p:nvSpPr>
          <p:spPr>
            <a:xfrm>
              <a:off x="2160720" y="5232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1" name="Line 8"/>
            <p:cNvSpPr/>
            <p:nvPr/>
          </p:nvSpPr>
          <p:spPr>
            <a:xfrm>
              <a:off x="2071800" y="5340240"/>
              <a:ext cx="3553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2" name="Line 9"/>
            <p:cNvSpPr/>
            <p:nvPr/>
          </p:nvSpPr>
          <p:spPr>
            <a:xfrm>
              <a:off x="2160720" y="5556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3" name="Line 10"/>
            <p:cNvSpPr/>
            <p:nvPr/>
          </p:nvSpPr>
          <p:spPr>
            <a:xfrm>
              <a:off x="2160720" y="5448240"/>
              <a:ext cx="17784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4" name="Line 11"/>
            <p:cNvSpPr/>
            <p:nvPr/>
          </p:nvSpPr>
          <p:spPr>
            <a:xfrm flipV="1">
              <a:off x="2247840" y="5663880"/>
              <a:ext cx="0" cy="431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5" name="Freeform 12"/>
            <p:cNvSpPr/>
            <p:nvPr/>
          </p:nvSpPr>
          <p:spPr>
            <a:xfrm>
              <a:off x="7149960" y="4800600"/>
              <a:ext cx="182880" cy="64944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649440"/>
                <a:gd name="textAreaBottom" fmla="*/ 649800 h 649440"/>
              </a:gdLst>
              <a:ahLst/>
              <a:rect l="textAreaLeft" t="textAreaTop" r="textAreaRight" b="textAreaBottom"/>
              <a:pathLst>
                <a:path w="115" h="409">
                  <a:moveTo>
                    <a:pt x="55" y="0"/>
                  </a:moveTo>
                  <a:lnTo>
                    <a:pt x="88" y="60"/>
                  </a:lnTo>
                  <a:lnTo>
                    <a:pt x="114" y="76"/>
                  </a:lnTo>
                  <a:lnTo>
                    <a:pt x="88" y="121"/>
                  </a:lnTo>
                  <a:lnTo>
                    <a:pt x="50" y="136"/>
                  </a:lnTo>
                  <a:lnTo>
                    <a:pt x="25" y="167"/>
                  </a:lnTo>
                  <a:lnTo>
                    <a:pt x="0" y="196"/>
                  </a:lnTo>
                  <a:lnTo>
                    <a:pt x="25" y="228"/>
                  </a:lnTo>
                  <a:lnTo>
                    <a:pt x="63" y="242"/>
                  </a:lnTo>
                  <a:lnTo>
                    <a:pt x="88" y="273"/>
                  </a:lnTo>
                  <a:lnTo>
                    <a:pt x="50" y="303"/>
                  </a:lnTo>
                  <a:lnTo>
                    <a:pt x="37" y="334"/>
                  </a:lnTo>
                  <a:lnTo>
                    <a:pt x="0" y="364"/>
                  </a:lnTo>
                  <a:lnTo>
                    <a:pt x="25" y="379"/>
                  </a:lnTo>
                  <a:lnTo>
                    <a:pt x="63" y="393"/>
                  </a:lnTo>
                  <a:lnTo>
                    <a:pt x="55" y="408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6" name="Line 13"/>
            <p:cNvSpPr/>
            <p:nvPr/>
          </p:nvSpPr>
          <p:spPr>
            <a:xfrm>
              <a:off x="7237440" y="5448240"/>
              <a:ext cx="0" cy="647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7" name="AutoShape 14"/>
            <p:cNvSpPr/>
            <p:nvPr/>
          </p:nvSpPr>
          <p:spPr>
            <a:xfrm>
              <a:off x="1454040" y="2324160"/>
              <a:ext cx="4886280" cy="149868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8" name="Oval 15"/>
            <p:cNvSpPr/>
            <p:nvPr/>
          </p:nvSpPr>
          <p:spPr>
            <a:xfrm>
              <a:off x="5997600" y="2324160"/>
              <a:ext cx="520560" cy="149868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89" name="Line 16"/>
            <p:cNvSpPr/>
            <p:nvPr/>
          </p:nvSpPr>
          <p:spPr>
            <a:xfrm>
              <a:off x="2873520" y="2965320"/>
              <a:ext cx="516564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0" name="Rectangle 17"/>
            <p:cNvSpPr/>
            <p:nvPr/>
          </p:nvSpPr>
          <p:spPr>
            <a:xfrm>
              <a:off x="3265200" y="2430360"/>
              <a:ext cx="1102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1" name="Rectangle 18"/>
            <p:cNvSpPr/>
            <p:nvPr/>
          </p:nvSpPr>
          <p:spPr>
            <a:xfrm>
              <a:off x="3265200" y="3338640"/>
              <a:ext cx="121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0504d"/>
                  </a:solidFill>
                  <a:latin typeface="Times New Roman"/>
                </a:rPr>
                <a:t>Cathode</a:t>
              </a:r>
              <a:r>
                <a:rPr b="0" lang="en-US" sz="2400" spc="-1" strike="noStrike">
                  <a:solidFill>
                    <a:srgbClr val="c0504d"/>
                  </a:solidFill>
                  <a:latin typeface="Times New Roman"/>
                </a:rPr>
                <a:t> 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2" name="Rectangle 19"/>
            <p:cNvSpPr/>
            <p:nvPr/>
          </p:nvSpPr>
          <p:spPr>
            <a:xfrm>
              <a:off x="7133760" y="2206800"/>
              <a:ext cx="10216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  meter </a:t>
              </a:r>
              <a:endParaRPr b="0" lang="en-US" sz="16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793" name="Line 20"/>
            <p:cNvSpPr/>
            <p:nvPr/>
          </p:nvSpPr>
          <p:spPr>
            <a:xfrm>
              <a:off x="7148520" y="2747880"/>
              <a:ext cx="11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SAM 11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6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cintillation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47" name="Picture 4" descr=""/>
          <p:cNvPicPr/>
          <p:nvPr/>
        </p:nvPicPr>
        <p:blipFill>
          <a:blip r:embed="rId1"/>
          <a:stretch/>
        </p:blipFill>
        <p:spPr>
          <a:xfrm>
            <a:off x="2590920" y="1343160"/>
            <a:ext cx="445428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Rectangle 2"/>
          <p:cNvSpPr/>
          <p:nvPr/>
        </p:nvSpPr>
        <p:spPr>
          <a:xfrm>
            <a:off x="144792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ED (DMC 2000)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49" name="Rectangle 3"/>
          <p:cNvSpPr/>
          <p:nvPr/>
        </p:nvSpPr>
        <p:spPr>
          <a:xfrm>
            <a:off x="1523880" y="5869080"/>
            <a:ext cx="6858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Solid State Detecto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50" name="Picture 4" descr=""/>
          <p:cNvPicPr/>
          <p:nvPr/>
        </p:nvPicPr>
        <p:blipFill>
          <a:blip r:embed="rId1"/>
          <a:stretch/>
        </p:blipFill>
        <p:spPr>
          <a:xfrm>
            <a:off x="2895480" y="1173240"/>
            <a:ext cx="367056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txBody>
          <a:bodyPr lIns="108000" rIns="108000" tIns="54000" bIns="54000" anchor="ctr">
            <a:noAutofit/>
          </a:bodyPr>
          <a:p>
            <a:pPr indent="0" algn="ctr">
              <a:buNone/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Simple Gas Filled Detecto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5" name="Group 21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796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797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8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799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00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1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2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3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4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5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6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7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8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09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0" name="Rectangle 17"/>
            <p:cNvSpPr/>
            <p:nvPr/>
          </p:nvSpPr>
          <p:spPr>
            <a:xfrm>
              <a:off x="2990520" y="2532240"/>
              <a:ext cx="106272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1" name="Rectangle 18"/>
            <p:cNvSpPr/>
            <p:nvPr/>
          </p:nvSpPr>
          <p:spPr>
            <a:xfrm>
              <a:off x="299088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2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3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sp>
        <p:nvSpPr>
          <p:cNvPr id="814" name="Rectangle 22"/>
          <p:cNvSpPr/>
          <p:nvPr/>
        </p:nvSpPr>
        <p:spPr>
          <a:xfrm>
            <a:off x="6384960" y="6208560"/>
            <a:ext cx="224136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15" name="Group 25"/>
          <p:cNvGrpSpPr/>
          <p:nvPr/>
        </p:nvGrpSpPr>
        <p:grpSpPr>
          <a:xfrm>
            <a:off x="2543760" y="2940120"/>
            <a:ext cx="474840" cy="839880"/>
            <a:chOff x="2543760" y="2940120"/>
            <a:chExt cx="474840" cy="839880"/>
          </a:xfrm>
        </p:grpSpPr>
        <p:sp>
          <p:nvSpPr>
            <p:cNvPr id="816" name="Rectangle 23"/>
            <p:cNvSpPr/>
            <p:nvPr/>
          </p:nvSpPr>
          <p:spPr>
            <a:xfrm>
              <a:off x="2543760" y="30290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17" name="Rectangle 24"/>
            <p:cNvSpPr/>
            <p:nvPr/>
          </p:nvSpPr>
          <p:spPr>
            <a:xfrm>
              <a:off x="26298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18" name="Group 28"/>
          <p:cNvGrpSpPr/>
          <p:nvPr/>
        </p:nvGrpSpPr>
        <p:grpSpPr>
          <a:xfrm>
            <a:off x="4893120" y="2940120"/>
            <a:ext cx="652680" cy="839880"/>
            <a:chOff x="4893120" y="2940120"/>
            <a:chExt cx="652680" cy="839880"/>
          </a:xfrm>
        </p:grpSpPr>
        <p:sp>
          <p:nvSpPr>
            <p:cNvPr id="819" name="Rectangle 26"/>
            <p:cNvSpPr/>
            <p:nvPr/>
          </p:nvSpPr>
          <p:spPr>
            <a:xfrm>
              <a:off x="4893120" y="32986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0" name="Rectangle 27"/>
            <p:cNvSpPr/>
            <p:nvPr/>
          </p:nvSpPr>
          <p:spPr>
            <a:xfrm>
              <a:off x="5157000" y="29401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1" name="Group 31"/>
          <p:cNvGrpSpPr/>
          <p:nvPr/>
        </p:nvGrpSpPr>
        <p:grpSpPr>
          <a:xfrm>
            <a:off x="2910240" y="2781360"/>
            <a:ext cx="654480" cy="921600"/>
            <a:chOff x="2910240" y="2781360"/>
            <a:chExt cx="654480" cy="921600"/>
          </a:xfrm>
        </p:grpSpPr>
        <p:sp>
          <p:nvSpPr>
            <p:cNvPr id="822" name="Rectangle 29"/>
            <p:cNvSpPr/>
            <p:nvPr/>
          </p:nvSpPr>
          <p:spPr>
            <a:xfrm>
              <a:off x="2910240" y="322884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3" name="Rectangle 30"/>
            <p:cNvSpPr/>
            <p:nvPr/>
          </p:nvSpPr>
          <p:spPr>
            <a:xfrm>
              <a:off x="3175920" y="278136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4" name="Group 34"/>
          <p:cNvGrpSpPr/>
          <p:nvPr/>
        </p:nvGrpSpPr>
        <p:grpSpPr>
          <a:xfrm>
            <a:off x="1767240" y="3016080"/>
            <a:ext cx="654480" cy="839880"/>
            <a:chOff x="1767240" y="3016080"/>
            <a:chExt cx="654480" cy="839880"/>
          </a:xfrm>
        </p:grpSpPr>
        <p:sp>
          <p:nvSpPr>
            <p:cNvPr id="825" name="Rectangle 32"/>
            <p:cNvSpPr/>
            <p:nvPr/>
          </p:nvSpPr>
          <p:spPr>
            <a:xfrm>
              <a:off x="1767240" y="31957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6" name="Rectangle 33"/>
            <p:cNvSpPr/>
            <p:nvPr/>
          </p:nvSpPr>
          <p:spPr>
            <a:xfrm>
              <a:off x="2032920" y="30160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27" name="Group 37"/>
          <p:cNvGrpSpPr/>
          <p:nvPr/>
        </p:nvGrpSpPr>
        <p:grpSpPr>
          <a:xfrm>
            <a:off x="2080080" y="2482920"/>
            <a:ext cx="563760" cy="839880"/>
            <a:chOff x="2080080" y="2482920"/>
            <a:chExt cx="563760" cy="839880"/>
          </a:xfrm>
        </p:grpSpPr>
        <p:sp>
          <p:nvSpPr>
            <p:cNvPr id="828" name="Rectangle 35"/>
            <p:cNvSpPr/>
            <p:nvPr/>
          </p:nvSpPr>
          <p:spPr>
            <a:xfrm>
              <a:off x="2080080" y="26622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29" name="Rectangle 36"/>
            <p:cNvSpPr/>
            <p:nvPr/>
          </p:nvSpPr>
          <p:spPr>
            <a:xfrm>
              <a:off x="2255040" y="248292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0" name="Group 40"/>
          <p:cNvGrpSpPr/>
          <p:nvPr/>
        </p:nvGrpSpPr>
        <p:grpSpPr>
          <a:xfrm>
            <a:off x="3985200" y="2787480"/>
            <a:ext cx="563760" cy="839880"/>
            <a:chOff x="3985200" y="2787480"/>
            <a:chExt cx="563760" cy="839880"/>
          </a:xfrm>
        </p:grpSpPr>
        <p:sp>
          <p:nvSpPr>
            <p:cNvPr id="831" name="Rectangle 38"/>
            <p:cNvSpPr/>
            <p:nvPr/>
          </p:nvSpPr>
          <p:spPr>
            <a:xfrm>
              <a:off x="3985200" y="314640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32" name="Rectangle 39"/>
            <p:cNvSpPr/>
            <p:nvPr/>
          </p:nvSpPr>
          <p:spPr>
            <a:xfrm>
              <a:off x="4160160" y="2787480"/>
              <a:ext cx="3888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33" name="Group 50"/>
          <p:cNvGrpSpPr/>
          <p:nvPr/>
        </p:nvGrpSpPr>
        <p:grpSpPr>
          <a:xfrm>
            <a:off x="940680" y="942840"/>
            <a:ext cx="6486480" cy="4089600"/>
            <a:chOff x="940680" y="942840"/>
            <a:chExt cx="6486480" cy="4089600"/>
          </a:xfrm>
        </p:grpSpPr>
        <p:grpSp>
          <p:nvGrpSpPr>
            <p:cNvPr id="834" name="Group 43"/>
            <p:cNvGrpSpPr/>
            <p:nvPr/>
          </p:nvGrpSpPr>
          <p:grpSpPr>
            <a:xfrm>
              <a:off x="940680" y="1211400"/>
              <a:ext cx="765720" cy="1936440"/>
              <a:chOff x="940680" y="1211400"/>
              <a:chExt cx="765720" cy="1936440"/>
            </a:xfrm>
          </p:grpSpPr>
          <p:sp>
            <p:nvSpPr>
              <p:cNvPr id="835" name="Freeform 41"/>
              <p:cNvSpPr/>
              <p:nvPr/>
            </p:nvSpPr>
            <p:spPr>
              <a:xfrm>
                <a:off x="1324080" y="1265400"/>
                <a:ext cx="382320" cy="1882440"/>
              </a:xfrm>
              <a:custGeom>
                <a:avLst/>
                <a:gdLst>
                  <a:gd name="textAreaLeft" fmla="*/ 0 w 382320"/>
                  <a:gd name="textAreaRight" fmla="*/ 382680 w 382320"/>
                  <a:gd name="textAreaTop" fmla="*/ 0 h 1882440"/>
                  <a:gd name="textAreaBottom" fmla="*/ 1882800 h 1882440"/>
                </a:gdLst>
                <a:ahLst/>
                <a:rect l="textAreaLeft" t="textAreaTop" r="textAreaRight" b="textAreaBottom"/>
                <a:pathLst>
                  <a:path w="241" h="1186">
                    <a:moveTo>
                      <a:pt x="0" y="0"/>
                    </a:moveTo>
                    <a:lnTo>
                      <a:pt x="0" y="56"/>
                    </a:lnTo>
                    <a:lnTo>
                      <a:pt x="0" y="98"/>
                    </a:lnTo>
                    <a:lnTo>
                      <a:pt x="0" y="155"/>
                    </a:lnTo>
                    <a:lnTo>
                      <a:pt x="42" y="211"/>
                    </a:lnTo>
                    <a:lnTo>
                      <a:pt x="42" y="253"/>
                    </a:lnTo>
                    <a:lnTo>
                      <a:pt x="42" y="296"/>
                    </a:lnTo>
                    <a:lnTo>
                      <a:pt x="42" y="338"/>
                    </a:lnTo>
                    <a:lnTo>
                      <a:pt x="127" y="395"/>
                    </a:lnTo>
                    <a:lnTo>
                      <a:pt x="211" y="423"/>
                    </a:lnTo>
                    <a:lnTo>
                      <a:pt x="211" y="465"/>
                    </a:lnTo>
                    <a:lnTo>
                      <a:pt x="197" y="507"/>
                    </a:lnTo>
                    <a:lnTo>
                      <a:pt x="197" y="550"/>
                    </a:lnTo>
                    <a:lnTo>
                      <a:pt x="197" y="592"/>
                    </a:lnTo>
                    <a:lnTo>
                      <a:pt x="197" y="648"/>
                    </a:lnTo>
                    <a:lnTo>
                      <a:pt x="197" y="747"/>
                    </a:lnTo>
                    <a:lnTo>
                      <a:pt x="197" y="804"/>
                    </a:lnTo>
                    <a:lnTo>
                      <a:pt x="183" y="860"/>
                    </a:lnTo>
                    <a:lnTo>
                      <a:pt x="225" y="916"/>
                    </a:lnTo>
                    <a:lnTo>
                      <a:pt x="225" y="959"/>
                    </a:lnTo>
                    <a:lnTo>
                      <a:pt x="225" y="1001"/>
                    </a:lnTo>
                    <a:lnTo>
                      <a:pt x="240" y="1058"/>
                    </a:lnTo>
                    <a:lnTo>
                      <a:pt x="240" y="1100"/>
                    </a:lnTo>
                    <a:lnTo>
                      <a:pt x="240" y="1142"/>
                    </a:lnTo>
                    <a:lnTo>
                      <a:pt x="240" y="1185"/>
                    </a:lnTo>
                    <a:lnTo>
                      <a:pt x="225" y="1185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6" name="Rectangle 42"/>
              <p:cNvSpPr/>
              <p:nvPr/>
            </p:nvSpPr>
            <p:spPr>
              <a:xfrm>
                <a:off x="940680" y="121140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46"/>
            <p:cNvGrpSpPr/>
            <p:nvPr/>
          </p:nvGrpSpPr>
          <p:grpSpPr>
            <a:xfrm>
              <a:off x="3720960" y="1481040"/>
              <a:ext cx="763560" cy="2117880"/>
              <a:chOff x="3720960" y="1481040"/>
              <a:chExt cx="763560" cy="2117880"/>
            </a:xfrm>
          </p:grpSpPr>
          <p:sp>
            <p:nvSpPr>
              <p:cNvPr id="838" name="Freeform 44"/>
              <p:cNvSpPr/>
              <p:nvPr/>
            </p:nvSpPr>
            <p:spPr>
              <a:xfrm>
                <a:off x="3720960" y="1714680"/>
                <a:ext cx="763560" cy="188424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884240"/>
                  <a:gd name="textAreaBottom" fmla="*/ 1884600 h 1884240"/>
                </a:gdLst>
                <a:ahLst/>
                <a:rect l="textAreaLeft" t="textAreaTop" r="textAreaRight" b="textAreaBottom"/>
                <a:pathLst>
                  <a:path w="481" h="1187">
                    <a:moveTo>
                      <a:pt x="465" y="0"/>
                    </a:moveTo>
                    <a:lnTo>
                      <a:pt x="480" y="56"/>
                    </a:lnTo>
                    <a:lnTo>
                      <a:pt x="480" y="98"/>
                    </a:lnTo>
                    <a:lnTo>
                      <a:pt x="465" y="197"/>
                    </a:lnTo>
                    <a:lnTo>
                      <a:pt x="451" y="282"/>
                    </a:lnTo>
                    <a:lnTo>
                      <a:pt x="367" y="310"/>
                    </a:lnTo>
                    <a:lnTo>
                      <a:pt x="338" y="352"/>
                    </a:lnTo>
                    <a:lnTo>
                      <a:pt x="324" y="437"/>
                    </a:lnTo>
                    <a:lnTo>
                      <a:pt x="338" y="550"/>
                    </a:lnTo>
                    <a:lnTo>
                      <a:pt x="367" y="635"/>
                    </a:lnTo>
                    <a:lnTo>
                      <a:pt x="381" y="677"/>
                    </a:lnTo>
                    <a:lnTo>
                      <a:pt x="381" y="720"/>
                    </a:lnTo>
                    <a:lnTo>
                      <a:pt x="352" y="762"/>
                    </a:lnTo>
                    <a:lnTo>
                      <a:pt x="338" y="804"/>
                    </a:lnTo>
                    <a:lnTo>
                      <a:pt x="296" y="847"/>
                    </a:lnTo>
                    <a:lnTo>
                      <a:pt x="183" y="960"/>
                    </a:lnTo>
                    <a:lnTo>
                      <a:pt x="169" y="1044"/>
                    </a:lnTo>
                    <a:lnTo>
                      <a:pt x="141" y="1101"/>
                    </a:lnTo>
                    <a:lnTo>
                      <a:pt x="42" y="1143"/>
                    </a:lnTo>
                    <a:lnTo>
                      <a:pt x="0" y="1157"/>
                    </a:lnTo>
                    <a:lnTo>
                      <a:pt x="14" y="1186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39" name="Rectangle 45"/>
              <p:cNvSpPr/>
              <p:nvPr/>
            </p:nvSpPr>
            <p:spPr>
              <a:xfrm>
                <a:off x="4079160" y="14810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Group 49"/>
            <p:cNvGrpSpPr/>
            <p:nvPr/>
          </p:nvGrpSpPr>
          <p:grpSpPr>
            <a:xfrm>
              <a:off x="2755800" y="942840"/>
              <a:ext cx="4671360" cy="4089600"/>
              <a:chOff x="2755800" y="942840"/>
              <a:chExt cx="4671360" cy="4089600"/>
            </a:xfrm>
          </p:grpSpPr>
          <p:sp>
            <p:nvSpPr>
              <p:cNvPr id="841" name="Freeform 47"/>
              <p:cNvSpPr/>
              <p:nvPr/>
            </p:nvSpPr>
            <p:spPr>
              <a:xfrm>
                <a:off x="2755800" y="1265400"/>
                <a:ext cx="4665600" cy="3767040"/>
              </a:xfrm>
              <a:custGeom>
                <a:avLst/>
                <a:gdLst>
                  <a:gd name="textAreaLeft" fmla="*/ 0 w 4665600"/>
                  <a:gd name="textAreaRight" fmla="*/ 4665960 w 4665600"/>
                  <a:gd name="textAreaTop" fmla="*/ 0 h 3767040"/>
                  <a:gd name="textAreaBottom" fmla="*/ 3767400 h 3767040"/>
                </a:gdLst>
                <a:ahLst/>
                <a:rect l="textAreaLeft" t="textAreaTop" r="textAreaRight" b="textAreaBottom"/>
                <a:pathLst>
                  <a:path w="2939" h="2373">
                    <a:moveTo>
                      <a:pt x="2938" y="0"/>
                    </a:moveTo>
                    <a:lnTo>
                      <a:pt x="2853" y="42"/>
                    </a:lnTo>
                    <a:lnTo>
                      <a:pt x="2768" y="56"/>
                    </a:lnTo>
                    <a:lnTo>
                      <a:pt x="2712" y="70"/>
                    </a:lnTo>
                    <a:lnTo>
                      <a:pt x="2613" y="70"/>
                    </a:lnTo>
                    <a:lnTo>
                      <a:pt x="2500" y="98"/>
                    </a:lnTo>
                    <a:lnTo>
                      <a:pt x="2457" y="141"/>
                    </a:lnTo>
                    <a:lnTo>
                      <a:pt x="2457" y="183"/>
                    </a:lnTo>
                    <a:lnTo>
                      <a:pt x="2457" y="225"/>
                    </a:lnTo>
                    <a:lnTo>
                      <a:pt x="2429" y="268"/>
                    </a:lnTo>
                    <a:lnTo>
                      <a:pt x="2387" y="381"/>
                    </a:lnTo>
                    <a:lnTo>
                      <a:pt x="2302" y="395"/>
                    </a:lnTo>
                    <a:lnTo>
                      <a:pt x="2217" y="423"/>
                    </a:lnTo>
                    <a:lnTo>
                      <a:pt x="2132" y="437"/>
                    </a:lnTo>
                    <a:lnTo>
                      <a:pt x="2048" y="465"/>
                    </a:lnTo>
                    <a:lnTo>
                      <a:pt x="1963" y="494"/>
                    </a:lnTo>
                    <a:lnTo>
                      <a:pt x="1878" y="522"/>
                    </a:lnTo>
                    <a:lnTo>
                      <a:pt x="1822" y="663"/>
                    </a:lnTo>
                    <a:lnTo>
                      <a:pt x="1808" y="776"/>
                    </a:lnTo>
                    <a:lnTo>
                      <a:pt x="1793" y="889"/>
                    </a:lnTo>
                    <a:lnTo>
                      <a:pt x="1779" y="974"/>
                    </a:lnTo>
                    <a:lnTo>
                      <a:pt x="1751" y="1058"/>
                    </a:lnTo>
                    <a:lnTo>
                      <a:pt x="1723" y="1115"/>
                    </a:lnTo>
                    <a:lnTo>
                      <a:pt x="1624" y="1143"/>
                    </a:lnTo>
                    <a:lnTo>
                      <a:pt x="1539" y="1171"/>
                    </a:lnTo>
                    <a:lnTo>
                      <a:pt x="1398" y="1186"/>
                    </a:lnTo>
                    <a:lnTo>
                      <a:pt x="1285" y="1214"/>
                    </a:lnTo>
                    <a:lnTo>
                      <a:pt x="1200" y="1242"/>
                    </a:lnTo>
                    <a:lnTo>
                      <a:pt x="1172" y="1284"/>
                    </a:lnTo>
                    <a:lnTo>
                      <a:pt x="1144" y="1327"/>
                    </a:lnTo>
                    <a:lnTo>
                      <a:pt x="1130" y="1411"/>
                    </a:lnTo>
                    <a:lnTo>
                      <a:pt x="1115" y="1496"/>
                    </a:lnTo>
                    <a:lnTo>
                      <a:pt x="1087" y="1581"/>
                    </a:lnTo>
                    <a:lnTo>
                      <a:pt x="1073" y="1666"/>
                    </a:lnTo>
                    <a:lnTo>
                      <a:pt x="1017" y="1779"/>
                    </a:lnTo>
                    <a:lnTo>
                      <a:pt x="960" y="1821"/>
                    </a:lnTo>
                    <a:lnTo>
                      <a:pt x="847" y="1835"/>
                    </a:lnTo>
                    <a:lnTo>
                      <a:pt x="734" y="1863"/>
                    </a:lnTo>
                    <a:lnTo>
                      <a:pt x="649" y="1863"/>
                    </a:lnTo>
                    <a:lnTo>
                      <a:pt x="565" y="1877"/>
                    </a:lnTo>
                    <a:lnTo>
                      <a:pt x="466" y="1920"/>
                    </a:lnTo>
                    <a:lnTo>
                      <a:pt x="409" y="1976"/>
                    </a:lnTo>
                    <a:lnTo>
                      <a:pt x="381" y="2061"/>
                    </a:lnTo>
                    <a:lnTo>
                      <a:pt x="353" y="2117"/>
                    </a:lnTo>
                    <a:lnTo>
                      <a:pt x="296" y="2146"/>
                    </a:lnTo>
                    <a:lnTo>
                      <a:pt x="240" y="2174"/>
                    </a:lnTo>
                    <a:lnTo>
                      <a:pt x="155" y="2188"/>
                    </a:lnTo>
                    <a:lnTo>
                      <a:pt x="70" y="2202"/>
                    </a:lnTo>
                    <a:lnTo>
                      <a:pt x="42" y="2244"/>
                    </a:lnTo>
                    <a:lnTo>
                      <a:pt x="14" y="2301"/>
                    </a:lnTo>
                    <a:lnTo>
                      <a:pt x="0" y="2343"/>
                    </a:lnTo>
                    <a:lnTo>
                      <a:pt x="0" y="2372"/>
                    </a:lnTo>
                  </a:path>
                </a:pathLst>
              </a:custGeom>
              <a:noFill/>
              <a:ln cap="rnd" w="50760">
                <a:solidFill>
                  <a:srgbClr val="4f81bd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2" name="Rectangle 48"/>
              <p:cNvSpPr/>
              <p:nvPr/>
            </p:nvSpPr>
            <p:spPr>
              <a:xfrm>
                <a:off x="7036560" y="942840"/>
                <a:ext cx="3906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8000" rIns="108000" tIns="54000" bIns="54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266840"/>
                    <a:tab algn="l" pos="2533680"/>
                    <a:tab algn="l" pos="3800520"/>
                    <a:tab algn="l" pos="5067360"/>
                    <a:tab algn="l" pos="6334200"/>
                    <a:tab algn="l" pos="7601040"/>
                    <a:tab algn="l" pos="8867880"/>
                    <a:tab algn="l" pos="1013472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entury Gothic"/>
                  </a:rPr>
                  <a:t>y</a:t>
                </a: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2"/>
          <p:cNvSpPr/>
          <p:nvPr/>
        </p:nvSpPr>
        <p:spPr>
          <a:xfrm>
            <a:off x="76320" y="299880"/>
            <a:ext cx="91454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54000" bIns="54000" anchor="ctr">
            <a:noAutofit/>
          </a:bodyPr>
          <a:p>
            <a:pPr algn="ctr">
              <a:tabLst>
                <a:tab algn="l" pos="0"/>
                <a:tab algn="l" pos="1266840"/>
                <a:tab algn="l" pos="2533680"/>
                <a:tab algn="l" pos="3800520"/>
                <a:tab algn="l" pos="5067360"/>
                <a:tab algn="l" pos="6334200"/>
                <a:tab algn="l" pos="7601040"/>
                <a:tab algn="l" pos="8867880"/>
                <a:tab algn="l" pos="1013472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imes New Roman"/>
              </a:rPr>
              <a:t>Simple Gas Filled Detector</a:t>
            </a:r>
            <a:endParaRPr b="0" lang="en-US" sz="3800" spc="-1" strike="noStrike">
              <a:solidFill>
                <a:srgbClr val="4f81bd"/>
              </a:solidFill>
              <a:latin typeface="Times New Roman"/>
            </a:endParaRPr>
          </a:p>
        </p:txBody>
      </p:sp>
      <p:grpSp>
        <p:nvGrpSpPr>
          <p:cNvPr id="844" name="Group 30"/>
          <p:cNvGrpSpPr/>
          <p:nvPr/>
        </p:nvGrpSpPr>
        <p:grpSpPr>
          <a:xfrm>
            <a:off x="1165320" y="2344680"/>
            <a:ext cx="6896160" cy="3230640"/>
            <a:chOff x="1165320" y="2344680"/>
            <a:chExt cx="6896160" cy="3230640"/>
          </a:xfrm>
        </p:grpSpPr>
        <p:grpSp>
          <p:nvGrpSpPr>
            <p:cNvPr id="845" name="Group 6"/>
            <p:cNvGrpSpPr/>
            <p:nvPr/>
          </p:nvGrpSpPr>
          <p:grpSpPr>
            <a:xfrm>
              <a:off x="1965240" y="2974680"/>
              <a:ext cx="5019840" cy="2600640"/>
              <a:chOff x="1965240" y="2974680"/>
              <a:chExt cx="5019840" cy="2600640"/>
            </a:xfrm>
          </p:grpSpPr>
          <p:sp>
            <p:nvSpPr>
              <p:cNvPr id="846" name="Line 3"/>
              <p:cNvSpPr/>
              <p:nvPr/>
            </p:nvSpPr>
            <p:spPr>
              <a:xfrm>
                <a:off x="1965240" y="3692520"/>
                <a:ext cx="0" cy="107640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7" name="Line 4"/>
              <p:cNvSpPr/>
              <p:nvPr/>
            </p:nvSpPr>
            <p:spPr>
              <a:xfrm>
                <a:off x="1965240" y="5575320"/>
                <a:ext cx="5019840" cy="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48" name="Line 5"/>
              <p:cNvSpPr/>
              <p:nvPr/>
            </p:nvSpPr>
            <p:spPr>
              <a:xfrm flipV="1">
                <a:off x="6985080" y="2974680"/>
                <a:ext cx="0" cy="1523880"/>
              </a:xfrm>
              <a:prstGeom prst="line">
                <a:avLst/>
              </a:prstGeom>
              <a:ln w="255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49" name="Line 7"/>
            <p:cNvSpPr/>
            <p:nvPr/>
          </p:nvSpPr>
          <p:spPr>
            <a:xfrm>
              <a:off x="1874880" y="485784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0" name="Line 8"/>
            <p:cNvSpPr/>
            <p:nvPr/>
          </p:nvSpPr>
          <p:spPr>
            <a:xfrm>
              <a:off x="1785960" y="4948200"/>
              <a:ext cx="35892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1" name="Line 9"/>
            <p:cNvSpPr/>
            <p:nvPr/>
          </p:nvSpPr>
          <p:spPr>
            <a:xfrm>
              <a:off x="1874880" y="512748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2" name="Line 10"/>
            <p:cNvSpPr/>
            <p:nvPr/>
          </p:nvSpPr>
          <p:spPr>
            <a:xfrm>
              <a:off x="1874880" y="5037120"/>
              <a:ext cx="179280" cy="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3" name="Line 11"/>
            <p:cNvSpPr/>
            <p:nvPr/>
          </p:nvSpPr>
          <p:spPr>
            <a:xfrm flipV="1">
              <a:off x="1965240" y="5216040"/>
              <a:ext cx="0" cy="35892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4" name="Freeform 12"/>
            <p:cNvSpPr/>
            <p:nvPr/>
          </p:nvSpPr>
          <p:spPr>
            <a:xfrm>
              <a:off x="6897600" y="4498920"/>
              <a:ext cx="184320" cy="539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539640"/>
                <a:gd name="textAreaBottom" fmla="*/ 540000 h 539640"/>
              </a:gdLst>
              <a:ahLst/>
              <a:rect l="textAreaLeft" t="textAreaTop" r="textAreaRight" b="textAreaBottom"/>
              <a:pathLst>
                <a:path w="116" h="340">
                  <a:moveTo>
                    <a:pt x="55" y="0"/>
                  </a:moveTo>
                  <a:lnTo>
                    <a:pt x="88" y="50"/>
                  </a:lnTo>
                  <a:lnTo>
                    <a:pt x="115" y="63"/>
                  </a:lnTo>
                  <a:lnTo>
                    <a:pt x="88" y="101"/>
                  </a:lnTo>
                  <a:lnTo>
                    <a:pt x="50" y="113"/>
                  </a:lnTo>
                  <a:lnTo>
                    <a:pt x="26" y="138"/>
                  </a:lnTo>
                  <a:lnTo>
                    <a:pt x="0" y="163"/>
                  </a:lnTo>
                  <a:lnTo>
                    <a:pt x="26" y="189"/>
                  </a:lnTo>
                  <a:lnTo>
                    <a:pt x="64" y="201"/>
                  </a:lnTo>
                  <a:lnTo>
                    <a:pt x="88" y="227"/>
                  </a:lnTo>
                  <a:lnTo>
                    <a:pt x="50" y="251"/>
                  </a:lnTo>
                  <a:lnTo>
                    <a:pt x="37" y="277"/>
                  </a:lnTo>
                  <a:lnTo>
                    <a:pt x="0" y="302"/>
                  </a:lnTo>
                  <a:lnTo>
                    <a:pt x="26" y="315"/>
                  </a:lnTo>
                  <a:lnTo>
                    <a:pt x="64" y="327"/>
                  </a:lnTo>
                  <a:lnTo>
                    <a:pt x="55" y="339"/>
                  </a:lnTo>
                </a:path>
              </a:pathLst>
            </a:custGeom>
            <a:noFill/>
            <a:ln cap="rnd" w="25560">
              <a:solidFill>
                <a:srgbClr val="66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5" name="Line 13"/>
            <p:cNvSpPr/>
            <p:nvPr/>
          </p:nvSpPr>
          <p:spPr>
            <a:xfrm>
              <a:off x="6985080" y="5035680"/>
              <a:ext cx="0" cy="539640"/>
            </a:xfrm>
            <a:prstGeom prst="line">
              <a:avLst/>
            </a:prstGeom>
            <a:ln w="255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6" name="AutoShape 14"/>
            <p:cNvSpPr/>
            <p:nvPr/>
          </p:nvSpPr>
          <p:spPr>
            <a:xfrm>
              <a:off x="1165320" y="2443320"/>
              <a:ext cx="4917960" cy="1242720"/>
            </a:xfrm>
            <a:prstGeom prst="roundRect">
              <a:avLst>
                <a:gd name="adj" fmla="val 12486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7" name="Oval 15"/>
            <p:cNvSpPr/>
            <p:nvPr/>
          </p:nvSpPr>
          <p:spPr>
            <a:xfrm>
              <a:off x="5737320" y="2443320"/>
              <a:ext cx="525240" cy="1242720"/>
            </a:xfrm>
            <a:prstGeom prst="ellipse">
              <a:avLst/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8" name="Line 16"/>
            <p:cNvSpPr/>
            <p:nvPr/>
          </p:nvSpPr>
          <p:spPr>
            <a:xfrm>
              <a:off x="2592360" y="2975040"/>
              <a:ext cx="5200560" cy="0"/>
            </a:xfrm>
            <a:prstGeom prst="line">
              <a:avLst/>
            </a:prstGeom>
            <a:ln w="507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59" name="Rectangle 17"/>
            <p:cNvSpPr/>
            <p:nvPr/>
          </p:nvSpPr>
          <p:spPr>
            <a:xfrm>
              <a:off x="2990880" y="2532240"/>
              <a:ext cx="13125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1" lang="en-US" sz="2400" spc="-1" strike="noStrike">
                  <a:solidFill>
                    <a:srgbClr val="cc3300"/>
                  </a:solidFill>
                  <a:latin typeface="Times New Roman"/>
                </a:rPr>
                <a:t>Anode 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0" name="Rectangle 18"/>
            <p:cNvSpPr/>
            <p:nvPr/>
          </p:nvSpPr>
          <p:spPr>
            <a:xfrm>
              <a:off x="1736640" y="3284640"/>
              <a:ext cx="160812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800" spc="-1" strike="noStrike">
                  <a:solidFill>
                    <a:srgbClr val="c0504d"/>
                  </a:solidFill>
                  <a:latin typeface="Times New Roman"/>
                </a:rPr>
                <a:t>Cathode -</a:t>
              </a:r>
              <a:endParaRPr b="0" lang="en-US" sz="28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1" name="Rectangle 19"/>
            <p:cNvSpPr/>
            <p:nvPr/>
          </p:nvSpPr>
          <p:spPr>
            <a:xfrm>
              <a:off x="6877800" y="2344680"/>
              <a:ext cx="11556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To meter </a:t>
              </a:r>
              <a:endParaRPr b="0" lang="en-US" sz="19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2" name="Line 20"/>
            <p:cNvSpPr/>
            <p:nvPr/>
          </p:nvSpPr>
          <p:spPr>
            <a:xfrm>
              <a:off x="6896160" y="2795760"/>
              <a:ext cx="1165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3" name="Rectangle 21"/>
            <p:cNvSpPr/>
            <p:nvPr/>
          </p:nvSpPr>
          <p:spPr>
            <a:xfrm>
              <a:off x="275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4" name="Rectangle 22"/>
            <p:cNvSpPr/>
            <p:nvPr/>
          </p:nvSpPr>
          <p:spPr>
            <a:xfrm>
              <a:off x="33850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5" name="Rectangle 23"/>
            <p:cNvSpPr/>
            <p:nvPr/>
          </p:nvSpPr>
          <p:spPr>
            <a:xfrm>
              <a:off x="38325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6" name="Rectangle 24"/>
            <p:cNvSpPr/>
            <p:nvPr/>
          </p:nvSpPr>
          <p:spPr>
            <a:xfrm>
              <a:off x="41914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7" name="Rectangle 25"/>
            <p:cNvSpPr/>
            <p:nvPr/>
          </p:nvSpPr>
          <p:spPr>
            <a:xfrm>
              <a:off x="4638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8" name="Rectangle 26"/>
            <p:cNvSpPr/>
            <p:nvPr/>
          </p:nvSpPr>
          <p:spPr>
            <a:xfrm>
              <a:off x="499788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69" name="Rectangle 27"/>
            <p:cNvSpPr/>
            <p:nvPr/>
          </p:nvSpPr>
          <p:spPr>
            <a:xfrm>
              <a:off x="3200400" y="3370320"/>
              <a:ext cx="142236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++++++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0" name="Rectangle 28"/>
            <p:cNvSpPr/>
            <p:nvPr/>
          </p:nvSpPr>
          <p:spPr>
            <a:xfrm>
              <a:off x="1860840" y="256392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1" name="Rectangle 29"/>
            <p:cNvSpPr/>
            <p:nvPr/>
          </p:nvSpPr>
          <p:spPr>
            <a:xfrm>
              <a:off x="2487960" y="2922480"/>
              <a:ext cx="411840" cy="4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108000" tIns="54000" bIns="54000" anchor="t">
              <a:spAutoFit/>
            </a:bodyPr>
            <a:p>
              <a:pPr>
                <a:tabLst>
                  <a:tab algn="l" pos="0"/>
                  <a:tab algn="l" pos="1266840"/>
                  <a:tab algn="l" pos="2533680"/>
                  <a:tab algn="l" pos="3800520"/>
                  <a:tab algn="l" pos="5067360"/>
                  <a:tab algn="l" pos="6334200"/>
                  <a:tab algn="l" pos="7601040"/>
                  <a:tab algn="l" pos="8867880"/>
                  <a:tab algn="l" pos="1013472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Gas Amplification Curv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3" name="Group 24"/>
          <p:cNvGrpSpPr/>
          <p:nvPr/>
        </p:nvGrpSpPr>
        <p:grpSpPr>
          <a:xfrm>
            <a:off x="528480" y="2055600"/>
            <a:ext cx="8006040" cy="4688640"/>
            <a:chOff x="528480" y="2055600"/>
            <a:chExt cx="8006040" cy="4688640"/>
          </a:xfrm>
        </p:grpSpPr>
        <p:sp>
          <p:nvSpPr>
            <p:cNvPr id="874" name="Rectangle 3"/>
            <p:cNvSpPr/>
            <p:nvPr/>
          </p:nvSpPr>
          <p:spPr>
            <a:xfrm>
              <a:off x="1228680" y="2057400"/>
              <a:ext cx="7224840" cy="40910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5" name="Freeform 4"/>
            <p:cNvSpPr/>
            <p:nvPr/>
          </p:nvSpPr>
          <p:spPr>
            <a:xfrm>
              <a:off x="1228680" y="3057480"/>
              <a:ext cx="6585120" cy="3092400"/>
            </a:xfrm>
            <a:custGeom>
              <a:avLst/>
              <a:gdLst>
                <a:gd name="textAreaLeft" fmla="*/ 0 w 6585120"/>
                <a:gd name="textAreaRight" fmla="*/ 6585480 w 6585120"/>
                <a:gd name="textAreaTop" fmla="*/ 0 h 3092400"/>
                <a:gd name="textAreaBottom" fmla="*/ 3092760 h 3092400"/>
              </a:gdLst>
              <a:ahLst/>
              <a:rect l="textAreaLeft" t="textAreaTop" r="textAreaRight" b="textAreaBottom"/>
              <a:pathLst>
                <a:path w="4148" h="1948">
                  <a:moveTo>
                    <a:pt x="0" y="1947"/>
                  </a:moveTo>
                  <a:lnTo>
                    <a:pt x="6" y="1892"/>
                  </a:lnTo>
                  <a:lnTo>
                    <a:pt x="16" y="1857"/>
                  </a:lnTo>
                  <a:lnTo>
                    <a:pt x="40" y="1823"/>
                  </a:lnTo>
                  <a:lnTo>
                    <a:pt x="62" y="1799"/>
                  </a:lnTo>
                  <a:lnTo>
                    <a:pt x="94" y="1776"/>
                  </a:lnTo>
                  <a:lnTo>
                    <a:pt x="128" y="1765"/>
                  </a:lnTo>
                  <a:lnTo>
                    <a:pt x="161" y="1742"/>
                  </a:lnTo>
                  <a:lnTo>
                    <a:pt x="194" y="1730"/>
                  </a:lnTo>
                  <a:lnTo>
                    <a:pt x="227" y="1707"/>
                  </a:lnTo>
                  <a:lnTo>
                    <a:pt x="305" y="1696"/>
                  </a:lnTo>
                  <a:lnTo>
                    <a:pt x="339" y="1684"/>
                  </a:lnTo>
                  <a:lnTo>
                    <a:pt x="383" y="1661"/>
                  </a:lnTo>
                  <a:lnTo>
                    <a:pt x="416" y="1650"/>
                  </a:lnTo>
                  <a:lnTo>
                    <a:pt x="449" y="1638"/>
                  </a:lnTo>
                  <a:lnTo>
                    <a:pt x="482" y="1638"/>
                  </a:lnTo>
                  <a:lnTo>
                    <a:pt x="516" y="1638"/>
                  </a:lnTo>
                  <a:lnTo>
                    <a:pt x="594" y="1627"/>
                  </a:lnTo>
                  <a:lnTo>
                    <a:pt x="660" y="1627"/>
                  </a:lnTo>
                  <a:lnTo>
                    <a:pt x="693" y="1627"/>
                  </a:lnTo>
                  <a:lnTo>
                    <a:pt x="726" y="1627"/>
                  </a:lnTo>
                  <a:lnTo>
                    <a:pt x="771" y="1627"/>
                  </a:lnTo>
                  <a:lnTo>
                    <a:pt x="804" y="1615"/>
                  </a:lnTo>
                  <a:lnTo>
                    <a:pt x="837" y="1615"/>
                  </a:lnTo>
                  <a:lnTo>
                    <a:pt x="871" y="1602"/>
                  </a:lnTo>
                  <a:lnTo>
                    <a:pt x="903" y="1602"/>
                  </a:lnTo>
                  <a:lnTo>
                    <a:pt x="981" y="1602"/>
                  </a:lnTo>
                  <a:lnTo>
                    <a:pt x="1026" y="1602"/>
                  </a:lnTo>
                  <a:lnTo>
                    <a:pt x="1059" y="1602"/>
                  </a:lnTo>
                  <a:lnTo>
                    <a:pt x="1104" y="1568"/>
                  </a:lnTo>
                  <a:lnTo>
                    <a:pt x="1136" y="1533"/>
                  </a:lnTo>
                  <a:lnTo>
                    <a:pt x="1170" y="1499"/>
                  </a:lnTo>
                  <a:lnTo>
                    <a:pt x="1204" y="1464"/>
                  </a:lnTo>
                  <a:lnTo>
                    <a:pt x="1236" y="1418"/>
                  </a:lnTo>
                  <a:lnTo>
                    <a:pt x="1259" y="1383"/>
                  </a:lnTo>
                  <a:lnTo>
                    <a:pt x="1292" y="1349"/>
                  </a:lnTo>
                  <a:lnTo>
                    <a:pt x="1337" y="1303"/>
                  </a:lnTo>
                  <a:lnTo>
                    <a:pt x="1369" y="1268"/>
                  </a:lnTo>
                  <a:lnTo>
                    <a:pt x="1391" y="1234"/>
                  </a:lnTo>
                  <a:lnTo>
                    <a:pt x="1437" y="1199"/>
                  </a:lnTo>
                  <a:lnTo>
                    <a:pt x="1469" y="1164"/>
                  </a:lnTo>
                  <a:lnTo>
                    <a:pt x="1503" y="1141"/>
                  </a:lnTo>
                  <a:lnTo>
                    <a:pt x="1536" y="1107"/>
                  </a:lnTo>
                  <a:lnTo>
                    <a:pt x="1569" y="1072"/>
                  </a:lnTo>
                  <a:lnTo>
                    <a:pt x="1602" y="1038"/>
                  </a:lnTo>
                  <a:lnTo>
                    <a:pt x="1636" y="1015"/>
                  </a:lnTo>
                  <a:lnTo>
                    <a:pt x="1669" y="980"/>
                  </a:lnTo>
                  <a:lnTo>
                    <a:pt x="1758" y="934"/>
                  </a:lnTo>
                  <a:lnTo>
                    <a:pt x="1791" y="899"/>
                  </a:lnTo>
                  <a:lnTo>
                    <a:pt x="1824" y="865"/>
                  </a:lnTo>
                  <a:lnTo>
                    <a:pt x="1857" y="842"/>
                  </a:lnTo>
                  <a:lnTo>
                    <a:pt x="1891" y="807"/>
                  </a:lnTo>
                  <a:lnTo>
                    <a:pt x="1913" y="772"/>
                  </a:lnTo>
                  <a:lnTo>
                    <a:pt x="1947" y="749"/>
                  </a:lnTo>
                  <a:lnTo>
                    <a:pt x="1979" y="715"/>
                  </a:lnTo>
                  <a:lnTo>
                    <a:pt x="2001" y="680"/>
                  </a:lnTo>
                  <a:lnTo>
                    <a:pt x="2023" y="646"/>
                  </a:lnTo>
                  <a:lnTo>
                    <a:pt x="2035" y="611"/>
                  </a:lnTo>
                  <a:lnTo>
                    <a:pt x="2079" y="519"/>
                  </a:lnTo>
                  <a:lnTo>
                    <a:pt x="2090" y="484"/>
                  </a:lnTo>
                  <a:lnTo>
                    <a:pt x="2124" y="461"/>
                  </a:lnTo>
                  <a:lnTo>
                    <a:pt x="2168" y="427"/>
                  </a:lnTo>
                  <a:lnTo>
                    <a:pt x="2202" y="392"/>
                  </a:lnTo>
                  <a:lnTo>
                    <a:pt x="2234" y="369"/>
                  </a:lnTo>
                  <a:lnTo>
                    <a:pt x="2312" y="334"/>
                  </a:lnTo>
                  <a:lnTo>
                    <a:pt x="2345" y="311"/>
                  </a:lnTo>
                  <a:lnTo>
                    <a:pt x="2368" y="300"/>
                  </a:lnTo>
                  <a:lnTo>
                    <a:pt x="2401" y="277"/>
                  </a:lnTo>
                  <a:lnTo>
                    <a:pt x="2434" y="254"/>
                  </a:lnTo>
                  <a:lnTo>
                    <a:pt x="2467" y="242"/>
                  </a:lnTo>
                  <a:lnTo>
                    <a:pt x="2501" y="231"/>
                  </a:lnTo>
                  <a:lnTo>
                    <a:pt x="2545" y="208"/>
                  </a:lnTo>
                  <a:lnTo>
                    <a:pt x="2634" y="196"/>
                  </a:lnTo>
                  <a:lnTo>
                    <a:pt x="2667" y="196"/>
                  </a:lnTo>
                  <a:lnTo>
                    <a:pt x="2756" y="185"/>
                  </a:lnTo>
                  <a:lnTo>
                    <a:pt x="2834" y="185"/>
                  </a:lnTo>
                  <a:lnTo>
                    <a:pt x="2911" y="173"/>
                  </a:lnTo>
                  <a:lnTo>
                    <a:pt x="3021" y="173"/>
                  </a:lnTo>
                  <a:lnTo>
                    <a:pt x="3089" y="173"/>
                  </a:lnTo>
                  <a:lnTo>
                    <a:pt x="3210" y="173"/>
                  </a:lnTo>
                  <a:lnTo>
                    <a:pt x="3299" y="173"/>
                  </a:lnTo>
                  <a:lnTo>
                    <a:pt x="3344" y="173"/>
                  </a:lnTo>
                  <a:lnTo>
                    <a:pt x="3410" y="173"/>
                  </a:lnTo>
                  <a:lnTo>
                    <a:pt x="3443" y="173"/>
                  </a:lnTo>
                  <a:lnTo>
                    <a:pt x="3554" y="173"/>
                  </a:lnTo>
                  <a:lnTo>
                    <a:pt x="3587" y="173"/>
                  </a:lnTo>
                  <a:lnTo>
                    <a:pt x="3676" y="173"/>
                  </a:lnTo>
                  <a:lnTo>
                    <a:pt x="3765" y="173"/>
                  </a:lnTo>
                  <a:lnTo>
                    <a:pt x="3854" y="173"/>
                  </a:lnTo>
                  <a:lnTo>
                    <a:pt x="3886" y="173"/>
                  </a:lnTo>
                  <a:lnTo>
                    <a:pt x="3920" y="150"/>
                  </a:lnTo>
                  <a:lnTo>
                    <a:pt x="3953" y="138"/>
                  </a:lnTo>
                  <a:lnTo>
                    <a:pt x="3986" y="115"/>
                  </a:lnTo>
                  <a:lnTo>
                    <a:pt x="4031" y="92"/>
                  </a:lnTo>
                  <a:lnTo>
                    <a:pt x="4075" y="58"/>
                  </a:lnTo>
                  <a:lnTo>
                    <a:pt x="4109" y="23"/>
                  </a:lnTo>
                  <a:lnTo>
                    <a:pt x="4141" y="0"/>
                  </a:lnTo>
                  <a:lnTo>
                    <a:pt x="4147" y="1"/>
                  </a:lnTo>
                </a:path>
              </a:pathLst>
            </a:custGeom>
            <a:noFill/>
            <a:ln cap="rnd" w="25560">
              <a:solidFill>
                <a:srgbClr val="4f81b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6" name="Freeform 5"/>
            <p:cNvSpPr/>
            <p:nvPr/>
          </p:nvSpPr>
          <p:spPr>
            <a:xfrm>
              <a:off x="1228680" y="2975040"/>
              <a:ext cx="6666120" cy="2506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2506680"/>
                <a:gd name="textAreaBottom" fmla="*/ 2507040 h 2506680"/>
              </a:gdLst>
              <a:ahLst/>
              <a:rect l="textAreaLeft" t="textAreaTop" r="textAreaRight" b="textAreaBottom"/>
              <a:pathLst>
                <a:path w="4199" h="1579">
                  <a:moveTo>
                    <a:pt x="0" y="1578"/>
                  </a:moveTo>
                  <a:lnTo>
                    <a:pt x="28" y="1528"/>
                  </a:lnTo>
                  <a:lnTo>
                    <a:pt x="50" y="1493"/>
                  </a:lnTo>
                  <a:lnTo>
                    <a:pt x="84" y="1470"/>
                  </a:lnTo>
                  <a:lnTo>
                    <a:pt x="128" y="1447"/>
                  </a:lnTo>
                  <a:lnTo>
                    <a:pt x="172" y="1435"/>
                  </a:lnTo>
                  <a:lnTo>
                    <a:pt x="205" y="1424"/>
                  </a:lnTo>
                  <a:lnTo>
                    <a:pt x="272" y="1412"/>
                  </a:lnTo>
                  <a:lnTo>
                    <a:pt x="305" y="1401"/>
                  </a:lnTo>
                  <a:lnTo>
                    <a:pt x="371" y="1401"/>
                  </a:lnTo>
                  <a:lnTo>
                    <a:pt x="405" y="1401"/>
                  </a:lnTo>
                  <a:lnTo>
                    <a:pt x="438" y="1389"/>
                  </a:lnTo>
                  <a:lnTo>
                    <a:pt x="482" y="1366"/>
                  </a:lnTo>
                  <a:lnTo>
                    <a:pt x="505" y="1366"/>
                  </a:lnTo>
                  <a:lnTo>
                    <a:pt x="538" y="1355"/>
                  </a:lnTo>
                  <a:lnTo>
                    <a:pt x="572" y="1355"/>
                  </a:lnTo>
                  <a:lnTo>
                    <a:pt x="660" y="1355"/>
                  </a:lnTo>
                  <a:lnTo>
                    <a:pt x="727" y="1343"/>
                  </a:lnTo>
                  <a:lnTo>
                    <a:pt x="837" y="1332"/>
                  </a:lnTo>
                  <a:lnTo>
                    <a:pt x="881" y="1332"/>
                  </a:lnTo>
                  <a:lnTo>
                    <a:pt x="915" y="1320"/>
                  </a:lnTo>
                  <a:lnTo>
                    <a:pt x="948" y="1309"/>
                  </a:lnTo>
                  <a:lnTo>
                    <a:pt x="971" y="1309"/>
                  </a:lnTo>
                  <a:lnTo>
                    <a:pt x="1082" y="1274"/>
                  </a:lnTo>
                  <a:lnTo>
                    <a:pt x="1170" y="1263"/>
                  </a:lnTo>
                  <a:lnTo>
                    <a:pt x="1204" y="1239"/>
                  </a:lnTo>
                  <a:lnTo>
                    <a:pt x="1248" y="1205"/>
                  </a:lnTo>
                  <a:lnTo>
                    <a:pt x="1315" y="1182"/>
                  </a:lnTo>
                  <a:lnTo>
                    <a:pt x="1347" y="1147"/>
                  </a:lnTo>
                  <a:lnTo>
                    <a:pt x="1369" y="1113"/>
                  </a:lnTo>
                  <a:lnTo>
                    <a:pt x="1437" y="1090"/>
                  </a:lnTo>
                  <a:lnTo>
                    <a:pt x="1481" y="1055"/>
                  </a:lnTo>
                  <a:lnTo>
                    <a:pt x="1558" y="1032"/>
                  </a:lnTo>
                  <a:lnTo>
                    <a:pt x="1602" y="940"/>
                  </a:lnTo>
                  <a:lnTo>
                    <a:pt x="1670" y="917"/>
                  </a:lnTo>
                  <a:lnTo>
                    <a:pt x="1702" y="882"/>
                  </a:lnTo>
                  <a:lnTo>
                    <a:pt x="1724" y="848"/>
                  </a:lnTo>
                  <a:lnTo>
                    <a:pt x="1825" y="813"/>
                  </a:lnTo>
                  <a:lnTo>
                    <a:pt x="1847" y="744"/>
                  </a:lnTo>
                  <a:lnTo>
                    <a:pt x="1891" y="709"/>
                  </a:lnTo>
                  <a:lnTo>
                    <a:pt x="1935" y="675"/>
                  </a:lnTo>
                  <a:lnTo>
                    <a:pt x="1979" y="639"/>
                  </a:lnTo>
                  <a:lnTo>
                    <a:pt x="2013" y="616"/>
                  </a:lnTo>
                  <a:lnTo>
                    <a:pt x="2046" y="581"/>
                  </a:lnTo>
                  <a:lnTo>
                    <a:pt x="2080" y="558"/>
                  </a:lnTo>
                  <a:lnTo>
                    <a:pt x="2112" y="535"/>
                  </a:lnTo>
                  <a:lnTo>
                    <a:pt x="2135" y="512"/>
                  </a:lnTo>
                  <a:lnTo>
                    <a:pt x="2168" y="489"/>
                  </a:lnTo>
                  <a:lnTo>
                    <a:pt x="2202" y="455"/>
                  </a:lnTo>
                  <a:lnTo>
                    <a:pt x="2234" y="432"/>
                  </a:lnTo>
                  <a:lnTo>
                    <a:pt x="2257" y="408"/>
                  </a:lnTo>
                  <a:lnTo>
                    <a:pt x="2290" y="385"/>
                  </a:lnTo>
                  <a:lnTo>
                    <a:pt x="2335" y="362"/>
                  </a:lnTo>
                  <a:lnTo>
                    <a:pt x="2413" y="351"/>
                  </a:lnTo>
                  <a:lnTo>
                    <a:pt x="2445" y="328"/>
                  </a:lnTo>
                  <a:lnTo>
                    <a:pt x="2489" y="316"/>
                  </a:lnTo>
                  <a:lnTo>
                    <a:pt x="2578" y="293"/>
                  </a:lnTo>
                  <a:lnTo>
                    <a:pt x="2601" y="282"/>
                  </a:lnTo>
                  <a:lnTo>
                    <a:pt x="2668" y="270"/>
                  </a:lnTo>
                  <a:lnTo>
                    <a:pt x="2712" y="259"/>
                  </a:lnTo>
                  <a:lnTo>
                    <a:pt x="2789" y="247"/>
                  </a:lnTo>
                  <a:lnTo>
                    <a:pt x="2822" y="236"/>
                  </a:lnTo>
                  <a:lnTo>
                    <a:pt x="2889" y="224"/>
                  </a:lnTo>
                  <a:lnTo>
                    <a:pt x="2955" y="224"/>
                  </a:lnTo>
                  <a:lnTo>
                    <a:pt x="2989" y="224"/>
                  </a:lnTo>
                  <a:lnTo>
                    <a:pt x="3100" y="224"/>
                  </a:lnTo>
                  <a:lnTo>
                    <a:pt x="3188" y="224"/>
                  </a:lnTo>
                  <a:lnTo>
                    <a:pt x="3222" y="224"/>
                  </a:lnTo>
                  <a:lnTo>
                    <a:pt x="3332" y="224"/>
                  </a:lnTo>
                  <a:lnTo>
                    <a:pt x="3421" y="224"/>
                  </a:lnTo>
                  <a:lnTo>
                    <a:pt x="3487" y="224"/>
                  </a:lnTo>
                  <a:lnTo>
                    <a:pt x="3565" y="224"/>
                  </a:lnTo>
                  <a:lnTo>
                    <a:pt x="3676" y="224"/>
                  </a:lnTo>
                  <a:lnTo>
                    <a:pt x="3742" y="224"/>
                  </a:lnTo>
                  <a:lnTo>
                    <a:pt x="3810" y="224"/>
                  </a:lnTo>
                  <a:lnTo>
                    <a:pt x="3887" y="212"/>
                  </a:lnTo>
                  <a:lnTo>
                    <a:pt x="3975" y="201"/>
                  </a:lnTo>
                  <a:lnTo>
                    <a:pt x="4053" y="178"/>
                  </a:lnTo>
                  <a:lnTo>
                    <a:pt x="4087" y="155"/>
                  </a:lnTo>
                  <a:lnTo>
                    <a:pt x="4109" y="120"/>
                  </a:lnTo>
                  <a:lnTo>
                    <a:pt x="4142" y="86"/>
                  </a:lnTo>
                  <a:lnTo>
                    <a:pt x="4153" y="51"/>
                  </a:lnTo>
                  <a:lnTo>
                    <a:pt x="4198" y="0"/>
                  </a:lnTo>
                </a:path>
              </a:pathLst>
            </a:custGeom>
            <a:noFill/>
            <a:ln cap="rnd"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7" name="Freeform 6"/>
            <p:cNvSpPr/>
            <p:nvPr/>
          </p:nvSpPr>
          <p:spPr>
            <a:xfrm>
              <a:off x="1228680" y="2975040"/>
              <a:ext cx="6666120" cy="167616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4199" h="1056">
                  <a:moveTo>
                    <a:pt x="0" y="1051"/>
                  </a:moveTo>
                  <a:lnTo>
                    <a:pt x="72" y="1055"/>
                  </a:lnTo>
                  <a:lnTo>
                    <a:pt x="116" y="1031"/>
                  </a:lnTo>
                  <a:lnTo>
                    <a:pt x="194" y="1008"/>
                  </a:lnTo>
                  <a:lnTo>
                    <a:pt x="239" y="985"/>
                  </a:lnTo>
                  <a:lnTo>
                    <a:pt x="283" y="973"/>
                  </a:lnTo>
                  <a:lnTo>
                    <a:pt x="317" y="962"/>
                  </a:lnTo>
                  <a:lnTo>
                    <a:pt x="349" y="950"/>
                  </a:lnTo>
                  <a:lnTo>
                    <a:pt x="383" y="950"/>
                  </a:lnTo>
                  <a:lnTo>
                    <a:pt x="416" y="950"/>
                  </a:lnTo>
                  <a:lnTo>
                    <a:pt x="449" y="950"/>
                  </a:lnTo>
                  <a:lnTo>
                    <a:pt x="527" y="950"/>
                  </a:lnTo>
                  <a:lnTo>
                    <a:pt x="560" y="939"/>
                  </a:lnTo>
                  <a:lnTo>
                    <a:pt x="594" y="927"/>
                  </a:lnTo>
                  <a:lnTo>
                    <a:pt x="626" y="927"/>
                  </a:lnTo>
                  <a:lnTo>
                    <a:pt x="660" y="927"/>
                  </a:lnTo>
                  <a:lnTo>
                    <a:pt x="704" y="904"/>
                  </a:lnTo>
                  <a:lnTo>
                    <a:pt x="738" y="904"/>
                  </a:lnTo>
                  <a:lnTo>
                    <a:pt x="815" y="893"/>
                  </a:lnTo>
                  <a:lnTo>
                    <a:pt x="849" y="881"/>
                  </a:lnTo>
                  <a:lnTo>
                    <a:pt x="881" y="870"/>
                  </a:lnTo>
                  <a:lnTo>
                    <a:pt x="948" y="870"/>
                  </a:lnTo>
                  <a:lnTo>
                    <a:pt x="1015" y="858"/>
                  </a:lnTo>
                  <a:lnTo>
                    <a:pt x="1104" y="835"/>
                  </a:lnTo>
                  <a:lnTo>
                    <a:pt x="1148" y="823"/>
                  </a:lnTo>
                  <a:lnTo>
                    <a:pt x="1214" y="812"/>
                  </a:lnTo>
                  <a:lnTo>
                    <a:pt x="1292" y="800"/>
                  </a:lnTo>
                  <a:lnTo>
                    <a:pt x="1381" y="789"/>
                  </a:lnTo>
                  <a:lnTo>
                    <a:pt x="1469" y="777"/>
                  </a:lnTo>
                  <a:lnTo>
                    <a:pt x="1503" y="777"/>
                  </a:lnTo>
                  <a:lnTo>
                    <a:pt x="1580" y="777"/>
                  </a:lnTo>
                  <a:lnTo>
                    <a:pt x="1614" y="766"/>
                  </a:lnTo>
                  <a:lnTo>
                    <a:pt x="1646" y="743"/>
                  </a:lnTo>
                  <a:lnTo>
                    <a:pt x="1670" y="731"/>
                  </a:lnTo>
                  <a:lnTo>
                    <a:pt x="1702" y="708"/>
                  </a:lnTo>
                  <a:lnTo>
                    <a:pt x="1736" y="685"/>
                  </a:lnTo>
                  <a:lnTo>
                    <a:pt x="1769" y="674"/>
                  </a:lnTo>
                  <a:lnTo>
                    <a:pt x="1802" y="662"/>
                  </a:lnTo>
                  <a:lnTo>
                    <a:pt x="1847" y="639"/>
                  </a:lnTo>
                  <a:lnTo>
                    <a:pt x="1891" y="639"/>
                  </a:lnTo>
                  <a:lnTo>
                    <a:pt x="1957" y="628"/>
                  </a:lnTo>
                  <a:lnTo>
                    <a:pt x="1991" y="616"/>
                  </a:lnTo>
                  <a:lnTo>
                    <a:pt x="2024" y="604"/>
                  </a:lnTo>
                  <a:lnTo>
                    <a:pt x="2057" y="570"/>
                  </a:lnTo>
                  <a:lnTo>
                    <a:pt x="2135" y="547"/>
                  </a:lnTo>
                  <a:lnTo>
                    <a:pt x="2168" y="524"/>
                  </a:lnTo>
                  <a:lnTo>
                    <a:pt x="2212" y="489"/>
                  </a:lnTo>
                  <a:lnTo>
                    <a:pt x="2246" y="466"/>
                  </a:lnTo>
                  <a:lnTo>
                    <a:pt x="2279" y="443"/>
                  </a:lnTo>
                  <a:lnTo>
                    <a:pt x="2312" y="420"/>
                  </a:lnTo>
                  <a:lnTo>
                    <a:pt x="2357" y="408"/>
                  </a:lnTo>
                  <a:lnTo>
                    <a:pt x="2401" y="374"/>
                  </a:lnTo>
                  <a:lnTo>
                    <a:pt x="2435" y="362"/>
                  </a:lnTo>
                  <a:lnTo>
                    <a:pt x="2467" y="339"/>
                  </a:lnTo>
                  <a:lnTo>
                    <a:pt x="2512" y="328"/>
                  </a:lnTo>
                  <a:lnTo>
                    <a:pt x="2545" y="316"/>
                  </a:lnTo>
                  <a:lnTo>
                    <a:pt x="2578" y="305"/>
                  </a:lnTo>
                  <a:lnTo>
                    <a:pt x="2601" y="293"/>
                  </a:lnTo>
                  <a:lnTo>
                    <a:pt x="2690" y="282"/>
                  </a:lnTo>
                  <a:lnTo>
                    <a:pt x="2722" y="282"/>
                  </a:lnTo>
                  <a:lnTo>
                    <a:pt x="2822" y="270"/>
                  </a:lnTo>
                  <a:lnTo>
                    <a:pt x="2889" y="270"/>
                  </a:lnTo>
                  <a:lnTo>
                    <a:pt x="2923" y="270"/>
                  </a:lnTo>
                  <a:lnTo>
                    <a:pt x="2955" y="270"/>
                  </a:lnTo>
                  <a:lnTo>
                    <a:pt x="2989" y="270"/>
                  </a:lnTo>
                  <a:lnTo>
                    <a:pt x="3089" y="259"/>
                  </a:lnTo>
                  <a:lnTo>
                    <a:pt x="3155" y="259"/>
                  </a:lnTo>
                  <a:lnTo>
                    <a:pt x="3266" y="259"/>
                  </a:lnTo>
                  <a:lnTo>
                    <a:pt x="3377" y="259"/>
                  </a:lnTo>
                  <a:lnTo>
                    <a:pt x="3465" y="259"/>
                  </a:lnTo>
                  <a:lnTo>
                    <a:pt x="3555" y="259"/>
                  </a:lnTo>
                  <a:lnTo>
                    <a:pt x="3621" y="259"/>
                  </a:lnTo>
                  <a:lnTo>
                    <a:pt x="3688" y="259"/>
                  </a:lnTo>
                  <a:lnTo>
                    <a:pt x="3720" y="247"/>
                  </a:lnTo>
                  <a:lnTo>
                    <a:pt x="3754" y="247"/>
                  </a:lnTo>
                  <a:lnTo>
                    <a:pt x="3788" y="224"/>
                  </a:lnTo>
                  <a:lnTo>
                    <a:pt x="3876" y="212"/>
                  </a:lnTo>
                  <a:lnTo>
                    <a:pt x="3909" y="201"/>
                  </a:lnTo>
                  <a:lnTo>
                    <a:pt x="3998" y="166"/>
                  </a:lnTo>
                  <a:lnTo>
                    <a:pt x="4043" y="132"/>
                  </a:lnTo>
                  <a:lnTo>
                    <a:pt x="4075" y="109"/>
                  </a:lnTo>
                  <a:lnTo>
                    <a:pt x="4109" y="86"/>
                  </a:lnTo>
                  <a:lnTo>
                    <a:pt x="4142" y="51"/>
                  </a:lnTo>
                  <a:lnTo>
                    <a:pt x="4164" y="17"/>
                  </a:lnTo>
                  <a:lnTo>
                    <a:pt x="4198" y="0"/>
                  </a:lnTo>
                </a:path>
              </a:pathLst>
            </a:custGeom>
            <a:noFill/>
            <a:ln cap="rnd" w="507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78" name="Freeform 7"/>
            <p:cNvSpPr/>
            <p:nvPr/>
          </p:nvSpPr>
          <p:spPr>
            <a:xfrm>
              <a:off x="1228680" y="3040200"/>
              <a:ext cx="6666120" cy="1282680"/>
            </a:xfrm>
            <a:custGeom>
              <a:avLst/>
              <a:gdLst>
                <a:gd name="textAreaLeft" fmla="*/ 0 w 6666120"/>
                <a:gd name="textAreaRight" fmla="*/ 6666480 w 6666120"/>
                <a:gd name="textAreaTop" fmla="*/ 0 h 1282680"/>
                <a:gd name="textAreaBottom" fmla="*/ 1283040 h 1282680"/>
              </a:gdLst>
              <a:ahLst/>
              <a:rect l="textAreaLeft" t="textAreaTop" r="textAreaRight" b="textAreaBottom"/>
              <a:pathLst>
                <a:path w="4199" h="808">
                  <a:moveTo>
                    <a:pt x="0" y="800"/>
                  </a:moveTo>
                  <a:lnTo>
                    <a:pt x="62" y="807"/>
                  </a:lnTo>
                  <a:lnTo>
                    <a:pt x="106" y="782"/>
                  </a:lnTo>
                  <a:lnTo>
                    <a:pt x="139" y="748"/>
                  </a:lnTo>
                  <a:lnTo>
                    <a:pt x="183" y="748"/>
                  </a:lnTo>
                  <a:lnTo>
                    <a:pt x="217" y="736"/>
                  </a:lnTo>
                  <a:lnTo>
                    <a:pt x="261" y="725"/>
                  </a:lnTo>
                  <a:lnTo>
                    <a:pt x="295" y="702"/>
                  </a:lnTo>
                  <a:lnTo>
                    <a:pt x="361" y="690"/>
                  </a:lnTo>
                  <a:lnTo>
                    <a:pt x="394" y="679"/>
                  </a:lnTo>
                  <a:lnTo>
                    <a:pt x="427" y="656"/>
                  </a:lnTo>
                  <a:lnTo>
                    <a:pt x="505" y="656"/>
                  </a:lnTo>
                  <a:lnTo>
                    <a:pt x="538" y="656"/>
                  </a:lnTo>
                  <a:lnTo>
                    <a:pt x="572" y="656"/>
                  </a:lnTo>
                  <a:lnTo>
                    <a:pt x="604" y="656"/>
                  </a:lnTo>
                  <a:lnTo>
                    <a:pt x="638" y="656"/>
                  </a:lnTo>
                  <a:lnTo>
                    <a:pt x="727" y="644"/>
                  </a:lnTo>
                  <a:lnTo>
                    <a:pt x="859" y="644"/>
                  </a:lnTo>
                  <a:lnTo>
                    <a:pt x="926" y="644"/>
                  </a:lnTo>
                  <a:lnTo>
                    <a:pt x="959" y="633"/>
                  </a:lnTo>
                  <a:lnTo>
                    <a:pt x="993" y="621"/>
                  </a:lnTo>
                  <a:lnTo>
                    <a:pt x="1026" y="610"/>
                  </a:lnTo>
                  <a:lnTo>
                    <a:pt x="1136" y="610"/>
                  </a:lnTo>
                  <a:lnTo>
                    <a:pt x="1248" y="610"/>
                  </a:lnTo>
                  <a:lnTo>
                    <a:pt x="1381" y="610"/>
                  </a:lnTo>
                  <a:lnTo>
                    <a:pt x="1492" y="610"/>
                  </a:lnTo>
                  <a:lnTo>
                    <a:pt x="1558" y="610"/>
                  </a:lnTo>
                  <a:lnTo>
                    <a:pt x="1636" y="610"/>
                  </a:lnTo>
                  <a:lnTo>
                    <a:pt x="1702" y="598"/>
                  </a:lnTo>
                  <a:lnTo>
                    <a:pt x="1736" y="588"/>
                  </a:lnTo>
                  <a:lnTo>
                    <a:pt x="1825" y="575"/>
                  </a:lnTo>
                  <a:lnTo>
                    <a:pt x="1857" y="563"/>
                  </a:lnTo>
                  <a:lnTo>
                    <a:pt x="1891" y="563"/>
                  </a:lnTo>
                  <a:lnTo>
                    <a:pt x="1935" y="552"/>
                  </a:lnTo>
                  <a:lnTo>
                    <a:pt x="1969" y="529"/>
                  </a:lnTo>
                  <a:lnTo>
                    <a:pt x="2002" y="517"/>
                  </a:lnTo>
                  <a:lnTo>
                    <a:pt x="2035" y="506"/>
                  </a:lnTo>
                  <a:lnTo>
                    <a:pt x="2068" y="494"/>
                  </a:lnTo>
                  <a:lnTo>
                    <a:pt x="2146" y="471"/>
                  </a:lnTo>
                  <a:lnTo>
                    <a:pt x="2212" y="471"/>
                  </a:lnTo>
                  <a:lnTo>
                    <a:pt x="2257" y="448"/>
                  </a:lnTo>
                  <a:lnTo>
                    <a:pt x="2290" y="425"/>
                  </a:lnTo>
                  <a:lnTo>
                    <a:pt x="2323" y="402"/>
                  </a:lnTo>
                  <a:lnTo>
                    <a:pt x="2390" y="392"/>
                  </a:lnTo>
                  <a:lnTo>
                    <a:pt x="2423" y="367"/>
                  </a:lnTo>
                  <a:lnTo>
                    <a:pt x="2457" y="356"/>
                  </a:lnTo>
                  <a:lnTo>
                    <a:pt x="2489" y="321"/>
                  </a:lnTo>
                  <a:lnTo>
                    <a:pt x="2556" y="310"/>
                  </a:lnTo>
                  <a:lnTo>
                    <a:pt x="2601" y="287"/>
                  </a:lnTo>
                  <a:lnTo>
                    <a:pt x="2634" y="264"/>
                  </a:lnTo>
                  <a:lnTo>
                    <a:pt x="2668" y="252"/>
                  </a:lnTo>
                  <a:lnTo>
                    <a:pt x="2756" y="241"/>
                  </a:lnTo>
                  <a:lnTo>
                    <a:pt x="2822" y="241"/>
                  </a:lnTo>
                  <a:lnTo>
                    <a:pt x="2856" y="229"/>
                  </a:lnTo>
                  <a:lnTo>
                    <a:pt x="2945" y="229"/>
                  </a:lnTo>
                  <a:lnTo>
                    <a:pt x="3033" y="229"/>
                  </a:lnTo>
                  <a:lnTo>
                    <a:pt x="3067" y="229"/>
                  </a:lnTo>
                  <a:lnTo>
                    <a:pt x="3100" y="218"/>
                  </a:lnTo>
                  <a:lnTo>
                    <a:pt x="3188" y="218"/>
                  </a:lnTo>
                  <a:lnTo>
                    <a:pt x="3277" y="218"/>
                  </a:lnTo>
                  <a:lnTo>
                    <a:pt x="3310" y="218"/>
                  </a:lnTo>
                  <a:lnTo>
                    <a:pt x="3377" y="218"/>
                  </a:lnTo>
                  <a:lnTo>
                    <a:pt x="3410" y="218"/>
                  </a:lnTo>
                  <a:lnTo>
                    <a:pt x="3521" y="218"/>
                  </a:lnTo>
                  <a:lnTo>
                    <a:pt x="3610" y="218"/>
                  </a:lnTo>
                  <a:lnTo>
                    <a:pt x="3643" y="218"/>
                  </a:lnTo>
                  <a:lnTo>
                    <a:pt x="3710" y="218"/>
                  </a:lnTo>
                  <a:lnTo>
                    <a:pt x="3776" y="218"/>
                  </a:lnTo>
                  <a:lnTo>
                    <a:pt x="3810" y="218"/>
                  </a:lnTo>
                  <a:lnTo>
                    <a:pt x="3854" y="218"/>
                  </a:lnTo>
                  <a:lnTo>
                    <a:pt x="3898" y="206"/>
                  </a:lnTo>
                  <a:lnTo>
                    <a:pt x="3965" y="196"/>
                  </a:lnTo>
                  <a:lnTo>
                    <a:pt x="4009" y="171"/>
                  </a:lnTo>
                  <a:lnTo>
                    <a:pt x="4043" y="137"/>
                  </a:lnTo>
                  <a:lnTo>
                    <a:pt x="4075" y="114"/>
                  </a:lnTo>
                  <a:lnTo>
                    <a:pt x="4109" y="91"/>
                  </a:lnTo>
                  <a:lnTo>
                    <a:pt x="4142" y="68"/>
                  </a:lnTo>
                  <a:lnTo>
                    <a:pt x="4175" y="33"/>
                  </a:lnTo>
                  <a:lnTo>
                    <a:pt x="4186" y="0"/>
                  </a:lnTo>
                  <a:lnTo>
                    <a:pt x="4198" y="12"/>
                  </a:lnTo>
                </a:path>
              </a:pathLst>
            </a:custGeom>
            <a:noFill/>
            <a:ln cap="rnd" w="507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grpSp>
          <p:nvGrpSpPr>
            <p:cNvPr id="879" name="Group 10"/>
            <p:cNvGrpSpPr/>
            <p:nvPr/>
          </p:nvGrpSpPr>
          <p:grpSpPr>
            <a:xfrm>
              <a:off x="1228680" y="2057400"/>
              <a:ext cx="7305840" cy="4091040"/>
              <a:chOff x="1228680" y="2057400"/>
              <a:chExt cx="7305840" cy="4091040"/>
            </a:xfrm>
          </p:grpSpPr>
          <p:sp>
            <p:nvSpPr>
              <p:cNvPr id="880" name="Line 8"/>
              <p:cNvSpPr/>
              <p:nvPr/>
            </p:nvSpPr>
            <p:spPr>
              <a:xfrm>
                <a:off x="1228680" y="2057400"/>
                <a:ext cx="0" cy="4091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  <p:sp>
            <p:nvSpPr>
              <p:cNvPr id="881" name="Line 9"/>
              <p:cNvSpPr/>
              <p:nvPr/>
            </p:nvSpPr>
            <p:spPr>
              <a:xfrm>
                <a:off x="1228680" y="6148440"/>
                <a:ext cx="7305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f81bd"/>
                  </a:solidFill>
                  <a:latin typeface="Times New Roman"/>
                </a:endParaRPr>
              </a:p>
            </p:txBody>
          </p:sp>
        </p:grpSp>
        <p:sp>
          <p:nvSpPr>
            <p:cNvPr id="882" name="Rectangle 11"/>
            <p:cNvSpPr/>
            <p:nvPr/>
          </p:nvSpPr>
          <p:spPr>
            <a:xfrm rot="16200000">
              <a:off x="448200" y="4488120"/>
              <a:ext cx="2167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Recombin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6200000">
              <a:off x="1618200" y="4777560"/>
              <a:ext cx="1508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4" name="Rectangle 13"/>
            <p:cNvSpPr/>
            <p:nvPr/>
          </p:nvSpPr>
          <p:spPr>
            <a:xfrm rot="16200000">
              <a:off x="3517200" y="4302000"/>
              <a:ext cx="2973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Limited 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5" name="Rectangle 14"/>
            <p:cNvSpPr/>
            <p:nvPr/>
          </p:nvSpPr>
          <p:spPr>
            <a:xfrm rot="16200000">
              <a:off x="2717280" y="4620600"/>
              <a:ext cx="18630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Proportional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6" name="Rectangle 15"/>
            <p:cNvSpPr/>
            <p:nvPr/>
          </p:nvSpPr>
          <p:spPr>
            <a:xfrm rot="16200000">
              <a:off x="5075640" y="4486320"/>
              <a:ext cx="21783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eiger Mueller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7" name="Rectangle 16"/>
            <p:cNvSpPr/>
            <p:nvPr/>
          </p:nvSpPr>
          <p:spPr>
            <a:xfrm rot="16200000">
              <a:off x="-763200" y="4162320"/>
              <a:ext cx="2981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Number of Ions Collected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8" name="Rectangle 17"/>
            <p:cNvSpPr/>
            <p:nvPr/>
          </p:nvSpPr>
          <p:spPr>
            <a:xfrm rot="16200000">
              <a:off x="5877360" y="4217400"/>
              <a:ext cx="3072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ontinuous Discharge</a:t>
              </a: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89" name="Line 18"/>
            <p:cNvSpPr/>
            <p:nvPr/>
          </p:nvSpPr>
          <p:spPr>
            <a:xfrm flipV="1">
              <a:off x="187020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0" name="Line 19"/>
            <p:cNvSpPr/>
            <p:nvPr/>
          </p:nvSpPr>
          <p:spPr>
            <a:xfrm flipV="1">
              <a:off x="291312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1" name="Line 20"/>
            <p:cNvSpPr/>
            <p:nvPr/>
          </p:nvSpPr>
          <p:spPr>
            <a:xfrm flipV="1">
              <a:off x="45194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2" name="Line 21"/>
            <p:cNvSpPr/>
            <p:nvPr/>
          </p:nvSpPr>
          <p:spPr>
            <a:xfrm flipV="1">
              <a:off x="556416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3" name="Line 22"/>
            <p:cNvSpPr/>
            <p:nvPr/>
          </p:nvSpPr>
          <p:spPr>
            <a:xfrm flipV="1">
              <a:off x="6848640" y="2055600"/>
              <a:ext cx="0" cy="409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4" name="Rectangle 23"/>
            <p:cNvSpPr/>
            <p:nvPr/>
          </p:nvSpPr>
          <p:spPr>
            <a:xfrm>
              <a:off x="4178520" y="6346800"/>
              <a:ext cx="1021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Voltage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  <p:grpSp>
        <p:nvGrpSpPr>
          <p:cNvPr id="895" name="Group 30"/>
          <p:cNvGrpSpPr/>
          <p:nvPr/>
        </p:nvGrpSpPr>
        <p:grpSpPr>
          <a:xfrm>
            <a:off x="287280" y="1706400"/>
            <a:ext cx="8170920" cy="397440"/>
            <a:chOff x="287280" y="1706400"/>
            <a:chExt cx="8170920" cy="397440"/>
          </a:xfrm>
        </p:grpSpPr>
        <p:sp>
          <p:nvSpPr>
            <p:cNvPr id="896" name="Rectangle 25"/>
            <p:cNvSpPr/>
            <p:nvPr/>
          </p:nvSpPr>
          <p:spPr>
            <a:xfrm>
              <a:off x="287280" y="1706400"/>
              <a:ext cx="7391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ission product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lph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ta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amma</a:t>
              </a:r>
              <a:endParaRPr b="0" lang="en-US" sz="20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7" name="Line 26"/>
            <p:cNvSpPr/>
            <p:nvPr/>
          </p:nvSpPr>
          <p:spPr>
            <a:xfrm>
              <a:off x="2057400" y="1905120"/>
              <a:ext cx="762120" cy="0"/>
            </a:xfrm>
            <a:prstGeom prst="line">
              <a:avLst/>
            </a:prstGeom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8" name="Line 27"/>
            <p:cNvSpPr/>
            <p:nvPr/>
          </p:nvSpPr>
          <p:spPr>
            <a:xfrm>
              <a:off x="3886200" y="1905120"/>
              <a:ext cx="762120" cy="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899" name="Line 28"/>
            <p:cNvSpPr/>
            <p:nvPr/>
          </p:nvSpPr>
          <p:spPr>
            <a:xfrm>
              <a:off x="5562720" y="1905120"/>
              <a:ext cx="761760" cy="0"/>
            </a:xfrm>
            <a:prstGeom prst="line">
              <a:avLst/>
            </a:prstGeom>
            <a:ln w="1260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  <p:sp>
          <p:nvSpPr>
            <p:cNvPr id="900" name="Line 29"/>
            <p:cNvSpPr/>
            <p:nvPr/>
          </p:nvSpPr>
          <p:spPr>
            <a:xfrm>
              <a:off x="7696080" y="1905120"/>
              <a:ext cx="762120" cy="0"/>
            </a:xfrm>
            <a:prstGeom prst="line">
              <a:avLst/>
            </a:prstGeom>
            <a:ln w="1260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f81bd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2, 2A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3" name="Picture 4" descr=""/>
          <p:cNvPicPr/>
          <p:nvPr/>
        </p:nvPicPr>
        <p:blipFill>
          <a:blip r:embed="rId1"/>
          <a:stretch/>
        </p:blipFill>
        <p:spPr>
          <a:xfrm>
            <a:off x="2976480" y="1143000"/>
            <a:ext cx="336096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2"/>
          <p:cNvSpPr/>
          <p:nvPr/>
        </p:nvSpPr>
        <p:spPr>
          <a:xfrm>
            <a:off x="1676520" y="304920"/>
            <a:ext cx="64008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O-7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5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6" name="Picture 4" descr=""/>
          <p:cNvPicPr/>
          <p:nvPr/>
        </p:nvPicPr>
        <p:blipFill>
          <a:blip r:embed="rId1"/>
          <a:stretch/>
        </p:blipFill>
        <p:spPr>
          <a:xfrm>
            <a:off x="1905120" y="1152360"/>
            <a:ext cx="557532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2"/>
          <p:cNvSpPr/>
          <p:nvPr/>
        </p:nvSpPr>
        <p:spPr>
          <a:xfrm>
            <a:off x="1219320" y="304920"/>
            <a:ext cx="708660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RSO-50E, 5, 50, 500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08" name="Rectangle 3"/>
          <p:cNvSpPr/>
          <p:nvPr/>
        </p:nvSpPr>
        <p:spPr>
          <a:xfrm>
            <a:off x="2133720" y="5792760"/>
            <a:ext cx="5029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Ion Chamber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09" name="Picture 4" descr=""/>
          <p:cNvPicPr/>
          <p:nvPr/>
        </p:nvPicPr>
        <p:blipFill>
          <a:blip r:embed="rId1"/>
          <a:stretch/>
        </p:blipFill>
        <p:spPr>
          <a:xfrm>
            <a:off x="2438280" y="1135080"/>
            <a:ext cx="44132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2"/>
          <p:cNvSpPr/>
          <p:nvPr/>
        </p:nvSpPr>
        <p:spPr>
          <a:xfrm>
            <a:off x="914400" y="304920"/>
            <a:ext cx="746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4f81bd"/>
                </a:solidFill>
                <a:latin typeface="Times New Roman"/>
              </a:rPr>
              <a:t>PCM-1B</a:t>
            </a:r>
            <a:endParaRPr b="0" lang="en-US" sz="6000" spc="-1" strike="noStrike">
              <a:solidFill>
                <a:srgbClr val="4f81bd"/>
              </a:solidFill>
              <a:latin typeface="Times New Roman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762120" y="5869080"/>
            <a:ext cx="7696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Times New Roman"/>
              </a:rPr>
              <a:t>Gas Proportional</a:t>
            </a:r>
            <a:endParaRPr b="0" lang="en-US" sz="5400" spc="-1" strike="noStrike">
              <a:solidFill>
                <a:srgbClr val="4f81bd"/>
              </a:solidFill>
              <a:latin typeface="Times New Roman"/>
            </a:endParaRPr>
          </a:p>
        </p:txBody>
      </p:sp>
      <p:pic>
        <p:nvPicPr>
          <p:cNvPr id="912" name="Picture 4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5272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34:56Z</dcterms:created>
  <dc:creator>Kerr, Sue Ann</dc:creator>
  <dc:description/>
  <dc:language>en-US</dc:language>
  <cp:lastModifiedBy>Peggy Hines IRSC</cp:lastModifiedBy>
  <cp:lastPrinted>2003-10-28T18:50:13Z</cp:lastPrinted>
  <dcterms:modified xsi:type="dcterms:W3CDTF">2013-04-15T17:15:00Z</dcterms:modified>
  <cp:revision>31</cp:revision>
  <dc:subject/>
  <dc:title>No Slide Title</dc:title>
</cp:coreProperties>
</file>