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1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4.png" ContentType="image/png"/>
  <Override PartName="/ppt/media/image10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44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33.jpeg" ContentType="image/jpeg"/>
  <Override PartName="/ppt/media/image37.jpeg" ContentType="image/jpeg"/>
  <Override PartName="/ppt/media/image41.jpeg" ContentType="image/jpeg"/>
  <Override PartName="/ppt/media/image45.jpeg" ContentType="image/jpeg"/>
  <Override PartName="/ppt/media/image5.png" ContentType="image/png"/>
  <Override PartName="/ppt/media/image43.jpeg" ContentType="image/jpeg"/>
  <Override PartName="/ppt/media/image35.png" ContentType="image/png"/>
  <Override PartName="/ppt/media/image46.jpeg" ContentType="image/jpeg"/>
  <Override PartName="/ppt/media/image30.jpeg" ContentType="image/jpeg"/>
  <Override PartName="/ppt/media/image31.png" ContentType="image/png"/>
  <Override PartName="/ppt/media/image6.png" ContentType="image/png"/>
  <Override PartName="/ppt/media/image47.jpeg" ContentType="image/jpeg"/>
  <Override PartName="/ppt/media/image4.png" ContentType="image/png"/>
  <Override PartName="/ppt/media/image11.jpeg" ContentType="image/jpeg"/>
  <Override PartName="/ppt/media/image9.jpeg" ContentType="image/jpeg"/>
  <Override PartName="/ppt/media/image39.jpeg" ContentType="image/jpeg"/>
  <Override PartName="/ppt/media/image8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  <p:sldId id="307" r:id="rId68"/>
    <p:sldId id="308" r:id="rId69"/>
    <p:sldId id="309" r:id="rId70"/>
    <p:sldId id="310" r:id="rId71"/>
    <p:sldId id="311" r:id="rId72"/>
    <p:sldId id="312" r:id="rId73"/>
    <p:sldId id="313" r:id="rId74"/>
    <p:sldId id="314" r:id="rId75"/>
    <p:sldId id="315" r:id="rId76"/>
    <p:sldId id="316" r:id="rId77"/>
    <p:sldId id="317" r:id="rId78"/>
    <p:sldId id="318" r:id="rId79"/>
    <p:sldId id="319" r:id="rId80"/>
    <p:sldId id="320" r:id="rId81"/>
    <p:sldId id="321" r:id="rId82"/>
    <p:sldId id="322" r:id="rId83"/>
    <p:sldId id="323" r:id="rId84"/>
    <p:sldId id="324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slide" Target="slides/slide52.xml"/><Relationship Id="rId69" Type="http://schemas.openxmlformats.org/officeDocument/2006/relationships/slide" Target="slides/slide53.xml"/><Relationship Id="rId70" Type="http://schemas.openxmlformats.org/officeDocument/2006/relationships/slide" Target="slides/slide54.xml"/><Relationship Id="rId71" Type="http://schemas.openxmlformats.org/officeDocument/2006/relationships/slide" Target="slides/slide55.xml"/><Relationship Id="rId72" Type="http://schemas.openxmlformats.org/officeDocument/2006/relationships/slide" Target="slides/slide56.xml"/><Relationship Id="rId73" Type="http://schemas.openxmlformats.org/officeDocument/2006/relationships/slide" Target="slides/slide57.xml"/><Relationship Id="rId74" Type="http://schemas.openxmlformats.org/officeDocument/2006/relationships/slide" Target="slides/slide58.xml"/><Relationship Id="rId75" Type="http://schemas.openxmlformats.org/officeDocument/2006/relationships/slide" Target="slides/slide59.xml"/><Relationship Id="rId76" Type="http://schemas.openxmlformats.org/officeDocument/2006/relationships/slide" Target="slides/slide60.xml"/><Relationship Id="rId77" Type="http://schemas.openxmlformats.org/officeDocument/2006/relationships/slide" Target="slides/slide61.xml"/><Relationship Id="rId78" Type="http://schemas.openxmlformats.org/officeDocument/2006/relationships/slide" Target="slides/slide62.xml"/><Relationship Id="rId79" Type="http://schemas.openxmlformats.org/officeDocument/2006/relationships/slide" Target="slides/slide63.xml"/><Relationship Id="rId80" Type="http://schemas.openxmlformats.org/officeDocument/2006/relationships/slide" Target="slides/slide64.xml"/><Relationship Id="rId81" Type="http://schemas.openxmlformats.org/officeDocument/2006/relationships/slide" Target="slides/slide65.xml"/><Relationship Id="rId82" Type="http://schemas.openxmlformats.org/officeDocument/2006/relationships/slide" Target="slides/slide66.xml"/><Relationship Id="rId83" Type="http://schemas.openxmlformats.org/officeDocument/2006/relationships/slide" Target="slides/slide67.xml"/><Relationship Id="rId84" Type="http://schemas.openxmlformats.org/officeDocument/2006/relationships/slide" Target="slides/slide68.xml"/><Relationship Id="rId85" Type="http://schemas.openxmlformats.org/officeDocument/2006/relationships/slide" Target="slides/slide69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0230-A7B8-4ACA-B20E-D4714AF29E54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A79F-A09C-4C82-BB12-39F0F0601370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8268-6062-49B5-9F72-A9BA65B32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90B0-9918-4C13-82C3-1569D4C3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9AEF3-B85B-496C-A2E3-A2D46F51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336D1-4542-484E-BE22-C6B017BA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4E275-09FD-4208-82DB-4D680FD6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87150B-F51B-4A77-8625-FCA05B95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A488B-9EC2-4A49-A5D2-2786793B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C7CD3-2E67-4F9E-85F8-A343E5E8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F6FE4-0451-4A29-8E11-C61FFD818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1661A-EF76-422A-9AE9-44141FA3B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DB3CA6-DB51-4E08-A775-DB2966F84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B0179-2A4C-4F26-AAFD-750B3DBD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EAF0-A3E6-40B7-95AF-21A9910E8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4709A4-6C7B-41F2-A14F-9A7EC682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C640FC-5BAB-4338-8F4A-7EED6903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BACCA5-22D0-43DE-A835-B2A9A9F3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B81A9-EC6C-4C68-9B12-AE97E8AE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3CB356-4357-4190-A308-EAF8CCF4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8D2B3D-08F3-4434-A835-F8B5DB060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405193-1C9F-4AFE-B5B5-516D4175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CFE882-39C6-4B26-8B8B-0EDB96CF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A95CC-821B-445B-BBF4-5E846C5F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CF1AFF-562D-4D2F-9676-169464452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0715-D5B8-4172-8BFE-5F744C055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9CFF71-A029-41D2-A094-B3D84BE95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1CE87B-C177-4524-858C-FE218D75C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27A4D-1D1D-4E14-9ED3-43BD6576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23312F-D4B4-4FBE-B165-F503A292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3360E8-4A66-46FF-A399-081165BF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1940F7-D4D0-4D2C-A008-B27E0C6E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E5737B-0E13-4CE2-B3EC-D98C49BF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29F08-7B7E-4F41-B052-E15861F5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652564-7789-4890-903F-186FF69E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20E14-18D1-4C99-8F4F-EE09E2A2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1D66A-6312-4682-9316-183544F1B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43C31-00DC-4927-B566-BAED3D8C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5F0FD-62CF-4C90-9EB7-E7AD84D7E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4239C-C990-4052-B8DB-3B028750A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5582CC-85A8-4869-B9B8-8D554DDFB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2E4786-A93E-444A-8723-39CD7B75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89F29D-5CC9-4035-BBD3-F15EDF80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5C9F54-3204-4E51-8798-CC391FD0F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FE946F-F952-4B40-A0AD-6C92C391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FFD132-DBD3-42B5-A28D-21E09418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ED65F8-555A-474C-960C-70E5845C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5B2AC-C30A-488B-AC05-BC3AA5342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881610-FF7F-4BAB-8A1A-8E1334BF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E7AE12-980B-4066-A110-3CBB1888B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E4AD55-F134-452E-BBC2-AA6345C9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7D75DC-F37E-404C-A00C-EDC3E3C03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F52106-84FB-4B1E-A2C9-B63EA3DC3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D5C643-8CC7-4709-8F4A-D0AE00DCA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8B0928-9CCD-4FED-8F3C-F733C6391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6BA95D-E814-43BD-BF6C-14717D5F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50D132-A590-40EC-8377-A0C4CC35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E83FBF-24C1-4564-88DB-C2669B57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029A-6914-4E5D-A818-D937E66B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852F44-A09B-4DB2-B6CA-80A7EF449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ABFF5C-D317-45B9-BD1C-C17575C9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69B22B-C240-4E59-B636-DFE722E3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8C0675-11BC-4C9F-BE5C-114181CFB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2F1651-5FCF-4E00-AB38-30CDEB7C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A72B76-3C1E-4AC9-BCF1-651CCC2B2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023F23-2BA9-4957-9F0A-36388AED7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35C90F-64E1-4DCD-98AF-FBFDEFB32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4D7114-24EA-4C14-B2F1-2EC5C0FA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D57AA0-03EA-4C2C-BDF2-38491522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90F3-B999-4F97-B7C8-47955E1D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667F30-564E-4D44-90EE-8DCC4803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F8EEE0-96DC-46E2-81CC-FD684EF6A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01648D-0ADF-45BA-800E-72903BAD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8B0C63-46BA-4163-9ECF-36213AC27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F82BF5-F646-499F-A0ED-8B92874B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F46F6D-1F30-43F6-9A68-F46DE0DB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D7D2BD-D9A5-4517-ADEA-01971EAE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275157-6000-40B7-ACE2-CE08F9AEB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827CF9-0AE3-4A10-8589-9D4060F89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65D3-E941-4497-918C-2145AD08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29D1-103F-4C4C-8F3F-29C10D30A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6121-56A5-4B5A-A662-5652646AA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7A7F-5958-4279-96CF-DE1E4FBDF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5873-AA1B-498F-8CB7-BEE9FA9B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1CF6-ADBC-48C6-A96C-CD246180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3813-3751-46FB-8BDC-464C828D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F73F-7B21-4205-AEE4-3D8AB8580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20CD-C673-4E3E-B822-D82FA46FE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38C04-DD50-4CF3-BC79-88C9ADD30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7F1FF-0E17-443C-BFFE-A988C5C68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2B603-3C41-4CA2-B9D0-DA56D377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7B29F-1C60-4845-BF9F-6CB6EFEE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42889-EBA3-4680-9F3A-8CB2A0D3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0107-1610-4A7C-B0AE-34B66781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88EF5-1969-4D26-90F4-7A475DA8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DAA1E-7BFD-4B30-BFF8-6721ADDE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2626A-6741-4D68-992D-D03BCB9A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BCEDF-5B44-42A3-826A-B615D6B6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92A15-F76E-43DF-846D-A3D3EB95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D0131-4F03-4500-B1C1-A9DD525B8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CAA8A-37C9-4156-8F09-DF42C901E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C2DC4-0E71-42E4-A106-A0C92F510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60B9B-4147-4DF1-A3ED-E882F999A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51121-F50A-4B73-9E6F-C7C6B55C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F048-631D-4F46-8782-7E93F35E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475B8-40F9-47C3-A1BB-B977DDB1F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37BD5-2FE0-4100-9292-683AF74C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1C4D4-BD19-41D8-9F86-8E952087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5B26F-A4C2-4FA8-A7A1-687DEF52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A0929-F625-4ED0-BC22-D0EA213D2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1D871-0371-4019-84FD-09D38D24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415C9-576B-4F6B-81A4-54269DA07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EB9CF-1412-4755-B0D8-7C100C138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2C01D-432A-4A1C-A860-8F2DA1B6A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1E263-01D1-4D25-A814-96A93A392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BD41-24CE-478D-9E4E-E800FF8EF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A181E-9097-4302-8960-E65F39CA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8EA70-FF3D-4BFD-8FCE-7E8152631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FE06B-3B32-40A5-82A1-4ADD626B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80D7A-6F58-4581-ACC9-2C9052BE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B1FDA5-8B87-45EB-B5F7-E4631098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FCCD9-6335-4682-9393-2B4E7C34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9A193-14F4-4523-A9C5-2DD4F158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21693-8B44-48C0-936B-5F288F72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16A1AA-A57B-4E78-8B58-4B45D8E4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8FFD8-DD51-463D-8EF0-40CD15CA8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AB31-7122-4A2C-A6D6-93E9D167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A838D-7D08-4A71-B914-535C2BBB8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73F96-98E9-4822-A413-7725644FE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B6474-BA24-490E-8251-ACB7704D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437A1-6315-47F9-99CC-4318F7EE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4820E-5C54-4795-812E-C2107EB3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A6DF3-BFDB-4849-ACF2-9E7FEB37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E0995-EB92-44FC-A5C7-C1C55A7E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6C385-BB64-45B3-B7E1-3651D16A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DE0E7-006A-452F-B6EB-82BB12FF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E96BB-58B4-482A-A83B-A51746FC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0D18-8457-492B-B998-316A7A00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D7055-DE2F-4405-8155-93AA778C6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20DE0-C764-4377-A911-1052C79D6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428B8-03FD-47DD-8D3D-64EF47303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D0F4C-A330-40D6-8A24-00EF8B89D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F9CD7-7A8E-436E-B65F-C6C7277F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ADBF0-C636-418F-A0DC-BF446D60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21C40-DBDB-4A34-A742-505F82BE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54CF1-E6D8-4CA3-9377-D8C5548E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0FADF-422F-4C8E-AB58-B8D56593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02927D-D97A-4383-B25D-C448A278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816C-87DC-4FB3-B960-6DEBFE9E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CA333-BAB2-4FBD-BD72-02865F46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B8288-E341-415A-9609-F54B2F0F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50EC8-7EB8-4979-88C2-A2B01BC6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AC10D-9F9A-4BB7-9B7B-95E4EDC3B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43B8B-F1B3-406F-8BB2-B4D866F2B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B0B5B-A40A-4253-BB46-C307876C2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78AFB-730C-4CD3-9EB0-F12A002B0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73457-62FB-4CA6-8988-DD425F27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A4589-6C7D-45DD-9814-FCCE5D32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33C11-27B6-4440-9C08-0D3291DC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4F17-E1B2-426C-81F7-3635C62A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319D2-A7E4-4E1D-B7D0-E14744449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3337A-F0B2-40AD-8880-6F3CBAF1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ED1A1-D2D4-4139-BC6F-D463DD41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B96F8-5B95-43CF-9AA9-6D88056A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25A06-D8A6-4959-9D9B-F7B72342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7A8AE-8E41-480D-B0E6-EAB2B1D86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13BA5-D219-49D3-8A62-9F0C3A167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15B213-9CE3-4B78-8FAC-FB89DA5E9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064EB-C483-40A6-AA55-31F3E1E7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A9461-057F-45DB-BC29-EC9A229D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ule 6: Portable Radiation Survey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DA36-6EAC-4EC3-8F8D-2148E30BD37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2FA8-598D-47B4-9C07-14C5D7D218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E626-A500-4ED8-AECC-7A9DEA54F5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44CE-2D58-4148-AC8F-4CD2727F30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3B1C-6001-479D-BF46-CA1ECF3EAC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529C-2F78-4D57-824F-2B516A1D65E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ADC5-7F16-49BD-B9AE-8ED9610BCB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ule 6: Portable Radiation Survey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481D-5BAB-4C88-B4B8-1A8572828E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7263-E342-45CF-8AE2-EB170CEA9C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3A0A-89FA-410D-988C-50D7429D34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DCA4-FDD9-439D-BAE6-396EABB18F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C0DED-A3E5-4631-B9EF-CC062E8302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6B18-A1D3-47D9-9AC8-FD0EAFD78C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99E7-FC49-44FE-8380-A0E8CE13A6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Box 1"/>
          <p:cNvSpPr/>
          <p:nvPr/>
        </p:nvSpPr>
        <p:spPr>
          <a:xfrm>
            <a:off x="152280" y="10238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vey instruments, ionization, gas filled, scintillation, thermoluminesence, geiger-mueller detectors, beta, gamma, neutron, alpha, ion chamber, eberline instruments, frisking device, air sampler, radiation levels, proportional counter, loose surf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7" name=""/>
          <p:cNvGraphicFramePr/>
          <p:nvPr/>
        </p:nvGraphicFramePr>
        <p:xfrm>
          <a:off x="237960" y="1523880"/>
          <a:ext cx="8668080" cy="1463760"/>
        </p:xfrm>
        <a:graphic>
          <a:graphicData uri="http://schemas.openxmlformats.org/drawingml/2006/table">
            <a:tbl>
              <a:tblPr/>
              <a:tblGrid>
                <a:gridCol w="1195560"/>
                <a:gridCol w="971640"/>
                <a:gridCol w="1082520"/>
                <a:gridCol w="1084320"/>
                <a:gridCol w="1084320"/>
                <a:gridCol w="1082520"/>
                <a:gridCol w="1084320"/>
                <a:gridCol w="1082880"/>
              </a:tblGrid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.3.28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 Amplific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228600" y="8377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lse magnitude determined 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lied volt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umber of initial (primary) ionizing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tant number based on specific ionization and detector siz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as amplification factor for the particular gas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tio of total # of collected electrons to # of primary electr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as amplif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ter initial (primary) ion pair is formed and moves toward electrodes, secondary ionization occu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dditional ion pairs form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 applied voltage increases, gas amplification factor chan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variable that primarily determines the pulse magnitude is the applied volt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C5B9-7A7F-4353-B8CB-EB8A272EE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eiger-Mueller Dete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228600" y="990720"/>
            <a:ext cx="5943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s-filled chambers that operate in Region V of the gas amplification cur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to detect both beta and gamma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ylar-covered "window" serves as inlet fil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ws passage o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articles of ~0.05 Me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have movable cover that can be adjusted to allow bo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enter,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n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407E-110B-4C73-8F64-31849D09C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4" descr=""/>
          <p:cNvPicPr/>
          <p:nvPr/>
        </p:nvPicPr>
        <p:blipFill>
          <a:blip r:embed="rId1"/>
          <a:srcRect l="0" t="7869" r="0" b="2949"/>
          <a:stretch/>
        </p:blipFill>
        <p:spPr>
          <a:xfrm>
            <a:off x="5562720" y="2286000"/>
            <a:ext cx="358128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portional Counter for Neutron Dete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228240" y="9903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s-filled proportional counter det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ulse height discrimin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tinguish between larger pulses due to neutron radiation (thus secondar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and smaller pulses due to other incident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s used is boron trifluoride (B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) enriched with Boron-10 (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high cross-section for absorbing thermal neutr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ident neutrons absorbed by boron 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ults 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mi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les cause measureable ionization in the 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2A72-43B4-4AF3-8633-18381A54C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5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4" name="Object 8"/>
              <p:cNvSpPr txBox="1"/>
              <p:nvPr/>
            </p:nvSpPr>
            <p:spPr>
              <a:xfrm>
                <a:off x="2362320" y="5602320"/>
                <a:ext cx="434340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5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B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η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Li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457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cintillation Dete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152280" y="838080"/>
            <a:ext cx="883944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onizing radiation producing flashes of light when interacting with certain materials containing phosph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remely sensitive to most forms of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ful for detecting alpha radi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lpha particles can be detected since they aren’t stopped by the metal walls of a gas chamb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sures both amount and energy level of radiation pres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D7CA-DEE3-4DE3-BFF3-0FE89CE98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Picture 6" descr=""/>
          <p:cNvPicPr/>
          <p:nvPr/>
        </p:nvPicPr>
        <p:blipFill>
          <a:blip r:embed="rId1"/>
          <a:stretch/>
        </p:blipFill>
        <p:spPr>
          <a:xfrm>
            <a:off x="0" y="3632040"/>
            <a:ext cx="2220840" cy="256716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11" descr=""/>
          <p:cNvPicPr/>
          <p:nvPr/>
        </p:nvPicPr>
        <p:blipFill>
          <a:blip r:embed="rId2"/>
          <a:srcRect l="3381" t="25555" r="4652" b="18610"/>
          <a:stretch/>
        </p:blipFill>
        <p:spPr>
          <a:xfrm>
            <a:off x="2287440" y="3792600"/>
            <a:ext cx="685656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se of Survey Instr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228600" y="7617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able radiation survey instruments are to be used for the detection and determination of radiation exposure lev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rable and able to withstand normal use, but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destruction proo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t be handled with care and used proper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ject to damage from rough handling the same as any electronic equip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following a few rules and recommendations, the instruments should last many years and provide the user with a measure of knowled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3E04-95CE-4224-997C-C965654DE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Use of Survey Instr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-360" y="762120"/>
            <a:ext cx="8991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ecting the right instrument for the right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trument must be capable of measuring the type and intensity of the radiation which is present or suspec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Beta and gamma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Ion chamber instruments (Ionization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alibri"/>
              </a:rPr>
              <a:t>Alpha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Scintillation det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Gas proportional counter (Proportional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Calibri"/>
              </a:rPr>
              <a:t>Neutron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BF</a:t>
            </a:r>
            <a:r>
              <a:rPr b="1" lang="en-US" sz="2400" spc="-1" strike="noStrike" baseline="-25000">
                <a:solidFill>
                  <a:srgbClr val="006600"/>
                </a:solidFill>
                <a:latin typeface="Calibri"/>
              </a:rPr>
              <a:t>3</a:t>
            </a:r>
            <a:r>
              <a:rPr b="1" lang="en-US" sz="2400" spc="-1" strike="noStrike">
                <a:solidFill>
                  <a:srgbClr val="006600"/>
                </a:solidFill>
                <a:latin typeface="Calibri"/>
              </a:rPr>
              <a:t> gas proportional counter (Proportional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f1e8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1e84"/>
                </a:solidFill>
                <a:latin typeface="Calibri"/>
              </a:rPr>
              <a:t>Gamma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f1e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1e84"/>
                </a:solidFill>
                <a:latin typeface="Calibri"/>
              </a:rPr>
              <a:t>G-M detector (G-M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f1e8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f1e84"/>
                </a:solidFill>
                <a:latin typeface="Calibri"/>
              </a:rPr>
              <a:t>Ion chamber (Ionization reg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86B6-8934-4788-BCA0-41B2B6ABC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lpha Survey Instrument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-360" y="914400"/>
            <a:ext cx="62485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E-6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vey instrument commonly paired with scintillator det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to check smears and/or air sample filters 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ntamin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normally used on daily ba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 smear or air sample filter 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lanche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specimen cu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 planchet 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unting ji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ace scintillator on counting ji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gin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E34E-BC0E-4FB6-8EFF-F10C9AC73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1" descr="100_0951.JPG"/>
          <p:cNvPicPr/>
          <p:nvPr/>
        </p:nvPicPr>
        <p:blipFill>
          <a:blip r:embed="rId1">
            <a:lum bright="-14000"/>
          </a:blip>
          <a:srcRect l="31098" t="0" r="38653" b="9413"/>
          <a:stretch/>
        </p:blipFill>
        <p:spPr>
          <a:xfrm>
            <a:off x="6400800" y="730080"/>
            <a:ext cx="2558880" cy="57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Alpha Survey: Eberline E-600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F170-80B6-43DD-A1B9-237714EAD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Picture 1" descr="100_0951.JPG"/>
          <p:cNvPicPr/>
          <p:nvPr/>
        </p:nvPicPr>
        <p:blipFill>
          <a:blip r:embed="rId1">
            <a:lum bright="-14000"/>
          </a:blip>
          <a:srcRect l="31098" t="0" r="0" b="11960"/>
          <a:stretch/>
        </p:blipFill>
        <p:spPr>
          <a:xfrm>
            <a:off x="152280" y="838080"/>
            <a:ext cx="5715000" cy="547704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1" descr="100_1136.JPG"/>
          <p:cNvPicPr/>
          <p:nvPr/>
        </p:nvPicPr>
        <p:blipFill>
          <a:blip r:embed="rId2"/>
          <a:stretch/>
        </p:blipFill>
        <p:spPr>
          <a:xfrm>
            <a:off x="6172200" y="838080"/>
            <a:ext cx="2693880" cy="5486400"/>
          </a:xfrm>
          <a:prstGeom prst="rect">
            <a:avLst/>
          </a:prstGeom>
          <a:ln w="0">
            <a:noFill/>
          </a:ln>
        </p:spPr>
      </p:pic>
      <p:sp>
        <p:nvSpPr>
          <p:cNvPr id="704" name="Text Box 8"/>
          <p:cNvSpPr/>
          <p:nvPr/>
        </p:nvSpPr>
        <p:spPr>
          <a:xfrm>
            <a:off x="2514600" y="76212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own with Eberline SHP 380 AB frisker/survey scintillator 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lpha Survey Instru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0" y="837720"/>
            <a:ext cx="6477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ESP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icro-computer-based survey instru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n be set up with different detectors to monitor several types of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alpha, digital display reads in d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monly used with AC-3 scintillator probe for alpha det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CF99F-6926-4682-BD67-6E9DAAFB6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Picture 1" descr="100_1148.JPG"/>
          <p:cNvPicPr/>
          <p:nvPr/>
        </p:nvPicPr>
        <p:blipFill>
          <a:blip r:embed="rId1"/>
          <a:stretch/>
        </p:blipFill>
        <p:spPr>
          <a:xfrm>
            <a:off x="6442200" y="1143000"/>
            <a:ext cx="2701800" cy="457200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8" descr=""/>
          <p:cNvPicPr/>
          <p:nvPr/>
        </p:nvPicPr>
        <p:blipFill>
          <a:blip r:embed="rId2"/>
          <a:stretch/>
        </p:blipFill>
        <p:spPr>
          <a:xfrm>
            <a:off x="609480" y="4724280"/>
            <a:ext cx="5334120" cy="173376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10"/>
          <p:cNvSpPr/>
          <p:nvPr/>
        </p:nvSpPr>
        <p:spPr>
          <a:xfrm>
            <a:off x="304920" y="5562720"/>
            <a:ext cx="25146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rtable Neutron Survey Instru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0" y="1066320"/>
            <a:ext cx="6477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ASP-2/2E Portable Neutron Rate Me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ion and measurement of dose rate (mrem/hr) from both fast and thermal neutron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asures from 1 to 60000 mrem / h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or: 9” diameter, cadmium-loaded polyethylene sphere with BF3 tube in cen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ows excellent gamma rej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only used: </a:t>
            </a: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NRD-4 RemB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DE99-9974-45A6-B95F-FA19BE63F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1" descr="100_1157.JPG"/>
          <p:cNvPicPr/>
          <p:nvPr/>
        </p:nvPicPr>
        <p:blipFill>
          <a:blip r:embed="rId1"/>
          <a:srcRect l="1665" t="0" r="53335" b="18892"/>
          <a:stretch/>
        </p:blipFill>
        <p:spPr>
          <a:xfrm>
            <a:off x="6551640" y="838080"/>
            <a:ext cx="2592360" cy="3505320"/>
          </a:xfrm>
          <a:prstGeom prst="rect">
            <a:avLst/>
          </a:prstGeom>
          <a:ln w="0">
            <a:noFill/>
          </a:ln>
        </p:spPr>
      </p:pic>
      <p:sp>
        <p:nvSpPr>
          <p:cNvPr id="719" name="Rectangle 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8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Picture 9" descr=""/>
          <p:cNvPicPr/>
          <p:nvPr/>
        </p:nvPicPr>
        <p:blipFill>
          <a:blip r:embed="rId2"/>
          <a:srcRect l="50558" t="26891" r="26111" b="20668"/>
          <a:stretch/>
        </p:blipFill>
        <p:spPr>
          <a:xfrm>
            <a:off x="7037280" y="4495680"/>
            <a:ext cx="157320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50C3-9511-4953-BB0A-9918ED71C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39720" y="2054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T 130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ological Prot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73040" y="4114800"/>
            <a:ext cx="73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ule 6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table Radiation Survey Instru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P-2/2E with NRD-4 RemBal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EA28-A71F-49DD-9792-05DB614E5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Picture 1" descr="100_1157.JPG"/>
          <p:cNvPicPr/>
          <p:nvPr/>
        </p:nvPicPr>
        <p:blipFill>
          <a:blip r:embed="rId1"/>
          <a:srcRect l="1665" t="0" r="53335" b="18892"/>
          <a:stretch/>
        </p:blipFill>
        <p:spPr>
          <a:xfrm>
            <a:off x="109440" y="1219320"/>
            <a:ext cx="3776760" cy="5105160"/>
          </a:xfrm>
          <a:prstGeom prst="rect">
            <a:avLst/>
          </a:prstGeom>
          <a:ln w="0">
            <a:noFill/>
          </a:ln>
        </p:spPr>
      </p:pic>
      <p:sp>
        <p:nvSpPr>
          <p:cNvPr id="729" name="Rectangle 5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6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7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8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190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9" descr=""/>
          <p:cNvPicPr/>
          <p:nvPr/>
        </p:nvPicPr>
        <p:blipFill>
          <a:blip r:embed="rId2"/>
          <a:srcRect l="50558" t="26891" r="26111" b="20668"/>
          <a:stretch/>
        </p:blipFill>
        <p:spPr>
          <a:xfrm>
            <a:off x="4024440" y="1752480"/>
            <a:ext cx="2549520" cy="358164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1" descr=""/>
          <p:cNvPicPr/>
          <p:nvPr/>
        </p:nvPicPr>
        <p:blipFill>
          <a:blip r:embed="rId3"/>
          <a:stretch/>
        </p:blipFill>
        <p:spPr>
          <a:xfrm>
            <a:off x="6678720" y="1143000"/>
            <a:ext cx="2313000" cy="3886200"/>
          </a:xfrm>
          <a:prstGeom prst="rect">
            <a:avLst/>
          </a:prstGeom>
          <a:ln w="0">
            <a:noFill/>
          </a:ln>
        </p:spPr>
      </p:pic>
      <p:sp>
        <p:nvSpPr>
          <p:cNvPr id="735" name="Text Box 12"/>
          <p:cNvSpPr/>
          <p:nvPr/>
        </p:nvSpPr>
        <p:spPr>
          <a:xfrm>
            <a:off x="6705720" y="52578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ifferent meter shown with b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rtable Neutron Survey Instru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0" y="99036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Eberline ASP-1 with NRD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similar to ASP-2/2E with NRD-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s 0 to 100000 mrem / h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8E18-8F1C-4FB9-8D49-965401395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1" descr="100_1157.JPG"/>
          <p:cNvPicPr/>
          <p:nvPr/>
        </p:nvPicPr>
        <p:blipFill>
          <a:blip r:embed="rId1"/>
          <a:srcRect l="48335" t="10000" r="3335" b="14446"/>
          <a:stretch/>
        </p:blipFill>
        <p:spPr>
          <a:xfrm>
            <a:off x="4648320" y="1143000"/>
            <a:ext cx="44193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151920" y="1066320"/>
            <a:ext cx="89917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jor portion of radiation encountered in nuclear plant working areas is beta and gam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us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etecting instruments are most comm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DB07-8D63-486D-837B-97B3588AC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4" descr=""/>
          <p:cNvPicPr/>
          <p:nvPr/>
        </p:nvPicPr>
        <p:blipFill>
          <a:blip r:embed="rId1"/>
          <a:stretch/>
        </p:blipFill>
        <p:spPr>
          <a:xfrm>
            <a:off x="4952880" y="2819520"/>
            <a:ext cx="4191120" cy="3504960"/>
          </a:xfrm>
          <a:prstGeom prst="rect">
            <a:avLst/>
          </a:prstGeom>
          <a:ln w="0">
            <a:noFill/>
          </a:ln>
        </p:spPr>
      </p:pic>
      <p:sp>
        <p:nvSpPr>
          <p:cNvPr id="748" name="Rectangle 6"/>
          <p:cNvSpPr/>
          <p:nvPr/>
        </p:nvSpPr>
        <p:spPr>
          <a:xfrm>
            <a:off x="0" y="2819520"/>
            <a:ext cx="5257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Teletector Model 61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weight, portable, battery-operated, beta-gamma survey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scoping probe that extends 13 ft to allow dose rate measurements far from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dose rate due to gamma over wide range of intens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tect beta, remove rubber tip from end of 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215640" y="1396800"/>
            <a:ext cx="786132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2000W Exten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ilar to Telet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nds to 12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dible speaker and illuminated sc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4CEC-4F4B-4191-985E-E22A23C80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7" descr=""/>
          <p:cNvPicPr/>
          <p:nvPr/>
        </p:nvPicPr>
        <p:blipFill>
          <a:blip r:embed="rId1"/>
          <a:srcRect l="0" t="0" r="2066" b="0"/>
          <a:stretch/>
        </p:blipFill>
        <p:spPr>
          <a:xfrm>
            <a:off x="104760" y="4102200"/>
            <a:ext cx="896292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2000W Exten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1C08-6E71-4902-AE5E-5496C2BD4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240840" y="1003320"/>
            <a:ext cx="4496040" cy="157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tem Telep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to Teletec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to 11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C19E-CC83-4C9C-80BD-C7980E5221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Picture 2" descr="\\SCANA\shares\GroupDirs\0539\539HP\Pictures\FHB Filter Job\FHB Filter Job 011.jpg"/>
          <p:cNvPicPr/>
          <p:nvPr/>
        </p:nvPicPr>
        <p:blipFill>
          <a:blip r:embed="rId1"/>
          <a:stretch/>
        </p:blipFill>
        <p:spPr>
          <a:xfrm>
            <a:off x="0" y="2786040"/>
            <a:ext cx="4892760" cy="373212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7" descr=""/>
          <p:cNvPicPr/>
          <p:nvPr/>
        </p:nvPicPr>
        <p:blipFill>
          <a:blip r:embed="rId2"/>
          <a:srcRect l="0" t="0" r="8904" b="0"/>
          <a:stretch/>
        </p:blipFill>
        <p:spPr>
          <a:xfrm>
            <a:off x="7132680" y="752400"/>
            <a:ext cx="1985760" cy="58262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1" descr="telepolemr.jpg"/>
          <p:cNvPicPr/>
          <p:nvPr/>
        </p:nvPicPr>
        <p:blipFill>
          <a:blip r:embed="rId3"/>
          <a:srcRect l="20369" t="20735" r="15530" b="2373"/>
          <a:stretch/>
        </p:blipFill>
        <p:spPr>
          <a:xfrm>
            <a:off x="5011560" y="3962520"/>
            <a:ext cx="292752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5B34-79A0-4C4C-8ED5-ED0F28ED7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Picture 9" descr=""/>
          <p:cNvPicPr/>
          <p:nvPr/>
        </p:nvPicPr>
        <p:blipFill>
          <a:blip r:embed="rId1"/>
          <a:stretch/>
        </p:blipFill>
        <p:spPr>
          <a:xfrm>
            <a:off x="0" y="898560"/>
            <a:ext cx="914400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0" y="914040"/>
            <a:ext cx="6324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Calibri"/>
              </a:rPr>
              <a:t>Rotem AMP-100 (Area Monitor Prob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M detector with microprocessor-based instru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stable and accur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ghtweight and comp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able of measuring both dose and dose rate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nge: 0 to 1000 Rem/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used in 3 way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cally as a hand-held mon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ed to an area monitor for general area dose ra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d remotely by means of a wireless remote monitoring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n be used for underwater applications, but not typical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62B9-92A5-4A0B-924B-DE9323DC1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5" descr=""/>
          <p:cNvPicPr/>
          <p:nvPr/>
        </p:nvPicPr>
        <p:blipFill>
          <a:blip r:embed="rId1"/>
          <a:srcRect l="0" t="0" r="7196" b="0"/>
          <a:stretch/>
        </p:blipFill>
        <p:spPr>
          <a:xfrm>
            <a:off x="6342120" y="1143000"/>
            <a:ext cx="268596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0" y="10666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RM-14 Rad. Moni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d most for personnel monito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all, versatile count rate 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hargeable battery or 110 V A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justable audible ala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e multiplier r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0, 5K, and 50K CPM full-sca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d by 3-position switc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l, X10 or X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se sett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st (~2 sec) or Slow (~20 se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7FB2-1D3E-4FE4-8409-09DDCA326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1" descr="100_1147.JPG"/>
          <p:cNvPicPr/>
          <p:nvPr/>
        </p:nvPicPr>
        <p:blipFill>
          <a:blip r:embed="rId1"/>
          <a:srcRect l="0" t="12346" r="3705" b="13580"/>
          <a:stretch/>
        </p:blipFill>
        <p:spPr>
          <a:xfrm>
            <a:off x="5562720" y="3581280"/>
            <a:ext cx="358128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M-14 Radiation Moni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3B06-780C-454A-AD32-8E520A262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1" descr="100_1147.JPG"/>
          <p:cNvPicPr/>
          <p:nvPr/>
        </p:nvPicPr>
        <p:blipFill>
          <a:blip r:embed="rId1"/>
          <a:srcRect l="0" t="12409" r="5280" b="12037"/>
          <a:stretch/>
        </p:blipFill>
        <p:spPr>
          <a:xfrm>
            <a:off x="228600" y="1079640"/>
            <a:ext cx="86612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456840" y="91404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ing and measuring radiation levels around the p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or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dor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st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: How can we measure radiation to determine if the levels are saf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: B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io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 measurement based almost solely on either direct or indirect ion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B4B9-3A54-4480-B779-2DE525389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51920" y="91440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HP-210 G-M tube pro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ly used with RM-1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 mica window to allow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nsitivity down to ~40Ke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elded to permi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ing in 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sonnel frisk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ing of table, floor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ipment surfaces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3AA8-4BDD-4BD9-9D3C-12E54D4E8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Picture 4" descr=""/>
          <p:cNvPicPr/>
          <p:nvPr/>
        </p:nvPicPr>
        <p:blipFill>
          <a:blip r:embed="rId1"/>
          <a:stretch/>
        </p:blipFill>
        <p:spPr>
          <a:xfrm>
            <a:off x="5486400" y="2895480"/>
            <a:ext cx="365760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457200" y="10666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Eberline RM-14S and  RM-14S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er versions of RM-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ral scales that earlier model lacked: 50, 500, 5000, 50000, 500000, and 5000000 c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RM-14’s are operated with conservative assumption of 10% ef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376C-A446-49BC-826D-A31762719F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Content Placeholder 3" descr="100_0938.JPG"/>
          <p:cNvPicPr/>
          <p:nvPr/>
        </p:nvPicPr>
        <p:blipFill>
          <a:blip r:embed="rId1"/>
          <a:stretch/>
        </p:blipFill>
        <p:spPr>
          <a:xfrm>
            <a:off x="0" y="3618000"/>
            <a:ext cx="4495680" cy="290664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1" descr="100_1146.JPG"/>
          <p:cNvPicPr/>
          <p:nvPr/>
        </p:nvPicPr>
        <p:blipFill>
          <a:blip r:embed="rId2"/>
          <a:stretch/>
        </p:blipFill>
        <p:spPr>
          <a:xfrm>
            <a:off x="4572000" y="3621240"/>
            <a:ext cx="4572000" cy="28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Survey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228240" y="1066680"/>
            <a:ext cx="70102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Rotem RAM SURF frisking dev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rtable, self-contai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tector and monitor in 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gital readout w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tomatic range adju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dible indic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 assume 1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7E8D-FA23-4A2C-9CDB-71DD7E5EA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Picture 5" descr=""/>
          <p:cNvPicPr/>
          <p:nvPr/>
        </p:nvPicPr>
        <p:blipFill>
          <a:blip r:embed="rId1"/>
          <a:srcRect l="0" t="0" r="0" b="4102"/>
          <a:stretch/>
        </p:blipFill>
        <p:spPr>
          <a:xfrm>
            <a:off x="5133960" y="1523880"/>
            <a:ext cx="40100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-360" y="837720"/>
            <a:ext cx="7467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-2 / RO-2A / RO-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able air ion-chamber instr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mber vented to atmospheric pres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sitive to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nd X but calibrated 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se time: ~5 s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ngle switch turns on instrument, checks batteries, checks zero setting, selects 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-2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, 50, 500, and 5000 mr/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-2A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0 mr/hr, 500 mr/hr, 5 R/hr, and 50 R/h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-20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of the abo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open shield to expose mylar wind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F4D8-CF96-4390-9037-4B81BEBD2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1" descr="100_0950.JPG"/>
          <p:cNvPicPr/>
          <p:nvPr/>
        </p:nvPicPr>
        <p:blipFill>
          <a:blip r:embed="rId1"/>
          <a:srcRect l="38342" t="18883" r="33333" b="5565"/>
          <a:stretch/>
        </p:blipFill>
        <p:spPr>
          <a:xfrm>
            <a:off x="7429680" y="1066680"/>
            <a:ext cx="1714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-2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-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0F4E-2CDB-4888-8F71-4988610DF6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Picture 1" descr="IMG_0990.JPG"/>
          <p:cNvPicPr/>
          <p:nvPr/>
        </p:nvPicPr>
        <p:blipFill>
          <a:blip r:embed="rId1"/>
          <a:stretch/>
        </p:blipFill>
        <p:spPr>
          <a:xfrm>
            <a:off x="5029200" y="762120"/>
            <a:ext cx="3962520" cy="579096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1" descr="100_0950.JPG"/>
          <p:cNvPicPr/>
          <p:nvPr/>
        </p:nvPicPr>
        <p:blipFill>
          <a:blip r:embed="rId2"/>
          <a:srcRect l="38342" t="18883" r="33333" b="5565"/>
          <a:stretch/>
        </p:blipFill>
        <p:spPr>
          <a:xfrm>
            <a:off x="228600" y="762120"/>
            <a:ext cx="28576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609120" y="9907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Calibri"/>
              </a:rPr>
              <a:t>Bicron RSO-5 / RSO-5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ilar to RO-2 and RO-2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SO-5: Same scales as RO-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SO-50: Same scales as RO-2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su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ose rates (include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ndow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0983-A265-45FA-A524-A0BDEA401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5" descr=""/>
          <p:cNvPicPr/>
          <p:nvPr/>
        </p:nvPicPr>
        <p:blipFill>
          <a:blip r:embed="rId1"/>
          <a:stretch/>
        </p:blipFill>
        <p:spPr>
          <a:xfrm>
            <a:off x="152280" y="2743200"/>
            <a:ext cx="3009960" cy="3809880"/>
          </a:xfrm>
          <a:prstGeom prst="rect">
            <a:avLst/>
          </a:prstGeom>
          <a:ln w="0">
            <a:noFill/>
          </a:ln>
        </p:spPr>
      </p:pic>
      <p:pic>
        <p:nvPicPr>
          <p:cNvPr id="827" name="Picture 6" descr=""/>
          <p:cNvPicPr/>
          <p:nvPr/>
        </p:nvPicPr>
        <p:blipFill>
          <a:blip r:embed="rId2"/>
          <a:stretch/>
        </p:blipFill>
        <p:spPr>
          <a:xfrm>
            <a:off x="3438360" y="2743200"/>
            <a:ext cx="3038760" cy="380988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1" descr="100_1144.JPG"/>
          <p:cNvPicPr/>
          <p:nvPr/>
        </p:nvPicPr>
        <p:blipFill>
          <a:blip r:embed="rId3"/>
          <a:stretch/>
        </p:blipFill>
        <p:spPr>
          <a:xfrm>
            <a:off x="6705720" y="2743200"/>
            <a:ext cx="23256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76320" y="1066680"/>
            <a:ext cx="633888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tem RAM 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in function to RO-2 or RSO-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e similar to RAM SUR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rtable, self-cont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tector and monitor in one un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gital readout with automatic range adju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nge 0.1 mRem/hr to 50 Rem/h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ta wind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8D6A-25C5-4F83-947C-24C0E5265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4" name="Picture 1" descr="100_1152.JPG"/>
          <p:cNvPicPr/>
          <p:nvPr/>
        </p:nvPicPr>
        <p:blipFill>
          <a:blip r:embed="rId1"/>
          <a:stretch/>
        </p:blipFill>
        <p:spPr>
          <a:xfrm>
            <a:off x="6365880" y="990720"/>
            <a:ext cx="262584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89154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table Ion Chamber Instr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134640" y="888840"/>
            <a:ext cx="609588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cc0000"/>
                </a:solidFill>
                <a:latin typeface="Calibri"/>
              </a:rPr>
              <a:t>Rotem RAM 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2A80-9D21-42E9-806E-E52C53714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0" name="Picture 6" descr=""/>
          <p:cNvPicPr/>
          <p:nvPr/>
        </p:nvPicPr>
        <p:blipFill>
          <a:blip r:embed="rId1"/>
          <a:srcRect l="44074" t="11610" r="10833" b="2368"/>
          <a:stretch/>
        </p:blipFill>
        <p:spPr>
          <a:xfrm>
            <a:off x="0" y="1347840"/>
            <a:ext cx="4429080" cy="528012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1" descr="telepolemr.jpg"/>
          <p:cNvPicPr/>
          <p:nvPr/>
        </p:nvPicPr>
        <p:blipFill>
          <a:blip r:embed="rId2"/>
          <a:srcRect l="19855" t="20120" r="15226" b="11813"/>
          <a:stretch/>
        </p:blipFill>
        <p:spPr>
          <a:xfrm>
            <a:off x="4613400" y="1708200"/>
            <a:ext cx="43783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147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De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444600" y="7488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Calibri"/>
              </a:rPr>
              <a:t>RADēCO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 H809V Air Sampl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58BC-5331-4C3E-82BA-E8FA75D0F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Picture 1" descr="100_1149.JPG"/>
          <p:cNvPicPr/>
          <p:nvPr/>
        </p:nvPicPr>
        <p:blipFill>
          <a:blip r:embed="rId1"/>
          <a:stretch/>
        </p:blipFill>
        <p:spPr>
          <a:xfrm>
            <a:off x="1994040" y="1282680"/>
            <a:ext cx="510516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15984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De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8FFE-FBE0-4F74-AF33-A33382534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Picture 1" descr="100_1139.JPG"/>
          <p:cNvPicPr/>
          <p:nvPr/>
        </p:nvPicPr>
        <p:blipFill>
          <a:blip r:embed="rId1"/>
          <a:stretch/>
        </p:blipFill>
        <p:spPr>
          <a:xfrm>
            <a:off x="730080" y="873000"/>
            <a:ext cx="786132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1D881-8077-4AEC-B98C-9D6C1D6AF9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1371600" y="9140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view of I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ssage of nuclear radiation through a substance will result in the removal of electrons from neutral ato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on pair formed (free electron and residual positively-charged atom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 I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on pairs produced by the direct action of charged particles, such as alphas and bet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rged particles may collide with electrons and remove th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 energy transfer insufficient to remove the electron, atom may be left in a state of excit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rect Ion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duction of ion pairs by photons, gammas, and X-r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Portable Instruments for Monitoring For Loose-Surface Contaminatio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152280" y="121896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beta and gamma: RM-14, RM-14s, and RAM SURF are used for determination of quant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alpha: E-600 and ESP-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-600 probe must be held within 1/4 inch of the area being monitored to ensure proper respon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M-14 with HP-210 prob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d for monitoring personel contam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be must be within 1/2 inch of the surface being monitored to pick up possible contamin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-600 and RM-14 with HP-210 require slow probe movement to cover the area being monitored, about 1 to 2 in / s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4221-E00B-4E64-BA25-AEEB0BDD2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64CB-F72B-4519-8BE9-F0AABBF9F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eter Reading Challen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EB4B-7C82-4374-BC0D-E10764C37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6" name=""/>
          <p:cNvGraphicFramePr/>
          <p:nvPr/>
        </p:nvGraphicFramePr>
        <p:xfrm>
          <a:off x="1523880" y="3336840"/>
          <a:ext cx="6096240" cy="2127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67" name="Group 10"/>
          <p:cNvGrpSpPr/>
          <p:nvPr/>
        </p:nvGrpSpPr>
        <p:grpSpPr>
          <a:xfrm>
            <a:off x="1778040" y="708120"/>
            <a:ext cx="6289560" cy="5819400"/>
            <a:chOff x="1778040" y="708120"/>
            <a:chExt cx="6289560" cy="5819400"/>
          </a:xfrm>
        </p:grpSpPr>
        <p:pic>
          <p:nvPicPr>
            <p:cNvPr id="868" name="Picture 2" descr=""/>
            <p:cNvPicPr/>
            <p:nvPr/>
          </p:nvPicPr>
          <p:blipFill>
            <a:blip r:embed="rId1"/>
            <a:stretch/>
          </p:blipFill>
          <p:spPr>
            <a:xfrm>
              <a:off x="1778040" y="708120"/>
              <a:ext cx="6289560" cy="390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9" name="Picture 1" descr=""/>
            <p:cNvPicPr/>
            <p:nvPr/>
          </p:nvPicPr>
          <p:blipFill>
            <a:blip r:embed="rId2"/>
            <a:stretch/>
          </p:blipFill>
          <p:spPr>
            <a:xfrm>
              <a:off x="1778040" y="4569480"/>
              <a:ext cx="6289560" cy="195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99A9-93F7-4EF1-A88A-8591D0369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4" name="Picture 2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791040" cy="621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8861-2E6A-4C9B-8BAC-EDE813BA65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and DP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9" name="Picture 2" descr=""/>
          <p:cNvPicPr/>
          <p:nvPr/>
        </p:nvPicPr>
        <p:blipFill>
          <a:blip r:embed="rId1"/>
          <a:srcRect l="0" t="0" r="0" b="7349"/>
          <a:stretch/>
        </p:blipFill>
        <p:spPr>
          <a:xfrm>
            <a:off x="0" y="993600"/>
            <a:ext cx="9144000" cy="544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0FE6-D7E0-438F-9B21-3E604D114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Picture 2" descr=""/>
          <p:cNvPicPr/>
          <p:nvPr/>
        </p:nvPicPr>
        <p:blipFill>
          <a:blip r:embed="rId1"/>
          <a:srcRect l="25835" t="4814" r="0" b="15559"/>
          <a:stretch/>
        </p:blipFill>
        <p:spPr>
          <a:xfrm>
            <a:off x="914400" y="330120"/>
            <a:ext cx="6781680" cy="546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288C-17F1-4F36-B171-85B8A44D8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Picture 2" descr=""/>
          <p:cNvPicPr/>
          <p:nvPr/>
        </p:nvPicPr>
        <p:blipFill>
          <a:blip r:embed="rId1"/>
          <a:srcRect l="38333" t="0" r="0" b="0"/>
          <a:stretch/>
        </p:blipFill>
        <p:spPr>
          <a:xfrm>
            <a:off x="1841400" y="571680"/>
            <a:ext cx="563904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1C5E-C70B-4033-B986-D6628500F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1" name="Picture 2" descr=""/>
          <p:cNvPicPr/>
          <p:nvPr/>
        </p:nvPicPr>
        <p:blipFill>
          <a:blip r:embed="rId1"/>
          <a:srcRect l="47362" t="0" r="0" b="0"/>
          <a:stretch/>
        </p:blipFill>
        <p:spPr>
          <a:xfrm>
            <a:off x="2362320" y="177840"/>
            <a:ext cx="4813200" cy="641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B9DE-F918-40D3-8311-2550ACDF3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5" name="Picture 2" descr=""/>
          <p:cNvPicPr/>
          <p:nvPr/>
        </p:nvPicPr>
        <p:blipFill>
          <a:blip r:embed="rId1"/>
          <a:srcRect l="32500" t="11113" r="0" b="19816"/>
          <a:stretch/>
        </p:blipFill>
        <p:spPr>
          <a:xfrm>
            <a:off x="863640" y="685800"/>
            <a:ext cx="7074000" cy="54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BC6F-2382-47EA-A2B7-896CFF5D0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Picture 2" descr=""/>
          <p:cNvPicPr/>
          <p:nvPr/>
        </p:nvPicPr>
        <p:blipFill>
          <a:blip r:embed="rId1"/>
          <a:srcRect l="34169" t="6296" r="0" b="5556"/>
          <a:stretch/>
        </p:blipFill>
        <p:spPr>
          <a:xfrm>
            <a:off x="1600200" y="431640"/>
            <a:ext cx="6019920" cy="604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6629-7596-4225-A947-F722B0212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/>
          </p:nvPr>
        </p:nvSpPr>
        <p:spPr>
          <a:xfrm>
            <a:off x="609120" y="16002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e basic principles of radiation dete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s-Filled Cha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cintil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molumines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will focus primarily on the first tw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5A67F-AF39-475F-9188-D09AC99F9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PM and DPM and uC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fficiency=18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4" name="Picture 2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1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31CA-7908-4519-BC31-10B02A751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42720" y="10666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eter Reading Challeng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0" y="3327120"/>
            <a:ext cx="4952880" cy="18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’s compare notes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8092-A136-46A9-B5CA-937E1FBBE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4" name=""/>
          <p:cNvGraphicFramePr/>
          <p:nvPr/>
        </p:nvGraphicFramePr>
        <p:xfrm>
          <a:off x="1523880" y="3336840"/>
          <a:ext cx="6096240" cy="21276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Group 10"/>
          <p:cNvGrpSpPr/>
          <p:nvPr/>
        </p:nvGrpSpPr>
        <p:grpSpPr>
          <a:xfrm>
            <a:off x="1981080" y="619200"/>
            <a:ext cx="6073920" cy="5920920"/>
            <a:chOff x="1981080" y="619200"/>
            <a:chExt cx="6073920" cy="5920920"/>
          </a:xfrm>
        </p:grpSpPr>
        <p:pic>
          <p:nvPicPr>
            <p:cNvPr id="917" name="Picture 2" descr=""/>
            <p:cNvPicPr/>
            <p:nvPr/>
          </p:nvPicPr>
          <p:blipFill>
            <a:blip r:embed="rId1"/>
            <a:stretch/>
          </p:blipFill>
          <p:spPr>
            <a:xfrm>
              <a:off x="1981080" y="619200"/>
              <a:ext cx="6073920" cy="39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8" name="Picture 1" descr=""/>
            <p:cNvPicPr/>
            <p:nvPr/>
          </p:nvPicPr>
          <p:blipFill>
            <a:blip r:embed="rId2"/>
            <a:stretch/>
          </p:blipFill>
          <p:spPr>
            <a:xfrm>
              <a:off x="1981080" y="4547880"/>
              <a:ext cx="6073920" cy="1992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63C9-A96A-4ADA-9515-80C8BF570B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# 1=   32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F8D1-D1CC-4F8E-9406-98A298990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Picture 2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679104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F9CA-81C0-42B6-BE90-3C4945113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10,0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9FA6-968D-457A-AB06-668BCDACF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PM and DP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5" name="Picture 2" descr=""/>
          <p:cNvPicPr/>
          <p:nvPr/>
        </p:nvPicPr>
        <p:blipFill>
          <a:blip r:embed="rId1"/>
          <a:srcRect l="0" t="0" r="0" b="7135"/>
          <a:stretch/>
        </p:blipFill>
        <p:spPr>
          <a:xfrm>
            <a:off x="0" y="981000"/>
            <a:ext cx="883908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AD1E-486D-47DD-A368-59279665C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379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2,0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 type="subTitle"/>
          </p:nvPr>
        </p:nvSpPr>
        <p:spPr>
          <a:xfrm>
            <a:off x="0" y="3327120"/>
            <a:ext cx="4952880" cy="18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PM=cpm/ef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2,000 cpm/.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20,000 d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4572-BFC6-4119-AF76-0C03EE318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4" name="Picture 2" descr=""/>
          <p:cNvPicPr/>
          <p:nvPr/>
        </p:nvPicPr>
        <p:blipFill>
          <a:blip r:embed="rId1"/>
          <a:srcRect l="25835" t="11076" r="0" b="17386"/>
          <a:stretch/>
        </p:blipFill>
        <p:spPr>
          <a:xfrm>
            <a:off x="457200" y="444600"/>
            <a:ext cx="82296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A623-45E2-43A1-B740-11AEAB6BC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300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-Filled Ion Chamb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52280" y="761760"/>
            <a:ext cx="8801280" cy="38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ldest and most widely used device for detecting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al cylindrical gas-filled chamb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ltage (V) applied across two electro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ode (positive): central electrod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thode (negative): chamber wall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ation passing through the chamber ionizes some of the gas ato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ositive ions drawn to chamber wal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ster-moving electrons (negative) drawn to the central ano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2952-C9C8-4D14-85D8-0A497754B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11" descr=""/>
          <p:cNvPicPr/>
          <p:nvPr/>
        </p:nvPicPr>
        <p:blipFill>
          <a:blip r:embed="rId1"/>
          <a:srcRect l="845" t="23187" r="1066" b="17947"/>
          <a:stretch/>
        </p:blipFill>
        <p:spPr>
          <a:xfrm>
            <a:off x="2023920" y="4464000"/>
            <a:ext cx="495648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922F-97C8-451C-8A43-3B7ECBF9E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Picture 2" descr=""/>
          <p:cNvPicPr/>
          <p:nvPr/>
        </p:nvPicPr>
        <p:blipFill>
          <a:blip r:embed="rId1"/>
          <a:srcRect l="47112" t="2222" r="3156" b="0"/>
          <a:stretch/>
        </p:blipFill>
        <p:spPr>
          <a:xfrm>
            <a:off x="2308320" y="60480"/>
            <a:ext cx="5006880" cy="6480000"/>
          </a:xfrm>
          <a:prstGeom prst="rect">
            <a:avLst/>
          </a:prstGeom>
          <a:ln w="0">
            <a:noFill/>
          </a:ln>
        </p:spPr>
      </p:pic>
      <p:sp>
        <p:nvSpPr>
          <p:cNvPr id="953" name="Text Box 4"/>
          <p:cNvSpPr/>
          <p:nvPr/>
        </p:nvSpPr>
        <p:spPr>
          <a:xfrm>
            <a:off x="4905360" y="4751280"/>
            <a:ext cx="873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R/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Oval 5"/>
          <p:cNvSpPr/>
          <p:nvPr/>
        </p:nvSpPr>
        <p:spPr>
          <a:xfrm>
            <a:off x="4508640" y="5010120"/>
            <a:ext cx="431640" cy="28584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3FD7-9CAE-4A03-A178-72B0DA934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400 m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966CB-AF5D-451F-B785-172C750542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2" descr=""/>
          <p:cNvPicPr/>
          <p:nvPr/>
        </p:nvPicPr>
        <p:blipFill>
          <a:blip r:embed="rId1"/>
          <a:srcRect l="49169" t="14446" r="0" b="0"/>
          <a:stretch/>
        </p:blipFill>
        <p:spPr>
          <a:xfrm>
            <a:off x="1954080" y="0"/>
            <a:ext cx="4980240" cy="65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F528-ECBB-45FD-AF4B-97A95A739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3.6 m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6893-960D-4E77-B1D1-769241273E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2" descr=""/>
          <p:cNvPicPr/>
          <p:nvPr/>
        </p:nvPicPr>
        <p:blipFill>
          <a:blip r:embed="rId1"/>
          <a:srcRect l="50004" t="14446" r="8335" b="22672"/>
          <a:stretch/>
        </p:blipFill>
        <p:spPr>
          <a:xfrm>
            <a:off x="1676520" y="0"/>
            <a:ext cx="5118120" cy="65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6BD6-7410-4F11-AD68-55C69646F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.5 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D875-4D9F-48F6-A0F4-8F031D6D8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8" name="Picture 2" descr=""/>
          <p:cNvPicPr/>
          <p:nvPr/>
        </p:nvPicPr>
        <p:blipFill>
          <a:blip r:embed="rId1"/>
          <a:srcRect l="39169" t="6669" r="0" b="4444"/>
          <a:stretch/>
        </p:blipFill>
        <p:spPr>
          <a:xfrm>
            <a:off x="1295280" y="0"/>
            <a:ext cx="625788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507A-63D2-43CC-A11E-8BE63B929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4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8.5 R/h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B27D-8698-4BA8-A463-D88B89996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PM and DPM and uC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fficiency=18%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7" name="Picture 2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4FCF-8C1E-428D-B8DD-2C82D9A4C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440" y="17794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25.1 cp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subTitle"/>
          </p:nvPr>
        </p:nvSpPr>
        <p:spPr>
          <a:xfrm>
            <a:off x="0" y="3327120"/>
            <a:ext cx="4952880" cy="18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PM=CPM/Ef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25.1/0.18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139 D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-Filled Ion Chamb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609480" y="76176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ical charge collects on an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ge buildup causes voltage change, aka </a:t>
            </a:r>
            <a:r>
              <a:rPr b="1" lang="en-US" sz="3200" spc="-1" strike="noStrike">
                <a:solidFill>
                  <a:srgbClr val="cc0000"/>
                </a:solidFill>
                <a:latin typeface="Calibri"/>
              </a:rPr>
              <a:t>pul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lse causes current to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meter used to measure curr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rrent level correlated to radiation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48DC-1453-4C79-9E8A-CDCCFD77F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10" descr=""/>
          <p:cNvPicPr/>
          <p:nvPr/>
        </p:nvPicPr>
        <p:blipFill>
          <a:blip r:embed="rId1"/>
          <a:srcRect l="845" t="23187" r="1066" b="17947"/>
          <a:stretch/>
        </p:blipFill>
        <p:spPr>
          <a:xfrm>
            <a:off x="2036880" y="4172040"/>
            <a:ext cx="495612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as-Filled Ion Chamb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228600" y="838080"/>
            <a:ext cx="876312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ulse magnitude determined 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lied vol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mber of initial (primary) ionizing ev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tant number based on specific ionization and detector si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gas-ionizing types of radiation detectors are technically ion cha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alibri"/>
              </a:rPr>
              <a:t>However, the term “ion chamber” is typically used to refer to such devices for which the input voltage is low enough to prevent secondary ionization (gas amplifica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618F-3143-42AF-A9DA-FC4FD2FE36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ule 6: Portable Radiation Survey Instru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02FB-EFF7-4643-BF9A-33FBE560E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3"/>
          <p:cNvSpPr/>
          <p:nvPr/>
        </p:nvSpPr>
        <p:spPr>
          <a:xfrm>
            <a:off x="228600" y="76320"/>
            <a:ext cx="853452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Six-Region Gas Amplification Cu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Group 14"/>
          <p:cNvGrpSpPr/>
          <p:nvPr/>
        </p:nvGrpSpPr>
        <p:grpSpPr>
          <a:xfrm>
            <a:off x="378000" y="714240"/>
            <a:ext cx="8766000" cy="5881680"/>
            <a:chOff x="378000" y="714240"/>
            <a:chExt cx="8766000" cy="5881680"/>
          </a:xfrm>
        </p:grpSpPr>
        <p:sp>
          <p:nvSpPr>
            <p:cNvPr id="630" name="Rectangle 5"/>
            <p:cNvSpPr/>
            <p:nvPr/>
          </p:nvSpPr>
          <p:spPr>
            <a:xfrm>
              <a:off x="3819600" y="714240"/>
              <a:ext cx="2971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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, 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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, </a:t>
              </a:r>
              <a:r>
                <a:rPr b="1" lang="en-US" sz="20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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  each produce the same detector response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6"/>
            <p:cNvSpPr/>
            <p:nvPr/>
          </p:nvSpPr>
          <p:spPr>
            <a:xfrm>
              <a:off x="1409760" y="973080"/>
              <a:ext cx="7440480" cy="5275440"/>
            </a:xfrm>
            <a:custGeom>
              <a:avLst/>
              <a:gdLst/>
              <a:ahLst/>
              <a:rect l="l" t="t" r="r" b="b"/>
              <a:pathLst>
                <a:path w="4687" h="3323">
                  <a:moveTo>
                    <a:pt x="0" y="3323"/>
                  </a:moveTo>
                  <a:cubicBezTo>
                    <a:pt x="73" y="3252"/>
                    <a:pt x="147" y="3182"/>
                    <a:pt x="352" y="3147"/>
                  </a:cubicBezTo>
                  <a:cubicBezTo>
                    <a:pt x="557" y="3112"/>
                    <a:pt x="1004" y="3143"/>
                    <a:pt x="1232" y="3115"/>
                  </a:cubicBezTo>
                  <a:cubicBezTo>
                    <a:pt x="1460" y="3087"/>
                    <a:pt x="1572" y="3048"/>
                    <a:pt x="1720" y="2979"/>
                  </a:cubicBezTo>
                  <a:cubicBezTo>
                    <a:pt x="1868" y="2910"/>
                    <a:pt x="2004" y="2804"/>
                    <a:pt x="2120" y="2699"/>
                  </a:cubicBezTo>
                  <a:cubicBezTo>
                    <a:pt x="2236" y="2594"/>
                    <a:pt x="2316" y="2476"/>
                    <a:pt x="2416" y="2347"/>
                  </a:cubicBezTo>
                  <a:cubicBezTo>
                    <a:pt x="2516" y="2218"/>
                    <a:pt x="2620" y="2091"/>
                    <a:pt x="2720" y="1923"/>
                  </a:cubicBezTo>
                  <a:cubicBezTo>
                    <a:pt x="2820" y="1755"/>
                    <a:pt x="2935" y="1503"/>
                    <a:pt x="3016" y="1339"/>
                  </a:cubicBezTo>
                  <a:cubicBezTo>
                    <a:pt x="3097" y="1175"/>
                    <a:pt x="3147" y="1051"/>
                    <a:pt x="3208" y="939"/>
                  </a:cubicBezTo>
                  <a:cubicBezTo>
                    <a:pt x="3269" y="827"/>
                    <a:pt x="3337" y="719"/>
                    <a:pt x="3384" y="667"/>
                  </a:cubicBezTo>
                  <a:cubicBezTo>
                    <a:pt x="3431" y="615"/>
                    <a:pt x="3435" y="644"/>
                    <a:pt x="3488" y="627"/>
                  </a:cubicBezTo>
                  <a:cubicBezTo>
                    <a:pt x="3541" y="610"/>
                    <a:pt x="3628" y="580"/>
                    <a:pt x="3704" y="563"/>
                  </a:cubicBezTo>
                  <a:cubicBezTo>
                    <a:pt x="3780" y="546"/>
                    <a:pt x="3863" y="544"/>
                    <a:pt x="3944" y="523"/>
                  </a:cubicBezTo>
                  <a:cubicBezTo>
                    <a:pt x="4025" y="502"/>
                    <a:pt x="4121" y="474"/>
                    <a:pt x="4192" y="435"/>
                  </a:cubicBezTo>
                  <a:cubicBezTo>
                    <a:pt x="4263" y="396"/>
                    <a:pt x="4321" y="331"/>
                    <a:pt x="4368" y="291"/>
                  </a:cubicBezTo>
                  <a:cubicBezTo>
                    <a:pt x="4415" y="251"/>
                    <a:pt x="4439" y="240"/>
                    <a:pt x="4472" y="195"/>
                  </a:cubicBezTo>
                  <a:cubicBezTo>
                    <a:pt x="4505" y="150"/>
                    <a:pt x="4687" y="0"/>
                    <a:pt x="4568" y="19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7"/>
            <p:cNvSpPr/>
            <p:nvPr/>
          </p:nvSpPr>
          <p:spPr>
            <a:xfrm>
              <a:off x="1422360" y="1015920"/>
              <a:ext cx="7396200" cy="5232600"/>
            </a:xfrm>
            <a:custGeom>
              <a:avLst/>
              <a:gdLst/>
              <a:ahLst/>
              <a:rect l="l" t="t" r="r" b="b"/>
              <a:pathLst>
                <a:path w="4659" h="3296">
                  <a:moveTo>
                    <a:pt x="0" y="3296"/>
                  </a:moveTo>
                  <a:cubicBezTo>
                    <a:pt x="18" y="3232"/>
                    <a:pt x="36" y="3169"/>
                    <a:pt x="80" y="3120"/>
                  </a:cubicBezTo>
                  <a:cubicBezTo>
                    <a:pt x="124" y="3071"/>
                    <a:pt x="205" y="3028"/>
                    <a:pt x="264" y="3000"/>
                  </a:cubicBezTo>
                  <a:cubicBezTo>
                    <a:pt x="323" y="2972"/>
                    <a:pt x="347" y="2961"/>
                    <a:pt x="432" y="2952"/>
                  </a:cubicBezTo>
                  <a:cubicBezTo>
                    <a:pt x="517" y="2943"/>
                    <a:pt x="673" y="2948"/>
                    <a:pt x="776" y="2944"/>
                  </a:cubicBezTo>
                  <a:cubicBezTo>
                    <a:pt x="879" y="2940"/>
                    <a:pt x="968" y="2935"/>
                    <a:pt x="1048" y="2928"/>
                  </a:cubicBezTo>
                  <a:cubicBezTo>
                    <a:pt x="1128" y="2921"/>
                    <a:pt x="1181" y="2917"/>
                    <a:pt x="1256" y="2904"/>
                  </a:cubicBezTo>
                  <a:cubicBezTo>
                    <a:pt x="1331" y="2891"/>
                    <a:pt x="1416" y="2880"/>
                    <a:pt x="1496" y="2848"/>
                  </a:cubicBezTo>
                  <a:cubicBezTo>
                    <a:pt x="1576" y="2816"/>
                    <a:pt x="1657" y="2763"/>
                    <a:pt x="1736" y="2712"/>
                  </a:cubicBezTo>
                  <a:cubicBezTo>
                    <a:pt x="1815" y="2661"/>
                    <a:pt x="1893" y="2612"/>
                    <a:pt x="1968" y="2544"/>
                  </a:cubicBezTo>
                  <a:cubicBezTo>
                    <a:pt x="2043" y="2476"/>
                    <a:pt x="2091" y="2415"/>
                    <a:pt x="2184" y="2304"/>
                  </a:cubicBezTo>
                  <a:cubicBezTo>
                    <a:pt x="2277" y="2193"/>
                    <a:pt x="2432" y="2015"/>
                    <a:pt x="2528" y="1880"/>
                  </a:cubicBezTo>
                  <a:cubicBezTo>
                    <a:pt x="2624" y="1745"/>
                    <a:pt x="2683" y="1624"/>
                    <a:pt x="2760" y="1496"/>
                  </a:cubicBezTo>
                  <a:cubicBezTo>
                    <a:pt x="2837" y="1368"/>
                    <a:pt x="2929" y="1212"/>
                    <a:pt x="2992" y="1112"/>
                  </a:cubicBezTo>
                  <a:cubicBezTo>
                    <a:pt x="3055" y="1012"/>
                    <a:pt x="3092" y="957"/>
                    <a:pt x="3136" y="896"/>
                  </a:cubicBezTo>
                  <a:cubicBezTo>
                    <a:pt x="3180" y="835"/>
                    <a:pt x="3217" y="781"/>
                    <a:pt x="3256" y="744"/>
                  </a:cubicBezTo>
                  <a:cubicBezTo>
                    <a:pt x="3295" y="707"/>
                    <a:pt x="3324" y="697"/>
                    <a:pt x="3368" y="672"/>
                  </a:cubicBezTo>
                  <a:cubicBezTo>
                    <a:pt x="3412" y="647"/>
                    <a:pt x="3451" y="617"/>
                    <a:pt x="3520" y="592"/>
                  </a:cubicBezTo>
                  <a:cubicBezTo>
                    <a:pt x="3589" y="567"/>
                    <a:pt x="3708" y="537"/>
                    <a:pt x="3784" y="520"/>
                  </a:cubicBezTo>
                  <a:cubicBezTo>
                    <a:pt x="3860" y="503"/>
                    <a:pt x="3909" y="505"/>
                    <a:pt x="3976" y="488"/>
                  </a:cubicBezTo>
                  <a:cubicBezTo>
                    <a:pt x="4043" y="471"/>
                    <a:pt x="4127" y="447"/>
                    <a:pt x="4184" y="416"/>
                  </a:cubicBezTo>
                  <a:cubicBezTo>
                    <a:pt x="4241" y="385"/>
                    <a:pt x="4279" y="340"/>
                    <a:pt x="4320" y="304"/>
                  </a:cubicBezTo>
                  <a:cubicBezTo>
                    <a:pt x="4361" y="268"/>
                    <a:pt x="4399" y="236"/>
                    <a:pt x="4432" y="200"/>
                  </a:cubicBezTo>
                  <a:cubicBezTo>
                    <a:pt x="4465" y="164"/>
                    <a:pt x="4497" y="121"/>
                    <a:pt x="4520" y="88"/>
                  </a:cubicBezTo>
                  <a:cubicBezTo>
                    <a:pt x="4543" y="55"/>
                    <a:pt x="4659" y="20"/>
                    <a:pt x="4568" y="0"/>
                  </a:cubicBezTo>
                </a:path>
              </a:pathLst>
            </a:custGeom>
            <a:noFill/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8"/>
            <p:cNvSpPr/>
            <p:nvPr/>
          </p:nvSpPr>
          <p:spPr>
            <a:xfrm>
              <a:off x="1409760" y="984240"/>
              <a:ext cx="7238880" cy="5264280"/>
            </a:xfrm>
            <a:custGeom>
              <a:avLst/>
              <a:gdLst/>
              <a:ahLst/>
              <a:rect l="l" t="t" r="r" b="b"/>
              <a:pathLst>
                <a:path w="4560" h="3316">
                  <a:moveTo>
                    <a:pt x="0" y="3316"/>
                  </a:moveTo>
                  <a:cubicBezTo>
                    <a:pt x="18" y="3227"/>
                    <a:pt x="36" y="3139"/>
                    <a:pt x="56" y="3092"/>
                  </a:cubicBezTo>
                  <a:cubicBezTo>
                    <a:pt x="76" y="3045"/>
                    <a:pt x="85" y="3069"/>
                    <a:pt x="120" y="3036"/>
                  </a:cubicBezTo>
                  <a:cubicBezTo>
                    <a:pt x="155" y="3003"/>
                    <a:pt x="219" y="2927"/>
                    <a:pt x="264" y="2892"/>
                  </a:cubicBezTo>
                  <a:cubicBezTo>
                    <a:pt x="309" y="2857"/>
                    <a:pt x="344" y="2845"/>
                    <a:pt x="392" y="2828"/>
                  </a:cubicBezTo>
                  <a:cubicBezTo>
                    <a:pt x="440" y="2811"/>
                    <a:pt x="481" y="2800"/>
                    <a:pt x="552" y="2788"/>
                  </a:cubicBezTo>
                  <a:cubicBezTo>
                    <a:pt x="623" y="2776"/>
                    <a:pt x="732" y="2763"/>
                    <a:pt x="816" y="2756"/>
                  </a:cubicBezTo>
                  <a:cubicBezTo>
                    <a:pt x="900" y="2749"/>
                    <a:pt x="975" y="2755"/>
                    <a:pt x="1056" y="2748"/>
                  </a:cubicBezTo>
                  <a:cubicBezTo>
                    <a:pt x="1137" y="2741"/>
                    <a:pt x="1225" y="2733"/>
                    <a:pt x="1304" y="2716"/>
                  </a:cubicBezTo>
                  <a:cubicBezTo>
                    <a:pt x="1383" y="2699"/>
                    <a:pt x="1448" y="2685"/>
                    <a:pt x="1528" y="2644"/>
                  </a:cubicBezTo>
                  <a:cubicBezTo>
                    <a:pt x="1608" y="2603"/>
                    <a:pt x="1713" y="2520"/>
                    <a:pt x="1784" y="2468"/>
                  </a:cubicBezTo>
                  <a:cubicBezTo>
                    <a:pt x="1855" y="2416"/>
                    <a:pt x="1888" y="2393"/>
                    <a:pt x="1952" y="2332"/>
                  </a:cubicBezTo>
                  <a:cubicBezTo>
                    <a:pt x="2016" y="2271"/>
                    <a:pt x="2103" y="2176"/>
                    <a:pt x="2168" y="2100"/>
                  </a:cubicBezTo>
                  <a:cubicBezTo>
                    <a:pt x="2233" y="2024"/>
                    <a:pt x="2287" y="1952"/>
                    <a:pt x="2344" y="1876"/>
                  </a:cubicBezTo>
                  <a:cubicBezTo>
                    <a:pt x="2401" y="1800"/>
                    <a:pt x="2453" y="1732"/>
                    <a:pt x="2512" y="1644"/>
                  </a:cubicBezTo>
                  <a:cubicBezTo>
                    <a:pt x="2571" y="1556"/>
                    <a:pt x="2636" y="1433"/>
                    <a:pt x="2696" y="1348"/>
                  </a:cubicBezTo>
                  <a:cubicBezTo>
                    <a:pt x="2756" y="1263"/>
                    <a:pt x="2820" y="1191"/>
                    <a:pt x="2872" y="1132"/>
                  </a:cubicBezTo>
                  <a:cubicBezTo>
                    <a:pt x="2924" y="1073"/>
                    <a:pt x="2967" y="1041"/>
                    <a:pt x="3008" y="996"/>
                  </a:cubicBezTo>
                  <a:cubicBezTo>
                    <a:pt x="3049" y="951"/>
                    <a:pt x="3071" y="901"/>
                    <a:pt x="3120" y="860"/>
                  </a:cubicBezTo>
                  <a:cubicBezTo>
                    <a:pt x="3169" y="819"/>
                    <a:pt x="3251" y="781"/>
                    <a:pt x="3304" y="748"/>
                  </a:cubicBezTo>
                  <a:cubicBezTo>
                    <a:pt x="3357" y="715"/>
                    <a:pt x="3400" y="683"/>
                    <a:pt x="3440" y="660"/>
                  </a:cubicBezTo>
                  <a:cubicBezTo>
                    <a:pt x="3480" y="637"/>
                    <a:pt x="3503" y="625"/>
                    <a:pt x="3544" y="612"/>
                  </a:cubicBezTo>
                  <a:cubicBezTo>
                    <a:pt x="3585" y="599"/>
                    <a:pt x="3624" y="595"/>
                    <a:pt x="3688" y="580"/>
                  </a:cubicBezTo>
                  <a:cubicBezTo>
                    <a:pt x="3752" y="565"/>
                    <a:pt x="3859" y="544"/>
                    <a:pt x="3928" y="524"/>
                  </a:cubicBezTo>
                  <a:cubicBezTo>
                    <a:pt x="3997" y="504"/>
                    <a:pt x="4057" y="477"/>
                    <a:pt x="4104" y="460"/>
                  </a:cubicBezTo>
                  <a:cubicBezTo>
                    <a:pt x="4151" y="443"/>
                    <a:pt x="4167" y="444"/>
                    <a:pt x="4208" y="420"/>
                  </a:cubicBezTo>
                  <a:cubicBezTo>
                    <a:pt x="4249" y="396"/>
                    <a:pt x="4313" y="352"/>
                    <a:pt x="4352" y="316"/>
                  </a:cubicBezTo>
                  <a:cubicBezTo>
                    <a:pt x="4391" y="280"/>
                    <a:pt x="4413" y="240"/>
                    <a:pt x="4440" y="204"/>
                  </a:cubicBezTo>
                  <a:cubicBezTo>
                    <a:pt x="4467" y="168"/>
                    <a:pt x="4492" y="133"/>
                    <a:pt x="4512" y="100"/>
                  </a:cubicBezTo>
                  <a:cubicBezTo>
                    <a:pt x="4532" y="67"/>
                    <a:pt x="4512" y="0"/>
                    <a:pt x="4560" y="4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19"/>
            <p:cNvSpPr/>
            <p:nvPr/>
          </p:nvSpPr>
          <p:spPr>
            <a:xfrm flipV="1">
              <a:off x="888840" y="6244920"/>
              <a:ext cx="8255160" cy="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20"/>
            <p:cNvSpPr/>
            <p:nvPr/>
          </p:nvSpPr>
          <p:spPr>
            <a:xfrm flipV="1">
              <a:off x="1422360" y="1244520"/>
              <a:ext cx="12600" cy="499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21"/>
            <p:cNvSpPr/>
            <p:nvPr/>
          </p:nvSpPr>
          <p:spPr>
            <a:xfrm>
              <a:off x="965160" y="1270080"/>
              <a:ext cx="469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22"/>
            <p:cNvSpPr/>
            <p:nvPr/>
          </p:nvSpPr>
          <p:spPr>
            <a:xfrm flipV="1">
              <a:off x="1949400" y="146952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23"/>
            <p:cNvSpPr/>
            <p:nvPr/>
          </p:nvSpPr>
          <p:spPr>
            <a:xfrm flipV="1">
              <a:off x="3344760" y="147744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24"/>
            <p:cNvSpPr/>
            <p:nvPr/>
          </p:nvSpPr>
          <p:spPr>
            <a:xfrm flipV="1">
              <a:off x="6000840" y="148068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25"/>
            <p:cNvSpPr/>
            <p:nvPr/>
          </p:nvSpPr>
          <p:spPr>
            <a:xfrm flipV="1">
              <a:off x="6721560" y="147744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26"/>
            <p:cNvSpPr/>
            <p:nvPr/>
          </p:nvSpPr>
          <p:spPr>
            <a:xfrm flipV="1">
              <a:off x="8191440" y="146952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27"/>
            <p:cNvSpPr/>
            <p:nvPr/>
          </p:nvSpPr>
          <p:spPr>
            <a:xfrm flipV="1">
              <a:off x="8951760" y="1479240"/>
              <a:ext cx="3240" cy="4753080"/>
            </a:xfrm>
            <a:prstGeom prst="line">
              <a:avLst/>
            </a:prstGeom>
            <a:ln w="381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5"/>
            <p:cNvSpPr/>
            <p:nvPr/>
          </p:nvSpPr>
          <p:spPr>
            <a:xfrm>
              <a:off x="3816360" y="1657440"/>
              <a:ext cx="1638360" cy="11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600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>
                  <a:solidFill>
                    <a:srgbClr val="006600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006600"/>
                  </a:solidFill>
                  <a:latin typeface="Arial"/>
                </a:rPr>
                <a:t>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</a:t>
              </a:r>
              <a:r>
                <a:rPr b="1" lang="en-US" sz="2400" spc="-1" strike="noStrike" baseline="30000">
                  <a:solidFill>
                    <a:srgbClr val="0000ff"/>
                  </a:solidFill>
                  <a:latin typeface="Times New Roman"/>
                </a:rPr>
                <a:t>-</a:t>
              </a: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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_____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29"/>
            <p:cNvSpPr/>
            <p:nvPr/>
          </p:nvSpPr>
          <p:spPr>
            <a:xfrm>
              <a:off x="8210520" y="800280"/>
              <a:ext cx="66672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 Box 30"/>
            <p:cNvSpPr/>
            <p:nvPr/>
          </p:nvSpPr>
          <p:spPr>
            <a:xfrm>
              <a:off x="4194000" y="6227640"/>
              <a:ext cx="201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ol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31"/>
            <p:cNvSpPr/>
            <p:nvPr/>
          </p:nvSpPr>
          <p:spPr>
            <a:xfrm rot="16200000">
              <a:off x="167400" y="3534120"/>
              <a:ext cx="201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ulse He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 Box 32"/>
            <p:cNvSpPr/>
            <p:nvPr/>
          </p:nvSpPr>
          <p:spPr>
            <a:xfrm>
              <a:off x="382680" y="6073920"/>
              <a:ext cx="65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 Box 33"/>
            <p:cNvSpPr/>
            <p:nvPr/>
          </p:nvSpPr>
          <p:spPr>
            <a:xfrm>
              <a:off x="378000" y="1103400"/>
              <a:ext cx="63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 Box 34"/>
            <p:cNvSpPr/>
            <p:nvPr/>
          </p:nvSpPr>
          <p:spPr>
            <a:xfrm rot="16200000">
              <a:off x="267480" y="3186720"/>
              <a:ext cx="278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combination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 Box 35"/>
            <p:cNvSpPr/>
            <p:nvPr/>
          </p:nvSpPr>
          <p:spPr>
            <a:xfrm rot="16200000">
              <a:off x="1148400" y="3196080"/>
              <a:ext cx="278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nization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 Box 36"/>
            <p:cNvSpPr/>
            <p:nvPr/>
          </p:nvSpPr>
          <p:spPr>
            <a:xfrm rot="16200000">
              <a:off x="3082680" y="3624120"/>
              <a:ext cx="17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portional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37"/>
            <p:cNvSpPr/>
            <p:nvPr/>
          </p:nvSpPr>
          <p:spPr>
            <a:xfrm rot="16200000">
              <a:off x="4717080" y="4407480"/>
              <a:ext cx="33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mited Proportional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38"/>
            <p:cNvSpPr/>
            <p:nvPr/>
          </p:nvSpPr>
          <p:spPr>
            <a:xfrm rot="16200000">
              <a:off x="5753520" y="3921840"/>
              <a:ext cx="333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iger-Mueller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39"/>
            <p:cNvSpPr/>
            <p:nvPr/>
          </p:nvSpPr>
          <p:spPr>
            <a:xfrm rot="16200000">
              <a:off x="6678360" y="3724200"/>
              <a:ext cx="375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ntinuous Discharge Reg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40"/>
            <p:cNvSpPr/>
            <p:nvPr/>
          </p:nvSpPr>
          <p:spPr>
            <a:xfrm>
              <a:off x="1527120" y="1427040"/>
              <a:ext cx="738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             2                           3                          4                5                  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6"/>
            <p:cNvSpPr/>
            <p:nvPr/>
          </p:nvSpPr>
          <p:spPr>
            <a:xfrm flipH="1">
              <a:off x="6810120" y="1171440"/>
              <a:ext cx="104760" cy="87660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4:16:58Z</dcterms:created>
  <dc:creator>SCANA USER</dc:creator>
  <dc:description/>
  <dc:language>en-US</dc:language>
  <cp:lastModifiedBy>Peggy Hines IRSC</cp:lastModifiedBy>
  <dcterms:modified xsi:type="dcterms:W3CDTF">2013-03-06T20:20:37Z</dcterms:modified>
  <cp:revision>181</cp:revision>
  <dc:subject/>
  <dc:title>Protection Against Radi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061033</vt:lpwstr>
  </property>
</Properties>
</file>