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dt" idx="43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ftr" idx="44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 type="sldNum" idx="45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3920" bIns="4392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5A40-739A-4EFC-8DDA-1B77CFCEA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8D08-8AD4-4E29-898F-AEAC171C956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C31ED-E180-45DE-8FA3-21514C5F247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AD0E-DFAA-48CC-BF75-ED9F6AA64B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B308-8AA0-430F-8E0E-F543E9EB66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50F4-5DFB-4D81-B40F-71BBD37146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EE4E8-4340-47DE-A718-95553A580D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9047-83D7-423A-B570-00297E82DC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AA1E5-6E41-4831-A151-556B7D15608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B4B8-E186-4E08-9B65-B8E92CB1F92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AC9C-68A3-417F-98A4-462B21BACB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7914-7F18-42B8-B268-F9968CAA224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9841-C687-4A77-AA62-6CCCB7944A5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1BE2-B900-442A-BA4A-B017AB043A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724D-3DD1-4CC1-9FCB-762FFECE63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89D9-397C-42A6-9042-36A4064EE1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B60B-6A55-45D0-B6E7-9656FC325A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3920" bIns="439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A9BA-0320-40CB-8385-AC7E8EC97B9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F09-2787-4EE9-B114-D02CA4B6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ED95-1FB6-461E-BD91-A6B7331F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6B9FE-9ABE-4FC0-9912-9E7637CD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CBD7F-5C9C-4C53-8C8A-77069639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C5256D-B99E-450C-9161-6D304F14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C875D-7459-49E5-A460-8FCE9701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987D-90CC-4810-901B-8D106950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AB67AE-9A19-4253-BF58-D4A966C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9311D-1BC7-40C5-B096-0B1B2535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B57A1-084A-4385-93EC-A6FAB369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7BBEA6-723D-43F1-9C82-4B3E1E00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9384D-E233-424C-90BD-A402472D9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631-ED0D-4933-8A57-BC9911D7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3D7D3-C8B4-4599-811A-FE7DF0662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B6599-FF1B-47FA-95BC-E6E837D7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48773-FF4C-4142-85AC-143381B5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5C674-B13F-4EF6-8DD0-EB97DA4A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7796FB-4CFD-4EED-BE93-57CB8E56E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01398F-FD45-4BBF-8723-F9B9BE01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7C89F-51DA-4940-8E22-B7A1AFAC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358D4-E413-429E-9FB1-76D21B80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B2D0F-0CB5-44BC-A33E-B1C7029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435FF-55A9-4CC0-9131-7B665D03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63E-FB1A-49A6-8FC1-EDB267B7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D73A7D-C760-486C-A089-3A9449D3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B2221-0254-443C-9501-3D275471F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821DEB-06DA-44D4-93FB-84C097DB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0A6A8F-1296-46C3-939B-DC922155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0139DE-0B48-4C8F-B211-A3D12C6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73605-EE04-4413-A0BC-8769F5DB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0CEC-402C-487E-AC3E-0048245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24C96-9E57-4AAC-B465-E3044053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40258D-90BE-41BA-BE16-6488D7ED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FC6B5B-65C8-4FBD-B726-ED77AD60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7222-C213-420F-BEF1-D8891A3B6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63E9E-EF0B-4E5E-8315-301E7BB4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4B7C4B-811A-46C4-BD9E-E099C370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085D0-5FF7-4BFE-87B0-30A6A8E8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2D26B2-C7C3-4F84-BFA9-36984C08D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50CD56-FF3B-4F35-BE0F-DA057D9E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2CB65F-C7C5-4C63-87E2-2321AC19C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E30A4-077A-4FE8-8153-86CA59D3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9FB6A-E0FB-4FB2-9727-8B49FB40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849FD-7E47-4B9B-934F-672761D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ECC75-8190-444E-BA69-444FB4D2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EBC4-59C4-4EB1-85FD-911F1CB3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7AE78-1528-4662-BF19-FB119656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CCC03-81E0-41F9-9ED3-CE7A68A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55040-52A3-4F64-8D74-9F96CF460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7E5C-EE33-4A22-8889-383503A5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588C06-7434-4F75-9F9F-653F6597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1456B2-D99B-483D-B29D-97C56786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0DF14-7BF0-417B-80C2-48B633A8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FD0EA-2A35-47C4-A889-C20BD5C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6F0728-A79C-49CE-A202-7D125CFB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7915F9-9947-4EF0-BA00-D5022AE4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8CC7-1714-434F-A775-6F7C6845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12544-42DB-4517-963F-729C1271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4731C8-1A3E-4C17-9B92-58BBA32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3ED5C-7DFC-4F8D-AF9B-2FE56F3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77E87-18E0-408C-A0C2-6892BDF7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5D2AC1-02A6-4211-B933-E7701E78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8B25A7-CDDD-421D-A063-7A356A55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A7E957-6258-46EF-A10F-49C45F20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7600DA-D04C-42FB-A837-BE6C37D05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081F5-44E1-47B3-8EF6-013F9A0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06624-7E7C-468D-9171-10710A3B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9F8A-3C37-4693-A9F0-2B9D9FF5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59A73-8902-4DC9-8612-E6132BE4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6DBAFF-C50E-4916-88BD-95BD37A8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3B2E20-65B3-43ED-8866-5520DD0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2D0426-F70E-45CE-8B58-023B865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EE2DF7-4992-4B72-AB28-E3A519E7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2C675-11B8-4F02-BFC2-B982A1BD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B585B1-61CC-4AEA-BD2C-E0318D53B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15012-92F6-4A1A-8038-0EB5C056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0D589E-43F6-409E-8B3F-029A548E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512-CB8A-4E01-9FA5-799EE1B1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E5A5-1385-4DB7-A602-FA3B82F0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AE38-AF4E-4982-BD44-63B47DD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8B0-A3F6-463C-9971-867A11B66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F8B4-0D09-44EF-9480-5267B6E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0187-1F0D-49C7-A94C-B4BB7F0AE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6F4A-82B5-4C34-AAE9-884B298A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AE27-E224-4CEB-9952-E90D35609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CEA1-E88B-4285-A564-57087DEF8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6E5EE-3735-447F-A008-112860990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474F6-3461-4158-9AC0-A6667E16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BA672-C8B9-451E-9FC6-52B7B2231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A5166-5309-43F5-BC09-3B43F949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DA387-D57A-4E92-886C-933DBBDCB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B508-1A0C-4B77-B35B-5D3E0D84D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3DAB3-C109-4642-9560-103F55647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77D16-082A-4CF3-B262-AF4C1E1A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33401-D009-481B-82AB-D3C2F7FD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12F1E-F904-42E1-ACF8-84D0B77DA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B03BE-FDBA-4194-B68F-9800E1AB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31908-4989-4E7B-9E20-68E62321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C5A1-52C1-4914-B279-A3B4DD16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5DF73-4EE8-4F4B-8517-B2B6631C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C82C3-F7A0-4928-8AB1-4D03B077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67FA5-54C0-404E-B8EF-44DAEF6F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7091-2EA5-4B8E-8748-59711EA2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A50A8-3E1E-4431-A823-E5F94E0E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D4E50-7247-4C77-9C57-7D69020F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4B36B-9E06-40EC-85B8-D739058E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F6829-E9E8-4ABB-9E80-7A4800BF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57DFB-F530-418D-B88E-0D6A0B4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B5B94-6985-410C-AA99-739046515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52BBA-C990-4227-9ABD-4DE5F595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5EB31-A73A-4C84-A139-6171254CF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0EF63-142D-49A6-9856-19B044F6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8F52C-8F47-48F3-A55F-FD5E3CF1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29BE-562F-4DEB-B048-BB6084AF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65B24-ED5F-460A-99F3-F6336E8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D6A2A-A165-45D9-917E-8A68D172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FF32A-E261-4943-B54A-3FEA1618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F9B3B-6E53-4B70-9711-8F486358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925B5-E171-4FB0-80C2-112293A8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29E43-3B8F-4988-B560-3641D0DC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4144-FF17-4861-A16A-F7D344F0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58A6C-0911-4DF8-83D8-19D0B1EB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370C-9312-4736-B8BF-EDF90442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BA8F2-460E-43AB-A697-DD16324F8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58BE-2795-4121-9D19-7464D08F9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F30F2-8062-4A15-A6B6-6ABBEBFD1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3A22-1F96-49FE-B01B-7AF82ED3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99E9D-E489-4E02-80F0-199F5DA41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5B537-98BB-46B0-9F8C-FC8AB3E6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8E55A-9C7C-4782-8794-98492849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566737-E0B8-4FD7-8774-F1EC6EED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3E455-A9D7-4A6F-8C94-526CA9C5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FD8D6-6362-40F2-B7A5-DA79FE042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0BE36-4B20-486E-8B3D-DBCA6CCF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C072C-D9E6-4DCB-B54B-429E8B29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DB2-33E7-4DA0-95F2-F05F755B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9B905-E3DA-496A-BDC2-A3633538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0FC2F-C09D-477B-A082-1C1DAFC6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CF4EA-BD0B-4D2E-B613-348327F3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3E5A5-EF9A-4A2E-9AB6-931B3262E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B7658-8D76-4AF5-A5B7-F5401AF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CACCB-1A63-45C7-B8F0-73795F76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449DD-5442-4E3C-8046-C87C8ED1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6DB85-2C05-4F07-9DA6-E4A697EE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1BD9F-C12D-43F1-B4A2-E9B32EA2E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0EDE-81EE-4F53-8ABD-929B9FC1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688-BB48-4B23-ABF9-45AF10B44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4111D-568E-40B5-9B0B-C0C3C295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555B6-1A80-45E8-9D5A-B04DFF01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8558F-9F15-4972-839B-674EFA52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3BCF5-EEB7-4C91-8F67-18F3E67D8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E1FD5-5458-4166-BEF7-51E430F4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4CAF9-6577-4CE0-A03C-A2A77DCF0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56AEF-DA61-4317-BA70-348258BF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45294-98C2-4DC0-95E6-B243D54A6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92264-6F2E-46D9-BB5A-6CA691C5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78105-AE94-4496-9250-8D8837D2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7C4-5689-4D68-9A1C-BDC554E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C8DFC4-D60E-4873-9C5F-344D526B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B6274-39C1-4CD6-A3E0-77CE1D88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E5362-EDC6-4DB1-8EDD-F8DB27E9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810EF-0270-491A-A71F-240E677E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CD79-8A0A-4489-99A6-FE4C594C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322B1-5D3A-4E90-BCA0-49FA03BC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A30F24-176C-468C-B3F3-FC3B2E67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9304C1-AA25-4C42-AD61-5DF7550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A1F4F-5088-4070-ACBF-DE879B6A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99C41-7145-47B8-8022-5DA5402F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EFE8-503F-4801-87FA-5BCABABA15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B20C-BCF0-4B59-95DA-E423EFEB41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009C-1A60-4ACB-9D18-3AB306C55B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289D-8B83-4ABA-A43B-075B1F703D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432DA-4A97-49A0-86D1-01FF06A04B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E551-DBE5-41AD-A729-4F6910C50F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119E-2105-4DEA-897E-6DC36A5E4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15F11-DAA2-4C35-AFC7-9070B0B7B4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8310-21CB-4277-854A-AE59530A19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221D-F4DC-4F94-B8E7-C23C55FDC1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CD08-94E1-49FC-AB2A-9510FB19E7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18E3-2CE6-4A60-8C4D-7F01B822F2E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F6D1-B7F2-47DA-A721-6BCF3DAE2E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CD51-1928-4605-AB40-9097A14294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R policy, CFR violation, CFR enfor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819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7" name=""/>
          <p:cNvGraphicFramePr/>
          <p:nvPr/>
        </p:nvGraphicFramePr>
        <p:xfrm>
          <a:off x="237960" y="1523880"/>
          <a:ext cx="8668080" cy="1738440"/>
        </p:xfrm>
        <a:graphic>
          <a:graphicData uri="http://schemas.openxmlformats.org/drawingml/2006/table">
            <a:tbl>
              <a:tblPr/>
              <a:tblGrid>
                <a:gridCol w="1084320"/>
                <a:gridCol w="1082880"/>
                <a:gridCol w="1084320"/>
                <a:gridCol w="1082520"/>
                <a:gridCol w="1084320"/>
                <a:gridCol w="1082520"/>
                <a:gridCol w="1084320"/>
                <a:gridCol w="108288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5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1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4.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Proceeding to modify, suspend, or revoke a licen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dicates alleged violations or potentially hazardous conditions and specifies proposed a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written response to the order under oath or affir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forms licensee of right to demand a hearing on all or part of the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ecifies the issues for the hear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te the effective date of the order – may be immediately effective if public health or safety of concer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Llicensee must admit or deny each alleg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and for Inform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ssued by Commission to determine if an order should be is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Licensee must reply in wri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0663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2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191120" y="198108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0, Appendix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5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7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CFR10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6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6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 - Rules Of Practice For Domestic Licensing Proceedings And Issuance Of Ord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proceeding relating to all aspects of licensing issues, and the enforcement of licensing agree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9 - Notices, Instructions And Reports To Workers: Inspection And Investiga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0 - Standards For Protection Against Radi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trols the receipt, possession, use, transfer, and disposal of licensed mater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6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6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6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6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6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1 - Reporting Of Defects And Noncomplianc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s responsible officer of a nuclear faciity to immediately notify the Commission of an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ilure to comply with laws relating to substantial safety hazar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efects which could create a substantial safety haza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26 - Fitness For Duty Program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 - Domestic Licensing Of Production And Utilization Facil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quirements for obtaining an operating license or construction perm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6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6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6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A - General Design Criteria For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es necessary design, fabrication, construction, testing, and performance requirements for structures, systems, and components important to saf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0, Appendix B - Quality Assurance Criteria For Nuclear Power Plants And Fuel Reprocessing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Q/A requirements for the design, construction, and operation of all structures, systems, and components included in a production or utilization facil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ore details: student reports on criterion I - XVII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6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Parts of 10CF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66320" y="198072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1 - Environmental Protection Regulations For Domestic Licensing And Related Regulatory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55 - Operators' Licens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als with the issuance and renewal of licenses for operators and senior operators at nuclear facil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73 - Physical Protection Of Plants And Materia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other words, secur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0CFR100 - Reactor Site Criteri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d on population zones, seismic activity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6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6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6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6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6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Existing U.S. Nuclear Reactors (10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Content Placeholder 3" descr="reactors-map.gif"/>
          <p:cNvPicPr/>
          <p:nvPr/>
        </p:nvPicPr>
        <p:blipFill>
          <a:blip r:embed="rId1"/>
          <a:stretch/>
        </p:blipFill>
        <p:spPr>
          <a:xfrm>
            <a:off x="1295280" y="1905120"/>
            <a:ext cx="6867720" cy="44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Proposed New U.S. Nuclear Reactors (28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Content Placeholder 5" descr="new-plants.jpg"/>
          <p:cNvPicPr/>
          <p:nvPr/>
        </p:nvPicPr>
        <p:blipFill>
          <a:blip r:embed="rId1"/>
          <a:stretch/>
        </p:blipFill>
        <p:spPr>
          <a:xfrm>
            <a:off x="1295280" y="1828800"/>
            <a:ext cx="66294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Quality Assurance for Nuclear Re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assurance (QA) comprises all planned and systematic actions that are necessary to provide adequate confidence that a structure, system, or component will perform satisfactorily in serv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tributes of a QA program include procedures, recordkeeping, inspections, corrective actions, and au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itle 1"/>
          <p:cNvSpPr/>
          <p:nvPr/>
        </p:nvSpPr>
        <p:spPr>
          <a:xfrm>
            <a:off x="1066680" y="1905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NE 127 – Codes, Standards, and Regulation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Subtitle 2"/>
          <p:cNvSpPr/>
          <p:nvPr/>
        </p:nvSpPr>
        <p:spPr>
          <a:xfrm>
            <a:off x="121932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70c0"/>
                </a:solidFill>
                <a:latin typeface="Calibri"/>
              </a:rPr>
              <a:t>Key Parts of 10CFR (for the Nuclear Industry)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NSTRUCTOR: Chattanooga State CC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view of QA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 reviews and inspects QA programs and their implement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RC's objective is to determine whether licensees and their contractors are meeting the agency's require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particular, the NRC reviews the QA programs for commercial nuclear power pl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addition, for operating nuclear power plants, the NRC reviews any changes that reduce previous commitments to the plant’s QA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Regulatory Guid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tail acceptable methods of design, fabrication, construction, operation, and quality assur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ions are mandato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and NUREGs mandatory only as committed to by the applicant (as stipulated in the construction permit or operating licens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y Guides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t forth requirements for submitting environmental reports, safety analysis report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SAR – Preliminary Safety Analysis Report (for construction permit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SAR – Final Safety Analysis Report  (for operating licens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ulatory Guide 1.70 describes the type of information to be submitted by the applicant for PSARs and FS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UREG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 NUREG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ical reports relative to the regulation of nuclear ener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800 - Standard Review Plan For The Review Of Safety Analysis Reports For Nuclear Power Plants: LWR Edi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cribes what the NRC expects to see in the SAR, including the applicable acceptance criter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ful for auditors for identification of specific regulations and guideline documents that address each topic of a 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REG-1946 - Inservice Testing of Pumps and Valves, and Inservice Examination and Testing of Dynamic Restraints (Snubbers) at Nuclear Pow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ences the ASME co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stitute of Nuclear Power Operations (INPO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Established in 1979 following the Three Mile Island inciden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ts mission is to “promote the highest levels of safety and reliability – to promote excellence – in the operation of commercial nuclear power plants” by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ing performance objectives, criteria and guidelines for the nuclear power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ducting regular detailed evaluations of nuclear power pla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ing assistance to help nuclear power plants continually improve their perform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INPO Continu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O provi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nt evalu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ining and accreditation (ACAD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vents analysis and information exchan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ist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o be confused wit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I (Nuclear Energy Institute) – lobbyist group for nuclear energy indust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UCP (National Uniform Curriculum Program) – program sponsored by NEI to provide a national certificate of accreditation for QA/QC progra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RC Technical Training Ce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ted in Chattanooga (off Marlin Road near the airp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RC TTC Administration Offices are located on the second floor of a 6-story all glass exterior office bui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ors are located on the first, second, third, and fourth flo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Next Tim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ME Boiler and Pressure Vessel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RC Enforcement Poli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pecified in 10CFR2: Rules of Practice for Domestic Licensing Procedures and Issuance of Or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sures compliance with NRC regulations and licensee condi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s prompt correction of licensee weakness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vides a deterrent to future non-compli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ourages improvement of licensee performance – leads to enhanced degree of public health and safe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gnificance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Assessed based on the followin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h as actual release of radiation, damage to core,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tential safety consequ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sed on risk fac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act on the regulatory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ailure to report or keep accurate and timely reco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llful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45720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dicates deliberate intent to violate or falsif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verity Level of Viol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Normally categorized in terms of four levels of severity to show their relative importance or signific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 – mo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vels I and II involve actual or high potential consequences on public health and safe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Severity Level IV – least signific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forcement A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The NRC Commission may issue 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n-Cited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ice of Viol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ivil Penal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lated Administrative Action (such as a Demand for Informatio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n-Cited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issues of very low safety signific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cumented as violations in inspection reports to establish public records of the vio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cited in Notices of Violation which normally require written responses from licens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Notice of Vio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Served by the Commiss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May require licensee submit a written statement to address all alleged violations includ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asons for violation, or, if contested, basis for disputing the viol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taken by licensee and results achiev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rective steps which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ill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be ta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e for full compli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Available for viewing on www.nrc.g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ivil Penal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Civil penalties may be imposed for up to $140,000 per day for each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Actual fee based on severity level of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If a violation is on-going, each day of the violation constitutes a separate vio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dcterms:modified xsi:type="dcterms:W3CDTF">2013-02-14T14:49:00Z</dcterms:modified>
  <cp:revision>248</cp:revision>
  <dc:subject/>
  <dc:title>Statics and Strength of Materials</dc:title>
</cp:coreProperties>
</file>