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12.jpeg" ContentType="image/jpeg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dt" idx="4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ftr" idx="5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 type="sldNum" idx="5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75FD-B7EF-43AC-B828-CCE8BB123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A27-11B6-492B-8D25-452089B45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8EF-A824-4BF7-860F-A0C7CB325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98F4-CB6E-4BBB-8448-96C46391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F5C5E-2AFA-43A5-BA26-49EAF140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B38D3E-19C8-4281-A9BC-B000D351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F6E0E-F05D-4997-AB89-DC137C89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A3DA0A-3BF8-49D0-A1E2-721858B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7897E-01B1-46FF-8FD7-99D987DE3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B135B-C052-4D9E-B231-86048054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82A29-B329-4FFF-A2C1-78AC52A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939E4E-F546-4A95-B518-1B093D83E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7FC92-2C11-47C3-99D0-D7F53860B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94AC0B-EBF4-4229-95B4-7E8FDFB5A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6719-5572-4392-BD74-AA6B13E33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06ED9-7B63-40CA-86C9-1330E744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FBF03-23CA-4B09-B0F7-9DFA6416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DB9A7E-83C7-4A74-B5A2-423E7B5F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D2188-01BE-4335-A03F-AE49C5F47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4C0B9-A0A8-4492-84B2-C98F4984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E3CF3-A8AB-4C7B-A43D-C1BDFD41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526E06-9FB9-4738-BED4-74AA3974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D8882-1CF5-496C-88D8-AA023FC9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4EF258-15F5-4781-8FED-1E0C61D8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5ED33B-7074-44E1-95DD-9DDA5C25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18B7-8A15-4B25-9F98-6B488583D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97179-AE6E-439F-A3D1-B3C11FCD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30054-91EC-4B27-90C2-16BF17EC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A3199-EDDB-4415-B298-93DBF31B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1C08D-A2F3-4F80-84B3-CBA8EB12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93D05-F6D6-47E9-9841-BEBC69DA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CA816-5DC6-4DD8-BE7A-D4C627E4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62B3E-E400-438A-BA79-DC407074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3AAE8-394C-4972-B9B6-C32D6B1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63CEB-A93C-449C-B45F-D67C1A59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1EE9B-BDC4-476F-8D7C-30DE628C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7C64-1C04-40F1-BBEB-72B65E75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CDBDB-07E9-4459-B1C1-565E17A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DB2110-C3D5-4EB2-9121-95E85466A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9F069-F3EA-4F46-A172-85773FBB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EB0E-3154-440A-ACF8-03EA8FBB6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241EFC-6524-4FE2-BD36-52E3BAA9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6C15C8-C832-4A5E-9350-E0FEF6280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DA89C-F147-4612-9815-C9E74F86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929FA-B2FF-4096-8B08-C4CB07F1C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FC473-9C85-47EF-89A8-05106008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08C747-0F4D-4162-ABBA-480A0139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8AEA-AF25-435F-921D-530CA0444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13639-AC2F-476E-B80B-FAFE0AA9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BA33FD-1853-4B88-B7EC-4CE57DBA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A6A9D-27BB-4693-97F8-6C6D731E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CCDE2-F9F6-451E-8C85-C9E4F44B4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229679-9C1B-46EE-93D7-B479CEE7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50157-D714-49CB-A810-27E29543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3492DB-B8A9-488A-A218-B82B12D7D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3356C-1615-4AB3-A30F-2CF1D5CCE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0D336-12C3-4296-BAC9-FF54349DC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19923-F3AD-46BD-91C1-CD9509E4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CD383-E1DE-4359-AE0D-47711C5A5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489A9-CDC3-44AA-B2EC-B645630E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F2D3E-2789-462D-9524-0FEF64D1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A7A6B9-4991-4E11-8BDB-BA48498B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3D43D-B6D6-4284-B833-0B44E6F8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3F247-DB20-469C-A4B7-EF92DE5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56979-72FF-42DC-92DC-06206F5B9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008F9-50C5-413B-B32F-671EA5F9C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A4C0C7-C447-4098-9725-0028905B9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ECB776-45AF-4A60-9411-B5D239A7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AA72A8-CF74-4DA4-B12E-87C82A2E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CA30-41DD-48F1-ABD0-6B5F5138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A2BD24-0DFD-4E37-B2E4-F90DD776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6C8E1-0FD1-4CB1-8967-11D0B8BD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18EF1-CB08-4375-906F-C71CB8C3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795450-54F5-48A9-A7FC-1ECACF09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1D9F3-5D32-4531-9082-12B1242B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9DF697-6DD8-4AF8-A8AF-AF64BF631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E7263A-34F6-44B4-BA2D-E7D284AB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E01513-0EDE-4B58-8374-10EA8D59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B3A250-79A2-4862-92FD-42669C73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5FE9CC-100E-4509-90A8-7C9AB180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3555-00D3-4022-B40A-AF7428B3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5B9E77-3B31-414C-BEA7-8096E81F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3D0B2E-8231-4EE3-9FB1-49FE2D1A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B7A4F2-C6E0-4CC9-9137-9EBA8E41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3A3687-E9E3-440A-8002-68DDF9A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F972DC-A5AE-4666-9BEB-A9CE8CE8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F6E9ED-D278-4010-91E2-8F5C90C8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BC5205-2A81-4082-A8D8-077775A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3AEDD5-549B-4C87-BB21-1EAC8C2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AC0F3-9CAD-4C03-9FBB-79E6B5C2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4231B-7B9B-4F79-8C93-D168108B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D6824-3484-4A5B-B573-83CAA265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667699-0772-49BD-81D4-7742926A9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C2A496-26BF-4669-815D-CEC45B83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6595E4-FCE7-4394-8F24-62E112F8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7F87C-B181-44C0-842E-C098AC46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93D1E5-FE2C-47E6-A60F-2F0686EF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0EB60-B4DB-4775-9974-7E5B31A1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89F261-A4F0-4164-A64B-CF19AE05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E326EF-27F3-496F-A70F-A915A371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E040E-23CC-40D9-A348-BC1419DA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FA9201-8024-4E64-ABE6-5CC75664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306D-159F-40C0-83E8-A4431A53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6FDB6-CC65-4B25-BA37-99E5C5F2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4772CE-4374-4B7C-85B2-6E1CA65C3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1F77F9-93DE-4E3D-A09C-8DA26A56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A83E-4010-4FE4-90A3-2C7A61E4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D291-F347-458E-B357-0C06BA53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3E01-8C62-431A-81C4-4393083B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BC6B-B3CF-4025-83A7-4CB83F6FD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9283-4C43-4965-9EDB-612550B2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A26B-4D41-4652-8643-D048D6A8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A239-6722-48ED-98BE-D1F39A84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12AEC-39EF-4FD4-9B0B-30D749BE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0C32D-60AE-4EF6-ACCC-80189D310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81EA5-2635-4545-A4FC-A753BC9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C14C-746D-4BA3-B777-649DF848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FDF-EEDC-4AD7-B02A-E465BA2E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29F9B-BEF1-4041-A181-4042E3423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5FE84-56E0-4034-ADDD-D20E4EA8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D5DB-F167-4A32-B18D-E60369C3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EA000-665E-4F34-95C3-0CB14CA8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893E-85E3-490A-8BB0-753E4B89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8D286-A0A4-4E25-BBF4-B04DC9865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6C77-4FE1-4EF7-A34E-DB9B1ECF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6218-3B1C-4F0A-9C27-25124955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D1C38-534D-456E-B411-2B070B176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75B68-4E05-4D37-8C3E-E73D1B44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1CF0-059F-4C8E-9244-5028D00E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3C272-9092-49D6-B1BE-B98B98DF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94F51-F34D-45EF-AB9D-C6E2FD16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B1837-78EF-4681-9177-F5978F42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7C0F9-A1D6-4D4C-8335-6325597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FBFD4-6232-43BA-9452-C36AC8A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CBFB5-C0F7-459A-805F-5F84548D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309E2-DC58-47BD-BAFA-2B025763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4FB12-0EA0-48E0-885E-023676CA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DC8F5-0568-45D4-BF5E-432A71DA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2DA3-D640-4503-AE6A-86A2BC2C5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508-A31A-4A4E-8109-2FE143BE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9FFE2-732E-4FB9-93AB-3CFAE949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8F6C6-1319-4A92-90B9-28AA343C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333AD-3D53-4213-ABA3-8BB8D57A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7F55D-759F-405D-B58D-6A8CB443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FA61A-A371-4C9D-825E-074ADE53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F6462-3615-49C5-9847-DF37799E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4D6A4-404A-4EEF-A1A9-30802064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E0486-08E4-4865-AED1-A4C466EE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CD1F2-C764-4FDD-9C7D-A80D7B094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48D74-DEFF-4648-86A0-57DA6B20A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D5B-A254-484A-BC29-61674AA1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0231-1D53-4A38-93C7-539B3E91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2F2B4-49A0-4DFD-8D59-2883A2818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7E7B5-62FE-4164-8747-9800766C3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157B-53D5-47FB-9842-BE705600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9ADE-82FE-482E-BE82-EB765A92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9B54B-AE0B-4C1C-A64C-0D1263B9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0CD604-28B4-42AF-A387-652EB943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37CE4-2AC6-49D1-A505-DF761C4D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425D1-B17A-40B2-BC41-CB2089AA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E37FE-FCCC-4962-A293-1672F06B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F67-B25B-49B3-B684-33D54B3E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77FA2-6F5E-49A3-9C67-2EEEF87BE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9A7CF-6AF9-44CE-B717-7B829930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91879-60CB-422F-8A55-317BF647C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0B94-9B9B-486E-8E5C-3C79C495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0E18B-EB75-4405-93D3-F0047A7B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4F679-326B-43F0-A099-00ABC0F2E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27ADD-4135-4575-979E-9EF01B7D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0FB0A3-1E5C-4F47-AB16-855433F8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44167B-55A3-4555-8976-2C12A9783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1D360-F5E4-4159-9A20-427B0ECA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D221-4365-4700-9AD0-FFCB8DA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55A0B-4BA2-4787-8056-F5999FD3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1A2E-9D65-4510-948B-E3CA67341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4845F-6655-45B1-B83D-797DC95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B7946-276C-4331-927F-85B9D52C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7D16E-8C50-48B6-9F9E-635A17E36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76813-CE09-49A7-8A32-7778BA6A8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22880-B0E8-4466-9547-C23FECB9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022FB-F110-4C39-BE22-70BB60D2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0690B-24C1-499B-B032-543D9DB1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EF959-1D27-44C3-989C-4153D01A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2FEF9-D1EB-4377-91C4-1A1AE2BD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51537-6041-43A9-AE9C-AF24574E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74E21-2B66-41BC-BB0F-575BF297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1B6BC-5CAE-4ADF-AF25-8B375307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EC318A-A799-495D-9068-ED4CADD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3B6B4-0033-4DC3-BAB0-DC82901A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FDAA5-B541-46EE-9A0A-578B2DE6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3DAE8-C7C2-44B2-A97A-F4124701D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9E351-AA08-483D-8610-DE82D27B9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EC7C5-2191-47EE-964B-7F7096A3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8A443B-C972-4D45-B3F8-41287B40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va.gov/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hyperlink" Target="http://www.tva.gov/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tva.gov/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E530EBC7-BA0F-4DBE-95D3-570DF5399F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6BD6-753D-4FCD-BBEA-76D71DB5EAA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6781680" y="0"/>
            <a:ext cx="2362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79D99512-2A72-4011-BDB0-0FF15EE5F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B2EAE0F2-8004-4670-822C-B936C06A1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" descr="www.tva.gov - TVA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8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2532756B-1AD0-4A9D-B221-94BBD6643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2690-BB1F-4478-9BCC-CBC5000D32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3B77-7023-41B7-8E8A-B93872D49A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1C00-9A67-41D9-8FCA-533DC9E7AF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74BD-C73B-4A12-B7D1-781957AF2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0C8-37BB-4B7D-9D21-E43F351756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89E-78B2-450D-AD35-B1F1A053D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523-B250-4C77-A361-FA60FB54346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613A-EB2B-473E-BEE8-8413F5504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DCDA-9525-43BC-8F4C-66A13D543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6781680" y="0"/>
            <a:ext cx="2362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0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0F3009F9-558A-47F5-BA4D-0391D0255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237600" y="6299280"/>
            <a:ext cx="127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-</a:t>
            </a:r>
            <a:fld id="{853F48E6-1DE0-4A38-AFB4-152500DAB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www.tva.gov - TVA log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534520" y="6248520"/>
            <a:ext cx="342720" cy="34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www.tva.gov - TVA log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077320" y="6248520"/>
            <a:ext cx="342720" cy="3427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8"/>
          <p:cNvSpPr/>
          <p:nvPr/>
        </p:nvSpPr>
        <p:spPr>
          <a:xfrm>
            <a:off x="7391520" y="0"/>
            <a:ext cx="17524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T001.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v.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F8A98B9E-E908-4409-BAC7-51292EA9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RCNET.jpg"/>
          <p:cNvPicPr/>
          <p:nvPr/>
        </p:nvPicPr>
        <p:blipFill>
          <a:blip r:embed="rId7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IRSC_NSFPoster.jpg"/>
          <p:cNvPicPr/>
          <p:nvPr/>
        </p:nvPicPr>
        <p:blipFill>
          <a:blip r:embed="rId8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P-</a:t>
            </a:r>
            <a:fld id="{7257F111-F970-4332-B9B4-DA9EAAA9F5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9498-20AA-4FEA-A318-56A7545AA2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849A-BE89-41EB-BC7E-85E3D6AC88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7A26-AEE4-4EE7-86A8-949BF91E55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D7C52-78B2-4FB1-A4C1-8F9CF8A3B6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D973-0024-4BAF-8650-2B7F603B65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ED555-C11B-4BC1-89C0-0DDBD80114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osure, gamma ray constant, time, distance, shielding, shield placement, dose rate, sky shine, stay time, inverse square, line source, parallel source, Bremsstrahlung, attenuation, buildup, energy absorption, rule of thumb,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"/>
          <p:cNvGraphicFramePr/>
          <p:nvPr/>
        </p:nvGraphicFramePr>
        <p:xfrm>
          <a:off x="237960" y="1523880"/>
          <a:ext cx="8448840" cy="1433520"/>
        </p:xfrm>
        <a:graphic>
          <a:graphicData uri="http://schemas.openxmlformats.org/drawingml/2006/table">
            <a:tbl>
              <a:tblPr/>
              <a:tblGrid>
                <a:gridCol w="1057320"/>
                <a:gridCol w="990720"/>
                <a:gridCol w="1066680"/>
                <a:gridCol w="1143000"/>
                <a:gridCol w="1067040"/>
                <a:gridCol w="1143000"/>
                <a:gridCol w="990360"/>
                <a:gridCol w="99072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3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8.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9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9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1.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y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y Time – Time Allowed in an Area Before Exceeding a Li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Need to Replace a Filter Where Do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is 100 mrem/hr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Exceed 300 mrem/wee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= 8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can each person 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eople must wor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37C6089-4507-4AD8-A674-C0779ACD5C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y Time -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= Dose/Dose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= 300 mrem/100 mrem/h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= 3 h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 of People =8 Hr/Jo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3 Hr/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# of People = 2.66, or 3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BB154D6-C3B7-4F64-B8FD-78D841B53CA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Radiation 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Source – Small Val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ource – Length of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e Source – Tank or Pool of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6B53540-D355-4E35-9EF3-6EDC566D3AF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verse Square La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2B4BEC4C-9D24-46AF-B78A-5DB468C1AB2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5" descr="isq"/>
          <p:cNvPicPr/>
          <p:nvPr/>
        </p:nvPicPr>
        <p:blipFill>
          <a:blip r:embed="rId1"/>
          <a:stretch/>
        </p:blipFill>
        <p:spPr>
          <a:xfrm>
            <a:off x="609480" y="1676520"/>
            <a:ext cx="8001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rse Square La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lcul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 Fro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n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, c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hotons/cm</a:t>
            </a:r>
            <a:r>
              <a:rPr b="0" lang="en-US" sz="3200" spc="-1" strike="noStrike" u="sng" baseline="30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-se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7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(2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99 (1/4 * 7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(3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88  (1/9 * 7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(4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50 (1/16 * 79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0BCF281-0632-4F0E-A349-A313BE8EC4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verse Square Law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Distance Increases by a Factor of 2, Intensity Decreases by the Square of the Distance.  Therefo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C9D0EEC-D550-4BF6-ACCB-E55E58F085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a-226 Source Produces a Dose Rate of 1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R/hr at 1 foot.  What will be the Dose Rate at 10 ft?; 20 ft?; 25 ft?; 30 ft?; and 40 f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utio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 [10,0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R/hr * (1 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]/(10 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10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R/hr at 10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513688-F905-46BC-AE5A-9263A52ED80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,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ing for the Other Distance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f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3200" spc="-1" strike="noStrike" u="sng" baseline="-25000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µR/h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(2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25 (1/4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(3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11 (1/9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(4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6.25 (1/1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8009EA-9801-4E42-8E8E-7F735794D53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Reads 125 rem/hr at 1 Foot.  At What Distance Would the Reading be Reduced to 1 rem/h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= (125 mrem/hr*1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1 rem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25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1.2 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8AB2FBE-65D1-4E07-8660-471F6701E57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proximation of Exposu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r Gamma Emit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6C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       Where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Dose Rate, R/hr at 1 Foo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=  Activity, Curie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Total Effective Gamma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eV) per Dis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99A816C-C575-4761-AF9E-049159B055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External Radiation </a:t>
            </a:r>
            <a:br>
              <a:rPr sz="4900"/>
            </a:b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Exposure Control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HPT-001.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D9365E0-C496-4402-B295-98D41278BB5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tions of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to With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±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nly Used for Gamma and X-R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ood for Energy Levels 0.07 – 2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3219BC0-2434-4464-B62D-9D45EB1D206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xposure Rate From a Point Source With 10 Ci of Cs-13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6C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Cs-137 = 0.662 M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(6)(10 Ci)(0.662 M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39.6 R/hr at 1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3DB3B47-AD4A-4156-A977-2613A5253C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xposure Rate 12 ft From a Point Source With 50 Ci of Co-60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-60 has 2 Gamma Photons, Both of Which are Emitted with Every Disintegration.  Therefore, the Effective Gamma Energy for Co-60 i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1.17 MeV + 1.33 MeV  =  2.50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5F766F-2C87-42EB-8860-925D0E6E7E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# 4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6C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(6)(50 Ci)(2.50 Me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750 R/hr at 1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= (750 R/hr*1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12 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(750/144) R/hr  =  5.2 R/hr at 12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355C9E0-555F-464C-92BE-931D0015B02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xposure Rate From a Point Source With 2.5 Ci of Fe-59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Handout # 02 we see that Fe-59 has 4 Gamma Phot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43 MeV Emitted 1.0% of the t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192 MeV Emitted 3.1% of the t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099 MeV Emitted 56% of the t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92 MeV Emitted 43% of th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E4D9827-6600-44FC-846B-6606B3874D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# 5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Fe-59 is Determined b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0.143*0.01) + (0.192*0.03) +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.099*0.56) + (1.292*0.43),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.18 M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 =  6C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(6)(2.5 R/hr)(1.18 MeV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 17.7 R/hr at 1 Fo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0CC773F-6B2E-493E-9366-8A8DD12D22C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fic Gamma Ray Const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amma Exposure Rate in R/h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cm From a 1 mCi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  R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hr-mCi,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10  =  R/hr at 1 meter for each Curie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A836324F-F3AC-46DD-A8B5-57CF8469A4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Gamma Ra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stant, Exam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for Ra-226  =  8.25 R-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hr-mCi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10  =  0.825 R/hr at 1 Meter for Ea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i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fore, the Dose Rate 1 Meter From a 1 Ci Ra-226 Source = 0.825 R/h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F5E7121-8CAB-47D2-A6C9-3825C53ADE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xposure Rate 5 Meters From a 2 Ci Ra-226 Sour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10  =  0.825 R/hr at 1 Meter for Eac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i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fore, for 2 Ci, the Exposure Rate 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  =  1.65 R/hr at 1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= (1.65 R/hr*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5 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0.066 R/hr, or 66 mR/hr at 5 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91A5F94-818E-4909-9187-5E3347E11FD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the Exposure Rate 6 Meters From 3 Ci Co-60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10  = 1.32 R/hr at 1 Meter for each C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refore, for 3 Ci, DR = 3.96 R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= (3.96 R/hr*1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(6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br>
              <a:rPr sz="3200"/>
            </a:b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(3.96 R-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r)/36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11 R/hr at 6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3C6CCAD-94AC-40E3-8815-A31266F9D3B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abling Objective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38088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3 Exposure Control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Dose and Do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‘Stay Time’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Inverse Square Law &amp; Line Sourc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R = 6CE Eq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&amp; Use Specific Gamma Ray Co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5B63AAD-C0AA-4DF2-A075-C412404761D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 or Parallel 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Rate Decreases Linearly As the Distance Increases, so that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or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When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 One-Half the Length of the Line Source (L/2).  The Inverse Square Law Applies from the Point where the Distance Exceeds L/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BA145B6-F7F8-4C6A-8D0F-50BF0424CC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mR/hr 2 Feet From a 20-Foot Section of Pipe.  What is the Dose Rate 4 Feet From the Pip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amp;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 L/2 (10 Feet), Therefore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00 mR/hr*2ft)/4 f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0 m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7BA564C-53B8-4627-8B62-B7F7DAAAFB0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R/hr on Contact With a Pipe.  How Far Away Should Workers Stay to Avoid a Dose Rate of 200 mR/hr?  (Assume Contact Reading at 1 inch From the Pipe)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2 R/hr*1 in)/0.2 R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0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AF6A50F-BE9B-4CFD-8A33-064516356B7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Picture 4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10280" cy="4572000"/>
          </a:xfrm>
          <a:prstGeom prst="rect">
            <a:avLst/>
          </a:prstGeom>
          <a:ln w="0">
            <a:noFill/>
          </a:ln>
        </p:spPr>
      </p:pic>
      <p:sp>
        <p:nvSpPr>
          <p:cNvPr id="8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B200259-4BAA-4FF0-8FDA-B44CF4ED182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7"/>
          <p:cNvSpPr/>
          <p:nvPr/>
        </p:nvSpPr>
        <p:spPr>
          <a:xfrm>
            <a:off x="2895480" y="190512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e Rate 15 rem/hr at 1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8"/>
          <p:cNvSpPr/>
          <p:nvPr/>
        </p:nvSpPr>
        <p:spPr>
          <a:xfrm>
            <a:off x="2895480" y="449568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will be the Dose Rate at 20 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# 1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Use Linear Equation to Determin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Rate at Distance L/2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15 rem/hr*1 ft)/3 ft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5 rem/hr at 3 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FF9D0F0-8A9C-46ED-BF9A-5567C4811F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# 10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Use Inverse Square Law to Determin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Rate at 20 ft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5 rem/hr)(3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20 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0.1125 rem/hr or 112.5 mrem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19FBA5-2B14-4337-8DE3-7617BE56E3D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Shielding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pha     Air, Pap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e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Aluminum, Plastic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Gamma  Lead, Steel, Concrete (High Z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Neutron  Water, Polyethylene (Low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56A9E24-6B9F-4DDF-B3D0-1B1F9F9FA7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ems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king Radiation, Produced by the Deflection of a Charged Particle (Beta Particle) So That it Slows Down and Releases Excess Energy as a Pho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3F3F42C-3805-4EA1-86DF-B9EB3F7A7E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emsstrahl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Picture 6" descr="715435215@25022004-099F"/>
          <p:cNvPicPr/>
          <p:nvPr/>
        </p:nvPicPr>
        <p:blipFill>
          <a:blip r:embed="rId1"/>
          <a:stretch/>
        </p:blipFill>
        <p:spPr>
          <a:xfrm>
            <a:off x="380880" y="2362320"/>
            <a:ext cx="8229600" cy="3024000"/>
          </a:xfrm>
          <a:prstGeom prst="rect">
            <a:avLst/>
          </a:prstGeom>
          <a:ln w="0">
            <a:noFill/>
          </a:ln>
        </p:spPr>
      </p:pic>
      <p:sp>
        <p:nvSpPr>
          <p:cNvPr id="83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550092B-38AA-439D-BB1B-D2C1D3C0062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9"/>
          <p:cNvSpPr/>
          <p:nvPr/>
        </p:nvSpPr>
        <p:spPr>
          <a:xfrm>
            <a:off x="1905120" y="2590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a 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1"/>
          <p:cNvSpPr/>
          <p:nvPr/>
        </p:nvSpPr>
        <p:spPr>
          <a:xfrm>
            <a:off x="518148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remsstrahlung &amp; Shie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Picture 6" descr="Bremsstrahlung"/>
          <p:cNvPicPr/>
          <p:nvPr/>
        </p:nvPicPr>
        <p:blipFill>
          <a:blip r:embed="rId1"/>
          <a:stretch/>
        </p:blipFill>
        <p:spPr>
          <a:xfrm>
            <a:off x="1066680" y="1523880"/>
            <a:ext cx="6934320" cy="4604040"/>
          </a:xfrm>
          <a:prstGeom prst="rect">
            <a:avLst/>
          </a:prstGeom>
          <a:ln w="0">
            <a:noFill/>
          </a:ln>
        </p:spPr>
      </p:pic>
      <p:sp>
        <p:nvSpPr>
          <p:cNvPr id="83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994CF14-F677-4779-9786-859654CACE8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abling Objective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“Bremsstrahlung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Neutron Shield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3 Factors Influencing Attenuation of Phot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Linear Attenuation Coefficient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Mass Attenuation Coefficient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Energy Absorption Coeffici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17F6380-6C81-4DFB-8965-E41BB5F6AA9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ten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ssoning of the Amount, Force, Magnitude, or Value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duction in the Severity, Vitality, or Intensit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11446DE-9937-4A9B-B2A8-E6803DB780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ctors Affec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tenuation of Phot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ergy of the Pho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ype of Material (High or Low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ckness of the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2D7714-1A8E-4A8A-B88A-A56EA8D908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tenu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6" descr="attnmodel"/>
          <p:cNvPicPr/>
          <p:nvPr/>
        </p:nvPicPr>
        <p:blipFill>
          <a:blip r:embed="rId1"/>
          <a:stretch/>
        </p:blipFill>
        <p:spPr>
          <a:xfrm>
            <a:off x="2400480" y="2944800"/>
            <a:ext cx="4343400" cy="1838160"/>
          </a:xfrm>
          <a:prstGeom prst="rect">
            <a:avLst/>
          </a:prstGeom>
          <a:ln w="0">
            <a:noFill/>
          </a:ln>
        </p:spPr>
      </p:pic>
      <p:sp>
        <p:nvSpPr>
          <p:cNvPr id="84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7891CC6-85EC-45D3-9C46-0995B873634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Attenu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Fractional Decrease in Intensity per Unit Thickness of a Substance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ts: 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CA9A58B-503B-470B-8F74-D1F40456F1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hielding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sity (I) of the Portion of a Beam That Penetrates a Shield is Given B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Original Inten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Exit Inten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 Base of Natural Logarith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 =  Linear Attenuation Coeffic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 Shield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15E8DCF7-ED2B-47EF-86F2-7B0DB1C140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sure Rate From a 1 MeV Gamma Source is 500 mR/hr.  You Package the Source in a Container with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nches of Lead Around the Source.  What is the Dose Rate Outside the Pack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FC5C62E-0030-4A67-BFD2-54B25D741B8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# 1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2 in or 5.08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Handout # 03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 = 0.804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(500 mR/hr)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(0.804)(5.08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 =  (500 mR/hr)(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.08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 =  (500)(0.0168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  =  8.42 m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A73760D-4BB8-4B81-9942-E01C27E9135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ickness of Water is Needed to Reduce a 1 MeV Gamma Dose Rate From 100 mR/hr to 10 mR/h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Handout # 3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 = 0.0707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2CDE376-0902-408D-9FDA-A986921BD2C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blem # 12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Rearrange to Solve for x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and     ln(I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ln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, o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ln(I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= -µx,   and       x = ln(I/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/-µ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[ln(10/100)]/-0.0707 = ln(0.1)(-0.0707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(-2.303)/(-0.0707)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2.57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EE403EC-539F-4591-9D1D-2F3CD0D42E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otal Linear Atten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Picture 5" descr=""/>
          <p:cNvPicPr/>
          <p:nvPr/>
        </p:nvPicPr>
        <p:blipFill>
          <a:blip r:embed="rId1"/>
          <a:stretch/>
        </p:blipFill>
        <p:spPr>
          <a:xfrm>
            <a:off x="2084400" y="1600200"/>
            <a:ext cx="4975200" cy="4525920"/>
          </a:xfrm>
          <a:prstGeom prst="rect">
            <a:avLst/>
          </a:prstGeom>
          <a:ln w="0">
            <a:noFill/>
          </a:ln>
        </p:spPr>
      </p:pic>
      <p:sp>
        <p:nvSpPr>
          <p:cNvPr id="8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488F8FF-81DC-407E-AD5A-3B8CCC506D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abling Objective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Shielding Equations to Calculat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Exposure Lev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hield Thicknes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Radiation “Buildup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alf-Value Lay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Tenth-Valu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E82A9A5-3EB9-401F-A8B7-49FF099A810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ss Attenuation Coeffici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s the Densit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ependence From the Attenuation Co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ymbol:  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ts: 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 Tha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µ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(</a:t>
            </a:r>
            <a:r>
              <a:rPr b="0" lang="el-G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F81F99D-3FE1-4A30-90FE-40CBAE32CA1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s Attenu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efficient Grap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Picture 9" descr="MassAC"/>
          <p:cNvPicPr/>
          <p:nvPr/>
        </p:nvPicPr>
        <p:blipFill>
          <a:blip r:embed="rId1"/>
          <a:stretch/>
        </p:blipFill>
        <p:spPr>
          <a:xfrm>
            <a:off x="1074600" y="1600200"/>
            <a:ext cx="6994800" cy="4525920"/>
          </a:xfrm>
          <a:prstGeom prst="rect">
            <a:avLst/>
          </a:prstGeom>
          <a:ln w="0">
            <a:noFill/>
          </a:ln>
        </p:spPr>
      </p:pic>
      <p:sp>
        <p:nvSpPr>
          <p:cNvPr id="88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3161D5F-165E-41B3-8F69-785221CEB51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is to be Shipped in a Wooden Box.  The Gamma Reading at the Surface of the Box is 1 R/hr.  What Thickness of Lead Lining is Required to Reduce the Exposure Rate at the Surface of the Box to 2 mR/hr if the Energy Level is 0.66 MeV?  Use the Mass Attenuation Coefficien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From Handout # 4 and the Density 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From Handout #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6419D4D-20BE-4693-9D2C-4644C9FDA8F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# 1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ing the Equation I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(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(</a:t>
            </a:r>
            <a:r>
              <a:rPr b="0" lang="el-GR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to Solve for x Give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[ln(I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]/-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(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rom Handouts # 3 &amp; 4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0.105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/g</a:t>
            </a:r>
            <a:br>
              <a:rPr sz="3200"/>
            </a:b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  = 11.35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ln(2/1000)/-1.192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5.21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F88F0600-1ACB-4995-9442-5D58A38665C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ildup Fa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rease in Intensity of the Exiting Beam Resulting From the Scattered Radiation in a Shield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ion: I  =  B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,  Where,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 = the Buildup Fa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7A1CDEC-4328-4AED-90D9-8336A49790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uildup Facto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g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5" descr=""/>
          <p:cNvPicPr/>
          <p:nvPr/>
        </p:nvPicPr>
        <p:blipFill>
          <a:blip r:embed="rId1"/>
          <a:stretch/>
        </p:blipFill>
        <p:spPr>
          <a:xfrm>
            <a:off x="3462480" y="2911320"/>
            <a:ext cx="2219040" cy="1903680"/>
          </a:xfrm>
          <a:prstGeom prst="rect">
            <a:avLst/>
          </a:prstGeom>
          <a:ln w="0">
            <a:noFill/>
          </a:ln>
        </p:spPr>
      </p:pic>
      <p:sp>
        <p:nvSpPr>
          <p:cNvPr id="9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C5864A9-820D-4166-9B99-F48464676E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8"/>
          <p:cNvSpPr/>
          <p:nvPr/>
        </p:nvSpPr>
        <p:spPr>
          <a:xfrm>
            <a:off x="1600200" y="6019200"/>
            <a:ext cx="581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TON INTENSITY VERSUS LENGTH OF TRA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Absorption Coeffic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sure of the Attenuation Caused by Absorption of Energy That Results From its Passage Through a Medium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nits =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um of the Absorption Coefficient and the Scattering Coefficient is the Attenuation Coeffic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28A32B0-5AE6-48B4-9065-11D6AE421AB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ergy Absorpti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efficient Eq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Where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Original Inten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 =  Exit Intensit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=  Base of Natural Logarithm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 Energy Absorption Coefficie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 Shield Thick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76DD967-F553-43D8-B775-7918730CF6B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4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 Box Containing a Non-Point Parallel Source of Ra-226 With an Exposure Rate of 0.75 R/hr and a 0.8 MeV Gamma.  Determine the Amount of Lead Required to Reduce the Box Surface Reading to 2 mR/h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=  0.5727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32EEFFFB-6CC6-42C8-92AA-FD731A6B00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# 14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ing the Equation to Solve for x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[ln(2 mr/h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750 mR/hr)]/0.5727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ln(0.00267)/ 0.5727 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x = 10.35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A2247EB-D493-4410-9873-3ED850F2B3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abling Objective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Rule of Thumb TVLs for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Lea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Ste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Concre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Wa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“Skyshine” &amp; Describe its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2517A4C-2EAC-4812-9DCF-E954AF388C6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ick Shielding Est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lf-Value Layer (Thickness) - HVL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ckness of Material Required to Reduce the Photon Intensity to One-Half of the Initial Inten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nth Value Layer (Thickness)-TVL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hickness of Material Required to Reduce the Photon Intensity to One-Tenth of the Initial Intens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01B9D39-1657-4506-903D-B90C227324A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VL &amp; HVL For 1 MeV Pho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4480">
              <a:spcBef>
                <a:spcPts val="700"/>
              </a:spcBef>
              <a:tabLst>
                <a:tab algn="l" pos="0"/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VL, 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VL,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.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0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5543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.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4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7834FC4-657D-47A4-BECE-BD489FE5D73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ule of Thumb – TVL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clear Plant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572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er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VL, i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l/Ir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4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D5730132-C986-435F-BED3-28BE80F02ED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mber of Tenth-Valu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ckn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# of TV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erial, Inch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re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ee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ea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2       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7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12 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26E78BC-1531-44E0-BE7F-B060B2607F1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se Rate From a Valve is 1200 R/hr.  If 4 Inches of Lead is Used to Shield the Valve, What Will be the Shielded Dose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Inches of Lead = 2 TVL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iel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se Ra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00 mR/h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T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20 mR/h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T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12 m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A783909-1DBD-4319-9EED-B475017668A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With a Contact Dose Rate of 200 mR/hr is Laying Under 24 Inches of Water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Dose Rate at the Surface of the Wate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FC6242A-62E1-460C-AAF4-1E28A5F805D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# 16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Inches of Water = 1 TV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ielding, TV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se Rate, mR/h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T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0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se Rate at the Surface of the Water is 20 mR/h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3A3A57A-BA9E-4654-936A-17F9C391E8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ose Rate From a Component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R/hr. 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3 Half-Value Layers of Shielding is Placed Around the Component, What Would be the Shielded Dose R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1AC5ED-C1D3-4CE0-9098-92F610A168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# 1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hielding, TV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se Rate, mR/h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H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H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2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HV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1.25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Rate at 3 HVL Shielding = 1.25 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07A879EB-DF42-4FFE-81DE-A6E4571D99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VL/HV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VL:  D  =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VL:  D  = 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Final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 Initial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=  Number of Tenth-Thickness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 =  Number of Half-Thick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96A318E2-AE17-449B-AAE4-73AD3E4286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ation Exposur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ol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 Time of Exposur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rease Distanc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vide Shiel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B73EFF9-3D22-458A-9F23-EBE9C75D45F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Reading 900 R/hr is Shielded by 7 TVLs of Iron.  What is the Shielded Dose Rat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900 R/hr(0.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00 R/hr(1 E-7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9 E-5 R/hr or 0.09 m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220D6E6-6A0F-45BE-B748-A786470EA54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ource With a Dose Rate of 400 R/hr is Shielded by 5 Half-Layers of Lead.  What is the Shielded Dose Rate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2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400 R/hr(0.5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=  400 R/hr(0.03125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 =  12.5 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E4C5B1DC-539A-494E-8745-3DDC7DA5F99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alculate Number of TV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rrange Equation D  = 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/10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Solve For 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0.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, or  log(D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log(0.1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Log Rules, log(M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N*log(M)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log(0.1) = -1,Then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(D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N*log(0.1) = -1*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(D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-N, or N  =  -log(D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CCFD1716-BFE8-44C2-801A-A7EC01789EF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Tenth-Value Layers Are Required to Decrease a Dose Rate From 300 rem/hr to 2 mrem/hr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=  -log(D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  =  -log(2 mrem/h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300,000 mrem/hr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  =  5.18 Tenth Valu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67BD2E0-B4A0-41D7-92D9-C1184D272AD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blem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at the Radiation Level From a Pump is 30 mR/hr One Foot From the Pump.  If a Shield of Lead 2 Inches Thick is Placed so That the Outside Edge of the Lead is One Foot From the Pump, Calculate the Readings at a Distance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eet From the Pum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9BACD1D-E607-4763-885A-BF84247A865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blem # 21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 Calculate The Dose Rate at the Shiel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Inches of Lead is 1 TVL, so the Dos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e is 3 mR/hr Through the Sh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Calculate the Dose Rate 10 Feet 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hield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(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* 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/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= 3 mR/hr*(1 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(10 ft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3 mR-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h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ft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=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0.03 mR/h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4CF29B7-B072-4383-9DED-59FC3716BAB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hield Plac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" descr="rp5-2"/>
          <p:cNvPicPr/>
          <p:nvPr/>
        </p:nvPicPr>
        <p:blipFill>
          <a:blip r:embed="rId1"/>
          <a:stretch/>
        </p:blipFill>
        <p:spPr>
          <a:xfrm>
            <a:off x="1960560" y="1600200"/>
            <a:ext cx="522288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415E19F-FC43-480C-AC46-07702B126C4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ys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8" name="Picture 7" descr="Exposure Control_3"/>
          <p:cNvPicPr/>
          <p:nvPr/>
        </p:nvPicPr>
        <p:blipFill>
          <a:blip r:embed="rId1"/>
          <a:stretch/>
        </p:blipFill>
        <p:spPr>
          <a:xfrm>
            <a:off x="830160" y="1600200"/>
            <a:ext cx="7483680" cy="4525920"/>
          </a:xfrm>
          <a:prstGeom prst="rect">
            <a:avLst/>
          </a:prstGeom>
          <a:ln w="0">
            <a:noFill/>
          </a:ln>
        </p:spPr>
      </p:pic>
      <p:sp>
        <p:nvSpPr>
          <p:cNvPr id="9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B521474D-F02C-4CA4-8609-9E833140D3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 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Prote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an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tion Types/Shield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pha – Air, Pap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a – Wood, Aluminu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tron – Water, Polyethylene (High Z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ma – Pb, Steel, Concrete (Low 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5BEE655D-0A3E-47E1-8E91-4BAF6DB5381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 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hematical Principles &amp; Equ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 Square Law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or Parallel Source Equ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 = 6C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nuation Equation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ttenuation = Absorption + Scattering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lf-Value Lay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th-Value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5FD1DB4-6C46-4220-951A-4795C207862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se &amp; Dos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– Radiation 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Rate – Time Over Which the Radiation is Absor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 =  Time * Dose Rate,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 =  Dose/Dos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7FE71B89-B3FD-4E47-9DF4-AF78831C0E7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 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msstrahlung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up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ys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6D4EC9FE-6536-46C5-A861-000531A682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EMBER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p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nk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t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Questioning Attitude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lif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86FE5843-90A5-4FFC-981D-A77AFADD1C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os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Calibrate an Instrument in 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 mrem/hr Fiel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Time =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ill be the Total D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e = 2 hours * 50 mrem/hr = 100 m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P-</a:t>
            </a:r>
            <a:fld id="{4A4C38B1-982B-4FEB-BED4-31CF78A136E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TVAN Technical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Health Physics (RADCON) Initial Training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3:42:10Z</dcterms:created>
  <dc:creator>Ralph G. Wallace`</dc:creator>
  <dc:description/>
  <dc:language>en-US</dc:language>
  <cp:lastModifiedBy>Peggy Hines IRSC</cp:lastModifiedBy>
  <dcterms:modified xsi:type="dcterms:W3CDTF">2013-03-14T20:04:31Z</dcterms:modified>
  <cp:revision>23</cp:revision>
  <dc:subject/>
  <dc:title>External Radiation  Exposure Control</dc:title>
</cp:coreProperties>
</file>