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3181-5772-4AA0-9835-32E2A7E13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9882-89D3-4FFA-9B53-E639239C9E40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D267-9EFF-4FE8-83A5-DF2E858B16FB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CEC65-2AC7-40D4-9841-2EB4763F80B0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4320-C2AC-43A1-8959-6C442B7E7F6B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8E65-7D16-4E60-A217-0C4B592DD66E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9641-BAF6-4D1D-B515-1F2041FC26E1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2F5C-4C12-4005-921C-87F56C6B3209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377E-1A04-45AD-8CCF-1A8676F7224C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CDD1-B776-4066-B8A2-CC33C1BD40DF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959F-D881-4F47-A66B-086D1122A409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64A7-F5BC-4601-A3E0-6B937F90EC80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1425-A398-45F0-9CFC-A391FC613CF6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B5B96-AFF9-46CD-917F-076BBE1E94E5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8602-4E7B-42B1-B004-478732CD1289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E1C6D-E93D-4277-AD9F-08638E8D63AD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0222-B73E-4FFE-992D-5BFEA6E60722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9D47-A0ED-41D2-8556-F8C91C85945D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63E7-BF50-4787-8AA8-A62934700466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504BB-0689-43C9-8B08-9BF7CED5CD07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0B5D-EC26-4888-B4D6-2EC50890836A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5BD4-ED93-4578-BB79-0746A5DFBBD1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E64C-64BC-407A-BD27-CBCD83992A94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ACAC-1C41-4A8B-9909-CC17F4624316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04DF-1F16-48FF-BFB2-01C05F59493E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5CDD-4E0A-44F3-B689-37079A83AF30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4735-C221-44D6-B7D0-F2AD3CC99A37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B825-FFF5-4D0E-9D3D-5CDA232BE8A1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C08F-811F-4D5B-8FF2-AEE000D99F36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0BF1-4E9F-4416-80AF-38C0FD7AEBED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B79B-C708-4103-8C86-872D778BE856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9F8C-E2CC-4FCD-BF30-0835165ABEBF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DFCE-9CBD-460A-BDC1-7546F39DF751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1972-39F8-487B-9F3E-B999AB8DA305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1EE51-FA03-44E9-AA14-0EE13CE2EFF7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5529-9720-4333-940C-B4710C12E7BD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E4C4-A5C3-4CDE-B3E2-5279BE8AD33D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6A84-C06A-4AE7-A896-F73EBD1BC9C8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1FBF-F705-427A-8B2E-6704BC964EEC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29B8-2847-48AE-BEC9-9AB6233E2CC9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2053-DE2C-4ADA-8919-649AC294DA70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5E43-96D6-4D63-817C-727A1B060B2F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13D9-6532-4975-B338-F15486AB7F8E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035E-EE6C-4F35-8621-85594A5D1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CA84-2391-4952-814E-89C425AA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90C2-E82B-43FF-95A5-E3AD2EDBE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CCC6-D80D-406D-B84E-E97D2B5CA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C246A-49EF-4E54-AE2C-5ED6A5663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D7E6-CDE6-43A0-AAF9-27C1DC9E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1C48-CD99-4937-9290-C37A199D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3F39-0562-4A0B-841D-F72A27A6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1A01-0FFB-4D01-B0D7-E819819E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E485-31CA-462E-9FC3-4ACB3DD4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655A-F838-4E72-A1A3-CD780C56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E6AE-F05A-449B-9800-ADB27ADB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61F9-C8B2-4E60-A5B5-C75EA9F3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357A-E7B9-4357-B615-20E9D48D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7C95-BE30-4EAC-B60F-9EE0987A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AEA5-B675-47A5-9ECB-56FCB40F1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609C-9DBF-409F-BD1C-4AB6F0FC0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154F-5A77-4E15-A110-2E7ED64C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45BF-F6A3-4011-9ADB-5488AF07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2E4F-6BB7-4D16-9E2B-E7163B2F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EDA0-2908-4E65-8684-66637759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7301-7392-46A5-BAF5-B9AD6CF6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8904-25F6-4F96-99E9-6DA37273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1DE2-AFE2-43E9-A388-12991BA5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e8d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7F5F1-AB59-41F1-93D2-AF89C50B3D89}" type="slidenum">
              <a:rPr b="0" lang="en-US" sz="1200" spc="-1" strike="noStrike">
                <a:solidFill>
                  <a:srgbClr val="8e8d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e8d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7700-5C60-4D65-827E-B2998BB80B5C}" type="slidenum">
              <a:rPr b="0" lang="en-US" sz="1200" spc="-1" strike="noStrike">
                <a:solidFill>
                  <a:srgbClr val="8e8d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Gamma%20Exposure%20Video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152280" y="10238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diographic testing,  x-ray,  natural radiation, curie, becquerel, personnel monitoring, decay, half-life, intensity, exposure limits, inverse square, stochastic, nonstochastic, radiation safety officer.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262160"/>
          </a:xfrm>
          <a:prstGeom prst="rect">
            <a:avLst/>
          </a:prstGeom>
          <a:ln w="0">
            <a:noFill/>
          </a:ln>
        </p:spPr>
      </p:pic>
      <p:sp>
        <p:nvSpPr>
          <p:cNvPr id="93" name="Footer Placeholder 5"/>
          <p:cNvSpPr/>
          <p:nvPr/>
        </p:nvSpPr>
        <p:spPr>
          <a:xfrm>
            <a:off x="3124080" y="6524640"/>
            <a:ext cx="2895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e8d8c"/>
                </a:solidFill>
                <a:latin typeface="Tahoma"/>
              </a:rPr>
              <a:t>Augusta Technical College</a:t>
            </a:r>
            <a:r>
              <a:rPr b="0" lang="en-US" sz="1000" spc="-1" strike="noStrike">
                <a:solidFill>
                  <a:srgbClr val="8e8d8c"/>
                </a:solidFill>
                <a:latin typeface="Tahoma"/>
              </a:rPr>
              <a:t>	</a:t>
            </a:r>
            <a:r>
              <a:rPr b="0" lang="en-US" sz="1000" spc="-1" strike="noStrike">
                <a:solidFill>
                  <a:srgbClr val="8e8d8c"/>
                </a:solidFill>
                <a:latin typeface="Tahoma"/>
              </a:rPr>
              <a:t>2011</a:t>
            </a:r>
            <a:endParaRPr b="0" lang="en-US" sz="1000" spc="-1" strike="noStrike">
              <a:solidFill>
                <a:srgbClr val="2f2b2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37960" y="1752480"/>
          <a:ext cx="8668080" cy="1463760"/>
        </p:xfrm>
        <a:graphic>
          <a:graphicData uri="http://schemas.openxmlformats.org/drawingml/2006/table">
            <a:tbl>
              <a:tblPr/>
              <a:tblGrid>
                <a:gridCol w="1082880"/>
                <a:gridCol w="1084320"/>
                <a:gridCol w="1082520"/>
                <a:gridCol w="1084320"/>
                <a:gridCol w="1084320"/>
                <a:gridCol w="1082520"/>
                <a:gridCol w="1084320"/>
                <a:gridCol w="1082880"/>
              </a:tblGrid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.1.8.1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.1.8.3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1.8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2.4.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3.1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4.3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5.6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5.6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5.6.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6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7.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9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9.8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0.4.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3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4.6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4.6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4.6.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Atoms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ucleus of atom – contains the positively-charged protons and neutrally-charged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lectrons – negatively-charged particles that travel at high speed around the nucleu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tomic number – based on an element’s number of prot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Ex. Carbon (C) has atomic number 6, Potassium (K) has atomic number 19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sotopes – atoms of the same element with different number of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tomic mass – approximately equal to sum of protons and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activit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release of energy and matter that results from changes in the nucleus of an ato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n atom that contains additional neutrons is unstabl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 order to move to a more stable state, the nucleus seeks to remove the extra neutrons, thereby emitting radiatio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toms with atomic numbers &gt; 83 referred to as radioisotopes – they have unstable nuclei and are radioactiv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active Deca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spontaneous breakdown of an atomic nucleus resulting in the release of energy and matter from the nucleu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ccurs by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lpha decay (emits 2 protons and 2 neutrons from the nucleu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Beta decay (a neutron split into a proton and an electron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Gamma decay (energy in the form of gamma radiation emitted from the nucleu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lpha and beta decay involve particl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xample nuclear reactio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9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38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      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90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34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+ 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4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+ gamma ray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cxnSp>
        <p:nvCxnSpPr>
          <p:cNvPr id="117" name="Straight Arrow Connector 4"/>
          <p:cNvCxnSpPr/>
          <p:nvPr/>
        </p:nvCxnSpPr>
        <p:spPr>
          <a:xfrm>
            <a:off x="2438280" y="6324120"/>
            <a:ext cx="610560" cy="2520"/>
          </a:xfrm>
          <a:prstGeom prst="straightConnector1">
            <a:avLst/>
          </a:prstGeom>
          <a:ln w="9360">
            <a:solidFill>
              <a:srgbClr val="2f2b2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Radioactive Decay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When an atom undergoes radiographic decay, it emits one or more forms of radiation with sufficient energy to ionize the atoms with which it interac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Ionizing radiation – high speed subatomic particles ejected from the nucleus, or gamma rays emitted by the either the nucleus or orbital elec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Ionization – complete removal of an electron from an atom following the transfer of energy from a passing charged particl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active Decay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ctivity – quantity which expresses the degree of radioactivity or the radiation-producing potential of a given amount of radioactive materia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Given in units of Curie (English system) or Becquerel (SI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ne Curie is quantity of radioactive material in which 3.7 * 10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10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atoms disintegrate per second (move to a more stable state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 Becquerel = quantity of radioactive material in which 1 atom disintegrates per secon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 Curie = 3.7 * 10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10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Becquer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pecific activity – activity per unit mass or volum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alf-Lif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time required for the activity of a particular radioisotope to decrease to half of its original valu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Varies for different radioisotop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anges from microseconds to billions of years (uranium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alf-life of Cobalt-60 = 5.3 year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alf-life Iridium-192 = 74 day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arbon-14 dat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sed to approximate the age of fossil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cays with a half-life of 5730 year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alf-Life Exampl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xample:  You originally have a 30-Curie source of  Cobalt-60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How many Curies will you have in 5.3 years?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Answer: The source will have decayed by one half-life in 5.3 years, therefore half of the original source will remain, or 15 Curies.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Calibri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How long will it take for the source to decay to 3.75 Curies?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Answer:  Every 5.3 years the source will be reduced by half.  In 1 half-life, the source will be reduced to 15 Curies.  In 2 half-lives, the source will be down to 7.5 Curies.  Finally, in 3 half-lives, the source will be 3.75 Curies.  Therefore, it will take a total of 3 half-lives (or 15.9 years) for the source to decay to 3.75 Curies.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Penetrating Power of Radiation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nly x-rays and gamma rays can penetrate solid materials to a significant extent (alpha and beta particles can penetrate skin only up to 8 mm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ransmission of radiation depends o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terial thicknes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terial densit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ergy of the phot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hotons that are not transmitted are attenuated (absorbed or scattered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Safet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cience of radiation protection (also called health physics) developed to address acceptable radiation levels to reduce risk of injury to huma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rimary health concern (for chronic, not acute exposure) is increased risk for canc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pends on amount of radiation dose, duration of dose, and specific body parts expos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ssession and use of radioactive materials strictly regulated by the Nuclear Regulatory Commission (NRC) as specified in Title 10 of the Code of Federal Regulations (CF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Safety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y 1900 it was understood that use of x-rays and gamma radiation required safety precautions to protect one’s health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20’s – routine use of film badges for personnel monitoring begun, genetic effects of radiation recogniz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rigin of radiatio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Natural (sun, radon ga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n-made (x-rays, gamma ray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ubtitle 2"/>
          <p:cNvSpPr/>
          <p:nvPr/>
        </p:nvSpPr>
        <p:spPr>
          <a:xfrm>
            <a:off x="1371600" y="10666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f2b20"/>
                </a:solidFill>
                <a:latin typeface="Calibri"/>
              </a:rPr>
              <a:t>Radiographic Testing</a:t>
            </a:r>
            <a:endParaRPr b="0" lang="en-US" sz="3800" spc="-1" strike="noStrike">
              <a:solidFill>
                <a:srgbClr val="2f2b2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Tahom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f2b20"/>
                </a:solidFill>
                <a:latin typeface="Tahoma"/>
              </a:rPr>
              <a:t>Prepared by:</a:t>
            </a:r>
            <a:endParaRPr b="0" lang="en-US" sz="2500" spc="-1" strike="noStrike">
              <a:solidFill>
                <a:srgbClr val="2f2b20"/>
              </a:solidFill>
              <a:latin typeface="Tahom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f2b20"/>
                </a:solidFill>
                <a:latin typeface="Tahoma"/>
              </a:rPr>
              <a:t>Chattanooga State Community College</a:t>
            </a:r>
            <a:endParaRPr b="0" lang="en-US" sz="25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Energ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ifferent radioactive materials and x-ray generators produce radiation at different energi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nergy of radiation – responsible for the ability to penetrate matt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easured in electronvolts (eV) or kiloelectronvolts (keV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n electronvolt is the energy gained by an electron passing through a potential difference of 1 vol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ergy adjustable on an x-ray generato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ergy an unchangeable characteristic of a radioisotop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Intensit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mount of energy passing through a given area (perpendicular to the direction of radiation travel) in a given unit of tim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urvey meter – used to measure intensity or radiation dose rat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nits in mRem/hr or Rem/h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equently referred to as the most important tool a radiographer has to determine the presence and intensity of radi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er the inverse square law, the intensity varies inversely with the square of the distanc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Dos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6632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posure – measure of the strength of a radiation fiel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oentgen or 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(also called absorbed dose) – amount of ionizing energy absorbed by an object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ad (“radiation absorbed dose”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equivalent relates absorbed dose to biological effect of dose – equals absorbed dose times a quality factor (quality factor = 1 for x-ray and gamma radiation in human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em (“Roentgen equivalent in man”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r humans, 1 R = 1 Rad = 1 Re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8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Dose vs. Dose Rat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66320" y="18284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rate – measure of how fast a radiation dose is being receiv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dose rate = dose / tim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/hr, mR/hr, Rem/hr, mRem/hr (same units as intensity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o calculate a person’s dose, multiply the dose rate (measured with a survey meter) by the duration of exposur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dose = dose rate * tim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ample: If the radiation intensity in a particular area is 5 mRem/hr, and the person remains in that area for 30 minutes, what is the person’s radiation dose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    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= 5 mRem/hr * 0.5 hr = 2.5 mRe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0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5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0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Biological Effects of Radiation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bsorbed dose depends on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ntensity of radiation sourc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Distance from sourc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Time of exposur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onization of living tissue causes molecules in cells to be broken apar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Biological effects vary with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Type of radiation (penetrating ability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ize of dose received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Dose rat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Body part exposed (extremities can handle more exposure than blood-forming organs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Age of individual (cell divisions slow with age – older people less sensitive to ionizing radiation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2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7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7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2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2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7" dur="5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2" dur="500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Stochastic and Nonstochastic Effect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tochastic effects are delayed and difficult to specifically correlate to radiation exposure (cance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onstochastic effects are acute effec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rectly proportional to size of dos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ymptom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kin redden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kin and tissue burn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ataract forma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terilit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adiation sickness (nausea, vomiting, diarrhea, headache, fever, dizziness, weakness, hair los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ath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4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7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0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3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6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9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2" dur="5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Important NRC Cod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0CFR19 – Notices, Instructions, and Reports to Workers: Inspection and Investigati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0CFR20 – Standards for Protection Against Radi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0CFR34 – Licenses for Industrial Radiography and Radiation Safety Requirements for Industrial Radiographic Operati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Guidelines established to both prevent acute exposure and limit chronic exposure to “acceptable” level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sire to maintain all exposure “as low as reasonably achievable” – referred to as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ALAR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BANANA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– “build absolutely nothing anywhere near anyone”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4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4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Exposure Limit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ffect of exposure (dose received in a 24-hour period)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0-25 Rem – no evident injury (blood changes detectable at 5 Rem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400-500 Rem – results in death in 50% of cas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1000+ Rem – results in death in ALL cas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nnual Occupational Limi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otal effective dose – 5 R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or pregnant women - 0.5 Rem during gestation perio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or people younger than age 18 – 0.5 R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6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1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6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Exposure Limits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6632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nnual Non-Occupational Limits (for general public exposure to industrial ionizing radiation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0.1 Rem (2% of occupational limit)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Doesn’t include natural background radiation (0.3 Rem) or radiation from man-made sources, such as medical x-rays (0.05 Rem)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ull-body X-ray Scanners at Airpor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According to the FAA web-site, the effective dose per scan is less than 0.0001 mSv (milliSievert)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0.01 Sievert = 1 Rem, therefore 0.0001 mSv = 0.01 mRem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The Health Physics Society (HPS) recommends 0.25 mSv (25 mRem) max annual dose from single source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This corresponds to 2500 exposures per year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8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3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8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8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ontrolling Radiation Exposur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member: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TIME, DISTANCE, and SHIELD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call that dose = dose rate * tim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ollimator – device used to direct radiation onto a part and shield the radiation in other directi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 general, the denser the material the greater the shield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ost effective shielding by depleted uranium – used to shield the source in gamma ray camera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Lead and concrete commonly used for shiel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0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5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0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5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0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Topic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History of RT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Science of Radiation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Radiation Terminology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Radiation Safety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ontrolling Radiation Exposur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66320" y="19810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ecall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inverse square law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– “the radiation intensity varies inversely with the square of the distance”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1*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= I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2*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ample: If the intensity at 1’ from the source is 500 Rem/hr, at what distance is the intensity 2 mRem/hr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olution:  Let I</a:t>
            </a:r>
            <a:r>
              <a:rPr b="0" lang="en-US" sz="18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= 500 Rem/hr; D</a:t>
            </a:r>
            <a:r>
              <a:rPr b="0" lang="en-US" sz="18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= 1 foot; I</a:t>
            </a:r>
            <a:r>
              <a:rPr b="0" lang="en-US" sz="18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= 2 mRem/hr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olve for D2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05600" indent="-2714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 = Square root (I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1*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1" lang="en-US" sz="1800" spc="-1" strike="noStrike" baseline="30000">
                <a:solidFill>
                  <a:srgbClr val="2f2b2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 / I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) = 500 feet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gns must be posted at intensity boundaries (usually 2 mRem/hr and 100 mRem/hr) to warn individuals that radiographic testing is in progres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519920" indent="-21708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7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2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7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2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7" dur="5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alf-Value Layer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thickness of a material needed to reduce the radiation intensity to ½ of its original valu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o provide shiel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pends on radioisotope used for gamma radiation (or voltage if radiation source is an x-ray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pends on voltage if radiation source if an x-ra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38080" y="4419720"/>
          <a:ext cx="7674120" cy="1882800"/>
        </p:xfrm>
        <a:graphic>
          <a:graphicData uri="http://schemas.openxmlformats.org/drawingml/2006/table">
            <a:tbl>
              <a:tblPr/>
              <a:tblGrid>
                <a:gridCol w="1324080"/>
                <a:gridCol w="1270080"/>
                <a:gridCol w="1270080"/>
                <a:gridCol w="1269720"/>
                <a:gridCol w="1270080"/>
                <a:gridCol w="1270080"/>
              </a:tblGrid>
              <a:tr h="379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a9a57c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Half-Value Layer, mm (inch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a9a57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9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Source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oncrete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Steel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Lead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ungsten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anium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561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ridium-19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4.5 (1.75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2.7 (0.5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8 (0.19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 (0.13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.8 (0.11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61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obalt-6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60.5 (2.38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1.6 (0.85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2.5 (0.49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7.9 (0.31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6.9 (0.27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nodeType="clickEffect" fill="hold">
                      <p:stCondLst>
                        <p:cond delay="0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Safety Officer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adiation Safety Officer (RSO) - individual authorized by company to ensure radiation activities performed safely and per approved procedures and regulati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adiographers required to wear personnel monitoring devices to aid in tracking and minimizing their radiation exposur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Personnel Monitoring Devic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6632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cket dosimeter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imilar in appearance to small mark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ads radiation dose (not dose rate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llows workers to track daily dose received (reset at the start of each shift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udible alarm rate met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ounds an alarm at a preset dose rate (typically 500 mRem/h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OT a replacement for a survey meter!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25814"/>
                </a:solidFill>
                <a:uFillTx/>
                <a:latin typeface="Calibri"/>
                <a:hlinkClick r:id="rId1"/>
              </a:rPr>
              <a:t>Gamma Exposure Video.mov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2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7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2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7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2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7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2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Personnel Monitoring Devices - Continued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ilm badg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iece of radiation-sensitive film that provides a permanent record of radiation dose receiv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LD (thermoluminescent dosimete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ften used instead of a film badge (may be reused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oth film badges and TLDs typically worn for 1-3 months before being processed to determine dos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4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9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4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9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Radiography Equipment – X-Ray Generator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are generated by directing a stream of high-speed electrons at a target material, such as tungsten, which has a high atomic numb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teraction with the tungsten atoms slows or stops the electrons, and x-rays are produc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Major components of an x-ray machin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ube – contains a cathode (coiled wire) and an anode (target) – operates in a vacuu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igh voltage generato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ntrol console (to adjust output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oling syst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6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1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6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1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6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1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6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X-Ray Generators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X-ray control console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creasing current (or milliamperage) increases number  of electrons that flow from the cathode to the anode – thus increases the x-ray intensit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creasing the voltage increases the speed at which the electrons travel – thus increasing the energy or penetrating power of the x-ra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8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3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Radiography Equipment – Gamma Source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n-made radioactive sources produced by introducing an extra neutron to atoms of the source material by neutron bombardmen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s the atoms shed the neutron energy is released in the form of gamma ra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o-60 and Ir-192 common industrial gamma ray sources due to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igh energi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Portability (as opposed to x-ray machine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sadvantage of gamma sources – cannot be turned off, therefore source must be isolated and shielded within an exposure device (camera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0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5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0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5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Radiography Equipment – Gamma Source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ources typically consist of multiple pellets loaded into a stainless steel capsule to obtain desired activity level (number of Curie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apsule sealed by wel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ttached to a short flexible cable called a pigtail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oused in a shielding device referred to as an exposure device or camer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ctivity of source governs amount of shielding requir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-60 has a higher activity (1.25MeV) than Ir-192 (460keV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-60 cameras typically weigh 500 lbs vs. ~45 lbs for Ir-192 camera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2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7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2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7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2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Performing Radiograph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Exposure device connected to source tube on one end and a crank-out mechanism on the other en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ource tube in positioned as needed to obtain radiograph of component (with the source itself safely housed in the exposure device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rom as far away as possible, the radiograph turns the crank to move the source from the camera to the tip of the source tub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fter the proper exposure time (calculated based on source strength, source to film distance, and thickness of the component), the radiographer cranks the source back into the camer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he radiographer must use the survey meter to confirm the source fully extracted back into the camer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9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9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4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9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graphic Testing (RT)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66320" y="20570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Definition: </a:t>
            </a: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An NDT method that utilizes x-rays or gamma radiation to detect discontinuities in materials, and to present their images on recording medium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graph Image Properti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nsitivity – a measure of the quality of the image in terms of the smallest detail that may be detect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Image Quality Indicators (IQIs or penetrameters) – devices used to indicate the quality level or sensitivity of the radiograph (plaque type or wire type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pends on contrast and defini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ontrast – degree of density difference between two areas on a radiograph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ition – degree of sharpness of the radiographic imag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des require a minimum “unsharpness”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6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1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6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6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graph Image Properti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nsity – degree of film darken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f 0.01% of transmitted light reaches far side of film the density is 4.0 (based on an exponential equation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f 1.0% of transmitted light reaches far side of film the density is 2.0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Many governing codes require densities of 2-4% (don’t want image too light or too dark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nsitometer – device used to measure film densit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Density through the IQI must meet code (2-4%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Also, the density in the area of interest (the weld perhaps), must satisfy plus/minus criteria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Calibri"/>
              </a:rPr>
              <a:t>Darkest area must have a density of not more than 30% of the density under the IQI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Calibri"/>
              </a:rPr>
              <a:t>Lightest area must have  a density of not less than 15% of the density under the IQI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3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8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3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8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3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8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3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8" dur="5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2f2b20"/>
                </a:solidFill>
                <a:latin typeface="Calibri"/>
              </a:rPr>
              <a:t>Assignment…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RT Worksheet/Calculation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Densitometersa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istory – X-Ray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discovered in 1895 by Wilhelm Roentg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896 – used by physicians to locate bullets in wounded soldier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13 – development of high vacuum x-ray tubes enabled voltages of 100,000 V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ncreased penetrating power of x-rays led to industrial applicati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31 – GE developed 1,000,000 V x-ray generato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SME approved use of x-ray to test fusion-welded pressure vessel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istory – Natural Radiation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896 – Henri Becquerel identified uranium as radioactive materia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898 – Pierre and Marie Curie discovered polonium, followed by radium (“shining” element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adium capable of filming through 10-12” thick steel casting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sed extensively during WWII as part of U.S. Navy shipbuilding progra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46 – cobalt and iridium became availabl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Both stronger and cheaper than radiu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What is radiation?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and gamma rays are types of electromagnetic radiation of shorter wavelengths than visible light: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λ</a:t>
            </a:r>
            <a:r>
              <a:rPr b="0" lang="en-US" sz="2000" spc="-1" strike="noStrike" baseline="-25000">
                <a:solidFill>
                  <a:srgbClr val="2f2b20"/>
                </a:solidFill>
                <a:latin typeface="Calibri"/>
              </a:rPr>
              <a:t>visible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= 600 Angstroms, </a:t>
            </a:r>
            <a:r>
              <a:rPr b="0" lang="el-GR" sz="2000" spc="-1" strike="noStrike">
                <a:solidFill>
                  <a:srgbClr val="2f2b20"/>
                </a:solidFill>
                <a:latin typeface="Calibri"/>
              </a:rPr>
              <a:t>λ</a:t>
            </a:r>
            <a:r>
              <a:rPr b="0" lang="en-US" sz="2000" spc="-1" strike="noStrike" baseline="-25000">
                <a:solidFill>
                  <a:srgbClr val="2f2b20"/>
                </a:solidFill>
                <a:latin typeface="Calibri"/>
              </a:rPr>
              <a:t>x-rays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= 1 A, </a:t>
            </a:r>
            <a:r>
              <a:rPr b="0" lang="el-GR" sz="2000" spc="-1" strike="noStrike">
                <a:solidFill>
                  <a:srgbClr val="2f2b20"/>
                </a:solidFill>
                <a:latin typeface="Calibri"/>
              </a:rPr>
              <a:t>λ</a:t>
            </a:r>
            <a:r>
              <a:rPr b="0" lang="en-US" sz="2000" spc="-1" strike="noStrike" baseline="-25000">
                <a:solidFill>
                  <a:srgbClr val="2f2b20"/>
                </a:solidFill>
                <a:latin typeface="Calibri"/>
              </a:rPr>
              <a:t>gamma rays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= 0.0001 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horter wavelengths permit penetration through material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igh energy levels break chemical bond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*Leads to destruction of living tissu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and gamma rays differ only in source of origi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Properti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Undetectable by human senses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annot be seen, felt, heard, or smelle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ssesses no charge or mas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eferred to as photons (packets of energy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enerally travels in straight lines (can bend at material interfaces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haracterized by frequency, wavelength, and velocit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art of electromagnetic spectrum but not influenced by electrical or magnetic field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Atom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Atom - the smallest particle of any element that retains the characteristics of that element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ubatomic particles – protons, electrons,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0" name="Picture 3" descr="AtomLabeledLarge.gif"/>
          <p:cNvPicPr/>
          <p:nvPr/>
        </p:nvPicPr>
        <p:blipFill>
          <a:blip r:embed="rId1"/>
          <a:stretch/>
        </p:blipFill>
        <p:spPr>
          <a:xfrm>
            <a:off x="3352680" y="2971800"/>
            <a:ext cx="266724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2T17:57:16Z</dcterms:created>
  <dc:creator>Mark and Jacki Smith</dc:creator>
  <dc:description/>
  <dc:language>en-US</dc:language>
  <cp:lastModifiedBy>Peggy Hines IRSC</cp:lastModifiedBy>
  <cp:lastPrinted>2011-10-20T14:45:59Z</cp:lastPrinted>
  <dcterms:modified xsi:type="dcterms:W3CDTF">2013-02-07T17:17:01Z</dcterms:modified>
  <cp:revision>321</cp:revision>
  <dc:subject/>
  <dc:title>Statics and Strength of Materials</dc:title>
</cp:coreProperties>
</file>