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B860-B8CE-48FA-B916-5D725C7E1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47D-02B1-4C80-AA5C-5CE6CC12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842-39B1-45AB-B4AB-F63D8317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0C4-4B8D-4EAF-87C4-B6E458E0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D03-6255-4055-9EC9-FC559615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AEC-F2AA-415A-8DA4-492BBCF7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7ACD-01F0-4C95-9F68-49F982B5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4D1F-D6A4-4A4D-B023-993EE9CE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831F-BE49-45CB-9DC8-2212F2A5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22F2-AF7B-46EB-8F7B-FB91B5BD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F756-8FA3-480F-B0AC-8A83C935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EFDF-1E8D-4D98-8F11-80BC4205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C755-8501-416E-87D3-3A1F4EFE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4A6-A883-43E6-8F7C-C0669459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BA84-26F1-4CA1-8F8D-B7BE9799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377F-11F4-4EFC-836E-8A9B920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F559-B3F1-4F3B-8E6D-DAF5AD03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6257-7F39-4588-B37B-F38E6D65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E3A7-8E62-4F83-A4D3-4DDDE234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A07-F1BC-4D11-9C36-C1031A88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794-24E7-48BE-873A-180D9D86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8AF-6AA6-45DE-9987-D8CF6F47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E32-8C93-4EE5-BC55-A3D55472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801-E019-4FAD-BFAC-C73826D9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E4C-F1F7-4D76-B5E8-FF92C6E8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F7B-60DB-4ED8-8538-2C9E0ABE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70EC-0106-47DB-8E88-20D818DB6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DC9BB3-3B85-4E3F-A91D-6883FCDD8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F15C707E-16BD-44A7-BD20-C6F265A27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B2D42A-F21B-45F8-9727-6043EF4E5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40327E46-CEE7-4750-B39A-A33A532D5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62AB-B2FA-487E-A7E5-E01C700FB2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52280" y="114300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s, gas-filled, scintillation, alpha source, beta source, counter test, counting efficiency,  minimum detectable activity, percent slope, counter voltage, sourc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41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24000" y="2133720"/>
          <a:ext cx="8667720" cy="1828800"/>
        </p:xfrm>
        <a:graphic>
          <a:graphicData uri="http://schemas.openxmlformats.org/drawingml/2006/table">
            <a:tbl>
              <a:tblPr/>
              <a:tblGrid>
                <a:gridCol w="1047600"/>
                <a:gridCol w="1066680"/>
                <a:gridCol w="1067040"/>
                <a:gridCol w="761760"/>
                <a:gridCol w="990720"/>
                <a:gridCol w="990720"/>
                <a:gridCol w="1295280"/>
                <a:gridCol w="14479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7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stem Reliabil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eck 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– Tc-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– Th-2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able to National Institute of Standards and Technology (N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c-9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211,0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Energ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Averag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85 Me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Maximu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95 M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Conservativ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ays by Beta only (No Gam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aughter In-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h-2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75,4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Particle Energ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8 MeV, 76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2 MeV, 2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ields an Efficiency Appropriate with Alphas in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RROR PREVENTION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WAYS FOLLOW PROCEDU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HANDLING SOURCE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ACTIVE MATERIAL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tting the Operating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UTION: 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just Detector Voltage Slowly.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pid High Voltage Transits Can Damage Detec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CUS ON THE F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ustrial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quipment Reliabil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Take Care of Your Equip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cellence in Human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olerance for Equipment Deficienc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Report Probl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Lowest Voltage Setting Producing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Source into Cou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Voltage 50 Volts &amp; Re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until Counts Rise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o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Operating Vol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cessive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U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ssive Applied Voltage M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ult in Detector Damag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 Not Exceed the Following Values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Counters – 19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-M Detectors                      – 16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ntillation Counters          – 1500 Vo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lculate Percent Sl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 Slope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2 X 10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(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– 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Base of Plat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Top of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ckground Deter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ormed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Empty, Clean Planchet into Cha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quire 10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2 Types of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3 Types of Gas Filled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2 Scintillation Detect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Beta and Alpha Sources Used to Check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-Squar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 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Background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Instr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Approximately 20 1-Minute Count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ute Average of 1-Minute Counts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quare Each Count Value (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: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/x-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erify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ed in Conjunction with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ndout 4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Lower &amp; Upper 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unting Efficiency (Absolu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 =  (Number of Pulses Recorded)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(Number of Radiation Quan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Emit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0-Minute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ctivity Which Increases Instrument Readings by an Amount Equal to 3 Times the Standard Deviation of the Background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Handout 5 Workshee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-Squar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Maximum Voltages for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Statistical Test Used for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Equation for this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Expected Value f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Counting Time for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Counting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Conditions that Indicate the Presence of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tectors Used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aboratory Cou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s-Filled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onizat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iger-Mueller (G-M)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-M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Scaler, Beta-Gamma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dium Iodide (Thallium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NaI(T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nc Sulf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Z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S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Alpha Scaler"/>
          <p:cNvPicPr/>
          <p:nvPr/>
        </p:nvPicPr>
        <p:blipFill>
          <a:blip r:embed="rId1"/>
          <a:stretch/>
        </p:blipFill>
        <p:spPr>
          <a:xfrm>
            <a:off x="2362320" y="144792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2:29:57Z</dcterms:created>
  <dc:creator>Ralph G. Wallace`</dc:creator>
  <dc:description/>
  <dc:language>en-US</dc:language>
  <cp:lastModifiedBy>Peggy Hines IRSC</cp:lastModifiedBy>
  <dcterms:modified xsi:type="dcterms:W3CDTF">2013-04-02T18:31:00Z</dcterms:modified>
  <cp:revision>16</cp:revision>
  <dc:subject/>
  <dc:title>CORE RADIOLOCICAL  INSTRUCTIONS</dc:title>
</cp:coreProperties>
</file>